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2.jpeg" ContentType="image/jpe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E611-86DE-40C0-83DB-D0213B544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2570-50AD-4211-9814-61F3BC4B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D244-1E32-4787-A9CF-D3A783498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3853-64E8-45E7-916B-5116AE8F9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C8B3-96B0-4E47-AA50-C8E23460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15BE-B1A8-4522-8958-70DA251A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9656-E21A-4E2D-A04D-603C61E2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6607-4CD3-487C-9DDA-1DB0CDD5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0CCA-3E3F-420A-975A-E4FB5257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A5F3-27EB-4D2F-96B5-1108CE04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A4CC-65CA-4927-B40D-D41AF919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6D93-6C0D-41FE-B4BC-33D73D9D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BBB0-B75F-41E3-9007-7452877145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6.wmf"/><Relationship Id="rId18" Type="http://schemas.openxmlformats.org/officeDocument/2006/relationships/image" Target="../media/image7.wmf"/><Relationship Id="rId19" Type="http://schemas.openxmlformats.org/officeDocument/2006/relationships/image" Target="../media/image8.wmf"/><Relationship Id="rId20" Type="http://schemas.openxmlformats.org/officeDocument/2006/relationships/image" Target="../media/image9.wmf"/><Relationship Id="rId21" Type="http://schemas.openxmlformats.org/officeDocument/2006/relationships/image" Target="../media/image5.wmf"/><Relationship Id="rId22" Type="http://schemas.openxmlformats.org/officeDocument/2006/relationships/image" Target="../media/image10.wmf"/><Relationship Id="rId23" Type="http://schemas.openxmlformats.org/officeDocument/2006/relationships/image" Target="../media/image11.wmf"/><Relationship Id="rId24" Type="http://schemas.openxmlformats.org/officeDocument/2006/relationships/image" Target="../media/image12.wmf"/><Relationship Id="rId25" Type="http://schemas.openxmlformats.org/officeDocument/2006/relationships/image" Target="../media/image13.wmf"/><Relationship Id="rId26" Type="http://schemas.openxmlformats.org/officeDocument/2006/relationships/image" Target="../media/image14.wmf"/><Relationship Id="rId27" Type="http://schemas.openxmlformats.org/officeDocument/2006/relationships/image" Target="../media/image15.wmf"/><Relationship Id="rId28" Type="http://schemas.openxmlformats.org/officeDocument/2006/relationships/image" Target="../media/image16.wmf"/><Relationship Id="rId29" Type="http://schemas.openxmlformats.org/officeDocument/2006/relationships/image" Target="../media/image17.wmf"/><Relationship Id="rId30" Type="http://schemas.openxmlformats.org/officeDocument/2006/relationships/image" Target="../media/image18.wmf"/><Relationship Id="rId31" Type="http://schemas.openxmlformats.org/officeDocument/2006/relationships/image" Target="../media/image19.wmf"/><Relationship Id="rId32" Type="http://schemas.openxmlformats.org/officeDocument/2006/relationships/image" Target="../media/image20.wmf"/><Relationship Id="rId33" Type="http://schemas.openxmlformats.org/officeDocument/2006/relationships/image" Target="../media/image21.wmf"/><Relationship Id="rId34" Type="http://schemas.openxmlformats.org/officeDocument/2006/relationships/image" Target="../media/image22.wmf"/><Relationship Id="rId35" Type="http://schemas.openxmlformats.org/officeDocument/2006/relationships/image" Target="../media/image23.wmf"/><Relationship Id="rId36" Type="http://schemas.openxmlformats.org/officeDocument/2006/relationships/image" Target="../media/image24.wmf"/><Relationship Id="rId37" Type="http://schemas.openxmlformats.org/officeDocument/2006/relationships/image" Target="../media/image25.wmf"/><Relationship Id="rId38" Type="http://schemas.openxmlformats.org/officeDocument/2006/relationships/image" Target="../media/image26.wmf"/><Relationship Id="rId39" Type="http://schemas.openxmlformats.org/officeDocument/2006/relationships/image" Target="../media/image27.wmf"/><Relationship Id="rId4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71640" y="2205000"/>
            <a:ext cx="691344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二分法求方程的近似解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00000" y="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3440" y="189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复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981000"/>
            <a:ext cx="8353440" cy="22978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若函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y=f(x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区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[a,b]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的图象是一条连续不间断的曲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且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f(a)f(b)&lt;0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则函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y=f(x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区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a,b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必存在零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即存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∈(a,b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=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即为方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=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实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3933720"/>
            <a:ext cx="8208720" cy="2297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若函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y=f(x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区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[a,b]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单调增（或减）函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且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f(a)f(b)&lt;0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则函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y=f(x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区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a,b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必存在唯一零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即存在唯一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∈(a,b)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=0—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零点唯一性定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87160" y="2937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问题引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11280" y="2781360"/>
            <a:ext cx="7827840" cy="512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9640" y="112536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若相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公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地的光缆线共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故障排查点，某天该光缆线路发生故障，如何快速检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95280" y="2131920"/>
            <a:ext cx="8529480" cy="392040"/>
            <a:chOff x="395280" y="2131920"/>
            <a:chExt cx="8529480" cy="392040"/>
          </a:xfrm>
        </p:grpSpPr>
        <p:sp>
          <p:nvSpPr>
            <p:cNvPr id="52" name=""/>
            <p:cNvSpPr/>
            <p:nvPr/>
          </p:nvSpPr>
          <p:spPr>
            <a:xfrm>
              <a:off x="826920" y="2419200"/>
              <a:ext cx="763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3"/>
            <a:stretch/>
          </p:blipFill>
          <p:spPr>
            <a:xfrm>
              <a:off x="684360" y="2276640"/>
              <a:ext cx="20160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4"/>
            <a:stretch/>
          </p:blipFill>
          <p:spPr>
            <a:xfrm>
              <a:off x="8388360" y="2276640"/>
              <a:ext cx="20160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5"/>
            <a:stretch/>
          </p:blipFill>
          <p:spPr>
            <a:xfrm>
              <a:off x="1258920" y="2276640"/>
              <a:ext cx="20160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6"/>
            <a:stretch/>
          </p:blipFill>
          <p:spPr>
            <a:xfrm>
              <a:off x="1835280" y="2276640"/>
              <a:ext cx="20160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7"/>
            <a:stretch/>
          </p:blipFill>
          <p:spPr>
            <a:xfrm>
              <a:off x="2411280" y="2276640"/>
              <a:ext cx="20160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8"/>
            <a:stretch/>
          </p:blipFill>
          <p:spPr>
            <a:xfrm>
              <a:off x="2987640" y="2276640"/>
              <a:ext cx="20160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9"/>
            <a:stretch/>
          </p:blipFill>
          <p:spPr>
            <a:xfrm>
              <a:off x="3564000" y="2276640"/>
              <a:ext cx="20160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10"/>
            <a:stretch/>
          </p:blipFill>
          <p:spPr>
            <a:xfrm>
              <a:off x="7812000" y="2276640"/>
              <a:ext cx="20160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11"/>
            <a:stretch/>
          </p:blipFill>
          <p:spPr>
            <a:xfrm>
              <a:off x="7236000" y="2276640"/>
              <a:ext cx="20160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12"/>
            <a:stretch/>
          </p:blipFill>
          <p:spPr>
            <a:xfrm>
              <a:off x="4284720" y="2276640"/>
              <a:ext cx="20160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13"/>
            <a:stretch/>
          </p:blipFill>
          <p:spPr>
            <a:xfrm>
              <a:off x="4932360" y="2276640"/>
              <a:ext cx="20160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14"/>
            <a:stretch/>
          </p:blipFill>
          <p:spPr>
            <a:xfrm>
              <a:off x="5580000" y="2276640"/>
              <a:ext cx="20160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15"/>
            <a:stretch/>
          </p:blipFill>
          <p:spPr>
            <a:xfrm>
              <a:off x="6156360" y="2276640"/>
              <a:ext cx="20160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16"/>
            <a:stretch/>
          </p:blipFill>
          <p:spPr>
            <a:xfrm>
              <a:off x="6732720" y="2276640"/>
              <a:ext cx="20160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17"/>
            <a:stretch/>
          </p:blipFill>
          <p:spPr>
            <a:xfrm>
              <a:off x="395280" y="2131920"/>
              <a:ext cx="392040" cy="39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18"/>
            <a:stretch/>
          </p:blipFill>
          <p:spPr>
            <a:xfrm>
              <a:off x="8532720" y="2131920"/>
              <a:ext cx="392040" cy="39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"/>
          <p:cNvGrpSpPr/>
          <p:nvPr/>
        </p:nvGrpSpPr>
        <p:grpSpPr>
          <a:xfrm>
            <a:off x="4167360" y="2492280"/>
            <a:ext cx="1144440" cy="392040"/>
            <a:chOff x="4167360" y="2492280"/>
            <a:chExt cx="1144440" cy="392040"/>
          </a:xfrm>
        </p:grpSpPr>
        <p:pic>
          <p:nvPicPr>
            <p:cNvPr id="70" name="" descr=""/>
            <p:cNvPicPr/>
            <p:nvPr/>
          </p:nvPicPr>
          <p:blipFill>
            <a:blip r:embed="rId19"/>
            <a:stretch/>
          </p:blipFill>
          <p:spPr>
            <a:xfrm>
              <a:off x="4167360" y="2492280"/>
              <a:ext cx="482400" cy="39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20"/>
            <a:stretch/>
          </p:blipFill>
          <p:spPr>
            <a:xfrm>
              <a:off x="4859280" y="2492280"/>
              <a:ext cx="452520" cy="39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"/>
          <p:cNvGrpSpPr/>
          <p:nvPr/>
        </p:nvGrpSpPr>
        <p:grpSpPr>
          <a:xfrm>
            <a:off x="395280" y="2070000"/>
            <a:ext cx="3672000" cy="3374280"/>
            <a:chOff x="395280" y="2070000"/>
            <a:chExt cx="3672000" cy="3374280"/>
          </a:xfrm>
        </p:grpSpPr>
        <p:grpSp>
          <p:nvGrpSpPr>
            <p:cNvPr id="73" name=""/>
            <p:cNvGrpSpPr/>
            <p:nvPr/>
          </p:nvGrpSpPr>
          <p:grpSpPr>
            <a:xfrm>
              <a:off x="395280" y="2070000"/>
              <a:ext cx="2176200" cy="3374280"/>
              <a:chOff x="395280" y="2070000"/>
              <a:chExt cx="2176200" cy="3374280"/>
            </a:xfrm>
          </p:grpSpPr>
          <p:sp>
            <p:nvSpPr>
              <p:cNvPr id="74" name=""/>
              <p:cNvSpPr/>
              <p:nvPr/>
            </p:nvSpPr>
            <p:spPr>
              <a:xfrm>
                <a:off x="395280" y="4724280"/>
                <a:ext cx="19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1187280" y="3499920"/>
                <a:ext cx="0" cy="19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0800000">
                <a:off x="819720" y="2070000"/>
                <a:ext cx="1234800" cy="300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7" y="8694"/>
                    </a:moveTo>
                    <a:arcTo wR="10800" hR="10800" stAng="-10125415" swAng="95866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7" y="8694"/>
                    </a:moveTo>
                    <a:arcTo wR="10800" hR="10800" stAng="-10125415" swAng="9586697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474560" y="3715920"/>
                <a:ext cx="0" cy="165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8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1761840" y="4652640"/>
                <a:ext cx="142920" cy="142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2266920" y="450828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898200" y="3429000"/>
                <a:ext cx="270000" cy="31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"/>
              <p:cNvSpPr/>
              <p:nvPr/>
            </p:nvSpPr>
            <p:spPr>
              <a:xfrm>
                <a:off x="1690560" y="4724280"/>
                <a:ext cx="0" cy="21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>
                <a:off x="1979280" y="4219200"/>
                <a:ext cx="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3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1538280" y="4547880"/>
                <a:ext cx="158760" cy="20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1979280" y="4724280"/>
                <a:ext cx="158760" cy="22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1761840" y="4724280"/>
                <a:ext cx="238320" cy="285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6" name="" descr=""/>
            <p:cNvPicPr/>
            <p:nvPr/>
          </p:nvPicPr>
          <p:blipFill>
            <a:blip r:embed="rId27"/>
            <a:stretch/>
          </p:blipFill>
          <p:spPr>
            <a:xfrm>
              <a:off x="1619280" y="3416400"/>
              <a:ext cx="2448000" cy="453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7" name="" descr=""/>
          <p:cNvPicPr/>
          <p:nvPr/>
        </p:nvPicPr>
        <p:blipFill>
          <a:blip r:embed="rId28"/>
          <a:stretch/>
        </p:blipFill>
        <p:spPr>
          <a:xfrm>
            <a:off x="2771640" y="3933720"/>
            <a:ext cx="1656000" cy="344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9"/>
          <a:stretch/>
        </p:blipFill>
        <p:spPr>
          <a:xfrm>
            <a:off x="4824360" y="3860640"/>
            <a:ext cx="1797120" cy="443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0"/>
          <a:stretch/>
        </p:blipFill>
        <p:spPr>
          <a:xfrm>
            <a:off x="2771640" y="4437000"/>
            <a:ext cx="1549440" cy="627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1"/>
          <a:stretch/>
        </p:blipFill>
        <p:spPr>
          <a:xfrm>
            <a:off x="4819680" y="4365720"/>
            <a:ext cx="1662120" cy="6998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2"/>
          <a:stretch/>
        </p:blipFill>
        <p:spPr>
          <a:xfrm>
            <a:off x="2771640" y="5084640"/>
            <a:ext cx="1568520" cy="627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3"/>
          <a:stretch/>
        </p:blipFill>
        <p:spPr>
          <a:xfrm>
            <a:off x="4821120" y="5084640"/>
            <a:ext cx="1768680" cy="716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4"/>
          <a:stretch/>
        </p:blipFill>
        <p:spPr>
          <a:xfrm>
            <a:off x="2771640" y="5805360"/>
            <a:ext cx="1686240" cy="627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5"/>
          <a:stretch/>
        </p:blipFill>
        <p:spPr>
          <a:xfrm>
            <a:off x="4819680" y="5877000"/>
            <a:ext cx="1851120" cy="696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6"/>
          <a:stretch/>
        </p:blipFill>
        <p:spPr>
          <a:xfrm>
            <a:off x="6948360" y="3500280"/>
            <a:ext cx="1803600" cy="627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7"/>
          <a:stretch/>
        </p:blipFill>
        <p:spPr>
          <a:xfrm>
            <a:off x="6856560" y="4941720"/>
            <a:ext cx="1911240" cy="58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8"/>
          <a:stretch/>
        </p:blipFill>
        <p:spPr>
          <a:xfrm>
            <a:off x="6977160" y="4221000"/>
            <a:ext cx="1673280" cy="58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9"/>
          <a:stretch/>
        </p:blipFill>
        <p:spPr>
          <a:xfrm>
            <a:off x="7267680" y="5734080"/>
            <a:ext cx="1009440" cy="5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9640" y="112536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区间的中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547640" y="1700280"/>
            <a:ext cx="5154840" cy="877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9640" y="263700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二分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4360" y="3355920"/>
            <a:ext cx="7777080" cy="13737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于在区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[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]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连续不断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f(a)f(b)&lt;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函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=f(x)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不断地把函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零点所在的区间一分为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区间的两个端点渐渐逼近零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而得到零点近似值的方法叫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二分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33336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重点评析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68360" y="4762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给定精确度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ε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，用二分法求函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f(x)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零点近似值的基本步骤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4360" y="1628640"/>
            <a:ext cx="77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确定区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[a,b]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验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f(a)f(b)&lt;0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确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-a&gt; 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227664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求区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a,b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中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2924280"/>
            <a:ext cx="7416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f(c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f(c)=0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就是零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f(a)f(c)&lt;0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则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=c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此时零点位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a,c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f(b)f(c)&lt;0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则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=c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此时零点位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c,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4360" y="544500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判断是否达到精确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ε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即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|a-b|&lt; ε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则零点近似值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)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否则重复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~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4968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二分法的步骤的思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2720" y="177336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思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求函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零点近似值第一步应做什么？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2708280"/>
            <a:ext cx="7775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思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了缩小零点所在区间的范围，接下来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什么？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2720" y="3933720"/>
            <a:ext cx="7704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思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=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明什么？若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·f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&lt;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·f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 &lt;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则分别说明什么？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11280" y="98100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思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给定精确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如何选取近似值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" y="1844640"/>
            <a:ext cx="813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思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下列图象中的函数，能否用二分法求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数零点的近似值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258920" y="3068640"/>
            <a:ext cx="3384000" cy="2421000"/>
            <a:chOff x="1258920" y="3068640"/>
            <a:chExt cx="3384000" cy="2421000"/>
          </a:xfrm>
        </p:grpSpPr>
        <p:sp>
          <p:nvSpPr>
            <p:cNvPr id="116" name=""/>
            <p:cNvSpPr/>
            <p:nvPr/>
          </p:nvSpPr>
          <p:spPr>
            <a:xfrm>
              <a:off x="1258920" y="4842000"/>
              <a:ext cx="3007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15960" y="3244680"/>
              <a:ext cx="0" cy="224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1258920" y="3719520"/>
              <a:ext cx="2776320" cy="1112760"/>
            </a:xfrm>
            <a:custGeom>
              <a:avLst/>
              <a:gdLst/>
              <a:ahLst/>
              <a:rect l="l" t="t" r="r" b="b"/>
              <a:pathLst>
                <a:path w="2160" h="928">
                  <a:moveTo>
                    <a:pt x="0" y="0"/>
                  </a:moveTo>
                  <a:cubicBezTo>
                    <a:pt x="75" y="155"/>
                    <a:pt x="268" y="928"/>
                    <a:pt x="448" y="928"/>
                  </a:cubicBezTo>
                  <a:cubicBezTo>
                    <a:pt x="628" y="928"/>
                    <a:pt x="890" y="0"/>
                    <a:pt x="1080" y="0"/>
                  </a:cubicBezTo>
                  <a:cubicBezTo>
                    <a:pt x="1270" y="0"/>
                    <a:pt x="1408" y="928"/>
                    <a:pt x="1588" y="928"/>
                  </a:cubicBezTo>
                  <a:cubicBezTo>
                    <a:pt x="1768" y="928"/>
                    <a:pt x="2041" y="193"/>
                    <a:pt x="216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49200" y="4780080"/>
              <a:ext cx="69372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14200" y="3068640"/>
              <a:ext cx="6948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00120" y="4803840"/>
              <a:ext cx="69336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932360" y="3141720"/>
            <a:ext cx="3311280" cy="2490480"/>
            <a:chOff x="4932360" y="3141720"/>
            <a:chExt cx="3311280" cy="2490480"/>
          </a:xfrm>
        </p:grpSpPr>
        <p:sp>
          <p:nvSpPr>
            <p:cNvPr id="123" name=""/>
            <p:cNvSpPr/>
            <p:nvPr/>
          </p:nvSpPr>
          <p:spPr>
            <a:xfrm>
              <a:off x="4932360" y="4244400"/>
              <a:ext cx="3014640" cy="1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191280" y="3322440"/>
              <a:ext cx="0" cy="230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59360" y="4244400"/>
              <a:ext cx="58428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0680" y="3141720"/>
              <a:ext cx="586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874120" y="3772080"/>
              <a:ext cx="586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5083920" y="4173120"/>
              <a:ext cx="2697120" cy="1349640"/>
            </a:xfrm>
            <a:custGeom>
              <a:avLst/>
              <a:gdLst/>
              <a:ahLst/>
              <a:rect l="l" t="t" r="r" b="b"/>
              <a:pathLst>
                <a:path w="2280" h="1093">
                  <a:moveTo>
                    <a:pt x="0" y="568"/>
                  </a:moveTo>
                  <a:cubicBezTo>
                    <a:pt x="222" y="488"/>
                    <a:pt x="955" y="0"/>
                    <a:pt x="1335" y="88"/>
                  </a:cubicBezTo>
                  <a:cubicBezTo>
                    <a:pt x="1715" y="176"/>
                    <a:pt x="2083" y="884"/>
                    <a:pt x="2280" y="1093"/>
                  </a:cubicBezTo>
                </a:path>
              </a:pathLst>
            </a:custGeom>
            <a:noFill/>
            <a:ln w="381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17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方正大标宋简体"/>
              </a:rPr>
              <a:t>课堂练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2720" y="1628640"/>
            <a:ext cx="81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二分法求方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i="1" lang="zh-CN" sz="4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+3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=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近似解（精确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0.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2720" y="3718080"/>
            <a:ext cx="8317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求方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log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=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实根个数及其大致所在区间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68360" y="90792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详细阅读课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9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93---9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2349360"/>
            <a:ext cx="784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课后作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完成《桂冠设计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59—P6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03:15:49Z</dcterms:created>
  <dc:creator>aaaxk.com</dc:creator>
  <dc:description>http://www.aaaxk.com
</dc:description>
  <cp:keywords>免费课件、免费试题、免费教案、免费论文</cp:keywords>
  <dc:language>en-US</dc:language>
  <cp:lastModifiedBy>微软用户</cp:lastModifiedBy>
  <dcterms:modified xsi:type="dcterms:W3CDTF">2012-02-10T11:43:34Z</dcterms:modified>
  <cp:revision>3</cp:revision>
  <dc:subject>教师助手，学生帮手，家长朋友，三星学科</dc:subject>
  <dc:title>三星学科，教育第三方，3edu教育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003000000000001024140</vt:lpwstr>
  </property>
</Properties>
</file>