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71AC-611E-4E5E-AAB5-44D3ABB6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2217-DFEE-430A-A794-49106387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10D8-DC4A-470A-BEAD-3434DE08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87E7-88C7-45DD-BAAA-B644B776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FF5E-22E6-4881-865C-6A650523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5BB5-234C-4D87-938A-2D415798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68C9-10DA-4B83-A000-D0BA31A1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72BF-6968-4F84-813D-768B969C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7749-CB61-4304-89E2-4E875CFF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4CCF-1547-45D1-AB0E-169FA433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0E3A-0260-4852-94AA-06C0462C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511D-033D-4E6D-A6CB-6D4BEFDC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43D6-5DCC-406C-BED8-19070869E5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项式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乘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多项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目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知道 “乘法分配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是进行单项式乘多项式的依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用单项式乘多项式的法则进行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学指导－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真看课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并思考以下问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项式乘多项式的依据是什么？单项式乘多项式法则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完成“试一试”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单项式乘多项式的运算中，要注意哪几个方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分钟后比谁能正确回答自学指导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marL="78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学指导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真看课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分钟后比谁能会做练习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检测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本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课堂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节课你有何收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布置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1-06T22:59:32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