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41F-9456-4E1D-BFB2-8498BE70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07A-9926-4C8A-A233-611C91BE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FE7-27F5-4938-AAFE-923D0F5F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34F-8200-48CA-883F-DA52E242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8B5-AD57-4FFA-8EA3-98773792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8DA-23BF-4430-98FA-33F0B7EB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7C8-C10C-4158-AAB3-21064C2C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9FF-9C72-41B2-9A66-C4E04026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C8B-7C65-450E-93EC-74A81578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954-DBE2-4E2E-8B4D-AD12551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EBF-EE30-451A-874A-FEAA266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4D3-F860-47FB-A2B8-35A02973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0A18-893A-4830-999A-C338CE743E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项式乘以多项式复习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单项式乘以多项式的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够逆用法则进行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复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69-P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内容，背诵单项式乘以多项式的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例题的解题格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我检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8360" y="2276640"/>
                <a:ext cx="3959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044720" y="2133720"/>
                <a:ext cx="3886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你有何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检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71.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