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39B-F3F8-4F58-8972-8AB928EA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2E9-2DFA-4F4F-954E-D03D8A4B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B76-639D-4C83-A1C0-3374729F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217-F95B-4950-A269-0926653B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D3E-EEDD-4BB1-835D-28B70AB4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642-D2FC-4E23-81BB-BC2CF730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785-8CF8-43CC-89A7-078AC3A0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C62-D2DD-49ED-A834-DE7AFACE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733-3A79-4BF2-976D-73668FA0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937-BCA0-4693-A5B1-A0D282B2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F21-2FF2-4A28-A988-77F163BC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D04-4F24-44DB-8829-A37F1258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144E-7812-4D70-A9C8-F92F3FF2DE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项式乘以多项式复习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复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够利用多项式乘以多项式的法则做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例题的解题格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复习指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自学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72-P7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的内容，背诵多项式乘以多项式的法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例题 的解题格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194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填空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00000" y="2349360"/>
                <a:ext cx="612000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若（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则m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/>
                        </m:ba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/>
                        </m:ba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若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则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8280" y="274320"/>
            <a:ext cx="202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16000" y="2494080"/>
                <a:ext cx="34560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（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节课你有何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406440"/>
            <a:ext cx="21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84360" y="1341360"/>
                <a:ext cx="4176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其中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