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7AAA-FC6C-4AA9-ABE6-527663BB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34F2-4005-4B5A-9A78-E1C15478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36E-C92F-4347-80F5-5E5F35B3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A5B1-541E-4B1D-AC89-C04F6326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9BE-C226-421B-BA35-521D6F8F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841B-93FD-4BAA-91AE-F4C128DB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FC7-B7A0-460C-B69F-BE238862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D2FA-549B-41AC-9479-B20F7968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1A4-B694-47F7-9454-E405FF53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0D8-8890-4DE4-95B3-D996C77F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4669-635D-4DFA-BF7F-623D7FF6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614-359F-46AB-9B48-354F9E04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E419-6929-4D3E-A541-69E9355AB4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9.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乘法公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复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够利用公式进行简单的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受数形结合的思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复习指导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真看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75-P7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的内容，熟记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例题的解题格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81040" y="44460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填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85800" y="1341360"/>
                <a:ext cx="3959280" cy="23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/>
                        </m:ba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/>
                        </m:ba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/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7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计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p+5)(3p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(m-n)(-m-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00000" y="2781360"/>
                <a:ext cx="24480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828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节课你有何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当堂检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80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