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61CD-9DE8-42B4-A098-23DDBD4D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FFDB-3A1C-4F1E-BE8D-40A1ED08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5237-91A5-43CE-A569-A7DDCE9B2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0729-4CBD-49FF-AFDA-311877B69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6079-DECA-438F-A01E-9A387D397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27BD-AEBF-4CE8-B776-55C785C6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8A32-95CB-4C43-B248-E9C76BAD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C9B-C8B8-4AAF-AEF1-C8287BA2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360D-2F5E-43EF-8ECE-7767CD41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7D70-A9F5-4B1D-9152-B60D4D6D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FED0-2544-4CA2-9966-B5A4824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A07-BDE1-4483-8B9D-D14F227F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7A18-D799-4E44-9740-AF1E7CB523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741528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.4  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乘法公式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－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完全平方公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71280" y="1701720"/>
            <a:ext cx="22892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92000" y="2747880"/>
            <a:ext cx="381636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7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395280" y="220500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推导完全平方公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解公式的几何背景，并能利用公式进行简单计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9280" y="1846080"/>
            <a:ext cx="9361440" cy="41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学指导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分钟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计算图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9-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面积？你有几种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何利用多项式乘多项式的法则计算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a+b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)2  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a-b )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 2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全平方公式是怎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完全平方公式有何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钟后比谁能推导并记住公式。</a:t>
            </a:r>
            <a:r>
              <a:rPr b="0" lang="zh-CN" sz="3200" spc="-1" strike="noStrike" baseline="30000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 baseline="30000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71280" y="1938240"/>
            <a:ext cx="6048360" cy="28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检测一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00000" y="1701720"/>
            <a:ext cx="6840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自学指导二：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分钟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99640" y="2547720"/>
            <a:ext cx="748836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每个题目中的那一项是“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a”“b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题还可以怎样做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</a:rPr>
              <a:t>分钟后比谁能正确作出检测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60000" y="1871280"/>
            <a:ext cx="514836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检测二：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分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本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页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4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 baseline="-25000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4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4360" y="692280"/>
            <a:ext cx="2448000" cy="93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提高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1989000"/>
                <a:ext cx="3032280" cy="334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计算：</m:t>
                        </m:r>
                      </m:e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9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（</m:t>
                        </m:r>
                        <m:r>
                          <m:t xml:space="preserve">2</m:t>
                        </m:r>
                        <m:r>
                          <m:t xml:space="preserve">）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284720" y="692280"/>
            <a:ext cx="2448000" cy="936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拓展提高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228600" y="1660680"/>
                <a:ext cx="772812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观察下列式子，填空：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（</m:t>
                        </m:r>
                        <m:r>
                          <m:t xml:space="preserve">1</m:t>
                        </m:r>
                        <m:r>
                          <m:t xml:space="preserve">）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____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____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___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_________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114800" y="3321000"/>
                <a:ext cx="91440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581800" y="3692520"/>
                <a:ext cx="1511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5724360" y="4417920"/>
                <a:ext cx="7844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700360" y="5014800"/>
                <a:ext cx="22813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5502240" y="5014800"/>
                <a:ext cx="22827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a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28440" y="2421000"/>
            <a:ext cx="822168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本节课你有何收获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1-06T22:59:32Z</dcterms:modified>
  <cp:revision>0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