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4BE-AF67-4FA2-B6FB-836B1B2B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7C9-B29D-46A8-85A1-5D4BD6FF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EC1-70AF-4AF1-A686-9FC5D5A8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75A-F75C-455C-A135-1D5C871F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358-FA5E-4961-9007-65596552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825-96CE-44EA-818B-5B179C69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DF8-B3A9-497A-A761-AA99F42B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E35-A88A-4F34-B3A4-51A0E46E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C0A-B3C9-4AFF-8CD7-052B70FD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B09-0748-40AA-9B3C-90558997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942-E90F-4B37-BF1E-41905ABD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112-B6A8-45F5-848E-9D8174FD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8D29-0F0D-4D05-BF12-F95C9C573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0.1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元一次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了解二元一次方程解的概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知道二元一次方程的解有无数多个，并会判断一组数是否是某个二元一次方程的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8720" y="765000"/>
            <a:ext cx="75610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指导一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94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完成表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完成“试一试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分钟后，小组合作交流，比一比谁能回答“试一试”中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8720" y="765000"/>
            <a:ext cx="75610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指导二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95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议一议”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元一次方程有怎样的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什么是二元一次方程的解？二元一次方程只有一个解吗？书写时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分钟后，小组交流，比一比哪一组总结的全面，并能正确做检测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620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我检测一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哪些是二元一次方程，哪些不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1773360"/>
          <a:ext cx="334332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773360"/>
                    <a:ext cx="3343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6"/>
          <p:cNvSpPr/>
          <p:nvPr/>
        </p:nvSpPr>
        <p:spPr>
          <a:xfrm>
            <a:off x="4170240" y="1773360"/>
            <a:ext cx="436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是二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未知数的次数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只有一个未知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不是整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二次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981000"/>
            <a:ext cx="62262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检测二：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9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4720" y="1052640"/>
            <a:ext cx="56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检测三：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95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4720" y="836640"/>
            <a:ext cx="617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节课你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162864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堂检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95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1         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