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364-C323-4CD1-8128-9419DFFF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B1E-176C-4848-85C2-4703690A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ECC-684E-42FD-B09D-D4832C70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CDB-2AE0-41BA-9982-122C2C92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D71-EB53-423F-B83D-979DAD5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4FF-74D5-4846-A408-B73F06F2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7A6-5DF2-44BF-B3B5-CABA3C33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F0A-1097-40EF-A16D-BB948C3B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E80-68D0-4E39-A18C-5DBB3CCD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B90-2B9E-49C8-BDDD-8819632F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79F-A4F8-4102-96AC-58967ACB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C44-FE78-4851-AF72-3B977FEE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AE81-6B88-46FF-B485-50239C3BC0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.3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解二元一次方程组复习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383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用代入法和加减法解二元一次方程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根据二元一次方程组的特点，灵活选用适当的方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复习指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  P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Arial"/>
              </a:rPr>
              <a:t>99-101       </a:t>
            </a:r>
            <a:r>
              <a:rPr b="1" lang="zh-CN" sz="4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什么是代入法？什么是加减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解二元一次方程组的步骤是怎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解二元一次方程组要注意哪些问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分钟后，小组交流你们的解法，比一比哪一组总结的全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3640" y="44280"/>
            <a:ext cx="54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我检测：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03280" y="619200"/>
                <a:ext cx="2747880" cy="61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292720" y="552600"/>
                <a:ext cx="1765440" cy="61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9" name=""/>
          <p:cNvSpPr txBox="1"/>
          <p:nvPr/>
        </p:nvSpPr>
        <p:spPr>
          <a:xfrm>
            <a:off x="1547640" y="189000"/>
            <a:ext cx="2567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拓展提高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4920" y="1413000"/>
                <a:ext cx="907092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、若方程组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8160" y="3322800"/>
                <a:ext cx="8756640" cy="24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、已知关于</m:t>
                        </m:r>
                        <m:r>
                          <m:t xml:space="preserve">x</m:t>
                        </m:r>
                        <m:r>
                          <m:t xml:space="preserve">、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的方程组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20720" y="1989000"/>
            <a:ext cx="6336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节课你有什么收获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8480" y="131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28720" y="2205000"/>
                <a:ext cx="2557440" cy="26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