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D31-F3BB-4177-B4AC-0FAC5E7E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E04-2AA3-4676-9D2C-D7C88C5F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354-EA0A-4ADD-BA6F-D577CFD8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1F5-B739-48B3-AB98-BD62CFA6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B46-AE56-4689-8DEE-0F0397E4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A44-CA21-414F-A88C-95935CB9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739-09F2-4BDD-877D-11B2F242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B312-5488-4D2F-804B-A4581C03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A54-52ED-479A-A630-166226EC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782A-68DA-4CD4-9E15-980F9B99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648-2895-44F1-87AF-55894622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D0C-66D0-413C-8DD0-8B828731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4101-248C-438A-949B-681ADA327B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69120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4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元一次方程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解三元一次方程组的意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用带入消元法或加减消元法解简单的三元一次方程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指导一：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4400" spc="-1" strike="noStrike" baseline="-25000">
                <a:solidFill>
                  <a:srgbClr val="000000"/>
                </a:solidFill>
                <a:latin typeface="Arial"/>
              </a:rPr>
              <a:t>10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分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7680"/>
            <a:ext cx="91440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什么样的方程组是三元一次方程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解三元一次方程组的关键是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解这个三元一次方程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分钟后，比一比谁做的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40400" y="231156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消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我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10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指导二：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4400" spc="-1" strike="noStrike" baseline="-25000">
                <a:solidFill>
                  <a:srgbClr val="000000"/>
                </a:solidFill>
                <a:latin typeface="Arial"/>
              </a:rPr>
              <a:t>10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例题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分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17680"/>
            <a:ext cx="9144000" cy="37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题是先消去未知数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方法是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得到一个关于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——、—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方程，再把这个方程与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联立，组成一个二元一次方程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用不同方法解这个三元一次方程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后，比一比谁做的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78320" y="1681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5080" y="184464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Wingdings"/>
                <a:ea typeface="Wingdings"/>
              </a:rPr>
              <a:t>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ff3300"/>
                </a:solidFill>
                <a:latin typeface="Wingdings"/>
                <a:ea typeface="Wingdings"/>
              </a:rPr>
              <a:t>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43080" y="2219400"/>
            <a:ext cx="13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x    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163000" y="2305080"/>
            <a:ext cx="8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Wingdings"/>
                <a:ea typeface="Wingdings"/>
              </a:rPr>
              <a:t>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节课的收获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堂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10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