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856-1BC2-41CB-BD1E-E2991E05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016-1CD1-4455-862F-A80D299A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658-E5FF-484C-A125-703E87E9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464-E6E7-46EE-9811-B04A391D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2C8-F6DC-4F98-AAF7-13D56E96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449-5F3C-47BC-BB26-75BFE3E9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E22-FCC0-4EAD-92C1-DEEA7F7C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0CF-1B1B-443A-A119-59FE72B5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F67-1633-439D-9E26-806C3DDD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8BA-F540-42F5-B470-1CA4ED31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9E5-DD20-4433-805F-A7A58E69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5DC-5F71-4160-AB93-7054DBB2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FFFD-2470-45E1-A305-88C63E14AD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元一次方程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二元一次方程（组）的有关概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解二元一次方程组的解法，能灵活的选择适当的方法解二元一次方程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检测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填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方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x-2y=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改写成用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代数式表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形式，得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知方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x+3y=-1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=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互为相反数，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x-y=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y=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和与差都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直角三角形的两个锐角的度数的差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度，这两个锐角分别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度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82760" y="73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解方程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                        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                              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钟后比谁做得又快又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 rot="17640000">
            <a:off x="2938320" y="29476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9400" y="1022400"/>
            <a:ext cx="2309760" cy="916920"/>
            <a:chOff x="4289400" y="1022400"/>
            <a:chExt cx="2309760" cy="916920"/>
          </a:xfrm>
        </p:grpSpPr>
        <p:sp>
          <p:nvSpPr>
            <p:cNvPr id="50" name=""/>
            <p:cNvSpPr/>
            <p:nvPr/>
          </p:nvSpPr>
          <p:spPr>
            <a:xfrm>
              <a:off x="4289400" y="1085760"/>
              <a:ext cx="75960" cy="8510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1960 h 851040"/>
                <a:gd name="textAreaBottom" fmla="*/ 82908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44920" y="1022400"/>
              <a:ext cx="215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x-y=1 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x+3y= -7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755720" y="3673440"/>
            <a:ext cx="1273680" cy="916920"/>
            <a:chOff x="1755720" y="3673440"/>
            <a:chExt cx="1273680" cy="916920"/>
          </a:xfrm>
        </p:grpSpPr>
        <p:sp>
          <p:nvSpPr>
            <p:cNvPr id="53" name=""/>
            <p:cNvSpPr/>
            <p:nvPr/>
          </p:nvSpPr>
          <p:spPr>
            <a:xfrm>
              <a:off x="1755720" y="3673440"/>
              <a:ext cx="75960" cy="8510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1960 h 851040"/>
                <a:gd name="textAreaBottom" fmla="*/ 82908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52640" y="3673440"/>
              <a:ext cx="107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s+2t=7 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5s-3t=9 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707000" y="3673440"/>
            <a:ext cx="1527840" cy="916920"/>
            <a:chOff x="4707000" y="3673440"/>
            <a:chExt cx="1527840" cy="916920"/>
          </a:xfrm>
        </p:grpSpPr>
        <p:sp>
          <p:nvSpPr>
            <p:cNvPr id="56" name=""/>
            <p:cNvSpPr/>
            <p:nvPr/>
          </p:nvSpPr>
          <p:spPr>
            <a:xfrm>
              <a:off x="4707000" y="3673440"/>
              <a:ext cx="75960" cy="8510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1960 h 851040"/>
                <a:gd name="textAreaBottom" fmla="*/ 82908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82960" y="3673440"/>
              <a:ext cx="1451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3x -4y+1=0 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x+y+8=0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832040" y="176040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87440" y="1085760"/>
            <a:ext cx="1349280" cy="853920"/>
            <a:chOff x="1387440" y="1085760"/>
            <a:chExt cx="1349280" cy="853920"/>
          </a:xfrm>
        </p:grpSpPr>
        <p:sp>
          <p:nvSpPr>
            <p:cNvPr id="60" name=""/>
            <p:cNvSpPr/>
            <p:nvPr/>
          </p:nvSpPr>
          <p:spPr>
            <a:xfrm>
              <a:off x="1539360" y="1199880"/>
              <a:ext cx="100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=2x-3 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387440" y="1085760"/>
              <a:ext cx="1349280" cy="853920"/>
              <a:chOff x="1387440" y="1085760"/>
              <a:chExt cx="1349280" cy="853920"/>
            </a:xfrm>
          </p:grpSpPr>
          <p:sp>
            <p:nvSpPr>
              <p:cNvPr id="62" name=""/>
              <p:cNvSpPr/>
              <p:nvPr/>
            </p:nvSpPr>
            <p:spPr>
              <a:xfrm>
                <a:off x="1387440" y="1085760"/>
                <a:ext cx="75960" cy="851040"/>
              </a:xfrm>
              <a:custGeom>
                <a:avLst/>
                <a:gdLst>
                  <a:gd name="textAreaLeft" fmla="*/ 48600 w 75960"/>
                  <a:gd name="textAreaRight" fmla="*/ 76320 w 75960"/>
                  <a:gd name="textAreaTop" fmla="*/ 21960 h 851040"/>
                  <a:gd name="textAreaBottom" fmla="*/ 829080 h 85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539360" y="1571400"/>
                <a:ext cx="112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3x+2y=8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599840" y="1087560"/>
                <a:ext cx="113688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节课的收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补充习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大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