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619D-8CDC-4C60-B2E6-1BF3332C2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0B73-027D-4BFA-BA0E-1153F5A6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10A7-D60B-4C60-8BD3-1680FA06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173B-D7FD-445D-811B-8F864A049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0375-BD3A-4C63-9359-8E28E14E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1D0E-CD1D-4E35-A025-078986C1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09CC-3500-4F57-9606-F58F2ADF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26AA-28B3-4E46-8741-25CD1BA4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137D-D6AC-4022-B328-0E49148A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E68D-1F23-4641-A778-C8D93D08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18E0-A8ED-41C2-AD09-CE9C6CBA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8DC7-D3C1-404F-B181-4586C04D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7F22-1A5A-4E15-A55A-B6D6EA57F3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406080"/>
            <a:ext cx="8888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0.5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用二元一次方程组解决问题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(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55680" y="135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经历和体会列二元一次方程组解决实际问题的过程，体会数学的应用价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会根据具体问题中的数量关系列出二元一次方程组并求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1360" y="7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学指导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zh-CN" sz="4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6      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1360" y="961920"/>
            <a:ext cx="8848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一中有哪些已知量、那些未知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旅游问题中旅客人数、个人费用、总费用之间满足怎样的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一中有哪几个相等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解这个方程组你有简单的方法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二元一次方程组解决实际问题的步骤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分钟后比谁能仿照例题的格式解答检测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检测一：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分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某停车场的收费标准如下：中型汽车的收费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辆，小型汽车的收费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辆。现在停车场共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辆中、小型汽车，这些车共缴纳停车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30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元，中、小型汽车各有多少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学指导二 ：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4400" spc="-1" strike="noStrike" baseline="-25000">
                <a:solidFill>
                  <a:srgbClr val="000000"/>
                </a:solidFill>
                <a:latin typeface="Arial"/>
              </a:rPr>
              <a:t>106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问题二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分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问题二中有哪两个相等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仔细看解题过程，与解方程组的过程一样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分钟后比谁能快速准确的做出下面的检测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检测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丽在玩具厂勤工俭学，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只小狗玩具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只小猫玩具用了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20min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只小狗玩具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只小猫玩具用了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56min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平均做一只小狗玩具与一只小猫玩具各用多少时间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8280" y="307800"/>
            <a:ext cx="8742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拓展提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个两位数的十位数字与各位数字的和是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如果把它的十位数字与各位数字互换那么所得的两位数比原数大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求这个两位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堂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用二元一次方程组解决实际问题的一般步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用二元一次方程组解决实际问题的关键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当堂检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本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11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页习题第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6-01-06T22:59:32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