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744-AD89-4BB8-BD3C-CB82841E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6AB-BEA4-4ACA-86CF-54E0A95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D64-F68F-4647-BAA0-D6CBA2E0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14B-BB46-4070-BDCB-F311A395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949-D37A-41CB-BACD-52636A83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7FB2-79E6-4852-ADF3-39535F97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DA63-58BC-45CA-AD3A-67F9C341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2BC-A14A-4FAD-8351-91BC7DC7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5B9-1399-4A77-8738-0A0A05D6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21C2-935E-44CC-A4A1-51EAD25A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A29-30AA-4B19-84DB-AEB4C2F2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4C6-6FD1-4AD8-84C7-D28379B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9BA9-FC82-48A4-A3DA-57119EEED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.1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活中的不等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学习目标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感受生活中存在大量的不等式，了解不等式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经历由具体问题建立不等式的过程，初步体会不等式是刻画现实世界的一种数学模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学指导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一  ：                   时间：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真看课本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 “试一试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体会生活中存在着大量的不等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你能用数学式子表示“试一试”中的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这些数学式子有什么共同特点？你能再写出几个这样的数学式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分钟后看哪位同学掌握的最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检测题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不等式表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负数  ；       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是非负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根据下列含有“最”字的实例，写出不等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火车提速后，速度最高可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0km/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班学生的身高最高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7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班学生从家到学校的路程最近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m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自学指导二：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时间：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分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小组讨论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表示下列问题中的不等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市某天的气温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该市这天的最低气温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最高气温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丽种了一棵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小树，假设小树每周长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后这棵小树的高度不超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                    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5</a:t>
            </a:r>
            <a:r>
              <a:rPr b="0" i="1" lang="zh-CN" sz="2800" spc="-1" strike="noStrike">
                <a:solidFill>
                  <a:srgbClr val="ff3300"/>
                </a:solidFill>
                <a:latin typeface="Arial"/>
              </a:rPr>
              <a:t>分钟后的学习效果好</a:t>
            </a:r>
            <a:r>
              <a:rPr b="0" i="1" lang="en-US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检测题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用不等式表示下列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沪宁高速公路的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超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k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球上一年的实际天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小于或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倒数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不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课堂小结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节课你有什么收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当堂检测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不等式表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是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差是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三分之一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是非负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