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F34-DFA0-44F6-977C-E5BAC12D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099-13E4-44B6-8904-58324BD0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66C-D8B2-4A01-B0BF-35DEB546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CE8-DD1E-4D2F-9B57-D02E7116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252-8387-4877-9720-8C3D42BA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F63-6629-43F3-886E-25DC198B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AE0-E3CF-48D8-9852-4A0E3FA2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65E-31AE-4319-B8B5-43EBB0B2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069-A29C-450B-8887-3F91C648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F59-FA4C-4EF1-B05C-377E7B45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F3B-FCE4-4389-B32D-02A56AD2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6C7-3A84-4A1B-8DF9-50E3F410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559F-57FF-4106-B120-E666653A38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1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等式的解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教学目标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知道不等式的解和解集的意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在数轴上表示不等式的解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初步感受数形结合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学指导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   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间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真看课本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，思考以下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根据实例理解不等式的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不等式的解和方程的解有什么共同点和不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小组内相互出一道不等式，并求不等式的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8</a:t>
            </a:r>
            <a:r>
              <a:rPr b="0" i="1" lang="zh-CN" sz="2800" spc="-1" strike="noStrike">
                <a:solidFill>
                  <a:srgbClr val="cc0000"/>
                </a:solidFill>
                <a:latin typeface="Arial"/>
              </a:rPr>
              <a:t>分钟后看哪位同学掌握的最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检测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下列数值中，哪些是不等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.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   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任意负数时，不等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都成立，能说这个不等式的解集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学指导二 ：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间：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真看课本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，思考以下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什么是不等式的解集？什么是解不等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怎样来表示不等式的解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数轴上表示不等式的解集时，实心点和空心的区别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0640" y="522936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i="1" lang="zh-CN" sz="2400" spc="-1" strike="noStrike">
                <a:solidFill>
                  <a:srgbClr val="cc0000"/>
                </a:solidFill>
                <a:latin typeface="Arial"/>
              </a:rPr>
              <a:t>分钟后比哪位同学能正确回答上面的问题并会做相应的检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70036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检测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数轴上表示下列不等式的解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≤2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≥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0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你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课堂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习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