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3461-4AAE-44DB-A978-C0808A2ED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1C8A-3574-4E85-8F51-25B73FE4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28CE-D32E-4D80-A4B5-5AF269D65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26DE-73AC-4ED3-AFCA-91A5D0301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5B81-EEE0-4919-8171-88F59614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F41C-3852-412F-8B8E-C8CEFCDD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049B-E9C2-4057-A5F4-B34C8CA6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46A6-A4AC-4CAE-A875-1CD76182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6F68-2B26-4E9E-B0DE-0A1B52DD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3D1F-C5C5-4A02-8971-B95E3463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7C31-62C2-4CA7-A2B9-BC956A33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5275-3001-437E-B31B-21CFC09E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06F2-9511-41F1-A904-6511760EE2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.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不等式的性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经历不等式性质的探索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了解不等式的基本性质，并能进行简单运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学指导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    看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12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页“做一做”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体会不等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＞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+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+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掌握不等式的性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小组内相互出题，进一步熟练不等式的性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钟后看哪位同学掌握的最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学指导二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看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124-P12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完成“做一做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掌握不等式性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不等式的两边都乘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结果怎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不等式的性质与等式的性质有什么相同点和不同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当堂训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已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用“＞”或“＜”填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+2_____b+2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-5_____b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a_____4b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______-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a-3____4b-3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-2a_____3-2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堂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节课你有什么收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User</cp:lastModifiedBy>
  <dcterms:modified xsi:type="dcterms:W3CDTF">2016-01-06T22:59:32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