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8.gif" ContentType="image/gif"/>
  <Override PartName="/ppt/media/image3.wmf" ContentType="image/x-wmf"/>
  <Override PartName="/ppt/media/image17.gif" ContentType="image/gif"/>
  <Override PartName="/ppt/media/image16.gif" ContentType="image/gi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443-7F4E-4FF4-9877-89827E2C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7D07-87A6-4E70-9AE6-4B502FD9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511-E0A7-4E26-8F0D-182AE400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E5C-271F-40C8-B2E3-23E5E318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2C0-F1C0-47C7-A228-9EA346DB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523A-1EA1-4780-8080-AA364F56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845-0305-438F-9AEF-875A9F1F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C29-0A8A-4B82-8865-4320998F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993-910A-4B2F-ABF3-74B4DC58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BA8-D05E-458E-BBE9-D26458BD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349B-9A45-44DE-A8BF-54ECC7E1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00A-E550-4B3D-A966-730EB8E6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0E44-D8A8-409B-B47B-E5C5A90D31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" Target="slide10.xml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5" descr=""/>
          <p:cNvPicPr/>
          <p:nvPr/>
        </p:nvPicPr>
        <p:blipFill>
          <a:blip r:embed="rId2"/>
          <a:stretch/>
        </p:blipFill>
        <p:spPr>
          <a:xfrm>
            <a:off x="1805040" y="2620800"/>
            <a:ext cx="484488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280" y="228600"/>
            <a:ext cx="48006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不等式与生活应用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28600" y="13716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．小明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元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角的硬币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枚，这些硬币的总币值大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8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问小明至少有多少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元的硬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762120" y="3048120"/>
            <a:ext cx="8001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解：设小明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元的硬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枚，根据题意，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x+0.5(13-x)&gt;8.5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x+6.5-0.5x&gt;8.5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0.5x&gt;2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x&gt;4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所以小明至少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元的硬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228600" y="242280"/>
            <a:ext cx="826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变式练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(1)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一张长方形广告纸的长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x cm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宽比长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20cm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如果它的周长不超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280cm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的最大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987480" y="2122560"/>
            <a:ext cx="2720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785880" y="1500120"/>
            <a:ext cx="6626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解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: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x+x-2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）≤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280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x≤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755720" y="3048120"/>
            <a:ext cx="336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∴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华文中宋"/>
              </a:rPr>
              <a:t>X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中宋"/>
              </a:rPr>
              <a:t>的最大值是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华文中宋"/>
              </a:rPr>
              <a:t>80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190512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在一次科学知识竞赛中，竞赛试题共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道选择题，若每道题选对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不选或选错倒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果一个学生在本次竞赛中的得分不低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那么，他至少答对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道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683480" y="152280"/>
            <a:ext cx="112572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52280" y="5481720"/>
            <a:ext cx="1447920" cy="114768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4" action="ppaction://hlinksldjump"/>
          </p:cNvPr>
          <p:cNvSpPr/>
          <p:nvPr/>
        </p:nvSpPr>
        <p:spPr>
          <a:xfrm>
            <a:off x="8381880" y="6019920"/>
            <a:ext cx="433440" cy="5094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9400"/>
              <a:gd name="textAreaBottom" fmla="*/ 481320 h 509400"/>
            </a:gdLst>
            <a:ahLst/>
            <a:rect l="textAreaLeft" t="textAreaTop" r="textAreaRight" b="textAreaBottom"/>
            <a:pathLst>
              <a:path w="21600" h="25382">
                <a:moveTo>
                  <a:pt x="0" y="0"/>
                </a:moveTo>
                <a:lnTo>
                  <a:pt x="21600" y="0"/>
                </a:lnTo>
                <a:lnTo>
                  <a:pt x="21600" y="25382"/>
                </a:lnTo>
                <a:lnTo>
                  <a:pt x="0" y="25382"/>
                </a:lnTo>
                <a:close/>
              </a:path>
              <a:path fill="lightenLess" w="21600" h="253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82">
                <a:moveTo>
                  <a:pt x="21600" y="0"/>
                </a:moveTo>
                <a:lnTo>
                  <a:pt x="21600" y="25382"/>
                </a:lnTo>
                <a:lnTo>
                  <a:pt x="20200" y="23982"/>
                </a:lnTo>
                <a:lnTo>
                  <a:pt x="20200" y="1400"/>
                </a:lnTo>
                <a:close/>
              </a:path>
              <a:path fill="darkenLess" w="21600" h="25382">
                <a:moveTo>
                  <a:pt x="21600" y="25382"/>
                </a:moveTo>
                <a:lnTo>
                  <a:pt x="0" y="25382"/>
                </a:lnTo>
                <a:lnTo>
                  <a:pt x="1400" y="23982"/>
                </a:lnTo>
                <a:lnTo>
                  <a:pt x="20200" y="23982"/>
                </a:lnTo>
                <a:close/>
              </a:path>
              <a:path fill="lighten" w="21600" h="25382">
                <a:moveTo>
                  <a:pt x="0" y="253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82"/>
                </a:lnTo>
                <a:close/>
              </a:path>
              <a:path fill="darken" w="21600" h="25382">
                <a:moveTo>
                  <a:pt x="3794" y="5685"/>
                </a:moveTo>
                <a:lnTo>
                  <a:pt x="17806" y="12691"/>
                </a:lnTo>
                <a:lnTo>
                  <a:pt x="3794" y="1969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539640" y="333360"/>
            <a:ext cx="12193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92000" y="1628640"/>
            <a:ext cx="8351640" cy="2543400"/>
            <a:chOff x="792000" y="1628640"/>
            <a:chExt cx="8351640" cy="2543400"/>
          </a:xfrm>
        </p:grpSpPr>
        <p:sp>
          <p:nvSpPr>
            <p:cNvPr id="122" name=""/>
            <p:cNvSpPr/>
            <p:nvPr/>
          </p:nvSpPr>
          <p:spPr>
            <a:xfrm>
              <a:off x="792000" y="1628640"/>
              <a:ext cx="8351640" cy="15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已知方程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x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=2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解是不等式  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2)-7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＜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(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1)-8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最小整数解，求代数式       的值．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2376360" y="3141720"/>
                  <a:ext cx="1296720" cy="103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4" name=""/>
          <p:cNvSpPr txBox="1"/>
          <p:nvPr/>
        </p:nvSpPr>
        <p:spPr>
          <a:xfrm>
            <a:off x="611280" y="260280"/>
            <a:ext cx="237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拓展延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26028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26028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92200" y="3794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79720" y="738360"/>
            <a:ext cx="20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旧知回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002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回顾：解一元一次不等式的步骤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2800" y="3429000"/>
            <a:ext cx="472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归纳：解题过程中有哪些易错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2666880"/>
            <a:ext cx="716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解不等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276720" y="2286000"/>
          <a:ext cx="5646600" cy="172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2286000"/>
                    <a:ext cx="5646600" cy="17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228600" y="838080"/>
            <a:ext cx="716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解方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124080" y="533520"/>
          <a:ext cx="5334120" cy="183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33520"/>
                    <a:ext cx="533412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6324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去分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去括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移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合并同类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系数化为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8380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一元一次不等式的步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归纳"/>
          <p:cNvPicPr/>
          <p:nvPr/>
        </p:nvPicPr>
        <p:blipFill>
          <a:blip r:embed="rId2"/>
          <a:stretch/>
        </p:blipFill>
        <p:spPr>
          <a:xfrm>
            <a:off x="0" y="-27000"/>
            <a:ext cx="1447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304920"/>
            <a:ext cx="9144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解下列不等式：    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1341360"/>
          <a:ext cx="4897440" cy="136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341360"/>
                    <a:ext cx="489744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2492280"/>
          <a:ext cx="5616720" cy="141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2492280"/>
                    <a:ext cx="561672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4000" y="3716280"/>
          <a:ext cx="4248000" cy="1523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4000" y="3716280"/>
                    <a:ext cx="4248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47840" y="5229360"/>
          <a:ext cx="4395600" cy="1481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7840" y="5229360"/>
                    <a:ext cx="4395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724280" y="3962520"/>
            <a:ext cx="4496040" cy="1676160"/>
          </a:xfrm>
          <a:prstGeom prst="cloudCallout">
            <a:avLst>
              <a:gd name="adj1" fmla="val -58050"/>
              <a:gd name="adj2" fmla="val -6543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各步骤都有哪些注意点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457200"/>
          <a:ext cx="9144000" cy="6400800"/>
        </p:xfrm>
        <a:graphic>
          <a:graphicData uri="http://schemas.openxmlformats.org/drawingml/2006/table">
            <a:tbl>
              <a:tblPr/>
              <a:tblGrid>
                <a:gridCol w="2771640"/>
                <a:gridCol w="6372360"/>
              </a:tblGrid>
              <a:tr h="115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琥珀"/>
                          <a:ea typeface="华文琥珀"/>
                        </a:rPr>
                        <a:t>去分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ff33"/>
                      </a:solidFill>
                    </a:lnL>
                    <a:lnR w="28080">
                      <a:solidFill>
                        <a:srgbClr val="66ff33"/>
                      </a:solidFill>
                    </a:lnR>
                    <a:lnT w="28080">
                      <a:solidFill>
                        <a:srgbClr val="66ff33"/>
                      </a:solidFill>
                    </a:lnT>
                    <a:lnB w="2808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ff33"/>
                      </a:solidFill>
                    </a:lnL>
                    <a:lnR w="28080">
                      <a:solidFill>
                        <a:srgbClr val="66ff33"/>
                      </a:solidFill>
                    </a:lnR>
                    <a:lnT w="28080">
                      <a:solidFill>
                        <a:srgbClr val="66ff33"/>
                      </a:solidFill>
                    </a:lnT>
                    <a:lnB w="28080">
                      <a:solidFill>
                        <a:srgbClr val="66ff33"/>
                      </a:solidFill>
                    </a:lnB>
                    <a:noFill/>
                  </a:tcPr>
                </a:tc>
              </a:tr>
              <a:tr h="1466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琥珀"/>
                          <a:ea typeface="华文琥珀"/>
                        </a:rPr>
                        <a:t>去括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ff33"/>
                      </a:solidFill>
                    </a:lnL>
                    <a:lnR w="28080">
                      <a:solidFill>
                        <a:srgbClr val="66ff33"/>
                      </a:solidFill>
                    </a:lnR>
                    <a:lnT w="28080">
                      <a:solidFill>
                        <a:srgbClr val="66ff33"/>
                      </a:solidFill>
                    </a:lnT>
                    <a:lnB w="2808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ff33"/>
                      </a:solidFill>
                    </a:lnL>
                    <a:lnR w="28080">
                      <a:solidFill>
                        <a:srgbClr val="66ff33"/>
                      </a:solidFill>
                    </a:lnR>
                    <a:lnT w="28080">
                      <a:solidFill>
                        <a:srgbClr val="66ff33"/>
                      </a:solidFill>
                    </a:lnT>
                    <a:lnB w="28080">
                      <a:solidFill>
                        <a:srgbClr val="66ff33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琥珀"/>
                          <a:ea typeface="华文琥珀"/>
                        </a:rPr>
                        <a:t>移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ff33"/>
                      </a:solidFill>
                    </a:lnL>
                    <a:lnR w="28080">
                      <a:solidFill>
                        <a:srgbClr val="66ff33"/>
                      </a:solidFill>
                    </a:lnR>
                    <a:lnT w="28080">
                      <a:solidFill>
                        <a:srgbClr val="66ff33"/>
                      </a:solidFill>
                    </a:lnT>
                    <a:lnB w="2808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ff33"/>
                      </a:solidFill>
                    </a:lnL>
                    <a:lnR w="28080">
                      <a:solidFill>
                        <a:srgbClr val="66ff33"/>
                      </a:solidFill>
                    </a:lnR>
                    <a:lnT w="28080">
                      <a:solidFill>
                        <a:srgbClr val="66ff33"/>
                      </a:solidFill>
                    </a:lnT>
                    <a:lnB w="28080">
                      <a:solidFill>
                        <a:srgbClr val="66ff33"/>
                      </a:solidFill>
                    </a:lnB>
                    <a:noFill/>
                  </a:tcPr>
                </a:tc>
              </a:tr>
              <a:tr h="956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琥珀"/>
                          <a:ea typeface="华文琥珀"/>
                        </a:rPr>
                        <a:t>合并同类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ff33"/>
                      </a:solidFill>
                    </a:lnL>
                    <a:lnR w="28080">
                      <a:solidFill>
                        <a:srgbClr val="66ff33"/>
                      </a:solidFill>
                    </a:lnR>
                    <a:lnT w="28080">
                      <a:solidFill>
                        <a:srgbClr val="66ff33"/>
                      </a:solidFill>
                    </a:lnT>
                    <a:lnB w="2808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ff33"/>
                      </a:solidFill>
                    </a:lnL>
                    <a:lnR w="28080">
                      <a:solidFill>
                        <a:srgbClr val="66ff33"/>
                      </a:solidFill>
                    </a:lnR>
                    <a:lnT w="28080">
                      <a:solidFill>
                        <a:srgbClr val="66ff33"/>
                      </a:solidFill>
                    </a:lnT>
                    <a:lnB w="28080">
                      <a:solidFill>
                        <a:srgbClr val="66ff33"/>
                      </a:solidFill>
                    </a:lnB>
                    <a:noFill/>
                  </a:tcPr>
                </a:tc>
              </a:tr>
              <a:tr h="168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华文琥珀"/>
                          <a:ea typeface="华文琥珀"/>
                        </a:rPr>
                        <a:t>系数化为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华文琥珀"/>
                          <a:ea typeface="华文琥珀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ff33"/>
                      </a:solidFill>
                    </a:lnL>
                    <a:lnR w="28080">
                      <a:solidFill>
                        <a:srgbClr val="66ff33"/>
                      </a:solidFill>
                    </a:lnR>
                    <a:lnT w="28080">
                      <a:solidFill>
                        <a:srgbClr val="66ff33"/>
                      </a:solidFill>
                    </a:lnT>
                    <a:lnB w="28080">
                      <a:solidFill>
                        <a:srgbClr val="66ff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66ff33"/>
                      </a:solidFill>
                    </a:lnL>
                    <a:lnR w="28080">
                      <a:solidFill>
                        <a:srgbClr val="66ff33"/>
                      </a:solidFill>
                    </a:lnR>
                    <a:lnT w="28080">
                      <a:solidFill>
                        <a:srgbClr val="66ff33"/>
                      </a:solidFill>
                    </a:lnT>
                    <a:lnB w="28080">
                      <a:solidFill>
                        <a:srgbClr val="66ff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3132000" y="609480"/>
            <a:ext cx="60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漏乘，分子添括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71800" y="160020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漏乘，括号前面是负号时里面的各项都要变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27672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移项要变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426708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字母不变，系数相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5157720"/>
            <a:ext cx="63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式两边同除以系数：正数方向不变，负数方向改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228600" y="1215000"/>
            <a:ext cx="826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求不等式特殊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(2)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求不等式          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的正整数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987480" y="2122560"/>
            <a:ext cx="2720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7"/>
          <p:cNvGraphicFramePr/>
          <p:nvPr/>
        </p:nvGraphicFramePr>
        <p:xfrm>
          <a:off x="3581280" y="1981080"/>
          <a:ext cx="1067040" cy="103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1981080"/>
                    <a:ext cx="106704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8"/>
          <p:cNvSpPr/>
          <p:nvPr/>
        </p:nvSpPr>
        <p:spPr>
          <a:xfrm>
            <a:off x="1066680" y="3276720"/>
            <a:ext cx="4608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解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:    2x-1+3x&lt;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5x&lt;16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中宋"/>
              </a:rPr>
              <a:t>x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9"/>
          <p:cNvGraphicFramePr/>
          <p:nvPr/>
        </p:nvGraphicFramePr>
        <p:xfrm>
          <a:off x="3581280" y="4495680"/>
          <a:ext cx="658800" cy="1079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4495680"/>
                    <a:ext cx="6588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11"/>
          <p:cNvSpPr/>
          <p:nvPr/>
        </p:nvSpPr>
        <p:spPr>
          <a:xfrm>
            <a:off x="1522800" y="609588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中宋"/>
              </a:rPr>
              <a:t>∴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华文中宋"/>
              </a:rPr>
              <a:t>x =1,2,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787400" y="5486400"/>
            <a:ext cx="176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中宋"/>
              </a:rPr>
              <a:t>∵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华文中宋"/>
              </a:rPr>
              <a:t>x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中宋"/>
              </a:rPr>
              <a:t>取正整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419640" y="1052640"/>
          <a:ext cx="1095120" cy="115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1052640"/>
                    <a:ext cx="10951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076720" y="1125360"/>
          <a:ext cx="1052640" cy="100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720" y="1125360"/>
                    <a:ext cx="10526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315800" y="1294920"/>
            <a:ext cx="11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当代数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21600" y="1412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5840" y="1341000"/>
            <a:ext cx="230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差大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720" y="2205000"/>
            <a:ext cx="27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取值范围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49040" y="3573360"/>
            <a:ext cx="291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最大整数解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例题讲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905120" y="15998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=1-2x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①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当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为何值时，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②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当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y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为何值时，</a:t>
            </a: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280" y="228600"/>
            <a:ext cx="2376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拓展延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486400" y="2133720"/>
          <a:ext cx="2286000" cy="144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2133720"/>
                    <a:ext cx="22860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562720" y="3733920"/>
          <a:ext cx="18288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2720" y="3733920"/>
                    <a:ext cx="18288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