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45A57-E4C5-462D-ADAA-2A54DB30F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CE010-AFD0-4223-BAF1-6D76EB637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44D23-DCDE-481D-A914-AC0DA9C28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315F5-D96C-400F-A3C1-960B08C49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27D0E-052B-45A2-9663-9E88924F7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0190F-8110-4305-825B-BB657CC34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4913E-EA0A-4322-B602-12DA2358F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A41BE-8D53-4448-B74A-91F50CDCC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0A91C-DFA3-4C94-996E-08252E690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4A57C-C0F7-44A1-AB70-42D10AE81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9005F-D932-4BEF-AA31-177710C2E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D8DE0-21BB-43D0-BD4B-23638E965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612D4-99BA-4B5A-A757-82010826D74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2604960"/>
            <a:ext cx="7772400" cy="11113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11.4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解一元一次不等式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4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304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Arial"/>
              </a:rPr>
              <a:t>学习目标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理解一元一次不等式的概念，能准确识别一元一次不等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学会较为简单的一元一次不等式的解法，并能正确地将不等式的解集表示在数轴上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熟知解题步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0" y="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自学指导一</a:t>
            </a: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:            4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分钟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看书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127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页思考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一元一次不等式有哪些特点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怎样解一元一次不等式？与解一元一次方程有何异同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         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分钟后比一比谁自学的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0" y="15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检测题一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下列不等式是一元一次不等式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+2y&gt;10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+x&lt;1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3)  y-2&gt;2y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x-3≥ 5+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380880" y="15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自学指导二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分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看书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127——128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页例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思考以下问题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解一元一次不等式的步骤是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解题过程中应注意什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怎么样在数轴上表示不等式的解集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看书过程中遇到问题可以同位之间小声讨论或举手问老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分钟后比一比谁能快速的做出检测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0" y="838080"/>
            <a:ext cx="8610480" cy="368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检测题二：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完成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128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页“练一练”第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9640" y="836640"/>
            <a:ext cx="813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1547640"/>
            <a:ext cx="914400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.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铅笔每枝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0.5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元，练习本每本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元．小丽买了５枝铅笔和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本练习本，总价不超过５元，求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的取值范围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. 3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个连续正偶数的和小于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1,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这样的正偶数共有多少组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-228600"/>
            <a:ext cx="3505320" cy="1523880"/>
          </a:xfrm>
          <a:prstGeom prst="horizontalScroll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52280"/>
            <a:ext cx="3429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0099"/>
                </a:solidFill>
                <a:latin typeface="Comic Sans MS"/>
              </a:rPr>
              <a:t>拓展延伸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826920" y="2565360"/>
            <a:ext cx="770580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谈谈这节课你有什么收获</a:t>
            </a:r>
            <a:r>
              <a:rPr b="1" lang="en-US" sz="6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?</a:t>
            </a:r>
            <a:endParaRPr b="1" lang="en-US" sz="6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684360" y="907920"/>
            <a:ext cx="3240000" cy="648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922678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ff9900"/>
                </a:solidFill>
                <a:latin typeface="隶书"/>
              </a:rPr>
              <a:t>说一说</a:t>
            </a:r>
            <a:endParaRPr b="1" lang="en-US" sz="1800" spc="1" strike="noStrike">
              <a:ln w="0">
                <a:noFill/>
              </a:ln>
              <a:solidFill>
                <a:srgbClr val="ff9900"/>
              </a:solidFill>
              <a:latin typeface="隶书"/>
              <a:ea typeface="隶书"/>
            </a:endParaRPr>
          </a:p>
        </p:txBody>
      </p:sp>
      <p:sp>
        <p:nvSpPr>
          <p:cNvPr id="54" name=""/>
          <p:cNvSpPr/>
          <p:nvPr/>
        </p:nvSpPr>
        <p:spPr>
          <a:xfrm>
            <a:off x="533520" y="4191120"/>
            <a:ext cx="83883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１．移项的依据是什么？移项时要注意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２．解一元一次不等式应注意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510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课堂作业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必做：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13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习题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1.4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第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选做：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13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习题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1.4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 </dc:creator>
  <dc:description> </dc:description>
  <dc:language>en-US</dc:language>
  <cp:lastModifiedBy>User</cp:lastModifiedBy>
  <dcterms:modified xsi:type="dcterms:W3CDTF">2016-01-06T22:59:32Z</dcterms:modified>
  <cp:revision>0</cp:revision>
  <dc:subject> </dc:subject>
  <dc:title>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424</vt:lpwstr>
  </property>
</Properties>
</file>