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8E7-87FB-462F-8CDD-1513E970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588-B5D9-480E-B282-2CA2E9AD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4D7-DC9E-414D-8C75-449DCAFA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109-782C-45EF-A811-EE6E1FD0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4FF-637F-40D4-8B3E-5607FF42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578-251D-44E1-B10D-A0675D71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19C-BB18-4A01-B00C-D814D557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1EC-481A-47D7-8C69-D4E1BC61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F63-130A-4C68-86E5-6F5644E4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63A-090B-404D-B21E-F900888F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3D5-CF07-4114-87DD-801DF36E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F3E-EEA2-4440-BA0D-45534C65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5070-FD65-42D5-B923-646275E6CE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04960"/>
            <a:ext cx="7772400" cy="1111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.4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解一元一次不等式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26028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6028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379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05264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会解数字系数的一元一次不等式 ，并能在数轴上表示其解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熟知解一元一次不等式的步骤以及各步的注意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学习目标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学指导：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间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仔细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8----12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下列问题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一元一次方程的步骤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一元一次不等式各步需要注意什么？有哪些易错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题：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1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“练一练”第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0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一次科学知识竞赛中，竞赛试题共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道选择题，若每道题选对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，不选或选错倒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一个学生在本次竞赛中的得分不低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，那么，他至少答对了几道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5640" y="33336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实际运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00000" y="3068640"/>
            <a:ext cx="7705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谈谈这节课你有什么收获</a:t>
            </a: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42920" y="836640"/>
            <a:ext cx="3240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226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9900"/>
                </a:solidFill>
                <a:latin typeface="隶书"/>
              </a:rPr>
              <a:t>说一说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920"/>
            <a:ext cx="727236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必做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习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4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选做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习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4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