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B28-5D65-4E78-895D-5AE0832E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537-B812-43DE-812D-444F1E8F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D66-1496-4D9B-8AC2-EB5FB20F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229-BF4F-4BFE-BB8B-51FCBBEE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E30-64CF-4DE2-BDDA-97C5E58D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1CF-189B-4607-9F01-81172D72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CF7-86D2-43C0-903D-78FA2F3E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987-327E-4766-979D-077DB57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A09-6AC1-4772-91A2-1310C4B2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C93-B612-4BAB-99C3-1C1E842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932-FA60-4C4A-A23F-50CBF046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DC3-84F3-4738-A0EC-81B35B62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EDF7-1FB5-4EBA-B1CD-9E13546F10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2360" y="2131920"/>
            <a:ext cx="8785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10.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一元一次不等式复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36520" y="333360"/>
            <a:ext cx="336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152388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够用一元一次不等式解决较复杂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确用一元一次不等式解决问题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解由两个一元一次不等式组成的不等式组，并会用数轴确定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90520" y="85104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复习指导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55600" y="1609560"/>
            <a:ext cx="687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看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31-P1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内容，思考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解不等式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不等式解决问题的步骤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我检测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140 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我检测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755640" y="2133720"/>
                <a:ext cx="766296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不等式</m:t>
                        </m:r>
                        <m:r>
                          <m:rPr>
                            <m:lit/>
                            <m:nor/>
                          </m:rPr>
                          <m:t xml:space="preserve">10-4</m:t>
                        </m:r>
                        <m:r>
                          <m:t xml:space="preserve">（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当m</m:t>
                        </m:r>
                        <m:r>
                          <m:rPr>
                            <m:lit/>
                            <m:nor/>
                          </m:rPr>
                          <m:t xml:space="preserve">取何值时，关于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的方程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解在</m:t>
                        </m:r>
                        <m:r>
                          <m:rPr>
                            <m:lit/>
                            <m:nor/>
                          </m:rPr>
                          <m:t xml:space="preserve">-5</m:t>
                        </m:r>
                        <m:r>
                          <m:t xml:space="preserve">和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组之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39720" y="1960560"/>
            <a:ext cx="742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检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补充习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