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5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570-D600-47A2-AB5E-F12910B7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096-1EA9-4728-B484-6A1F6356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46B-B3B6-4C19-B816-EA95FD34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F5D-3E2C-4C1B-8A13-B3DA8DC2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6DE8-6AED-48F7-91BC-8A22099B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19B5-DA27-45A2-A55E-805A648B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532F-F526-4C84-AADF-ADB41362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488F-624B-4601-9CE9-BC224520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12E0-0706-45C2-AE48-DA39FBEC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80720" y="281160"/>
            <a:ext cx="77612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DEDE-2472-4528-8039-526AEEEA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A677-8123-453F-B655-EE24AAF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675-8009-4CA8-905E-9BB23D4F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C150-743C-4D3E-9778-FA3AEBA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1AAE-4196-4E8A-B22D-76303A77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F560-E1FE-4872-9EA9-09B45F74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1699-EA3B-4C94-A46C-E8D9354B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BD06-2EF3-4553-8AA6-5AEBADA0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48A-AD1E-4DBD-8F27-8E311F5A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46A-FBB6-4646-B281-06ED4DD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03C-1A64-4F58-9586-109CF24F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720" y="281160"/>
            <a:ext cx="77612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781-3BA9-4BF1-A000-F3DBA5E5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B7D-CD80-4104-B2C7-6B04CC7F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9E5-4660-4E7B-BF42-638190C2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423-DB51-405D-A81D-FEF7596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00A5-0786-4C56-B5BD-4A52AA8EA4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995E-388D-45A1-B023-D8D61178CE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3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408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979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1814400"/>
            <a:ext cx="9144000" cy="2000520"/>
            <a:chOff x="0" y="1814400"/>
            <a:chExt cx="9144000" cy="2000520"/>
          </a:xfrm>
        </p:grpSpPr>
        <p:sp>
          <p:nvSpPr>
            <p:cNvPr id="6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81492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7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84" name=""/>
            <p:cNvSpPr/>
            <p:nvPr/>
          </p:nvSpPr>
          <p:spPr>
            <a:xfrm>
              <a:off x="754200" y="3335400"/>
              <a:ext cx="43200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6200" y="3117600"/>
              <a:ext cx="647640" cy="648000"/>
            </a:xfrm>
            <a:prstGeom prst="ellipse">
              <a:avLst/>
            </a:prstGeom>
            <a:noFill/>
            <a:ln w="2844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920" y="2038320"/>
              <a:ext cx="172728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1280" y="1703160"/>
              <a:ext cx="2063520" cy="2063880"/>
            </a:xfrm>
            <a:prstGeom prst="ellipse">
              <a:avLst/>
            </a:prstGeom>
            <a:noFill/>
            <a:ln w="2844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0"/>
            <a:ext cx="774072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七年级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74920" y="3981600"/>
            <a:ext cx="612144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第四课时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三角形的内角与外角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484360" y="2852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§15.1 </a:t>
            </a:r>
            <a:r>
              <a:rPr b="1" lang="zh-CN" sz="60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三角形</a:t>
            </a:r>
            <a:endParaRPr b="1" lang="en-US" sz="60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练一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843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图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回答问题：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    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的外角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  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的外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       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       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        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              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             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940360" y="1125360"/>
            <a:ext cx="3203640" cy="244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76720" y="19162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△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256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△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1161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31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37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00720" y="37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C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或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690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CA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或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练一练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360" y="1341360"/>
            <a:ext cx="5194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45°, 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2879640" cy="2521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95280" y="3141720"/>
            <a:ext cx="8532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3068640"/>
            <a:ext cx="78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     ∴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F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∠4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F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三角形的一个外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∴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F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4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,             ∴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2.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36360" y="4797360"/>
            <a:ext cx="961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腰三角形的一个外角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它的顶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度数为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B.2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C.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D. 5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54198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练一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下图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31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41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F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6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的一点，延长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用“＜”表示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大小关系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3167280" cy="2303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788000" y="3571920"/>
            <a:ext cx="3671640" cy="2521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003640" y="162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6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3284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＜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＜∠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练一练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147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求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852640"/>
            <a:ext cx="468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∵∠1=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=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∵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+∠2+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156360" y="3645000"/>
            <a:ext cx="1655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6360" y="3716280"/>
            <a:ext cx="1584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372360" y="2852640"/>
            <a:ext cx="720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7092720" y="2852640"/>
            <a:ext cx="64764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372360" y="3645000"/>
            <a:ext cx="1439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35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27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67640" y="4437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34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96120" y="37972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39160" y="3916440"/>
            <a:ext cx="4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达标测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说法中，正确的是（     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角形的一个外角等于两个内角之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角形的一个外角大于任何一个内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外角是锐角的三角形是钝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外角是钝角的三角形是锐角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1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数为（      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.3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B.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C.78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D.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外角的度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 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14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888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54760" y="5589720"/>
            <a:ext cx="9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160</a:t>
            </a:r>
            <a:r>
              <a:rPr b="1" lang="en-US" sz="2000" spc="-1" strike="noStrike" u="sng" baseline="30000">
                <a:solidFill>
                  <a:srgbClr val="ff3300"/>
                </a:solidFill>
                <a:uFillTx/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细心做一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，∠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=∠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度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2492280"/>
            <a:ext cx="3311640" cy="2557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26920" y="2924280"/>
            <a:ext cx="367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∵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∠2+∠4=6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+∠4=6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=∠1+∠4=6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动动笔头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实际应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一个零件的形状如图所示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按规定∠</a:t>
            </a:r>
            <a:r>
              <a:rPr b="1" i="1" lang="zh-CN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应等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, ∠</a:t>
            </a:r>
            <a:r>
              <a:rPr b="1" i="1" lang="zh-CN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和∠</a:t>
            </a:r>
            <a:r>
              <a:rPr b="1" i="1" lang="zh-CN" sz="2800" spc="-1" strike="noStrike">
                <a:solidFill>
                  <a:srgbClr val="6600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应分别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2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检验工人量得∠</a:t>
            </a:r>
            <a:r>
              <a:rPr b="1" i="1" lang="zh-CN" sz="2800" spc="-1" strike="noStrike">
                <a:solidFill>
                  <a:srgbClr val="6600cc"/>
                </a:solidFill>
                <a:latin typeface="Times New Roman"/>
              </a:rPr>
              <a:t>BDC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48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就断定这个零件不合格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运用你学过的三角形的有关知识说明零件不合格的理由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952880" y="3429000"/>
            <a:ext cx="4190760" cy="2600280"/>
            <a:chOff x="4952880" y="3429000"/>
            <a:chExt cx="4190760" cy="2600280"/>
          </a:xfrm>
        </p:grpSpPr>
        <p:grpSp>
          <p:nvGrpSpPr>
            <p:cNvPr id="263" name=""/>
            <p:cNvGrpSpPr/>
            <p:nvPr/>
          </p:nvGrpSpPr>
          <p:grpSpPr>
            <a:xfrm>
              <a:off x="4952880" y="3429000"/>
              <a:ext cx="4190760" cy="2441160"/>
              <a:chOff x="4952880" y="3429000"/>
              <a:chExt cx="4190760" cy="2441160"/>
            </a:xfrm>
          </p:grpSpPr>
          <p:sp>
            <p:nvSpPr>
              <p:cNvPr id="264" name=""/>
              <p:cNvSpPr/>
              <p:nvPr/>
            </p:nvSpPr>
            <p:spPr>
              <a:xfrm>
                <a:off x="5333760" y="3657600"/>
                <a:ext cx="0" cy="1828800"/>
              </a:xfrm>
              <a:prstGeom prst="line">
                <a:avLst/>
              </a:prstGeom>
              <a:ln w="572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3760" y="5486400"/>
                <a:ext cx="3200400" cy="0"/>
              </a:xfrm>
              <a:prstGeom prst="line">
                <a:avLst/>
              </a:prstGeom>
              <a:ln w="572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33760" y="3657600"/>
                <a:ext cx="609480" cy="1219320"/>
              </a:xfrm>
              <a:prstGeom prst="line">
                <a:avLst/>
              </a:prstGeom>
              <a:ln w="572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43240" y="4876920"/>
                <a:ext cx="2590920" cy="609480"/>
              </a:xfrm>
              <a:prstGeom prst="line">
                <a:avLst/>
              </a:prstGeom>
              <a:ln w="572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33760" y="408960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32"/>
                    </a:moveTo>
                    <a:cubicBezTo>
                      <a:pt x="50" y="44"/>
                      <a:pt x="144" y="86"/>
                      <a:pt x="144" y="0"/>
                    </a:cubicBezTo>
                  </a:path>
                </a:pathLst>
              </a:custGeom>
              <a:noFill/>
              <a:ln w="57240">
                <a:solidFill>
                  <a:srgbClr val="66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854840" y="5308560"/>
                <a:ext cx="69840" cy="177840"/>
              </a:xfrm>
              <a:custGeom>
                <a:avLst/>
                <a:gdLst/>
                <a:ahLst/>
                <a:rect l="l" t="t" r="r" b="b"/>
                <a:pathLst>
                  <a:path w="44" h="112">
                    <a:moveTo>
                      <a:pt x="44" y="0"/>
                    </a:moveTo>
                    <a:cubicBezTo>
                      <a:pt x="0" y="66"/>
                      <a:pt x="12" y="29"/>
                      <a:pt x="12" y="112"/>
                    </a:cubicBezTo>
                  </a:path>
                </a:pathLst>
              </a:custGeom>
              <a:noFill/>
              <a:ln w="57240">
                <a:solidFill>
                  <a:srgbClr val="66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57800" y="4496040"/>
                <a:ext cx="106632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333760" y="5257800"/>
                <a:ext cx="228600" cy="0"/>
              </a:xfrm>
              <a:prstGeom prst="line">
                <a:avLst/>
              </a:prstGeom>
              <a:ln w="572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62360" y="5257800"/>
                <a:ext cx="0" cy="228600"/>
              </a:xfrm>
              <a:prstGeom prst="line">
                <a:avLst/>
              </a:prstGeom>
              <a:ln w="572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952880" y="53341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381880" y="54104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2880" y="3429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38680" y="4648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86040" y="49532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90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33960" y="5105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1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257440" y="426744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2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19560" y="42674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48</a:t>
                </a:r>
                <a:r>
                  <a:rPr b="1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5313240" y="3645000"/>
              <a:ext cx="107964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5661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68360" y="3068640"/>
            <a:ext cx="4356000" cy="311544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延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∵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43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≠143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合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连接中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981000"/>
            <a:ext cx="88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北京市海淀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图 ，把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纸片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叠，当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落在四边形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DE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 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+ ∠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存在着一种数量关系，试找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637000"/>
            <a:ext cx="5940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解：由折叠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1+2∠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EDA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=180</a:t>
            </a:r>
            <a:r>
              <a:rPr b="1" lang="zh-CN" sz="24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+2∠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DEA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=180</a:t>
            </a:r>
            <a:r>
              <a:rPr b="1" lang="zh-CN" sz="24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（∠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EDA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DEA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=180</a:t>
            </a:r>
            <a:r>
              <a:rPr b="1" lang="zh-CN" sz="24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（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1+∠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∵∠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EDA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+∠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EDA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=180</a:t>
            </a:r>
            <a:r>
              <a:rPr b="1" lang="zh-CN" sz="24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∴∠</a:t>
            </a:r>
            <a:r>
              <a:rPr b="1" i="1" lang="zh-CN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=90</a:t>
            </a:r>
            <a:r>
              <a:rPr b="1" lang="zh-CN" sz="24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（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1+∠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816520" y="3789360"/>
            <a:ext cx="3327480" cy="2406600"/>
            <a:chOff x="5816520" y="3789360"/>
            <a:chExt cx="3327480" cy="240660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5816520" y="3789360"/>
              <a:ext cx="332748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704000" y="450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75640" y="544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3640" y="1483920"/>
            <a:ext cx="7761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通过这节课的学习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形的一个外角等于与它不相邻的两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角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933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形的一个外角大于与它不相邻的任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内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508464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形的外角和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6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8000" y="476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你说我说，清点收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主探索三角形的外角性质和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角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掌握三角形的外角性质、外角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其应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5280" y="547560"/>
            <a:ext cx="302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学习目标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372360" y="1700280"/>
            <a:ext cx="91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312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形三个内角的和等于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8920" y="2205000"/>
            <a:ext cx="86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9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30 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50 °,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4076640"/>
            <a:ext cx="84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ＡＢ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∠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∠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∠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２：３：４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∠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∠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628640"/>
            <a:ext cx="525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角形的外角的意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三角形的一个外角与它相邻的内角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95640" y="4437000"/>
            <a:ext cx="335160" cy="26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356000" y="2565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C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＋ ∠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7242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79640" y="2565360"/>
            <a:ext cx="12319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2565360"/>
            <a:ext cx="1218960" cy="2133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4724280"/>
            <a:ext cx="14475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356000" y="4437000"/>
            <a:ext cx="300240" cy="287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0036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08720" y="47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373720"/>
            <a:ext cx="8686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三角形的一个外角与它不相邻的内角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920" y="333360"/>
            <a:ext cx="13716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究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40338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想一想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填一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3860640"/>
            <a:ext cx="91440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又∵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∠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       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∴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19640" y="260280"/>
            <a:ext cx="4329000" cy="2980800"/>
            <a:chOff x="3419640" y="260280"/>
            <a:chExt cx="4329000" cy="29808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5796000" y="2565360"/>
              <a:ext cx="33480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 flipH="1">
              <a:off x="3851280" y="692280"/>
              <a:ext cx="123192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76720" y="692280"/>
              <a:ext cx="1219320" cy="2133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51280" y="285264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00720" y="2852640"/>
              <a:ext cx="1447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6227640" y="2565360"/>
              <a:ext cx="3002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859280" y="260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19640" y="263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4720" y="278136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2755800"/>
              <a:ext cx="5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51640" y="234936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771640" y="3795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9080" y="37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平角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43624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48038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43657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三角形的内角和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80</a:t>
            </a:r>
            <a:r>
              <a:rPr b="1" lang="zh-CN" sz="28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205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归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角形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个外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于与它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相邻的两个内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角形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个外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于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任何一个与它不相邻的内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以致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514836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在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平分线，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3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求△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个内角的度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19640" y="907920"/>
            <a:ext cx="3529080" cy="1871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11280" y="3500280"/>
            <a:ext cx="7993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0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三角形的内角和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得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180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3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3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9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以致用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7280" y="1341360"/>
            <a:ext cx="5292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已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15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2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∠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3276720" cy="1673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9080" y="3429000"/>
            <a:ext cx="860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解：因为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ACD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△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一个外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ACD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=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+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又因为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=2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于是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ACD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=2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+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=3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ACD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=150</a:t>
            </a:r>
            <a:r>
              <a:rPr b="1" lang="zh-CN" sz="32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3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=150</a:t>
            </a:r>
            <a:r>
              <a:rPr b="1" lang="zh-CN" sz="32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r>
              <a:rPr b="1" lang="zh-CN" sz="3200" spc="-1" strike="noStrike" baseline="30000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=50</a:t>
            </a:r>
            <a:r>
              <a:rPr b="1" lang="zh-CN" sz="32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920" y="501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三角形的外角和等于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36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30520" y="260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隶书"/>
              </a:rPr>
              <a:t>议一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594440" y="1776240"/>
            <a:ext cx="4345920" cy="3134160"/>
            <a:chOff x="1594440" y="1776240"/>
            <a:chExt cx="4345920" cy="3134160"/>
          </a:xfrm>
        </p:grpSpPr>
        <p:sp>
          <p:nvSpPr>
            <p:cNvPr id="195" name=""/>
            <p:cNvSpPr/>
            <p:nvPr/>
          </p:nvSpPr>
          <p:spPr>
            <a:xfrm flipH="1">
              <a:off x="1836360" y="2430360"/>
              <a:ext cx="1150920" cy="230508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95280" y="4014720"/>
              <a:ext cx="37450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2339640" y="1926720"/>
              <a:ext cx="2663640" cy="208764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4735200">
              <a:off x="2555280" y="1998720"/>
              <a:ext cx="914400" cy="914400"/>
            </a:xfrm>
            <a:prstGeom prst="blockArc">
              <a:avLst>
                <a:gd name="adj1" fmla="val 2510609"/>
                <a:gd name="adj2" fmla="val 8289391"/>
                <a:gd name="adj3" fmla="val 48218"/>
              </a:avLst>
            </a:prstGeom>
            <a:solidFill>
              <a:srgbClr val="0000ff"/>
            </a:solidFill>
            <a:ln w="88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2039000">
              <a:off x="4500360" y="3509640"/>
              <a:ext cx="914400" cy="914400"/>
            </a:xfrm>
            <a:prstGeom prst="blockArc">
              <a:avLst>
                <a:gd name="adj1" fmla="val 1128496"/>
                <a:gd name="adj2" fmla="val 9671504"/>
                <a:gd name="adj3" fmla="val 46181"/>
              </a:avLst>
            </a:prstGeom>
            <a:solidFill>
              <a:srgbClr val="99cc00"/>
            </a:solidFill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764000">
              <a:off x="1763280" y="3582720"/>
              <a:ext cx="914400" cy="914400"/>
            </a:xfrm>
            <a:prstGeom prst="blockArc">
              <a:avLst>
                <a:gd name="adj1" fmla="val 1830261"/>
                <a:gd name="adj2" fmla="val 8969739"/>
                <a:gd name="adj3" fmla="val 48616"/>
              </a:avLst>
            </a:prstGeom>
            <a:solidFill>
              <a:srgbClr val="993366"/>
            </a:solidFill>
            <a:ln w="889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1640" y="1776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66"/>
                  </a:solidFill>
                  <a:latin typeface="Times New Roman"/>
                  <a:ea typeface="PMingLiU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3280" y="35053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  <a:ea typeface="PMingLiU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42000" y="40100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6600"/>
                  </a:solidFill>
                  <a:latin typeface="Times New Roman"/>
                  <a:ea typeface="PMingLiU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77280" y="2209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  <a:ea typeface="PMingLiU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5440" y="4329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  <a:ea typeface="PMingLiU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57280" y="2857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  <a:ea typeface="PMingLiU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86200" y="380880"/>
            <a:ext cx="5105160" cy="1206360"/>
            <a:chOff x="3886200" y="380880"/>
            <a:chExt cx="5105160" cy="1206360"/>
          </a:xfrm>
        </p:grpSpPr>
        <p:sp>
          <p:nvSpPr>
            <p:cNvPr id="208" name=""/>
            <p:cNvSpPr/>
            <p:nvPr/>
          </p:nvSpPr>
          <p:spPr>
            <a:xfrm>
              <a:off x="3886200" y="380880"/>
              <a:ext cx="5105160" cy="1173960"/>
            </a:xfrm>
            <a:prstGeom prst="wedgeRoundRectCallout">
              <a:avLst>
                <a:gd name="adj1" fmla="val -537"/>
                <a:gd name="adj2" fmla="val 161458"/>
                <a:gd name="adj3" fmla="val 16667"/>
              </a:avLst>
            </a:prstGeom>
            <a:solidFill>
              <a:srgbClr val="66ff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52880" y="640080"/>
              <a:ext cx="484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＋∠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＋∠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＝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从哪些途径探究这个结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43640" y="227664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0:09:43Z</dcterms:created>
  <dc:creator/>
  <dc:description/>
  <dc:language>en-US</dc:language>
  <cp:lastModifiedBy>微软用户</cp:lastModifiedBy>
  <dcterms:modified xsi:type="dcterms:W3CDTF">2012-09-08T02:19:3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50000000000010250600207f7000400038000</vt:lpwstr>
  </property>
</Properties>
</file>