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302-A568-4088-BB25-E6196ED5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CA7-4285-4CC7-8FB5-B5D06C6E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12B5E-14CC-4C46-A144-D1B9448B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A093F-3220-4CA8-9AE9-B64015E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0F3C-EA54-43E8-81F5-85AABD9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643D-AA4D-418A-9EF7-5A63FE9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7BCF9-8E0A-408C-8549-FF3671C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C206-AE42-465B-9B5D-EDC5535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797D4-8CCB-4A73-AC45-8BBE418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EB6CD-5340-4E18-B918-825C60C2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618D7-5EA4-473C-A65B-E0EB1F32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5CB6-44BA-49BD-B3D3-5DD506DC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F72-CDBC-47E2-A1A8-51B5A1EE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BC01E-74DB-4672-A5D2-409E195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FAB1-B467-4B37-A892-360E29A0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A7C70-61FB-4220-A076-B8863C2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2587-B0BD-4FED-A718-0CF10DF1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AF5CF-A6F2-4D19-94EE-05BF69F0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2F2C2-856F-45A2-B91D-3117BB9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F9B7F-3FC5-4565-8900-C01C4A6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4421D-E2AF-4A60-987B-81D67B1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DE91A-5870-45C7-BE02-456AE31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884D8-8189-45BB-9A83-CCD5371B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C32-78BE-4ADE-A627-53C100CC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DF314-E953-4C78-A6EB-B5A58115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9CDF5-76AF-4C44-BCAC-ECEE43C4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7B857-DD86-4968-A3B1-EC17BA2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AAE9D-A0D5-4F6F-9251-F0DF43C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6756-A0FF-4A94-BB6F-F607CBBB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CC703-6DB0-40E3-BBE9-D9EEB05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85F59-F866-43FB-8069-0A98F1E7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AF0A-40DB-44DC-8CE3-9E702E2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F1F6E-540E-4150-9A56-201196C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D6EB-FC2D-444E-AD62-068157C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E0F-6A3E-41B0-A885-AF75091D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6608-3273-4C53-B311-4F47414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1EC57-7DEF-4CD0-9A70-32080EAE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ACF49-8275-44B1-908D-4453E48C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59E40-DDEC-4BAF-922F-8F73BF59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E6495-4F26-42DE-AE05-DB50F70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3FF0-B1C5-4B3B-B850-5908FF13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C8175-AC11-49AE-9F4E-4D95A8C9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781A4-BD1F-48F7-AC85-2AE4C90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DFBF2-352B-4269-8DA7-695453DC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46E94-2393-4D95-88DF-B90D0D0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458-E099-443C-849F-B41F3E90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C9C8C-129C-405D-BE37-88100CC9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B4166-60C2-4C08-8E27-D25AB3E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41EC6-0F77-440B-AD32-0144B8A1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0EAFA-293A-426D-92C8-A44A5A27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B2DF8-26A4-4C0B-9132-A8901BE7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FAC5-723A-49B9-A19C-698E90D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FC6E-4602-4A89-ACA4-64261B8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61AB-DE71-492F-80F8-5EF6191E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A40-B9F6-4920-B6C3-EA2CD2D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B67A-C54E-442F-ACED-A7E91CB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3E6-A9CC-4234-B101-2DC1712A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62D-9254-46A4-B3C2-3956EED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4FD1-686E-496B-B9D1-1D719B6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329-2491-4BCD-948F-1623AD5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6A7-D60C-4DED-9798-B88A279F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66AD-9AC2-46D9-BE4E-B823810D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4BD6-D3D0-42F0-98B0-0C918A32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D6CE-C595-4B25-8310-692DB08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ED9B-A478-4170-893A-1010043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9A1F-2E7A-45AB-A297-B061DB2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1063-5B0A-4CFD-A60D-49E0011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068-34AE-4FE2-9E12-433431EB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746A-79EC-4AFB-A0D9-936B694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6B0E-01E9-407C-A5F5-3020EF8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434B-39DE-49BD-BEC7-4904C18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0215-85C8-443E-AB76-429F9C2E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69C6-76C1-4989-ABF5-166BA60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0A24-6F6C-401E-BF2A-2AB4474F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EACD-E1A5-467C-B9C9-C152B4AA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8F8F-8B4B-423D-9306-D3D2E031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8E6B-865D-4D4C-9F5E-03C8DE07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AB6D-F0F7-42D4-927E-A33B247C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0C5-077F-4B4A-92B5-68F1660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15AF-1967-4469-A620-5432FB9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4C52-B07B-4E4D-AA85-DA560762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FAB1-3977-4BB8-BDF9-488A5EA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4A8E1-8244-440F-989B-A0FC01D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AD6A-994E-4AC7-B490-4BB0FB9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ED6B-DF7E-4265-B370-00DE112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FD54-BB26-47EF-9307-D277CC55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45B8-B6FC-4A0C-98B8-0BC2E97F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23A7-DE30-4427-990B-078CD77B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B57C-2B8C-41E1-85B0-52FFF6E9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B8C-2A84-490D-BBE0-B0047245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E53C-2BE5-4B1C-A006-CE89E12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B5BD9-075D-402E-A3CC-127F4EF3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D8CE-DC15-4602-81B8-97C0E54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4F8A-2D88-49B8-B5CC-D12292A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7D97-37D2-423F-8F45-4305BC04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FA78-BE92-45B6-B7CF-952B6156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4C5B-D97B-4594-898B-5E31B95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9FE7-EEA9-4DCF-BB49-E46BAD6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92AC-22CB-41B4-8487-94B7FDB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9B17-5C58-4D4B-A15B-96A4CE1B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CF5-4B41-41AB-BA45-9505E9C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9081-E3EF-42A4-A8CE-E7E28F5A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69726-0C25-4F27-9E35-7DB0FE67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0478-7821-42B8-8474-4DB3F98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1C0C-D14C-4DC5-9931-5D4043D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A5C3-DC8A-43CC-8AE7-D9264E2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987D-524C-4293-B731-4C7CF05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25DB-C4DE-4357-9504-0248DF0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75C0-69CC-470D-BA39-75747FF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78A8C-62A3-4888-8A8B-8D73C6D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F556-7ED3-4C05-A611-587196B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2EF-A2C3-4CAC-89C2-0D9EFF5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16CF-0EDD-4C79-B890-83052B17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3CC0-358C-4E8E-AFC3-F7C2A036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4BA2-40C4-4D6A-9472-D700DA78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DFB7-4A81-4B38-B747-9626C293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579C-ACF7-4943-91B0-96FE563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A37A-616E-4768-B39B-B1809081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5BED-4517-4414-ABAE-47D5EB3C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EF2A-8ADF-4B3D-8ABA-06E83E1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E2F9-6758-48EE-B64F-98700D5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30A9-2997-4486-93A4-97AA099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F81-C0D6-4CD5-A802-3C59141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F2AA-ECD1-4C9D-9AC5-4C86D5D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84C0-E6BB-4E14-A011-FAB5399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05F0F-F7AE-416E-811F-5CCD2D7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C022-2EF8-4640-A18C-B319F8DE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CECE-5700-4404-A9FC-6595070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B9A1-2B44-45C9-8789-4B040CDD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BC7D3-9EDF-4FCE-A9FD-61C7185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2003-9022-423A-8616-9D78DBC1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F725-803F-4F3E-9EEA-AAC8D43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E9BE-3DC3-4864-8C46-6808290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228-2D5B-4BD4-8D6A-BDF9523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CA38E-C368-49A4-86DC-2D3AE7D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F314-7F64-401C-B1D5-1539734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E53AE-577A-4139-BFAC-466B7C3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917E-89DA-4443-822C-52242A5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248E-3F7E-4044-8D51-FD151C06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6ACD-3764-4650-9936-AEE69AB6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0460-9228-4561-A3BB-00834496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ECDD-1359-4B09-90A6-33FB848B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476A6-C00B-4A9E-8C04-6BD1846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14DD-4F70-45B8-A7F1-4FBD0844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FA4-FDE4-4EEB-9A4F-37342D1284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3FA-6358-4310-9DF5-B8971A0104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8E9-0BF9-4214-AC36-B195BBFBB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EA3-6251-4446-A911-68E1F69A40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210-E779-4B55-B217-F9FF575E6E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359-DC05-466A-ADAD-A819AC1B4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309C-BB61-42E6-9F5E-9FFD36D831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60AB-71B9-45C5-A4D4-6A259BDA0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62E-C05E-43E9-9065-1A61A3BF28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CCAD-A05D-4D6C-B110-E490430DA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327-7229-4FBE-9039-77BC401684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0D1-202A-44FF-8C45-9C8FCAC5F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ongen.com/art/twdg/dxzysh/img/td0209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60760" y="3117600"/>
            <a:ext cx="38037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第</a:t>
            </a: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10</a:t>
            </a: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143000" y="914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用科学记数法表示下列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36180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696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 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 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5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61800" y="376560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思路分析：科学记数法表示形式为：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a×10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要看把原数变成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时小数点移动了多少位，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值与小数点移动的位数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258920" y="61920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447920" y="15508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指数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什么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447920" y="2514600"/>
            <a:ext cx="684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数与原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个数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616040" y="30351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6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6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1616040" y="3552840"/>
            <a:ext cx="53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000000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942840" y="4376880"/>
            <a:ext cx="684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数等于原数的整数位数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852480" y="91440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下列用科学记数法表示的数，它的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143000" y="2300400"/>
            <a:ext cx="7086600" cy="582480"/>
            <a:chOff x="1143000" y="2300400"/>
            <a:chExt cx="7086600" cy="582480"/>
          </a:xfrm>
        </p:grpSpPr>
        <p:sp>
          <p:nvSpPr>
            <p:cNvPr id="560" name="Text Box 4"/>
            <p:cNvSpPr/>
            <p:nvPr/>
          </p:nvSpPr>
          <p:spPr>
            <a:xfrm>
              <a:off x="1143000" y="2362320"/>
              <a:ext cx="70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.8×                    (2)5.007 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5"/>
                <p:cNvSpPr txBox="1"/>
                <p:nvPr/>
              </p:nvSpPr>
              <p:spPr>
                <a:xfrm>
                  <a:off x="2895480" y="2319480"/>
                  <a:ext cx="685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Object 6"/>
                <p:cNvSpPr txBox="1"/>
                <p:nvPr/>
              </p:nvSpPr>
              <p:spPr>
                <a:xfrm>
                  <a:off x="6300720" y="2300400"/>
                  <a:ext cx="6541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3" name="Rectangle 7"/>
          <p:cNvSpPr/>
          <p:nvPr/>
        </p:nvSpPr>
        <p:spPr>
          <a:xfrm>
            <a:off x="852480" y="363060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思路分析：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值与小数点移动的位数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103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同学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能否自己尝试探索出表示大数的简单方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挥你的聪明才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试试看怎么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138680" y="357336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300 000 000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5553360" y="3573360"/>
            <a:ext cx="141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3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285560" y="415908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6 000 000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85560" y="480708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 000 000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5435640" y="414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.96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487840" y="5445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6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971640" y="5445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1 000 000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487840" y="47941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1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．用科学记数法表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．一个正常人的平均心跳速率约为每分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一年大约跳多少次？用科学记数法表示这个结果，一个正常人一生心跳次数能达到１亿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97708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7012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13704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1101600" y="39448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0×60×24×365=3.6792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108080" y="620640"/>
            <a:ext cx="78105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．请用科学记数法表示下列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１）水星的半径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２）木星的赤道半径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1 4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３）地球上的陆地面积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9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95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449520" y="28558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4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3257640" y="37958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.14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043080" y="48560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49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700"/>
                            </p:stCondLst>
                            <p:childTnLst>
                              <p:par>
                                <p:cTn id="3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60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7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5"/>
          <p:cNvSpPr/>
          <p:nvPr/>
        </p:nvSpPr>
        <p:spPr>
          <a:xfrm>
            <a:off x="277920" y="14144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．下列用科学记数法表示的数，原来各是什么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１）北京故宫的占地面积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2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２）人体中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红细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３）全球每年大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77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水从海洋和陆地转化为大气中的水汽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2978280" y="225432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2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189160" y="3078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5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013120" y="4495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77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照片 003"/>
          <p:cNvPicPr/>
          <p:nvPr/>
        </p:nvPicPr>
        <p:blipFill>
          <a:blip r:embed="rId1"/>
          <a:stretch/>
        </p:blipFill>
        <p:spPr>
          <a:xfrm>
            <a:off x="1206360" y="503280"/>
            <a:ext cx="6873840" cy="2306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7"/>
          <p:cNvSpPr/>
          <p:nvPr/>
        </p:nvSpPr>
        <p:spPr>
          <a:xfrm>
            <a:off x="530280" y="2809800"/>
            <a:ext cx="829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１）天安门广场大约可以容纳多少位受检阅的官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15880" y="3249720"/>
            <a:ext cx="2881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25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468360" y="4149720"/>
            <a:ext cx="5832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400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25=17600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952560" y="4782960"/>
            <a:ext cx="3600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.7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932040" y="29196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随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825480" y="15890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堂练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64 1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895320" y="30492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课堂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06320" y="1616040"/>
            <a:ext cx="74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什么是科学记数法，以及为什么学习科学记数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突出科学记数法中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规定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幂指数与原数整数数位数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46200" y="1125360"/>
            <a:ext cx="804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识与能力目标：借助学生所熟悉的事物进一步体会大数，并会用科学计数法表示大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与方法目标：通过收集数据、整理数据、分析数据的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培养学生应用数学的意识和能力；培养学生与人合作，并能与人交流思维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感态度与价值观要求：培养学生观察、分析、归纳及运算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857160" y="304920"/>
            <a:ext cx="23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课后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182600" y="176220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做题：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15  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做题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907920" y="306360"/>
            <a:ext cx="18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892080" y="1363680"/>
            <a:ext cx="75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添加学生课前完成‘导学’作业中的典型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" descr="21世纪教育网 -- 中国最大型、最专业的中小学教育资源门户网站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22360" y="2027160"/>
            <a:ext cx="2314440" cy="15033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21世纪教育网 -- 中国最大型、最专业的中小学教育资源门户网站"/>
          <p:cNvPicPr/>
          <p:nvPr/>
        </p:nvPicPr>
        <p:blipFill>
          <a:blip r:embed="rId2"/>
          <a:stretch/>
        </p:blipFill>
        <p:spPr>
          <a:xfrm>
            <a:off x="5097600" y="2027160"/>
            <a:ext cx="2070000" cy="16081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6"/>
          <p:cNvSpPr/>
          <p:nvPr/>
        </p:nvSpPr>
        <p:spPr>
          <a:xfrm>
            <a:off x="334800" y="3800520"/>
            <a:ext cx="847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六次人口普查时，中国人口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70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阳的半径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96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的速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457200" y="762120"/>
            <a:ext cx="5943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郎和织女的故事，大家都耳熟能详，传说每年的七月初七它们俩会见一次面，这是真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银河两岸的织女星和牛郎星。图中左下方的那颗亮星就是牛郎星，图中右侧偏中上的那颗亮星就是织女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3000" y="1219320"/>
            <a:ext cx="2210040" cy="37335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457200" y="22003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实，这不过是人们的美好愿望罢了。牛郎星和织女星相距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年之遥，就算没有银河阻隔，俩人要想见上一面，也只能是在梦中了！他们想打个电话互相问好，这个长途电话单程就得１６年！可见，天空中的牛郎织女两颗星是不可能“相会”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82600" y="17683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一年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，光的速度为每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11280" y="2637000"/>
            <a:ext cx="8024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5×24 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 ×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×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5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825480" y="4199040"/>
            <a:ext cx="2971800" cy="1523880"/>
          </a:xfrm>
          <a:prstGeom prst="cloudCallout">
            <a:avLst>
              <a:gd name="adj1" fmla="val 52402"/>
              <a:gd name="adj2" fmla="val -79791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结果你有何想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4746600" y="4199040"/>
            <a:ext cx="3048120" cy="1295280"/>
          </a:xfrm>
          <a:prstGeom prst="cloudCallout">
            <a:avLst>
              <a:gd name="adj1" fmla="val -24532"/>
              <a:gd name="adj2" fmla="val -8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何表示这个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917720" y="44604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光年到底有多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55640" y="1338120"/>
            <a:ext cx="7921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3600360" y="1305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250800" y="19605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930480" y="29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3251160" y="25779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3178080" y="315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0 0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51160" y="3868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 000 0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1019160" y="5160960"/>
            <a:ext cx="691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714240" y="5518080"/>
            <a:ext cx="729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641520" y="4913280"/>
            <a:ext cx="729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41520" y="4573440"/>
            <a:ext cx="757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点拨：通过我们仔细观察后发现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次幂，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后面就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28760" y="188136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300 000 000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6207480" y="1881360"/>
            <a:ext cx="16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=1.3×10</a:t>
            </a:r>
            <a:r>
              <a:rPr b="1" lang="en-US" sz="2800" spc="-1" strike="noStrike" baseline="38000">
                <a:solidFill>
                  <a:srgbClr val="ff0066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72760" y="3105000"/>
            <a:ext cx="31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0 000 000 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23360" y="4257720"/>
            <a:ext cx="24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 000 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5291280" y="4257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×10</a:t>
            </a:r>
            <a:r>
              <a:rPr b="1" lang="en-US" sz="2800" spc="-1" strike="noStrike" baseline="38000">
                <a:solidFill>
                  <a:srgbClr val="00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未知"/>
          <p:cNvSpPr/>
          <p:nvPr/>
        </p:nvSpPr>
        <p:spPr>
          <a:xfrm rot="300000">
            <a:off x="755640" y="2313000"/>
            <a:ext cx="2055960" cy="34596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682560" y="2673360"/>
            <a:ext cx="304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06200" y="2529000"/>
            <a:ext cx="39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小数点向左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068720" y="1736640"/>
            <a:ext cx="20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3132000" y="1881360"/>
            <a:ext cx="34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3×1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2"/>
          <p:cNvGrpSpPr/>
          <p:nvPr/>
        </p:nvGrpSpPr>
        <p:grpSpPr>
          <a:xfrm>
            <a:off x="4282920" y="2384280"/>
            <a:ext cx="2084400" cy="736200"/>
            <a:chOff x="4282920" y="2384280"/>
            <a:chExt cx="2084400" cy="736200"/>
          </a:xfrm>
        </p:grpSpPr>
        <p:sp>
          <p:nvSpPr>
            <p:cNvPr id="530" name="未知"/>
            <p:cNvSpPr/>
            <p:nvPr/>
          </p:nvSpPr>
          <p:spPr>
            <a:xfrm>
              <a:off x="4282920" y="2384280"/>
              <a:ext cx="1796760" cy="215640"/>
            </a:xfrm>
            <a:prstGeom prst="pie">
              <a:avLst/>
            </a:pr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4"/>
            <p:cNvSpPr/>
            <p:nvPr/>
          </p:nvSpPr>
          <p:spPr>
            <a:xfrm>
              <a:off x="4480920" y="2599920"/>
              <a:ext cx="18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有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9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个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5"/>
          <p:cNvSpPr/>
          <p:nvPr/>
        </p:nvSpPr>
        <p:spPr>
          <a:xfrm>
            <a:off x="3277440" y="317664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6.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×1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未知"/>
          <p:cNvSpPr/>
          <p:nvPr/>
        </p:nvSpPr>
        <p:spPr>
          <a:xfrm rot="300000">
            <a:off x="682200" y="3607920"/>
            <a:ext cx="2632320" cy="33516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179280" y="3537000"/>
            <a:ext cx="39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数点向左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4788000" y="3608280"/>
            <a:ext cx="2518920" cy="760680"/>
            <a:chOff x="4788000" y="3608280"/>
            <a:chExt cx="2518920" cy="760680"/>
          </a:xfrm>
        </p:grpSpPr>
        <p:sp>
          <p:nvSpPr>
            <p:cNvPr id="536" name="未知"/>
            <p:cNvSpPr/>
            <p:nvPr/>
          </p:nvSpPr>
          <p:spPr>
            <a:xfrm>
              <a:off x="4788000" y="3608280"/>
              <a:ext cx="2172240" cy="239040"/>
            </a:xfrm>
            <a:prstGeom prst="pie">
              <a:avLst/>
            </a:pr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0"/>
            <p:cNvSpPr/>
            <p:nvPr/>
          </p:nvSpPr>
          <p:spPr>
            <a:xfrm>
              <a:off x="5027040" y="3848400"/>
              <a:ext cx="227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1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个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21"/>
          <p:cNvSpPr/>
          <p:nvPr/>
        </p:nvSpPr>
        <p:spPr>
          <a:xfrm>
            <a:off x="7000560" y="317664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6.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2351880" y="425772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×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3"/>
          <p:cNvSpPr/>
          <p:nvPr/>
        </p:nvSpPr>
        <p:spPr>
          <a:xfrm>
            <a:off x="1341360" y="87804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们可以用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幂表示一些大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743120" y="681840"/>
            <a:ext cx="52909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5×  _______=3 5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 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01×_______=301 000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1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1×  _______=8 1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 1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3197160" y="482760"/>
            <a:ext cx="25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记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06280" y="1901520"/>
            <a:ext cx="877248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般地，一个大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数可以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成                         的形式，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正整数，这种记数方法叫做科学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数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5"/>
              <p:cNvSpPr txBox="1"/>
              <p:nvPr/>
            </p:nvSpPr>
            <p:spPr>
              <a:xfrm>
                <a:off x="915840" y="2603520"/>
                <a:ext cx="15732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6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7"/>
              <p:cNvSpPr txBox="1"/>
              <p:nvPr/>
            </p:nvSpPr>
            <p:spPr>
              <a:xfrm>
                <a:off x="2873520" y="2755800"/>
                <a:ext cx="2219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8"/>
              <p:cNvSpPr txBox="1"/>
              <p:nvPr/>
            </p:nvSpPr>
            <p:spPr>
              <a:xfrm>
                <a:off x="915840" y="3567240"/>
                <a:ext cx="4302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16:14Z</dcterms:created>
  <dc:creator> </dc:creator>
  <dc:description> </dc:description>
  <cp:keywords/>
  <dc:language>en-US</dc:language>
  <cp:lastModifiedBy>Bonny</cp:lastModifiedBy>
  <dcterms:modified xsi:type="dcterms:W3CDTF">2015-11-03T08:26:1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