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E47-1BF1-4FA5-93A3-20DD2619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566-88FE-41DA-9A62-0104803E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D92-9B8B-4713-B356-82846AF4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FC58-98D4-4D76-B944-92B022CE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408-D806-49A6-AA50-E4E42215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1F4-8A04-4CFA-ACA7-C4F48819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C78-1F30-4FCA-BAF9-370EE68D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AC9-3C81-4807-9265-61772F81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896-441A-469A-B6D1-F418B28D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2E77-F998-479A-B3E6-AAE81FDF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F38-DF7F-439E-B87E-C028E405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D5A-55DB-4EEB-80F3-06263A1B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A542-6370-42BD-A752-8790167689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0" y="549360"/>
            <a:ext cx="9144000" cy="5976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050920" y="2708280"/>
            <a:ext cx="2521080" cy="17287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48360" y="2708280"/>
            <a:ext cx="2520720" cy="17287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44720" y="1413000"/>
            <a:ext cx="73152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14.2</a:t>
            </a:r>
            <a:r>
              <a:rPr b="1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三角形全等的判定</a:t>
            </a:r>
            <a:r>
              <a:rPr b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(HL)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2138400" y="2492280"/>
            <a:ext cx="5616000" cy="3168720"/>
            <a:chOff x="2138400" y="2492280"/>
            <a:chExt cx="5616000" cy="3168720"/>
          </a:xfrm>
        </p:grpSpPr>
        <p:sp>
          <p:nvSpPr>
            <p:cNvPr id="228" name=""/>
            <p:cNvSpPr/>
            <p:nvPr/>
          </p:nvSpPr>
          <p:spPr>
            <a:xfrm>
              <a:off x="2138400" y="3887640"/>
              <a:ext cx="749880" cy="5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43200" y="3685680"/>
              <a:ext cx="749880" cy="5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04520" y="3767400"/>
              <a:ext cx="749880" cy="5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77680" y="3996720"/>
              <a:ext cx="75024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24080" y="5155560"/>
              <a:ext cx="749880" cy="5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63720" y="2492280"/>
              <a:ext cx="749880" cy="5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400480" y="2697120"/>
            <a:ext cx="4674600" cy="2674440"/>
            <a:chOff x="2400480" y="2697120"/>
            <a:chExt cx="4674600" cy="2674440"/>
          </a:xfrm>
        </p:grpSpPr>
        <p:grpSp>
          <p:nvGrpSpPr>
            <p:cNvPr id="235" name=""/>
            <p:cNvGrpSpPr/>
            <p:nvPr/>
          </p:nvGrpSpPr>
          <p:grpSpPr>
            <a:xfrm>
              <a:off x="2400480" y="2697120"/>
              <a:ext cx="3088080" cy="1339200"/>
              <a:chOff x="2400480" y="2697120"/>
              <a:chExt cx="3088080" cy="13392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2400480" y="2697120"/>
                <a:ext cx="3088080" cy="1339200"/>
                <a:chOff x="2400480" y="2697120"/>
                <a:chExt cx="3088080" cy="13392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5488560" y="2697120"/>
                  <a:ext cx="0" cy="13392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2400480" y="4036320"/>
                  <a:ext cx="308808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2400480" y="2697120"/>
                  <a:ext cx="3088080" cy="13392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208840" y="3791520"/>
                <a:ext cx="255240" cy="222840"/>
                <a:chOff x="5208840" y="3791520"/>
                <a:chExt cx="255240" cy="2228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208840" y="3791520"/>
                  <a:ext cx="0" cy="2228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08840" y="3791520"/>
                  <a:ext cx="2552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3" name=""/>
            <p:cNvGrpSpPr/>
            <p:nvPr/>
          </p:nvGrpSpPr>
          <p:grpSpPr>
            <a:xfrm>
              <a:off x="3987000" y="4032360"/>
              <a:ext cx="3088080" cy="1339200"/>
              <a:chOff x="3987000" y="4032360"/>
              <a:chExt cx="3088080" cy="133920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3987000" y="4032360"/>
                <a:ext cx="3088080" cy="1339200"/>
                <a:chOff x="3987000" y="4032360"/>
                <a:chExt cx="3088080" cy="1339200"/>
              </a:xfrm>
            </p:grpSpPr>
            <p:sp>
              <p:nvSpPr>
                <p:cNvPr id="245" name=""/>
                <p:cNvSpPr/>
                <p:nvPr/>
              </p:nvSpPr>
              <p:spPr>
                <a:xfrm flipV="1">
                  <a:off x="3987000" y="4032360"/>
                  <a:ext cx="0" cy="13392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987000" y="4032360"/>
                  <a:ext cx="308808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>
                  <a:off x="3987000" y="4032360"/>
                  <a:ext cx="3088080" cy="13392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4011480" y="4054320"/>
                <a:ext cx="255240" cy="222840"/>
                <a:chOff x="4011480" y="4054320"/>
                <a:chExt cx="255240" cy="222840"/>
              </a:xfrm>
            </p:grpSpPr>
            <p:sp>
              <p:nvSpPr>
                <p:cNvPr id="249" name=""/>
                <p:cNvSpPr/>
                <p:nvPr/>
              </p:nvSpPr>
              <p:spPr>
                <a:xfrm flipV="1">
                  <a:off x="4266720" y="4054320"/>
                  <a:ext cx="0" cy="2228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>
                  <a:off x="4011480" y="4277160"/>
                  <a:ext cx="2552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1" name=""/>
          <p:cNvSpPr/>
          <p:nvPr/>
        </p:nvSpPr>
        <p:spPr>
          <a:xfrm>
            <a:off x="611280" y="1339920"/>
            <a:ext cx="72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=CD, BF⊥AC,DE⊥AC,AE=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证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995640" y="2708280"/>
            <a:ext cx="1440000" cy="26654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73520" y="4006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宋体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280" y="358920"/>
            <a:ext cx="3457800" cy="93492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变式训练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55640" y="1339920"/>
            <a:ext cx="720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=CD, BF⊥AC,DE⊥AC,AE=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想想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885080" y="4005360"/>
            <a:ext cx="750960" cy="50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971640" y="3073320"/>
            <a:ext cx="7049160" cy="3021120"/>
            <a:chOff x="971640" y="3073320"/>
            <a:chExt cx="7049160" cy="3021120"/>
          </a:xfrm>
        </p:grpSpPr>
        <p:sp>
          <p:nvSpPr>
            <p:cNvPr id="258" name=""/>
            <p:cNvSpPr/>
            <p:nvPr/>
          </p:nvSpPr>
          <p:spPr>
            <a:xfrm>
              <a:off x="5002200" y="5589360"/>
              <a:ext cx="74952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71640" y="4468680"/>
              <a:ext cx="75096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51280" y="4370400"/>
              <a:ext cx="75096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76800" y="3979800"/>
              <a:ext cx="74952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97320" y="3073320"/>
              <a:ext cx="74952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835440" y="3146400"/>
              <a:ext cx="274680" cy="1229400"/>
              <a:chOff x="3835440" y="3146400"/>
              <a:chExt cx="274680" cy="12294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35440" y="4154040"/>
                <a:ext cx="255240" cy="221760"/>
                <a:chOff x="3835440" y="4154040"/>
                <a:chExt cx="255240" cy="2217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835440" y="4154040"/>
                  <a:ext cx="0" cy="2217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835440" y="4154040"/>
                  <a:ext cx="2552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4110120" y="3146400"/>
                <a:ext cx="0" cy="1223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5203440" y="4362840"/>
              <a:ext cx="274680" cy="1229400"/>
              <a:chOff x="5203440" y="4362840"/>
              <a:chExt cx="274680" cy="122940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5222880" y="4362840"/>
                <a:ext cx="255240" cy="221760"/>
                <a:chOff x="5222880" y="4362840"/>
                <a:chExt cx="255240" cy="221760"/>
              </a:xfrm>
            </p:grpSpPr>
            <p:sp>
              <p:nvSpPr>
                <p:cNvPr id="270" name=""/>
                <p:cNvSpPr/>
                <p:nvPr/>
              </p:nvSpPr>
              <p:spPr>
                <a:xfrm flipV="1">
                  <a:off x="5478120" y="4362840"/>
                  <a:ext cx="0" cy="2217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>
                  <a:off x="5222880" y="4584600"/>
                  <a:ext cx="2552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 flipV="1">
                <a:off x="5203440" y="4368600"/>
                <a:ext cx="0" cy="1223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368960" y="4398840"/>
              <a:ext cx="74916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31000" y="3126600"/>
              <a:ext cx="523440" cy="1233360"/>
            </a:xfrm>
            <a:prstGeom prst="line">
              <a:avLst/>
            </a:prstGeom>
            <a:ln w="22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303920" y="3121200"/>
              <a:ext cx="3367080" cy="1261800"/>
              <a:chOff x="1303920" y="3121200"/>
              <a:chExt cx="3367080" cy="1261800"/>
            </a:xfrm>
          </p:grpSpPr>
          <p:sp>
            <p:nvSpPr>
              <p:cNvPr id="276" name=""/>
              <p:cNvSpPr/>
              <p:nvPr/>
            </p:nvSpPr>
            <p:spPr>
              <a:xfrm flipV="1">
                <a:off x="1320480" y="3121200"/>
                <a:ext cx="2822040" cy="12564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1303920" y="4376160"/>
                <a:ext cx="3367080" cy="6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 flipH="1" flipV="1">
              <a:off x="4670640" y="4394880"/>
              <a:ext cx="523440" cy="1233360"/>
            </a:xfrm>
            <a:prstGeom prst="line">
              <a:avLst/>
            </a:prstGeom>
            <a:ln w="22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4653720" y="4371840"/>
              <a:ext cx="3367080" cy="1261800"/>
              <a:chOff x="4653720" y="4371840"/>
              <a:chExt cx="3367080" cy="1261800"/>
            </a:xfrm>
          </p:grpSpPr>
          <p:sp>
            <p:nvSpPr>
              <p:cNvPr id="280" name=""/>
              <p:cNvSpPr/>
              <p:nvPr/>
            </p:nvSpPr>
            <p:spPr>
              <a:xfrm flipH="1">
                <a:off x="5182200" y="4377240"/>
                <a:ext cx="2822040" cy="12564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4653720" y="4371840"/>
                <a:ext cx="3367080" cy="6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46080" y="358920"/>
            <a:ext cx="3456000" cy="93492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变式训练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5076720" cy="33354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291280" y="1916280"/>
            <a:ext cx="3744720" cy="2160360"/>
          </a:xfrm>
          <a:prstGeom prst="irregularSeal2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议一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0920" y="1050840"/>
            <a:ext cx="53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，有两个长度相同的滑梯，左边滑梯的高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右边滑梯水平方向的长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等，两个滑梯的倾斜角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F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大小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57800" y="42670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BC+∠DFE=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080" y="142920"/>
            <a:ext cx="3456000" cy="93672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联系实际 综合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876920" cy="28148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4648320" y="7621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△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△DE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398920" y="1628640"/>
            <a:ext cx="3745080" cy="968400"/>
            <a:chOff x="5398920" y="1628640"/>
            <a:chExt cx="3745080" cy="968400"/>
          </a:xfrm>
        </p:grpSpPr>
        <p:sp>
          <p:nvSpPr>
            <p:cNvPr id="291" name=""/>
            <p:cNvSpPr/>
            <p:nvPr/>
          </p:nvSpPr>
          <p:spPr>
            <a:xfrm>
              <a:off x="5398920" y="1628640"/>
              <a:ext cx="374508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C=EF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=D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3280" y="1773000"/>
              <a:ext cx="144720" cy="71928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18720 h 719280"/>
                <a:gd name="textAreaBottom" fmla="*/ 70056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4853160" y="297180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△ABC≌Rt△DEF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21240" y="3657600"/>
            <a:ext cx="3722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=∠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等三角形对应角相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4724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∵ 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+∠DFE=90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34120" y="541008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BC+∠DFE=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684360" y="620640"/>
            <a:ext cx="6133320" cy="1910160"/>
            <a:chOff x="684360" y="620640"/>
            <a:chExt cx="6133320" cy="1910160"/>
          </a:xfrm>
        </p:grpSpPr>
        <p:sp>
          <p:nvSpPr>
            <p:cNvPr id="298" name=""/>
            <p:cNvSpPr txBox="1"/>
            <p:nvPr/>
          </p:nvSpPr>
          <p:spPr>
            <a:xfrm>
              <a:off x="684360" y="620640"/>
              <a:ext cx="1938600" cy="553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隶书"/>
                </a:rPr>
                <a:t>小结</a:t>
              </a:r>
              <a:endParaRPr b="0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 rot="21463800">
              <a:off x="1227600" y="1602360"/>
              <a:ext cx="5575680" cy="818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这节课你学到了什么？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971640" y="2637000"/>
            <a:ext cx="748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直角三角形是特殊的三角形，所以不仅有一般三角形的判定全等的方法，而且还有直角三角形特殊的判定方法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--“H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两个直角三角形中，由于有直角相等的隐含条件，所以只须找两个条件即可（两个条件中至少有一个条件是一对对应边相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00000" y="1990800"/>
            <a:ext cx="7920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课后体会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完判定全等三角形的条件后，你                                                                   有什么收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116000" y="1123920"/>
            <a:ext cx="287964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课后作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3" name=""/>
          <p:cNvSpPr/>
          <p:nvPr/>
        </p:nvSpPr>
        <p:spPr>
          <a:xfrm>
            <a:off x="1454040" y="4119480"/>
            <a:ext cx="59976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华文中宋"/>
                <a:ea typeface="华文中宋"/>
              </a:rPr>
              <a:t>P</a:t>
            </a:r>
            <a:r>
              <a:rPr b="1" lang="zh-CN" sz="6000" spc="-1" strike="noStrike" baseline="-25000">
                <a:solidFill>
                  <a:srgbClr val="0000cc"/>
                </a:solidFill>
                <a:latin typeface="华文中宋"/>
                <a:ea typeface="华文中宋"/>
              </a:rPr>
              <a:t>109</a:t>
            </a:r>
            <a:r>
              <a:rPr b="1" lang="zh-CN" sz="6000" spc="-1" strike="noStrike">
                <a:solidFill>
                  <a:srgbClr val="0000cc"/>
                </a:solidFill>
                <a:latin typeface="华文中宋"/>
                <a:ea typeface="华文中宋"/>
              </a:rPr>
              <a:t> </a:t>
            </a:r>
            <a:r>
              <a:rPr b="1" lang="zh-CN" sz="6000" spc="-1" strike="noStrike">
                <a:solidFill>
                  <a:srgbClr val="0000cc"/>
                </a:solidFill>
                <a:latin typeface="华文中宋"/>
                <a:ea typeface="华文中宋"/>
              </a:rPr>
              <a:t>练习 </a:t>
            </a:r>
            <a:r>
              <a:rPr b="1" lang="zh-CN" sz="6000" spc="-1" strike="noStrike">
                <a:solidFill>
                  <a:srgbClr val="0000cc"/>
                </a:solidFill>
                <a:latin typeface="华文中宋"/>
                <a:ea typeface="华文中宋"/>
              </a:rPr>
              <a:t>1,2,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611280" y="1625760"/>
            <a:ext cx="7632720" cy="2990880"/>
            <a:chOff x="611280" y="1625760"/>
            <a:chExt cx="7632720" cy="2990880"/>
          </a:xfrm>
        </p:grpSpPr>
        <p:sp>
          <p:nvSpPr>
            <p:cNvPr id="84" name=""/>
            <p:cNvSpPr/>
            <p:nvPr/>
          </p:nvSpPr>
          <p:spPr>
            <a:xfrm>
              <a:off x="611280" y="1625760"/>
              <a:ext cx="76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：如图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:△ABC≌△DEF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指出它们的对应角、对应边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2486160" y="2560320"/>
              <a:ext cx="3287160" cy="2056320"/>
              <a:chOff x="2486160" y="2560320"/>
              <a:chExt cx="3287160" cy="2056320"/>
            </a:xfrm>
          </p:grpSpPr>
          <p:sp>
            <p:nvSpPr>
              <p:cNvPr id="86" name=""/>
              <p:cNvSpPr/>
              <p:nvPr/>
            </p:nvSpPr>
            <p:spPr>
              <a:xfrm>
                <a:off x="2843280" y="2920680"/>
                <a:ext cx="1873080" cy="12970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564000" y="2920680"/>
                <a:ext cx="1873080" cy="12970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565800" y="256032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286160" y="2560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486160" y="41446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349800" y="42177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29080" y="4217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437080" y="41590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755640" y="4724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我们已经学过判定全等三角形的方法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08560" y="2292480"/>
            <a:ext cx="232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B——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——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C——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——∠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——∠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B——∠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1800" y="5372280"/>
            <a:ext cx="77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SS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、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AS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、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SA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、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AS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3360" y="430200"/>
            <a:ext cx="3456000" cy="93492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复习旧知 引入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611280" y="3429000"/>
            <a:ext cx="7921080" cy="2485440"/>
            <a:chOff x="611280" y="3429000"/>
            <a:chExt cx="7921080" cy="2485440"/>
          </a:xfrm>
        </p:grpSpPr>
        <p:sp>
          <p:nvSpPr>
            <p:cNvPr id="99" name=""/>
            <p:cNvSpPr/>
            <p:nvPr/>
          </p:nvSpPr>
          <p:spPr>
            <a:xfrm>
              <a:off x="1046880" y="3818880"/>
              <a:ext cx="3270240" cy="179172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1118880" y="4988880"/>
              <a:ext cx="544320" cy="7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1846440" y="4988880"/>
              <a:ext cx="544320" cy="7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2574000" y="4988880"/>
              <a:ext cx="544320" cy="77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"/>
            <p:cNvGrpSpPr/>
            <p:nvPr/>
          </p:nvGrpSpPr>
          <p:grpSpPr>
            <a:xfrm>
              <a:off x="4606920" y="3429000"/>
              <a:ext cx="3269520" cy="2179440"/>
              <a:chOff x="4606920" y="3429000"/>
              <a:chExt cx="3269520" cy="2179440"/>
            </a:xfrm>
          </p:grpSpPr>
          <p:sp>
            <p:nvSpPr>
              <p:cNvPr id="104" name=""/>
              <p:cNvSpPr/>
              <p:nvPr/>
            </p:nvSpPr>
            <p:spPr>
              <a:xfrm rot="10800000">
                <a:off x="4606920" y="3817080"/>
                <a:ext cx="3269520" cy="179136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771520" y="3429000"/>
                <a:ext cx="544320" cy="77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96920" y="3429000"/>
                <a:ext cx="544680" cy="77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223040" y="3429000"/>
                <a:ext cx="544320" cy="778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" name=""/>
            <p:cNvSpPr/>
            <p:nvPr/>
          </p:nvSpPr>
          <p:spPr>
            <a:xfrm>
              <a:off x="684720" y="342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90920" y="5454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1280" y="5454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52400" y="5377320"/>
              <a:ext cx="579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A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华文中宋"/>
                  <a:ea typeface="华文中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72760" y="3818880"/>
              <a:ext cx="57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B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华文中宋"/>
                  <a:ea typeface="华文中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52400" y="3506040"/>
              <a:ext cx="579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C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华文中宋"/>
                  <a:ea typeface="华文中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71640" y="1268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如图，舞台背景的形状是两个直角三角形，工作人员想知道这两个直角三角形是否全等，但两个三角形都有一条直角边被花盆遮住无法测量</a:t>
            </a:r>
            <a:r>
              <a:rPr b="1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你能帮他想个办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3200" y="403200"/>
            <a:ext cx="3456000" cy="93672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创设情景 引入课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116000" y="549360"/>
            <a:ext cx="6551280" cy="1866240"/>
            <a:chOff x="1116000" y="549360"/>
            <a:chExt cx="6551280" cy="1866240"/>
          </a:xfrm>
        </p:grpSpPr>
        <p:sp>
          <p:nvSpPr>
            <p:cNvPr id="117" name=""/>
            <p:cNvSpPr/>
            <p:nvPr/>
          </p:nvSpPr>
          <p:spPr>
            <a:xfrm>
              <a:off x="1476000" y="820080"/>
              <a:ext cx="2704680" cy="12441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1535760" y="1632600"/>
              <a:ext cx="450360" cy="5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2137680" y="1632600"/>
              <a:ext cx="450360" cy="5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2739240" y="1632600"/>
              <a:ext cx="450360" cy="54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" name=""/>
            <p:cNvGrpSpPr/>
            <p:nvPr/>
          </p:nvGrpSpPr>
          <p:grpSpPr>
            <a:xfrm>
              <a:off x="4420800" y="549360"/>
              <a:ext cx="2704320" cy="1513800"/>
              <a:chOff x="4420800" y="549360"/>
              <a:chExt cx="2704320" cy="1513800"/>
            </a:xfrm>
          </p:grpSpPr>
          <p:sp>
            <p:nvSpPr>
              <p:cNvPr id="122" name=""/>
              <p:cNvSpPr/>
              <p:nvPr/>
            </p:nvSpPr>
            <p:spPr>
              <a:xfrm rot="10800000">
                <a:off x="4420800" y="818640"/>
                <a:ext cx="2704320" cy="124416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84160" y="549360"/>
                <a:ext cx="450360" cy="54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983920" y="549360"/>
                <a:ext cx="450720" cy="54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4400" y="549360"/>
                <a:ext cx="450360" cy="540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"/>
            <p:cNvSpPr/>
            <p:nvPr/>
          </p:nvSpPr>
          <p:spPr>
            <a:xfrm>
              <a:off x="1176840" y="549360"/>
              <a:ext cx="3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41880" y="1955880"/>
              <a:ext cx="3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16000" y="1955880"/>
              <a:ext cx="3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89200" y="190332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A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华文中宋"/>
                  <a:ea typeface="华文中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60080" y="819000"/>
              <a:ext cx="48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B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华文中宋"/>
                  <a:ea typeface="华文中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89200" y="60264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C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华文中宋"/>
                  <a:ea typeface="华文中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5640" y="2492280"/>
            <a:ext cx="7416720" cy="94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方法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用直尺量出斜边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AB, A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B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长度，再用量角器量出其中一个锐角（如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∠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与∠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1 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的大小，若它们对应相等，据根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（       ）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可以证明两直角三角形是全等的。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华文中宋"/>
                <a:ea typeface="华文中宋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4437000"/>
            <a:ext cx="748836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方法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用直尺量出不被遮住的直角边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AC, A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C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长度，再用量角器量出其中一个锐角（如∠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与∠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的大小，若它们对应相等，据根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（       ）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可以证明两直角三角形是全等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3284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A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3440" y="5159520"/>
            <a:ext cx="10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611280" y="1484280"/>
            <a:ext cx="7200360" cy="2198160"/>
            <a:chOff x="611280" y="1484280"/>
            <a:chExt cx="7200360" cy="2198160"/>
          </a:xfrm>
        </p:grpSpPr>
        <p:sp>
          <p:nvSpPr>
            <p:cNvPr id="137" name=""/>
            <p:cNvSpPr/>
            <p:nvPr/>
          </p:nvSpPr>
          <p:spPr>
            <a:xfrm>
              <a:off x="1007280" y="1818720"/>
              <a:ext cx="2972520" cy="15375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1072800" y="2823120"/>
              <a:ext cx="495000" cy="66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1734120" y="2823120"/>
              <a:ext cx="495000" cy="66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2395440" y="2823120"/>
              <a:ext cx="495000" cy="667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"/>
            <p:cNvGrpSpPr/>
            <p:nvPr/>
          </p:nvGrpSpPr>
          <p:grpSpPr>
            <a:xfrm>
              <a:off x="4243680" y="1484280"/>
              <a:ext cx="2972160" cy="1870560"/>
              <a:chOff x="4243680" y="1484280"/>
              <a:chExt cx="2972160" cy="1870560"/>
            </a:xfrm>
          </p:grpSpPr>
          <p:sp>
            <p:nvSpPr>
              <p:cNvPr id="142" name=""/>
              <p:cNvSpPr/>
              <p:nvPr/>
            </p:nvSpPr>
            <p:spPr>
              <a:xfrm rot="10800000">
                <a:off x="4243680" y="1816920"/>
                <a:ext cx="2972160" cy="153756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02440" y="1484280"/>
                <a:ext cx="495000" cy="66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961600" y="1484280"/>
                <a:ext cx="495360" cy="66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621480" y="1484280"/>
                <a:ext cx="495000" cy="66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6" name=""/>
            <p:cNvSpPr/>
            <p:nvPr/>
          </p:nvSpPr>
          <p:spPr>
            <a:xfrm>
              <a:off x="678240" y="148428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47120" y="322272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1280" y="32227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86040" y="3157920"/>
              <a:ext cx="525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A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华文中宋"/>
                  <a:ea typeface="华文中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47320" y="1817640"/>
              <a:ext cx="52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B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华文中宋"/>
                  <a:ea typeface="华文中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86040" y="1550160"/>
              <a:ext cx="525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C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华文中宋"/>
                  <a:ea typeface="华文中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11280" y="54936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如果他只带了一个卷尺，能完成这个任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3645000"/>
            <a:ext cx="5256360" cy="2592360"/>
          </a:xfrm>
          <a:prstGeom prst="cloudCallout">
            <a:avLst>
              <a:gd name="adj1" fmla="val -14722"/>
              <a:gd name="adj2" fmla="val 22810"/>
            </a:avLst>
          </a:prstGeom>
          <a:solidFill>
            <a:srgbClr val="ffff99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那么他只能测直角边和斜边了，只满足斜边和一条直角边对应相等的两个直角三角形能全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1449360"/>
            <a:ext cx="929016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画一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意画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△AC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使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﹦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再画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△A</a:t>
            </a:r>
            <a:r>
              <a:rPr b="1" lang="en-US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﹦∠C</a:t>
            </a:r>
            <a:r>
              <a:rPr b="1" lang="en-US" sz="2400" spc="-1" strike="noStrike" baseline="54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﹦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﹦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：你能试着画出来吗？与小组交流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080" y="404640"/>
            <a:ext cx="3456000" cy="93528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动手实践 探索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411280" y="3930480"/>
            <a:ext cx="3643560" cy="2404440"/>
            <a:chOff x="2411280" y="3930480"/>
            <a:chExt cx="3643560" cy="2404440"/>
          </a:xfrm>
        </p:grpSpPr>
        <p:sp>
          <p:nvSpPr>
            <p:cNvPr id="157" name=""/>
            <p:cNvSpPr/>
            <p:nvPr/>
          </p:nvSpPr>
          <p:spPr>
            <a:xfrm>
              <a:off x="2842920" y="4290480"/>
              <a:ext cx="2973600" cy="15375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11280" y="393048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4000" y="5875200"/>
              <a:ext cx="3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11280" y="5730840"/>
              <a:ext cx="33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932360" y="333360"/>
            <a:ext cx="5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A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29440" y="213372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B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4160" y="2495520"/>
            <a:ext cx="867384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作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作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=∠C=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射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圆心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半径画弧，交射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连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所作三角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2360" y="5230800"/>
            <a:ext cx="8748720" cy="13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：把画好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△A′C′B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△AC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们全等吗？你能发现什么规律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84360" y="333360"/>
            <a:ext cx="3641040" cy="2404440"/>
            <a:chOff x="684360" y="333360"/>
            <a:chExt cx="3641040" cy="2404440"/>
          </a:xfrm>
        </p:grpSpPr>
        <p:grpSp>
          <p:nvGrpSpPr>
            <p:cNvPr id="166" name=""/>
            <p:cNvGrpSpPr/>
            <p:nvPr/>
          </p:nvGrpSpPr>
          <p:grpSpPr>
            <a:xfrm>
              <a:off x="684360" y="333360"/>
              <a:ext cx="3641040" cy="2404440"/>
              <a:chOff x="684360" y="333360"/>
              <a:chExt cx="3641040" cy="2404440"/>
            </a:xfrm>
          </p:grpSpPr>
          <p:sp>
            <p:nvSpPr>
              <p:cNvPr id="167" name=""/>
              <p:cNvSpPr/>
              <p:nvPr/>
            </p:nvSpPr>
            <p:spPr>
              <a:xfrm>
                <a:off x="1116000" y="693360"/>
                <a:ext cx="2971800" cy="153756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4360" y="333360"/>
                <a:ext cx="32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994920" y="2278080"/>
                <a:ext cx="33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4360" y="2133720"/>
                <a:ext cx="33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1063440" y="1772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003640" y="189000"/>
            <a:ext cx="4040280" cy="2189880"/>
            <a:chOff x="5003640" y="189000"/>
            <a:chExt cx="4040280" cy="2189880"/>
          </a:xfrm>
        </p:grpSpPr>
        <p:sp>
          <p:nvSpPr>
            <p:cNvPr id="173" name=""/>
            <p:cNvSpPr/>
            <p:nvPr/>
          </p:nvSpPr>
          <p:spPr>
            <a:xfrm>
              <a:off x="5003640" y="1919160"/>
              <a:ext cx="52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C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36000" y="2132640"/>
              <a:ext cx="338400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14000" y="1616400"/>
              <a:ext cx="52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436000" y="332280"/>
              <a:ext cx="360" cy="180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37080" y="189000"/>
              <a:ext cx="52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67960" y="1684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8316360" y="18432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740000">
            <a:off x="5289480" y="334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549360"/>
            <a:ext cx="302580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11280" y="620640"/>
            <a:ext cx="82818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直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角形全等的判定方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ff"/>
                </a:solidFill>
                <a:uFillTx/>
                <a:latin typeface="Arial"/>
              </a:rPr>
              <a:t>斜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一条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Arial"/>
              </a:rPr>
              <a:t>直角边分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等的两个直角三角形全等。简记为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斜边、直角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或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35120" y="2492280"/>
            <a:ext cx="7641720" cy="2964240"/>
            <a:chOff x="735120" y="2492280"/>
            <a:chExt cx="7641720" cy="2964240"/>
          </a:xfrm>
        </p:grpSpPr>
        <p:sp>
          <p:nvSpPr>
            <p:cNvPr id="184" name=""/>
            <p:cNvSpPr/>
            <p:nvPr/>
          </p:nvSpPr>
          <p:spPr>
            <a:xfrm>
              <a:off x="735120" y="2492280"/>
              <a:ext cx="764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1: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如图，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C⊥B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BD⊥AD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C﹦BD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求证：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BC﹦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5870160" y="3355920"/>
              <a:ext cx="2499480" cy="2100600"/>
              <a:chOff x="5870160" y="3355920"/>
              <a:chExt cx="2499480" cy="21006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5870160" y="3355920"/>
                <a:ext cx="2499480" cy="2100600"/>
                <a:chOff x="5870160" y="3355920"/>
                <a:chExt cx="2499480" cy="210060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6130440" y="3706920"/>
                  <a:ext cx="1978560" cy="1749600"/>
                  <a:chOff x="6130440" y="3706920"/>
                  <a:chExt cx="1978560" cy="174960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rot="8902200">
                    <a:off x="6267240" y="4078800"/>
                    <a:ext cx="1704240" cy="1005120"/>
                  </a:xfrm>
                  <a:prstGeom prst="rtTriangl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 rot="12652800">
                    <a:off x="6267240" y="4078440"/>
                    <a:ext cx="1704240" cy="1005480"/>
                  </a:xfrm>
                  <a:prstGeom prst="rtTriangle">
                    <a:avLst/>
                  </a:prstGeom>
                  <a:solidFill>
                    <a:srgbClr val="ffffff">
                      <a:alpha val="92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5870160" y="436104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019720" y="436104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419600" y="335592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455160" y="335592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 flipV="1">
                <a:off x="6118920" y="4008240"/>
                <a:ext cx="964080" cy="57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>
            <a:off x="611280" y="2924280"/>
            <a:ext cx="47527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证明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⊥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⊥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都是直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763640" y="4365720"/>
            <a:ext cx="5788080" cy="862560"/>
            <a:chOff x="1763640" y="4365720"/>
            <a:chExt cx="5788080" cy="862560"/>
          </a:xfrm>
        </p:grpSpPr>
        <p:sp>
          <p:nvSpPr>
            <p:cNvPr id="197" name=""/>
            <p:cNvSpPr/>
            <p:nvPr/>
          </p:nvSpPr>
          <p:spPr>
            <a:xfrm>
              <a:off x="1763640" y="4365720"/>
              <a:ext cx="5788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=BA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=B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08000" y="4437000"/>
              <a:ext cx="223920" cy="638280"/>
            </a:xfrm>
            <a:custGeom>
              <a:avLst/>
              <a:gdLst>
                <a:gd name="textAreaLeft" fmla="*/ 143280 w 223920"/>
                <a:gd name="textAreaRight" fmla="*/ 224280 w 223920"/>
                <a:gd name="textAreaTop" fmla="*/ 16560 h 638280"/>
                <a:gd name="textAreaBottom" fmla="*/ 621720 h 6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150920" y="5157720"/>
            <a:ext cx="3492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ABC≌</a:t>
            </a:r>
            <a:r>
              <a:rPr b="1" lang="en-US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BAD (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HL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∴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BC﹦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4560" y="390852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 </a:t>
            </a:r>
            <a:r>
              <a:rPr b="1" lang="en-US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ABC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 </a:t>
            </a:r>
            <a:r>
              <a:rPr b="1" lang="en-US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BAD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280" y="287280"/>
            <a:ext cx="3457800" cy="93492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总结规律 运用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2195640" y="2565360"/>
            <a:ext cx="5616000" cy="3168720"/>
            <a:chOff x="2195640" y="2565360"/>
            <a:chExt cx="5616000" cy="3168720"/>
          </a:xfrm>
        </p:grpSpPr>
        <p:sp>
          <p:nvSpPr>
            <p:cNvPr id="203" name=""/>
            <p:cNvSpPr/>
            <p:nvPr/>
          </p:nvSpPr>
          <p:spPr>
            <a:xfrm>
              <a:off x="2195640" y="3960720"/>
              <a:ext cx="749880" cy="5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00440" y="3758760"/>
              <a:ext cx="749880" cy="5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61760" y="3840480"/>
              <a:ext cx="749880" cy="5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34920" y="4069800"/>
              <a:ext cx="75024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81320" y="5228640"/>
              <a:ext cx="749880" cy="5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20960" y="2565360"/>
              <a:ext cx="749880" cy="5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400120" y="2696760"/>
            <a:ext cx="4674600" cy="2674800"/>
            <a:chOff x="2400120" y="2696760"/>
            <a:chExt cx="4674600" cy="2674800"/>
          </a:xfrm>
        </p:grpSpPr>
        <p:grpSp>
          <p:nvGrpSpPr>
            <p:cNvPr id="210" name=""/>
            <p:cNvGrpSpPr/>
            <p:nvPr/>
          </p:nvGrpSpPr>
          <p:grpSpPr>
            <a:xfrm>
              <a:off x="2400120" y="2696760"/>
              <a:ext cx="3088800" cy="1339920"/>
              <a:chOff x="2400120" y="2696760"/>
              <a:chExt cx="3088800" cy="133992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2400120" y="2696760"/>
                <a:ext cx="3088800" cy="1339920"/>
                <a:chOff x="2400120" y="2696760"/>
                <a:chExt cx="3088800" cy="13399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488920" y="2697120"/>
                  <a:ext cx="0" cy="1339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2400120" y="4036680"/>
                  <a:ext cx="30884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V="1">
                  <a:off x="2400480" y="2696760"/>
                  <a:ext cx="3088440" cy="1339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5209200" y="3791880"/>
                <a:ext cx="255240" cy="222840"/>
                <a:chOff x="5209200" y="3791880"/>
                <a:chExt cx="255240" cy="2228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5209200" y="3791880"/>
                  <a:ext cx="0" cy="2228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209200" y="3791880"/>
                  <a:ext cx="2552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"/>
            <p:cNvGrpSpPr/>
            <p:nvPr/>
          </p:nvGrpSpPr>
          <p:grpSpPr>
            <a:xfrm>
              <a:off x="3985920" y="4032360"/>
              <a:ext cx="3088800" cy="1339200"/>
              <a:chOff x="3985920" y="4032360"/>
              <a:chExt cx="3088800" cy="1339200"/>
            </a:xfrm>
          </p:grpSpPr>
          <p:sp>
            <p:nvSpPr>
              <p:cNvPr id="219" name=""/>
              <p:cNvSpPr/>
              <p:nvPr/>
            </p:nvSpPr>
            <p:spPr>
              <a:xfrm flipV="1">
                <a:off x="3985920" y="4032360"/>
                <a:ext cx="0" cy="1339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985920" y="4032360"/>
                <a:ext cx="30888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3985920" y="4032360"/>
                <a:ext cx="3088800" cy="1339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06800" y="4054680"/>
              <a:ext cx="254880" cy="222120"/>
              <a:chOff x="4006800" y="4054680"/>
              <a:chExt cx="254880" cy="222120"/>
            </a:xfrm>
          </p:grpSpPr>
          <p:sp>
            <p:nvSpPr>
              <p:cNvPr id="223" name=""/>
              <p:cNvSpPr/>
              <p:nvPr/>
            </p:nvSpPr>
            <p:spPr>
              <a:xfrm flipV="1">
                <a:off x="4261680" y="4054680"/>
                <a:ext cx="0" cy="222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06800" y="4276800"/>
                <a:ext cx="2548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"/>
          <p:cNvSpPr/>
          <p:nvPr/>
        </p:nvSpPr>
        <p:spPr>
          <a:xfrm>
            <a:off x="611280" y="1268280"/>
            <a:ext cx="72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=CD, BF⊥AC,DE⊥AC,AE=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证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F=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280" y="358920"/>
            <a:ext cx="3456000" cy="93492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02:56:14Z</dcterms:created>
  <dc:creator>微软用户</dc:creator>
  <dc:description/>
  <cp:keywords/>
  <dc:language>en-US</dc:language>
  <cp:lastModifiedBy>User</cp:lastModifiedBy>
  <dcterms:modified xsi:type="dcterms:W3CDTF">2015-09-11T08:09:59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