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gif" ContentType="image/gif"/>
  <Override PartName="/ppt/media/image15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139-62E3-4BBF-B1B6-2887B64F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738-4438-400A-8AA3-60ABB562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2CB-28EE-4671-9571-DAB00669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805-A499-498D-AC31-0B5A37DC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3D2C-663E-4261-9958-3578F3AF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45AD-CE56-4D49-8B35-FEBCB5C2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1A90-0CCC-4C08-9AB3-C845C1CB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3733-0A7B-4991-A1F1-DA225AEE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6676-142A-434F-A4FD-A01D87EF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34E4-2F2F-4447-B2C6-CB65B74C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B3F2-6B98-4C80-AECD-A131256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A00-1528-48A3-B876-E9813F9B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D16E-4760-428E-99DD-4FE22360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8D8C-FA22-45C1-99B9-9B608095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6855-FA7D-4BF1-92AE-EB6887A6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20AF-BDF8-4D3A-8AD1-DF8CDA24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E18C-FCC2-4216-87D8-0E7F66AC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9BD3-760C-4AE5-979C-89BC64C3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6EA8-907F-47E7-88AA-22F5E74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56F6-F97C-45F0-B246-3AB25C33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A81E-7C92-4CEC-9C5F-306356F7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8F36-D696-4B8A-B3E8-43FBF29F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2F6-B00D-4D4F-92BA-1E201BF1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13C97-0130-48D1-99D6-4C792DA1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65DC-50F4-43DC-A8D3-BA5E1213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603C-9032-4470-86F5-8BE366FB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F7F1-37F9-49D7-8148-2399C43E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0639-DBCD-4571-8296-1452882C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D1B5A-61CD-4817-B1A8-3BEA40BF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7E2C-300B-4DF6-9FC7-8CD3769E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5A74-ECDB-42C1-9DFD-5997894C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7259-4608-438D-B76E-7416E71C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8AE9-C7C4-4E08-A2D2-99A123A5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BFC-ECA4-4620-8D94-381EDBE6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C8DB-E7EC-4B6B-802C-C5474E34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16F07-0C77-4F84-8AA5-B79EA54F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604D-422C-4DF6-9EC1-34696020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03349-3513-4423-84D2-4A25C03A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1E5D4-B41F-420A-9BA4-7D3D52C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C21C-EA4D-41A2-97D3-852D977C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24DE6-593A-4DA4-B51A-FEFEBD3F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A87D8-F55C-460D-AA2E-01048525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CF843-6645-4457-B123-5BA4F7AD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4DCF-A208-4986-AE45-04DA394B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CAE-6DE2-4E21-8DB8-253D3D64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D2116-3A09-4A2E-9E99-11FF044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38635-759A-4D1F-8089-F889CCA9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3C908-D951-4E12-9668-33A7EFCD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1ABB8-4A7C-403B-BC42-C2FF2BAA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F2F3-6B76-44E0-8C13-6436F0E4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0F7D-5B78-4723-942F-859008ED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13623-0E55-4973-9417-B12BAF9E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60A1-9014-49B2-AC65-4BCBAAB7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5CBB-DAF8-4BCE-8A6C-2686AA98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B2B01-0DDF-4FB2-9077-D6B3D7EA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0ED-FFE9-4CF1-9D97-443FB484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5E613-B1E3-4CF5-8CE5-ACE51EE0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7C219-853F-4933-B12E-854151DF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7C746-E609-42B5-BCCC-FDA49032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DFE48-278E-44DE-BFFD-BBC55B61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1669F-5A6A-4D51-A5DB-4F7B05E6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D974-80E8-4278-9AAB-CB874BC8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58479-8CCA-4CB2-B368-65F2A78D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CAA37-ED59-477F-B2A0-1AC73A3A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D40D5-C005-478B-9CB7-09D435ED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222CD-1971-43A5-B139-6CC174E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78F-30E8-4957-8CC2-186E219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81B03-FC92-45E2-A82A-14375D43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11F7C-BA4D-4B5F-AAFE-A118A52F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9C25D-CAC3-4076-9C8C-505E89AE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FCF00-287D-4718-BF21-CBF4A361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DC333-7405-4C39-B890-A8D5802C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5ECF3-251E-4676-A5E6-B21C1E1E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50453-06E1-4880-BF5C-1BBF0998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01C2E-71F1-48C7-8077-B7CB0B23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8680" y="3174480"/>
            <a:ext cx="7769160" cy="51894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467D0-B553-405B-AE28-DC9BD431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97CF0-67E2-4B6D-997A-22E2B72E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6C4-9B28-4D77-880D-52E20B01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9AF93-2EAE-46A5-B2F0-5633A8DC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A3B61-EE27-4511-A201-A9146A9E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60578-B0BC-4AAA-8643-0A7B7412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51560" y="464796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C0337-6FAF-4A38-9DAD-074E3A2F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3556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99880" y="441648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37160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3556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99880" y="4647960"/>
            <a:ext cx="2060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98608-0304-4F53-B94F-37582CF9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16480"/>
            <a:ext cx="312336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647960"/>
            <a:ext cx="64008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1E4-70E0-494E-AD8B-837A3FE4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CD5-E6B1-44AE-973C-9DA82EDBF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0" y="4705200"/>
            <a:ext cx="8537400" cy="215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00400"/>
            <a:ext cx="9144000" cy="36576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ed3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189000"/>
            <a:ext cx="74167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DE22-2C3F-445D-9591-8DECDE1B23B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aed3e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7308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1f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1f5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61f5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f5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763120" y="0"/>
            <a:ext cx="380880" cy="32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400800"/>
            <a:ext cx="9144000" cy="76320"/>
          </a:xfrm>
          <a:prstGeom prst="rect">
            <a:avLst/>
          </a:prstGeom>
          <a:solidFill>
            <a:srgbClr val="061f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553080"/>
          </a:xfrm>
          <a:prstGeom prst="rect">
            <a:avLst/>
          </a:prstGeom>
          <a:gradFill rotWithShape="0">
            <a:gsLst>
              <a:gs pos="0">
                <a:srgbClr val="231d97"/>
              </a:gs>
              <a:gs pos="100000">
                <a:srgbClr val="78a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6200" y="62064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2916000" y="6337080"/>
            <a:ext cx="158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4571640" y="633708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7947000" y="6337080"/>
            <a:ext cx="1162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8441-FFE0-4305-9B13-E253C7B033B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61f5b"/>
          </a:solidFill>
          <a:ln w="9360">
            <a:solidFill>
              <a:srgbClr val="061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24480"/>
            <a:ext cx="914400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1f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4941720"/>
          </a:xfrm>
          <a:prstGeom prst="rect">
            <a:avLst/>
          </a:prstGeom>
          <a:solidFill>
            <a:srgbClr val="c0c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8640" y="1603080"/>
            <a:ext cx="8226720" cy="30877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5200" indent="-295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42960" indent="-247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88920" indent="-1983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84200" indent="-199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778040" indent="-19692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778040" indent="-196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C9C1-2612-4A34-A8F9-1EC4E86C4B63}" type="slidenum"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8680" y="3174480"/>
            <a:ext cx="7769160" cy="111924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7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045F-D428-48CF-9BD6-2DDCD95D7BE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lvl="1" marL="395280" indent="0" algn="ctr">
              <a:spcBef>
                <a:spcPts val="326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a0c6ea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a0c6ea"/>
              </a:solidFill>
              <a:latin typeface="Arial"/>
            </a:endParaRPr>
          </a:p>
          <a:p>
            <a:pPr lvl="2" marL="790560" algn="ctr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3" marL="1184400" algn="ctr"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4" marL="1581120" algn="ctr">
              <a:spcBef>
                <a:spcPts val="2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5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6" marL="158112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drops_8-wallpaper-1440x108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0840" y="0"/>
            <a:ext cx="7553160" cy="6846840"/>
          </a:xfrm>
          <a:prstGeom prst="rect">
            <a:avLst/>
          </a:prstGeom>
          <a:solidFill>
            <a:srgbClr val="c0c0c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69920" y="276120"/>
            <a:ext cx="671544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0" lang="en-US" sz="31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969920" y="1598760"/>
            <a:ext cx="671688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1" marL="727200" indent="-2793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2" marL="1119240" indent="-223920">
              <a:spcBef>
                <a:spcPts val="476"/>
              </a:spcBef>
              <a:buClr>
                <a:srgbClr val="009999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3" marL="1566720" indent="-223560">
              <a:spcBef>
                <a:spcPts val="476"/>
              </a:spcBef>
              <a:buClr>
                <a:srgbClr val="009999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4" marL="2014560" indent="-223920">
              <a:spcBef>
                <a:spcPts val="476"/>
              </a:spcBef>
              <a:buClr>
                <a:srgbClr val="009999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5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  <a:p>
            <a:pPr lvl="6" marL="201456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2FF7-4C6D-42B7-A335-E4008B7BC1C9}" type="slidenum">
              <a:rPr b="0" lang="en-US" sz="800" spc="-1" strike="noStrike">
                <a:solidFill>
                  <a:srgbClr val="009999"/>
                </a:solidFill>
                <a:latin typeface="微软雅黑"/>
                <a:ea typeface="微软雅黑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8640" y="276120"/>
            <a:ext cx="8226720" cy="1139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5864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22640" y="62431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554880" y="62431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0B4A-8C63-4304-8A7B-19474BFCD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28800" y="2514600"/>
            <a:ext cx="61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1f5b"/>
                </a:solidFill>
                <a:latin typeface="Arial"/>
                <a:ea typeface="仿宋"/>
              </a:rPr>
              <a:t>5.3</a:t>
            </a:r>
            <a:r>
              <a:rPr b="1" lang="zh-CN" sz="3200" spc="-1" strike="noStrike">
                <a:solidFill>
                  <a:srgbClr val="061f5b"/>
                </a:solidFill>
                <a:latin typeface="Arial"/>
                <a:ea typeface="仿宋"/>
              </a:rPr>
              <a:t>　图形变换的简单应用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 rot="5400000">
            <a:off x="228240" y="2209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 rot="16200000">
            <a:off x="1905120" y="533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 flipH="1" rot="5400000">
            <a:off x="228240" y="53316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457200" y="426708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：方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1160" y="5137200"/>
            <a:ext cx="68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将（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方案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的图形摆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个在一起即可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1711440"/>
            <a:ext cx="8305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200" spc="-1" strike="noStrike">
                <a:solidFill>
                  <a:srgbClr val="061f5b"/>
                </a:solidFill>
                <a:latin typeface="Times New Roman"/>
                <a:ea typeface="黑体"/>
              </a:rPr>
              <a:t>下图中只能用其中一部分平移可以得到的是</a:t>
            </a:r>
            <a:r>
              <a:rPr b="1" lang="zh-CN" sz="2200" spc="-1" strike="noStrike">
                <a:solidFill>
                  <a:srgbClr val="061f5b"/>
                </a:solidFill>
                <a:latin typeface="Arial"/>
              </a:rPr>
              <a:t>（        ）</a:t>
            </a:r>
            <a:r>
              <a:rPr b="1" lang="en-US" sz="2200" spc="-1" strike="noStrike">
                <a:solidFill>
                  <a:srgbClr val="061f5b"/>
                </a:solidFill>
                <a:latin typeface="宋体"/>
              </a:rPr>
              <a:t>.</a:t>
            </a:r>
            <a:endParaRPr b="0" lang="en-US" sz="22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828800" y="4343400"/>
            <a:ext cx="6172200" cy="1222200"/>
            <a:chOff x="1828800" y="4343400"/>
            <a:chExt cx="6172200" cy="1222200"/>
          </a:xfrm>
        </p:grpSpPr>
        <p:sp>
          <p:nvSpPr>
            <p:cNvPr id="364" name=""/>
            <p:cNvSpPr/>
            <p:nvPr/>
          </p:nvSpPr>
          <p:spPr>
            <a:xfrm>
              <a:off x="2209680" y="4365720"/>
              <a:ext cx="579132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轴对称、平移不改变图形的形状和大小</a:t>
              </a: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.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平移前后图形对应点连线平行且相等，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故选</a:t>
              </a:r>
              <a:r>
                <a:rPr b="1" lang="en-US" sz="2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B.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28800" y="4343400"/>
              <a:ext cx="457200" cy="457200"/>
            </a:xfrm>
            <a:custGeom>
              <a:avLst/>
              <a:gdLst>
                <a:gd name="textAreaLeft" fmla="*/ 104760 w 457200"/>
                <a:gd name="textAreaRight" fmla="*/ 352440 w 457200"/>
                <a:gd name="textAreaTop" fmla="*/ 104760 h 457200"/>
                <a:gd name="textAreaBottom" fmla="*/ 3524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61f5b"/>
                  </a:solidFill>
                  <a:latin typeface="Arial"/>
                </a:rPr>
                <a:t>解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400800" y="187308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828800" y="2286000"/>
            <a:ext cx="5562720" cy="1834200"/>
            <a:chOff x="1828800" y="2286000"/>
            <a:chExt cx="5562720" cy="1834200"/>
          </a:xfrm>
        </p:grpSpPr>
        <p:pic>
          <p:nvPicPr>
            <p:cNvPr id="368" name="" descr=""/>
            <p:cNvPicPr/>
            <p:nvPr/>
          </p:nvPicPr>
          <p:blipFill>
            <a:blip r:embed="rId1"/>
            <a:stretch/>
          </p:blipFill>
          <p:spPr>
            <a:xfrm>
              <a:off x="1828800" y="2286000"/>
              <a:ext cx="5486400" cy="161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9" name=""/>
            <p:cNvGrpSpPr/>
            <p:nvPr/>
          </p:nvGrpSpPr>
          <p:grpSpPr>
            <a:xfrm>
              <a:off x="1828800" y="3654360"/>
              <a:ext cx="5562720" cy="465840"/>
              <a:chOff x="1828800" y="3654360"/>
              <a:chExt cx="5562720" cy="465840"/>
            </a:xfrm>
          </p:grpSpPr>
          <p:sp>
            <p:nvSpPr>
              <p:cNvPr id="370" name=""/>
              <p:cNvSpPr/>
              <p:nvPr/>
            </p:nvSpPr>
            <p:spPr>
              <a:xfrm>
                <a:off x="6095880" y="3654360"/>
                <a:ext cx="129564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61f5b"/>
                    </a:solidFill>
                    <a:latin typeface="Times New Roman"/>
                  </a:rPr>
                  <a:t>D</a:t>
                </a:r>
                <a:endParaRPr b="0" lang="en-US" sz="22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28800" y="3657600"/>
                <a:ext cx="99072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61f5b"/>
                    </a:solidFill>
                    <a:latin typeface="Times New Roman"/>
                  </a:rPr>
                  <a:t>A</a:t>
                </a:r>
                <a:endParaRPr b="0" lang="en-US" sz="22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24080" y="3654360"/>
                <a:ext cx="106704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61f5b"/>
                    </a:solidFill>
                    <a:latin typeface="Times New Roman"/>
                  </a:rPr>
                  <a:t>B</a:t>
                </a:r>
                <a:endParaRPr b="0" lang="en-US" sz="22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67080" y="3657600"/>
                <a:ext cx="144792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61f5b"/>
                    </a:solidFill>
                    <a:latin typeface="Times New Roman"/>
                  </a:rPr>
                  <a:t>C</a:t>
                </a:r>
                <a:endParaRPr b="0" lang="en-US" sz="2200" spc="-1" strike="noStrike">
                  <a:solidFill>
                    <a:srgbClr val="061f5b"/>
                  </a:solidFill>
                  <a:latin typeface="Arial"/>
                </a:endParaRPr>
              </a:p>
            </p:txBody>
          </p:sp>
        </p:grpSp>
      </p:grp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17906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1676520" y="4191120"/>
            <a:ext cx="6172200" cy="853200"/>
            <a:chOff x="1676520" y="4191120"/>
            <a:chExt cx="6172200" cy="853200"/>
          </a:xfrm>
        </p:grpSpPr>
        <p:sp>
          <p:nvSpPr>
            <p:cNvPr id="376" name=""/>
            <p:cNvSpPr/>
            <p:nvPr/>
          </p:nvSpPr>
          <p:spPr>
            <a:xfrm>
              <a:off x="2057400" y="4213080"/>
              <a:ext cx="5791320" cy="8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圆弧与扇形的对称轴是过弧中点和圆心的直线</a:t>
              </a: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角的对称轴是角平分线所在的直线</a:t>
              </a: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菱形和等腰梯形是轴对称图形</a:t>
              </a:r>
              <a:r>
                <a:rPr b="1" lang="en-US" sz="2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.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76520" y="4191120"/>
              <a:ext cx="457200" cy="456840"/>
            </a:xfrm>
            <a:custGeom>
              <a:avLst/>
              <a:gdLst>
                <a:gd name="textAreaLeft" fmla="*/ 104760 w 457200"/>
                <a:gd name="textAreaRight" fmla="*/ 352440 w 457200"/>
                <a:gd name="textAreaTop" fmla="*/ 104760 h 456840"/>
                <a:gd name="textAreaBottom" fmla="*/ 35208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40" y="13895"/>
                  </a:lnTo>
                  <a:lnTo>
                    <a:pt x="3163" y="18437"/>
                  </a:lnTo>
                  <a:lnTo>
                    <a:pt x="7572" y="18405"/>
                  </a:lnTo>
                  <a:lnTo>
                    <a:pt x="10800" y="21600"/>
                  </a:lnTo>
                  <a:lnTo>
                    <a:pt x="13895" y="18460"/>
                  </a:lnTo>
                  <a:lnTo>
                    <a:pt x="18437" y="18437"/>
                  </a:lnTo>
                  <a:lnTo>
                    <a:pt x="18405" y="14028"/>
                  </a:lnTo>
                  <a:lnTo>
                    <a:pt x="21600" y="10800"/>
                  </a:lnTo>
                  <a:lnTo>
                    <a:pt x="18460" y="7705"/>
                  </a:lnTo>
                  <a:lnTo>
                    <a:pt x="18437" y="3163"/>
                  </a:lnTo>
                  <a:lnTo>
                    <a:pt x="14028" y="3195"/>
                  </a:lnTo>
                  <a:lnTo>
                    <a:pt x="10800" y="0"/>
                  </a:lnTo>
                  <a:lnTo>
                    <a:pt x="7705" y="3140"/>
                  </a:lnTo>
                  <a:lnTo>
                    <a:pt x="3163" y="3163"/>
                  </a:lnTo>
                  <a:lnTo>
                    <a:pt x="3195" y="757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61f5b"/>
                  </a:solidFill>
                  <a:latin typeface="Arial"/>
                </a:rPr>
                <a:t>解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838080" y="1711440"/>
            <a:ext cx="8305920" cy="2256120"/>
            <a:chOff x="838080" y="1711440"/>
            <a:chExt cx="8305920" cy="2256120"/>
          </a:xfrm>
        </p:grpSpPr>
        <p:sp>
          <p:nvSpPr>
            <p:cNvPr id="379" name=""/>
            <p:cNvSpPr/>
            <p:nvPr/>
          </p:nvSpPr>
          <p:spPr>
            <a:xfrm>
              <a:off x="838080" y="1711440"/>
              <a:ext cx="83059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如图，下列几何图形中，一定是轴对称图形的有</a:t>
              </a:r>
              <a:r>
                <a:rPr b="1" lang="zh-CN" sz="2200" spc="-1" strike="noStrike">
                  <a:solidFill>
                    <a:srgbClr val="061f5b"/>
                  </a:solidFill>
                  <a:latin typeface="Arial"/>
                </a:rPr>
                <a:t>（        ）</a:t>
              </a:r>
              <a:r>
                <a:rPr b="1" lang="en-US" sz="2200" spc="-1" strike="noStrike">
                  <a:solidFill>
                    <a:srgbClr val="061f5b"/>
                  </a:solidFill>
                  <a:latin typeface="宋体"/>
                </a:rPr>
                <a:t>.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43000" y="3504960"/>
              <a:ext cx="701028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A.2</a:t>
              </a:r>
              <a:r>
                <a:rPr b="1" lang="zh-CN" sz="22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个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                    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B.3</a:t>
              </a:r>
              <a:r>
                <a:rPr b="1" lang="zh-CN" sz="22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个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                 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C.4</a:t>
              </a:r>
              <a:r>
                <a:rPr b="1" lang="zh-CN" sz="22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个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                 </a:t>
              </a:r>
              <a:r>
                <a:rPr b="1" lang="en-US" sz="2200" spc="-1" strike="noStrike">
                  <a:solidFill>
                    <a:srgbClr val="061f5b"/>
                  </a:solidFill>
                  <a:latin typeface="Times New Roman"/>
                </a:rPr>
                <a:t>D.5</a:t>
              </a:r>
              <a:r>
                <a:rPr b="1" lang="zh-CN" sz="22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个</a:t>
              </a:r>
              <a:endParaRPr b="0" lang="en-US" sz="22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1371600" y="2341440"/>
              <a:ext cx="6164280" cy="116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"/>
          <p:cNvSpPr/>
          <p:nvPr/>
        </p:nvSpPr>
        <p:spPr>
          <a:xfrm>
            <a:off x="6629400" y="182880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D</a:t>
            </a:r>
            <a:endParaRPr b="0" lang="en-US" sz="26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1790640" cy="5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676520" y="1965240"/>
            <a:ext cx="533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什么样的图形叫轴对称图形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76520" y="2666880"/>
            <a:ext cx="701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什么样的图形变换叫轴对称变换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轴反射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3413160"/>
            <a:ext cx="495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轴对称变换有哪些性质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76520" y="4114800"/>
            <a:ext cx="510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4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什么样的图形变换叫旋转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4784760"/>
            <a:ext cx="4419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5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旋转有哪些性质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8194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38080" y="3352680"/>
            <a:ext cx="1447920" cy="457200"/>
          </a:xfrm>
          <a:prstGeom prst="rect">
            <a:avLst/>
          </a:prstGeom>
          <a:solidFill>
            <a:srgbClr val="ffff8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图形变换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971800" y="3200400"/>
            <a:ext cx="1752480" cy="914400"/>
          </a:xfrm>
          <a:prstGeom prst="rect">
            <a:avLst/>
          </a:prstGeom>
          <a:solidFill>
            <a:srgbClr val="ffff8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轴对称变换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（轴反射）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71800" y="1828800"/>
            <a:ext cx="914400" cy="457200"/>
          </a:xfrm>
          <a:prstGeom prst="rect">
            <a:avLst/>
          </a:prstGeom>
          <a:solidFill>
            <a:srgbClr val="ffff8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平移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5029200"/>
            <a:ext cx="914400" cy="457200"/>
          </a:xfrm>
          <a:prstGeom prst="rect">
            <a:avLst/>
          </a:prstGeom>
          <a:solidFill>
            <a:srgbClr val="ffff8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旋转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3276720"/>
            <a:ext cx="1752480" cy="761760"/>
          </a:xfrm>
          <a:prstGeom prst="rect">
            <a:avLst/>
          </a:prstGeom>
          <a:solidFill>
            <a:srgbClr val="ffff8f"/>
          </a:solidFill>
          <a:ln w="0">
            <a:noFill/>
          </a:ln>
          <a:effectLst>
            <a:outerShdw dist="107932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图形变换的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Arial"/>
                <a:ea typeface="黑体"/>
              </a:rPr>
              <a:t>简单应用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800600" y="3657600"/>
            <a:ext cx="19051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62520" y="5257800"/>
            <a:ext cx="3657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0120" y="4114800"/>
            <a:ext cx="0" cy="1143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361960" y="2057400"/>
            <a:ext cx="609840" cy="3200400"/>
            <a:chOff x="2361960" y="2057400"/>
            <a:chExt cx="609840" cy="3200400"/>
          </a:xfrm>
        </p:grpSpPr>
        <p:sp>
          <p:nvSpPr>
            <p:cNvPr id="399" name=""/>
            <p:cNvSpPr/>
            <p:nvPr/>
          </p:nvSpPr>
          <p:spPr>
            <a:xfrm>
              <a:off x="2667240" y="3657600"/>
              <a:ext cx="0" cy="1600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361960" y="3657600"/>
              <a:ext cx="6094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7240" y="5257800"/>
              <a:ext cx="30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67240" y="2057400"/>
              <a:ext cx="0" cy="160020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667240" y="2057400"/>
              <a:ext cx="304560" cy="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1f5b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3962520" y="2057400"/>
            <a:ext cx="3657600" cy="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2057400"/>
            <a:ext cx="0" cy="12193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8194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66680" y="192096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轴对称变换（轴反射）可以看做是将图形沿直线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对称轴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翻折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°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66680" y="2895480"/>
            <a:ext cx="70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2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旋转是将图形上每一个点绕平面内一个定点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旋转中心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旋转同一个角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39466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.</a:t>
            </a: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轴对称变换、旋转不改变图形的形状和大小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8194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2" descr="c3bebc432473f29708cd2752a57d107c.jpg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73272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1" descr="6a819a4096491ff90623c57b0dd773ec.gif"/>
          <p:cNvPicPr/>
          <p:nvPr/>
        </p:nvPicPr>
        <p:blipFill>
          <a:blip r:embed="rId2"/>
          <a:stretch/>
        </p:blipFill>
        <p:spPr>
          <a:xfrm>
            <a:off x="0" y="125280"/>
            <a:ext cx="1446120" cy="1446480"/>
          </a:xfrm>
          <a:prstGeom prst="rect">
            <a:avLst/>
          </a:prstGeom>
          <a:ln w="0">
            <a:noFill/>
          </a:ln>
        </p:spPr>
      </p:pic>
      <p:sp>
        <p:nvSpPr>
          <p:cNvPr id="413" name="矩形 3"/>
          <p:cNvSpPr/>
          <p:nvPr/>
        </p:nvSpPr>
        <p:spPr>
          <a:xfrm>
            <a:off x="3650040" y="571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谢谢！</a:t>
            </a:r>
            <a:endParaRPr b="0" lang="en-US" sz="5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85800"/>
            <a:ext cx="7467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bbe0e3"/>
                </a:solidFill>
                <a:latin typeface="黑体"/>
                <a:ea typeface="黑体"/>
              </a:rPr>
              <a:t>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欣赏下列图案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如图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说出它们分别是由哪个基础图形经过怎样的变换得到的，在图中把基础图形标出来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或把基础图形画出来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91120" cy="2117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400800" y="1752480"/>
            <a:ext cx="2577960" cy="2578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343400" y="4038480"/>
            <a:ext cx="2349360" cy="2349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76320"/>
            <a:ext cx="2048040" cy="723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255680" y="464652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32840" y="4514760"/>
            <a:ext cx="12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03640" y="642132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61f5b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191120" cy="2116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152280" y="4800600"/>
            <a:ext cx="1444680" cy="163044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609480" y="2742840"/>
            <a:ext cx="3733920" cy="1562040"/>
            <a:chOff x="609480" y="2742840"/>
            <a:chExt cx="3733920" cy="1562040"/>
          </a:xfrm>
        </p:grpSpPr>
        <p:sp>
          <p:nvSpPr>
            <p:cNvPr id="318" name=""/>
            <p:cNvSpPr/>
            <p:nvPr/>
          </p:nvSpPr>
          <p:spPr>
            <a:xfrm flipH="1" flipV="1">
              <a:off x="609120" y="2742480"/>
              <a:ext cx="3733920" cy="1562040"/>
            </a:xfrm>
            <a:prstGeom prst="wedgeRoundRectCallout">
              <a:avLst>
                <a:gd name="adj1" fmla="val 36305"/>
                <a:gd name="adj2" fmla="val -77337"/>
                <a:gd name="adj3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图</a:t>
              </a:r>
              <a:r>
                <a:rPr b="1" lang="zh-CN" sz="2500" spc="-1" strike="noStrike">
                  <a:solidFill>
                    <a:srgbClr val="bbe0e3"/>
                  </a:solidFill>
                  <a:latin typeface="宋体"/>
                </a:rPr>
                <a:t>（</a:t>
              </a:r>
              <a:r>
                <a:rPr b="1" lang="zh-CN" sz="2500" spc="-1" strike="noStrike">
                  <a:solidFill>
                    <a:srgbClr val="bbe0e3"/>
                  </a:solidFill>
                  <a:latin typeface="Times New Roman"/>
                </a:rPr>
                <a:t>1</a:t>
              </a:r>
              <a:r>
                <a:rPr b="1" lang="zh-CN" sz="2500" spc="-1" strike="noStrike">
                  <a:solidFill>
                    <a:srgbClr val="bbe0e3"/>
                  </a:solidFill>
                  <a:latin typeface="宋体"/>
                </a:rPr>
                <a:t>）</a:t>
              </a:r>
              <a:r>
                <a:rPr b="1" lang="zh-CN" sz="25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是由正方形图案   作平移得到的</a:t>
              </a:r>
              <a:r>
                <a:rPr b="1" lang="zh-CN" sz="25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.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3"/>
            <a:stretch/>
          </p:blipFill>
          <p:spPr>
            <a:xfrm>
              <a:off x="1218960" y="35053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/>
          <p:cNvSpPr/>
          <p:nvPr/>
        </p:nvSpPr>
        <p:spPr>
          <a:xfrm>
            <a:off x="6376680" y="289548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bbe0e3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52280" y="4800600"/>
            <a:ext cx="1444680" cy="16304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867280" y="685800"/>
            <a:ext cx="2578320" cy="257796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609480" y="2742840"/>
            <a:ext cx="3733920" cy="1562040"/>
            <a:chOff x="609480" y="2742840"/>
            <a:chExt cx="3733920" cy="1562040"/>
          </a:xfrm>
        </p:grpSpPr>
        <p:sp>
          <p:nvSpPr>
            <p:cNvPr id="324" name=""/>
            <p:cNvSpPr/>
            <p:nvPr/>
          </p:nvSpPr>
          <p:spPr>
            <a:xfrm flipH="1" flipV="1">
              <a:off x="609120" y="2742480"/>
              <a:ext cx="3733920" cy="1562040"/>
            </a:xfrm>
            <a:prstGeom prst="wedgeRoundRectCallout">
              <a:avLst>
                <a:gd name="adj1" fmla="val 36305"/>
                <a:gd name="adj2" fmla="val -77337"/>
                <a:gd name="adj3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图</a:t>
              </a:r>
              <a:r>
                <a:rPr b="1" lang="zh-CN" sz="2500" spc="-1" strike="noStrike">
                  <a:solidFill>
                    <a:srgbClr val="bbe0e3"/>
                  </a:solidFill>
                  <a:latin typeface="宋体"/>
                </a:rPr>
                <a:t>（</a:t>
              </a:r>
              <a:r>
                <a:rPr b="1" lang="zh-CN" sz="2500" spc="-1" strike="noStrike">
                  <a:solidFill>
                    <a:srgbClr val="bbe0e3"/>
                  </a:solidFill>
                  <a:latin typeface="Times New Roman"/>
                </a:rPr>
                <a:t>2</a:t>
              </a:r>
              <a:r>
                <a:rPr b="1" lang="zh-CN" sz="2500" spc="-1" strike="noStrike">
                  <a:solidFill>
                    <a:srgbClr val="bbe0e3"/>
                  </a:solidFill>
                  <a:latin typeface="宋体"/>
                </a:rPr>
                <a:t>）</a:t>
              </a:r>
              <a:r>
                <a:rPr b="1" lang="zh-CN" sz="25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是由图  作轴对称变换得到的</a:t>
              </a:r>
              <a:r>
                <a:rPr b="1" lang="zh-CN" sz="25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.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3"/>
            <a:stretch/>
          </p:blipFill>
          <p:spPr>
            <a:xfrm>
              <a:off x="2971800" y="2971800"/>
              <a:ext cx="3096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"/>
          <p:cNvSpPr/>
          <p:nvPr/>
        </p:nvSpPr>
        <p:spPr>
          <a:xfrm>
            <a:off x="6757920" y="350532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bbe0e3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52280" y="4800600"/>
            <a:ext cx="1444680" cy="163044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304560" y="1600200"/>
            <a:ext cx="4647960" cy="2819520"/>
            <a:chOff x="304560" y="1600200"/>
            <a:chExt cx="4647960" cy="2819520"/>
          </a:xfrm>
        </p:grpSpPr>
        <p:sp>
          <p:nvSpPr>
            <p:cNvPr id="329" name=""/>
            <p:cNvSpPr/>
            <p:nvPr/>
          </p:nvSpPr>
          <p:spPr>
            <a:xfrm flipH="1" flipV="1">
              <a:off x="303840" y="1600200"/>
              <a:ext cx="4647960" cy="2819520"/>
            </a:xfrm>
            <a:prstGeom prst="wedgeRoundRectCallout">
              <a:avLst>
                <a:gd name="adj1" fmla="val 31625"/>
                <a:gd name="adj2" fmla="val -61430"/>
                <a:gd name="adj3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    </a:t>
              </a: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图</a:t>
              </a:r>
              <a:r>
                <a:rPr b="1" lang="en-US" sz="2400" spc="-1" strike="noStrike">
                  <a:solidFill>
                    <a:srgbClr val="bbe0e3"/>
                  </a:solidFill>
                  <a:latin typeface="宋体"/>
                </a:rPr>
                <a:t>(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bbe0e3"/>
                  </a:solidFill>
                  <a:latin typeface="宋体"/>
                </a:rPr>
                <a:t>)</a:t>
              </a: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是中华人民共和国香港特别行政区区徽，可由一个紫荆花瓣    绕中心点</a:t>
              </a:r>
              <a:r>
                <a:rPr b="1" i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O</a:t>
              </a: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按顺时针方向依次旋转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72</a:t>
              </a:r>
              <a:r>
                <a:rPr b="1" lang="en-US" sz="2400" spc="-1" strike="noStrike" baseline="30000">
                  <a:solidFill>
                    <a:srgbClr val="bbe0e3"/>
                  </a:solidFill>
                  <a:latin typeface="Times New Roman"/>
                  <a:ea typeface="黑体"/>
                </a:rPr>
                <a:t>°</a:t>
              </a:r>
              <a:r>
                <a:rPr b="1" lang="zh-CN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144</a:t>
              </a:r>
              <a:r>
                <a:rPr b="1" lang="en-US" sz="2400" spc="-1" strike="noStrike" baseline="30000">
                  <a:solidFill>
                    <a:srgbClr val="bbe0e3"/>
                  </a:solidFill>
                  <a:latin typeface="Times New Roman"/>
                  <a:ea typeface="黑体"/>
                </a:rPr>
                <a:t>°</a:t>
              </a:r>
              <a:r>
                <a:rPr b="1" lang="zh-CN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， 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216</a:t>
              </a:r>
              <a:r>
                <a:rPr b="1" lang="en-US" sz="2400" spc="-1" strike="noStrike" baseline="30000">
                  <a:solidFill>
                    <a:srgbClr val="bbe0e3"/>
                  </a:solidFill>
                  <a:latin typeface="Times New Roman"/>
                  <a:ea typeface="黑体"/>
                </a:rPr>
                <a:t>°</a:t>
              </a:r>
              <a:r>
                <a:rPr b="1" lang="zh-CN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288</a:t>
              </a:r>
              <a:r>
                <a:rPr b="1" lang="en-US" sz="2400" spc="-1" strike="noStrike" baseline="30000">
                  <a:solidFill>
                    <a:srgbClr val="bbe0e3"/>
                  </a:solidFill>
                  <a:latin typeface="Times New Roman"/>
                  <a:ea typeface="黑体"/>
                </a:rPr>
                <a:t>°</a:t>
              </a: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而得到</a:t>
              </a:r>
              <a:r>
                <a:rPr b="1" lang="en-US" sz="2400" spc="-1" strike="noStrike">
                  <a:solidFill>
                    <a:srgbClr val="bbe0e3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1904760" y="2773440"/>
              <a:ext cx="336240" cy="57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2349360" cy="2349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062480" y="3429000"/>
            <a:ext cx="8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bbe0e3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bbe0e3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371600" y="1355760"/>
            <a:ext cx="7086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以图的右边缘所在的直线为轴，将该图形向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右作轴对称变换，再绕中心</a:t>
            </a:r>
            <a:r>
              <a:rPr b="1" i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O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按顺时针方向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旋转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80°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，所得到的图形是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   ）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6262560" cy="1503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21940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1066680" y="2514600"/>
            <a:ext cx="6781680" cy="1693440"/>
            <a:chOff x="1066680" y="2514600"/>
            <a:chExt cx="6781680" cy="1693440"/>
          </a:xfrm>
        </p:grpSpPr>
        <p:sp>
          <p:nvSpPr>
            <p:cNvPr id="337" name=""/>
            <p:cNvSpPr/>
            <p:nvPr/>
          </p:nvSpPr>
          <p:spPr>
            <a:xfrm>
              <a:off x="1066680" y="2514600"/>
              <a:ext cx="6781680" cy="16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009999"/>
                  </a:solidFill>
                  <a:latin typeface="黑体"/>
                  <a:ea typeface="黑体"/>
                </a:rPr>
                <a:t>分析  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  将图以右边缘所在的直线为轴作轴对称变换，得到图    ，再绕中心</a:t>
              </a:r>
              <a:r>
                <a:rPr b="1" i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O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按顺时针方向旋转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180°</a:t>
              </a:r>
              <a:r>
                <a:rPr b="1" lang="zh-CN" sz="2500" spc="-1" strike="noStrike">
                  <a:solidFill>
                    <a:srgbClr val="061f5b"/>
                  </a:solidFill>
                  <a:latin typeface="黑体"/>
                  <a:ea typeface="黑体"/>
                </a:rPr>
                <a:t>，得到图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.     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，所以选</a:t>
              </a:r>
              <a:r>
                <a:rPr b="1" lang="zh-CN" sz="2500" spc="-1" strike="noStrike">
                  <a:solidFill>
                    <a:srgbClr val="061f5b"/>
                  </a:solidFill>
                  <a:latin typeface="Times New Roman"/>
                  <a:ea typeface="黑体"/>
                </a:rPr>
                <a:t>A</a:t>
              </a:r>
              <a:endParaRPr b="0" lang="en-US" sz="2500" spc="-1" strike="noStrike">
                <a:solidFill>
                  <a:srgbClr val="061f5b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3504960" y="3124080"/>
              <a:ext cx="53352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4267080" y="36576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523880" y="533520"/>
            <a:ext cx="6262920" cy="15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3000" y="12952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下图是一种正方形的瓷砖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.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90720" y="182880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</a:rPr>
              <a:t>1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请用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4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块所给瓷砖拼一个正方形图案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至少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设计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3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种不同的图案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；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2743200"/>
            <a:ext cx="708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（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</a:rPr>
              <a:t>2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）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如果给你</a:t>
            </a:r>
            <a:r>
              <a:rPr b="1" lang="en-US" sz="2500" spc="-1" strike="noStrike">
                <a:solidFill>
                  <a:srgbClr val="061f5b"/>
                </a:solidFill>
                <a:latin typeface="Times New Roman"/>
                <a:ea typeface="黑体"/>
              </a:rPr>
              <a:t>16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块这样的正方形瓷砖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要求设计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61f5b"/>
                </a:solidFill>
                <a:latin typeface="黑体"/>
                <a:ea typeface="黑体"/>
              </a:rPr>
              <a:t>     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的图案为轴对称图形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，</a:t>
            </a:r>
            <a:r>
              <a:rPr b="1" lang="zh-CN" sz="2500" spc="-1" strike="noStrike">
                <a:solidFill>
                  <a:srgbClr val="061f5b"/>
                </a:solidFill>
                <a:latin typeface="黑体"/>
                <a:ea typeface="黑体"/>
              </a:rPr>
              <a:t>你可以设计出来吗</a:t>
            </a:r>
            <a:r>
              <a:rPr b="1" lang="zh-CN" sz="2500" spc="-1" strike="noStrike">
                <a:solidFill>
                  <a:srgbClr val="061f5b"/>
                </a:solidFill>
                <a:latin typeface="宋体"/>
              </a:rPr>
              <a:t>？</a:t>
            </a:r>
            <a:endParaRPr b="0" lang="en-US" sz="25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07972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2280" y="449568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：方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 flipH="1" rot="5400000">
            <a:off x="4952520" y="22856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 rot="5400000">
            <a:off x="1905120" y="53316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 rot="16200000">
            <a:off x="6629400" y="60912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6629400" y="2286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 rot="5400000">
            <a:off x="4952520" y="60912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 rot="16200000">
            <a:off x="226800" y="218556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 flipH="1" rot="5400000">
            <a:off x="212400" y="51192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5262480" y="4483080"/>
            <a:ext cx="24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：方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61f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03:03:16Z</dcterms:created>
  <dc:creator/>
  <dc:description/>
  <dc:language>en-US</dc:language>
  <cp:lastModifiedBy>admin</cp:lastModifiedBy>
  <dcterms:modified xsi:type="dcterms:W3CDTF">2014-11-28T08:53:20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