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18.wmf" ContentType="image/x-wmf"/>
  <Override PartName="/ppt/media/image5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30.jpeg" ContentType="image/jpeg"/>
  <Override PartName="/ppt/media/image15.png" ContentType="image/png"/>
  <Override PartName="/ppt/media/image3.wmf" ContentType="image/x-wmf"/>
  <Override PartName="/ppt/media/image9.jpeg" ContentType="image/jpeg"/>
  <Override PartName="/ppt/media/image23.wmf" ContentType="image/x-wmf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31.gif" ContentType="image/gif"/>
  <Override PartName="/ppt/media/image24.png" ContentType="image/png"/>
  <Override PartName="/ppt/media/image2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226-449E-4F41-9504-F07083B7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63D-594B-4808-8509-ACAD3530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A615-6009-4750-98D8-6B911E1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BD9B-46E8-42CE-8E0C-62610C4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B083F-E0E2-4DDD-86BF-567B4F8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B219D-E3D4-451B-A649-6ACDA657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7628-5425-46CC-8A99-FDA1F071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FFD9-E869-46C5-A198-DC57FBA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F13A-DEFB-401A-B64E-79066114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B404-DAE5-47F8-9B52-B0A384FB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2C91D-4FEF-4336-8CCC-12B16497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4D035-AA48-4266-A736-8BBCABFD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AC5-A2EC-43DB-A4F3-8569C6F2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3A8F-9EAF-4FD7-B64E-D23C9B6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1F26A-6966-46CD-9F32-C56F6756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41D0-CDF7-40E9-9865-9F0F226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22D0-1C32-43D7-9C9D-3B19743C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733A-5CB1-4FC1-98F9-856497A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69DB-BB58-4D76-A230-BECCCD76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7B4D9-FF6F-466A-9D6C-B14BC27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B6399-B797-41CC-AE68-876345B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B60EE-07B6-46D4-8102-E1056BE8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EFBED-0B3F-4A13-B54F-622C59C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C1C-5E08-469F-8CD5-921FD998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6826E-1728-4BDA-BD7E-B4590E08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775B5-8B30-4CC6-83D6-E089934D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0633-19CA-470B-A201-A7486F1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D0457-CDFD-4916-80F8-C654E020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9CDA6-3929-4C85-9EC4-C4C5B06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4A5C3-A5C5-4F59-A6D1-BDE885DC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A1634-AED9-43D4-B706-60E9172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BBEB1-2AAB-4617-9643-ED1C0E3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38C1-D988-4A77-A699-E3A49D5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F8BEF-2445-492B-81E8-9E5B4C05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C109-EFEB-4F61-BB63-DEF3FBA2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31E3E-DDB0-4B80-BFC8-3DEB361A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37DD8-0BCD-4AC6-B457-627C6278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95B18-2FCA-445E-B054-8B75DA9D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F477-A4E1-47F1-8D8E-962DF55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2FA3-AEA1-4F23-BC49-F608687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E1B-52FC-4CC8-932F-38820255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DE68-A87D-45B0-B1B2-FAA16BB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AD3E-3F8C-4420-8A69-2BD3B467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54D-FB9C-48C8-94A5-22A5345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956-4DA8-405D-BE2D-B76714DC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1CF-D051-4EE1-8C93-DC1A5173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020A-B634-4242-9BC9-9172533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5D8F-608D-4119-81FF-1823817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34A5-E92C-454B-A52F-573998A7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1CE4-2F26-49ED-AD17-994151B5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8749-BAD4-4C32-8F98-6D8FE4BA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5FF7-0D16-430F-B219-D3513F9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4CE4-1998-4A7B-8868-6FFC2FEF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3A7A-510F-4311-B7A2-0FDECD8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52B7-B7C6-4EA6-839A-331CC18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217-F1CD-4867-B9B4-68457662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72C7-959C-4E76-9AC8-337A3465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C34D-5674-409D-A5EF-752A9AD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C5A1-0FBE-49C2-B912-3FECCD3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09AD-6584-40BF-A4AC-047A017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0E87-95D7-41F5-B97E-254FF44A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1E1F-7B29-4E64-882C-8AC0F2CB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DE97-B819-4A3C-A87B-69D22B65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69D-7A54-4CEB-9B91-F435B040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9F8F-CFE8-4785-AC0E-23B7DD41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0EC-99A8-4467-935C-64E3729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E3B0-B0AF-4BF4-AE7E-E264157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B6734-D84E-4349-B97B-D26B01B0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E51C-28F1-448F-9465-FD4CD87D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79DB-B898-46A5-ADCE-6E33E5CB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E1B5-C7F1-4F93-9604-6F8D4C57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9B55-2067-47E3-8EFD-BB1EF55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3FEF-3DBD-43D4-9F1B-ABF90E4A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7D5C-4998-4256-8D5C-F97E578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0F63-28B2-4185-8F17-1F2A70F4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BFCA-0120-4FF8-A2D3-DCC2219D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AAC-B584-4635-B08B-6C8E8F9A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A8962-4110-47E0-9265-6EB523F8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F133-4D47-4493-A683-21005768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152C-E9FA-45F1-8698-8A85CA4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3808-F49A-4E28-9797-EF1E34D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1E58-E95D-407E-B8F4-FAD60A9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5C5F6-9A22-4855-A271-FA30727A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41D2-A4FF-4077-966F-7D9CB9C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91E9-0555-400E-9D68-9E67005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7CBC2-E5A8-41F1-A904-1421D0F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8031-113D-4D89-ADBD-3D5D519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0C0-A561-4A9A-9811-FB2E420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3930-47E4-4653-B80C-F4D13DB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EBF0-66BC-460C-8FAF-8D277821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C4C8-7675-4ED2-8107-4163EA68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6479D-75F8-4FF3-AC21-DB1D88EC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5FD2-5FE2-4A39-B9AC-A0C2F0B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BC5E5-B39E-48EA-89E7-490956C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9F4AC-CBB7-4294-9C7E-14409745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5D6D-CA43-4E15-B002-A4598335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CAB2-FCA5-420D-9CCC-C8A5AD6D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020D0-9F83-463A-85FD-EAD289A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E76-D26E-47C2-A56F-9E78BDA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72D2-59CE-417E-9B62-B020ED9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687DC-69E2-4F9F-8E02-3ACB8BA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5165-8271-4CBD-8D72-EB50D824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2D6A0-1BD8-43F1-8021-59AC547D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E261-0354-43F3-BAAC-416083E5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0708-60DA-4A4A-BC5C-4CDA7C60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EAF6C-10F0-4A4E-8377-DBA71A9D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6088-E7F6-4A55-8119-E6C65C6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E813B-B475-4E59-8766-A2EAE46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DAE3-C84C-4036-9852-6D61C302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54F-94E4-4054-B668-37EEDC3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247E-50EE-42D6-A09D-8969FF2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B7B9-A9D7-4C3E-A185-EBF452E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0A92-9AD8-44CC-A2F2-B99B40C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5A7A-7861-4FA8-8D00-6B1C756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EDB1-E128-472A-A16E-73D7F7B7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5D99-3F8E-4135-B660-E9F6B6CA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E8EB-0BA8-42B6-A906-334663AC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04904-FC24-40C8-B2D4-2B8B20C0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25137-27FB-467A-B0C8-B9CA19E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7008-A8B6-4049-A16A-0C695B6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A82-BAD7-49AF-B8E6-69E0B9717C8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" name="Picture 8" descr="博今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9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9" name="Picture 11" descr="3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EC38-B9B0-416F-899F-E6F90C6416FA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FE0C-B184-4E10-A647-437837802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0" name="Picture 6" descr="3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C223-39A5-49B8-8C73-A0D7080416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7" name="Picture 13" descr="MCj04164160000[1]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Oval 14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0" name="Picture 16" descr="MCj03536030000[1]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MPj03901240000[1]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62" name="Oval 18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63" name="Picture 19" descr="MCj04164260000[1]"/>
          <p:cNvPicPr/>
          <p:nvPr/>
        </p:nvPicPr>
        <p:blipFill>
          <a:blip r:embed="rId6"/>
          <a:stretch/>
        </p:blipFill>
        <p:spPr>
          <a:xfrm>
            <a:off x="7467480" y="5407200"/>
            <a:ext cx="14479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878-B813-4C86-8B06-F66B2290421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CFC-51E0-4CDD-9878-359844ABB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A79-4F29-48B1-B4D8-7DC844513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6415920"/>
            <a:ext cx="2412720" cy="7164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5759280"/>
            <a:ext cx="594036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F34-8E01-4D57-89D8-25B48815E3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2A08-5CA8-41EB-9DD1-2F14E3E3519E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D2AE-4A90-4DE4-BA65-8690CCB94A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9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057400" y="1676520"/>
            <a:ext cx="5381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章  数据的分析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.1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平均数、中位数、众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6.1.1 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平均数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4114800"/>
            <a:ext cx="4794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第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课时  平均数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923760" y="1019160"/>
            <a:ext cx="669636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利用计算器计算平均数的步骤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按下统计键，使计算器进入统计运算模式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一次输入数据，如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,            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,  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	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0" lang="zh-CN" sz="2500" spc="-1" strike="noStrike" baseline="-25000">
                <a:solidFill>
                  <a:srgbClr val="061f5b"/>
                </a:solidFill>
                <a:latin typeface="Times New Roman"/>
              </a:rPr>
              <a:t>3      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·····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、最后按求平均数的功能键，即可求得所需数值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838440" cy="368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868320" cy="3808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343400" y="2514600"/>
            <a:ext cx="922320" cy="3808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152280" y="304920"/>
            <a:ext cx="1791000" cy="61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23760" y="4965840"/>
            <a:ext cx="6848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需要提醒的是，不同型号的计算器操作步骤可能不同，操作时需参阅说明书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1331640" cy="12193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990720" y="1523880"/>
            <a:ext cx="7251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在一次全校歌咏比赛中，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7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位评委给一个班级的打分分别是：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9.00,8.00,9.10,9.10,9.15,9.00,9.58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怎么评分比较公正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783560" cy="935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990720" y="3508200"/>
            <a:ext cx="678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解：计算该班级歌咏比赛的平均分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685800"/>
            <a:ext cx="830556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由于在比赛时，评委会受到主观影响，所以评分可能会比较悬殊，为了消除这种极端情况对比赛的影响（即：对平均数的影响），一般会去掉一个最高分和最低分</a:t>
            </a:r>
            <a:endParaRPr b="0" lang="en-US" sz="24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5853240" cy="9352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685800" y="4267080"/>
            <a:ext cx="8031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这个分数才是比较合理反映这个班级最后得分的数值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1905120" cy="6379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560600" y="1747800"/>
            <a:ext cx="438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平均数的定义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08040" y="2846520"/>
            <a:ext cx="438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2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计算器求平均数的操作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14440" y="4025880"/>
            <a:ext cx="4986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.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实际生活中怎样在一定程度上消除对平均数的影响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571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52280" y="1600200"/>
          <a:ext cx="8945640" cy="1298520"/>
        </p:xfrm>
        <a:graphic>
          <a:graphicData uri="http://schemas.openxmlformats.org/drawingml/2006/table">
            <a:tbl>
              <a:tblPr/>
              <a:tblGrid>
                <a:gridCol w="905040"/>
                <a:gridCol w="863280"/>
                <a:gridCol w="939960"/>
                <a:gridCol w="773280"/>
                <a:gridCol w="815760"/>
                <a:gridCol w="703440"/>
                <a:gridCol w="869760"/>
                <a:gridCol w="752400"/>
                <a:gridCol w="789120"/>
                <a:gridCol w="760320"/>
                <a:gridCol w="773280"/>
              </a:tblGrid>
              <a:tr h="8380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121"/>
          <p:cNvSpPr/>
          <p:nvPr/>
        </p:nvSpPr>
        <p:spPr>
          <a:xfrm>
            <a:off x="1143000" y="533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一个小组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名同学的身高（单位：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cm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如下表所示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3" name="Text Box 123"/>
          <p:cNvSpPr/>
          <p:nvPr/>
        </p:nvSpPr>
        <p:spPr>
          <a:xfrm>
            <a:off x="304920" y="3276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计算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名同学身高的平均数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4" name="Text Box 124"/>
          <p:cNvSpPr/>
          <p:nvPr/>
        </p:nvSpPr>
        <p:spPr>
          <a:xfrm>
            <a:off x="3808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在数轴上标出表示这些同学的身高及平均数的点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85" name="Text Box 126"/>
          <p:cNvSpPr/>
          <p:nvPr/>
        </p:nvSpPr>
        <p:spPr>
          <a:xfrm>
            <a:off x="228600" y="5562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考察表示平均数的点与其他的点的位置关系，你能得出什么结论？</a:t>
            </a:r>
            <a:endParaRPr b="0" lang="en-US" sz="28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76320" y="380880"/>
          <a:ext cx="8945280" cy="1298520"/>
        </p:xfrm>
        <a:graphic>
          <a:graphicData uri="http://schemas.openxmlformats.org/drawingml/2006/table">
            <a:tbl>
              <a:tblPr/>
              <a:tblGrid>
                <a:gridCol w="904680"/>
                <a:gridCol w="863280"/>
                <a:gridCol w="939960"/>
                <a:gridCol w="773280"/>
                <a:gridCol w="815760"/>
                <a:gridCol w="703440"/>
                <a:gridCol w="869760"/>
                <a:gridCol w="752400"/>
                <a:gridCol w="789120"/>
                <a:gridCol w="760320"/>
                <a:gridCol w="773280"/>
              </a:tblGrid>
              <a:tr h="8380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3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8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5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7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838080" y="236232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箭头 406"/>
          <p:cNvSpPr/>
          <p:nvPr/>
        </p:nvSpPr>
        <p:spPr>
          <a:xfrm>
            <a:off x="2819520" y="4952880"/>
            <a:ext cx="6400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743200" y="48765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487692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2590560" y="4876560"/>
            <a:ext cx="759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14600" y="487692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438280" y="4876560"/>
            <a:ext cx="76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361960" y="4876920"/>
            <a:ext cx="759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61760" y="4952880"/>
            <a:ext cx="160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3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001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610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7480" y="48769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867280" y="4343400"/>
          <a:ext cx="4381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3434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68580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382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94120" y="47880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1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2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464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3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149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4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8480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5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42080" y="4800600"/>
            <a:ext cx="9302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6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83160" y="47880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7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05600" y="48006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8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8480" y="4788000"/>
            <a:ext cx="9320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59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0773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60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534520" y="4800600"/>
            <a:ext cx="9316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61f5b"/>
                </a:solidFill>
                <a:latin typeface="仿宋"/>
                <a:ea typeface="仿宋"/>
              </a:rPr>
              <a:t>161</a:t>
            </a:r>
            <a:endParaRPr b="0" lang="en-US" sz="20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25" name="箭头 455"/>
          <p:cNvSpPr/>
          <p:nvPr/>
        </p:nvSpPr>
        <p:spPr>
          <a:xfrm flipV="1">
            <a:off x="6019920" y="472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49880" y="715680"/>
            <a:ext cx="2796120" cy="1313280"/>
          </a:xfrm>
          <a:prstGeom prst="wedgeRectCallout">
            <a:avLst>
              <a:gd name="adj1" fmla="val -67851"/>
              <a:gd name="adj2" fmla="val 71481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这些点都位于    的两侧，不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都在平均数的一侧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165888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2819520" y="914400"/>
          <a:ext cx="43812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9144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 flipH="1">
            <a:off x="4084200" y="3497040"/>
            <a:ext cx="3765240" cy="1313280"/>
          </a:xfrm>
          <a:prstGeom prst="wedgeRectCallout">
            <a:avLst>
              <a:gd name="adj1" fmla="val -69777"/>
              <a:gd name="adj2" fmla="val 71481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  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可以作为这组同学身高的代表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值，它反映了这组同学的身高的平均水平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406520" cy="1371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76320" y="0"/>
            <a:ext cx="234468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3505320" y="3657600"/>
          <a:ext cx="438120" cy="460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657600"/>
                    <a:ext cx="438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424240" cy="838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143000" y="2438280"/>
            <a:ext cx="6413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平均数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作为一组数据的一个代表值，它刻画了这组数据的平均水平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219040" cy="7430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914400" y="1295280"/>
            <a:ext cx="7318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    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</a:rPr>
              <a:t>例</a:t>
            </a:r>
            <a:r>
              <a:rPr b="1" lang="zh-CN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某农业技术员试种了三个品种的棉花各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10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株，秋收时他清点了这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30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株棉花的结桃数如下表：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2590920"/>
          <a:ext cx="8226360" cy="3089160"/>
        </p:xfrm>
        <a:graphic>
          <a:graphicData uri="http://schemas.openxmlformats.org/drawingml/2006/table">
            <a:tbl>
              <a:tblPr/>
              <a:tblGrid>
                <a:gridCol w="1782720"/>
                <a:gridCol w="6443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棉花品种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结桃数（个）</a:t>
                      </a:r>
                      <a:endParaRPr b="0" lang="en-US" sz="18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甲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4,   79,   81,    84,   85,    82,    83,   86,    87,    81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乙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5,   84,   89,   79,   81,    91,    79,   76,    82,    84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丙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3,   85,   87,    78,   80,    75,    82,   83,    81,    86</a:t>
                      </a:r>
                      <a:endParaRPr b="0" lang="en-US" sz="2400" spc="-1" strike="noStrike">
                        <a:solidFill>
                          <a:srgbClr val="061f5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914400" y="5791320"/>
            <a:ext cx="3108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哪个品种较好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90720" y="533520"/>
            <a:ext cx="7156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cc0000"/>
                </a:solidFill>
                <a:latin typeface="Times New Roman"/>
              </a:rPr>
              <a:t>分析：</a:t>
            </a: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平均数尅作为一组数据的代表值，它刻画了这组数据的平均水平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当我们要比较棉花的品种时，可以计算出这些棉花结桃数的平均数，再通过平均数来进行比较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3657600"/>
            <a:ext cx="8458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解：设甲、乙、丙三个品种的平均结桃数分别为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61f5b"/>
                </a:solidFill>
                <a:latin typeface="Times New Roman"/>
              </a:rPr>
              <a:t>则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731880" cy="685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731880" cy="6858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8555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5520" cy="934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8615520" cy="934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57200" y="4800600"/>
            <a:ext cx="7705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由于甲种棉花的平均结桃数高于其他两个品种的平均结桃数，所以我们可以认为甲种棉花较好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4076640" cy="4905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52280" y="1066680"/>
            <a:ext cx="4114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zh-CN" sz="2500" spc="-1" strike="noStrike">
                <a:solidFill>
                  <a:srgbClr val="0000ff"/>
                </a:solidFill>
                <a:latin typeface="Times New Roman"/>
              </a:rPr>
              <a:t>从上面的例题我们可以看出，平均数可以作为刻画一组数据平均水准的代表值，但在计算的过程中我们还可以借助一样工具，大家猜猜是什么？</a:t>
            </a:r>
            <a:endParaRPr b="0" lang="en-US" sz="2500" spc="-1" strike="noStrike">
              <a:solidFill>
                <a:srgbClr val="061f5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6:06:37Z</dcterms:created>
  <dc:creator/>
  <dc:description/>
  <cp:keywords/>
  <dc:language>en-US</dc:language>
  <cp:lastModifiedBy>徐华昌</cp:lastModifiedBy>
  <dcterms:modified xsi:type="dcterms:W3CDTF">2015-07-29T07:20:53Z</dcterms:modified>
  <cp:revision>1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