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BA6-A144-478D-9528-F10F3C1F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1EE-8330-4901-B70B-041A893E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DCFCC-3B60-445A-955C-9674E032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FA103-4A2B-4E04-83B2-5C839C49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3CB05-97DF-4484-8F71-299127A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5F407-6F16-4898-9DAF-388BE0D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51B79-C262-4B76-B6D2-B6F46FCE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47534-B12D-44B1-A8F0-142423A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9CCB-905C-4AAC-913A-410CFD87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C26A4-7C5C-485A-BC4E-D4DF0209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D8D2-AEB4-4A20-841B-42EC9626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99CCF-4FB6-417D-94B7-A1AB1DE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C52-6399-4A13-80AE-560A04EA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03F32-E1EE-43A6-8535-1854A79C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AAB12-1E21-44D2-89B9-3FE9C17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62A22-6AB8-45B0-9748-52D078F6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A2AD-C087-4CF9-9008-1E277B7D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3ACA9-4715-4260-B4B5-68D94087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BC0EE-7C24-46E8-B3FE-028A350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1161-1598-4E79-BDC1-C9DE63A3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7ADA6-70A8-4679-9B55-857DD11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0C108-756C-4EDA-BC0D-878D049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B6F34-004C-4A3A-B273-26F1F21C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408-15BD-427E-97C1-1CA1070C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B1210-1641-493E-9AD7-7CBBD7B2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3A899-6A50-4AE9-A9DA-DC45D0FA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EBDCF-C9B1-4109-8EDF-A7C176E2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C07F-2F1C-4C62-8B17-80F08D0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D6B65-3849-4795-8C47-CC7CB5B4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7BA2D-A5B9-4413-A68B-CDFEA29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0AECF-318F-4D1D-A8BF-75A8F66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EB692-C00D-405B-9A07-25450D5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1CAB-E6CE-4AB6-9AA0-C039BCF9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B3FFB-63BE-4934-82CE-CAA6066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F408-5A9C-4115-AA16-17D0A9A1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B3AB-F87D-4EF5-A4FA-9ED5016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93692-D5CC-4478-9C39-2BF8E588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8A516-9908-4B66-BD0F-65B90D77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C5AB2-3079-4399-8270-E53A49E6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52403-2FA8-4EA3-B4A4-CE0FA86B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FF801-A173-45A1-8269-E06B175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2E5E3-2091-4D84-A5BC-98501EB2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3FB1-22DE-4A4B-A91E-A03CDAC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3C5F-451D-4D9B-99E0-864D5FC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7D1FC-5C7F-4C3F-B61E-0B45DAD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5E37-FE6B-4AB9-8B3F-C0F36FB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AE936-5C8B-41C0-A100-2C68789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E1124-EC9D-4D1A-A52D-31ECC7C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FCF68-2D9E-4975-8E8A-0E9AF13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AFCE-AD70-44A4-8B07-E843FD13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D787B-E4B0-4EA8-9CFD-3DC1148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6B889-F272-49E6-8058-D166BD7F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FF006-04C8-43A0-89DD-DE264C15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482DF-48B7-4016-9331-BABBAC6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6837E-93B1-4289-834C-385F348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8B6BF-C2F2-45C6-8899-A214BF5B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B87-285E-4844-BC6C-79CCB2BF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FE413-5925-4236-9BFF-9CF5C7B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77DD3-6B0F-433E-8B4E-83B10D0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F8CC5-36D4-4E6E-A0A2-01D7B4A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2D8BB-A013-433E-850B-6BF28E2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B4622-A9F7-43F2-9EE9-8E8E4E5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FA8F9-B685-419A-A387-A6B12E53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FF924-B3E8-42ED-9D36-57AC5F5E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FB9BD-7F10-4776-8812-1DEE18B1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B17B1-8EDC-4DAD-836F-96A0CE1F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1D445-0DB0-4CA4-A5BB-BBBE1846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0057-DB5B-4C51-9A3A-7C2C465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3B526-A50B-4ECB-8266-E082CE6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3643D-0529-44C7-A505-A0AB6B53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A1B1C-54B7-4149-A762-C5337FD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9AC37-2D2A-41A2-BB52-70D8CB53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529D9-96C4-4E84-BD7F-17CF625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57033-B458-4458-BF2B-B3AFE7AA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B68D5-6D2C-43B0-8E6A-7C4D95A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92E6-1050-4EE8-91A1-72850087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EBB28-D5EA-4C60-AA95-40C1DB0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2F9D2-E945-4B0F-B8AC-BE51CC7E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BD1-222E-402D-A03A-06F8B56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175D0-1F4F-40EF-AD62-D7894DE7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EA6F7-9C9D-4E03-B155-097F9EF2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204A4-9652-4A75-82F2-F8DD0C3D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64AA6-D42C-40E9-AD1C-CB91446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3FC3B-85C6-41D0-997D-7B950172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75251-2CBB-4D3F-BB7F-874C94CC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AE90A-B7FA-46D6-A3A3-BE4CFB6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89D90-BDE5-4ADD-98B9-F4D2ED1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BA8AD-95C6-4BAE-A5EE-F757BDF1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912B0-ECAF-46E4-9ED5-785FCFE1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C9EE-DC8C-4F12-93CB-8ECC9E0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34565-1727-4B38-BC8E-AE078E76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12D-9ED0-489D-9626-E19BD7A2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6C1-5B6D-4AA5-9547-EC1D358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66C-992B-4999-A766-683AC0B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037C-8E23-48E9-9031-4DE4BC0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18E-845D-4233-AE51-796CE193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975-A915-46AF-BC58-51D3A212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21B-6B5D-4619-913A-BE5B25C0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54C5-2874-4370-835B-12AEB0DC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A2DD-473B-4505-85CA-C482B92E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6CD7-1671-4F49-BF6B-E7D242C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CCB2-7CB1-477D-8F06-959E031B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643C-83D6-4F65-855F-733D854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FB7-7E9E-4621-8794-985F54E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868E-83F1-45A8-9367-69C8962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B505-7E41-4FD1-A0C0-FBA1198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C97D-1C88-445F-A4A9-D5319B9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C0F7-693E-4FC0-B812-31DD4A3B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6642-B929-4DDB-91A1-8AD20B1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DA0A-140F-47FC-A953-A960A4CA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EF84-92BE-4407-9A2E-AB598AD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F659-8165-4510-84FF-52DDCE2D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A9D9-475B-4CD8-A7C2-8D640487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1AA5-4914-4F4E-B870-BA4ECAC6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C55-3262-429A-9DC7-AE113D80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40C2-5D2C-4E0E-B68C-5367BCE7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B82D-F59E-4AAF-856C-283B586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759F-66D4-43E1-8C52-C1210D6D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7FFD-BED5-4370-8D52-9DAE36E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C26E-BD22-4741-905D-00B8502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A6E6-8748-4F74-A1C1-9B30CE5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695C-E3DC-4D91-B1FD-780DBD8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9CC4-58B9-459E-BFB7-65FB8621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4398-65EF-4433-B21B-CAB22960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96BA-AD31-4B4A-B83D-C33065F0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017-CF70-419B-814F-CD0961D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96FE-DBF8-404D-A830-70919FE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37AF-047A-4DA2-BA73-C314709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1F75-29E0-4FCF-9F55-AD68525D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CA7E-DFF2-4F81-ACD0-2DF95957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40E15-6FA7-4D19-9974-9876C36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3E76D-3177-49BE-A0DA-D615199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90C34-A863-4548-B888-B8E7264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896A-5FDC-4BB4-827E-6579097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8E58E-D7BF-4767-A655-B495C42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326D-B2FC-4B9E-A1B0-984856D5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52A-2D8A-4059-901C-C9B16FA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D3A3-CC3F-4FEA-AA63-1672EED0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ABB1-8CC7-4202-B88D-787EA519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D3C7C-7038-4BC9-8A38-AC8E9CE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0670-F2CA-4BA6-B9CB-C3F5E0A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E219-768A-4132-8B2F-5A76858A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B6EF-FABE-4741-819D-17A3D07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1D8E2-9C3A-4D68-94B0-C509C22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26FC-D859-4005-A4F2-7C5BA22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1ACD-5A2F-4977-A5EE-5583B0B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53885-5FD3-4A71-8B16-B75134C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67B-6186-49C9-8A9D-8BE5001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47654-3FAC-47BC-95AB-6198EA91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E12A3-5876-4E82-A9BB-5E1C7BC1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9AF65-8595-458F-83A7-A6550795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3640-FEDD-430C-A67A-0922E6B6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FE40-454E-4AA3-AB98-4A56AC5B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0ED6F-F3C7-43B0-AD32-3F681441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8AD1-2981-4D74-AB0A-F8580B9E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DF1E-7717-45A9-B024-0C8CCA9B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495A-60DF-470F-8AFF-5F0430CD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DB08-1728-43EA-B0FB-DB4B346E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6DF-880C-46C5-AB8D-767E081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0E550-F153-459A-9BAD-9C39D98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5F8F-8368-42B5-9799-322C75D2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D797D-F12E-4C14-957A-F61CB892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3CB53-4B5C-4BB4-97CB-BAF0734C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FB3C-9040-487C-B647-5E47EAF3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64588-3E52-4567-A8E0-E6E930C4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D115-E75A-47C8-B699-CCCAA31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09F94-FAAD-4E9B-AF62-DDC1A23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B7899-1B5C-413F-8EB4-EE05330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2F7C9-3683-452B-A8B1-81255E6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E5D-A92D-4AA9-8370-EB3DE1D3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9DC6B-D3F9-426D-8990-6302796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316F-E5F9-4D6A-8CF7-E6A83AA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1BB9-F4B8-448E-A7C6-B9A37B9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1ABC-EB30-43AA-96F3-7982AD7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F248-60A6-440C-AE10-4CDF7DC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9D83-5E1C-4161-AC77-61B41DD4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497F5-B601-4765-B35B-91DD631E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74F1-458C-4D5F-B293-458909CD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80CBE-456C-4E10-B674-318F05A4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AA9F-A564-429C-832E-DC95D63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01E-5D3B-4707-9E64-B17BBF30E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1FFD-018B-485D-AF02-ACD55C6D156A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BAD5-C416-43BD-A282-254D12924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027C-8965-4853-8592-743FEC929532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3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AE40-2F9F-4299-9F8F-B46993A174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52D-BD96-444E-996E-F35BEA6276D9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725-9C80-439C-B950-4525E2F7B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8CAF-4628-4D06-A6F0-7DA11593A97E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0B0C-AE58-4B39-BD35-946B53BE16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A09-ED0A-43E8-AE2E-CC26FBD9317E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9AB-5615-4018-9ED8-99F593C0A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357120" indent="-285840">
              <a:spcBef>
                <a:spcPts val="1800"/>
              </a:spcBef>
              <a:buClr>
                <a:srgbClr val="7f7f7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eaf5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eaf5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eaf5f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3C1-84F2-455E-9330-6DD25B7CA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165821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1" marL="357120" indent="-285840">
              <a:spcBef>
                <a:spcPts val="1800"/>
              </a:spcBef>
              <a:buClr>
                <a:srgbClr val="7f7f7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eaf5f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eaf5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eaf5f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47494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C47-183A-4419-990B-13664810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E2FE-AC66-4965-B9B6-71EA6025B064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5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6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7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C62E-97AF-4F86-95E0-93FAA0ACB3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4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916360" y="2637000"/>
            <a:ext cx="28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1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9640" y="1557360"/>
            <a:ext cx="82915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下列这组数据的中位数分别是多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7    5    4    8    5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21  45   36   12   23    30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71640" y="25653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    5    5    7    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4221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   21   23   30  36    45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50920" y="2565360"/>
            <a:ext cx="720720" cy="649440"/>
          </a:xfrm>
          <a:prstGeom prst="ellipse">
            <a:avLst/>
          </a:prstGeom>
          <a:noFill/>
          <a:ln w="57240">
            <a:solidFill>
              <a:srgbClr val="ff66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71640" y="4221000"/>
            <a:ext cx="719280" cy="649440"/>
          </a:xfrm>
          <a:prstGeom prst="ellipse">
            <a:avLst/>
          </a:prstGeom>
          <a:noFill/>
          <a:ln w="57240">
            <a:solidFill>
              <a:srgbClr val="66ff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2232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24000" y="119700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  21,14,24,8,9,15,30,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组数据的中位数是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206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   8   9   14   15   21   24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2997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于中间的两个数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此时这组数据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的平均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3384720" cy="12193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2232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2400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某车间工人日加工零件数如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755640" y="1917720"/>
          <a:ext cx="7345440" cy="110484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5440"/>
                <a:gridCol w="1224000"/>
                <a:gridCol w="1224000"/>
                <a:gridCol w="12240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件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790560"/>
                          <a:tab algn="l" pos="1581120"/>
                          <a:tab algn="l" pos="2371680"/>
                          <a:tab algn="l" pos="3162240"/>
                          <a:tab algn="l" pos="3952800"/>
                          <a:tab algn="l" pos="4743360"/>
                          <a:tab algn="l" pos="5533920"/>
                          <a:tab algn="l" pos="6324480"/>
                          <a:tab algn="l" pos="7115040"/>
                          <a:tab algn="l" pos="7905600"/>
                          <a:tab algn="l" pos="8696160"/>
                          <a:tab algn="l" pos="9487080"/>
                          <a:tab algn="l" pos="102776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"/>
          <p:cNvSpPr/>
          <p:nvPr/>
        </p:nvSpPr>
        <p:spPr>
          <a:xfrm>
            <a:off x="611280" y="3141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工人日加工零件数的中位数是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这个中位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4000" y="3933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2872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5    6    6    6     7     7     7     7     8      8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5280" y="47260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两个数都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9640" y="5300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估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于或大于这个中位数的零件数的工人各占一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68360" y="12700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你能说出中位数的意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8360" y="177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位数有什么优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8360" y="23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位数有什么缺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0920" y="29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中位数的意义：中位数把一组数据分成相同数目的两部分，其中一部分都小于或等于中位数，而另一部分都大于或等于中位数，因此，在这一意义上中位数代表了一组数据的“中点”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0920" y="465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位数的优点：一组数据的个数较少时，中位数容易求出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4000" y="537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位数的缺点：没有利用数据中的所有信息，有时它可能不是很有效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8190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690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68360" y="1701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某经营一家餐馆，下面是该餐馆所有工作人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份的工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280" y="2492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张某：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 会计：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8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厨师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 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8360" y="307008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厨师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   杂工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  杂工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836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员甲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服务员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2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；服务员丙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048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68360" y="53020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还能想出其他办法来反映这个餐馆的员工的收入的一般水平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116000" y="1197000"/>
            <a:ext cx="66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设参观全体员工的平均工资为       ，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6012000" y="981000"/>
                <a:ext cx="431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335640" cy="158436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187280" y="378936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实际上，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元不能代表餐馆员工在这个月收入的一般水平，因为员工除张某外工资最高的厨师甲的月收入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2500</a:t>
            </a: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元都小于这个平均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5462640" cy="15843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62080" y="116532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若不计张某的工资，则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名员工的月平均工资为下面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47840" y="4368960"/>
            <a:ext cx="63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所以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00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元的月工资不能合理反应该餐馆员工的月收入水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50920" y="765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把这个餐馆中的人员的月收入从小到大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0920" y="170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0,  1000,  1000,  1200,  1500,  1800,  2000,  2500,  1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2492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于中间的数是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这个数来反映该餐馆员工的月收入的水平行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4000" y="342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员甲工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是在所有员工的工资的正中间，因为恰在四个人的工资比他高，四个人比他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这个数来反映该餐馆员工的月收入的水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5280" y="5229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个数叫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0,  1000,  1000,  1200,  1500,  1800,  2000,  2500,  15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组数据的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6836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位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1341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一组数据按从小到大的顺序排列，如果数据的个数是奇数，那么位于中间的数称为这组数据的中位数；如果数据的个数是偶数，那么位于中间的两个数的平均数称为这组数据的中位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6720" y="981000"/>
            <a:ext cx="87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求下列两组数据的中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,  11,  13,   10,  17,  16,  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3,  442,  450,   445,  446, 457,  448,  449,   451,  4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4000" y="2925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55640" y="357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   11,   13,   14,  16 ,  17,   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11280" y="4221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4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684360" y="162864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把这组数据从小到大排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637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2,  445,   446,   448,  449 , 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36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位于中间的两个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5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两个数的平均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 .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因此这组数据的中位数是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49 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spcBef>
                <a:spcPts val="7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位数把一组数据分成相同数目的两部分，其中一 部分都小于或等于中位数，而另一部分都大于或等于中位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中位数常用来描述“中间位置”或“中等水平”，但中位数没有利用数据组中所有的信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07:34:13Z</dcterms:created>
  <dc:creator/>
  <dc:description/>
  <dc:language>en-US</dc:language>
  <cp:lastModifiedBy>微软用户</cp:lastModifiedBy>
  <dcterms:modified xsi:type="dcterms:W3CDTF">2014-12-02T01:08:43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