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5.gif" ContentType="image/gif"/>
  <Override PartName="/ppt/media/image8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12.png" ContentType="image/png"/>
  <Override PartName="/ppt/media/image5.jpeg" ContentType="image/jpeg"/>
  <Override PartName="/ppt/media/image20.wmf" ContentType="image/x-wmf"/>
  <Override PartName="/ppt/media/image10.png" ContentType="image/png"/>
  <Override PartName="/ppt/media/image4.wmf" ContentType="image/x-wmf"/>
  <Override PartName="/ppt/media/image24.jpeg" ContentType="image/jpeg"/>
  <Override PartName="/ppt/media/image22.png" ContentType="image/png"/>
  <Override PartName="/ppt/media/image23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455-9BC3-4492-BA28-3DD46449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E28-A4FE-4231-B893-48D96A02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A3BFC-181A-47E4-A27A-ECB24698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A555B-E2A8-4972-9631-76F1DD68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B1FB2-7CBD-4A60-9AC0-1E4CEF5D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CEDBD-8A47-4352-837A-DBFE93BC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B9555-96A6-4C66-BE74-695AABDC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EAF6D-CAE7-4F50-8F24-E023DA85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CC437-F94A-4B28-A5B3-3EBB3925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AB8F2-6B99-4D48-8BD7-BB53FA13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EC056-F023-4053-B175-7E593273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9DD15-3B5D-4F03-93D4-5375A99F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CAB-65B7-48B6-9BA6-333091AB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0F4D6-49E2-43A0-8D06-ADB63501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1371B-1A1D-495E-8823-D7D7EC5A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A0818-1488-4164-AE75-67D2FB29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D2104-089F-4F66-B039-71807F8D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4FA24-5EF8-40D3-A062-9772477A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413C4-E5F8-4143-94F5-64D70493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B5877-D8D5-4469-BBC2-25285ADA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C7267-E74B-48C5-8B1C-BDDEA411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EB52C-E78D-49B1-836D-C3FED782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6487F-2449-4E24-8C9A-4D81F018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6DC-4C48-4E2C-98FA-8C8042EE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5E712-6F72-4A0F-AD5F-A87A1238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D9009-54A5-442D-A752-6DDA65D4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5AC50-5D74-4220-A811-F6CB8246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7204A-6AFE-4AB5-BE7D-40BDAFDF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F2235-03A8-4320-9B4B-FBD3B9E4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47ACD-20DF-4835-B15A-6BFD5D98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98D65-42D2-47CB-B951-1D0225EF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F6458-1C12-4CD6-BD17-BB22734C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E7461-C22D-466F-88E1-4C04376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416CF-1BE8-4045-BDAF-418CAFFC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0A1C-E542-4498-B412-C944DCDE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AFEC8-1137-4814-894B-64C4E302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857AA-49BB-4DE1-A22E-AC1B325F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F6BF1-E7D5-4F64-8AB9-BDEDFF44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F077-1DAC-4F2C-944F-A15FE4E3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53DE-D6F5-43B7-BE54-B6274CBB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65A5-907D-4552-91B7-F1BEABAA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365A-6EA8-46BD-97A1-680A7A60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9E4A-C573-4ED0-A0F7-E43B874B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1D58-F2A2-4A40-9C34-1113CE04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48B-883E-41A5-BEE9-B6A4C6B2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CC8E-69B2-4BC8-A260-223B5250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51D3-DD70-4F3C-9C38-4DA9062E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4284-7A07-4BEF-B2CE-77859EA8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76FC-3D85-4673-A3DB-582B2871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594B-EE48-41CE-9C60-9D03D49C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D2BD7-E930-4C33-87E2-8AD9CA60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A805-34FD-45A6-A926-90BCB568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EA24-56D8-4A20-BDCC-815E3A0E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5324-1329-475F-9C72-227910B1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D418-A65F-44FE-BAED-DEC1DA1F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3E2-177E-4E3F-8B79-F4338E69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DCBD-ECF9-4878-9E64-F301666D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67D04-2CE5-4BCC-A5DC-921050E3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52D17-760A-4526-A93F-2A1EBB2E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4EA7-F090-4798-B884-9B280C50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375B6-E2D5-4792-AE6C-ED5712DA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5CE0C-ACA4-4F1B-BF56-568E2877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2E1B1-DC0D-4632-8339-313656E0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F71-6B89-4F05-9108-286135EF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B0FB-72BA-4570-9AF8-8B9CF929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EA6-CFC5-4555-88D6-4362776B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49607-4B04-4F3B-9463-6CD11A4A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BA811-B3C5-4516-98E9-EF3CBADA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EE892-10BF-43E1-B8B6-5928962C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E543-F5DA-4F0E-8303-183F098C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585C6-669B-43AD-AAD5-47C110F1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3D31A-F1FA-4092-8F7D-62F50A1B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18551-8B12-4135-8131-3229EDB9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F25D-F42C-4822-B25E-837F2528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808BB-5603-4007-B185-2D6DDFC3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02C2B-3226-4211-B555-88152C82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499-77A3-4245-9A95-4AFBE0D5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A389-B5D4-42AD-90C5-0DA00961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C39B5-9200-4567-91BA-8301C722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F0276-9CB7-48AD-8369-F136F2AE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7F9A3-4EB0-4868-BB6D-A36679D4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5FF1A-6886-416B-BFB1-2C812679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81510-8F92-40F0-B08E-97AB9A49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FFC37-F3D1-4EB6-9E13-227422E9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C43BA-8C72-4E29-A763-701ACA5E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B82D4-FF89-4BBE-815F-351B1BCF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368A9-3184-4A35-A14C-34253919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691-5999-49C3-9003-DF0079BB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4F7B6-C1AC-4F1C-84D5-C8E21E30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557D3-0141-46EA-A16B-90F61B35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48B6D-2F07-4171-A40A-D6B5CE32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86059-DA1F-46B4-898F-F06A33CC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5C4EA-8E9E-41B5-B49A-D183B753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36361-1B7C-4DC3-B9A6-E80E2738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62DF2-5FB1-4A4B-A481-15FF8949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7872C-C6A0-47D4-8C35-79E363FE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78AB8-4685-45C1-8C8C-818975ED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32A10-2335-4955-A6E8-D895AC84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AF9-D4FC-42C6-B92B-CCF0453D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05820-CA73-4B10-8F39-BDE8180A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14E97-EDD4-4BBA-AB4E-B9367C29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39711-356C-48E2-B149-C69EE615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38A44-97A4-4CA3-B98E-B3FD8C63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75006-EFFE-4EA8-A4CC-142259ED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E2C10-A0E7-439E-B4E3-C4AE2154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8046B-A6E9-47D7-BCDB-129439B8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C9C6A-0297-4960-B45D-24D3C53B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BABF6-F93F-4B59-9471-9A7F949E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8A758-6D47-48DA-BBE6-0BEF0257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C62-C156-4D3C-90D6-E2474C6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60D46-821F-4C20-8FEC-59D665BC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78352-7552-40EA-BBA2-0478EC1D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63264-44E6-4AFB-ABDF-7FB96FA0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85D4F-A74E-4EA3-9F6E-612D8E7F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8406A-58F3-4185-A8FF-EFAE108F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3B00C-952F-47EE-B15C-9DE743C6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DB944-24B2-4074-86A3-485B4E1F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D0C4E-6C4C-452E-9673-3B4DA201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BAF7F-652B-4BD9-8205-DD475887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BC8FB-EE38-471B-80EA-B25E29C0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366E-3713-419E-BAE7-CB95863985C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6" name="Picture 8" descr="博今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763120" y="0"/>
            <a:ext cx="380880" cy="3268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9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9" name="Picture 11" descr="3"/>
          <p:cNvPicPr/>
          <p:nvPr/>
        </p:nvPicPr>
        <p:blipFill>
          <a:blip r:embed="rId3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0E8B-83A9-4F5A-A4D9-20760AB91957}" type="slidenum">
              <a: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E6B1-3294-45F0-B10D-F9576941A56D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2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0" name="Picture 6" descr="3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FF91-55A9-4442-A321-8F97C62539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76320" y="5791320"/>
            <a:ext cx="914400" cy="914400"/>
          </a:xfrm>
          <a:prstGeom prst="ellipse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7" name="Picture 13" descr="MCj04164160000[1]"/>
          <p:cNvPicPr/>
          <p:nvPr/>
        </p:nvPicPr>
        <p:blipFill>
          <a:blip r:embed="rId3"/>
          <a:stretch/>
        </p:blipFill>
        <p:spPr>
          <a:xfrm>
            <a:off x="152280" y="594360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58" name="Oval 14"/>
          <p:cNvSpPr/>
          <p:nvPr/>
        </p:nvSpPr>
        <p:spPr>
          <a:xfrm>
            <a:off x="2057400" y="5791320"/>
            <a:ext cx="914400" cy="914400"/>
          </a:xfrm>
          <a:prstGeom prst="ellipse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1066680" y="5791320"/>
            <a:ext cx="914400" cy="914400"/>
          </a:xfrm>
          <a:prstGeom prst="ellipse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60" name="Picture 16" descr="MCj03536030000[1]"/>
          <p:cNvPicPr/>
          <p:nvPr/>
        </p:nvPicPr>
        <p:blipFill>
          <a:blip r:embed="rId4"/>
          <a:stretch/>
        </p:blipFill>
        <p:spPr>
          <a:xfrm>
            <a:off x="2209680" y="5867280"/>
            <a:ext cx="5526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MPj03901240000[1]"/>
          <p:cNvPicPr/>
          <p:nvPr/>
        </p:nvPicPr>
        <p:blipFill>
          <a:blip r:embed="rId5"/>
          <a:stretch/>
        </p:blipFill>
        <p:spPr>
          <a:xfrm>
            <a:off x="1219320" y="6041880"/>
            <a:ext cx="609480" cy="435240"/>
          </a:xfrm>
          <a:prstGeom prst="rect">
            <a:avLst/>
          </a:prstGeom>
          <a:ln w="0">
            <a:noFill/>
          </a:ln>
        </p:spPr>
      </p:pic>
      <p:sp>
        <p:nvSpPr>
          <p:cNvPr id="62" name="Oval 18"/>
          <p:cNvSpPr/>
          <p:nvPr/>
        </p:nvSpPr>
        <p:spPr>
          <a:xfrm>
            <a:off x="7315200" y="5029200"/>
            <a:ext cx="1752480" cy="17524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63" name="Picture 19" descr="MCj04164260000[1]"/>
          <p:cNvPicPr/>
          <p:nvPr/>
        </p:nvPicPr>
        <p:blipFill>
          <a:blip r:embed="rId6"/>
          <a:stretch/>
        </p:blipFill>
        <p:spPr>
          <a:xfrm>
            <a:off x="7467480" y="5407200"/>
            <a:ext cx="14479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6324480"/>
            <a:ext cx="91440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1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8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9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DFE3-BD3D-4E4D-A909-A2EADF737FD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27D3-3128-434B-975F-F930B78459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763120" y="0"/>
            <a:ext cx="380880" cy="3268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63D8-1D6B-4E94-AFB7-4DF242E520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067280" y="6415920"/>
            <a:ext cx="2412720" cy="7164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5759280"/>
            <a:ext cx="5940360" cy="109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3195-ADD9-4857-B1B7-FA62B5F033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5E9D-6E18-4A99-92C8-CA69DCDB1C5A}" type="slidenum"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22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23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24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7D98-62FF-4F2D-974D-36902B60DCF3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9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057400" y="2362320"/>
            <a:ext cx="5256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6.1.3  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众数</a:t>
            </a:r>
            <a:endParaRPr b="0" lang="en-US" sz="32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04920" y="5106960"/>
            <a:ext cx="8686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从条形统计图可看出，年龄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队员的人数  最多（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人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，这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名队员的年龄的众数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9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3885480" y="1980360"/>
            <a:ext cx="2895480" cy="685800"/>
          </a:xfrm>
          <a:prstGeom prst="wedgeRoundRectCallout">
            <a:avLst>
              <a:gd name="adj1" fmla="val 43472"/>
              <a:gd name="adj2" fmla="val -11388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出现次数最多的数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666880" y="1946160"/>
            <a:ext cx="4114800" cy="19954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 flipV="1">
            <a:off x="2895480" y="27716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467676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09880" y="2895480"/>
            <a:ext cx="30492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320" y="83808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1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如图是某青年排球队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名队员年龄情况的统计图：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8080" y="1447920"/>
            <a:ext cx="5257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求这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12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名队员的年龄的众数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"/>
                            </p:stCondLst>
                            <p:childTnLst>
                              <p:par>
                                <p:cTn id="20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0" dur="250" autoRev="1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8"/>
          <p:cNvSpPr/>
          <p:nvPr/>
        </p:nvSpPr>
        <p:spPr>
          <a:xfrm>
            <a:off x="304920" y="264960"/>
            <a:ext cx="8458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00"/>
                </a:solidFill>
                <a:latin typeface="Times New Roman"/>
              </a:rPr>
              <a:t>例</a:t>
            </a:r>
            <a:r>
              <a:rPr b="1" lang="zh-CN" sz="25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某课外小组的同学们在社会实践活动中调查了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户家庭某月的用电量，如下表所示：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380880" y="914400"/>
          <a:ext cx="8153280" cy="1349280"/>
        </p:xfrm>
        <a:graphic>
          <a:graphicData uri="http://schemas.openxmlformats.org/drawingml/2006/table">
            <a:tbl>
              <a:tblPr/>
              <a:tblGrid>
                <a:gridCol w="1357200"/>
                <a:gridCol w="1357560"/>
                <a:gridCol w="1358640"/>
                <a:gridCol w="1360440"/>
                <a:gridCol w="1359000"/>
                <a:gridCol w="1360440"/>
              </a:tblGrid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用电量（度）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户数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32"/>
          <p:cNvSpPr/>
          <p:nvPr/>
        </p:nvSpPr>
        <p:spPr>
          <a:xfrm>
            <a:off x="304920" y="2170440"/>
            <a:ext cx="8686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则这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户家庭该月用电量的众数和中位数分别是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(     )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8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6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	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   B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6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80   C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6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60    D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8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80 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105520"/>
            <a:ext cx="458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1424160" y="3122640"/>
            <a:ext cx="461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00"/>
                </a:solidFill>
                <a:latin typeface="Times New Roman"/>
              </a:rPr>
              <a:t>例</a:t>
            </a:r>
            <a:r>
              <a:rPr b="1" lang="zh-CN" sz="25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北京今年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6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月某日部分区县的高气温如下表：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228600" y="3581280"/>
          <a:ext cx="8915400" cy="1708200"/>
        </p:xfrm>
        <a:graphic>
          <a:graphicData uri="http://schemas.openxmlformats.org/drawingml/2006/table">
            <a:tbl>
              <a:tblPr/>
              <a:tblGrid>
                <a:gridCol w="1298520"/>
                <a:gridCol w="741240"/>
                <a:gridCol w="736920"/>
                <a:gridCol w="741240"/>
                <a:gridCol w="741240"/>
                <a:gridCol w="739800"/>
                <a:gridCol w="955800"/>
                <a:gridCol w="741240"/>
                <a:gridCol w="738360"/>
                <a:gridCol w="739800"/>
                <a:gridCol w="741240"/>
              </a:tblGrid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区县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兴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通州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谷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顺义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怀柔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门头沟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延庆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昌平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密云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房山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最高气温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9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Rectangle 47"/>
          <p:cNvSpPr/>
          <p:nvPr/>
        </p:nvSpPr>
        <p:spPr>
          <a:xfrm>
            <a:off x="152280" y="5142960"/>
            <a:ext cx="8686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则这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个区县该日最高气温的众数和中位数分别是（    ）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2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2          B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2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0         C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2          D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2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1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45240" y="2133720"/>
            <a:ext cx="4366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12"/>
          <p:cNvSpPr/>
          <p:nvPr/>
        </p:nvSpPr>
        <p:spPr>
          <a:xfrm>
            <a:off x="228600" y="762120"/>
            <a:ext cx="74674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求下面各组数据的众数：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0.9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0.8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0.9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0.9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19880" y="1447920"/>
            <a:ext cx="1084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众数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87640" y="2057400"/>
            <a:ext cx="1439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众数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9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04920" y="27432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.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某班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人所穿运动服尺码的情况为：穿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75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号码的有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5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人，穿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8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号码的有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6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人，穿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85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号码的有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5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人，穿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9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号码的有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人，穿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95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号码的有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人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穿哪一种尺码衣服的人最多？这个数据称为什么数？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1740240" y="5410080"/>
            <a:ext cx="4274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穿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85</a:t>
            </a: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号衣服的人最多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1" lang="en-US" sz="25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这个数据称为众数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73080" y="304920"/>
            <a:ext cx="178776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17"/>
          <p:cNvSpPr/>
          <p:nvPr/>
        </p:nvSpPr>
        <p:spPr>
          <a:xfrm>
            <a:off x="228600" y="609480"/>
            <a:ext cx="866772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．某饮料店为了了解本店一种罐装饮料上半年的销售情况，随机抽查了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天该种饮料的日销售量，结果如下（单位：听）：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33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3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3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25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3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．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这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天的平均日销售量是</a:t>
            </a:r>
            <a:r>
              <a:rPr b="1" lang="zh-CN" sz="2800" spc="-1" strike="noStrike" u="sng">
                <a:solidFill>
                  <a:srgbClr val="061f5b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听；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根据上面的计算结果，估计上半年（按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18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天计算）该店能销售这种饮料</a:t>
            </a:r>
            <a:r>
              <a:rPr b="1" lang="zh-CN" sz="2800" spc="-1" strike="noStrike" u="sng">
                <a:solidFill>
                  <a:srgbClr val="061f5b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听．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228600" y="3886200"/>
            <a:ext cx="8915400" cy="22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．下表是一文具店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月份某种铅笔销售情况统计表：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观察表中数据可知，众数是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，中位数是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____</a:t>
            </a:r>
            <a:r>
              <a:rPr b="1" lang="zh-CN" sz="2900" spc="-1" strike="noStrike">
                <a:solidFill>
                  <a:srgbClr val="061f5b"/>
                </a:solidFill>
                <a:latin typeface="Times New Roman"/>
              </a:rPr>
              <a:t>．</a:t>
            </a:r>
            <a:endParaRPr b="0" lang="en-US" sz="29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71" name="Picture 20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6309000" cy="11685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5334480" y="2133720"/>
            <a:ext cx="537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241880" y="3200400"/>
            <a:ext cx="893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430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29200" y="5410080"/>
            <a:ext cx="7156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20120" y="5334120"/>
            <a:ext cx="7156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790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6"/>
          <p:cNvSpPr/>
          <p:nvPr/>
        </p:nvSpPr>
        <p:spPr>
          <a:xfrm>
            <a:off x="152280" y="685800"/>
            <a:ext cx="88520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一个小组有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位同学，其中有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位同学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米跑的成绩在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秒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秒之间，另外一位同学的成绩是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秒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，你认为用这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位同学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米跑成绩的平均数还是中位数中的哪一个，更能客观反映这个小组的集体成绩，为什么？ 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78" name="Text Box 21"/>
          <p:cNvSpPr/>
          <p:nvPr/>
        </p:nvSpPr>
        <p:spPr>
          <a:xfrm>
            <a:off x="152280" y="3886200"/>
            <a:ext cx="87645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、为筹备班级里的新年晚会，班长对全班同学爱吃哪几种水果作了民意调查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最终买什么水果，该由调查数据的平均数、中位数还是众数决定呢？ 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57720" y="3048120"/>
            <a:ext cx="709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以用平均数，但有一个特殊值，因此用中位数较客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44320" y="5257800"/>
            <a:ext cx="820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用众数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179064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228600" y="152280"/>
            <a:ext cx="234324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综合运用：</a:t>
            </a:r>
            <a:endParaRPr b="1" lang="en-US" sz="2500" spc="-1" strike="noStrike">
              <a:ln w="9360">
                <a:solidFill>
                  <a:srgbClr val="ffff66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3" name="Text Box 27"/>
          <p:cNvSpPr/>
          <p:nvPr/>
        </p:nvSpPr>
        <p:spPr>
          <a:xfrm>
            <a:off x="0" y="762120"/>
            <a:ext cx="91440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．小明和小颖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次数学单元测试成绩如下（单位：分）：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小明：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89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67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89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92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96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；小颖：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86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62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89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92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92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．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他们都认为自己的成绩比另一位同学好．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）请你分析他们各自的理由；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）你认为谁的成绩更好一些？说明你的理由． 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1630440" y="3199320"/>
            <a:ext cx="581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我校七年级某班每位同学都向“希望工程”捐献图书，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捐书情况如下表：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33520" y="4343400"/>
          <a:ext cx="7543800" cy="1050840"/>
        </p:xfrm>
        <a:graphic>
          <a:graphicData uri="http://schemas.openxmlformats.org/drawingml/2006/table">
            <a:tbl>
              <a:tblPr/>
              <a:tblGrid>
                <a:gridCol w="839880"/>
                <a:gridCol w="839520"/>
                <a:gridCol w="835200"/>
                <a:gridCol w="843120"/>
                <a:gridCol w="838080"/>
                <a:gridCol w="836640"/>
                <a:gridCol w="839880"/>
                <a:gridCol w="834840"/>
                <a:gridCol w="83664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册数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Rectangle 36"/>
          <p:cNvSpPr/>
          <p:nvPr/>
        </p:nvSpPr>
        <p:spPr>
          <a:xfrm>
            <a:off x="1402200" y="5409360"/>
            <a:ext cx="29149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求捐书册数的中位数和众数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52440" y="2133720"/>
            <a:ext cx="2990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平均数是：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86.6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84.2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中位数：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89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众数：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89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92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41800" y="5851440"/>
            <a:ext cx="536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共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人，中位数是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，众数是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7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7"/>
          <p:cNvSpPr/>
          <p:nvPr/>
        </p:nvSpPr>
        <p:spPr>
          <a:xfrm>
            <a:off x="380880" y="3610800"/>
            <a:ext cx="8610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如果所有数据出现的次数都一样，那么这组数据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没有众数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例如：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没有众数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华文细黑"/>
              </a:rPr>
              <a:t> 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90" name="Rectangle 28"/>
          <p:cNvSpPr/>
          <p:nvPr/>
        </p:nvSpPr>
        <p:spPr>
          <a:xfrm>
            <a:off x="304920" y="838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一般来说，一组数据中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出现次数最多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的数就叫这组数据的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众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r>
              <a:rPr b="1" lang="en-US" sz="24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例如：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的众数是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.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91" name="Rectangle 29"/>
          <p:cNvSpPr/>
          <p:nvPr/>
        </p:nvSpPr>
        <p:spPr>
          <a:xfrm>
            <a:off x="228600" y="1905120"/>
            <a:ext cx="86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61f5b"/>
                </a:solidFill>
                <a:latin typeface="华文细黑"/>
                <a:ea typeface="华文细黑"/>
              </a:rPr>
              <a:t>   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如果有两个或两个以上个数出现次数都是最多的，那么这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几个数都是这组数据的众数</a:t>
            </a:r>
            <a:r>
              <a:rPr b="1" lang="en-US" sz="24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例如：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的众数是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.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80880" y="4267080"/>
            <a:ext cx="8686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用众数作为一组数据的代表，着眼于对数据出现的频数的考察，其大小只与这组数据中的部分数据有关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可靠性比较差，但众数不受极端数据的影响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当一组数据中有不少数据多次重复出现时，其众数往往是我们关心的一种统计量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8190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596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332000" y="609480"/>
            <a:ext cx="4225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平均数的计算公式和平均数的作用与特点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0640" y="1295280"/>
            <a:ext cx="3927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对于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个数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61f5b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713400" y="1066680"/>
            <a:ext cx="4488840" cy="1081440"/>
            <a:chOff x="3713400" y="1066680"/>
            <a:chExt cx="4488840" cy="1081440"/>
          </a:xfrm>
        </p:grpSpPr>
        <p:grpSp>
          <p:nvGrpSpPr>
            <p:cNvPr id="483" name=""/>
            <p:cNvGrpSpPr/>
            <p:nvPr/>
          </p:nvGrpSpPr>
          <p:grpSpPr>
            <a:xfrm>
              <a:off x="4475160" y="1066680"/>
              <a:ext cx="383400" cy="971640"/>
              <a:chOff x="4475160" y="1066680"/>
              <a:chExt cx="383400" cy="971640"/>
            </a:xfrm>
          </p:grpSpPr>
          <p:sp>
            <p:nvSpPr>
              <p:cNvPr id="484" name=""/>
              <p:cNvSpPr/>
              <p:nvPr/>
            </p:nvSpPr>
            <p:spPr>
              <a:xfrm>
                <a:off x="4475160" y="1066680"/>
                <a:ext cx="38340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36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60480" y="1566360"/>
                <a:ext cx="228240" cy="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713400" y="1210320"/>
              <a:ext cx="448884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61f5b"/>
                  </a:solidFill>
                  <a:latin typeface="Times New Roman"/>
                </a:rPr>
                <a:t>            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=</a:t>
              </a:r>
              <a:r>
                <a:rPr b="0" lang="zh-CN" sz="2800" spc="-1" strike="noStrike">
                  <a:solidFill>
                    <a:srgbClr val="061f5b"/>
                  </a:solidFill>
                  <a:latin typeface="Times New Roman"/>
                </a:rPr>
                <a:t>    (</a:t>
              </a:r>
              <a:r>
                <a:rPr b="1" i="1" lang="zh-CN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zh-CN" sz="2800" spc="-1" strike="noStrike" baseline="-25000">
                  <a:solidFill>
                    <a:srgbClr val="061f5b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+</a:t>
              </a:r>
              <a:r>
                <a:rPr b="1" i="1" lang="zh-CN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zh-CN" sz="2800" spc="-1" strike="noStrike" baseline="-25000">
                  <a:solidFill>
                    <a:srgbClr val="061f5b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+</a:t>
              </a:r>
              <a:r>
                <a:rPr b="1" i="1" lang="zh-CN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zh-CN" sz="2800" spc="-1" strike="noStrike" baseline="-25000">
                  <a:solidFill>
                    <a:srgbClr val="061f5b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+…+</a:t>
              </a:r>
              <a:r>
                <a:rPr b="1" i="1" lang="zh-CN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i="1" lang="zh-CN" sz="2800" spc="-1" strike="noStrike" baseline="-25000">
                  <a:solidFill>
                    <a:srgbClr val="061f5b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61f5b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5008680" y="1066680"/>
              <a:ext cx="378720" cy="1081440"/>
              <a:chOff x="5008680" y="1066680"/>
              <a:chExt cx="378720" cy="1081440"/>
            </a:xfrm>
          </p:grpSpPr>
          <p:sp>
            <p:nvSpPr>
              <p:cNvPr id="488" name=""/>
              <p:cNvSpPr/>
              <p:nvPr/>
            </p:nvSpPr>
            <p:spPr>
              <a:xfrm>
                <a:off x="5008680" y="1066680"/>
                <a:ext cx="3391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61f5b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08680" y="1371600"/>
                <a:ext cx="37872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61f5b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83560" y="1676520"/>
                <a:ext cx="228600" cy="720"/>
              </a:xfrm>
              <a:prstGeom prst="line">
                <a:avLst/>
              </a:prstGeom>
              <a:ln w="34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304920" y="2057400"/>
            <a:ext cx="8915400" cy="1522800"/>
            <a:chOff x="304920" y="2057400"/>
            <a:chExt cx="8915400" cy="1522800"/>
          </a:xfrm>
        </p:grpSpPr>
        <p:sp>
          <p:nvSpPr>
            <p:cNvPr id="492" name=""/>
            <p:cNvSpPr/>
            <p:nvPr/>
          </p:nvSpPr>
          <p:spPr>
            <a:xfrm>
              <a:off x="304920" y="2057400"/>
              <a:ext cx="8915400" cy="871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一组数据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，…，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i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各个数的权数分别是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，…，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i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则</a:t>
              </a:r>
              <a:endParaRPr b="0" lang="en-US" sz="2800" spc="-1" strike="noStrike">
                <a:solidFill>
                  <a:srgbClr val="061f5b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2863080" y="2895480"/>
              <a:ext cx="3983040" cy="684720"/>
              <a:chOff x="2863080" y="2895480"/>
              <a:chExt cx="3983040" cy="6847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63080" y="2895480"/>
                <a:ext cx="3983040" cy="68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 =x</a:t>
                </a:r>
                <a:r>
                  <a:rPr b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+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+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+…+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n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71800" y="3124080"/>
                <a:ext cx="253080" cy="3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6781680" y="2972520"/>
              <a:ext cx="2438280" cy="563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加权平均数</a:t>
              </a:r>
              <a:r>
                <a:rPr b="1" lang="zh-CN" sz="28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.</a:t>
              </a:r>
              <a:endParaRPr b="0" lang="en-US" sz="2800" spc="-1" strike="noStrike">
                <a:solidFill>
                  <a:srgbClr val="061f5b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466800" y="3505320"/>
            <a:ext cx="153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平均数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是一组数据的一个代表值，它刻画了数据组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的平均水平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787760" y="4724280"/>
            <a:ext cx="55605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位数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是一组数据按从小到大顺序排列后，中间位置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的数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中位数常用来描述“中间位置”或“中等水平”，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但中位数没有利用数据组中所有的信息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0480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152280" y="1752480"/>
          <a:ext cx="8569440" cy="1295280"/>
        </p:xfrm>
        <a:graphic>
          <a:graphicData uri="http://schemas.openxmlformats.org/drawingml/2006/table">
            <a:tbl>
              <a:tblPr/>
              <a:tblGrid>
                <a:gridCol w="2162160"/>
                <a:gridCol w="573120"/>
                <a:gridCol w="819000"/>
                <a:gridCol w="549360"/>
                <a:gridCol w="841320"/>
                <a:gridCol w="598680"/>
                <a:gridCol w="936360"/>
                <a:gridCol w="552600"/>
                <a:gridCol w="816120"/>
                <a:gridCol w="720720"/>
              </a:tblGrid>
              <a:tr h="83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鞋的尺码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厘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4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销售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1" name="Text Box 121"/>
          <p:cNvSpPr/>
          <p:nvPr/>
        </p:nvSpPr>
        <p:spPr>
          <a:xfrm>
            <a:off x="1143000" y="609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下面是一家鞋店在一段时间内务种尺码男鞋的销售量统计表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2" name="Text Box 122"/>
          <p:cNvSpPr/>
          <p:nvPr/>
        </p:nvSpPr>
        <p:spPr>
          <a:xfrm>
            <a:off x="1522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思考下述问题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3" name="Text Box 123"/>
          <p:cNvSpPr/>
          <p:nvPr/>
        </p:nvSpPr>
        <p:spPr>
          <a:xfrm>
            <a:off x="304920" y="36576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这段时间内共销售了多少双男鞋</a:t>
            </a:r>
            <a:r>
              <a:rPr b="1" lang="en-US" sz="2800" spc="-1" strike="noStrike">
                <a:solidFill>
                  <a:srgbClr val="061f5b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4" name="Text Box 124"/>
          <p:cNvSpPr/>
          <p:nvPr/>
        </p:nvSpPr>
        <p:spPr>
          <a:xfrm>
            <a:off x="304920" y="4191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销售量最多的是哪种尺码的鞋</a:t>
            </a:r>
            <a:r>
              <a:rPr b="1" lang="en-US" sz="2800" spc="-1" strike="noStrike">
                <a:solidFill>
                  <a:srgbClr val="061f5b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5" name="Text Box 125"/>
          <p:cNvSpPr/>
          <p:nvPr/>
        </p:nvSpPr>
        <p:spPr>
          <a:xfrm>
            <a:off x="304920" y="48006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3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这个统计表能给鞋店主什么信息</a:t>
            </a:r>
            <a:r>
              <a:rPr b="1" lang="en-US" sz="2800" spc="-1" strike="noStrike">
                <a:solidFill>
                  <a:srgbClr val="061f5b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6" name="Text Box 126"/>
          <p:cNvSpPr/>
          <p:nvPr/>
        </p:nvSpPr>
        <p:spPr>
          <a:xfrm>
            <a:off x="228600" y="5334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4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在这些问题中，店主最关心的问题是什么</a:t>
            </a:r>
            <a:r>
              <a:rPr b="1" lang="en-US" sz="2800" spc="-1" strike="noStrike">
                <a:solidFill>
                  <a:srgbClr val="061f5b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48040" cy="723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AutoShape 28"/>
          <p:cNvSpPr/>
          <p:nvPr/>
        </p:nvSpPr>
        <p:spPr>
          <a:xfrm flipH="1" flipV="1">
            <a:off x="75960" y="2208960"/>
            <a:ext cx="3657600" cy="2667240"/>
          </a:xfrm>
          <a:prstGeom prst="wedgeRoundRectCallout">
            <a:avLst>
              <a:gd name="adj1" fmla="val 20962"/>
              <a:gd name="adj2" fmla="val -86041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家店销售量最多的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5cm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鞋，店主最关心的就是销售量，所以店主下次进货时可以多进这个尺码的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3962520" y="2347200"/>
            <a:ext cx="4876560" cy="649080"/>
          </a:xfrm>
          <a:prstGeom prst="rect">
            <a:avLst/>
          </a:prstGeom>
          <a:solidFill>
            <a:srgbClr val="c0c0c0"/>
          </a:solidFill>
          <a:ln w="28440">
            <a:solidFill>
              <a:srgbClr val="cc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anchorCtr="1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在一组数据中，出现次数最多的数叫做这组数据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众数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0" name="Text Box 68"/>
          <p:cNvSpPr/>
          <p:nvPr/>
        </p:nvSpPr>
        <p:spPr>
          <a:xfrm>
            <a:off x="3657600" y="3916080"/>
            <a:ext cx="5181480" cy="1005480"/>
          </a:xfrm>
          <a:prstGeom prst="rect">
            <a:avLst/>
          </a:prstGeom>
          <a:solidFill>
            <a:srgbClr val="c0c0c0"/>
          </a:solidFill>
          <a:ln w="28440">
            <a:solidFill>
              <a:srgbClr val="cc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anchorCtr="1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当一组数据中某数据多次重复出现时，常可以用众数作为这组数据的数值的一个代表值</a:t>
            </a:r>
            <a:r>
              <a:rPr b="1" lang="en-US" sz="26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一组数据的众数</a:t>
            </a:r>
            <a:r>
              <a:rPr b="1" lang="zh-CN" sz="2600" spc="-1" strike="noStrike">
                <a:solidFill>
                  <a:srgbClr val="cc0000"/>
                </a:solidFill>
                <a:latin typeface="黑体"/>
                <a:ea typeface="黑体"/>
              </a:rPr>
              <a:t>可以不止一个</a:t>
            </a:r>
            <a:r>
              <a:rPr b="1" lang="en-US" sz="26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1" name="AutoShape 67"/>
          <p:cNvSpPr/>
          <p:nvPr/>
        </p:nvSpPr>
        <p:spPr>
          <a:xfrm flipH="1" flipV="1">
            <a:off x="2513880" y="5562720"/>
            <a:ext cx="5489640" cy="1218960"/>
          </a:xfrm>
          <a:prstGeom prst="wedgeRoundRectCallout">
            <a:avLst>
              <a:gd name="adj1" fmla="val 65643"/>
              <a:gd name="adj2" fmla="val 27578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在上面的问题中，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25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是鞋的尺码中出现次数最多的数，所以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25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是这组数据的众数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914400" y="304920"/>
          <a:ext cx="8001000" cy="1647720"/>
        </p:xfrm>
        <a:graphic>
          <a:graphicData uri="http://schemas.openxmlformats.org/drawingml/2006/table">
            <a:tbl>
              <a:tblPr/>
              <a:tblGrid>
                <a:gridCol w="1692360"/>
                <a:gridCol w="576000"/>
                <a:gridCol w="833760"/>
                <a:gridCol w="631800"/>
                <a:gridCol w="933480"/>
                <a:gridCol w="625320"/>
                <a:gridCol w="758880"/>
                <a:gridCol w="538200"/>
                <a:gridCol w="734760"/>
                <a:gridCol w="676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鞋的尺码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厘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4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销售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1609920" cy="1000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5"/>
          <p:cNvSpPr/>
          <p:nvPr/>
        </p:nvSpPr>
        <p:spPr>
          <a:xfrm>
            <a:off x="2133720" y="152280"/>
            <a:ext cx="7086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某公司全体职工的月工资如下：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209520" y="914400"/>
          <a:ext cx="8782200" cy="1833480"/>
        </p:xfrm>
        <a:graphic>
          <a:graphicData uri="http://schemas.openxmlformats.org/drawingml/2006/table">
            <a:tbl>
              <a:tblPr/>
              <a:tblGrid>
                <a:gridCol w="922320"/>
                <a:gridCol w="1139760"/>
                <a:gridCol w="1386000"/>
                <a:gridCol w="770040"/>
                <a:gridCol w="803160"/>
                <a:gridCol w="855720"/>
                <a:gridCol w="722160"/>
                <a:gridCol w="763560"/>
                <a:gridCol w="711360"/>
                <a:gridCol w="708120"/>
              </a:tblGrid>
              <a:tr h="76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工资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元）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总经理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)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副总经理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)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Text Box 77"/>
          <p:cNvSpPr/>
          <p:nvPr/>
        </p:nvSpPr>
        <p:spPr>
          <a:xfrm>
            <a:off x="533520" y="2819520"/>
            <a:ext cx="8458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试求出该公司月工资数据中的众数、中位数和平均数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52280" y="3581280"/>
            <a:ext cx="8305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在上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个数据中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0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出现了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，出现的  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数最多，因此这组数据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众数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00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4572000"/>
            <a:ext cx="883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把这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个数据按从小到大的顺序排列后，可以 发现位于中间的数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0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5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因此这组数据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位数是 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219320" y="5791320"/>
            <a:ext cx="2438280" cy="5461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576800" y="6095880"/>
            <a:ext cx="3252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组数据的平均数为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115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6"/>
          <p:cNvSpPr/>
          <p:nvPr/>
        </p:nvSpPr>
        <p:spPr>
          <a:xfrm>
            <a:off x="380880" y="1295280"/>
            <a:ext cx="876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我们把这组数据的众数、中位数、平均数表示在图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6-2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中：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76320" y="380880"/>
            <a:ext cx="26049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752480" y="15228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在上例中，你认为用平均数、中位数或众数中的哪一个更能反映该公司的工资水平</a:t>
            </a:r>
            <a:r>
              <a:rPr b="1" lang="zh-CN" sz="2800" spc="-1" strike="noStrike">
                <a:solidFill>
                  <a:srgbClr val="061f5b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685440" y="3124080"/>
            <a:ext cx="7238880" cy="1905120"/>
          </a:xfrm>
          <a:prstGeom prst="wedgeRoundRectCallout">
            <a:avLst>
              <a:gd name="adj1" fmla="val 41333"/>
              <a:gd name="adj2" fmla="val -677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bbe0e3"/>
                </a:solidFill>
                <a:latin typeface="黑体"/>
                <a:ea typeface="黑体"/>
              </a:rPr>
              <a:t>工资的平均数</a:t>
            </a:r>
            <a:r>
              <a:rPr b="1" lang="en-US" sz="2800" spc="-1" strike="noStrike">
                <a:solidFill>
                  <a:srgbClr val="bbe0e3"/>
                </a:solidFill>
                <a:latin typeface="Times New Roman"/>
                <a:ea typeface="黑体"/>
              </a:rPr>
              <a:t>3115</a:t>
            </a:r>
            <a:r>
              <a:rPr b="1" lang="en-US" sz="2800" spc="-1" strike="noStrike">
                <a:solidFill>
                  <a:srgbClr val="bbe0e3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bbe0e3"/>
                </a:solidFill>
                <a:latin typeface="黑体"/>
                <a:ea typeface="黑体"/>
              </a:rPr>
              <a:t>偏高，因为大多数员工的工资都达不到这个平均数，用它来作为该公司员工工资的代表值并不合适</a:t>
            </a:r>
            <a:r>
              <a:rPr b="1" lang="en-US" sz="2800" spc="-1" strike="noStrike">
                <a:solidFill>
                  <a:srgbClr val="bbe0e3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685440" y="3124080"/>
            <a:ext cx="7315200" cy="1905120"/>
          </a:xfrm>
          <a:prstGeom prst="wedgeRoundRectCallout">
            <a:avLst>
              <a:gd name="adj1" fmla="val -45398"/>
              <a:gd name="adj2" fmla="val -748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众数是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200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中位数是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225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它们代表了大多数人的工资水平，不偏高也不偏低，较能反映工资水平的实际情况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80880" y="1219320"/>
          <a:ext cx="8305920" cy="1833480"/>
        </p:xfrm>
        <a:graphic>
          <a:graphicData uri="http://schemas.openxmlformats.org/drawingml/2006/table">
            <a:tbl>
              <a:tblPr/>
              <a:tblGrid>
                <a:gridCol w="1014480"/>
                <a:gridCol w="1073160"/>
                <a:gridCol w="1189080"/>
                <a:gridCol w="715680"/>
                <a:gridCol w="763920"/>
                <a:gridCol w="709560"/>
                <a:gridCol w="709560"/>
                <a:gridCol w="711000"/>
                <a:gridCol w="709920"/>
                <a:gridCol w="709560"/>
              </a:tblGrid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工资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元）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总经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)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副总经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)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0" y="154080"/>
            <a:ext cx="2362320" cy="6904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7696080" y="5334120"/>
            <a:ext cx="1114560" cy="10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 flipH="1" flipV="1">
            <a:off x="1828080" y="4724280"/>
            <a:ext cx="3048120" cy="1447920"/>
          </a:xfrm>
          <a:prstGeom prst="wedgeRoundRectCallout">
            <a:avLst>
              <a:gd name="adj1" fmla="val 48624"/>
              <a:gd name="adj2" fmla="val -6210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公司总经理最关心的是公司月工资的总额，所以他关注的是平均数</a:t>
            </a:r>
            <a:r>
              <a:rPr b="1" lang="en-US" sz="2400" spc="-1" strike="noStrike">
                <a:solidFill>
                  <a:srgbClr val="bbe0e3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3124080" y="4419720"/>
            <a:ext cx="5181840" cy="1676160"/>
          </a:xfrm>
          <a:prstGeom prst="wedgeRoundRectCallout">
            <a:avLst>
              <a:gd name="adj1" fmla="val -36777"/>
              <a:gd name="adj2" fmla="val -5775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普通员工关注的是自己的收入在本公司职工群体中的位置，中位数能帮助职工了解自己的工资收入是</a:t>
            </a:r>
            <a:r>
              <a:rPr b="1" lang="zh-CN" sz="2400" spc="-1" strike="noStrike">
                <a:solidFill>
                  <a:srgbClr val="061f5b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中上</a:t>
            </a:r>
            <a:r>
              <a:rPr b="1" lang="zh-CN" sz="2400" spc="-1" strike="noStrike">
                <a:solidFill>
                  <a:srgbClr val="061f5b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还是</a:t>
            </a:r>
            <a:r>
              <a:rPr b="1" lang="zh-CN" sz="2400" spc="-1" strike="noStrike">
                <a:solidFill>
                  <a:srgbClr val="061f5b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中下</a:t>
            </a:r>
            <a:r>
              <a:rPr b="1" lang="zh-CN" sz="2400" spc="-1" strike="noStrike">
                <a:solidFill>
                  <a:srgbClr val="061f5b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水平</a:t>
            </a:r>
            <a:r>
              <a:rPr b="1" lang="en-US" sz="2400" spc="-1" strike="noStrike">
                <a:solidFill>
                  <a:srgbClr val="061f5b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080" y="152280"/>
            <a:ext cx="91422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  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在上例中，对于职工月工资数据的平均数、中位数和众数，你认为该公司总经理、普通员工及应聘者将分别关注哪一个</a:t>
            </a:r>
            <a:r>
              <a:rPr b="1" lang="zh-CN" sz="2800" spc="-1" strike="noStrike">
                <a:solidFill>
                  <a:srgbClr val="061f5b"/>
                </a:solidFill>
                <a:latin typeface="宋体"/>
              </a:rPr>
              <a:t>？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说说你的理由， 并相互交流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447560" y="4495680"/>
            <a:ext cx="4495680" cy="1905120"/>
          </a:xfrm>
          <a:prstGeom prst="wedgeRoundRectCallout">
            <a:avLst>
              <a:gd name="adj1" fmla="val 49023"/>
              <a:gd name="adj2" fmla="val -569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应聘者关注的是该公司月工资的众数，因为应聘者最想知道的是公司发给大多数员工的工资数，这也是一般的应聘者将会拿到的工资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6320" y="2209680"/>
          <a:ext cx="8610480" cy="1833480"/>
        </p:xfrm>
        <a:graphic>
          <a:graphicData uri="http://schemas.openxmlformats.org/drawingml/2006/table">
            <a:tbl>
              <a:tblPr/>
              <a:tblGrid>
                <a:gridCol w="1052640"/>
                <a:gridCol w="1112760"/>
                <a:gridCol w="1231920"/>
                <a:gridCol w="743040"/>
                <a:gridCol w="790560"/>
                <a:gridCol w="736560"/>
                <a:gridCol w="734760"/>
                <a:gridCol w="736920"/>
                <a:gridCol w="736560"/>
                <a:gridCol w="734760"/>
              </a:tblGrid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工资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元）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总经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)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副总经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)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6904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7772400" y="5638680"/>
            <a:ext cx="1114560" cy="10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6"/>
          <p:cNvSpPr/>
          <p:nvPr/>
        </p:nvSpPr>
        <p:spPr>
          <a:xfrm>
            <a:off x="228600" y="738000"/>
            <a:ext cx="8839080" cy="2188080"/>
          </a:xfrm>
          <a:prstGeom prst="rect">
            <a:avLst/>
          </a:prstGeom>
          <a:solidFill>
            <a:srgbClr val="c0c0c0"/>
          </a:solidFill>
          <a:ln w="28440">
            <a:solidFill>
              <a:srgbClr val="cc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      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平均数、中位数和众数都是一组数据的代表，它们从不同侧面反映了数据的</a:t>
            </a:r>
            <a:r>
              <a:rPr b="1" lang="zh-CN" sz="2500" spc="-1" strike="noStrike">
                <a:solidFill>
                  <a:srgbClr val="cc0000"/>
                </a:solidFill>
                <a:latin typeface="黑体"/>
                <a:ea typeface="黑体"/>
              </a:rPr>
              <a:t>集中趋势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平均数的计算要用到所有的数据，它能够充分利用数据提供的信息，因此在现实生活中应用较广，但它容易受极端值的影响；中位数对极端值不敏感，但没有利用数据中所有的信息；众数只能反映一组数据中出现次数最多的数据，也没有利用数据中所有的信息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1" name="Text Box 27"/>
          <p:cNvSpPr/>
          <p:nvPr/>
        </p:nvSpPr>
        <p:spPr>
          <a:xfrm>
            <a:off x="1752480" y="3352680"/>
            <a:ext cx="617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  <a:ea typeface="黑体"/>
              </a:rPr>
              <a:t>平均数、中位数和众数分别反映什么？</a:t>
            </a:r>
            <a:r>
              <a:rPr b="1" lang="zh-CN" sz="2600" spc="-1" strike="noStrike">
                <a:solidFill>
                  <a:srgbClr val="061f5b"/>
                </a:solidFill>
                <a:latin typeface="华文细黑"/>
                <a:ea typeface="华文细黑"/>
              </a:rPr>
              <a:t> 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2" name="Text Box 26"/>
          <p:cNvSpPr/>
          <p:nvPr/>
        </p:nvSpPr>
        <p:spPr>
          <a:xfrm>
            <a:off x="304920" y="3886200"/>
            <a:ext cx="849924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平均数、中位数和众数都是用来代表一组数据的一些特征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平均数反映一组数据的（          ）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中位数反映一组数据的（          ） 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众数反映一组数据的  （          ） 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平均水平   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中等水平   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C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多数水平 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3440" y="5105520"/>
            <a:ext cx="4366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3080" y="4648320"/>
            <a:ext cx="416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3440" y="4114800"/>
            <a:ext cx="4366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9064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6:06:37Z</dcterms:created>
  <dc:creator/>
  <dc:description/>
  <cp:keywords/>
  <dc:language>en-US</dc:language>
  <cp:lastModifiedBy>徐华昌</cp:lastModifiedBy>
  <dcterms:modified xsi:type="dcterms:W3CDTF">2015-07-29T07:20:31Z</dcterms:modified>
  <cp:revision>1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