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0.gif" ContentType="image/gif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.jpeg" ContentType="image/jpeg"/>
  <Override PartName="/ppt/media/image10.png" ContentType="image/png"/>
  <Override PartName="/ppt/media/image5.wmf" ContentType="image/x-wmf"/>
  <Override PartName="/ppt/media/image19.jpeg" ContentType="image/jpeg"/>
  <Override PartName="/ppt/media/image11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0E24-7F56-410E-BD90-FB712ABF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9202-0667-4A89-9401-A75570F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CE25-86C9-4173-B5BB-24571B08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6AD1-7816-45A1-96AD-E00C24FB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77D2-2051-4B22-9629-D9A1B17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6922-4408-4C17-B131-883B0E2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DDD-35CE-4ECA-AE6C-1FA07848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2441-4BFF-4259-A9CF-09F10709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0B2-44D7-4C97-B961-20F061B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AD35-EEC3-47BB-977F-E77A361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0C7B-8A73-4A83-9438-82CC0AA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41CF-6ABD-4EA0-A82C-BED12B3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061-5812-4206-8C58-6C8EFB8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C00-AED0-41D8-8665-A8EB6D9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64B6-67FB-42B6-B985-D1DDB37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9287-6A5B-49A4-9E34-7221FACD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15F1-51BF-4AF4-ADCF-0E00B5D6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A3D3-7269-4733-8BEA-B729070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7814-4634-451A-A90B-E33C2FD6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970F-10B5-443D-B61B-AA05FB80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E9AD-5FE7-469A-8C91-7181F73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8D0A-515A-4CFF-A105-65A45FF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E273-782B-4477-AA60-DEEE342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7111-8D99-4F2E-B10A-6230E1D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E640-198F-45A8-A8B8-08D54E1F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F467-DBC1-45CE-9AD2-7CFB234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5CB1-F345-4171-B256-FD80333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D082-0B10-4B2E-9D01-86C6B68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7F28-CB6E-4A59-808B-09B52481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B638-E577-46C1-92CE-362A2C32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F8D3-3E6E-47BC-BF8A-9225E823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3A4B-7065-462C-A4E9-6B79516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D69E-51A2-487D-A9DF-1CEF425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0B23-2320-488D-BB5A-825A35B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20D6-C05B-4A76-8026-BF80BB1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B3D9-AB1E-46B6-B0F7-F76F28E8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2133-CB07-4382-A36D-731E9F3B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29AE-55F2-4A78-9E74-2D4B8CE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0792-8ADC-4957-B58D-E0AF601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D8F3-6569-4BA4-8F87-FD9CC9C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718E-6557-405A-87C2-CB2797F0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2869-B226-4A76-BB9F-C140AA00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797D-7249-4329-BB9C-D9729C0C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C469-BA17-448E-A58F-ED14F588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C7D3-D195-498A-9DFC-57B6E83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75A9-E9E0-4F22-A31D-7DF90D3F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E784-1A23-4B1B-85FA-C613A9CB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2882-E490-426D-8882-FCA0DA0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E327-1195-4CCF-8B62-BBCB63D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842F-2243-4CE0-AE46-DBFFA1D3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F1B0-FBFF-4D90-9B12-CD4AE24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1C94-BEBA-45A5-9869-992E729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7EEF8-FE2D-4C94-B813-925AD12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2406-33C4-4EDD-A5D2-67765DE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720D-4BC2-40AD-AABA-0822541C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B3BD-12FE-4F47-A964-9E2D520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3FB4-9212-402D-9366-56346846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FBA6-4ED1-4F82-AF1E-547BD8ED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AD85-D3AF-4586-9AFF-8629146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B525-D2DA-4A8E-9199-C2E2085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2AEB-9887-4335-88F6-33E58285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18387-7656-4DA5-8CDE-B3AAE50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46B3-B128-4CC5-A339-D32D765D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881C-0693-4EBD-9206-D20DD5B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592A-240B-466B-B46B-E8588D2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CAE7-9989-4D98-8E4E-D7CCE1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7C71-FD2E-4819-858E-AD737BD2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E815-99DE-4887-B8FB-E49B18D8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99809-F163-4914-AC8F-05340E68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FB68-6551-45EC-B781-A3888BD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F480-FEC9-41BB-92AA-BE69B46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F783-3825-471D-8B09-1480D18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7978-5D7C-42E7-84D7-A4FD0E15F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8390-BBAC-4069-9A08-9103E14E4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B626-4BAC-46CD-B274-3C89E7E88D4F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F12-28A2-4269-B829-98A39BACD1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8FF7-DE93-4AA9-AC49-43A63735B022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4FE-C575-4561-A876-7786BCF5A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03640" y="285264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2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3933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数据的波动越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不稳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2565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衡量一批数据的波动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这组数据偏离平均数的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9520" y="1125360"/>
            <a:ext cx="6851520" cy="749160"/>
            <a:chOff x="659520" y="1125360"/>
            <a:chExt cx="6851520" cy="749160"/>
          </a:xfrm>
        </p:grpSpPr>
        <p:sp>
          <p:nvSpPr>
            <p:cNvPr id="345" name=""/>
            <p:cNvSpPr/>
            <p:nvPr/>
          </p:nvSpPr>
          <p:spPr>
            <a:xfrm>
              <a:off x="659520" y="124776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76200" y="1125360"/>
              <a:ext cx="419040" cy="749160"/>
              <a:chOff x="1276200" y="1125360"/>
              <a:chExt cx="419040" cy="749160"/>
            </a:xfrm>
          </p:grpSpPr>
          <p:sp>
            <p:nvSpPr>
              <p:cNvPr id="347" name=""/>
              <p:cNvSpPr/>
              <p:nvPr/>
            </p:nvSpPr>
            <p:spPr>
              <a:xfrm>
                <a:off x="1314360" y="112536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1276200" y="1353960"/>
                <a:ext cx="380880" cy="520560"/>
                <a:chOff x="1276200" y="1353960"/>
                <a:chExt cx="380880" cy="5205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76200" y="135396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71600" y="148716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6877080" y="14126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56000" y="134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28720" y="1412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03280" y="1484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219320"/>
            <a:ext cx="5638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女声合唱队，各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队员组成，她们的身高为（单位：厘米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队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队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79400" y="34290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单从队员的身高考虑，哪队的演出效果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791320" y="1627200"/>
            <a:ext cx="3124080" cy="1801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406440"/>
            <a:ext cx="8351640" cy="5038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甲队队员的平均身高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乙队的平均身高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甲队队员身高的方差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乙队队员身高的方差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5148000" cy="757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629080" y="1701720"/>
            <a:ext cx="5146560" cy="755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28720" y="2997360"/>
            <a:ext cx="6635880" cy="1562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6661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16000" y="2133720"/>
            <a:ext cx="7129440" cy="3600360"/>
          </a:xfrm>
          <a:prstGeom prst="cloudCallout">
            <a:avLst>
              <a:gd name="adj1" fmla="val 62208"/>
              <a:gd name="adj2" fmla="val -358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不难算出每个队的平均身高都是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160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厘米，但甲队身高波动小，乙队身高波动大，单从身高考虑，甲队比较整齐，演出的效果会好一些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95280" y="12034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差反映的是一组数据哪个方面的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90720" y="1752480"/>
            <a:ext cx="6172200" cy="3048120"/>
            <a:chOff x="990720" y="1752480"/>
            <a:chExt cx="6172200" cy="3048120"/>
          </a:xfrm>
        </p:grpSpPr>
        <p:sp>
          <p:nvSpPr>
            <p:cNvPr id="371" name=""/>
            <p:cNvSpPr/>
            <p:nvPr/>
          </p:nvSpPr>
          <p:spPr>
            <a:xfrm>
              <a:off x="990720" y="1752480"/>
              <a:ext cx="6172200" cy="3048120"/>
            </a:xfrm>
            <a:prstGeom prst="cloudCallout">
              <a:avLst>
                <a:gd name="adj1" fmla="val 48893"/>
                <a:gd name="adj2" fmla="val 5989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2590560"/>
              <a:ext cx="3429000" cy="11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方差反映的是一组数据与其平均数的偏离程度，方差越小，数据越集中；方差越大，数据越分散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477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6320" y="63504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考察甲、乙两种小麦的长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中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株苗，测得苗高如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cm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12    13    14    15    10    16   13   11   15   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11    16    17    14    13    19    6     8    10   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哪种小麦长得比较整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6576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数据方差的一般步骤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4264200"/>
            <a:ext cx="7921440" cy="52056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求数据的平均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97880" y="48862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利用方差公式求方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88240" y="5445000"/>
            <a:ext cx="6851520" cy="749160"/>
            <a:chOff x="588240" y="5445000"/>
            <a:chExt cx="6851520" cy="749160"/>
          </a:xfrm>
        </p:grpSpPr>
        <p:sp>
          <p:nvSpPr>
            <p:cNvPr id="379" name=""/>
            <p:cNvSpPr/>
            <p:nvPr/>
          </p:nvSpPr>
          <p:spPr>
            <a:xfrm>
              <a:off x="588240" y="556740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204920" y="5445000"/>
              <a:ext cx="419040" cy="749160"/>
              <a:chOff x="1204920" y="5445000"/>
              <a:chExt cx="419040" cy="749160"/>
            </a:xfrm>
          </p:grpSpPr>
          <p:sp>
            <p:nvSpPr>
              <p:cNvPr id="381" name=""/>
              <p:cNvSpPr/>
              <p:nvPr/>
            </p:nvSpPr>
            <p:spPr>
              <a:xfrm>
                <a:off x="1243080" y="544500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1204920" y="5673600"/>
                <a:ext cx="380880" cy="520560"/>
                <a:chOff x="1204920" y="5673600"/>
                <a:chExt cx="380880" cy="520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204920" y="567360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300320" y="5806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6805800" y="57322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84720" y="5661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57440" y="5732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2000" y="5803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1791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组数据的方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组数据有什么特点？方差可以是负数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360" y="21337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数据都等于这组数据的平均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720" y="2925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520" y="3657600"/>
            <a:ext cx="7390800" cy="835200"/>
            <a:chOff x="533520" y="3657600"/>
            <a:chExt cx="7390800" cy="8352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1676160" y="3657600"/>
              <a:ext cx="6248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33520" y="3809880"/>
              <a:ext cx="9140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6360" y="117360"/>
            <a:ext cx="1791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399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1080" y="226692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，乙两名射击手现要挑选一名射击手参加比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若你是教练，你认为挑选哪一位比较适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50920" y="620640"/>
            <a:ext cx="4320720" cy="1366560"/>
            <a:chOff x="250920" y="620640"/>
            <a:chExt cx="4320720" cy="1366560"/>
          </a:xfrm>
        </p:grpSpPr>
        <p:sp>
          <p:nvSpPr>
            <p:cNvPr id="277" name=""/>
            <p:cNvSpPr/>
            <p:nvPr/>
          </p:nvSpPr>
          <p:spPr>
            <a:xfrm>
              <a:off x="250920" y="1053720"/>
              <a:ext cx="3404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教练的烦恼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26640" y="620640"/>
              <a:ext cx="945000" cy="13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宋体"/>
                </a:rPr>
                <a:t>？</a:t>
              </a:r>
              <a:endParaRPr b="0" lang="en-US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704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亮和李飞参加射击训练的成绩统计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321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分别计算两名射手的平均成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057480" cy="3716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48040" cy="723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042920" y="15098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,   8,     8,     9,     7,      8,      8,     9,    7,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9920" y="23432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飞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,   8,     7,     7,     8,      9,      10,    7,    9,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98560" y="10587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两人的平均成绩分别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7160" y="2144880"/>
            <a:ext cx="70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何反映着两组数据与其平均数的偏离程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3645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谁的成绩比较稳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22400" y="49021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933480" cy="736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87280" y="4508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(7+8+8+9+7+8+8+9+7+9)÷10=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530208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6+8+7+7+8+9+10+7+9+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÷10=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7960" y="4560120"/>
            <a:ext cx="528120" cy="549000"/>
            <a:chOff x="507960" y="4560120"/>
            <a:chExt cx="528120" cy="549000"/>
          </a:xfrm>
        </p:grpSpPr>
        <p:sp>
          <p:nvSpPr>
            <p:cNvPr id="293" name=""/>
            <p:cNvSpPr/>
            <p:nvPr/>
          </p:nvSpPr>
          <p:spPr>
            <a:xfrm>
              <a:off x="528480" y="4641840"/>
              <a:ext cx="26640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28800" y="48672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Arial"/>
                </a:rPr>
                <a:t>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840" y="45601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" y="4621320"/>
              <a:ext cx="51120" cy="51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4360" y="4621320"/>
              <a:ext cx="51120" cy="51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96800" y="6059520"/>
            <a:ext cx="68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即两个人的平均成绩相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278920" cy="2665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90640" cy="523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5640" y="1341360"/>
            <a:ext cx="76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了直观的看出这两组数据与其平均数的偏离程度，我们用下图来表示数据的分布情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661000"/>
            <a:ext cx="77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 fontScale="79000"/>
          </a:bodyPr>
          <a:p>
            <a:pPr marL="232920" indent="0">
              <a:spcBef>
                <a:spcPts val="4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由上面两幅图，可以发现刘亮的射击成绩大多集中在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均成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环附近，而李飞的射击成绩与平均成绩的偏差较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一组数据中的数与这组数据的平均数的偏离程度是数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一个重要特征，它反映了一组数据的离散程度或波动大小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找到一个特征值来反映一组数据与其平均数的离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程度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9640" y="1413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射击成绩与平均成绩的偏差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2637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射击成绩与平均成绩的偏差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68360" y="1916280"/>
            <a:ext cx="7559280" cy="593280"/>
            <a:chOff x="468360" y="1916280"/>
            <a:chExt cx="7559280" cy="593280"/>
          </a:xfrm>
        </p:grpSpPr>
        <p:sp>
          <p:nvSpPr>
            <p:cNvPr id="308" name=""/>
            <p:cNvSpPr/>
            <p:nvPr/>
          </p:nvSpPr>
          <p:spPr>
            <a:xfrm>
              <a:off x="468360" y="1989000"/>
              <a:ext cx="73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4920" y="1916280"/>
              <a:ext cx="6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8360" y="3284640"/>
            <a:ext cx="7806960" cy="593640"/>
            <a:chOff x="468360" y="3284640"/>
            <a:chExt cx="7806960" cy="593640"/>
          </a:xfrm>
        </p:grpSpPr>
        <p:sp>
          <p:nvSpPr>
            <p:cNvPr id="311" name=""/>
            <p:cNvSpPr/>
            <p:nvPr/>
          </p:nvSpPr>
          <p:spPr>
            <a:xfrm>
              <a:off x="468360" y="3357720"/>
              <a:ext cx="778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1680" y="3284640"/>
              <a:ext cx="59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 txBox="1"/>
          <p:nvPr/>
        </p:nvSpPr>
        <p:spPr>
          <a:xfrm>
            <a:off x="1116000" y="4292640"/>
            <a:ext cx="204156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怎么办？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50920" y="443700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299736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0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射击成绩与平均成绩的偏差的平方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371628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射击成绩与平均成绩的偏差的平方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5080" y="2997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4365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790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1125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述各偏差的平方和的大小还与什么有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射击次数有关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41120" y="2276640"/>
            <a:ext cx="92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要进一步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各偏差平方的平均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衡量数据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2852640"/>
            <a:ext cx="8877240" cy="1065240"/>
            <a:chOff x="0" y="2852640"/>
            <a:chExt cx="8877240" cy="1065240"/>
          </a:xfrm>
        </p:grpSpPr>
        <p:sp>
          <p:nvSpPr>
            <p:cNvPr id="326" name=""/>
            <p:cNvSpPr/>
            <p:nvPr/>
          </p:nvSpPr>
          <p:spPr>
            <a:xfrm>
              <a:off x="0" y="2852640"/>
              <a:ext cx="88772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设一组数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，各数据与它们的平均数的差的平方分别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那么我们用它们的平均数，即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28880" y="3429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13240" y="335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00880" y="335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43880" y="4365720"/>
            <a:ext cx="6851520" cy="749160"/>
            <a:chOff x="443880" y="4365720"/>
            <a:chExt cx="6851520" cy="749160"/>
          </a:xfrm>
        </p:grpSpPr>
        <p:sp>
          <p:nvSpPr>
            <p:cNvPr id="331" name=""/>
            <p:cNvSpPr/>
            <p:nvPr/>
          </p:nvSpPr>
          <p:spPr>
            <a:xfrm>
              <a:off x="443880" y="448812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060560" y="4365720"/>
              <a:ext cx="419040" cy="749160"/>
              <a:chOff x="1060560" y="4365720"/>
              <a:chExt cx="419040" cy="749160"/>
            </a:xfrm>
          </p:grpSpPr>
          <p:sp>
            <p:nvSpPr>
              <p:cNvPr id="333" name=""/>
              <p:cNvSpPr/>
              <p:nvPr/>
            </p:nvSpPr>
            <p:spPr>
              <a:xfrm>
                <a:off x="1098720" y="436572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1060560" y="4594320"/>
                <a:ext cx="380880" cy="520560"/>
                <a:chOff x="1060560" y="4594320"/>
                <a:chExt cx="380880" cy="5205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060560" y="459432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55960" y="47275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6661440" y="4653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40360" y="45817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13080" y="4653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87640" y="4724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29:04Z</dcterms:created>
  <dc:creator/>
  <dc:description/>
  <cp:keywords/>
  <dc:language>en-US</dc:language>
  <cp:lastModifiedBy>徐华昌</cp:lastModifiedBy>
  <dcterms:modified xsi:type="dcterms:W3CDTF">2015-07-29T07:28:49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