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29.gif" ContentType="image/gi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28.jpeg" ContentType="image/jpeg"/>
  <Override PartName="/ppt/media/image18.png" ContentType="image/png"/>
  <Override PartName="/ppt/media/image25.wmf" ContentType="image/x-wmf"/>
  <Override PartName="/ppt/media/image2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76D-C049-433C-A986-2BCE2182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837-6C2D-4D6A-BDE8-17BCE41E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D7D-CA6A-4DC8-8AC3-5DB04BA9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6E41-BBE5-4EFC-B7FF-A239B19C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D485-CC7B-4DFE-AC01-9D3DF1FE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72F-F8A1-4D7A-9E45-F5BA8C48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30C5-8AD1-4487-B4E3-0A3B5AB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E753-41F8-48E0-9FCD-869EAE2F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C25C-1327-49BB-A2CC-34D12460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7D2D-49C1-4C4A-9277-76F1C6EB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95EC-66BB-48E8-8DED-692A544B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03F-377C-4F58-B475-EEC646AF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4D07-30A3-444D-A72C-1EF83F5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4AF6-498F-44B6-956B-327974C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BE6E-68D6-4032-90A2-38856613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595B-9340-43AC-8979-B15AF614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0890-66A2-4263-BCC4-30815B4D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AE8C-9D93-4414-A160-2F1EFAA1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1746-D722-43AD-8281-2E41F74D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49D8-054E-4FAE-81A0-6B511976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F5DC-3940-44FD-9B0F-C735396C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E57E-3254-45DA-BF6F-BA356C12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4C9-5251-459B-8C6C-2587C428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A8061-62EF-439F-9B79-ECF0AABC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A934-E8E7-4743-9B7F-B844375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4E5C-65D1-4D31-99A4-7107562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47E8-800F-4BDB-BBDE-897BA825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6DBA-1732-4408-BCA9-4D4F3264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81DBD-1A38-40CB-81B9-ECBDD7E1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CE0A7-1789-4A92-AF3D-D797114F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5EAC7-A43B-42AF-BB88-E356A5F3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D9D3-A7FE-411A-869B-A0626646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19B7-6731-4B93-93C2-40540EEE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242-6740-4AE2-8312-46E65E68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5F6CF-0655-4258-8D01-5A189335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13C6B-16BB-4CDC-B902-BC4CF264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0D3F6-C4B5-4DD9-B9C9-D0D56982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D141-1A1D-44E5-83C1-743DDB3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DFCB1-EDAE-4E23-8AEB-6CDC50B7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D596-686E-4CA5-AA00-DF078F1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4D90-F22F-4D04-BD6D-66D0E708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A5ED-9672-4DA4-BC00-93F20B76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8D0D8-6DD6-429D-ADA8-85E16F99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17A9C-51C3-4830-96D3-44BDCD4A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56C-22E5-48CF-B31A-B911CBD8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7913-21A5-406B-A184-F101427D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D9227-6178-4BBA-8442-B0C9522A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37B05-BA75-481A-A8F3-31B5B55B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37EA-52E7-4452-83DC-06938D9B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24EA-BB85-4467-973A-DE7C9148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A83C-6E2B-424D-A8A6-A1A1A690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9987-BEB4-4D59-AC8F-793369DA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B02F-3D46-4B22-A7EB-6EF7DC6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1D83B-F66E-4536-B19A-E38071AC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BDECE-3A07-467A-AE04-54BD6FB5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228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B9B-7A61-41E2-9372-8BDEE7C7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308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216240"/>
            <a:ext cx="264924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20DB0-2325-459F-B56A-F48FF81E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E07-074F-4F39-9E4D-6A3BE3A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21624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7E4-57A2-4AD1-A90D-1080C10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3080"/>
            <a:ext cx="401508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16240"/>
            <a:ext cx="8228160" cy="1472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A0A-2531-423D-8C30-36E935B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ctr">
            <a:noAutofit/>
          </a:bodyPr>
          <a:p>
            <a:pPr marL="84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3080"/>
            <a:ext cx="8228160" cy="308772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rmAutofit/>
          </a:bodyPr>
          <a:p>
            <a:pPr marL="316080" indent="-31608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89040" indent="-26532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058760" indent="-21096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3" marL="1482840" indent="-21276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4" marL="1905120" indent="-211320">
              <a:spcBef>
                <a:spcPts val="425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5" marL="1905120" indent="-211320">
              <a:spcBef>
                <a:spcPts val="4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6" marL="1905120" indent="-211320">
              <a:spcBef>
                <a:spcPts val="4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184D-065B-4E2A-8423-EF05CD7C6286}" type="datetime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/28/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4600" rIns="84600" tIns="42480" bIns="42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D049-E2DA-43E3-9211-80C617A7B80A}" type="slidenum"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590840" y="0"/>
            <a:ext cx="7553160" cy="6845400"/>
          </a:xfrm>
          <a:prstGeom prst="rect">
            <a:avLst/>
          </a:prstGeom>
          <a:solidFill>
            <a:srgbClr val="c0c0c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69920" y="1596600"/>
            <a:ext cx="671688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9844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7796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15748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2157480" indent="-23976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2157480" indent="-23976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EA26-0CED-41FA-B5D6-233109BB3613}" type="slidenum">
              <a: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6600"/>
            <a:ext cx="822816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796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D8D6-BC09-47BB-A3C1-7E877B2F81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/drops_8-wallpaper-1440x1080.jpgdrops_8-wallpaper-1440x10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590840" y="0"/>
            <a:ext cx="7553160" cy="6845400"/>
          </a:xfrm>
          <a:prstGeom prst="rect">
            <a:avLst/>
          </a:prstGeom>
          <a:solidFill>
            <a:srgbClr val="c0c0c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969920" y="1596600"/>
            <a:ext cx="671688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77960" indent="-29844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9844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7796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2157480" indent="-239760">
              <a:spcBef>
                <a:spcPts val="499"/>
              </a:spcBef>
              <a:buClr>
                <a:srgbClr val="009999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2157480" indent="-23976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2157480" indent="-23976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8E8D-FDD2-42A6-9665-D798D75F403C}" type="slidenum">
              <a:rPr b="0" lang="zh-CN" sz="9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6600"/>
            <a:ext cx="822816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796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3976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7200" y="62431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6978-1CF3-4FF3-BD04-3CF1238F09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F:/drops_8-wallpaper-1440x1080.jpgdrops_8-wallpaper-1440x10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2714760" y="3286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2.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代入消元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2071800" y="17017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章  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.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二元一次方程组的解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642960" y="2214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消去一个未知数（简称为消元），得到一个一元一次方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762120" y="396252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把其中一个方程的某一个未知数用含有另一个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的代数式表示，然后把它代入到另一个方程中，便得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一个一元一次方程，这种解方程叫做代入消元法，简称为代入法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08000" y="3063960"/>
            <a:ext cx="53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消去一个未知数的方法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357120" y="12859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二元一次方程组的基本思想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5" descr="QQ截图20140828112418.png"/>
          <p:cNvPicPr/>
          <p:nvPr/>
        </p:nvPicPr>
        <p:blipFill>
          <a:blip r:embed="rId1"/>
          <a:stretch/>
        </p:blipFill>
        <p:spPr>
          <a:xfrm>
            <a:off x="0" y="357120"/>
            <a:ext cx="18194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5"/>
          <p:cNvSpPr/>
          <p:nvPr/>
        </p:nvSpPr>
        <p:spPr>
          <a:xfrm>
            <a:off x="2428920" y="28584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用代入法消元法解下列方程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1800360" cy="9968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1219320" y="1447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057400" y="3429000"/>
            <a:ext cx="10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962520" y="1219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396252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928800" y="2428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：由②得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= 4 +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1071720" y="314316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将③代入①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2286000" y="36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4+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=12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1214280" y="4143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2500200" y="41432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= 6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1214280" y="49291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把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= 6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代入③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2357280" y="5357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= 4+62=6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571680" y="592920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286160" y="57862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32" descr="QQ截图20140828112236.png"/>
          <p:cNvPicPr/>
          <p:nvPr/>
        </p:nvPicPr>
        <p:blipFill>
          <a:blip r:embed="rId3"/>
          <a:stretch/>
        </p:blipFill>
        <p:spPr>
          <a:xfrm>
            <a:off x="285840" y="214200"/>
            <a:ext cx="1790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71840" y="642960"/>
            <a:ext cx="2384280" cy="1071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148360" y="5518080"/>
            <a:ext cx="981000" cy="8384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8"/>
          <p:cNvSpPr/>
          <p:nvPr/>
        </p:nvSpPr>
        <p:spPr>
          <a:xfrm>
            <a:off x="4933800" y="566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9"/>
          <p:cNvSpPr/>
          <p:nvPr/>
        </p:nvSpPr>
        <p:spPr>
          <a:xfrm>
            <a:off x="4929120" y="1285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1733400" y="947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1"/>
          <p:cNvSpPr/>
          <p:nvPr/>
        </p:nvSpPr>
        <p:spPr>
          <a:xfrm>
            <a:off x="2143080" y="2214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：将②代入①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2714760" y="27860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-1) = 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2500200" y="3500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: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 = 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4"/>
          <p:cNvSpPr/>
          <p:nvPr/>
        </p:nvSpPr>
        <p:spPr>
          <a:xfrm>
            <a:off x="2428920" y="41432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把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= 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代入②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7"/>
          <p:cNvSpPr/>
          <p:nvPr/>
        </p:nvSpPr>
        <p:spPr>
          <a:xfrm>
            <a:off x="2357280" y="47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=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8"/>
          <p:cNvSpPr/>
          <p:nvPr/>
        </p:nvSpPr>
        <p:spPr>
          <a:xfrm>
            <a:off x="1571760" y="57150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1832040" cy="9460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486400" y="874800"/>
            <a:ext cx="2108160" cy="9381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380880" y="10508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648320" y="1179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3352680" y="838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352680" y="1295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7772400" y="87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7772400" y="1332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720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由②得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7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914400" y="26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将③代入①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1981080" y="3260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5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+2(7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3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)=1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9144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 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24382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762120" y="4495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把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代入③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8"/>
          <p:cNvSpPr/>
          <p:nvPr/>
        </p:nvSpPr>
        <p:spPr>
          <a:xfrm>
            <a:off x="1828800" y="5029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7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3×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228600" y="5867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3124080" y="563868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1"/>
          <p:cNvSpPr/>
          <p:nvPr/>
        </p:nvSpPr>
        <p:spPr>
          <a:xfrm>
            <a:off x="4419720" y="18892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：由①得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3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+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2"/>
          <p:cNvSpPr/>
          <p:nvPr/>
        </p:nvSpPr>
        <p:spPr>
          <a:xfrm>
            <a:off x="4876920" y="249876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将③代入②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3"/>
          <p:cNvSpPr/>
          <p:nvPr/>
        </p:nvSpPr>
        <p:spPr>
          <a:xfrm>
            <a:off x="5943600" y="3092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+3(3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+1)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3=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4"/>
          <p:cNvSpPr/>
          <p:nvPr/>
        </p:nvSpPr>
        <p:spPr>
          <a:xfrm>
            <a:off x="4952880" y="3718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解 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5"/>
          <p:cNvSpPr/>
          <p:nvPr/>
        </p:nvSpPr>
        <p:spPr>
          <a:xfrm>
            <a:off x="6477120" y="3718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= 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4800600" y="43275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将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代入③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6095880" y="486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 = 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8"/>
          <p:cNvSpPr/>
          <p:nvPr/>
        </p:nvSpPr>
        <p:spPr>
          <a:xfrm>
            <a:off x="4495680" y="5791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543800" y="5486400"/>
            <a:ext cx="1143000" cy="94932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4152960" y="685800"/>
            <a:ext cx="360" cy="5562720"/>
            <a:chOff x="4152960" y="685800"/>
            <a:chExt cx="360" cy="5562720"/>
          </a:xfrm>
        </p:grpSpPr>
        <p:sp>
          <p:nvSpPr>
            <p:cNvPr id="331" name="Line 30"/>
            <p:cNvSpPr/>
            <p:nvPr/>
          </p:nvSpPr>
          <p:spPr>
            <a:xfrm>
              <a:off x="4152960" y="685800"/>
              <a:ext cx="0" cy="5562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152960" y="685800"/>
              <a:ext cx="360" cy="556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191120" y="838080"/>
            <a:ext cx="360" cy="5562720"/>
            <a:chOff x="4191120" y="838080"/>
            <a:chExt cx="360" cy="5562720"/>
          </a:xfrm>
        </p:grpSpPr>
        <p:sp>
          <p:nvSpPr>
            <p:cNvPr id="334" name="Line 31"/>
            <p:cNvSpPr/>
            <p:nvPr/>
          </p:nvSpPr>
          <p:spPr>
            <a:xfrm>
              <a:off x="4191120" y="838080"/>
              <a:ext cx="0" cy="5562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4191120" y="838080"/>
              <a:ext cx="360" cy="556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337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338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6"/>
          <p:cNvSpPr/>
          <p:nvPr/>
        </p:nvSpPr>
        <p:spPr>
          <a:xfrm>
            <a:off x="609480" y="15620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现在我们来解决上节课中１吨水费多少元，１立方米天然气多少元的问题．首先，想一想如何解二元一次方程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317760" y="2552760"/>
          <a:ext cx="66960" cy="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7760" y="2552760"/>
                    <a:ext cx="66960" cy="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AutoShape 16"/>
          <p:cNvSpPr/>
          <p:nvPr/>
        </p:nvSpPr>
        <p:spPr>
          <a:xfrm>
            <a:off x="1905120" y="3848040"/>
            <a:ext cx="6476760" cy="1524240"/>
          </a:xfrm>
          <a:prstGeom prst="cloudCallout">
            <a:avLst>
              <a:gd name="adj1" fmla="val -50587"/>
              <a:gd name="adj2" fmla="val 76666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微软雅黑"/>
              </a:rPr>
              <a:t>我会解一元一次方程，可是现在方程①和②都有两个未知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0" descr="QQ截图20140828111124.png"/>
          <p:cNvPicPr/>
          <p:nvPr/>
        </p:nvPicPr>
        <p:blipFill>
          <a:blip r:embed="rId4"/>
          <a:stretch/>
        </p:blipFill>
        <p:spPr>
          <a:xfrm>
            <a:off x="357120" y="642960"/>
            <a:ext cx="2048040" cy="7239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1" descr="QQ截图20140402164657.png"/>
          <p:cNvPicPr/>
          <p:nvPr/>
        </p:nvPicPr>
        <p:blipFill>
          <a:blip r:embed="rId5"/>
          <a:stretch/>
        </p:blipFill>
        <p:spPr>
          <a:xfrm>
            <a:off x="285840" y="5643720"/>
            <a:ext cx="148572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8"/>
          <p:cNvSpPr/>
          <p:nvPr/>
        </p:nvSpPr>
        <p:spPr>
          <a:xfrm>
            <a:off x="0" y="762120"/>
            <a:ext cx="7467480" cy="4343400"/>
          </a:xfrm>
          <a:prstGeom prst="cloudCallout">
            <a:avLst>
              <a:gd name="adj1" fmla="val 43194"/>
              <a:gd name="adj2" fmla="val -48574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116000" y="1486080"/>
            <a:ext cx="5791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方程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①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②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中的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x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都表示小亮家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月份的天然气费，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y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都表示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月份的水费，因此方程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②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中的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x, y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分别与方程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①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中的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x,y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相同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由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②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式可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340000" y="2852640"/>
          <a:ext cx="212724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852640"/>
                    <a:ext cx="21272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6"/>
          <p:cNvSpPr/>
          <p:nvPr/>
        </p:nvSpPr>
        <p:spPr>
          <a:xfrm>
            <a:off x="1752480" y="32767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微软雅黑"/>
              </a:rPr>
              <a:t>可以把③代入①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74960" y="28195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4"/>
          <p:cNvGrpSpPr/>
          <p:nvPr/>
        </p:nvGrpSpPr>
        <p:grpSpPr>
          <a:xfrm>
            <a:off x="2103480" y="3738600"/>
            <a:ext cx="2956320" cy="566640"/>
            <a:chOff x="2103480" y="3738600"/>
            <a:chExt cx="2956320" cy="566640"/>
          </a:xfrm>
        </p:grpSpPr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2103480" y="3738600"/>
                  <a:ext cx="238284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8" name="Rectangle 10"/>
            <p:cNvSpPr/>
            <p:nvPr/>
          </p:nvSpPr>
          <p:spPr>
            <a:xfrm>
              <a:off x="4674960" y="379404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AutoShape 12"/>
          <p:cNvSpPr/>
          <p:nvPr/>
        </p:nvSpPr>
        <p:spPr>
          <a:xfrm>
            <a:off x="1981080" y="5334120"/>
            <a:ext cx="6248520" cy="914400"/>
          </a:xfrm>
          <a:prstGeom prst="cloudCallout">
            <a:avLst>
              <a:gd name="adj1" fmla="val -55101"/>
              <a:gd name="adj2" fmla="val 3350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啊！这个一元一次方程我会解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13" descr="QQ截图20140402164807.png"/>
          <p:cNvPicPr/>
          <p:nvPr/>
        </p:nvPicPr>
        <p:blipFill>
          <a:blip r:embed="rId3"/>
          <a:stretch/>
        </p:blipFill>
        <p:spPr>
          <a:xfrm>
            <a:off x="214200" y="5500800"/>
            <a:ext cx="1714680" cy="10652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4" descr="QQ截图20140402164715.png"/>
          <p:cNvPicPr/>
          <p:nvPr/>
        </p:nvPicPr>
        <p:blipFill>
          <a:blip r:embed="rId4"/>
          <a:stretch/>
        </p:blipFill>
        <p:spPr>
          <a:xfrm>
            <a:off x="7286760" y="285840"/>
            <a:ext cx="1114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380880" y="1295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方程④，得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=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0880" y="2452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的值代入③，得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=_____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57120" y="38577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因此，原方程组的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276720" y="1125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4068720" y="2276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140360" y="3645000"/>
                <a:ext cx="116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9"/>
          <p:cNvSpPr/>
          <p:nvPr/>
        </p:nvSpPr>
        <p:spPr>
          <a:xfrm>
            <a:off x="380880" y="1066680"/>
            <a:ext cx="8153640" cy="1828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838080" y="1752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同桌同学讨论，解二元一次方程组的基本想法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990720" y="358128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消去一个未知数，得到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一元一次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8" descr="QQ截图20140828111313.png"/>
          <p:cNvPicPr/>
          <p:nvPr/>
        </p:nvPicPr>
        <p:blipFill>
          <a:blip r:embed="rId1"/>
          <a:stretch/>
        </p:blipFill>
        <p:spPr>
          <a:xfrm>
            <a:off x="0" y="428760"/>
            <a:ext cx="2076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428760" y="1285920"/>
            <a:ext cx="54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二元 一次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643040" y="1928880"/>
                <a:ext cx="24382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642960" y="357192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   由②式得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y=-3x+1.  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把③代入①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492360" y="4149720"/>
          <a:ext cx="302436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149720"/>
                    <a:ext cx="30243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5"/>
          <p:cNvSpPr/>
          <p:nvPr/>
        </p:nvSpPr>
        <p:spPr>
          <a:xfrm>
            <a:off x="4455720" y="2060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4312080" y="2708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14" descr="QQ截图20141118153031.png"/>
          <p:cNvPicPr/>
          <p:nvPr/>
        </p:nvPicPr>
        <p:blipFill>
          <a:blip r:embed="rId3"/>
          <a:stretch/>
        </p:blipFill>
        <p:spPr>
          <a:xfrm>
            <a:off x="0" y="35712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1"/>
          <p:cNvSpPr/>
          <p:nvPr/>
        </p:nvSpPr>
        <p:spPr>
          <a:xfrm>
            <a:off x="1143000" y="2428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把                       代入②式，得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143000" y="164304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解得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133720" y="1643040"/>
                <a:ext cx="1216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3" name="Object 10" descr=""/>
          <p:cNvPicPr/>
          <p:nvPr/>
        </p:nvPicPr>
        <p:blipFill>
          <a:blip r:embed="rId1"/>
          <a:stretch/>
        </p:blipFill>
        <p:spPr>
          <a:xfrm>
            <a:off x="1828800" y="2328840"/>
            <a:ext cx="1314360" cy="541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3"/>
          <p:cNvSpPr/>
          <p:nvPr/>
        </p:nvSpPr>
        <p:spPr>
          <a:xfrm>
            <a:off x="928800" y="3786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一个解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00720" y="3502080"/>
                <a:ext cx="12189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r>
                                <m:t xml:space="preserve">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435640" y="2349360"/>
                <a:ext cx="44280" cy="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500040" y="1071720"/>
            <a:ext cx="50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用代入法解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Object 5" descr=""/>
          <p:cNvPicPr/>
          <p:nvPr/>
        </p:nvPicPr>
        <p:blipFill>
          <a:blip r:embed="rId1"/>
          <a:stretch/>
        </p:blipFill>
        <p:spPr>
          <a:xfrm>
            <a:off x="2286000" y="1571760"/>
            <a:ext cx="251460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642960" y="3571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 从①式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Object 7" descr=""/>
          <p:cNvPicPr/>
          <p:nvPr/>
        </p:nvPicPr>
        <p:blipFill>
          <a:blip r:embed="rId2"/>
          <a:stretch/>
        </p:blipFill>
        <p:spPr>
          <a:xfrm>
            <a:off x="2928960" y="3214800"/>
            <a:ext cx="1623960" cy="101124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14" descr=""/>
          <p:cNvPicPr/>
          <p:nvPr/>
        </p:nvPicPr>
        <p:blipFill>
          <a:blip r:embed="rId3"/>
          <a:stretch/>
        </p:blipFill>
        <p:spPr>
          <a:xfrm>
            <a:off x="4514760" y="3213000"/>
            <a:ext cx="114480" cy="432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6"/>
          <p:cNvSpPr/>
          <p:nvPr/>
        </p:nvSpPr>
        <p:spPr>
          <a:xfrm>
            <a:off x="5171040" y="16430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5171040" y="2286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5171040" y="35719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16" descr="QQ截图20141118153031.png"/>
          <p:cNvPicPr/>
          <p:nvPr/>
        </p:nvPicPr>
        <p:blipFill>
          <a:blip r:embed="rId4"/>
          <a:stretch/>
        </p:blipFill>
        <p:spPr>
          <a:xfrm>
            <a:off x="0" y="0"/>
            <a:ext cx="22194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857160" y="164304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把③代入②式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29040" y="1500120"/>
            <a:ext cx="2387520" cy="9320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1"/>
          <p:cNvSpPr/>
          <p:nvPr/>
        </p:nvSpPr>
        <p:spPr>
          <a:xfrm>
            <a:off x="3708360" y="324324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解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y =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1500120" y="4071960"/>
            <a:ext cx="44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y=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代入③式，得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=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571680" y="5143680"/>
            <a:ext cx="43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因此原方程组的解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857840" y="4929120"/>
            <a:ext cx="14475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02:47:00Z</dcterms:created>
  <dc:creator/>
  <dc:description/>
  <cp:keywords/>
  <dc:language>en-US</dc:language>
  <cp:lastModifiedBy>徐华昌</cp:lastModifiedBy>
  <dcterms:modified xsi:type="dcterms:W3CDTF">2015-07-29T06:53:53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