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7.wmf" ContentType="image/x-wmf"/>
  <Override PartName="/ppt/media/image20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8.png" ContentType="image/png"/>
  <Override PartName="/ppt/media/image12.wmf" ContentType="image/x-wmf"/>
  <Override PartName="/ppt/media/image13.wmf" ContentType="image/x-wmf"/>
  <Override PartName="/ppt/media/image30.wmf" ContentType="image/x-wmf"/>
  <Override PartName="/ppt/media/image35.jpeg" ContentType="image/jpeg"/>
  <Override PartName="/ppt/media/image10.png" ContentType="image/png"/>
  <Override PartName="/ppt/media/image28.wmf" ContentType="image/x-wmf"/>
  <Override PartName="/ppt/media/image34.png" ContentType="image/png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6.gif" ContentType="image/gi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7.jpeg" ContentType="image/jpeg"/>
  <Override PartName="/ppt/media/image14.wmf" ContentType="image/x-wmf"/>
  <Override PartName="/ppt/media/image15.wmf" ContentType="image/x-wmf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329-8BE2-429F-B05B-3822B3DF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63B-3CF8-4894-A704-E56A7A25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FE1-B8D5-4A40-AE5B-890F0B8E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A11-0791-4A7E-A142-402F9BA9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6216-2E97-4F90-9AD1-7C033931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D40A-EB4D-4007-8641-2FB3DB7B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7DC-7A9D-4112-A7C5-D3C13FA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E26B-B0EF-4CAB-89A2-37EC23E5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F088-5856-43C7-AF0F-97A1017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6B80-4D91-48F5-BB0B-E023407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30E9-D5A5-4EF9-A893-BB9ED72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427-CDC2-4AF0-934B-73A47A3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325-318F-4B0A-8C47-CAC3F3C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E6EB-A0A1-4065-BC12-D15B98E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9115-7CBC-4B65-8569-7E06512B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B3B0-0F4D-4D30-8D7E-D34E6ABA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8409-926D-4427-B132-CC527BE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1E53-669A-4C79-99C9-1ECFBAAD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121C-4F7C-44BE-8BCB-A5E2B990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2122-C20C-4402-8058-FE129E14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63CB-5BE2-4DBA-AF23-8670B0E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97E8-B47B-4545-BB6B-D7C90C7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B47-1117-4AFC-9B59-1E53C234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06EA-2D10-4648-959B-8DBC0A6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1E56-7F11-4A17-A279-BE23C08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CD7C-DE26-461C-AC67-0466C69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5EB3-6DB5-4853-BD4F-BEAB6EA8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5779-9B1B-4E24-85E4-53DB5D14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2EB9-D2B9-436C-9D48-E0A4B41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73FC-A712-4AD9-866F-C2B80011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2F30-AC53-4F03-A532-CA870BAA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7749-403A-4A45-8C8C-C441C75E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EBA5-0B7D-44C7-8923-6AAC7DA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A8B-E0EA-4CD1-8CEC-824DC70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6F6E-AD87-40DE-81C8-BFE2E5C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F013-A56B-4A76-8978-D0F87FDD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8355-196E-4BC3-A1DB-936322D0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2131-A2B5-4ABA-A749-B7ECE72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7489-00A6-4128-8BB0-EF8AB790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EB8B-3AEB-447E-8936-E11EA2A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EDDD-E9EA-49BF-8A98-116C7D79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48EA-E125-457A-BD2A-23D5325B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EB54-D139-4C84-A3DD-9DC83A4A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E97CF-3D83-4783-8B7D-94DC8B84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B6B-63A1-474E-A7B6-DB407C99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6CD44-7093-4F12-906D-FB562506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AAF2-A831-4440-9C48-0E1A9EB2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08CF-6BEF-4BAE-A855-931326C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DE10-27CC-4607-819A-2F5919AD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ABAE-A91B-40B9-AF29-8FB2D72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A356-8B06-4A94-8A86-464674C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1415-1770-4DE5-9756-AAC9318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CF21-6BD4-4D58-ADAD-B7B4FB1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67C1-5E85-4DDE-B24C-C62F3FC2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C521-66F8-4458-B78F-EBF9509C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14D-1BF7-47DA-865A-AC21FF0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F1FF-278E-4631-A984-3CFE7DAE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ADA5-8397-465C-B5D0-82C4D203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0630-19F5-4DC1-975E-9E196E5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D6B6-83F9-4F31-9F3F-F37E8726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ABE9-FD7E-41E1-80FB-D3BD48A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04FA-C1FE-4AE5-967F-5F3FFA03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08DE-3E10-489F-9476-E655AB9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DF88-9953-4B83-84CF-3C2FFF4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2E306-A89C-4ECB-8E62-F53C4431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6BE3-6B55-44F4-99BE-E5AE69B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394-0A68-4EB7-9FB7-7DC8E3C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A4E8-6E1C-4BF6-904B-E7A83354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40A2-64E0-462A-A335-82616516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565E0-9AA2-4339-8C2C-011A339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A6A0-58DF-44D8-A0C4-1E494717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70A73-C65F-4004-8B83-239CD18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277B-4A3E-4B7E-8A3C-67E21A7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F7AC-51B8-470C-A26C-482710E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637C-0DD8-4E08-85B9-3CEF2D30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2175E-C7EA-41E3-B069-0D483C2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F8AD8-C6D3-44F1-977B-8282B31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2CF-831E-48CF-B323-FD764BF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3BD4-2347-4DB5-AED1-FFF933B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79FA-44A0-4010-8380-699A85A2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D57A4-50B5-4733-9477-ECFFE797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3128-58E6-4F2B-8A9D-B3B3D50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BDA7-D13F-481C-A449-4B22E915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D8C7-4648-4A3C-B1CC-8D9434BE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D82FF-865C-4E2C-A3F4-7399D64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51D5-8943-4024-883B-888A8DC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B5E33-9EBD-4B1C-BAF9-4B5802C8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B04E-6254-42FA-AC14-97F15B4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765-3060-4D7D-81A3-C905221A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EBE0-4F07-41F9-937A-B58256A9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9EE2C-940E-4E91-B7AA-588B407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4E33-C6D7-4E24-9FA7-6CF6DAA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D2DE8-8F6D-4C1E-B2B2-AE180C4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B5BD-9B4E-463E-9DB2-F386B570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2490-2720-4C5F-8DBD-95CBDB6B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8A4DD-441D-445A-AB41-3CB48C8F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2200" indent="-322200">
              <a:spcBef>
                <a:spcPts val="751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1" marL="696960" indent="-268200">
              <a:spcBef>
                <a:spcPts val="751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2" marL="1073160" indent="-216000">
              <a:spcBef>
                <a:spcPts val="751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3" marL="1501920" indent="-214560">
              <a:spcBef>
                <a:spcPts val="751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4" marL="1930320" indent="-214200">
              <a:spcBef>
                <a:spcPts val="751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5" marL="1930320" indent="-214200">
              <a:spcBef>
                <a:spcPts val="751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6" marL="1930320" indent="-214200">
              <a:spcBef>
                <a:spcPts val="751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AA17-060F-4AC9-ACA3-E3570837D2CC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5649840"/>
            <a:ext cx="7920000" cy="12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0AB-F51F-4ECA-AA25-EE4554D34A6B}" type="slidenum"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2200" indent="-322200">
              <a:spcBef>
                <a:spcPts val="550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1" marL="696960" indent="-268200">
              <a:spcBef>
                <a:spcPts val="550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2" marL="1073160" indent="-216000">
              <a:spcBef>
                <a:spcPts val="550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3" marL="1501920" indent="-214560">
              <a:spcBef>
                <a:spcPts val="550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4" marL="1930320" indent="-214200">
              <a:spcBef>
                <a:spcPts val="550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5" marL="1930320" indent="-214200">
              <a:spcBef>
                <a:spcPts val="550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6" marL="1930320" indent="-214200">
              <a:spcBef>
                <a:spcPts val="550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62208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3229-4362-4DD7-A499-2705601C8445}" type="slidenum"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01920" indent="-21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B4DD-1710-405D-81C0-404758A9EE80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579276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579276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79276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391520" y="5410080"/>
            <a:ext cx="165420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19C-0427-464B-9373-7582D551E4DF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7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8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7197-63F6-4821-B0FE-B8FBA4E604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AD5-8506-42EC-B59E-9ED677548C7D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F91-B49F-4123-9083-D68C92DC8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1640" y="2484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1.2.2   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加减消元法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41640" y="361008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课时  加减消元法（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522360" y="774720"/>
            <a:ext cx="638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用加减消元法解下列方程组：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322360" y="1494000"/>
            <a:ext cx="3327480" cy="865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736640" y="25304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6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1640" y="30700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32000" y="365436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97000" y="45529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050920" y="51404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921280" y="4959360"/>
            <a:ext cx="965160" cy="7621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378160" y="398520"/>
            <a:ext cx="3174840" cy="865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281480" y="4600440"/>
            <a:ext cx="914400" cy="762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185920" y="13590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5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16280" y="18986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16280" y="2440080"/>
            <a:ext cx="47242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×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16280" y="34034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17720" y="387828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012000" y="4554360"/>
            <a:ext cx="1092240" cy="1297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097000" y="126828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0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97360" y="3203640"/>
            <a:ext cx="1752480" cy="5842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2727360" y="1943280"/>
            <a:ext cx="4724280" cy="628560"/>
            <a:chOff x="2727360" y="1943280"/>
            <a:chExt cx="4724280" cy="628560"/>
          </a:xfrm>
        </p:grpSpPr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4998960" y="1987560"/>
              <a:ext cx="7876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727360" y="19432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 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81280" y="2440080"/>
            <a:ext cx="4724280" cy="674280"/>
            <a:chOff x="2681280" y="2440080"/>
            <a:chExt cx="4724280" cy="674280"/>
          </a:xfrm>
        </p:grpSpPr>
        <p:pic>
          <p:nvPicPr>
            <p:cNvPr id="478" name="" descr=""/>
            <p:cNvPicPr/>
            <p:nvPr/>
          </p:nvPicPr>
          <p:blipFill>
            <a:blip r:embed="rId4"/>
            <a:stretch/>
          </p:blipFill>
          <p:spPr>
            <a:xfrm>
              <a:off x="3085920" y="2531880"/>
              <a:ext cx="7876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2681280" y="24400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把</a:t>
              </a:r>
              <a:r>
                <a:rPr b="1" i="1" lang="zh-CN" sz="2500" spc="-1" strike="noStrike">
                  <a:solidFill>
                    <a:srgbClr val="0000ff"/>
                  </a:solidFill>
                  <a:latin typeface="Times New Roman"/>
                </a:rPr>
                <a:t>           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</a:t>
              </a: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</a:rPr>
                <a:t>①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得 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367000" y="3833640"/>
            <a:ext cx="4724280" cy="716040"/>
            <a:chOff x="2367000" y="3833640"/>
            <a:chExt cx="4724280" cy="716040"/>
          </a:xfrm>
        </p:grpSpPr>
        <p:pic>
          <p:nvPicPr>
            <p:cNvPr id="481" name="" descr=""/>
            <p:cNvPicPr/>
            <p:nvPr/>
          </p:nvPicPr>
          <p:blipFill>
            <a:blip r:embed="rId5"/>
            <a:stretch/>
          </p:blipFill>
          <p:spPr>
            <a:xfrm>
              <a:off x="4660920" y="3965400"/>
              <a:ext cx="9777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367000" y="383364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050920" y="486900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009520" y="189000"/>
            <a:ext cx="3698640" cy="1019160"/>
            <a:chOff x="2009520" y="189000"/>
            <a:chExt cx="3698640" cy="1019160"/>
          </a:xfrm>
        </p:grpSpPr>
        <p:pic>
          <p:nvPicPr>
            <p:cNvPr id="485" name="" descr=""/>
            <p:cNvPicPr/>
            <p:nvPr/>
          </p:nvPicPr>
          <p:blipFill>
            <a:blip r:embed="rId6"/>
            <a:stretch/>
          </p:blipFill>
          <p:spPr>
            <a:xfrm>
              <a:off x="2771640" y="233280"/>
              <a:ext cx="16653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"/>
            <a:stretch/>
          </p:blipFill>
          <p:spPr>
            <a:xfrm>
              <a:off x="2816280" y="773280"/>
              <a:ext cx="17096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2637000" y="324000"/>
              <a:ext cx="134640" cy="765000"/>
            </a:xfrm>
            <a:custGeom>
              <a:avLst/>
              <a:gdLst>
                <a:gd name="textAreaLeft" fmla="*/ 86040 w 134640"/>
                <a:gd name="textAreaRight" fmla="*/ 135000 w 134640"/>
                <a:gd name="textAreaTop" fmla="*/ 19800 h 765000"/>
                <a:gd name="textAreaBottom" fmla="*/ 74520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09520" y="41436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61f5b"/>
                  </a:solidFill>
                  <a:latin typeface="Times New Roman"/>
                </a:rPr>
                <a:t>(3)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86600" y="189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86600" y="68436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491" name="" descr=""/>
          <p:cNvPicPr/>
          <p:nvPr/>
        </p:nvPicPr>
        <p:blipFill>
          <a:blip r:embed="rId8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890720" y="2813040"/>
            <a:ext cx="21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别相加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6360" y="27068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176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已知方程组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14560" y="168588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17680" y="130644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x+3y=17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17320" y="2220840"/>
            <a:ext cx="16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x-3y=6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5840" y="1839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两个方程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52320" y="29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就可以消去未知数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908000" y="3429000"/>
            <a:ext cx="5486400" cy="0"/>
            <a:chOff x="1908000" y="3429000"/>
            <a:chExt cx="5486400" cy="0"/>
          </a:xfrm>
        </p:grpSpPr>
        <p:sp>
          <p:nvSpPr>
            <p:cNvPr id="501" name=""/>
            <p:cNvSpPr/>
            <p:nvPr/>
          </p:nvSpPr>
          <p:spPr>
            <a:xfrm>
              <a:off x="70135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800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377080" y="519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别相减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20000" y="5877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8920" y="4443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已知方程组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73520" y="4165560"/>
            <a:ext cx="457200" cy="1019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26280 h 1019160"/>
              <a:gd name="textAreaBottom" fmla="*/ 992880 h 10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81480" y="382428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5x-7y=16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27840" y="4775040"/>
            <a:ext cx="21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5x+6y=10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37960" y="4394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两个方程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9240" y="53751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就可以消去未知数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87640" y="5877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3080" y="526572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53197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296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只要两边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530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只要两边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162000" y="1314360"/>
            <a:ext cx="8466480" cy="2655360"/>
            <a:chOff x="162000" y="1314360"/>
            <a:chExt cx="8466480" cy="2655360"/>
          </a:xfrm>
        </p:grpSpPr>
        <p:sp>
          <p:nvSpPr>
            <p:cNvPr id="518" name=""/>
            <p:cNvSpPr/>
            <p:nvPr/>
          </p:nvSpPr>
          <p:spPr>
            <a:xfrm>
              <a:off x="162000" y="1771560"/>
              <a:ext cx="43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61f5b"/>
                  </a:solidFill>
                  <a:latin typeface="Times New Roman"/>
                </a:rPr>
                <a:t>1.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用加减法解方程组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28720" y="1542960"/>
              <a:ext cx="228240" cy="10670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3640" y="1314360"/>
              <a:ext cx="27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6x+7y=-19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33640" y="230544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6x-5y=17②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560" y="18766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应用（   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6400" y="2838960"/>
              <a:ext cx="20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A.①-②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消去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4320" y="283896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B.①-②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消去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14920" y="3449160"/>
              <a:ext cx="25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. ②- ①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消去常数项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64120" y="3449160"/>
              <a:ext cx="17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D.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以上都不对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948080" y="189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6280" y="457200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方程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2670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3840" y="403848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3x+2y=13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0520" y="510552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3x-2y=5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09880" y="4648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消去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后所得的方程是（  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43440" y="46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3280" y="5699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A.6x=8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5734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B.6x=18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03640" y="573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C.6x=5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04000" y="5699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D.x=18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108080" y="549360"/>
            <a:ext cx="75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</a:rPr>
              <a:t>指出下列方程组求解过程中有错误步骤，并给予订正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41280" y="1584360"/>
            <a:ext cx="36738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7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5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解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:①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2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　　　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0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99080" y="15210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24720" y="1413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Verdana"/>
              </a:rPr>
              <a:t>①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92360" y="270684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468560" y="1989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Verdana"/>
              </a:rPr>
              <a:t>②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78720" y="227664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1280" y="1854360"/>
            <a:ext cx="73080" cy="757080"/>
          </a:xfrm>
          <a:custGeom>
            <a:avLst/>
            <a:gdLst>
              <a:gd name="textAreaLeft" fmla="*/ 46800 w 73080"/>
              <a:gd name="textAreaRight" fmla="*/ 73440 w 73080"/>
              <a:gd name="textAreaTop" fmla="*/ 19440 h 757080"/>
              <a:gd name="textAreaBottom" fmla="*/ 73764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78440" y="162864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57720" y="1494000"/>
            <a:ext cx="3816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3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1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5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＋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解　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①－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　　－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2x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　　　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x 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＝－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32000" y="4599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①－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x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03640" y="484488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①＋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8x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2000" y="5400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270828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要步骤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76640" y="216864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2640" y="19162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基本思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79640" y="5051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写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79640" y="440064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求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79640" y="371628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加减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59280" y="19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二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2000" y="1882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一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18240" y="18986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加减消元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2360" y="36990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消去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73520" y="4419720"/>
            <a:ext cx="21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求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未知数的值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45240" y="504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写出方程组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863640"/>
            <a:ext cx="81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加减消元法解方程组基本思路是什么？主要步骤有哪些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43280" y="270684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变形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492080" y="2438280"/>
            <a:ext cx="2100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同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未知数的系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相同或互为相反数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997360" y="302436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1640" y="401472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22720" y="4734000"/>
            <a:ext cx="698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1640" y="531972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5913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二元一次方程组解法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02720" y="5905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代入法、加减法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1819440" cy="609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577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67000" y="54936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、解二元一次方程组的基本思路是什么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67000" y="12225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基本思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03440" y="11606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消元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61f5b"/>
                </a:solidFill>
                <a:latin typeface="Verdana"/>
              </a:rPr>
              <a:t>二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2720" y="146376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83440" y="11095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一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10400" y="2035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、用代入法解方程的步骤是什么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2360" y="2522520"/>
            <a:ext cx="22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主要步骤：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10440" y="26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变形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7360" y="37828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代入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67000" y="4842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求解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22360" y="56991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写解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07656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13532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57720" y="5145120"/>
            <a:ext cx="936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2000" y="605160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2760" y="2421000"/>
            <a:ext cx="180648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Verdana"/>
              </a:rPr>
              <a:t>用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一个未知数</a:t>
            </a:r>
            <a:r>
              <a:rPr b="1" lang="zh-CN" sz="3200" spc="-1" strike="noStrike">
                <a:solidFill>
                  <a:srgbClr val="061f5b"/>
                </a:solidFill>
                <a:latin typeface="Verdana"/>
              </a:rPr>
              <a:t>的代数式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另一个未知数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67360" y="37321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消去一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元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1960" y="46911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分别求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个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未知数的值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2600" y="5497560"/>
            <a:ext cx="18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写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程组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的解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-15840" y="54000"/>
            <a:ext cx="204480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76280" y="1044720"/>
            <a:ext cx="24303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怎样解下面的二元一次方程组呢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1640" y="1179360"/>
            <a:ext cx="3371760" cy="1052280"/>
            <a:chOff x="3041640" y="1179360"/>
            <a:chExt cx="3371760" cy="1052280"/>
          </a:xfrm>
        </p:grpSpPr>
        <p:graphicFrame>
          <p:nvGraphicFramePr>
            <p:cNvPr id="382" name=""/>
            <p:cNvGraphicFramePr/>
            <p:nvPr/>
          </p:nvGraphicFramePr>
          <p:xfrm>
            <a:off x="3041640" y="1179360"/>
            <a:ext cx="2802600" cy="102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1640" y="1179360"/>
                      <a:ext cx="2802600" cy="102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4" name=""/>
            <p:cNvSpPr/>
            <p:nvPr/>
          </p:nvSpPr>
          <p:spPr>
            <a:xfrm>
              <a:off x="5965920" y="125316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20816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65920" y="17719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20816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810440" y="3069000"/>
            <a:ext cx="47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＋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2x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－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）＝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1 +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27360" y="365436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610080"/>
            <a:ext cx="13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27720" y="3610080"/>
            <a:ext cx="4478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47000" y="361008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63080" y="4105440"/>
            <a:ext cx="48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左边  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  ②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左边  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=  ①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右边 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  ②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右边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91000" y="478008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 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－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7360" y="5319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206280" y="324000"/>
            <a:ext cx="20764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26920" y="4112280"/>
            <a:ext cx="477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以原方程组的解是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5472000" y="4151160"/>
          <a:ext cx="1967040" cy="17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2000" y="4151160"/>
                    <a:ext cx="1967040" cy="17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411000" y="39312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61f5b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376360" y="298440"/>
            <a:ext cx="3829320" cy="1510920"/>
            <a:chOff x="2376360" y="298440"/>
            <a:chExt cx="3829320" cy="1510920"/>
          </a:xfrm>
        </p:grpSpPr>
        <p:graphicFrame>
          <p:nvGraphicFramePr>
            <p:cNvPr id="401" name=""/>
            <p:cNvGraphicFramePr/>
            <p:nvPr/>
          </p:nvGraphicFramePr>
          <p:xfrm>
            <a:off x="2376360" y="298440"/>
            <a:ext cx="3245040" cy="151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76360" y="298440"/>
                      <a:ext cx="3245040" cy="151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5758200" y="40716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58920" y="11703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11280" y="173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79640" y="274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入①，得 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54280" y="2163600"/>
            <a:ext cx="12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99880" y="3359160"/>
            <a:ext cx="12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1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2000" y="414360"/>
            <a:ext cx="64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如何解下述二元一次方程组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311640" y="907920"/>
          <a:ext cx="3187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907920"/>
                    <a:ext cx="318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927000" y="2079360"/>
            <a:ext cx="2835360" cy="1663560"/>
            <a:chOff x="927000" y="2079360"/>
            <a:chExt cx="2835360" cy="1663560"/>
          </a:xfrm>
        </p:grpSpPr>
        <p:sp>
          <p:nvSpPr>
            <p:cNvPr id="414" name=""/>
            <p:cNvSpPr/>
            <p:nvPr/>
          </p:nvSpPr>
          <p:spPr>
            <a:xfrm flipH="1" flipV="1">
              <a:off x="926640" y="2079000"/>
              <a:ext cx="2835360" cy="1663560"/>
            </a:xfrm>
            <a:prstGeom prst="wedgeRoundRectCallout">
              <a:avLst>
                <a:gd name="adj1" fmla="val 50555"/>
                <a:gd name="adj2" fmla="val -11240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从②得，        ，</a:t>
              </a: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再代入①，得</a:t>
              </a: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这就把</a:t>
              </a:r>
              <a:r>
                <a:rPr b="1" i="1" lang="zh-CN" sz="20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消去了！</a:t>
              </a: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2187360" y="2079720"/>
            <a:ext cx="979560" cy="41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7360" y="2079720"/>
                      <a:ext cx="9795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287360" y="2889360"/>
            <a:ext cx="157644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87360" y="2889360"/>
                      <a:ext cx="1576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9" name=""/>
          <p:cNvSpPr/>
          <p:nvPr/>
        </p:nvSpPr>
        <p:spPr>
          <a:xfrm flipH="1" flipV="1">
            <a:off x="4346640" y="2123280"/>
            <a:ext cx="3511440" cy="1754280"/>
          </a:xfrm>
          <a:prstGeom prst="wedgeRoundRectCallout">
            <a:avLst>
              <a:gd name="adj1" fmla="val 64740"/>
              <a:gd name="adj2" fmla="val -986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她得到的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的方程也就是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+17</a:t>
            </a:r>
            <a:r>
              <a:rPr b="1" lang="en-US" sz="20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+5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=9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这不就可以直接从②得，               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     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=3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+17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然后把它代入①吗？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4345920" y="4958640"/>
            <a:ext cx="3708360" cy="1397160"/>
          </a:xfrm>
          <a:prstGeom prst="wedgeRoundRectCallout">
            <a:avLst>
              <a:gd name="adj1" fmla="val 64166"/>
              <a:gd name="adj2" fmla="val 54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方程①和②中都有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i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为了消去</a:t>
            </a:r>
            <a:r>
              <a:rPr b="1" i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，干脆把方程①减去方程②就可以了！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47720" y="4689360"/>
            <a:ext cx="287964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050920" y="593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862360" y="1089000"/>
          <a:ext cx="373356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1089000"/>
                    <a:ext cx="37335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 flipH="1" flipV="1">
            <a:off x="6396840" y="2032920"/>
            <a:ext cx="2746440" cy="988920"/>
          </a:xfrm>
          <a:prstGeom prst="wedgeRoundRectCallout">
            <a:avLst>
              <a:gd name="adj1" fmla="val 107453"/>
              <a:gd name="adj2" fmla="val 68134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  <a:ea typeface="黑体"/>
              </a:rPr>
              <a:t>    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   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两个方程中的未知数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的系数互为相反数，可以消去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60400" y="2259000"/>
            <a:ext cx="5189400" cy="489960"/>
            <a:chOff x="860400" y="2259000"/>
            <a:chExt cx="5189400" cy="489960"/>
          </a:xfrm>
        </p:grpSpPr>
        <p:sp>
          <p:nvSpPr>
            <p:cNvPr id="427" name=""/>
            <p:cNvSpPr/>
            <p:nvPr/>
          </p:nvSpPr>
          <p:spPr>
            <a:xfrm>
              <a:off x="860400" y="225900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解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25520" y="2259000"/>
              <a:ext cx="4724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①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</a:rPr>
                <a:t>②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得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411280" y="2259000"/>
            <a:ext cx="220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336280" y="3384000"/>
            <a:ext cx="3015000" cy="492120"/>
          </a:xfrm>
          <a:prstGeom prst="wedgeRoundRectCallout">
            <a:avLst>
              <a:gd name="adj1" fmla="val 82699"/>
              <a:gd name="adj2" fmla="val 21709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7</a:t>
            </a:r>
            <a:r>
              <a:rPr b="1" i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+3</a:t>
            </a:r>
            <a:r>
              <a:rPr b="1" i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+</a:t>
            </a:r>
            <a:r>
              <a:rPr b="1" lang="en-US" sz="22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i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en-US" sz="2200" spc="-1" strike="noStrike">
                <a:solidFill>
                  <a:srgbClr val="061f5b"/>
                </a:solidFill>
                <a:latin typeface="黑体"/>
                <a:ea typeface="黑体"/>
              </a:rPr>
              <a:t>-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3y</a:t>
            </a:r>
            <a:r>
              <a:rPr b="1" lang="en-US" sz="22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=1+8</a:t>
            </a:r>
            <a:r>
              <a:rPr b="1" lang="zh-CN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06640" y="29336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27000" y="356400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      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7×1+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455436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11280" y="5138640"/>
            <a:ext cx="5410080" cy="1234800"/>
            <a:chOff x="611280" y="5138640"/>
            <a:chExt cx="5410080" cy="1234800"/>
          </a:xfrm>
        </p:grpSpPr>
        <p:sp>
          <p:nvSpPr>
            <p:cNvPr id="435" name=""/>
            <p:cNvSpPr/>
            <p:nvPr/>
          </p:nvSpPr>
          <p:spPr>
            <a:xfrm>
              <a:off x="611280" y="5138640"/>
              <a:ext cx="5410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109960" y="5610600"/>
                  <a:ext cx="914400" cy="76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27000" y="27936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106640" y="863640"/>
            <a:ext cx="787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在上面的方程组中，把方程①减去②，或者把方程①与②相加，便消去了一个未知数。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205200" y="2349360"/>
            <a:ext cx="2521080" cy="1438560"/>
          </a:xfrm>
          <a:prstGeom prst="wedgeRoundRectCallout">
            <a:avLst>
              <a:gd name="adj1" fmla="val 39796"/>
              <a:gd name="adj2" fmla="val -127375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300" spc="-1" strike="noStrike">
                <a:solidFill>
                  <a:srgbClr val="061f5b"/>
                </a:solidFill>
                <a:latin typeface="黑体"/>
                <a:ea typeface="黑体"/>
              </a:rPr>
              <a:t>被消去的未知数系数相等或互为相反数</a:t>
            </a:r>
            <a:r>
              <a:rPr b="1" lang="en-US" sz="23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3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57200" y="279360"/>
            <a:ext cx="77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Times New Roman"/>
                <a:ea typeface="黑体"/>
              </a:rPr>
              <a:t>    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上面四个方程组中，是如何消去一个未知数的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27360" y="2438280"/>
            <a:ext cx="62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消去一个未知数的方法是：如果两个方程中有一个未知数的系数相等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或互为相反数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那么把这两个方程相减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或相加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；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22360" y="17636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被消去的未知数的系数有什么特点？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02000" y="4373640"/>
            <a:ext cx="5580000" cy="11397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这种解二元一次方程组的方法叫做</a:t>
            </a:r>
            <a:r>
              <a:rPr b="1" lang="zh-CN" sz="2500" spc="-1" strike="noStrike">
                <a:solidFill>
                  <a:srgbClr val="ff0066"/>
                </a:solidFill>
                <a:latin typeface="黑体"/>
                <a:ea typeface="黑体"/>
              </a:rPr>
              <a:t>加减消元法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简称</a:t>
            </a:r>
            <a:r>
              <a:rPr b="1" lang="zh-CN" sz="2500" spc="-1" strike="noStrike">
                <a:solidFill>
                  <a:srgbClr val="ff0066"/>
                </a:solidFill>
                <a:latin typeface="黑体"/>
                <a:ea typeface="黑体"/>
              </a:rPr>
              <a:t>加减法</a:t>
            </a:r>
            <a:r>
              <a:rPr b="1" lang="zh-CN" sz="25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97000" y="4959360"/>
            <a:ext cx="1574640" cy="15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571680" y="92880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用加减法解二元一次方程组：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6" name="图片 2" descr="QQ截图20141118153031.png"/>
          <p:cNvPicPr/>
          <p:nvPr/>
        </p:nvPicPr>
        <p:blipFill>
          <a:blip r:embed="rId1"/>
          <a:stretch/>
        </p:blipFill>
        <p:spPr>
          <a:xfrm>
            <a:off x="0" y="0"/>
            <a:ext cx="2219400" cy="743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649600" y="1643040"/>
            <a:ext cx="2397240" cy="11509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642960" y="35002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分析：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714680" y="350028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两个方程中没有同一个未知数的系数相同或相反，直接加减这两个方程不能消去任一个未知数，但如果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式两边都乘以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，所得方程与方程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的系数相同，这样就可以用加减法来解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5929200" y="1671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1" name="Text Box 16"/>
          <p:cNvSpPr/>
          <p:nvPr/>
        </p:nvSpPr>
        <p:spPr>
          <a:xfrm>
            <a:off x="5929200" y="23572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176480" y="1562040"/>
            <a:ext cx="596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×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，得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6x+9y=-33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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得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-14y=42,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解得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y=-3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把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y=-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代入</a:t>
            </a:r>
            <a:r>
              <a:rPr b="0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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式，得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2x+3×(-3)=-11,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解得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x=-1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因此原方程的解是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302000" y="4103640"/>
            <a:ext cx="1978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3:32:55Z</dcterms:created>
  <dc:creator>www.czsx.com.cn</dc:creator>
  <dc:description>www.czsx.com.cn</dc:description>
  <cp:keywords>www.czsx.com.cn</cp:keywords>
  <dc:language>en-US</dc:language>
  <cp:lastModifiedBy>pc</cp:lastModifiedBy>
  <dcterms:modified xsi:type="dcterms:W3CDTF">2014-11-28T02:13:17Z</dcterms:modified>
  <cp:revision>172</cp:revision>
  <dc:subject>www.czsx.com.cn</dc:subject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