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8.jpeg" ContentType="image/jpeg"/>
  <Override PartName="/ppt/media/image27.jpeg" ContentType="image/jpeg"/>
  <Override PartName="/ppt/media/image10.png" ContentType="image/png"/>
  <Override PartName="/ppt/media/image4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type.wav" ContentType="audio/x-wav"/>
  <Override PartName="/ppt/media/image16.jpeg" ContentType="image/jpeg"/>
  <Override PartName="/ppt/media/chimes.wav" ContentType="audio/x-wav"/>
  <Override PartName="/ppt/media/image2.wmf" ContentType="image/x-wmf"/>
  <Override PartName="/ppt/media/image15.jpeg" ContentType="image/jpeg"/>
  <Override PartName="/ppt/media/image25.wmf" ContentType="image/x-wmf"/>
  <Override PartName="/ppt/media/image9.jpeg" ContentType="image/jpeg"/>
  <Override PartName="/ppt/media/image23.wmf" ContentType="image/x-wmf"/>
  <Override PartName="/ppt/media/image28.jpeg" ContentType="image/jpeg"/>
  <Override PartName="/ppt/media/image7.jpeg" ContentType="image/jpeg"/>
  <Override PartName="/ppt/media/image1.wmf" ContentType="image/x-wmf"/>
  <Override PartName="/ppt/media/image24.wmf" ContentType="image/x-wmf"/>
  <Override PartName="/ppt/media/image12.wmf" ContentType="image/x-wmf"/>
  <Override PartName="/ppt/media/image13.jpeg" ContentType="image/jpeg"/>
  <Override PartName="/ppt/media/image18.gif" ContentType="image/gif"/>
  <Override PartName="/ppt/media/image14.jpeg" ContentType="image/jpeg"/>
  <Override PartName="/ppt/media/image21.png" ContentType="image/png"/>
  <Override PartName="/ppt/media/image1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529-0FCE-475B-921C-8ED21198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216-E799-4982-A572-DFCB7055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81E-54AE-4BD2-AAB6-FC7E3927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7A8-C90C-4221-9BAD-151E19A7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D9B3-D0F4-4C03-B92D-0127F264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CB65-5685-4021-BC3E-7CCF198D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84C6-1597-4EEC-A859-8E7D4B20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5857-8CB5-4483-BD1E-A5DB1258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4A53-B7DF-49A4-8139-5019DD8D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683E-CF08-4BC2-A03F-383DE52C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3B86-2769-4D21-BF46-417A8B9B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A4B-F32E-4E3C-A3D5-B33AF69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507E-9276-463E-BF27-8D9BEE42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0C42-B85F-40F6-920A-8618263E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FA0A-E6CB-49D2-A5A9-6ECE717B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BC9C-43D3-4D95-8B65-50FF8E70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2F8C-2993-47D9-BCAD-BF0EB7D7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B327-0ECF-4820-9DBC-4457E3D3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60A5-F38D-4ADC-A80D-2E71842B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5F896-8432-493F-B332-0D59AE60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FF8C-DF4B-4673-910D-BB758DD5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4B27-0C5B-408D-80A9-69E4EEDB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A5E-7167-4CE8-AE2A-2A2D0623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2D11-D573-4BDA-BB29-A8DC810E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91A1-F0FD-4478-821D-5EC8C25F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8810-3274-4544-A3D8-7156F19C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96A3-5E45-473D-86D0-E3715309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67E0-2A62-40E6-805A-E84710A8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DBC3-C305-44D5-B23F-695066F3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B221-8442-473F-9BCD-8C9F583D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1804-58B4-4143-A876-E37FAE9E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6320F-CB88-4562-9DEE-E3409266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CFD68-BC44-4AB9-9C42-E7F096BB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B93-37AF-4156-88AD-BB36A42B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E0A2-0D26-4532-9CDB-75C742A5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FEFA7-8960-42AE-B6DB-77728F0E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54161-D142-4969-8036-2B98FFD2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87AD-1669-490B-A485-4AF45DE0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A1F5B-3D6D-420F-9D0B-4BBC4EFE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9DF6A-C28C-4D1C-9961-E89BCC46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18FDC-9F33-41D7-A51F-A33C2801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5DBE-312B-42C4-85A8-02BE5FDD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C2E7-1E63-4E42-9306-62A74DDA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99E92-AE41-4454-9687-AC2098FC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846-C1AF-4E6A-9B68-E68E23CE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42267-98AA-4BA9-8D78-B7EC88C9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0E880-21DB-4F2C-999D-1078B49A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16373-8A63-4035-80A3-7019046F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E849B-A2CA-45BA-927B-98D42D9D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D01C9-611F-42E6-95F2-FF904762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F329-7251-4D4B-9B92-2C21ACC3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6AD4E-46D4-4FA8-B5D3-10859598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05D5B-B612-43FF-A0FF-C1EFD1E8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F4627-9D4D-40C8-A6AA-F4558709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99DB6-24A9-451E-B8B5-B7FE24DC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CB5-DCAA-464E-8A14-449958F6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8EE9D-981D-4721-BF1C-C923F8D4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82C3D-2857-4EA4-951A-C2AC8FB2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739F1-353C-4B7E-94A4-EE5E7F10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E0F06-484F-44F4-8A76-958D302D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6B655-676F-413D-8F78-C6787A22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85F5E-6A9D-46D2-AB08-2A1C3DC9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C013C-E8F9-47D8-BF70-54CBF901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65FD8-F224-430F-B07F-87068098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1A3F6-94AB-4DF1-BB50-8D19AF5E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7F86C-A7F7-4D49-A7CF-5B3498B4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168-859E-471A-B9B4-11E40779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C439-AE50-474A-838F-C453021C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5B8AF-7DDB-43AD-8964-AB990F8E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729D4-A4FE-4312-98E3-84AC4F89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14EFE-BE0B-4B60-81BD-07AA377C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C4993-8E1A-41FD-9571-4B7E4426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0CF5F-8136-4189-A9B9-155C62D6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24581-0EF1-405B-89CD-9B553AAA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E2FD7-B197-46AA-B6F1-AE1D6FEB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4A39B-97B6-495C-80A8-323C2C65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A8C05-AD7E-4691-889E-82245EF3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B6E-6F03-425D-8C64-C17AD563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5CD08-CCF6-42F0-A6B5-D78D288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26B4A-95D5-4D8C-9FA6-8373AC8D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E5D8D-76F8-4FEB-AB7B-E5B890B4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CB623-E451-4FDD-ABB4-652B7C9C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D910B-4A4E-4DA8-B58A-5D45E1F6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268-32A3-48AC-B4B7-ECDC52B0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125A-AA94-45BC-977E-41E6099269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5649840"/>
            <a:ext cx="7920000" cy="120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BDE1-3045-43C5-BC16-A21CB6CFAD5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7308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6200" y="62064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35AF-427F-4C29-89D6-812B8C02ED2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0BD2-FACB-44FD-A520-D63F16478D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762120" cy="635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740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791320"/>
            <a:ext cx="914400" cy="9144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209680" y="5867280"/>
            <a:ext cx="55260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219320" y="6041880"/>
            <a:ext cx="609480" cy="435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315200" y="5029200"/>
            <a:ext cx="1752480" cy="175248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7391520" y="5410080"/>
            <a:ext cx="1654200" cy="13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EB10-7999-45E0-96D7-1A6A62E0A7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A4AC-6FC2-49C1-A8F5-5C15D9161E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93D7-F498-4228-9081-F977E97D86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07000" y="4373640"/>
            <a:ext cx="4686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62360" y="2889360"/>
            <a:ext cx="477036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方正舒体"/>
              </a:rPr>
              <a:t>建立二元一次方程组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方正舒体"/>
              <a:ea typeface="方正舒体"/>
            </a:endParaRPr>
          </a:p>
        </p:txBody>
      </p:sp>
      <p:sp>
        <p:nvSpPr>
          <p:cNvPr id="313" name=""/>
          <p:cNvSpPr/>
          <p:nvPr/>
        </p:nvSpPr>
        <p:spPr>
          <a:xfrm>
            <a:off x="3811680" y="20066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087720" y="954000"/>
            <a:ext cx="180036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13160" y="3985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19520" y="1246320"/>
            <a:ext cx="1077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41320" y="819000"/>
            <a:ext cx="611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湘教版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SHUXU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七年级（下）</a:t>
            </a:r>
            <a:endParaRPr b="0" lang="en-US" sz="3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31640" y="2394000"/>
            <a:ext cx="2114280" cy="1452240"/>
            <a:chOff x="431640" y="2394000"/>
            <a:chExt cx="2114280" cy="1452240"/>
          </a:xfrm>
        </p:grpSpPr>
        <p:grpSp>
          <p:nvGrpSpPr>
            <p:cNvPr id="319" name=""/>
            <p:cNvGrpSpPr/>
            <p:nvPr/>
          </p:nvGrpSpPr>
          <p:grpSpPr>
            <a:xfrm>
              <a:off x="431640" y="2394000"/>
              <a:ext cx="2114280" cy="1452240"/>
              <a:chOff x="431640" y="2394000"/>
              <a:chExt cx="2114280" cy="14522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6960" y="3288600"/>
                <a:ext cx="2028960" cy="557640"/>
              </a:xfrm>
              <a:prstGeom prst="ellipse">
                <a:avLst/>
              </a:prstGeom>
              <a:solidFill>
                <a:srgbClr val="cc99ff"/>
              </a:soli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5880" y="2395440"/>
                <a:ext cx="1572840" cy="125100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4080" y="2394000"/>
                <a:ext cx="1575720" cy="1255680"/>
              </a:xfrm>
              <a:custGeom>
                <a:avLst/>
                <a:gdLst/>
                <a:ahLst/>
                <a:rect l="l" t="t" r="r" b="b"/>
                <a:pathLst>
                  <a:path w="10179" h="8426">
                    <a:moveTo>
                      <a:pt x="8579" y="8410"/>
                    </a:moveTo>
                    <a:lnTo>
                      <a:pt x="8579" y="8394"/>
                    </a:lnTo>
                    <a:lnTo>
                      <a:pt x="1600" y="8394"/>
                    </a:lnTo>
                    <a:lnTo>
                      <a:pt x="1519" y="8392"/>
                    </a:lnTo>
                    <a:lnTo>
                      <a:pt x="1441" y="8387"/>
                    </a:lnTo>
                    <a:lnTo>
                      <a:pt x="1362" y="8376"/>
                    </a:lnTo>
                    <a:lnTo>
                      <a:pt x="1284" y="8362"/>
                    </a:lnTo>
                    <a:lnTo>
                      <a:pt x="1208" y="8346"/>
                    </a:lnTo>
                    <a:lnTo>
                      <a:pt x="1135" y="8324"/>
                    </a:lnTo>
                    <a:lnTo>
                      <a:pt x="1063" y="8300"/>
                    </a:lnTo>
                    <a:lnTo>
                      <a:pt x="990" y="8270"/>
                    </a:lnTo>
                    <a:lnTo>
                      <a:pt x="919" y="8240"/>
                    </a:lnTo>
                    <a:lnTo>
                      <a:pt x="852" y="8205"/>
                    </a:lnTo>
                    <a:lnTo>
                      <a:pt x="787" y="8168"/>
                    </a:lnTo>
                    <a:lnTo>
                      <a:pt x="723" y="8127"/>
                    </a:lnTo>
                    <a:lnTo>
                      <a:pt x="661" y="8081"/>
                    </a:lnTo>
                    <a:lnTo>
                      <a:pt x="604" y="8035"/>
                    </a:lnTo>
                    <a:lnTo>
                      <a:pt x="544" y="7987"/>
                    </a:lnTo>
                    <a:lnTo>
                      <a:pt x="490" y="7936"/>
                    </a:lnTo>
                    <a:lnTo>
                      <a:pt x="439" y="7879"/>
                    </a:lnTo>
                    <a:lnTo>
                      <a:pt x="391" y="7823"/>
                    </a:lnTo>
                    <a:lnTo>
                      <a:pt x="342" y="7763"/>
                    </a:lnTo>
                    <a:lnTo>
                      <a:pt x="299" y="7701"/>
                    </a:lnTo>
                    <a:lnTo>
                      <a:pt x="258" y="7639"/>
                    </a:lnTo>
                    <a:lnTo>
                      <a:pt x="221" y="7572"/>
                    </a:lnTo>
                    <a:lnTo>
                      <a:pt x="185" y="7505"/>
                    </a:lnTo>
                    <a:lnTo>
                      <a:pt x="153" y="7436"/>
                    </a:lnTo>
                    <a:lnTo>
                      <a:pt x="126" y="7364"/>
                    </a:lnTo>
                    <a:lnTo>
                      <a:pt x="102" y="7291"/>
                    </a:lnTo>
                    <a:lnTo>
                      <a:pt x="81" y="7218"/>
                    </a:lnTo>
                    <a:lnTo>
                      <a:pt x="61" y="7139"/>
                    </a:lnTo>
                    <a:lnTo>
                      <a:pt x="48" y="7065"/>
                    </a:lnTo>
                    <a:lnTo>
                      <a:pt x="40" y="6987"/>
                    </a:lnTo>
                    <a:lnTo>
                      <a:pt x="32" y="6906"/>
                    </a:lnTo>
                    <a:lnTo>
                      <a:pt x="32" y="6824"/>
                    </a:lnTo>
                    <a:lnTo>
                      <a:pt x="32" y="1602"/>
                    </a:lnTo>
                    <a:lnTo>
                      <a:pt x="32" y="1522"/>
                    </a:lnTo>
                    <a:lnTo>
                      <a:pt x="40" y="1443"/>
                    </a:lnTo>
                    <a:lnTo>
                      <a:pt x="48" y="1365"/>
                    </a:lnTo>
                    <a:lnTo>
                      <a:pt x="61" y="1287"/>
                    </a:lnTo>
                    <a:lnTo>
                      <a:pt x="81" y="1211"/>
                    </a:lnTo>
                    <a:lnTo>
                      <a:pt x="102" y="1135"/>
                    </a:lnTo>
                    <a:lnTo>
                      <a:pt x="126" y="1062"/>
                    </a:lnTo>
                    <a:lnTo>
                      <a:pt x="153" y="992"/>
                    </a:lnTo>
                    <a:lnTo>
                      <a:pt x="185" y="923"/>
                    </a:lnTo>
                    <a:lnTo>
                      <a:pt x="221" y="855"/>
                    </a:lnTo>
                    <a:lnTo>
                      <a:pt x="258" y="790"/>
                    </a:lnTo>
                    <a:lnTo>
                      <a:pt x="299" y="725"/>
                    </a:lnTo>
                    <a:lnTo>
                      <a:pt x="342" y="663"/>
                    </a:lnTo>
                    <a:lnTo>
                      <a:pt x="391" y="604"/>
                    </a:lnTo>
                    <a:lnTo>
                      <a:pt x="439" y="548"/>
                    </a:lnTo>
                    <a:lnTo>
                      <a:pt x="490" y="493"/>
                    </a:lnTo>
                    <a:lnTo>
                      <a:pt x="544" y="442"/>
                    </a:lnTo>
                    <a:lnTo>
                      <a:pt x="604" y="391"/>
                    </a:lnTo>
                    <a:lnTo>
                      <a:pt x="661" y="345"/>
                    </a:lnTo>
                    <a:lnTo>
                      <a:pt x="723" y="302"/>
                    </a:lnTo>
                    <a:lnTo>
                      <a:pt x="787" y="262"/>
                    </a:lnTo>
                    <a:lnTo>
                      <a:pt x="852" y="224"/>
                    </a:lnTo>
                    <a:lnTo>
                      <a:pt x="919" y="189"/>
                    </a:lnTo>
                    <a:lnTo>
                      <a:pt x="990" y="156"/>
                    </a:lnTo>
                    <a:lnTo>
                      <a:pt x="1063" y="129"/>
                    </a:lnTo>
                    <a:lnTo>
                      <a:pt x="1135" y="105"/>
                    </a:lnTo>
                    <a:lnTo>
                      <a:pt x="1208" y="83"/>
                    </a:lnTo>
                    <a:lnTo>
                      <a:pt x="1284" y="64"/>
                    </a:lnTo>
                    <a:lnTo>
                      <a:pt x="1362" y="51"/>
                    </a:lnTo>
                    <a:lnTo>
                      <a:pt x="1441" y="40"/>
                    </a:lnTo>
                    <a:lnTo>
                      <a:pt x="1519" y="35"/>
                    </a:lnTo>
                    <a:lnTo>
                      <a:pt x="1600" y="32"/>
                    </a:lnTo>
                    <a:lnTo>
                      <a:pt x="8579" y="32"/>
                    </a:lnTo>
                    <a:lnTo>
                      <a:pt x="8657" y="35"/>
                    </a:lnTo>
                    <a:lnTo>
                      <a:pt x="8738" y="40"/>
                    </a:lnTo>
                    <a:lnTo>
                      <a:pt x="8816" y="51"/>
                    </a:lnTo>
                    <a:lnTo>
                      <a:pt x="8895" y="64"/>
                    </a:lnTo>
                    <a:lnTo>
                      <a:pt x="8970" y="83"/>
                    </a:lnTo>
                    <a:lnTo>
                      <a:pt x="9043" y="105"/>
                    </a:lnTo>
                    <a:lnTo>
                      <a:pt x="9116" y="129"/>
                    </a:lnTo>
                    <a:lnTo>
                      <a:pt x="9189" y="156"/>
                    </a:lnTo>
                    <a:lnTo>
                      <a:pt x="9259" y="189"/>
                    </a:lnTo>
                    <a:lnTo>
                      <a:pt x="9326" y="224"/>
                    </a:lnTo>
                    <a:lnTo>
                      <a:pt x="9391" y="262"/>
                    </a:lnTo>
                    <a:lnTo>
                      <a:pt x="9456" y="302"/>
                    </a:lnTo>
                    <a:lnTo>
                      <a:pt x="9516" y="345"/>
                    </a:lnTo>
                    <a:lnTo>
                      <a:pt x="9574" y="391"/>
                    </a:lnTo>
                    <a:lnTo>
                      <a:pt x="9631" y="442"/>
                    </a:lnTo>
                    <a:lnTo>
                      <a:pt x="9688" y="493"/>
                    </a:lnTo>
                    <a:lnTo>
                      <a:pt x="9739" y="548"/>
                    </a:lnTo>
                    <a:lnTo>
                      <a:pt x="9788" y="604"/>
                    </a:lnTo>
                    <a:lnTo>
                      <a:pt x="9836" y="663"/>
                    </a:lnTo>
                    <a:lnTo>
                      <a:pt x="9880" y="725"/>
                    </a:lnTo>
                    <a:lnTo>
                      <a:pt x="9919" y="790"/>
                    </a:lnTo>
                    <a:lnTo>
                      <a:pt x="9958" y="855"/>
                    </a:lnTo>
                    <a:lnTo>
                      <a:pt x="9993" y="923"/>
                    </a:lnTo>
                    <a:lnTo>
                      <a:pt x="10025" y="992"/>
                    </a:lnTo>
                    <a:lnTo>
                      <a:pt x="10052" y="1062"/>
                    </a:lnTo>
                    <a:lnTo>
                      <a:pt x="10076" y="1135"/>
                    </a:lnTo>
                    <a:lnTo>
                      <a:pt x="10098" y="1211"/>
                    </a:lnTo>
                    <a:lnTo>
                      <a:pt x="10114" y="1287"/>
                    </a:lnTo>
                    <a:lnTo>
                      <a:pt x="10131" y="1365"/>
                    </a:lnTo>
                    <a:lnTo>
                      <a:pt x="10138" y="1443"/>
                    </a:lnTo>
                    <a:lnTo>
                      <a:pt x="10147" y="1522"/>
                    </a:lnTo>
                    <a:lnTo>
                      <a:pt x="10147" y="1602"/>
                    </a:lnTo>
                    <a:lnTo>
                      <a:pt x="10147" y="6824"/>
                    </a:lnTo>
                    <a:lnTo>
                      <a:pt x="10147" y="6906"/>
                    </a:lnTo>
                    <a:lnTo>
                      <a:pt x="10138" y="6987"/>
                    </a:lnTo>
                    <a:lnTo>
                      <a:pt x="10131" y="7065"/>
                    </a:lnTo>
                    <a:lnTo>
                      <a:pt x="10114" y="7139"/>
                    </a:lnTo>
                    <a:lnTo>
                      <a:pt x="10098" y="7218"/>
                    </a:lnTo>
                    <a:lnTo>
                      <a:pt x="10076" y="7291"/>
                    </a:lnTo>
                    <a:lnTo>
                      <a:pt x="10052" y="7364"/>
                    </a:lnTo>
                    <a:lnTo>
                      <a:pt x="10025" y="7436"/>
                    </a:lnTo>
                    <a:lnTo>
                      <a:pt x="9993" y="7505"/>
                    </a:lnTo>
                    <a:lnTo>
                      <a:pt x="9958" y="7572"/>
                    </a:lnTo>
                    <a:lnTo>
                      <a:pt x="9919" y="7639"/>
                    </a:lnTo>
                    <a:lnTo>
                      <a:pt x="9880" y="7701"/>
                    </a:lnTo>
                    <a:lnTo>
                      <a:pt x="9836" y="7763"/>
                    </a:lnTo>
                    <a:lnTo>
                      <a:pt x="9788" y="7823"/>
                    </a:lnTo>
                    <a:lnTo>
                      <a:pt x="9739" y="7879"/>
                    </a:lnTo>
                    <a:lnTo>
                      <a:pt x="9688" y="7936"/>
                    </a:lnTo>
                    <a:lnTo>
                      <a:pt x="9631" y="7987"/>
                    </a:lnTo>
                    <a:lnTo>
                      <a:pt x="9574" y="8035"/>
                    </a:lnTo>
                    <a:lnTo>
                      <a:pt x="9516" y="8081"/>
                    </a:lnTo>
                    <a:lnTo>
                      <a:pt x="9456" y="8127"/>
                    </a:lnTo>
                    <a:lnTo>
                      <a:pt x="9391" y="8168"/>
                    </a:lnTo>
                    <a:lnTo>
                      <a:pt x="9326" y="8205"/>
                    </a:lnTo>
                    <a:lnTo>
                      <a:pt x="9259" y="8240"/>
                    </a:lnTo>
                    <a:lnTo>
                      <a:pt x="9189" y="8270"/>
                    </a:lnTo>
                    <a:lnTo>
                      <a:pt x="9116" y="8300"/>
                    </a:lnTo>
                    <a:lnTo>
                      <a:pt x="9043" y="8324"/>
                    </a:lnTo>
                    <a:lnTo>
                      <a:pt x="8970" y="8346"/>
                    </a:lnTo>
                    <a:lnTo>
                      <a:pt x="8895" y="8362"/>
                    </a:lnTo>
                    <a:lnTo>
                      <a:pt x="8816" y="8376"/>
                    </a:lnTo>
                    <a:lnTo>
                      <a:pt x="8738" y="8387"/>
                    </a:lnTo>
                    <a:lnTo>
                      <a:pt x="8657" y="8392"/>
                    </a:lnTo>
                    <a:lnTo>
                      <a:pt x="8579" y="8394"/>
                    </a:lnTo>
                    <a:lnTo>
                      <a:pt x="8579" y="8410"/>
                    </a:lnTo>
                    <a:lnTo>
                      <a:pt x="8579" y="8426"/>
                    </a:lnTo>
                    <a:lnTo>
                      <a:pt x="8660" y="8424"/>
                    </a:lnTo>
                    <a:lnTo>
                      <a:pt x="8741" y="8419"/>
                    </a:lnTo>
                    <a:lnTo>
                      <a:pt x="8821" y="8408"/>
                    </a:lnTo>
                    <a:lnTo>
                      <a:pt x="8900" y="8394"/>
                    </a:lnTo>
                    <a:lnTo>
                      <a:pt x="8978" y="8376"/>
                    </a:lnTo>
                    <a:lnTo>
                      <a:pt x="9054" y="8353"/>
                    </a:lnTo>
                    <a:lnTo>
                      <a:pt x="9127" y="8330"/>
                    </a:lnTo>
                    <a:lnTo>
                      <a:pt x="9199" y="8300"/>
                    </a:lnTo>
                    <a:lnTo>
                      <a:pt x="9272" y="8267"/>
                    </a:lnTo>
                    <a:lnTo>
                      <a:pt x="9339" y="8233"/>
                    </a:lnTo>
                    <a:lnTo>
                      <a:pt x="9408" y="8194"/>
                    </a:lnTo>
                    <a:lnTo>
                      <a:pt x="9472" y="8154"/>
                    </a:lnTo>
                    <a:lnTo>
                      <a:pt x="9537" y="8108"/>
                    </a:lnTo>
                    <a:lnTo>
                      <a:pt x="9596" y="8060"/>
                    </a:lnTo>
                    <a:lnTo>
                      <a:pt x="9655" y="8011"/>
                    </a:lnTo>
                    <a:lnTo>
                      <a:pt x="9709" y="7957"/>
                    </a:lnTo>
                    <a:lnTo>
                      <a:pt x="9763" y="7901"/>
                    </a:lnTo>
                    <a:lnTo>
                      <a:pt x="9815" y="7844"/>
                    </a:lnTo>
                    <a:lnTo>
                      <a:pt x="9861" y="7782"/>
                    </a:lnTo>
                    <a:lnTo>
                      <a:pt x="9907" y="7720"/>
                    </a:lnTo>
                    <a:lnTo>
                      <a:pt x="9947" y="7655"/>
                    </a:lnTo>
                    <a:lnTo>
                      <a:pt x="9988" y="7588"/>
                    </a:lnTo>
                    <a:lnTo>
                      <a:pt x="10022" y="7521"/>
                    </a:lnTo>
                    <a:lnTo>
                      <a:pt x="10055" y="7448"/>
                    </a:lnTo>
                    <a:lnTo>
                      <a:pt x="10082" y="7374"/>
                    </a:lnTo>
                    <a:lnTo>
                      <a:pt x="10108" y="7302"/>
                    </a:lnTo>
                    <a:lnTo>
                      <a:pt x="10131" y="7226"/>
                    </a:lnTo>
                    <a:lnTo>
                      <a:pt x="10147" y="7148"/>
                    </a:lnTo>
                    <a:lnTo>
                      <a:pt x="10160" y="7070"/>
                    </a:lnTo>
                    <a:lnTo>
                      <a:pt x="10170" y="6989"/>
                    </a:lnTo>
                    <a:lnTo>
                      <a:pt x="10179" y="6908"/>
                    </a:lnTo>
                    <a:lnTo>
                      <a:pt x="10179" y="6824"/>
                    </a:lnTo>
                    <a:lnTo>
                      <a:pt x="10179" y="1602"/>
                    </a:lnTo>
                    <a:lnTo>
                      <a:pt x="10179" y="1522"/>
                    </a:lnTo>
                    <a:lnTo>
                      <a:pt x="10170" y="1440"/>
                    </a:lnTo>
                    <a:lnTo>
                      <a:pt x="10160" y="1359"/>
                    </a:lnTo>
                    <a:lnTo>
                      <a:pt x="10147" y="1281"/>
                    </a:lnTo>
                    <a:lnTo>
                      <a:pt x="10131" y="1202"/>
                    </a:lnTo>
                    <a:lnTo>
                      <a:pt x="10108" y="1128"/>
                    </a:lnTo>
                    <a:lnTo>
                      <a:pt x="10082" y="1052"/>
                    </a:lnTo>
                    <a:lnTo>
                      <a:pt x="10055" y="979"/>
                    </a:lnTo>
                    <a:lnTo>
                      <a:pt x="10022" y="909"/>
                    </a:lnTo>
                    <a:lnTo>
                      <a:pt x="9988" y="838"/>
                    </a:lnTo>
                    <a:lnTo>
                      <a:pt x="9947" y="771"/>
                    </a:lnTo>
                    <a:lnTo>
                      <a:pt x="9907" y="707"/>
                    </a:lnTo>
                    <a:lnTo>
                      <a:pt x="9861" y="645"/>
                    </a:lnTo>
                    <a:lnTo>
                      <a:pt x="9815" y="585"/>
                    </a:lnTo>
                    <a:lnTo>
                      <a:pt x="9763" y="525"/>
                    </a:lnTo>
                    <a:lnTo>
                      <a:pt x="9709" y="469"/>
                    </a:lnTo>
                    <a:lnTo>
                      <a:pt x="9655" y="417"/>
                    </a:lnTo>
                    <a:lnTo>
                      <a:pt x="9596" y="366"/>
                    </a:lnTo>
                    <a:lnTo>
                      <a:pt x="9537" y="318"/>
                    </a:lnTo>
                    <a:lnTo>
                      <a:pt x="9472" y="275"/>
                    </a:lnTo>
                    <a:lnTo>
                      <a:pt x="9408" y="232"/>
                    </a:lnTo>
                    <a:lnTo>
                      <a:pt x="9339" y="194"/>
                    </a:lnTo>
                    <a:lnTo>
                      <a:pt x="9272" y="159"/>
                    </a:lnTo>
                    <a:lnTo>
                      <a:pt x="9199" y="127"/>
                    </a:lnTo>
                    <a:lnTo>
                      <a:pt x="9127" y="97"/>
                    </a:lnTo>
                    <a:lnTo>
                      <a:pt x="9054" y="73"/>
                    </a:lnTo>
                    <a:lnTo>
                      <a:pt x="8978" y="51"/>
                    </a:lnTo>
                    <a:lnTo>
                      <a:pt x="8900" y="32"/>
                    </a:lnTo>
                    <a:lnTo>
                      <a:pt x="8821" y="19"/>
                    </a:lnTo>
                    <a:lnTo>
                      <a:pt x="8741" y="7"/>
                    </a:lnTo>
                    <a:lnTo>
                      <a:pt x="8660" y="2"/>
                    </a:lnTo>
                    <a:lnTo>
                      <a:pt x="8579" y="0"/>
                    </a:lnTo>
                    <a:lnTo>
                      <a:pt x="1600" y="0"/>
                    </a:lnTo>
                    <a:lnTo>
                      <a:pt x="1519" y="2"/>
                    </a:lnTo>
                    <a:lnTo>
                      <a:pt x="1438" y="7"/>
                    </a:lnTo>
                    <a:lnTo>
                      <a:pt x="1356" y="19"/>
                    </a:lnTo>
                    <a:lnTo>
                      <a:pt x="1278" y="32"/>
                    </a:lnTo>
                    <a:lnTo>
                      <a:pt x="1200" y="51"/>
                    </a:lnTo>
                    <a:lnTo>
                      <a:pt x="1125" y="73"/>
                    </a:lnTo>
                    <a:lnTo>
                      <a:pt x="1049" y="97"/>
                    </a:lnTo>
                    <a:lnTo>
                      <a:pt x="976" y="127"/>
                    </a:lnTo>
                    <a:lnTo>
                      <a:pt x="906" y="159"/>
                    </a:lnTo>
                    <a:lnTo>
                      <a:pt x="838" y="194"/>
                    </a:lnTo>
                    <a:lnTo>
                      <a:pt x="771" y="232"/>
                    </a:lnTo>
                    <a:lnTo>
                      <a:pt x="707" y="275"/>
                    </a:lnTo>
                    <a:lnTo>
                      <a:pt x="642" y="318"/>
                    </a:lnTo>
                    <a:lnTo>
                      <a:pt x="582" y="366"/>
                    </a:lnTo>
                    <a:lnTo>
                      <a:pt x="523" y="417"/>
                    </a:lnTo>
                    <a:lnTo>
                      <a:pt x="469" y="469"/>
                    </a:lnTo>
                    <a:lnTo>
                      <a:pt x="415" y="525"/>
                    </a:lnTo>
                    <a:lnTo>
                      <a:pt x="364" y="585"/>
                    </a:lnTo>
                    <a:lnTo>
                      <a:pt x="318" y="645"/>
                    </a:lnTo>
                    <a:lnTo>
                      <a:pt x="272" y="707"/>
                    </a:lnTo>
                    <a:lnTo>
                      <a:pt x="231" y="771"/>
                    </a:lnTo>
                    <a:lnTo>
                      <a:pt x="191" y="838"/>
                    </a:lnTo>
                    <a:lnTo>
                      <a:pt x="156" y="909"/>
                    </a:lnTo>
                    <a:lnTo>
                      <a:pt x="123" y="979"/>
                    </a:lnTo>
                    <a:lnTo>
                      <a:pt x="97" y="1052"/>
                    </a:lnTo>
                    <a:lnTo>
                      <a:pt x="69" y="1128"/>
                    </a:lnTo>
                    <a:lnTo>
                      <a:pt x="48" y="1202"/>
                    </a:lnTo>
                    <a:lnTo>
                      <a:pt x="32" y="1281"/>
                    </a:lnTo>
                    <a:lnTo>
                      <a:pt x="16" y="1359"/>
                    </a:lnTo>
                    <a:lnTo>
                      <a:pt x="7" y="1440"/>
                    </a:lnTo>
                    <a:lnTo>
                      <a:pt x="0" y="1522"/>
                    </a:lnTo>
                    <a:lnTo>
                      <a:pt x="0" y="1602"/>
                    </a:lnTo>
                    <a:lnTo>
                      <a:pt x="0" y="6824"/>
                    </a:lnTo>
                    <a:lnTo>
                      <a:pt x="0" y="6908"/>
                    </a:lnTo>
                    <a:lnTo>
                      <a:pt x="7" y="6989"/>
                    </a:lnTo>
                    <a:lnTo>
                      <a:pt x="16" y="7070"/>
                    </a:lnTo>
                    <a:lnTo>
                      <a:pt x="32" y="7148"/>
                    </a:lnTo>
                    <a:lnTo>
                      <a:pt x="48" y="7226"/>
                    </a:lnTo>
                    <a:lnTo>
                      <a:pt x="69" y="7302"/>
                    </a:lnTo>
                    <a:lnTo>
                      <a:pt x="97" y="7374"/>
                    </a:lnTo>
                    <a:lnTo>
                      <a:pt x="123" y="7448"/>
                    </a:lnTo>
                    <a:lnTo>
                      <a:pt x="156" y="7521"/>
                    </a:lnTo>
                    <a:lnTo>
                      <a:pt x="191" y="7588"/>
                    </a:lnTo>
                    <a:lnTo>
                      <a:pt x="231" y="7655"/>
                    </a:lnTo>
                    <a:lnTo>
                      <a:pt x="272" y="7720"/>
                    </a:lnTo>
                    <a:lnTo>
                      <a:pt x="318" y="7782"/>
                    </a:lnTo>
                    <a:lnTo>
                      <a:pt x="364" y="7844"/>
                    </a:lnTo>
                    <a:lnTo>
                      <a:pt x="415" y="7901"/>
                    </a:lnTo>
                    <a:lnTo>
                      <a:pt x="469" y="7957"/>
                    </a:lnTo>
                    <a:lnTo>
                      <a:pt x="523" y="8011"/>
                    </a:lnTo>
                    <a:lnTo>
                      <a:pt x="582" y="8060"/>
                    </a:lnTo>
                    <a:lnTo>
                      <a:pt x="642" y="8108"/>
                    </a:lnTo>
                    <a:lnTo>
                      <a:pt x="707" y="8154"/>
                    </a:lnTo>
                    <a:lnTo>
                      <a:pt x="771" y="8194"/>
                    </a:lnTo>
                    <a:lnTo>
                      <a:pt x="838" y="8233"/>
                    </a:lnTo>
                    <a:lnTo>
                      <a:pt x="906" y="8267"/>
                    </a:lnTo>
                    <a:lnTo>
                      <a:pt x="976" y="8300"/>
                    </a:lnTo>
                    <a:lnTo>
                      <a:pt x="1049" y="8330"/>
                    </a:lnTo>
                    <a:lnTo>
                      <a:pt x="1125" y="8353"/>
                    </a:lnTo>
                    <a:lnTo>
                      <a:pt x="1200" y="8376"/>
                    </a:lnTo>
                    <a:lnTo>
                      <a:pt x="1278" y="8394"/>
                    </a:lnTo>
                    <a:lnTo>
                      <a:pt x="1356" y="8408"/>
                    </a:lnTo>
                    <a:lnTo>
                      <a:pt x="1438" y="8419"/>
                    </a:lnTo>
                    <a:lnTo>
                      <a:pt x="1519" y="8424"/>
                    </a:lnTo>
                    <a:lnTo>
                      <a:pt x="1600" y="8426"/>
                    </a:lnTo>
                    <a:lnTo>
                      <a:pt x="8579" y="8426"/>
                    </a:lnTo>
                    <a:lnTo>
                      <a:pt x="8579" y="8410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58880" y="2395440"/>
                <a:ext cx="1599840" cy="1276920"/>
              </a:xfrm>
              <a:custGeom>
                <a:avLst/>
                <a:gdLst/>
                <a:ahLst/>
                <a:rect l="l" t="t" r="r" b="b"/>
                <a:pathLst>
                  <a:path w="10323" h="8570">
                    <a:moveTo>
                      <a:pt x="8709" y="8570"/>
                    </a:moveTo>
                    <a:lnTo>
                      <a:pt x="1614" y="8570"/>
                    </a:lnTo>
                    <a:lnTo>
                      <a:pt x="1530" y="8567"/>
                    </a:lnTo>
                    <a:lnTo>
                      <a:pt x="1449" y="8562"/>
                    </a:lnTo>
                    <a:lnTo>
                      <a:pt x="1368" y="8551"/>
                    </a:lnTo>
                    <a:lnTo>
                      <a:pt x="1288" y="8537"/>
                    </a:lnTo>
                    <a:lnTo>
                      <a:pt x="1212" y="8519"/>
                    </a:lnTo>
                    <a:lnTo>
                      <a:pt x="1134" y="8497"/>
                    </a:lnTo>
                    <a:lnTo>
                      <a:pt x="1058" y="8470"/>
                    </a:lnTo>
                    <a:lnTo>
                      <a:pt x="985" y="8443"/>
                    </a:lnTo>
                    <a:lnTo>
                      <a:pt x="915" y="8410"/>
                    </a:lnTo>
                    <a:lnTo>
                      <a:pt x="844" y="8373"/>
                    </a:lnTo>
                    <a:lnTo>
                      <a:pt x="777" y="8335"/>
                    </a:lnTo>
                    <a:lnTo>
                      <a:pt x="713" y="8292"/>
                    </a:lnTo>
                    <a:lnTo>
                      <a:pt x="648" y="8246"/>
                    </a:lnTo>
                    <a:lnTo>
                      <a:pt x="588" y="8200"/>
                    </a:lnTo>
                    <a:lnTo>
                      <a:pt x="529" y="8148"/>
                    </a:lnTo>
                    <a:lnTo>
                      <a:pt x="473" y="8095"/>
                    </a:lnTo>
                    <a:lnTo>
                      <a:pt x="418" y="8038"/>
                    </a:lnTo>
                    <a:lnTo>
                      <a:pt x="370" y="7979"/>
                    </a:lnTo>
                    <a:lnTo>
                      <a:pt x="321" y="7920"/>
                    </a:lnTo>
                    <a:lnTo>
                      <a:pt x="275" y="7855"/>
                    </a:lnTo>
                    <a:lnTo>
                      <a:pt x="234" y="7791"/>
                    </a:lnTo>
                    <a:lnTo>
                      <a:pt x="195" y="7720"/>
                    </a:lnTo>
                    <a:lnTo>
                      <a:pt x="160" y="7653"/>
                    </a:lnTo>
                    <a:lnTo>
                      <a:pt x="126" y="7579"/>
                    </a:lnTo>
                    <a:lnTo>
                      <a:pt x="98" y="7507"/>
                    </a:lnTo>
                    <a:lnTo>
                      <a:pt x="73" y="7432"/>
                    </a:lnTo>
                    <a:lnTo>
                      <a:pt x="52" y="7353"/>
                    </a:lnTo>
                    <a:lnTo>
                      <a:pt x="32" y="7275"/>
                    </a:lnTo>
                    <a:lnTo>
                      <a:pt x="18" y="7197"/>
                    </a:lnTo>
                    <a:lnTo>
                      <a:pt x="8" y="7116"/>
                    </a:lnTo>
                    <a:lnTo>
                      <a:pt x="2" y="7033"/>
                    </a:lnTo>
                    <a:lnTo>
                      <a:pt x="0" y="6951"/>
                    </a:lnTo>
                    <a:lnTo>
                      <a:pt x="0" y="1619"/>
                    </a:lnTo>
                    <a:lnTo>
                      <a:pt x="2" y="1538"/>
                    </a:lnTo>
                    <a:lnTo>
                      <a:pt x="8" y="1454"/>
                    </a:lnTo>
                    <a:lnTo>
                      <a:pt x="18" y="1373"/>
                    </a:lnTo>
                    <a:lnTo>
                      <a:pt x="32" y="1295"/>
                    </a:lnTo>
                    <a:lnTo>
                      <a:pt x="52" y="1216"/>
                    </a:lnTo>
                    <a:lnTo>
                      <a:pt x="73" y="1138"/>
                    </a:lnTo>
                    <a:lnTo>
                      <a:pt x="98" y="1062"/>
                    </a:lnTo>
                    <a:lnTo>
                      <a:pt x="126" y="990"/>
                    </a:lnTo>
                    <a:lnTo>
                      <a:pt x="160" y="917"/>
                    </a:lnTo>
                    <a:lnTo>
                      <a:pt x="195" y="850"/>
                    </a:lnTo>
                    <a:lnTo>
                      <a:pt x="234" y="779"/>
                    </a:lnTo>
                    <a:lnTo>
                      <a:pt x="275" y="714"/>
                    </a:lnTo>
                    <a:lnTo>
                      <a:pt x="321" y="652"/>
                    </a:lnTo>
                    <a:lnTo>
                      <a:pt x="370" y="590"/>
                    </a:lnTo>
                    <a:lnTo>
                      <a:pt x="418" y="532"/>
                    </a:lnTo>
                    <a:lnTo>
                      <a:pt x="473" y="475"/>
                    </a:lnTo>
                    <a:lnTo>
                      <a:pt x="529" y="421"/>
                    </a:lnTo>
                    <a:lnTo>
                      <a:pt x="588" y="369"/>
                    </a:lnTo>
                    <a:lnTo>
                      <a:pt x="648" y="323"/>
                    </a:lnTo>
                    <a:lnTo>
                      <a:pt x="713" y="278"/>
                    </a:lnTo>
                    <a:lnTo>
                      <a:pt x="777" y="235"/>
                    </a:lnTo>
                    <a:lnTo>
                      <a:pt x="844" y="196"/>
                    </a:lnTo>
                    <a:lnTo>
                      <a:pt x="915" y="162"/>
                    </a:lnTo>
                    <a:lnTo>
                      <a:pt x="985" y="129"/>
                    </a:lnTo>
                    <a:lnTo>
                      <a:pt x="1058" y="99"/>
                    </a:lnTo>
                    <a:lnTo>
                      <a:pt x="1134" y="73"/>
                    </a:lnTo>
                    <a:lnTo>
                      <a:pt x="1212" y="51"/>
                    </a:lnTo>
                    <a:lnTo>
                      <a:pt x="1288" y="35"/>
                    </a:lnTo>
                    <a:lnTo>
                      <a:pt x="1368" y="19"/>
                    </a:lnTo>
                    <a:lnTo>
                      <a:pt x="1449" y="8"/>
                    </a:lnTo>
                    <a:lnTo>
                      <a:pt x="1530" y="3"/>
                    </a:lnTo>
                    <a:lnTo>
                      <a:pt x="1614" y="0"/>
                    </a:lnTo>
                    <a:lnTo>
                      <a:pt x="8709" y="0"/>
                    </a:lnTo>
                    <a:lnTo>
                      <a:pt x="8793" y="3"/>
                    </a:lnTo>
                    <a:lnTo>
                      <a:pt x="8873" y="8"/>
                    </a:lnTo>
                    <a:lnTo>
                      <a:pt x="8954" y="19"/>
                    </a:lnTo>
                    <a:lnTo>
                      <a:pt x="9036" y="35"/>
                    </a:lnTo>
                    <a:lnTo>
                      <a:pt x="9114" y="51"/>
                    </a:lnTo>
                    <a:lnTo>
                      <a:pt x="9189" y="73"/>
                    </a:lnTo>
                    <a:lnTo>
                      <a:pt x="9265" y="99"/>
                    </a:lnTo>
                    <a:lnTo>
                      <a:pt x="9338" y="129"/>
                    </a:lnTo>
                    <a:lnTo>
                      <a:pt x="9408" y="162"/>
                    </a:lnTo>
                    <a:lnTo>
                      <a:pt x="9478" y="196"/>
                    </a:lnTo>
                    <a:lnTo>
                      <a:pt x="9545" y="235"/>
                    </a:lnTo>
                    <a:lnTo>
                      <a:pt x="9610" y="278"/>
                    </a:lnTo>
                    <a:lnTo>
                      <a:pt x="9676" y="323"/>
                    </a:lnTo>
                    <a:lnTo>
                      <a:pt x="9734" y="369"/>
                    </a:lnTo>
                    <a:lnTo>
                      <a:pt x="9794" y="421"/>
                    </a:lnTo>
                    <a:lnTo>
                      <a:pt x="9851" y="475"/>
                    </a:lnTo>
                    <a:lnTo>
                      <a:pt x="9904" y="532"/>
                    </a:lnTo>
                    <a:lnTo>
                      <a:pt x="9955" y="590"/>
                    </a:lnTo>
                    <a:lnTo>
                      <a:pt x="10001" y="652"/>
                    </a:lnTo>
                    <a:lnTo>
                      <a:pt x="10047" y="714"/>
                    </a:lnTo>
                    <a:lnTo>
                      <a:pt x="10091" y="779"/>
                    </a:lnTo>
                    <a:lnTo>
                      <a:pt x="10129" y="850"/>
                    </a:lnTo>
                    <a:lnTo>
                      <a:pt x="10164" y="917"/>
                    </a:lnTo>
                    <a:lnTo>
                      <a:pt x="10196" y="990"/>
                    </a:lnTo>
                    <a:lnTo>
                      <a:pt x="10226" y="1062"/>
                    </a:lnTo>
                    <a:lnTo>
                      <a:pt x="10250" y="1138"/>
                    </a:lnTo>
                    <a:lnTo>
                      <a:pt x="10272" y="1216"/>
                    </a:lnTo>
                    <a:lnTo>
                      <a:pt x="10291" y="1295"/>
                    </a:lnTo>
                    <a:lnTo>
                      <a:pt x="10304" y="1373"/>
                    </a:lnTo>
                    <a:lnTo>
                      <a:pt x="10314" y="1454"/>
                    </a:lnTo>
                    <a:lnTo>
                      <a:pt x="10320" y="1538"/>
                    </a:lnTo>
                    <a:lnTo>
                      <a:pt x="10323" y="1619"/>
                    </a:lnTo>
                    <a:lnTo>
                      <a:pt x="10323" y="6951"/>
                    </a:lnTo>
                    <a:lnTo>
                      <a:pt x="10320" y="7033"/>
                    </a:lnTo>
                    <a:lnTo>
                      <a:pt x="10314" y="7116"/>
                    </a:lnTo>
                    <a:lnTo>
                      <a:pt x="10304" y="7197"/>
                    </a:lnTo>
                    <a:lnTo>
                      <a:pt x="10291" y="7275"/>
                    </a:lnTo>
                    <a:lnTo>
                      <a:pt x="10272" y="7353"/>
                    </a:lnTo>
                    <a:lnTo>
                      <a:pt x="10250" y="7432"/>
                    </a:lnTo>
                    <a:lnTo>
                      <a:pt x="10226" y="7507"/>
                    </a:lnTo>
                    <a:lnTo>
                      <a:pt x="10196" y="7579"/>
                    </a:lnTo>
                    <a:lnTo>
                      <a:pt x="10164" y="7653"/>
                    </a:lnTo>
                    <a:lnTo>
                      <a:pt x="10129" y="7720"/>
                    </a:lnTo>
                    <a:lnTo>
                      <a:pt x="10091" y="7791"/>
                    </a:lnTo>
                    <a:lnTo>
                      <a:pt x="10047" y="7855"/>
                    </a:lnTo>
                    <a:lnTo>
                      <a:pt x="10001" y="7920"/>
                    </a:lnTo>
                    <a:lnTo>
                      <a:pt x="9955" y="7979"/>
                    </a:lnTo>
                    <a:lnTo>
                      <a:pt x="9904" y="8038"/>
                    </a:lnTo>
                    <a:lnTo>
                      <a:pt x="9851" y="8095"/>
                    </a:lnTo>
                    <a:lnTo>
                      <a:pt x="9794" y="8148"/>
                    </a:lnTo>
                    <a:lnTo>
                      <a:pt x="9734" y="8200"/>
                    </a:lnTo>
                    <a:lnTo>
                      <a:pt x="9676" y="8246"/>
                    </a:lnTo>
                    <a:lnTo>
                      <a:pt x="9610" y="8292"/>
                    </a:lnTo>
                    <a:lnTo>
                      <a:pt x="9545" y="8335"/>
                    </a:lnTo>
                    <a:lnTo>
                      <a:pt x="9478" y="8373"/>
                    </a:lnTo>
                    <a:lnTo>
                      <a:pt x="9408" y="8410"/>
                    </a:lnTo>
                    <a:lnTo>
                      <a:pt x="9338" y="8443"/>
                    </a:lnTo>
                    <a:lnTo>
                      <a:pt x="9265" y="8470"/>
                    </a:lnTo>
                    <a:lnTo>
                      <a:pt x="9189" y="8497"/>
                    </a:lnTo>
                    <a:lnTo>
                      <a:pt x="9114" y="8519"/>
                    </a:lnTo>
                    <a:lnTo>
                      <a:pt x="9036" y="8537"/>
                    </a:lnTo>
                    <a:lnTo>
                      <a:pt x="8954" y="8551"/>
                    </a:lnTo>
                    <a:lnTo>
                      <a:pt x="8873" y="8562"/>
                    </a:lnTo>
                    <a:lnTo>
                      <a:pt x="8793" y="8567"/>
                    </a:lnTo>
                    <a:lnTo>
                      <a:pt x="8709" y="8570"/>
                    </a:lnTo>
                    <a:close/>
                  </a:path>
                </a:pathLst>
              </a:custGeom>
              <a:solidFill>
                <a:srgbClr val="cd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85880" y="2395440"/>
                <a:ext cx="1572840" cy="1251000"/>
              </a:xfrm>
              <a:custGeom>
                <a:avLst/>
                <a:gdLst/>
                <a:ahLst/>
                <a:rect l="l" t="t" r="r" b="b"/>
                <a:pathLst>
                  <a:path w="10147" h="8394">
                    <a:moveTo>
                      <a:pt x="8563" y="8394"/>
                    </a:moveTo>
                    <a:lnTo>
                      <a:pt x="1584" y="8394"/>
                    </a:lnTo>
                    <a:lnTo>
                      <a:pt x="1503" y="8392"/>
                    </a:lnTo>
                    <a:lnTo>
                      <a:pt x="1422" y="8387"/>
                    </a:lnTo>
                    <a:lnTo>
                      <a:pt x="1344" y="8376"/>
                    </a:lnTo>
                    <a:lnTo>
                      <a:pt x="1266" y="8362"/>
                    </a:lnTo>
                    <a:lnTo>
                      <a:pt x="1190" y="8346"/>
                    </a:lnTo>
                    <a:lnTo>
                      <a:pt x="1114" y="8325"/>
                    </a:lnTo>
                    <a:lnTo>
                      <a:pt x="1038" y="8297"/>
                    </a:lnTo>
                    <a:lnTo>
                      <a:pt x="969" y="8270"/>
                    </a:lnTo>
                    <a:lnTo>
                      <a:pt x="898" y="8238"/>
                    </a:lnTo>
                    <a:lnTo>
                      <a:pt x="828" y="8203"/>
                    </a:lnTo>
                    <a:lnTo>
                      <a:pt x="763" y="8166"/>
                    </a:lnTo>
                    <a:lnTo>
                      <a:pt x="698" y="8125"/>
                    </a:lnTo>
                    <a:lnTo>
                      <a:pt x="636" y="8079"/>
                    </a:lnTo>
                    <a:lnTo>
                      <a:pt x="576" y="8033"/>
                    </a:lnTo>
                    <a:lnTo>
                      <a:pt x="518" y="7982"/>
                    </a:lnTo>
                    <a:lnTo>
                      <a:pt x="463" y="7931"/>
                    </a:lnTo>
                    <a:lnTo>
                      <a:pt x="410" y="7874"/>
                    </a:lnTo>
                    <a:lnTo>
                      <a:pt x="361" y="7817"/>
                    </a:lnTo>
                    <a:lnTo>
                      <a:pt x="315" y="7758"/>
                    </a:lnTo>
                    <a:lnTo>
                      <a:pt x="270" y="7696"/>
                    </a:lnTo>
                    <a:lnTo>
                      <a:pt x="229" y="7631"/>
                    </a:lnTo>
                    <a:lnTo>
                      <a:pt x="191" y="7563"/>
                    </a:lnTo>
                    <a:lnTo>
                      <a:pt x="156" y="7496"/>
                    </a:lnTo>
                    <a:lnTo>
                      <a:pt x="123" y="7426"/>
                    </a:lnTo>
                    <a:lnTo>
                      <a:pt x="94" y="7353"/>
                    </a:lnTo>
                    <a:lnTo>
                      <a:pt x="70" y="7280"/>
                    </a:lnTo>
                    <a:lnTo>
                      <a:pt x="48" y="7205"/>
                    </a:lnTo>
                    <a:lnTo>
                      <a:pt x="32" y="7130"/>
                    </a:lnTo>
                    <a:lnTo>
                      <a:pt x="16" y="7051"/>
                    </a:lnTo>
                    <a:lnTo>
                      <a:pt x="7" y="6971"/>
                    </a:lnTo>
                    <a:lnTo>
                      <a:pt x="0" y="6890"/>
                    </a:lnTo>
                    <a:lnTo>
                      <a:pt x="0" y="6808"/>
                    </a:lnTo>
                    <a:lnTo>
                      <a:pt x="0" y="1586"/>
                    </a:lnTo>
                    <a:lnTo>
                      <a:pt x="0" y="1506"/>
                    </a:lnTo>
                    <a:lnTo>
                      <a:pt x="7" y="1424"/>
                    </a:lnTo>
                    <a:lnTo>
                      <a:pt x="16" y="1346"/>
                    </a:lnTo>
                    <a:lnTo>
                      <a:pt x="32" y="1267"/>
                    </a:lnTo>
                    <a:lnTo>
                      <a:pt x="48" y="1189"/>
                    </a:lnTo>
                    <a:lnTo>
                      <a:pt x="70" y="1117"/>
                    </a:lnTo>
                    <a:lnTo>
                      <a:pt x="94" y="1041"/>
                    </a:lnTo>
                    <a:lnTo>
                      <a:pt x="123" y="971"/>
                    </a:lnTo>
                    <a:lnTo>
                      <a:pt x="156" y="901"/>
                    </a:lnTo>
                    <a:lnTo>
                      <a:pt x="191" y="831"/>
                    </a:lnTo>
                    <a:lnTo>
                      <a:pt x="229" y="766"/>
                    </a:lnTo>
                    <a:lnTo>
                      <a:pt x="270" y="701"/>
                    </a:lnTo>
                    <a:lnTo>
                      <a:pt x="315" y="640"/>
                    </a:lnTo>
                    <a:lnTo>
                      <a:pt x="361" y="578"/>
                    </a:lnTo>
                    <a:lnTo>
                      <a:pt x="410" y="521"/>
                    </a:lnTo>
                    <a:lnTo>
                      <a:pt x="463" y="467"/>
                    </a:lnTo>
                    <a:lnTo>
                      <a:pt x="518" y="413"/>
                    </a:lnTo>
                    <a:lnTo>
                      <a:pt x="576" y="364"/>
                    </a:lnTo>
                    <a:lnTo>
                      <a:pt x="636" y="316"/>
                    </a:lnTo>
                    <a:lnTo>
                      <a:pt x="698" y="272"/>
                    </a:lnTo>
                    <a:lnTo>
                      <a:pt x="763" y="232"/>
                    </a:lnTo>
                    <a:lnTo>
                      <a:pt x="828" y="191"/>
                    </a:lnTo>
                    <a:lnTo>
                      <a:pt x="898" y="157"/>
                    </a:lnTo>
                    <a:lnTo>
                      <a:pt x="969" y="127"/>
                    </a:lnTo>
                    <a:lnTo>
                      <a:pt x="1038" y="97"/>
                    </a:lnTo>
                    <a:lnTo>
                      <a:pt x="1114" y="73"/>
                    </a:lnTo>
                    <a:lnTo>
                      <a:pt x="1190" y="51"/>
                    </a:lnTo>
                    <a:lnTo>
                      <a:pt x="1266" y="32"/>
                    </a:lnTo>
                    <a:lnTo>
                      <a:pt x="1344" y="19"/>
                    </a:lnTo>
                    <a:lnTo>
                      <a:pt x="1422" y="8"/>
                    </a:lnTo>
                    <a:lnTo>
                      <a:pt x="1503" y="3"/>
                    </a:lnTo>
                    <a:lnTo>
                      <a:pt x="1584" y="0"/>
                    </a:lnTo>
                    <a:lnTo>
                      <a:pt x="8563" y="0"/>
                    </a:lnTo>
                    <a:lnTo>
                      <a:pt x="8644" y="3"/>
                    </a:lnTo>
                    <a:lnTo>
                      <a:pt x="8725" y="8"/>
                    </a:lnTo>
                    <a:lnTo>
                      <a:pt x="8803" y="19"/>
                    </a:lnTo>
                    <a:lnTo>
                      <a:pt x="8881" y="32"/>
                    </a:lnTo>
                    <a:lnTo>
                      <a:pt x="8957" y="51"/>
                    </a:lnTo>
                    <a:lnTo>
                      <a:pt x="9033" y="73"/>
                    </a:lnTo>
                    <a:lnTo>
                      <a:pt x="9105" y="97"/>
                    </a:lnTo>
                    <a:lnTo>
                      <a:pt x="9178" y="127"/>
                    </a:lnTo>
                    <a:lnTo>
                      <a:pt x="9248" y="157"/>
                    </a:lnTo>
                    <a:lnTo>
                      <a:pt x="9316" y="191"/>
                    </a:lnTo>
                    <a:lnTo>
                      <a:pt x="9383" y="232"/>
                    </a:lnTo>
                    <a:lnTo>
                      <a:pt x="9448" y="272"/>
                    </a:lnTo>
                    <a:lnTo>
                      <a:pt x="9510" y="316"/>
                    </a:lnTo>
                    <a:lnTo>
                      <a:pt x="9569" y="364"/>
                    </a:lnTo>
                    <a:lnTo>
                      <a:pt x="9629" y="413"/>
                    </a:lnTo>
                    <a:lnTo>
                      <a:pt x="9682" y="467"/>
                    </a:lnTo>
                    <a:lnTo>
                      <a:pt x="9734" y="521"/>
                    </a:lnTo>
                    <a:lnTo>
                      <a:pt x="9785" y="578"/>
                    </a:lnTo>
                    <a:lnTo>
                      <a:pt x="9831" y="640"/>
                    </a:lnTo>
                    <a:lnTo>
                      <a:pt x="9877" y="701"/>
                    </a:lnTo>
                    <a:lnTo>
                      <a:pt x="9917" y="766"/>
                    </a:lnTo>
                    <a:lnTo>
                      <a:pt x="9956" y="831"/>
                    </a:lnTo>
                    <a:lnTo>
                      <a:pt x="9990" y="901"/>
                    </a:lnTo>
                    <a:lnTo>
                      <a:pt x="10023" y="971"/>
                    </a:lnTo>
                    <a:lnTo>
                      <a:pt x="10052" y="1041"/>
                    </a:lnTo>
                    <a:lnTo>
                      <a:pt x="10076" y="1117"/>
                    </a:lnTo>
                    <a:lnTo>
                      <a:pt x="10098" y="1189"/>
                    </a:lnTo>
                    <a:lnTo>
                      <a:pt x="10115" y="1267"/>
                    </a:lnTo>
                    <a:lnTo>
                      <a:pt x="10128" y="1346"/>
                    </a:lnTo>
                    <a:lnTo>
                      <a:pt x="10138" y="1424"/>
                    </a:lnTo>
                    <a:lnTo>
                      <a:pt x="10144" y="1506"/>
                    </a:lnTo>
                    <a:lnTo>
                      <a:pt x="10147" y="1586"/>
                    </a:lnTo>
                    <a:lnTo>
                      <a:pt x="10147" y="6808"/>
                    </a:lnTo>
                    <a:lnTo>
                      <a:pt x="10144" y="6890"/>
                    </a:lnTo>
                    <a:lnTo>
                      <a:pt x="10138" y="6971"/>
                    </a:lnTo>
                    <a:lnTo>
                      <a:pt x="10128" y="7051"/>
                    </a:lnTo>
                    <a:lnTo>
                      <a:pt x="10115" y="7130"/>
                    </a:lnTo>
                    <a:lnTo>
                      <a:pt x="10098" y="7205"/>
                    </a:lnTo>
                    <a:lnTo>
                      <a:pt x="10076" y="7280"/>
                    </a:lnTo>
                    <a:lnTo>
                      <a:pt x="10052" y="7353"/>
                    </a:lnTo>
                    <a:lnTo>
                      <a:pt x="10023" y="7426"/>
                    </a:lnTo>
                    <a:lnTo>
                      <a:pt x="9990" y="7496"/>
                    </a:lnTo>
                    <a:lnTo>
                      <a:pt x="9956" y="7563"/>
                    </a:lnTo>
                    <a:lnTo>
                      <a:pt x="9917" y="7631"/>
                    </a:lnTo>
                    <a:lnTo>
                      <a:pt x="9877" y="7696"/>
                    </a:lnTo>
                    <a:lnTo>
                      <a:pt x="9831" y="7758"/>
                    </a:lnTo>
                    <a:lnTo>
                      <a:pt x="9785" y="7817"/>
                    </a:lnTo>
                    <a:lnTo>
                      <a:pt x="9734" y="7874"/>
                    </a:lnTo>
                    <a:lnTo>
                      <a:pt x="9682" y="7931"/>
                    </a:lnTo>
                    <a:lnTo>
                      <a:pt x="9629" y="7982"/>
                    </a:lnTo>
                    <a:lnTo>
                      <a:pt x="9569" y="8033"/>
                    </a:lnTo>
                    <a:lnTo>
                      <a:pt x="9510" y="8079"/>
                    </a:lnTo>
                    <a:lnTo>
                      <a:pt x="9448" y="8125"/>
                    </a:lnTo>
                    <a:lnTo>
                      <a:pt x="9383" y="8166"/>
                    </a:lnTo>
                    <a:lnTo>
                      <a:pt x="9316" y="8203"/>
                    </a:lnTo>
                    <a:lnTo>
                      <a:pt x="9248" y="8238"/>
                    </a:lnTo>
                    <a:lnTo>
                      <a:pt x="9178" y="8270"/>
                    </a:lnTo>
                    <a:lnTo>
                      <a:pt x="9105" y="8297"/>
                    </a:lnTo>
                    <a:lnTo>
                      <a:pt x="9033" y="8325"/>
                    </a:lnTo>
                    <a:lnTo>
                      <a:pt x="8957" y="8346"/>
                    </a:lnTo>
                    <a:lnTo>
                      <a:pt x="8881" y="8362"/>
                    </a:lnTo>
                    <a:lnTo>
                      <a:pt x="8803" y="8376"/>
                    </a:lnTo>
                    <a:lnTo>
                      <a:pt x="8725" y="8387"/>
                    </a:lnTo>
                    <a:lnTo>
                      <a:pt x="8644" y="8392"/>
                    </a:lnTo>
                    <a:lnTo>
                      <a:pt x="8563" y="8394"/>
                    </a:lnTo>
                    <a:close/>
                  </a:path>
                </a:pathLst>
              </a:custGeom>
              <a:solidFill>
                <a:srgbClr val="ebb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4080" y="2395440"/>
                <a:ext cx="1574280" cy="1252440"/>
              </a:xfrm>
              <a:custGeom>
                <a:avLst/>
                <a:gdLst/>
                <a:ahLst/>
                <a:rect l="l" t="t" r="r" b="b"/>
                <a:pathLst>
                  <a:path w="10163" h="8412">
                    <a:moveTo>
                      <a:pt x="8572" y="8403"/>
                    </a:moveTo>
                    <a:lnTo>
                      <a:pt x="8572" y="8396"/>
                    </a:lnTo>
                    <a:lnTo>
                      <a:pt x="1593" y="8396"/>
                    </a:lnTo>
                    <a:lnTo>
                      <a:pt x="1512" y="8392"/>
                    </a:lnTo>
                    <a:lnTo>
                      <a:pt x="1434" y="8387"/>
                    </a:lnTo>
                    <a:lnTo>
                      <a:pt x="1353" y="8376"/>
                    </a:lnTo>
                    <a:lnTo>
                      <a:pt x="1277" y="8362"/>
                    </a:lnTo>
                    <a:lnTo>
                      <a:pt x="1199" y="8346"/>
                    </a:lnTo>
                    <a:lnTo>
                      <a:pt x="1126" y="8325"/>
                    </a:lnTo>
                    <a:lnTo>
                      <a:pt x="1050" y="8301"/>
                    </a:lnTo>
                    <a:lnTo>
                      <a:pt x="980" y="8272"/>
                    </a:lnTo>
                    <a:lnTo>
                      <a:pt x="910" y="8239"/>
                    </a:lnTo>
                    <a:lnTo>
                      <a:pt x="842" y="8203"/>
                    </a:lnTo>
                    <a:lnTo>
                      <a:pt x="775" y="8166"/>
                    </a:lnTo>
                    <a:lnTo>
                      <a:pt x="713" y="8125"/>
                    </a:lnTo>
                    <a:lnTo>
                      <a:pt x="651" y="8083"/>
                    </a:lnTo>
                    <a:lnTo>
                      <a:pt x="591" y="8034"/>
                    </a:lnTo>
                    <a:lnTo>
                      <a:pt x="532" y="7986"/>
                    </a:lnTo>
                    <a:lnTo>
                      <a:pt x="478" y="7934"/>
                    </a:lnTo>
                    <a:lnTo>
                      <a:pt x="426" y="7878"/>
                    </a:lnTo>
                    <a:lnTo>
                      <a:pt x="375" y="7821"/>
                    </a:lnTo>
                    <a:lnTo>
                      <a:pt x="329" y="7761"/>
                    </a:lnTo>
                    <a:lnTo>
                      <a:pt x="286" y="7699"/>
                    </a:lnTo>
                    <a:lnTo>
                      <a:pt x="244" y="7634"/>
                    </a:lnTo>
                    <a:lnTo>
                      <a:pt x="205" y="7570"/>
                    </a:lnTo>
                    <a:lnTo>
                      <a:pt x="170" y="7503"/>
                    </a:lnTo>
                    <a:lnTo>
                      <a:pt x="141" y="7432"/>
                    </a:lnTo>
                    <a:lnTo>
                      <a:pt x="111" y="7360"/>
                    </a:lnTo>
                    <a:lnTo>
                      <a:pt x="87" y="7287"/>
                    </a:lnTo>
                    <a:lnTo>
                      <a:pt x="65" y="7211"/>
                    </a:lnTo>
                    <a:lnTo>
                      <a:pt x="49" y="7136"/>
                    </a:lnTo>
                    <a:lnTo>
                      <a:pt x="33" y="7058"/>
                    </a:lnTo>
                    <a:lnTo>
                      <a:pt x="25" y="6980"/>
                    </a:lnTo>
                    <a:lnTo>
                      <a:pt x="16" y="6899"/>
                    </a:lnTo>
                    <a:lnTo>
                      <a:pt x="16" y="6817"/>
                    </a:lnTo>
                    <a:lnTo>
                      <a:pt x="16" y="1595"/>
                    </a:lnTo>
                    <a:lnTo>
                      <a:pt x="16" y="1515"/>
                    </a:lnTo>
                    <a:lnTo>
                      <a:pt x="25" y="1433"/>
                    </a:lnTo>
                    <a:lnTo>
                      <a:pt x="33" y="1355"/>
                    </a:lnTo>
                    <a:lnTo>
                      <a:pt x="49" y="1276"/>
                    </a:lnTo>
                    <a:lnTo>
                      <a:pt x="65" y="1202"/>
                    </a:lnTo>
                    <a:lnTo>
                      <a:pt x="87" y="1126"/>
                    </a:lnTo>
                    <a:lnTo>
                      <a:pt x="111" y="1053"/>
                    </a:lnTo>
                    <a:lnTo>
                      <a:pt x="141" y="983"/>
                    </a:lnTo>
                    <a:lnTo>
                      <a:pt x="170" y="912"/>
                    </a:lnTo>
                    <a:lnTo>
                      <a:pt x="205" y="845"/>
                    </a:lnTo>
                    <a:lnTo>
                      <a:pt x="244" y="778"/>
                    </a:lnTo>
                    <a:lnTo>
                      <a:pt x="286" y="713"/>
                    </a:lnTo>
                    <a:lnTo>
                      <a:pt x="329" y="651"/>
                    </a:lnTo>
                    <a:lnTo>
                      <a:pt x="375" y="592"/>
                    </a:lnTo>
                    <a:lnTo>
                      <a:pt x="426" y="535"/>
                    </a:lnTo>
                    <a:lnTo>
                      <a:pt x="478" y="481"/>
                    </a:lnTo>
                    <a:lnTo>
                      <a:pt x="532" y="428"/>
                    </a:lnTo>
                    <a:lnTo>
                      <a:pt x="591" y="378"/>
                    </a:lnTo>
                    <a:lnTo>
                      <a:pt x="651" y="332"/>
                    </a:lnTo>
                    <a:lnTo>
                      <a:pt x="713" y="287"/>
                    </a:lnTo>
                    <a:lnTo>
                      <a:pt x="775" y="246"/>
                    </a:lnTo>
                    <a:lnTo>
                      <a:pt x="842" y="209"/>
                    </a:lnTo>
                    <a:lnTo>
                      <a:pt x="910" y="173"/>
                    </a:lnTo>
                    <a:lnTo>
                      <a:pt x="980" y="141"/>
                    </a:lnTo>
                    <a:lnTo>
                      <a:pt x="1050" y="115"/>
                    </a:lnTo>
                    <a:lnTo>
                      <a:pt x="1126" y="90"/>
                    </a:lnTo>
                    <a:lnTo>
                      <a:pt x="1199" y="69"/>
                    </a:lnTo>
                    <a:lnTo>
                      <a:pt x="1277" y="50"/>
                    </a:lnTo>
                    <a:lnTo>
                      <a:pt x="1353" y="36"/>
                    </a:lnTo>
                    <a:lnTo>
                      <a:pt x="1434" y="25"/>
                    </a:lnTo>
                    <a:lnTo>
                      <a:pt x="1512" y="20"/>
                    </a:lnTo>
                    <a:lnTo>
                      <a:pt x="1593" y="17"/>
                    </a:lnTo>
                    <a:lnTo>
                      <a:pt x="8572" y="17"/>
                    </a:lnTo>
                    <a:lnTo>
                      <a:pt x="8653" y="20"/>
                    </a:lnTo>
                    <a:lnTo>
                      <a:pt x="8731" y="25"/>
                    </a:lnTo>
                    <a:lnTo>
                      <a:pt x="8809" y="36"/>
                    </a:lnTo>
                    <a:lnTo>
                      <a:pt x="8888" y="50"/>
                    </a:lnTo>
                    <a:lnTo>
                      <a:pt x="8966" y="69"/>
                    </a:lnTo>
                    <a:lnTo>
                      <a:pt x="9038" y="90"/>
                    </a:lnTo>
                    <a:lnTo>
                      <a:pt x="9111" y="115"/>
                    </a:lnTo>
                    <a:lnTo>
                      <a:pt x="9184" y="141"/>
                    </a:lnTo>
                    <a:lnTo>
                      <a:pt x="9254" y="173"/>
                    </a:lnTo>
                    <a:lnTo>
                      <a:pt x="9322" y="209"/>
                    </a:lnTo>
                    <a:lnTo>
                      <a:pt x="9389" y="246"/>
                    </a:lnTo>
                    <a:lnTo>
                      <a:pt x="9452" y="287"/>
                    </a:lnTo>
                    <a:lnTo>
                      <a:pt x="9514" y="332"/>
                    </a:lnTo>
                    <a:lnTo>
                      <a:pt x="9573" y="378"/>
                    </a:lnTo>
                    <a:lnTo>
                      <a:pt x="9632" y="428"/>
                    </a:lnTo>
                    <a:lnTo>
                      <a:pt x="9686" y="481"/>
                    </a:lnTo>
                    <a:lnTo>
                      <a:pt x="9737" y="535"/>
                    </a:lnTo>
                    <a:lnTo>
                      <a:pt x="9788" y="592"/>
                    </a:lnTo>
                    <a:lnTo>
                      <a:pt x="9834" y="651"/>
                    </a:lnTo>
                    <a:lnTo>
                      <a:pt x="9878" y="713"/>
                    </a:lnTo>
                    <a:lnTo>
                      <a:pt x="9921" y="778"/>
                    </a:lnTo>
                    <a:lnTo>
                      <a:pt x="9958" y="845"/>
                    </a:lnTo>
                    <a:lnTo>
                      <a:pt x="9994" y="912"/>
                    </a:lnTo>
                    <a:lnTo>
                      <a:pt x="10023" y="983"/>
                    </a:lnTo>
                    <a:lnTo>
                      <a:pt x="10053" y="1053"/>
                    </a:lnTo>
                    <a:lnTo>
                      <a:pt x="10078" y="1126"/>
                    </a:lnTo>
                    <a:lnTo>
                      <a:pt x="10099" y="1202"/>
                    </a:lnTo>
                    <a:lnTo>
                      <a:pt x="10115" y="1276"/>
                    </a:lnTo>
                    <a:lnTo>
                      <a:pt x="10131" y="1355"/>
                    </a:lnTo>
                    <a:lnTo>
                      <a:pt x="10140" y="1433"/>
                    </a:lnTo>
                    <a:lnTo>
                      <a:pt x="10147" y="1515"/>
                    </a:lnTo>
                    <a:lnTo>
                      <a:pt x="10147" y="1595"/>
                    </a:lnTo>
                    <a:lnTo>
                      <a:pt x="10147" y="6817"/>
                    </a:lnTo>
                    <a:lnTo>
                      <a:pt x="10147" y="6899"/>
                    </a:lnTo>
                    <a:lnTo>
                      <a:pt x="10140" y="6980"/>
                    </a:lnTo>
                    <a:lnTo>
                      <a:pt x="10131" y="7058"/>
                    </a:lnTo>
                    <a:lnTo>
                      <a:pt x="10115" y="7136"/>
                    </a:lnTo>
                    <a:lnTo>
                      <a:pt x="10099" y="7211"/>
                    </a:lnTo>
                    <a:lnTo>
                      <a:pt x="10078" y="7287"/>
                    </a:lnTo>
                    <a:lnTo>
                      <a:pt x="10053" y="7360"/>
                    </a:lnTo>
                    <a:lnTo>
                      <a:pt x="10023" y="7432"/>
                    </a:lnTo>
                    <a:lnTo>
                      <a:pt x="9994" y="7503"/>
                    </a:lnTo>
                    <a:lnTo>
                      <a:pt x="9958" y="7570"/>
                    </a:lnTo>
                    <a:lnTo>
                      <a:pt x="9921" y="7634"/>
                    </a:lnTo>
                    <a:lnTo>
                      <a:pt x="9878" y="7699"/>
                    </a:lnTo>
                    <a:lnTo>
                      <a:pt x="9834" y="7761"/>
                    </a:lnTo>
                    <a:lnTo>
                      <a:pt x="9788" y="7821"/>
                    </a:lnTo>
                    <a:lnTo>
                      <a:pt x="9737" y="7878"/>
                    </a:lnTo>
                    <a:lnTo>
                      <a:pt x="9686" y="7934"/>
                    </a:lnTo>
                    <a:lnTo>
                      <a:pt x="9632" y="7986"/>
                    </a:lnTo>
                    <a:lnTo>
                      <a:pt x="9573" y="8034"/>
                    </a:lnTo>
                    <a:lnTo>
                      <a:pt x="9514" y="8083"/>
                    </a:lnTo>
                    <a:lnTo>
                      <a:pt x="9452" y="8125"/>
                    </a:lnTo>
                    <a:lnTo>
                      <a:pt x="9389" y="8166"/>
                    </a:lnTo>
                    <a:lnTo>
                      <a:pt x="9322" y="8203"/>
                    </a:lnTo>
                    <a:lnTo>
                      <a:pt x="9254" y="8239"/>
                    </a:lnTo>
                    <a:lnTo>
                      <a:pt x="9184" y="8272"/>
                    </a:lnTo>
                    <a:lnTo>
                      <a:pt x="9111" y="8301"/>
                    </a:lnTo>
                    <a:lnTo>
                      <a:pt x="9038" y="8325"/>
                    </a:lnTo>
                    <a:lnTo>
                      <a:pt x="8966" y="8346"/>
                    </a:lnTo>
                    <a:lnTo>
                      <a:pt x="8888" y="8362"/>
                    </a:lnTo>
                    <a:lnTo>
                      <a:pt x="8809" y="8376"/>
                    </a:lnTo>
                    <a:lnTo>
                      <a:pt x="8731" y="8387"/>
                    </a:lnTo>
                    <a:lnTo>
                      <a:pt x="8653" y="8392"/>
                    </a:lnTo>
                    <a:lnTo>
                      <a:pt x="8572" y="8396"/>
                    </a:lnTo>
                    <a:lnTo>
                      <a:pt x="8572" y="8403"/>
                    </a:lnTo>
                    <a:lnTo>
                      <a:pt x="8572" y="8412"/>
                    </a:lnTo>
                    <a:lnTo>
                      <a:pt x="8653" y="8408"/>
                    </a:lnTo>
                    <a:lnTo>
                      <a:pt x="8734" y="8403"/>
                    </a:lnTo>
                    <a:lnTo>
                      <a:pt x="8812" y="8392"/>
                    </a:lnTo>
                    <a:lnTo>
                      <a:pt x="8890" y="8380"/>
                    </a:lnTo>
                    <a:lnTo>
                      <a:pt x="8968" y="8360"/>
                    </a:lnTo>
                    <a:lnTo>
                      <a:pt x="9044" y="8339"/>
                    </a:lnTo>
                    <a:lnTo>
                      <a:pt x="9116" y="8314"/>
                    </a:lnTo>
                    <a:lnTo>
                      <a:pt x="9189" y="8288"/>
                    </a:lnTo>
                    <a:lnTo>
                      <a:pt x="9260" y="8255"/>
                    </a:lnTo>
                    <a:lnTo>
                      <a:pt x="9330" y="8220"/>
                    </a:lnTo>
                    <a:lnTo>
                      <a:pt x="9397" y="8180"/>
                    </a:lnTo>
                    <a:lnTo>
                      <a:pt x="9463" y="8139"/>
                    </a:lnTo>
                    <a:lnTo>
                      <a:pt x="9525" y="8096"/>
                    </a:lnTo>
                    <a:lnTo>
                      <a:pt x="9583" y="8047"/>
                    </a:lnTo>
                    <a:lnTo>
                      <a:pt x="9643" y="7996"/>
                    </a:lnTo>
                    <a:lnTo>
                      <a:pt x="9697" y="7945"/>
                    </a:lnTo>
                    <a:lnTo>
                      <a:pt x="9751" y="7888"/>
                    </a:lnTo>
                    <a:lnTo>
                      <a:pt x="9799" y="7832"/>
                    </a:lnTo>
                    <a:lnTo>
                      <a:pt x="9848" y="7772"/>
                    </a:lnTo>
                    <a:lnTo>
                      <a:pt x="9891" y="7708"/>
                    </a:lnTo>
                    <a:lnTo>
                      <a:pt x="9935" y="7643"/>
                    </a:lnTo>
                    <a:lnTo>
                      <a:pt x="9972" y="7578"/>
                    </a:lnTo>
                    <a:lnTo>
                      <a:pt x="10007" y="7508"/>
                    </a:lnTo>
                    <a:lnTo>
                      <a:pt x="10040" y="7438"/>
                    </a:lnTo>
                    <a:lnTo>
                      <a:pt x="10066" y="7365"/>
                    </a:lnTo>
                    <a:lnTo>
                      <a:pt x="10094" y="7293"/>
                    </a:lnTo>
                    <a:lnTo>
                      <a:pt x="10115" y="7217"/>
                    </a:lnTo>
                    <a:lnTo>
                      <a:pt x="10131" y="7139"/>
                    </a:lnTo>
                    <a:lnTo>
                      <a:pt x="10145" y="7060"/>
                    </a:lnTo>
                    <a:lnTo>
                      <a:pt x="10156" y="6982"/>
                    </a:lnTo>
                    <a:lnTo>
                      <a:pt x="10163" y="6901"/>
                    </a:lnTo>
                    <a:lnTo>
                      <a:pt x="10163" y="6817"/>
                    </a:lnTo>
                    <a:lnTo>
                      <a:pt x="10163" y="1595"/>
                    </a:lnTo>
                    <a:lnTo>
                      <a:pt x="10163" y="1515"/>
                    </a:lnTo>
                    <a:lnTo>
                      <a:pt x="10156" y="1433"/>
                    </a:lnTo>
                    <a:lnTo>
                      <a:pt x="10145" y="1352"/>
                    </a:lnTo>
                    <a:lnTo>
                      <a:pt x="10131" y="1274"/>
                    </a:lnTo>
                    <a:lnTo>
                      <a:pt x="10115" y="1198"/>
                    </a:lnTo>
                    <a:lnTo>
                      <a:pt x="10094" y="1123"/>
                    </a:lnTo>
                    <a:lnTo>
                      <a:pt x="10066" y="1048"/>
                    </a:lnTo>
                    <a:lnTo>
                      <a:pt x="10040" y="974"/>
                    </a:lnTo>
                    <a:lnTo>
                      <a:pt x="10007" y="905"/>
                    </a:lnTo>
                    <a:lnTo>
                      <a:pt x="9972" y="838"/>
                    </a:lnTo>
                    <a:lnTo>
                      <a:pt x="9935" y="769"/>
                    </a:lnTo>
                    <a:lnTo>
                      <a:pt x="9891" y="705"/>
                    </a:lnTo>
                    <a:lnTo>
                      <a:pt x="9848" y="643"/>
                    </a:lnTo>
                    <a:lnTo>
                      <a:pt x="9799" y="583"/>
                    </a:lnTo>
                    <a:lnTo>
                      <a:pt x="9751" y="524"/>
                    </a:lnTo>
                    <a:lnTo>
                      <a:pt x="9697" y="470"/>
                    </a:lnTo>
                    <a:lnTo>
                      <a:pt x="9643" y="416"/>
                    </a:lnTo>
                    <a:lnTo>
                      <a:pt x="9583" y="365"/>
                    </a:lnTo>
                    <a:lnTo>
                      <a:pt x="9525" y="320"/>
                    </a:lnTo>
                    <a:lnTo>
                      <a:pt x="9463" y="274"/>
                    </a:lnTo>
                    <a:lnTo>
                      <a:pt x="9397" y="233"/>
                    </a:lnTo>
                    <a:lnTo>
                      <a:pt x="9330" y="195"/>
                    </a:lnTo>
                    <a:lnTo>
                      <a:pt x="9260" y="159"/>
                    </a:lnTo>
                    <a:lnTo>
                      <a:pt x="9189" y="127"/>
                    </a:lnTo>
                    <a:lnTo>
                      <a:pt x="9116" y="98"/>
                    </a:lnTo>
                    <a:lnTo>
                      <a:pt x="9044" y="74"/>
                    </a:lnTo>
                    <a:lnTo>
                      <a:pt x="8968" y="52"/>
                    </a:lnTo>
                    <a:lnTo>
                      <a:pt x="8890" y="33"/>
                    </a:lnTo>
                    <a:lnTo>
                      <a:pt x="8812" y="20"/>
                    </a:lnTo>
                    <a:lnTo>
                      <a:pt x="8734" y="9"/>
                    </a:lnTo>
                    <a:lnTo>
                      <a:pt x="8653" y="4"/>
                    </a:lnTo>
                    <a:lnTo>
                      <a:pt x="8572" y="0"/>
                    </a:lnTo>
                    <a:lnTo>
                      <a:pt x="1593" y="0"/>
                    </a:lnTo>
                    <a:lnTo>
                      <a:pt x="1512" y="4"/>
                    </a:lnTo>
                    <a:lnTo>
                      <a:pt x="1431" y="9"/>
                    </a:lnTo>
                    <a:lnTo>
                      <a:pt x="1349" y="20"/>
                    </a:lnTo>
                    <a:lnTo>
                      <a:pt x="1271" y="33"/>
                    </a:lnTo>
                    <a:lnTo>
                      <a:pt x="1196" y="52"/>
                    </a:lnTo>
                    <a:lnTo>
                      <a:pt x="1121" y="74"/>
                    </a:lnTo>
                    <a:lnTo>
                      <a:pt x="1045" y="98"/>
                    </a:lnTo>
                    <a:lnTo>
                      <a:pt x="974" y="127"/>
                    </a:lnTo>
                    <a:lnTo>
                      <a:pt x="902" y="159"/>
                    </a:lnTo>
                    <a:lnTo>
                      <a:pt x="834" y="195"/>
                    </a:lnTo>
                    <a:lnTo>
                      <a:pt x="767" y="233"/>
                    </a:lnTo>
                    <a:lnTo>
                      <a:pt x="702" y="274"/>
                    </a:lnTo>
                    <a:lnTo>
                      <a:pt x="640" y="320"/>
                    </a:lnTo>
                    <a:lnTo>
                      <a:pt x="580" y="365"/>
                    </a:lnTo>
                    <a:lnTo>
                      <a:pt x="521" y="416"/>
                    </a:lnTo>
                    <a:lnTo>
                      <a:pt x="467" y="470"/>
                    </a:lnTo>
                    <a:lnTo>
                      <a:pt x="413" y="524"/>
                    </a:lnTo>
                    <a:lnTo>
                      <a:pt x="364" y="583"/>
                    </a:lnTo>
                    <a:lnTo>
                      <a:pt x="316" y="643"/>
                    </a:lnTo>
                    <a:lnTo>
                      <a:pt x="272" y="705"/>
                    </a:lnTo>
                    <a:lnTo>
                      <a:pt x="230" y="769"/>
                    </a:lnTo>
                    <a:lnTo>
                      <a:pt x="192" y="838"/>
                    </a:lnTo>
                    <a:lnTo>
                      <a:pt x="157" y="905"/>
                    </a:lnTo>
                    <a:lnTo>
                      <a:pt x="125" y="974"/>
                    </a:lnTo>
                    <a:lnTo>
                      <a:pt x="95" y="1048"/>
                    </a:lnTo>
                    <a:lnTo>
                      <a:pt x="71" y="1123"/>
                    </a:lnTo>
                    <a:lnTo>
                      <a:pt x="49" y="1198"/>
                    </a:lnTo>
                    <a:lnTo>
                      <a:pt x="33" y="1274"/>
                    </a:lnTo>
                    <a:lnTo>
                      <a:pt x="16" y="1352"/>
                    </a:lnTo>
                    <a:lnTo>
                      <a:pt x="9" y="1433"/>
                    </a:lnTo>
                    <a:lnTo>
                      <a:pt x="0" y="1515"/>
                    </a:lnTo>
                    <a:lnTo>
                      <a:pt x="0" y="1595"/>
                    </a:lnTo>
                    <a:lnTo>
                      <a:pt x="0" y="6817"/>
                    </a:lnTo>
                    <a:lnTo>
                      <a:pt x="0" y="6901"/>
                    </a:lnTo>
                    <a:lnTo>
                      <a:pt x="9" y="6982"/>
                    </a:lnTo>
                    <a:lnTo>
                      <a:pt x="16" y="7060"/>
                    </a:lnTo>
                    <a:lnTo>
                      <a:pt x="33" y="7139"/>
                    </a:lnTo>
                    <a:lnTo>
                      <a:pt x="49" y="7217"/>
                    </a:lnTo>
                    <a:lnTo>
                      <a:pt x="71" y="7293"/>
                    </a:lnTo>
                    <a:lnTo>
                      <a:pt x="95" y="7365"/>
                    </a:lnTo>
                    <a:lnTo>
                      <a:pt x="125" y="7438"/>
                    </a:lnTo>
                    <a:lnTo>
                      <a:pt x="157" y="7508"/>
                    </a:lnTo>
                    <a:lnTo>
                      <a:pt x="192" y="7578"/>
                    </a:lnTo>
                    <a:lnTo>
                      <a:pt x="230" y="7643"/>
                    </a:lnTo>
                    <a:lnTo>
                      <a:pt x="272" y="7708"/>
                    </a:lnTo>
                    <a:lnTo>
                      <a:pt x="316" y="7772"/>
                    </a:lnTo>
                    <a:lnTo>
                      <a:pt x="364" y="7832"/>
                    </a:lnTo>
                    <a:lnTo>
                      <a:pt x="413" y="7888"/>
                    </a:lnTo>
                    <a:lnTo>
                      <a:pt x="467" y="7945"/>
                    </a:lnTo>
                    <a:lnTo>
                      <a:pt x="521" y="7996"/>
                    </a:lnTo>
                    <a:lnTo>
                      <a:pt x="580" y="8047"/>
                    </a:lnTo>
                    <a:lnTo>
                      <a:pt x="640" y="8096"/>
                    </a:lnTo>
                    <a:lnTo>
                      <a:pt x="702" y="8139"/>
                    </a:lnTo>
                    <a:lnTo>
                      <a:pt x="767" y="8180"/>
                    </a:lnTo>
                    <a:lnTo>
                      <a:pt x="834" y="8220"/>
                    </a:lnTo>
                    <a:lnTo>
                      <a:pt x="902" y="8255"/>
                    </a:lnTo>
                    <a:lnTo>
                      <a:pt x="974" y="8288"/>
                    </a:lnTo>
                    <a:lnTo>
                      <a:pt x="1045" y="8314"/>
                    </a:lnTo>
                    <a:lnTo>
                      <a:pt x="1121" y="8339"/>
                    </a:lnTo>
                    <a:lnTo>
                      <a:pt x="1196" y="8360"/>
                    </a:lnTo>
                    <a:lnTo>
                      <a:pt x="1271" y="8380"/>
                    </a:lnTo>
                    <a:lnTo>
                      <a:pt x="1349" y="8392"/>
                    </a:lnTo>
                    <a:lnTo>
                      <a:pt x="1431" y="8403"/>
                    </a:lnTo>
                    <a:lnTo>
                      <a:pt x="1512" y="8408"/>
                    </a:lnTo>
                    <a:lnTo>
                      <a:pt x="1593" y="8412"/>
                    </a:lnTo>
                    <a:lnTo>
                      <a:pt x="8572" y="8412"/>
                    </a:lnTo>
                    <a:lnTo>
                      <a:pt x="8572" y="840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11800" y="2419920"/>
                <a:ext cx="1521360" cy="1203480"/>
              </a:xfrm>
              <a:custGeom>
                <a:avLst/>
                <a:gdLst/>
                <a:ahLst/>
                <a:rect l="l" t="t" r="r" b="b"/>
                <a:pathLst>
                  <a:path w="9818" h="8066">
                    <a:moveTo>
                      <a:pt x="8399" y="8066"/>
                    </a:moveTo>
                    <a:lnTo>
                      <a:pt x="1420" y="8066"/>
                    </a:lnTo>
                    <a:lnTo>
                      <a:pt x="1346" y="8063"/>
                    </a:lnTo>
                    <a:lnTo>
                      <a:pt x="1277" y="8058"/>
                    </a:lnTo>
                    <a:lnTo>
                      <a:pt x="1204" y="8050"/>
                    </a:lnTo>
                    <a:lnTo>
                      <a:pt x="1134" y="8036"/>
                    </a:lnTo>
                    <a:lnTo>
                      <a:pt x="1066" y="8020"/>
                    </a:lnTo>
                    <a:lnTo>
                      <a:pt x="999" y="8002"/>
                    </a:lnTo>
                    <a:lnTo>
                      <a:pt x="931" y="7979"/>
                    </a:lnTo>
                    <a:lnTo>
                      <a:pt x="869" y="7956"/>
                    </a:lnTo>
                    <a:lnTo>
                      <a:pt x="805" y="7926"/>
                    </a:lnTo>
                    <a:lnTo>
                      <a:pt x="745" y="7894"/>
                    </a:lnTo>
                    <a:lnTo>
                      <a:pt x="686" y="7861"/>
                    </a:lnTo>
                    <a:lnTo>
                      <a:pt x="626" y="7823"/>
                    </a:lnTo>
                    <a:lnTo>
                      <a:pt x="570" y="7783"/>
                    </a:lnTo>
                    <a:lnTo>
                      <a:pt x="518" y="7742"/>
                    </a:lnTo>
                    <a:lnTo>
                      <a:pt x="464" y="7696"/>
                    </a:lnTo>
                    <a:lnTo>
                      <a:pt x="416" y="7650"/>
                    </a:lnTo>
                    <a:lnTo>
                      <a:pt x="370" y="7599"/>
                    </a:lnTo>
                    <a:lnTo>
                      <a:pt x="324" y="7548"/>
                    </a:lnTo>
                    <a:lnTo>
                      <a:pt x="283" y="7494"/>
                    </a:lnTo>
                    <a:lnTo>
                      <a:pt x="243" y="7440"/>
                    </a:lnTo>
                    <a:lnTo>
                      <a:pt x="205" y="7381"/>
                    </a:lnTo>
                    <a:lnTo>
                      <a:pt x="170" y="7321"/>
                    </a:lnTo>
                    <a:lnTo>
                      <a:pt x="140" y="7259"/>
                    </a:lnTo>
                    <a:lnTo>
                      <a:pt x="111" y="7197"/>
                    </a:lnTo>
                    <a:lnTo>
                      <a:pt x="87" y="7132"/>
                    </a:lnTo>
                    <a:lnTo>
                      <a:pt x="62" y="7068"/>
                    </a:lnTo>
                    <a:lnTo>
                      <a:pt x="43" y="7000"/>
                    </a:lnTo>
                    <a:lnTo>
                      <a:pt x="27" y="6931"/>
                    </a:lnTo>
                    <a:lnTo>
                      <a:pt x="16" y="6860"/>
                    </a:lnTo>
                    <a:lnTo>
                      <a:pt x="5" y="6790"/>
                    </a:lnTo>
                    <a:lnTo>
                      <a:pt x="0" y="6717"/>
                    </a:lnTo>
                    <a:lnTo>
                      <a:pt x="0" y="6644"/>
                    </a:lnTo>
                    <a:lnTo>
                      <a:pt x="0" y="1422"/>
                    </a:lnTo>
                    <a:lnTo>
                      <a:pt x="0" y="1349"/>
                    </a:lnTo>
                    <a:lnTo>
                      <a:pt x="5" y="1276"/>
                    </a:lnTo>
                    <a:lnTo>
                      <a:pt x="16" y="1206"/>
                    </a:lnTo>
                    <a:lnTo>
                      <a:pt x="27" y="1137"/>
                    </a:lnTo>
                    <a:lnTo>
                      <a:pt x="43" y="1068"/>
                    </a:lnTo>
                    <a:lnTo>
                      <a:pt x="62" y="1001"/>
                    </a:lnTo>
                    <a:lnTo>
                      <a:pt x="87" y="934"/>
                    </a:lnTo>
                    <a:lnTo>
                      <a:pt x="111" y="869"/>
                    </a:lnTo>
                    <a:lnTo>
                      <a:pt x="140" y="807"/>
                    </a:lnTo>
                    <a:lnTo>
                      <a:pt x="170" y="745"/>
                    </a:lnTo>
                    <a:lnTo>
                      <a:pt x="205" y="686"/>
                    </a:lnTo>
                    <a:lnTo>
                      <a:pt x="243" y="629"/>
                    </a:lnTo>
                    <a:lnTo>
                      <a:pt x="283" y="573"/>
                    </a:lnTo>
                    <a:lnTo>
                      <a:pt x="324" y="518"/>
                    </a:lnTo>
                    <a:lnTo>
                      <a:pt x="370" y="467"/>
                    </a:lnTo>
                    <a:lnTo>
                      <a:pt x="416" y="419"/>
                    </a:lnTo>
                    <a:lnTo>
                      <a:pt x="464" y="370"/>
                    </a:lnTo>
                    <a:lnTo>
                      <a:pt x="518" y="327"/>
                    </a:lnTo>
                    <a:lnTo>
                      <a:pt x="570" y="283"/>
                    </a:lnTo>
                    <a:lnTo>
                      <a:pt x="626" y="243"/>
                    </a:lnTo>
                    <a:lnTo>
                      <a:pt x="686" y="209"/>
                    </a:lnTo>
                    <a:lnTo>
                      <a:pt x="745" y="173"/>
                    </a:lnTo>
                    <a:lnTo>
                      <a:pt x="805" y="140"/>
                    </a:lnTo>
                    <a:lnTo>
                      <a:pt x="869" y="114"/>
                    </a:lnTo>
                    <a:lnTo>
                      <a:pt x="931" y="87"/>
                    </a:lnTo>
                    <a:lnTo>
                      <a:pt x="999" y="66"/>
                    </a:lnTo>
                    <a:lnTo>
                      <a:pt x="1066" y="46"/>
                    </a:lnTo>
                    <a:lnTo>
                      <a:pt x="1134" y="30"/>
                    </a:lnTo>
                    <a:lnTo>
                      <a:pt x="1204" y="16"/>
                    </a:lnTo>
                    <a:lnTo>
                      <a:pt x="1277" y="9"/>
                    </a:lnTo>
                    <a:lnTo>
                      <a:pt x="1346" y="4"/>
                    </a:lnTo>
                    <a:lnTo>
                      <a:pt x="1420" y="0"/>
                    </a:lnTo>
                    <a:lnTo>
                      <a:pt x="8399" y="0"/>
                    </a:lnTo>
                    <a:lnTo>
                      <a:pt x="8471" y="4"/>
                    </a:lnTo>
                    <a:lnTo>
                      <a:pt x="8542" y="9"/>
                    </a:lnTo>
                    <a:lnTo>
                      <a:pt x="8614" y="16"/>
                    </a:lnTo>
                    <a:lnTo>
                      <a:pt x="8685" y="30"/>
                    </a:lnTo>
                    <a:lnTo>
                      <a:pt x="8752" y="46"/>
                    </a:lnTo>
                    <a:lnTo>
                      <a:pt x="8820" y="66"/>
                    </a:lnTo>
                    <a:lnTo>
                      <a:pt x="8885" y="87"/>
                    </a:lnTo>
                    <a:lnTo>
                      <a:pt x="8949" y="114"/>
                    </a:lnTo>
                    <a:lnTo>
                      <a:pt x="9014" y="140"/>
                    </a:lnTo>
                    <a:lnTo>
                      <a:pt x="9074" y="173"/>
                    </a:lnTo>
                    <a:lnTo>
                      <a:pt x="9133" y="209"/>
                    </a:lnTo>
                    <a:lnTo>
                      <a:pt x="9192" y="243"/>
                    </a:lnTo>
                    <a:lnTo>
                      <a:pt x="9246" y="283"/>
                    </a:lnTo>
                    <a:lnTo>
                      <a:pt x="9300" y="327"/>
                    </a:lnTo>
                    <a:lnTo>
                      <a:pt x="9352" y="370"/>
                    </a:lnTo>
                    <a:lnTo>
                      <a:pt x="9403" y="419"/>
                    </a:lnTo>
                    <a:lnTo>
                      <a:pt x="9449" y="467"/>
                    </a:lnTo>
                    <a:lnTo>
                      <a:pt x="9495" y="518"/>
                    </a:lnTo>
                    <a:lnTo>
                      <a:pt x="9534" y="573"/>
                    </a:lnTo>
                    <a:lnTo>
                      <a:pt x="9575" y="629"/>
                    </a:lnTo>
                    <a:lnTo>
                      <a:pt x="9613" y="686"/>
                    </a:lnTo>
                    <a:lnTo>
                      <a:pt x="9649" y="745"/>
                    </a:lnTo>
                    <a:lnTo>
                      <a:pt x="9677" y="807"/>
                    </a:lnTo>
                    <a:lnTo>
                      <a:pt x="9707" y="869"/>
                    </a:lnTo>
                    <a:lnTo>
                      <a:pt x="9732" y="934"/>
                    </a:lnTo>
                    <a:lnTo>
                      <a:pt x="9756" y="1001"/>
                    </a:lnTo>
                    <a:lnTo>
                      <a:pt x="9775" y="1068"/>
                    </a:lnTo>
                    <a:lnTo>
                      <a:pt x="9792" y="1137"/>
                    </a:lnTo>
                    <a:lnTo>
                      <a:pt x="9802" y="1206"/>
                    </a:lnTo>
                    <a:lnTo>
                      <a:pt x="9813" y="1276"/>
                    </a:lnTo>
                    <a:lnTo>
                      <a:pt x="9818" y="1349"/>
                    </a:lnTo>
                    <a:lnTo>
                      <a:pt x="9818" y="1422"/>
                    </a:lnTo>
                    <a:lnTo>
                      <a:pt x="9818" y="6644"/>
                    </a:lnTo>
                    <a:lnTo>
                      <a:pt x="9818" y="6717"/>
                    </a:lnTo>
                    <a:lnTo>
                      <a:pt x="9813" y="6790"/>
                    </a:lnTo>
                    <a:lnTo>
                      <a:pt x="9802" y="6860"/>
                    </a:lnTo>
                    <a:lnTo>
                      <a:pt x="9792" y="6931"/>
                    </a:lnTo>
                    <a:lnTo>
                      <a:pt x="9775" y="7000"/>
                    </a:lnTo>
                    <a:lnTo>
                      <a:pt x="9756" y="7068"/>
                    </a:lnTo>
                    <a:lnTo>
                      <a:pt x="9732" y="7132"/>
                    </a:lnTo>
                    <a:lnTo>
                      <a:pt x="9707" y="7197"/>
                    </a:lnTo>
                    <a:lnTo>
                      <a:pt x="9677" y="7259"/>
                    </a:lnTo>
                    <a:lnTo>
                      <a:pt x="9649" y="7321"/>
                    </a:lnTo>
                    <a:lnTo>
                      <a:pt x="9613" y="7381"/>
                    </a:lnTo>
                    <a:lnTo>
                      <a:pt x="9575" y="7440"/>
                    </a:lnTo>
                    <a:lnTo>
                      <a:pt x="9534" y="7494"/>
                    </a:lnTo>
                    <a:lnTo>
                      <a:pt x="9495" y="7548"/>
                    </a:lnTo>
                    <a:lnTo>
                      <a:pt x="9449" y="7599"/>
                    </a:lnTo>
                    <a:lnTo>
                      <a:pt x="9403" y="7650"/>
                    </a:lnTo>
                    <a:lnTo>
                      <a:pt x="9352" y="7696"/>
                    </a:lnTo>
                    <a:lnTo>
                      <a:pt x="9300" y="7742"/>
                    </a:lnTo>
                    <a:lnTo>
                      <a:pt x="9246" y="7783"/>
                    </a:lnTo>
                    <a:lnTo>
                      <a:pt x="9192" y="7823"/>
                    </a:lnTo>
                    <a:lnTo>
                      <a:pt x="9133" y="7861"/>
                    </a:lnTo>
                    <a:lnTo>
                      <a:pt x="9074" y="7894"/>
                    </a:lnTo>
                    <a:lnTo>
                      <a:pt x="9014" y="7926"/>
                    </a:lnTo>
                    <a:lnTo>
                      <a:pt x="8949" y="7956"/>
                    </a:lnTo>
                    <a:lnTo>
                      <a:pt x="8885" y="7979"/>
                    </a:lnTo>
                    <a:lnTo>
                      <a:pt x="8820" y="8002"/>
                    </a:lnTo>
                    <a:lnTo>
                      <a:pt x="8752" y="8020"/>
                    </a:lnTo>
                    <a:lnTo>
                      <a:pt x="8685" y="8036"/>
                    </a:lnTo>
                    <a:lnTo>
                      <a:pt x="8614" y="8050"/>
                    </a:lnTo>
                    <a:lnTo>
                      <a:pt x="8542" y="8058"/>
                    </a:lnTo>
                    <a:lnTo>
                      <a:pt x="8471" y="8063"/>
                    </a:lnTo>
                    <a:lnTo>
                      <a:pt x="8399" y="8066"/>
                    </a:lnTo>
                    <a:close/>
                  </a:path>
                </a:pathLst>
              </a:custGeom>
              <a:solidFill>
                <a:srgbClr val="f0d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52120" y="2460600"/>
                <a:ext cx="1437840" cy="1121400"/>
              </a:xfrm>
              <a:custGeom>
                <a:avLst/>
                <a:gdLst/>
                <a:ahLst/>
                <a:rect l="l" t="t" r="r" b="b"/>
                <a:pathLst>
                  <a:path w="9284" h="7528">
                    <a:moveTo>
                      <a:pt x="8132" y="7528"/>
                    </a:moveTo>
                    <a:lnTo>
                      <a:pt x="1153" y="7528"/>
                    </a:lnTo>
                    <a:lnTo>
                      <a:pt x="1093" y="7526"/>
                    </a:lnTo>
                    <a:lnTo>
                      <a:pt x="1036" y="7522"/>
                    </a:lnTo>
                    <a:lnTo>
                      <a:pt x="977" y="7515"/>
                    </a:lnTo>
                    <a:lnTo>
                      <a:pt x="920" y="7503"/>
                    </a:lnTo>
                    <a:lnTo>
                      <a:pt x="867" y="7490"/>
                    </a:lnTo>
                    <a:lnTo>
                      <a:pt x="810" y="7474"/>
                    </a:lnTo>
                    <a:lnTo>
                      <a:pt x="759" y="7457"/>
                    </a:lnTo>
                    <a:lnTo>
                      <a:pt x="704" y="7436"/>
                    </a:lnTo>
                    <a:lnTo>
                      <a:pt x="653" y="7412"/>
                    </a:lnTo>
                    <a:lnTo>
                      <a:pt x="605" y="7388"/>
                    </a:lnTo>
                    <a:lnTo>
                      <a:pt x="556" y="7361"/>
                    </a:lnTo>
                    <a:lnTo>
                      <a:pt x="510" y="7331"/>
                    </a:lnTo>
                    <a:lnTo>
                      <a:pt x="465" y="7298"/>
                    </a:lnTo>
                    <a:lnTo>
                      <a:pt x="421" y="7264"/>
                    </a:lnTo>
                    <a:lnTo>
                      <a:pt x="378" y="7229"/>
                    </a:lnTo>
                    <a:lnTo>
                      <a:pt x="338" y="7188"/>
                    </a:lnTo>
                    <a:lnTo>
                      <a:pt x="299" y="7148"/>
                    </a:lnTo>
                    <a:lnTo>
                      <a:pt x="265" y="7107"/>
                    </a:lnTo>
                    <a:lnTo>
                      <a:pt x="230" y="7064"/>
                    </a:lnTo>
                    <a:lnTo>
                      <a:pt x="197" y="7018"/>
                    </a:lnTo>
                    <a:lnTo>
                      <a:pt x="168" y="6972"/>
                    </a:lnTo>
                    <a:lnTo>
                      <a:pt x="140" y="6923"/>
                    </a:lnTo>
                    <a:lnTo>
                      <a:pt x="113" y="6872"/>
                    </a:lnTo>
                    <a:lnTo>
                      <a:pt x="92" y="6821"/>
                    </a:lnTo>
                    <a:lnTo>
                      <a:pt x="71" y="6770"/>
                    </a:lnTo>
                    <a:lnTo>
                      <a:pt x="51" y="6716"/>
                    </a:lnTo>
                    <a:lnTo>
                      <a:pt x="35" y="6662"/>
                    </a:lnTo>
                    <a:lnTo>
                      <a:pt x="25" y="6605"/>
                    </a:lnTo>
                    <a:lnTo>
                      <a:pt x="14" y="6548"/>
                    </a:lnTo>
                    <a:lnTo>
                      <a:pt x="6" y="6492"/>
                    </a:lnTo>
                    <a:lnTo>
                      <a:pt x="3" y="6433"/>
                    </a:lnTo>
                    <a:lnTo>
                      <a:pt x="0" y="6373"/>
                    </a:lnTo>
                    <a:lnTo>
                      <a:pt x="0" y="1151"/>
                    </a:lnTo>
                    <a:lnTo>
                      <a:pt x="3" y="1092"/>
                    </a:lnTo>
                    <a:lnTo>
                      <a:pt x="6" y="1032"/>
                    </a:lnTo>
                    <a:lnTo>
                      <a:pt x="14" y="976"/>
                    </a:lnTo>
                    <a:lnTo>
                      <a:pt x="25" y="919"/>
                    </a:lnTo>
                    <a:lnTo>
                      <a:pt x="35" y="862"/>
                    </a:lnTo>
                    <a:lnTo>
                      <a:pt x="51" y="809"/>
                    </a:lnTo>
                    <a:lnTo>
                      <a:pt x="71" y="754"/>
                    </a:lnTo>
                    <a:lnTo>
                      <a:pt x="92" y="703"/>
                    </a:lnTo>
                    <a:lnTo>
                      <a:pt x="113" y="652"/>
                    </a:lnTo>
                    <a:lnTo>
                      <a:pt x="140" y="604"/>
                    </a:lnTo>
                    <a:lnTo>
                      <a:pt x="168" y="555"/>
                    </a:lnTo>
                    <a:lnTo>
                      <a:pt x="197" y="507"/>
                    </a:lnTo>
                    <a:lnTo>
                      <a:pt x="230" y="463"/>
                    </a:lnTo>
                    <a:lnTo>
                      <a:pt x="265" y="417"/>
                    </a:lnTo>
                    <a:lnTo>
                      <a:pt x="299" y="376"/>
                    </a:lnTo>
                    <a:lnTo>
                      <a:pt x="338" y="336"/>
                    </a:lnTo>
                    <a:lnTo>
                      <a:pt x="378" y="299"/>
                    </a:lnTo>
                    <a:lnTo>
                      <a:pt x="421" y="261"/>
                    </a:lnTo>
                    <a:lnTo>
                      <a:pt x="465" y="228"/>
                    </a:lnTo>
                    <a:lnTo>
                      <a:pt x="510" y="196"/>
                    </a:lnTo>
                    <a:lnTo>
                      <a:pt x="556" y="166"/>
                    </a:lnTo>
                    <a:lnTo>
                      <a:pt x="605" y="137"/>
                    </a:lnTo>
                    <a:lnTo>
                      <a:pt x="653" y="113"/>
                    </a:lnTo>
                    <a:lnTo>
                      <a:pt x="704" y="88"/>
                    </a:lnTo>
                    <a:lnTo>
                      <a:pt x="759" y="69"/>
                    </a:lnTo>
                    <a:lnTo>
                      <a:pt x="810" y="51"/>
                    </a:lnTo>
                    <a:lnTo>
                      <a:pt x="867" y="35"/>
                    </a:lnTo>
                    <a:lnTo>
                      <a:pt x="920" y="21"/>
                    </a:lnTo>
                    <a:lnTo>
                      <a:pt x="977" y="12"/>
                    </a:lnTo>
                    <a:lnTo>
                      <a:pt x="1036" y="5"/>
                    </a:lnTo>
                    <a:lnTo>
                      <a:pt x="1093" y="0"/>
                    </a:lnTo>
                    <a:lnTo>
                      <a:pt x="1153" y="0"/>
                    </a:lnTo>
                    <a:lnTo>
                      <a:pt x="8132" y="0"/>
                    </a:lnTo>
                    <a:lnTo>
                      <a:pt x="8188" y="0"/>
                    </a:lnTo>
                    <a:lnTo>
                      <a:pt x="8248" y="5"/>
                    </a:lnTo>
                    <a:lnTo>
                      <a:pt x="8307" y="12"/>
                    </a:lnTo>
                    <a:lnTo>
                      <a:pt x="8363" y="21"/>
                    </a:lnTo>
                    <a:lnTo>
                      <a:pt x="8418" y="35"/>
                    </a:lnTo>
                    <a:lnTo>
                      <a:pt x="8471" y="51"/>
                    </a:lnTo>
                    <a:lnTo>
                      <a:pt x="8526" y="69"/>
                    </a:lnTo>
                    <a:lnTo>
                      <a:pt x="8579" y="88"/>
                    </a:lnTo>
                    <a:lnTo>
                      <a:pt x="8631" y="113"/>
                    </a:lnTo>
                    <a:lnTo>
                      <a:pt x="8680" y="137"/>
                    </a:lnTo>
                    <a:lnTo>
                      <a:pt x="8728" y="166"/>
                    </a:lnTo>
                    <a:lnTo>
                      <a:pt x="8774" y="196"/>
                    </a:lnTo>
                    <a:lnTo>
                      <a:pt x="8820" y="228"/>
                    </a:lnTo>
                    <a:lnTo>
                      <a:pt x="8863" y="261"/>
                    </a:lnTo>
                    <a:lnTo>
                      <a:pt x="8906" y="299"/>
                    </a:lnTo>
                    <a:lnTo>
                      <a:pt x="8947" y="336"/>
                    </a:lnTo>
                    <a:lnTo>
                      <a:pt x="8984" y="376"/>
                    </a:lnTo>
                    <a:lnTo>
                      <a:pt x="9019" y="417"/>
                    </a:lnTo>
                    <a:lnTo>
                      <a:pt x="9055" y="463"/>
                    </a:lnTo>
                    <a:lnTo>
                      <a:pt x="9087" y="507"/>
                    </a:lnTo>
                    <a:lnTo>
                      <a:pt x="9117" y="555"/>
                    </a:lnTo>
                    <a:lnTo>
                      <a:pt x="9143" y="604"/>
                    </a:lnTo>
                    <a:lnTo>
                      <a:pt x="9171" y="652"/>
                    </a:lnTo>
                    <a:lnTo>
                      <a:pt x="9192" y="703"/>
                    </a:lnTo>
                    <a:lnTo>
                      <a:pt x="9214" y="754"/>
                    </a:lnTo>
                    <a:lnTo>
                      <a:pt x="9233" y="809"/>
                    </a:lnTo>
                    <a:lnTo>
                      <a:pt x="9246" y="862"/>
                    </a:lnTo>
                    <a:lnTo>
                      <a:pt x="9260" y="919"/>
                    </a:lnTo>
                    <a:lnTo>
                      <a:pt x="9270" y="976"/>
                    </a:lnTo>
                    <a:lnTo>
                      <a:pt x="9279" y="1032"/>
                    </a:lnTo>
                    <a:lnTo>
                      <a:pt x="9281" y="1092"/>
                    </a:lnTo>
                    <a:lnTo>
                      <a:pt x="9284" y="1151"/>
                    </a:lnTo>
                    <a:lnTo>
                      <a:pt x="9284" y="6373"/>
                    </a:lnTo>
                    <a:lnTo>
                      <a:pt x="9281" y="6433"/>
                    </a:lnTo>
                    <a:lnTo>
                      <a:pt x="9279" y="6492"/>
                    </a:lnTo>
                    <a:lnTo>
                      <a:pt x="9270" y="6548"/>
                    </a:lnTo>
                    <a:lnTo>
                      <a:pt x="9260" y="6605"/>
                    </a:lnTo>
                    <a:lnTo>
                      <a:pt x="9246" y="6662"/>
                    </a:lnTo>
                    <a:lnTo>
                      <a:pt x="9233" y="6716"/>
                    </a:lnTo>
                    <a:lnTo>
                      <a:pt x="9214" y="6770"/>
                    </a:lnTo>
                    <a:lnTo>
                      <a:pt x="9192" y="6821"/>
                    </a:lnTo>
                    <a:lnTo>
                      <a:pt x="9171" y="6872"/>
                    </a:lnTo>
                    <a:lnTo>
                      <a:pt x="9143" y="6923"/>
                    </a:lnTo>
                    <a:lnTo>
                      <a:pt x="9117" y="6972"/>
                    </a:lnTo>
                    <a:lnTo>
                      <a:pt x="9087" y="7018"/>
                    </a:lnTo>
                    <a:lnTo>
                      <a:pt x="9055" y="7064"/>
                    </a:lnTo>
                    <a:lnTo>
                      <a:pt x="9019" y="7107"/>
                    </a:lnTo>
                    <a:lnTo>
                      <a:pt x="8984" y="7148"/>
                    </a:lnTo>
                    <a:lnTo>
                      <a:pt x="8947" y="7188"/>
                    </a:lnTo>
                    <a:lnTo>
                      <a:pt x="8906" y="7229"/>
                    </a:lnTo>
                    <a:lnTo>
                      <a:pt x="8863" y="7264"/>
                    </a:lnTo>
                    <a:lnTo>
                      <a:pt x="8820" y="7298"/>
                    </a:lnTo>
                    <a:lnTo>
                      <a:pt x="8774" y="7331"/>
                    </a:lnTo>
                    <a:lnTo>
                      <a:pt x="8728" y="7361"/>
                    </a:lnTo>
                    <a:lnTo>
                      <a:pt x="8680" y="7388"/>
                    </a:lnTo>
                    <a:lnTo>
                      <a:pt x="8631" y="7412"/>
                    </a:lnTo>
                    <a:lnTo>
                      <a:pt x="8579" y="7436"/>
                    </a:lnTo>
                    <a:lnTo>
                      <a:pt x="8526" y="7457"/>
                    </a:lnTo>
                    <a:lnTo>
                      <a:pt x="8471" y="7474"/>
                    </a:lnTo>
                    <a:lnTo>
                      <a:pt x="8418" y="7490"/>
                    </a:lnTo>
                    <a:lnTo>
                      <a:pt x="8363" y="7503"/>
                    </a:lnTo>
                    <a:lnTo>
                      <a:pt x="8307" y="7515"/>
                    </a:lnTo>
                    <a:lnTo>
                      <a:pt x="8248" y="7522"/>
                    </a:lnTo>
                    <a:lnTo>
                      <a:pt x="8188" y="7526"/>
                    </a:lnTo>
                    <a:lnTo>
                      <a:pt x="8132" y="7528"/>
                    </a:lnTo>
                    <a:close/>
                  </a:path>
                </a:pathLst>
              </a:custGeom>
              <a:solidFill>
                <a:srgbClr val="da7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52120" y="2459160"/>
                <a:ext cx="1440000" cy="1124640"/>
              </a:xfrm>
              <a:custGeom>
                <a:avLst/>
                <a:gdLst/>
                <a:ahLst/>
                <a:rect l="l" t="t" r="r" b="b"/>
                <a:pathLst>
                  <a:path w="9300" h="7545">
                    <a:moveTo>
                      <a:pt x="8140" y="7537"/>
                    </a:moveTo>
                    <a:lnTo>
                      <a:pt x="8140" y="7529"/>
                    </a:lnTo>
                    <a:lnTo>
                      <a:pt x="1161" y="7529"/>
                    </a:lnTo>
                    <a:lnTo>
                      <a:pt x="1104" y="7526"/>
                    </a:lnTo>
                    <a:lnTo>
                      <a:pt x="1044" y="7521"/>
                    </a:lnTo>
                    <a:lnTo>
                      <a:pt x="988" y="7515"/>
                    </a:lnTo>
                    <a:lnTo>
                      <a:pt x="931" y="7505"/>
                    </a:lnTo>
                    <a:lnTo>
                      <a:pt x="875" y="7491"/>
                    </a:lnTo>
                    <a:lnTo>
                      <a:pt x="820" y="7478"/>
                    </a:lnTo>
                    <a:lnTo>
                      <a:pt x="769" y="7459"/>
                    </a:lnTo>
                    <a:lnTo>
                      <a:pt x="715" y="7437"/>
                    </a:lnTo>
                    <a:lnTo>
                      <a:pt x="666" y="7415"/>
                    </a:lnTo>
                    <a:lnTo>
                      <a:pt x="615" y="7388"/>
                    </a:lnTo>
                    <a:lnTo>
                      <a:pt x="567" y="7362"/>
                    </a:lnTo>
                    <a:lnTo>
                      <a:pt x="521" y="7332"/>
                    </a:lnTo>
                    <a:lnTo>
                      <a:pt x="478" y="7300"/>
                    </a:lnTo>
                    <a:lnTo>
                      <a:pt x="434" y="7268"/>
                    </a:lnTo>
                    <a:lnTo>
                      <a:pt x="392" y="7229"/>
                    </a:lnTo>
                    <a:lnTo>
                      <a:pt x="351" y="7192"/>
                    </a:lnTo>
                    <a:lnTo>
                      <a:pt x="313" y="7153"/>
                    </a:lnTo>
                    <a:lnTo>
                      <a:pt x="278" y="7111"/>
                    </a:lnTo>
                    <a:lnTo>
                      <a:pt x="243" y="7068"/>
                    </a:lnTo>
                    <a:lnTo>
                      <a:pt x="213" y="7022"/>
                    </a:lnTo>
                    <a:lnTo>
                      <a:pt x="181" y="6976"/>
                    </a:lnTo>
                    <a:lnTo>
                      <a:pt x="153" y="6927"/>
                    </a:lnTo>
                    <a:lnTo>
                      <a:pt x="130" y="6879"/>
                    </a:lnTo>
                    <a:lnTo>
                      <a:pt x="105" y="6828"/>
                    </a:lnTo>
                    <a:lnTo>
                      <a:pt x="86" y="6776"/>
                    </a:lnTo>
                    <a:lnTo>
                      <a:pt x="68" y="6722"/>
                    </a:lnTo>
                    <a:lnTo>
                      <a:pt x="51" y="6669"/>
                    </a:lnTo>
                    <a:lnTo>
                      <a:pt x="40" y="6614"/>
                    </a:lnTo>
                    <a:lnTo>
                      <a:pt x="30" y="6557"/>
                    </a:lnTo>
                    <a:lnTo>
                      <a:pt x="22" y="6501"/>
                    </a:lnTo>
                    <a:lnTo>
                      <a:pt x="19" y="6442"/>
                    </a:lnTo>
                    <a:lnTo>
                      <a:pt x="17" y="6382"/>
                    </a:lnTo>
                    <a:lnTo>
                      <a:pt x="17" y="1160"/>
                    </a:lnTo>
                    <a:lnTo>
                      <a:pt x="19" y="1101"/>
                    </a:lnTo>
                    <a:lnTo>
                      <a:pt x="22" y="1044"/>
                    </a:lnTo>
                    <a:lnTo>
                      <a:pt x="30" y="988"/>
                    </a:lnTo>
                    <a:lnTo>
                      <a:pt x="40" y="931"/>
                    </a:lnTo>
                    <a:lnTo>
                      <a:pt x="51" y="875"/>
                    </a:lnTo>
                    <a:lnTo>
                      <a:pt x="68" y="820"/>
                    </a:lnTo>
                    <a:lnTo>
                      <a:pt x="86" y="767"/>
                    </a:lnTo>
                    <a:lnTo>
                      <a:pt x="105" y="715"/>
                    </a:lnTo>
                    <a:lnTo>
                      <a:pt x="130" y="664"/>
                    </a:lnTo>
                    <a:lnTo>
                      <a:pt x="153" y="615"/>
                    </a:lnTo>
                    <a:lnTo>
                      <a:pt x="181" y="567"/>
                    </a:lnTo>
                    <a:lnTo>
                      <a:pt x="213" y="521"/>
                    </a:lnTo>
                    <a:lnTo>
                      <a:pt x="243" y="475"/>
                    </a:lnTo>
                    <a:lnTo>
                      <a:pt x="278" y="431"/>
                    </a:lnTo>
                    <a:lnTo>
                      <a:pt x="313" y="391"/>
                    </a:lnTo>
                    <a:lnTo>
                      <a:pt x="351" y="351"/>
                    </a:lnTo>
                    <a:lnTo>
                      <a:pt x="392" y="313"/>
                    </a:lnTo>
                    <a:lnTo>
                      <a:pt x="434" y="278"/>
                    </a:lnTo>
                    <a:lnTo>
                      <a:pt x="478" y="242"/>
                    </a:lnTo>
                    <a:lnTo>
                      <a:pt x="521" y="210"/>
                    </a:lnTo>
                    <a:lnTo>
                      <a:pt x="567" y="180"/>
                    </a:lnTo>
                    <a:lnTo>
                      <a:pt x="615" y="154"/>
                    </a:lnTo>
                    <a:lnTo>
                      <a:pt x="666" y="129"/>
                    </a:lnTo>
                    <a:lnTo>
                      <a:pt x="715" y="106"/>
                    </a:lnTo>
                    <a:lnTo>
                      <a:pt x="769" y="86"/>
                    </a:lnTo>
                    <a:lnTo>
                      <a:pt x="820" y="67"/>
                    </a:lnTo>
                    <a:lnTo>
                      <a:pt x="875" y="51"/>
                    </a:lnTo>
                    <a:lnTo>
                      <a:pt x="931" y="38"/>
                    </a:lnTo>
                    <a:lnTo>
                      <a:pt x="988" y="30"/>
                    </a:lnTo>
                    <a:lnTo>
                      <a:pt x="1044" y="21"/>
                    </a:lnTo>
                    <a:lnTo>
                      <a:pt x="1104" y="16"/>
                    </a:lnTo>
                    <a:lnTo>
                      <a:pt x="1161" y="16"/>
                    </a:lnTo>
                    <a:lnTo>
                      <a:pt x="8140" y="16"/>
                    </a:lnTo>
                    <a:lnTo>
                      <a:pt x="8196" y="16"/>
                    </a:lnTo>
                    <a:lnTo>
                      <a:pt x="8256" y="21"/>
                    </a:lnTo>
                    <a:lnTo>
                      <a:pt x="8313" y="30"/>
                    </a:lnTo>
                    <a:lnTo>
                      <a:pt x="8369" y="38"/>
                    </a:lnTo>
                    <a:lnTo>
                      <a:pt x="8423" y="51"/>
                    </a:lnTo>
                    <a:lnTo>
                      <a:pt x="8479" y="67"/>
                    </a:lnTo>
                    <a:lnTo>
                      <a:pt x="8531" y="86"/>
                    </a:lnTo>
                    <a:lnTo>
                      <a:pt x="8585" y="106"/>
                    </a:lnTo>
                    <a:lnTo>
                      <a:pt x="8633" y="129"/>
                    </a:lnTo>
                    <a:lnTo>
                      <a:pt x="8684" y="154"/>
                    </a:lnTo>
                    <a:lnTo>
                      <a:pt x="8730" y="180"/>
                    </a:lnTo>
                    <a:lnTo>
                      <a:pt x="8780" y="210"/>
                    </a:lnTo>
                    <a:lnTo>
                      <a:pt x="8822" y="242"/>
                    </a:lnTo>
                    <a:lnTo>
                      <a:pt x="8866" y="278"/>
                    </a:lnTo>
                    <a:lnTo>
                      <a:pt x="8909" y="313"/>
                    </a:lnTo>
                    <a:lnTo>
                      <a:pt x="8946" y="351"/>
                    </a:lnTo>
                    <a:lnTo>
                      <a:pt x="8987" y="391"/>
                    </a:lnTo>
                    <a:lnTo>
                      <a:pt x="9022" y="431"/>
                    </a:lnTo>
                    <a:lnTo>
                      <a:pt x="9054" y="475"/>
                    </a:lnTo>
                    <a:lnTo>
                      <a:pt x="9087" y="521"/>
                    </a:lnTo>
                    <a:lnTo>
                      <a:pt x="9116" y="567"/>
                    </a:lnTo>
                    <a:lnTo>
                      <a:pt x="9146" y="615"/>
                    </a:lnTo>
                    <a:lnTo>
                      <a:pt x="9171" y="664"/>
                    </a:lnTo>
                    <a:lnTo>
                      <a:pt x="9192" y="715"/>
                    </a:lnTo>
                    <a:lnTo>
                      <a:pt x="9213" y="767"/>
                    </a:lnTo>
                    <a:lnTo>
                      <a:pt x="9233" y="820"/>
                    </a:lnTo>
                    <a:lnTo>
                      <a:pt x="9246" y="875"/>
                    </a:lnTo>
                    <a:lnTo>
                      <a:pt x="9259" y="931"/>
                    </a:lnTo>
                    <a:lnTo>
                      <a:pt x="9270" y="988"/>
                    </a:lnTo>
                    <a:lnTo>
                      <a:pt x="9278" y="1044"/>
                    </a:lnTo>
                    <a:lnTo>
                      <a:pt x="9282" y="1101"/>
                    </a:lnTo>
                    <a:lnTo>
                      <a:pt x="9284" y="1160"/>
                    </a:lnTo>
                    <a:lnTo>
                      <a:pt x="9284" y="6382"/>
                    </a:lnTo>
                    <a:lnTo>
                      <a:pt x="9282" y="6442"/>
                    </a:lnTo>
                    <a:lnTo>
                      <a:pt x="9278" y="6501"/>
                    </a:lnTo>
                    <a:lnTo>
                      <a:pt x="9270" y="6557"/>
                    </a:lnTo>
                    <a:lnTo>
                      <a:pt x="9259" y="6614"/>
                    </a:lnTo>
                    <a:lnTo>
                      <a:pt x="9246" y="6669"/>
                    </a:lnTo>
                    <a:lnTo>
                      <a:pt x="9233" y="6722"/>
                    </a:lnTo>
                    <a:lnTo>
                      <a:pt x="9213" y="6776"/>
                    </a:lnTo>
                    <a:lnTo>
                      <a:pt x="9192" y="6828"/>
                    </a:lnTo>
                    <a:lnTo>
                      <a:pt x="9171" y="6879"/>
                    </a:lnTo>
                    <a:lnTo>
                      <a:pt x="9146" y="6927"/>
                    </a:lnTo>
                    <a:lnTo>
                      <a:pt x="9116" y="6976"/>
                    </a:lnTo>
                    <a:lnTo>
                      <a:pt x="9087" y="7022"/>
                    </a:lnTo>
                    <a:lnTo>
                      <a:pt x="9054" y="7068"/>
                    </a:lnTo>
                    <a:lnTo>
                      <a:pt x="9022" y="7111"/>
                    </a:lnTo>
                    <a:lnTo>
                      <a:pt x="8987" y="7153"/>
                    </a:lnTo>
                    <a:lnTo>
                      <a:pt x="8946" y="7192"/>
                    </a:lnTo>
                    <a:lnTo>
                      <a:pt x="8909" y="7229"/>
                    </a:lnTo>
                    <a:lnTo>
                      <a:pt x="8866" y="7268"/>
                    </a:lnTo>
                    <a:lnTo>
                      <a:pt x="8822" y="7300"/>
                    </a:lnTo>
                    <a:lnTo>
                      <a:pt x="8780" y="7332"/>
                    </a:lnTo>
                    <a:lnTo>
                      <a:pt x="8730" y="7362"/>
                    </a:lnTo>
                    <a:lnTo>
                      <a:pt x="8684" y="7388"/>
                    </a:lnTo>
                    <a:lnTo>
                      <a:pt x="8633" y="7415"/>
                    </a:lnTo>
                    <a:lnTo>
                      <a:pt x="8585" y="7437"/>
                    </a:lnTo>
                    <a:lnTo>
                      <a:pt x="8531" y="7459"/>
                    </a:lnTo>
                    <a:lnTo>
                      <a:pt x="8479" y="7478"/>
                    </a:lnTo>
                    <a:lnTo>
                      <a:pt x="8423" y="7491"/>
                    </a:lnTo>
                    <a:lnTo>
                      <a:pt x="8369" y="7505"/>
                    </a:lnTo>
                    <a:lnTo>
                      <a:pt x="8313" y="7515"/>
                    </a:lnTo>
                    <a:lnTo>
                      <a:pt x="8256" y="7521"/>
                    </a:lnTo>
                    <a:lnTo>
                      <a:pt x="8196" y="7526"/>
                    </a:lnTo>
                    <a:lnTo>
                      <a:pt x="8140" y="7529"/>
                    </a:lnTo>
                    <a:lnTo>
                      <a:pt x="8140" y="7537"/>
                    </a:lnTo>
                    <a:lnTo>
                      <a:pt x="8140" y="7545"/>
                    </a:lnTo>
                    <a:lnTo>
                      <a:pt x="8199" y="7542"/>
                    </a:lnTo>
                    <a:lnTo>
                      <a:pt x="8256" y="7537"/>
                    </a:lnTo>
                    <a:lnTo>
                      <a:pt x="8315" y="7531"/>
                    </a:lnTo>
                    <a:lnTo>
                      <a:pt x="8371" y="7521"/>
                    </a:lnTo>
                    <a:lnTo>
                      <a:pt x="8428" y="7507"/>
                    </a:lnTo>
                    <a:lnTo>
                      <a:pt x="8483" y="7491"/>
                    </a:lnTo>
                    <a:lnTo>
                      <a:pt x="8536" y="7473"/>
                    </a:lnTo>
                    <a:lnTo>
                      <a:pt x="8590" y="7453"/>
                    </a:lnTo>
                    <a:lnTo>
                      <a:pt x="8642" y="7429"/>
                    </a:lnTo>
                    <a:lnTo>
                      <a:pt x="8693" y="7404"/>
                    </a:lnTo>
                    <a:lnTo>
                      <a:pt x="8741" y="7375"/>
                    </a:lnTo>
                    <a:lnTo>
                      <a:pt x="8787" y="7346"/>
                    </a:lnTo>
                    <a:lnTo>
                      <a:pt x="8833" y="7312"/>
                    </a:lnTo>
                    <a:lnTo>
                      <a:pt x="8877" y="7278"/>
                    </a:lnTo>
                    <a:lnTo>
                      <a:pt x="8919" y="7243"/>
                    </a:lnTo>
                    <a:lnTo>
                      <a:pt x="8960" y="7202"/>
                    </a:lnTo>
                    <a:lnTo>
                      <a:pt x="8997" y="7162"/>
                    </a:lnTo>
                    <a:lnTo>
                      <a:pt x="9036" y="7121"/>
                    </a:lnTo>
                    <a:lnTo>
                      <a:pt x="9068" y="7079"/>
                    </a:lnTo>
                    <a:lnTo>
                      <a:pt x="9100" y="7033"/>
                    </a:lnTo>
                    <a:lnTo>
                      <a:pt x="9133" y="6984"/>
                    </a:lnTo>
                    <a:lnTo>
                      <a:pt x="9160" y="6935"/>
                    </a:lnTo>
                    <a:lnTo>
                      <a:pt x="9184" y="6886"/>
                    </a:lnTo>
                    <a:lnTo>
                      <a:pt x="9208" y="6835"/>
                    </a:lnTo>
                    <a:lnTo>
                      <a:pt x="9230" y="6782"/>
                    </a:lnTo>
                    <a:lnTo>
                      <a:pt x="9249" y="6727"/>
                    </a:lnTo>
                    <a:lnTo>
                      <a:pt x="9262" y="6674"/>
                    </a:lnTo>
                    <a:lnTo>
                      <a:pt x="9275" y="6617"/>
                    </a:lnTo>
                    <a:lnTo>
                      <a:pt x="9287" y="6561"/>
                    </a:lnTo>
                    <a:lnTo>
                      <a:pt x="9294" y="6501"/>
                    </a:lnTo>
                    <a:lnTo>
                      <a:pt x="9298" y="6442"/>
                    </a:lnTo>
                    <a:lnTo>
                      <a:pt x="9300" y="6382"/>
                    </a:lnTo>
                    <a:lnTo>
                      <a:pt x="9300" y="1160"/>
                    </a:lnTo>
                    <a:lnTo>
                      <a:pt x="9298" y="1101"/>
                    </a:lnTo>
                    <a:lnTo>
                      <a:pt x="9294" y="1041"/>
                    </a:lnTo>
                    <a:lnTo>
                      <a:pt x="9287" y="985"/>
                    </a:lnTo>
                    <a:lnTo>
                      <a:pt x="9275" y="928"/>
                    </a:lnTo>
                    <a:lnTo>
                      <a:pt x="9262" y="871"/>
                    </a:lnTo>
                    <a:lnTo>
                      <a:pt x="9249" y="815"/>
                    </a:lnTo>
                    <a:lnTo>
                      <a:pt x="9230" y="760"/>
                    </a:lnTo>
                    <a:lnTo>
                      <a:pt x="9208" y="709"/>
                    </a:lnTo>
                    <a:lnTo>
                      <a:pt x="9184" y="658"/>
                    </a:lnTo>
                    <a:lnTo>
                      <a:pt x="9160" y="607"/>
                    </a:lnTo>
                    <a:lnTo>
                      <a:pt x="9133" y="558"/>
                    </a:lnTo>
                    <a:lnTo>
                      <a:pt x="9100" y="513"/>
                    </a:lnTo>
                    <a:lnTo>
                      <a:pt x="9068" y="467"/>
                    </a:lnTo>
                    <a:lnTo>
                      <a:pt x="9036" y="424"/>
                    </a:lnTo>
                    <a:lnTo>
                      <a:pt x="8997" y="380"/>
                    </a:lnTo>
                    <a:lnTo>
                      <a:pt x="8960" y="340"/>
                    </a:lnTo>
                    <a:lnTo>
                      <a:pt x="8919" y="302"/>
                    </a:lnTo>
                    <a:lnTo>
                      <a:pt x="8877" y="265"/>
                    </a:lnTo>
                    <a:lnTo>
                      <a:pt x="8833" y="230"/>
                    </a:lnTo>
                    <a:lnTo>
                      <a:pt x="8787" y="198"/>
                    </a:lnTo>
                    <a:lnTo>
                      <a:pt x="8741" y="168"/>
                    </a:lnTo>
                    <a:lnTo>
                      <a:pt x="8693" y="141"/>
                    </a:lnTo>
                    <a:lnTo>
                      <a:pt x="8642" y="113"/>
                    </a:lnTo>
                    <a:lnTo>
                      <a:pt x="8590" y="92"/>
                    </a:lnTo>
                    <a:lnTo>
                      <a:pt x="8536" y="70"/>
                    </a:lnTo>
                    <a:lnTo>
                      <a:pt x="8483" y="51"/>
                    </a:lnTo>
                    <a:lnTo>
                      <a:pt x="8428" y="35"/>
                    </a:lnTo>
                    <a:lnTo>
                      <a:pt x="8371" y="25"/>
                    </a:lnTo>
                    <a:lnTo>
                      <a:pt x="8315" y="14"/>
                    </a:lnTo>
                    <a:lnTo>
                      <a:pt x="8256" y="5"/>
                    </a:lnTo>
                    <a:lnTo>
                      <a:pt x="8199" y="0"/>
                    </a:lnTo>
                    <a:lnTo>
                      <a:pt x="8140" y="0"/>
                    </a:lnTo>
                    <a:lnTo>
                      <a:pt x="1161" y="0"/>
                    </a:lnTo>
                    <a:lnTo>
                      <a:pt x="1101" y="0"/>
                    </a:lnTo>
                    <a:lnTo>
                      <a:pt x="1042" y="5"/>
                    </a:lnTo>
                    <a:lnTo>
                      <a:pt x="985" y="14"/>
                    </a:lnTo>
                    <a:lnTo>
                      <a:pt x="928" y="25"/>
                    </a:lnTo>
                    <a:lnTo>
                      <a:pt x="871" y="35"/>
                    </a:lnTo>
                    <a:lnTo>
                      <a:pt x="818" y="51"/>
                    </a:lnTo>
                    <a:lnTo>
                      <a:pt x="764" y="70"/>
                    </a:lnTo>
                    <a:lnTo>
                      <a:pt x="710" y="92"/>
                    </a:lnTo>
                    <a:lnTo>
                      <a:pt x="659" y="113"/>
                    </a:lnTo>
                    <a:lnTo>
                      <a:pt x="608" y="141"/>
                    </a:lnTo>
                    <a:lnTo>
                      <a:pt x="558" y="168"/>
                    </a:lnTo>
                    <a:lnTo>
                      <a:pt x="512" y="198"/>
                    </a:lnTo>
                    <a:lnTo>
                      <a:pt x="467" y="230"/>
                    </a:lnTo>
                    <a:lnTo>
                      <a:pt x="424" y="265"/>
                    </a:lnTo>
                    <a:lnTo>
                      <a:pt x="381" y="302"/>
                    </a:lnTo>
                    <a:lnTo>
                      <a:pt x="340" y="340"/>
                    </a:lnTo>
                    <a:lnTo>
                      <a:pt x="302" y="380"/>
                    </a:lnTo>
                    <a:lnTo>
                      <a:pt x="265" y="424"/>
                    </a:lnTo>
                    <a:lnTo>
                      <a:pt x="233" y="467"/>
                    </a:lnTo>
                    <a:lnTo>
                      <a:pt x="199" y="513"/>
                    </a:lnTo>
                    <a:lnTo>
                      <a:pt x="167" y="558"/>
                    </a:lnTo>
                    <a:lnTo>
                      <a:pt x="141" y="607"/>
                    </a:lnTo>
                    <a:lnTo>
                      <a:pt x="114" y="658"/>
                    </a:lnTo>
                    <a:lnTo>
                      <a:pt x="92" y="709"/>
                    </a:lnTo>
                    <a:lnTo>
                      <a:pt x="70" y="760"/>
                    </a:lnTo>
                    <a:lnTo>
                      <a:pt x="51" y="815"/>
                    </a:lnTo>
                    <a:lnTo>
                      <a:pt x="38" y="871"/>
                    </a:lnTo>
                    <a:lnTo>
                      <a:pt x="24" y="928"/>
                    </a:lnTo>
                    <a:lnTo>
                      <a:pt x="14" y="985"/>
                    </a:lnTo>
                    <a:lnTo>
                      <a:pt x="6" y="1041"/>
                    </a:lnTo>
                    <a:lnTo>
                      <a:pt x="3" y="1101"/>
                    </a:lnTo>
                    <a:lnTo>
                      <a:pt x="0" y="1160"/>
                    </a:lnTo>
                    <a:lnTo>
                      <a:pt x="0" y="6382"/>
                    </a:lnTo>
                    <a:lnTo>
                      <a:pt x="3" y="6442"/>
                    </a:lnTo>
                    <a:lnTo>
                      <a:pt x="6" y="6501"/>
                    </a:lnTo>
                    <a:lnTo>
                      <a:pt x="14" y="6561"/>
                    </a:lnTo>
                    <a:lnTo>
                      <a:pt x="24" y="6617"/>
                    </a:lnTo>
                    <a:lnTo>
                      <a:pt x="38" y="6674"/>
                    </a:lnTo>
                    <a:lnTo>
                      <a:pt x="51" y="6727"/>
                    </a:lnTo>
                    <a:lnTo>
                      <a:pt x="70" y="6782"/>
                    </a:lnTo>
                    <a:lnTo>
                      <a:pt x="92" y="6835"/>
                    </a:lnTo>
                    <a:lnTo>
                      <a:pt x="114" y="6886"/>
                    </a:lnTo>
                    <a:lnTo>
                      <a:pt x="141" y="6935"/>
                    </a:lnTo>
                    <a:lnTo>
                      <a:pt x="167" y="6984"/>
                    </a:lnTo>
                    <a:lnTo>
                      <a:pt x="199" y="7033"/>
                    </a:lnTo>
                    <a:lnTo>
                      <a:pt x="233" y="7079"/>
                    </a:lnTo>
                    <a:lnTo>
                      <a:pt x="265" y="7121"/>
                    </a:lnTo>
                    <a:lnTo>
                      <a:pt x="302" y="7162"/>
                    </a:lnTo>
                    <a:lnTo>
                      <a:pt x="340" y="7202"/>
                    </a:lnTo>
                    <a:lnTo>
                      <a:pt x="381" y="7243"/>
                    </a:lnTo>
                    <a:lnTo>
                      <a:pt x="424" y="7278"/>
                    </a:lnTo>
                    <a:lnTo>
                      <a:pt x="467" y="7312"/>
                    </a:lnTo>
                    <a:lnTo>
                      <a:pt x="512" y="7346"/>
                    </a:lnTo>
                    <a:lnTo>
                      <a:pt x="558" y="7375"/>
                    </a:lnTo>
                    <a:lnTo>
                      <a:pt x="608" y="7404"/>
                    </a:lnTo>
                    <a:lnTo>
                      <a:pt x="659" y="7429"/>
                    </a:lnTo>
                    <a:lnTo>
                      <a:pt x="710" y="7453"/>
                    </a:lnTo>
                    <a:lnTo>
                      <a:pt x="764" y="7473"/>
                    </a:lnTo>
                    <a:lnTo>
                      <a:pt x="818" y="7491"/>
                    </a:lnTo>
                    <a:lnTo>
                      <a:pt x="871" y="7507"/>
                    </a:lnTo>
                    <a:lnTo>
                      <a:pt x="928" y="7521"/>
                    </a:lnTo>
                    <a:lnTo>
                      <a:pt x="985" y="7531"/>
                    </a:lnTo>
                    <a:lnTo>
                      <a:pt x="1042" y="7537"/>
                    </a:lnTo>
                    <a:lnTo>
                      <a:pt x="1101" y="7542"/>
                    </a:lnTo>
                    <a:lnTo>
                      <a:pt x="1161" y="7545"/>
                    </a:lnTo>
                    <a:lnTo>
                      <a:pt x="8140" y="7545"/>
                    </a:lnTo>
                    <a:lnTo>
                      <a:pt x="8140" y="753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72640" y="2480400"/>
                <a:ext cx="1395360" cy="1082160"/>
              </a:xfrm>
              <a:custGeom>
                <a:avLst/>
                <a:gdLst/>
                <a:ahLst/>
                <a:rect l="l" t="t" r="r" b="b"/>
                <a:pathLst>
                  <a:path w="9017" h="7261">
                    <a:moveTo>
                      <a:pt x="9017" y="6241"/>
                    </a:moveTo>
                    <a:lnTo>
                      <a:pt x="9014" y="6295"/>
                    </a:lnTo>
                    <a:lnTo>
                      <a:pt x="9012" y="6346"/>
                    </a:lnTo>
                    <a:lnTo>
                      <a:pt x="9003" y="6397"/>
                    </a:lnTo>
                    <a:lnTo>
                      <a:pt x="8996" y="6449"/>
                    </a:lnTo>
                    <a:lnTo>
                      <a:pt x="8984" y="6498"/>
                    </a:lnTo>
                    <a:lnTo>
                      <a:pt x="8971" y="6546"/>
                    </a:lnTo>
                    <a:lnTo>
                      <a:pt x="8955" y="6592"/>
                    </a:lnTo>
                    <a:lnTo>
                      <a:pt x="8936" y="6638"/>
                    </a:lnTo>
                    <a:lnTo>
                      <a:pt x="8915" y="6683"/>
                    </a:lnTo>
                    <a:lnTo>
                      <a:pt x="8893" y="6729"/>
                    </a:lnTo>
                    <a:lnTo>
                      <a:pt x="8869" y="6770"/>
                    </a:lnTo>
                    <a:lnTo>
                      <a:pt x="8842" y="6813"/>
                    </a:lnTo>
                    <a:lnTo>
                      <a:pt x="8814" y="6851"/>
                    </a:lnTo>
                    <a:lnTo>
                      <a:pt x="8782" y="6892"/>
                    </a:lnTo>
                    <a:lnTo>
                      <a:pt x="8752" y="6927"/>
                    </a:lnTo>
                    <a:lnTo>
                      <a:pt x="8717" y="6964"/>
                    </a:lnTo>
                    <a:lnTo>
                      <a:pt x="8683" y="6996"/>
                    </a:lnTo>
                    <a:lnTo>
                      <a:pt x="8644" y="7029"/>
                    </a:lnTo>
                    <a:lnTo>
                      <a:pt x="8607" y="7058"/>
                    </a:lnTo>
                    <a:lnTo>
                      <a:pt x="8566" y="7088"/>
                    </a:lnTo>
                    <a:lnTo>
                      <a:pt x="8526" y="7113"/>
                    </a:lnTo>
                    <a:lnTo>
                      <a:pt x="8483" y="7139"/>
                    </a:lnTo>
                    <a:lnTo>
                      <a:pt x="8439" y="7161"/>
                    </a:lnTo>
                    <a:lnTo>
                      <a:pt x="8393" y="7180"/>
                    </a:lnTo>
                    <a:lnTo>
                      <a:pt x="8347" y="7199"/>
                    </a:lnTo>
                    <a:lnTo>
                      <a:pt x="8299" y="7215"/>
                    </a:lnTo>
                    <a:lnTo>
                      <a:pt x="8250" y="7229"/>
                    </a:lnTo>
                    <a:lnTo>
                      <a:pt x="8202" y="7240"/>
                    </a:lnTo>
                    <a:lnTo>
                      <a:pt x="8153" y="7250"/>
                    </a:lnTo>
                    <a:lnTo>
                      <a:pt x="8102" y="7256"/>
                    </a:lnTo>
                    <a:lnTo>
                      <a:pt x="8048" y="7261"/>
                    </a:lnTo>
                    <a:lnTo>
                      <a:pt x="7997" y="7261"/>
                    </a:lnTo>
                    <a:lnTo>
                      <a:pt x="1020" y="7261"/>
                    </a:lnTo>
                    <a:lnTo>
                      <a:pt x="967" y="7261"/>
                    </a:lnTo>
                    <a:lnTo>
                      <a:pt x="916" y="7256"/>
                    </a:lnTo>
                    <a:lnTo>
                      <a:pt x="864" y="7250"/>
                    </a:lnTo>
                    <a:lnTo>
                      <a:pt x="815" y="7240"/>
                    </a:lnTo>
                    <a:lnTo>
                      <a:pt x="764" y="7229"/>
                    </a:lnTo>
                    <a:lnTo>
                      <a:pt x="716" y="7215"/>
                    </a:lnTo>
                    <a:lnTo>
                      <a:pt x="670" y="7199"/>
                    </a:lnTo>
                    <a:lnTo>
                      <a:pt x="624" y="7180"/>
                    </a:lnTo>
                    <a:lnTo>
                      <a:pt x="578" y="7161"/>
                    </a:lnTo>
                    <a:lnTo>
                      <a:pt x="534" y="7139"/>
                    </a:lnTo>
                    <a:lnTo>
                      <a:pt x="492" y="7113"/>
                    </a:lnTo>
                    <a:lnTo>
                      <a:pt x="451" y="7088"/>
                    </a:lnTo>
                    <a:lnTo>
                      <a:pt x="410" y="7058"/>
                    </a:lnTo>
                    <a:lnTo>
                      <a:pt x="373" y="7029"/>
                    </a:lnTo>
                    <a:lnTo>
                      <a:pt x="335" y="6996"/>
                    </a:lnTo>
                    <a:lnTo>
                      <a:pt x="300" y="6964"/>
                    </a:lnTo>
                    <a:lnTo>
                      <a:pt x="265" y="6927"/>
                    </a:lnTo>
                    <a:lnTo>
                      <a:pt x="233" y="6892"/>
                    </a:lnTo>
                    <a:lnTo>
                      <a:pt x="203" y="6851"/>
                    </a:lnTo>
                    <a:lnTo>
                      <a:pt x="175" y="6813"/>
                    </a:lnTo>
                    <a:lnTo>
                      <a:pt x="149" y="6770"/>
                    </a:lnTo>
                    <a:lnTo>
                      <a:pt x="124" y="6729"/>
                    </a:lnTo>
                    <a:lnTo>
                      <a:pt x="101" y="6683"/>
                    </a:lnTo>
                    <a:lnTo>
                      <a:pt x="81" y="6638"/>
                    </a:lnTo>
                    <a:lnTo>
                      <a:pt x="62" y="6592"/>
                    </a:lnTo>
                    <a:lnTo>
                      <a:pt x="46" y="6546"/>
                    </a:lnTo>
                    <a:lnTo>
                      <a:pt x="33" y="6498"/>
                    </a:lnTo>
                    <a:lnTo>
                      <a:pt x="21" y="6449"/>
                    </a:lnTo>
                    <a:lnTo>
                      <a:pt x="11" y="6397"/>
                    </a:lnTo>
                    <a:lnTo>
                      <a:pt x="5" y="6346"/>
                    </a:lnTo>
                    <a:lnTo>
                      <a:pt x="3" y="6295"/>
                    </a:lnTo>
                    <a:lnTo>
                      <a:pt x="0" y="6241"/>
                    </a:lnTo>
                    <a:lnTo>
                      <a:pt x="0" y="1019"/>
                    </a:lnTo>
                    <a:lnTo>
                      <a:pt x="3" y="967"/>
                    </a:lnTo>
                    <a:lnTo>
                      <a:pt x="5" y="916"/>
                    </a:lnTo>
                    <a:lnTo>
                      <a:pt x="11" y="865"/>
                    </a:lnTo>
                    <a:lnTo>
                      <a:pt x="21" y="814"/>
                    </a:lnTo>
                    <a:lnTo>
                      <a:pt x="33" y="766"/>
                    </a:lnTo>
                    <a:lnTo>
                      <a:pt x="46" y="716"/>
                    </a:lnTo>
                    <a:lnTo>
                      <a:pt x="62" y="668"/>
                    </a:lnTo>
                    <a:lnTo>
                      <a:pt x="81" y="622"/>
                    </a:lnTo>
                    <a:lnTo>
                      <a:pt x="101" y="577"/>
                    </a:lnTo>
                    <a:lnTo>
                      <a:pt x="124" y="534"/>
                    </a:lnTo>
                    <a:lnTo>
                      <a:pt x="149" y="490"/>
                    </a:lnTo>
                    <a:lnTo>
                      <a:pt x="175" y="449"/>
                    </a:lnTo>
                    <a:lnTo>
                      <a:pt x="203" y="409"/>
                    </a:lnTo>
                    <a:lnTo>
                      <a:pt x="233" y="372"/>
                    </a:lnTo>
                    <a:lnTo>
                      <a:pt x="265" y="334"/>
                    </a:lnTo>
                    <a:lnTo>
                      <a:pt x="300" y="299"/>
                    </a:lnTo>
                    <a:lnTo>
                      <a:pt x="335" y="267"/>
                    </a:lnTo>
                    <a:lnTo>
                      <a:pt x="373" y="234"/>
                    </a:lnTo>
                    <a:lnTo>
                      <a:pt x="410" y="204"/>
                    </a:lnTo>
                    <a:lnTo>
                      <a:pt x="451" y="175"/>
                    </a:lnTo>
                    <a:lnTo>
                      <a:pt x="492" y="147"/>
                    </a:lnTo>
                    <a:lnTo>
                      <a:pt x="534" y="124"/>
                    </a:lnTo>
                    <a:lnTo>
                      <a:pt x="578" y="101"/>
                    </a:lnTo>
                    <a:lnTo>
                      <a:pt x="624" y="80"/>
                    </a:lnTo>
                    <a:lnTo>
                      <a:pt x="670" y="62"/>
                    </a:lnTo>
                    <a:lnTo>
                      <a:pt x="716" y="45"/>
                    </a:lnTo>
                    <a:lnTo>
                      <a:pt x="764" y="32"/>
                    </a:lnTo>
                    <a:lnTo>
                      <a:pt x="815" y="21"/>
                    </a:lnTo>
                    <a:lnTo>
                      <a:pt x="864" y="13"/>
                    </a:lnTo>
                    <a:lnTo>
                      <a:pt x="916" y="5"/>
                    </a:lnTo>
                    <a:lnTo>
                      <a:pt x="967" y="2"/>
                    </a:lnTo>
                    <a:lnTo>
                      <a:pt x="1020" y="0"/>
                    </a:lnTo>
                    <a:lnTo>
                      <a:pt x="7997" y="0"/>
                    </a:lnTo>
                    <a:lnTo>
                      <a:pt x="8048" y="2"/>
                    </a:lnTo>
                    <a:lnTo>
                      <a:pt x="8102" y="5"/>
                    </a:lnTo>
                    <a:lnTo>
                      <a:pt x="8153" y="13"/>
                    </a:lnTo>
                    <a:lnTo>
                      <a:pt x="8202" y="21"/>
                    </a:lnTo>
                    <a:lnTo>
                      <a:pt x="8250" y="32"/>
                    </a:lnTo>
                    <a:lnTo>
                      <a:pt x="8299" y="45"/>
                    </a:lnTo>
                    <a:lnTo>
                      <a:pt x="8347" y="62"/>
                    </a:lnTo>
                    <a:lnTo>
                      <a:pt x="8393" y="80"/>
                    </a:lnTo>
                    <a:lnTo>
                      <a:pt x="8439" y="101"/>
                    </a:lnTo>
                    <a:lnTo>
                      <a:pt x="8483" y="124"/>
                    </a:lnTo>
                    <a:lnTo>
                      <a:pt x="8526" y="147"/>
                    </a:lnTo>
                    <a:lnTo>
                      <a:pt x="8566" y="175"/>
                    </a:lnTo>
                    <a:lnTo>
                      <a:pt x="8607" y="204"/>
                    </a:lnTo>
                    <a:lnTo>
                      <a:pt x="8644" y="234"/>
                    </a:lnTo>
                    <a:lnTo>
                      <a:pt x="8683" y="267"/>
                    </a:lnTo>
                    <a:lnTo>
                      <a:pt x="8717" y="299"/>
                    </a:lnTo>
                    <a:lnTo>
                      <a:pt x="8752" y="334"/>
                    </a:lnTo>
                    <a:lnTo>
                      <a:pt x="8782" y="372"/>
                    </a:lnTo>
                    <a:lnTo>
                      <a:pt x="8814" y="409"/>
                    </a:lnTo>
                    <a:lnTo>
                      <a:pt x="8842" y="449"/>
                    </a:lnTo>
                    <a:lnTo>
                      <a:pt x="8869" y="490"/>
                    </a:lnTo>
                    <a:lnTo>
                      <a:pt x="8893" y="534"/>
                    </a:lnTo>
                    <a:lnTo>
                      <a:pt x="8915" y="577"/>
                    </a:lnTo>
                    <a:lnTo>
                      <a:pt x="8936" y="622"/>
                    </a:lnTo>
                    <a:lnTo>
                      <a:pt x="8955" y="668"/>
                    </a:lnTo>
                    <a:lnTo>
                      <a:pt x="8971" y="716"/>
                    </a:lnTo>
                    <a:lnTo>
                      <a:pt x="8984" y="766"/>
                    </a:lnTo>
                    <a:lnTo>
                      <a:pt x="8996" y="814"/>
                    </a:lnTo>
                    <a:lnTo>
                      <a:pt x="9003" y="865"/>
                    </a:lnTo>
                    <a:lnTo>
                      <a:pt x="9012" y="916"/>
                    </a:lnTo>
                    <a:lnTo>
                      <a:pt x="9014" y="967"/>
                    </a:lnTo>
                    <a:lnTo>
                      <a:pt x="9017" y="1019"/>
                    </a:lnTo>
                    <a:lnTo>
                      <a:pt x="9017" y="6241"/>
                    </a:lnTo>
                    <a:close/>
                  </a:path>
                </a:pathLst>
              </a:custGeom>
              <a:solidFill>
                <a:srgbClr val="3aab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71200" y="2478960"/>
                <a:ext cx="1398600" cy="1085040"/>
              </a:xfrm>
              <a:custGeom>
                <a:avLst/>
                <a:gdLst/>
                <a:ahLst/>
                <a:rect l="l" t="t" r="r" b="b"/>
                <a:pathLst>
                  <a:path w="9032" h="7275">
                    <a:moveTo>
                      <a:pt x="9024" y="6247"/>
                    </a:moveTo>
                    <a:lnTo>
                      <a:pt x="9016" y="6247"/>
                    </a:lnTo>
                    <a:lnTo>
                      <a:pt x="9014" y="6301"/>
                    </a:lnTo>
                    <a:lnTo>
                      <a:pt x="9010" y="6352"/>
                    </a:lnTo>
                    <a:lnTo>
                      <a:pt x="9003" y="6403"/>
                    </a:lnTo>
                    <a:lnTo>
                      <a:pt x="8994" y="6452"/>
                    </a:lnTo>
                    <a:lnTo>
                      <a:pt x="8984" y="6500"/>
                    </a:lnTo>
                    <a:lnTo>
                      <a:pt x="8970" y="6550"/>
                    </a:lnTo>
                    <a:lnTo>
                      <a:pt x="8954" y="6595"/>
                    </a:lnTo>
                    <a:lnTo>
                      <a:pt x="8934" y="6641"/>
                    </a:lnTo>
                    <a:lnTo>
                      <a:pt x="8916" y="6687"/>
                    </a:lnTo>
                    <a:lnTo>
                      <a:pt x="8892" y="6730"/>
                    </a:lnTo>
                    <a:lnTo>
                      <a:pt x="8867" y="6774"/>
                    </a:lnTo>
                    <a:lnTo>
                      <a:pt x="8844" y="6813"/>
                    </a:lnTo>
                    <a:lnTo>
                      <a:pt x="8814" y="6854"/>
                    </a:lnTo>
                    <a:lnTo>
                      <a:pt x="8784" y="6892"/>
                    </a:lnTo>
                    <a:lnTo>
                      <a:pt x="8752" y="6928"/>
                    </a:lnTo>
                    <a:lnTo>
                      <a:pt x="8719" y="6962"/>
                    </a:lnTo>
                    <a:lnTo>
                      <a:pt x="8684" y="6997"/>
                    </a:lnTo>
                    <a:lnTo>
                      <a:pt x="8646" y="7030"/>
                    </a:lnTo>
                    <a:lnTo>
                      <a:pt x="8609" y="7059"/>
                    </a:lnTo>
                    <a:lnTo>
                      <a:pt x="8568" y="7087"/>
                    </a:lnTo>
                    <a:lnTo>
                      <a:pt x="8527" y="7113"/>
                    </a:lnTo>
                    <a:lnTo>
                      <a:pt x="8487" y="7138"/>
                    </a:lnTo>
                    <a:lnTo>
                      <a:pt x="8441" y="7159"/>
                    </a:lnTo>
                    <a:lnTo>
                      <a:pt x="8398" y="7181"/>
                    </a:lnTo>
                    <a:lnTo>
                      <a:pt x="8352" y="7197"/>
                    </a:lnTo>
                    <a:lnTo>
                      <a:pt x="8303" y="7213"/>
                    </a:lnTo>
                    <a:lnTo>
                      <a:pt x="8257" y="7227"/>
                    </a:lnTo>
                    <a:lnTo>
                      <a:pt x="8206" y="7240"/>
                    </a:lnTo>
                    <a:lnTo>
                      <a:pt x="8158" y="7248"/>
                    </a:lnTo>
                    <a:lnTo>
                      <a:pt x="8106" y="7253"/>
                    </a:lnTo>
                    <a:lnTo>
                      <a:pt x="8055" y="7259"/>
                    </a:lnTo>
                    <a:lnTo>
                      <a:pt x="8004" y="7259"/>
                    </a:lnTo>
                    <a:lnTo>
                      <a:pt x="1027" y="7259"/>
                    </a:lnTo>
                    <a:lnTo>
                      <a:pt x="974" y="7259"/>
                    </a:lnTo>
                    <a:lnTo>
                      <a:pt x="923" y="7253"/>
                    </a:lnTo>
                    <a:lnTo>
                      <a:pt x="874" y="7248"/>
                    </a:lnTo>
                    <a:lnTo>
                      <a:pt x="822" y="7240"/>
                    </a:lnTo>
                    <a:lnTo>
                      <a:pt x="774" y="7227"/>
                    </a:lnTo>
                    <a:lnTo>
                      <a:pt x="725" y="7213"/>
                    </a:lnTo>
                    <a:lnTo>
                      <a:pt x="679" y="7197"/>
                    </a:lnTo>
                    <a:lnTo>
                      <a:pt x="633" y="7181"/>
                    </a:lnTo>
                    <a:lnTo>
                      <a:pt x="587" y="7159"/>
                    </a:lnTo>
                    <a:lnTo>
                      <a:pt x="544" y="7138"/>
                    </a:lnTo>
                    <a:lnTo>
                      <a:pt x="502" y="7113"/>
                    </a:lnTo>
                    <a:lnTo>
                      <a:pt x="461" y="7087"/>
                    </a:lnTo>
                    <a:lnTo>
                      <a:pt x="423" y="7059"/>
                    </a:lnTo>
                    <a:lnTo>
                      <a:pt x="382" y="7030"/>
                    </a:lnTo>
                    <a:lnTo>
                      <a:pt x="348" y="6997"/>
                    </a:lnTo>
                    <a:lnTo>
                      <a:pt x="313" y="6962"/>
                    </a:lnTo>
                    <a:lnTo>
                      <a:pt x="277" y="6928"/>
                    </a:lnTo>
                    <a:lnTo>
                      <a:pt x="247" y="6892"/>
                    </a:lnTo>
                    <a:lnTo>
                      <a:pt x="215" y="6854"/>
                    </a:lnTo>
                    <a:lnTo>
                      <a:pt x="188" y="6813"/>
                    </a:lnTo>
                    <a:lnTo>
                      <a:pt x="161" y="6774"/>
                    </a:lnTo>
                    <a:lnTo>
                      <a:pt x="137" y="6730"/>
                    </a:lnTo>
                    <a:lnTo>
                      <a:pt x="115" y="6687"/>
                    </a:lnTo>
                    <a:lnTo>
                      <a:pt x="94" y="6641"/>
                    </a:lnTo>
                    <a:lnTo>
                      <a:pt x="78" y="6595"/>
                    </a:lnTo>
                    <a:lnTo>
                      <a:pt x="62" y="6550"/>
                    </a:lnTo>
                    <a:lnTo>
                      <a:pt x="48" y="6500"/>
                    </a:lnTo>
                    <a:lnTo>
                      <a:pt x="37" y="6452"/>
                    </a:lnTo>
                    <a:lnTo>
                      <a:pt x="26" y="6403"/>
                    </a:lnTo>
                    <a:lnTo>
                      <a:pt x="21" y="6352"/>
                    </a:lnTo>
                    <a:lnTo>
                      <a:pt x="16" y="6301"/>
                    </a:lnTo>
                    <a:lnTo>
                      <a:pt x="16" y="6247"/>
                    </a:lnTo>
                    <a:lnTo>
                      <a:pt x="16" y="1025"/>
                    </a:lnTo>
                    <a:lnTo>
                      <a:pt x="16" y="973"/>
                    </a:lnTo>
                    <a:lnTo>
                      <a:pt x="21" y="922"/>
                    </a:lnTo>
                    <a:lnTo>
                      <a:pt x="26" y="871"/>
                    </a:lnTo>
                    <a:lnTo>
                      <a:pt x="37" y="823"/>
                    </a:lnTo>
                    <a:lnTo>
                      <a:pt x="48" y="774"/>
                    </a:lnTo>
                    <a:lnTo>
                      <a:pt x="62" y="726"/>
                    </a:lnTo>
                    <a:lnTo>
                      <a:pt x="78" y="677"/>
                    </a:lnTo>
                    <a:lnTo>
                      <a:pt x="94" y="632"/>
                    </a:lnTo>
                    <a:lnTo>
                      <a:pt x="115" y="588"/>
                    </a:lnTo>
                    <a:lnTo>
                      <a:pt x="137" y="545"/>
                    </a:lnTo>
                    <a:lnTo>
                      <a:pt x="161" y="501"/>
                    </a:lnTo>
                    <a:lnTo>
                      <a:pt x="188" y="461"/>
                    </a:lnTo>
                    <a:lnTo>
                      <a:pt x="215" y="421"/>
                    </a:lnTo>
                    <a:lnTo>
                      <a:pt x="247" y="383"/>
                    </a:lnTo>
                    <a:lnTo>
                      <a:pt x="277" y="346"/>
                    </a:lnTo>
                    <a:lnTo>
                      <a:pt x="313" y="310"/>
                    </a:lnTo>
                    <a:lnTo>
                      <a:pt x="348" y="278"/>
                    </a:lnTo>
                    <a:lnTo>
                      <a:pt x="382" y="245"/>
                    </a:lnTo>
                    <a:lnTo>
                      <a:pt x="423" y="216"/>
                    </a:lnTo>
                    <a:lnTo>
                      <a:pt x="461" y="189"/>
                    </a:lnTo>
                    <a:lnTo>
                      <a:pt x="502" y="162"/>
                    </a:lnTo>
                    <a:lnTo>
                      <a:pt x="544" y="137"/>
                    </a:lnTo>
                    <a:lnTo>
                      <a:pt x="587" y="114"/>
                    </a:lnTo>
                    <a:lnTo>
                      <a:pt x="633" y="95"/>
                    </a:lnTo>
                    <a:lnTo>
                      <a:pt x="679" y="75"/>
                    </a:lnTo>
                    <a:lnTo>
                      <a:pt x="725" y="59"/>
                    </a:lnTo>
                    <a:lnTo>
                      <a:pt x="774" y="45"/>
                    </a:lnTo>
                    <a:lnTo>
                      <a:pt x="822" y="35"/>
                    </a:lnTo>
                    <a:lnTo>
                      <a:pt x="874" y="27"/>
                    </a:lnTo>
                    <a:lnTo>
                      <a:pt x="923" y="19"/>
                    </a:lnTo>
                    <a:lnTo>
                      <a:pt x="974" y="17"/>
                    </a:lnTo>
                    <a:lnTo>
                      <a:pt x="1027" y="13"/>
                    </a:lnTo>
                    <a:lnTo>
                      <a:pt x="8004" y="13"/>
                    </a:lnTo>
                    <a:lnTo>
                      <a:pt x="8055" y="17"/>
                    </a:lnTo>
                    <a:lnTo>
                      <a:pt x="8106" y="19"/>
                    </a:lnTo>
                    <a:lnTo>
                      <a:pt x="8158" y="27"/>
                    </a:lnTo>
                    <a:lnTo>
                      <a:pt x="8206" y="35"/>
                    </a:lnTo>
                    <a:lnTo>
                      <a:pt x="8257" y="45"/>
                    </a:lnTo>
                    <a:lnTo>
                      <a:pt x="8303" y="59"/>
                    </a:lnTo>
                    <a:lnTo>
                      <a:pt x="8352" y="75"/>
                    </a:lnTo>
                    <a:lnTo>
                      <a:pt x="8398" y="95"/>
                    </a:lnTo>
                    <a:lnTo>
                      <a:pt x="8441" y="114"/>
                    </a:lnTo>
                    <a:lnTo>
                      <a:pt x="8487" y="137"/>
                    </a:lnTo>
                    <a:lnTo>
                      <a:pt x="8527" y="162"/>
                    </a:lnTo>
                    <a:lnTo>
                      <a:pt x="8568" y="189"/>
                    </a:lnTo>
                    <a:lnTo>
                      <a:pt x="8609" y="216"/>
                    </a:lnTo>
                    <a:lnTo>
                      <a:pt x="8646" y="245"/>
                    </a:lnTo>
                    <a:lnTo>
                      <a:pt x="8684" y="278"/>
                    </a:lnTo>
                    <a:lnTo>
                      <a:pt x="8719" y="310"/>
                    </a:lnTo>
                    <a:lnTo>
                      <a:pt x="8752" y="346"/>
                    </a:lnTo>
                    <a:lnTo>
                      <a:pt x="8784" y="383"/>
                    </a:lnTo>
                    <a:lnTo>
                      <a:pt x="8814" y="421"/>
                    </a:lnTo>
                    <a:lnTo>
                      <a:pt x="8844" y="461"/>
                    </a:lnTo>
                    <a:lnTo>
                      <a:pt x="8867" y="501"/>
                    </a:lnTo>
                    <a:lnTo>
                      <a:pt x="8892" y="545"/>
                    </a:lnTo>
                    <a:lnTo>
                      <a:pt x="8916" y="588"/>
                    </a:lnTo>
                    <a:lnTo>
                      <a:pt x="8934" y="632"/>
                    </a:lnTo>
                    <a:lnTo>
                      <a:pt x="8954" y="677"/>
                    </a:lnTo>
                    <a:lnTo>
                      <a:pt x="8970" y="726"/>
                    </a:lnTo>
                    <a:lnTo>
                      <a:pt x="8984" y="774"/>
                    </a:lnTo>
                    <a:lnTo>
                      <a:pt x="8994" y="823"/>
                    </a:lnTo>
                    <a:lnTo>
                      <a:pt x="9003" y="871"/>
                    </a:lnTo>
                    <a:lnTo>
                      <a:pt x="9010" y="922"/>
                    </a:lnTo>
                    <a:lnTo>
                      <a:pt x="9014" y="973"/>
                    </a:lnTo>
                    <a:lnTo>
                      <a:pt x="9016" y="1025"/>
                    </a:lnTo>
                    <a:lnTo>
                      <a:pt x="9016" y="6247"/>
                    </a:lnTo>
                    <a:lnTo>
                      <a:pt x="9024" y="6247"/>
                    </a:lnTo>
                    <a:lnTo>
                      <a:pt x="9032" y="6247"/>
                    </a:lnTo>
                    <a:lnTo>
                      <a:pt x="9032" y="1025"/>
                    </a:lnTo>
                    <a:lnTo>
                      <a:pt x="9030" y="973"/>
                    </a:lnTo>
                    <a:lnTo>
                      <a:pt x="9026" y="920"/>
                    </a:lnTo>
                    <a:lnTo>
                      <a:pt x="9019" y="869"/>
                    </a:lnTo>
                    <a:lnTo>
                      <a:pt x="9010" y="820"/>
                    </a:lnTo>
                    <a:lnTo>
                      <a:pt x="9000" y="768"/>
                    </a:lnTo>
                    <a:lnTo>
                      <a:pt x="8986" y="720"/>
                    </a:lnTo>
                    <a:lnTo>
                      <a:pt x="8970" y="671"/>
                    </a:lnTo>
                    <a:lnTo>
                      <a:pt x="8952" y="625"/>
                    </a:lnTo>
                    <a:lnTo>
                      <a:pt x="8929" y="580"/>
                    </a:lnTo>
                    <a:lnTo>
                      <a:pt x="8908" y="537"/>
                    </a:lnTo>
                    <a:lnTo>
                      <a:pt x="8883" y="494"/>
                    </a:lnTo>
                    <a:lnTo>
                      <a:pt x="8856" y="450"/>
                    </a:lnTo>
                    <a:lnTo>
                      <a:pt x="8827" y="410"/>
                    </a:lnTo>
                    <a:lnTo>
                      <a:pt x="8798" y="372"/>
                    </a:lnTo>
                    <a:lnTo>
                      <a:pt x="8765" y="335"/>
                    </a:lnTo>
                    <a:lnTo>
                      <a:pt x="8729" y="300"/>
                    </a:lnTo>
                    <a:lnTo>
                      <a:pt x="8695" y="264"/>
                    </a:lnTo>
                    <a:lnTo>
                      <a:pt x="8657" y="232"/>
                    </a:lnTo>
                    <a:lnTo>
                      <a:pt x="8619" y="202"/>
                    </a:lnTo>
                    <a:lnTo>
                      <a:pt x="8579" y="176"/>
                    </a:lnTo>
                    <a:lnTo>
                      <a:pt x="8536" y="148"/>
                    </a:lnTo>
                    <a:lnTo>
                      <a:pt x="8492" y="121"/>
                    </a:lnTo>
                    <a:lnTo>
                      <a:pt x="8449" y="100"/>
                    </a:lnTo>
                    <a:lnTo>
                      <a:pt x="8403" y="79"/>
                    </a:lnTo>
                    <a:lnTo>
                      <a:pt x="8358" y="63"/>
                    </a:lnTo>
                    <a:lnTo>
                      <a:pt x="8308" y="45"/>
                    </a:lnTo>
                    <a:lnTo>
                      <a:pt x="8260" y="33"/>
                    </a:lnTo>
                    <a:lnTo>
                      <a:pt x="8211" y="19"/>
                    </a:lnTo>
                    <a:lnTo>
                      <a:pt x="8160" y="11"/>
                    </a:lnTo>
                    <a:lnTo>
                      <a:pt x="8109" y="6"/>
                    </a:lnTo>
                    <a:lnTo>
                      <a:pt x="8057" y="0"/>
                    </a:lnTo>
                    <a:lnTo>
                      <a:pt x="8004" y="0"/>
                    </a:lnTo>
                    <a:lnTo>
                      <a:pt x="1027" y="0"/>
                    </a:lnTo>
                    <a:lnTo>
                      <a:pt x="974" y="0"/>
                    </a:lnTo>
                    <a:lnTo>
                      <a:pt x="923" y="6"/>
                    </a:lnTo>
                    <a:lnTo>
                      <a:pt x="871" y="11"/>
                    </a:lnTo>
                    <a:lnTo>
                      <a:pt x="820" y="19"/>
                    </a:lnTo>
                    <a:lnTo>
                      <a:pt x="771" y="33"/>
                    </a:lnTo>
                    <a:lnTo>
                      <a:pt x="723" y="45"/>
                    </a:lnTo>
                    <a:lnTo>
                      <a:pt x="674" y="63"/>
                    </a:lnTo>
                    <a:lnTo>
                      <a:pt x="628" y="79"/>
                    </a:lnTo>
                    <a:lnTo>
                      <a:pt x="582" y="100"/>
                    </a:lnTo>
                    <a:lnTo>
                      <a:pt x="536" y="121"/>
                    </a:lnTo>
                    <a:lnTo>
                      <a:pt x="493" y="148"/>
                    </a:lnTo>
                    <a:lnTo>
                      <a:pt x="453" y="176"/>
                    </a:lnTo>
                    <a:lnTo>
                      <a:pt x="412" y="202"/>
                    </a:lnTo>
                    <a:lnTo>
                      <a:pt x="375" y="232"/>
                    </a:lnTo>
                    <a:lnTo>
                      <a:pt x="336" y="264"/>
                    </a:lnTo>
                    <a:lnTo>
                      <a:pt x="302" y="300"/>
                    </a:lnTo>
                    <a:lnTo>
                      <a:pt x="267" y="335"/>
                    </a:lnTo>
                    <a:lnTo>
                      <a:pt x="234" y="372"/>
                    </a:lnTo>
                    <a:lnTo>
                      <a:pt x="205" y="410"/>
                    </a:lnTo>
                    <a:lnTo>
                      <a:pt x="175" y="450"/>
                    </a:lnTo>
                    <a:lnTo>
                      <a:pt x="148" y="494"/>
                    </a:lnTo>
                    <a:lnTo>
                      <a:pt x="124" y="537"/>
                    </a:lnTo>
                    <a:lnTo>
                      <a:pt x="102" y="580"/>
                    </a:lnTo>
                    <a:lnTo>
                      <a:pt x="80" y="625"/>
                    </a:lnTo>
                    <a:lnTo>
                      <a:pt x="62" y="671"/>
                    </a:lnTo>
                    <a:lnTo>
                      <a:pt x="46" y="720"/>
                    </a:lnTo>
                    <a:lnTo>
                      <a:pt x="32" y="768"/>
                    </a:lnTo>
                    <a:lnTo>
                      <a:pt x="21" y="820"/>
                    </a:lnTo>
                    <a:lnTo>
                      <a:pt x="10" y="869"/>
                    </a:lnTo>
                    <a:lnTo>
                      <a:pt x="5" y="920"/>
                    </a:lnTo>
                    <a:lnTo>
                      <a:pt x="2" y="973"/>
                    </a:lnTo>
                    <a:lnTo>
                      <a:pt x="0" y="1025"/>
                    </a:lnTo>
                    <a:lnTo>
                      <a:pt x="0" y="6247"/>
                    </a:lnTo>
                    <a:lnTo>
                      <a:pt x="2" y="6301"/>
                    </a:lnTo>
                    <a:lnTo>
                      <a:pt x="5" y="6352"/>
                    </a:lnTo>
                    <a:lnTo>
                      <a:pt x="10" y="6403"/>
                    </a:lnTo>
                    <a:lnTo>
                      <a:pt x="21" y="6455"/>
                    </a:lnTo>
                    <a:lnTo>
                      <a:pt x="32" y="6506"/>
                    </a:lnTo>
                    <a:lnTo>
                      <a:pt x="46" y="6555"/>
                    </a:lnTo>
                    <a:lnTo>
                      <a:pt x="62" y="6601"/>
                    </a:lnTo>
                    <a:lnTo>
                      <a:pt x="80" y="6649"/>
                    </a:lnTo>
                    <a:lnTo>
                      <a:pt x="102" y="6695"/>
                    </a:lnTo>
                    <a:lnTo>
                      <a:pt x="124" y="6739"/>
                    </a:lnTo>
                    <a:lnTo>
                      <a:pt x="148" y="6781"/>
                    </a:lnTo>
                    <a:lnTo>
                      <a:pt x="175" y="6822"/>
                    </a:lnTo>
                    <a:lnTo>
                      <a:pt x="205" y="6862"/>
                    </a:lnTo>
                    <a:lnTo>
                      <a:pt x="234" y="6903"/>
                    </a:lnTo>
                    <a:lnTo>
                      <a:pt x="267" y="6938"/>
                    </a:lnTo>
                    <a:lnTo>
                      <a:pt x="302" y="6976"/>
                    </a:lnTo>
                    <a:lnTo>
                      <a:pt x="336" y="7008"/>
                    </a:lnTo>
                    <a:lnTo>
                      <a:pt x="375" y="7041"/>
                    </a:lnTo>
                    <a:lnTo>
                      <a:pt x="412" y="7073"/>
                    </a:lnTo>
                    <a:lnTo>
                      <a:pt x="453" y="7099"/>
                    </a:lnTo>
                    <a:lnTo>
                      <a:pt x="493" y="7126"/>
                    </a:lnTo>
                    <a:lnTo>
                      <a:pt x="536" y="7151"/>
                    </a:lnTo>
                    <a:lnTo>
                      <a:pt x="582" y="7175"/>
                    </a:lnTo>
                    <a:lnTo>
                      <a:pt x="628" y="7195"/>
                    </a:lnTo>
                    <a:lnTo>
                      <a:pt x="674" y="7213"/>
                    </a:lnTo>
                    <a:lnTo>
                      <a:pt x="723" y="7230"/>
                    </a:lnTo>
                    <a:lnTo>
                      <a:pt x="771" y="7243"/>
                    </a:lnTo>
                    <a:lnTo>
                      <a:pt x="820" y="7253"/>
                    </a:lnTo>
                    <a:lnTo>
                      <a:pt x="871" y="7264"/>
                    </a:lnTo>
                    <a:lnTo>
                      <a:pt x="923" y="7269"/>
                    </a:lnTo>
                    <a:lnTo>
                      <a:pt x="974" y="7275"/>
                    </a:lnTo>
                    <a:lnTo>
                      <a:pt x="1027" y="7275"/>
                    </a:lnTo>
                    <a:lnTo>
                      <a:pt x="8004" y="7275"/>
                    </a:lnTo>
                    <a:lnTo>
                      <a:pt x="8057" y="7275"/>
                    </a:lnTo>
                    <a:lnTo>
                      <a:pt x="8109" y="7269"/>
                    </a:lnTo>
                    <a:lnTo>
                      <a:pt x="8160" y="7264"/>
                    </a:lnTo>
                    <a:lnTo>
                      <a:pt x="8211" y="7253"/>
                    </a:lnTo>
                    <a:lnTo>
                      <a:pt x="8260" y="7243"/>
                    </a:lnTo>
                    <a:lnTo>
                      <a:pt x="8308" y="7230"/>
                    </a:lnTo>
                    <a:lnTo>
                      <a:pt x="8358" y="7213"/>
                    </a:lnTo>
                    <a:lnTo>
                      <a:pt x="8403" y="7195"/>
                    </a:lnTo>
                    <a:lnTo>
                      <a:pt x="8449" y="7175"/>
                    </a:lnTo>
                    <a:lnTo>
                      <a:pt x="8492" y="7151"/>
                    </a:lnTo>
                    <a:lnTo>
                      <a:pt x="8536" y="7126"/>
                    </a:lnTo>
                    <a:lnTo>
                      <a:pt x="8579" y="7099"/>
                    </a:lnTo>
                    <a:lnTo>
                      <a:pt x="8619" y="7073"/>
                    </a:lnTo>
                    <a:lnTo>
                      <a:pt x="8657" y="7041"/>
                    </a:lnTo>
                    <a:lnTo>
                      <a:pt x="8695" y="7008"/>
                    </a:lnTo>
                    <a:lnTo>
                      <a:pt x="8729" y="6976"/>
                    </a:lnTo>
                    <a:lnTo>
                      <a:pt x="8765" y="6938"/>
                    </a:lnTo>
                    <a:lnTo>
                      <a:pt x="8798" y="6903"/>
                    </a:lnTo>
                    <a:lnTo>
                      <a:pt x="8827" y="6862"/>
                    </a:lnTo>
                    <a:lnTo>
                      <a:pt x="8856" y="6822"/>
                    </a:lnTo>
                    <a:lnTo>
                      <a:pt x="8883" y="6781"/>
                    </a:lnTo>
                    <a:lnTo>
                      <a:pt x="8908" y="6739"/>
                    </a:lnTo>
                    <a:lnTo>
                      <a:pt x="8929" y="6695"/>
                    </a:lnTo>
                    <a:lnTo>
                      <a:pt x="8952" y="6649"/>
                    </a:lnTo>
                    <a:lnTo>
                      <a:pt x="8970" y="6601"/>
                    </a:lnTo>
                    <a:lnTo>
                      <a:pt x="8986" y="6555"/>
                    </a:lnTo>
                    <a:lnTo>
                      <a:pt x="9000" y="6506"/>
                    </a:lnTo>
                    <a:lnTo>
                      <a:pt x="9010" y="6455"/>
                    </a:lnTo>
                    <a:lnTo>
                      <a:pt x="9019" y="6403"/>
                    </a:lnTo>
                    <a:lnTo>
                      <a:pt x="9026" y="6352"/>
                    </a:lnTo>
                    <a:lnTo>
                      <a:pt x="9030" y="6301"/>
                    </a:lnTo>
                    <a:lnTo>
                      <a:pt x="9032" y="6247"/>
                    </a:lnTo>
                    <a:lnTo>
                      <a:pt x="9024" y="624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66160" y="2765880"/>
                <a:ext cx="1400400" cy="781560"/>
              </a:xfrm>
              <a:custGeom>
                <a:avLst/>
                <a:gdLst/>
                <a:ahLst/>
                <a:rect l="l" t="t" r="r" b="b"/>
                <a:pathLst>
                  <a:path w="9008" h="5255">
                    <a:moveTo>
                      <a:pt x="9000" y="4092"/>
                    </a:moveTo>
                    <a:lnTo>
                      <a:pt x="8838" y="4138"/>
                    </a:lnTo>
                    <a:lnTo>
                      <a:pt x="8671" y="4189"/>
                    </a:lnTo>
                    <a:lnTo>
                      <a:pt x="8501" y="4240"/>
                    </a:lnTo>
                    <a:lnTo>
                      <a:pt x="8331" y="4286"/>
                    </a:lnTo>
                    <a:lnTo>
                      <a:pt x="8161" y="4330"/>
                    </a:lnTo>
                    <a:lnTo>
                      <a:pt x="8077" y="4346"/>
                    </a:lnTo>
                    <a:lnTo>
                      <a:pt x="7993" y="4362"/>
                    </a:lnTo>
                    <a:lnTo>
                      <a:pt x="7912" y="4376"/>
                    </a:lnTo>
                    <a:lnTo>
                      <a:pt x="7831" y="4386"/>
                    </a:lnTo>
                    <a:lnTo>
                      <a:pt x="7753" y="4394"/>
                    </a:lnTo>
                    <a:lnTo>
                      <a:pt x="7675" y="4397"/>
                    </a:lnTo>
                    <a:lnTo>
                      <a:pt x="7683" y="4408"/>
                    </a:lnTo>
                    <a:lnTo>
                      <a:pt x="7723" y="4440"/>
                    </a:lnTo>
                    <a:lnTo>
                      <a:pt x="7764" y="4475"/>
                    </a:lnTo>
                    <a:lnTo>
                      <a:pt x="7804" y="4524"/>
                    </a:lnTo>
                    <a:lnTo>
                      <a:pt x="7839" y="4572"/>
                    </a:lnTo>
                    <a:lnTo>
                      <a:pt x="7871" y="4627"/>
                    </a:lnTo>
                    <a:lnTo>
                      <a:pt x="7899" y="4683"/>
                    </a:lnTo>
                    <a:lnTo>
                      <a:pt x="7921" y="4745"/>
                    </a:lnTo>
                    <a:lnTo>
                      <a:pt x="7937" y="4807"/>
                    </a:lnTo>
                    <a:lnTo>
                      <a:pt x="7945" y="4872"/>
                    </a:lnTo>
                    <a:lnTo>
                      <a:pt x="7947" y="4904"/>
                    </a:lnTo>
                    <a:lnTo>
                      <a:pt x="7947" y="4940"/>
                    </a:lnTo>
                    <a:lnTo>
                      <a:pt x="7947" y="4968"/>
                    </a:lnTo>
                    <a:lnTo>
                      <a:pt x="7947" y="4998"/>
                    </a:lnTo>
                    <a:lnTo>
                      <a:pt x="7947" y="5034"/>
                    </a:lnTo>
                    <a:lnTo>
                      <a:pt x="7945" y="5066"/>
                    </a:lnTo>
                    <a:lnTo>
                      <a:pt x="7939" y="5101"/>
                    </a:lnTo>
                    <a:lnTo>
                      <a:pt x="7933" y="5134"/>
                    </a:lnTo>
                    <a:lnTo>
                      <a:pt x="7926" y="5163"/>
                    </a:lnTo>
                    <a:lnTo>
                      <a:pt x="7915" y="5196"/>
                    </a:lnTo>
                    <a:lnTo>
                      <a:pt x="7905" y="5226"/>
                    </a:lnTo>
                    <a:lnTo>
                      <a:pt x="7891" y="5255"/>
                    </a:lnTo>
                    <a:lnTo>
                      <a:pt x="7988" y="5255"/>
                    </a:lnTo>
                    <a:lnTo>
                      <a:pt x="8039" y="5255"/>
                    </a:lnTo>
                    <a:lnTo>
                      <a:pt x="8090" y="5249"/>
                    </a:lnTo>
                    <a:lnTo>
                      <a:pt x="8142" y="5244"/>
                    </a:lnTo>
                    <a:lnTo>
                      <a:pt x="8190" y="5236"/>
                    </a:lnTo>
                    <a:lnTo>
                      <a:pt x="8241" y="5223"/>
                    </a:lnTo>
                    <a:lnTo>
                      <a:pt x="8287" y="5209"/>
                    </a:lnTo>
                    <a:lnTo>
                      <a:pt x="8336" y="5193"/>
                    </a:lnTo>
                    <a:lnTo>
                      <a:pt x="8382" y="5177"/>
                    </a:lnTo>
                    <a:lnTo>
                      <a:pt x="8425" y="5155"/>
                    </a:lnTo>
                    <a:lnTo>
                      <a:pt x="8471" y="5134"/>
                    </a:lnTo>
                    <a:lnTo>
                      <a:pt x="8511" y="5109"/>
                    </a:lnTo>
                    <a:lnTo>
                      <a:pt x="8552" y="5083"/>
                    </a:lnTo>
                    <a:lnTo>
                      <a:pt x="8593" y="5055"/>
                    </a:lnTo>
                    <a:lnTo>
                      <a:pt x="8630" y="5026"/>
                    </a:lnTo>
                    <a:lnTo>
                      <a:pt x="8668" y="4993"/>
                    </a:lnTo>
                    <a:lnTo>
                      <a:pt x="8703" y="4958"/>
                    </a:lnTo>
                    <a:lnTo>
                      <a:pt x="8736" y="4924"/>
                    </a:lnTo>
                    <a:lnTo>
                      <a:pt x="8768" y="4888"/>
                    </a:lnTo>
                    <a:lnTo>
                      <a:pt x="8798" y="4850"/>
                    </a:lnTo>
                    <a:lnTo>
                      <a:pt x="8828" y="4809"/>
                    </a:lnTo>
                    <a:lnTo>
                      <a:pt x="8851" y="4770"/>
                    </a:lnTo>
                    <a:lnTo>
                      <a:pt x="8876" y="4726"/>
                    </a:lnTo>
                    <a:lnTo>
                      <a:pt x="8900" y="4683"/>
                    </a:lnTo>
                    <a:lnTo>
                      <a:pt x="8918" y="4637"/>
                    </a:lnTo>
                    <a:lnTo>
                      <a:pt x="8938" y="4591"/>
                    </a:lnTo>
                    <a:lnTo>
                      <a:pt x="8954" y="4546"/>
                    </a:lnTo>
                    <a:lnTo>
                      <a:pt x="8968" y="4496"/>
                    </a:lnTo>
                    <a:lnTo>
                      <a:pt x="8978" y="4448"/>
                    </a:lnTo>
                    <a:lnTo>
                      <a:pt x="8987" y="4399"/>
                    </a:lnTo>
                    <a:lnTo>
                      <a:pt x="8994" y="4348"/>
                    </a:lnTo>
                    <a:lnTo>
                      <a:pt x="8998" y="4297"/>
                    </a:lnTo>
                    <a:lnTo>
                      <a:pt x="9000" y="4243"/>
                    </a:lnTo>
                    <a:lnTo>
                      <a:pt x="9008" y="4243"/>
                    </a:lnTo>
                    <a:lnTo>
                      <a:pt x="9000" y="4243"/>
                    </a:lnTo>
                    <a:lnTo>
                      <a:pt x="9000" y="4092"/>
                    </a:lnTo>
                    <a:close/>
                    <a:moveTo>
                      <a:pt x="1892" y="2668"/>
                    </a:moveTo>
                    <a:lnTo>
                      <a:pt x="1262" y="3423"/>
                    </a:lnTo>
                    <a:lnTo>
                      <a:pt x="1300" y="3445"/>
                    </a:lnTo>
                    <a:lnTo>
                      <a:pt x="1335" y="3469"/>
                    </a:lnTo>
                    <a:lnTo>
                      <a:pt x="1354" y="3485"/>
                    </a:lnTo>
                    <a:lnTo>
                      <a:pt x="1370" y="3501"/>
                    </a:lnTo>
                    <a:lnTo>
                      <a:pt x="1381" y="3517"/>
                    </a:lnTo>
                    <a:lnTo>
                      <a:pt x="1392" y="3536"/>
                    </a:lnTo>
                    <a:lnTo>
                      <a:pt x="1400" y="3574"/>
                    </a:lnTo>
                    <a:lnTo>
                      <a:pt x="1406" y="3607"/>
                    </a:lnTo>
                    <a:lnTo>
                      <a:pt x="1402" y="3623"/>
                    </a:lnTo>
                    <a:lnTo>
                      <a:pt x="1400" y="3639"/>
                    </a:lnTo>
                    <a:lnTo>
                      <a:pt x="1395" y="3653"/>
                    </a:lnTo>
                    <a:lnTo>
                      <a:pt x="1386" y="3664"/>
                    </a:lnTo>
                    <a:lnTo>
                      <a:pt x="1370" y="3676"/>
                    </a:lnTo>
                    <a:lnTo>
                      <a:pt x="1351" y="3688"/>
                    </a:lnTo>
                    <a:lnTo>
                      <a:pt x="1330" y="3693"/>
                    </a:lnTo>
                    <a:lnTo>
                      <a:pt x="1305" y="3693"/>
                    </a:lnTo>
                    <a:lnTo>
                      <a:pt x="1287" y="3693"/>
                    </a:lnTo>
                    <a:lnTo>
                      <a:pt x="1266" y="3690"/>
                    </a:lnTo>
                    <a:lnTo>
                      <a:pt x="1278" y="3709"/>
                    </a:lnTo>
                    <a:lnTo>
                      <a:pt x="1287" y="3728"/>
                    </a:lnTo>
                    <a:lnTo>
                      <a:pt x="1292" y="3750"/>
                    </a:lnTo>
                    <a:lnTo>
                      <a:pt x="1295" y="3771"/>
                    </a:lnTo>
                    <a:lnTo>
                      <a:pt x="1292" y="3793"/>
                    </a:lnTo>
                    <a:lnTo>
                      <a:pt x="1287" y="3814"/>
                    </a:lnTo>
                    <a:lnTo>
                      <a:pt x="1278" y="3828"/>
                    </a:lnTo>
                    <a:lnTo>
                      <a:pt x="1271" y="3842"/>
                    </a:lnTo>
                    <a:lnTo>
                      <a:pt x="1260" y="3853"/>
                    </a:lnTo>
                    <a:lnTo>
                      <a:pt x="1246" y="3863"/>
                    </a:lnTo>
                    <a:lnTo>
                      <a:pt x="1230" y="3871"/>
                    </a:lnTo>
                    <a:lnTo>
                      <a:pt x="1214" y="3876"/>
                    </a:lnTo>
                    <a:lnTo>
                      <a:pt x="1195" y="3881"/>
                    </a:lnTo>
                    <a:lnTo>
                      <a:pt x="1176" y="3881"/>
                    </a:lnTo>
                    <a:lnTo>
                      <a:pt x="1174" y="3881"/>
                    </a:lnTo>
                    <a:lnTo>
                      <a:pt x="1149" y="3881"/>
                    </a:lnTo>
                    <a:lnTo>
                      <a:pt x="1130" y="3876"/>
                    </a:lnTo>
                    <a:lnTo>
                      <a:pt x="1103" y="3869"/>
                    </a:lnTo>
                    <a:lnTo>
                      <a:pt x="1117" y="3888"/>
                    </a:lnTo>
                    <a:lnTo>
                      <a:pt x="1128" y="3909"/>
                    </a:lnTo>
                    <a:lnTo>
                      <a:pt x="1133" y="3930"/>
                    </a:lnTo>
                    <a:lnTo>
                      <a:pt x="1135" y="3952"/>
                    </a:lnTo>
                    <a:lnTo>
                      <a:pt x="1133" y="3971"/>
                    </a:lnTo>
                    <a:lnTo>
                      <a:pt x="1128" y="3989"/>
                    </a:lnTo>
                    <a:lnTo>
                      <a:pt x="1119" y="4003"/>
                    </a:lnTo>
                    <a:lnTo>
                      <a:pt x="1109" y="4017"/>
                    </a:lnTo>
                    <a:lnTo>
                      <a:pt x="1098" y="4028"/>
                    </a:lnTo>
                    <a:lnTo>
                      <a:pt x="1084" y="4038"/>
                    </a:lnTo>
                    <a:lnTo>
                      <a:pt x="1071" y="4047"/>
                    </a:lnTo>
                    <a:lnTo>
                      <a:pt x="1057" y="4052"/>
                    </a:lnTo>
                    <a:lnTo>
                      <a:pt x="1043" y="4054"/>
                    </a:lnTo>
                    <a:lnTo>
                      <a:pt x="1031" y="4058"/>
                    </a:lnTo>
                    <a:lnTo>
                      <a:pt x="1017" y="4058"/>
                    </a:lnTo>
                    <a:lnTo>
                      <a:pt x="1015" y="4058"/>
                    </a:lnTo>
                    <a:lnTo>
                      <a:pt x="995" y="4058"/>
                    </a:lnTo>
                    <a:lnTo>
                      <a:pt x="976" y="4054"/>
                    </a:lnTo>
                    <a:lnTo>
                      <a:pt x="958" y="4049"/>
                    </a:lnTo>
                    <a:lnTo>
                      <a:pt x="939" y="4040"/>
                    </a:lnTo>
                    <a:lnTo>
                      <a:pt x="930" y="4049"/>
                    </a:lnTo>
                    <a:lnTo>
                      <a:pt x="930" y="4065"/>
                    </a:lnTo>
                    <a:lnTo>
                      <a:pt x="928" y="4086"/>
                    </a:lnTo>
                    <a:lnTo>
                      <a:pt x="925" y="4109"/>
                    </a:lnTo>
                    <a:lnTo>
                      <a:pt x="914" y="4127"/>
                    </a:lnTo>
                    <a:lnTo>
                      <a:pt x="909" y="4138"/>
                    </a:lnTo>
                    <a:lnTo>
                      <a:pt x="901" y="4143"/>
                    </a:lnTo>
                    <a:lnTo>
                      <a:pt x="893" y="4152"/>
                    </a:lnTo>
                    <a:lnTo>
                      <a:pt x="884" y="4155"/>
                    </a:lnTo>
                    <a:lnTo>
                      <a:pt x="874" y="4160"/>
                    </a:lnTo>
                    <a:lnTo>
                      <a:pt x="863" y="4160"/>
                    </a:lnTo>
                    <a:lnTo>
                      <a:pt x="861" y="4160"/>
                    </a:lnTo>
                    <a:lnTo>
                      <a:pt x="847" y="4157"/>
                    </a:lnTo>
                    <a:lnTo>
                      <a:pt x="833" y="4155"/>
                    </a:lnTo>
                    <a:lnTo>
                      <a:pt x="820" y="4149"/>
                    </a:lnTo>
                    <a:lnTo>
                      <a:pt x="806" y="4141"/>
                    </a:lnTo>
                    <a:lnTo>
                      <a:pt x="774" y="4119"/>
                    </a:lnTo>
                    <a:lnTo>
                      <a:pt x="739" y="4086"/>
                    </a:lnTo>
                    <a:lnTo>
                      <a:pt x="712" y="4079"/>
                    </a:lnTo>
                    <a:lnTo>
                      <a:pt x="684" y="4065"/>
                    </a:lnTo>
                    <a:lnTo>
                      <a:pt x="656" y="4049"/>
                    </a:lnTo>
                    <a:lnTo>
                      <a:pt x="626" y="4030"/>
                    </a:lnTo>
                    <a:lnTo>
                      <a:pt x="594" y="4006"/>
                    </a:lnTo>
                    <a:lnTo>
                      <a:pt x="561" y="3976"/>
                    </a:lnTo>
                    <a:lnTo>
                      <a:pt x="528" y="3941"/>
                    </a:lnTo>
                    <a:lnTo>
                      <a:pt x="493" y="3904"/>
                    </a:lnTo>
                    <a:lnTo>
                      <a:pt x="483" y="3904"/>
                    </a:lnTo>
                    <a:lnTo>
                      <a:pt x="428" y="3906"/>
                    </a:lnTo>
                    <a:lnTo>
                      <a:pt x="231" y="3917"/>
                    </a:lnTo>
                    <a:lnTo>
                      <a:pt x="0" y="3925"/>
                    </a:lnTo>
                    <a:lnTo>
                      <a:pt x="0" y="4243"/>
                    </a:lnTo>
                    <a:lnTo>
                      <a:pt x="0" y="4297"/>
                    </a:lnTo>
                    <a:lnTo>
                      <a:pt x="5" y="4348"/>
                    </a:lnTo>
                    <a:lnTo>
                      <a:pt x="10" y="4399"/>
                    </a:lnTo>
                    <a:lnTo>
                      <a:pt x="21" y="4448"/>
                    </a:lnTo>
                    <a:lnTo>
                      <a:pt x="32" y="4496"/>
                    </a:lnTo>
                    <a:lnTo>
                      <a:pt x="46" y="4546"/>
                    </a:lnTo>
                    <a:lnTo>
                      <a:pt x="62" y="4591"/>
                    </a:lnTo>
                    <a:lnTo>
                      <a:pt x="78" y="4637"/>
                    </a:lnTo>
                    <a:lnTo>
                      <a:pt x="99" y="4683"/>
                    </a:lnTo>
                    <a:lnTo>
                      <a:pt x="121" y="4726"/>
                    </a:lnTo>
                    <a:lnTo>
                      <a:pt x="145" y="4770"/>
                    </a:lnTo>
                    <a:lnTo>
                      <a:pt x="172" y="4809"/>
                    </a:lnTo>
                    <a:lnTo>
                      <a:pt x="199" y="4850"/>
                    </a:lnTo>
                    <a:lnTo>
                      <a:pt x="231" y="4888"/>
                    </a:lnTo>
                    <a:lnTo>
                      <a:pt x="261" y="4924"/>
                    </a:lnTo>
                    <a:lnTo>
                      <a:pt x="297" y="4958"/>
                    </a:lnTo>
                    <a:lnTo>
                      <a:pt x="332" y="4993"/>
                    </a:lnTo>
                    <a:lnTo>
                      <a:pt x="366" y="5026"/>
                    </a:lnTo>
                    <a:lnTo>
                      <a:pt x="407" y="5055"/>
                    </a:lnTo>
                    <a:lnTo>
                      <a:pt x="445" y="5083"/>
                    </a:lnTo>
                    <a:lnTo>
                      <a:pt x="486" y="5109"/>
                    </a:lnTo>
                    <a:lnTo>
                      <a:pt x="528" y="5134"/>
                    </a:lnTo>
                    <a:lnTo>
                      <a:pt x="571" y="5155"/>
                    </a:lnTo>
                    <a:lnTo>
                      <a:pt x="617" y="5177"/>
                    </a:lnTo>
                    <a:lnTo>
                      <a:pt x="663" y="5193"/>
                    </a:lnTo>
                    <a:lnTo>
                      <a:pt x="709" y="5209"/>
                    </a:lnTo>
                    <a:lnTo>
                      <a:pt x="758" y="5223"/>
                    </a:lnTo>
                    <a:lnTo>
                      <a:pt x="806" y="5236"/>
                    </a:lnTo>
                    <a:lnTo>
                      <a:pt x="858" y="5244"/>
                    </a:lnTo>
                    <a:lnTo>
                      <a:pt x="907" y="5249"/>
                    </a:lnTo>
                    <a:lnTo>
                      <a:pt x="958" y="5255"/>
                    </a:lnTo>
                    <a:lnTo>
                      <a:pt x="1011" y="5255"/>
                    </a:lnTo>
                    <a:lnTo>
                      <a:pt x="1546" y="5255"/>
                    </a:lnTo>
                    <a:lnTo>
                      <a:pt x="1530" y="5228"/>
                    </a:lnTo>
                    <a:lnTo>
                      <a:pt x="1516" y="5198"/>
                    </a:lnTo>
                    <a:lnTo>
                      <a:pt x="1508" y="5166"/>
                    </a:lnTo>
                    <a:lnTo>
                      <a:pt x="1505" y="5129"/>
                    </a:lnTo>
                    <a:lnTo>
                      <a:pt x="1508" y="5093"/>
                    </a:lnTo>
                    <a:lnTo>
                      <a:pt x="1516" y="5060"/>
                    </a:lnTo>
                    <a:lnTo>
                      <a:pt x="1530" y="5028"/>
                    </a:lnTo>
                    <a:lnTo>
                      <a:pt x="1546" y="5002"/>
                    </a:lnTo>
                    <a:lnTo>
                      <a:pt x="1567" y="4980"/>
                    </a:lnTo>
                    <a:lnTo>
                      <a:pt x="1579" y="4972"/>
                    </a:lnTo>
                    <a:lnTo>
                      <a:pt x="1589" y="4963"/>
                    </a:lnTo>
                    <a:lnTo>
                      <a:pt x="1602" y="4956"/>
                    </a:lnTo>
                    <a:lnTo>
                      <a:pt x="1616" y="4952"/>
                    </a:lnTo>
                    <a:lnTo>
                      <a:pt x="1630" y="4950"/>
                    </a:lnTo>
                    <a:lnTo>
                      <a:pt x="1646" y="4947"/>
                    </a:lnTo>
                    <a:lnTo>
                      <a:pt x="2574" y="4947"/>
                    </a:lnTo>
                    <a:lnTo>
                      <a:pt x="2590" y="4950"/>
                    </a:lnTo>
                    <a:lnTo>
                      <a:pt x="2603" y="4952"/>
                    </a:lnTo>
                    <a:lnTo>
                      <a:pt x="2617" y="4956"/>
                    </a:lnTo>
                    <a:lnTo>
                      <a:pt x="2631" y="4963"/>
                    </a:lnTo>
                    <a:lnTo>
                      <a:pt x="2655" y="4980"/>
                    </a:lnTo>
                    <a:lnTo>
                      <a:pt x="2674" y="5002"/>
                    </a:lnTo>
                    <a:lnTo>
                      <a:pt x="2690" y="5028"/>
                    </a:lnTo>
                    <a:lnTo>
                      <a:pt x="2704" y="5060"/>
                    </a:lnTo>
                    <a:lnTo>
                      <a:pt x="2712" y="5093"/>
                    </a:lnTo>
                    <a:lnTo>
                      <a:pt x="2714" y="5129"/>
                    </a:lnTo>
                    <a:lnTo>
                      <a:pt x="2712" y="5166"/>
                    </a:lnTo>
                    <a:lnTo>
                      <a:pt x="2704" y="5198"/>
                    </a:lnTo>
                    <a:lnTo>
                      <a:pt x="2693" y="5228"/>
                    </a:lnTo>
                    <a:lnTo>
                      <a:pt x="2677" y="5255"/>
                    </a:lnTo>
                    <a:lnTo>
                      <a:pt x="3151" y="5255"/>
                    </a:lnTo>
                    <a:lnTo>
                      <a:pt x="3135" y="5228"/>
                    </a:lnTo>
                    <a:lnTo>
                      <a:pt x="3125" y="5198"/>
                    </a:lnTo>
                    <a:lnTo>
                      <a:pt x="3116" y="5166"/>
                    </a:lnTo>
                    <a:lnTo>
                      <a:pt x="3114" y="5129"/>
                    </a:lnTo>
                    <a:lnTo>
                      <a:pt x="3116" y="5093"/>
                    </a:lnTo>
                    <a:lnTo>
                      <a:pt x="3125" y="5060"/>
                    </a:lnTo>
                    <a:lnTo>
                      <a:pt x="3135" y="5028"/>
                    </a:lnTo>
                    <a:lnTo>
                      <a:pt x="3155" y="5002"/>
                    </a:lnTo>
                    <a:lnTo>
                      <a:pt x="3173" y="4980"/>
                    </a:lnTo>
                    <a:lnTo>
                      <a:pt x="3187" y="4972"/>
                    </a:lnTo>
                    <a:lnTo>
                      <a:pt x="3197" y="4963"/>
                    </a:lnTo>
                    <a:lnTo>
                      <a:pt x="3211" y="4956"/>
                    </a:lnTo>
                    <a:lnTo>
                      <a:pt x="3224" y="4952"/>
                    </a:lnTo>
                    <a:lnTo>
                      <a:pt x="3238" y="4950"/>
                    </a:lnTo>
                    <a:lnTo>
                      <a:pt x="3254" y="4947"/>
                    </a:lnTo>
                    <a:lnTo>
                      <a:pt x="4182" y="4947"/>
                    </a:lnTo>
                    <a:lnTo>
                      <a:pt x="4196" y="4950"/>
                    </a:lnTo>
                    <a:lnTo>
                      <a:pt x="4212" y="4952"/>
                    </a:lnTo>
                    <a:lnTo>
                      <a:pt x="4226" y="4956"/>
                    </a:lnTo>
                    <a:lnTo>
                      <a:pt x="4237" y="4963"/>
                    </a:lnTo>
                    <a:lnTo>
                      <a:pt x="4250" y="4972"/>
                    </a:lnTo>
                    <a:lnTo>
                      <a:pt x="4260" y="4980"/>
                    </a:lnTo>
                    <a:lnTo>
                      <a:pt x="4283" y="5002"/>
                    </a:lnTo>
                    <a:lnTo>
                      <a:pt x="4299" y="5028"/>
                    </a:lnTo>
                    <a:lnTo>
                      <a:pt x="4312" y="5060"/>
                    </a:lnTo>
                    <a:lnTo>
                      <a:pt x="4320" y="5093"/>
                    </a:lnTo>
                    <a:lnTo>
                      <a:pt x="4323" y="5129"/>
                    </a:lnTo>
                    <a:lnTo>
                      <a:pt x="4320" y="5166"/>
                    </a:lnTo>
                    <a:lnTo>
                      <a:pt x="4312" y="5198"/>
                    </a:lnTo>
                    <a:lnTo>
                      <a:pt x="4299" y="5228"/>
                    </a:lnTo>
                    <a:lnTo>
                      <a:pt x="4283" y="5255"/>
                    </a:lnTo>
                    <a:lnTo>
                      <a:pt x="5980" y="5255"/>
                    </a:lnTo>
                    <a:lnTo>
                      <a:pt x="5942" y="5209"/>
                    </a:lnTo>
                    <a:lnTo>
                      <a:pt x="5907" y="5161"/>
                    </a:lnTo>
                    <a:lnTo>
                      <a:pt x="5878" y="5106"/>
                    </a:lnTo>
                    <a:lnTo>
                      <a:pt x="5853" y="5053"/>
                    </a:lnTo>
                    <a:lnTo>
                      <a:pt x="5832" y="4993"/>
                    </a:lnTo>
                    <a:lnTo>
                      <a:pt x="5818" y="4931"/>
                    </a:lnTo>
                    <a:lnTo>
                      <a:pt x="5809" y="4869"/>
                    </a:lnTo>
                    <a:lnTo>
                      <a:pt x="5807" y="4804"/>
                    </a:lnTo>
                    <a:lnTo>
                      <a:pt x="5807" y="4772"/>
                    </a:lnTo>
                    <a:lnTo>
                      <a:pt x="5809" y="4737"/>
                    </a:lnTo>
                    <a:lnTo>
                      <a:pt x="5818" y="4673"/>
                    </a:lnTo>
                    <a:lnTo>
                      <a:pt x="5834" y="4611"/>
                    </a:lnTo>
                    <a:lnTo>
                      <a:pt x="5855" y="4551"/>
                    </a:lnTo>
                    <a:lnTo>
                      <a:pt x="5883" y="4494"/>
                    </a:lnTo>
                    <a:lnTo>
                      <a:pt x="5915" y="4440"/>
                    </a:lnTo>
                    <a:lnTo>
                      <a:pt x="5950" y="4389"/>
                    </a:lnTo>
                    <a:lnTo>
                      <a:pt x="5991" y="4343"/>
                    </a:lnTo>
                    <a:lnTo>
                      <a:pt x="6018" y="4319"/>
                    </a:lnTo>
                    <a:lnTo>
                      <a:pt x="6045" y="4295"/>
                    </a:lnTo>
                    <a:lnTo>
                      <a:pt x="6071" y="4273"/>
                    </a:lnTo>
                    <a:lnTo>
                      <a:pt x="6101" y="4254"/>
                    </a:lnTo>
                    <a:lnTo>
                      <a:pt x="5818" y="4206"/>
                    </a:lnTo>
                    <a:lnTo>
                      <a:pt x="5675" y="4181"/>
                    </a:lnTo>
                    <a:lnTo>
                      <a:pt x="5535" y="4152"/>
                    </a:lnTo>
                    <a:lnTo>
                      <a:pt x="5394" y="4125"/>
                    </a:lnTo>
                    <a:lnTo>
                      <a:pt x="5252" y="4092"/>
                    </a:lnTo>
                    <a:lnTo>
                      <a:pt x="5111" y="4060"/>
                    </a:lnTo>
                    <a:lnTo>
                      <a:pt x="4971" y="4024"/>
                    </a:lnTo>
                    <a:lnTo>
                      <a:pt x="4830" y="3989"/>
                    </a:lnTo>
                    <a:lnTo>
                      <a:pt x="4690" y="3952"/>
                    </a:lnTo>
                    <a:lnTo>
                      <a:pt x="4552" y="3911"/>
                    </a:lnTo>
                    <a:lnTo>
                      <a:pt x="4414" y="3871"/>
                    </a:lnTo>
                    <a:lnTo>
                      <a:pt x="4277" y="3828"/>
                    </a:lnTo>
                    <a:lnTo>
                      <a:pt x="4140" y="3782"/>
                    </a:lnTo>
                    <a:lnTo>
                      <a:pt x="4005" y="3736"/>
                    </a:lnTo>
                    <a:lnTo>
                      <a:pt x="3869" y="3688"/>
                    </a:lnTo>
                    <a:lnTo>
                      <a:pt x="3735" y="3639"/>
                    </a:lnTo>
                    <a:lnTo>
                      <a:pt x="3602" y="3588"/>
                    </a:lnTo>
                    <a:lnTo>
                      <a:pt x="3470" y="3534"/>
                    </a:lnTo>
                    <a:lnTo>
                      <a:pt x="3338" y="3478"/>
                    </a:lnTo>
                    <a:lnTo>
                      <a:pt x="3208" y="3420"/>
                    </a:lnTo>
                    <a:lnTo>
                      <a:pt x="3082" y="3361"/>
                    </a:lnTo>
                    <a:lnTo>
                      <a:pt x="2955" y="3299"/>
                    </a:lnTo>
                    <a:lnTo>
                      <a:pt x="2831" y="3237"/>
                    </a:lnTo>
                    <a:lnTo>
                      <a:pt x="2706" y="3172"/>
                    </a:lnTo>
                    <a:lnTo>
                      <a:pt x="2585" y="3107"/>
                    </a:lnTo>
                    <a:lnTo>
                      <a:pt x="2463" y="3038"/>
                    </a:lnTo>
                    <a:lnTo>
                      <a:pt x="2345" y="2967"/>
                    </a:lnTo>
                    <a:lnTo>
                      <a:pt x="2228" y="2895"/>
                    </a:lnTo>
                    <a:lnTo>
                      <a:pt x="2115" y="2822"/>
                    </a:lnTo>
                    <a:lnTo>
                      <a:pt x="2002" y="2746"/>
                    </a:lnTo>
                    <a:lnTo>
                      <a:pt x="1892" y="2668"/>
                    </a:lnTo>
                    <a:close/>
                    <a:moveTo>
                      <a:pt x="0" y="0"/>
                    </a:moveTo>
                    <a:lnTo>
                      <a:pt x="0" y="3432"/>
                    </a:lnTo>
                    <a:lnTo>
                      <a:pt x="302" y="3429"/>
                    </a:lnTo>
                    <a:lnTo>
                      <a:pt x="574" y="3423"/>
                    </a:lnTo>
                    <a:lnTo>
                      <a:pt x="590" y="3404"/>
                    </a:lnTo>
                    <a:lnTo>
                      <a:pt x="615" y="3386"/>
                    </a:lnTo>
                    <a:lnTo>
                      <a:pt x="647" y="3369"/>
                    </a:lnTo>
                    <a:lnTo>
                      <a:pt x="688" y="3353"/>
                    </a:lnTo>
                    <a:lnTo>
                      <a:pt x="730" y="3340"/>
                    </a:lnTo>
                    <a:lnTo>
                      <a:pt x="776" y="3331"/>
                    </a:lnTo>
                    <a:lnTo>
                      <a:pt x="822" y="3326"/>
                    </a:lnTo>
                    <a:lnTo>
                      <a:pt x="871" y="3324"/>
                    </a:lnTo>
                    <a:lnTo>
                      <a:pt x="925" y="3326"/>
                    </a:lnTo>
                    <a:lnTo>
                      <a:pt x="953" y="3329"/>
                    </a:lnTo>
                    <a:lnTo>
                      <a:pt x="976" y="3335"/>
                    </a:lnTo>
                    <a:lnTo>
                      <a:pt x="1621" y="2598"/>
                    </a:lnTo>
                    <a:lnTo>
                      <a:pt x="1540" y="2598"/>
                    </a:lnTo>
                    <a:lnTo>
                      <a:pt x="1438" y="2598"/>
                    </a:lnTo>
                    <a:lnTo>
                      <a:pt x="1354" y="2601"/>
                    </a:lnTo>
                    <a:lnTo>
                      <a:pt x="1273" y="2603"/>
                    </a:lnTo>
                    <a:lnTo>
                      <a:pt x="1171" y="2603"/>
                    </a:lnTo>
                    <a:lnTo>
                      <a:pt x="1079" y="2603"/>
                    </a:lnTo>
                    <a:lnTo>
                      <a:pt x="1079" y="2571"/>
                    </a:lnTo>
                    <a:lnTo>
                      <a:pt x="1171" y="2571"/>
                    </a:lnTo>
                    <a:lnTo>
                      <a:pt x="1273" y="2571"/>
                    </a:lnTo>
                    <a:lnTo>
                      <a:pt x="1354" y="2568"/>
                    </a:lnTo>
                    <a:lnTo>
                      <a:pt x="1436" y="2566"/>
                    </a:lnTo>
                    <a:lnTo>
                      <a:pt x="1540" y="2566"/>
                    </a:lnTo>
                    <a:lnTo>
                      <a:pt x="1627" y="2566"/>
                    </a:lnTo>
                    <a:lnTo>
                      <a:pt x="1648" y="2566"/>
                    </a:lnTo>
                    <a:lnTo>
                      <a:pt x="1692" y="2517"/>
                    </a:lnTo>
                    <a:lnTo>
                      <a:pt x="1613" y="2455"/>
                    </a:lnTo>
                    <a:lnTo>
                      <a:pt x="1538" y="2393"/>
                    </a:lnTo>
                    <a:lnTo>
                      <a:pt x="1462" y="2331"/>
                    </a:lnTo>
                    <a:lnTo>
                      <a:pt x="1390" y="2266"/>
                    </a:lnTo>
                    <a:lnTo>
                      <a:pt x="1319" y="2198"/>
                    </a:lnTo>
                    <a:lnTo>
                      <a:pt x="1246" y="2131"/>
                    </a:lnTo>
                    <a:lnTo>
                      <a:pt x="1179" y="2064"/>
                    </a:lnTo>
                    <a:lnTo>
                      <a:pt x="1112" y="1997"/>
                    </a:lnTo>
                    <a:lnTo>
                      <a:pt x="1043" y="1926"/>
                    </a:lnTo>
                    <a:lnTo>
                      <a:pt x="979" y="1854"/>
                    </a:lnTo>
                    <a:lnTo>
                      <a:pt x="917" y="1781"/>
                    </a:lnTo>
                    <a:lnTo>
                      <a:pt x="855" y="1707"/>
                    </a:lnTo>
                    <a:lnTo>
                      <a:pt x="796" y="1633"/>
                    </a:lnTo>
                    <a:lnTo>
                      <a:pt x="736" y="1557"/>
                    </a:lnTo>
                    <a:lnTo>
                      <a:pt x="679" y="1481"/>
                    </a:lnTo>
                    <a:lnTo>
                      <a:pt x="626" y="1403"/>
                    </a:lnTo>
                    <a:lnTo>
                      <a:pt x="571" y="1325"/>
                    </a:lnTo>
                    <a:lnTo>
                      <a:pt x="520" y="1244"/>
                    </a:lnTo>
                    <a:lnTo>
                      <a:pt x="472" y="1163"/>
                    </a:lnTo>
                    <a:lnTo>
                      <a:pt x="423" y="1079"/>
                    </a:lnTo>
                    <a:lnTo>
                      <a:pt x="377" y="995"/>
                    </a:lnTo>
                    <a:lnTo>
                      <a:pt x="332" y="912"/>
                    </a:lnTo>
                    <a:lnTo>
                      <a:pt x="291" y="825"/>
                    </a:lnTo>
                    <a:lnTo>
                      <a:pt x="251" y="740"/>
                    </a:lnTo>
                    <a:lnTo>
                      <a:pt x="212" y="650"/>
                    </a:lnTo>
                    <a:lnTo>
                      <a:pt x="175" y="562"/>
                    </a:lnTo>
                    <a:lnTo>
                      <a:pt x="140" y="472"/>
                    </a:lnTo>
                    <a:lnTo>
                      <a:pt x="108" y="381"/>
                    </a:lnTo>
                    <a:lnTo>
                      <a:pt x="78" y="286"/>
                    </a:lnTo>
                    <a:lnTo>
                      <a:pt x="51" y="192"/>
                    </a:lnTo>
                    <a:lnTo>
                      <a:pt x="24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9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72640" y="2774160"/>
                <a:ext cx="1395360" cy="788400"/>
              </a:xfrm>
              <a:custGeom>
                <a:avLst/>
                <a:gdLst/>
                <a:ahLst/>
                <a:rect l="l" t="t" r="r" b="b"/>
                <a:pathLst>
                  <a:path w="9017" h="5295">
                    <a:moveTo>
                      <a:pt x="3160" y="5287"/>
                    </a:moveTo>
                    <a:lnTo>
                      <a:pt x="2686" y="5287"/>
                    </a:lnTo>
                    <a:lnTo>
                      <a:pt x="2683" y="5290"/>
                    </a:lnTo>
                    <a:lnTo>
                      <a:pt x="2677" y="5295"/>
                    </a:lnTo>
                    <a:lnTo>
                      <a:pt x="3169" y="5295"/>
                    </a:lnTo>
                    <a:lnTo>
                      <a:pt x="3164" y="5290"/>
                    </a:lnTo>
                    <a:lnTo>
                      <a:pt x="3160" y="5287"/>
                    </a:lnTo>
                    <a:close/>
                    <a:moveTo>
                      <a:pt x="5989" y="5287"/>
                    </a:moveTo>
                    <a:lnTo>
                      <a:pt x="4292" y="5287"/>
                    </a:lnTo>
                    <a:lnTo>
                      <a:pt x="4292" y="5290"/>
                    </a:lnTo>
                    <a:lnTo>
                      <a:pt x="4286" y="5295"/>
                    </a:lnTo>
                    <a:lnTo>
                      <a:pt x="5997" y="5295"/>
                    </a:lnTo>
                    <a:lnTo>
                      <a:pt x="5989" y="5287"/>
                    </a:lnTo>
                    <a:close/>
                    <a:moveTo>
                      <a:pt x="9017" y="4275"/>
                    </a:moveTo>
                    <a:lnTo>
                      <a:pt x="9009" y="4275"/>
                    </a:lnTo>
                    <a:lnTo>
                      <a:pt x="9007" y="4329"/>
                    </a:lnTo>
                    <a:lnTo>
                      <a:pt x="9003" y="4380"/>
                    </a:lnTo>
                    <a:lnTo>
                      <a:pt x="8996" y="4431"/>
                    </a:lnTo>
                    <a:lnTo>
                      <a:pt x="8987" y="4480"/>
                    </a:lnTo>
                    <a:lnTo>
                      <a:pt x="8977" y="4528"/>
                    </a:lnTo>
                    <a:lnTo>
                      <a:pt x="8963" y="4578"/>
                    </a:lnTo>
                    <a:lnTo>
                      <a:pt x="8947" y="4623"/>
                    </a:lnTo>
                    <a:lnTo>
                      <a:pt x="8927" y="4669"/>
                    </a:lnTo>
                    <a:lnTo>
                      <a:pt x="8909" y="4715"/>
                    </a:lnTo>
                    <a:lnTo>
                      <a:pt x="8885" y="4758"/>
                    </a:lnTo>
                    <a:lnTo>
                      <a:pt x="8860" y="4802"/>
                    </a:lnTo>
                    <a:lnTo>
                      <a:pt x="8837" y="4841"/>
                    </a:lnTo>
                    <a:lnTo>
                      <a:pt x="8807" y="4882"/>
                    </a:lnTo>
                    <a:lnTo>
                      <a:pt x="8777" y="4920"/>
                    </a:lnTo>
                    <a:lnTo>
                      <a:pt x="8745" y="4956"/>
                    </a:lnTo>
                    <a:lnTo>
                      <a:pt x="8712" y="4990"/>
                    </a:lnTo>
                    <a:lnTo>
                      <a:pt x="8677" y="5025"/>
                    </a:lnTo>
                    <a:lnTo>
                      <a:pt x="8639" y="5058"/>
                    </a:lnTo>
                    <a:lnTo>
                      <a:pt x="8602" y="5087"/>
                    </a:lnTo>
                    <a:lnTo>
                      <a:pt x="8561" y="5115"/>
                    </a:lnTo>
                    <a:lnTo>
                      <a:pt x="8520" y="5141"/>
                    </a:lnTo>
                    <a:lnTo>
                      <a:pt x="8480" y="5166"/>
                    </a:lnTo>
                    <a:lnTo>
                      <a:pt x="8434" y="5187"/>
                    </a:lnTo>
                    <a:lnTo>
                      <a:pt x="8391" y="5209"/>
                    </a:lnTo>
                    <a:lnTo>
                      <a:pt x="8345" y="5225"/>
                    </a:lnTo>
                    <a:lnTo>
                      <a:pt x="8296" y="5241"/>
                    </a:lnTo>
                    <a:lnTo>
                      <a:pt x="8250" y="5255"/>
                    </a:lnTo>
                    <a:lnTo>
                      <a:pt x="8199" y="5268"/>
                    </a:lnTo>
                    <a:lnTo>
                      <a:pt x="8151" y="5276"/>
                    </a:lnTo>
                    <a:lnTo>
                      <a:pt x="8099" y="5281"/>
                    </a:lnTo>
                    <a:lnTo>
                      <a:pt x="8048" y="5287"/>
                    </a:lnTo>
                    <a:lnTo>
                      <a:pt x="7997" y="5287"/>
                    </a:lnTo>
                    <a:lnTo>
                      <a:pt x="7900" y="5287"/>
                    </a:lnTo>
                    <a:lnTo>
                      <a:pt x="7896" y="5295"/>
                    </a:lnTo>
                    <a:lnTo>
                      <a:pt x="7997" y="5295"/>
                    </a:lnTo>
                    <a:lnTo>
                      <a:pt x="8048" y="5295"/>
                    </a:lnTo>
                    <a:lnTo>
                      <a:pt x="8102" y="5290"/>
                    </a:lnTo>
                    <a:lnTo>
                      <a:pt x="8153" y="5284"/>
                    </a:lnTo>
                    <a:lnTo>
                      <a:pt x="8202" y="5274"/>
                    </a:lnTo>
                    <a:lnTo>
                      <a:pt x="8250" y="5263"/>
                    </a:lnTo>
                    <a:lnTo>
                      <a:pt x="8299" y="5249"/>
                    </a:lnTo>
                    <a:lnTo>
                      <a:pt x="8347" y="5233"/>
                    </a:lnTo>
                    <a:lnTo>
                      <a:pt x="8393" y="5214"/>
                    </a:lnTo>
                    <a:lnTo>
                      <a:pt x="8439" y="5195"/>
                    </a:lnTo>
                    <a:lnTo>
                      <a:pt x="8483" y="5173"/>
                    </a:lnTo>
                    <a:lnTo>
                      <a:pt x="8526" y="5147"/>
                    </a:lnTo>
                    <a:lnTo>
                      <a:pt x="8566" y="5122"/>
                    </a:lnTo>
                    <a:lnTo>
                      <a:pt x="8607" y="5092"/>
                    </a:lnTo>
                    <a:lnTo>
                      <a:pt x="8644" y="5063"/>
                    </a:lnTo>
                    <a:lnTo>
                      <a:pt x="8683" y="5030"/>
                    </a:lnTo>
                    <a:lnTo>
                      <a:pt x="8717" y="4998"/>
                    </a:lnTo>
                    <a:lnTo>
                      <a:pt x="8752" y="4961"/>
                    </a:lnTo>
                    <a:lnTo>
                      <a:pt x="8782" y="4926"/>
                    </a:lnTo>
                    <a:lnTo>
                      <a:pt x="8814" y="4885"/>
                    </a:lnTo>
                    <a:lnTo>
                      <a:pt x="8842" y="4847"/>
                    </a:lnTo>
                    <a:lnTo>
                      <a:pt x="8869" y="4804"/>
                    </a:lnTo>
                    <a:lnTo>
                      <a:pt x="8893" y="4763"/>
                    </a:lnTo>
                    <a:lnTo>
                      <a:pt x="8915" y="4717"/>
                    </a:lnTo>
                    <a:lnTo>
                      <a:pt x="8936" y="4672"/>
                    </a:lnTo>
                    <a:lnTo>
                      <a:pt x="8955" y="4626"/>
                    </a:lnTo>
                    <a:lnTo>
                      <a:pt x="8971" y="4580"/>
                    </a:lnTo>
                    <a:lnTo>
                      <a:pt x="8984" y="4532"/>
                    </a:lnTo>
                    <a:lnTo>
                      <a:pt x="8996" y="4483"/>
                    </a:lnTo>
                    <a:lnTo>
                      <a:pt x="9003" y="4431"/>
                    </a:lnTo>
                    <a:lnTo>
                      <a:pt x="9012" y="4380"/>
                    </a:lnTo>
                    <a:lnTo>
                      <a:pt x="9014" y="4329"/>
                    </a:lnTo>
                    <a:lnTo>
                      <a:pt x="9017" y="4275"/>
                    </a:lnTo>
                    <a:close/>
                    <a:moveTo>
                      <a:pt x="9017" y="4122"/>
                    </a:moveTo>
                    <a:lnTo>
                      <a:pt x="9009" y="4124"/>
                    </a:lnTo>
                    <a:lnTo>
                      <a:pt x="9009" y="4275"/>
                    </a:lnTo>
                    <a:lnTo>
                      <a:pt x="9017" y="4275"/>
                    </a:lnTo>
                    <a:lnTo>
                      <a:pt x="9017" y="4122"/>
                    </a:lnTo>
                    <a:close/>
                    <a:moveTo>
                      <a:pt x="9" y="3957"/>
                    </a:moveTo>
                    <a:lnTo>
                      <a:pt x="0" y="3957"/>
                    </a:lnTo>
                    <a:lnTo>
                      <a:pt x="0" y="4275"/>
                    </a:lnTo>
                    <a:lnTo>
                      <a:pt x="3" y="4329"/>
                    </a:lnTo>
                    <a:lnTo>
                      <a:pt x="5" y="4380"/>
                    </a:lnTo>
                    <a:lnTo>
                      <a:pt x="11" y="4431"/>
                    </a:lnTo>
                    <a:lnTo>
                      <a:pt x="21" y="4483"/>
                    </a:lnTo>
                    <a:lnTo>
                      <a:pt x="33" y="4532"/>
                    </a:lnTo>
                    <a:lnTo>
                      <a:pt x="46" y="4580"/>
                    </a:lnTo>
                    <a:lnTo>
                      <a:pt x="62" y="4626"/>
                    </a:lnTo>
                    <a:lnTo>
                      <a:pt x="81" y="4672"/>
                    </a:lnTo>
                    <a:lnTo>
                      <a:pt x="101" y="4717"/>
                    </a:lnTo>
                    <a:lnTo>
                      <a:pt x="124" y="4763"/>
                    </a:lnTo>
                    <a:lnTo>
                      <a:pt x="149" y="4804"/>
                    </a:lnTo>
                    <a:lnTo>
                      <a:pt x="175" y="4847"/>
                    </a:lnTo>
                    <a:lnTo>
                      <a:pt x="203" y="4885"/>
                    </a:lnTo>
                    <a:lnTo>
                      <a:pt x="233" y="4926"/>
                    </a:lnTo>
                    <a:lnTo>
                      <a:pt x="265" y="4961"/>
                    </a:lnTo>
                    <a:lnTo>
                      <a:pt x="300" y="4998"/>
                    </a:lnTo>
                    <a:lnTo>
                      <a:pt x="335" y="5030"/>
                    </a:lnTo>
                    <a:lnTo>
                      <a:pt x="373" y="5063"/>
                    </a:lnTo>
                    <a:lnTo>
                      <a:pt x="410" y="5092"/>
                    </a:lnTo>
                    <a:lnTo>
                      <a:pt x="451" y="5122"/>
                    </a:lnTo>
                    <a:lnTo>
                      <a:pt x="492" y="5147"/>
                    </a:lnTo>
                    <a:lnTo>
                      <a:pt x="534" y="5173"/>
                    </a:lnTo>
                    <a:lnTo>
                      <a:pt x="578" y="5195"/>
                    </a:lnTo>
                    <a:lnTo>
                      <a:pt x="624" y="5214"/>
                    </a:lnTo>
                    <a:lnTo>
                      <a:pt x="670" y="5233"/>
                    </a:lnTo>
                    <a:lnTo>
                      <a:pt x="716" y="5249"/>
                    </a:lnTo>
                    <a:lnTo>
                      <a:pt x="764" y="5263"/>
                    </a:lnTo>
                    <a:lnTo>
                      <a:pt x="815" y="5274"/>
                    </a:lnTo>
                    <a:lnTo>
                      <a:pt x="864" y="5284"/>
                    </a:lnTo>
                    <a:lnTo>
                      <a:pt x="916" y="5290"/>
                    </a:lnTo>
                    <a:lnTo>
                      <a:pt x="967" y="5295"/>
                    </a:lnTo>
                    <a:lnTo>
                      <a:pt x="1020" y="5295"/>
                    </a:lnTo>
                    <a:lnTo>
                      <a:pt x="1560" y="5295"/>
                    </a:lnTo>
                    <a:lnTo>
                      <a:pt x="1555" y="5290"/>
                    </a:lnTo>
                    <a:lnTo>
                      <a:pt x="1555" y="5287"/>
                    </a:lnTo>
                    <a:lnTo>
                      <a:pt x="1020" y="5287"/>
                    </a:lnTo>
                    <a:lnTo>
                      <a:pt x="967" y="5287"/>
                    </a:lnTo>
                    <a:lnTo>
                      <a:pt x="916" y="5281"/>
                    </a:lnTo>
                    <a:lnTo>
                      <a:pt x="867" y="5276"/>
                    </a:lnTo>
                    <a:lnTo>
                      <a:pt x="815" y="5268"/>
                    </a:lnTo>
                    <a:lnTo>
                      <a:pt x="767" y="5255"/>
                    </a:lnTo>
                    <a:lnTo>
                      <a:pt x="718" y="5241"/>
                    </a:lnTo>
                    <a:lnTo>
                      <a:pt x="672" y="5225"/>
                    </a:lnTo>
                    <a:lnTo>
                      <a:pt x="626" y="5209"/>
                    </a:lnTo>
                    <a:lnTo>
                      <a:pt x="580" y="5187"/>
                    </a:lnTo>
                    <a:lnTo>
                      <a:pt x="537" y="5166"/>
                    </a:lnTo>
                    <a:lnTo>
                      <a:pt x="495" y="5141"/>
                    </a:lnTo>
                    <a:lnTo>
                      <a:pt x="454" y="5115"/>
                    </a:lnTo>
                    <a:lnTo>
                      <a:pt x="416" y="5087"/>
                    </a:lnTo>
                    <a:lnTo>
                      <a:pt x="375" y="5058"/>
                    </a:lnTo>
                    <a:lnTo>
                      <a:pt x="341" y="5025"/>
                    </a:lnTo>
                    <a:lnTo>
                      <a:pt x="306" y="4990"/>
                    </a:lnTo>
                    <a:lnTo>
                      <a:pt x="270" y="4956"/>
                    </a:lnTo>
                    <a:lnTo>
                      <a:pt x="240" y="4920"/>
                    </a:lnTo>
                    <a:lnTo>
                      <a:pt x="208" y="4882"/>
                    </a:lnTo>
                    <a:lnTo>
                      <a:pt x="181" y="4841"/>
                    </a:lnTo>
                    <a:lnTo>
                      <a:pt x="154" y="4802"/>
                    </a:lnTo>
                    <a:lnTo>
                      <a:pt x="130" y="4758"/>
                    </a:lnTo>
                    <a:lnTo>
                      <a:pt x="108" y="4715"/>
                    </a:lnTo>
                    <a:lnTo>
                      <a:pt x="87" y="4669"/>
                    </a:lnTo>
                    <a:lnTo>
                      <a:pt x="71" y="4623"/>
                    </a:lnTo>
                    <a:lnTo>
                      <a:pt x="55" y="4578"/>
                    </a:lnTo>
                    <a:lnTo>
                      <a:pt x="41" y="4528"/>
                    </a:lnTo>
                    <a:lnTo>
                      <a:pt x="30" y="4480"/>
                    </a:lnTo>
                    <a:lnTo>
                      <a:pt x="19" y="4431"/>
                    </a:lnTo>
                    <a:lnTo>
                      <a:pt x="14" y="4380"/>
                    </a:lnTo>
                    <a:lnTo>
                      <a:pt x="9" y="4329"/>
                    </a:lnTo>
                    <a:lnTo>
                      <a:pt x="9" y="4275"/>
                    </a:lnTo>
                    <a:lnTo>
                      <a:pt x="9" y="3957"/>
                    </a:lnTo>
                    <a:close/>
                    <a:moveTo>
                      <a:pt x="0" y="0"/>
                    </a:moveTo>
                    <a:lnTo>
                      <a:pt x="0" y="3464"/>
                    </a:lnTo>
                    <a:lnTo>
                      <a:pt x="9" y="3464"/>
                    </a:lnTo>
                    <a:lnTo>
                      <a:pt x="9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3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40040" y="2733120"/>
                <a:ext cx="1044360" cy="20880"/>
              </a:xfrm>
              <a:custGeom>
                <a:avLst/>
                <a:gdLst/>
                <a:ahLst/>
                <a:rect l="l" t="t" r="r" b="b"/>
                <a:pathLst>
                  <a:path w="6743" h="147">
                    <a:moveTo>
                      <a:pt x="0" y="39"/>
                    </a:moveTo>
                    <a:lnTo>
                      <a:pt x="131" y="39"/>
                    </a:lnTo>
                    <a:lnTo>
                      <a:pt x="247" y="39"/>
                    </a:lnTo>
                    <a:lnTo>
                      <a:pt x="339" y="36"/>
                    </a:lnTo>
                    <a:lnTo>
                      <a:pt x="431" y="36"/>
                    </a:lnTo>
                    <a:lnTo>
                      <a:pt x="544" y="33"/>
                    </a:lnTo>
                    <a:lnTo>
                      <a:pt x="674" y="36"/>
                    </a:lnTo>
                    <a:lnTo>
                      <a:pt x="785" y="36"/>
                    </a:lnTo>
                    <a:lnTo>
                      <a:pt x="874" y="41"/>
                    </a:lnTo>
                    <a:lnTo>
                      <a:pt x="1008" y="52"/>
                    </a:lnTo>
                    <a:lnTo>
                      <a:pt x="1146" y="60"/>
                    </a:lnTo>
                    <a:lnTo>
                      <a:pt x="1236" y="65"/>
                    </a:lnTo>
                    <a:lnTo>
                      <a:pt x="1349" y="65"/>
                    </a:lnTo>
                    <a:lnTo>
                      <a:pt x="2021" y="74"/>
                    </a:lnTo>
                    <a:lnTo>
                      <a:pt x="2134" y="76"/>
                    </a:lnTo>
                    <a:lnTo>
                      <a:pt x="2221" y="81"/>
                    </a:lnTo>
                    <a:lnTo>
                      <a:pt x="2293" y="90"/>
                    </a:lnTo>
                    <a:lnTo>
                      <a:pt x="2355" y="95"/>
                    </a:lnTo>
                    <a:lnTo>
                      <a:pt x="2421" y="103"/>
                    </a:lnTo>
                    <a:lnTo>
                      <a:pt x="2493" y="111"/>
                    </a:lnTo>
                    <a:lnTo>
                      <a:pt x="2582" y="117"/>
                    </a:lnTo>
                    <a:lnTo>
                      <a:pt x="2695" y="120"/>
                    </a:lnTo>
                    <a:lnTo>
                      <a:pt x="2728" y="120"/>
                    </a:lnTo>
                    <a:lnTo>
                      <a:pt x="2828" y="117"/>
                    </a:lnTo>
                    <a:lnTo>
                      <a:pt x="2909" y="111"/>
                    </a:lnTo>
                    <a:lnTo>
                      <a:pt x="2976" y="103"/>
                    </a:lnTo>
                    <a:lnTo>
                      <a:pt x="3036" y="95"/>
                    </a:lnTo>
                    <a:lnTo>
                      <a:pt x="3095" y="85"/>
                    </a:lnTo>
                    <a:lnTo>
                      <a:pt x="3162" y="76"/>
                    </a:lnTo>
                    <a:lnTo>
                      <a:pt x="3241" y="71"/>
                    </a:lnTo>
                    <a:lnTo>
                      <a:pt x="3337" y="71"/>
                    </a:lnTo>
                    <a:lnTo>
                      <a:pt x="3370" y="71"/>
                    </a:lnTo>
                    <a:lnTo>
                      <a:pt x="3480" y="74"/>
                    </a:lnTo>
                    <a:lnTo>
                      <a:pt x="3570" y="79"/>
                    </a:lnTo>
                    <a:lnTo>
                      <a:pt x="3640" y="87"/>
                    </a:lnTo>
                    <a:lnTo>
                      <a:pt x="3705" y="95"/>
                    </a:lnTo>
                    <a:lnTo>
                      <a:pt x="3770" y="103"/>
                    </a:lnTo>
                    <a:lnTo>
                      <a:pt x="3843" y="111"/>
                    </a:lnTo>
                    <a:lnTo>
                      <a:pt x="3931" y="117"/>
                    </a:lnTo>
                    <a:lnTo>
                      <a:pt x="4044" y="120"/>
                    </a:lnTo>
                    <a:lnTo>
                      <a:pt x="4716" y="127"/>
                    </a:lnTo>
                    <a:lnTo>
                      <a:pt x="4752" y="127"/>
                    </a:lnTo>
                    <a:lnTo>
                      <a:pt x="4852" y="125"/>
                    </a:lnTo>
                    <a:lnTo>
                      <a:pt x="4930" y="120"/>
                    </a:lnTo>
                    <a:lnTo>
                      <a:pt x="4997" y="111"/>
                    </a:lnTo>
                    <a:lnTo>
                      <a:pt x="5057" y="103"/>
                    </a:lnTo>
                    <a:lnTo>
                      <a:pt x="5116" y="95"/>
                    </a:lnTo>
                    <a:lnTo>
                      <a:pt x="5183" y="87"/>
                    </a:lnTo>
                    <a:lnTo>
                      <a:pt x="5259" y="85"/>
                    </a:lnTo>
                    <a:lnTo>
                      <a:pt x="5356" y="81"/>
                    </a:lnTo>
                    <a:lnTo>
                      <a:pt x="5392" y="81"/>
                    </a:lnTo>
                    <a:lnTo>
                      <a:pt x="5505" y="85"/>
                    </a:lnTo>
                    <a:lnTo>
                      <a:pt x="5591" y="92"/>
                    </a:lnTo>
                    <a:lnTo>
                      <a:pt x="5664" y="101"/>
                    </a:lnTo>
                    <a:lnTo>
                      <a:pt x="5726" y="111"/>
                    </a:lnTo>
                    <a:lnTo>
                      <a:pt x="5791" y="122"/>
                    </a:lnTo>
                    <a:lnTo>
                      <a:pt x="5864" y="131"/>
                    </a:lnTo>
                    <a:lnTo>
                      <a:pt x="5956" y="138"/>
                    </a:lnTo>
                    <a:lnTo>
                      <a:pt x="6066" y="141"/>
                    </a:lnTo>
                    <a:lnTo>
                      <a:pt x="6403" y="143"/>
                    </a:lnTo>
                    <a:lnTo>
                      <a:pt x="6741" y="147"/>
                    </a:lnTo>
                    <a:lnTo>
                      <a:pt x="6743" y="113"/>
                    </a:lnTo>
                    <a:lnTo>
                      <a:pt x="6403" y="111"/>
                    </a:lnTo>
                    <a:lnTo>
                      <a:pt x="6066" y="108"/>
                    </a:lnTo>
                    <a:lnTo>
                      <a:pt x="5956" y="106"/>
                    </a:lnTo>
                    <a:lnTo>
                      <a:pt x="5869" y="97"/>
                    </a:lnTo>
                    <a:lnTo>
                      <a:pt x="5797" y="90"/>
                    </a:lnTo>
                    <a:lnTo>
                      <a:pt x="5731" y="79"/>
                    </a:lnTo>
                    <a:lnTo>
                      <a:pt x="5666" y="69"/>
                    </a:lnTo>
                    <a:lnTo>
                      <a:pt x="5594" y="60"/>
                    </a:lnTo>
                    <a:lnTo>
                      <a:pt x="5505" y="52"/>
                    </a:lnTo>
                    <a:lnTo>
                      <a:pt x="5392" y="49"/>
                    </a:lnTo>
                    <a:lnTo>
                      <a:pt x="5356" y="49"/>
                    </a:lnTo>
                    <a:lnTo>
                      <a:pt x="5259" y="52"/>
                    </a:lnTo>
                    <a:lnTo>
                      <a:pt x="5178" y="57"/>
                    </a:lnTo>
                    <a:lnTo>
                      <a:pt x="5114" y="62"/>
                    </a:lnTo>
                    <a:lnTo>
                      <a:pt x="5051" y="71"/>
                    </a:lnTo>
                    <a:lnTo>
                      <a:pt x="4992" y="79"/>
                    </a:lnTo>
                    <a:lnTo>
                      <a:pt x="4927" y="87"/>
                    </a:lnTo>
                    <a:lnTo>
                      <a:pt x="4849" y="92"/>
                    </a:lnTo>
                    <a:lnTo>
                      <a:pt x="4752" y="95"/>
                    </a:lnTo>
                    <a:lnTo>
                      <a:pt x="4716" y="95"/>
                    </a:lnTo>
                    <a:lnTo>
                      <a:pt x="4044" y="87"/>
                    </a:lnTo>
                    <a:lnTo>
                      <a:pt x="3931" y="85"/>
                    </a:lnTo>
                    <a:lnTo>
                      <a:pt x="3845" y="79"/>
                    </a:lnTo>
                    <a:lnTo>
                      <a:pt x="3772" y="71"/>
                    </a:lnTo>
                    <a:lnTo>
                      <a:pt x="3710" y="62"/>
                    </a:lnTo>
                    <a:lnTo>
                      <a:pt x="3645" y="55"/>
                    </a:lnTo>
                    <a:lnTo>
                      <a:pt x="3572" y="46"/>
                    </a:lnTo>
                    <a:lnTo>
                      <a:pt x="3484" y="41"/>
                    </a:lnTo>
                    <a:lnTo>
                      <a:pt x="3370" y="39"/>
                    </a:lnTo>
                    <a:lnTo>
                      <a:pt x="3337" y="39"/>
                    </a:lnTo>
                    <a:lnTo>
                      <a:pt x="3238" y="39"/>
                    </a:lnTo>
                    <a:lnTo>
                      <a:pt x="3160" y="46"/>
                    </a:lnTo>
                    <a:lnTo>
                      <a:pt x="3093" y="55"/>
                    </a:lnTo>
                    <a:lnTo>
                      <a:pt x="3029" y="62"/>
                    </a:lnTo>
                    <a:lnTo>
                      <a:pt x="2971" y="71"/>
                    </a:lnTo>
                    <a:lnTo>
                      <a:pt x="2906" y="79"/>
                    </a:lnTo>
                    <a:lnTo>
                      <a:pt x="2825" y="85"/>
                    </a:lnTo>
                    <a:lnTo>
                      <a:pt x="2728" y="87"/>
                    </a:lnTo>
                    <a:lnTo>
                      <a:pt x="2695" y="87"/>
                    </a:lnTo>
                    <a:lnTo>
                      <a:pt x="2585" y="85"/>
                    </a:lnTo>
                    <a:lnTo>
                      <a:pt x="2495" y="79"/>
                    </a:lnTo>
                    <a:lnTo>
                      <a:pt x="2426" y="71"/>
                    </a:lnTo>
                    <a:lnTo>
                      <a:pt x="2361" y="65"/>
                    </a:lnTo>
                    <a:lnTo>
                      <a:pt x="2296" y="57"/>
                    </a:lnTo>
                    <a:lnTo>
                      <a:pt x="2223" y="49"/>
                    </a:lnTo>
                    <a:lnTo>
                      <a:pt x="2134" y="44"/>
                    </a:lnTo>
                    <a:lnTo>
                      <a:pt x="2021" y="41"/>
                    </a:lnTo>
                    <a:lnTo>
                      <a:pt x="1349" y="33"/>
                    </a:lnTo>
                    <a:lnTo>
                      <a:pt x="1236" y="33"/>
                    </a:lnTo>
                    <a:lnTo>
                      <a:pt x="1149" y="28"/>
                    </a:lnTo>
                    <a:lnTo>
                      <a:pt x="1011" y="20"/>
                    </a:lnTo>
                    <a:lnTo>
                      <a:pt x="877" y="9"/>
                    </a:lnTo>
                    <a:lnTo>
                      <a:pt x="787" y="4"/>
                    </a:lnTo>
                    <a:lnTo>
                      <a:pt x="674" y="4"/>
                    </a:lnTo>
                    <a:lnTo>
                      <a:pt x="544" y="0"/>
                    </a:lnTo>
                    <a:lnTo>
                      <a:pt x="431" y="4"/>
                    </a:lnTo>
                    <a:lnTo>
                      <a:pt x="339" y="4"/>
                    </a:lnTo>
                    <a:lnTo>
                      <a:pt x="245" y="6"/>
                    </a:lnTo>
                    <a:lnTo>
                      <a:pt x="131" y="6"/>
                    </a:lnTo>
                    <a:lnTo>
                      <a:pt x="2" y="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40040" y="2947680"/>
                <a:ext cx="848160" cy="19440"/>
              </a:xfrm>
              <a:custGeom>
                <a:avLst/>
                <a:gdLst/>
                <a:ahLst/>
                <a:rect l="l" t="t" r="r" b="b"/>
                <a:pathLst>
                  <a:path w="5478" h="133">
                    <a:moveTo>
                      <a:pt x="0" y="38"/>
                    </a:moveTo>
                    <a:lnTo>
                      <a:pt x="92" y="41"/>
                    </a:lnTo>
                    <a:lnTo>
                      <a:pt x="194" y="38"/>
                    </a:lnTo>
                    <a:lnTo>
                      <a:pt x="275" y="36"/>
                    </a:lnTo>
                    <a:lnTo>
                      <a:pt x="357" y="36"/>
                    </a:lnTo>
                    <a:lnTo>
                      <a:pt x="459" y="32"/>
                    </a:lnTo>
                    <a:lnTo>
                      <a:pt x="548" y="32"/>
                    </a:lnTo>
                    <a:lnTo>
                      <a:pt x="636" y="36"/>
                    </a:lnTo>
                    <a:lnTo>
                      <a:pt x="710" y="38"/>
                    </a:lnTo>
                    <a:lnTo>
                      <a:pt x="820" y="48"/>
                    </a:lnTo>
                    <a:lnTo>
                      <a:pt x="931" y="60"/>
                    </a:lnTo>
                    <a:lnTo>
                      <a:pt x="1004" y="62"/>
                    </a:lnTo>
                    <a:lnTo>
                      <a:pt x="1093" y="65"/>
                    </a:lnTo>
                    <a:lnTo>
                      <a:pt x="1644" y="71"/>
                    </a:lnTo>
                    <a:lnTo>
                      <a:pt x="1733" y="73"/>
                    </a:lnTo>
                    <a:lnTo>
                      <a:pt x="1803" y="78"/>
                    </a:lnTo>
                    <a:lnTo>
                      <a:pt x="1862" y="84"/>
                    </a:lnTo>
                    <a:lnTo>
                      <a:pt x="1913" y="92"/>
                    </a:lnTo>
                    <a:lnTo>
                      <a:pt x="1968" y="100"/>
                    </a:lnTo>
                    <a:lnTo>
                      <a:pt x="2026" y="105"/>
                    </a:lnTo>
                    <a:lnTo>
                      <a:pt x="2097" y="110"/>
                    </a:lnTo>
                    <a:lnTo>
                      <a:pt x="2189" y="114"/>
                    </a:lnTo>
                    <a:lnTo>
                      <a:pt x="2210" y="114"/>
                    </a:lnTo>
                    <a:lnTo>
                      <a:pt x="2294" y="110"/>
                    </a:lnTo>
                    <a:lnTo>
                      <a:pt x="2362" y="105"/>
                    </a:lnTo>
                    <a:lnTo>
                      <a:pt x="2419" y="98"/>
                    </a:lnTo>
                    <a:lnTo>
                      <a:pt x="2467" y="89"/>
                    </a:lnTo>
                    <a:lnTo>
                      <a:pt x="2516" y="78"/>
                    </a:lnTo>
                    <a:lnTo>
                      <a:pt x="2572" y="71"/>
                    </a:lnTo>
                    <a:lnTo>
                      <a:pt x="2636" y="65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5"/>
                    </a:lnTo>
                    <a:lnTo>
                      <a:pt x="2898" y="71"/>
                    </a:lnTo>
                    <a:lnTo>
                      <a:pt x="2958" y="78"/>
                    </a:lnTo>
                    <a:lnTo>
                      <a:pt x="3009" y="87"/>
                    </a:lnTo>
                    <a:lnTo>
                      <a:pt x="3063" y="94"/>
                    </a:lnTo>
                    <a:lnTo>
                      <a:pt x="3123" y="103"/>
                    </a:lnTo>
                    <a:lnTo>
                      <a:pt x="3193" y="108"/>
                    </a:lnTo>
                    <a:lnTo>
                      <a:pt x="3284" y="110"/>
                    </a:lnTo>
                    <a:lnTo>
                      <a:pt x="3832" y="117"/>
                    </a:lnTo>
                    <a:lnTo>
                      <a:pt x="3860" y="117"/>
                    </a:lnTo>
                    <a:lnTo>
                      <a:pt x="3940" y="114"/>
                    </a:lnTo>
                    <a:lnTo>
                      <a:pt x="4005" y="108"/>
                    </a:lnTo>
                    <a:lnTo>
                      <a:pt x="4062" y="103"/>
                    </a:lnTo>
                    <a:lnTo>
                      <a:pt x="4110" y="92"/>
                    </a:lnTo>
                    <a:lnTo>
                      <a:pt x="4161" y="84"/>
                    </a:lnTo>
                    <a:lnTo>
                      <a:pt x="4216" y="76"/>
                    </a:lnTo>
                    <a:lnTo>
                      <a:pt x="4277" y="71"/>
                    </a:lnTo>
                    <a:lnTo>
                      <a:pt x="4359" y="71"/>
                    </a:lnTo>
                    <a:lnTo>
                      <a:pt x="4383" y="71"/>
                    </a:lnTo>
                    <a:lnTo>
                      <a:pt x="4472" y="73"/>
                    </a:lnTo>
                    <a:lnTo>
                      <a:pt x="4542" y="81"/>
                    </a:lnTo>
                    <a:lnTo>
                      <a:pt x="4601" y="89"/>
                    </a:lnTo>
                    <a:lnTo>
                      <a:pt x="4652" y="100"/>
                    </a:lnTo>
                    <a:lnTo>
                      <a:pt x="4707" y="108"/>
                    </a:lnTo>
                    <a:lnTo>
                      <a:pt x="4766" y="119"/>
                    </a:lnTo>
                    <a:lnTo>
                      <a:pt x="4838" y="124"/>
                    </a:lnTo>
                    <a:lnTo>
                      <a:pt x="4930" y="130"/>
                    </a:lnTo>
                    <a:lnTo>
                      <a:pt x="5206" y="130"/>
                    </a:lnTo>
                    <a:lnTo>
                      <a:pt x="5478" y="133"/>
                    </a:lnTo>
                    <a:lnTo>
                      <a:pt x="5478" y="100"/>
                    </a:lnTo>
                    <a:lnTo>
                      <a:pt x="5206" y="98"/>
                    </a:lnTo>
                    <a:lnTo>
                      <a:pt x="4930" y="98"/>
                    </a:lnTo>
                    <a:lnTo>
                      <a:pt x="4842" y="92"/>
                    </a:lnTo>
                    <a:lnTo>
                      <a:pt x="4769" y="87"/>
                    </a:lnTo>
                    <a:lnTo>
                      <a:pt x="4712" y="78"/>
                    </a:lnTo>
                    <a:lnTo>
                      <a:pt x="4661" y="68"/>
                    </a:lnTo>
                    <a:lnTo>
                      <a:pt x="4607" y="57"/>
                    </a:lnTo>
                    <a:lnTo>
                      <a:pt x="4548" y="48"/>
                    </a:lnTo>
                    <a:lnTo>
                      <a:pt x="4474" y="41"/>
                    </a:lnTo>
                    <a:lnTo>
                      <a:pt x="4383" y="38"/>
                    </a:lnTo>
                    <a:lnTo>
                      <a:pt x="4359" y="38"/>
                    </a:lnTo>
                    <a:lnTo>
                      <a:pt x="4277" y="41"/>
                    </a:lnTo>
                    <a:lnTo>
                      <a:pt x="4210" y="46"/>
                    </a:lnTo>
                    <a:lnTo>
                      <a:pt x="4156" y="52"/>
                    </a:lnTo>
                    <a:lnTo>
                      <a:pt x="4104" y="62"/>
                    </a:lnTo>
                    <a:lnTo>
                      <a:pt x="4056" y="71"/>
                    </a:lnTo>
                    <a:lnTo>
                      <a:pt x="4002" y="76"/>
                    </a:lnTo>
                    <a:lnTo>
                      <a:pt x="3938" y="81"/>
                    </a:lnTo>
                    <a:lnTo>
                      <a:pt x="3860" y="84"/>
                    </a:lnTo>
                    <a:lnTo>
                      <a:pt x="3835" y="84"/>
                    </a:lnTo>
                    <a:lnTo>
                      <a:pt x="3287" y="78"/>
                    </a:lnTo>
                    <a:lnTo>
                      <a:pt x="3195" y="76"/>
                    </a:lnTo>
                    <a:lnTo>
                      <a:pt x="3125" y="71"/>
                    </a:lnTo>
                    <a:lnTo>
                      <a:pt x="3066" y="62"/>
                    </a:lnTo>
                    <a:lnTo>
                      <a:pt x="3015" y="54"/>
                    </a:lnTo>
                    <a:lnTo>
                      <a:pt x="2963" y="46"/>
                    </a:lnTo>
                    <a:lnTo>
                      <a:pt x="2904" y="38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8"/>
                    </a:lnTo>
                    <a:lnTo>
                      <a:pt x="2509" y="46"/>
                    </a:lnTo>
                    <a:lnTo>
                      <a:pt x="2461" y="57"/>
                    </a:lnTo>
                    <a:lnTo>
                      <a:pt x="2413" y="65"/>
                    </a:lnTo>
                    <a:lnTo>
                      <a:pt x="2359" y="73"/>
                    </a:lnTo>
                    <a:lnTo>
                      <a:pt x="2291" y="78"/>
                    </a:lnTo>
                    <a:lnTo>
                      <a:pt x="2210" y="81"/>
                    </a:lnTo>
                    <a:lnTo>
                      <a:pt x="2191" y="81"/>
                    </a:lnTo>
                    <a:lnTo>
                      <a:pt x="2100" y="78"/>
                    </a:lnTo>
                    <a:lnTo>
                      <a:pt x="2030" y="73"/>
                    </a:lnTo>
                    <a:lnTo>
                      <a:pt x="1970" y="68"/>
                    </a:lnTo>
                    <a:lnTo>
                      <a:pt x="1919" y="60"/>
                    </a:lnTo>
                    <a:lnTo>
                      <a:pt x="1865" y="52"/>
                    </a:lnTo>
                    <a:lnTo>
                      <a:pt x="1805" y="46"/>
                    </a:lnTo>
                    <a:lnTo>
                      <a:pt x="1736" y="41"/>
                    </a:lnTo>
                    <a:lnTo>
                      <a:pt x="1644" y="38"/>
                    </a:lnTo>
                    <a:lnTo>
                      <a:pt x="1096" y="32"/>
                    </a:lnTo>
                    <a:lnTo>
                      <a:pt x="1004" y="30"/>
                    </a:lnTo>
                    <a:lnTo>
                      <a:pt x="933" y="27"/>
                    </a:lnTo>
                    <a:lnTo>
                      <a:pt x="823" y="16"/>
                    </a:lnTo>
                    <a:lnTo>
                      <a:pt x="710" y="6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59" y="0"/>
                    </a:lnTo>
                    <a:lnTo>
                      <a:pt x="357" y="2"/>
                    </a:lnTo>
                    <a:lnTo>
                      <a:pt x="272" y="2"/>
                    </a:lnTo>
                    <a:lnTo>
                      <a:pt x="192" y="6"/>
                    </a:lnTo>
                    <a:lnTo>
                      <a:pt x="92" y="8"/>
                    </a:lnTo>
                    <a:lnTo>
                      <a:pt x="0" y="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040040" y="3160800"/>
                <a:ext cx="849960" cy="19440"/>
              </a:xfrm>
              <a:custGeom>
                <a:avLst/>
                <a:gdLst/>
                <a:ahLst/>
                <a:rect l="l" t="t" r="r" b="b"/>
                <a:pathLst>
                  <a:path w="5482" h="129">
                    <a:moveTo>
                      <a:pt x="0" y="37"/>
                    </a:moveTo>
                    <a:lnTo>
                      <a:pt x="92" y="37"/>
                    </a:lnTo>
                    <a:lnTo>
                      <a:pt x="194" y="37"/>
                    </a:lnTo>
                    <a:lnTo>
                      <a:pt x="275" y="35"/>
                    </a:lnTo>
                    <a:lnTo>
                      <a:pt x="359" y="32"/>
                    </a:lnTo>
                    <a:lnTo>
                      <a:pt x="461" y="32"/>
                    </a:lnTo>
                    <a:lnTo>
                      <a:pt x="548" y="32"/>
                    </a:lnTo>
                    <a:lnTo>
                      <a:pt x="640" y="35"/>
                    </a:lnTo>
                    <a:lnTo>
                      <a:pt x="710" y="37"/>
                    </a:lnTo>
                    <a:lnTo>
                      <a:pt x="820" y="48"/>
                    </a:lnTo>
                    <a:lnTo>
                      <a:pt x="931" y="56"/>
                    </a:lnTo>
                    <a:lnTo>
                      <a:pt x="1004" y="62"/>
                    </a:lnTo>
                    <a:lnTo>
                      <a:pt x="1096" y="62"/>
                    </a:lnTo>
                    <a:lnTo>
                      <a:pt x="1644" y="67"/>
                    </a:lnTo>
                    <a:lnTo>
                      <a:pt x="1733" y="69"/>
                    </a:lnTo>
                    <a:lnTo>
                      <a:pt x="1805" y="75"/>
                    </a:lnTo>
                    <a:lnTo>
                      <a:pt x="1862" y="83"/>
                    </a:lnTo>
                    <a:lnTo>
                      <a:pt x="1913" y="88"/>
                    </a:lnTo>
                    <a:lnTo>
                      <a:pt x="1968" y="97"/>
                    </a:lnTo>
                    <a:lnTo>
                      <a:pt x="2026" y="104"/>
                    </a:lnTo>
                    <a:lnTo>
                      <a:pt x="2100" y="110"/>
                    </a:lnTo>
                    <a:lnTo>
                      <a:pt x="2191" y="113"/>
                    </a:lnTo>
                    <a:lnTo>
                      <a:pt x="2213" y="113"/>
                    </a:lnTo>
                    <a:lnTo>
                      <a:pt x="2294" y="110"/>
                    </a:lnTo>
                    <a:lnTo>
                      <a:pt x="2362" y="104"/>
                    </a:lnTo>
                    <a:lnTo>
                      <a:pt x="2419" y="97"/>
                    </a:lnTo>
                    <a:lnTo>
                      <a:pt x="2467" y="86"/>
                    </a:lnTo>
                    <a:lnTo>
                      <a:pt x="2518" y="78"/>
                    </a:lnTo>
                    <a:lnTo>
                      <a:pt x="2572" y="69"/>
                    </a:lnTo>
                    <a:lnTo>
                      <a:pt x="2636" y="64"/>
                    </a:lnTo>
                    <a:lnTo>
                      <a:pt x="2718" y="62"/>
                    </a:lnTo>
                    <a:lnTo>
                      <a:pt x="2739" y="62"/>
                    </a:lnTo>
                    <a:lnTo>
                      <a:pt x="2829" y="64"/>
                    </a:lnTo>
                    <a:lnTo>
                      <a:pt x="2901" y="69"/>
                    </a:lnTo>
                    <a:lnTo>
                      <a:pt x="2958" y="78"/>
                    </a:lnTo>
                    <a:lnTo>
                      <a:pt x="3011" y="83"/>
                    </a:lnTo>
                    <a:lnTo>
                      <a:pt x="3063" y="94"/>
                    </a:lnTo>
                    <a:lnTo>
                      <a:pt x="3123" y="99"/>
                    </a:lnTo>
                    <a:lnTo>
                      <a:pt x="3195" y="104"/>
                    </a:lnTo>
                    <a:lnTo>
                      <a:pt x="3287" y="108"/>
                    </a:lnTo>
                    <a:lnTo>
                      <a:pt x="3835" y="115"/>
                    </a:lnTo>
                    <a:lnTo>
                      <a:pt x="3860" y="115"/>
                    </a:lnTo>
                    <a:lnTo>
                      <a:pt x="3940" y="113"/>
                    </a:lnTo>
                    <a:lnTo>
                      <a:pt x="4007" y="108"/>
                    </a:lnTo>
                    <a:lnTo>
                      <a:pt x="4062" y="99"/>
                    </a:lnTo>
                    <a:lnTo>
                      <a:pt x="4113" y="92"/>
                    </a:lnTo>
                    <a:lnTo>
                      <a:pt x="4161" y="83"/>
                    </a:lnTo>
                    <a:lnTo>
                      <a:pt x="4216" y="75"/>
                    </a:lnTo>
                    <a:lnTo>
                      <a:pt x="4281" y="69"/>
                    </a:lnTo>
                    <a:lnTo>
                      <a:pt x="4361" y="67"/>
                    </a:lnTo>
                    <a:lnTo>
                      <a:pt x="4383" y="67"/>
                    </a:lnTo>
                    <a:lnTo>
                      <a:pt x="4472" y="72"/>
                    </a:lnTo>
                    <a:lnTo>
                      <a:pt x="4545" y="78"/>
                    </a:lnTo>
                    <a:lnTo>
                      <a:pt x="4601" y="86"/>
                    </a:lnTo>
                    <a:lnTo>
                      <a:pt x="4652" y="97"/>
                    </a:lnTo>
                    <a:lnTo>
                      <a:pt x="4707" y="108"/>
                    </a:lnTo>
                    <a:lnTo>
                      <a:pt x="4766" y="115"/>
                    </a:lnTo>
                    <a:lnTo>
                      <a:pt x="4838" y="124"/>
                    </a:lnTo>
                    <a:lnTo>
                      <a:pt x="4930" y="126"/>
                    </a:lnTo>
                    <a:lnTo>
                      <a:pt x="5206" y="129"/>
                    </a:lnTo>
                    <a:lnTo>
                      <a:pt x="5482" y="129"/>
                    </a:lnTo>
                    <a:lnTo>
                      <a:pt x="5482" y="97"/>
                    </a:lnTo>
                    <a:lnTo>
                      <a:pt x="5206" y="97"/>
                    </a:lnTo>
                    <a:lnTo>
                      <a:pt x="4930" y="94"/>
                    </a:lnTo>
                    <a:lnTo>
                      <a:pt x="4842" y="92"/>
                    </a:lnTo>
                    <a:lnTo>
                      <a:pt x="4771" y="86"/>
                    </a:lnTo>
                    <a:lnTo>
                      <a:pt x="4712" y="75"/>
                    </a:lnTo>
                    <a:lnTo>
                      <a:pt x="4661" y="64"/>
                    </a:lnTo>
                    <a:lnTo>
                      <a:pt x="4607" y="56"/>
                    </a:lnTo>
                    <a:lnTo>
                      <a:pt x="4548" y="46"/>
                    </a:lnTo>
                    <a:lnTo>
                      <a:pt x="4474" y="40"/>
                    </a:lnTo>
                    <a:lnTo>
                      <a:pt x="4383" y="35"/>
                    </a:lnTo>
                    <a:lnTo>
                      <a:pt x="4361" y="35"/>
                    </a:lnTo>
                    <a:lnTo>
                      <a:pt x="4277" y="37"/>
                    </a:lnTo>
                    <a:lnTo>
                      <a:pt x="4212" y="43"/>
                    </a:lnTo>
                    <a:lnTo>
                      <a:pt x="4156" y="51"/>
                    </a:lnTo>
                    <a:lnTo>
                      <a:pt x="4108" y="59"/>
                    </a:lnTo>
                    <a:lnTo>
                      <a:pt x="4056" y="67"/>
                    </a:lnTo>
                    <a:lnTo>
                      <a:pt x="4002" y="75"/>
                    </a:lnTo>
                    <a:lnTo>
                      <a:pt x="3938" y="80"/>
                    </a:lnTo>
                    <a:lnTo>
                      <a:pt x="3860" y="83"/>
                    </a:lnTo>
                    <a:lnTo>
                      <a:pt x="3835" y="83"/>
                    </a:lnTo>
                    <a:lnTo>
                      <a:pt x="3287" y="75"/>
                    </a:lnTo>
                    <a:lnTo>
                      <a:pt x="3198" y="72"/>
                    </a:lnTo>
                    <a:lnTo>
                      <a:pt x="3125" y="67"/>
                    </a:lnTo>
                    <a:lnTo>
                      <a:pt x="3068" y="62"/>
                    </a:lnTo>
                    <a:lnTo>
                      <a:pt x="3015" y="53"/>
                    </a:lnTo>
                    <a:lnTo>
                      <a:pt x="2963" y="46"/>
                    </a:lnTo>
                    <a:lnTo>
                      <a:pt x="2904" y="37"/>
                    </a:lnTo>
                    <a:lnTo>
                      <a:pt x="2831" y="32"/>
                    </a:lnTo>
                    <a:lnTo>
                      <a:pt x="2739" y="30"/>
                    </a:lnTo>
                    <a:lnTo>
                      <a:pt x="2718" y="30"/>
                    </a:lnTo>
                    <a:lnTo>
                      <a:pt x="2634" y="32"/>
                    </a:lnTo>
                    <a:lnTo>
                      <a:pt x="2567" y="37"/>
                    </a:lnTo>
                    <a:lnTo>
                      <a:pt x="2513" y="46"/>
                    </a:lnTo>
                    <a:lnTo>
                      <a:pt x="2461" y="53"/>
                    </a:lnTo>
                    <a:lnTo>
                      <a:pt x="2413" y="64"/>
                    </a:lnTo>
                    <a:lnTo>
                      <a:pt x="2359" y="72"/>
                    </a:lnTo>
                    <a:lnTo>
                      <a:pt x="2294" y="78"/>
                    </a:lnTo>
                    <a:lnTo>
                      <a:pt x="2213" y="80"/>
                    </a:lnTo>
                    <a:lnTo>
                      <a:pt x="2191" y="80"/>
                    </a:lnTo>
                    <a:lnTo>
                      <a:pt x="2100" y="78"/>
                    </a:lnTo>
                    <a:lnTo>
                      <a:pt x="2030" y="72"/>
                    </a:lnTo>
                    <a:lnTo>
                      <a:pt x="1973" y="64"/>
                    </a:lnTo>
                    <a:lnTo>
                      <a:pt x="1919" y="59"/>
                    </a:lnTo>
                    <a:lnTo>
                      <a:pt x="1867" y="51"/>
                    </a:lnTo>
                    <a:lnTo>
                      <a:pt x="1808" y="43"/>
                    </a:lnTo>
                    <a:lnTo>
                      <a:pt x="1736" y="37"/>
                    </a:lnTo>
                    <a:lnTo>
                      <a:pt x="1644" y="35"/>
                    </a:lnTo>
                    <a:lnTo>
                      <a:pt x="1096" y="30"/>
                    </a:lnTo>
                    <a:lnTo>
                      <a:pt x="1004" y="30"/>
                    </a:lnTo>
                    <a:lnTo>
                      <a:pt x="933" y="23"/>
                    </a:lnTo>
                    <a:lnTo>
                      <a:pt x="823" y="16"/>
                    </a:lnTo>
                    <a:lnTo>
                      <a:pt x="712" y="5"/>
                    </a:lnTo>
                    <a:lnTo>
                      <a:pt x="640" y="2"/>
                    </a:lnTo>
                    <a:lnTo>
                      <a:pt x="548" y="0"/>
                    </a:lnTo>
                    <a:lnTo>
                      <a:pt x="461" y="0"/>
                    </a:lnTo>
                    <a:lnTo>
                      <a:pt x="357" y="0"/>
                    </a:lnTo>
                    <a:lnTo>
                      <a:pt x="275" y="2"/>
                    </a:lnTo>
                    <a:lnTo>
                      <a:pt x="194" y="5"/>
                    </a:lnTo>
                    <a:lnTo>
                      <a:pt x="92" y="5"/>
                    </a:lnTo>
                    <a:lnTo>
                      <a:pt x="0" y="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47960" y="2908440"/>
                <a:ext cx="255240" cy="350640"/>
              </a:xfrm>
              <a:custGeom>
                <a:avLst/>
                <a:gdLst/>
                <a:ahLst/>
                <a:rect l="l" t="t" r="r" b="b"/>
                <a:pathLst>
                  <a:path w="1646" h="2358">
                    <a:moveTo>
                      <a:pt x="1149" y="16"/>
                    </a:moveTo>
                    <a:lnTo>
                      <a:pt x="1136" y="5"/>
                    </a:lnTo>
                    <a:lnTo>
                      <a:pt x="2" y="1605"/>
                    </a:lnTo>
                    <a:lnTo>
                      <a:pt x="0" y="1610"/>
                    </a:lnTo>
                    <a:lnTo>
                      <a:pt x="0" y="1618"/>
                    </a:lnTo>
                    <a:lnTo>
                      <a:pt x="2" y="1624"/>
                    </a:lnTo>
                    <a:lnTo>
                      <a:pt x="5" y="1630"/>
                    </a:lnTo>
                    <a:lnTo>
                      <a:pt x="1082" y="2355"/>
                    </a:lnTo>
                    <a:lnTo>
                      <a:pt x="1087" y="2358"/>
                    </a:lnTo>
                    <a:lnTo>
                      <a:pt x="1093" y="2358"/>
                    </a:lnTo>
                    <a:lnTo>
                      <a:pt x="1098" y="2358"/>
                    </a:lnTo>
                    <a:lnTo>
                      <a:pt x="1104" y="2352"/>
                    </a:lnTo>
                    <a:lnTo>
                      <a:pt x="1641" y="1815"/>
                    </a:lnTo>
                    <a:lnTo>
                      <a:pt x="1646" y="1807"/>
                    </a:lnTo>
                    <a:lnTo>
                      <a:pt x="1646" y="1799"/>
                    </a:lnTo>
                    <a:lnTo>
                      <a:pt x="1165" y="11"/>
                    </a:lnTo>
                    <a:lnTo>
                      <a:pt x="1160" y="2"/>
                    </a:lnTo>
                    <a:lnTo>
                      <a:pt x="1152" y="0"/>
                    </a:lnTo>
                    <a:lnTo>
                      <a:pt x="1144" y="0"/>
                    </a:lnTo>
                    <a:lnTo>
                      <a:pt x="1136" y="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611" y="1799"/>
                    </a:lnTo>
                    <a:lnTo>
                      <a:pt x="1090" y="2319"/>
                    </a:lnTo>
                    <a:lnTo>
                      <a:pt x="37" y="1610"/>
                    </a:lnTo>
                    <a:lnTo>
                      <a:pt x="1163" y="25"/>
                    </a:lnTo>
                    <a:lnTo>
                      <a:pt x="1149" y="16"/>
                    </a:lnTo>
                    <a:lnTo>
                      <a:pt x="1133" y="18"/>
                    </a:lnTo>
                    <a:lnTo>
                      <a:pt x="114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115000" y="2908440"/>
                <a:ext cx="13320" cy="350640"/>
              </a:xfrm>
              <a:custGeom>
                <a:avLst/>
                <a:gdLst/>
                <a:ahLst/>
                <a:rect l="l" t="t" r="r" b="b"/>
                <a:pathLst>
                  <a:path w="91" h="2358">
                    <a:moveTo>
                      <a:pt x="33" y="2341"/>
                    </a:moveTo>
                    <a:lnTo>
                      <a:pt x="91" y="16"/>
                    </a:lnTo>
                    <a:lnTo>
                      <a:pt x="89" y="11"/>
                    </a:lnTo>
                    <a:lnTo>
                      <a:pt x="86" y="5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5" y="5"/>
                    </a:lnTo>
                    <a:lnTo>
                      <a:pt x="59" y="8"/>
                    </a:lnTo>
                    <a:lnTo>
                      <a:pt x="59" y="16"/>
                    </a:lnTo>
                    <a:lnTo>
                      <a:pt x="0" y="2341"/>
                    </a:lnTo>
                    <a:lnTo>
                      <a:pt x="3" y="2347"/>
                    </a:lnTo>
                    <a:lnTo>
                      <a:pt x="5" y="2352"/>
                    </a:lnTo>
                    <a:lnTo>
                      <a:pt x="10" y="2358"/>
                    </a:lnTo>
                    <a:lnTo>
                      <a:pt x="16" y="2358"/>
                    </a:lnTo>
                    <a:lnTo>
                      <a:pt x="24" y="2358"/>
                    </a:lnTo>
                    <a:lnTo>
                      <a:pt x="26" y="2352"/>
                    </a:lnTo>
                    <a:lnTo>
                      <a:pt x="33" y="2349"/>
                    </a:lnTo>
                    <a:lnTo>
                      <a:pt x="33" y="2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08080" y="3516480"/>
                <a:ext cx="183600" cy="52200"/>
              </a:xfrm>
              <a:custGeom>
                <a:avLst/>
                <a:gdLst/>
                <a:ahLst/>
                <a:rect l="l" t="t" r="r" b="b"/>
                <a:pathLst>
                  <a:path w="1192" h="348">
                    <a:moveTo>
                      <a:pt x="1192" y="173"/>
                    </a:moveTo>
                    <a:lnTo>
                      <a:pt x="1190" y="207"/>
                    </a:lnTo>
                    <a:lnTo>
                      <a:pt x="1181" y="240"/>
                    </a:lnTo>
                    <a:lnTo>
                      <a:pt x="1170" y="270"/>
                    </a:lnTo>
                    <a:lnTo>
                      <a:pt x="1154" y="296"/>
                    </a:lnTo>
                    <a:lnTo>
                      <a:pt x="1135" y="318"/>
                    </a:lnTo>
                    <a:lnTo>
                      <a:pt x="1112" y="334"/>
                    </a:lnTo>
                    <a:lnTo>
                      <a:pt x="1101" y="339"/>
                    </a:lnTo>
                    <a:lnTo>
                      <a:pt x="1087" y="342"/>
                    </a:lnTo>
                    <a:lnTo>
                      <a:pt x="1073" y="344"/>
                    </a:lnTo>
                    <a:lnTo>
                      <a:pt x="1060" y="348"/>
                    </a:lnTo>
                    <a:lnTo>
                      <a:pt x="132" y="348"/>
                    </a:lnTo>
                    <a:lnTo>
                      <a:pt x="118" y="344"/>
                    </a:lnTo>
                    <a:lnTo>
                      <a:pt x="104" y="342"/>
                    </a:lnTo>
                    <a:lnTo>
                      <a:pt x="91" y="339"/>
                    </a:lnTo>
                    <a:lnTo>
                      <a:pt x="81" y="334"/>
                    </a:lnTo>
                    <a:lnTo>
                      <a:pt x="59" y="318"/>
                    </a:lnTo>
                    <a:lnTo>
                      <a:pt x="37" y="296"/>
                    </a:lnTo>
                    <a:lnTo>
                      <a:pt x="24" y="270"/>
                    </a:lnTo>
                    <a:lnTo>
                      <a:pt x="10" y="240"/>
                    </a:lnTo>
                    <a:lnTo>
                      <a:pt x="2" y="207"/>
                    </a:lnTo>
                    <a:lnTo>
                      <a:pt x="0" y="173"/>
                    </a:lnTo>
                    <a:lnTo>
                      <a:pt x="2" y="139"/>
                    </a:lnTo>
                    <a:lnTo>
                      <a:pt x="10" y="107"/>
                    </a:lnTo>
                    <a:lnTo>
                      <a:pt x="24" y="78"/>
                    </a:lnTo>
                    <a:lnTo>
                      <a:pt x="37" y="51"/>
                    </a:lnTo>
                    <a:lnTo>
                      <a:pt x="59" y="29"/>
                    </a:lnTo>
                    <a:lnTo>
                      <a:pt x="81" y="12"/>
                    </a:lnTo>
                    <a:lnTo>
                      <a:pt x="91" y="7"/>
                    </a:lnTo>
                    <a:lnTo>
                      <a:pt x="104" y="5"/>
                    </a:lnTo>
                    <a:lnTo>
                      <a:pt x="118" y="2"/>
                    </a:lnTo>
                    <a:lnTo>
                      <a:pt x="132" y="0"/>
                    </a:lnTo>
                    <a:lnTo>
                      <a:pt x="1060" y="0"/>
                    </a:lnTo>
                    <a:lnTo>
                      <a:pt x="1073" y="2"/>
                    </a:lnTo>
                    <a:lnTo>
                      <a:pt x="1087" y="5"/>
                    </a:lnTo>
                    <a:lnTo>
                      <a:pt x="1101" y="7"/>
                    </a:lnTo>
                    <a:lnTo>
                      <a:pt x="1112" y="12"/>
                    </a:lnTo>
                    <a:lnTo>
                      <a:pt x="1135" y="29"/>
                    </a:lnTo>
                    <a:lnTo>
                      <a:pt x="1154" y="51"/>
                    </a:lnTo>
                    <a:lnTo>
                      <a:pt x="1170" y="78"/>
                    </a:lnTo>
                    <a:lnTo>
                      <a:pt x="1181" y="107"/>
                    </a:lnTo>
                    <a:lnTo>
                      <a:pt x="1190" y="139"/>
                    </a:lnTo>
                    <a:lnTo>
                      <a:pt x="1192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06280" y="3515040"/>
                <a:ext cx="187200" cy="5364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3" y="182"/>
                    </a:lnTo>
                    <a:lnTo>
                      <a:pt x="1190" y="216"/>
                    </a:lnTo>
                    <a:lnTo>
                      <a:pt x="1183" y="249"/>
                    </a:lnTo>
                    <a:lnTo>
                      <a:pt x="1172" y="276"/>
                    </a:lnTo>
                    <a:lnTo>
                      <a:pt x="1156" y="300"/>
                    </a:lnTo>
                    <a:lnTo>
                      <a:pt x="1139" y="318"/>
                    </a:lnTo>
                    <a:lnTo>
                      <a:pt x="1118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9" y="348"/>
                    </a:lnTo>
                    <a:lnTo>
                      <a:pt x="141" y="348"/>
                    </a:lnTo>
                    <a:lnTo>
                      <a:pt x="127" y="346"/>
                    </a:lnTo>
                    <a:lnTo>
                      <a:pt x="116" y="343"/>
                    </a:lnTo>
                    <a:lnTo>
                      <a:pt x="92" y="335"/>
                    </a:lnTo>
                    <a:lnTo>
                      <a:pt x="74" y="318"/>
                    </a:lnTo>
                    <a:lnTo>
                      <a:pt x="54" y="300"/>
                    </a:lnTo>
                    <a:lnTo>
                      <a:pt x="38" y="276"/>
                    </a:lnTo>
                    <a:lnTo>
                      <a:pt x="28" y="249"/>
                    </a:lnTo>
                    <a:lnTo>
                      <a:pt x="19" y="216"/>
                    </a:lnTo>
                    <a:lnTo>
                      <a:pt x="17" y="182"/>
                    </a:lnTo>
                    <a:lnTo>
                      <a:pt x="19" y="148"/>
                    </a:lnTo>
                    <a:lnTo>
                      <a:pt x="28" y="116"/>
                    </a:lnTo>
                    <a:lnTo>
                      <a:pt x="38" y="90"/>
                    </a:lnTo>
                    <a:lnTo>
                      <a:pt x="54" y="65"/>
                    </a:lnTo>
                    <a:lnTo>
                      <a:pt x="74" y="46"/>
                    </a:lnTo>
                    <a:lnTo>
                      <a:pt x="92" y="30"/>
                    </a:lnTo>
                    <a:lnTo>
                      <a:pt x="116" y="21"/>
                    </a:lnTo>
                    <a:lnTo>
                      <a:pt x="127" y="19"/>
                    </a:lnTo>
                    <a:lnTo>
                      <a:pt x="141" y="16"/>
                    </a:lnTo>
                    <a:lnTo>
                      <a:pt x="1069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8" y="30"/>
                    </a:lnTo>
                    <a:lnTo>
                      <a:pt x="1139" y="46"/>
                    </a:lnTo>
                    <a:lnTo>
                      <a:pt x="1156" y="65"/>
                    </a:lnTo>
                    <a:lnTo>
                      <a:pt x="1172" y="90"/>
                    </a:lnTo>
                    <a:lnTo>
                      <a:pt x="1183" y="116"/>
                    </a:lnTo>
                    <a:lnTo>
                      <a:pt x="1190" y="148"/>
                    </a:lnTo>
                    <a:lnTo>
                      <a:pt x="1193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7" y="146"/>
                    </a:lnTo>
                    <a:lnTo>
                      <a:pt x="1199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50" y="33"/>
                    </a:lnTo>
                    <a:lnTo>
                      <a:pt x="1126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5" y="3"/>
                    </a:lnTo>
                    <a:lnTo>
                      <a:pt x="1069" y="0"/>
                    </a:lnTo>
                    <a:lnTo>
                      <a:pt x="141" y="0"/>
                    </a:lnTo>
                    <a:lnTo>
                      <a:pt x="125" y="3"/>
                    </a:lnTo>
                    <a:lnTo>
                      <a:pt x="111" y="5"/>
                    </a:lnTo>
                    <a:lnTo>
                      <a:pt x="97" y="9"/>
                    </a:lnTo>
                    <a:lnTo>
                      <a:pt x="84" y="16"/>
                    </a:lnTo>
                    <a:lnTo>
                      <a:pt x="74" y="25"/>
                    </a:lnTo>
                    <a:lnTo>
                      <a:pt x="62" y="33"/>
                    </a:lnTo>
                    <a:lnTo>
                      <a:pt x="41" y="55"/>
                    </a:lnTo>
                    <a:lnTo>
                      <a:pt x="25" y="81"/>
                    </a:lnTo>
                    <a:lnTo>
                      <a:pt x="11" y="113"/>
                    </a:lnTo>
                    <a:lnTo>
                      <a:pt x="3" y="146"/>
                    </a:lnTo>
                    <a:lnTo>
                      <a:pt x="0" y="182"/>
                    </a:lnTo>
                    <a:lnTo>
                      <a:pt x="3" y="219"/>
                    </a:lnTo>
                    <a:lnTo>
                      <a:pt x="11" y="251"/>
                    </a:lnTo>
                    <a:lnTo>
                      <a:pt x="25" y="284"/>
                    </a:lnTo>
                    <a:lnTo>
                      <a:pt x="41" y="311"/>
                    </a:lnTo>
                    <a:lnTo>
                      <a:pt x="62" y="332"/>
                    </a:lnTo>
                    <a:lnTo>
                      <a:pt x="74" y="341"/>
                    </a:lnTo>
                    <a:lnTo>
                      <a:pt x="84" y="348"/>
                    </a:lnTo>
                    <a:lnTo>
                      <a:pt x="97" y="357"/>
                    </a:lnTo>
                    <a:lnTo>
                      <a:pt x="111" y="359"/>
                    </a:lnTo>
                    <a:lnTo>
                      <a:pt x="125" y="362"/>
                    </a:lnTo>
                    <a:lnTo>
                      <a:pt x="141" y="364"/>
                    </a:lnTo>
                    <a:lnTo>
                      <a:pt x="1069" y="364"/>
                    </a:lnTo>
                    <a:lnTo>
                      <a:pt x="1085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6" y="348"/>
                    </a:lnTo>
                    <a:lnTo>
                      <a:pt x="1150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9" y="251"/>
                    </a:lnTo>
                    <a:lnTo>
                      <a:pt x="1207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09520" y="3534840"/>
                <a:ext cx="182160" cy="32400"/>
              </a:xfrm>
              <a:custGeom>
                <a:avLst/>
                <a:gdLst/>
                <a:ahLst/>
                <a:rect l="l" t="t" r="r" b="b"/>
                <a:pathLst>
                  <a:path w="1184" h="221">
                    <a:moveTo>
                      <a:pt x="8" y="0"/>
                    </a:moveTo>
                    <a:lnTo>
                      <a:pt x="2" y="27"/>
                    </a:lnTo>
                    <a:lnTo>
                      <a:pt x="0" y="55"/>
                    </a:lnTo>
                    <a:lnTo>
                      <a:pt x="2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7" y="173"/>
                    </a:lnTo>
                    <a:lnTo>
                      <a:pt x="57" y="191"/>
                    </a:lnTo>
                    <a:lnTo>
                      <a:pt x="75" y="208"/>
                    </a:lnTo>
                    <a:lnTo>
                      <a:pt x="99" y="216"/>
                    </a:lnTo>
                    <a:lnTo>
                      <a:pt x="110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5" y="219"/>
                    </a:lnTo>
                    <a:lnTo>
                      <a:pt x="1076" y="216"/>
                    </a:lnTo>
                    <a:lnTo>
                      <a:pt x="1101" y="208"/>
                    </a:lnTo>
                    <a:lnTo>
                      <a:pt x="1122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3" y="89"/>
                    </a:lnTo>
                    <a:lnTo>
                      <a:pt x="1176" y="55"/>
                    </a:lnTo>
                    <a:lnTo>
                      <a:pt x="1184" y="55"/>
                    </a:lnTo>
                    <a:lnTo>
                      <a:pt x="1176" y="55"/>
                    </a:lnTo>
                    <a:lnTo>
                      <a:pt x="1173" y="27"/>
                    </a:lnTo>
                    <a:lnTo>
                      <a:pt x="1168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6" y="55"/>
                    </a:lnTo>
                    <a:lnTo>
                      <a:pt x="1122" y="67"/>
                    </a:lnTo>
                    <a:lnTo>
                      <a:pt x="1106" y="78"/>
                    </a:lnTo>
                    <a:lnTo>
                      <a:pt x="1090" y="87"/>
                    </a:lnTo>
                    <a:lnTo>
                      <a:pt x="1071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5" y="92"/>
                    </a:lnTo>
                    <a:lnTo>
                      <a:pt x="86" y="87"/>
                    </a:lnTo>
                    <a:lnTo>
                      <a:pt x="70" y="78"/>
                    </a:lnTo>
                    <a:lnTo>
                      <a:pt x="54" y="67"/>
                    </a:lnTo>
                    <a:lnTo>
                      <a:pt x="40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e8e8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08080" y="3533040"/>
                <a:ext cx="183600" cy="36000"/>
              </a:xfrm>
              <a:custGeom>
                <a:avLst/>
                <a:gdLst/>
                <a:ahLst/>
                <a:rect l="l" t="t" r="r" b="b"/>
                <a:pathLst>
                  <a:path w="1192" h="244">
                    <a:moveTo>
                      <a:pt x="10" y="0"/>
                    </a:moveTo>
                    <a:lnTo>
                      <a:pt x="2" y="33"/>
                    </a:lnTo>
                    <a:lnTo>
                      <a:pt x="0" y="69"/>
                    </a:lnTo>
                    <a:lnTo>
                      <a:pt x="2" y="103"/>
                    </a:lnTo>
                    <a:lnTo>
                      <a:pt x="10" y="136"/>
                    </a:lnTo>
                    <a:lnTo>
                      <a:pt x="24" y="166"/>
                    </a:lnTo>
                    <a:lnTo>
                      <a:pt x="37" y="192"/>
                    </a:lnTo>
                    <a:lnTo>
                      <a:pt x="59" y="214"/>
                    </a:lnTo>
                    <a:lnTo>
                      <a:pt x="81" y="230"/>
                    </a:lnTo>
                    <a:lnTo>
                      <a:pt x="91" y="235"/>
                    </a:lnTo>
                    <a:lnTo>
                      <a:pt x="104" y="238"/>
                    </a:lnTo>
                    <a:lnTo>
                      <a:pt x="118" y="240"/>
                    </a:lnTo>
                    <a:lnTo>
                      <a:pt x="132" y="244"/>
                    </a:lnTo>
                    <a:lnTo>
                      <a:pt x="1060" y="244"/>
                    </a:lnTo>
                    <a:lnTo>
                      <a:pt x="1073" y="240"/>
                    </a:lnTo>
                    <a:lnTo>
                      <a:pt x="1087" y="238"/>
                    </a:lnTo>
                    <a:lnTo>
                      <a:pt x="1101" y="235"/>
                    </a:lnTo>
                    <a:lnTo>
                      <a:pt x="1112" y="230"/>
                    </a:lnTo>
                    <a:lnTo>
                      <a:pt x="1135" y="214"/>
                    </a:lnTo>
                    <a:lnTo>
                      <a:pt x="1154" y="192"/>
                    </a:lnTo>
                    <a:lnTo>
                      <a:pt x="1170" y="166"/>
                    </a:lnTo>
                    <a:lnTo>
                      <a:pt x="1181" y="136"/>
                    </a:lnTo>
                    <a:lnTo>
                      <a:pt x="1190" y="103"/>
                    </a:lnTo>
                    <a:lnTo>
                      <a:pt x="1192" y="69"/>
                    </a:lnTo>
                    <a:lnTo>
                      <a:pt x="1184" y="69"/>
                    </a:lnTo>
                    <a:lnTo>
                      <a:pt x="1181" y="103"/>
                    </a:lnTo>
                    <a:lnTo>
                      <a:pt x="1174" y="136"/>
                    </a:lnTo>
                    <a:lnTo>
                      <a:pt x="1163" y="163"/>
                    </a:lnTo>
                    <a:lnTo>
                      <a:pt x="1147" y="187"/>
                    </a:lnTo>
                    <a:lnTo>
                      <a:pt x="1130" y="205"/>
                    </a:lnTo>
                    <a:lnTo>
                      <a:pt x="1109" y="222"/>
                    </a:lnTo>
                    <a:lnTo>
                      <a:pt x="1084" y="230"/>
                    </a:lnTo>
                    <a:lnTo>
                      <a:pt x="1073" y="233"/>
                    </a:lnTo>
                    <a:lnTo>
                      <a:pt x="1060" y="235"/>
                    </a:lnTo>
                    <a:lnTo>
                      <a:pt x="132" y="235"/>
                    </a:lnTo>
                    <a:lnTo>
                      <a:pt x="118" y="233"/>
                    </a:lnTo>
                    <a:lnTo>
                      <a:pt x="107" y="230"/>
                    </a:lnTo>
                    <a:lnTo>
                      <a:pt x="83" y="222"/>
                    </a:lnTo>
                    <a:lnTo>
                      <a:pt x="65" y="205"/>
                    </a:lnTo>
                    <a:lnTo>
                      <a:pt x="45" y="187"/>
                    </a:lnTo>
                    <a:lnTo>
                      <a:pt x="29" y="163"/>
                    </a:lnTo>
                    <a:lnTo>
                      <a:pt x="19" y="136"/>
                    </a:lnTo>
                    <a:lnTo>
                      <a:pt x="10" y="103"/>
                    </a:lnTo>
                    <a:lnTo>
                      <a:pt x="8" y="69"/>
                    </a:lnTo>
                    <a:lnTo>
                      <a:pt x="10" y="41"/>
                    </a:lnTo>
                    <a:lnTo>
                      <a:pt x="16" y="14"/>
                    </a:lnTo>
                    <a:lnTo>
                      <a:pt x="10" y="0"/>
                    </a:lnTo>
                    <a:close/>
                    <a:moveTo>
                      <a:pt x="1181" y="0"/>
                    </a:moveTo>
                    <a:lnTo>
                      <a:pt x="1176" y="14"/>
                    </a:lnTo>
                    <a:lnTo>
                      <a:pt x="1181" y="41"/>
                    </a:lnTo>
                    <a:lnTo>
                      <a:pt x="1184" y="69"/>
                    </a:lnTo>
                    <a:lnTo>
                      <a:pt x="1192" y="69"/>
                    </a:lnTo>
                    <a:lnTo>
                      <a:pt x="1190" y="33"/>
                    </a:lnTo>
                    <a:lnTo>
                      <a:pt x="1181" y="0"/>
                    </a:lnTo>
                    <a:close/>
                  </a:path>
                </a:pathLst>
              </a:custGeom>
              <a:solidFill>
                <a:srgbClr val="6c3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56840" y="3516480"/>
                <a:ext cx="185400" cy="52200"/>
              </a:xfrm>
              <a:custGeom>
                <a:avLst/>
                <a:gdLst/>
                <a:ahLst/>
                <a:rect l="l" t="t" r="r" b="b"/>
                <a:pathLst>
                  <a:path w="1194" h="348">
                    <a:moveTo>
                      <a:pt x="1194" y="173"/>
                    </a:moveTo>
                    <a:lnTo>
                      <a:pt x="1191" y="207"/>
                    </a:lnTo>
                    <a:lnTo>
                      <a:pt x="1183" y="240"/>
                    </a:lnTo>
                    <a:lnTo>
                      <a:pt x="1169" y="270"/>
                    </a:lnTo>
                    <a:lnTo>
                      <a:pt x="1153" y="296"/>
                    </a:lnTo>
                    <a:lnTo>
                      <a:pt x="1134" y="318"/>
                    </a:lnTo>
                    <a:lnTo>
                      <a:pt x="1113" y="334"/>
                    </a:lnTo>
                    <a:lnTo>
                      <a:pt x="1102" y="339"/>
                    </a:lnTo>
                    <a:lnTo>
                      <a:pt x="1088" y="342"/>
                    </a:lnTo>
                    <a:lnTo>
                      <a:pt x="1075" y="344"/>
                    </a:lnTo>
                    <a:lnTo>
                      <a:pt x="1061" y="348"/>
                    </a:lnTo>
                    <a:lnTo>
                      <a:pt x="133" y="348"/>
                    </a:lnTo>
                    <a:lnTo>
                      <a:pt x="120" y="344"/>
                    </a:lnTo>
                    <a:lnTo>
                      <a:pt x="106" y="342"/>
                    </a:lnTo>
                    <a:lnTo>
                      <a:pt x="92" y="339"/>
                    </a:lnTo>
                    <a:lnTo>
                      <a:pt x="82" y="334"/>
                    </a:lnTo>
                    <a:lnTo>
                      <a:pt x="58" y="318"/>
                    </a:lnTo>
                    <a:lnTo>
                      <a:pt x="39" y="296"/>
                    </a:lnTo>
                    <a:lnTo>
                      <a:pt x="23" y="270"/>
                    </a:lnTo>
                    <a:lnTo>
                      <a:pt x="12" y="240"/>
                    </a:lnTo>
                    <a:lnTo>
                      <a:pt x="4" y="207"/>
                    </a:lnTo>
                    <a:lnTo>
                      <a:pt x="0" y="173"/>
                    </a:lnTo>
                    <a:lnTo>
                      <a:pt x="4" y="139"/>
                    </a:lnTo>
                    <a:lnTo>
                      <a:pt x="12" y="107"/>
                    </a:lnTo>
                    <a:lnTo>
                      <a:pt x="23" y="78"/>
                    </a:lnTo>
                    <a:lnTo>
                      <a:pt x="39" y="51"/>
                    </a:lnTo>
                    <a:lnTo>
                      <a:pt x="58" y="29"/>
                    </a:lnTo>
                    <a:lnTo>
                      <a:pt x="82" y="12"/>
                    </a:lnTo>
                    <a:lnTo>
                      <a:pt x="92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3" y="0"/>
                    </a:lnTo>
                    <a:lnTo>
                      <a:pt x="1061" y="0"/>
                    </a:lnTo>
                    <a:lnTo>
                      <a:pt x="1075" y="2"/>
                    </a:lnTo>
                    <a:lnTo>
                      <a:pt x="1088" y="5"/>
                    </a:lnTo>
                    <a:lnTo>
                      <a:pt x="1102" y="7"/>
                    </a:lnTo>
                    <a:lnTo>
                      <a:pt x="1113" y="12"/>
                    </a:lnTo>
                    <a:lnTo>
                      <a:pt x="1134" y="29"/>
                    </a:lnTo>
                    <a:lnTo>
                      <a:pt x="1153" y="51"/>
                    </a:lnTo>
                    <a:lnTo>
                      <a:pt x="1169" y="78"/>
                    </a:lnTo>
                    <a:lnTo>
                      <a:pt x="1183" y="107"/>
                    </a:lnTo>
                    <a:lnTo>
                      <a:pt x="1191" y="139"/>
                    </a:lnTo>
                    <a:lnTo>
                      <a:pt x="1194" y="173"/>
                    </a:lnTo>
                    <a:close/>
                  </a:path>
                </a:pathLst>
              </a:custGeom>
              <a:solidFill>
                <a:srgbClr val="f8f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55040" y="3515040"/>
                <a:ext cx="187200" cy="53640"/>
              </a:xfrm>
              <a:custGeom>
                <a:avLst/>
                <a:gdLst/>
                <a:ahLst/>
                <a:rect l="l" t="t" r="r" b="b"/>
                <a:pathLst>
                  <a:path w="1209" h="364">
                    <a:moveTo>
                      <a:pt x="1201" y="182"/>
                    </a:moveTo>
                    <a:lnTo>
                      <a:pt x="1192" y="182"/>
                    </a:lnTo>
                    <a:lnTo>
                      <a:pt x="1190" y="216"/>
                    </a:lnTo>
                    <a:lnTo>
                      <a:pt x="1182" y="249"/>
                    </a:lnTo>
                    <a:lnTo>
                      <a:pt x="1171" y="276"/>
                    </a:lnTo>
                    <a:lnTo>
                      <a:pt x="1155" y="300"/>
                    </a:lnTo>
                    <a:lnTo>
                      <a:pt x="1136" y="318"/>
                    </a:lnTo>
                    <a:lnTo>
                      <a:pt x="1117" y="335"/>
                    </a:lnTo>
                    <a:lnTo>
                      <a:pt x="1093" y="343"/>
                    </a:lnTo>
                    <a:lnTo>
                      <a:pt x="1082" y="346"/>
                    </a:lnTo>
                    <a:lnTo>
                      <a:pt x="1068" y="348"/>
                    </a:lnTo>
                    <a:lnTo>
                      <a:pt x="140" y="348"/>
                    </a:lnTo>
                    <a:lnTo>
                      <a:pt x="127" y="346"/>
                    </a:lnTo>
                    <a:lnTo>
                      <a:pt x="113" y="343"/>
                    </a:lnTo>
                    <a:lnTo>
                      <a:pt x="92" y="335"/>
                    </a:lnTo>
                    <a:lnTo>
                      <a:pt x="70" y="318"/>
                    </a:lnTo>
                    <a:lnTo>
                      <a:pt x="51" y="300"/>
                    </a:lnTo>
                    <a:lnTo>
                      <a:pt x="37" y="276"/>
                    </a:lnTo>
                    <a:lnTo>
                      <a:pt x="27" y="249"/>
                    </a:lnTo>
                    <a:lnTo>
                      <a:pt x="19" y="216"/>
                    </a:lnTo>
                    <a:lnTo>
                      <a:pt x="16" y="182"/>
                    </a:lnTo>
                    <a:lnTo>
                      <a:pt x="19" y="148"/>
                    </a:lnTo>
                    <a:lnTo>
                      <a:pt x="27" y="116"/>
                    </a:lnTo>
                    <a:lnTo>
                      <a:pt x="37" y="90"/>
                    </a:lnTo>
                    <a:lnTo>
                      <a:pt x="51" y="65"/>
                    </a:lnTo>
                    <a:lnTo>
                      <a:pt x="70" y="46"/>
                    </a:lnTo>
                    <a:lnTo>
                      <a:pt x="92" y="30"/>
                    </a:lnTo>
                    <a:lnTo>
                      <a:pt x="113" y="21"/>
                    </a:lnTo>
                    <a:lnTo>
                      <a:pt x="127" y="19"/>
                    </a:lnTo>
                    <a:lnTo>
                      <a:pt x="140" y="16"/>
                    </a:lnTo>
                    <a:lnTo>
                      <a:pt x="1068" y="16"/>
                    </a:lnTo>
                    <a:lnTo>
                      <a:pt x="1082" y="19"/>
                    </a:lnTo>
                    <a:lnTo>
                      <a:pt x="1093" y="21"/>
                    </a:lnTo>
                    <a:lnTo>
                      <a:pt x="1117" y="30"/>
                    </a:lnTo>
                    <a:lnTo>
                      <a:pt x="1136" y="46"/>
                    </a:lnTo>
                    <a:lnTo>
                      <a:pt x="1155" y="65"/>
                    </a:lnTo>
                    <a:lnTo>
                      <a:pt x="1171" y="90"/>
                    </a:lnTo>
                    <a:lnTo>
                      <a:pt x="1182" y="116"/>
                    </a:lnTo>
                    <a:lnTo>
                      <a:pt x="1190" y="148"/>
                    </a:lnTo>
                    <a:lnTo>
                      <a:pt x="1192" y="182"/>
                    </a:lnTo>
                    <a:lnTo>
                      <a:pt x="1201" y="182"/>
                    </a:lnTo>
                    <a:lnTo>
                      <a:pt x="1209" y="182"/>
                    </a:lnTo>
                    <a:lnTo>
                      <a:pt x="1206" y="146"/>
                    </a:lnTo>
                    <a:lnTo>
                      <a:pt x="1198" y="113"/>
                    </a:lnTo>
                    <a:lnTo>
                      <a:pt x="1185" y="81"/>
                    </a:lnTo>
                    <a:lnTo>
                      <a:pt x="1169" y="55"/>
                    </a:lnTo>
                    <a:lnTo>
                      <a:pt x="1146" y="33"/>
                    </a:lnTo>
                    <a:lnTo>
                      <a:pt x="1136" y="25"/>
                    </a:lnTo>
                    <a:lnTo>
                      <a:pt x="1123" y="16"/>
                    </a:lnTo>
                    <a:lnTo>
                      <a:pt x="1112" y="9"/>
                    </a:lnTo>
                    <a:lnTo>
                      <a:pt x="1098" y="5"/>
                    </a:lnTo>
                    <a:lnTo>
                      <a:pt x="1082" y="3"/>
                    </a:lnTo>
                    <a:lnTo>
                      <a:pt x="1068" y="0"/>
                    </a:lnTo>
                    <a:lnTo>
                      <a:pt x="140" y="0"/>
                    </a:lnTo>
                    <a:lnTo>
                      <a:pt x="124" y="3"/>
                    </a:lnTo>
                    <a:lnTo>
                      <a:pt x="110" y="5"/>
                    </a:lnTo>
                    <a:lnTo>
                      <a:pt x="97" y="9"/>
                    </a:lnTo>
                    <a:lnTo>
                      <a:pt x="83" y="16"/>
                    </a:lnTo>
                    <a:lnTo>
                      <a:pt x="73" y="25"/>
                    </a:lnTo>
                    <a:lnTo>
                      <a:pt x="59" y="33"/>
                    </a:lnTo>
                    <a:lnTo>
                      <a:pt x="41" y="55"/>
                    </a:lnTo>
                    <a:lnTo>
                      <a:pt x="21" y="81"/>
                    </a:lnTo>
                    <a:lnTo>
                      <a:pt x="11" y="113"/>
                    </a:lnTo>
                    <a:lnTo>
                      <a:pt x="2" y="146"/>
                    </a:lnTo>
                    <a:lnTo>
                      <a:pt x="0" y="182"/>
                    </a:lnTo>
                    <a:lnTo>
                      <a:pt x="2" y="219"/>
                    </a:lnTo>
                    <a:lnTo>
                      <a:pt x="11" y="251"/>
                    </a:lnTo>
                    <a:lnTo>
                      <a:pt x="21" y="284"/>
                    </a:lnTo>
                    <a:lnTo>
                      <a:pt x="41" y="311"/>
                    </a:lnTo>
                    <a:lnTo>
                      <a:pt x="59" y="332"/>
                    </a:lnTo>
                    <a:lnTo>
                      <a:pt x="73" y="341"/>
                    </a:lnTo>
                    <a:lnTo>
                      <a:pt x="83" y="348"/>
                    </a:lnTo>
                    <a:lnTo>
                      <a:pt x="97" y="357"/>
                    </a:lnTo>
                    <a:lnTo>
                      <a:pt x="110" y="359"/>
                    </a:lnTo>
                    <a:lnTo>
                      <a:pt x="124" y="362"/>
                    </a:lnTo>
                    <a:lnTo>
                      <a:pt x="140" y="364"/>
                    </a:lnTo>
                    <a:lnTo>
                      <a:pt x="1068" y="364"/>
                    </a:lnTo>
                    <a:lnTo>
                      <a:pt x="1082" y="362"/>
                    </a:lnTo>
                    <a:lnTo>
                      <a:pt x="1098" y="359"/>
                    </a:lnTo>
                    <a:lnTo>
                      <a:pt x="1112" y="357"/>
                    </a:lnTo>
                    <a:lnTo>
                      <a:pt x="1123" y="348"/>
                    </a:lnTo>
                    <a:lnTo>
                      <a:pt x="1136" y="341"/>
                    </a:lnTo>
                    <a:lnTo>
                      <a:pt x="1146" y="332"/>
                    </a:lnTo>
                    <a:lnTo>
                      <a:pt x="1169" y="311"/>
                    </a:lnTo>
                    <a:lnTo>
                      <a:pt x="1185" y="284"/>
                    </a:lnTo>
                    <a:lnTo>
                      <a:pt x="1198" y="251"/>
                    </a:lnTo>
                    <a:lnTo>
                      <a:pt x="1206" y="219"/>
                    </a:lnTo>
                    <a:lnTo>
                      <a:pt x="1209" y="182"/>
                    </a:lnTo>
                    <a:lnTo>
                      <a:pt x="1201" y="18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58280" y="3534840"/>
                <a:ext cx="183600" cy="32400"/>
              </a:xfrm>
              <a:custGeom>
                <a:avLst/>
                <a:gdLst/>
                <a:ahLst/>
                <a:rect l="l" t="t" r="r" b="b"/>
                <a:pathLst>
                  <a:path w="1185" h="221">
                    <a:moveTo>
                      <a:pt x="5" y="0"/>
                    </a:moveTo>
                    <a:lnTo>
                      <a:pt x="0" y="27"/>
                    </a:lnTo>
                    <a:lnTo>
                      <a:pt x="0" y="55"/>
                    </a:lnTo>
                    <a:lnTo>
                      <a:pt x="3" y="89"/>
                    </a:lnTo>
                    <a:lnTo>
                      <a:pt x="11" y="122"/>
                    </a:lnTo>
                    <a:lnTo>
                      <a:pt x="21" y="149"/>
                    </a:lnTo>
                    <a:lnTo>
                      <a:pt x="35" y="173"/>
                    </a:lnTo>
                    <a:lnTo>
                      <a:pt x="54" y="191"/>
                    </a:lnTo>
                    <a:lnTo>
                      <a:pt x="76" y="208"/>
                    </a:lnTo>
                    <a:lnTo>
                      <a:pt x="97" y="216"/>
                    </a:lnTo>
                    <a:lnTo>
                      <a:pt x="111" y="219"/>
                    </a:lnTo>
                    <a:lnTo>
                      <a:pt x="124" y="221"/>
                    </a:lnTo>
                    <a:lnTo>
                      <a:pt x="1052" y="221"/>
                    </a:lnTo>
                    <a:lnTo>
                      <a:pt x="1066" y="219"/>
                    </a:lnTo>
                    <a:lnTo>
                      <a:pt x="1077" y="216"/>
                    </a:lnTo>
                    <a:lnTo>
                      <a:pt x="1101" y="208"/>
                    </a:lnTo>
                    <a:lnTo>
                      <a:pt x="1120" y="191"/>
                    </a:lnTo>
                    <a:lnTo>
                      <a:pt x="1139" y="173"/>
                    </a:lnTo>
                    <a:lnTo>
                      <a:pt x="1155" y="149"/>
                    </a:lnTo>
                    <a:lnTo>
                      <a:pt x="1166" y="122"/>
                    </a:lnTo>
                    <a:lnTo>
                      <a:pt x="1174" y="89"/>
                    </a:lnTo>
                    <a:lnTo>
                      <a:pt x="1176" y="55"/>
                    </a:lnTo>
                    <a:lnTo>
                      <a:pt x="1185" y="55"/>
                    </a:lnTo>
                    <a:lnTo>
                      <a:pt x="1176" y="55"/>
                    </a:lnTo>
                    <a:lnTo>
                      <a:pt x="1174" y="27"/>
                    </a:lnTo>
                    <a:lnTo>
                      <a:pt x="1169" y="0"/>
                    </a:lnTo>
                    <a:lnTo>
                      <a:pt x="1160" y="19"/>
                    </a:lnTo>
                    <a:lnTo>
                      <a:pt x="1150" y="37"/>
                    </a:lnTo>
                    <a:lnTo>
                      <a:pt x="1137" y="55"/>
                    </a:lnTo>
                    <a:lnTo>
                      <a:pt x="1120" y="67"/>
                    </a:lnTo>
                    <a:lnTo>
                      <a:pt x="1107" y="78"/>
                    </a:lnTo>
                    <a:lnTo>
                      <a:pt x="1088" y="87"/>
                    </a:lnTo>
                    <a:lnTo>
                      <a:pt x="1072" y="92"/>
                    </a:lnTo>
                    <a:lnTo>
                      <a:pt x="1052" y="92"/>
                    </a:lnTo>
                    <a:lnTo>
                      <a:pt x="124" y="92"/>
                    </a:lnTo>
                    <a:lnTo>
                      <a:pt x="106" y="92"/>
                    </a:lnTo>
                    <a:lnTo>
                      <a:pt x="87" y="87"/>
                    </a:lnTo>
                    <a:lnTo>
                      <a:pt x="71" y="78"/>
                    </a:lnTo>
                    <a:lnTo>
                      <a:pt x="54" y="67"/>
                    </a:lnTo>
                    <a:lnTo>
                      <a:pt x="41" y="55"/>
                    </a:lnTo>
                    <a:lnTo>
                      <a:pt x="27" y="37"/>
                    </a:lnTo>
                    <a:lnTo>
                      <a:pt x="16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6d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56840" y="3533040"/>
                <a:ext cx="185400" cy="36000"/>
              </a:xfrm>
              <a:custGeom>
                <a:avLst/>
                <a:gdLst/>
                <a:ahLst/>
                <a:rect l="l" t="t" r="r" b="b"/>
                <a:pathLst>
                  <a:path w="1194" h="244">
                    <a:moveTo>
                      <a:pt x="12" y="0"/>
                    </a:moveTo>
                    <a:lnTo>
                      <a:pt x="4" y="33"/>
                    </a:lnTo>
                    <a:lnTo>
                      <a:pt x="0" y="69"/>
                    </a:lnTo>
                    <a:lnTo>
                      <a:pt x="4" y="103"/>
                    </a:lnTo>
                    <a:lnTo>
                      <a:pt x="12" y="136"/>
                    </a:lnTo>
                    <a:lnTo>
                      <a:pt x="23" y="166"/>
                    </a:lnTo>
                    <a:lnTo>
                      <a:pt x="39" y="192"/>
                    </a:lnTo>
                    <a:lnTo>
                      <a:pt x="58" y="214"/>
                    </a:lnTo>
                    <a:lnTo>
                      <a:pt x="82" y="230"/>
                    </a:lnTo>
                    <a:lnTo>
                      <a:pt x="92" y="235"/>
                    </a:lnTo>
                    <a:lnTo>
                      <a:pt x="106" y="238"/>
                    </a:lnTo>
                    <a:lnTo>
                      <a:pt x="120" y="240"/>
                    </a:lnTo>
                    <a:lnTo>
                      <a:pt x="133" y="244"/>
                    </a:lnTo>
                    <a:lnTo>
                      <a:pt x="1061" y="244"/>
                    </a:lnTo>
                    <a:lnTo>
                      <a:pt x="1075" y="240"/>
                    </a:lnTo>
                    <a:lnTo>
                      <a:pt x="1088" y="238"/>
                    </a:lnTo>
                    <a:lnTo>
                      <a:pt x="1102" y="235"/>
                    </a:lnTo>
                    <a:lnTo>
                      <a:pt x="1113" y="230"/>
                    </a:lnTo>
                    <a:lnTo>
                      <a:pt x="1134" y="214"/>
                    </a:lnTo>
                    <a:lnTo>
                      <a:pt x="1153" y="192"/>
                    </a:lnTo>
                    <a:lnTo>
                      <a:pt x="1169" y="166"/>
                    </a:lnTo>
                    <a:lnTo>
                      <a:pt x="1183" y="136"/>
                    </a:lnTo>
                    <a:lnTo>
                      <a:pt x="1191" y="103"/>
                    </a:lnTo>
                    <a:lnTo>
                      <a:pt x="1194" y="69"/>
                    </a:lnTo>
                    <a:lnTo>
                      <a:pt x="1185" y="69"/>
                    </a:lnTo>
                    <a:lnTo>
                      <a:pt x="1183" y="103"/>
                    </a:lnTo>
                    <a:lnTo>
                      <a:pt x="1175" y="136"/>
                    </a:lnTo>
                    <a:lnTo>
                      <a:pt x="1164" y="163"/>
                    </a:lnTo>
                    <a:lnTo>
                      <a:pt x="1148" y="187"/>
                    </a:lnTo>
                    <a:lnTo>
                      <a:pt x="1129" y="205"/>
                    </a:lnTo>
                    <a:lnTo>
                      <a:pt x="1110" y="222"/>
                    </a:lnTo>
                    <a:lnTo>
                      <a:pt x="1086" y="230"/>
                    </a:lnTo>
                    <a:lnTo>
                      <a:pt x="1075" y="233"/>
                    </a:lnTo>
                    <a:lnTo>
                      <a:pt x="1061" y="235"/>
                    </a:lnTo>
                    <a:lnTo>
                      <a:pt x="133" y="235"/>
                    </a:lnTo>
                    <a:lnTo>
                      <a:pt x="120" y="233"/>
                    </a:lnTo>
                    <a:lnTo>
                      <a:pt x="106" y="230"/>
                    </a:lnTo>
                    <a:lnTo>
                      <a:pt x="85" y="222"/>
                    </a:lnTo>
                    <a:lnTo>
                      <a:pt x="63" y="205"/>
                    </a:lnTo>
                    <a:lnTo>
                      <a:pt x="44" y="187"/>
                    </a:lnTo>
                    <a:lnTo>
                      <a:pt x="30" y="163"/>
                    </a:lnTo>
                    <a:lnTo>
                      <a:pt x="20" y="136"/>
                    </a:lnTo>
                    <a:lnTo>
                      <a:pt x="12" y="103"/>
                    </a:lnTo>
                    <a:lnTo>
                      <a:pt x="9" y="69"/>
                    </a:lnTo>
                    <a:lnTo>
                      <a:pt x="9" y="41"/>
                    </a:lnTo>
                    <a:lnTo>
                      <a:pt x="14" y="14"/>
                    </a:lnTo>
                    <a:lnTo>
                      <a:pt x="12" y="0"/>
                    </a:lnTo>
                    <a:close/>
                    <a:moveTo>
                      <a:pt x="1183" y="0"/>
                    </a:moveTo>
                    <a:lnTo>
                      <a:pt x="1178" y="14"/>
                    </a:lnTo>
                    <a:lnTo>
                      <a:pt x="1183" y="41"/>
                    </a:lnTo>
                    <a:lnTo>
                      <a:pt x="1185" y="69"/>
                    </a:lnTo>
                    <a:lnTo>
                      <a:pt x="1194" y="69"/>
                    </a:lnTo>
                    <a:lnTo>
                      <a:pt x="1191" y="33"/>
                    </a:lnTo>
                    <a:lnTo>
                      <a:pt x="1183" y="0"/>
                    </a:lnTo>
                    <a:close/>
                  </a:path>
                </a:pathLst>
              </a:custGeom>
              <a:solidFill>
                <a:srgbClr val="753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74080" y="3398760"/>
                <a:ext cx="308160" cy="191520"/>
              </a:xfrm>
              <a:custGeom>
                <a:avLst/>
                <a:gdLst/>
                <a:ahLst/>
                <a:rect l="l" t="t" r="r" b="b"/>
                <a:pathLst>
                  <a:path w="1992" h="1289">
                    <a:moveTo>
                      <a:pt x="1992" y="644"/>
                    </a:moveTo>
                    <a:lnTo>
                      <a:pt x="1989" y="677"/>
                    </a:lnTo>
                    <a:lnTo>
                      <a:pt x="1989" y="712"/>
                    </a:lnTo>
                    <a:lnTo>
                      <a:pt x="1978" y="774"/>
                    </a:lnTo>
                    <a:lnTo>
                      <a:pt x="1962" y="836"/>
                    </a:lnTo>
                    <a:lnTo>
                      <a:pt x="1943" y="895"/>
                    </a:lnTo>
                    <a:lnTo>
                      <a:pt x="1916" y="951"/>
                    </a:lnTo>
                    <a:lnTo>
                      <a:pt x="1884" y="1006"/>
                    </a:lnTo>
                    <a:lnTo>
                      <a:pt x="1849" y="1054"/>
                    </a:lnTo>
                    <a:lnTo>
                      <a:pt x="1809" y="1100"/>
                    </a:lnTo>
                    <a:lnTo>
                      <a:pt x="1763" y="1144"/>
                    </a:lnTo>
                    <a:lnTo>
                      <a:pt x="1715" y="1181"/>
                    </a:lnTo>
                    <a:lnTo>
                      <a:pt x="1663" y="1211"/>
                    </a:lnTo>
                    <a:lnTo>
                      <a:pt x="1609" y="1241"/>
                    </a:lnTo>
                    <a:lnTo>
                      <a:pt x="1549" y="1262"/>
                    </a:lnTo>
                    <a:lnTo>
                      <a:pt x="1490" y="1278"/>
                    </a:lnTo>
                    <a:lnTo>
                      <a:pt x="1460" y="1284"/>
                    </a:lnTo>
                    <a:lnTo>
                      <a:pt x="1428" y="1287"/>
                    </a:lnTo>
                    <a:lnTo>
                      <a:pt x="1395" y="1289"/>
                    </a:lnTo>
                    <a:lnTo>
                      <a:pt x="1363" y="1289"/>
                    </a:lnTo>
                    <a:lnTo>
                      <a:pt x="627" y="1289"/>
                    </a:lnTo>
                    <a:lnTo>
                      <a:pt x="594" y="1289"/>
                    </a:lnTo>
                    <a:lnTo>
                      <a:pt x="562" y="1287"/>
                    </a:lnTo>
                    <a:lnTo>
                      <a:pt x="532" y="1284"/>
                    </a:lnTo>
                    <a:lnTo>
                      <a:pt x="500" y="1278"/>
                    </a:lnTo>
                    <a:lnTo>
                      <a:pt x="440" y="1262"/>
                    </a:lnTo>
                    <a:lnTo>
                      <a:pt x="381" y="1241"/>
                    </a:lnTo>
                    <a:lnTo>
                      <a:pt x="327" y="1211"/>
                    </a:lnTo>
                    <a:lnTo>
                      <a:pt x="275" y="1181"/>
                    </a:lnTo>
                    <a:lnTo>
                      <a:pt x="227" y="1144"/>
                    </a:lnTo>
                    <a:lnTo>
                      <a:pt x="184" y="1100"/>
                    </a:lnTo>
                    <a:lnTo>
                      <a:pt x="143" y="1054"/>
                    </a:lnTo>
                    <a:lnTo>
                      <a:pt x="106" y="1006"/>
                    </a:lnTo>
                    <a:lnTo>
                      <a:pt x="76" y="951"/>
                    </a:lnTo>
                    <a:lnTo>
                      <a:pt x="49" y="895"/>
                    </a:lnTo>
                    <a:lnTo>
                      <a:pt x="28" y="836"/>
                    </a:lnTo>
                    <a:lnTo>
                      <a:pt x="12" y="774"/>
                    </a:lnTo>
                    <a:lnTo>
                      <a:pt x="3" y="712"/>
                    </a:lnTo>
                    <a:lnTo>
                      <a:pt x="0" y="677"/>
                    </a:lnTo>
                    <a:lnTo>
                      <a:pt x="0" y="644"/>
                    </a:lnTo>
                    <a:lnTo>
                      <a:pt x="0" y="612"/>
                    </a:lnTo>
                    <a:lnTo>
                      <a:pt x="3" y="580"/>
                    </a:lnTo>
                    <a:lnTo>
                      <a:pt x="12" y="515"/>
                    </a:lnTo>
                    <a:lnTo>
                      <a:pt x="28" y="453"/>
                    </a:lnTo>
                    <a:lnTo>
                      <a:pt x="49" y="393"/>
                    </a:lnTo>
                    <a:lnTo>
                      <a:pt x="76" y="336"/>
                    </a:lnTo>
                    <a:lnTo>
                      <a:pt x="106" y="283"/>
                    </a:lnTo>
                    <a:lnTo>
                      <a:pt x="143" y="234"/>
                    </a:lnTo>
                    <a:lnTo>
                      <a:pt x="184" y="188"/>
                    </a:lnTo>
                    <a:lnTo>
                      <a:pt x="227" y="145"/>
                    </a:lnTo>
                    <a:lnTo>
                      <a:pt x="275" y="110"/>
                    </a:lnTo>
                    <a:lnTo>
                      <a:pt x="327" y="78"/>
                    </a:lnTo>
                    <a:lnTo>
                      <a:pt x="381" y="51"/>
                    </a:lnTo>
                    <a:lnTo>
                      <a:pt x="440" y="29"/>
                    </a:lnTo>
                    <a:lnTo>
                      <a:pt x="500" y="13"/>
                    </a:lnTo>
                    <a:lnTo>
                      <a:pt x="532" y="8"/>
                    </a:lnTo>
                    <a:lnTo>
                      <a:pt x="562" y="2"/>
                    </a:lnTo>
                    <a:lnTo>
                      <a:pt x="594" y="0"/>
                    </a:lnTo>
                    <a:lnTo>
                      <a:pt x="627" y="0"/>
                    </a:lnTo>
                    <a:lnTo>
                      <a:pt x="1363" y="0"/>
                    </a:lnTo>
                    <a:lnTo>
                      <a:pt x="1395" y="0"/>
                    </a:lnTo>
                    <a:lnTo>
                      <a:pt x="1428" y="2"/>
                    </a:lnTo>
                    <a:lnTo>
                      <a:pt x="1460" y="8"/>
                    </a:lnTo>
                    <a:lnTo>
                      <a:pt x="1490" y="13"/>
                    </a:lnTo>
                    <a:lnTo>
                      <a:pt x="1549" y="29"/>
                    </a:lnTo>
                    <a:lnTo>
                      <a:pt x="1609" y="51"/>
                    </a:lnTo>
                    <a:lnTo>
                      <a:pt x="1663" y="78"/>
                    </a:lnTo>
                    <a:lnTo>
                      <a:pt x="1715" y="110"/>
                    </a:lnTo>
                    <a:lnTo>
                      <a:pt x="1763" y="145"/>
                    </a:lnTo>
                    <a:lnTo>
                      <a:pt x="1809" y="188"/>
                    </a:lnTo>
                    <a:lnTo>
                      <a:pt x="1849" y="234"/>
                    </a:lnTo>
                    <a:lnTo>
                      <a:pt x="1884" y="283"/>
                    </a:lnTo>
                    <a:lnTo>
                      <a:pt x="1916" y="336"/>
                    </a:lnTo>
                    <a:lnTo>
                      <a:pt x="1943" y="393"/>
                    </a:lnTo>
                    <a:lnTo>
                      <a:pt x="1962" y="453"/>
                    </a:lnTo>
                    <a:lnTo>
                      <a:pt x="1978" y="515"/>
                    </a:lnTo>
                    <a:lnTo>
                      <a:pt x="1989" y="580"/>
                    </a:lnTo>
                    <a:lnTo>
                      <a:pt x="1989" y="612"/>
                    </a:lnTo>
                    <a:lnTo>
                      <a:pt x="1992" y="644"/>
                    </a:lnTo>
                    <a:close/>
                  </a:path>
                </a:pathLst>
              </a:custGeom>
              <a:solidFill>
                <a:srgbClr val="f3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772640" y="3396960"/>
                <a:ext cx="311760" cy="195120"/>
              </a:xfrm>
              <a:custGeom>
                <a:avLst/>
                <a:gdLst/>
                <a:ahLst/>
                <a:rect l="l" t="t" r="r" b="b"/>
                <a:pathLst>
                  <a:path w="2008" h="1305">
                    <a:moveTo>
                      <a:pt x="2000" y="652"/>
                    </a:moveTo>
                    <a:lnTo>
                      <a:pt x="1992" y="652"/>
                    </a:lnTo>
                    <a:lnTo>
                      <a:pt x="1990" y="717"/>
                    </a:lnTo>
                    <a:lnTo>
                      <a:pt x="1978" y="782"/>
                    </a:lnTo>
                    <a:lnTo>
                      <a:pt x="1962" y="841"/>
                    </a:lnTo>
                    <a:lnTo>
                      <a:pt x="1944" y="901"/>
                    </a:lnTo>
                    <a:lnTo>
                      <a:pt x="1916" y="957"/>
                    </a:lnTo>
                    <a:lnTo>
                      <a:pt x="1887" y="1009"/>
                    </a:lnTo>
                    <a:lnTo>
                      <a:pt x="1849" y="1057"/>
                    </a:lnTo>
                    <a:lnTo>
                      <a:pt x="1811" y="1103"/>
                    </a:lnTo>
                    <a:lnTo>
                      <a:pt x="1765" y="1143"/>
                    </a:lnTo>
                    <a:lnTo>
                      <a:pt x="1719" y="1182"/>
                    </a:lnTo>
                    <a:lnTo>
                      <a:pt x="1668" y="1214"/>
                    </a:lnTo>
                    <a:lnTo>
                      <a:pt x="1614" y="1240"/>
                    </a:lnTo>
                    <a:lnTo>
                      <a:pt x="1557" y="1262"/>
                    </a:lnTo>
                    <a:lnTo>
                      <a:pt x="1498" y="1278"/>
                    </a:lnTo>
                    <a:lnTo>
                      <a:pt x="1466" y="1284"/>
                    </a:lnTo>
                    <a:lnTo>
                      <a:pt x="1436" y="1286"/>
                    </a:lnTo>
                    <a:lnTo>
                      <a:pt x="1403" y="1289"/>
                    </a:lnTo>
                    <a:lnTo>
                      <a:pt x="1371" y="1289"/>
                    </a:lnTo>
                    <a:lnTo>
                      <a:pt x="635" y="1289"/>
                    </a:lnTo>
                    <a:lnTo>
                      <a:pt x="602" y="1289"/>
                    </a:lnTo>
                    <a:lnTo>
                      <a:pt x="570" y="1286"/>
                    </a:lnTo>
                    <a:lnTo>
                      <a:pt x="540" y="1284"/>
                    </a:lnTo>
                    <a:lnTo>
                      <a:pt x="510" y="1278"/>
                    </a:lnTo>
                    <a:lnTo>
                      <a:pt x="451" y="1262"/>
                    </a:lnTo>
                    <a:lnTo>
                      <a:pt x="395" y="1240"/>
                    </a:lnTo>
                    <a:lnTo>
                      <a:pt x="340" y="1214"/>
                    </a:lnTo>
                    <a:lnTo>
                      <a:pt x="289" y="1182"/>
                    </a:lnTo>
                    <a:lnTo>
                      <a:pt x="241" y="1143"/>
                    </a:lnTo>
                    <a:lnTo>
                      <a:pt x="197" y="1103"/>
                    </a:lnTo>
                    <a:lnTo>
                      <a:pt x="156" y="1057"/>
                    </a:lnTo>
                    <a:lnTo>
                      <a:pt x="122" y="1009"/>
                    </a:lnTo>
                    <a:lnTo>
                      <a:pt x="89" y="957"/>
                    </a:lnTo>
                    <a:lnTo>
                      <a:pt x="66" y="901"/>
                    </a:lnTo>
                    <a:lnTo>
                      <a:pt x="43" y="841"/>
                    </a:lnTo>
                    <a:lnTo>
                      <a:pt x="27" y="782"/>
                    </a:lnTo>
                    <a:lnTo>
                      <a:pt x="20" y="717"/>
                    </a:lnTo>
                    <a:lnTo>
                      <a:pt x="16" y="652"/>
                    </a:lnTo>
                    <a:lnTo>
                      <a:pt x="20" y="588"/>
                    </a:lnTo>
                    <a:lnTo>
                      <a:pt x="27" y="523"/>
                    </a:lnTo>
                    <a:lnTo>
                      <a:pt x="43" y="464"/>
                    </a:lnTo>
                    <a:lnTo>
                      <a:pt x="66" y="404"/>
                    </a:lnTo>
                    <a:lnTo>
                      <a:pt x="89" y="348"/>
                    </a:lnTo>
                    <a:lnTo>
                      <a:pt x="122" y="296"/>
                    </a:lnTo>
                    <a:lnTo>
                      <a:pt x="156" y="247"/>
                    </a:lnTo>
                    <a:lnTo>
                      <a:pt x="197" y="202"/>
                    </a:lnTo>
                    <a:lnTo>
                      <a:pt x="241" y="162"/>
                    </a:lnTo>
                    <a:lnTo>
                      <a:pt x="289" y="123"/>
                    </a:lnTo>
                    <a:lnTo>
                      <a:pt x="340" y="91"/>
                    </a:lnTo>
                    <a:lnTo>
                      <a:pt x="395" y="65"/>
                    </a:lnTo>
                    <a:lnTo>
                      <a:pt x="451" y="42"/>
                    </a:lnTo>
                    <a:lnTo>
                      <a:pt x="510" y="29"/>
                    </a:lnTo>
                    <a:lnTo>
                      <a:pt x="570" y="19"/>
                    </a:lnTo>
                    <a:lnTo>
                      <a:pt x="602" y="16"/>
                    </a:lnTo>
                    <a:lnTo>
                      <a:pt x="635" y="16"/>
                    </a:lnTo>
                    <a:lnTo>
                      <a:pt x="1371" y="16"/>
                    </a:lnTo>
                    <a:lnTo>
                      <a:pt x="1403" y="16"/>
                    </a:lnTo>
                    <a:lnTo>
                      <a:pt x="1436" y="19"/>
                    </a:lnTo>
                    <a:lnTo>
                      <a:pt x="1498" y="29"/>
                    </a:lnTo>
                    <a:lnTo>
                      <a:pt x="1557" y="42"/>
                    </a:lnTo>
                    <a:lnTo>
                      <a:pt x="1614" y="65"/>
                    </a:lnTo>
                    <a:lnTo>
                      <a:pt x="1668" y="91"/>
                    </a:lnTo>
                    <a:lnTo>
                      <a:pt x="1719" y="123"/>
                    </a:lnTo>
                    <a:lnTo>
                      <a:pt x="1765" y="162"/>
                    </a:lnTo>
                    <a:lnTo>
                      <a:pt x="1811" y="202"/>
                    </a:lnTo>
                    <a:lnTo>
                      <a:pt x="1849" y="247"/>
                    </a:lnTo>
                    <a:lnTo>
                      <a:pt x="1887" y="296"/>
                    </a:lnTo>
                    <a:lnTo>
                      <a:pt x="1916" y="348"/>
                    </a:lnTo>
                    <a:lnTo>
                      <a:pt x="1944" y="404"/>
                    </a:lnTo>
                    <a:lnTo>
                      <a:pt x="1962" y="464"/>
                    </a:lnTo>
                    <a:lnTo>
                      <a:pt x="1978" y="523"/>
                    </a:lnTo>
                    <a:lnTo>
                      <a:pt x="1990" y="588"/>
                    </a:lnTo>
                    <a:lnTo>
                      <a:pt x="1992" y="652"/>
                    </a:lnTo>
                    <a:lnTo>
                      <a:pt x="2000" y="652"/>
                    </a:lnTo>
                    <a:lnTo>
                      <a:pt x="2008" y="652"/>
                    </a:lnTo>
                    <a:lnTo>
                      <a:pt x="2008" y="620"/>
                    </a:lnTo>
                    <a:lnTo>
                      <a:pt x="2006" y="585"/>
                    </a:lnTo>
                    <a:lnTo>
                      <a:pt x="1995" y="521"/>
                    </a:lnTo>
                    <a:lnTo>
                      <a:pt x="1978" y="459"/>
                    </a:lnTo>
                    <a:lnTo>
                      <a:pt x="1957" y="399"/>
                    </a:lnTo>
                    <a:lnTo>
                      <a:pt x="1930" y="342"/>
                    </a:lnTo>
                    <a:lnTo>
                      <a:pt x="1900" y="288"/>
                    </a:lnTo>
                    <a:lnTo>
                      <a:pt x="1863" y="237"/>
                    </a:lnTo>
                    <a:lnTo>
                      <a:pt x="1822" y="191"/>
                    </a:lnTo>
                    <a:lnTo>
                      <a:pt x="1776" y="148"/>
                    </a:lnTo>
                    <a:lnTo>
                      <a:pt x="1728" y="111"/>
                    </a:lnTo>
                    <a:lnTo>
                      <a:pt x="1677" y="77"/>
                    </a:lnTo>
                    <a:lnTo>
                      <a:pt x="1620" y="51"/>
                    </a:lnTo>
                    <a:lnTo>
                      <a:pt x="1560" y="29"/>
                    </a:lnTo>
                    <a:lnTo>
                      <a:pt x="1530" y="19"/>
                    </a:lnTo>
                    <a:lnTo>
                      <a:pt x="1500" y="13"/>
                    </a:lnTo>
                    <a:lnTo>
                      <a:pt x="1468" y="8"/>
                    </a:lnTo>
                    <a:lnTo>
                      <a:pt x="1436" y="3"/>
                    </a:lnTo>
                    <a:lnTo>
                      <a:pt x="1403" y="0"/>
                    </a:lnTo>
                    <a:lnTo>
                      <a:pt x="1371" y="0"/>
                    </a:lnTo>
                    <a:lnTo>
                      <a:pt x="635" y="0"/>
                    </a:lnTo>
                    <a:lnTo>
                      <a:pt x="602" y="0"/>
                    </a:lnTo>
                    <a:lnTo>
                      <a:pt x="570" y="3"/>
                    </a:lnTo>
                    <a:lnTo>
                      <a:pt x="538" y="8"/>
                    </a:lnTo>
                    <a:lnTo>
                      <a:pt x="505" y="13"/>
                    </a:lnTo>
                    <a:lnTo>
                      <a:pt x="475" y="19"/>
                    </a:lnTo>
                    <a:lnTo>
                      <a:pt x="446" y="29"/>
                    </a:lnTo>
                    <a:lnTo>
                      <a:pt x="386" y="51"/>
                    </a:lnTo>
                    <a:lnTo>
                      <a:pt x="333" y="77"/>
                    </a:lnTo>
                    <a:lnTo>
                      <a:pt x="278" y="111"/>
                    </a:lnTo>
                    <a:lnTo>
                      <a:pt x="230" y="148"/>
                    </a:lnTo>
                    <a:lnTo>
                      <a:pt x="184" y="191"/>
                    </a:lnTo>
                    <a:lnTo>
                      <a:pt x="143" y="237"/>
                    </a:lnTo>
                    <a:lnTo>
                      <a:pt x="108" y="288"/>
                    </a:lnTo>
                    <a:lnTo>
                      <a:pt x="76" y="342"/>
                    </a:lnTo>
                    <a:lnTo>
                      <a:pt x="48" y="399"/>
                    </a:lnTo>
                    <a:lnTo>
                      <a:pt x="27" y="459"/>
                    </a:lnTo>
                    <a:lnTo>
                      <a:pt x="11" y="521"/>
                    </a:lnTo>
                    <a:lnTo>
                      <a:pt x="2" y="585"/>
                    </a:lnTo>
                    <a:lnTo>
                      <a:pt x="0" y="620"/>
                    </a:lnTo>
                    <a:lnTo>
                      <a:pt x="0" y="652"/>
                    </a:lnTo>
                    <a:lnTo>
                      <a:pt x="0" y="687"/>
                    </a:lnTo>
                    <a:lnTo>
                      <a:pt x="2" y="720"/>
                    </a:lnTo>
                    <a:lnTo>
                      <a:pt x="11" y="784"/>
                    </a:lnTo>
                    <a:lnTo>
                      <a:pt x="27" y="846"/>
                    </a:lnTo>
                    <a:lnTo>
                      <a:pt x="48" y="906"/>
                    </a:lnTo>
                    <a:lnTo>
                      <a:pt x="76" y="965"/>
                    </a:lnTo>
                    <a:lnTo>
                      <a:pt x="108" y="1019"/>
                    </a:lnTo>
                    <a:lnTo>
                      <a:pt x="143" y="1067"/>
                    </a:lnTo>
                    <a:lnTo>
                      <a:pt x="184" y="1113"/>
                    </a:lnTo>
                    <a:lnTo>
                      <a:pt x="230" y="1157"/>
                    </a:lnTo>
                    <a:lnTo>
                      <a:pt x="278" y="1194"/>
                    </a:lnTo>
                    <a:lnTo>
                      <a:pt x="333" y="1226"/>
                    </a:lnTo>
                    <a:lnTo>
                      <a:pt x="386" y="1254"/>
                    </a:lnTo>
                    <a:lnTo>
                      <a:pt x="446" y="1276"/>
                    </a:lnTo>
                    <a:lnTo>
                      <a:pt x="475" y="1286"/>
                    </a:lnTo>
                    <a:lnTo>
                      <a:pt x="505" y="1292"/>
                    </a:lnTo>
                    <a:lnTo>
                      <a:pt x="538" y="1300"/>
                    </a:lnTo>
                    <a:lnTo>
                      <a:pt x="570" y="1302"/>
                    </a:lnTo>
                    <a:lnTo>
                      <a:pt x="602" y="1305"/>
                    </a:lnTo>
                    <a:lnTo>
                      <a:pt x="635" y="1305"/>
                    </a:lnTo>
                    <a:lnTo>
                      <a:pt x="1371" y="1305"/>
                    </a:lnTo>
                    <a:lnTo>
                      <a:pt x="1403" y="1305"/>
                    </a:lnTo>
                    <a:lnTo>
                      <a:pt x="1436" y="1302"/>
                    </a:lnTo>
                    <a:lnTo>
                      <a:pt x="1468" y="1300"/>
                    </a:lnTo>
                    <a:lnTo>
                      <a:pt x="1500" y="1292"/>
                    </a:lnTo>
                    <a:lnTo>
                      <a:pt x="1530" y="1286"/>
                    </a:lnTo>
                    <a:lnTo>
                      <a:pt x="1560" y="1276"/>
                    </a:lnTo>
                    <a:lnTo>
                      <a:pt x="1620" y="1254"/>
                    </a:lnTo>
                    <a:lnTo>
                      <a:pt x="1677" y="1226"/>
                    </a:lnTo>
                    <a:lnTo>
                      <a:pt x="1728" y="1194"/>
                    </a:lnTo>
                    <a:lnTo>
                      <a:pt x="1776" y="1157"/>
                    </a:lnTo>
                    <a:lnTo>
                      <a:pt x="1822" y="1113"/>
                    </a:lnTo>
                    <a:lnTo>
                      <a:pt x="1863" y="1067"/>
                    </a:lnTo>
                    <a:lnTo>
                      <a:pt x="1900" y="1019"/>
                    </a:lnTo>
                    <a:lnTo>
                      <a:pt x="1930" y="965"/>
                    </a:lnTo>
                    <a:lnTo>
                      <a:pt x="1957" y="906"/>
                    </a:lnTo>
                    <a:lnTo>
                      <a:pt x="1978" y="846"/>
                    </a:lnTo>
                    <a:lnTo>
                      <a:pt x="1995" y="784"/>
                    </a:lnTo>
                    <a:lnTo>
                      <a:pt x="2006" y="720"/>
                    </a:lnTo>
                    <a:lnTo>
                      <a:pt x="2008" y="687"/>
                    </a:lnTo>
                    <a:lnTo>
                      <a:pt x="2008" y="652"/>
                    </a:lnTo>
                    <a:lnTo>
                      <a:pt x="2000" y="65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775880" y="3410280"/>
                <a:ext cx="253800" cy="155520"/>
              </a:xfrm>
              <a:custGeom>
                <a:avLst/>
                <a:gdLst/>
                <a:ahLst/>
                <a:rect l="l" t="t" r="r" b="b"/>
                <a:pathLst>
                  <a:path w="1647" h="1047">
                    <a:moveTo>
                      <a:pt x="1380" y="0"/>
                    </a:moveTo>
                    <a:lnTo>
                      <a:pt x="670" y="0"/>
                    </a:lnTo>
                    <a:lnTo>
                      <a:pt x="621" y="0"/>
                    </a:lnTo>
                    <a:lnTo>
                      <a:pt x="575" y="6"/>
                    </a:lnTo>
                    <a:lnTo>
                      <a:pt x="532" y="14"/>
                    </a:lnTo>
                    <a:lnTo>
                      <a:pt x="489" y="25"/>
                    </a:lnTo>
                    <a:lnTo>
                      <a:pt x="448" y="41"/>
                    </a:lnTo>
                    <a:lnTo>
                      <a:pt x="407" y="57"/>
                    </a:lnTo>
                    <a:lnTo>
                      <a:pt x="370" y="82"/>
                    </a:lnTo>
                    <a:lnTo>
                      <a:pt x="333" y="105"/>
                    </a:lnTo>
                    <a:lnTo>
                      <a:pt x="317" y="114"/>
                    </a:lnTo>
                    <a:lnTo>
                      <a:pt x="300" y="117"/>
                    </a:lnTo>
                    <a:lnTo>
                      <a:pt x="289" y="114"/>
                    </a:lnTo>
                    <a:lnTo>
                      <a:pt x="281" y="108"/>
                    </a:lnTo>
                    <a:lnTo>
                      <a:pt x="273" y="100"/>
                    </a:lnTo>
                    <a:lnTo>
                      <a:pt x="271" y="89"/>
                    </a:lnTo>
                    <a:lnTo>
                      <a:pt x="273" y="73"/>
                    </a:lnTo>
                    <a:lnTo>
                      <a:pt x="281" y="54"/>
                    </a:lnTo>
                    <a:lnTo>
                      <a:pt x="294" y="32"/>
                    </a:lnTo>
                    <a:lnTo>
                      <a:pt x="313" y="6"/>
                    </a:lnTo>
                    <a:lnTo>
                      <a:pt x="278" y="30"/>
                    </a:lnTo>
                    <a:lnTo>
                      <a:pt x="243" y="54"/>
                    </a:lnTo>
                    <a:lnTo>
                      <a:pt x="211" y="82"/>
                    </a:lnTo>
                    <a:lnTo>
                      <a:pt x="181" y="111"/>
                    </a:lnTo>
                    <a:lnTo>
                      <a:pt x="140" y="156"/>
                    </a:lnTo>
                    <a:lnTo>
                      <a:pt x="106" y="205"/>
                    </a:lnTo>
                    <a:lnTo>
                      <a:pt x="73" y="257"/>
                    </a:lnTo>
                    <a:lnTo>
                      <a:pt x="50" y="313"/>
                    </a:lnTo>
                    <a:lnTo>
                      <a:pt x="27" y="373"/>
                    </a:lnTo>
                    <a:lnTo>
                      <a:pt x="11" y="432"/>
                    </a:lnTo>
                    <a:lnTo>
                      <a:pt x="4" y="497"/>
                    </a:lnTo>
                    <a:lnTo>
                      <a:pt x="0" y="561"/>
                    </a:lnTo>
                    <a:lnTo>
                      <a:pt x="4" y="626"/>
                    </a:lnTo>
                    <a:lnTo>
                      <a:pt x="11" y="691"/>
                    </a:lnTo>
                    <a:lnTo>
                      <a:pt x="27" y="750"/>
                    </a:lnTo>
                    <a:lnTo>
                      <a:pt x="50" y="810"/>
                    </a:lnTo>
                    <a:lnTo>
                      <a:pt x="73" y="866"/>
                    </a:lnTo>
                    <a:lnTo>
                      <a:pt x="106" y="918"/>
                    </a:lnTo>
                    <a:lnTo>
                      <a:pt x="140" y="966"/>
                    </a:lnTo>
                    <a:lnTo>
                      <a:pt x="181" y="1012"/>
                    </a:lnTo>
                    <a:lnTo>
                      <a:pt x="216" y="1047"/>
                    </a:lnTo>
                    <a:lnTo>
                      <a:pt x="195" y="1006"/>
                    </a:lnTo>
                    <a:lnTo>
                      <a:pt x="173" y="966"/>
                    </a:lnTo>
                    <a:lnTo>
                      <a:pt x="157" y="925"/>
                    </a:lnTo>
                    <a:lnTo>
                      <a:pt x="144" y="882"/>
                    </a:lnTo>
                    <a:lnTo>
                      <a:pt x="133" y="836"/>
                    </a:lnTo>
                    <a:lnTo>
                      <a:pt x="124" y="791"/>
                    </a:lnTo>
                    <a:lnTo>
                      <a:pt x="119" y="745"/>
                    </a:lnTo>
                    <a:lnTo>
                      <a:pt x="117" y="697"/>
                    </a:lnTo>
                    <a:lnTo>
                      <a:pt x="119" y="661"/>
                    </a:lnTo>
                    <a:lnTo>
                      <a:pt x="119" y="629"/>
                    </a:lnTo>
                    <a:lnTo>
                      <a:pt x="130" y="564"/>
                    </a:lnTo>
                    <a:lnTo>
                      <a:pt x="146" y="502"/>
                    </a:lnTo>
                    <a:lnTo>
                      <a:pt x="168" y="440"/>
                    </a:lnTo>
                    <a:lnTo>
                      <a:pt x="195" y="384"/>
                    </a:lnTo>
                    <a:lnTo>
                      <a:pt x="225" y="329"/>
                    </a:lnTo>
                    <a:lnTo>
                      <a:pt x="262" y="281"/>
                    </a:lnTo>
                    <a:lnTo>
                      <a:pt x="303" y="232"/>
                    </a:lnTo>
                    <a:lnTo>
                      <a:pt x="349" y="191"/>
                    </a:lnTo>
                    <a:lnTo>
                      <a:pt x="397" y="154"/>
                    </a:lnTo>
                    <a:lnTo>
                      <a:pt x="448" y="122"/>
                    </a:lnTo>
                    <a:lnTo>
                      <a:pt x="505" y="94"/>
                    </a:lnTo>
                    <a:lnTo>
                      <a:pt x="564" y="71"/>
                    </a:lnTo>
                    <a:lnTo>
                      <a:pt x="594" y="62"/>
                    </a:lnTo>
                    <a:lnTo>
                      <a:pt x="624" y="54"/>
                    </a:lnTo>
                    <a:lnTo>
                      <a:pt x="656" y="48"/>
                    </a:lnTo>
                    <a:lnTo>
                      <a:pt x="688" y="46"/>
                    </a:lnTo>
                    <a:lnTo>
                      <a:pt x="718" y="43"/>
                    </a:lnTo>
                    <a:lnTo>
                      <a:pt x="754" y="41"/>
                    </a:lnTo>
                    <a:lnTo>
                      <a:pt x="1490" y="41"/>
                    </a:lnTo>
                    <a:lnTo>
                      <a:pt x="1530" y="43"/>
                    </a:lnTo>
                    <a:lnTo>
                      <a:pt x="1569" y="46"/>
                    </a:lnTo>
                    <a:lnTo>
                      <a:pt x="1609" y="54"/>
                    </a:lnTo>
                    <a:lnTo>
                      <a:pt x="1647" y="62"/>
                    </a:lnTo>
                    <a:lnTo>
                      <a:pt x="1615" y="48"/>
                    </a:lnTo>
                    <a:lnTo>
                      <a:pt x="1585" y="36"/>
                    </a:lnTo>
                    <a:lnTo>
                      <a:pt x="1553" y="25"/>
                    </a:lnTo>
                    <a:lnTo>
                      <a:pt x="1520" y="16"/>
                    </a:lnTo>
                    <a:lnTo>
                      <a:pt x="1484" y="9"/>
                    </a:lnTo>
                    <a:lnTo>
                      <a:pt x="1450" y="2"/>
                    </a:lnTo>
                    <a:lnTo>
                      <a:pt x="1415" y="0"/>
                    </a:lnTo>
                    <a:lnTo>
                      <a:pt x="1380" y="0"/>
                    </a:lnTo>
                    <a:close/>
                  </a:path>
                </a:pathLst>
              </a:custGeom>
              <a:solidFill>
                <a:srgbClr val="c9c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774080" y="3408480"/>
                <a:ext cx="52920" cy="160560"/>
              </a:xfrm>
              <a:custGeom>
                <a:avLst/>
                <a:gdLst/>
                <a:ahLst/>
                <a:rect l="l" t="t" r="r" b="b"/>
                <a:pathLst>
                  <a:path w="341" h="1082">
                    <a:moveTo>
                      <a:pt x="341" y="0"/>
                    </a:moveTo>
                    <a:lnTo>
                      <a:pt x="302" y="23"/>
                    </a:lnTo>
                    <a:lnTo>
                      <a:pt x="268" y="46"/>
                    </a:lnTo>
                    <a:lnTo>
                      <a:pt x="233" y="74"/>
                    </a:lnTo>
                    <a:lnTo>
                      <a:pt x="200" y="101"/>
                    </a:lnTo>
                    <a:lnTo>
                      <a:pt x="171" y="133"/>
                    </a:lnTo>
                    <a:lnTo>
                      <a:pt x="143" y="165"/>
                    </a:lnTo>
                    <a:lnTo>
                      <a:pt x="116" y="200"/>
                    </a:lnTo>
                    <a:lnTo>
                      <a:pt x="95" y="235"/>
                    </a:lnTo>
                    <a:lnTo>
                      <a:pt x="74" y="273"/>
                    </a:lnTo>
                    <a:lnTo>
                      <a:pt x="54" y="313"/>
                    </a:lnTo>
                    <a:lnTo>
                      <a:pt x="38" y="354"/>
                    </a:lnTo>
                    <a:lnTo>
                      <a:pt x="24" y="394"/>
                    </a:lnTo>
                    <a:lnTo>
                      <a:pt x="14" y="440"/>
                    </a:lnTo>
                    <a:lnTo>
                      <a:pt x="6" y="484"/>
                    </a:lnTo>
                    <a:lnTo>
                      <a:pt x="0" y="529"/>
                    </a:lnTo>
                    <a:lnTo>
                      <a:pt x="0" y="575"/>
                    </a:lnTo>
                    <a:lnTo>
                      <a:pt x="0" y="613"/>
                    </a:lnTo>
                    <a:lnTo>
                      <a:pt x="3" y="651"/>
                    </a:lnTo>
                    <a:lnTo>
                      <a:pt x="8" y="688"/>
                    </a:lnTo>
                    <a:lnTo>
                      <a:pt x="17" y="727"/>
                    </a:lnTo>
                    <a:lnTo>
                      <a:pt x="24" y="762"/>
                    </a:lnTo>
                    <a:lnTo>
                      <a:pt x="35" y="797"/>
                    </a:lnTo>
                    <a:lnTo>
                      <a:pt x="49" y="829"/>
                    </a:lnTo>
                    <a:lnTo>
                      <a:pt x="65" y="864"/>
                    </a:lnTo>
                    <a:lnTo>
                      <a:pt x="81" y="893"/>
                    </a:lnTo>
                    <a:lnTo>
                      <a:pt x="100" y="926"/>
                    </a:lnTo>
                    <a:lnTo>
                      <a:pt x="119" y="956"/>
                    </a:lnTo>
                    <a:lnTo>
                      <a:pt x="141" y="983"/>
                    </a:lnTo>
                    <a:lnTo>
                      <a:pt x="162" y="1010"/>
                    </a:lnTo>
                    <a:lnTo>
                      <a:pt x="187" y="1036"/>
                    </a:lnTo>
                    <a:lnTo>
                      <a:pt x="213" y="1061"/>
                    </a:lnTo>
                    <a:lnTo>
                      <a:pt x="240" y="1082"/>
                    </a:lnTo>
                    <a:lnTo>
                      <a:pt x="224" y="1061"/>
                    </a:lnTo>
                    <a:lnTo>
                      <a:pt x="189" y="1026"/>
                    </a:lnTo>
                    <a:lnTo>
                      <a:pt x="148" y="980"/>
                    </a:lnTo>
                    <a:lnTo>
                      <a:pt x="114" y="932"/>
                    </a:lnTo>
                    <a:lnTo>
                      <a:pt x="81" y="880"/>
                    </a:lnTo>
                    <a:lnTo>
                      <a:pt x="58" y="824"/>
                    </a:lnTo>
                    <a:lnTo>
                      <a:pt x="35" y="764"/>
                    </a:lnTo>
                    <a:lnTo>
                      <a:pt x="19" y="705"/>
                    </a:lnTo>
                    <a:lnTo>
                      <a:pt x="12" y="640"/>
                    </a:lnTo>
                    <a:lnTo>
                      <a:pt x="8" y="575"/>
                    </a:lnTo>
                    <a:lnTo>
                      <a:pt x="12" y="511"/>
                    </a:lnTo>
                    <a:lnTo>
                      <a:pt x="19" y="446"/>
                    </a:lnTo>
                    <a:lnTo>
                      <a:pt x="35" y="387"/>
                    </a:lnTo>
                    <a:lnTo>
                      <a:pt x="58" y="327"/>
                    </a:lnTo>
                    <a:lnTo>
                      <a:pt x="81" y="271"/>
                    </a:lnTo>
                    <a:lnTo>
                      <a:pt x="114" y="219"/>
                    </a:lnTo>
                    <a:lnTo>
                      <a:pt x="148" y="170"/>
                    </a:lnTo>
                    <a:lnTo>
                      <a:pt x="189" y="125"/>
                    </a:lnTo>
                    <a:lnTo>
                      <a:pt x="219" y="96"/>
                    </a:lnTo>
                    <a:lnTo>
                      <a:pt x="251" y="68"/>
                    </a:lnTo>
                    <a:lnTo>
                      <a:pt x="286" y="44"/>
                    </a:lnTo>
                    <a:lnTo>
                      <a:pt x="321" y="20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6437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94600" y="3418560"/>
                <a:ext cx="308160" cy="191520"/>
              </a:xfrm>
              <a:custGeom>
                <a:avLst/>
                <a:gdLst/>
                <a:ahLst/>
                <a:rect l="l" t="t" r="r" b="b"/>
                <a:pathLst>
                  <a:path w="1992" h="1292">
                    <a:moveTo>
                      <a:pt x="1992" y="649"/>
                    </a:moveTo>
                    <a:lnTo>
                      <a:pt x="1992" y="681"/>
                    </a:lnTo>
                    <a:lnTo>
                      <a:pt x="1990" y="713"/>
                    </a:lnTo>
                    <a:lnTo>
                      <a:pt x="1981" y="778"/>
                    </a:lnTo>
                    <a:lnTo>
                      <a:pt x="1965" y="840"/>
                    </a:lnTo>
                    <a:lnTo>
                      <a:pt x="1944" y="900"/>
                    </a:lnTo>
                    <a:lnTo>
                      <a:pt x="1917" y="956"/>
                    </a:lnTo>
                    <a:lnTo>
                      <a:pt x="1887" y="1009"/>
                    </a:lnTo>
                    <a:lnTo>
                      <a:pt x="1850" y="1059"/>
                    </a:lnTo>
                    <a:lnTo>
                      <a:pt x="1809" y="1105"/>
                    </a:lnTo>
                    <a:lnTo>
                      <a:pt x="1765" y="1145"/>
                    </a:lnTo>
                    <a:lnTo>
                      <a:pt x="1717" y="1182"/>
                    </a:lnTo>
                    <a:lnTo>
                      <a:pt x="1666" y="1215"/>
                    </a:lnTo>
                    <a:lnTo>
                      <a:pt x="1609" y="1241"/>
                    </a:lnTo>
                    <a:lnTo>
                      <a:pt x="1553" y="1264"/>
                    </a:lnTo>
                    <a:lnTo>
                      <a:pt x="1493" y="1280"/>
                    </a:lnTo>
                    <a:lnTo>
                      <a:pt x="1461" y="1285"/>
                    </a:lnTo>
                    <a:lnTo>
                      <a:pt x="1431" y="1290"/>
                    </a:lnTo>
                    <a:lnTo>
                      <a:pt x="1399" y="1292"/>
                    </a:lnTo>
                    <a:lnTo>
                      <a:pt x="1366" y="1292"/>
                    </a:lnTo>
                    <a:lnTo>
                      <a:pt x="630" y="1292"/>
                    </a:lnTo>
                    <a:lnTo>
                      <a:pt x="598" y="1292"/>
                    </a:lnTo>
                    <a:lnTo>
                      <a:pt x="564" y="1290"/>
                    </a:lnTo>
                    <a:lnTo>
                      <a:pt x="532" y="1285"/>
                    </a:lnTo>
                    <a:lnTo>
                      <a:pt x="502" y="1280"/>
                    </a:lnTo>
                    <a:lnTo>
                      <a:pt x="444" y="1264"/>
                    </a:lnTo>
                    <a:lnTo>
                      <a:pt x="384" y="1241"/>
                    </a:lnTo>
                    <a:lnTo>
                      <a:pt x="329" y="1215"/>
                    </a:lnTo>
                    <a:lnTo>
                      <a:pt x="278" y="1182"/>
                    </a:lnTo>
                    <a:lnTo>
                      <a:pt x="230" y="1145"/>
                    </a:lnTo>
                    <a:lnTo>
                      <a:pt x="184" y="1105"/>
                    </a:lnTo>
                    <a:lnTo>
                      <a:pt x="143" y="1059"/>
                    </a:lnTo>
                    <a:lnTo>
                      <a:pt x="108" y="1009"/>
                    </a:lnTo>
                    <a:lnTo>
                      <a:pt x="76" y="956"/>
                    </a:lnTo>
                    <a:lnTo>
                      <a:pt x="52" y="900"/>
                    </a:lnTo>
                    <a:lnTo>
                      <a:pt x="30" y="840"/>
                    </a:lnTo>
                    <a:lnTo>
                      <a:pt x="14" y="778"/>
                    </a:lnTo>
                    <a:lnTo>
                      <a:pt x="3" y="713"/>
                    </a:lnTo>
                    <a:lnTo>
                      <a:pt x="3" y="681"/>
                    </a:lnTo>
                    <a:lnTo>
                      <a:pt x="0" y="649"/>
                    </a:lnTo>
                    <a:lnTo>
                      <a:pt x="3" y="615"/>
                    </a:lnTo>
                    <a:lnTo>
                      <a:pt x="3" y="581"/>
                    </a:lnTo>
                    <a:lnTo>
                      <a:pt x="14" y="518"/>
                    </a:lnTo>
                    <a:lnTo>
                      <a:pt x="30" y="456"/>
                    </a:lnTo>
                    <a:lnTo>
                      <a:pt x="52" y="398"/>
                    </a:lnTo>
                    <a:lnTo>
                      <a:pt x="76" y="341"/>
                    </a:lnTo>
                    <a:lnTo>
                      <a:pt x="108" y="287"/>
                    </a:lnTo>
                    <a:lnTo>
                      <a:pt x="143" y="239"/>
                    </a:lnTo>
                    <a:lnTo>
                      <a:pt x="184" y="193"/>
                    </a:lnTo>
                    <a:lnTo>
                      <a:pt x="230" y="149"/>
                    </a:lnTo>
                    <a:lnTo>
                      <a:pt x="278" y="111"/>
                    </a:lnTo>
                    <a:lnTo>
                      <a:pt x="329" y="79"/>
                    </a:lnTo>
                    <a:lnTo>
                      <a:pt x="384" y="52"/>
                    </a:lnTo>
                    <a:lnTo>
                      <a:pt x="444" y="30"/>
                    </a:lnTo>
                    <a:lnTo>
                      <a:pt x="502" y="14"/>
                    </a:lnTo>
                    <a:lnTo>
                      <a:pt x="532" y="9"/>
                    </a:lnTo>
                    <a:lnTo>
                      <a:pt x="564" y="6"/>
                    </a:lnTo>
                    <a:lnTo>
                      <a:pt x="598" y="4"/>
                    </a:lnTo>
                    <a:lnTo>
                      <a:pt x="630" y="0"/>
                    </a:lnTo>
                    <a:lnTo>
                      <a:pt x="1366" y="0"/>
                    </a:lnTo>
                    <a:lnTo>
                      <a:pt x="1399" y="4"/>
                    </a:lnTo>
                    <a:lnTo>
                      <a:pt x="1431" y="6"/>
                    </a:lnTo>
                    <a:lnTo>
                      <a:pt x="1461" y="9"/>
                    </a:lnTo>
                    <a:lnTo>
                      <a:pt x="1493" y="14"/>
                    </a:lnTo>
                    <a:lnTo>
                      <a:pt x="1553" y="30"/>
                    </a:lnTo>
                    <a:lnTo>
                      <a:pt x="1609" y="52"/>
                    </a:lnTo>
                    <a:lnTo>
                      <a:pt x="1666" y="79"/>
                    </a:lnTo>
                    <a:lnTo>
                      <a:pt x="1717" y="111"/>
                    </a:lnTo>
                    <a:lnTo>
                      <a:pt x="1765" y="149"/>
                    </a:lnTo>
                    <a:lnTo>
                      <a:pt x="1809" y="193"/>
                    </a:lnTo>
                    <a:lnTo>
                      <a:pt x="1850" y="239"/>
                    </a:lnTo>
                    <a:lnTo>
                      <a:pt x="1887" y="287"/>
                    </a:lnTo>
                    <a:lnTo>
                      <a:pt x="1917" y="341"/>
                    </a:lnTo>
                    <a:lnTo>
                      <a:pt x="1944" y="398"/>
                    </a:lnTo>
                    <a:lnTo>
                      <a:pt x="1965" y="456"/>
                    </a:lnTo>
                    <a:lnTo>
                      <a:pt x="1981" y="518"/>
                    </a:lnTo>
                    <a:lnTo>
                      <a:pt x="1990" y="581"/>
                    </a:lnTo>
                    <a:lnTo>
                      <a:pt x="1992" y="615"/>
                    </a:lnTo>
                    <a:lnTo>
                      <a:pt x="1992" y="649"/>
                    </a:lnTo>
                    <a:close/>
                  </a:path>
                </a:pathLst>
              </a:custGeom>
              <a:solidFill>
                <a:srgbClr val="d9e1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3160" y="3416760"/>
                <a:ext cx="311760" cy="195120"/>
              </a:xfrm>
              <a:custGeom>
                <a:avLst/>
                <a:gdLst/>
                <a:ahLst/>
                <a:rect l="l" t="t" r="r" b="b"/>
                <a:pathLst>
                  <a:path w="2007" h="1308">
                    <a:moveTo>
                      <a:pt x="1999" y="656"/>
                    </a:moveTo>
                    <a:lnTo>
                      <a:pt x="1991" y="656"/>
                    </a:lnTo>
                    <a:lnTo>
                      <a:pt x="1988" y="720"/>
                    </a:lnTo>
                    <a:lnTo>
                      <a:pt x="1981" y="782"/>
                    </a:lnTo>
                    <a:lnTo>
                      <a:pt x="1965" y="845"/>
                    </a:lnTo>
                    <a:lnTo>
                      <a:pt x="1942" y="903"/>
                    </a:lnTo>
                    <a:lnTo>
                      <a:pt x="1919" y="958"/>
                    </a:lnTo>
                    <a:lnTo>
                      <a:pt x="1885" y="1011"/>
                    </a:lnTo>
                    <a:lnTo>
                      <a:pt x="1851" y="1060"/>
                    </a:lnTo>
                    <a:lnTo>
                      <a:pt x="1811" y="1106"/>
                    </a:lnTo>
                    <a:lnTo>
                      <a:pt x="1767" y="1146"/>
                    </a:lnTo>
                    <a:lnTo>
                      <a:pt x="1719" y="1184"/>
                    </a:lnTo>
                    <a:lnTo>
                      <a:pt x="1668" y="1216"/>
                    </a:lnTo>
                    <a:lnTo>
                      <a:pt x="1613" y="1243"/>
                    </a:lnTo>
                    <a:lnTo>
                      <a:pt x="1556" y="1262"/>
                    </a:lnTo>
                    <a:lnTo>
                      <a:pt x="1498" y="1278"/>
                    </a:lnTo>
                    <a:lnTo>
                      <a:pt x="1438" y="1289"/>
                    </a:lnTo>
                    <a:lnTo>
                      <a:pt x="1406" y="1292"/>
                    </a:lnTo>
                    <a:lnTo>
                      <a:pt x="1373" y="1292"/>
                    </a:lnTo>
                    <a:lnTo>
                      <a:pt x="637" y="1292"/>
                    </a:lnTo>
                    <a:lnTo>
                      <a:pt x="605" y="1292"/>
                    </a:lnTo>
                    <a:lnTo>
                      <a:pt x="571" y="1289"/>
                    </a:lnTo>
                    <a:lnTo>
                      <a:pt x="509" y="1278"/>
                    </a:lnTo>
                    <a:lnTo>
                      <a:pt x="451" y="1262"/>
                    </a:lnTo>
                    <a:lnTo>
                      <a:pt x="393" y="1243"/>
                    </a:lnTo>
                    <a:lnTo>
                      <a:pt x="340" y="1216"/>
                    </a:lnTo>
                    <a:lnTo>
                      <a:pt x="288" y="1184"/>
                    </a:lnTo>
                    <a:lnTo>
                      <a:pt x="242" y="1146"/>
                    </a:lnTo>
                    <a:lnTo>
                      <a:pt x="196" y="1106"/>
                    </a:lnTo>
                    <a:lnTo>
                      <a:pt x="159" y="1060"/>
                    </a:lnTo>
                    <a:lnTo>
                      <a:pt x="121" y="1011"/>
                    </a:lnTo>
                    <a:lnTo>
                      <a:pt x="92" y="958"/>
                    </a:lnTo>
                    <a:lnTo>
                      <a:pt x="64" y="903"/>
                    </a:lnTo>
                    <a:lnTo>
                      <a:pt x="46" y="845"/>
                    </a:lnTo>
                    <a:lnTo>
                      <a:pt x="29" y="782"/>
                    </a:lnTo>
                    <a:lnTo>
                      <a:pt x="18" y="720"/>
                    </a:lnTo>
                    <a:lnTo>
                      <a:pt x="16" y="656"/>
                    </a:lnTo>
                    <a:lnTo>
                      <a:pt x="18" y="590"/>
                    </a:lnTo>
                    <a:lnTo>
                      <a:pt x="29" y="525"/>
                    </a:lnTo>
                    <a:lnTo>
                      <a:pt x="46" y="463"/>
                    </a:lnTo>
                    <a:lnTo>
                      <a:pt x="64" y="407"/>
                    </a:lnTo>
                    <a:lnTo>
                      <a:pt x="92" y="350"/>
                    </a:lnTo>
                    <a:lnTo>
                      <a:pt x="121" y="299"/>
                    </a:lnTo>
                    <a:lnTo>
                      <a:pt x="159" y="248"/>
                    </a:lnTo>
                    <a:lnTo>
                      <a:pt x="196" y="205"/>
                    </a:lnTo>
                    <a:lnTo>
                      <a:pt x="242" y="161"/>
                    </a:lnTo>
                    <a:lnTo>
                      <a:pt x="288" y="127"/>
                    </a:lnTo>
                    <a:lnTo>
                      <a:pt x="340" y="94"/>
                    </a:lnTo>
                    <a:lnTo>
                      <a:pt x="393" y="67"/>
                    </a:lnTo>
                    <a:lnTo>
                      <a:pt x="451" y="46"/>
                    </a:lnTo>
                    <a:lnTo>
                      <a:pt x="509" y="30"/>
                    </a:lnTo>
                    <a:lnTo>
                      <a:pt x="541" y="24"/>
                    </a:lnTo>
                    <a:lnTo>
                      <a:pt x="571" y="21"/>
                    </a:lnTo>
                    <a:lnTo>
                      <a:pt x="605" y="19"/>
                    </a:lnTo>
                    <a:lnTo>
                      <a:pt x="637" y="16"/>
                    </a:lnTo>
                    <a:lnTo>
                      <a:pt x="1373" y="16"/>
                    </a:lnTo>
                    <a:lnTo>
                      <a:pt x="1406" y="19"/>
                    </a:lnTo>
                    <a:lnTo>
                      <a:pt x="1438" y="21"/>
                    </a:lnTo>
                    <a:lnTo>
                      <a:pt x="1468" y="24"/>
                    </a:lnTo>
                    <a:lnTo>
                      <a:pt x="1498" y="30"/>
                    </a:lnTo>
                    <a:lnTo>
                      <a:pt x="1556" y="46"/>
                    </a:lnTo>
                    <a:lnTo>
                      <a:pt x="1613" y="67"/>
                    </a:lnTo>
                    <a:lnTo>
                      <a:pt x="1668" y="94"/>
                    </a:lnTo>
                    <a:lnTo>
                      <a:pt x="1719" y="127"/>
                    </a:lnTo>
                    <a:lnTo>
                      <a:pt x="1767" y="161"/>
                    </a:lnTo>
                    <a:lnTo>
                      <a:pt x="1811" y="205"/>
                    </a:lnTo>
                    <a:lnTo>
                      <a:pt x="1851" y="248"/>
                    </a:lnTo>
                    <a:lnTo>
                      <a:pt x="1885" y="299"/>
                    </a:lnTo>
                    <a:lnTo>
                      <a:pt x="1919" y="350"/>
                    </a:lnTo>
                    <a:lnTo>
                      <a:pt x="1942" y="407"/>
                    </a:lnTo>
                    <a:lnTo>
                      <a:pt x="1965" y="463"/>
                    </a:lnTo>
                    <a:lnTo>
                      <a:pt x="1981" y="525"/>
                    </a:lnTo>
                    <a:lnTo>
                      <a:pt x="1988" y="590"/>
                    </a:lnTo>
                    <a:lnTo>
                      <a:pt x="1991" y="656"/>
                    </a:lnTo>
                    <a:lnTo>
                      <a:pt x="1999" y="656"/>
                    </a:lnTo>
                    <a:lnTo>
                      <a:pt x="2007" y="656"/>
                    </a:lnTo>
                    <a:lnTo>
                      <a:pt x="2007" y="620"/>
                    </a:lnTo>
                    <a:lnTo>
                      <a:pt x="2005" y="588"/>
                    </a:lnTo>
                    <a:lnTo>
                      <a:pt x="1997" y="523"/>
                    </a:lnTo>
                    <a:lnTo>
                      <a:pt x="1981" y="461"/>
                    </a:lnTo>
                    <a:lnTo>
                      <a:pt x="1959" y="399"/>
                    </a:lnTo>
                    <a:lnTo>
                      <a:pt x="1931" y="343"/>
                    </a:lnTo>
                    <a:lnTo>
                      <a:pt x="1899" y="288"/>
                    </a:lnTo>
                    <a:lnTo>
                      <a:pt x="1864" y="240"/>
                    </a:lnTo>
                    <a:lnTo>
                      <a:pt x="1824" y="191"/>
                    </a:lnTo>
                    <a:lnTo>
                      <a:pt x="1778" y="150"/>
                    </a:lnTo>
                    <a:lnTo>
                      <a:pt x="1730" y="113"/>
                    </a:lnTo>
                    <a:lnTo>
                      <a:pt x="1675" y="81"/>
                    </a:lnTo>
                    <a:lnTo>
                      <a:pt x="1622" y="53"/>
                    </a:lnTo>
                    <a:lnTo>
                      <a:pt x="1562" y="30"/>
                    </a:lnTo>
                    <a:lnTo>
                      <a:pt x="1532" y="21"/>
                    </a:lnTo>
                    <a:lnTo>
                      <a:pt x="1500" y="13"/>
                    </a:lnTo>
                    <a:lnTo>
                      <a:pt x="1470" y="7"/>
                    </a:lnTo>
                    <a:lnTo>
                      <a:pt x="1438" y="5"/>
                    </a:lnTo>
                    <a:lnTo>
                      <a:pt x="1406" y="2"/>
                    </a:lnTo>
                    <a:lnTo>
                      <a:pt x="1373" y="0"/>
                    </a:lnTo>
                    <a:lnTo>
                      <a:pt x="637" y="0"/>
                    </a:lnTo>
                    <a:lnTo>
                      <a:pt x="601" y="2"/>
                    </a:lnTo>
                    <a:lnTo>
                      <a:pt x="571" y="5"/>
                    </a:lnTo>
                    <a:lnTo>
                      <a:pt x="539" y="7"/>
                    </a:lnTo>
                    <a:lnTo>
                      <a:pt x="507" y="13"/>
                    </a:lnTo>
                    <a:lnTo>
                      <a:pt x="477" y="21"/>
                    </a:lnTo>
                    <a:lnTo>
                      <a:pt x="447" y="30"/>
                    </a:lnTo>
                    <a:lnTo>
                      <a:pt x="388" y="53"/>
                    </a:lnTo>
                    <a:lnTo>
                      <a:pt x="331" y="81"/>
                    </a:lnTo>
                    <a:lnTo>
                      <a:pt x="280" y="113"/>
                    </a:lnTo>
                    <a:lnTo>
                      <a:pt x="232" y="150"/>
                    </a:lnTo>
                    <a:lnTo>
                      <a:pt x="186" y="191"/>
                    </a:lnTo>
                    <a:lnTo>
                      <a:pt x="145" y="240"/>
                    </a:lnTo>
                    <a:lnTo>
                      <a:pt x="108" y="288"/>
                    </a:lnTo>
                    <a:lnTo>
                      <a:pt x="78" y="343"/>
                    </a:lnTo>
                    <a:lnTo>
                      <a:pt x="51" y="399"/>
                    </a:lnTo>
                    <a:lnTo>
                      <a:pt x="29" y="461"/>
                    </a:lnTo>
                    <a:lnTo>
                      <a:pt x="13" y="523"/>
                    </a:lnTo>
                    <a:lnTo>
                      <a:pt x="2" y="588"/>
                    </a:lnTo>
                    <a:lnTo>
                      <a:pt x="2" y="620"/>
                    </a:lnTo>
                    <a:lnTo>
                      <a:pt x="0" y="656"/>
                    </a:lnTo>
                    <a:lnTo>
                      <a:pt x="2" y="688"/>
                    </a:lnTo>
                    <a:lnTo>
                      <a:pt x="2" y="723"/>
                    </a:lnTo>
                    <a:lnTo>
                      <a:pt x="13" y="787"/>
                    </a:lnTo>
                    <a:lnTo>
                      <a:pt x="29" y="850"/>
                    </a:lnTo>
                    <a:lnTo>
                      <a:pt x="51" y="909"/>
                    </a:lnTo>
                    <a:lnTo>
                      <a:pt x="78" y="965"/>
                    </a:lnTo>
                    <a:lnTo>
                      <a:pt x="108" y="1020"/>
                    </a:lnTo>
                    <a:lnTo>
                      <a:pt x="145" y="1071"/>
                    </a:lnTo>
                    <a:lnTo>
                      <a:pt x="186" y="1117"/>
                    </a:lnTo>
                    <a:lnTo>
                      <a:pt x="232" y="1160"/>
                    </a:lnTo>
                    <a:lnTo>
                      <a:pt x="280" y="1197"/>
                    </a:lnTo>
                    <a:lnTo>
                      <a:pt x="331" y="1230"/>
                    </a:lnTo>
                    <a:lnTo>
                      <a:pt x="388" y="1257"/>
                    </a:lnTo>
                    <a:lnTo>
                      <a:pt x="447" y="1278"/>
                    </a:lnTo>
                    <a:lnTo>
                      <a:pt x="477" y="1287"/>
                    </a:lnTo>
                    <a:lnTo>
                      <a:pt x="507" y="1294"/>
                    </a:lnTo>
                    <a:lnTo>
                      <a:pt x="539" y="1299"/>
                    </a:lnTo>
                    <a:lnTo>
                      <a:pt x="571" y="1306"/>
                    </a:lnTo>
                    <a:lnTo>
                      <a:pt x="601" y="1308"/>
                    </a:lnTo>
                    <a:lnTo>
                      <a:pt x="637" y="1308"/>
                    </a:lnTo>
                    <a:lnTo>
                      <a:pt x="1373" y="1308"/>
                    </a:lnTo>
                    <a:lnTo>
                      <a:pt x="1406" y="1308"/>
                    </a:lnTo>
                    <a:lnTo>
                      <a:pt x="1438" y="1306"/>
                    </a:lnTo>
                    <a:lnTo>
                      <a:pt x="1470" y="1299"/>
                    </a:lnTo>
                    <a:lnTo>
                      <a:pt x="1500" y="1294"/>
                    </a:lnTo>
                    <a:lnTo>
                      <a:pt x="1532" y="1287"/>
                    </a:lnTo>
                    <a:lnTo>
                      <a:pt x="1562" y="1278"/>
                    </a:lnTo>
                    <a:lnTo>
                      <a:pt x="1622" y="1257"/>
                    </a:lnTo>
                    <a:lnTo>
                      <a:pt x="1675" y="1230"/>
                    </a:lnTo>
                    <a:lnTo>
                      <a:pt x="1730" y="1197"/>
                    </a:lnTo>
                    <a:lnTo>
                      <a:pt x="1778" y="1160"/>
                    </a:lnTo>
                    <a:lnTo>
                      <a:pt x="1824" y="1117"/>
                    </a:lnTo>
                    <a:lnTo>
                      <a:pt x="1864" y="1071"/>
                    </a:lnTo>
                    <a:lnTo>
                      <a:pt x="1899" y="1020"/>
                    </a:lnTo>
                    <a:lnTo>
                      <a:pt x="1931" y="965"/>
                    </a:lnTo>
                    <a:lnTo>
                      <a:pt x="1959" y="909"/>
                    </a:lnTo>
                    <a:lnTo>
                      <a:pt x="1981" y="850"/>
                    </a:lnTo>
                    <a:lnTo>
                      <a:pt x="1997" y="787"/>
                    </a:lnTo>
                    <a:lnTo>
                      <a:pt x="2005" y="723"/>
                    </a:lnTo>
                    <a:lnTo>
                      <a:pt x="2007" y="688"/>
                    </a:lnTo>
                    <a:lnTo>
                      <a:pt x="2007" y="656"/>
                    </a:lnTo>
                    <a:lnTo>
                      <a:pt x="1999" y="656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796040" y="3456000"/>
                <a:ext cx="86760" cy="152280"/>
              </a:xfrm>
              <a:custGeom>
                <a:avLst/>
                <a:gdLst/>
                <a:ahLst/>
                <a:rect l="l" t="t" r="r" b="b"/>
                <a:pathLst>
                  <a:path w="561" h="1022">
                    <a:moveTo>
                      <a:pt x="129" y="0"/>
                    </a:moveTo>
                    <a:lnTo>
                      <a:pt x="99" y="40"/>
                    </a:lnTo>
                    <a:lnTo>
                      <a:pt x="76" y="83"/>
                    </a:lnTo>
                    <a:lnTo>
                      <a:pt x="53" y="132"/>
                    </a:lnTo>
                    <a:lnTo>
                      <a:pt x="35" y="178"/>
                    </a:lnTo>
                    <a:lnTo>
                      <a:pt x="18" y="229"/>
                    </a:lnTo>
                    <a:lnTo>
                      <a:pt x="7" y="281"/>
                    </a:lnTo>
                    <a:lnTo>
                      <a:pt x="2" y="334"/>
                    </a:lnTo>
                    <a:lnTo>
                      <a:pt x="0" y="389"/>
                    </a:lnTo>
                    <a:lnTo>
                      <a:pt x="2" y="453"/>
                    </a:lnTo>
                    <a:lnTo>
                      <a:pt x="13" y="515"/>
                    </a:lnTo>
                    <a:lnTo>
                      <a:pt x="30" y="578"/>
                    </a:lnTo>
                    <a:lnTo>
                      <a:pt x="48" y="636"/>
                    </a:lnTo>
                    <a:lnTo>
                      <a:pt x="76" y="691"/>
                    </a:lnTo>
                    <a:lnTo>
                      <a:pt x="105" y="744"/>
                    </a:lnTo>
                    <a:lnTo>
                      <a:pt x="143" y="793"/>
                    </a:lnTo>
                    <a:lnTo>
                      <a:pt x="180" y="839"/>
                    </a:lnTo>
                    <a:lnTo>
                      <a:pt x="221" y="873"/>
                    </a:lnTo>
                    <a:lnTo>
                      <a:pt x="262" y="909"/>
                    </a:lnTo>
                    <a:lnTo>
                      <a:pt x="308" y="938"/>
                    </a:lnTo>
                    <a:lnTo>
                      <a:pt x="353" y="963"/>
                    </a:lnTo>
                    <a:lnTo>
                      <a:pt x="402" y="984"/>
                    </a:lnTo>
                    <a:lnTo>
                      <a:pt x="453" y="1000"/>
                    </a:lnTo>
                    <a:lnTo>
                      <a:pt x="507" y="1014"/>
                    </a:lnTo>
                    <a:lnTo>
                      <a:pt x="561" y="1022"/>
                    </a:lnTo>
                    <a:lnTo>
                      <a:pt x="513" y="1009"/>
                    </a:lnTo>
                    <a:lnTo>
                      <a:pt x="469" y="990"/>
                    </a:lnTo>
                    <a:lnTo>
                      <a:pt x="426" y="968"/>
                    </a:lnTo>
                    <a:lnTo>
                      <a:pt x="383" y="944"/>
                    </a:lnTo>
                    <a:lnTo>
                      <a:pt x="345" y="914"/>
                    </a:lnTo>
                    <a:lnTo>
                      <a:pt x="308" y="885"/>
                    </a:lnTo>
                    <a:lnTo>
                      <a:pt x="274" y="850"/>
                    </a:lnTo>
                    <a:lnTo>
                      <a:pt x="242" y="815"/>
                    </a:lnTo>
                    <a:lnTo>
                      <a:pt x="216" y="774"/>
                    </a:lnTo>
                    <a:lnTo>
                      <a:pt x="191" y="733"/>
                    </a:lnTo>
                    <a:lnTo>
                      <a:pt x="170" y="691"/>
                    </a:lnTo>
                    <a:lnTo>
                      <a:pt x="150" y="645"/>
                    </a:lnTo>
                    <a:lnTo>
                      <a:pt x="138" y="599"/>
                    </a:lnTo>
                    <a:lnTo>
                      <a:pt x="127" y="550"/>
                    </a:lnTo>
                    <a:lnTo>
                      <a:pt x="118" y="499"/>
                    </a:lnTo>
                    <a:lnTo>
                      <a:pt x="118" y="447"/>
                    </a:lnTo>
                    <a:lnTo>
                      <a:pt x="118" y="396"/>
                    </a:lnTo>
                    <a:lnTo>
                      <a:pt x="127" y="348"/>
                    </a:lnTo>
                    <a:lnTo>
                      <a:pt x="134" y="299"/>
                    </a:lnTo>
                    <a:lnTo>
                      <a:pt x="150" y="253"/>
                    </a:lnTo>
                    <a:lnTo>
                      <a:pt x="167" y="210"/>
                    </a:lnTo>
                    <a:lnTo>
                      <a:pt x="189" y="168"/>
                    </a:lnTo>
                    <a:lnTo>
                      <a:pt x="212" y="127"/>
                    </a:lnTo>
                    <a:lnTo>
                      <a:pt x="240" y="86"/>
                    </a:lnTo>
                    <a:lnTo>
                      <a:pt x="184" y="4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794600" y="345456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621" h="1041">
                    <a:moveTo>
                      <a:pt x="133" y="0"/>
                    </a:moveTo>
                    <a:lnTo>
                      <a:pt x="103" y="44"/>
                    </a:lnTo>
                    <a:lnTo>
                      <a:pt x="79" y="90"/>
                    </a:lnTo>
                    <a:lnTo>
                      <a:pt x="55" y="136"/>
                    </a:lnTo>
                    <a:lnTo>
                      <a:pt x="36" y="184"/>
                    </a:lnTo>
                    <a:lnTo>
                      <a:pt x="22" y="235"/>
                    </a:lnTo>
                    <a:lnTo>
                      <a:pt x="11" y="287"/>
                    </a:lnTo>
                    <a:lnTo>
                      <a:pt x="3" y="341"/>
                    </a:lnTo>
                    <a:lnTo>
                      <a:pt x="0" y="398"/>
                    </a:lnTo>
                    <a:lnTo>
                      <a:pt x="3" y="462"/>
                    </a:lnTo>
                    <a:lnTo>
                      <a:pt x="14" y="527"/>
                    </a:lnTo>
                    <a:lnTo>
                      <a:pt x="30" y="587"/>
                    </a:lnTo>
                    <a:lnTo>
                      <a:pt x="49" y="645"/>
                    </a:lnTo>
                    <a:lnTo>
                      <a:pt x="76" y="702"/>
                    </a:lnTo>
                    <a:lnTo>
                      <a:pt x="106" y="756"/>
                    </a:lnTo>
                    <a:lnTo>
                      <a:pt x="143" y="804"/>
                    </a:lnTo>
                    <a:lnTo>
                      <a:pt x="181" y="850"/>
                    </a:lnTo>
                    <a:lnTo>
                      <a:pt x="227" y="891"/>
                    </a:lnTo>
                    <a:lnTo>
                      <a:pt x="273" y="928"/>
                    </a:lnTo>
                    <a:lnTo>
                      <a:pt x="324" y="961"/>
                    </a:lnTo>
                    <a:lnTo>
                      <a:pt x="378" y="988"/>
                    </a:lnTo>
                    <a:lnTo>
                      <a:pt x="435" y="1013"/>
                    </a:lnTo>
                    <a:lnTo>
                      <a:pt x="497" y="1029"/>
                    </a:lnTo>
                    <a:lnTo>
                      <a:pt x="557" y="1039"/>
                    </a:lnTo>
                    <a:lnTo>
                      <a:pt x="589" y="1041"/>
                    </a:lnTo>
                    <a:lnTo>
                      <a:pt x="621" y="1041"/>
                    </a:lnTo>
                    <a:lnTo>
                      <a:pt x="570" y="1031"/>
                    </a:lnTo>
                    <a:lnTo>
                      <a:pt x="516" y="1023"/>
                    </a:lnTo>
                    <a:lnTo>
                      <a:pt x="462" y="1009"/>
                    </a:lnTo>
                    <a:lnTo>
                      <a:pt x="411" y="993"/>
                    </a:lnTo>
                    <a:lnTo>
                      <a:pt x="362" y="972"/>
                    </a:lnTo>
                    <a:lnTo>
                      <a:pt x="317" y="947"/>
                    </a:lnTo>
                    <a:lnTo>
                      <a:pt x="271" y="918"/>
                    </a:lnTo>
                    <a:lnTo>
                      <a:pt x="230" y="882"/>
                    </a:lnTo>
                    <a:lnTo>
                      <a:pt x="189" y="848"/>
                    </a:lnTo>
                    <a:lnTo>
                      <a:pt x="152" y="802"/>
                    </a:lnTo>
                    <a:lnTo>
                      <a:pt x="114" y="753"/>
                    </a:lnTo>
                    <a:lnTo>
                      <a:pt x="85" y="700"/>
                    </a:lnTo>
                    <a:lnTo>
                      <a:pt x="57" y="645"/>
                    </a:lnTo>
                    <a:lnTo>
                      <a:pt x="39" y="587"/>
                    </a:lnTo>
                    <a:lnTo>
                      <a:pt x="22" y="524"/>
                    </a:lnTo>
                    <a:lnTo>
                      <a:pt x="11" y="462"/>
                    </a:lnTo>
                    <a:lnTo>
                      <a:pt x="9" y="398"/>
                    </a:lnTo>
                    <a:lnTo>
                      <a:pt x="11" y="343"/>
                    </a:lnTo>
                    <a:lnTo>
                      <a:pt x="16" y="290"/>
                    </a:lnTo>
                    <a:lnTo>
                      <a:pt x="27" y="238"/>
                    </a:lnTo>
                    <a:lnTo>
                      <a:pt x="44" y="187"/>
                    </a:lnTo>
                    <a:lnTo>
                      <a:pt x="62" y="141"/>
                    </a:lnTo>
                    <a:lnTo>
                      <a:pt x="85" y="92"/>
                    </a:lnTo>
                    <a:lnTo>
                      <a:pt x="108" y="49"/>
                    </a:lnTo>
                    <a:lnTo>
                      <a:pt x="138" y="9"/>
                    </a:lnTo>
                    <a:lnTo>
                      <a:pt x="136" y="6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88000" y="3470760"/>
                <a:ext cx="13320" cy="25920"/>
              </a:xfrm>
              <a:custGeom>
                <a:avLst/>
                <a:gdLst/>
                <a:ahLst/>
                <a:rect l="l" t="t" r="r" b="b"/>
                <a:pathLst>
                  <a:path w="80" h="173">
                    <a:moveTo>
                      <a:pt x="23" y="0"/>
                    </a:moveTo>
                    <a:lnTo>
                      <a:pt x="0" y="11"/>
                    </a:lnTo>
                    <a:lnTo>
                      <a:pt x="23" y="49"/>
                    </a:lnTo>
                    <a:lnTo>
                      <a:pt x="44" y="90"/>
                    </a:lnTo>
                    <a:lnTo>
                      <a:pt x="64" y="130"/>
                    </a:lnTo>
                    <a:lnTo>
                      <a:pt x="80" y="173"/>
                    </a:lnTo>
                    <a:lnTo>
                      <a:pt x="69" y="127"/>
                    </a:lnTo>
                    <a:lnTo>
                      <a:pt x="56" y="85"/>
                    </a:lnTo>
                    <a:lnTo>
                      <a:pt x="42" y="4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4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0880" y="3470760"/>
                <a:ext cx="11880" cy="36000"/>
              </a:xfrm>
              <a:custGeom>
                <a:avLst/>
                <a:gdLst/>
                <a:ahLst/>
                <a:rect l="l" t="t" r="r" b="b"/>
                <a:pathLst>
                  <a:path w="73" h="245">
                    <a:moveTo>
                      <a:pt x="5" y="0"/>
                    </a:moveTo>
                    <a:lnTo>
                      <a:pt x="0" y="5"/>
                    </a:lnTo>
                    <a:lnTo>
                      <a:pt x="19" y="46"/>
                    </a:lnTo>
                    <a:lnTo>
                      <a:pt x="33" y="90"/>
                    </a:lnTo>
                    <a:lnTo>
                      <a:pt x="46" y="132"/>
                    </a:lnTo>
                    <a:lnTo>
                      <a:pt x="57" y="178"/>
                    </a:lnTo>
                    <a:lnTo>
                      <a:pt x="65" y="210"/>
                    </a:lnTo>
                    <a:lnTo>
                      <a:pt x="73" y="245"/>
                    </a:lnTo>
                    <a:lnTo>
                      <a:pt x="71" y="213"/>
                    </a:lnTo>
                    <a:lnTo>
                      <a:pt x="65" y="181"/>
                    </a:lnTo>
                    <a:lnTo>
                      <a:pt x="51" y="119"/>
                    </a:lnTo>
                    <a:lnTo>
                      <a:pt x="30" y="6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5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815120" y="3436200"/>
                <a:ext cx="287640" cy="173880"/>
              </a:xfrm>
              <a:custGeom>
                <a:avLst/>
                <a:gdLst/>
                <a:ahLst/>
                <a:rect l="l" t="t" r="r" b="b"/>
                <a:pathLst>
                  <a:path w="1856" h="1170">
                    <a:moveTo>
                      <a:pt x="1856" y="585"/>
                    </a:moveTo>
                    <a:lnTo>
                      <a:pt x="1854" y="645"/>
                    </a:lnTo>
                    <a:lnTo>
                      <a:pt x="1845" y="704"/>
                    </a:lnTo>
                    <a:lnTo>
                      <a:pt x="1832" y="760"/>
                    </a:lnTo>
                    <a:lnTo>
                      <a:pt x="1811" y="815"/>
                    </a:lnTo>
                    <a:lnTo>
                      <a:pt x="1786" y="866"/>
                    </a:lnTo>
                    <a:lnTo>
                      <a:pt x="1756" y="912"/>
                    </a:lnTo>
                    <a:lnTo>
                      <a:pt x="1724" y="958"/>
                    </a:lnTo>
                    <a:lnTo>
                      <a:pt x="1686" y="1001"/>
                    </a:lnTo>
                    <a:lnTo>
                      <a:pt x="1645" y="1039"/>
                    </a:lnTo>
                    <a:lnTo>
                      <a:pt x="1600" y="1071"/>
                    </a:lnTo>
                    <a:lnTo>
                      <a:pt x="1551" y="1101"/>
                    </a:lnTo>
                    <a:lnTo>
                      <a:pt x="1500" y="1126"/>
                    </a:lnTo>
                    <a:lnTo>
                      <a:pt x="1447" y="1144"/>
                    </a:lnTo>
                    <a:lnTo>
                      <a:pt x="1389" y="1160"/>
                    </a:lnTo>
                    <a:lnTo>
                      <a:pt x="1332" y="1168"/>
                    </a:lnTo>
                    <a:lnTo>
                      <a:pt x="1273" y="1170"/>
                    </a:lnTo>
                    <a:lnTo>
                      <a:pt x="585" y="1170"/>
                    </a:lnTo>
                    <a:lnTo>
                      <a:pt x="523" y="1168"/>
                    </a:lnTo>
                    <a:lnTo>
                      <a:pt x="467" y="1160"/>
                    </a:lnTo>
                    <a:lnTo>
                      <a:pt x="410" y="1144"/>
                    </a:lnTo>
                    <a:lnTo>
                      <a:pt x="356" y="1126"/>
                    </a:lnTo>
                    <a:lnTo>
                      <a:pt x="304" y="1101"/>
                    </a:lnTo>
                    <a:lnTo>
                      <a:pt x="256" y="1071"/>
                    </a:lnTo>
                    <a:lnTo>
                      <a:pt x="213" y="1039"/>
                    </a:lnTo>
                    <a:lnTo>
                      <a:pt x="170" y="1001"/>
                    </a:lnTo>
                    <a:lnTo>
                      <a:pt x="131" y="958"/>
                    </a:lnTo>
                    <a:lnTo>
                      <a:pt x="99" y="912"/>
                    </a:lnTo>
                    <a:lnTo>
                      <a:pt x="69" y="866"/>
                    </a:lnTo>
                    <a:lnTo>
                      <a:pt x="45" y="815"/>
                    </a:lnTo>
                    <a:lnTo>
                      <a:pt x="23" y="760"/>
                    </a:lnTo>
                    <a:lnTo>
                      <a:pt x="11" y="704"/>
                    </a:lnTo>
                    <a:lnTo>
                      <a:pt x="2" y="645"/>
                    </a:lnTo>
                    <a:lnTo>
                      <a:pt x="0" y="585"/>
                    </a:lnTo>
                    <a:lnTo>
                      <a:pt x="2" y="527"/>
                    </a:lnTo>
                    <a:lnTo>
                      <a:pt x="11" y="470"/>
                    </a:lnTo>
                    <a:lnTo>
                      <a:pt x="23" y="413"/>
                    </a:lnTo>
                    <a:lnTo>
                      <a:pt x="45" y="359"/>
                    </a:lnTo>
                    <a:lnTo>
                      <a:pt x="69" y="308"/>
                    </a:lnTo>
                    <a:lnTo>
                      <a:pt x="99" y="260"/>
                    </a:lnTo>
                    <a:lnTo>
                      <a:pt x="131" y="214"/>
                    </a:lnTo>
                    <a:lnTo>
                      <a:pt x="170" y="173"/>
                    </a:lnTo>
                    <a:lnTo>
                      <a:pt x="213" y="135"/>
                    </a:lnTo>
                    <a:lnTo>
                      <a:pt x="256" y="101"/>
                    </a:lnTo>
                    <a:lnTo>
                      <a:pt x="304" y="73"/>
                    </a:lnTo>
                    <a:lnTo>
                      <a:pt x="356" y="46"/>
                    </a:lnTo>
                    <a:lnTo>
                      <a:pt x="410" y="27"/>
                    </a:lnTo>
                    <a:lnTo>
                      <a:pt x="467" y="14"/>
                    </a:lnTo>
                    <a:lnTo>
                      <a:pt x="523" y="5"/>
                    </a:lnTo>
                    <a:lnTo>
                      <a:pt x="585" y="0"/>
                    </a:lnTo>
                    <a:lnTo>
                      <a:pt x="1273" y="0"/>
                    </a:lnTo>
                    <a:lnTo>
                      <a:pt x="1332" y="5"/>
                    </a:lnTo>
                    <a:lnTo>
                      <a:pt x="1389" y="14"/>
                    </a:lnTo>
                    <a:lnTo>
                      <a:pt x="1447" y="27"/>
                    </a:lnTo>
                    <a:lnTo>
                      <a:pt x="1500" y="46"/>
                    </a:lnTo>
                    <a:lnTo>
                      <a:pt x="1551" y="73"/>
                    </a:lnTo>
                    <a:lnTo>
                      <a:pt x="1600" y="101"/>
                    </a:lnTo>
                    <a:lnTo>
                      <a:pt x="1645" y="135"/>
                    </a:lnTo>
                    <a:lnTo>
                      <a:pt x="1686" y="173"/>
                    </a:lnTo>
                    <a:lnTo>
                      <a:pt x="1724" y="214"/>
                    </a:lnTo>
                    <a:lnTo>
                      <a:pt x="1756" y="260"/>
                    </a:lnTo>
                    <a:lnTo>
                      <a:pt x="1786" y="308"/>
                    </a:lnTo>
                    <a:lnTo>
                      <a:pt x="1811" y="359"/>
                    </a:lnTo>
                    <a:lnTo>
                      <a:pt x="1832" y="413"/>
                    </a:lnTo>
                    <a:lnTo>
                      <a:pt x="1845" y="470"/>
                    </a:lnTo>
                    <a:lnTo>
                      <a:pt x="1854" y="527"/>
                    </a:lnTo>
                    <a:lnTo>
                      <a:pt x="1856" y="585"/>
                    </a:lnTo>
                    <a:close/>
                  </a:path>
                </a:pathLst>
              </a:custGeom>
              <a:solidFill>
                <a:srgbClr val="9cb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815120" y="3434760"/>
                <a:ext cx="289440" cy="176760"/>
              </a:xfrm>
              <a:custGeom>
                <a:avLst/>
                <a:gdLst/>
                <a:ahLst/>
                <a:rect l="l" t="t" r="r" b="b"/>
                <a:pathLst>
                  <a:path w="1873" h="1186">
                    <a:moveTo>
                      <a:pt x="1865" y="592"/>
                    </a:moveTo>
                    <a:lnTo>
                      <a:pt x="1857" y="592"/>
                    </a:lnTo>
                    <a:lnTo>
                      <a:pt x="1854" y="652"/>
                    </a:lnTo>
                    <a:lnTo>
                      <a:pt x="1847" y="709"/>
                    </a:lnTo>
                    <a:lnTo>
                      <a:pt x="1833" y="765"/>
                    </a:lnTo>
                    <a:lnTo>
                      <a:pt x="1813" y="817"/>
                    </a:lnTo>
                    <a:lnTo>
                      <a:pt x="1790" y="868"/>
                    </a:lnTo>
                    <a:lnTo>
                      <a:pt x="1760" y="916"/>
                    </a:lnTo>
                    <a:lnTo>
                      <a:pt x="1728" y="960"/>
                    </a:lnTo>
                    <a:lnTo>
                      <a:pt x="1690" y="1000"/>
                    </a:lnTo>
                    <a:lnTo>
                      <a:pt x="1649" y="1038"/>
                    </a:lnTo>
                    <a:lnTo>
                      <a:pt x="1603" y="1073"/>
                    </a:lnTo>
                    <a:lnTo>
                      <a:pt x="1558" y="1100"/>
                    </a:lnTo>
                    <a:lnTo>
                      <a:pt x="1507" y="1124"/>
                    </a:lnTo>
                    <a:lnTo>
                      <a:pt x="1452" y="1143"/>
                    </a:lnTo>
                    <a:lnTo>
                      <a:pt x="1398" y="1159"/>
                    </a:lnTo>
                    <a:lnTo>
                      <a:pt x="1339" y="1167"/>
                    </a:lnTo>
                    <a:lnTo>
                      <a:pt x="1282" y="1170"/>
                    </a:lnTo>
                    <a:lnTo>
                      <a:pt x="594" y="1170"/>
                    </a:lnTo>
                    <a:lnTo>
                      <a:pt x="535" y="1167"/>
                    </a:lnTo>
                    <a:lnTo>
                      <a:pt x="476" y="1159"/>
                    </a:lnTo>
                    <a:lnTo>
                      <a:pt x="421" y="1143"/>
                    </a:lnTo>
                    <a:lnTo>
                      <a:pt x="368" y="1124"/>
                    </a:lnTo>
                    <a:lnTo>
                      <a:pt x="319" y="1100"/>
                    </a:lnTo>
                    <a:lnTo>
                      <a:pt x="271" y="1073"/>
                    </a:lnTo>
                    <a:lnTo>
                      <a:pt x="225" y="1038"/>
                    </a:lnTo>
                    <a:lnTo>
                      <a:pt x="184" y="1000"/>
                    </a:lnTo>
                    <a:lnTo>
                      <a:pt x="149" y="960"/>
                    </a:lnTo>
                    <a:lnTo>
                      <a:pt x="114" y="916"/>
                    </a:lnTo>
                    <a:lnTo>
                      <a:pt x="84" y="868"/>
                    </a:lnTo>
                    <a:lnTo>
                      <a:pt x="60" y="817"/>
                    </a:lnTo>
                    <a:lnTo>
                      <a:pt x="41" y="765"/>
                    </a:lnTo>
                    <a:lnTo>
                      <a:pt x="27" y="709"/>
                    </a:lnTo>
                    <a:lnTo>
                      <a:pt x="20" y="652"/>
                    </a:lnTo>
                    <a:lnTo>
                      <a:pt x="16" y="592"/>
                    </a:lnTo>
                    <a:lnTo>
                      <a:pt x="20" y="534"/>
                    </a:lnTo>
                    <a:lnTo>
                      <a:pt x="27" y="477"/>
                    </a:lnTo>
                    <a:lnTo>
                      <a:pt x="41" y="423"/>
                    </a:lnTo>
                    <a:lnTo>
                      <a:pt x="60" y="369"/>
                    </a:lnTo>
                    <a:lnTo>
                      <a:pt x="84" y="318"/>
                    </a:lnTo>
                    <a:lnTo>
                      <a:pt x="114" y="272"/>
                    </a:lnTo>
                    <a:lnTo>
                      <a:pt x="149" y="226"/>
                    </a:lnTo>
                    <a:lnTo>
                      <a:pt x="184" y="185"/>
                    </a:lnTo>
                    <a:lnTo>
                      <a:pt x="225" y="147"/>
                    </a:lnTo>
                    <a:lnTo>
                      <a:pt x="271" y="115"/>
                    </a:lnTo>
                    <a:lnTo>
                      <a:pt x="319" y="85"/>
                    </a:lnTo>
                    <a:lnTo>
                      <a:pt x="368" y="62"/>
                    </a:lnTo>
                    <a:lnTo>
                      <a:pt x="421" y="42"/>
                    </a:lnTo>
                    <a:lnTo>
                      <a:pt x="476" y="28"/>
                    </a:lnTo>
                    <a:lnTo>
                      <a:pt x="535" y="21"/>
                    </a:lnTo>
                    <a:lnTo>
                      <a:pt x="594" y="16"/>
                    </a:lnTo>
                    <a:lnTo>
                      <a:pt x="1282" y="16"/>
                    </a:lnTo>
                    <a:lnTo>
                      <a:pt x="1339" y="21"/>
                    </a:lnTo>
                    <a:lnTo>
                      <a:pt x="1398" y="28"/>
                    </a:lnTo>
                    <a:lnTo>
                      <a:pt x="1452" y="42"/>
                    </a:lnTo>
                    <a:lnTo>
                      <a:pt x="1507" y="62"/>
                    </a:lnTo>
                    <a:lnTo>
                      <a:pt x="1558" y="85"/>
                    </a:lnTo>
                    <a:lnTo>
                      <a:pt x="1603" y="115"/>
                    </a:lnTo>
                    <a:lnTo>
                      <a:pt x="1649" y="147"/>
                    </a:lnTo>
                    <a:lnTo>
                      <a:pt x="1690" y="185"/>
                    </a:lnTo>
                    <a:lnTo>
                      <a:pt x="1728" y="226"/>
                    </a:lnTo>
                    <a:lnTo>
                      <a:pt x="1760" y="272"/>
                    </a:lnTo>
                    <a:lnTo>
                      <a:pt x="1790" y="318"/>
                    </a:lnTo>
                    <a:lnTo>
                      <a:pt x="1813" y="369"/>
                    </a:lnTo>
                    <a:lnTo>
                      <a:pt x="1833" y="423"/>
                    </a:lnTo>
                    <a:lnTo>
                      <a:pt x="1847" y="477"/>
                    </a:lnTo>
                    <a:lnTo>
                      <a:pt x="1854" y="534"/>
                    </a:lnTo>
                    <a:lnTo>
                      <a:pt x="1857" y="592"/>
                    </a:lnTo>
                    <a:lnTo>
                      <a:pt x="1865" y="592"/>
                    </a:lnTo>
                    <a:lnTo>
                      <a:pt x="1873" y="592"/>
                    </a:lnTo>
                    <a:lnTo>
                      <a:pt x="1871" y="534"/>
                    </a:lnTo>
                    <a:lnTo>
                      <a:pt x="1863" y="474"/>
                    </a:lnTo>
                    <a:lnTo>
                      <a:pt x="1849" y="417"/>
                    </a:lnTo>
                    <a:lnTo>
                      <a:pt x="1827" y="364"/>
                    </a:lnTo>
                    <a:lnTo>
                      <a:pt x="1803" y="309"/>
                    </a:lnTo>
                    <a:lnTo>
                      <a:pt x="1774" y="261"/>
                    </a:lnTo>
                    <a:lnTo>
                      <a:pt x="1739" y="215"/>
                    </a:lnTo>
                    <a:lnTo>
                      <a:pt x="1700" y="175"/>
                    </a:lnTo>
                    <a:lnTo>
                      <a:pt x="1657" y="136"/>
                    </a:lnTo>
                    <a:lnTo>
                      <a:pt x="1615" y="102"/>
                    </a:lnTo>
                    <a:lnTo>
                      <a:pt x="1563" y="72"/>
                    </a:lnTo>
                    <a:lnTo>
                      <a:pt x="1512" y="48"/>
                    </a:lnTo>
                    <a:lnTo>
                      <a:pt x="1458" y="26"/>
                    </a:lnTo>
                    <a:lnTo>
                      <a:pt x="1401" y="12"/>
                    </a:lnTo>
                    <a:lnTo>
                      <a:pt x="1341" y="5"/>
                    </a:lnTo>
                    <a:lnTo>
                      <a:pt x="1282" y="0"/>
                    </a:lnTo>
                    <a:lnTo>
                      <a:pt x="594" y="0"/>
                    </a:lnTo>
                    <a:lnTo>
                      <a:pt x="532" y="5"/>
                    </a:lnTo>
                    <a:lnTo>
                      <a:pt x="473" y="12"/>
                    </a:lnTo>
                    <a:lnTo>
                      <a:pt x="416" y="26"/>
                    </a:lnTo>
                    <a:lnTo>
                      <a:pt x="362" y="48"/>
                    </a:lnTo>
                    <a:lnTo>
                      <a:pt x="310" y="72"/>
                    </a:lnTo>
                    <a:lnTo>
                      <a:pt x="262" y="102"/>
                    </a:lnTo>
                    <a:lnTo>
                      <a:pt x="216" y="136"/>
                    </a:lnTo>
                    <a:lnTo>
                      <a:pt x="174" y="175"/>
                    </a:lnTo>
                    <a:lnTo>
                      <a:pt x="135" y="215"/>
                    </a:lnTo>
                    <a:lnTo>
                      <a:pt x="100" y="261"/>
                    </a:lnTo>
                    <a:lnTo>
                      <a:pt x="71" y="309"/>
                    </a:lnTo>
                    <a:lnTo>
                      <a:pt x="46" y="364"/>
                    </a:lnTo>
                    <a:lnTo>
                      <a:pt x="27" y="417"/>
                    </a:lnTo>
                    <a:lnTo>
                      <a:pt x="11" y="474"/>
                    </a:lnTo>
                    <a:lnTo>
                      <a:pt x="4" y="534"/>
                    </a:lnTo>
                    <a:lnTo>
                      <a:pt x="0" y="592"/>
                    </a:lnTo>
                    <a:lnTo>
                      <a:pt x="4" y="654"/>
                    </a:lnTo>
                    <a:lnTo>
                      <a:pt x="11" y="714"/>
                    </a:lnTo>
                    <a:lnTo>
                      <a:pt x="27" y="771"/>
                    </a:lnTo>
                    <a:lnTo>
                      <a:pt x="46" y="825"/>
                    </a:lnTo>
                    <a:lnTo>
                      <a:pt x="71" y="876"/>
                    </a:lnTo>
                    <a:lnTo>
                      <a:pt x="100" y="924"/>
                    </a:lnTo>
                    <a:lnTo>
                      <a:pt x="135" y="970"/>
                    </a:lnTo>
                    <a:lnTo>
                      <a:pt x="174" y="1013"/>
                    </a:lnTo>
                    <a:lnTo>
                      <a:pt x="216" y="1051"/>
                    </a:lnTo>
                    <a:lnTo>
                      <a:pt x="262" y="1087"/>
                    </a:lnTo>
                    <a:lnTo>
                      <a:pt x="310" y="1116"/>
                    </a:lnTo>
                    <a:lnTo>
                      <a:pt x="362" y="1140"/>
                    </a:lnTo>
                    <a:lnTo>
                      <a:pt x="416" y="1159"/>
                    </a:lnTo>
                    <a:lnTo>
                      <a:pt x="473" y="1175"/>
                    </a:lnTo>
                    <a:lnTo>
                      <a:pt x="532" y="1184"/>
                    </a:lnTo>
                    <a:lnTo>
                      <a:pt x="594" y="1186"/>
                    </a:lnTo>
                    <a:lnTo>
                      <a:pt x="1282" y="1186"/>
                    </a:lnTo>
                    <a:lnTo>
                      <a:pt x="1341" y="1184"/>
                    </a:lnTo>
                    <a:lnTo>
                      <a:pt x="1401" y="1175"/>
                    </a:lnTo>
                    <a:lnTo>
                      <a:pt x="1458" y="1159"/>
                    </a:lnTo>
                    <a:lnTo>
                      <a:pt x="1512" y="1140"/>
                    </a:lnTo>
                    <a:lnTo>
                      <a:pt x="1563" y="1116"/>
                    </a:lnTo>
                    <a:lnTo>
                      <a:pt x="1615" y="1087"/>
                    </a:lnTo>
                    <a:lnTo>
                      <a:pt x="1657" y="1051"/>
                    </a:lnTo>
                    <a:lnTo>
                      <a:pt x="1700" y="1013"/>
                    </a:lnTo>
                    <a:lnTo>
                      <a:pt x="1739" y="970"/>
                    </a:lnTo>
                    <a:lnTo>
                      <a:pt x="1774" y="924"/>
                    </a:lnTo>
                    <a:lnTo>
                      <a:pt x="1803" y="876"/>
                    </a:lnTo>
                    <a:lnTo>
                      <a:pt x="1827" y="825"/>
                    </a:lnTo>
                    <a:lnTo>
                      <a:pt x="1849" y="771"/>
                    </a:lnTo>
                    <a:lnTo>
                      <a:pt x="1863" y="714"/>
                    </a:lnTo>
                    <a:lnTo>
                      <a:pt x="1871" y="654"/>
                    </a:lnTo>
                    <a:lnTo>
                      <a:pt x="1873" y="592"/>
                    </a:lnTo>
                    <a:lnTo>
                      <a:pt x="1865" y="592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16560" y="3439800"/>
                <a:ext cx="124200" cy="168480"/>
              </a:xfrm>
              <a:custGeom>
                <a:avLst/>
                <a:gdLst/>
                <a:ahLst/>
                <a:rect l="l" t="t" r="r" b="b"/>
                <a:pathLst>
                  <a:path w="807" h="1133">
                    <a:moveTo>
                      <a:pt x="722" y="0"/>
                    </a:moveTo>
                    <a:lnTo>
                      <a:pt x="710" y="550"/>
                    </a:lnTo>
                    <a:lnTo>
                      <a:pt x="648" y="497"/>
                    </a:lnTo>
                    <a:lnTo>
                      <a:pt x="589" y="442"/>
                    </a:lnTo>
                    <a:lnTo>
                      <a:pt x="533" y="383"/>
                    </a:lnTo>
                    <a:lnTo>
                      <a:pt x="481" y="324"/>
                    </a:lnTo>
                    <a:lnTo>
                      <a:pt x="430" y="258"/>
                    </a:lnTo>
                    <a:lnTo>
                      <a:pt x="381" y="194"/>
                    </a:lnTo>
                    <a:lnTo>
                      <a:pt x="335" y="127"/>
                    </a:lnTo>
                    <a:lnTo>
                      <a:pt x="292" y="53"/>
                    </a:lnTo>
                    <a:lnTo>
                      <a:pt x="260" y="76"/>
                    </a:lnTo>
                    <a:lnTo>
                      <a:pt x="227" y="97"/>
                    </a:lnTo>
                    <a:lnTo>
                      <a:pt x="198" y="122"/>
                    </a:lnTo>
                    <a:lnTo>
                      <a:pt x="168" y="148"/>
                    </a:lnTo>
                    <a:lnTo>
                      <a:pt x="133" y="189"/>
                    </a:lnTo>
                    <a:lnTo>
                      <a:pt x="98" y="235"/>
                    </a:lnTo>
                    <a:lnTo>
                      <a:pt x="68" y="281"/>
                    </a:lnTo>
                    <a:lnTo>
                      <a:pt x="44" y="332"/>
                    </a:lnTo>
                    <a:lnTo>
                      <a:pt x="25" y="386"/>
                    </a:lnTo>
                    <a:lnTo>
                      <a:pt x="11" y="440"/>
                    </a:lnTo>
                    <a:lnTo>
                      <a:pt x="4" y="497"/>
                    </a:lnTo>
                    <a:lnTo>
                      <a:pt x="0" y="555"/>
                    </a:lnTo>
                    <a:lnTo>
                      <a:pt x="4" y="615"/>
                    </a:lnTo>
                    <a:lnTo>
                      <a:pt x="11" y="672"/>
                    </a:lnTo>
                    <a:lnTo>
                      <a:pt x="25" y="728"/>
                    </a:lnTo>
                    <a:lnTo>
                      <a:pt x="44" y="780"/>
                    </a:lnTo>
                    <a:lnTo>
                      <a:pt x="68" y="831"/>
                    </a:lnTo>
                    <a:lnTo>
                      <a:pt x="98" y="879"/>
                    </a:lnTo>
                    <a:lnTo>
                      <a:pt x="133" y="923"/>
                    </a:lnTo>
                    <a:lnTo>
                      <a:pt x="168" y="963"/>
                    </a:lnTo>
                    <a:lnTo>
                      <a:pt x="209" y="1001"/>
                    </a:lnTo>
                    <a:lnTo>
                      <a:pt x="255" y="1036"/>
                    </a:lnTo>
                    <a:lnTo>
                      <a:pt x="303" y="1063"/>
                    </a:lnTo>
                    <a:lnTo>
                      <a:pt x="352" y="1087"/>
                    </a:lnTo>
                    <a:lnTo>
                      <a:pt x="405" y="1106"/>
                    </a:lnTo>
                    <a:lnTo>
                      <a:pt x="460" y="1122"/>
                    </a:lnTo>
                    <a:lnTo>
                      <a:pt x="519" y="1130"/>
                    </a:lnTo>
                    <a:lnTo>
                      <a:pt x="578" y="1133"/>
                    </a:lnTo>
                    <a:lnTo>
                      <a:pt x="692" y="1133"/>
                    </a:lnTo>
                    <a:lnTo>
                      <a:pt x="708" y="1108"/>
                    </a:lnTo>
                    <a:lnTo>
                      <a:pt x="722" y="1082"/>
                    </a:lnTo>
                    <a:lnTo>
                      <a:pt x="748" y="1025"/>
                    </a:lnTo>
                    <a:lnTo>
                      <a:pt x="768" y="965"/>
                    </a:lnTo>
                    <a:lnTo>
                      <a:pt x="784" y="901"/>
                    </a:lnTo>
                    <a:lnTo>
                      <a:pt x="794" y="836"/>
                    </a:lnTo>
                    <a:lnTo>
                      <a:pt x="802" y="769"/>
                    </a:lnTo>
                    <a:lnTo>
                      <a:pt x="807" y="702"/>
                    </a:lnTo>
                    <a:lnTo>
                      <a:pt x="807" y="631"/>
                    </a:lnTo>
                    <a:lnTo>
                      <a:pt x="807" y="555"/>
                    </a:lnTo>
                    <a:lnTo>
                      <a:pt x="802" y="483"/>
                    </a:lnTo>
                    <a:lnTo>
                      <a:pt x="796" y="407"/>
                    </a:lnTo>
                    <a:lnTo>
                      <a:pt x="786" y="334"/>
                    </a:lnTo>
                    <a:lnTo>
                      <a:pt x="778" y="264"/>
                    </a:lnTo>
                    <a:lnTo>
                      <a:pt x="768" y="202"/>
                    </a:lnTo>
                    <a:lnTo>
                      <a:pt x="745" y="92"/>
                    </a:lnTo>
                    <a:lnTo>
                      <a:pt x="727" y="14"/>
                    </a:lnTo>
                    <a:lnTo>
                      <a:pt x="722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15120" y="3447720"/>
                <a:ext cx="108720" cy="162360"/>
              </a:xfrm>
              <a:custGeom>
                <a:avLst/>
                <a:gdLst/>
                <a:ahLst/>
                <a:rect l="l" t="t" r="r" b="b"/>
                <a:pathLst>
                  <a:path w="699" h="1092">
                    <a:moveTo>
                      <a:pt x="296" y="0"/>
                    </a:moveTo>
                    <a:lnTo>
                      <a:pt x="264" y="19"/>
                    </a:lnTo>
                    <a:lnTo>
                      <a:pt x="232" y="41"/>
                    </a:lnTo>
                    <a:lnTo>
                      <a:pt x="202" y="65"/>
                    </a:lnTo>
                    <a:lnTo>
                      <a:pt x="175" y="90"/>
                    </a:lnTo>
                    <a:lnTo>
                      <a:pt x="147" y="120"/>
                    </a:lnTo>
                    <a:lnTo>
                      <a:pt x="124" y="146"/>
                    </a:lnTo>
                    <a:lnTo>
                      <a:pt x="103" y="178"/>
                    </a:lnTo>
                    <a:lnTo>
                      <a:pt x="80" y="210"/>
                    </a:lnTo>
                    <a:lnTo>
                      <a:pt x="62" y="244"/>
                    </a:lnTo>
                    <a:lnTo>
                      <a:pt x="45" y="279"/>
                    </a:lnTo>
                    <a:lnTo>
                      <a:pt x="32" y="313"/>
                    </a:lnTo>
                    <a:lnTo>
                      <a:pt x="21" y="351"/>
                    </a:lnTo>
                    <a:lnTo>
                      <a:pt x="11" y="389"/>
                    </a:lnTo>
                    <a:lnTo>
                      <a:pt x="5" y="426"/>
                    </a:lnTo>
                    <a:lnTo>
                      <a:pt x="0" y="467"/>
                    </a:lnTo>
                    <a:lnTo>
                      <a:pt x="0" y="507"/>
                    </a:lnTo>
                    <a:lnTo>
                      <a:pt x="2" y="567"/>
                    </a:lnTo>
                    <a:lnTo>
                      <a:pt x="11" y="626"/>
                    </a:lnTo>
                    <a:lnTo>
                      <a:pt x="23" y="682"/>
                    </a:lnTo>
                    <a:lnTo>
                      <a:pt x="45" y="737"/>
                    </a:lnTo>
                    <a:lnTo>
                      <a:pt x="69" y="788"/>
                    </a:lnTo>
                    <a:lnTo>
                      <a:pt x="99" y="834"/>
                    </a:lnTo>
                    <a:lnTo>
                      <a:pt x="131" y="880"/>
                    </a:lnTo>
                    <a:lnTo>
                      <a:pt x="170" y="923"/>
                    </a:lnTo>
                    <a:lnTo>
                      <a:pt x="213" y="961"/>
                    </a:lnTo>
                    <a:lnTo>
                      <a:pt x="256" y="993"/>
                    </a:lnTo>
                    <a:lnTo>
                      <a:pt x="304" y="1023"/>
                    </a:lnTo>
                    <a:lnTo>
                      <a:pt x="356" y="1048"/>
                    </a:lnTo>
                    <a:lnTo>
                      <a:pt x="410" y="1066"/>
                    </a:lnTo>
                    <a:lnTo>
                      <a:pt x="467" y="1082"/>
                    </a:lnTo>
                    <a:lnTo>
                      <a:pt x="523" y="1090"/>
                    </a:lnTo>
                    <a:lnTo>
                      <a:pt x="585" y="1092"/>
                    </a:lnTo>
                    <a:lnTo>
                      <a:pt x="695" y="1092"/>
                    </a:lnTo>
                    <a:lnTo>
                      <a:pt x="695" y="1087"/>
                    </a:lnTo>
                    <a:lnTo>
                      <a:pt x="699" y="1085"/>
                    </a:lnTo>
                    <a:lnTo>
                      <a:pt x="585" y="1085"/>
                    </a:lnTo>
                    <a:lnTo>
                      <a:pt x="526" y="1082"/>
                    </a:lnTo>
                    <a:lnTo>
                      <a:pt x="467" y="1074"/>
                    </a:lnTo>
                    <a:lnTo>
                      <a:pt x="412" y="1058"/>
                    </a:lnTo>
                    <a:lnTo>
                      <a:pt x="359" y="1039"/>
                    </a:lnTo>
                    <a:lnTo>
                      <a:pt x="310" y="1015"/>
                    </a:lnTo>
                    <a:lnTo>
                      <a:pt x="262" y="988"/>
                    </a:lnTo>
                    <a:lnTo>
                      <a:pt x="216" y="953"/>
                    </a:lnTo>
                    <a:lnTo>
                      <a:pt x="175" y="915"/>
                    </a:lnTo>
                    <a:lnTo>
                      <a:pt x="140" y="875"/>
                    </a:lnTo>
                    <a:lnTo>
                      <a:pt x="105" y="831"/>
                    </a:lnTo>
                    <a:lnTo>
                      <a:pt x="75" y="783"/>
                    </a:lnTo>
                    <a:lnTo>
                      <a:pt x="51" y="732"/>
                    </a:lnTo>
                    <a:lnTo>
                      <a:pt x="32" y="680"/>
                    </a:lnTo>
                    <a:lnTo>
                      <a:pt x="18" y="624"/>
                    </a:lnTo>
                    <a:lnTo>
                      <a:pt x="11" y="567"/>
                    </a:lnTo>
                    <a:lnTo>
                      <a:pt x="7" y="507"/>
                    </a:lnTo>
                    <a:lnTo>
                      <a:pt x="11" y="449"/>
                    </a:lnTo>
                    <a:lnTo>
                      <a:pt x="18" y="392"/>
                    </a:lnTo>
                    <a:lnTo>
                      <a:pt x="32" y="338"/>
                    </a:lnTo>
                    <a:lnTo>
                      <a:pt x="51" y="284"/>
                    </a:lnTo>
                    <a:lnTo>
                      <a:pt x="75" y="233"/>
                    </a:lnTo>
                    <a:lnTo>
                      <a:pt x="105" y="187"/>
                    </a:lnTo>
                    <a:lnTo>
                      <a:pt x="140" y="141"/>
                    </a:lnTo>
                    <a:lnTo>
                      <a:pt x="175" y="100"/>
                    </a:lnTo>
                    <a:lnTo>
                      <a:pt x="205" y="74"/>
                    </a:lnTo>
                    <a:lnTo>
                      <a:pt x="234" y="49"/>
                    </a:lnTo>
                    <a:lnTo>
                      <a:pt x="267" y="28"/>
                    </a:lnTo>
                    <a:lnTo>
                      <a:pt x="299" y="5"/>
                    </a:lnTo>
                    <a:lnTo>
                      <a:pt x="296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017800" y="3577680"/>
                <a:ext cx="49320" cy="30600"/>
              </a:xfrm>
              <a:custGeom>
                <a:avLst/>
                <a:gdLst/>
                <a:ahLst/>
                <a:rect l="l" t="t" r="r" b="b"/>
                <a:pathLst>
                  <a:path w="324" h="210">
                    <a:moveTo>
                      <a:pt x="57" y="0"/>
                    </a:moveTo>
                    <a:lnTo>
                      <a:pt x="41" y="72"/>
                    </a:lnTo>
                    <a:lnTo>
                      <a:pt x="24" y="132"/>
                    </a:lnTo>
                    <a:lnTo>
                      <a:pt x="0" y="210"/>
                    </a:lnTo>
                    <a:lnTo>
                      <a:pt x="46" y="205"/>
                    </a:lnTo>
                    <a:lnTo>
                      <a:pt x="89" y="196"/>
                    </a:lnTo>
                    <a:lnTo>
                      <a:pt x="132" y="185"/>
                    </a:lnTo>
                    <a:lnTo>
                      <a:pt x="172" y="173"/>
                    </a:lnTo>
                    <a:lnTo>
                      <a:pt x="213" y="156"/>
                    </a:lnTo>
                    <a:lnTo>
                      <a:pt x="251" y="137"/>
                    </a:lnTo>
                    <a:lnTo>
                      <a:pt x="289" y="113"/>
                    </a:lnTo>
                    <a:lnTo>
                      <a:pt x="324" y="88"/>
                    </a:lnTo>
                    <a:lnTo>
                      <a:pt x="257" y="67"/>
                    </a:lnTo>
                    <a:lnTo>
                      <a:pt x="188" y="46"/>
                    </a:lnTo>
                    <a:lnTo>
                      <a:pt x="121" y="2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608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17800" y="3590640"/>
                <a:ext cx="50760" cy="19440"/>
              </a:xfrm>
              <a:custGeom>
                <a:avLst/>
                <a:gdLst/>
                <a:ahLst/>
                <a:rect l="l" t="t" r="r" b="b"/>
                <a:pathLst>
                  <a:path w="335" h="129">
                    <a:moveTo>
                      <a:pt x="327" y="0"/>
                    </a:moveTo>
                    <a:lnTo>
                      <a:pt x="292" y="25"/>
                    </a:lnTo>
                    <a:lnTo>
                      <a:pt x="254" y="49"/>
                    </a:lnTo>
                    <a:lnTo>
                      <a:pt x="216" y="68"/>
                    </a:lnTo>
                    <a:lnTo>
                      <a:pt x="175" y="85"/>
                    </a:lnTo>
                    <a:lnTo>
                      <a:pt x="135" y="97"/>
                    </a:lnTo>
                    <a:lnTo>
                      <a:pt x="92" y="108"/>
                    </a:lnTo>
                    <a:lnTo>
                      <a:pt x="49" y="117"/>
                    </a:lnTo>
                    <a:lnTo>
                      <a:pt x="3" y="122"/>
                    </a:lnTo>
                    <a:lnTo>
                      <a:pt x="0" y="129"/>
                    </a:lnTo>
                    <a:lnTo>
                      <a:pt x="46" y="124"/>
                    </a:lnTo>
                    <a:lnTo>
                      <a:pt x="92" y="117"/>
                    </a:lnTo>
                    <a:lnTo>
                      <a:pt x="138" y="106"/>
                    </a:lnTo>
                    <a:lnTo>
                      <a:pt x="181" y="92"/>
                    </a:lnTo>
                    <a:lnTo>
                      <a:pt x="221" y="73"/>
                    </a:lnTo>
                    <a:lnTo>
                      <a:pt x="262" y="55"/>
                    </a:lnTo>
                    <a:lnTo>
                      <a:pt x="300" y="30"/>
                    </a:lnTo>
                    <a:lnTo>
                      <a:pt x="335" y="3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23840" y="3436200"/>
                <a:ext cx="95400" cy="182160"/>
              </a:xfrm>
              <a:custGeom>
                <a:avLst/>
                <a:gdLst/>
                <a:ahLst/>
                <a:rect l="l" t="t" r="r" b="b"/>
                <a:pathLst>
                  <a:path w="610" h="1220">
                    <a:moveTo>
                      <a:pt x="30" y="0"/>
                    </a:moveTo>
                    <a:lnTo>
                      <a:pt x="40" y="44"/>
                    </a:lnTo>
                    <a:lnTo>
                      <a:pt x="65" y="154"/>
                    </a:lnTo>
                    <a:lnTo>
                      <a:pt x="81" y="230"/>
                    </a:lnTo>
                    <a:lnTo>
                      <a:pt x="95" y="316"/>
                    </a:lnTo>
                    <a:lnTo>
                      <a:pt x="108" y="410"/>
                    </a:lnTo>
                    <a:lnTo>
                      <a:pt x="116" y="513"/>
                    </a:lnTo>
                    <a:lnTo>
                      <a:pt x="122" y="599"/>
                    </a:lnTo>
                    <a:lnTo>
                      <a:pt x="122" y="688"/>
                    </a:lnTo>
                    <a:lnTo>
                      <a:pt x="118" y="778"/>
                    </a:lnTo>
                    <a:lnTo>
                      <a:pt x="108" y="863"/>
                    </a:lnTo>
                    <a:lnTo>
                      <a:pt x="102" y="907"/>
                    </a:lnTo>
                    <a:lnTo>
                      <a:pt x="95" y="949"/>
                    </a:lnTo>
                    <a:lnTo>
                      <a:pt x="84" y="990"/>
                    </a:lnTo>
                    <a:lnTo>
                      <a:pt x="70" y="1028"/>
                    </a:lnTo>
                    <a:lnTo>
                      <a:pt x="56" y="1066"/>
                    </a:lnTo>
                    <a:lnTo>
                      <a:pt x="40" y="1103"/>
                    </a:lnTo>
                    <a:lnTo>
                      <a:pt x="22" y="1138"/>
                    </a:lnTo>
                    <a:lnTo>
                      <a:pt x="0" y="1170"/>
                    </a:lnTo>
                    <a:lnTo>
                      <a:pt x="11" y="1177"/>
                    </a:lnTo>
                    <a:lnTo>
                      <a:pt x="38" y="1188"/>
                    </a:lnTo>
                    <a:lnTo>
                      <a:pt x="81" y="1200"/>
                    </a:lnTo>
                    <a:lnTo>
                      <a:pt x="108" y="1206"/>
                    </a:lnTo>
                    <a:lnTo>
                      <a:pt x="138" y="1211"/>
                    </a:lnTo>
                    <a:lnTo>
                      <a:pt x="173" y="1216"/>
                    </a:lnTo>
                    <a:lnTo>
                      <a:pt x="210" y="1220"/>
                    </a:lnTo>
                    <a:lnTo>
                      <a:pt x="254" y="1220"/>
                    </a:lnTo>
                    <a:lnTo>
                      <a:pt x="297" y="1216"/>
                    </a:lnTo>
                    <a:lnTo>
                      <a:pt x="346" y="1211"/>
                    </a:lnTo>
                    <a:lnTo>
                      <a:pt x="397" y="1204"/>
                    </a:lnTo>
                    <a:lnTo>
                      <a:pt x="451" y="1190"/>
                    </a:lnTo>
                    <a:lnTo>
                      <a:pt x="507" y="1170"/>
                    </a:lnTo>
                    <a:lnTo>
                      <a:pt x="518" y="1142"/>
                    </a:lnTo>
                    <a:lnTo>
                      <a:pt x="546" y="1057"/>
                    </a:lnTo>
                    <a:lnTo>
                      <a:pt x="559" y="999"/>
                    </a:lnTo>
                    <a:lnTo>
                      <a:pt x="575" y="931"/>
                    </a:lnTo>
                    <a:lnTo>
                      <a:pt x="589" y="852"/>
                    </a:lnTo>
                    <a:lnTo>
                      <a:pt x="599" y="769"/>
                    </a:lnTo>
                    <a:lnTo>
                      <a:pt x="608" y="680"/>
                    </a:lnTo>
                    <a:lnTo>
                      <a:pt x="610" y="585"/>
                    </a:lnTo>
                    <a:lnTo>
                      <a:pt x="608" y="537"/>
                    </a:lnTo>
                    <a:lnTo>
                      <a:pt x="608" y="488"/>
                    </a:lnTo>
                    <a:lnTo>
                      <a:pt x="602" y="440"/>
                    </a:lnTo>
                    <a:lnTo>
                      <a:pt x="597" y="391"/>
                    </a:lnTo>
                    <a:lnTo>
                      <a:pt x="589" y="340"/>
                    </a:lnTo>
                    <a:lnTo>
                      <a:pt x="578" y="292"/>
                    </a:lnTo>
                    <a:lnTo>
                      <a:pt x="564" y="240"/>
                    </a:lnTo>
                    <a:lnTo>
                      <a:pt x="551" y="191"/>
                    </a:lnTo>
                    <a:lnTo>
                      <a:pt x="532" y="143"/>
                    </a:lnTo>
                    <a:lnTo>
                      <a:pt x="511" y="95"/>
                    </a:lnTo>
                    <a:lnTo>
                      <a:pt x="486" y="49"/>
                    </a:lnTo>
                    <a:lnTo>
                      <a:pt x="459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3d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23840" y="3434760"/>
                <a:ext cx="95400" cy="183600"/>
              </a:xfrm>
              <a:custGeom>
                <a:avLst/>
                <a:gdLst/>
                <a:ahLst/>
                <a:rect l="l" t="t" r="r" b="b"/>
                <a:pathLst>
                  <a:path w="624" h="1234">
                    <a:moveTo>
                      <a:pt x="36" y="7"/>
                    </a:moveTo>
                    <a:lnTo>
                      <a:pt x="28" y="10"/>
                    </a:lnTo>
                    <a:lnTo>
                      <a:pt x="39" y="51"/>
                    </a:lnTo>
                    <a:lnTo>
                      <a:pt x="57" y="129"/>
                    </a:lnTo>
                    <a:lnTo>
                      <a:pt x="80" y="239"/>
                    </a:lnTo>
                    <a:lnTo>
                      <a:pt x="90" y="301"/>
                    </a:lnTo>
                    <a:lnTo>
                      <a:pt x="98" y="371"/>
                    </a:lnTo>
                    <a:lnTo>
                      <a:pt x="108" y="444"/>
                    </a:lnTo>
                    <a:lnTo>
                      <a:pt x="114" y="520"/>
                    </a:lnTo>
                    <a:lnTo>
                      <a:pt x="119" y="592"/>
                    </a:lnTo>
                    <a:lnTo>
                      <a:pt x="119" y="668"/>
                    </a:lnTo>
                    <a:lnTo>
                      <a:pt x="119" y="739"/>
                    </a:lnTo>
                    <a:lnTo>
                      <a:pt x="114" y="808"/>
                    </a:lnTo>
                    <a:lnTo>
                      <a:pt x="106" y="876"/>
                    </a:lnTo>
                    <a:lnTo>
                      <a:pt x="96" y="940"/>
                    </a:lnTo>
                    <a:lnTo>
                      <a:pt x="80" y="1006"/>
                    </a:lnTo>
                    <a:lnTo>
                      <a:pt x="57" y="1064"/>
                    </a:lnTo>
                    <a:lnTo>
                      <a:pt x="46" y="1094"/>
                    </a:lnTo>
                    <a:lnTo>
                      <a:pt x="34" y="1121"/>
                    </a:lnTo>
                    <a:lnTo>
                      <a:pt x="17" y="1149"/>
                    </a:lnTo>
                    <a:lnTo>
                      <a:pt x="0" y="1172"/>
                    </a:lnTo>
                    <a:lnTo>
                      <a:pt x="0" y="1181"/>
                    </a:lnTo>
                    <a:lnTo>
                      <a:pt x="4" y="1186"/>
                    </a:lnTo>
                    <a:lnTo>
                      <a:pt x="20" y="1195"/>
                    </a:lnTo>
                    <a:lnTo>
                      <a:pt x="41" y="1202"/>
                    </a:lnTo>
                    <a:lnTo>
                      <a:pt x="68" y="1211"/>
                    </a:lnTo>
                    <a:lnTo>
                      <a:pt x="101" y="1218"/>
                    </a:lnTo>
                    <a:lnTo>
                      <a:pt x="144" y="1227"/>
                    </a:lnTo>
                    <a:lnTo>
                      <a:pt x="190" y="1234"/>
                    </a:lnTo>
                    <a:lnTo>
                      <a:pt x="244" y="1234"/>
                    </a:lnTo>
                    <a:lnTo>
                      <a:pt x="306" y="1232"/>
                    </a:lnTo>
                    <a:lnTo>
                      <a:pt x="370" y="1223"/>
                    </a:lnTo>
                    <a:lnTo>
                      <a:pt x="405" y="1218"/>
                    </a:lnTo>
                    <a:lnTo>
                      <a:pt x="441" y="1211"/>
                    </a:lnTo>
                    <a:lnTo>
                      <a:pt x="478" y="1200"/>
                    </a:lnTo>
                    <a:lnTo>
                      <a:pt x="517" y="1186"/>
                    </a:lnTo>
                    <a:lnTo>
                      <a:pt x="522" y="1181"/>
                    </a:lnTo>
                    <a:lnTo>
                      <a:pt x="538" y="1135"/>
                    </a:lnTo>
                    <a:lnTo>
                      <a:pt x="554" y="1078"/>
                    </a:lnTo>
                    <a:lnTo>
                      <a:pt x="573" y="1006"/>
                    </a:lnTo>
                    <a:lnTo>
                      <a:pt x="591" y="919"/>
                    </a:lnTo>
                    <a:lnTo>
                      <a:pt x="608" y="820"/>
                    </a:lnTo>
                    <a:lnTo>
                      <a:pt x="614" y="765"/>
                    </a:lnTo>
                    <a:lnTo>
                      <a:pt x="619" y="709"/>
                    </a:lnTo>
                    <a:lnTo>
                      <a:pt x="621" y="652"/>
                    </a:lnTo>
                    <a:lnTo>
                      <a:pt x="624" y="590"/>
                    </a:lnTo>
                    <a:lnTo>
                      <a:pt x="621" y="520"/>
                    </a:lnTo>
                    <a:lnTo>
                      <a:pt x="616" y="444"/>
                    </a:lnTo>
                    <a:lnTo>
                      <a:pt x="605" y="369"/>
                    </a:lnTo>
                    <a:lnTo>
                      <a:pt x="591" y="295"/>
                    </a:lnTo>
                    <a:lnTo>
                      <a:pt x="570" y="221"/>
                    </a:lnTo>
                    <a:lnTo>
                      <a:pt x="546" y="147"/>
                    </a:lnTo>
                    <a:lnTo>
                      <a:pt x="529" y="110"/>
                    </a:lnTo>
                    <a:lnTo>
                      <a:pt x="511" y="74"/>
                    </a:lnTo>
                    <a:lnTo>
                      <a:pt x="492" y="39"/>
                    </a:lnTo>
                    <a:lnTo>
                      <a:pt x="473" y="5"/>
                    </a:lnTo>
                    <a:lnTo>
                      <a:pt x="465" y="0"/>
                    </a:lnTo>
                    <a:lnTo>
                      <a:pt x="36" y="0"/>
                    </a:lnTo>
                    <a:lnTo>
                      <a:pt x="28" y="5"/>
                    </a:lnTo>
                    <a:lnTo>
                      <a:pt x="28" y="10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465" y="16"/>
                    </a:lnTo>
                    <a:lnTo>
                      <a:pt x="465" y="7"/>
                    </a:lnTo>
                    <a:lnTo>
                      <a:pt x="460" y="12"/>
                    </a:lnTo>
                    <a:lnTo>
                      <a:pt x="478" y="48"/>
                    </a:lnTo>
                    <a:lnTo>
                      <a:pt x="497" y="83"/>
                    </a:lnTo>
                    <a:lnTo>
                      <a:pt x="513" y="118"/>
                    </a:lnTo>
                    <a:lnTo>
                      <a:pt x="529" y="152"/>
                    </a:lnTo>
                    <a:lnTo>
                      <a:pt x="554" y="226"/>
                    </a:lnTo>
                    <a:lnTo>
                      <a:pt x="575" y="299"/>
                    </a:lnTo>
                    <a:lnTo>
                      <a:pt x="589" y="371"/>
                    </a:lnTo>
                    <a:lnTo>
                      <a:pt x="600" y="447"/>
                    </a:lnTo>
                    <a:lnTo>
                      <a:pt x="605" y="520"/>
                    </a:lnTo>
                    <a:lnTo>
                      <a:pt x="608" y="590"/>
                    </a:lnTo>
                    <a:lnTo>
                      <a:pt x="605" y="649"/>
                    </a:lnTo>
                    <a:lnTo>
                      <a:pt x="603" y="709"/>
                    </a:lnTo>
                    <a:lnTo>
                      <a:pt x="598" y="762"/>
                    </a:lnTo>
                    <a:lnTo>
                      <a:pt x="591" y="817"/>
                    </a:lnTo>
                    <a:lnTo>
                      <a:pt x="575" y="916"/>
                    </a:lnTo>
                    <a:lnTo>
                      <a:pt x="557" y="1002"/>
                    </a:lnTo>
                    <a:lnTo>
                      <a:pt x="538" y="1075"/>
                    </a:lnTo>
                    <a:lnTo>
                      <a:pt x="522" y="1129"/>
                    </a:lnTo>
                    <a:lnTo>
                      <a:pt x="511" y="1165"/>
                    </a:lnTo>
                    <a:lnTo>
                      <a:pt x="508" y="1175"/>
                    </a:lnTo>
                    <a:lnTo>
                      <a:pt x="513" y="1177"/>
                    </a:lnTo>
                    <a:lnTo>
                      <a:pt x="511" y="1170"/>
                    </a:lnTo>
                    <a:lnTo>
                      <a:pt x="473" y="1184"/>
                    </a:lnTo>
                    <a:lnTo>
                      <a:pt x="439" y="1195"/>
                    </a:lnTo>
                    <a:lnTo>
                      <a:pt x="368" y="1207"/>
                    </a:lnTo>
                    <a:lnTo>
                      <a:pt x="303" y="1216"/>
                    </a:lnTo>
                    <a:lnTo>
                      <a:pt x="244" y="1218"/>
                    </a:lnTo>
                    <a:lnTo>
                      <a:pt x="193" y="1218"/>
                    </a:lnTo>
                    <a:lnTo>
                      <a:pt x="147" y="1211"/>
                    </a:lnTo>
                    <a:lnTo>
                      <a:pt x="106" y="1205"/>
                    </a:lnTo>
                    <a:lnTo>
                      <a:pt x="71" y="1195"/>
                    </a:lnTo>
                    <a:lnTo>
                      <a:pt x="46" y="1186"/>
                    </a:lnTo>
                    <a:lnTo>
                      <a:pt x="28" y="1177"/>
                    </a:lnTo>
                    <a:lnTo>
                      <a:pt x="14" y="1172"/>
                    </a:lnTo>
                    <a:lnTo>
                      <a:pt x="11" y="1170"/>
                    </a:lnTo>
                    <a:lnTo>
                      <a:pt x="6" y="1177"/>
                    </a:lnTo>
                    <a:lnTo>
                      <a:pt x="14" y="1184"/>
                    </a:lnTo>
                    <a:lnTo>
                      <a:pt x="30" y="1156"/>
                    </a:lnTo>
                    <a:lnTo>
                      <a:pt x="46" y="1129"/>
                    </a:lnTo>
                    <a:lnTo>
                      <a:pt x="60" y="1100"/>
                    </a:lnTo>
                    <a:lnTo>
                      <a:pt x="73" y="1070"/>
                    </a:lnTo>
                    <a:lnTo>
                      <a:pt x="96" y="1011"/>
                    </a:lnTo>
                    <a:lnTo>
                      <a:pt x="112" y="946"/>
                    </a:lnTo>
                    <a:lnTo>
                      <a:pt x="122" y="878"/>
                    </a:lnTo>
                    <a:lnTo>
                      <a:pt x="131" y="808"/>
                    </a:lnTo>
                    <a:lnTo>
                      <a:pt x="136" y="739"/>
                    </a:lnTo>
                    <a:lnTo>
                      <a:pt x="136" y="668"/>
                    </a:lnTo>
                    <a:lnTo>
                      <a:pt x="136" y="592"/>
                    </a:lnTo>
                    <a:lnTo>
                      <a:pt x="131" y="520"/>
                    </a:lnTo>
                    <a:lnTo>
                      <a:pt x="122" y="417"/>
                    </a:lnTo>
                    <a:lnTo>
                      <a:pt x="108" y="323"/>
                    </a:lnTo>
                    <a:lnTo>
                      <a:pt x="96" y="237"/>
                    </a:lnTo>
                    <a:lnTo>
                      <a:pt x="80" y="159"/>
                    </a:lnTo>
                    <a:lnTo>
                      <a:pt x="52" y="48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6" y="16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34280" y="3436200"/>
                <a:ext cx="96840" cy="182160"/>
              </a:xfrm>
              <a:custGeom>
                <a:avLst/>
                <a:gdLst/>
                <a:ahLst/>
                <a:rect l="l" t="t" r="r" b="b"/>
                <a:pathLst>
                  <a:path w="621" h="1227">
                    <a:moveTo>
                      <a:pt x="41" y="0"/>
                    </a:moveTo>
                    <a:lnTo>
                      <a:pt x="48" y="38"/>
                    </a:lnTo>
                    <a:lnTo>
                      <a:pt x="71" y="135"/>
                    </a:lnTo>
                    <a:lnTo>
                      <a:pt x="84" y="203"/>
                    </a:lnTo>
                    <a:lnTo>
                      <a:pt x="94" y="281"/>
                    </a:lnTo>
                    <a:lnTo>
                      <a:pt x="108" y="367"/>
                    </a:lnTo>
                    <a:lnTo>
                      <a:pt x="117" y="459"/>
                    </a:lnTo>
                    <a:lnTo>
                      <a:pt x="124" y="555"/>
                    </a:lnTo>
                    <a:lnTo>
                      <a:pt x="127" y="656"/>
                    </a:lnTo>
                    <a:lnTo>
                      <a:pt x="124" y="755"/>
                    </a:lnTo>
                    <a:lnTo>
                      <a:pt x="119" y="804"/>
                    </a:lnTo>
                    <a:lnTo>
                      <a:pt x="117" y="852"/>
                    </a:lnTo>
                    <a:lnTo>
                      <a:pt x="108" y="901"/>
                    </a:lnTo>
                    <a:lnTo>
                      <a:pt x="100" y="947"/>
                    </a:lnTo>
                    <a:lnTo>
                      <a:pt x="89" y="995"/>
                    </a:lnTo>
                    <a:lnTo>
                      <a:pt x="76" y="1039"/>
                    </a:lnTo>
                    <a:lnTo>
                      <a:pt x="60" y="1082"/>
                    </a:lnTo>
                    <a:lnTo>
                      <a:pt x="43" y="1122"/>
                    </a:lnTo>
                    <a:lnTo>
                      <a:pt x="25" y="1160"/>
                    </a:lnTo>
                    <a:lnTo>
                      <a:pt x="0" y="1198"/>
                    </a:lnTo>
                    <a:lnTo>
                      <a:pt x="11" y="1200"/>
                    </a:lnTo>
                    <a:lnTo>
                      <a:pt x="38" y="1209"/>
                    </a:lnTo>
                    <a:lnTo>
                      <a:pt x="84" y="1220"/>
                    </a:lnTo>
                    <a:lnTo>
                      <a:pt x="144" y="1225"/>
                    </a:lnTo>
                    <a:lnTo>
                      <a:pt x="181" y="1227"/>
                    </a:lnTo>
                    <a:lnTo>
                      <a:pt x="219" y="1227"/>
                    </a:lnTo>
                    <a:lnTo>
                      <a:pt x="262" y="1227"/>
                    </a:lnTo>
                    <a:lnTo>
                      <a:pt x="308" y="1222"/>
                    </a:lnTo>
                    <a:lnTo>
                      <a:pt x="356" y="1214"/>
                    </a:lnTo>
                    <a:lnTo>
                      <a:pt x="407" y="1204"/>
                    </a:lnTo>
                    <a:lnTo>
                      <a:pt x="464" y="1190"/>
                    </a:lnTo>
                    <a:lnTo>
                      <a:pt x="522" y="1170"/>
                    </a:lnTo>
                    <a:lnTo>
                      <a:pt x="532" y="1142"/>
                    </a:lnTo>
                    <a:lnTo>
                      <a:pt x="556" y="1057"/>
                    </a:lnTo>
                    <a:lnTo>
                      <a:pt x="570" y="999"/>
                    </a:lnTo>
                    <a:lnTo>
                      <a:pt x="586" y="931"/>
                    </a:lnTo>
                    <a:lnTo>
                      <a:pt x="600" y="852"/>
                    </a:lnTo>
                    <a:lnTo>
                      <a:pt x="610" y="769"/>
                    </a:lnTo>
                    <a:lnTo>
                      <a:pt x="618" y="680"/>
                    </a:lnTo>
                    <a:lnTo>
                      <a:pt x="621" y="585"/>
                    </a:lnTo>
                    <a:lnTo>
                      <a:pt x="621" y="537"/>
                    </a:lnTo>
                    <a:lnTo>
                      <a:pt x="618" y="488"/>
                    </a:lnTo>
                    <a:lnTo>
                      <a:pt x="613" y="440"/>
                    </a:lnTo>
                    <a:lnTo>
                      <a:pt x="607" y="391"/>
                    </a:lnTo>
                    <a:lnTo>
                      <a:pt x="600" y="340"/>
                    </a:lnTo>
                    <a:lnTo>
                      <a:pt x="589" y="292"/>
                    </a:lnTo>
                    <a:lnTo>
                      <a:pt x="578" y="240"/>
                    </a:lnTo>
                    <a:lnTo>
                      <a:pt x="561" y="191"/>
                    </a:lnTo>
                    <a:lnTo>
                      <a:pt x="543" y="143"/>
                    </a:lnTo>
                    <a:lnTo>
                      <a:pt x="522" y="95"/>
                    </a:lnTo>
                    <a:lnTo>
                      <a:pt x="499" y="49"/>
                    </a:lnTo>
                    <a:lnTo>
                      <a:pt x="473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8f6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34280" y="3434760"/>
                <a:ext cx="98280" cy="185040"/>
              </a:xfrm>
              <a:custGeom>
                <a:avLst/>
                <a:gdLst/>
                <a:ahLst/>
                <a:rect l="l" t="t" r="r" b="b"/>
                <a:pathLst>
                  <a:path w="638" h="1243">
                    <a:moveTo>
                      <a:pt x="49" y="7"/>
                    </a:moveTo>
                    <a:lnTo>
                      <a:pt x="40" y="10"/>
                    </a:lnTo>
                    <a:lnTo>
                      <a:pt x="54" y="67"/>
                    </a:lnTo>
                    <a:lnTo>
                      <a:pt x="76" y="169"/>
                    </a:lnTo>
                    <a:lnTo>
                      <a:pt x="86" y="237"/>
                    </a:lnTo>
                    <a:lnTo>
                      <a:pt x="100" y="313"/>
                    </a:lnTo>
                    <a:lnTo>
                      <a:pt x="108" y="396"/>
                    </a:lnTo>
                    <a:lnTo>
                      <a:pt x="119" y="482"/>
                    </a:lnTo>
                    <a:lnTo>
                      <a:pt x="125" y="574"/>
                    </a:lnTo>
                    <a:lnTo>
                      <a:pt x="127" y="668"/>
                    </a:lnTo>
                    <a:lnTo>
                      <a:pt x="125" y="741"/>
                    </a:lnTo>
                    <a:lnTo>
                      <a:pt x="119" y="813"/>
                    </a:lnTo>
                    <a:lnTo>
                      <a:pt x="111" y="887"/>
                    </a:lnTo>
                    <a:lnTo>
                      <a:pt x="100" y="956"/>
                    </a:lnTo>
                    <a:lnTo>
                      <a:pt x="81" y="1024"/>
                    </a:lnTo>
                    <a:lnTo>
                      <a:pt x="63" y="1087"/>
                    </a:lnTo>
                    <a:lnTo>
                      <a:pt x="49" y="1116"/>
                    </a:lnTo>
                    <a:lnTo>
                      <a:pt x="35" y="1145"/>
                    </a:lnTo>
                    <a:lnTo>
                      <a:pt x="19" y="1172"/>
                    </a:lnTo>
                    <a:lnTo>
                      <a:pt x="3" y="1200"/>
                    </a:lnTo>
                    <a:lnTo>
                      <a:pt x="0" y="1207"/>
                    </a:lnTo>
                    <a:lnTo>
                      <a:pt x="5" y="1213"/>
                    </a:lnTo>
                    <a:lnTo>
                      <a:pt x="19" y="1218"/>
                    </a:lnTo>
                    <a:lnTo>
                      <a:pt x="63" y="1229"/>
                    </a:lnTo>
                    <a:lnTo>
                      <a:pt x="92" y="1234"/>
                    </a:lnTo>
                    <a:lnTo>
                      <a:pt x="127" y="1237"/>
                    </a:lnTo>
                    <a:lnTo>
                      <a:pt x="168" y="1243"/>
                    </a:lnTo>
                    <a:lnTo>
                      <a:pt x="213" y="1243"/>
                    </a:lnTo>
                    <a:lnTo>
                      <a:pt x="281" y="1240"/>
                    </a:lnTo>
                    <a:lnTo>
                      <a:pt x="318" y="1237"/>
                    </a:lnTo>
                    <a:lnTo>
                      <a:pt x="357" y="1232"/>
                    </a:lnTo>
                    <a:lnTo>
                      <a:pt x="399" y="1223"/>
                    </a:lnTo>
                    <a:lnTo>
                      <a:pt x="440" y="1213"/>
                    </a:lnTo>
                    <a:lnTo>
                      <a:pt x="486" y="1200"/>
                    </a:lnTo>
                    <a:lnTo>
                      <a:pt x="532" y="1186"/>
                    </a:lnTo>
                    <a:lnTo>
                      <a:pt x="537" y="1181"/>
                    </a:lnTo>
                    <a:lnTo>
                      <a:pt x="551" y="1135"/>
                    </a:lnTo>
                    <a:lnTo>
                      <a:pt x="567" y="1078"/>
                    </a:lnTo>
                    <a:lnTo>
                      <a:pt x="586" y="1006"/>
                    </a:lnTo>
                    <a:lnTo>
                      <a:pt x="604" y="919"/>
                    </a:lnTo>
                    <a:lnTo>
                      <a:pt x="621" y="820"/>
                    </a:lnTo>
                    <a:lnTo>
                      <a:pt x="629" y="765"/>
                    </a:lnTo>
                    <a:lnTo>
                      <a:pt x="632" y="709"/>
                    </a:lnTo>
                    <a:lnTo>
                      <a:pt x="638" y="652"/>
                    </a:lnTo>
                    <a:lnTo>
                      <a:pt x="638" y="590"/>
                    </a:lnTo>
                    <a:lnTo>
                      <a:pt x="634" y="520"/>
                    </a:lnTo>
                    <a:lnTo>
                      <a:pt x="629" y="444"/>
                    </a:lnTo>
                    <a:lnTo>
                      <a:pt x="621" y="369"/>
                    </a:lnTo>
                    <a:lnTo>
                      <a:pt x="604" y="295"/>
                    </a:lnTo>
                    <a:lnTo>
                      <a:pt x="586" y="221"/>
                    </a:lnTo>
                    <a:lnTo>
                      <a:pt x="559" y="147"/>
                    </a:lnTo>
                    <a:lnTo>
                      <a:pt x="543" y="110"/>
                    </a:lnTo>
                    <a:lnTo>
                      <a:pt x="527" y="74"/>
                    </a:lnTo>
                    <a:lnTo>
                      <a:pt x="507" y="39"/>
                    </a:lnTo>
                    <a:lnTo>
                      <a:pt x="486" y="5"/>
                    </a:lnTo>
                    <a:lnTo>
                      <a:pt x="481" y="0"/>
                    </a:lnTo>
                    <a:lnTo>
                      <a:pt x="49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81" y="16"/>
                    </a:lnTo>
                    <a:lnTo>
                      <a:pt x="481" y="7"/>
                    </a:lnTo>
                    <a:lnTo>
                      <a:pt x="472" y="12"/>
                    </a:lnTo>
                    <a:lnTo>
                      <a:pt x="494" y="48"/>
                    </a:lnTo>
                    <a:lnTo>
                      <a:pt x="510" y="83"/>
                    </a:lnTo>
                    <a:lnTo>
                      <a:pt x="530" y="118"/>
                    </a:lnTo>
                    <a:lnTo>
                      <a:pt x="543" y="152"/>
                    </a:lnTo>
                    <a:lnTo>
                      <a:pt x="569" y="226"/>
                    </a:lnTo>
                    <a:lnTo>
                      <a:pt x="588" y="299"/>
                    </a:lnTo>
                    <a:lnTo>
                      <a:pt x="604" y="371"/>
                    </a:lnTo>
                    <a:lnTo>
                      <a:pt x="613" y="447"/>
                    </a:lnTo>
                    <a:lnTo>
                      <a:pt x="618" y="520"/>
                    </a:lnTo>
                    <a:lnTo>
                      <a:pt x="621" y="590"/>
                    </a:lnTo>
                    <a:lnTo>
                      <a:pt x="621" y="649"/>
                    </a:lnTo>
                    <a:lnTo>
                      <a:pt x="615" y="709"/>
                    </a:lnTo>
                    <a:lnTo>
                      <a:pt x="613" y="762"/>
                    </a:lnTo>
                    <a:lnTo>
                      <a:pt x="604" y="817"/>
                    </a:lnTo>
                    <a:lnTo>
                      <a:pt x="588" y="916"/>
                    </a:lnTo>
                    <a:lnTo>
                      <a:pt x="572" y="1002"/>
                    </a:lnTo>
                    <a:lnTo>
                      <a:pt x="553" y="1075"/>
                    </a:lnTo>
                    <a:lnTo>
                      <a:pt x="537" y="1129"/>
                    </a:lnTo>
                    <a:lnTo>
                      <a:pt x="527" y="1165"/>
                    </a:lnTo>
                    <a:lnTo>
                      <a:pt x="521" y="1175"/>
                    </a:lnTo>
                    <a:lnTo>
                      <a:pt x="530" y="1177"/>
                    </a:lnTo>
                    <a:lnTo>
                      <a:pt x="527" y="1170"/>
                    </a:lnTo>
                    <a:lnTo>
                      <a:pt x="481" y="1186"/>
                    </a:lnTo>
                    <a:lnTo>
                      <a:pt x="438" y="1197"/>
                    </a:lnTo>
                    <a:lnTo>
                      <a:pt x="394" y="1207"/>
                    </a:lnTo>
                    <a:lnTo>
                      <a:pt x="353" y="1216"/>
                    </a:lnTo>
                    <a:lnTo>
                      <a:pt x="316" y="1221"/>
                    </a:lnTo>
                    <a:lnTo>
                      <a:pt x="281" y="1223"/>
                    </a:lnTo>
                    <a:lnTo>
                      <a:pt x="213" y="1227"/>
                    </a:lnTo>
                    <a:lnTo>
                      <a:pt x="168" y="1227"/>
                    </a:lnTo>
                    <a:lnTo>
                      <a:pt x="127" y="1223"/>
                    </a:lnTo>
                    <a:lnTo>
                      <a:pt x="95" y="1218"/>
                    </a:lnTo>
                    <a:lnTo>
                      <a:pt x="65" y="1213"/>
                    </a:lnTo>
                    <a:lnTo>
                      <a:pt x="24" y="1202"/>
                    </a:lnTo>
                    <a:lnTo>
                      <a:pt x="17" y="1200"/>
                    </a:lnTo>
                    <a:lnTo>
                      <a:pt x="12" y="1197"/>
                    </a:lnTo>
                    <a:lnTo>
                      <a:pt x="8" y="1205"/>
                    </a:lnTo>
                    <a:lnTo>
                      <a:pt x="17" y="1211"/>
                    </a:lnTo>
                    <a:lnTo>
                      <a:pt x="33" y="1181"/>
                    </a:lnTo>
                    <a:lnTo>
                      <a:pt x="49" y="1154"/>
                    </a:lnTo>
                    <a:lnTo>
                      <a:pt x="63" y="1124"/>
                    </a:lnTo>
                    <a:lnTo>
                      <a:pt x="76" y="1092"/>
                    </a:lnTo>
                    <a:lnTo>
                      <a:pt x="97" y="1027"/>
                    </a:lnTo>
                    <a:lnTo>
                      <a:pt x="116" y="960"/>
                    </a:lnTo>
                    <a:lnTo>
                      <a:pt x="127" y="889"/>
                    </a:lnTo>
                    <a:lnTo>
                      <a:pt x="135" y="817"/>
                    </a:lnTo>
                    <a:lnTo>
                      <a:pt x="141" y="741"/>
                    </a:lnTo>
                    <a:lnTo>
                      <a:pt x="143" y="668"/>
                    </a:lnTo>
                    <a:lnTo>
                      <a:pt x="141" y="603"/>
                    </a:lnTo>
                    <a:lnTo>
                      <a:pt x="138" y="541"/>
                    </a:lnTo>
                    <a:lnTo>
                      <a:pt x="130" y="423"/>
                    </a:lnTo>
                    <a:lnTo>
                      <a:pt x="116" y="309"/>
                    </a:lnTo>
                    <a:lnTo>
                      <a:pt x="100" y="212"/>
                    </a:lnTo>
                    <a:lnTo>
                      <a:pt x="84" y="126"/>
                    </a:lnTo>
                    <a:lnTo>
                      <a:pt x="70" y="62"/>
                    </a:lnTo>
                    <a:lnTo>
                      <a:pt x="56" y="7"/>
                    </a:lnTo>
                    <a:lnTo>
                      <a:pt x="49" y="7"/>
                    </a:lnTo>
                    <a:lnTo>
                      <a:pt x="49" y="16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37520" y="3533040"/>
                <a:ext cx="92160" cy="85320"/>
              </a:xfrm>
              <a:custGeom>
                <a:avLst/>
                <a:gdLst/>
                <a:ahLst/>
                <a:rect l="l" t="t" r="r" b="b"/>
                <a:pathLst>
                  <a:path w="599" h="567">
                    <a:moveTo>
                      <a:pt x="599" y="0"/>
                    </a:moveTo>
                    <a:lnTo>
                      <a:pt x="570" y="29"/>
                    </a:lnTo>
                    <a:lnTo>
                      <a:pt x="540" y="56"/>
                    </a:lnTo>
                    <a:lnTo>
                      <a:pt x="508" y="81"/>
                    </a:lnTo>
                    <a:lnTo>
                      <a:pt x="475" y="102"/>
                    </a:lnTo>
                    <a:lnTo>
                      <a:pt x="443" y="119"/>
                    </a:lnTo>
                    <a:lnTo>
                      <a:pt x="405" y="132"/>
                    </a:lnTo>
                    <a:lnTo>
                      <a:pt x="367" y="137"/>
                    </a:lnTo>
                    <a:lnTo>
                      <a:pt x="329" y="141"/>
                    </a:lnTo>
                    <a:lnTo>
                      <a:pt x="305" y="141"/>
                    </a:lnTo>
                    <a:lnTo>
                      <a:pt x="278" y="137"/>
                    </a:lnTo>
                    <a:lnTo>
                      <a:pt x="251" y="132"/>
                    </a:lnTo>
                    <a:lnTo>
                      <a:pt x="224" y="125"/>
                    </a:lnTo>
                    <a:lnTo>
                      <a:pt x="197" y="107"/>
                    </a:lnTo>
                    <a:lnTo>
                      <a:pt x="170" y="91"/>
                    </a:lnTo>
                    <a:lnTo>
                      <a:pt x="146" y="73"/>
                    </a:lnTo>
                    <a:lnTo>
                      <a:pt x="119" y="51"/>
                    </a:lnTo>
                    <a:lnTo>
                      <a:pt x="116" y="119"/>
                    </a:lnTo>
                    <a:lnTo>
                      <a:pt x="110" y="183"/>
                    </a:lnTo>
                    <a:lnTo>
                      <a:pt x="103" y="251"/>
                    </a:lnTo>
                    <a:lnTo>
                      <a:pt x="89" y="312"/>
                    </a:lnTo>
                    <a:lnTo>
                      <a:pt x="73" y="375"/>
                    </a:lnTo>
                    <a:lnTo>
                      <a:pt x="54" y="434"/>
                    </a:lnTo>
                    <a:lnTo>
                      <a:pt x="29" y="489"/>
                    </a:lnTo>
                    <a:lnTo>
                      <a:pt x="13" y="515"/>
                    </a:lnTo>
                    <a:lnTo>
                      <a:pt x="0" y="540"/>
                    </a:lnTo>
                    <a:lnTo>
                      <a:pt x="2" y="542"/>
                    </a:lnTo>
                    <a:lnTo>
                      <a:pt x="43" y="553"/>
                    </a:lnTo>
                    <a:lnTo>
                      <a:pt x="73" y="558"/>
                    </a:lnTo>
                    <a:lnTo>
                      <a:pt x="105" y="563"/>
                    </a:lnTo>
                    <a:lnTo>
                      <a:pt x="146" y="567"/>
                    </a:lnTo>
                    <a:lnTo>
                      <a:pt x="191" y="567"/>
                    </a:lnTo>
                    <a:lnTo>
                      <a:pt x="257" y="563"/>
                    </a:lnTo>
                    <a:lnTo>
                      <a:pt x="294" y="561"/>
                    </a:lnTo>
                    <a:lnTo>
                      <a:pt x="331" y="556"/>
                    </a:lnTo>
                    <a:lnTo>
                      <a:pt x="372" y="547"/>
                    </a:lnTo>
                    <a:lnTo>
                      <a:pt x="413" y="540"/>
                    </a:lnTo>
                    <a:lnTo>
                      <a:pt x="456" y="526"/>
                    </a:lnTo>
                    <a:lnTo>
                      <a:pt x="499" y="512"/>
                    </a:lnTo>
                    <a:lnTo>
                      <a:pt x="505" y="505"/>
                    </a:lnTo>
                    <a:lnTo>
                      <a:pt x="515" y="469"/>
                    </a:lnTo>
                    <a:lnTo>
                      <a:pt x="531" y="415"/>
                    </a:lnTo>
                    <a:lnTo>
                      <a:pt x="550" y="342"/>
                    </a:lnTo>
                    <a:lnTo>
                      <a:pt x="564" y="270"/>
                    </a:lnTo>
                    <a:lnTo>
                      <a:pt x="580" y="186"/>
                    </a:lnTo>
                    <a:lnTo>
                      <a:pt x="591" y="95"/>
                    </a:lnTo>
                    <a:lnTo>
                      <a:pt x="599" y="0"/>
                    </a:lnTo>
                    <a:close/>
                  </a:path>
                </a:pathLst>
              </a:custGeom>
              <a:solidFill>
                <a:srgbClr val="f2e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34280" y="3531600"/>
                <a:ext cx="96840" cy="86760"/>
              </a:xfrm>
              <a:custGeom>
                <a:avLst/>
                <a:gdLst/>
                <a:ahLst/>
                <a:rect l="l" t="t" r="r" b="b"/>
                <a:pathLst>
                  <a:path w="618" h="585">
                    <a:moveTo>
                      <a:pt x="618" y="0"/>
                    </a:moveTo>
                    <a:lnTo>
                      <a:pt x="613" y="11"/>
                    </a:lnTo>
                    <a:lnTo>
                      <a:pt x="605" y="106"/>
                    </a:lnTo>
                    <a:lnTo>
                      <a:pt x="594" y="197"/>
                    </a:lnTo>
                    <a:lnTo>
                      <a:pt x="578" y="281"/>
                    </a:lnTo>
                    <a:lnTo>
                      <a:pt x="564" y="353"/>
                    </a:lnTo>
                    <a:lnTo>
                      <a:pt x="545" y="426"/>
                    </a:lnTo>
                    <a:lnTo>
                      <a:pt x="529" y="480"/>
                    </a:lnTo>
                    <a:lnTo>
                      <a:pt x="519" y="516"/>
                    </a:lnTo>
                    <a:lnTo>
                      <a:pt x="513" y="523"/>
                    </a:lnTo>
                    <a:lnTo>
                      <a:pt x="470" y="537"/>
                    </a:lnTo>
                    <a:lnTo>
                      <a:pt x="427" y="551"/>
                    </a:lnTo>
                    <a:lnTo>
                      <a:pt x="386" y="558"/>
                    </a:lnTo>
                    <a:lnTo>
                      <a:pt x="345" y="567"/>
                    </a:lnTo>
                    <a:lnTo>
                      <a:pt x="308" y="572"/>
                    </a:lnTo>
                    <a:lnTo>
                      <a:pt x="271" y="574"/>
                    </a:lnTo>
                    <a:lnTo>
                      <a:pt x="205" y="578"/>
                    </a:lnTo>
                    <a:lnTo>
                      <a:pt x="160" y="578"/>
                    </a:lnTo>
                    <a:lnTo>
                      <a:pt x="119" y="574"/>
                    </a:lnTo>
                    <a:lnTo>
                      <a:pt x="87" y="569"/>
                    </a:lnTo>
                    <a:lnTo>
                      <a:pt x="57" y="564"/>
                    </a:lnTo>
                    <a:lnTo>
                      <a:pt x="16" y="553"/>
                    </a:lnTo>
                    <a:lnTo>
                      <a:pt x="14" y="551"/>
                    </a:lnTo>
                    <a:lnTo>
                      <a:pt x="27" y="526"/>
                    </a:lnTo>
                    <a:lnTo>
                      <a:pt x="43" y="500"/>
                    </a:lnTo>
                    <a:lnTo>
                      <a:pt x="68" y="445"/>
                    </a:lnTo>
                    <a:lnTo>
                      <a:pt x="87" y="386"/>
                    </a:lnTo>
                    <a:lnTo>
                      <a:pt x="103" y="323"/>
                    </a:lnTo>
                    <a:lnTo>
                      <a:pt x="117" y="262"/>
                    </a:lnTo>
                    <a:lnTo>
                      <a:pt x="124" y="194"/>
                    </a:lnTo>
                    <a:lnTo>
                      <a:pt x="130" y="130"/>
                    </a:lnTo>
                    <a:lnTo>
                      <a:pt x="133" y="62"/>
                    </a:lnTo>
                    <a:lnTo>
                      <a:pt x="124" y="54"/>
                    </a:lnTo>
                    <a:lnTo>
                      <a:pt x="122" y="125"/>
                    </a:lnTo>
                    <a:lnTo>
                      <a:pt x="117" y="192"/>
                    </a:lnTo>
                    <a:lnTo>
                      <a:pt x="108" y="259"/>
                    </a:lnTo>
                    <a:lnTo>
                      <a:pt x="94" y="327"/>
                    </a:lnTo>
                    <a:lnTo>
                      <a:pt x="78" y="389"/>
                    </a:lnTo>
                    <a:lnTo>
                      <a:pt x="57" y="448"/>
                    </a:lnTo>
                    <a:lnTo>
                      <a:pt x="32" y="505"/>
                    </a:lnTo>
                    <a:lnTo>
                      <a:pt x="16" y="532"/>
                    </a:lnTo>
                    <a:lnTo>
                      <a:pt x="0" y="556"/>
                    </a:lnTo>
                    <a:lnTo>
                      <a:pt x="14" y="562"/>
                    </a:lnTo>
                    <a:lnTo>
                      <a:pt x="55" y="572"/>
                    </a:lnTo>
                    <a:lnTo>
                      <a:pt x="84" y="578"/>
                    </a:lnTo>
                    <a:lnTo>
                      <a:pt x="119" y="583"/>
                    </a:lnTo>
                    <a:lnTo>
                      <a:pt x="160" y="585"/>
                    </a:lnTo>
                    <a:lnTo>
                      <a:pt x="205" y="585"/>
                    </a:lnTo>
                    <a:lnTo>
                      <a:pt x="273" y="583"/>
                    </a:lnTo>
                    <a:lnTo>
                      <a:pt x="310" y="580"/>
                    </a:lnTo>
                    <a:lnTo>
                      <a:pt x="349" y="574"/>
                    </a:lnTo>
                    <a:lnTo>
                      <a:pt x="389" y="567"/>
                    </a:lnTo>
                    <a:lnTo>
                      <a:pt x="432" y="556"/>
                    </a:lnTo>
                    <a:lnTo>
                      <a:pt x="476" y="546"/>
                    </a:lnTo>
                    <a:lnTo>
                      <a:pt x="522" y="528"/>
                    </a:lnTo>
                    <a:lnTo>
                      <a:pt x="535" y="489"/>
                    </a:lnTo>
                    <a:lnTo>
                      <a:pt x="548" y="440"/>
                    </a:lnTo>
                    <a:lnTo>
                      <a:pt x="567" y="375"/>
                    </a:lnTo>
                    <a:lnTo>
                      <a:pt x="584" y="297"/>
                    </a:lnTo>
                    <a:lnTo>
                      <a:pt x="600" y="208"/>
                    </a:lnTo>
                    <a:lnTo>
                      <a:pt x="613" y="108"/>
                    </a:lnTo>
                    <a:lnTo>
                      <a:pt x="616" y="54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753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1640" y="3326760"/>
                <a:ext cx="518040" cy="34200"/>
              </a:xfrm>
              <a:custGeom>
                <a:avLst/>
                <a:gdLst/>
                <a:ahLst/>
                <a:rect l="l" t="t" r="r" b="b"/>
                <a:pathLst>
                  <a:path w="3351" h="238">
                    <a:moveTo>
                      <a:pt x="0" y="0"/>
                    </a:moveTo>
                    <a:lnTo>
                      <a:pt x="2" y="9"/>
                    </a:lnTo>
                    <a:lnTo>
                      <a:pt x="81" y="28"/>
                    </a:lnTo>
                    <a:lnTo>
                      <a:pt x="161" y="44"/>
                    </a:lnTo>
                    <a:lnTo>
                      <a:pt x="323" y="76"/>
                    </a:lnTo>
                    <a:lnTo>
                      <a:pt x="490" y="103"/>
                    </a:lnTo>
                    <a:lnTo>
                      <a:pt x="663" y="131"/>
                    </a:lnTo>
                    <a:lnTo>
                      <a:pt x="893" y="159"/>
                    </a:lnTo>
                    <a:lnTo>
                      <a:pt x="1119" y="182"/>
                    </a:lnTo>
                    <a:lnTo>
                      <a:pt x="1349" y="203"/>
                    </a:lnTo>
                    <a:lnTo>
                      <a:pt x="1572" y="217"/>
                    </a:lnTo>
                    <a:lnTo>
                      <a:pt x="1791" y="228"/>
                    </a:lnTo>
                    <a:lnTo>
                      <a:pt x="2005" y="233"/>
                    </a:lnTo>
                    <a:lnTo>
                      <a:pt x="2210" y="238"/>
                    </a:lnTo>
                    <a:lnTo>
                      <a:pt x="2404" y="238"/>
                    </a:lnTo>
                    <a:lnTo>
                      <a:pt x="2591" y="238"/>
                    </a:lnTo>
                    <a:lnTo>
                      <a:pt x="2760" y="235"/>
                    </a:lnTo>
                    <a:lnTo>
                      <a:pt x="3049" y="225"/>
                    </a:lnTo>
                    <a:lnTo>
                      <a:pt x="3252" y="217"/>
                    </a:lnTo>
                    <a:lnTo>
                      <a:pt x="3351" y="212"/>
                    </a:lnTo>
                    <a:lnTo>
                      <a:pt x="3351" y="209"/>
                    </a:lnTo>
                    <a:lnTo>
                      <a:pt x="3351" y="203"/>
                    </a:lnTo>
                    <a:lnTo>
                      <a:pt x="3341" y="203"/>
                    </a:lnTo>
                    <a:lnTo>
                      <a:pt x="3224" y="209"/>
                    </a:lnTo>
                    <a:lnTo>
                      <a:pt x="3022" y="219"/>
                    </a:lnTo>
                    <a:lnTo>
                      <a:pt x="2744" y="228"/>
                    </a:lnTo>
                    <a:lnTo>
                      <a:pt x="2580" y="230"/>
                    </a:lnTo>
                    <a:lnTo>
                      <a:pt x="2404" y="230"/>
                    </a:lnTo>
                    <a:lnTo>
                      <a:pt x="2210" y="230"/>
                    </a:lnTo>
                    <a:lnTo>
                      <a:pt x="2005" y="225"/>
                    </a:lnTo>
                    <a:lnTo>
                      <a:pt x="1795" y="219"/>
                    </a:lnTo>
                    <a:lnTo>
                      <a:pt x="1572" y="209"/>
                    </a:lnTo>
                    <a:lnTo>
                      <a:pt x="1349" y="195"/>
                    </a:lnTo>
                    <a:lnTo>
                      <a:pt x="1123" y="173"/>
                    </a:lnTo>
                    <a:lnTo>
                      <a:pt x="893" y="152"/>
                    </a:lnTo>
                    <a:lnTo>
                      <a:pt x="666" y="122"/>
                    </a:lnTo>
                    <a:lnTo>
                      <a:pt x="493" y="95"/>
                    </a:lnTo>
                    <a:lnTo>
                      <a:pt x="323" y="69"/>
                    </a:lnTo>
                    <a:lnTo>
                      <a:pt x="159" y="36"/>
                    </a:lnTo>
                    <a:lnTo>
                      <a:pt x="81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49680" y="3274200"/>
                <a:ext cx="100440" cy="112680"/>
              </a:xfrm>
              <a:custGeom>
                <a:avLst/>
                <a:gdLst/>
                <a:ahLst/>
                <a:rect l="l" t="t" r="r" b="b"/>
                <a:pathLst>
                  <a:path w="651" h="755">
                    <a:moveTo>
                      <a:pt x="89" y="108"/>
                    </a:moveTo>
                    <a:lnTo>
                      <a:pt x="95" y="111"/>
                    </a:lnTo>
                    <a:lnTo>
                      <a:pt x="103" y="103"/>
                    </a:lnTo>
                    <a:lnTo>
                      <a:pt x="111" y="92"/>
                    </a:lnTo>
                    <a:lnTo>
                      <a:pt x="135" y="76"/>
                    </a:lnTo>
                    <a:lnTo>
                      <a:pt x="165" y="60"/>
                    </a:lnTo>
                    <a:lnTo>
                      <a:pt x="203" y="44"/>
                    </a:lnTo>
                    <a:lnTo>
                      <a:pt x="243" y="32"/>
                    </a:lnTo>
                    <a:lnTo>
                      <a:pt x="287" y="22"/>
                    </a:lnTo>
                    <a:lnTo>
                      <a:pt x="333" y="16"/>
                    </a:lnTo>
                    <a:lnTo>
                      <a:pt x="378" y="16"/>
                    </a:lnTo>
                    <a:lnTo>
                      <a:pt x="410" y="16"/>
                    </a:lnTo>
                    <a:lnTo>
                      <a:pt x="440" y="20"/>
                    </a:lnTo>
                    <a:lnTo>
                      <a:pt x="470" y="25"/>
                    </a:lnTo>
                    <a:lnTo>
                      <a:pt x="497" y="32"/>
                    </a:lnTo>
                    <a:lnTo>
                      <a:pt x="522" y="44"/>
                    </a:lnTo>
                    <a:lnTo>
                      <a:pt x="543" y="55"/>
                    </a:lnTo>
                    <a:lnTo>
                      <a:pt x="564" y="71"/>
                    </a:lnTo>
                    <a:lnTo>
                      <a:pt x="578" y="89"/>
                    </a:lnTo>
                    <a:lnTo>
                      <a:pt x="591" y="108"/>
                    </a:lnTo>
                    <a:lnTo>
                      <a:pt x="602" y="130"/>
                    </a:lnTo>
                    <a:lnTo>
                      <a:pt x="613" y="154"/>
                    </a:lnTo>
                    <a:lnTo>
                      <a:pt x="621" y="179"/>
                    </a:lnTo>
                    <a:lnTo>
                      <a:pt x="626" y="205"/>
                    </a:lnTo>
                    <a:lnTo>
                      <a:pt x="632" y="232"/>
                    </a:lnTo>
                    <a:lnTo>
                      <a:pt x="635" y="262"/>
                    </a:lnTo>
                    <a:lnTo>
                      <a:pt x="635" y="289"/>
                    </a:lnTo>
                    <a:lnTo>
                      <a:pt x="632" y="335"/>
                    </a:lnTo>
                    <a:lnTo>
                      <a:pt x="626" y="378"/>
                    </a:lnTo>
                    <a:lnTo>
                      <a:pt x="616" y="424"/>
                    </a:lnTo>
                    <a:lnTo>
                      <a:pt x="605" y="467"/>
                    </a:lnTo>
                    <a:lnTo>
                      <a:pt x="586" y="511"/>
                    </a:lnTo>
                    <a:lnTo>
                      <a:pt x="568" y="548"/>
                    </a:lnTo>
                    <a:lnTo>
                      <a:pt x="543" y="586"/>
                    </a:lnTo>
                    <a:lnTo>
                      <a:pt x="513" y="619"/>
                    </a:lnTo>
                    <a:lnTo>
                      <a:pt x="467" y="661"/>
                    </a:lnTo>
                    <a:lnTo>
                      <a:pt x="443" y="683"/>
                    </a:lnTo>
                    <a:lnTo>
                      <a:pt x="416" y="702"/>
                    </a:lnTo>
                    <a:lnTo>
                      <a:pt x="389" y="718"/>
                    </a:lnTo>
                    <a:lnTo>
                      <a:pt x="362" y="729"/>
                    </a:lnTo>
                    <a:lnTo>
                      <a:pt x="333" y="737"/>
                    </a:lnTo>
                    <a:lnTo>
                      <a:pt x="299" y="739"/>
                    </a:lnTo>
                    <a:lnTo>
                      <a:pt x="271" y="737"/>
                    </a:lnTo>
                    <a:lnTo>
                      <a:pt x="241" y="729"/>
                    </a:lnTo>
                    <a:lnTo>
                      <a:pt x="205" y="716"/>
                    </a:lnTo>
                    <a:lnTo>
                      <a:pt x="173" y="697"/>
                    </a:lnTo>
                    <a:lnTo>
                      <a:pt x="135" y="672"/>
                    </a:lnTo>
                    <a:lnTo>
                      <a:pt x="97" y="640"/>
                    </a:lnTo>
                    <a:lnTo>
                      <a:pt x="57" y="599"/>
                    </a:lnTo>
                    <a:lnTo>
                      <a:pt x="14" y="550"/>
                    </a:lnTo>
                    <a:lnTo>
                      <a:pt x="9" y="557"/>
                    </a:lnTo>
                    <a:lnTo>
                      <a:pt x="16" y="557"/>
                    </a:lnTo>
                    <a:lnTo>
                      <a:pt x="97" y="108"/>
                    </a:lnTo>
                    <a:lnTo>
                      <a:pt x="89" y="108"/>
                    </a:lnTo>
                    <a:lnTo>
                      <a:pt x="95" y="111"/>
                    </a:lnTo>
                    <a:lnTo>
                      <a:pt x="89" y="108"/>
                    </a:lnTo>
                    <a:lnTo>
                      <a:pt x="81" y="106"/>
                    </a:lnTo>
                    <a:lnTo>
                      <a:pt x="0" y="554"/>
                    </a:lnTo>
                    <a:lnTo>
                      <a:pt x="3" y="562"/>
                    </a:lnTo>
                    <a:lnTo>
                      <a:pt x="46" y="610"/>
                    </a:lnTo>
                    <a:lnTo>
                      <a:pt x="87" y="651"/>
                    </a:lnTo>
                    <a:lnTo>
                      <a:pt x="124" y="686"/>
                    </a:lnTo>
                    <a:lnTo>
                      <a:pt x="163" y="709"/>
                    </a:lnTo>
                    <a:lnTo>
                      <a:pt x="200" y="732"/>
                    </a:lnTo>
                    <a:lnTo>
                      <a:pt x="235" y="745"/>
                    </a:lnTo>
                    <a:lnTo>
                      <a:pt x="267" y="753"/>
                    </a:lnTo>
                    <a:lnTo>
                      <a:pt x="299" y="755"/>
                    </a:lnTo>
                    <a:lnTo>
                      <a:pt x="335" y="753"/>
                    </a:lnTo>
                    <a:lnTo>
                      <a:pt x="368" y="745"/>
                    </a:lnTo>
                    <a:lnTo>
                      <a:pt x="397" y="732"/>
                    </a:lnTo>
                    <a:lnTo>
                      <a:pt x="424" y="716"/>
                    </a:lnTo>
                    <a:lnTo>
                      <a:pt x="453" y="697"/>
                    </a:lnTo>
                    <a:lnTo>
                      <a:pt x="478" y="675"/>
                    </a:lnTo>
                    <a:lnTo>
                      <a:pt x="527" y="629"/>
                    </a:lnTo>
                    <a:lnTo>
                      <a:pt x="554" y="594"/>
                    </a:lnTo>
                    <a:lnTo>
                      <a:pt x="580" y="557"/>
                    </a:lnTo>
                    <a:lnTo>
                      <a:pt x="602" y="516"/>
                    </a:lnTo>
                    <a:lnTo>
                      <a:pt x="619" y="472"/>
                    </a:lnTo>
                    <a:lnTo>
                      <a:pt x="632" y="426"/>
                    </a:lnTo>
                    <a:lnTo>
                      <a:pt x="642" y="381"/>
                    </a:lnTo>
                    <a:lnTo>
                      <a:pt x="648" y="335"/>
                    </a:lnTo>
                    <a:lnTo>
                      <a:pt x="651" y="289"/>
                    </a:lnTo>
                    <a:lnTo>
                      <a:pt x="651" y="260"/>
                    </a:lnTo>
                    <a:lnTo>
                      <a:pt x="648" y="230"/>
                    </a:lnTo>
                    <a:lnTo>
                      <a:pt x="642" y="203"/>
                    </a:lnTo>
                    <a:lnTo>
                      <a:pt x="637" y="176"/>
                    </a:lnTo>
                    <a:lnTo>
                      <a:pt x="630" y="149"/>
                    </a:lnTo>
                    <a:lnTo>
                      <a:pt x="619" y="124"/>
                    </a:lnTo>
                    <a:lnTo>
                      <a:pt x="605" y="101"/>
                    </a:lnTo>
                    <a:lnTo>
                      <a:pt x="591" y="78"/>
                    </a:lnTo>
                    <a:lnTo>
                      <a:pt x="575" y="60"/>
                    </a:lnTo>
                    <a:lnTo>
                      <a:pt x="554" y="41"/>
                    </a:lnTo>
                    <a:lnTo>
                      <a:pt x="529" y="27"/>
                    </a:lnTo>
                    <a:lnTo>
                      <a:pt x="502" y="16"/>
                    </a:lnTo>
                    <a:lnTo>
                      <a:pt x="472" y="9"/>
                    </a:lnTo>
                    <a:lnTo>
                      <a:pt x="443" y="4"/>
                    </a:lnTo>
                    <a:lnTo>
                      <a:pt x="410" y="0"/>
                    </a:lnTo>
                    <a:lnTo>
                      <a:pt x="378" y="0"/>
                    </a:lnTo>
                    <a:lnTo>
                      <a:pt x="333" y="0"/>
                    </a:lnTo>
                    <a:lnTo>
                      <a:pt x="283" y="9"/>
                    </a:lnTo>
                    <a:lnTo>
                      <a:pt x="241" y="16"/>
                    </a:lnTo>
                    <a:lnTo>
                      <a:pt x="198" y="30"/>
                    </a:lnTo>
                    <a:lnTo>
                      <a:pt x="159" y="44"/>
                    </a:lnTo>
                    <a:lnTo>
                      <a:pt x="127" y="62"/>
                    </a:lnTo>
                    <a:lnTo>
                      <a:pt x="101" y="82"/>
                    </a:lnTo>
                    <a:lnTo>
                      <a:pt x="89" y="92"/>
                    </a:lnTo>
                    <a:lnTo>
                      <a:pt x="81" y="103"/>
                    </a:lnTo>
                    <a:lnTo>
                      <a:pt x="81" y="106"/>
                    </a:lnTo>
                    <a:lnTo>
                      <a:pt x="89" y="108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004040" y="2670840"/>
                <a:ext cx="586080" cy="652320"/>
              </a:xfrm>
              <a:custGeom>
                <a:avLst/>
                <a:gdLst/>
                <a:ahLst/>
                <a:rect l="l" t="t" r="r" b="b"/>
                <a:pathLst>
                  <a:path w="3779" h="4373">
                    <a:moveTo>
                      <a:pt x="8" y="4224"/>
                    </a:moveTo>
                    <a:lnTo>
                      <a:pt x="14" y="4230"/>
                    </a:lnTo>
                    <a:lnTo>
                      <a:pt x="54" y="4181"/>
                    </a:lnTo>
                    <a:lnTo>
                      <a:pt x="793" y="3334"/>
                    </a:lnTo>
                    <a:lnTo>
                      <a:pt x="1384" y="2660"/>
                    </a:lnTo>
                    <a:lnTo>
                      <a:pt x="2033" y="1923"/>
                    </a:lnTo>
                    <a:lnTo>
                      <a:pt x="2664" y="1211"/>
                    </a:lnTo>
                    <a:lnTo>
                      <a:pt x="2953" y="887"/>
                    </a:lnTo>
                    <a:lnTo>
                      <a:pt x="3211" y="599"/>
                    </a:lnTo>
                    <a:lnTo>
                      <a:pt x="3433" y="359"/>
                    </a:lnTo>
                    <a:lnTo>
                      <a:pt x="3605" y="175"/>
                    </a:lnTo>
                    <a:lnTo>
                      <a:pt x="3671" y="105"/>
                    </a:lnTo>
                    <a:lnTo>
                      <a:pt x="3722" y="57"/>
                    </a:lnTo>
                    <a:lnTo>
                      <a:pt x="3757" y="25"/>
                    </a:lnTo>
                    <a:lnTo>
                      <a:pt x="3768" y="19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70" y="16"/>
                    </a:lnTo>
                    <a:lnTo>
                      <a:pt x="3768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6"/>
                    </a:lnTo>
                    <a:lnTo>
                      <a:pt x="3768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65" y="14"/>
                    </a:lnTo>
                    <a:lnTo>
                      <a:pt x="3768" y="11"/>
                    </a:lnTo>
                    <a:lnTo>
                      <a:pt x="3762" y="11"/>
                    </a:lnTo>
                    <a:lnTo>
                      <a:pt x="3759" y="19"/>
                    </a:lnTo>
                    <a:lnTo>
                      <a:pt x="3752" y="32"/>
                    </a:lnTo>
                    <a:lnTo>
                      <a:pt x="3719" y="81"/>
                    </a:lnTo>
                    <a:lnTo>
                      <a:pt x="3665" y="154"/>
                    </a:lnTo>
                    <a:lnTo>
                      <a:pt x="3495" y="375"/>
                    </a:lnTo>
                    <a:lnTo>
                      <a:pt x="3230" y="704"/>
                    </a:lnTo>
                    <a:lnTo>
                      <a:pt x="2864" y="1158"/>
                    </a:lnTo>
                    <a:lnTo>
                      <a:pt x="2383" y="1740"/>
                    </a:lnTo>
                    <a:lnTo>
                      <a:pt x="1787" y="2460"/>
                    </a:lnTo>
                    <a:lnTo>
                      <a:pt x="1064" y="3332"/>
                    </a:lnTo>
                    <a:lnTo>
                      <a:pt x="205" y="4359"/>
                    </a:lnTo>
                    <a:lnTo>
                      <a:pt x="211" y="4364"/>
                    </a:lnTo>
                    <a:lnTo>
                      <a:pt x="217" y="4357"/>
                    </a:lnTo>
                    <a:lnTo>
                      <a:pt x="14" y="4216"/>
                    </a:lnTo>
                    <a:lnTo>
                      <a:pt x="8" y="4224"/>
                    </a:lnTo>
                    <a:lnTo>
                      <a:pt x="14" y="4230"/>
                    </a:lnTo>
                    <a:lnTo>
                      <a:pt x="8" y="4224"/>
                    </a:lnTo>
                    <a:lnTo>
                      <a:pt x="3" y="4230"/>
                    </a:lnTo>
                    <a:lnTo>
                      <a:pt x="208" y="4370"/>
                    </a:lnTo>
                    <a:lnTo>
                      <a:pt x="213" y="4373"/>
                    </a:lnTo>
                    <a:lnTo>
                      <a:pt x="219" y="4370"/>
                    </a:lnTo>
                    <a:lnTo>
                      <a:pt x="1136" y="3270"/>
                    </a:lnTo>
                    <a:lnTo>
                      <a:pt x="1897" y="2353"/>
                    </a:lnTo>
                    <a:lnTo>
                      <a:pt x="2516" y="1605"/>
                    </a:lnTo>
                    <a:lnTo>
                      <a:pt x="2995" y="1020"/>
                    </a:lnTo>
                    <a:lnTo>
                      <a:pt x="3352" y="577"/>
                    </a:lnTo>
                    <a:lnTo>
                      <a:pt x="3595" y="269"/>
                    </a:lnTo>
                    <a:lnTo>
                      <a:pt x="3676" y="165"/>
                    </a:lnTo>
                    <a:lnTo>
                      <a:pt x="3733" y="87"/>
                    </a:lnTo>
                    <a:lnTo>
                      <a:pt x="3768" y="38"/>
                    </a:lnTo>
                    <a:lnTo>
                      <a:pt x="3775" y="21"/>
                    </a:lnTo>
                    <a:lnTo>
                      <a:pt x="3779" y="11"/>
                    </a:lnTo>
                    <a:lnTo>
                      <a:pt x="3775" y="2"/>
                    </a:lnTo>
                    <a:lnTo>
                      <a:pt x="3768" y="0"/>
                    </a:lnTo>
                    <a:lnTo>
                      <a:pt x="3762" y="2"/>
                    </a:lnTo>
                    <a:lnTo>
                      <a:pt x="3757" y="5"/>
                    </a:lnTo>
                    <a:lnTo>
                      <a:pt x="3727" y="30"/>
                    </a:lnTo>
                    <a:lnTo>
                      <a:pt x="3681" y="73"/>
                    </a:lnTo>
                    <a:lnTo>
                      <a:pt x="3547" y="210"/>
                    </a:lnTo>
                    <a:lnTo>
                      <a:pt x="3363" y="410"/>
                    </a:lnTo>
                    <a:lnTo>
                      <a:pt x="3133" y="663"/>
                    </a:lnTo>
                    <a:lnTo>
                      <a:pt x="2871" y="955"/>
                    </a:lnTo>
                    <a:lnTo>
                      <a:pt x="2272" y="1630"/>
                    </a:lnTo>
                    <a:lnTo>
                      <a:pt x="1633" y="2355"/>
                    </a:lnTo>
                    <a:lnTo>
                      <a:pt x="1018" y="3053"/>
                    </a:lnTo>
                    <a:lnTo>
                      <a:pt x="500" y="3650"/>
                    </a:lnTo>
                    <a:lnTo>
                      <a:pt x="3" y="4219"/>
                    </a:lnTo>
                    <a:lnTo>
                      <a:pt x="0" y="4224"/>
                    </a:lnTo>
                    <a:lnTo>
                      <a:pt x="3" y="4230"/>
                    </a:lnTo>
                    <a:lnTo>
                      <a:pt x="8" y="422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44040" y="2675520"/>
                <a:ext cx="47520" cy="59040"/>
              </a:xfrm>
              <a:custGeom>
                <a:avLst/>
                <a:gdLst/>
                <a:ahLst/>
                <a:rect l="l" t="t" r="r" b="b"/>
                <a:pathLst>
                  <a:path w="316" h="405">
                    <a:moveTo>
                      <a:pt x="316" y="0"/>
                    </a:moveTo>
                    <a:lnTo>
                      <a:pt x="305" y="8"/>
                    </a:lnTo>
                    <a:lnTo>
                      <a:pt x="283" y="30"/>
                    </a:lnTo>
                    <a:lnTo>
                      <a:pt x="261" y="62"/>
                    </a:lnTo>
                    <a:lnTo>
                      <a:pt x="208" y="138"/>
                    </a:lnTo>
                    <a:lnTo>
                      <a:pt x="129" y="237"/>
                    </a:lnTo>
                    <a:lnTo>
                      <a:pt x="0" y="405"/>
                    </a:lnTo>
                    <a:lnTo>
                      <a:pt x="146" y="221"/>
                    </a:lnTo>
                    <a:lnTo>
                      <a:pt x="245" y="97"/>
                    </a:lnTo>
                    <a:lnTo>
                      <a:pt x="302" y="24"/>
                    </a:lnTo>
                    <a:lnTo>
                      <a:pt x="313" y="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197f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52240" y="2679120"/>
                <a:ext cx="134280" cy="162360"/>
              </a:xfrm>
              <a:custGeom>
                <a:avLst/>
                <a:gdLst/>
                <a:ahLst/>
                <a:rect l="l" t="t" r="r" b="b"/>
                <a:pathLst>
                  <a:path w="872" h="1089">
                    <a:moveTo>
                      <a:pt x="872" y="0"/>
                    </a:moveTo>
                    <a:lnTo>
                      <a:pt x="834" y="40"/>
                    </a:lnTo>
                    <a:lnTo>
                      <a:pt x="778" y="116"/>
                    </a:lnTo>
                    <a:lnTo>
                      <a:pt x="702" y="212"/>
                    </a:lnTo>
                    <a:lnTo>
                      <a:pt x="459" y="520"/>
                    </a:lnTo>
                    <a:lnTo>
                      <a:pt x="102" y="963"/>
                    </a:lnTo>
                    <a:lnTo>
                      <a:pt x="0" y="1089"/>
                    </a:lnTo>
                    <a:lnTo>
                      <a:pt x="589" y="375"/>
                    </a:lnTo>
                    <a:lnTo>
                      <a:pt x="718" y="207"/>
                    </a:lnTo>
                    <a:lnTo>
                      <a:pt x="797" y="108"/>
                    </a:lnTo>
                    <a:lnTo>
                      <a:pt x="850" y="32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020960" y="2685600"/>
                <a:ext cx="560520" cy="636120"/>
              </a:xfrm>
              <a:custGeom>
                <a:avLst/>
                <a:gdLst/>
                <a:ahLst/>
                <a:rect l="l" t="t" r="r" b="b"/>
                <a:pathLst>
                  <a:path w="3616" h="4267">
                    <a:moveTo>
                      <a:pt x="3616" y="0"/>
                    </a:moveTo>
                    <a:lnTo>
                      <a:pt x="3492" y="138"/>
                    </a:lnTo>
                    <a:lnTo>
                      <a:pt x="3368" y="297"/>
                    </a:lnTo>
                    <a:lnTo>
                      <a:pt x="3203" y="502"/>
                    </a:lnTo>
                    <a:lnTo>
                      <a:pt x="2753" y="1061"/>
                    </a:lnTo>
                    <a:lnTo>
                      <a:pt x="2274" y="1640"/>
                    </a:lnTo>
                    <a:lnTo>
                      <a:pt x="1678" y="2360"/>
                    </a:lnTo>
                    <a:lnTo>
                      <a:pt x="955" y="3229"/>
                    </a:lnTo>
                    <a:lnTo>
                      <a:pt x="100" y="4257"/>
                    </a:lnTo>
                    <a:lnTo>
                      <a:pt x="5" y="4191"/>
                    </a:lnTo>
                    <a:lnTo>
                      <a:pt x="0" y="4197"/>
                    </a:lnTo>
                    <a:lnTo>
                      <a:pt x="100" y="4267"/>
                    </a:lnTo>
                    <a:lnTo>
                      <a:pt x="1697" y="2353"/>
                    </a:lnTo>
                    <a:lnTo>
                      <a:pt x="2782" y="1049"/>
                    </a:lnTo>
                    <a:lnTo>
                      <a:pt x="2884" y="923"/>
                    </a:lnTo>
                    <a:lnTo>
                      <a:pt x="3241" y="480"/>
                    </a:lnTo>
                    <a:lnTo>
                      <a:pt x="3484" y="172"/>
                    </a:lnTo>
                    <a:lnTo>
                      <a:pt x="3560" y="76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673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975240" y="3354480"/>
                <a:ext cx="40680" cy="42120"/>
              </a:xfrm>
              <a:custGeom>
                <a:avLst/>
                <a:gdLst/>
                <a:ahLst/>
                <a:rect l="l" t="t" r="r" b="b"/>
                <a:pathLst>
                  <a:path w="265" h="283">
                    <a:moveTo>
                      <a:pt x="251" y="234"/>
                    </a:moveTo>
                    <a:lnTo>
                      <a:pt x="259" y="237"/>
                    </a:lnTo>
                    <a:lnTo>
                      <a:pt x="265" y="215"/>
                    </a:lnTo>
                    <a:lnTo>
                      <a:pt x="265" y="194"/>
                    </a:lnTo>
                    <a:lnTo>
                      <a:pt x="262" y="166"/>
                    </a:lnTo>
                    <a:lnTo>
                      <a:pt x="256" y="139"/>
                    </a:lnTo>
                    <a:lnTo>
                      <a:pt x="249" y="110"/>
                    </a:lnTo>
                    <a:lnTo>
                      <a:pt x="235" y="83"/>
                    </a:lnTo>
                    <a:lnTo>
                      <a:pt x="216" y="58"/>
                    </a:lnTo>
                    <a:lnTo>
                      <a:pt x="194" y="37"/>
                    </a:lnTo>
                    <a:lnTo>
                      <a:pt x="184" y="26"/>
                    </a:lnTo>
                    <a:lnTo>
                      <a:pt x="170" y="21"/>
                    </a:lnTo>
                    <a:lnTo>
                      <a:pt x="157" y="12"/>
                    </a:lnTo>
                    <a:lnTo>
                      <a:pt x="141" y="7"/>
                    </a:lnTo>
                    <a:lnTo>
                      <a:pt x="106" y="0"/>
                    </a:lnTo>
                    <a:lnTo>
                      <a:pt x="76" y="0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0" y="7"/>
                    </a:lnTo>
                    <a:lnTo>
                      <a:pt x="19" y="16"/>
                    </a:lnTo>
                    <a:lnTo>
                      <a:pt x="10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0" y="58"/>
                    </a:lnTo>
                    <a:lnTo>
                      <a:pt x="3" y="72"/>
                    </a:lnTo>
                    <a:lnTo>
                      <a:pt x="5" y="86"/>
                    </a:lnTo>
                    <a:lnTo>
                      <a:pt x="16" y="113"/>
                    </a:lnTo>
                    <a:lnTo>
                      <a:pt x="33" y="145"/>
                    </a:lnTo>
                    <a:lnTo>
                      <a:pt x="54" y="175"/>
                    </a:lnTo>
                    <a:lnTo>
                      <a:pt x="78" y="201"/>
                    </a:lnTo>
                    <a:lnTo>
                      <a:pt x="100" y="223"/>
                    </a:lnTo>
                    <a:lnTo>
                      <a:pt x="118" y="242"/>
                    </a:lnTo>
                    <a:lnTo>
                      <a:pt x="138" y="258"/>
                    </a:lnTo>
                    <a:lnTo>
                      <a:pt x="157" y="269"/>
                    </a:lnTo>
                    <a:lnTo>
                      <a:pt x="173" y="277"/>
                    </a:lnTo>
                    <a:lnTo>
                      <a:pt x="189" y="283"/>
                    </a:lnTo>
                    <a:lnTo>
                      <a:pt x="203" y="283"/>
                    </a:lnTo>
                    <a:lnTo>
                      <a:pt x="213" y="283"/>
                    </a:lnTo>
                    <a:lnTo>
                      <a:pt x="221" y="280"/>
                    </a:lnTo>
                    <a:lnTo>
                      <a:pt x="232" y="274"/>
                    </a:lnTo>
                    <a:lnTo>
                      <a:pt x="238" y="269"/>
                    </a:lnTo>
                    <a:lnTo>
                      <a:pt x="251" y="256"/>
                    </a:lnTo>
                    <a:lnTo>
                      <a:pt x="259" y="237"/>
                    </a:lnTo>
                    <a:lnTo>
                      <a:pt x="251" y="234"/>
                    </a:lnTo>
                    <a:lnTo>
                      <a:pt x="243" y="231"/>
                    </a:lnTo>
                    <a:lnTo>
                      <a:pt x="238" y="247"/>
                    </a:lnTo>
                    <a:lnTo>
                      <a:pt x="226" y="258"/>
                    </a:lnTo>
                    <a:lnTo>
                      <a:pt x="216" y="263"/>
                    </a:lnTo>
                    <a:lnTo>
                      <a:pt x="203" y="267"/>
                    </a:lnTo>
                    <a:lnTo>
                      <a:pt x="192" y="267"/>
                    </a:lnTo>
                    <a:lnTo>
                      <a:pt x="178" y="261"/>
                    </a:lnTo>
                    <a:lnTo>
                      <a:pt x="164" y="256"/>
                    </a:lnTo>
                    <a:lnTo>
                      <a:pt x="148" y="245"/>
                    </a:lnTo>
                    <a:lnTo>
                      <a:pt x="129" y="231"/>
                    </a:lnTo>
                    <a:lnTo>
                      <a:pt x="111" y="212"/>
                    </a:lnTo>
                    <a:lnTo>
                      <a:pt x="90" y="191"/>
                    </a:lnTo>
                    <a:lnTo>
                      <a:pt x="67" y="164"/>
                    </a:lnTo>
                    <a:lnTo>
                      <a:pt x="46" y="134"/>
                    </a:lnTo>
                    <a:lnTo>
                      <a:pt x="30" y="107"/>
                    </a:lnTo>
                    <a:lnTo>
                      <a:pt x="21" y="81"/>
                    </a:lnTo>
                    <a:lnTo>
                      <a:pt x="16" y="58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30" y="26"/>
                    </a:lnTo>
                    <a:lnTo>
                      <a:pt x="38" y="21"/>
                    </a:lnTo>
                    <a:lnTo>
                      <a:pt x="49" y="19"/>
                    </a:lnTo>
                    <a:lnTo>
                      <a:pt x="60" y="16"/>
                    </a:lnTo>
                    <a:lnTo>
                      <a:pt x="76" y="16"/>
                    </a:lnTo>
                    <a:lnTo>
                      <a:pt x="102" y="16"/>
                    </a:lnTo>
                    <a:lnTo>
                      <a:pt x="134" y="24"/>
                    </a:lnTo>
                    <a:lnTo>
                      <a:pt x="148" y="29"/>
                    </a:lnTo>
                    <a:lnTo>
                      <a:pt x="162" y="35"/>
                    </a:lnTo>
                    <a:lnTo>
                      <a:pt x="184" y="48"/>
                    </a:lnTo>
                    <a:lnTo>
                      <a:pt x="203" y="70"/>
                    </a:lnTo>
                    <a:lnTo>
                      <a:pt x="219" y="91"/>
                    </a:lnTo>
                    <a:lnTo>
                      <a:pt x="232" y="115"/>
                    </a:lnTo>
                    <a:lnTo>
                      <a:pt x="240" y="143"/>
                    </a:lnTo>
                    <a:lnTo>
                      <a:pt x="245" y="169"/>
                    </a:lnTo>
                    <a:lnTo>
                      <a:pt x="249" y="194"/>
                    </a:lnTo>
                    <a:lnTo>
                      <a:pt x="249" y="215"/>
                    </a:lnTo>
                    <a:lnTo>
                      <a:pt x="243" y="231"/>
                    </a:lnTo>
                    <a:lnTo>
                      <a:pt x="251" y="234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90720" y="3334680"/>
                <a:ext cx="57600" cy="47520"/>
              </a:xfrm>
              <a:custGeom>
                <a:avLst/>
                <a:gdLst/>
                <a:ahLst/>
                <a:rect l="l" t="t" r="r" b="b"/>
                <a:pathLst>
                  <a:path w="378" h="321">
                    <a:moveTo>
                      <a:pt x="362" y="253"/>
                    </a:moveTo>
                    <a:lnTo>
                      <a:pt x="369" y="256"/>
                    </a:lnTo>
                    <a:lnTo>
                      <a:pt x="378" y="237"/>
                    </a:lnTo>
                    <a:lnTo>
                      <a:pt x="378" y="221"/>
                    </a:lnTo>
                    <a:lnTo>
                      <a:pt x="375" y="199"/>
                    </a:lnTo>
                    <a:lnTo>
                      <a:pt x="369" y="180"/>
                    </a:lnTo>
                    <a:lnTo>
                      <a:pt x="359" y="159"/>
                    </a:lnTo>
                    <a:lnTo>
                      <a:pt x="348" y="140"/>
                    </a:lnTo>
                    <a:lnTo>
                      <a:pt x="332" y="122"/>
                    </a:lnTo>
                    <a:lnTo>
                      <a:pt x="313" y="104"/>
                    </a:lnTo>
                    <a:lnTo>
                      <a:pt x="291" y="86"/>
                    </a:lnTo>
                    <a:lnTo>
                      <a:pt x="270" y="70"/>
                    </a:lnTo>
                    <a:lnTo>
                      <a:pt x="224" y="43"/>
                    </a:lnTo>
                    <a:lnTo>
                      <a:pt x="199" y="30"/>
                    </a:lnTo>
                    <a:lnTo>
                      <a:pt x="175" y="19"/>
                    </a:lnTo>
                    <a:lnTo>
                      <a:pt x="151" y="10"/>
                    </a:lnTo>
                    <a:lnTo>
                      <a:pt x="127" y="5"/>
                    </a:lnTo>
                    <a:lnTo>
                      <a:pt x="102" y="0"/>
                    </a:lnTo>
                    <a:lnTo>
                      <a:pt x="81" y="0"/>
                    </a:lnTo>
                    <a:lnTo>
                      <a:pt x="62" y="0"/>
                    </a:lnTo>
                    <a:lnTo>
                      <a:pt x="42" y="5"/>
                    </a:lnTo>
                    <a:lnTo>
                      <a:pt x="26" y="14"/>
                    </a:lnTo>
                    <a:lnTo>
                      <a:pt x="14" y="26"/>
                    </a:lnTo>
                    <a:lnTo>
                      <a:pt x="5" y="37"/>
                    </a:lnTo>
                    <a:lnTo>
                      <a:pt x="3" y="46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3" y="86"/>
                    </a:lnTo>
                    <a:lnTo>
                      <a:pt x="5" y="108"/>
                    </a:lnTo>
                    <a:lnTo>
                      <a:pt x="14" y="127"/>
                    </a:lnTo>
                    <a:lnTo>
                      <a:pt x="24" y="148"/>
                    </a:lnTo>
                    <a:lnTo>
                      <a:pt x="37" y="170"/>
                    </a:lnTo>
                    <a:lnTo>
                      <a:pt x="51" y="189"/>
                    </a:lnTo>
                    <a:lnTo>
                      <a:pt x="70" y="210"/>
                    </a:lnTo>
                    <a:lnTo>
                      <a:pt x="86" y="229"/>
                    </a:lnTo>
                    <a:lnTo>
                      <a:pt x="108" y="248"/>
                    </a:lnTo>
                    <a:lnTo>
                      <a:pt x="127" y="265"/>
                    </a:lnTo>
                    <a:lnTo>
                      <a:pt x="148" y="281"/>
                    </a:lnTo>
                    <a:lnTo>
                      <a:pt x="173" y="293"/>
                    </a:lnTo>
                    <a:lnTo>
                      <a:pt x="194" y="304"/>
                    </a:lnTo>
                    <a:lnTo>
                      <a:pt x="219" y="313"/>
                    </a:lnTo>
                    <a:lnTo>
                      <a:pt x="240" y="318"/>
                    </a:lnTo>
                    <a:lnTo>
                      <a:pt x="265" y="321"/>
                    </a:lnTo>
                    <a:lnTo>
                      <a:pt x="291" y="318"/>
                    </a:lnTo>
                    <a:lnTo>
                      <a:pt x="305" y="313"/>
                    </a:lnTo>
                    <a:lnTo>
                      <a:pt x="318" y="307"/>
                    </a:lnTo>
                    <a:lnTo>
                      <a:pt x="329" y="299"/>
                    </a:lnTo>
                    <a:lnTo>
                      <a:pt x="343" y="291"/>
                    </a:lnTo>
                    <a:lnTo>
                      <a:pt x="353" y="281"/>
                    </a:lnTo>
                    <a:lnTo>
                      <a:pt x="362" y="267"/>
                    </a:lnTo>
                    <a:lnTo>
                      <a:pt x="369" y="256"/>
                    </a:lnTo>
                    <a:lnTo>
                      <a:pt x="362" y="253"/>
                    </a:lnTo>
                    <a:lnTo>
                      <a:pt x="356" y="248"/>
                    </a:lnTo>
                    <a:lnTo>
                      <a:pt x="348" y="258"/>
                    </a:lnTo>
                    <a:lnTo>
                      <a:pt x="356" y="265"/>
                    </a:lnTo>
                    <a:lnTo>
                      <a:pt x="350" y="258"/>
                    </a:lnTo>
                    <a:lnTo>
                      <a:pt x="332" y="281"/>
                    </a:lnTo>
                    <a:lnTo>
                      <a:pt x="311" y="293"/>
                    </a:lnTo>
                    <a:lnTo>
                      <a:pt x="288" y="302"/>
                    </a:lnTo>
                    <a:lnTo>
                      <a:pt x="265" y="304"/>
                    </a:lnTo>
                    <a:lnTo>
                      <a:pt x="242" y="302"/>
                    </a:lnTo>
                    <a:lnTo>
                      <a:pt x="224" y="297"/>
                    </a:lnTo>
                    <a:lnTo>
                      <a:pt x="203" y="288"/>
                    </a:lnTo>
                    <a:lnTo>
                      <a:pt x="180" y="281"/>
                    </a:lnTo>
                    <a:lnTo>
                      <a:pt x="159" y="267"/>
                    </a:lnTo>
                    <a:lnTo>
                      <a:pt x="137" y="251"/>
                    </a:lnTo>
                    <a:lnTo>
                      <a:pt x="118" y="235"/>
                    </a:lnTo>
                    <a:lnTo>
                      <a:pt x="100" y="219"/>
                    </a:lnTo>
                    <a:lnTo>
                      <a:pt x="81" y="199"/>
                    </a:lnTo>
                    <a:lnTo>
                      <a:pt x="65" y="180"/>
                    </a:lnTo>
                    <a:lnTo>
                      <a:pt x="51" y="159"/>
                    </a:lnTo>
                    <a:lnTo>
                      <a:pt x="37" y="140"/>
                    </a:lnTo>
                    <a:lnTo>
                      <a:pt x="30" y="122"/>
                    </a:lnTo>
                    <a:lnTo>
                      <a:pt x="21" y="102"/>
                    </a:lnTo>
                    <a:lnTo>
                      <a:pt x="16" y="83"/>
                    </a:lnTo>
                    <a:lnTo>
                      <a:pt x="16" y="67"/>
                    </a:lnTo>
                    <a:lnTo>
                      <a:pt x="19" y="51"/>
                    </a:lnTo>
                    <a:lnTo>
                      <a:pt x="24" y="37"/>
                    </a:lnTo>
                    <a:lnTo>
                      <a:pt x="35" y="26"/>
                    </a:lnTo>
                    <a:lnTo>
                      <a:pt x="49" y="21"/>
                    </a:lnTo>
                    <a:lnTo>
                      <a:pt x="65" y="16"/>
                    </a:lnTo>
                    <a:lnTo>
                      <a:pt x="81" y="16"/>
                    </a:lnTo>
                    <a:lnTo>
                      <a:pt x="102" y="16"/>
                    </a:lnTo>
                    <a:lnTo>
                      <a:pt x="124" y="21"/>
                    </a:lnTo>
                    <a:lnTo>
                      <a:pt x="146" y="26"/>
                    </a:lnTo>
                    <a:lnTo>
                      <a:pt x="170" y="35"/>
                    </a:lnTo>
                    <a:lnTo>
                      <a:pt x="215" y="56"/>
                    </a:lnTo>
                    <a:lnTo>
                      <a:pt x="261" y="83"/>
                    </a:lnTo>
                    <a:lnTo>
                      <a:pt x="283" y="99"/>
                    </a:lnTo>
                    <a:lnTo>
                      <a:pt x="302" y="116"/>
                    </a:lnTo>
                    <a:lnTo>
                      <a:pt x="318" y="132"/>
                    </a:lnTo>
                    <a:lnTo>
                      <a:pt x="334" y="150"/>
                    </a:lnTo>
                    <a:lnTo>
                      <a:pt x="345" y="170"/>
                    </a:lnTo>
                    <a:lnTo>
                      <a:pt x="356" y="186"/>
                    </a:lnTo>
                    <a:lnTo>
                      <a:pt x="362" y="202"/>
                    </a:lnTo>
                    <a:lnTo>
                      <a:pt x="362" y="221"/>
                    </a:lnTo>
                    <a:lnTo>
                      <a:pt x="362" y="235"/>
                    </a:lnTo>
                    <a:lnTo>
                      <a:pt x="356" y="248"/>
                    </a:lnTo>
                    <a:lnTo>
                      <a:pt x="362" y="253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28160" y="3283920"/>
                <a:ext cx="60840" cy="43920"/>
              </a:xfrm>
              <a:custGeom>
                <a:avLst/>
                <a:gdLst/>
                <a:ahLst/>
                <a:rect l="l" t="t" r="r" b="b"/>
                <a:pathLst>
                  <a:path w="399" h="297">
                    <a:moveTo>
                      <a:pt x="376" y="265"/>
                    </a:moveTo>
                    <a:lnTo>
                      <a:pt x="381" y="270"/>
                    </a:lnTo>
                    <a:lnTo>
                      <a:pt x="388" y="260"/>
                    </a:lnTo>
                    <a:lnTo>
                      <a:pt x="394" y="249"/>
                    </a:lnTo>
                    <a:lnTo>
                      <a:pt x="397" y="232"/>
                    </a:lnTo>
                    <a:lnTo>
                      <a:pt x="399" y="219"/>
                    </a:lnTo>
                    <a:lnTo>
                      <a:pt x="394" y="186"/>
                    </a:lnTo>
                    <a:lnTo>
                      <a:pt x="386" y="152"/>
                    </a:lnTo>
                    <a:lnTo>
                      <a:pt x="378" y="138"/>
                    </a:lnTo>
                    <a:lnTo>
                      <a:pt x="370" y="124"/>
                    </a:lnTo>
                    <a:lnTo>
                      <a:pt x="358" y="111"/>
                    </a:lnTo>
                    <a:lnTo>
                      <a:pt x="346" y="97"/>
                    </a:lnTo>
                    <a:lnTo>
                      <a:pt x="313" y="73"/>
                    </a:lnTo>
                    <a:lnTo>
                      <a:pt x="275" y="49"/>
                    </a:lnTo>
                    <a:lnTo>
                      <a:pt x="232" y="30"/>
                    </a:lnTo>
                    <a:lnTo>
                      <a:pt x="189" y="14"/>
                    </a:lnTo>
                    <a:lnTo>
                      <a:pt x="146" y="3"/>
                    </a:lnTo>
                    <a:lnTo>
                      <a:pt x="127" y="0"/>
                    </a:lnTo>
                    <a:lnTo>
                      <a:pt x="105" y="0"/>
                    </a:lnTo>
                    <a:lnTo>
                      <a:pt x="81" y="3"/>
                    </a:lnTo>
                    <a:lnTo>
                      <a:pt x="57" y="9"/>
                    </a:lnTo>
                    <a:lnTo>
                      <a:pt x="35" y="19"/>
                    </a:lnTo>
                    <a:lnTo>
                      <a:pt x="27" y="25"/>
                    </a:lnTo>
                    <a:lnTo>
                      <a:pt x="19" y="32"/>
                    </a:lnTo>
                    <a:lnTo>
                      <a:pt x="11" y="46"/>
                    </a:lnTo>
                    <a:lnTo>
                      <a:pt x="6" y="57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3" y="103"/>
                    </a:lnTo>
                    <a:lnTo>
                      <a:pt x="8" y="122"/>
                    </a:lnTo>
                    <a:lnTo>
                      <a:pt x="19" y="141"/>
                    </a:lnTo>
                    <a:lnTo>
                      <a:pt x="33" y="159"/>
                    </a:lnTo>
                    <a:lnTo>
                      <a:pt x="59" y="186"/>
                    </a:lnTo>
                    <a:lnTo>
                      <a:pt x="89" y="214"/>
                    </a:lnTo>
                    <a:lnTo>
                      <a:pt x="125" y="235"/>
                    </a:lnTo>
                    <a:lnTo>
                      <a:pt x="160" y="256"/>
                    </a:lnTo>
                    <a:lnTo>
                      <a:pt x="197" y="272"/>
                    </a:lnTo>
                    <a:lnTo>
                      <a:pt x="238" y="286"/>
                    </a:lnTo>
                    <a:lnTo>
                      <a:pt x="273" y="295"/>
                    </a:lnTo>
                    <a:lnTo>
                      <a:pt x="307" y="297"/>
                    </a:lnTo>
                    <a:lnTo>
                      <a:pt x="330" y="297"/>
                    </a:lnTo>
                    <a:lnTo>
                      <a:pt x="351" y="292"/>
                    </a:lnTo>
                    <a:lnTo>
                      <a:pt x="367" y="283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81" y="270"/>
                    </a:lnTo>
                    <a:lnTo>
                      <a:pt x="376" y="265"/>
                    </a:lnTo>
                    <a:lnTo>
                      <a:pt x="370" y="260"/>
                    </a:lnTo>
                    <a:lnTo>
                      <a:pt x="358" y="270"/>
                    </a:lnTo>
                    <a:lnTo>
                      <a:pt x="346" y="276"/>
                    </a:lnTo>
                    <a:lnTo>
                      <a:pt x="326" y="281"/>
                    </a:lnTo>
                    <a:lnTo>
                      <a:pt x="307" y="281"/>
                    </a:lnTo>
                    <a:lnTo>
                      <a:pt x="286" y="281"/>
                    </a:lnTo>
                    <a:lnTo>
                      <a:pt x="264" y="276"/>
                    </a:lnTo>
                    <a:lnTo>
                      <a:pt x="240" y="270"/>
                    </a:lnTo>
                    <a:lnTo>
                      <a:pt x="216" y="262"/>
                    </a:lnTo>
                    <a:lnTo>
                      <a:pt x="167" y="243"/>
                    </a:lnTo>
                    <a:lnTo>
                      <a:pt x="121" y="214"/>
                    </a:lnTo>
                    <a:lnTo>
                      <a:pt x="97" y="200"/>
                    </a:lnTo>
                    <a:lnTo>
                      <a:pt x="79" y="184"/>
                    </a:lnTo>
                    <a:lnTo>
                      <a:pt x="59" y="168"/>
                    </a:lnTo>
                    <a:lnTo>
                      <a:pt x="45" y="148"/>
                    </a:lnTo>
                    <a:lnTo>
                      <a:pt x="33" y="132"/>
                    </a:lnTo>
                    <a:lnTo>
                      <a:pt x="24" y="116"/>
                    </a:lnTo>
                    <a:lnTo>
                      <a:pt x="19" y="100"/>
                    </a:lnTo>
                    <a:lnTo>
                      <a:pt x="17" y="83"/>
                    </a:lnTo>
                    <a:lnTo>
                      <a:pt x="17" y="73"/>
                    </a:lnTo>
                    <a:lnTo>
                      <a:pt x="19" y="62"/>
                    </a:lnTo>
                    <a:lnTo>
                      <a:pt x="24" y="54"/>
                    </a:lnTo>
                    <a:lnTo>
                      <a:pt x="33" y="44"/>
                    </a:lnTo>
                    <a:lnTo>
                      <a:pt x="45" y="32"/>
                    </a:lnTo>
                    <a:lnTo>
                      <a:pt x="63" y="25"/>
                    </a:lnTo>
                    <a:lnTo>
                      <a:pt x="84" y="19"/>
                    </a:lnTo>
                    <a:lnTo>
                      <a:pt x="105" y="16"/>
                    </a:lnTo>
                    <a:lnTo>
                      <a:pt x="143" y="19"/>
                    </a:lnTo>
                    <a:lnTo>
                      <a:pt x="186" y="30"/>
                    </a:lnTo>
                    <a:lnTo>
                      <a:pt x="227" y="44"/>
                    </a:lnTo>
                    <a:lnTo>
                      <a:pt x="268" y="62"/>
                    </a:lnTo>
                    <a:lnTo>
                      <a:pt x="302" y="83"/>
                    </a:lnTo>
                    <a:lnTo>
                      <a:pt x="335" y="108"/>
                    </a:lnTo>
                    <a:lnTo>
                      <a:pt x="356" y="132"/>
                    </a:lnTo>
                    <a:lnTo>
                      <a:pt x="364" y="146"/>
                    </a:lnTo>
                    <a:lnTo>
                      <a:pt x="370" y="157"/>
                    </a:lnTo>
                    <a:lnTo>
                      <a:pt x="381" y="189"/>
                    </a:lnTo>
                    <a:lnTo>
                      <a:pt x="383" y="219"/>
                    </a:lnTo>
                    <a:lnTo>
                      <a:pt x="381" y="232"/>
                    </a:lnTo>
                    <a:lnTo>
                      <a:pt x="378" y="243"/>
                    </a:lnTo>
                    <a:lnTo>
                      <a:pt x="376" y="251"/>
                    </a:lnTo>
                    <a:lnTo>
                      <a:pt x="370" y="260"/>
                    </a:lnTo>
                    <a:lnTo>
                      <a:pt x="376" y="265"/>
                    </a:lnTo>
                    <a:close/>
                  </a:path>
                </a:pathLst>
              </a:custGeom>
              <a:solidFill>
                <a:srgbClr val="773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09800" y="257904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本节内容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1153800" y="2922480"/>
              <a:ext cx="75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.1</a:t>
              </a:r>
              <a:endParaRPr b="0" lang="en-US" sz="3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62000" y="0"/>
            <a:ext cx="8459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同样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我们也可以找到许多组使方程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成立的两个未知数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值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62000" y="1044720"/>
            <a:ext cx="8685000" cy="2562120"/>
            <a:chOff x="162000" y="1044720"/>
            <a:chExt cx="8685000" cy="2562120"/>
          </a:xfrm>
        </p:grpSpPr>
        <p:sp>
          <p:nvSpPr>
            <p:cNvPr id="545" name=""/>
            <p:cNvSpPr/>
            <p:nvPr/>
          </p:nvSpPr>
          <p:spPr>
            <a:xfrm>
              <a:off x="162000" y="1044720"/>
              <a:ext cx="8685000" cy="18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们还发现，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40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20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既满足方程①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又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满足方程②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也就是说，它们是方程①与方程②的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公共解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们把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40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20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叫做二元一次方程组         的解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.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这个解通常记做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2"/>
            <a:stretch/>
          </p:blipFill>
          <p:spPr>
            <a:xfrm>
              <a:off x="6642000" y="2259000"/>
              <a:ext cx="1358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3"/>
            <a:stretch/>
          </p:blipFill>
          <p:spPr>
            <a:xfrm>
              <a:off x="3671640" y="2845080"/>
              <a:ext cx="97740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"/>
          <p:cNvSpPr/>
          <p:nvPr/>
        </p:nvSpPr>
        <p:spPr>
          <a:xfrm>
            <a:off x="252360" y="3519360"/>
            <a:ext cx="8596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前面的问题可知，小亮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份的天然气费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水费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87360" y="4734000"/>
            <a:ext cx="8217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在一个二元一次方程组中，适合每一个方程的一组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未知数的值叫做这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程组的一个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求方程组的所有解的过程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方程组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1241280" y="189000"/>
            <a:ext cx="1510920" cy="1081080"/>
            <a:chOff x="1241280" y="189000"/>
            <a:chExt cx="1510920" cy="1081080"/>
          </a:xfrm>
        </p:grpSpPr>
        <p:sp>
          <p:nvSpPr>
            <p:cNvPr id="551" name=""/>
            <p:cNvSpPr/>
            <p:nvPr/>
          </p:nvSpPr>
          <p:spPr>
            <a:xfrm>
              <a:off x="1241280" y="859680"/>
              <a:ext cx="1392120" cy="1864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552" name="" descr=""/>
            <p:cNvPicPr/>
            <p:nvPr/>
          </p:nvPicPr>
          <p:blipFill>
            <a:blip r:embed="rId2"/>
            <a:stretch/>
          </p:blipFill>
          <p:spPr>
            <a:xfrm>
              <a:off x="1241280" y="189000"/>
              <a:ext cx="1474200" cy="9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764720" y="749520"/>
              <a:ext cx="9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练习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927000" y="1449360"/>
            <a:ext cx="7336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）已知方程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00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填写下表：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971640" y="2259000"/>
          <a:ext cx="6367320" cy="1104840"/>
        </p:xfrm>
        <a:graphic>
          <a:graphicData uri="http://schemas.openxmlformats.org/drawingml/2006/table">
            <a:tbl>
              <a:tblPr/>
              <a:tblGrid>
                <a:gridCol w="945720"/>
                <a:gridCol w="682920"/>
                <a:gridCol w="639720"/>
                <a:gridCol w="684000"/>
                <a:gridCol w="682560"/>
                <a:gridCol w="682920"/>
                <a:gridCol w="682560"/>
                <a:gridCol w="701640"/>
                <a:gridCol w="665280"/>
              </a:tblGrid>
              <a:tr h="58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…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5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6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7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48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…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556" name=""/>
          <p:cNvSpPr/>
          <p:nvPr/>
        </p:nvSpPr>
        <p:spPr>
          <a:xfrm>
            <a:off x="2546280" y="2889360"/>
            <a:ext cx="76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5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176640" y="2889360"/>
            <a:ext cx="76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4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97360" y="2889360"/>
            <a:ext cx="76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3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0" y="2889360"/>
            <a:ext cx="76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黑体"/>
              </a:rPr>
              <a:t>52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92720" y="2844720"/>
            <a:ext cx="76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1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67360" y="2889360"/>
            <a:ext cx="76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50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71640" y="2889360"/>
            <a:ext cx="76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…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642000" y="2889360"/>
            <a:ext cx="76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…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27000" y="3699000"/>
            <a:ext cx="7336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）已知方程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4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填写下表： 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197000" y="4508640"/>
          <a:ext cx="6367320" cy="1344600"/>
        </p:xfrm>
        <a:graphic>
          <a:graphicData uri="http://schemas.openxmlformats.org/drawingml/2006/table">
            <a:tbl>
              <a:tblPr/>
              <a:tblGrid>
                <a:gridCol w="946080"/>
                <a:gridCol w="682560"/>
                <a:gridCol w="639720"/>
                <a:gridCol w="684360"/>
                <a:gridCol w="682560"/>
                <a:gridCol w="682560"/>
                <a:gridCol w="682560"/>
                <a:gridCol w="701640"/>
                <a:gridCol w="665280"/>
              </a:tblGrid>
              <a:tr h="674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5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6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7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48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5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1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2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3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4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2095560" y="5229360"/>
            <a:ext cx="76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…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21640" y="5273640"/>
            <a:ext cx="76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…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7048440" y="4959360"/>
            <a:ext cx="409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22360" y="4734000"/>
            <a:ext cx="7829640" cy="1801080"/>
            <a:chOff x="522360" y="4734000"/>
            <a:chExt cx="7829640" cy="1801080"/>
          </a:xfrm>
        </p:grpSpPr>
        <p:grpSp>
          <p:nvGrpSpPr>
            <p:cNvPr id="570" name=""/>
            <p:cNvGrpSpPr/>
            <p:nvPr/>
          </p:nvGrpSpPr>
          <p:grpSpPr>
            <a:xfrm>
              <a:off x="522360" y="4734000"/>
              <a:ext cx="7829640" cy="1733400"/>
              <a:chOff x="522360" y="4734000"/>
              <a:chExt cx="7829640" cy="1733400"/>
            </a:xfrm>
          </p:grpSpPr>
          <p:sp>
            <p:nvSpPr>
              <p:cNvPr id="571" name=""/>
              <p:cNvSpPr/>
              <p:nvPr/>
            </p:nvSpPr>
            <p:spPr>
              <a:xfrm>
                <a:off x="522360" y="4957920"/>
                <a:ext cx="782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.  </a:t>
                </a:r>
                <a:r>
                  <a:rPr b="1" lang="zh-CN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二元一次方程组            的解是</a:t>
                </a:r>
                <a:r>
                  <a:rPr b="1" lang="zh-CN" sz="2800" spc="-1" strike="noStrike" u="sng">
                    <a:solidFill>
                      <a:srgbClr val="000066"/>
                    </a:solidFill>
                    <a:uFillTx/>
                    <a:latin typeface="黑体"/>
                    <a:ea typeface="黑体"/>
                  </a:rPr>
                  <a:t>       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.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pic>
            <p:nvPicPr>
              <p:cNvPr id="5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8280" y="6269040"/>
                <a:ext cx="914400" cy="1983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573" name=""/>
              <p:cNvGraphicFramePr/>
              <p:nvPr/>
            </p:nvGraphicFramePr>
            <p:xfrm>
              <a:off x="3625920" y="4734000"/>
              <a:ext cx="1981440" cy="990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625920" y="4734000"/>
                        <a:ext cx="1981440" cy="990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75" name=""/>
            <p:cNvGrpSpPr/>
            <p:nvPr/>
          </p:nvGrpSpPr>
          <p:grpSpPr>
            <a:xfrm>
              <a:off x="704160" y="5587920"/>
              <a:ext cx="1498680" cy="947160"/>
              <a:chOff x="704160" y="5587920"/>
              <a:chExt cx="1498680" cy="947160"/>
            </a:xfrm>
          </p:grpSpPr>
          <p:sp>
            <p:nvSpPr>
              <p:cNvPr id="576" name=""/>
              <p:cNvSpPr/>
              <p:nvPr/>
            </p:nvSpPr>
            <p:spPr>
              <a:xfrm>
                <a:off x="1243080" y="5798520"/>
                <a:ext cx="136440" cy="539640"/>
              </a:xfrm>
              <a:custGeom>
                <a:avLst/>
                <a:gdLst>
                  <a:gd name="textAreaLeft" fmla="*/ 87120 w 136440"/>
                  <a:gd name="textAreaRight" fmla="*/ 136800 w 13644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70800" y="5587920"/>
                <a:ext cx="932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04160" y="5798520"/>
                <a:ext cx="52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A.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03800" y="5543280"/>
              <a:ext cx="1393560" cy="947160"/>
              <a:chOff x="2503800" y="5543280"/>
              <a:chExt cx="1393560" cy="947160"/>
            </a:xfrm>
          </p:grpSpPr>
          <p:sp>
            <p:nvSpPr>
              <p:cNvPr id="580" name=""/>
              <p:cNvSpPr/>
              <p:nvPr/>
            </p:nvSpPr>
            <p:spPr>
              <a:xfrm>
                <a:off x="3033720" y="5753880"/>
                <a:ext cx="136440" cy="539640"/>
              </a:xfrm>
              <a:custGeom>
                <a:avLst/>
                <a:gdLst>
                  <a:gd name="textAreaLeft" fmla="*/ 87120 w 136440"/>
                  <a:gd name="textAreaRight" fmla="*/ 136800 w 13644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157560" y="554328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503800" y="5753880"/>
                <a:ext cx="5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B.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349160" y="5543280"/>
              <a:ext cx="1461240" cy="947160"/>
              <a:chOff x="4349160" y="5543280"/>
              <a:chExt cx="1461240" cy="947160"/>
            </a:xfrm>
          </p:grpSpPr>
          <p:sp>
            <p:nvSpPr>
              <p:cNvPr id="584" name=""/>
              <p:cNvSpPr/>
              <p:nvPr/>
            </p:nvSpPr>
            <p:spPr>
              <a:xfrm>
                <a:off x="4888080" y="5753880"/>
                <a:ext cx="136440" cy="539640"/>
              </a:xfrm>
              <a:custGeom>
                <a:avLst/>
                <a:gdLst>
                  <a:gd name="textAreaLeft" fmla="*/ 87120 w 136440"/>
                  <a:gd name="textAreaRight" fmla="*/ 136800 w 13644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1440" y="5543280"/>
                <a:ext cx="8589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-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49160" y="5753880"/>
                <a:ext cx="52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C.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6284160" y="5543280"/>
              <a:ext cx="1498680" cy="947160"/>
              <a:chOff x="6284160" y="5543280"/>
              <a:chExt cx="1498680" cy="947160"/>
            </a:xfrm>
          </p:grpSpPr>
          <p:sp>
            <p:nvSpPr>
              <p:cNvPr id="588" name=""/>
              <p:cNvSpPr/>
              <p:nvPr/>
            </p:nvSpPr>
            <p:spPr>
              <a:xfrm>
                <a:off x="6823080" y="5753880"/>
                <a:ext cx="136080" cy="539640"/>
              </a:xfrm>
              <a:custGeom>
                <a:avLst/>
                <a:gdLst>
                  <a:gd name="textAreaLeft" fmla="*/ 87120 w 136080"/>
                  <a:gd name="textAreaRight" fmla="*/ 136440 w 13608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850800" y="5543280"/>
                <a:ext cx="932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-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284160" y="5753880"/>
                <a:ext cx="52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D.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"/>
          <p:cNvSpPr/>
          <p:nvPr/>
        </p:nvSpPr>
        <p:spPr>
          <a:xfrm>
            <a:off x="206280" y="324000"/>
            <a:ext cx="864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有没有这样的解，它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10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一个解，又是方程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一个解？ 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855000" y="1673280"/>
            <a:ext cx="2549160" cy="646200"/>
            <a:chOff x="855000" y="1673280"/>
            <a:chExt cx="2549160" cy="646200"/>
          </a:xfrm>
        </p:grpSpPr>
        <p:graphicFrame>
          <p:nvGraphicFramePr>
            <p:cNvPr id="593" name=""/>
            <p:cNvGraphicFramePr/>
            <p:nvPr/>
          </p:nvGraphicFramePr>
          <p:xfrm>
            <a:off x="1771560" y="1673280"/>
            <a:ext cx="946080" cy="64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71560" y="1673280"/>
                      <a:ext cx="946080" cy="6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" name=""/>
            <p:cNvSpPr/>
            <p:nvPr/>
          </p:nvSpPr>
          <p:spPr>
            <a:xfrm>
              <a:off x="855000" y="1764000"/>
              <a:ext cx="25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答：当              时，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811440" y="3159000"/>
            <a:ext cx="6281640" cy="825480"/>
            <a:chOff x="811440" y="3159000"/>
            <a:chExt cx="6281640" cy="825480"/>
          </a:xfrm>
        </p:grpSpPr>
        <p:sp>
          <p:nvSpPr>
            <p:cNvPr id="597" name=""/>
            <p:cNvSpPr/>
            <p:nvPr/>
          </p:nvSpPr>
          <p:spPr>
            <a:xfrm>
              <a:off x="811440" y="3376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也就是说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aphicFrame>
          <p:nvGraphicFramePr>
            <p:cNvPr id="598" name=""/>
            <p:cNvGraphicFramePr/>
            <p:nvPr/>
          </p:nvGraphicFramePr>
          <p:xfrm>
            <a:off x="2063880" y="3294000"/>
            <a:ext cx="946080" cy="646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63880" y="3294000"/>
                      <a:ext cx="946080" cy="6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0" name=""/>
            <p:cNvSpPr/>
            <p:nvPr/>
          </p:nvSpPr>
          <p:spPr>
            <a:xfrm>
              <a:off x="3252960" y="3340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是方程组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4359240" y="3159000"/>
              <a:ext cx="2340000" cy="825480"/>
              <a:chOff x="4359240" y="3159000"/>
              <a:chExt cx="2340000" cy="825480"/>
            </a:xfrm>
          </p:grpSpPr>
          <p:sp>
            <p:nvSpPr>
              <p:cNvPr id="602" name=""/>
              <p:cNvSpPr/>
              <p:nvPr/>
            </p:nvSpPr>
            <p:spPr>
              <a:xfrm>
                <a:off x="4359240" y="3159000"/>
                <a:ext cx="2340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+</a:t>
                </a:r>
                <a:r>
                  <a:rPr b="1" i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y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00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    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①</a:t>
                </a:r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y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=</a:t>
                </a:r>
                <a:r>
                  <a:rPr b="1" i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+4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         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②</a:t>
                </a:r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84600" y="3342960"/>
                <a:ext cx="44280" cy="638280"/>
              </a:xfrm>
              <a:custGeom>
                <a:avLst/>
                <a:gdLst>
                  <a:gd name="textAreaLeft" fmla="*/ 28440 w 44280"/>
                  <a:gd name="textAreaRight" fmla="*/ 44640 w 44280"/>
                  <a:gd name="textAreaTop" fmla="*/ 16560 h 638280"/>
                  <a:gd name="textAreaBottom" fmla="*/ 621720 h 63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6485760" y="3340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的解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2356200" y="2303640"/>
            <a:ext cx="4066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既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10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一个解，又是方程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一个解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66640" y="392436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关于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的方程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x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b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是一个二元一次方程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则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的值为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（    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=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且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=0                  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=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或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=0  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=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且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≠0                 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≠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且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≠0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27720" y="432900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48800" y="81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34520" y="230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52360" y="189000"/>
            <a:ext cx="2276640" cy="736200"/>
            <a:chOff x="252360" y="189000"/>
            <a:chExt cx="2276640" cy="736200"/>
          </a:xfrm>
        </p:grpSpPr>
        <p:sp>
          <p:nvSpPr>
            <p:cNvPr id="611" name=""/>
            <p:cNvSpPr/>
            <p:nvPr/>
          </p:nvSpPr>
          <p:spPr>
            <a:xfrm>
              <a:off x="252360" y="189000"/>
              <a:ext cx="22766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480" y="648360"/>
              <a:ext cx="193608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295200" y="235800"/>
              <a:ext cx="476640" cy="589320"/>
              <a:chOff x="295200" y="235800"/>
              <a:chExt cx="476640" cy="58932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327240" y="298800"/>
                <a:ext cx="444600" cy="526320"/>
                <a:chOff x="327240" y="298800"/>
                <a:chExt cx="444600" cy="52632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52440" y="298800"/>
                  <a:ext cx="38304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grpSp>
              <p:nvGrpSpPr>
                <p:cNvPr id="616" name=""/>
                <p:cNvGrpSpPr/>
                <p:nvPr/>
              </p:nvGrpSpPr>
              <p:grpSpPr>
                <a:xfrm>
                  <a:off x="327240" y="368640"/>
                  <a:ext cx="444600" cy="456480"/>
                  <a:chOff x="327240" y="368640"/>
                  <a:chExt cx="444600" cy="456480"/>
                </a:xfrm>
              </p:grpSpPr>
              <p:sp>
                <p:nvSpPr>
                  <p:cNvPr id="617" name="未知"/>
                  <p:cNvSpPr/>
                  <p:nvPr/>
                </p:nvSpPr>
                <p:spPr>
                  <a:xfrm>
                    <a:off x="327240" y="484920"/>
                    <a:ext cx="3380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未知"/>
                  <p:cNvSpPr/>
                  <p:nvPr/>
                </p:nvSpPr>
                <p:spPr>
                  <a:xfrm>
                    <a:off x="327240" y="444960"/>
                    <a:ext cx="3380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未知"/>
                  <p:cNvSpPr/>
                  <p:nvPr/>
                </p:nvSpPr>
                <p:spPr>
                  <a:xfrm>
                    <a:off x="357840" y="514800"/>
                    <a:ext cx="2664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未知"/>
                  <p:cNvSpPr/>
                  <p:nvPr/>
                </p:nvSpPr>
                <p:spPr>
                  <a:xfrm>
                    <a:off x="470520" y="584280"/>
                    <a:ext cx="3060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未知"/>
                  <p:cNvSpPr/>
                  <p:nvPr/>
                </p:nvSpPr>
                <p:spPr>
                  <a:xfrm>
                    <a:off x="461160" y="689400"/>
                    <a:ext cx="58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未知"/>
                  <p:cNvSpPr/>
                  <p:nvPr/>
                </p:nvSpPr>
                <p:spPr>
                  <a:xfrm>
                    <a:off x="374400" y="684720"/>
                    <a:ext cx="25308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未知"/>
                  <p:cNvSpPr/>
                  <p:nvPr/>
                </p:nvSpPr>
                <p:spPr>
                  <a:xfrm>
                    <a:off x="605520" y="593280"/>
                    <a:ext cx="1299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未知"/>
                  <p:cNvSpPr/>
                  <p:nvPr/>
                </p:nvSpPr>
                <p:spPr>
                  <a:xfrm>
                    <a:off x="576720" y="368640"/>
                    <a:ext cx="1951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未知"/>
                  <p:cNvSpPr/>
                  <p:nvPr/>
                </p:nvSpPr>
                <p:spPr>
                  <a:xfrm>
                    <a:off x="591120" y="389520"/>
                    <a:ext cx="15912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6" name=""/>
              <p:cNvGrpSpPr/>
              <p:nvPr/>
            </p:nvGrpSpPr>
            <p:grpSpPr>
              <a:xfrm>
                <a:off x="295200" y="235800"/>
                <a:ext cx="223920" cy="168120"/>
                <a:chOff x="295200" y="235800"/>
                <a:chExt cx="223920" cy="168120"/>
              </a:xfrm>
            </p:grpSpPr>
            <p:sp>
              <p:nvSpPr>
                <p:cNvPr id="627" name="未知"/>
                <p:cNvSpPr/>
                <p:nvPr/>
              </p:nvSpPr>
              <p:spPr>
                <a:xfrm>
                  <a:off x="295200" y="305640"/>
                  <a:ext cx="12996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628" name="未知"/>
                <p:cNvSpPr/>
                <p:nvPr/>
              </p:nvSpPr>
              <p:spPr>
                <a:xfrm>
                  <a:off x="360000" y="235800"/>
                  <a:ext cx="10836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629" name="未知"/>
                <p:cNvSpPr/>
                <p:nvPr/>
              </p:nvSpPr>
              <p:spPr>
                <a:xfrm>
                  <a:off x="454320" y="256680"/>
                  <a:ext cx="6480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"/>
            <p:cNvSpPr txBox="1"/>
            <p:nvPr/>
          </p:nvSpPr>
          <p:spPr>
            <a:xfrm>
              <a:off x="809640" y="236880"/>
              <a:ext cx="167364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时训练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93040" y="558360"/>
              <a:ext cx="78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3402720" y="18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一、选择题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1280" y="863640"/>
            <a:ext cx="859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二元一次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x+2y=11     (      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 任何一对有理数都是它的解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只有一个解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只有两个解        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无穷多个解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0" y="2124000"/>
            <a:ext cx="8550360" cy="2406600"/>
            <a:chOff x="0" y="2124000"/>
            <a:chExt cx="8550360" cy="2406600"/>
          </a:xfrm>
        </p:grpSpPr>
        <p:sp>
          <p:nvSpPr>
            <p:cNvPr id="635" name=""/>
            <p:cNvSpPr/>
            <p:nvPr/>
          </p:nvSpPr>
          <p:spPr>
            <a:xfrm>
              <a:off x="0" y="2303640"/>
              <a:ext cx="85503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若          是方程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  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k=0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的解，则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k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值为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(      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   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C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   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D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1287360" y="2124000"/>
              <a:ext cx="783000" cy="806760"/>
              <a:chOff x="1287360" y="2124000"/>
              <a:chExt cx="783000" cy="806760"/>
            </a:xfrm>
          </p:grpSpPr>
          <p:sp>
            <p:nvSpPr>
              <p:cNvPr id="637" name=""/>
              <p:cNvSpPr/>
              <p:nvPr/>
            </p:nvSpPr>
            <p:spPr>
              <a:xfrm>
                <a:off x="1315080" y="2124000"/>
                <a:ext cx="7552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s=1</a:t>
                </a:r>
                <a:endParaRPr b="0" lang="en-US" sz="26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t=-2</a:t>
                </a:r>
                <a:endParaRPr b="0" lang="en-US" sz="26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287360" y="2322360"/>
                <a:ext cx="135000" cy="495360"/>
              </a:xfrm>
              <a:custGeom>
                <a:avLst/>
                <a:gdLst>
                  <a:gd name="textAreaLeft" fmla="*/ 86400 w 135000"/>
                  <a:gd name="textAreaRight" fmla="*/ 135360 w 135000"/>
                  <a:gd name="textAreaTop" fmla="*/ 12600 h 495360"/>
                  <a:gd name="textAreaBottom" fmla="*/ 482760 h 49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3224160" y="2124000"/>
              <a:ext cx="358920" cy="858600"/>
              <a:chOff x="3224160" y="2124000"/>
              <a:chExt cx="358920" cy="858600"/>
            </a:xfrm>
          </p:grpSpPr>
          <p:sp>
            <p:nvSpPr>
              <p:cNvPr id="640" name=""/>
              <p:cNvSpPr/>
              <p:nvPr/>
            </p:nvSpPr>
            <p:spPr>
              <a:xfrm>
                <a:off x="3234600" y="2124000"/>
                <a:ext cx="3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s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224160" y="2462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67000" y="256356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3763800" y="2124000"/>
              <a:ext cx="358920" cy="858600"/>
              <a:chOff x="3763800" y="2124000"/>
              <a:chExt cx="358920" cy="858600"/>
            </a:xfrm>
          </p:grpSpPr>
          <p:sp>
            <p:nvSpPr>
              <p:cNvPr id="644" name=""/>
              <p:cNvSpPr/>
              <p:nvPr/>
            </p:nvSpPr>
            <p:spPr>
              <a:xfrm>
                <a:off x="3784320" y="21240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t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63800" y="24620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806640" y="256356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3673440" y="3024360"/>
              <a:ext cx="366480" cy="858600"/>
              <a:chOff x="3673440" y="3024360"/>
              <a:chExt cx="366480" cy="858600"/>
            </a:xfrm>
          </p:grpSpPr>
          <p:sp>
            <p:nvSpPr>
              <p:cNvPr id="648" name=""/>
              <p:cNvSpPr/>
              <p:nvPr/>
            </p:nvSpPr>
            <p:spPr>
              <a:xfrm>
                <a:off x="3673440" y="3024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681000" y="3362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24200" y="346392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5429160" y="2979720"/>
              <a:ext cx="366480" cy="858600"/>
              <a:chOff x="5429160" y="2979720"/>
              <a:chExt cx="366480" cy="858600"/>
            </a:xfrm>
          </p:grpSpPr>
          <p:sp>
            <p:nvSpPr>
              <p:cNvPr id="652" name=""/>
              <p:cNvSpPr/>
              <p:nvPr/>
            </p:nvSpPr>
            <p:spPr>
              <a:xfrm>
                <a:off x="5429160" y="2979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36720" y="3317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79920" y="341928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7680240" y="2979720"/>
              <a:ext cx="366480" cy="858600"/>
              <a:chOff x="7680240" y="2979720"/>
              <a:chExt cx="366480" cy="858600"/>
            </a:xfrm>
          </p:grpSpPr>
          <p:sp>
            <p:nvSpPr>
              <p:cNvPr id="656" name=""/>
              <p:cNvSpPr/>
              <p:nvPr/>
            </p:nvSpPr>
            <p:spPr>
              <a:xfrm>
                <a:off x="7680240" y="2979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7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687800" y="3317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731000" y="341928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008080" y="2979720"/>
              <a:ext cx="366480" cy="858600"/>
              <a:chOff x="2008080" y="2979720"/>
              <a:chExt cx="366480" cy="858600"/>
            </a:xfrm>
          </p:grpSpPr>
          <p:sp>
            <p:nvSpPr>
              <p:cNvPr id="660" name=""/>
              <p:cNvSpPr/>
              <p:nvPr/>
            </p:nvSpPr>
            <p:spPr>
              <a:xfrm>
                <a:off x="2008080" y="2979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15640" y="33177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058840" y="3419280"/>
                <a:ext cx="269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7325280" y="3114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21520" y="31370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5609160" y="36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3380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62000" y="324000"/>
            <a:ext cx="8775720" cy="1800360"/>
            <a:chOff x="162000" y="324000"/>
            <a:chExt cx="8775720" cy="1800360"/>
          </a:xfrm>
        </p:grpSpPr>
        <p:sp>
          <p:nvSpPr>
            <p:cNvPr id="668" name=""/>
            <p:cNvSpPr/>
            <p:nvPr/>
          </p:nvSpPr>
          <p:spPr>
            <a:xfrm>
              <a:off x="162000" y="324000"/>
              <a:ext cx="8775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已知方程⑴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7 ,⑵ 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-7=2 ,⑶ 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, ⑷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 baseline="30000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1,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⑸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)+2(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-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)=4,  ⑹        =2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其中二元一次方程的个数是 （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1         B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       C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3          D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4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4034160" y="603000"/>
              <a:ext cx="718560" cy="804240"/>
              <a:chOff x="4034160" y="603000"/>
              <a:chExt cx="718560" cy="804240"/>
            </a:xfrm>
          </p:grpSpPr>
          <p:sp>
            <p:nvSpPr>
              <p:cNvPr id="670" name=""/>
              <p:cNvSpPr/>
              <p:nvPr/>
            </p:nvSpPr>
            <p:spPr>
              <a:xfrm>
                <a:off x="4034160" y="886680"/>
                <a:ext cx="71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215960" y="60300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1</a:t>
                </a:r>
                <a:endParaRPr b="0" lang="en-US" sz="26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135320" y="996480"/>
                <a:ext cx="5853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252360" y="2394000"/>
            <a:ext cx="8505720" cy="2161440"/>
            <a:chOff x="252360" y="2394000"/>
            <a:chExt cx="8505720" cy="2161440"/>
          </a:xfrm>
        </p:grpSpPr>
        <p:sp>
          <p:nvSpPr>
            <p:cNvPr id="674" name=""/>
            <p:cNvSpPr/>
            <p:nvPr/>
          </p:nvSpPr>
          <p:spPr>
            <a:xfrm>
              <a:off x="1854000" y="2394000"/>
              <a:ext cx="260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下列方程组：（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为未知数）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354240" y="2889000"/>
              <a:ext cx="1752120" cy="776520"/>
              <a:chOff x="354240" y="2889000"/>
              <a:chExt cx="1752120" cy="776520"/>
            </a:xfrm>
          </p:grpSpPr>
          <p:sp>
            <p:nvSpPr>
              <p:cNvPr id="676" name=""/>
              <p:cNvSpPr/>
              <p:nvPr/>
            </p:nvSpPr>
            <p:spPr>
              <a:xfrm>
                <a:off x="912600" y="2889000"/>
                <a:ext cx="119376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3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-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3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69760" y="3030480"/>
                <a:ext cx="135000" cy="448920"/>
              </a:xfrm>
              <a:custGeom>
                <a:avLst/>
                <a:gdLst>
                  <a:gd name="textAreaLeft" fmla="*/ 86400 w 135000"/>
                  <a:gd name="textAreaRight" fmla="*/ 135360 w 135000"/>
                  <a:gd name="textAreaTop" fmla="*/ 11520 h 448920"/>
                  <a:gd name="textAreaBottom" fmla="*/ 437400 h 44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4240" y="29415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⑴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138400" y="2889000"/>
              <a:ext cx="1944360" cy="776520"/>
              <a:chOff x="2138400" y="2889000"/>
              <a:chExt cx="1944360" cy="776520"/>
            </a:xfrm>
          </p:grpSpPr>
          <p:sp>
            <p:nvSpPr>
              <p:cNvPr id="680" name=""/>
              <p:cNvSpPr/>
              <p:nvPr/>
            </p:nvSpPr>
            <p:spPr>
              <a:xfrm>
                <a:off x="2716560" y="2889000"/>
                <a:ext cx="136620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 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1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z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59040" y="3030480"/>
                <a:ext cx="135000" cy="448920"/>
              </a:xfrm>
              <a:custGeom>
                <a:avLst/>
                <a:gdLst>
                  <a:gd name="textAreaLeft" fmla="*/ 86400 w 135000"/>
                  <a:gd name="textAreaRight" fmla="*/ 135360 w 135000"/>
                  <a:gd name="textAreaTop" fmla="*/ 11520 h 448920"/>
                  <a:gd name="textAreaBottom" fmla="*/ 437400 h 44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138400" y="294156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(2)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4252680" y="2843280"/>
              <a:ext cx="1563480" cy="776520"/>
              <a:chOff x="4252680" y="2843280"/>
              <a:chExt cx="1563480" cy="776520"/>
            </a:xfrm>
          </p:grpSpPr>
          <p:sp>
            <p:nvSpPr>
              <p:cNvPr id="684" name=""/>
              <p:cNvSpPr/>
              <p:nvPr/>
            </p:nvSpPr>
            <p:spPr>
              <a:xfrm>
                <a:off x="5076360" y="2843280"/>
                <a:ext cx="73980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3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4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000400" y="3012840"/>
                <a:ext cx="135000" cy="448560"/>
              </a:xfrm>
              <a:custGeom>
                <a:avLst/>
                <a:gdLst>
                  <a:gd name="textAreaLeft" fmla="*/ 86400 w 135000"/>
                  <a:gd name="textAreaRight" fmla="*/ 135360 w 135000"/>
                  <a:gd name="textAreaTop" fmla="*/ 11520 h 448560"/>
                  <a:gd name="textAreaBottom" fmla="*/ 437040 h 44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252680" y="294444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(3)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918040" y="2843280"/>
              <a:ext cx="1835640" cy="776520"/>
              <a:chOff x="5918040" y="2843280"/>
              <a:chExt cx="1835640" cy="776520"/>
            </a:xfrm>
          </p:grpSpPr>
          <p:sp>
            <p:nvSpPr>
              <p:cNvPr id="688" name=""/>
              <p:cNvSpPr/>
              <p:nvPr/>
            </p:nvSpPr>
            <p:spPr>
              <a:xfrm>
                <a:off x="6472440" y="2843280"/>
                <a:ext cx="128124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a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   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-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b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665760" y="3012840"/>
                <a:ext cx="135000" cy="448560"/>
              </a:xfrm>
              <a:custGeom>
                <a:avLst/>
                <a:gdLst>
                  <a:gd name="textAreaLeft" fmla="*/ 86400 w 135000"/>
                  <a:gd name="textAreaRight" fmla="*/ 135360 w 135000"/>
                  <a:gd name="textAreaTop" fmla="*/ 11520 h 448560"/>
                  <a:gd name="textAreaBottom" fmla="*/ 437040 h 44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18040" y="294444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(4)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252360" y="3608280"/>
              <a:ext cx="8505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其中二元一次方程组的个数是  （      ）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1        B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              C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3            D 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4 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62000" y="4643280"/>
            <a:ext cx="8577360" cy="1731960"/>
            <a:chOff x="162000" y="4643280"/>
            <a:chExt cx="8577360" cy="1731960"/>
          </a:xfrm>
        </p:grpSpPr>
        <p:sp>
          <p:nvSpPr>
            <p:cNvPr id="693" name=""/>
            <p:cNvSpPr/>
            <p:nvPr/>
          </p:nvSpPr>
          <p:spPr>
            <a:xfrm>
              <a:off x="162000" y="4643280"/>
              <a:ext cx="8577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6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二元一次方程组                的解是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（        ）</a:t>
              </a:r>
              <a:r>
                <a:rPr b="1" lang="en-US" sz="2800" spc="-1" strike="noStrike">
                  <a:solidFill>
                    <a:srgbClr val="000066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aphicFrame>
          <p:nvGraphicFramePr>
            <p:cNvPr id="694" name=""/>
            <p:cNvGraphicFramePr/>
            <p:nvPr/>
          </p:nvGraphicFramePr>
          <p:xfrm>
            <a:off x="3897360" y="4822560"/>
            <a:ext cx="1270080" cy="812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97360" y="4822560"/>
                      <a:ext cx="127008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6" name=""/>
            <p:cNvGraphicFramePr/>
            <p:nvPr/>
          </p:nvGraphicFramePr>
          <p:xfrm>
            <a:off x="1062360" y="5587920"/>
            <a:ext cx="60195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62360" y="5587920"/>
                      <a:ext cx="6019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8" name=""/>
          <p:cNvSpPr/>
          <p:nvPr/>
        </p:nvSpPr>
        <p:spPr>
          <a:xfrm>
            <a:off x="6732720" y="4959360"/>
            <a:ext cx="76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297000" y="3203640"/>
            <a:ext cx="818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若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+3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3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i="1" lang="en-US" sz="2800" spc="-1" strike="noStrike" baseline="30000">
                <a:solidFill>
                  <a:srgbClr val="000066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是关于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的二元一次方程，则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_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_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76880" y="122400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13080" y="126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126160" y="360828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56320" y="189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二、填空题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41280" y="819000"/>
            <a:ext cx="84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已知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4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，当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时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的值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，当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+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时；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_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7138440" y="684360"/>
            <a:ext cx="357840" cy="804240"/>
            <a:chOff x="7138440" y="684360"/>
            <a:chExt cx="357840" cy="804240"/>
          </a:xfrm>
        </p:grpSpPr>
        <p:sp>
          <p:nvSpPr>
            <p:cNvPr id="706" name=""/>
            <p:cNvSpPr/>
            <p:nvPr/>
          </p:nvSpPr>
          <p:spPr>
            <a:xfrm>
              <a:off x="7192800" y="1089000"/>
              <a:ext cx="270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38440" y="68436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49600" y="99864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5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87240" y="1989000"/>
            <a:ext cx="7597440" cy="861840"/>
            <a:chOff x="687240" y="1989000"/>
            <a:chExt cx="7597440" cy="861840"/>
          </a:xfrm>
        </p:grpSpPr>
        <p:sp>
          <p:nvSpPr>
            <p:cNvPr id="710" name=""/>
            <p:cNvSpPr/>
            <p:nvPr/>
          </p:nvSpPr>
          <p:spPr>
            <a:xfrm>
              <a:off x="687240" y="2214360"/>
              <a:ext cx="75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、已知             是方程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-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3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一个解，则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=___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；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1724040" y="1989000"/>
              <a:ext cx="982080" cy="861840"/>
              <a:chOff x="1724040" y="1989000"/>
              <a:chExt cx="982080" cy="861840"/>
            </a:xfrm>
          </p:grpSpPr>
          <p:sp>
            <p:nvSpPr>
              <p:cNvPr id="712" name=""/>
              <p:cNvSpPr/>
              <p:nvPr/>
            </p:nvSpPr>
            <p:spPr>
              <a:xfrm>
                <a:off x="1752840" y="1989000"/>
                <a:ext cx="953280" cy="86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24040" y="2214360"/>
                <a:ext cx="44280" cy="495360"/>
              </a:xfrm>
              <a:custGeom>
                <a:avLst/>
                <a:gdLst>
                  <a:gd name="textAreaLeft" fmla="*/ 28440 w 44280"/>
                  <a:gd name="textAreaRight" fmla="*/ 44640 w 44280"/>
                  <a:gd name="textAreaTop" fmla="*/ 12600 h 495360"/>
                  <a:gd name="textAreaBottom" fmla="*/ 482760 h 49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7813080" y="1943280"/>
            <a:ext cx="357840" cy="804240"/>
            <a:chOff x="7813080" y="1943280"/>
            <a:chExt cx="357840" cy="804240"/>
          </a:xfrm>
        </p:grpSpPr>
        <p:sp>
          <p:nvSpPr>
            <p:cNvPr id="715" name=""/>
            <p:cNvSpPr/>
            <p:nvPr/>
          </p:nvSpPr>
          <p:spPr>
            <a:xfrm>
              <a:off x="7867440" y="2347920"/>
              <a:ext cx="270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813080" y="194328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824240" y="225756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987360" y="3473280"/>
            <a:ext cx="357840" cy="804240"/>
            <a:chOff x="3987360" y="3473280"/>
            <a:chExt cx="357840" cy="804240"/>
          </a:xfrm>
        </p:grpSpPr>
        <p:sp>
          <p:nvSpPr>
            <p:cNvPr id="719" name=""/>
            <p:cNvSpPr/>
            <p:nvPr/>
          </p:nvSpPr>
          <p:spPr>
            <a:xfrm>
              <a:off x="4041720" y="3877920"/>
              <a:ext cx="270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87360" y="347328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8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998520" y="378756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06280" y="4373640"/>
            <a:ext cx="8460000" cy="1629720"/>
            <a:chOff x="206280" y="4373640"/>
            <a:chExt cx="8460000" cy="1629720"/>
          </a:xfrm>
        </p:grpSpPr>
        <p:sp>
          <p:nvSpPr>
            <p:cNvPr id="723" name=""/>
            <p:cNvSpPr/>
            <p:nvPr/>
          </p:nvSpPr>
          <p:spPr>
            <a:xfrm>
              <a:off x="206280" y="4373640"/>
              <a:ext cx="846000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若关于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，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y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的二元一次方程组                   的解也是二元一次方程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+3=6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的解，则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k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的值为</a:t>
              </a:r>
              <a:r>
                <a:rPr b="1" lang="zh-CN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宋体"/>
                </a:rPr>
                <a:t>.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021280" y="4373640"/>
              <a:ext cx="2340000" cy="825480"/>
              <a:chOff x="5021280" y="4373640"/>
              <a:chExt cx="2340000" cy="825480"/>
            </a:xfrm>
          </p:grpSpPr>
          <p:sp>
            <p:nvSpPr>
              <p:cNvPr id="725" name=""/>
              <p:cNvSpPr/>
              <p:nvPr/>
            </p:nvSpPr>
            <p:spPr>
              <a:xfrm>
                <a:off x="5021280" y="4373640"/>
                <a:ext cx="2340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i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+</a:t>
                </a:r>
                <a:r>
                  <a:rPr b="1" i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i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5k</a:t>
                </a:r>
                <a:endParaRPr b="0" lang="en-US" sz="2400" spc="-1" strike="noStrike">
                  <a:solidFill>
                    <a:srgbClr val="061f5b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x  -</a:t>
                </a:r>
                <a:r>
                  <a:rPr b="1" i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i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9k</a:t>
                </a:r>
                <a:endParaRPr b="0" lang="en-US" sz="24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16640" y="4609800"/>
                <a:ext cx="44280" cy="495000"/>
              </a:xfrm>
              <a:custGeom>
                <a:avLst/>
                <a:gdLst>
                  <a:gd name="textAreaLeft" fmla="*/ 28440 w 44280"/>
                  <a:gd name="textAreaRight" fmla="*/ 44640 w 44280"/>
                  <a:gd name="textAreaTop" fmla="*/ 12600 h 495000"/>
                  <a:gd name="textAreaBottom" fmla="*/ 482400 h 49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grpSp>
        <p:nvGrpSpPr>
          <p:cNvPr id="727" name=""/>
          <p:cNvGrpSpPr/>
          <p:nvPr/>
        </p:nvGrpSpPr>
        <p:grpSpPr>
          <a:xfrm>
            <a:off x="6328800" y="5184720"/>
            <a:ext cx="357840" cy="804240"/>
            <a:chOff x="6328800" y="5184720"/>
            <a:chExt cx="357840" cy="804240"/>
          </a:xfrm>
        </p:grpSpPr>
        <p:sp>
          <p:nvSpPr>
            <p:cNvPr id="728" name=""/>
            <p:cNvSpPr/>
            <p:nvPr/>
          </p:nvSpPr>
          <p:spPr>
            <a:xfrm>
              <a:off x="6383160" y="5589360"/>
              <a:ext cx="270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28800" y="518472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339960" y="549900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endParaRPr b="0" lang="en-US" sz="26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87360" y="50328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61f5b"/>
                </a:solidFill>
                <a:latin typeface="Garamond"/>
              </a:rPr>
              <a:t>      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某电台在黄金时段的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分钟广告时间内，计划插播长度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5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秒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秒的两钟广告。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5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秒广告每播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次收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0.6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元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0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秒广告每播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次收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元，若要求每种广告播放不少于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次，问题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122720" y="4586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97000" y="221472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⑴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两种广告的播放次数有几种安排方式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⑵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电视台选择哪种方式播放收益最大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559160" y="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三、创新题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7000" y="3159000"/>
            <a:ext cx="818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⑴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广告播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0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广告播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。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由题意得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30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1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所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=8-2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因为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为不小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正整数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6821640" y="3429000"/>
            <a:ext cx="774720" cy="947160"/>
            <a:chOff x="6821640" y="3429000"/>
            <a:chExt cx="774720" cy="947160"/>
          </a:xfrm>
        </p:grpSpPr>
        <p:sp>
          <p:nvSpPr>
            <p:cNvPr id="737" name=""/>
            <p:cNvSpPr/>
            <p:nvPr/>
          </p:nvSpPr>
          <p:spPr>
            <a:xfrm>
              <a:off x="6821640" y="3684600"/>
              <a:ext cx="90360" cy="53964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56560" y="3429000"/>
              <a:ext cx="73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4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2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7947000" y="3473280"/>
            <a:ext cx="774720" cy="947160"/>
            <a:chOff x="7947000" y="3473280"/>
            <a:chExt cx="774720" cy="947160"/>
          </a:xfrm>
        </p:grpSpPr>
        <p:sp>
          <p:nvSpPr>
            <p:cNvPr id="740" name=""/>
            <p:cNvSpPr/>
            <p:nvPr/>
          </p:nvSpPr>
          <p:spPr>
            <a:xfrm>
              <a:off x="7947000" y="3728880"/>
              <a:ext cx="90360" cy="53964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81920" y="3473280"/>
              <a:ext cx="73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2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=3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252360" y="4464000"/>
            <a:ext cx="769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即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广告播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0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广告播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或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播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0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播放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。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5319720"/>
            <a:ext cx="850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⑵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=4,y=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 则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0.6×4+1×2=4.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万元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=2,y=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 则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0.6×4+1×3=4.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万元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55240" y="6173640"/>
            <a:ext cx="58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答：电视台选择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5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4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0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秒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次收益最大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252360" y="90792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一、每个方程都含有两个未知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),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并且未知数的指数都是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像这样的方程叫做二元一次方程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41280" y="1854360"/>
            <a:ext cx="84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二、把两个二元一次方程合在一起，就组成了一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组</a:t>
            </a:r>
            <a:r>
              <a:rPr b="1" lang="en-US" sz="2800" spc="-1" strike="noStrike">
                <a:solidFill>
                  <a:srgbClr val="ff99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6280" y="2708280"/>
            <a:ext cx="85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三、使二元一次方程两边的值相等的两个未知数的值，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的解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7000" y="3789360"/>
            <a:ext cx="85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四、一般地，二元一次方程组的两个方程的公共解，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组的解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52360" y="4778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彩云"/>
                <a:ea typeface="华文彩云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五、二元一次方程有无穷多个解；二元一次方程组有且只有一组解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52360" y="189000"/>
            <a:ext cx="2276640" cy="736200"/>
            <a:chOff x="252360" y="189000"/>
            <a:chExt cx="2276640" cy="736200"/>
          </a:xfrm>
        </p:grpSpPr>
        <p:sp>
          <p:nvSpPr>
            <p:cNvPr id="751" name=""/>
            <p:cNvSpPr/>
            <p:nvPr/>
          </p:nvSpPr>
          <p:spPr>
            <a:xfrm>
              <a:off x="252360" y="189000"/>
              <a:ext cx="22766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37480" y="648360"/>
              <a:ext cx="193608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295200" y="235800"/>
              <a:ext cx="476640" cy="589320"/>
              <a:chOff x="295200" y="235800"/>
              <a:chExt cx="476640" cy="58932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327240" y="298800"/>
                <a:ext cx="444600" cy="526320"/>
                <a:chOff x="327240" y="298800"/>
                <a:chExt cx="444600" cy="5263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352440" y="298800"/>
                  <a:ext cx="38304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grpSp>
              <p:nvGrpSpPr>
                <p:cNvPr id="756" name=""/>
                <p:cNvGrpSpPr/>
                <p:nvPr/>
              </p:nvGrpSpPr>
              <p:grpSpPr>
                <a:xfrm>
                  <a:off x="327240" y="368640"/>
                  <a:ext cx="444600" cy="456480"/>
                  <a:chOff x="327240" y="368640"/>
                  <a:chExt cx="444600" cy="456480"/>
                </a:xfrm>
              </p:grpSpPr>
              <p:sp>
                <p:nvSpPr>
                  <p:cNvPr id="757" name="未知"/>
                  <p:cNvSpPr/>
                  <p:nvPr/>
                </p:nvSpPr>
                <p:spPr>
                  <a:xfrm>
                    <a:off x="327240" y="484920"/>
                    <a:ext cx="3380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未知"/>
                  <p:cNvSpPr/>
                  <p:nvPr/>
                </p:nvSpPr>
                <p:spPr>
                  <a:xfrm>
                    <a:off x="327240" y="444960"/>
                    <a:ext cx="3380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未知"/>
                  <p:cNvSpPr/>
                  <p:nvPr/>
                </p:nvSpPr>
                <p:spPr>
                  <a:xfrm>
                    <a:off x="357840" y="514800"/>
                    <a:ext cx="2664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未知"/>
                  <p:cNvSpPr/>
                  <p:nvPr/>
                </p:nvSpPr>
                <p:spPr>
                  <a:xfrm>
                    <a:off x="470520" y="584280"/>
                    <a:ext cx="3060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未知"/>
                  <p:cNvSpPr/>
                  <p:nvPr/>
                </p:nvSpPr>
                <p:spPr>
                  <a:xfrm>
                    <a:off x="461160" y="689400"/>
                    <a:ext cx="58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未知"/>
                  <p:cNvSpPr/>
                  <p:nvPr/>
                </p:nvSpPr>
                <p:spPr>
                  <a:xfrm>
                    <a:off x="374400" y="684720"/>
                    <a:ext cx="25308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未知"/>
                  <p:cNvSpPr/>
                  <p:nvPr/>
                </p:nvSpPr>
                <p:spPr>
                  <a:xfrm>
                    <a:off x="605520" y="593280"/>
                    <a:ext cx="1299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未知"/>
                  <p:cNvSpPr/>
                  <p:nvPr/>
                </p:nvSpPr>
                <p:spPr>
                  <a:xfrm>
                    <a:off x="576720" y="368640"/>
                    <a:ext cx="1951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未知"/>
                  <p:cNvSpPr/>
                  <p:nvPr/>
                </p:nvSpPr>
                <p:spPr>
                  <a:xfrm>
                    <a:off x="591120" y="389520"/>
                    <a:ext cx="15912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6" name=""/>
              <p:cNvGrpSpPr/>
              <p:nvPr/>
            </p:nvGrpSpPr>
            <p:grpSpPr>
              <a:xfrm>
                <a:off x="295200" y="235800"/>
                <a:ext cx="223920" cy="168120"/>
                <a:chOff x="295200" y="235800"/>
                <a:chExt cx="223920" cy="168120"/>
              </a:xfrm>
            </p:grpSpPr>
            <p:sp>
              <p:nvSpPr>
                <p:cNvPr id="767" name="未知"/>
                <p:cNvSpPr/>
                <p:nvPr/>
              </p:nvSpPr>
              <p:spPr>
                <a:xfrm>
                  <a:off x="295200" y="305640"/>
                  <a:ext cx="12996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768" name="未知"/>
                <p:cNvSpPr/>
                <p:nvPr/>
              </p:nvSpPr>
              <p:spPr>
                <a:xfrm>
                  <a:off x="360000" y="235800"/>
                  <a:ext cx="10836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769" name="未知"/>
                <p:cNvSpPr/>
                <p:nvPr/>
              </p:nvSpPr>
              <p:spPr>
                <a:xfrm>
                  <a:off x="454320" y="256680"/>
                  <a:ext cx="6480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0" name=""/>
            <p:cNvSpPr txBox="1"/>
            <p:nvPr/>
          </p:nvSpPr>
          <p:spPr>
            <a:xfrm>
              <a:off x="809640" y="236880"/>
              <a:ext cx="167364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堂小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93040" y="558360"/>
              <a:ext cx="78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333800" y="5904000"/>
            <a:ext cx="52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作业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5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习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.1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组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22320" y="55440"/>
            <a:ext cx="2116080" cy="723960"/>
            <a:chOff x="22320" y="55440"/>
            <a:chExt cx="2116080" cy="723960"/>
          </a:xfrm>
        </p:grpSpPr>
        <p:sp>
          <p:nvSpPr>
            <p:cNvPr id="380" name=""/>
            <p:cNvSpPr/>
            <p:nvPr/>
          </p:nvSpPr>
          <p:spPr>
            <a:xfrm>
              <a:off x="66600" y="442800"/>
              <a:ext cx="1611360" cy="336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2320" y="55440"/>
              <a:ext cx="2116080" cy="651960"/>
              <a:chOff x="22320" y="55440"/>
              <a:chExt cx="2116080" cy="65196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22320" y="55440"/>
                <a:ext cx="1050840" cy="465480"/>
                <a:chOff x="22320" y="55440"/>
                <a:chExt cx="1050840" cy="465480"/>
              </a:xfrm>
            </p:grpSpPr>
            <p:sp>
              <p:nvSpPr>
                <p:cNvPr id="383" name="未知"/>
                <p:cNvSpPr/>
                <p:nvPr/>
              </p:nvSpPr>
              <p:spPr>
                <a:xfrm>
                  <a:off x="22320" y="55440"/>
                  <a:ext cx="1050840" cy="465480"/>
                </a:xfrm>
                <a:custGeom>
                  <a:avLst/>
                  <a:gdLst/>
                  <a:ahLst/>
                  <a:rect l="l" t="t" r="r" b="b"/>
                  <a:pathLst>
                    <a:path w="1324" h="763">
                      <a:moveTo>
                        <a:pt x="1317" y="119"/>
                      </a:moveTo>
                      <a:lnTo>
                        <a:pt x="1307" y="122"/>
                      </a:lnTo>
                      <a:lnTo>
                        <a:pt x="1297" y="123"/>
                      </a:lnTo>
                      <a:lnTo>
                        <a:pt x="1286" y="123"/>
                      </a:lnTo>
                      <a:lnTo>
                        <a:pt x="1276" y="122"/>
                      </a:lnTo>
                      <a:lnTo>
                        <a:pt x="1264" y="122"/>
                      </a:lnTo>
                      <a:lnTo>
                        <a:pt x="1254" y="121"/>
                      </a:lnTo>
                      <a:lnTo>
                        <a:pt x="1243" y="121"/>
                      </a:lnTo>
                      <a:lnTo>
                        <a:pt x="1232" y="121"/>
                      </a:lnTo>
                      <a:lnTo>
                        <a:pt x="1206" y="116"/>
                      </a:lnTo>
                      <a:lnTo>
                        <a:pt x="1178" y="109"/>
                      </a:lnTo>
                      <a:lnTo>
                        <a:pt x="1150" y="101"/>
                      </a:lnTo>
                      <a:lnTo>
                        <a:pt x="1122" y="93"/>
                      </a:lnTo>
                      <a:lnTo>
                        <a:pt x="1093" y="83"/>
                      </a:lnTo>
                      <a:lnTo>
                        <a:pt x="1065" y="73"/>
                      </a:lnTo>
                      <a:lnTo>
                        <a:pt x="1036" y="63"/>
                      </a:lnTo>
                      <a:lnTo>
                        <a:pt x="1009" y="53"/>
                      </a:lnTo>
                      <a:lnTo>
                        <a:pt x="982" y="42"/>
                      </a:lnTo>
                      <a:lnTo>
                        <a:pt x="957" y="33"/>
                      </a:lnTo>
                      <a:lnTo>
                        <a:pt x="932" y="24"/>
                      </a:lnTo>
                      <a:lnTo>
                        <a:pt x="908" y="16"/>
                      </a:lnTo>
                      <a:lnTo>
                        <a:pt x="887" y="9"/>
                      </a:lnTo>
                      <a:lnTo>
                        <a:pt x="866" y="4"/>
                      </a:lnTo>
                      <a:lnTo>
                        <a:pt x="849" y="1"/>
                      </a:lnTo>
                      <a:lnTo>
                        <a:pt x="832" y="0"/>
                      </a:lnTo>
                      <a:lnTo>
                        <a:pt x="819" y="0"/>
                      </a:lnTo>
                      <a:lnTo>
                        <a:pt x="806" y="1"/>
                      </a:lnTo>
                      <a:lnTo>
                        <a:pt x="793" y="3"/>
                      </a:lnTo>
                      <a:lnTo>
                        <a:pt x="781" y="7"/>
                      </a:lnTo>
                      <a:lnTo>
                        <a:pt x="768" y="10"/>
                      </a:lnTo>
                      <a:lnTo>
                        <a:pt x="755" y="15"/>
                      </a:lnTo>
                      <a:lnTo>
                        <a:pt x="744" y="19"/>
                      </a:lnTo>
                      <a:lnTo>
                        <a:pt x="732" y="25"/>
                      </a:lnTo>
                      <a:lnTo>
                        <a:pt x="721" y="31"/>
                      </a:lnTo>
                      <a:lnTo>
                        <a:pt x="709" y="38"/>
                      </a:lnTo>
                      <a:lnTo>
                        <a:pt x="699" y="45"/>
                      </a:lnTo>
                      <a:lnTo>
                        <a:pt x="687" y="51"/>
                      </a:lnTo>
                      <a:lnTo>
                        <a:pt x="677" y="60"/>
                      </a:lnTo>
                      <a:lnTo>
                        <a:pt x="667" y="66"/>
                      </a:lnTo>
                      <a:lnTo>
                        <a:pt x="656" y="75"/>
                      </a:lnTo>
                      <a:lnTo>
                        <a:pt x="646" y="83"/>
                      </a:lnTo>
                      <a:lnTo>
                        <a:pt x="639" y="86"/>
                      </a:lnTo>
                      <a:lnTo>
                        <a:pt x="632" y="90"/>
                      </a:lnTo>
                      <a:lnTo>
                        <a:pt x="625" y="93"/>
                      </a:lnTo>
                      <a:lnTo>
                        <a:pt x="617" y="95"/>
                      </a:lnTo>
                      <a:lnTo>
                        <a:pt x="610" y="96"/>
                      </a:lnTo>
                      <a:lnTo>
                        <a:pt x="602" y="98"/>
                      </a:lnTo>
                      <a:lnTo>
                        <a:pt x="594" y="98"/>
                      </a:lnTo>
                      <a:lnTo>
                        <a:pt x="586" y="98"/>
                      </a:lnTo>
                      <a:lnTo>
                        <a:pt x="566" y="93"/>
                      </a:lnTo>
                      <a:lnTo>
                        <a:pt x="548" y="87"/>
                      </a:lnTo>
                      <a:lnTo>
                        <a:pt x="529" y="80"/>
                      </a:lnTo>
                      <a:lnTo>
                        <a:pt x="511" y="73"/>
                      </a:lnTo>
                      <a:lnTo>
                        <a:pt x="493" y="66"/>
                      </a:lnTo>
                      <a:lnTo>
                        <a:pt x="474" y="61"/>
                      </a:lnTo>
                      <a:lnTo>
                        <a:pt x="453" y="57"/>
                      </a:lnTo>
                      <a:lnTo>
                        <a:pt x="433" y="57"/>
                      </a:lnTo>
                      <a:lnTo>
                        <a:pt x="417" y="60"/>
                      </a:lnTo>
                      <a:lnTo>
                        <a:pt x="399" y="64"/>
                      </a:lnTo>
                      <a:lnTo>
                        <a:pt x="380" y="72"/>
                      </a:lnTo>
                      <a:lnTo>
                        <a:pt x="359" y="81"/>
                      </a:lnTo>
                      <a:lnTo>
                        <a:pt x="337" y="93"/>
                      </a:lnTo>
                      <a:lnTo>
                        <a:pt x="313" y="107"/>
                      </a:lnTo>
                      <a:lnTo>
                        <a:pt x="289" y="121"/>
                      </a:lnTo>
                      <a:lnTo>
                        <a:pt x="264" y="137"/>
                      </a:lnTo>
                      <a:lnTo>
                        <a:pt x="238" y="154"/>
                      </a:lnTo>
                      <a:lnTo>
                        <a:pt x="213" y="171"/>
                      </a:lnTo>
                      <a:lnTo>
                        <a:pt x="187" y="190"/>
                      </a:lnTo>
                      <a:lnTo>
                        <a:pt x="162" y="207"/>
                      </a:lnTo>
                      <a:lnTo>
                        <a:pt x="137" y="225"/>
                      </a:lnTo>
                      <a:lnTo>
                        <a:pt x="112" y="244"/>
                      </a:lnTo>
                      <a:lnTo>
                        <a:pt x="89" y="261"/>
                      </a:lnTo>
                      <a:lnTo>
                        <a:pt x="68" y="277"/>
                      </a:lnTo>
                      <a:lnTo>
                        <a:pt x="61" y="281"/>
                      </a:lnTo>
                      <a:lnTo>
                        <a:pt x="53" y="285"/>
                      </a:lnTo>
                      <a:lnTo>
                        <a:pt x="43" y="288"/>
                      </a:lnTo>
                      <a:lnTo>
                        <a:pt x="35" y="291"/>
                      </a:lnTo>
                      <a:lnTo>
                        <a:pt x="26" y="295"/>
                      </a:lnTo>
                      <a:lnTo>
                        <a:pt x="18" y="298"/>
                      </a:lnTo>
                      <a:lnTo>
                        <a:pt x="11" y="303"/>
                      </a:lnTo>
                      <a:lnTo>
                        <a:pt x="4" y="307"/>
                      </a:lnTo>
                      <a:lnTo>
                        <a:pt x="0" y="318"/>
                      </a:lnTo>
                      <a:lnTo>
                        <a:pt x="1" y="329"/>
                      </a:lnTo>
                      <a:lnTo>
                        <a:pt x="3" y="338"/>
                      </a:lnTo>
                      <a:lnTo>
                        <a:pt x="5" y="343"/>
                      </a:lnTo>
                      <a:lnTo>
                        <a:pt x="15" y="344"/>
                      </a:lnTo>
                      <a:lnTo>
                        <a:pt x="23" y="346"/>
                      </a:lnTo>
                      <a:lnTo>
                        <a:pt x="32" y="348"/>
                      </a:lnTo>
                      <a:lnTo>
                        <a:pt x="40" y="348"/>
                      </a:lnTo>
                      <a:lnTo>
                        <a:pt x="49" y="349"/>
                      </a:lnTo>
                      <a:lnTo>
                        <a:pt x="57" y="350"/>
                      </a:lnTo>
                      <a:lnTo>
                        <a:pt x="65" y="350"/>
                      </a:lnTo>
                      <a:lnTo>
                        <a:pt x="73" y="350"/>
                      </a:lnTo>
                      <a:lnTo>
                        <a:pt x="85" y="391"/>
                      </a:lnTo>
                      <a:lnTo>
                        <a:pt x="99" y="431"/>
                      </a:lnTo>
                      <a:lnTo>
                        <a:pt x="114" y="465"/>
                      </a:lnTo>
                      <a:lnTo>
                        <a:pt x="131" y="500"/>
                      </a:lnTo>
                      <a:lnTo>
                        <a:pt x="148" y="534"/>
                      </a:lnTo>
                      <a:lnTo>
                        <a:pt x="169" y="571"/>
                      </a:lnTo>
                      <a:lnTo>
                        <a:pt x="190" y="610"/>
                      </a:lnTo>
                      <a:lnTo>
                        <a:pt x="213" y="654"/>
                      </a:lnTo>
                      <a:lnTo>
                        <a:pt x="220" y="664"/>
                      </a:lnTo>
                      <a:lnTo>
                        <a:pt x="232" y="675"/>
                      </a:lnTo>
                      <a:lnTo>
                        <a:pt x="248" y="685"/>
                      </a:lnTo>
                      <a:lnTo>
                        <a:pt x="268" y="695"/>
                      </a:lnTo>
                      <a:lnTo>
                        <a:pt x="292" y="707"/>
                      </a:lnTo>
                      <a:lnTo>
                        <a:pt x="320" y="717"/>
                      </a:lnTo>
                      <a:lnTo>
                        <a:pt x="350" y="728"/>
                      </a:lnTo>
                      <a:lnTo>
                        <a:pt x="383" y="736"/>
                      </a:lnTo>
                      <a:lnTo>
                        <a:pt x="419" y="745"/>
                      </a:lnTo>
                      <a:lnTo>
                        <a:pt x="458" y="752"/>
                      </a:lnTo>
                      <a:lnTo>
                        <a:pt x="497" y="758"/>
                      </a:lnTo>
                      <a:lnTo>
                        <a:pt x="539" y="761"/>
                      </a:lnTo>
                      <a:lnTo>
                        <a:pt x="582" y="763"/>
                      </a:lnTo>
                      <a:lnTo>
                        <a:pt x="626" y="763"/>
                      </a:lnTo>
                      <a:lnTo>
                        <a:pt x="671" y="761"/>
                      </a:lnTo>
                      <a:lnTo>
                        <a:pt x="716" y="757"/>
                      </a:lnTo>
                      <a:lnTo>
                        <a:pt x="764" y="750"/>
                      </a:lnTo>
                      <a:lnTo>
                        <a:pt x="809" y="740"/>
                      </a:lnTo>
                      <a:lnTo>
                        <a:pt x="852" y="731"/>
                      </a:lnTo>
                      <a:lnTo>
                        <a:pt x="891" y="720"/>
                      </a:lnTo>
                      <a:lnTo>
                        <a:pt x="927" y="708"/>
                      </a:lnTo>
                      <a:lnTo>
                        <a:pt x="960" y="695"/>
                      </a:lnTo>
                      <a:lnTo>
                        <a:pt x="991" y="683"/>
                      </a:lnTo>
                      <a:lnTo>
                        <a:pt x="1019" y="669"/>
                      </a:lnTo>
                      <a:lnTo>
                        <a:pt x="1044" y="654"/>
                      </a:lnTo>
                      <a:lnTo>
                        <a:pt x="1066" y="639"/>
                      </a:lnTo>
                      <a:lnTo>
                        <a:pt x="1087" y="624"/>
                      </a:lnTo>
                      <a:lnTo>
                        <a:pt x="1104" y="609"/>
                      </a:lnTo>
                      <a:lnTo>
                        <a:pt x="1120" y="593"/>
                      </a:lnTo>
                      <a:lnTo>
                        <a:pt x="1133" y="577"/>
                      </a:lnTo>
                      <a:lnTo>
                        <a:pt x="1145" y="562"/>
                      </a:lnTo>
                      <a:lnTo>
                        <a:pt x="1154" y="546"/>
                      </a:lnTo>
                      <a:lnTo>
                        <a:pt x="1161" y="528"/>
                      </a:lnTo>
                      <a:lnTo>
                        <a:pt x="1168" y="511"/>
                      </a:lnTo>
                      <a:lnTo>
                        <a:pt x="1176" y="495"/>
                      </a:lnTo>
                      <a:lnTo>
                        <a:pt x="1183" y="478"/>
                      </a:lnTo>
                      <a:lnTo>
                        <a:pt x="1190" y="460"/>
                      </a:lnTo>
                      <a:lnTo>
                        <a:pt x="1196" y="442"/>
                      </a:lnTo>
                      <a:lnTo>
                        <a:pt x="1202" y="425"/>
                      </a:lnTo>
                      <a:lnTo>
                        <a:pt x="1206" y="405"/>
                      </a:lnTo>
                      <a:lnTo>
                        <a:pt x="1209" y="381"/>
                      </a:lnTo>
                      <a:lnTo>
                        <a:pt x="1214" y="356"/>
                      </a:lnTo>
                      <a:lnTo>
                        <a:pt x="1221" y="328"/>
                      </a:lnTo>
                      <a:lnTo>
                        <a:pt x="1229" y="299"/>
                      </a:lnTo>
                      <a:lnTo>
                        <a:pt x="1237" y="270"/>
                      </a:lnTo>
                      <a:lnTo>
                        <a:pt x="1246" y="242"/>
                      </a:lnTo>
                      <a:lnTo>
                        <a:pt x="1254" y="214"/>
                      </a:lnTo>
                      <a:lnTo>
                        <a:pt x="1262" y="187"/>
                      </a:lnTo>
                      <a:lnTo>
                        <a:pt x="1271" y="185"/>
                      </a:lnTo>
                      <a:lnTo>
                        <a:pt x="1279" y="182"/>
                      </a:lnTo>
                      <a:lnTo>
                        <a:pt x="1287" y="177"/>
                      </a:lnTo>
                      <a:lnTo>
                        <a:pt x="1296" y="172"/>
                      </a:lnTo>
                      <a:lnTo>
                        <a:pt x="1304" y="168"/>
                      </a:lnTo>
                      <a:lnTo>
                        <a:pt x="1311" y="162"/>
                      </a:lnTo>
                      <a:lnTo>
                        <a:pt x="1317" y="155"/>
                      </a:lnTo>
                      <a:lnTo>
                        <a:pt x="1324" y="147"/>
                      </a:lnTo>
                      <a:lnTo>
                        <a:pt x="1322" y="141"/>
                      </a:lnTo>
                      <a:lnTo>
                        <a:pt x="1321" y="133"/>
                      </a:lnTo>
                      <a:lnTo>
                        <a:pt x="1319" y="125"/>
                      </a:lnTo>
                      <a:lnTo>
                        <a:pt x="1317" y="119"/>
                      </a:lnTo>
                      <a:close/>
                    </a:path>
                  </a:pathLst>
                </a:custGeom>
                <a:solidFill>
                  <a:srgbClr val="d80000"/>
                </a:solidFill>
                <a:ln w="0">
                  <a:noFill/>
                </a:ln>
                <a:effectLst>
                  <a:outerShdw dist="153753" dir="2700000" blurRad="0" rotWithShape="0">
                    <a:srgbClr val="81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384" name="未知"/>
                <p:cNvSpPr/>
                <p:nvPr/>
              </p:nvSpPr>
              <p:spPr>
                <a:xfrm>
                  <a:off x="141480" y="176040"/>
                  <a:ext cx="822240" cy="205560"/>
                </a:xfrm>
                <a:custGeom>
                  <a:avLst/>
                  <a:gdLst/>
                  <a:ahLst/>
                  <a:rect l="l" t="t" r="r" b="b"/>
                  <a:pathLst>
                    <a:path w="1036" h="338">
                      <a:moveTo>
                        <a:pt x="879" y="238"/>
                      </a:moveTo>
                      <a:lnTo>
                        <a:pt x="864" y="250"/>
                      </a:lnTo>
                      <a:lnTo>
                        <a:pt x="851" y="259"/>
                      </a:lnTo>
                      <a:lnTo>
                        <a:pt x="838" y="266"/>
                      </a:lnTo>
                      <a:lnTo>
                        <a:pt x="826" y="273"/>
                      </a:lnTo>
                      <a:lnTo>
                        <a:pt x="815" y="277"/>
                      </a:lnTo>
                      <a:lnTo>
                        <a:pt x="805" y="282"/>
                      </a:lnTo>
                      <a:lnTo>
                        <a:pt x="795" y="285"/>
                      </a:lnTo>
                      <a:lnTo>
                        <a:pt x="785" y="288"/>
                      </a:lnTo>
                      <a:lnTo>
                        <a:pt x="775" y="290"/>
                      </a:lnTo>
                      <a:lnTo>
                        <a:pt x="764" y="291"/>
                      </a:lnTo>
                      <a:lnTo>
                        <a:pt x="753" y="292"/>
                      </a:lnTo>
                      <a:lnTo>
                        <a:pt x="741" y="293"/>
                      </a:lnTo>
                      <a:lnTo>
                        <a:pt x="727" y="295"/>
                      </a:lnTo>
                      <a:lnTo>
                        <a:pt x="714" y="297"/>
                      </a:lnTo>
                      <a:lnTo>
                        <a:pt x="699" y="299"/>
                      </a:lnTo>
                      <a:lnTo>
                        <a:pt x="681" y="301"/>
                      </a:lnTo>
                      <a:lnTo>
                        <a:pt x="662" y="306"/>
                      </a:lnTo>
                      <a:lnTo>
                        <a:pt x="641" y="308"/>
                      </a:lnTo>
                      <a:lnTo>
                        <a:pt x="620" y="310"/>
                      </a:lnTo>
                      <a:lnTo>
                        <a:pt x="598" y="311"/>
                      </a:lnTo>
                      <a:lnTo>
                        <a:pt x="578" y="312"/>
                      </a:lnTo>
                      <a:lnTo>
                        <a:pt x="556" y="312"/>
                      </a:lnTo>
                      <a:lnTo>
                        <a:pt x="535" y="313"/>
                      </a:lnTo>
                      <a:lnTo>
                        <a:pt x="514" y="315"/>
                      </a:lnTo>
                      <a:lnTo>
                        <a:pt x="495" y="319"/>
                      </a:lnTo>
                      <a:lnTo>
                        <a:pt x="475" y="322"/>
                      </a:lnTo>
                      <a:lnTo>
                        <a:pt x="455" y="326"/>
                      </a:lnTo>
                      <a:lnTo>
                        <a:pt x="436" y="329"/>
                      </a:lnTo>
                      <a:lnTo>
                        <a:pt x="416" y="331"/>
                      </a:lnTo>
                      <a:lnTo>
                        <a:pt x="397" y="334"/>
                      </a:lnTo>
                      <a:lnTo>
                        <a:pt x="376" y="336"/>
                      </a:lnTo>
                      <a:lnTo>
                        <a:pt x="356" y="337"/>
                      </a:lnTo>
                      <a:lnTo>
                        <a:pt x="336" y="338"/>
                      </a:lnTo>
                      <a:lnTo>
                        <a:pt x="316" y="338"/>
                      </a:lnTo>
                      <a:lnTo>
                        <a:pt x="295" y="337"/>
                      </a:lnTo>
                      <a:lnTo>
                        <a:pt x="276" y="335"/>
                      </a:lnTo>
                      <a:lnTo>
                        <a:pt x="255" y="333"/>
                      </a:lnTo>
                      <a:lnTo>
                        <a:pt x="234" y="329"/>
                      </a:lnTo>
                      <a:lnTo>
                        <a:pt x="215" y="323"/>
                      </a:lnTo>
                      <a:lnTo>
                        <a:pt x="194" y="318"/>
                      </a:lnTo>
                      <a:lnTo>
                        <a:pt x="176" y="311"/>
                      </a:lnTo>
                      <a:lnTo>
                        <a:pt x="158" y="301"/>
                      </a:lnTo>
                      <a:lnTo>
                        <a:pt x="141" y="291"/>
                      </a:lnTo>
                      <a:lnTo>
                        <a:pt x="124" y="280"/>
                      </a:lnTo>
                      <a:lnTo>
                        <a:pt x="108" y="267"/>
                      </a:lnTo>
                      <a:lnTo>
                        <a:pt x="93" y="253"/>
                      </a:lnTo>
                      <a:lnTo>
                        <a:pt x="78" y="238"/>
                      </a:lnTo>
                      <a:lnTo>
                        <a:pt x="63" y="222"/>
                      </a:lnTo>
                      <a:lnTo>
                        <a:pt x="55" y="214"/>
                      </a:lnTo>
                      <a:lnTo>
                        <a:pt x="48" y="206"/>
                      </a:lnTo>
                      <a:lnTo>
                        <a:pt x="41" y="197"/>
                      </a:lnTo>
                      <a:lnTo>
                        <a:pt x="34" y="189"/>
                      </a:lnTo>
                      <a:lnTo>
                        <a:pt x="26" y="178"/>
                      </a:lnTo>
                      <a:lnTo>
                        <a:pt x="17" y="167"/>
                      </a:lnTo>
                      <a:lnTo>
                        <a:pt x="9" y="156"/>
                      </a:lnTo>
                      <a:lnTo>
                        <a:pt x="0" y="146"/>
                      </a:lnTo>
                      <a:lnTo>
                        <a:pt x="14" y="144"/>
                      </a:lnTo>
                      <a:lnTo>
                        <a:pt x="29" y="140"/>
                      </a:lnTo>
                      <a:lnTo>
                        <a:pt x="43" y="138"/>
                      </a:lnTo>
                      <a:lnTo>
                        <a:pt x="58" y="134"/>
                      </a:lnTo>
                      <a:lnTo>
                        <a:pt x="72" y="131"/>
                      </a:lnTo>
                      <a:lnTo>
                        <a:pt x="87" y="128"/>
                      </a:lnTo>
                      <a:lnTo>
                        <a:pt x="102" y="125"/>
                      </a:lnTo>
                      <a:lnTo>
                        <a:pt x="117" y="122"/>
                      </a:lnTo>
                      <a:lnTo>
                        <a:pt x="132" y="118"/>
                      </a:lnTo>
                      <a:lnTo>
                        <a:pt x="147" y="116"/>
                      </a:lnTo>
                      <a:lnTo>
                        <a:pt x="163" y="113"/>
                      </a:lnTo>
                      <a:lnTo>
                        <a:pt x="178" y="110"/>
                      </a:lnTo>
                      <a:lnTo>
                        <a:pt x="194" y="109"/>
                      </a:lnTo>
                      <a:lnTo>
                        <a:pt x="211" y="107"/>
                      </a:lnTo>
                      <a:lnTo>
                        <a:pt x="227" y="106"/>
                      </a:lnTo>
                      <a:lnTo>
                        <a:pt x="245" y="106"/>
                      </a:lnTo>
                      <a:lnTo>
                        <a:pt x="264" y="107"/>
                      </a:lnTo>
                      <a:lnTo>
                        <a:pt x="283" y="109"/>
                      </a:lnTo>
                      <a:lnTo>
                        <a:pt x="300" y="113"/>
                      </a:lnTo>
                      <a:lnTo>
                        <a:pt x="316" y="117"/>
                      </a:lnTo>
                      <a:lnTo>
                        <a:pt x="332" y="121"/>
                      </a:lnTo>
                      <a:lnTo>
                        <a:pt x="350" y="125"/>
                      </a:lnTo>
                      <a:lnTo>
                        <a:pt x="367" y="128"/>
                      </a:lnTo>
                      <a:lnTo>
                        <a:pt x="386" y="129"/>
                      </a:lnTo>
                      <a:lnTo>
                        <a:pt x="406" y="129"/>
                      </a:lnTo>
                      <a:lnTo>
                        <a:pt x="423" y="130"/>
                      </a:lnTo>
                      <a:lnTo>
                        <a:pt x="439" y="130"/>
                      </a:lnTo>
                      <a:lnTo>
                        <a:pt x="454" y="130"/>
                      </a:lnTo>
                      <a:lnTo>
                        <a:pt x="469" y="130"/>
                      </a:lnTo>
                      <a:lnTo>
                        <a:pt x="482" y="130"/>
                      </a:lnTo>
                      <a:lnTo>
                        <a:pt x="494" y="129"/>
                      </a:lnTo>
                      <a:lnTo>
                        <a:pt x="505" y="128"/>
                      </a:lnTo>
                      <a:lnTo>
                        <a:pt x="517" y="126"/>
                      </a:lnTo>
                      <a:lnTo>
                        <a:pt x="527" y="125"/>
                      </a:lnTo>
                      <a:lnTo>
                        <a:pt x="537" y="124"/>
                      </a:lnTo>
                      <a:lnTo>
                        <a:pt x="546" y="122"/>
                      </a:lnTo>
                      <a:lnTo>
                        <a:pt x="557" y="119"/>
                      </a:lnTo>
                      <a:lnTo>
                        <a:pt x="567" y="116"/>
                      </a:lnTo>
                      <a:lnTo>
                        <a:pt x="578" y="113"/>
                      </a:lnTo>
                      <a:lnTo>
                        <a:pt x="588" y="109"/>
                      </a:lnTo>
                      <a:lnTo>
                        <a:pt x="604" y="103"/>
                      </a:lnTo>
                      <a:lnTo>
                        <a:pt x="619" y="98"/>
                      </a:lnTo>
                      <a:lnTo>
                        <a:pt x="633" y="93"/>
                      </a:lnTo>
                      <a:lnTo>
                        <a:pt x="647" y="88"/>
                      </a:lnTo>
                      <a:lnTo>
                        <a:pt x="661" y="84"/>
                      </a:lnTo>
                      <a:lnTo>
                        <a:pt x="674" y="79"/>
                      </a:lnTo>
                      <a:lnTo>
                        <a:pt x="689" y="73"/>
                      </a:lnTo>
                      <a:lnTo>
                        <a:pt x="705" y="68"/>
                      </a:lnTo>
                      <a:lnTo>
                        <a:pt x="722" y="61"/>
                      </a:lnTo>
                      <a:lnTo>
                        <a:pt x="737" y="54"/>
                      </a:lnTo>
                      <a:lnTo>
                        <a:pt x="753" y="47"/>
                      </a:lnTo>
                      <a:lnTo>
                        <a:pt x="769" y="41"/>
                      </a:lnTo>
                      <a:lnTo>
                        <a:pt x="785" y="35"/>
                      </a:lnTo>
                      <a:lnTo>
                        <a:pt x="801" y="31"/>
                      </a:lnTo>
                      <a:lnTo>
                        <a:pt x="817" y="26"/>
                      </a:lnTo>
                      <a:lnTo>
                        <a:pt x="833" y="23"/>
                      </a:lnTo>
                      <a:lnTo>
                        <a:pt x="849" y="18"/>
                      </a:lnTo>
                      <a:lnTo>
                        <a:pt x="867" y="16"/>
                      </a:lnTo>
                      <a:lnTo>
                        <a:pt x="883" y="12"/>
                      </a:lnTo>
                      <a:lnTo>
                        <a:pt x="899" y="10"/>
                      </a:lnTo>
                      <a:lnTo>
                        <a:pt x="916" y="8"/>
                      </a:lnTo>
                      <a:lnTo>
                        <a:pt x="932" y="5"/>
                      </a:lnTo>
                      <a:lnTo>
                        <a:pt x="950" y="3"/>
                      </a:lnTo>
                      <a:lnTo>
                        <a:pt x="966" y="2"/>
                      </a:lnTo>
                      <a:lnTo>
                        <a:pt x="975" y="2"/>
                      </a:lnTo>
                      <a:lnTo>
                        <a:pt x="983" y="1"/>
                      </a:lnTo>
                      <a:lnTo>
                        <a:pt x="992" y="1"/>
                      </a:lnTo>
                      <a:lnTo>
                        <a:pt x="1002" y="1"/>
                      </a:lnTo>
                      <a:lnTo>
                        <a:pt x="1010" y="1"/>
                      </a:lnTo>
                      <a:lnTo>
                        <a:pt x="1019" y="1"/>
                      </a:lnTo>
                      <a:lnTo>
                        <a:pt x="1027" y="0"/>
                      </a:lnTo>
                      <a:lnTo>
                        <a:pt x="1036" y="0"/>
                      </a:lnTo>
                      <a:lnTo>
                        <a:pt x="1030" y="15"/>
                      </a:lnTo>
                      <a:lnTo>
                        <a:pt x="1023" y="28"/>
                      </a:lnTo>
                      <a:lnTo>
                        <a:pt x="1017" y="43"/>
                      </a:lnTo>
                      <a:lnTo>
                        <a:pt x="1010" y="57"/>
                      </a:lnTo>
                      <a:lnTo>
                        <a:pt x="1003" y="71"/>
                      </a:lnTo>
                      <a:lnTo>
                        <a:pt x="996" y="85"/>
                      </a:lnTo>
                      <a:lnTo>
                        <a:pt x="988" y="99"/>
                      </a:lnTo>
                      <a:lnTo>
                        <a:pt x="980" y="113"/>
                      </a:lnTo>
                      <a:lnTo>
                        <a:pt x="974" y="121"/>
                      </a:lnTo>
                      <a:lnTo>
                        <a:pt x="969" y="130"/>
                      </a:lnTo>
                      <a:lnTo>
                        <a:pt x="964" y="138"/>
                      </a:lnTo>
                      <a:lnTo>
                        <a:pt x="958" y="147"/>
                      </a:lnTo>
                      <a:lnTo>
                        <a:pt x="950" y="159"/>
                      </a:lnTo>
                      <a:lnTo>
                        <a:pt x="940" y="171"/>
                      </a:lnTo>
                      <a:lnTo>
                        <a:pt x="931" y="183"/>
                      </a:lnTo>
                      <a:lnTo>
                        <a:pt x="922" y="194"/>
                      </a:lnTo>
                      <a:lnTo>
                        <a:pt x="912" y="206"/>
                      </a:lnTo>
                      <a:lnTo>
                        <a:pt x="901" y="216"/>
                      </a:lnTo>
                      <a:lnTo>
                        <a:pt x="891" y="228"/>
                      </a:lnTo>
                      <a:lnTo>
                        <a:pt x="879" y="2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153753" dir="2700000" blurRad="0" rotWithShape="0">
                    <a:srgbClr val="9898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71760" y="186840"/>
                <a:ext cx="1466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61f5b"/>
                    </a:solidFill>
                    <a:latin typeface="Arial"/>
                    <a:ea typeface="黑体"/>
                  </a:rPr>
                  <a:t>说一说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"/>
          <p:cNvSpPr/>
          <p:nvPr/>
        </p:nvSpPr>
        <p:spPr>
          <a:xfrm>
            <a:off x="297000" y="728640"/>
            <a:ext cx="8640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小亮家今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的天然气费和水费共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元，其中天然气费比水费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你能算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小亮家的天然气费和水费分别是多少吗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5045040"/>
            <a:ext cx="1235160" cy="18129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862360" y="2619360"/>
            <a:ext cx="207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60 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–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或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20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02000" y="315900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60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x = x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20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76640" y="18900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创设情境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231280" y="4328280"/>
            <a:ext cx="5668920" cy="2205000"/>
          </a:xfrm>
          <a:prstGeom prst="wedgeRoundRectCallout">
            <a:avLst>
              <a:gd name="adj1" fmla="val 69657"/>
              <a:gd name="adj2" fmla="val 4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以设小亮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份的天然气费是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，水费是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 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由题意得    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+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=6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   ①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    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-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=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②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280" y="216864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以设小亮家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份的天然气费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则水费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480" y="31590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由题意列出一元一次方程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9760" y="3608280"/>
            <a:ext cx="535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想一想，还有其他方法吗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76280" y="728640"/>
            <a:ext cx="4932360" cy="68436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你知道篮球比赛的规则吗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06280" y="1898640"/>
            <a:ext cx="868536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篮球联赛中，每场比赛都要分出胜负，每队胜一场得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分，负一场得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分，某队在全部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场比赛中得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分，那么这个队胜负场数应分别是多少？      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 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2360" y="3564000"/>
            <a:ext cx="80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法一：设胜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场，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(22-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场，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(22-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)=40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24400" y="4329000"/>
            <a:ext cx="535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想一想，还有其他方法吗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01640" y="5003640"/>
            <a:ext cx="517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解法二：设胜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场，负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场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22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40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871640" y="324000"/>
            <a:ext cx="6751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经过观察，我们发现方程①和②各含有两个未知数，且含未知数的每一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例如，①中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一项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另一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次数都是一次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521280" y="2529000"/>
            <a:ext cx="2654280" cy="900000"/>
          </a:xfrm>
          <a:prstGeom prst="wedgeRoundRectCallout">
            <a:avLst>
              <a:gd name="adj1" fmla="val -77574"/>
              <a:gd name="adj2" fmla="val 902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60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①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20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62000" y="0"/>
            <a:ext cx="1828800" cy="76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探究合作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5245920" y="2348640"/>
            <a:ext cx="3421080" cy="854280"/>
          </a:xfrm>
          <a:prstGeom prst="wedgeRoundRectCallout">
            <a:avLst>
              <a:gd name="adj1" fmla="val 77884"/>
              <a:gd name="adj2" fmla="val 74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22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40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52360" y="4103640"/>
            <a:ext cx="1687680" cy="1089000"/>
            <a:chOff x="252360" y="4103640"/>
            <a:chExt cx="1687680" cy="1089000"/>
          </a:xfrm>
        </p:grpSpPr>
        <p:sp>
          <p:nvSpPr>
            <p:cNvPr id="405" name=""/>
            <p:cNvSpPr/>
            <p:nvPr/>
          </p:nvSpPr>
          <p:spPr>
            <a:xfrm>
              <a:off x="252360" y="4868640"/>
              <a:ext cx="1265400" cy="3240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9720" y="4554360"/>
              <a:ext cx="103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结论</a:t>
              </a:r>
              <a:endParaRPr b="0" lang="en-US" sz="3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>
              <a:off x="252360" y="4103640"/>
              <a:ext cx="880920" cy="86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"/>
          <p:cNvSpPr/>
          <p:nvPr/>
        </p:nvSpPr>
        <p:spPr>
          <a:xfrm>
            <a:off x="1692360" y="4194000"/>
            <a:ext cx="69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像这样，含有两个未知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并且含未知数的每一项都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方程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322360" y="4643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判断点：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、未知数几个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76280" y="5138640"/>
            <a:ext cx="74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每个含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未知数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项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的次数是几次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76280" y="567864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、等式两边是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16640" y="4643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个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27720" y="50943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次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97360" y="567864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整式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10666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1)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 x+y=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46640" y="998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3)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=5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1044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2)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+1=2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27720" y="954000"/>
            <a:ext cx="18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4)  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=10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6280" y="1719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5) </a:t>
            </a:r>
            <a:r>
              <a:rPr b="1" lang="zh-CN" sz="2800" spc="-1" strike="noStrike">
                <a:solidFill>
                  <a:srgbClr val="061f5b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=4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772720" y="1628640"/>
            <a:ext cx="24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(6)7+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=2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61f5b"/>
                </a:solidFill>
                <a:latin typeface="Times New Roman"/>
              </a:rPr>
              <a:t>+11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16640" y="1403280"/>
            <a:ext cx="3168720" cy="802800"/>
            <a:chOff x="5516640" y="1403280"/>
            <a:chExt cx="3168720" cy="802800"/>
          </a:xfrm>
        </p:grpSpPr>
        <p:sp>
          <p:nvSpPr>
            <p:cNvPr id="422" name=""/>
            <p:cNvSpPr/>
            <p:nvPr/>
          </p:nvSpPr>
          <p:spPr>
            <a:xfrm>
              <a:off x="5516640" y="157644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(7)7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+      =13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6654600" y="1403280"/>
              <a:ext cx="405000" cy="802800"/>
              <a:chOff x="6654600" y="1403280"/>
              <a:chExt cx="405000" cy="802800"/>
            </a:xfrm>
          </p:grpSpPr>
          <p:sp>
            <p:nvSpPr>
              <p:cNvPr id="424" name=""/>
              <p:cNvSpPr/>
              <p:nvPr/>
            </p:nvSpPr>
            <p:spPr>
              <a:xfrm>
                <a:off x="6667920" y="168552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61f5b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54600" y="1403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61f5b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54960" y="1852200"/>
                <a:ext cx="40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31640" y="2484360"/>
            <a:ext cx="2460960" cy="2305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41280" y="23036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元一次方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5697360" y="2394000"/>
            <a:ext cx="2376720" cy="2308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202360" y="230364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Arial"/>
                <a:ea typeface="黑体"/>
              </a:rPr>
              <a:t>不是二元一次方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37000" y="2793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请帮下列各等式找到自己的家。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7360" y="4643280"/>
            <a:ext cx="522360" cy="1371600"/>
            <a:chOff x="387360" y="4643280"/>
            <a:chExt cx="522360" cy="1371600"/>
          </a:xfrm>
        </p:grpSpPr>
        <p:sp>
          <p:nvSpPr>
            <p:cNvPr id="433" name=""/>
            <p:cNvSpPr/>
            <p:nvPr/>
          </p:nvSpPr>
          <p:spPr>
            <a:xfrm>
              <a:off x="387360" y="4643280"/>
              <a:ext cx="522360" cy="1349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 rot="5400000">
              <a:off x="-69840" y="510048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注意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484920" y="376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知识点应用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4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723E-006 L 0.03941 0.3607 E">
                                      <p:cBhvr>
                                        <p:cTn id="7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3389E-007 L 0.33767 0.42933 E">
                                      <p:cBhvr>
                                        <p:cTn id="8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34097E-006 L 0.12709 0.42077 E">
                                      <p:cBhvr>
                                        <p:cTn id="87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34097E-006 L -0.13472 0.41407 E">
                                      <p:cBhvr>
                                        <p:cTn id="91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0.00231 L 0.00278 0.23306 E">
                                      <p:cBhvr>
                                        <p:cTn id="95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7 0.01411 L 0.23108 0.30905 E">
                                      <p:cBhvr>
                                        <p:cTn id="99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0880" y="152280"/>
            <a:ext cx="198144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41280" y="773280"/>
          <a:ext cx="8305920" cy="5678280"/>
        </p:xfrm>
        <a:graphic>
          <a:graphicData uri="http://schemas.openxmlformats.org/drawingml/2006/table">
            <a:tbl>
              <a:tblPr/>
              <a:tblGrid>
                <a:gridCol w="1260360"/>
                <a:gridCol w="3870360"/>
                <a:gridCol w="317520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一元一次方程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二元一次方程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</a:tr>
              <a:tr h="16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定义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</a:tr>
              <a:tr h="15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解的定义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解的情况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Garamond"/>
                          <a:ea typeface="黑体"/>
                        </a:rPr>
                        <a:t>如何判断</a:t>
                      </a:r>
                      <a:endParaRPr b="0" lang="en-US" sz="2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50000">
                          <a:srgbClr val="fefefe"/>
                        </a:gs>
                        <a:gs pos="100000">
                          <a:srgbClr val="ccffcc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837360" y="127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分类比较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46280" y="1449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只含有一个未知数，并且未知数的指数是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（系数不为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的方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27720" y="1494000"/>
            <a:ext cx="328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含有两个未知数（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和</a:t>
            </a:r>
            <a:r>
              <a:rPr b="1" i="1" lang="en-US" sz="2800" spc="-1" strike="noStrike">
                <a:solidFill>
                  <a:srgbClr val="061f5b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），并且未知数的指数都是</a:t>
            </a: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的方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57360" y="320364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使一元一次方程两边的值相等的未知数的值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72000" y="302436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使二元一次方程两边的值相等的两个未知数的值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951280" y="4824360"/>
            <a:ext cx="8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f5b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个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91440" y="477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无穷多个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92440" y="5724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代入使方程成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37440" y="5678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代入使方程成立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52360" y="998640"/>
            <a:ext cx="8263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在问题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中方程①和②中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都表示小亮家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的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然气费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都表示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的水费，它们必须同时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满足方程①和②，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446640" y="3924360"/>
            <a:ext cx="2257920" cy="971280"/>
            <a:chOff x="3446640" y="3924360"/>
            <a:chExt cx="2257920" cy="971280"/>
          </a:xfrm>
        </p:grpSpPr>
        <p:sp>
          <p:nvSpPr>
            <p:cNvPr id="449" name=""/>
            <p:cNvSpPr/>
            <p:nvPr/>
          </p:nvSpPr>
          <p:spPr>
            <a:xfrm>
              <a:off x="3446640" y="4172040"/>
              <a:ext cx="135000" cy="630360"/>
            </a:xfrm>
            <a:custGeom>
              <a:avLst/>
              <a:gdLst>
                <a:gd name="textAreaLeft" fmla="*/ 86400 w 135000"/>
                <a:gd name="textAreaRight" fmla="*/ 135360 w 135000"/>
                <a:gd name="textAreaTop" fmla="*/ 16200 h 630360"/>
                <a:gd name="textAreaBottom" fmla="*/ 614160 h 63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5240" y="3924360"/>
              <a:ext cx="21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+ 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= 22 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96680" y="4375080"/>
              <a:ext cx="22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 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+ 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y 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= 40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52" name=""/>
          <p:cNvSpPr txBox="1"/>
          <p:nvPr/>
        </p:nvSpPr>
        <p:spPr>
          <a:xfrm rot="567600">
            <a:off x="0" y="0"/>
            <a:ext cx="228600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思考与讨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/>
          <p:nvPr/>
        </p:nvSpPr>
        <p:spPr>
          <a:xfrm>
            <a:off x="252360" y="252900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问题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中方程①和②中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都表示胜的场数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都表示负的场数，它们必须同时满足方程①和②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43080" y="4052880"/>
            <a:ext cx="2113920" cy="977760"/>
            <a:chOff x="343080" y="4052880"/>
            <a:chExt cx="2113920" cy="977760"/>
          </a:xfrm>
        </p:grpSpPr>
        <p:sp>
          <p:nvSpPr>
            <p:cNvPr id="455" name=""/>
            <p:cNvSpPr/>
            <p:nvPr/>
          </p:nvSpPr>
          <p:spPr>
            <a:xfrm>
              <a:off x="343080" y="4238640"/>
              <a:ext cx="135000" cy="674640"/>
            </a:xfrm>
            <a:custGeom>
              <a:avLst/>
              <a:gdLst>
                <a:gd name="textAreaLeft" fmla="*/ 86400 w 135000"/>
                <a:gd name="textAreaRight" fmla="*/ 135360 w 135000"/>
                <a:gd name="textAreaTop" fmla="*/ 17280 h 674640"/>
                <a:gd name="textAreaBottom" fmla="*/ 65736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6240" y="4052880"/>
              <a:ext cx="203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+ 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= 60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6480" y="4510080"/>
              <a:ext cx="19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- y = 20 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97000" y="5049720"/>
            <a:ext cx="859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像这样把两个含有相同未知数的二元一次方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或者一个二元一次方程，一个一元一次方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联立起来，组成的方程组，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303360" y="3429000"/>
            <a:ext cx="781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因此把方程①和②用大括号联立起来，得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0680" y="503280"/>
            <a:ext cx="52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考：在这两个方程中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含义相同吗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162000" y="189000"/>
            <a:ext cx="1890720" cy="633240"/>
            <a:chOff x="162000" y="189000"/>
            <a:chExt cx="1890720" cy="633240"/>
          </a:xfrm>
        </p:grpSpPr>
        <p:sp>
          <p:nvSpPr>
            <p:cNvPr id="462" name=""/>
            <p:cNvSpPr/>
            <p:nvPr/>
          </p:nvSpPr>
          <p:spPr>
            <a:xfrm>
              <a:off x="162000" y="189000"/>
              <a:ext cx="1844640" cy="539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97000" y="233280"/>
              <a:ext cx="536400" cy="238320"/>
              <a:chOff x="297000" y="233280"/>
              <a:chExt cx="536400" cy="238320"/>
            </a:xfrm>
          </p:grpSpPr>
          <p:sp>
            <p:nvSpPr>
              <p:cNvPr id="464" name="未知"/>
              <p:cNvSpPr/>
              <p:nvPr/>
            </p:nvSpPr>
            <p:spPr>
              <a:xfrm>
                <a:off x="297000" y="233280"/>
                <a:ext cx="536400" cy="238320"/>
              </a:xfrm>
              <a:custGeom>
                <a:avLst/>
                <a:gdLst/>
                <a:ahLst/>
                <a:rect l="l" t="t" r="r" b="b"/>
                <a:pathLst>
                  <a:path w="1324" h="763">
                    <a:moveTo>
                      <a:pt x="1317" y="119"/>
                    </a:moveTo>
                    <a:lnTo>
                      <a:pt x="1307" y="122"/>
                    </a:lnTo>
                    <a:lnTo>
                      <a:pt x="1297" y="123"/>
                    </a:lnTo>
                    <a:lnTo>
                      <a:pt x="1286" y="123"/>
                    </a:lnTo>
                    <a:lnTo>
                      <a:pt x="1276" y="122"/>
                    </a:lnTo>
                    <a:lnTo>
                      <a:pt x="1264" y="122"/>
                    </a:lnTo>
                    <a:lnTo>
                      <a:pt x="1254" y="121"/>
                    </a:lnTo>
                    <a:lnTo>
                      <a:pt x="1243" y="121"/>
                    </a:lnTo>
                    <a:lnTo>
                      <a:pt x="1232" y="121"/>
                    </a:lnTo>
                    <a:lnTo>
                      <a:pt x="1206" y="116"/>
                    </a:lnTo>
                    <a:lnTo>
                      <a:pt x="1178" y="109"/>
                    </a:lnTo>
                    <a:lnTo>
                      <a:pt x="1150" y="101"/>
                    </a:lnTo>
                    <a:lnTo>
                      <a:pt x="1122" y="93"/>
                    </a:lnTo>
                    <a:lnTo>
                      <a:pt x="1093" y="83"/>
                    </a:lnTo>
                    <a:lnTo>
                      <a:pt x="1065" y="73"/>
                    </a:lnTo>
                    <a:lnTo>
                      <a:pt x="1036" y="63"/>
                    </a:lnTo>
                    <a:lnTo>
                      <a:pt x="1009" y="53"/>
                    </a:lnTo>
                    <a:lnTo>
                      <a:pt x="982" y="42"/>
                    </a:lnTo>
                    <a:lnTo>
                      <a:pt x="957" y="33"/>
                    </a:lnTo>
                    <a:lnTo>
                      <a:pt x="932" y="24"/>
                    </a:lnTo>
                    <a:lnTo>
                      <a:pt x="908" y="16"/>
                    </a:lnTo>
                    <a:lnTo>
                      <a:pt x="887" y="9"/>
                    </a:lnTo>
                    <a:lnTo>
                      <a:pt x="866" y="4"/>
                    </a:lnTo>
                    <a:lnTo>
                      <a:pt x="849" y="1"/>
                    </a:lnTo>
                    <a:lnTo>
                      <a:pt x="832" y="0"/>
                    </a:lnTo>
                    <a:lnTo>
                      <a:pt x="819" y="0"/>
                    </a:lnTo>
                    <a:lnTo>
                      <a:pt x="806" y="1"/>
                    </a:lnTo>
                    <a:lnTo>
                      <a:pt x="793" y="3"/>
                    </a:lnTo>
                    <a:lnTo>
                      <a:pt x="781" y="7"/>
                    </a:lnTo>
                    <a:lnTo>
                      <a:pt x="768" y="10"/>
                    </a:lnTo>
                    <a:lnTo>
                      <a:pt x="755" y="15"/>
                    </a:lnTo>
                    <a:lnTo>
                      <a:pt x="744" y="19"/>
                    </a:lnTo>
                    <a:lnTo>
                      <a:pt x="732" y="25"/>
                    </a:lnTo>
                    <a:lnTo>
                      <a:pt x="721" y="31"/>
                    </a:lnTo>
                    <a:lnTo>
                      <a:pt x="709" y="38"/>
                    </a:lnTo>
                    <a:lnTo>
                      <a:pt x="699" y="45"/>
                    </a:lnTo>
                    <a:lnTo>
                      <a:pt x="687" y="51"/>
                    </a:lnTo>
                    <a:lnTo>
                      <a:pt x="677" y="60"/>
                    </a:lnTo>
                    <a:lnTo>
                      <a:pt x="667" y="66"/>
                    </a:lnTo>
                    <a:lnTo>
                      <a:pt x="656" y="75"/>
                    </a:lnTo>
                    <a:lnTo>
                      <a:pt x="646" y="83"/>
                    </a:lnTo>
                    <a:lnTo>
                      <a:pt x="639" y="86"/>
                    </a:lnTo>
                    <a:lnTo>
                      <a:pt x="632" y="90"/>
                    </a:lnTo>
                    <a:lnTo>
                      <a:pt x="625" y="93"/>
                    </a:lnTo>
                    <a:lnTo>
                      <a:pt x="617" y="95"/>
                    </a:lnTo>
                    <a:lnTo>
                      <a:pt x="610" y="96"/>
                    </a:lnTo>
                    <a:lnTo>
                      <a:pt x="602" y="98"/>
                    </a:lnTo>
                    <a:lnTo>
                      <a:pt x="594" y="98"/>
                    </a:lnTo>
                    <a:lnTo>
                      <a:pt x="586" y="98"/>
                    </a:lnTo>
                    <a:lnTo>
                      <a:pt x="566" y="93"/>
                    </a:lnTo>
                    <a:lnTo>
                      <a:pt x="548" y="87"/>
                    </a:lnTo>
                    <a:lnTo>
                      <a:pt x="529" y="80"/>
                    </a:lnTo>
                    <a:lnTo>
                      <a:pt x="511" y="73"/>
                    </a:lnTo>
                    <a:lnTo>
                      <a:pt x="493" y="66"/>
                    </a:lnTo>
                    <a:lnTo>
                      <a:pt x="474" y="61"/>
                    </a:lnTo>
                    <a:lnTo>
                      <a:pt x="453" y="57"/>
                    </a:lnTo>
                    <a:lnTo>
                      <a:pt x="433" y="57"/>
                    </a:lnTo>
                    <a:lnTo>
                      <a:pt x="417" y="60"/>
                    </a:lnTo>
                    <a:lnTo>
                      <a:pt x="399" y="64"/>
                    </a:lnTo>
                    <a:lnTo>
                      <a:pt x="380" y="72"/>
                    </a:lnTo>
                    <a:lnTo>
                      <a:pt x="359" y="81"/>
                    </a:lnTo>
                    <a:lnTo>
                      <a:pt x="337" y="93"/>
                    </a:lnTo>
                    <a:lnTo>
                      <a:pt x="313" y="107"/>
                    </a:lnTo>
                    <a:lnTo>
                      <a:pt x="289" y="121"/>
                    </a:lnTo>
                    <a:lnTo>
                      <a:pt x="264" y="137"/>
                    </a:lnTo>
                    <a:lnTo>
                      <a:pt x="238" y="154"/>
                    </a:lnTo>
                    <a:lnTo>
                      <a:pt x="213" y="171"/>
                    </a:lnTo>
                    <a:lnTo>
                      <a:pt x="187" y="190"/>
                    </a:lnTo>
                    <a:lnTo>
                      <a:pt x="162" y="207"/>
                    </a:lnTo>
                    <a:lnTo>
                      <a:pt x="137" y="225"/>
                    </a:lnTo>
                    <a:lnTo>
                      <a:pt x="112" y="244"/>
                    </a:lnTo>
                    <a:lnTo>
                      <a:pt x="89" y="261"/>
                    </a:lnTo>
                    <a:lnTo>
                      <a:pt x="68" y="277"/>
                    </a:lnTo>
                    <a:lnTo>
                      <a:pt x="61" y="281"/>
                    </a:lnTo>
                    <a:lnTo>
                      <a:pt x="53" y="285"/>
                    </a:lnTo>
                    <a:lnTo>
                      <a:pt x="43" y="288"/>
                    </a:lnTo>
                    <a:lnTo>
                      <a:pt x="35" y="291"/>
                    </a:lnTo>
                    <a:lnTo>
                      <a:pt x="26" y="295"/>
                    </a:lnTo>
                    <a:lnTo>
                      <a:pt x="18" y="298"/>
                    </a:lnTo>
                    <a:lnTo>
                      <a:pt x="11" y="303"/>
                    </a:lnTo>
                    <a:lnTo>
                      <a:pt x="4" y="307"/>
                    </a:lnTo>
                    <a:lnTo>
                      <a:pt x="0" y="318"/>
                    </a:lnTo>
                    <a:lnTo>
                      <a:pt x="1" y="329"/>
                    </a:lnTo>
                    <a:lnTo>
                      <a:pt x="3" y="338"/>
                    </a:lnTo>
                    <a:lnTo>
                      <a:pt x="5" y="343"/>
                    </a:lnTo>
                    <a:lnTo>
                      <a:pt x="15" y="344"/>
                    </a:lnTo>
                    <a:lnTo>
                      <a:pt x="23" y="346"/>
                    </a:lnTo>
                    <a:lnTo>
                      <a:pt x="32" y="348"/>
                    </a:lnTo>
                    <a:lnTo>
                      <a:pt x="40" y="348"/>
                    </a:lnTo>
                    <a:lnTo>
                      <a:pt x="49" y="349"/>
                    </a:lnTo>
                    <a:lnTo>
                      <a:pt x="57" y="350"/>
                    </a:lnTo>
                    <a:lnTo>
                      <a:pt x="65" y="350"/>
                    </a:lnTo>
                    <a:lnTo>
                      <a:pt x="73" y="350"/>
                    </a:lnTo>
                    <a:lnTo>
                      <a:pt x="85" y="391"/>
                    </a:lnTo>
                    <a:lnTo>
                      <a:pt x="99" y="431"/>
                    </a:lnTo>
                    <a:lnTo>
                      <a:pt x="114" y="465"/>
                    </a:lnTo>
                    <a:lnTo>
                      <a:pt x="131" y="500"/>
                    </a:lnTo>
                    <a:lnTo>
                      <a:pt x="148" y="534"/>
                    </a:lnTo>
                    <a:lnTo>
                      <a:pt x="169" y="571"/>
                    </a:lnTo>
                    <a:lnTo>
                      <a:pt x="190" y="610"/>
                    </a:lnTo>
                    <a:lnTo>
                      <a:pt x="213" y="654"/>
                    </a:lnTo>
                    <a:lnTo>
                      <a:pt x="220" y="664"/>
                    </a:lnTo>
                    <a:lnTo>
                      <a:pt x="232" y="675"/>
                    </a:lnTo>
                    <a:lnTo>
                      <a:pt x="248" y="685"/>
                    </a:lnTo>
                    <a:lnTo>
                      <a:pt x="268" y="695"/>
                    </a:lnTo>
                    <a:lnTo>
                      <a:pt x="292" y="707"/>
                    </a:lnTo>
                    <a:lnTo>
                      <a:pt x="320" y="717"/>
                    </a:lnTo>
                    <a:lnTo>
                      <a:pt x="350" y="728"/>
                    </a:lnTo>
                    <a:lnTo>
                      <a:pt x="383" y="736"/>
                    </a:lnTo>
                    <a:lnTo>
                      <a:pt x="419" y="745"/>
                    </a:lnTo>
                    <a:lnTo>
                      <a:pt x="458" y="752"/>
                    </a:lnTo>
                    <a:lnTo>
                      <a:pt x="497" y="758"/>
                    </a:lnTo>
                    <a:lnTo>
                      <a:pt x="539" y="761"/>
                    </a:lnTo>
                    <a:lnTo>
                      <a:pt x="582" y="763"/>
                    </a:lnTo>
                    <a:lnTo>
                      <a:pt x="626" y="763"/>
                    </a:lnTo>
                    <a:lnTo>
                      <a:pt x="671" y="761"/>
                    </a:lnTo>
                    <a:lnTo>
                      <a:pt x="716" y="757"/>
                    </a:lnTo>
                    <a:lnTo>
                      <a:pt x="764" y="750"/>
                    </a:lnTo>
                    <a:lnTo>
                      <a:pt x="809" y="740"/>
                    </a:lnTo>
                    <a:lnTo>
                      <a:pt x="852" y="731"/>
                    </a:lnTo>
                    <a:lnTo>
                      <a:pt x="891" y="720"/>
                    </a:lnTo>
                    <a:lnTo>
                      <a:pt x="927" y="708"/>
                    </a:lnTo>
                    <a:lnTo>
                      <a:pt x="960" y="695"/>
                    </a:lnTo>
                    <a:lnTo>
                      <a:pt x="991" y="683"/>
                    </a:lnTo>
                    <a:lnTo>
                      <a:pt x="1019" y="669"/>
                    </a:lnTo>
                    <a:lnTo>
                      <a:pt x="1044" y="654"/>
                    </a:lnTo>
                    <a:lnTo>
                      <a:pt x="1066" y="639"/>
                    </a:lnTo>
                    <a:lnTo>
                      <a:pt x="1087" y="624"/>
                    </a:lnTo>
                    <a:lnTo>
                      <a:pt x="1104" y="609"/>
                    </a:lnTo>
                    <a:lnTo>
                      <a:pt x="1120" y="593"/>
                    </a:lnTo>
                    <a:lnTo>
                      <a:pt x="1133" y="577"/>
                    </a:lnTo>
                    <a:lnTo>
                      <a:pt x="1145" y="562"/>
                    </a:lnTo>
                    <a:lnTo>
                      <a:pt x="1154" y="546"/>
                    </a:lnTo>
                    <a:lnTo>
                      <a:pt x="1161" y="528"/>
                    </a:lnTo>
                    <a:lnTo>
                      <a:pt x="1168" y="511"/>
                    </a:lnTo>
                    <a:lnTo>
                      <a:pt x="1176" y="495"/>
                    </a:lnTo>
                    <a:lnTo>
                      <a:pt x="1183" y="478"/>
                    </a:lnTo>
                    <a:lnTo>
                      <a:pt x="1190" y="460"/>
                    </a:lnTo>
                    <a:lnTo>
                      <a:pt x="1196" y="442"/>
                    </a:lnTo>
                    <a:lnTo>
                      <a:pt x="1202" y="425"/>
                    </a:lnTo>
                    <a:lnTo>
                      <a:pt x="1206" y="405"/>
                    </a:lnTo>
                    <a:lnTo>
                      <a:pt x="1209" y="381"/>
                    </a:lnTo>
                    <a:lnTo>
                      <a:pt x="1214" y="356"/>
                    </a:lnTo>
                    <a:lnTo>
                      <a:pt x="1221" y="328"/>
                    </a:lnTo>
                    <a:lnTo>
                      <a:pt x="1229" y="299"/>
                    </a:lnTo>
                    <a:lnTo>
                      <a:pt x="1237" y="270"/>
                    </a:lnTo>
                    <a:lnTo>
                      <a:pt x="1246" y="242"/>
                    </a:lnTo>
                    <a:lnTo>
                      <a:pt x="1254" y="214"/>
                    </a:lnTo>
                    <a:lnTo>
                      <a:pt x="1262" y="187"/>
                    </a:lnTo>
                    <a:lnTo>
                      <a:pt x="1271" y="185"/>
                    </a:lnTo>
                    <a:lnTo>
                      <a:pt x="1279" y="182"/>
                    </a:lnTo>
                    <a:lnTo>
                      <a:pt x="1287" y="177"/>
                    </a:lnTo>
                    <a:lnTo>
                      <a:pt x="1296" y="172"/>
                    </a:lnTo>
                    <a:lnTo>
                      <a:pt x="1304" y="168"/>
                    </a:lnTo>
                    <a:lnTo>
                      <a:pt x="1311" y="162"/>
                    </a:lnTo>
                    <a:lnTo>
                      <a:pt x="1317" y="155"/>
                    </a:lnTo>
                    <a:lnTo>
                      <a:pt x="1324" y="147"/>
                    </a:lnTo>
                    <a:lnTo>
                      <a:pt x="1322" y="141"/>
                    </a:lnTo>
                    <a:lnTo>
                      <a:pt x="1321" y="133"/>
                    </a:lnTo>
                    <a:lnTo>
                      <a:pt x="1319" y="125"/>
                    </a:lnTo>
                    <a:lnTo>
                      <a:pt x="1317" y="119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  <a:effectLst>
                <a:outerShdw dist="153753" dir="2700000" blurRad="0" rotWithShape="0">
                  <a:srgbClr val="81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65" name="未知"/>
              <p:cNvSpPr/>
              <p:nvPr/>
            </p:nvSpPr>
            <p:spPr>
              <a:xfrm>
                <a:off x="357840" y="294840"/>
                <a:ext cx="419760" cy="105120"/>
              </a:xfrm>
              <a:custGeom>
                <a:avLst/>
                <a:gdLst/>
                <a:ahLst/>
                <a:rect l="l" t="t" r="r" b="b"/>
                <a:pathLst>
                  <a:path w="1036" h="338">
                    <a:moveTo>
                      <a:pt x="879" y="238"/>
                    </a:moveTo>
                    <a:lnTo>
                      <a:pt x="864" y="250"/>
                    </a:lnTo>
                    <a:lnTo>
                      <a:pt x="851" y="259"/>
                    </a:lnTo>
                    <a:lnTo>
                      <a:pt x="838" y="266"/>
                    </a:lnTo>
                    <a:lnTo>
                      <a:pt x="826" y="273"/>
                    </a:lnTo>
                    <a:lnTo>
                      <a:pt x="815" y="277"/>
                    </a:lnTo>
                    <a:lnTo>
                      <a:pt x="805" y="282"/>
                    </a:lnTo>
                    <a:lnTo>
                      <a:pt x="795" y="285"/>
                    </a:lnTo>
                    <a:lnTo>
                      <a:pt x="785" y="288"/>
                    </a:lnTo>
                    <a:lnTo>
                      <a:pt x="775" y="290"/>
                    </a:lnTo>
                    <a:lnTo>
                      <a:pt x="764" y="291"/>
                    </a:lnTo>
                    <a:lnTo>
                      <a:pt x="753" y="292"/>
                    </a:lnTo>
                    <a:lnTo>
                      <a:pt x="741" y="293"/>
                    </a:lnTo>
                    <a:lnTo>
                      <a:pt x="727" y="295"/>
                    </a:lnTo>
                    <a:lnTo>
                      <a:pt x="714" y="297"/>
                    </a:lnTo>
                    <a:lnTo>
                      <a:pt x="699" y="299"/>
                    </a:lnTo>
                    <a:lnTo>
                      <a:pt x="681" y="301"/>
                    </a:lnTo>
                    <a:lnTo>
                      <a:pt x="662" y="306"/>
                    </a:lnTo>
                    <a:lnTo>
                      <a:pt x="641" y="308"/>
                    </a:lnTo>
                    <a:lnTo>
                      <a:pt x="620" y="310"/>
                    </a:lnTo>
                    <a:lnTo>
                      <a:pt x="598" y="311"/>
                    </a:lnTo>
                    <a:lnTo>
                      <a:pt x="578" y="312"/>
                    </a:lnTo>
                    <a:lnTo>
                      <a:pt x="556" y="312"/>
                    </a:lnTo>
                    <a:lnTo>
                      <a:pt x="535" y="313"/>
                    </a:lnTo>
                    <a:lnTo>
                      <a:pt x="514" y="315"/>
                    </a:lnTo>
                    <a:lnTo>
                      <a:pt x="495" y="319"/>
                    </a:lnTo>
                    <a:lnTo>
                      <a:pt x="475" y="322"/>
                    </a:lnTo>
                    <a:lnTo>
                      <a:pt x="455" y="326"/>
                    </a:lnTo>
                    <a:lnTo>
                      <a:pt x="436" y="329"/>
                    </a:lnTo>
                    <a:lnTo>
                      <a:pt x="416" y="331"/>
                    </a:lnTo>
                    <a:lnTo>
                      <a:pt x="397" y="334"/>
                    </a:lnTo>
                    <a:lnTo>
                      <a:pt x="376" y="336"/>
                    </a:lnTo>
                    <a:lnTo>
                      <a:pt x="356" y="337"/>
                    </a:lnTo>
                    <a:lnTo>
                      <a:pt x="336" y="338"/>
                    </a:lnTo>
                    <a:lnTo>
                      <a:pt x="316" y="338"/>
                    </a:lnTo>
                    <a:lnTo>
                      <a:pt x="295" y="337"/>
                    </a:lnTo>
                    <a:lnTo>
                      <a:pt x="276" y="335"/>
                    </a:lnTo>
                    <a:lnTo>
                      <a:pt x="255" y="333"/>
                    </a:lnTo>
                    <a:lnTo>
                      <a:pt x="234" y="329"/>
                    </a:lnTo>
                    <a:lnTo>
                      <a:pt x="215" y="323"/>
                    </a:lnTo>
                    <a:lnTo>
                      <a:pt x="194" y="318"/>
                    </a:lnTo>
                    <a:lnTo>
                      <a:pt x="176" y="311"/>
                    </a:lnTo>
                    <a:lnTo>
                      <a:pt x="158" y="301"/>
                    </a:lnTo>
                    <a:lnTo>
                      <a:pt x="141" y="291"/>
                    </a:lnTo>
                    <a:lnTo>
                      <a:pt x="124" y="280"/>
                    </a:lnTo>
                    <a:lnTo>
                      <a:pt x="108" y="267"/>
                    </a:lnTo>
                    <a:lnTo>
                      <a:pt x="93" y="253"/>
                    </a:lnTo>
                    <a:lnTo>
                      <a:pt x="78" y="238"/>
                    </a:lnTo>
                    <a:lnTo>
                      <a:pt x="63" y="222"/>
                    </a:lnTo>
                    <a:lnTo>
                      <a:pt x="55" y="214"/>
                    </a:lnTo>
                    <a:lnTo>
                      <a:pt x="48" y="206"/>
                    </a:lnTo>
                    <a:lnTo>
                      <a:pt x="41" y="197"/>
                    </a:lnTo>
                    <a:lnTo>
                      <a:pt x="34" y="189"/>
                    </a:lnTo>
                    <a:lnTo>
                      <a:pt x="26" y="178"/>
                    </a:lnTo>
                    <a:lnTo>
                      <a:pt x="17" y="167"/>
                    </a:lnTo>
                    <a:lnTo>
                      <a:pt x="9" y="156"/>
                    </a:lnTo>
                    <a:lnTo>
                      <a:pt x="0" y="146"/>
                    </a:lnTo>
                    <a:lnTo>
                      <a:pt x="14" y="144"/>
                    </a:lnTo>
                    <a:lnTo>
                      <a:pt x="29" y="140"/>
                    </a:lnTo>
                    <a:lnTo>
                      <a:pt x="43" y="138"/>
                    </a:lnTo>
                    <a:lnTo>
                      <a:pt x="58" y="134"/>
                    </a:lnTo>
                    <a:lnTo>
                      <a:pt x="72" y="131"/>
                    </a:lnTo>
                    <a:lnTo>
                      <a:pt x="87" y="128"/>
                    </a:lnTo>
                    <a:lnTo>
                      <a:pt x="102" y="125"/>
                    </a:lnTo>
                    <a:lnTo>
                      <a:pt x="117" y="122"/>
                    </a:lnTo>
                    <a:lnTo>
                      <a:pt x="132" y="118"/>
                    </a:lnTo>
                    <a:lnTo>
                      <a:pt x="147" y="116"/>
                    </a:lnTo>
                    <a:lnTo>
                      <a:pt x="163" y="113"/>
                    </a:lnTo>
                    <a:lnTo>
                      <a:pt x="178" y="110"/>
                    </a:lnTo>
                    <a:lnTo>
                      <a:pt x="194" y="109"/>
                    </a:lnTo>
                    <a:lnTo>
                      <a:pt x="211" y="107"/>
                    </a:lnTo>
                    <a:lnTo>
                      <a:pt x="227" y="106"/>
                    </a:lnTo>
                    <a:lnTo>
                      <a:pt x="245" y="106"/>
                    </a:lnTo>
                    <a:lnTo>
                      <a:pt x="264" y="107"/>
                    </a:lnTo>
                    <a:lnTo>
                      <a:pt x="283" y="109"/>
                    </a:lnTo>
                    <a:lnTo>
                      <a:pt x="300" y="113"/>
                    </a:lnTo>
                    <a:lnTo>
                      <a:pt x="316" y="117"/>
                    </a:lnTo>
                    <a:lnTo>
                      <a:pt x="332" y="121"/>
                    </a:lnTo>
                    <a:lnTo>
                      <a:pt x="350" y="125"/>
                    </a:lnTo>
                    <a:lnTo>
                      <a:pt x="367" y="128"/>
                    </a:lnTo>
                    <a:lnTo>
                      <a:pt x="386" y="129"/>
                    </a:lnTo>
                    <a:lnTo>
                      <a:pt x="406" y="129"/>
                    </a:lnTo>
                    <a:lnTo>
                      <a:pt x="423" y="130"/>
                    </a:lnTo>
                    <a:lnTo>
                      <a:pt x="439" y="130"/>
                    </a:lnTo>
                    <a:lnTo>
                      <a:pt x="454" y="130"/>
                    </a:lnTo>
                    <a:lnTo>
                      <a:pt x="469" y="130"/>
                    </a:lnTo>
                    <a:lnTo>
                      <a:pt x="482" y="130"/>
                    </a:lnTo>
                    <a:lnTo>
                      <a:pt x="494" y="129"/>
                    </a:lnTo>
                    <a:lnTo>
                      <a:pt x="505" y="128"/>
                    </a:lnTo>
                    <a:lnTo>
                      <a:pt x="517" y="126"/>
                    </a:lnTo>
                    <a:lnTo>
                      <a:pt x="527" y="125"/>
                    </a:lnTo>
                    <a:lnTo>
                      <a:pt x="537" y="124"/>
                    </a:lnTo>
                    <a:lnTo>
                      <a:pt x="546" y="122"/>
                    </a:lnTo>
                    <a:lnTo>
                      <a:pt x="557" y="119"/>
                    </a:lnTo>
                    <a:lnTo>
                      <a:pt x="567" y="116"/>
                    </a:lnTo>
                    <a:lnTo>
                      <a:pt x="578" y="113"/>
                    </a:lnTo>
                    <a:lnTo>
                      <a:pt x="588" y="109"/>
                    </a:lnTo>
                    <a:lnTo>
                      <a:pt x="604" y="103"/>
                    </a:lnTo>
                    <a:lnTo>
                      <a:pt x="619" y="98"/>
                    </a:lnTo>
                    <a:lnTo>
                      <a:pt x="633" y="93"/>
                    </a:lnTo>
                    <a:lnTo>
                      <a:pt x="647" y="88"/>
                    </a:lnTo>
                    <a:lnTo>
                      <a:pt x="661" y="84"/>
                    </a:lnTo>
                    <a:lnTo>
                      <a:pt x="674" y="79"/>
                    </a:lnTo>
                    <a:lnTo>
                      <a:pt x="689" y="73"/>
                    </a:lnTo>
                    <a:lnTo>
                      <a:pt x="705" y="68"/>
                    </a:lnTo>
                    <a:lnTo>
                      <a:pt x="722" y="61"/>
                    </a:lnTo>
                    <a:lnTo>
                      <a:pt x="737" y="54"/>
                    </a:lnTo>
                    <a:lnTo>
                      <a:pt x="753" y="47"/>
                    </a:lnTo>
                    <a:lnTo>
                      <a:pt x="769" y="41"/>
                    </a:lnTo>
                    <a:lnTo>
                      <a:pt x="785" y="35"/>
                    </a:lnTo>
                    <a:lnTo>
                      <a:pt x="801" y="31"/>
                    </a:lnTo>
                    <a:lnTo>
                      <a:pt x="817" y="26"/>
                    </a:lnTo>
                    <a:lnTo>
                      <a:pt x="833" y="23"/>
                    </a:lnTo>
                    <a:lnTo>
                      <a:pt x="849" y="18"/>
                    </a:lnTo>
                    <a:lnTo>
                      <a:pt x="867" y="16"/>
                    </a:lnTo>
                    <a:lnTo>
                      <a:pt x="883" y="12"/>
                    </a:lnTo>
                    <a:lnTo>
                      <a:pt x="899" y="10"/>
                    </a:lnTo>
                    <a:lnTo>
                      <a:pt x="916" y="8"/>
                    </a:lnTo>
                    <a:lnTo>
                      <a:pt x="932" y="5"/>
                    </a:lnTo>
                    <a:lnTo>
                      <a:pt x="950" y="3"/>
                    </a:lnTo>
                    <a:lnTo>
                      <a:pt x="966" y="2"/>
                    </a:lnTo>
                    <a:lnTo>
                      <a:pt x="975" y="2"/>
                    </a:lnTo>
                    <a:lnTo>
                      <a:pt x="983" y="1"/>
                    </a:lnTo>
                    <a:lnTo>
                      <a:pt x="992" y="1"/>
                    </a:lnTo>
                    <a:lnTo>
                      <a:pt x="1002" y="1"/>
                    </a:lnTo>
                    <a:lnTo>
                      <a:pt x="1010" y="1"/>
                    </a:lnTo>
                    <a:lnTo>
                      <a:pt x="1019" y="1"/>
                    </a:lnTo>
                    <a:lnTo>
                      <a:pt x="1027" y="0"/>
                    </a:lnTo>
                    <a:lnTo>
                      <a:pt x="1036" y="0"/>
                    </a:lnTo>
                    <a:lnTo>
                      <a:pt x="1030" y="15"/>
                    </a:lnTo>
                    <a:lnTo>
                      <a:pt x="1023" y="28"/>
                    </a:lnTo>
                    <a:lnTo>
                      <a:pt x="1017" y="43"/>
                    </a:lnTo>
                    <a:lnTo>
                      <a:pt x="1010" y="57"/>
                    </a:lnTo>
                    <a:lnTo>
                      <a:pt x="1003" y="71"/>
                    </a:lnTo>
                    <a:lnTo>
                      <a:pt x="996" y="85"/>
                    </a:lnTo>
                    <a:lnTo>
                      <a:pt x="988" y="99"/>
                    </a:lnTo>
                    <a:lnTo>
                      <a:pt x="980" y="113"/>
                    </a:lnTo>
                    <a:lnTo>
                      <a:pt x="974" y="121"/>
                    </a:lnTo>
                    <a:lnTo>
                      <a:pt x="969" y="130"/>
                    </a:lnTo>
                    <a:lnTo>
                      <a:pt x="964" y="138"/>
                    </a:lnTo>
                    <a:lnTo>
                      <a:pt x="958" y="147"/>
                    </a:lnTo>
                    <a:lnTo>
                      <a:pt x="950" y="159"/>
                    </a:lnTo>
                    <a:lnTo>
                      <a:pt x="940" y="171"/>
                    </a:lnTo>
                    <a:lnTo>
                      <a:pt x="931" y="183"/>
                    </a:lnTo>
                    <a:lnTo>
                      <a:pt x="922" y="194"/>
                    </a:lnTo>
                    <a:lnTo>
                      <a:pt x="912" y="206"/>
                    </a:lnTo>
                    <a:lnTo>
                      <a:pt x="901" y="216"/>
                    </a:lnTo>
                    <a:lnTo>
                      <a:pt x="891" y="228"/>
                    </a:lnTo>
                    <a:lnTo>
                      <a:pt x="879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153753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628560" y="301680"/>
              <a:ext cx="14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Arial"/>
                  <a:ea typeface="黑体"/>
                </a:rPr>
                <a:t>说一说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3330000" y="189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下列哪些是二元一次方程组？并说明理由。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21760" y="819000"/>
            <a:ext cx="2482920" cy="947160"/>
            <a:chOff x="221760" y="819000"/>
            <a:chExt cx="2482920" cy="947160"/>
          </a:xfrm>
        </p:grpSpPr>
        <p:sp>
          <p:nvSpPr>
            <p:cNvPr id="469" name=""/>
            <p:cNvSpPr/>
            <p:nvPr/>
          </p:nvSpPr>
          <p:spPr>
            <a:xfrm>
              <a:off x="830520" y="819000"/>
              <a:ext cx="1874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+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 2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1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71360" y="99828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1760" y="10886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）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78080" y="684360"/>
            <a:ext cx="2687760" cy="1082160"/>
            <a:chOff x="3178080" y="684360"/>
            <a:chExt cx="2687760" cy="1082160"/>
          </a:xfrm>
        </p:grpSpPr>
        <p:sp>
          <p:nvSpPr>
            <p:cNvPr id="473" name=""/>
            <p:cNvSpPr/>
            <p:nvPr/>
          </p:nvSpPr>
          <p:spPr>
            <a:xfrm>
              <a:off x="3930840" y="819360"/>
              <a:ext cx="1935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+     = 1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</a:rPr>
                <a:t>   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424400" y="684360"/>
              <a:ext cx="432000" cy="770760"/>
              <a:chOff x="4424400" y="684360"/>
              <a:chExt cx="432000" cy="770760"/>
            </a:xfrm>
          </p:grpSpPr>
          <p:sp>
            <p:nvSpPr>
              <p:cNvPr id="475" name=""/>
              <p:cNvSpPr/>
              <p:nvPr/>
            </p:nvSpPr>
            <p:spPr>
              <a:xfrm>
                <a:off x="4437360" y="965160"/>
                <a:ext cx="3366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61f5b"/>
                    </a:solidFill>
                    <a:latin typeface="Times New Roman"/>
                    <a:ea typeface="黑体"/>
                  </a:rPr>
                  <a:t>y</a:t>
                </a:r>
                <a:endParaRPr b="0" lang="en-US" sz="26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24400" y="684360"/>
                <a:ext cx="432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61f5b"/>
                    </a:solidFill>
                    <a:latin typeface="Times New Roman"/>
                    <a:ea typeface="黑体"/>
                  </a:rPr>
                  <a:t>1</a:t>
                </a:r>
                <a:endParaRPr b="0" lang="en-US" sz="26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70480" y="1101600"/>
                <a:ext cx="27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3178080" y="104472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(2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62440" y="1065600"/>
              <a:ext cx="135000" cy="585720"/>
            </a:xfrm>
            <a:custGeom>
              <a:avLst/>
              <a:gdLst>
                <a:gd name="textAreaLeft" fmla="*/ 86400 w 135000"/>
                <a:gd name="textAreaRight" fmla="*/ 135360 w 135000"/>
                <a:gd name="textAreaTop" fmla="*/ 15120 h 585720"/>
                <a:gd name="textAreaBottom" fmla="*/ 570600 h 5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283080" y="819000"/>
            <a:ext cx="1473120" cy="879480"/>
            <a:chOff x="6283080" y="819000"/>
            <a:chExt cx="1473120" cy="879480"/>
          </a:xfrm>
        </p:grpSpPr>
        <p:sp>
          <p:nvSpPr>
            <p:cNvPr id="481" name=""/>
            <p:cNvSpPr/>
            <p:nvPr/>
          </p:nvSpPr>
          <p:spPr>
            <a:xfrm>
              <a:off x="7016400" y="819000"/>
              <a:ext cx="7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0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37640" y="117792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1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83080" y="104436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(3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45120" y="1044360"/>
              <a:ext cx="136800" cy="541440"/>
            </a:xfrm>
            <a:custGeom>
              <a:avLst/>
              <a:gdLst>
                <a:gd name="textAreaLeft" fmla="*/ 87480 w 136800"/>
                <a:gd name="textAreaRight" fmla="*/ 137160 w 136800"/>
                <a:gd name="textAreaTop" fmla="*/ 14040 h 541440"/>
                <a:gd name="textAreaBottom" fmla="*/ 527400 h 5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8440" y="2079720"/>
            <a:ext cx="2046240" cy="947160"/>
            <a:chOff x="298440" y="2079720"/>
            <a:chExt cx="2046240" cy="947160"/>
          </a:xfrm>
        </p:grpSpPr>
        <p:sp>
          <p:nvSpPr>
            <p:cNvPr id="486" name=""/>
            <p:cNvSpPr/>
            <p:nvPr/>
          </p:nvSpPr>
          <p:spPr>
            <a:xfrm>
              <a:off x="1003320" y="2079720"/>
              <a:ext cx="1341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z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+1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2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5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8440" y="231624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(4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93960" y="2305080"/>
              <a:ext cx="134640" cy="584280"/>
            </a:xfrm>
            <a:custGeom>
              <a:avLst/>
              <a:gdLst>
                <a:gd name="textAreaLeft" fmla="*/ 86040 w 134640"/>
                <a:gd name="textAreaRight" fmla="*/ 135000 w 134640"/>
                <a:gd name="textAreaTop" fmla="*/ 15120 h 584280"/>
                <a:gd name="textAreaBottom" fmla="*/ 56916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24160" y="2124000"/>
            <a:ext cx="2024280" cy="893880"/>
            <a:chOff x="3224160" y="2124000"/>
            <a:chExt cx="2024280" cy="893880"/>
          </a:xfrm>
        </p:grpSpPr>
        <p:sp>
          <p:nvSpPr>
            <p:cNvPr id="490" name=""/>
            <p:cNvSpPr/>
            <p:nvPr/>
          </p:nvSpPr>
          <p:spPr>
            <a:xfrm>
              <a:off x="4054320" y="212400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-3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8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79880" y="2497320"/>
              <a:ext cx="8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6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24160" y="231624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(5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30840" y="2338560"/>
              <a:ext cx="181080" cy="53964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14040 h 539640"/>
                <a:gd name="textAreaBottom" fmla="*/ 5256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238800" y="2079720"/>
            <a:ext cx="1978200" cy="947160"/>
            <a:chOff x="6238800" y="2079720"/>
            <a:chExt cx="1978200" cy="947160"/>
          </a:xfrm>
        </p:grpSpPr>
        <p:sp>
          <p:nvSpPr>
            <p:cNvPr id="495" name=""/>
            <p:cNvSpPr/>
            <p:nvPr/>
          </p:nvSpPr>
          <p:spPr>
            <a:xfrm>
              <a:off x="6866280" y="2260440"/>
              <a:ext cx="134640" cy="584280"/>
            </a:xfrm>
            <a:custGeom>
              <a:avLst/>
              <a:gdLst>
                <a:gd name="textAreaLeft" fmla="*/ 86040 w 134640"/>
                <a:gd name="textAreaRight" fmla="*/ 135000 w 134640"/>
                <a:gd name="textAreaTop" fmla="*/ 15120 h 584280"/>
                <a:gd name="textAreaBottom" fmla="*/ 569160 h 5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66280" y="2079720"/>
              <a:ext cx="135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3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5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 2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x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-</a:t>
              </a:r>
              <a:r>
                <a:rPr b="1" i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y</a:t>
              </a: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=0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38800" y="22716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(6)</a:t>
              </a:r>
              <a:endParaRPr b="0" lang="en-US" sz="2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265120" y="131436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992840" y="126828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665840" y="113364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070480" y="230364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57480" y="230364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72120" y="239400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4373640"/>
            <a:ext cx="6165720" cy="181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方程组中共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个不同未知数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方程组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个一次方程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一般用大括号把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61f5b"/>
                </a:solidFill>
                <a:latin typeface="黑体"/>
                <a:ea typeface="黑体"/>
              </a:rPr>
              <a:t>个方程连起来。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80320" y="369900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元一次方程组有哪些特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？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31640" y="819000"/>
            <a:ext cx="8506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满足方程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60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且符合问题的实际意义的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值有哪些？把它们填入下表中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476280" y="1808280"/>
          <a:ext cx="7862760" cy="1035000"/>
        </p:xfrm>
        <a:graphic>
          <a:graphicData uri="http://schemas.openxmlformats.org/drawingml/2006/table">
            <a:tbl>
              <a:tblPr/>
              <a:tblGrid>
                <a:gridCol w="977760"/>
                <a:gridCol w="704880"/>
                <a:gridCol w="662040"/>
                <a:gridCol w="708120"/>
                <a:gridCol w="704880"/>
                <a:gridCol w="706320"/>
                <a:gridCol w="704880"/>
                <a:gridCol w="723960"/>
                <a:gridCol w="687240"/>
                <a:gridCol w="663480"/>
                <a:gridCol w="619200"/>
              </a:tblGrid>
              <a:tr h="53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x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41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1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2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61f5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4f0fc"/>
                    </a:solidFill>
                  </a:tcPr>
                </a:tc>
              </a:tr>
            </a:tbl>
          </a:graphicData>
        </a:graphic>
      </p:graphicFrame>
      <p:sp>
        <p:nvSpPr>
          <p:cNvPr id="508" name=""/>
          <p:cNvSpPr/>
          <p:nvPr/>
        </p:nvSpPr>
        <p:spPr>
          <a:xfrm>
            <a:off x="206280" y="2933640"/>
            <a:ext cx="83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由上表可知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；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59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；…；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7000" y="3473280"/>
            <a:ext cx="86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使方程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x+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6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两边的值相等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它们是方程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=6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52360" y="4103640"/>
            <a:ext cx="850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如果不考虑方程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6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与上面实际问题的联系，那么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6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62…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也都是这个方程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2000" y="5138640"/>
            <a:ext cx="873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一般地，使二元一次方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边的值相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两个未知数的值，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元一次方程的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58080" y="234936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60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189000"/>
            <a:ext cx="2276640" cy="736200"/>
            <a:chOff x="0" y="189000"/>
            <a:chExt cx="2276640" cy="736200"/>
          </a:xfrm>
        </p:grpSpPr>
        <p:sp>
          <p:nvSpPr>
            <p:cNvPr id="514" name=""/>
            <p:cNvSpPr/>
            <p:nvPr/>
          </p:nvSpPr>
          <p:spPr>
            <a:xfrm>
              <a:off x="0" y="189000"/>
              <a:ext cx="22766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120" y="648360"/>
              <a:ext cx="193608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42840" y="235800"/>
              <a:ext cx="476640" cy="589320"/>
              <a:chOff x="42840" y="235800"/>
              <a:chExt cx="476640" cy="58932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74880" y="298800"/>
                <a:ext cx="444600" cy="526320"/>
                <a:chOff x="74880" y="298800"/>
                <a:chExt cx="444600" cy="5263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100080" y="298800"/>
                  <a:ext cx="38304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grpSp>
              <p:nvGrpSpPr>
                <p:cNvPr id="519" name=""/>
                <p:cNvGrpSpPr/>
                <p:nvPr/>
              </p:nvGrpSpPr>
              <p:grpSpPr>
                <a:xfrm>
                  <a:off x="74880" y="368640"/>
                  <a:ext cx="444600" cy="456480"/>
                  <a:chOff x="74880" y="368640"/>
                  <a:chExt cx="444600" cy="456480"/>
                </a:xfrm>
              </p:grpSpPr>
              <p:sp>
                <p:nvSpPr>
                  <p:cNvPr id="520" name="未知"/>
                  <p:cNvSpPr/>
                  <p:nvPr/>
                </p:nvSpPr>
                <p:spPr>
                  <a:xfrm>
                    <a:off x="74880" y="484920"/>
                    <a:ext cx="3380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未知"/>
                  <p:cNvSpPr/>
                  <p:nvPr/>
                </p:nvSpPr>
                <p:spPr>
                  <a:xfrm>
                    <a:off x="74880" y="444960"/>
                    <a:ext cx="3380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未知"/>
                  <p:cNvSpPr/>
                  <p:nvPr/>
                </p:nvSpPr>
                <p:spPr>
                  <a:xfrm>
                    <a:off x="105480" y="514800"/>
                    <a:ext cx="2664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未知"/>
                  <p:cNvSpPr/>
                  <p:nvPr/>
                </p:nvSpPr>
                <p:spPr>
                  <a:xfrm>
                    <a:off x="218160" y="584280"/>
                    <a:ext cx="3060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未知"/>
                  <p:cNvSpPr/>
                  <p:nvPr/>
                </p:nvSpPr>
                <p:spPr>
                  <a:xfrm>
                    <a:off x="208800" y="689400"/>
                    <a:ext cx="586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未知"/>
                  <p:cNvSpPr/>
                  <p:nvPr/>
                </p:nvSpPr>
                <p:spPr>
                  <a:xfrm>
                    <a:off x="122040" y="684720"/>
                    <a:ext cx="25308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未知"/>
                  <p:cNvSpPr/>
                  <p:nvPr/>
                </p:nvSpPr>
                <p:spPr>
                  <a:xfrm>
                    <a:off x="353160" y="593280"/>
                    <a:ext cx="1299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未知"/>
                  <p:cNvSpPr/>
                  <p:nvPr/>
                </p:nvSpPr>
                <p:spPr>
                  <a:xfrm>
                    <a:off x="324360" y="368640"/>
                    <a:ext cx="1951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未知"/>
                  <p:cNvSpPr/>
                  <p:nvPr/>
                </p:nvSpPr>
                <p:spPr>
                  <a:xfrm>
                    <a:off x="338760" y="389520"/>
                    <a:ext cx="15912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61f5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42840" y="235800"/>
                <a:ext cx="223920" cy="168120"/>
                <a:chOff x="42840" y="235800"/>
                <a:chExt cx="223920" cy="168120"/>
              </a:xfrm>
            </p:grpSpPr>
            <p:sp>
              <p:nvSpPr>
                <p:cNvPr id="530" name="未知"/>
                <p:cNvSpPr/>
                <p:nvPr/>
              </p:nvSpPr>
              <p:spPr>
                <a:xfrm>
                  <a:off x="42840" y="305640"/>
                  <a:ext cx="12996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531" name="未知"/>
                <p:cNvSpPr/>
                <p:nvPr/>
              </p:nvSpPr>
              <p:spPr>
                <a:xfrm>
                  <a:off x="107640" y="235800"/>
                  <a:ext cx="10836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  <p:sp>
              <p:nvSpPr>
                <p:cNvPr id="532" name="未知"/>
                <p:cNvSpPr/>
                <p:nvPr/>
              </p:nvSpPr>
              <p:spPr>
                <a:xfrm>
                  <a:off x="201960" y="256680"/>
                  <a:ext cx="6480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61f5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3" name=""/>
            <p:cNvSpPr txBox="1"/>
            <p:nvPr/>
          </p:nvSpPr>
          <p:spPr>
            <a:xfrm>
              <a:off x="557280" y="236880"/>
              <a:ext cx="167364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合作探究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40680" y="558360"/>
              <a:ext cx="78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059440" y="14436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二元一次方程、二元一方程组的解：</a:t>
            </a:r>
            <a:endParaRPr b="0" lang="en-US" sz="2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32720" y="230364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59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51640" y="230364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58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47360" y="234936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20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68080" y="234936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19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87000" y="2303640"/>
            <a:ext cx="51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52720" y="23036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9160" y="23036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04:51:34Z</dcterms:created>
  <dc:creator/>
  <dc:description/>
  <cp:keywords/>
  <dc:language>en-US</dc:language>
  <cp:lastModifiedBy>xcf</cp:lastModifiedBy>
  <dcterms:modified xsi:type="dcterms:W3CDTF">2016-02-05T02:52:01Z</dcterms:modified>
  <cp:revision>1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  <property fmtid="{D5CDD505-2E9C-101B-9397-08002B2CF9AE}" pid="3" name="Version">
    <vt:r8>1</vt:r8>
  </property>
</Properties>
</file>