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png" ContentType="image/png"/>
  <Override PartName="/ppt/media/image24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7.wmf" ContentType="image/x-wmf"/>
  <Override PartName="/ppt/media/image16.png" ContentType="image/png"/>
  <Override PartName="/ppt/media/image14.gif" ContentType="image/gif"/>
  <Override PartName="/ppt/media/image15.wmf" ContentType="image/x-wmf"/>
  <Override PartName="/ppt/media/image1.jpeg" ContentType="image/jpeg"/>
  <Override PartName="/ppt/media/image10.png" ContentType="image/png"/>
  <Override PartName="/ppt/media/image23.wmf" ContentType="image/x-wmf"/>
  <Override PartName="/ppt/media/image11.jpeg" ContentType="image/jpeg"/>
  <Override PartName="/ppt/media/image32.wmf" ContentType="image/x-wmf"/>
  <Override PartName="/ppt/media/image33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18.png" ContentType="image/png"/>
  <Override PartName="/ppt/media/image39.wmf" ContentType="image/x-wmf"/>
  <Override PartName="/ppt/media/image41.wmf" ContentType="image/x-wmf"/>
  <Override PartName="/ppt/media/image35.wmf" ContentType="image/x-wmf"/>
  <Override PartName="/ppt/media/image9.gif" ContentType="image/gif"/>
  <Override PartName="/ppt/media/image22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4.wmf" ContentType="image/x-wmf"/>
  <Override PartName="/ppt/media/image8.gif" ContentType="image/gif"/>
  <Override PartName="/ppt/media/image7.jpeg" ContentType="image/jpeg"/>
  <Override PartName="/ppt/media/image31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110-E3D4-40FE-8C5A-0400910A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62FD-93A8-4EAB-A86D-DACF8D1D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4B1-25FD-4519-933F-EBCC3684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D58-6193-4AC6-9B49-4C289C86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F83E-E0CC-4764-8877-625F52E8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80C3-0F77-4BD6-BCFF-0B50B3A8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0BBF-C61F-46DE-9B79-A5E73FCA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9413-DE9C-48E5-BC5C-568A1752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FEF1-A9F6-4F7E-A7CF-FD30921F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0C6C-94F8-4B64-9BB4-1EC648DF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2F8B-022B-4791-97CF-D4C86ECF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9AE7-FA92-4D93-858F-DA71C6E6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DB20-A57F-434E-8273-723A715E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DD13-3977-4C79-B359-36775973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5F83-6227-40E5-A1B9-3BD9C2DF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50A2-ECE6-4E60-88E2-281DC09D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6328-6286-47CB-80C6-ABCB9E5C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A6CC8-70D2-4566-B3C0-B41EF6D8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8AA65-112E-48D8-9164-7D7021B8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AD13-278D-4AAB-95D0-AE29AD38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F994E-608A-43FD-91A6-F018DFA0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C1A3-2D94-4DE7-AF61-A919F606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3F2-DBB7-45DC-A111-B67E625D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C688-6569-4CC7-A992-F0DD0885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79B79-EDE2-4A74-8938-E0970A5E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5B442-7FB2-4B82-86E7-051CFA52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3B956-B97F-4849-B801-2D29CE77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116E-696B-41C8-8EEA-11B79C37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B5718-5226-4411-818A-43CAD3AE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2D379-FE0A-4651-82F1-D09C8AD7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D8B90-401F-4240-ABE4-6699EBBE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986E7-FC0C-49BA-9887-C63F2E82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E51AB-A5BF-435F-8334-AB411618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A59-9584-4384-B65F-8B5E8D5C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34582-F4AE-427B-AA66-CDBD6489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F7399-9148-48D7-BA44-DC7D0283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4BD2F-BC96-497B-8078-EE20691B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39F15-35F9-41D2-95BB-CD40DA03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A2B20-AD18-4855-AEBC-A3CC113B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7E73F-5191-4BDC-9C5A-7175EC97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98DD3-8CC4-4E39-9353-5E7193E9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26A73-468F-42CF-9C3C-BB651874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8E2AA-EA2A-4FA5-A81C-B45BAC69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3B7-6B39-4595-AE9E-53B2B537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5D8-36CA-4C91-85D4-7162AA96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668F-514C-43BD-95E5-F70CBFD9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F30-A9FC-4BAA-AC46-057A03A0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2678-33BA-4C3D-B5FA-943377A7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CE78-802D-49B4-84F5-7AC76C1FF9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B0ED-1C62-4A79-919D-D2BA13BD6E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56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66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73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84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46512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0000" y="0"/>
            <a:ext cx="770400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下册（泰山版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3172-A4EC-44B7-8234-E4C9B2DAB4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64F4-3A4C-4D9B-99FC-EBB3B62713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196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206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213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224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46512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0000" y="0"/>
            <a:ext cx="770400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下册（泰山版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710560" y="6243480"/>
            <a:ext cx="433440" cy="570240"/>
            <a:chOff x="8710560" y="6243480"/>
            <a:chExt cx="433440" cy="570240"/>
          </a:xfrm>
        </p:grpSpPr>
        <p:grpSp>
          <p:nvGrpSpPr>
            <p:cNvPr id="284" name=""/>
            <p:cNvGrpSpPr/>
            <p:nvPr/>
          </p:nvGrpSpPr>
          <p:grpSpPr>
            <a:xfrm>
              <a:off x="8710560" y="6243480"/>
              <a:ext cx="433440" cy="412920"/>
              <a:chOff x="8710560" y="6243480"/>
              <a:chExt cx="433440" cy="412920"/>
            </a:xfrm>
          </p:grpSpPr>
          <p:sp>
            <p:nvSpPr>
              <p:cNvPr id="285" name=""/>
              <p:cNvSpPr/>
              <p:nvPr/>
            </p:nvSpPr>
            <p:spPr>
              <a:xfrm>
                <a:off x="8738280" y="6269760"/>
                <a:ext cx="382680" cy="386640"/>
              </a:xfrm>
              <a:prstGeom prst="ellipse">
                <a:avLst/>
              </a:prstGeom>
              <a:gradFill rotWithShape="0">
                <a:gsLst>
                  <a:gs pos="0">
                    <a:srgbClr val="003300"/>
                  </a:gs>
                  <a:gs pos="100000">
                    <a:srgbClr val="002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777520" y="6280920"/>
                <a:ext cx="304200" cy="227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777880" y="6243480"/>
                <a:ext cx="236160" cy="2383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710560" y="6293160"/>
                <a:ext cx="433440" cy="347760"/>
              </a:xfrm>
              <a:prstGeom prst="ellipse">
                <a:avLst/>
              </a:prstGeom>
              <a:gradFill rotWithShape="0">
                <a:gsLst>
                  <a:gs pos="0">
                    <a:srgbClr val="ffff66">
                      <a:alpha val="60000"/>
                    </a:srgbClr>
                  </a:gs>
                  <a:gs pos="100000">
                    <a:srgbClr val="75752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D812B7-A80C-4D99-8F8C-38A9665BFADC}" type="slidenum">
                  <a:rPr b="1" lang="zh-CN" sz="1000" spc="-1" strike="noStrike">
                    <a:solidFill>
                      <a:srgbClr val="fc2514"/>
                    </a:solidFill>
                    <a:latin typeface="Arial"/>
                  </a:rPr>
                  <a:t>&lt;number&gt;</a:t>
                </a:fld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8757720" y="6707520"/>
              <a:ext cx="341640" cy="1062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625320" cy="6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rcRect l="15008" t="0" r="0" b="3275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9528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339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349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356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367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40360" y="33336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03280" y="0"/>
            <a:ext cx="712944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册（泰山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4797360"/>
            <a:ext cx="9144000" cy="935280"/>
          </a:xfrm>
          <a:prstGeom prst="rect">
            <a:avLst/>
          </a:prstGeom>
          <a:gradFill rotWithShape="0">
            <a:gsLst>
              <a:gs pos="0">
                <a:srgbClr val="00cc00">
                  <a:alpha val="14117"/>
                </a:srgbClr>
              </a:gs>
              <a:gs pos="100000">
                <a:srgbClr val="0000ff">
                  <a:alpha val="1921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65240" y="2918880"/>
            <a:ext cx="4374360" cy="3453120"/>
            <a:chOff x="165240" y="2918880"/>
            <a:chExt cx="4374360" cy="3453120"/>
          </a:xfrm>
        </p:grpSpPr>
        <p:grpSp>
          <p:nvGrpSpPr>
            <p:cNvPr id="389" name=""/>
            <p:cNvGrpSpPr/>
            <p:nvPr/>
          </p:nvGrpSpPr>
          <p:grpSpPr>
            <a:xfrm>
              <a:off x="1159920" y="2918880"/>
              <a:ext cx="3379680" cy="3251880"/>
              <a:chOff x="1159920" y="2918880"/>
              <a:chExt cx="3379680" cy="3251880"/>
            </a:xfrm>
          </p:grpSpPr>
          <p:sp>
            <p:nvSpPr>
              <p:cNvPr id="390" name=""/>
              <p:cNvSpPr/>
              <p:nvPr/>
            </p:nvSpPr>
            <p:spPr>
              <a:xfrm rot="13340400">
                <a:off x="1462680" y="3572640"/>
                <a:ext cx="2695320" cy="1943640"/>
              </a:xfrm>
              <a:custGeom>
                <a:avLst/>
                <a:gdLst/>
                <a:ahLst/>
                <a:rect l="l" t="t" r="r" b="b"/>
                <a:pathLst>
                  <a:path w="2112" h="1344">
                    <a:moveTo>
                      <a:pt x="0" y="0"/>
                    </a:moveTo>
                    <a:lnTo>
                      <a:pt x="0" y="1344"/>
                    </a:lnTo>
                    <a:lnTo>
                      <a:pt x="21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f2ff">
                  <a:alpha val="50000"/>
                </a:srgbClr>
              </a:solidFill>
              <a:ln w="190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2902320" y="4756320"/>
                <a:ext cx="1257480" cy="1346400"/>
                <a:chOff x="2902320" y="4756320"/>
                <a:chExt cx="1257480" cy="134640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3198600" y="4973400"/>
                  <a:ext cx="956880" cy="1054440"/>
                  <a:chOff x="3198600" y="4973400"/>
                  <a:chExt cx="956880" cy="105444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flipV="1">
                    <a:off x="4115160" y="4973400"/>
                    <a:ext cx="40320" cy="36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flipV="1">
                    <a:off x="4118400" y="50072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 flipV="1">
                    <a:off x="4101480" y="50256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 flipV="1">
                    <a:off x="4086360" y="50425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flipV="1">
                    <a:off x="4069440" y="50608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flipV="1">
                    <a:off x="4043160" y="506772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flipV="1">
                    <a:off x="4037400" y="50961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flipV="1">
                    <a:off x="4021920" y="51130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 flipV="1">
                    <a:off x="4006080" y="513036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 flipV="1">
                    <a:off x="3989880" y="51483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flipV="1">
                    <a:off x="3960720" y="5153040"/>
                    <a:ext cx="35280" cy="32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 flipV="1">
                    <a:off x="3957480" y="51836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H="1" flipV="1">
                    <a:off x="3942000" y="520056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flipV="1">
                    <a:off x="3926520" y="52178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flipV="1">
                    <a:off x="3899160" y="522576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>
                    <a:off x="3894120" y="52531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flipV="1">
                    <a:off x="3877560" y="527112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 flipV="1">
                    <a:off x="3862080" y="52884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 flipV="1">
                    <a:off x="3845520" y="53067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flipV="1">
                    <a:off x="3806640" y="530244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flipV="1">
                    <a:off x="3814560" y="534060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 flipV="1">
                    <a:off x="3798000" y="53589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 flipV="1">
                    <a:off x="3782160" y="53762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flipV="1">
                    <a:off x="3765600" y="53942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flipV="1">
                    <a:off x="3739320" y="5401440"/>
                    <a:ext cx="32760" cy="295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flipV="1">
                    <a:off x="3734280" y="54284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flipV="1">
                    <a:off x="3718080" y="544644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flipV="1">
                    <a:off x="3702240" y="546408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 flipV="1">
                    <a:off x="3686040" y="54817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flipV="1">
                    <a:off x="3647160" y="5477760"/>
                    <a:ext cx="4464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 flipV="1">
                    <a:off x="3653640" y="55170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flipV="1">
                    <a:off x="3637800" y="553428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flipV="1">
                    <a:off x="3622320" y="555156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 flipV="1">
                    <a:off x="3594960" y="555948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flipV="1">
                    <a:off x="3590280" y="55868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flipV="1">
                    <a:off x="3573720" y="560484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flipV="1">
                    <a:off x="3558240" y="56221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flipV="1">
                    <a:off x="3541680" y="56401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flipV="1">
                    <a:off x="3502800" y="563616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 flipV="1">
                    <a:off x="3510360" y="5674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flipV="1">
                    <a:off x="3493800" y="569232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flipV="1">
                    <a:off x="3477960" y="570996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flipV="1">
                    <a:off x="3461760" y="57279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flipV="1">
                    <a:off x="3435120" y="573480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flipV="1">
                    <a:off x="3430440" y="57621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 flipV="1">
                    <a:off x="3413880" y="578016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flipV="1">
                    <a:off x="3398400" y="57974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flipV="1">
                    <a:off x="3381840" y="58154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flipV="1">
                    <a:off x="3352680" y="5820480"/>
                    <a:ext cx="35280" cy="32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>
                    <a:off x="3349440" y="58507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 flipV="1">
                    <a:off x="3333960" y="58680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 flipV="1">
                    <a:off x="3318480" y="588528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flipV="1">
                    <a:off x="3290760" y="589320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flipV="1">
                    <a:off x="3286440" y="592020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flipV="1">
                    <a:off x="3269880" y="593820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flipV="1">
                    <a:off x="3254040" y="595548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flipV="1">
                    <a:off x="3238560" y="597276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 flipV="1">
                    <a:off x="3198600" y="596988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flipV="1">
                    <a:off x="3206160" y="60080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"/>
                <p:cNvSpPr/>
                <p:nvPr/>
              </p:nvSpPr>
              <p:spPr>
                <a:xfrm rot="7940400">
                  <a:off x="2732400" y="5306400"/>
                  <a:ext cx="1596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4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428120" y="4306680"/>
                <a:ext cx="1892880" cy="1755720"/>
                <a:chOff x="1428120" y="4306680"/>
                <a:chExt cx="1892880" cy="1755720"/>
              </a:xfrm>
            </p:grpSpPr>
            <p:grpSp>
              <p:nvGrpSpPr>
                <p:cNvPr id="454" name=""/>
                <p:cNvGrpSpPr/>
                <p:nvPr/>
              </p:nvGrpSpPr>
              <p:grpSpPr>
                <a:xfrm>
                  <a:off x="1593720" y="4650120"/>
                  <a:ext cx="1502640" cy="1378800"/>
                  <a:chOff x="1593720" y="4650120"/>
                  <a:chExt cx="1502640" cy="1378800"/>
                </a:xfrm>
              </p:grpSpPr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1624680" y="4698000"/>
                    <a:ext cx="1471680" cy="1330920"/>
                    <a:chOff x="1624680" y="4698000"/>
                    <a:chExt cx="1471680" cy="133092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V="1">
                      <a:off x="3065040" y="5994720"/>
                      <a:ext cx="3132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V="1">
                      <a:off x="3049560" y="59965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flipV="1">
                      <a:off x="3034080" y="598248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flipV="1">
                      <a:off x="3018600" y="596844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V="1">
                      <a:off x="3003120" y="595440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flipV="1">
                      <a:off x="2987640" y="5930280"/>
                      <a:ext cx="25920" cy="284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flipV="1">
                      <a:off x="2972160" y="592560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V="1">
                      <a:off x="2956680" y="591156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flipV="1">
                      <a:off x="2941200" y="589752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flipV="1">
                      <a:off x="2925720" y="588348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V="1">
                      <a:off x="2910240" y="5856840"/>
                      <a:ext cx="28080" cy="309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V="1">
                      <a:off x="2894760" y="58554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flipV="1">
                      <a:off x="2879280" y="58413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V="1">
                      <a:off x="2863800" y="58273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V="1">
                      <a:off x="2848320" y="5803200"/>
                      <a:ext cx="25920" cy="284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flipV="1">
                      <a:off x="2832840" y="57988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flipV="1">
                      <a:off x="2817360" y="578484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V="1">
                      <a:off x="2801880" y="57708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 flipV="1">
                      <a:off x="2786400" y="57567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V="1">
                      <a:off x="2770560" y="5722560"/>
                      <a:ext cx="34920" cy="381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V="1">
                      <a:off x="2755080" y="572832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flipV="1">
                      <a:off x="2739960" y="57142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flipV="1">
                      <a:off x="2724480" y="570024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V="1">
                      <a:off x="2709000" y="56862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flipV="1">
                      <a:off x="2693160" y="5662080"/>
                      <a:ext cx="25920" cy="2808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flipV="1">
                      <a:off x="2677680" y="565776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flipV="1">
                      <a:off x="2662200" y="564372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flipV="1">
                      <a:off x="2647080" y="56296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flipV="1">
                      <a:off x="2631240" y="56152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flipV="1">
                      <a:off x="2615760" y="5581440"/>
                      <a:ext cx="34920" cy="381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flipV="1">
                      <a:off x="2600280" y="558720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V="1">
                      <a:off x="2584800" y="557316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flipV="1">
                      <a:off x="2569320" y="555912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flipV="1">
                      <a:off x="2554200" y="5535000"/>
                      <a:ext cx="25560" cy="284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flipV="1">
                      <a:off x="2538360" y="55306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flipV="1">
                      <a:off x="2522880" y="551664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flipV="1">
                      <a:off x="2507400" y="550260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flipV="1">
                      <a:off x="2491920" y="548856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flipV="1">
                      <a:off x="2476800" y="5454360"/>
                      <a:ext cx="34560" cy="3852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flipV="1">
                      <a:off x="2460960" y="54601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flipV="1">
                      <a:off x="2445480" y="54460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flipV="1">
                      <a:off x="2430000" y="543204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V="1">
                      <a:off x="2414520" y="541800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flipV="1">
                      <a:off x="2399040" y="5393880"/>
                      <a:ext cx="25560" cy="2808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flipV="1">
                      <a:off x="2383560" y="538920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V="1">
                      <a:off x="2368080" y="537516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flipV="1">
                      <a:off x="2352600" y="536112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flipV="1">
                      <a:off x="2337120" y="534708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flipV="1">
                      <a:off x="2321640" y="5320440"/>
                      <a:ext cx="28080" cy="309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flipV="1">
                      <a:off x="2306160" y="53190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V="1">
                      <a:off x="2290680" y="53049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V="1">
                      <a:off x="2275200" y="52909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flipV="1">
                      <a:off x="2259360" y="5266800"/>
                      <a:ext cx="25920" cy="2808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V="1">
                      <a:off x="2243880" y="526248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V="1">
                      <a:off x="2228760" y="524844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flipV="1">
                      <a:off x="2213280" y="52344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V="1">
                      <a:off x="2197800" y="52203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V="1">
                      <a:off x="2181960" y="5186160"/>
                      <a:ext cx="34920" cy="381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flipV="1">
                      <a:off x="2166480" y="519192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flipV="1">
                      <a:off x="2151360" y="51778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V="1">
                      <a:off x="2135880" y="516384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V="1">
                      <a:off x="2120040" y="514944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V="1">
                      <a:off x="2104560" y="5125680"/>
                      <a:ext cx="25920" cy="2808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V="1">
                      <a:off x="2089080" y="512136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V="1">
                      <a:off x="2073600" y="510732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V="1">
                      <a:off x="2058480" y="50932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flipV="1">
                      <a:off x="2043000" y="507924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V="1">
                      <a:off x="2027160" y="5045040"/>
                      <a:ext cx="34920" cy="381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V="1">
                      <a:off x="2011680" y="505080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flipV="1">
                      <a:off x="1996200" y="503676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V="1">
                      <a:off x="1980720" y="502272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V="1">
                      <a:off x="1965600" y="4998960"/>
                      <a:ext cx="25560" cy="2808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V="1">
                      <a:off x="1949760" y="49942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flipV="1">
                      <a:off x="1934280" y="498024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V="1">
                      <a:off x="1918800" y="496620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flipV="1">
                      <a:off x="1903320" y="495216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V="1">
                      <a:off x="1887840" y="4917960"/>
                      <a:ext cx="34920" cy="381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V="1">
                      <a:off x="1872360" y="49237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V="1">
                      <a:off x="1856880" y="490968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V="1">
                      <a:off x="1841400" y="489564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V="1">
                      <a:off x="1825920" y="488160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V="1">
                      <a:off x="1810440" y="4857480"/>
                      <a:ext cx="25560" cy="2808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V="1">
                      <a:off x="1794960" y="485280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V="1">
                      <a:off x="1779480" y="483876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V="1">
                      <a:off x="1764000" y="4824720"/>
                      <a:ext cx="16920" cy="187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V="1">
                      <a:off x="1748160" y="4810680"/>
                      <a:ext cx="1728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V="1">
                      <a:off x="1733040" y="4784040"/>
                      <a:ext cx="28080" cy="309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V="1">
                      <a:off x="1717560" y="47826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V="1">
                      <a:off x="1702080" y="47685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V="1">
                      <a:off x="1686600" y="47545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V="1">
                      <a:off x="1670760" y="4730400"/>
                      <a:ext cx="25920" cy="2808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V="1">
                      <a:off x="1655280" y="4726080"/>
                      <a:ext cx="1692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V="1">
                      <a:off x="1640160" y="471204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V="1">
                      <a:off x="1624680" y="46980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0" name=""/>
                  <p:cNvSpPr/>
                  <p:nvPr/>
                </p:nvSpPr>
                <p:spPr>
                  <a:xfrm flipV="1">
                    <a:off x="1609200" y="4683960"/>
                    <a:ext cx="16560" cy="18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V="1">
                    <a:off x="1593720" y="4650120"/>
                    <a:ext cx="34920" cy="3816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" name=""/>
                <p:cNvSpPr/>
                <p:nvPr/>
              </p:nvSpPr>
              <p:spPr>
                <a:xfrm rot="13340400">
                  <a:off x="1206000" y="5061240"/>
                  <a:ext cx="2336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40000"/>
                      </a:solidFill>
                      <a:latin typeface="Times New Roman"/>
                    </a:rPr>
                    <a:t>0     1      2     3      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1902600" y="4440240"/>
                <a:ext cx="1969560" cy="389160"/>
                <a:chOff x="1902600" y="4440240"/>
                <a:chExt cx="1969560" cy="389160"/>
              </a:xfrm>
            </p:grpSpPr>
            <p:grpSp>
              <p:nvGrpSpPr>
                <p:cNvPr id="554" name=""/>
                <p:cNvGrpSpPr/>
                <p:nvPr/>
              </p:nvGrpSpPr>
              <p:grpSpPr>
                <a:xfrm>
                  <a:off x="1902600" y="4440240"/>
                  <a:ext cx="1928520" cy="357840"/>
                  <a:chOff x="1902600" y="4440240"/>
                  <a:chExt cx="1928520" cy="35784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flipH="1">
                    <a:off x="1902600" y="4440240"/>
                    <a:ext cx="7920" cy="45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>
                    <a:off x="1927080" y="44434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>
                    <a:off x="1947600" y="44470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>
                    <a:off x="1968120" y="44506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>
                    <a:off x="1988640" y="44542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>
                    <a:off x="2007000" y="4457880"/>
                    <a:ext cx="6480" cy="37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H="1">
                    <a:off x="2030040" y="4461480"/>
                    <a:ext cx="432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>
                    <a:off x="2050920" y="4465080"/>
                    <a:ext cx="396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>
                    <a:off x="2071440" y="4468680"/>
                    <a:ext cx="432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>
                    <a:off x="2091960" y="4471920"/>
                    <a:ext cx="432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>
                    <a:off x="2109960" y="4475520"/>
                    <a:ext cx="7200" cy="414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>
                    <a:off x="2133360" y="447912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>
                    <a:off x="2154240" y="448272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>
                    <a:off x="2174760" y="448632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>
                    <a:off x="2193120" y="4489920"/>
                    <a:ext cx="6480" cy="37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>
                    <a:off x="2216160" y="449352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>
                    <a:off x="2236680" y="449712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>
                    <a:off x="2257200" y="450072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>
                    <a:off x="2277720" y="450396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>
                    <a:off x="2294280" y="4507560"/>
                    <a:ext cx="8640" cy="511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>
                    <a:off x="2319480" y="451116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>
                    <a:off x="2340000" y="451476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>
                    <a:off x="2360520" y="451836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>
                    <a:off x="2381040" y="452196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>
                    <a:off x="2399760" y="4525560"/>
                    <a:ext cx="6480" cy="37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>
                    <a:off x="2422800" y="452916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>
                    <a:off x="2443320" y="453276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>
                    <a:off x="2463840" y="45360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H="1">
                    <a:off x="2484720" y="45396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>
                    <a:off x="2500560" y="4543200"/>
                    <a:ext cx="9000" cy="511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>
                    <a:off x="2525760" y="45468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>
                    <a:off x="2546280" y="45504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>
                    <a:off x="2567160" y="455400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>
                    <a:off x="2585160" y="4557600"/>
                    <a:ext cx="6480" cy="37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>
                    <a:off x="2608560" y="45612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H="1">
                    <a:off x="2629080" y="45648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H="1">
                    <a:off x="2649600" y="456804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>
                    <a:off x="2670120" y="457164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>
                    <a:off x="2686320" y="4575240"/>
                    <a:ext cx="8640" cy="511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>
                    <a:off x="2711880" y="457884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>
                    <a:off x="2732400" y="458244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2752920" y="458604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>
                    <a:off x="2773440" y="458964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2792160" y="4593240"/>
                    <a:ext cx="6480" cy="37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>
                    <a:off x="2814840" y="4596840"/>
                    <a:ext cx="432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>
                    <a:off x="2835360" y="4600080"/>
                    <a:ext cx="432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2856240" y="4603680"/>
                    <a:ext cx="396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2876760" y="4607280"/>
                    <a:ext cx="432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2894760" y="4610880"/>
                    <a:ext cx="72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>
                    <a:off x="2918160" y="46144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>
                    <a:off x="2938680" y="46180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H="1">
                    <a:off x="2959560" y="462168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H="1">
                    <a:off x="2977920" y="4625280"/>
                    <a:ext cx="6480" cy="37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>
                    <a:off x="3000960" y="46288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>
                    <a:off x="3021480" y="463212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H="1">
                    <a:off x="3042000" y="463572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>
                    <a:off x="3062520" y="463932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3079080" y="4642920"/>
                    <a:ext cx="8640" cy="511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3104280" y="464652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3124800" y="465012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3145320" y="465372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3166200" y="465732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>
                    <a:off x="3184560" y="4660920"/>
                    <a:ext cx="6480" cy="374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3207240" y="466416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3228120" y="466776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3248640" y="467136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3269160" y="467496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>
                    <a:off x="3285360" y="4678560"/>
                    <a:ext cx="9000" cy="511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>
                    <a:off x="3310560" y="468216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>
                    <a:off x="3331080" y="468576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3351600" y="468936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>
                    <a:off x="3369960" y="4692600"/>
                    <a:ext cx="6480" cy="37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3393360" y="469620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>
                    <a:off x="3413880" y="46998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>
                    <a:off x="3434400" y="47034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3454920" y="47070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H="1">
                    <a:off x="3471480" y="4710600"/>
                    <a:ext cx="8640" cy="511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>
                    <a:off x="3496680" y="471420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>
                    <a:off x="3517200" y="471780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H="1">
                    <a:off x="3537720" y="472140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>
                    <a:off x="3558240" y="472464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>
                    <a:off x="3576960" y="4728240"/>
                    <a:ext cx="6480" cy="37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H="1">
                    <a:off x="3599640" y="4731840"/>
                    <a:ext cx="432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>
                    <a:off x="3620160" y="4735440"/>
                    <a:ext cx="432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>
                    <a:off x="3640680" y="4739040"/>
                    <a:ext cx="432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H="1">
                    <a:off x="3661920" y="4742640"/>
                    <a:ext cx="3960" cy="24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>
                    <a:off x="3679560" y="4746240"/>
                    <a:ext cx="72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flipH="1">
                    <a:off x="3702960" y="474984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>
                    <a:off x="3723480" y="475344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>
                    <a:off x="3744000" y="47566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>
                    <a:off x="3762720" y="4760280"/>
                    <a:ext cx="6480" cy="37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>
                    <a:off x="3785760" y="4763880"/>
                    <a:ext cx="396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H="1">
                    <a:off x="3806280" y="47674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3826800" y="4771080"/>
                    <a:ext cx="4320" cy="24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9" name=""/>
                <p:cNvSpPr/>
                <p:nvPr/>
              </p:nvSpPr>
              <p:spPr>
                <a:xfrm flipH="1">
                  <a:off x="3847320" y="4774680"/>
                  <a:ext cx="4320" cy="2448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>
                  <a:off x="3863520" y="4778280"/>
                  <a:ext cx="8640" cy="51120"/>
                </a:xfrm>
                <a:prstGeom prst="line">
                  <a:avLst/>
                </a:prstGeom>
                <a:ln w="648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 rot="586800">
                <a:off x="1764000" y="4694040"/>
                <a:ext cx="277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40000"/>
                    </a:solidFill>
                    <a:latin typeface="Times New Roman"/>
                  </a:rPr>
                  <a:t>0     1      2     3      4      5      6       7     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3340400">
                <a:off x="2458080" y="4578120"/>
                <a:ext cx="1082520" cy="780840"/>
              </a:xfrm>
              <a:custGeom>
                <a:avLst/>
                <a:gdLst/>
                <a:ahLst/>
                <a:rect l="l" t="t" r="r" b="b"/>
                <a:pathLst>
                  <a:path w="2112" h="1344">
                    <a:moveTo>
                      <a:pt x="0" y="0"/>
                    </a:moveTo>
                    <a:lnTo>
                      <a:pt x="0" y="1344"/>
                    </a:lnTo>
                    <a:lnTo>
                      <a:pt x="21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190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165240" y="4185720"/>
              <a:ext cx="2180520" cy="2186280"/>
              <a:chOff x="165240" y="4185720"/>
              <a:chExt cx="2180520" cy="2186280"/>
            </a:xfrm>
          </p:grpSpPr>
          <p:sp>
            <p:nvSpPr>
              <p:cNvPr id="654" name=""/>
              <p:cNvSpPr/>
              <p:nvPr/>
            </p:nvSpPr>
            <p:spPr>
              <a:xfrm rot="15645000">
                <a:off x="321480" y="4307760"/>
                <a:ext cx="1867680" cy="190512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0" y="4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f2ff">
                  <a:alpha val="50000"/>
                </a:srgbClr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5645000">
                <a:off x="1279440" y="5164920"/>
                <a:ext cx="595440" cy="607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0" y="48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623520" y="4453560"/>
                <a:ext cx="1517400" cy="1918440"/>
                <a:chOff x="623520" y="4453560"/>
                <a:chExt cx="1517400" cy="1918440"/>
              </a:xfrm>
            </p:grpSpPr>
            <p:grpSp>
              <p:nvGrpSpPr>
                <p:cNvPr id="657" name=""/>
                <p:cNvGrpSpPr/>
                <p:nvPr/>
              </p:nvGrpSpPr>
              <p:grpSpPr>
                <a:xfrm>
                  <a:off x="645120" y="4541040"/>
                  <a:ext cx="1201680" cy="1633680"/>
                  <a:chOff x="645120" y="4541040"/>
                  <a:chExt cx="1201680" cy="1633680"/>
                </a:xfrm>
              </p:grpSpPr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645120" y="4574520"/>
                    <a:ext cx="1152360" cy="1600200"/>
                    <a:chOff x="645120" y="4574520"/>
                    <a:chExt cx="1152360" cy="16002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645120" y="6143400"/>
                      <a:ext cx="43200" cy="3132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657000" y="61268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669240" y="61099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681480" y="60930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693720" y="607608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705600" y="6059520"/>
                      <a:ext cx="3528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717840" y="604260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>
                      <a:off x="730080" y="602532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741960" y="600876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754200" y="599184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766440" y="5974920"/>
                      <a:ext cx="38520" cy="2772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778680" y="59580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790560" y="5941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802800" y="5924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815040" y="5907600"/>
                      <a:ext cx="3528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827280" y="589032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839160" y="587340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851400" y="58568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863640" y="58399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875880" y="5823000"/>
                      <a:ext cx="47880" cy="345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887760" y="5806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900000" y="5789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912240" y="57726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924120" y="575568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936360" y="5738760"/>
                      <a:ext cx="35280" cy="25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948600" y="57218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960840" y="57049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972720" y="568800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984960" y="567108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997200" y="5654520"/>
                      <a:ext cx="48240" cy="345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1009440" y="56376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1021320" y="562068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1033560" y="560376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1045800" y="5586840"/>
                      <a:ext cx="35280" cy="25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1057680" y="556992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1069920" y="55530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1082160" y="5536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1094400" y="5519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1106280" y="5502600"/>
                      <a:ext cx="48240" cy="345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1118520" y="548568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1130760" y="546876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1143000" y="54518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1154880" y="543492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1167120" y="5418000"/>
                      <a:ext cx="35280" cy="25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1179360" y="540144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1191240" y="538452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1203480" y="536760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1215720" y="535068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1227960" y="5333760"/>
                      <a:ext cx="38520" cy="28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1239840" y="531684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1252080" y="52999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1264320" y="52830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1276560" y="5266080"/>
                      <a:ext cx="35280" cy="25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1288440" y="524952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1300680" y="52326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1312920" y="521568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1324800" y="519876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1337040" y="5181840"/>
                      <a:ext cx="48240" cy="3492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1349280" y="516492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1361520" y="51480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1373400" y="513144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1385640" y="5114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1397880" y="5097600"/>
                      <a:ext cx="35280" cy="25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1410120" y="508068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1422360" y="506376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1434240" y="504684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1446480" y="502992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1458720" y="5013000"/>
                      <a:ext cx="48240" cy="3492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1470600" y="4996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1482840" y="4979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1495080" y="49626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1507320" y="4945680"/>
                      <a:ext cx="35280" cy="25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1519200" y="49291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1531440" y="49122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1543680" y="489492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1555920" y="487800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1568160" y="4861080"/>
                      <a:ext cx="48240" cy="3492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>
                      <a:off x="1580040" y="4844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1592280" y="48276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1604520" y="481068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1616400" y="47941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1628640" y="4777200"/>
                      <a:ext cx="3528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1640880" y="476028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1653120" y="474300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1665000" y="472644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1677240" y="4709520"/>
                      <a:ext cx="2340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1689480" y="4692600"/>
                      <a:ext cx="38520" cy="2772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1701720" y="467568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1713960" y="465876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1725840" y="464220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1738080" y="4625280"/>
                      <a:ext cx="3528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1750320" y="460800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1762200" y="4591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1774440" y="4574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3" name=""/>
                  <p:cNvSpPr/>
                  <p:nvPr/>
                </p:nvSpPr>
                <p:spPr>
                  <a:xfrm>
                    <a:off x="1786680" y="4557600"/>
                    <a:ext cx="23040" cy="165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798560" y="4541040"/>
                    <a:ext cx="48240" cy="3456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5" name=""/>
                <p:cNvSpPr/>
                <p:nvPr/>
              </p:nvSpPr>
              <p:spPr>
                <a:xfrm rot="12954600">
                  <a:off x="1215720" y="4348440"/>
                  <a:ext cx="332640" cy="21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     6      7      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595800" y="5742720"/>
                <a:ext cx="1481400" cy="497160"/>
                <a:chOff x="595800" y="5742720"/>
                <a:chExt cx="1481400" cy="497160"/>
              </a:xfrm>
            </p:grpSpPr>
            <p:sp>
              <p:nvSpPr>
                <p:cNvPr id="757" name=""/>
                <p:cNvSpPr/>
                <p:nvPr/>
              </p:nvSpPr>
              <p:spPr>
                <a:xfrm rot="10245000">
                  <a:off x="605880" y="5858280"/>
                  <a:ext cx="1460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8" name=""/>
                <p:cNvGrpSpPr/>
                <p:nvPr/>
              </p:nvGrpSpPr>
              <p:grpSpPr>
                <a:xfrm>
                  <a:off x="914400" y="6006600"/>
                  <a:ext cx="1109160" cy="233280"/>
                  <a:chOff x="914400" y="6006600"/>
                  <a:chExt cx="1109160" cy="23328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 flipH="1" flipV="1">
                    <a:off x="2014920" y="6006600"/>
                    <a:ext cx="8640" cy="5256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H="1" flipV="1">
                    <a:off x="1999080" y="603468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H="1" flipV="1">
                    <a:off x="1977840" y="603828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 flipV="1">
                    <a:off x="1957680" y="604152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H="1" flipV="1">
                    <a:off x="1936440" y="604476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H="1" flipV="1">
                    <a:off x="1914120" y="6033240"/>
                    <a:ext cx="6840" cy="42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H="1" flipV="1">
                    <a:off x="1895400" y="605160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 flipV="1">
                    <a:off x="1875240" y="605484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H="1" flipV="1">
                    <a:off x="1855440" y="605808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 flipV="1">
                    <a:off x="1834200" y="606132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 flipV="1">
                    <a:off x="1811160" y="6044760"/>
                    <a:ext cx="7560" cy="475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 flipV="1">
                    <a:off x="1792800" y="606816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H="1" flipV="1">
                    <a:off x="1773000" y="607140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H="1" flipV="1">
                    <a:off x="1753200" y="607464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H="1" flipV="1">
                    <a:off x="1729440" y="6063120"/>
                    <a:ext cx="6840" cy="42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 flipV="1">
                    <a:off x="1711440" y="608148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 flipV="1">
                    <a:off x="1690560" y="608472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H="1" flipV="1">
                    <a:off x="1670760" y="608796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 flipV="1">
                    <a:off x="1649520" y="609156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H="1" flipV="1">
                    <a:off x="1623960" y="6063840"/>
                    <a:ext cx="9720" cy="586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H="1" flipV="1">
                    <a:off x="1609560" y="609804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 flipV="1">
                    <a:off x="1588320" y="610164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 flipV="1">
                    <a:off x="1568160" y="610488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 flipV="1">
                    <a:off x="1546560" y="610848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flipH="1" flipV="1">
                    <a:off x="1524600" y="6096600"/>
                    <a:ext cx="7200" cy="42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 flipV="1">
                    <a:off x="1506960" y="611496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H="1" flipV="1">
                    <a:off x="1485720" y="611820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 flipV="1">
                    <a:off x="1465560" y="612144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flipV="1">
                    <a:off x="1444680" y="612504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 flipV="1">
                    <a:off x="1419480" y="6097320"/>
                    <a:ext cx="9360" cy="586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H="1" flipV="1">
                    <a:off x="1403280" y="613152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flipV="1">
                    <a:off x="1383120" y="613476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flipV="1">
                    <a:off x="1363320" y="613800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flipV="1">
                    <a:off x="1339560" y="6126840"/>
                    <a:ext cx="6840" cy="42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 flipV="1">
                    <a:off x="1321920" y="614484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 flipV="1">
                    <a:off x="1300680" y="614844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flipH="1" flipV="1">
                    <a:off x="1280880" y="615168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H="1" flipV="1">
                    <a:off x="1259640" y="615492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H="1" flipV="1">
                    <a:off x="1234440" y="6127560"/>
                    <a:ext cx="9360" cy="586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 flipH="1" flipV="1">
                    <a:off x="1219680" y="616140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 flipV="1">
                    <a:off x="1198440" y="616500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 flipV="1">
                    <a:off x="1178280" y="616824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flipH="1" flipV="1">
                    <a:off x="1157040" y="617184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H="1" flipV="1">
                    <a:off x="1135080" y="6159960"/>
                    <a:ext cx="6840" cy="42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 flipV="1">
                    <a:off x="1117080" y="617832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H="1" flipV="1">
                    <a:off x="1095840" y="61819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H="1" flipV="1">
                    <a:off x="1076040" y="61851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flipV="1">
                    <a:off x="1054800" y="618840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flipH="1" flipV="1">
                    <a:off x="1031400" y="6171840"/>
                    <a:ext cx="7920" cy="475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H="1" flipV="1">
                    <a:off x="1013400" y="619524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 flipV="1">
                    <a:off x="993600" y="619848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H="1" flipV="1">
                    <a:off x="973440" y="6201720"/>
                    <a:ext cx="468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 flipV="1">
                    <a:off x="949680" y="6190200"/>
                    <a:ext cx="7200" cy="424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flipV="1">
                    <a:off x="932400" y="6208200"/>
                    <a:ext cx="4320" cy="277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H="1">
                    <a:off x="914400" y="6239520"/>
                    <a:ext cx="1080" cy="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4" name=""/>
              <p:cNvGrpSpPr/>
              <p:nvPr/>
            </p:nvGrpSpPr>
            <p:grpSpPr>
              <a:xfrm>
                <a:off x="1861920" y="4697280"/>
                <a:ext cx="477720" cy="1481400"/>
                <a:chOff x="1861920" y="4697280"/>
                <a:chExt cx="477720" cy="1481400"/>
              </a:xfrm>
            </p:grpSpPr>
            <p:sp>
              <p:nvSpPr>
                <p:cNvPr id="815" name=""/>
                <p:cNvSpPr/>
                <p:nvPr/>
              </p:nvSpPr>
              <p:spPr>
                <a:xfrm rot="4845000">
                  <a:off x="1370160" y="5314680"/>
                  <a:ext cx="1460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6" name=""/>
                <p:cNvGrpSpPr/>
                <p:nvPr/>
              </p:nvGrpSpPr>
              <p:grpSpPr>
                <a:xfrm>
                  <a:off x="2075040" y="4748040"/>
                  <a:ext cx="230400" cy="1087200"/>
                  <a:chOff x="2075040" y="4748040"/>
                  <a:chExt cx="230400" cy="108720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flipH="1">
                    <a:off x="2075040" y="4748040"/>
                    <a:ext cx="53280" cy="86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>
                    <a:off x="2103120" y="47674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flipH="1">
                    <a:off x="2106360" y="47883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H="1">
                    <a:off x="2109600" y="48078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H="1">
                    <a:off x="2112840" y="4828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flipH="1">
                    <a:off x="2101320" y="484812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flipH="1">
                    <a:off x="2119680" y="48690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>
                    <a:off x="2122920" y="48888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flipH="1">
                    <a:off x="2125800" y="49082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flipH="1">
                    <a:off x="2129400" y="49291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H="1">
                    <a:off x="2112480" y="4948560"/>
                    <a:ext cx="48600" cy="79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H="1">
                    <a:off x="2135880" y="496944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139120" y="49892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H="1">
                    <a:off x="2142360" y="5008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30840" y="502920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148840" y="50493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H="1">
                    <a:off x="2152440" y="50698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2155320" y="50893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flipH="1">
                    <a:off x="2158920" y="5110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H="1">
                    <a:off x="2130840" y="5130000"/>
                    <a:ext cx="5976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H="1">
                    <a:off x="2165400" y="51494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 flipH="1">
                    <a:off x="2168640" y="51699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 flipH="1">
                    <a:off x="2171880" y="519012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flipH="1">
                    <a:off x="2175120" y="52110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flipH="1">
                    <a:off x="2163600" y="523008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 flipH="1">
                    <a:off x="2181600" y="52498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flipH="1">
                    <a:off x="2184840" y="527076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H="1">
                    <a:off x="2188080" y="52905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 flipH="1">
                    <a:off x="2191680" y="53110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 flipH="1">
                    <a:off x="2163600" y="5330520"/>
                    <a:ext cx="5976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>
                    <a:off x="2198160" y="535176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flipH="1">
                    <a:off x="2201400" y="5371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flipH="1">
                    <a:off x="2204640" y="53906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>
                    <a:off x="2193120" y="541152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H="1">
                    <a:off x="2211120" y="54313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flipH="1">
                    <a:off x="2214720" y="5452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H="1">
                    <a:off x="2217600" y="54716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 flipH="1">
                    <a:off x="2221200" y="54921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flipH="1">
                    <a:off x="2193120" y="5512320"/>
                    <a:ext cx="5976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H="1">
                    <a:off x="2227680" y="55317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>
                    <a:off x="2230920" y="55522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>
                    <a:off x="2234160" y="557244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>
                    <a:off x="2237400" y="55929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2225880" y="561240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H="1">
                    <a:off x="2243880" y="56318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2247120" y="565308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H="1">
                    <a:off x="2250360" y="56725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flipH="1">
                    <a:off x="2253960" y="5693040"/>
                    <a:ext cx="2808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>
                    <a:off x="2237040" y="5712840"/>
                    <a:ext cx="48240" cy="79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H="1">
                    <a:off x="2260440" y="573408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>
                    <a:off x="2263680" y="57531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H="1">
                    <a:off x="2266920" y="57729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>
                    <a:off x="2255400" y="579348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>
                    <a:off x="2273400" y="58132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2305080" y="5834160"/>
                    <a:ext cx="360" cy="10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872" name="" descr=""/>
          <p:cNvPicPr/>
          <p:nvPr/>
        </p:nvPicPr>
        <p:blipFill>
          <a:blip r:embed="rId6"/>
          <a:stretch/>
        </p:blipFill>
        <p:spPr>
          <a:xfrm>
            <a:off x="8532720" y="0"/>
            <a:ext cx="625680" cy="63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1868400" y="260280"/>
            <a:ext cx="53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彩云"/>
              </a:rPr>
              <a:t>湘教版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SHUXUE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隶书"/>
              </a:rPr>
              <a:t>七年级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179280" y="5877000"/>
            <a:ext cx="6581520" cy="866880"/>
            <a:chOff x="179280" y="5877000"/>
            <a:chExt cx="6581520" cy="866880"/>
          </a:xfrm>
        </p:grpSpPr>
        <p:sp>
          <p:nvSpPr>
            <p:cNvPr id="911" name=""/>
            <p:cNvSpPr/>
            <p:nvPr/>
          </p:nvSpPr>
          <p:spPr>
            <a:xfrm>
              <a:off x="179280" y="6024600"/>
              <a:ext cx="1317600" cy="4140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9280" y="6413760"/>
              <a:ext cx="131544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51160" y="6009120"/>
              <a:ext cx="2609640" cy="4294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49000" y="6438960"/>
              <a:ext cx="261180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4900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3396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232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4900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4900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85324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382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278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171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207120" y="6256440"/>
              <a:ext cx="58680" cy="19872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96400" y="6267600"/>
              <a:ext cx="58680" cy="20412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388200" y="6278400"/>
              <a:ext cx="56520" cy="2152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77840" y="6292440"/>
              <a:ext cx="56520" cy="23328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567120" y="6312960"/>
              <a:ext cx="56520" cy="25704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657120" y="6336360"/>
              <a:ext cx="56520" cy="29808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746400" y="6387840"/>
              <a:ext cx="14400" cy="29376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822640" y="6304680"/>
              <a:ext cx="938160" cy="14472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822640" y="6393240"/>
              <a:ext cx="938160" cy="212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39848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834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5734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9848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9848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4868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7311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8229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4868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64868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89852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9813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0706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9852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9852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458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2308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208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45840" y="6304680"/>
              <a:ext cx="2548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145840" y="6393240"/>
              <a:ext cx="2548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960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4806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57028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9604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9604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6455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7308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82012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64552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4552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893200" y="5966640"/>
              <a:ext cx="716760" cy="5796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90520" y="5877000"/>
              <a:ext cx="1003680" cy="4237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496880" y="6013800"/>
              <a:ext cx="2651760" cy="42516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555560" y="5998320"/>
              <a:ext cx="414720" cy="44028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718640" y="6129360"/>
              <a:ext cx="893160" cy="30924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11080" y="6103080"/>
              <a:ext cx="909720" cy="18360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744200" y="6297840"/>
              <a:ext cx="31572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895040" y="6103080"/>
              <a:ext cx="725760" cy="1641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65800" y="6309000"/>
              <a:ext cx="268200" cy="1296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94720" y="6438960"/>
              <a:ext cx="265392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62120" y="5913000"/>
              <a:ext cx="1025280" cy="28296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71840" y="5999400"/>
              <a:ext cx="1265760" cy="43920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93080" y="6238440"/>
              <a:ext cx="734760" cy="1918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27720" y="6361560"/>
              <a:ext cx="410400" cy="7704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27720" y="6234480"/>
              <a:ext cx="174600" cy="1270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941920" y="6258960"/>
              <a:ext cx="315720" cy="14364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63360" y="6248160"/>
              <a:ext cx="105840" cy="11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62120" y="5963760"/>
              <a:ext cx="1284840" cy="25920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031560" y="6267600"/>
              <a:ext cx="13680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958480" y="6267600"/>
              <a:ext cx="5652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187080" y="6267600"/>
              <a:ext cx="5364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439440" y="6267600"/>
              <a:ext cx="8712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82920" y="6267600"/>
              <a:ext cx="3996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545280" y="6267600"/>
              <a:ext cx="3996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512160" y="6096240"/>
              <a:ext cx="63360" cy="273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00000" y="6096240"/>
              <a:ext cx="65520" cy="273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549960" y="6081120"/>
              <a:ext cx="75240" cy="370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597120" y="6114240"/>
              <a:ext cx="409680" cy="119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866040" y="6405480"/>
              <a:ext cx="1623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11680" y="6368400"/>
              <a:ext cx="16272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809520" y="6150240"/>
              <a:ext cx="188640" cy="8388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55320" y="6234480"/>
              <a:ext cx="2124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639240" y="6114240"/>
              <a:ext cx="261720" cy="9360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802320" y="6234480"/>
              <a:ext cx="3528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627720" y="6234480"/>
              <a:ext cx="3564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18440" y="6438960"/>
              <a:ext cx="1041840" cy="30492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36040" y="6299280"/>
              <a:ext cx="105840" cy="23472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347920" y="6318720"/>
              <a:ext cx="61200" cy="68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347920" y="6348960"/>
              <a:ext cx="63360" cy="54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347920" y="6340680"/>
              <a:ext cx="63360" cy="396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47920" y="6382080"/>
              <a:ext cx="68400" cy="684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47920" y="6375240"/>
              <a:ext cx="68400" cy="396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06360" y="5969160"/>
              <a:ext cx="716760" cy="6127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6120" y="5884920"/>
              <a:ext cx="961560" cy="41148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31320" y="6405480"/>
              <a:ext cx="187920" cy="12816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15240" y="6455520"/>
              <a:ext cx="110520" cy="687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9" name="" descr=""/>
          <p:cNvPicPr/>
          <p:nvPr/>
        </p:nvPicPr>
        <p:blipFill>
          <a:blip r:embed="rId1"/>
          <a:stretch/>
        </p:blipFill>
        <p:spPr>
          <a:xfrm flipH="1">
            <a:off x="6732360" y="4437000"/>
            <a:ext cx="2313000" cy="2098800"/>
          </a:xfrm>
          <a:prstGeom prst="rect">
            <a:avLst/>
          </a:prstGeom>
          <a:ln w="0">
            <a:noFill/>
          </a:ln>
        </p:spPr>
      </p:pic>
      <p:pic>
        <p:nvPicPr>
          <p:cNvPr id="1010" name="图片 5285" descr="4_15974_6"/>
          <p:cNvPicPr/>
          <p:nvPr/>
        </p:nvPicPr>
        <p:blipFill>
          <a:blip r:embed="rId2"/>
          <a:stretch/>
        </p:blipFill>
        <p:spPr>
          <a:xfrm>
            <a:off x="6804000" y="189000"/>
            <a:ext cx="1619280" cy="1312920"/>
          </a:xfrm>
          <a:prstGeom prst="rect">
            <a:avLst/>
          </a:prstGeom>
          <a:ln w="0">
            <a:noFill/>
          </a:ln>
        </p:spPr>
      </p:pic>
      <p:pic>
        <p:nvPicPr>
          <p:cNvPr id="1011" name="图片 5285" descr="4_15974_6"/>
          <p:cNvPicPr/>
          <p:nvPr/>
        </p:nvPicPr>
        <p:blipFill>
          <a:blip r:embed="rId3"/>
          <a:stretch/>
        </p:blipFill>
        <p:spPr>
          <a:xfrm>
            <a:off x="395280" y="189000"/>
            <a:ext cx="1619280" cy="1312920"/>
          </a:xfrm>
          <a:prstGeom prst="rect">
            <a:avLst/>
          </a:prstGeom>
          <a:ln w="0">
            <a:noFill/>
          </a:ln>
        </p:spPr>
      </p:pic>
      <p:grpSp>
        <p:nvGrpSpPr>
          <p:cNvPr id="1012" name=""/>
          <p:cNvGrpSpPr/>
          <p:nvPr/>
        </p:nvGrpSpPr>
        <p:grpSpPr>
          <a:xfrm>
            <a:off x="3132000" y="2276640"/>
            <a:ext cx="5113080" cy="2132280"/>
            <a:chOff x="3132000" y="2276640"/>
            <a:chExt cx="5113080" cy="2132280"/>
          </a:xfrm>
        </p:grpSpPr>
        <p:sp>
          <p:nvSpPr>
            <p:cNvPr id="1013" name=""/>
            <p:cNvSpPr txBox="1"/>
            <p:nvPr/>
          </p:nvSpPr>
          <p:spPr>
            <a:xfrm>
              <a:off x="3132000" y="2276640"/>
              <a:ext cx="4667040" cy="126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37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ff00ff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微软雅黑"/>
                </a:rPr>
                <a:t>二元一次方程组的解法</a:t>
              </a:r>
              <a:endParaRPr b="1" lang="en-US" sz="1800" spc="1" strike="noStrike">
                <a:ln w="25560">
                  <a:solidFill>
                    <a:srgbClr val="ff00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微软雅黑"/>
                <a:ea typeface="微软雅黑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132000" y="3644640"/>
              <a:ext cx="511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代入消元法</a:t>
              </a: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(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一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684360" y="2349360"/>
            <a:ext cx="2160360" cy="1387440"/>
            <a:chOff x="684360" y="2349360"/>
            <a:chExt cx="2160360" cy="1387440"/>
          </a:xfrm>
        </p:grpSpPr>
        <p:sp>
          <p:nvSpPr>
            <p:cNvPr id="1016" name=""/>
            <p:cNvSpPr/>
            <p:nvPr/>
          </p:nvSpPr>
          <p:spPr>
            <a:xfrm>
              <a:off x="828720" y="3357360"/>
              <a:ext cx="2016000" cy="379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1e5b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054080" y="2351160"/>
              <a:ext cx="1641600" cy="1276200"/>
            </a:xfrm>
            <a:custGeom>
              <a:avLst/>
              <a:gdLst/>
              <a:ahLst/>
              <a:rect l="l" t="t" r="r" b="b"/>
              <a:pathLst>
                <a:path w="10147" h="8394">
                  <a:moveTo>
                    <a:pt x="8563" y="8394"/>
                  </a:moveTo>
                  <a:lnTo>
                    <a:pt x="1584" y="8394"/>
                  </a:lnTo>
                  <a:lnTo>
                    <a:pt x="1503" y="8392"/>
                  </a:lnTo>
                  <a:lnTo>
                    <a:pt x="1422" y="8387"/>
                  </a:lnTo>
                  <a:lnTo>
                    <a:pt x="1344" y="8376"/>
                  </a:lnTo>
                  <a:lnTo>
                    <a:pt x="1266" y="8362"/>
                  </a:lnTo>
                  <a:lnTo>
                    <a:pt x="1190" y="8346"/>
                  </a:lnTo>
                  <a:lnTo>
                    <a:pt x="1114" y="8325"/>
                  </a:lnTo>
                  <a:lnTo>
                    <a:pt x="1038" y="8297"/>
                  </a:lnTo>
                  <a:lnTo>
                    <a:pt x="969" y="8270"/>
                  </a:lnTo>
                  <a:lnTo>
                    <a:pt x="898" y="8238"/>
                  </a:lnTo>
                  <a:lnTo>
                    <a:pt x="828" y="8203"/>
                  </a:lnTo>
                  <a:lnTo>
                    <a:pt x="763" y="8166"/>
                  </a:lnTo>
                  <a:lnTo>
                    <a:pt x="698" y="8125"/>
                  </a:lnTo>
                  <a:lnTo>
                    <a:pt x="636" y="8079"/>
                  </a:lnTo>
                  <a:lnTo>
                    <a:pt x="576" y="8033"/>
                  </a:lnTo>
                  <a:lnTo>
                    <a:pt x="518" y="7982"/>
                  </a:lnTo>
                  <a:lnTo>
                    <a:pt x="463" y="7931"/>
                  </a:lnTo>
                  <a:lnTo>
                    <a:pt x="410" y="7874"/>
                  </a:lnTo>
                  <a:lnTo>
                    <a:pt x="361" y="7817"/>
                  </a:lnTo>
                  <a:lnTo>
                    <a:pt x="315" y="7758"/>
                  </a:lnTo>
                  <a:lnTo>
                    <a:pt x="270" y="7696"/>
                  </a:lnTo>
                  <a:lnTo>
                    <a:pt x="229" y="7631"/>
                  </a:lnTo>
                  <a:lnTo>
                    <a:pt x="191" y="7563"/>
                  </a:lnTo>
                  <a:lnTo>
                    <a:pt x="156" y="7496"/>
                  </a:lnTo>
                  <a:lnTo>
                    <a:pt x="123" y="7426"/>
                  </a:lnTo>
                  <a:lnTo>
                    <a:pt x="94" y="7353"/>
                  </a:lnTo>
                  <a:lnTo>
                    <a:pt x="70" y="7280"/>
                  </a:lnTo>
                  <a:lnTo>
                    <a:pt x="48" y="7205"/>
                  </a:lnTo>
                  <a:lnTo>
                    <a:pt x="32" y="7130"/>
                  </a:lnTo>
                  <a:lnTo>
                    <a:pt x="16" y="7051"/>
                  </a:lnTo>
                  <a:lnTo>
                    <a:pt x="7" y="6971"/>
                  </a:lnTo>
                  <a:lnTo>
                    <a:pt x="0" y="6890"/>
                  </a:lnTo>
                  <a:lnTo>
                    <a:pt x="0" y="6808"/>
                  </a:lnTo>
                  <a:lnTo>
                    <a:pt x="0" y="1586"/>
                  </a:lnTo>
                  <a:lnTo>
                    <a:pt x="0" y="1506"/>
                  </a:lnTo>
                  <a:lnTo>
                    <a:pt x="7" y="1424"/>
                  </a:lnTo>
                  <a:lnTo>
                    <a:pt x="16" y="1346"/>
                  </a:lnTo>
                  <a:lnTo>
                    <a:pt x="32" y="1267"/>
                  </a:lnTo>
                  <a:lnTo>
                    <a:pt x="48" y="1189"/>
                  </a:lnTo>
                  <a:lnTo>
                    <a:pt x="70" y="1117"/>
                  </a:lnTo>
                  <a:lnTo>
                    <a:pt x="94" y="1041"/>
                  </a:lnTo>
                  <a:lnTo>
                    <a:pt x="123" y="971"/>
                  </a:lnTo>
                  <a:lnTo>
                    <a:pt x="156" y="901"/>
                  </a:lnTo>
                  <a:lnTo>
                    <a:pt x="191" y="831"/>
                  </a:lnTo>
                  <a:lnTo>
                    <a:pt x="229" y="766"/>
                  </a:lnTo>
                  <a:lnTo>
                    <a:pt x="270" y="701"/>
                  </a:lnTo>
                  <a:lnTo>
                    <a:pt x="315" y="640"/>
                  </a:lnTo>
                  <a:lnTo>
                    <a:pt x="361" y="578"/>
                  </a:lnTo>
                  <a:lnTo>
                    <a:pt x="410" y="521"/>
                  </a:lnTo>
                  <a:lnTo>
                    <a:pt x="463" y="467"/>
                  </a:lnTo>
                  <a:lnTo>
                    <a:pt x="518" y="413"/>
                  </a:lnTo>
                  <a:lnTo>
                    <a:pt x="576" y="364"/>
                  </a:lnTo>
                  <a:lnTo>
                    <a:pt x="636" y="316"/>
                  </a:lnTo>
                  <a:lnTo>
                    <a:pt x="698" y="272"/>
                  </a:lnTo>
                  <a:lnTo>
                    <a:pt x="763" y="232"/>
                  </a:lnTo>
                  <a:lnTo>
                    <a:pt x="828" y="191"/>
                  </a:lnTo>
                  <a:lnTo>
                    <a:pt x="898" y="157"/>
                  </a:lnTo>
                  <a:lnTo>
                    <a:pt x="969" y="127"/>
                  </a:lnTo>
                  <a:lnTo>
                    <a:pt x="1038" y="97"/>
                  </a:lnTo>
                  <a:lnTo>
                    <a:pt x="1114" y="73"/>
                  </a:lnTo>
                  <a:lnTo>
                    <a:pt x="1190" y="51"/>
                  </a:lnTo>
                  <a:lnTo>
                    <a:pt x="1266" y="32"/>
                  </a:lnTo>
                  <a:lnTo>
                    <a:pt x="1344" y="19"/>
                  </a:lnTo>
                  <a:lnTo>
                    <a:pt x="1422" y="8"/>
                  </a:lnTo>
                  <a:lnTo>
                    <a:pt x="1503" y="3"/>
                  </a:lnTo>
                  <a:lnTo>
                    <a:pt x="1584" y="0"/>
                  </a:lnTo>
                  <a:lnTo>
                    <a:pt x="8563" y="0"/>
                  </a:lnTo>
                  <a:lnTo>
                    <a:pt x="8644" y="3"/>
                  </a:lnTo>
                  <a:lnTo>
                    <a:pt x="8725" y="8"/>
                  </a:lnTo>
                  <a:lnTo>
                    <a:pt x="8803" y="19"/>
                  </a:lnTo>
                  <a:lnTo>
                    <a:pt x="8881" y="32"/>
                  </a:lnTo>
                  <a:lnTo>
                    <a:pt x="8957" y="51"/>
                  </a:lnTo>
                  <a:lnTo>
                    <a:pt x="9033" y="73"/>
                  </a:lnTo>
                  <a:lnTo>
                    <a:pt x="9105" y="97"/>
                  </a:lnTo>
                  <a:lnTo>
                    <a:pt x="9178" y="127"/>
                  </a:lnTo>
                  <a:lnTo>
                    <a:pt x="9248" y="157"/>
                  </a:lnTo>
                  <a:lnTo>
                    <a:pt x="9316" y="191"/>
                  </a:lnTo>
                  <a:lnTo>
                    <a:pt x="9383" y="232"/>
                  </a:lnTo>
                  <a:lnTo>
                    <a:pt x="9448" y="272"/>
                  </a:lnTo>
                  <a:lnTo>
                    <a:pt x="9510" y="316"/>
                  </a:lnTo>
                  <a:lnTo>
                    <a:pt x="9569" y="364"/>
                  </a:lnTo>
                  <a:lnTo>
                    <a:pt x="9629" y="413"/>
                  </a:lnTo>
                  <a:lnTo>
                    <a:pt x="9682" y="467"/>
                  </a:lnTo>
                  <a:lnTo>
                    <a:pt x="9734" y="521"/>
                  </a:lnTo>
                  <a:lnTo>
                    <a:pt x="9785" y="578"/>
                  </a:lnTo>
                  <a:lnTo>
                    <a:pt x="9831" y="640"/>
                  </a:lnTo>
                  <a:lnTo>
                    <a:pt x="9877" y="701"/>
                  </a:lnTo>
                  <a:lnTo>
                    <a:pt x="9917" y="766"/>
                  </a:lnTo>
                  <a:lnTo>
                    <a:pt x="9956" y="831"/>
                  </a:lnTo>
                  <a:lnTo>
                    <a:pt x="9990" y="901"/>
                  </a:lnTo>
                  <a:lnTo>
                    <a:pt x="10023" y="971"/>
                  </a:lnTo>
                  <a:lnTo>
                    <a:pt x="10052" y="1041"/>
                  </a:lnTo>
                  <a:lnTo>
                    <a:pt x="10076" y="1117"/>
                  </a:lnTo>
                  <a:lnTo>
                    <a:pt x="10098" y="1189"/>
                  </a:lnTo>
                  <a:lnTo>
                    <a:pt x="10115" y="1267"/>
                  </a:lnTo>
                  <a:lnTo>
                    <a:pt x="10128" y="1346"/>
                  </a:lnTo>
                  <a:lnTo>
                    <a:pt x="10138" y="1424"/>
                  </a:lnTo>
                  <a:lnTo>
                    <a:pt x="10144" y="1506"/>
                  </a:lnTo>
                  <a:lnTo>
                    <a:pt x="10147" y="1586"/>
                  </a:lnTo>
                  <a:lnTo>
                    <a:pt x="10147" y="6808"/>
                  </a:lnTo>
                  <a:lnTo>
                    <a:pt x="10144" y="6890"/>
                  </a:lnTo>
                  <a:lnTo>
                    <a:pt x="10138" y="6971"/>
                  </a:lnTo>
                  <a:lnTo>
                    <a:pt x="10128" y="7051"/>
                  </a:lnTo>
                  <a:lnTo>
                    <a:pt x="10115" y="7130"/>
                  </a:lnTo>
                  <a:lnTo>
                    <a:pt x="10098" y="7205"/>
                  </a:lnTo>
                  <a:lnTo>
                    <a:pt x="10076" y="7280"/>
                  </a:lnTo>
                  <a:lnTo>
                    <a:pt x="10052" y="7353"/>
                  </a:lnTo>
                  <a:lnTo>
                    <a:pt x="10023" y="7426"/>
                  </a:lnTo>
                  <a:lnTo>
                    <a:pt x="9990" y="7496"/>
                  </a:lnTo>
                  <a:lnTo>
                    <a:pt x="9956" y="7563"/>
                  </a:lnTo>
                  <a:lnTo>
                    <a:pt x="9917" y="7631"/>
                  </a:lnTo>
                  <a:lnTo>
                    <a:pt x="9877" y="7696"/>
                  </a:lnTo>
                  <a:lnTo>
                    <a:pt x="9831" y="7758"/>
                  </a:lnTo>
                  <a:lnTo>
                    <a:pt x="9785" y="7817"/>
                  </a:lnTo>
                  <a:lnTo>
                    <a:pt x="9734" y="7874"/>
                  </a:lnTo>
                  <a:lnTo>
                    <a:pt x="9682" y="7931"/>
                  </a:lnTo>
                  <a:lnTo>
                    <a:pt x="9629" y="7982"/>
                  </a:lnTo>
                  <a:lnTo>
                    <a:pt x="9569" y="8033"/>
                  </a:lnTo>
                  <a:lnTo>
                    <a:pt x="9510" y="8079"/>
                  </a:lnTo>
                  <a:lnTo>
                    <a:pt x="9448" y="8125"/>
                  </a:lnTo>
                  <a:lnTo>
                    <a:pt x="9383" y="8166"/>
                  </a:lnTo>
                  <a:lnTo>
                    <a:pt x="9316" y="8203"/>
                  </a:lnTo>
                  <a:lnTo>
                    <a:pt x="9248" y="8238"/>
                  </a:lnTo>
                  <a:lnTo>
                    <a:pt x="9178" y="8270"/>
                  </a:lnTo>
                  <a:lnTo>
                    <a:pt x="9105" y="8297"/>
                  </a:lnTo>
                  <a:lnTo>
                    <a:pt x="9033" y="8325"/>
                  </a:lnTo>
                  <a:lnTo>
                    <a:pt x="8957" y="8346"/>
                  </a:lnTo>
                  <a:lnTo>
                    <a:pt x="8881" y="8362"/>
                  </a:lnTo>
                  <a:lnTo>
                    <a:pt x="8803" y="8376"/>
                  </a:lnTo>
                  <a:lnTo>
                    <a:pt x="8725" y="8387"/>
                  </a:lnTo>
                  <a:lnTo>
                    <a:pt x="8644" y="8392"/>
                  </a:lnTo>
                  <a:lnTo>
                    <a:pt x="8563" y="839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052640" y="2349360"/>
              <a:ext cx="1644480" cy="1281240"/>
            </a:xfrm>
            <a:custGeom>
              <a:avLst/>
              <a:gdLst/>
              <a:ahLst/>
              <a:rect l="l" t="t" r="r" b="b"/>
              <a:pathLst>
                <a:path w="10179" h="8426">
                  <a:moveTo>
                    <a:pt x="8579" y="8410"/>
                  </a:moveTo>
                  <a:lnTo>
                    <a:pt x="8579" y="8394"/>
                  </a:lnTo>
                  <a:lnTo>
                    <a:pt x="1600" y="8394"/>
                  </a:lnTo>
                  <a:lnTo>
                    <a:pt x="1519" y="8392"/>
                  </a:lnTo>
                  <a:lnTo>
                    <a:pt x="1441" y="8387"/>
                  </a:lnTo>
                  <a:lnTo>
                    <a:pt x="1362" y="8376"/>
                  </a:lnTo>
                  <a:lnTo>
                    <a:pt x="1284" y="8362"/>
                  </a:lnTo>
                  <a:lnTo>
                    <a:pt x="1208" y="8346"/>
                  </a:lnTo>
                  <a:lnTo>
                    <a:pt x="1135" y="8324"/>
                  </a:lnTo>
                  <a:lnTo>
                    <a:pt x="1063" y="8300"/>
                  </a:lnTo>
                  <a:lnTo>
                    <a:pt x="990" y="8270"/>
                  </a:lnTo>
                  <a:lnTo>
                    <a:pt x="919" y="8240"/>
                  </a:lnTo>
                  <a:lnTo>
                    <a:pt x="852" y="8205"/>
                  </a:lnTo>
                  <a:lnTo>
                    <a:pt x="787" y="8168"/>
                  </a:lnTo>
                  <a:lnTo>
                    <a:pt x="723" y="8127"/>
                  </a:lnTo>
                  <a:lnTo>
                    <a:pt x="661" y="8081"/>
                  </a:lnTo>
                  <a:lnTo>
                    <a:pt x="604" y="8035"/>
                  </a:lnTo>
                  <a:lnTo>
                    <a:pt x="544" y="7987"/>
                  </a:lnTo>
                  <a:lnTo>
                    <a:pt x="490" y="7936"/>
                  </a:lnTo>
                  <a:lnTo>
                    <a:pt x="439" y="7879"/>
                  </a:lnTo>
                  <a:lnTo>
                    <a:pt x="391" y="7823"/>
                  </a:lnTo>
                  <a:lnTo>
                    <a:pt x="342" y="7763"/>
                  </a:lnTo>
                  <a:lnTo>
                    <a:pt x="299" y="7701"/>
                  </a:lnTo>
                  <a:lnTo>
                    <a:pt x="258" y="7639"/>
                  </a:lnTo>
                  <a:lnTo>
                    <a:pt x="221" y="7572"/>
                  </a:lnTo>
                  <a:lnTo>
                    <a:pt x="185" y="7505"/>
                  </a:lnTo>
                  <a:lnTo>
                    <a:pt x="153" y="7436"/>
                  </a:lnTo>
                  <a:lnTo>
                    <a:pt x="126" y="7364"/>
                  </a:lnTo>
                  <a:lnTo>
                    <a:pt x="102" y="7291"/>
                  </a:lnTo>
                  <a:lnTo>
                    <a:pt x="81" y="7218"/>
                  </a:lnTo>
                  <a:lnTo>
                    <a:pt x="61" y="7139"/>
                  </a:lnTo>
                  <a:lnTo>
                    <a:pt x="48" y="7065"/>
                  </a:lnTo>
                  <a:lnTo>
                    <a:pt x="40" y="6987"/>
                  </a:lnTo>
                  <a:lnTo>
                    <a:pt x="32" y="6906"/>
                  </a:lnTo>
                  <a:lnTo>
                    <a:pt x="32" y="6824"/>
                  </a:lnTo>
                  <a:lnTo>
                    <a:pt x="32" y="1602"/>
                  </a:lnTo>
                  <a:lnTo>
                    <a:pt x="32" y="1522"/>
                  </a:lnTo>
                  <a:lnTo>
                    <a:pt x="40" y="1443"/>
                  </a:lnTo>
                  <a:lnTo>
                    <a:pt x="48" y="1365"/>
                  </a:lnTo>
                  <a:lnTo>
                    <a:pt x="61" y="1287"/>
                  </a:lnTo>
                  <a:lnTo>
                    <a:pt x="81" y="1211"/>
                  </a:lnTo>
                  <a:lnTo>
                    <a:pt x="102" y="1135"/>
                  </a:lnTo>
                  <a:lnTo>
                    <a:pt x="126" y="1062"/>
                  </a:lnTo>
                  <a:lnTo>
                    <a:pt x="153" y="992"/>
                  </a:lnTo>
                  <a:lnTo>
                    <a:pt x="185" y="923"/>
                  </a:lnTo>
                  <a:lnTo>
                    <a:pt x="221" y="855"/>
                  </a:lnTo>
                  <a:lnTo>
                    <a:pt x="258" y="790"/>
                  </a:lnTo>
                  <a:lnTo>
                    <a:pt x="299" y="725"/>
                  </a:lnTo>
                  <a:lnTo>
                    <a:pt x="342" y="663"/>
                  </a:lnTo>
                  <a:lnTo>
                    <a:pt x="391" y="604"/>
                  </a:lnTo>
                  <a:lnTo>
                    <a:pt x="439" y="548"/>
                  </a:lnTo>
                  <a:lnTo>
                    <a:pt x="490" y="493"/>
                  </a:lnTo>
                  <a:lnTo>
                    <a:pt x="544" y="442"/>
                  </a:lnTo>
                  <a:lnTo>
                    <a:pt x="604" y="391"/>
                  </a:lnTo>
                  <a:lnTo>
                    <a:pt x="661" y="345"/>
                  </a:lnTo>
                  <a:lnTo>
                    <a:pt x="723" y="302"/>
                  </a:lnTo>
                  <a:lnTo>
                    <a:pt x="787" y="262"/>
                  </a:lnTo>
                  <a:lnTo>
                    <a:pt x="852" y="224"/>
                  </a:lnTo>
                  <a:lnTo>
                    <a:pt x="919" y="189"/>
                  </a:lnTo>
                  <a:lnTo>
                    <a:pt x="990" y="156"/>
                  </a:lnTo>
                  <a:lnTo>
                    <a:pt x="1063" y="129"/>
                  </a:lnTo>
                  <a:lnTo>
                    <a:pt x="1135" y="105"/>
                  </a:lnTo>
                  <a:lnTo>
                    <a:pt x="1208" y="83"/>
                  </a:lnTo>
                  <a:lnTo>
                    <a:pt x="1284" y="64"/>
                  </a:lnTo>
                  <a:lnTo>
                    <a:pt x="1362" y="51"/>
                  </a:lnTo>
                  <a:lnTo>
                    <a:pt x="1441" y="40"/>
                  </a:lnTo>
                  <a:lnTo>
                    <a:pt x="1519" y="35"/>
                  </a:lnTo>
                  <a:lnTo>
                    <a:pt x="1600" y="32"/>
                  </a:lnTo>
                  <a:lnTo>
                    <a:pt x="8579" y="32"/>
                  </a:lnTo>
                  <a:lnTo>
                    <a:pt x="8657" y="35"/>
                  </a:lnTo>
                  <a:lnTo>
                    <a:pt x="8738" y="40"/>
                  </a:lnTo>
                  <a:lnTo>
                    <a:pt x="8816" y="51"/>
                  </a:lnTo>
                  <a:lnTo>
                    <a:pt x="8895" y="64"/>
                  </a:lnTo>
                  <a:lnTo>
                    <a:pt x="8970" y="83"/>
                  </a:lnTo>
                  <a:lnTo>
                    <a:pt x="9043" y="105"/>
                  </a:lnTo>
                  <a:lnTo>
                    <a:pt x="9116" y="129"/>
                  </a:lnTo>
                  <a:lnTo>
                    <a:pt x="9189" y="156"/>
                  </a:lnTo>
                  <a:lnTo>
                    <a:pt x="9259" y="189"/>
                  </a:lnTo>
                  <a:lnTo>
                    <a:pt x="9326" y="224"/>
                  </a:lnTo>
                  <a:lnTo>
                    <a:pt x="9391" y="262"/>
                  </a:lnTo>
                  <a:lnTo>
                    <a:pt x="9456" y="302"/>
                  </a:lnTo>
                  <a:lnTo>
                    <a:pt x="9516" y="345"/>
                  </a:lnTo>
                  <a:lnTo>
                    <a:pt x="9574" y="391"/>
                  </a:lnTo>
                  <a:lnTo>
                    <a:pt x="9631" y="442"/>
                  </a:lnTo>
                  <a:lnTo>
                    <a:pt x="9688" y="493"/>
                  </a:lnTo>
                  <a:lnTo>
                    <a:pt x="9739" y="548"/>
                  </a:lnTo>
                  <a:lnTo>
                    <a:pt x="9788" y="604"/>
                  </a:lnTo>
                  <a:lnTo>
                    <a:pt x="9836" y="663"/>
                  </a:lnTo>
                  <a:lnTo>
                    <a:pt x="9880" y="725"/>
                  </a:lnTo>
                  <a:lnTo>
                    <a:pt x="9919" y="790"/>
                  </a:lnTo>
                  <a:lnTo>
                    <a:pt x="9958" y="855"/>
                  </a:lnTo>
                  <a:lnTo>
                    <a:pt x="9993" y="923"/>
                  </a:lnTo>
                  <a:lnTo>
                    <a:pt x="10025" y="992"/>
                  </a:lnTo>
                  <a:lnTo>
                    <a:pt x="10052" y="1062"/>
                  </a:lnTo>
                  <a:lnTo>
                    <a:pt x="10076" y="1135"/>
                  </a:lnTo>
                  <a:lnTo>
                    <a:pt x="10098" y="1211"/>
                  </a:lnTo>
                  <a:lnTo>
                    <a:pt x="10114" y="1287"/>
                  </a:lnTo>
                  <a:lnTo>
                    <a:pt x="10131" y="1365"/>
                  </a:lnTo>
                  <a:lnTo>
                    <a:pt x="10138" y="1443"/>
                  </a:lnTo>
                  <a:lnTo>
                    <a:pt x="10147" y="1522"/>
                  </a:lnTo>
                  <a:lnTo>
                    <a:pt x="10147" y="1602"/>
                  </a:lnTo>
                  <a:lnTo>
                    <a:pt x="10147" y="6824"/>
                  </a:lnTo>
                  <a:lnTo>
                    <a:pt x="10147" y="6906"/>
                  </a:lnTo>
                  <a:lnTo>
                    <a:pt x="10138" y="6987"/>
                  </a:lnTo>
                  <a:lnTo>
                    <a:pt x="10131" y="7065"/>
                  </a:lnTo>
                  <a:lnTo>
                    <a:pt x="10114" y="7139"/>
                  </a:lnTo>
                  <a:lnTo>
                    <a:pt x="10098" y="7218"/>
                  </a:lnTo>
                  <a:lnTo>
                    <a:pt x="10076" y="7291"/>
                  </a:lnTo>
                  <a:lnTo>
                    <a:pt x="10052" y="7364"/>
                  </a:lnTo>
                  <a:lnTo>
                    <a:pt x="10025" y="7436"/>
                  </a:lnTo>
                  <a:lnTo>
                    <a:pt x="9993" y="7505"/>
                  </a:lnTo>
                  <a:lnTo>
                    <a:pt x="9958" y="7572"/>
                  </a:lnTo>
                  <a:lnTo>
                    <a:pt x="9919" y="7639"/>
                  </a:lnTo>
                  <a:lnTo>
                    <a:pt x="9880" y="7701"/>
                  </a:lnTo>
                  <a:lnTo>
                    <a:pt x="9836" y="7763"/>
                  </a:lnTo>
                  <a:lnTo>
                    <a:pt x="9788" y="7823"/>
                  </a:lnTo>
                  <a:lnTo>
                    <a:pt x="9739" y="7879"/>
                  </a:lnTo>
                  <a:lnTo>
                    <a:pt x="9688" y="7936"/>
                  </a:lnTo>
                  <a:lnTo>
                    <a:pt x="9631" y="7987"/>
                  </a:lnTo>
                  <a:lnTo>
                    <a:pt x="9574" y="8035"/>
                  </a:lnTo>
                  <a:lnTo>
                    <a:pt x="9516" y="8081"/>
                  </a:lnTo>
                  <a:lnTo>
                    <a:pt x="9456" y="8127"/>
                  </a:lnTo>
                  <a:lnTo>
                    <a:pt x="9391" y="8168"/>
                  </a:lnTo>
                  <a:lnTo>
                    <a:pt x="9326" y="8205"/>
                  </a:lnTo>
                  <a:lnTo>
                    <a:pt x="9259" y="8240"/>
                  </a:lnTo>
                  <a:lnTo>
                    <a:pt x="9189" y="8270"/>
                  </a:lnTo>
                  <a:lnTo>
                    <a:pt x="9116" y="8300"/>
                  </a:lnTo>
                  <a:lnTo>
                    <a:pt x="9043" y="8324"/>
                  </a:lnTo>
                  <a:lnTo>
                    <a:pt x="8970" y="8346"/>
                  </a:lnTo>
                  <a:lnTo>
                    <a:pt x="8895" y="8362"/>
                  </a:lnTo>
                  <a:lnTo>
                    <a:pt x="8816" y="8376"/>
                  </a:lnTo>
                  <a:lnTo>
                    <a:pt x="8738" y="8387"/>
                  </a:lnTo>
                  <a:lnTo>
                    <a:pt x="8657" y="8392"/>
                  </a:lnTo>
                  <a:lnTo>
                    <a:pt x="8579" y="8394"/>
                  </a:lnTo>
                  <a:lnTo>
                    <a:pt x="8579" y="8410"/>
                  </a:lnTo>
                  <a:lnTo>
                    <a:pt x="8579" y="8426"/>
                  </a:lnTo>
                  <a:lnTo>
                    <a:pt x="8660" y="8424"/>
                  </a:lnTo>
                  <a:lnTo>
                    <a:pt x="8741" y="8419"/>
                  </a:lnTo>
                  <a:lnTo>
                    <a:pt x="8821" y="8408"/>
                  </a:lnTo>
                  <a:lnTo>
                    <a:pt x="8900" y="8394"/>
                  </a:lnTo>
                  <a:lnTo>
                    <a:pt x="8978" y="8376"/>
                  </a:lnTo>
                  <a:lnTo>
                    <a:pt x="9054" y="8353"/>
                  </a:lnTo>
                  <a:lnTo>
                    <a:pt x="9127" y="8330"/>
                  </a:lnTo>
                  <a:lnTo>
                    <a:pt x="9199" y="8300"/>
                  </a:lnTo>
                  <a:lnTo>
                    <a:pt x="9272" y="8267"/>
                  </a:lnTo>
                  <a:lnTo>
                    <a:pt x="9339" y="8233"/>
                  </a:lnTo>
                  <a:lnTo>
                    <a:pt x="9408" y="8194"/>
                  </a:lnTo>
                  <a:lnTo>
                    <a:pt x="9472" y="8154"/>
                  </a:lnTo>
                  <a:lnTo>
                    <a:pt x="9537" y="8108"/>
                  </a:lnTo>
                  <a:lnTo>
                    <a:pt x="9596" y="8060"/>
                  </a:lnTo>
                  <a:lnTo>
                    <a:pt x="9655" y="8011"/>
                  </a:lnTo>
                  <a:lnTo>
                    <a:pt x="9709" y="7957"/>
                  </a:lnTo>
                  <a:lnTo>
                    <a:pt x="9763" y="7901"/>
                  </a:lnTo>
                  <a:lnTo>
                    <a:pt x="9815" y="7844"/>
                  </a:lnTo>
                  <a:lnTo>
                    <a:pt x="9861" y="7782"/>
                  </a:lnTo>
                  <a:lnTo>
                    <a:pt x="9907" y="7720"/>
                  </a:lnTo>
                  <a:lnTo>
                    <a:pt x="9947" y="7655"/>
                  </a:lnTo>
                  <a:lnTo>
                    <a:pt x="9988" y="7588"/>
                  </a:lnTo>
                  <a:lnTo>
                    <a:pt x="10022" y="7521"/>
                  </a:lnTo>
                  <a:lnTo>
                    <a:pt x="10055" y="7448"/>
                  </a:lnTo>
                  <a:lnTo>
                    <a:pt x="10082" y="7374"/>
                  </a:lnTo>
                  <a:lnTo>
                    <a:pt x="10108" y="7302"/>
                  </a:lnTo>
                  <a:lnTo>
                    <a:pt x="10131" y="7226"/>
                  </a:lnTo>
                  <a:lnTo>
                    <a:pt x="10147" y="7148"/>
                  </a:lnTo>
                  <a:lnTo>
                    <a:pt x="10160" y="7070"/>
                  </a:lnTo>
                  <a:lnTo>
                    <a:pt x="10170" y="6989"/>
                  </a:lnTo>
                  <a:lnTo>
                    <a:pt x="10179" y="6908"/>
                  </a:lnTo>
                  <a:lnTo>
                    <a:pt x="10179" y="6824"/>
                  </a:lnTo>
                  <a:lnTo>
                    <a:pt x="10179" y="1602"/>
                  </a:lnTo>
                  <a:lnTo>
                    <a:pt x="10179" y="1522"/>
                  </a:lnTo>
                  <a:lnTo>
                    <a:pt x="10170" y="1440"/>
                  </a:lnTo>
                  <a:lnTo>
                    <a:pt x="10160" y="1359"/>
                  </a:lnTo>
                  <a:lnTo>
                    <a:pt x="10147" y="1281"/>
                  </a:lnTo>
                  <a:lnTo>
                    <a:pt x="10131" y="1202"/>
                  </a:lnTo>
                  <a:lnTo>
                    <a:pt x="10108" y="1128"/>
                  </a:lnTo>
                  <a:lnTo>
                    <a:pt x="10082" y="1052"/>
                  </a:lnTo>
                  <a:lnTo>
                    <a:pt x="10055" y="979"/>
                  </a:lnTo>
                  <a:lnTo>
                    <a:pt x="10022" y="909"/>
                  </a:lnTo>
                  <a:lnTo>
                    <a:pt x="9988" y="838"/>
                  </a:lnTo>
                  <a:lnTo>
                    <a:pt x="9947" y="771"/>
                  </a:lnTo>
                  <a:lnTo>
                    <a:pt x="9907" y="707"/>
                  </a:lnTo>
                  <a:lnTo>
                    <a:pt x="9861" y="645"/>
                  </a:lnTo>
                  <a:lnTo>
                    <a:pt x="9815" y="585"/>
                  </a:lnTo>
                  <a:lnTo>
                    <a:pt x="9763" y="525"/>
                  </a:lnTo>
                  <a:lnTo>
                    <a:pt x="9709" y="469"/>
                  </a:lnTo>
                  <a:lnTo>
                    <a:pt x="9655" y="417"/>
                  </a:lnTo>
                  <a:lnTo>
                    <a:pt x="9596" y="366"/>
                  </a:lnTo>
                  <a:lnTo>
                    <a:pt x="9537" y="318"/>
                  </a:lnTo>
                  <a:lnTo>
                    <a:pt x="9472" y="275"/>
                  </a:lnTo>
                  <a:lnTo>
                    <a:pt x="9408" y="232"/>
                  </a:lnTo>
                  <a:lnTo>
                    <a:pt x="9339" y="194"/>
                  </a:lnTo>
                  <a:lnTo>
                    <a:pt x="9272" y="159"/>
                  </a:lnTo>
                  <a:lnTo>
                    <a:pt x="9199" y="127"/>
                  </a:lnTo>
                  <a:lnTo>
                    <a:pt x="9127" y="97"/>
                  </a:lnTo>
                  <a:lnTo>
                    <a:pt x="9054" y="73"/>
                  </a:lnTo>
                  <a:lnTo>
                    <a:pt x="8978" y="51"/>
                  </a:lnTo>
                  <a:lnTo>
                    <a:pt x="8900" y="32"/>
                  </a:lnTo>
                  <a:lnTo>
                    <a:pt x="8821" y="19"/>
                  </a:lnTo>
                  <a:lnTo>
                    <a:pt x="8741" y="7"/>
                  </a:lnTo>
                  <a:lnTo>
                    <a:pt x="8660" y="2"/>
                  </a:lnTo>
                  <a:lnTo>
                    <a:pt x="8579" y="0"/>
                  </a:lnTo>
                  <a:lnTo>
                    <a:pt x="1600" y="0"/>
                  </a:lnTo>
                  <a:lnTo>
                    <a:pt x="1519" y="2"/>
                  </a:lnTo>
                  <a:lnTo>
                    <a:pt x="1438" y="7"/>
                  </a:lnTo>
                  <a:lnTo>
                    <a:pt x="1356" y="19"/>
                  </a:lnTo>
                  <a:lnTo>
                    <a:pt x="1278" y="32"/>
                  </a:lnTo>
                  <a:lnTo>
                    <a:pt x="1200" y="51"/>
                  </a:lnTo>
                  <a:lnTo>
                    <a:pt x="1125" y="73"/>
                  </a:lnTo>
                  <a:lnTo>
                    <a:pt x="1049" y="97"/>
                  </a:lnTo>
                  <a:lnTo>
                    <a:pt x="976" y="127"/>
                  </a:lnTo>
                  <a:lnTo>
                    <a:pt x="906" y="159"/>
                  </a:lnTo>
                  <a:lnTo>
                    <a:pt x="838" y="194"/>
                  </a:lnTo>
                  <a:lnTo>
                    <a:pt x="771" y="232"/>
                  </a:lnTo>
                  <a:lnTo>
                    <a:pt x="707" y="275"/>
                  </a:lnTo>
                  <a:lnTo>
                    <a:pt x="642" y="318"/>
                  </a:lnTo>
                  <a:lnTo>
                    <a:pt x="582" y="366"/>
                  </a:lnTo>
                  <a:lnTo>
                    <a:pt x="523" y="417"/>
                  </a:lnTo>
                  <a:lnTo>
                    <a:pt x="469" y="469"/>
                  </a:lnTo>
                  <a:lnTo>
                    <a:pt x="415" y="525"/>
                  </a:lnTo>
                  <a:lnTo>
                    <a:pt x="364" y="585"/>
                  </a:lnTo>
                  <a:lnTo>
                    <a:pt x="318" y="645"/>
                  </a:lnTo>
                  <a:lnTo>
                    <a:pt x="272" y="707"/>
                  </a:lnTo>
                  <a:lnTo>
                    <a:pt x="231" y="771"/>
                  </a:lnTo>
                  <a:lnTo>
                    <a:pt x="191" y="838"/>
                  </a:lnTo>
                  <a:lnTo>
                    <a:pt x="156" y="909"/>
                  </a:lnTo>
                  <a:lnTo>
                    <a:pt x="123" y="979"/>
                  </a:lnTo>
                  <a:lnTo>
                    <a:pt x="97" y="1052"/>
                  </a:lnTo>
                  <a:lnTo>
                    <a:pt x="69" y="1128"/>
                  </a:lnTo>
                  <a:lnTo>
                    <a:pt x="48" y="1202"/>
                  </a:lnTo>
                  <a:lnTo>
                    <a:pt x="32" y="1281"/>
                  </a:lnTo>
                  <a:lnTo>
                    <a:pt x="16" y="1359"/>
                  </a:lnTo>
                  <a:lnTo>
                    <a:pt x="7" y="1440"/>
                  </a:lnTo>
                  <a:lnTo>
                    <a:pt x="0" y="1522"/>
                  </a:lnTo>
                  <a:lnTo>
                    <a:pt x="0" y="1602"/>
                  </a:lnTo>
                  <a:lnTo>
                    <a:pt x="0" y="6824"/>
                  </a:lnTo>
                  <a:lnTo>
                    <a:pt x="0" y="6908"/>
                  </a:lnTo>
                  <a:lnTo>
                    <a:pt x="7" y="6989"/>
                  </a:lnTo>
                  <a:lnTo>
                    <a:pt x="16" y="7070"/>
                  </a:lnTo>
                  <a:lnTo>
                    <a:pt x="32" y="7148"/>
                  </a:lnTo>
                  <a:lnTo>
                    <a:pt x="48" y="7226"/>
                  </a:lnTo>
                  <a:lnTo>
                    <a:pt x="69" y="7302"/>
                  </a:lnTo>
                  <a:lnTo>
                    <a:pt x="97" y="7374"/>
                  </a:lnTo>
                  <a:lnTo>
                    <a:pt x="123" y="7448"/>
                  </a:lnTo>
                  <a:lnTo>
                    <a:pt x="156" y="7521"/>
                  </a:lnTo>
                  <a:lnTo>
                    <a:pt x="191" y="7588"/>
                  </a:lnTo>
                  <a:lnTo>
                    <a:pt x="231" y="7655"/>
                  </a:lnTo>
                  <a:lnTo>
                    <a:pt x="272" y="7720"/>
                  </a:lnTo>
                  <a:lnTo>
                    <a:pt x="318" y="7782"/>
                  </a:lnTo>
                  <a:lnTo>
                    <a:pt x="364" y="7844"/>
                  </a:lnTo>
                  <a:lnTo>
                    <a:pt x="415" y="7901"/>
                  </a:lnTo>
                  <a:lnTo>
                    <a:pt x="469" y="7957"/>
                  </a:lnTo>
                  <a:lnTo>
                    <a:pt x="523" y="8011"/>
                  </a:lnTo>
                  <a:lnTo>
                    <a:pt x="582" y="8060"/>
                  </a:lnTo>
                  <a:lnTo>
                    <a:pt x="642" y="8108"/>
                  </a:lnTo>
                  <a:lnTo>
                    <a:pt x="707" y="8154"/>
                  </a:lnTo>
                  <a:lnTo>
                    <a:pt x="771" y="8194"/>
                  </a:lnTo>
                  <a:lnTo>
                    <a:pt x="838" y="8233"/>
                  </a:lnTo>
                  <a:lnTo>
                    <a:pt x="906" y="8267"/>
                  </a:lnTo>
                  <a:lnTo>
                    <a:pt x="976" y="8300"/>
                  </a:lnTo>
                  <a:lnTo>
                    <a:pt x="1049" y="8330"/>
                  </a:lnTo>
                  <a:lnTo>
                    <a:pt x="1125" y="8353"/>
                  </a:lnTo>
                  <a:lnTo>
                    <a:pt x="1200" y="8376"/>
                  </a:lnTo>
                  <a:lnTo>
                    <a:pt x="1278" y="8394"/>
                  </a:lnTo>
                  <a:lnTo>
                    <a:pt x="1356" y="8408"/>
                  </a:lnTo>
                  <a:lnTo>
                    <a:pt x="1438" y="8419"/>
                  </a:lnTo>
                  <a:lnTo>
                    <a:pt x="1519" y="8424"/>
                  </a:lnTo>
                  <a:lnTo>
                    <a:pt x="1600" y="8426"/>
                  </a:lnTo>
                  <a:lnTo>
                    <a:pt x="8579" y="8426"/>
                  </a:lnTo>
                  <a:lnTo>
                    <a:pt x="8579" y="8410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025640" y="2351160"/>
              <a:ext cx="1670040" cy="1303200"/>
            </a:xfrm>
            <a:custGeom>
              <a:avLst/>
              <a:gdLst/>
              <a:ahLst/>
              <a:rect l="l" t="t" r="r" b="b"/>
              <a:pathLst>
                <a:path w="10323" h="8570">
                  <a:moveTo>
                    <a:pt x="8709" y="8570"/>
                  </a:moveTo>
                  <a:lnTo>
                    <a:pt x="1614" y="8570"/>
                  </a:lnTo>
                  <a:lnTo>
                    <a:pt x="1530" y="8567"/>
                  </a:lnTo>
                  <a:lnTo>
                    <a:pt x="1449" y="8562"/>
                  </a:lnTo>
                  <a:lnTo>
                    <a:pt x="1368" y="8551"/>
                  </a:lnTo>
                  <a:lnTo>
                    <a:pt x="1288" y="8537"/>
                  </a:lnTo>
                  <a:lnTo>
                    <a:pt x="1212" y="8519"/>
                  </a:lnTo>
                  <a:lnTo>
                    <a:pt x="1134" y="8497"/>
                  </a:lnTo>
                  <a:lnTo>
                    <a:pt x="1058" y="8470"/>
                  </a:lnTo>
                  <a:lnTo>
                    <a:pt x="985" y="8443"/>
                  </a:lnTo>
                  <a:lnTo>
                    <a:pt x="915" y="8410"/>
                  </a:lnTo>
                  <a:lnTo>
                    <a:pt x="844" y="8373"/>
                  </a:lnTo>
                  <a:lnTo>
                    <a:pt x="777" y="8335"/>
                  </a:lnTo>
                  <a:lnTo>
                    <a:pt x="713" y="8292"/>
                  </a:lnTo>
                  <a:lnTo>
                    <a:pt x="648" y="8246"/>
                  </a:lnTo>
                  <a:lnTo>
                    <a:pt x="588" y="8200"/>
                  </a:lnTo>
                  <a:lnTo>
                    <a:pt x="529" y="8148"/>
                  </a:lnTo>
                  <a:lnTo>
                    <a:pt x="473" y="8095"/>
                  </a:lnTo>
                  <a:lnTo>
                    <a:pt x="418" y="8038"/>
                  </a:lnTo>
                  <a:lnTo>
                    <a:pt x="370" y="7979"/>
                  </a:lnTo>
                  <a:lnTo>
                    <a:pt x="321" y="7920"/>
                  </a:lnTo>
                  <a:lnTo>
                    <a:pt x="275" y="7855"/>
                  </a:lnTo>
                  <a:lnTo>
                    <a:pt x="234" y="7791"/>
                  </a:lnTo>
                  <a:lnTo>
                    <a:pt x="195" y="7720"/>
                  </a:lnTo>
                  <a:lnTo>
                    <a:pt x="160" y="7653"/>
                  </a:lnTo>
                  <a:lnTo>
                    <a:pt x="126" y="7579"/>
                  </a:lnTo>
                  <a:lnTo>
                    <a:pt x="98" y="7507"/>
                  </a:lnTo>
                  <a:lnTo>
                    <a:pt x="73" y="7432"/>
                  </a:lnTo>
                  <a:lnTo>
                    <a:pt x="52" y="7353"/>
                  </a:lnTo>
                  <a:lnTo>
                    <a:pt x="32" y="7275"/>
                  </a:lnTo>
                  <a:lnTo>
                    <a:pt x="18" y="7197"/>
                  </a:lnTo>
                  <a:lnTo>
                    <a:pt x="8" y="7116"/>
                  </a:lnTo>
                  <a:lnTo>
                    <a:pt x="2" y="7033"/>
                  </a:lnTo>
                  <a:lnTo>
                    <a:pt x="0" y="6951"/>
                  </a:lnTo>
                  <a:lnTo>
                    <a:pt x="0" y="1619"/>
                  </a:lnTo>
                  <a:lnTo>
                    <a:pt x="2" y="1538"/>
                  </a:lnTo>
                  <a:lnTo>
                    <a:pt x="8" y="1454"/>
                  </a:lnTo>
                  <a:lnTo>
                    <a:pt x="18" y="1373"/>
                  </a:lnTo>
                  <a:lnTo>
                    <a:pt x="32" y="1295"/>
                  </a:lnTo>
                  <a:lnTo>
                    <a:pt x="52" y="1216"/>
                  </a:lnTo>
                  <a:lnTo>
                    <a:pt x="73" y="1138"/>
                  </a:lnTo>
                  <a:lnTo>
                    <a:pt x="98" y="1062"/>
                  </a:lnTo>
                  <a:lnTo>
                    <a:pt x="126" y="990"/>
                  </a:lnTo>
                  <a:lnTo>
                    <a:pt x="160" y="917"/>
                  </a:lnTo>
                  <a:lnTo>
                    <a:pt x="195" y="850"/>
                  </a:lnTo>
                  <a:lnTo>
                    <a:pt x="234" y="779"/>
                  </a:lnTo>
                  <a:lnTo>
                    <a:pt x="275" y="714"/>
                  </a:lnTo>
                  <a:lnTo>
                    <a:pt x="321" y="652"/>
                  </a:lnTo>
                  <a:lnTo>
                    <a:pt x="370" y="590"/>
                  </a:lnTo>
                  <a:lnTo>
                    <a:pt x="418" y="532"/>
                  </a:lnTo>
                  <a:lnTo>
                    <a:pt x="473" y="475"/>
                  </a:lnTo>
                  <a:lnTo>
                    <a:pt x="529" y="421"/>
                  </a:lnTo>
                  <a:lnTo>
                    <a:pt x="588" y="369"/>
                  </a:lnTo>
                  <a:lnTo>
                    <a:pt x="648" y="323"/>
                  </a:lnTo>
                  <a:lnTo>
                    <a:pt x="713" y="278"/>
                  </a:lnTo>
                  <a:lnTo>
                    <a:pt x="777" y="235"/>
                  </a:lnTo>
                  <a:lnTo>
                    <a:pt x="844" y="196"/>
                  </a:lnTo>
                  <a:lnTo>
                    <a:pt x="915" y="162"/>
                  </a:lnTo>
                  <a:lnTo>
                    <a:pt x="985" y="129"/>
                  </a:lnTo>
                  <a:lnTo>
                    <a:pt x="1058" y="99"/>
                  </a:lnTo>
                  <a:lnTo>
                    <a:pt x="1134" y="73"/>
                  </a:lnTo>
                  <a:lnTo>
                    <a:pt x="1212" y="51"/>
                  </a:lnTo>
                  <a:lnTo>
                    <a:pt x="1288" y="35"/>
                  </a:lnTo>
                  <a:lnTo>
                    <a:pt x="1368" y="19"/>
                  </a:lnTo>
                  <a:lnTo>
                    <a:pt x="1449" y="8"/>
                  </a:lnTo>
                  <a:lnTo>
                    <a:pt x="1530" y="3"/>
                  </a:lnTo>
                  <a:lnTo>
                    <a:pt x="1614" y="0"/>
                  </a:lnTo>
                  <a:lnTo>
                    <a:pt x="8709" y="0"/>
                  </a:lnTo>
                  <a:lnTo>
                    <a:pt x="8793" y="3"/>
                  </a:lnTo>
                  <a:lnTo>
                    <a:pt x="8873" y="8"/>
                  </a:lnTo>
                  <a:lnTo>
                    <a:pt x="8954" y="19"/>
                  </a:lnTo>
                  <a:lnTo>
                    <a:pt x="9036" y="35"/>
                  </a:lnTo>
                  <a:lnTo>
                    <a:pt x="9114" y="51"/>
                  </a:lnTo>
                  <a:lnTo>
                    <a:pt x="9189" y="73"/>
                  </a:lnTo>
                  <a:lnTo>
                    <a:pt x="9265" y="99"/>
                  </a:lnTo>
                  <a:lnTo>
                    <a:pt x="9338" y="129"/>
                  </a:lnTo>
                  <a:lnTo>
                    <a:pt x="9408" y="162"/>
                  </a:lnTo>
                  <a:lnTo>
                    <a:pt x="9478" y="196"/>
                  </a:lnTo>
                  <a:lnTo>
                    <a:pt x="9545" y="235"/>
                  </a:lnTo>
                  <a:lnTo>
                    <a:pt x="9610" y="278"/>
                  </a:lnTo>
                  <a:lnTo>
                    <a:pt x="9676" y="323"/>
                  </a:lnTo>
                  <a:lnTo>
                    <a:pt x="9734" y="369"/>
                  </a:lnTo>
                  <a:lnTo>
                    <a:pt x="9794" y="421"/>
                  </a:lnTo>
                  <a:lnTo>
                    <a:pt x="9851" y="475"/>
                  </a:lnTo>
                  <a:lnTo>
                    <a:pt x="9904" y="532"/>
                  </a:lnTo>
                  <a:lnTo>
                    <a:pt x="9955" y="590"/>
                  </a:lnTo>
                  <a:lnTo>
                    <a:pt x="10001" y="652"/>
                  </a:lnTo>
                  <a:lnTo>
                    <a:pt x="10047" y="714"/>
                  </a:lnTo>
                  <a:lnTo>
                    <a:pt x="10091" y="779"/>
                  </a:lnTo>
                  <a:lnTo>
                    <a:pt x="10129" y="850"/>
                  </a:lnTo>
                  <a:lnTo>
                    <a:pt x="10164" y="917"/>
                  </a:lnTo>
                  <a:lnTo>
                    <a:pt x="10196" y="990"/>
                  </a:lnTo>
                  <a:lnTo>
                    <a:pt x="10226" y="1062"/>
                  </a:lnTo>
                  <a:lnTo>
                    <a:pt x="10250" y="1138"/>
                  </a:lnTo>
                  <a:lnTo>
                    <a:pt x="10272" y="1216"/>
                  </a:lnTo>
                  <a:lnTo>
                    <a:pt x="10291" y="1295"/>
                  </a:lnTo>
                  <a:lnTo>
                    <a:pt x="10304" y="1373"/>
                  </a:lnTo>
                  <a:lnTo>
                    <a:pt x="10314" y="1454"/>
                  </a:lnTo>
                  <a:lnTo>
                    <a:pt x="10320" y="1538"/>
                  </a:lnTo>
                  <a:lnTo>
                    <a:pt x="10323" y="1619"/>
                  </a:lnTo>
                  <a:lnTo>
                    <a:pt x="10323" y="6951"/>
                  </a:lnTo>
                  <a:lnTo>
                    <a:pt x="10320" y="7033"/>
                  </a:lnTo>
                  <a:lnTo>
                    <a:pt x="10314" y="7116"/>
                  </a:lnTo>
                  <a:lnTo>
                    <a:pt x="10304" y="7197"/>
                  </a:lnTo>
                  <a:lnTo>
                    <a:pt x="10291" y="7275"/>
                  </a:lnTo>
                  <a:lnTo>
                    <a:pt x="10272" y="7353"/>
                  </a:lnTo>
                  <a:lnTo>
                    <a:pt x="10250" y="7432"/>
                  </a:lnTo>
                  <a:lnTo>
                    <a:pt x="10226" y="7507"/>
                  </a:lnTo>
                  <a:lnTo>
                    <a:pt x="10196" y="7579"/>
                  </a:lnTo>
                  <a:lnTo>
                    <a:pt x="10164" y="7653"/>
                  </a:lnTo>
                  <a:lnTo>
                    <a:pt x="10129" y="7720"/>
                  </a:lnTo>
                  <a:lnTo>
                    <a:pt x="10091" y="7791"/>
                  </a:lnTo>
                  <a:lnTo>
                    <a:pt x="10047" y="7855"/>
                  </a:lnTo>
                  <a:lnTo>
                    <a:pt x="10001" y="7920"/>
                  </a:lnTo>
                  <a:lnTo>
                    <a:pt x="9955" y="7979"/>
                  </a:lnTo>
                  <a:lnTo>
                    <a:pt x="9904" y="8038"/>
                  </a:lnTo>
                  <a:lnTo>
                    <a:pt x="9851" y="8095"/>
                  </a:lnTo>
                  <a:lnTo>
                    <a:pt x="9794" y="8148"/>
                  </a:lnTo>
                  <a:lnTo>
                    <a:pt x="9734" y="8200"/>
                  </a:lnTo>
                  <a:lnTo>
                    <a:pt x="9676" y="8246"/>
                  </a:lnTo>
                  <a:lnTo>
                    <a:pt x="9610" y="8292"/>
                  </a:lnTo>
                  <a:lnTo>
                    <a:pt x="9545" y="8335"/>
                  </a:lnTo>
                  <a:lnTo>
                    <a:pt x="9478" y="8373"/>
                  </a:lnTo>
                  <a:lnTo>
                    <a:pt x="9408" y="8410"/>
                  </a:lnTo>
                  <a:lnTo>
                    <a:pt x="9338" y="8443"/>
                  </a:lnTo>
                  <a:lnTo>
                    <a:pt x="9265" y="8470"/>
                  </a:lnTo>
                  <a:lnTo>
                    <a:pt x="9189" y="8497"/>
                  </a:lnTo>
                  <a:lnTo>
                    <a:pt x="9114" y="8519"/>
                  </a:lnTo>
                  <a:lnTo>
                    <a:pt x="9036" y="8537"/>
                  </a:lnTo>
                  <a:lnTo>
                    <a:pt x="8954" y="8551"/>
                  </a:lnTo>
                  <a:lnTo>
                    <a:pt x="8873" y="8562"/>
                  </a:lnTo>
                  <a:lnTo>
                    <a:pt x="8793" y="8567"/>
                  </a:lnTo>
                  <a:lnTo>
                    <a:pt x="8709" y="8570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054080" y="2351160"/>
              <a:ext cx="1641600" cy="1276200"/>
            </a:xfrm>
            <a:custGeom>
              <a:avLst/>
              <a:gdLst/>
              <a:ahLst/>
              <a:rect l="l" t="t" r="r" b="b"/>
              <a:pathLst>
                <a:path w="10147" h="8394">
                  <a:moveTo>
                    <a:pt x="8563" y="8394"/>
                  </a:moveTo>
                  <a:lnTo>
                    <a:pt x="1584" y="8394"/>
                  </a:lnTo>
                  <a:lnTo>
                    <a:pt x="1503" y="8392"/>
                  </a:lnTo>
                  <a:lnTo>
                    <a:pt x="1422" y="8387"/>
                  </a:lnTo>
                  <a:lnTo>
                    <a:pt x="1344" y="8376"/>
                  </a:lnTo>
                  <a:lnTo>
                    <a:pt x="1266" y="8362"/>
                  </a:lnTo>
                  <a:lnTo>
                    <a:pt x="1190" y="8346"/>
                  </a:lnTo>
                  <a:lnTo>
                    <a:pt x="1114" y="8325"/>
                  </a:lnTo>
                  <a:lnTo>
                    <a:pt x="1038" y="8297"/>
                  </a:lnTo>
                  <a:lnTo>
                    <a:pt x="969" y="8270"/>
                  </a:lnTo>
                  <a:lnTo>
                    <a:pt x="898" y="8238"/>
                  </a:lnTo>
                  <a:lnTo>
                    <a:pt x="828" y="8203"/>
                  </a:lnTo>
                  <a:lnTo>
                    <a:pt x="763" y="8166"/>
                  </a:lnTo>
                  <a:lnTo>
                    <a:pt x="698" y="8125"/>
                  </a:lnTo>
                  <a:lnTo>
                    <a:pt x="636" y="8079"/>
                  </a:lnTo>
                  <a:lnTo>
                    <a:pt x="576" y="8033"/>
                  </a:lnTo>
                  <a:lnTo>
                    <a:pt x="518" y="7982"/>
                  </a:lnTo>
                  <a:lnTo>
                    <a:pt x="463" y="7931"/>
                  </a:lnTo>
                  <a:lnTo>
                    <a:pt x="410" y="7874"/>
                  </a:lnTo>
                  <a:lnTo>
                    <a:pt x="361" y="7817"/>
                  </a:lnTo>
                  <a:lnTo>
                    <a:pt x="315" y="7758"/>
                  </a:lnTo>
                  <a:lnTo>
                    <a:pt x="270" y="7696"/>
                  </a:lnTo>
                  <a:lnTo>
                    <a:pt x="229" y="7631"/>
                  </a:lnTo>
                  <a:lnTo>
                    <a:pt x="191" y="7563"/>
                  </a:lnTo>
                  <a:lnTo>
                    <a:pt x="156" y="7496"/>
                  </a:lnTo>
                  <a:lnTo>
                    <a:pt x="123" y="7426"/>
                  </a:lnTo>
                  <a:lnTo>
                    <a:pt x="94" y="7353"/>
                  </a:lnTo>
                  <a:lnTo>
                    <a:pt x="70" y="7280"/>
                  </a:lnTo>
                  <a:lnTo>
                    <a:pt x="48" y="7205"/>
                  </a:lnTo>
                  <a:lnTo>
                    <a:pt x="32" y="7130"/>
                  </a:lnTo>
                  <a:lnTo>
                    <a:pt x="16" y="7051"/>
                  </a:lnTo>
                  <a:lnTo>
                    <a:pt x="7" y="6971"/>
                  </a:lnTo>
                  <a:lnTo>
                    <a:pt x="0" y="6890"/>
                  </a:lnTo>
                  <a:lnTo>
                    <a:pt x="0" y="6808"/>
                  </a:lnTo>
                  <a:lnTo>
                    <a:pt x="0" y="1586"/>
                  </a:lnTo>
                  <a:lnTo>
                    <a:pt x="0" y="1506"/>
                  </a:lnTo>
                  <a:lnTo>
                    <a:pt x="7" y="1424"/>
                  </a:lnTo>
                  <a:lnTo>
                    <a:pt x="16" y="1346"/>
                  </a:lnTo>
                  <a:lnTo>
                    <a:pt x="32" y="1267"/>
                  </a:lnTo>
                  <a:lnTo>
                    <a:pt x="48" y="1189"/>
                  </a:lnTo>
                  <a:lnTo>
                    <a:pt x="70" y="1117"/>
                  </a:lnTo>
                  <a:lnTo>
                    <a:pt x="94" y="1041"/>
                  </a:lnTo>
                  <a:lnTo>
                    <a:pt x="123" y="971"/>
                  </a:lnTo>
                  <a:lnTo>
                    <a:pt x="156" y="901"/>
                  </a:lnTo>
                  <a:lnTo>
                    <a:pt x="191" y="831"/>
                  </a:lnTo>
                  <a:lnTo>
                    <a:pt x="229" y="766"/>
                  </a:lnTo>
                  <a:lnTo>
                    <a:pt x="270" y="701"/>
                  </a:lnTo>
                  <a:lnTo>
                    <a:pt x="315" y="640"/>
                  </a:lnTo>
                  <a:lnTo>
                    <a:pt x="361" y="578"/>
                  </a:lnTo>
                  <a:lnTo>
                    <a:pt x="410" y="521"/>
                  </a:lnTo>
                  <a:lnTo>
                    <a:pt x="463" y="467"/>
                  </a:lnTo>
                  <a:lnTo>
                    <a:pt x="518" y="413"/>
                  </a:lnTo>
                  <a:lnTo>
                    <a:pt x="576" y="364"/>
                  </a:lnTo>
                  <a:lnTo>
                    <a:pt x="636" y="316"/>
                  </a:lnTo>
                  <a:lnTo>
                    <a:pt x="698" y="272"/>
                  </a:lnTo>
                  <a:lnTo>
                    <a:pt x="763" y="232"/>
                  </a:lnTo>
                  <a:lnTo>
                    <a:pt x="828" y="191"/>
                  </a:lnTo>
                  <a:lnTo>
                    <a:pt x="898" y="157"/>
                  </a:lnTo>
                  <a:lnTo>
                    <a:pt x="969" y="127"/>
                  </a:lnTo>
                  <a:lnTo>
                    <a:pt x="1038" y="97"/>
                  </a:lnTo>
                  <a:lnTo>
                    <a:pt x="1114" y="73"/>
                  </a:lnTo>
                  <a:lnTo>
                    <a:pt x="1190" y="51"/>
                  </a:lnTo>
                  <a:lnTo>
                    <a:pt x="1266" y="32"/>
                  </a:lnTo>
                  <a:lnTo>
                    <a:pt x="1344" y="19"/>
                  </a:lnTo>
                  <a:lnTo>
                    <a:pt x="1422" y="8"/>
                  </a:lnTo>
                  <a:lnTo>
                    <a:pt x="1503" y="3"/>
                  </a:lnTo>
                  <a:lnTo>
                    <a:pt x="1584" y="0"/>
                  </a:lnTo>
                  <a:lnTo>
                    <a:pt x="8563" y="0"/>
                  </a:lnTo>
                  <a:lnTo>
                    <a:pt x="8644" y="3"/>
                  </a:lnTo>
                  <a:lnTo>
                    <a:pt x="8725" y="8"/>
                  </a:lnTo>
                  <a:lnTo>
                    <a:pt x="8803" y="19"/>
                  </a:lnTo>
                  <a:lnTo>
                    <a:pt x="8881" y="32"/>
                  </a:lnTo>
                  <a:lnTo>
                    <a:pt x="8957" y="51"/>
                  </a:lnTo>
                  <a:lnTo>
                    <a:pt x="9033" y="73"/>
                  </a:lnTo>
                  <a:lnTo>
                    <a:pt x="9105" y="97"/>
                  </a:lnTo>
                  <a:lnTo>
                    <a:pt x="9178" y="127"/>
                  </a:lnTo>
                  <a:lnTo>
                    <a:pt x="9248" y="157"/>
                  </a:lnTo>
                  <a:lnTo>
                    <a:pt x="9316" y="191"/>
                  </a:lnTo>
                  <a:lnTo>
                    <a:pt x="9383" y="232"/>
                  </a:lnTo>
                  <a:lnTo>
                    <a:pt x="9448" y="272"/>
                  </a:lnTo>
                  <a:lnTo>
                    <a:pt x="9510" y="316"/>
                  </a:lnTo>
                  <a:lnTo>
                    <a:pt x="9569" y="364"/>
                  </a:lnTo>
                  <a:lnTo>
                    <a:pt x="9629" y="413"/>
                  </a:lnTo>
                  <a:lnTo>
                    <a:pt x="9682" y="467"/>
                  </a:lnTo>
                  <a:lnTo>
                    <a:pt x="9734" y="521"/>
                  </a:lnTo>
                  <a:lnTo>
                    <a:pt x="9785" y="578"/>
                  </a:lnTo>
                  <a:lnTo>
                    <a:pt x="9831" y="640"/>
                  </a:lnTo>
                  <a:lnTo>
                    <a:pt x="9877" y="701"/>
                  </a:lnTo>
                  <a:lnTo>
                    <a:pt x="9917" y="766"/>
                  </a:lnTo>
                  <a:lnTo>
                    <a:pt x="9956" y="831"/>
                  </a:lnTo>
                  <a:lnTo>
                    <a:pt x="9990" y="901"/>
                  </a:lnTo>
                  <a:lnTo>
                    <a:pt x="10023" y="971"/>
                  </a:lnTo>
                  <a:lnTo>
                    <a:pt x="10052" y="1041"/>
                  </a:lnTo>
                  <a:lnTo>
                    <a:pt x="10076" y="1117"/>
                  </a:lnTo>
                  <a:lnTo>
                    <a:pt x="10098" y="1189"/>
                  </a:lnTo>
                  <a:lnTo>
                    <a:pt x="10115" y="1267"/>
                  </a:lnTo>
                  <a:lnTo>
                    <a:pt x="10128" y="1346"/>
                  </a:lnTo>
                  <a:lnTo>
                    <a:pt x="10138" y="1424"/>
                  </a:lnTo>
                  <a:lnTo>
                    <a:pt x="10144" y="1506"/>
                  </a:lnTo>
                  <a:lnTo>
                    <a:pt x="10147" y="1586"/>
                  </a:lnTo>
                  <a:lnTo>
                    <a:pt x="10147" y="6808"/>
                  </a:lnTo>
                  <a:lnTo>
                    <a:pt x="10144" y="6890"/>
                  </a:lnTo>
                  <a:lnTo>
                    <a:pt x="10138" y="6971"/>
                  </a:lnTo>
                  <a:lnTo>
                    <a:pt x="10128" y="7051"/>
                  </a:lnTo>
                  <a:lnTo>
                    <a:pt x="10115" y="7130"/>
                  </a:lnTo>
                  <a:lnTo>
                    <a:pt x="10098" y="7205"/>
                  </a:lnTo>
                  <a:lnTo>
                    <a:pt x="10076" y="7280"/>
                  </a:lnTo>
                  <a:lnTo>
                    <a:pt x="10052" y="7353"/>
                  </a:lnTo>
                  <a:lnTo>
                    <a:pt x="10023" y="7426"/>
                  </a:lnTo>
                  <a:lnTo>
                    <a:pt x="9990" y="7496"/>
                  </a:lnTo>
                  <a:lnTo>
                    <a:pt x="9956" y="7563"/>
                  </a:lnTo>
                  <a:lnTo>
                    <a:pt x="9917" y="7631"/>
                  </a:lnTo>
                  <a:lnTo>
                    <a:pt x="9877" y="7696"/>
                  </a:lnTo>
                  <a:lnTo>
                    <a:pt x="9831" y="7758"/>
                  </a:lnTo>
                  <a:lnTo>
                    <a:pt x="9785" y="7817"/>
                  </a:lnTo>
                  <a:lnTo>
                    <a:pt x="9734" y="7874"/>
                  </a:lnTo>
                  <a:lnTo>
                    <a:pt x="9682" y="7931"/>
                  </a:lnTo>
                  <a:lnTo>
                    <a:pt x="9629" y="7982"/>
                  </a:lnTo>
                  <a:lnTo>
                    <a:pt x="9569" y="8033"/>
                  </a:lnTo>
                  <a:lnTo>
                    <a:pt x="9510" y="8079"/>
                  </a:lnTo>
                  <a:lnTo>
                    <a:pt x="9448" y="8125"/>
                  </a:lnTo>
                  <a:lnTo>
                    <a:pt x="9383" y="8166"/>
                  </a:lnTo>
                  <a:lnTo>
                    <a:pt x="9316" y="8203"/>
                  </a:lnTo>
                  <a:lnTo>
                    <a:pt x="9248" y="8238"/>
                  </a:lnTo>
                  <a:lnTo>
                    <a:pt x="9178" y="8270"/>
                  </a:lnTo>
                  <a:lnTo>
                    <a:pt x="9105" y="8297"/>
                  </a:lnTo>
                  <a:lnTo>
                    <a:pt x="9033" y="8325"/>
                  </a:lnTo>
                  <a:lnTo>
                    <a:pt x="8957" y="8346"/>
                  </a:lnTo>
                  <a:lnTo>
                    <a:pt x="8881" y="8362"/>
                  </a:lnTo>
                  <a:lnTo>
                    <a:pt x="8803" y="8376"/>
                  </a:lnTo>
                  <a:lnTo>
                    <a:pt x="8725" y="8387"/>
                  </a:lnTo>
                  <a:lnTo>
                    <a:pt x="8644" y="8392"/>
                  </a:lnTo>
                  <a:lnTo>
                    <a:pt x="8563" y="8394"/>
                  </a:lnTo>
                  <a:close/>
                </a:path>
              </a:pathLst>
            </a:custGeom>
            <a:solidFill>
              <a:srgbClr val="ebb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052640" y="2351160"/>
              <a:ext cx="1643040" cy="1277640"/>
            </a:xfrm>
            <a:custGeom>
              <a:avLst/>
              <a:gdLst/>
              <a:ahLst/>
              <a:rect l="l" t="t" r="r" b="b"/>
              <a:pathLst>
                <a:path w="10163" h="8412">
                  <a:moveTo>
                    <a:pt x="8572" y="8403"/>
                  </a:moveTo>
                  <a:lnTo>
                    <a:pt x="8572" y="8396"/>
                  </a:lnTo>
                  <a:lnTo>
                    <a:pt x="1593" y="8396"/>
                  </a:lnTo>
                  <a:lnTo>
                    <a:pt x="1512" y="8392"/>
                  </a:lnTo>
                  <a:lnTo>
                    <a:pt x="1434" y="8387"/>
                  </a:lnTo>
                  <a:lnTo>
                    <a:pt x="1353" y="8376"/>
                  </a:lnTo>
                  <a:lnTo>
                    <a:pt x="1277" y="8362"/>
                  </a:lnTo>
                  <a:lnTo>
                    <a:pt x="1199" y="8346"/>
                  </a:lnTo>
                  <a:lnTo>
                    <a:pt x="1126" y="8325"/>
                  </a:lnTo>
                  <a:lnTo>
                    <a:pt x="1050" y="8301"/>
                  </a:lnTo>
                  <a:lnTo>
                    <a:pt x="980" y="8272"/>
                  </a:lnTo>
                  <a:lnTo>
                    <a:pt x="910" y="8239"/>
                  </a:lnTo>
                  <a:lnTo>
                    <a:pt x="842" y="8203"/>
                  </a:lnTo>
                  <a:lnTo>
                    <a:pt x="775" y="8166"/>
                  </a:lnTo>
                  <a:lnTo>
                    <a:pt x="713" y="8125"/>
                  </a:lnTo>
                  <a:lnTo>
                    <a:pt x="651" y="8083"/>
                  </a:lnTo>
                  <a:lnTo>
                    <a:pt x="591" y="8034"/>
                  </a:lnTo>
                  <a:lnTo>
                    <a:pt x="532" y="7986"/>
                  </a:lnTo>
                  <a:lnTo>
                    <a:pt x="478" y="7934"/>
                  </a:lnTo>
                  <a:lnTo>
                    <a:pt x="426" y="7878"/>
                  </a:lnTo>
                  <a:lnTo>
                    <a:pt x="375" y="7821"/>
                  </a:lnTo>
                  <a:lnTo>
                    <a:pt x="329" y="7761"/>
                  </a:lnTo>
                  <a:lnTo>
                    <a:pt x="286" y="7699"/>
                  </a:lnTo>
                  <a:lnTo>
                    <a:pt x="244" y="7634"/>
                  </a:lnTo>
                  <a:lnTo>
                    <a:pt x="205" y="7570"/>
                  </a:lnTo>
                  <a:lnTo>
                    <a:pt x="170" y="7503"/>
                  </a:lnTo>
                  <a:lnTo>
                    <a:pt x="141" y="7432"/>
                  </a:lnTo>
                  <a:lnTo>
                    <a:pt x="111" y="7360"/>
                  </a:lnTo>
                  <a:lnTo>
                    <a:pt x="87" y="7287"/>
                  </a:lnTo>
                  <a:lnTo>
                    <a:pt x="65" y="7211"/>
                  </a:lnTo>
                  <a:lnTo>
                    <a:pt x="49" y="7136"/>
                  </a:lnTo>
                  <a:lnTo>
                    <a:pt x="33" y="7058"/>
                  </a:lnTo>
                  <a:lnTo>
                    <a:pt x="25" y="6980"/>
                  </a:lnTo>
                  <a:lnTo>
                    <a:pt x="16" y="6899"/>
                  </a:lnTo>
                  <a:lnTo>
                    <a:pt x="16" y="6817"/>
                  </a:lnTo>
                  <a:lnTo>
                    <a:pt x="16" y="1595"/>
                  </a:lnTo>
                  <a:lnTo>
                    <a:pt x="16" y="1515"/>
                  </a:lnTo>
                  <a:lnTo>
                    <a:pt x="25" y="1433"/>
                  </a:lnTo>
                  <a:lnTo>
                    <a:pt x="33" y="1355"/>
                  </a:lnTo>
                  <a:lnTo>
                    <a:pt x="49" y="1276"/>
                  </a:lnTo>
                  <a:lnTo>
                    <a:pt x="65" y="1202"/>
                  </a:lnTo>
                  <a:lnTo>
                    <a:pt x="87" y="1126"/>
                  </a:lnTo>
                  <a:lnTo>
                    <a:pt x="111" y="1053"/>
                  </a:lnTo>
                  <a:lnTo>
                    <a:pt x="141" y="983"/>
                  </a:lnTo>
                  <a:lnTo>
                    <a:pt x="170" y="912"/>
                  </a:lnTo>
                  <a:lnTo>
                    <a:pt x="205" y="845"/>
                  </a:lnTo>
                  <a:lnTo>
                    <a:pt x="244" y="778"/>
                  </a:lnTo>
                  <a:lnTo>
                    <a:pt x="286" y="713"/>
                  </a:lnTo>
                  <a:lnTo>
                    <a:pt x="329" y="651"/>
                  </a:lnTo>
                  <a:lnTo>
                    <a:pt x="375" y="592"/>
                  </a:lnTo>
                  <a:lnTo>
                    <a:pt x="426" y="535"/>
                  </a:lnTo>
                  <a:lnTo>
                    <a:pt x="478" y="481"/>
                  </a:lnTo>
                  <a:lnTo>
                    <a:pt x="532" y="428"/>
                  </a:lnTo>
                  <a:lnTo>
                    <a:pt x="591" y="378"/>
                  </a:lnTo>
                  <a:lnTo>
                    <a:pt x="651" y="332"/>
                  </a:lnTo>
                  <a:lnTo>
                    <a:pt x="713" y="287"/>
                  </a:lnTo>
                  <a:lnTo>
                    <a:pt x="775" y="246"/>
                  </a:lnTo>
                  <a:lnTo>
                    <a:pt x="842" y="209"/>
                  </a:lnTo>
                  <a:lnTo>
                    <a:pt x="910" y="173"/>
                  </a:lnTo>
                  <a:lnTo>
                    <a:pt x="980" y="141"/>
                  </a:lnTo>
                  <a:lnTo>
                    <a:pt x="1050" y="115"/>
                  </a:lnTo>
                  <a:lnTo>
                    <a:pt x="1126" y="90"/>
                  </a:lnTo>
                  <a:lnTo>
                    <a:pt x="1199" y="69"/>
                  </a:lnTo>
                  <a:lnTo>
                    <a:pt x="1277" y="50"/>
                  </a:lnTo>
                  <a:lnTo>
                    <a:pt x="1353" y="36"/>
                  </a:lnTo>
                  <a:lnTo>
                    <a:pt x="1434" y="25"/>
                  </a:lnTo>
                  <a:lnTo>
                    <a:pt x="1512" y="20"/>
                  </a:lnTo>
                  <a:lnTo>
                    <a:pt x="1593" y="17"/>
                  </a:lnTo>
                  <a:lnTo>
                    <a:pt x="8572" y="17"/>
                  </a:lnTo>
                  <a:lnTo>
                    <a:pt x="8653" y="20"/>
                  </a:lnTo>
                  <a:lnTo>
                    <a:pt x="8731" y="25"/>
                  </a:lnTo>
                  <a:lnTo>
                    <a:pt x="8809" y="36"/>
                  </a:lnTo>
                  <a:lnTo>
                    <a:pt x="8888" y="50"/>
                  </a:lnTo>
                  <a:lnTo>
                    <a:pt x="8966" y="69"/>
                  </a:lnTo>
                  <a:lnTo>
                    <a:pt x="9038" y="90"/>
                  </a:lnTo>
                  <a:lnTo>
                    <a:pt x="9111" y="115"/>
                  </a:lnTo>
                  <a:lnTo>
                    <a:pt x="9184" y="141"/>
                  </a:lnTo>
                  <a:lnTo>
                    <a:pt x="9254" y="173"/>
                  </a:lnTo>
                  <a:lnTo>
                    <a:pt x="9322" y="209"/>
                  </a:lnTo>
                  <a:lnTo>
                    <a:pt x="9389" y="246"/>
                  </a:lnTo>
                  <a:lnTo>
                    <a:pt x="9452" y="287"/>
                  </a:lnTo>
                  <a:lnTo>
                    <a:pt x="9514" y="332"/>
                  </a:lnTo>
                  <a:lnTo>
                    <a:pt x="9573" y="378"/>
                  </a:lnTo>
                  <a:lnTo>
                    <a:pt x="9632" y="428"/>
                  </a:lnTo>
                  <a:lnTo>
                    <a:pt x="9686" y="481"/>
                  </a:lnTo>
                  <a:lnTo>
                    <a:pt x="9737" y="535"/>
                  </a:lnTo>
                  <a:lnTo>
                    <a:pt x="9788" y="592"/>
                  </a:lnTo>
                  <a:lnTo>
                    <a:pt x="9834" y="651"/>
                  </a:lnTo>
                  <a:lnTo>
                    <a:pt x="9878" y="713"/>
                  </a:lnTo>
                  <a:lnTo>
                    <a:pt x="9921" y="778"/>
                  </a:lnTo>
                  <a:lnTo>
                    <a:pt x="9958" y="845"/>
                  </a:lnTo>
                  <a:lnTo>
                    <a:pt x="9994" y="912"/>
                  </a:lnTo>
                  <a:lnTo>
                    <a:pt x="10023" y="983"/>
                  </a:lnTo>
                  <a:lnTo>
                    <a:pt x="10053" y="1053"/>
                  </a:lnTo>
                  <a:lnTo>
                    <a:pt x="10078" y="1126"/>
                  </a:lnTo>
                  <a:lnTo>
                    <a:pt x="10099" y="1202"/>
                  </a:lnTo>
                  <a:lnTo>
                    <a:pt x="10115" y="1276"/>
                  </a:lnTo>
                  <a:lnTo>
                    <a:pt x="10131" y="1355"/>
                  </a:lnTo>
                  <a:lnTo>
                    <a:pt x="10140" y="1433"/>
                  </a:lnTo>
                  <a:lnTo>
                    <a:pt x="10147" y="1515"/>
                  </a:lnTo>
                  <a:lnTo>
                    <a:pt x="10147" y="1595"/>
                  </a:lnTo>
                  <a:lnTo>
                    <a:pt x="10147" y="6817"/>
                  </a:lnTo>
                  <a:lnTo>
                    <a:pt x="10147" y="6899"/>
                  </a:lnTo>
                  <a:lnTo>
                    <a:pt x="10140" y="6980"/>
                  </a:lnTo>
                  <a:lnTo>
                    <a:pt x="10131" y="7058"/>
                  </a:lnTo>
                  <a:lnTo>
                    <a:pt x="10115" y="7136"/>
                  </a:lnTo>
                  <a:lnTo>
                    <a:pt x="10099" y="7211"/>
                  </a:lnTo>
                  <a:lnTo>
                    <a:pt x="10078" y="7287"/>
                  </a:lnTo>
                  <a:lnTo>
                    <a:pt x="10053" y="7360"/>
                  </a:lnTo>
                  <a:lnTo>
                    <a:pt x="10023" y="7432"/>
                  </a:lnTo>
                  <a:lnTo>
                    <a:pt x="9994" y="7503"/>
                  </a:lnTo>
                  <a:lnTo>
                    <a:pt x="9958" y="7570"/>
                  </a:lnTo>
                  <a:lnTo>
                    <a:pt x="9921" y="7634"/>
                  </a:lnTo>
                  <a:lnTo>
                    <a:pt x="9878" y="7699"/>
                  </a:lnTo>
                  <a:lnTo>
                    <a:pt x="9834" y="7761"/>
                  </a:lnTo>
                  <a:lnTo>
                    <a:pt x="9788" y="7821"/>
                  </a:lnTo>
                  <a:lnTo>
                    <a:pt x="9737" y="7878"/>
                  </a:lnTo>
                  <a:lnTo>
                    <a:pt x="9686" y="7934"/>
                  </a:lnTo>
                  <a:lnTo>
                    <a:pt x="9632" y="7986"/>
                  </a:lnTo>
                  <a:lnTo>
                    <a:pt x="9573" y="8034"/>
                  </a:lnTo>
                  <a:lnTo>
                    <a:pt x="9514" y="8083"/>
                  </a:lnTo>
                  <a:lnTo>
                    <a:pt x="9452" y="8125"/>
                  </a:lnTo>
                  <a:lnTo>
                    <a:pt x="9389" y="8166"/>
                  </a:lnTo>
                  <a:lnTo>
                    <a:pt x="9322" y="8203"/>
                  </a:lnTo>
                  <a:lnTo>
                    <a:pt x="9254" y="8239"/>
                  </a:lnTo>
                  <a:lnTo>
                    <a:pt x="9184" y="8272"/>
                  </a:lnTo>
                  <a:lnTo>
                    <a:pt x="9111" y="8301"/>
                  </a:lnTo>
                  <a:lnTo>
                    <a:pt x="9038" y="8325"/>
                  </a:lnTo>
                  <a:lnTo>
                    <a:pt x="8966" y="8346"/>
                  </a:lnTo>
                  <a:lnTo>
                    <a:pt x="8888" y="8362"/>
                  </a:lnTo>
                  <a:lnTo>
                    <a:pt x="8809" y="8376"/>
                  </a:lnTo>
                  <a:lnTo>
                    <a:pt x="8731" y="8387"/>
                  </a:lnTo>
                  <a:lnTo>
                    <a:pt x="8653" y="8392"/>
                  </a:lnTo>
                  <a:lnTo>
                    <a:pt x="8572" y="8396"/>
                  </a:lnTo>
                  <a:lnTo>
                    <a:pt x="8572" y="8403"/>
                  </a:lnTo>
                  <a:lnTo>
                    <a:pt x="8572" y="8412"/>
                  </a:lnTo>
                  <a:lnTo>
                    <a:pt x="8653" y="8408"/>
                  </a:lnTo>
                  <a:lnTo>
                    <a:pt x="8734" y="8403"/>
                  </a:lnTo>
                  <a:lnTo>
                    <a:pt x="8812" y="8392"/>
                  </a:lnTo>
                  <a:lnTo>
                    <a:pt x="8890" y="8380"/>
                  </a:lnTo>
                  <a:lnTo>
                    <a:pt x="8968" y="8360"/>
                  </a:lnTo>
                  <a:lnTo>
                    <a:pt x="9044" y="8339"/>
                  </a:lnTo>
                  <a:lnTo>
                    <a:pt x="9116" y="8314"/>
                  </a:lnTo>
                  <a:lnTo>
                    <a:pt x="9189" y="8288"/>
                  </a:lnTo>
                  <a:lnTo>
                    <a:pt x="9260" y="8255"/>
                  </a:lnTo>
                  <a:lnTo>
                    <a:pt x="9330" y="8220"/>
                  </a:lnTo>
                  <a:lnTo>
                    <a:pt x="9397" y="8180"/>
                  </a:lnTo>
                  <a:lnTo>
                    <a:pt x="9463" y="8139"/>
                  </a:lnTo>
                  <a:lnTo>
                    <a:pt x="9525" y="8096"/>
                  </a:lnTo>
                  <a:lnTo>
                    <a:pt x="9583" y="8047"/>
                  </a:lnTo>
                  <a:lnTo>
                    <a:pt x="9643" y="7996"/>
                  </a:lnTo>
                  <a:lnTo>
                    <a:pt x="9697" y="7945"/>
                  </a:lnTo>
                  <a:lnTo>
                    <a:pt x="9751" y="7888"/>
                  </a:lnTo>
                  <a:lnTo>
                    <a:pt x="9799" y="7832"/>
                  </a:lnTo>
                  <a:lnTo>
                    <a:pt x="9848" y="7772"/>
                  </a:lnTo>
                  <a:lnTo>
                    <a:pt x="9891" y="7708"/>
                  </a:lnTo>
                  <a:lnTo>
                    <a:pt x="9935" y="7643"/>
                  </a:lnTo>
                  <a:lnTo>
                    <a:pt x="9972" y="7578"/>
                  </a:lnTo>
                  <a:lnTo>
                    <a:pt x="10007" y="7508"/>
                  </a:lnTo>
                  <a:lnTo>
                    <a:pt x="10040" y="7438"/>
                  </a:lnTo>
                  <a:lnTo>
                    <a:pt x="10066" y="7365"/>
                  </a:lnTo>
                  <a:lnTo>
                    <a:pt x="10094" y="7293"/>
                  </a:lnTo>
                  <a:lnTo>
                    <a:pt x="10115" y="7217"/>
                  </a:lnTo>
                  <a:lnTo>
                    <a:pt x="10131" y="7139"/>
                  </a:lnTo>
                  <a:lnTo>
                    <a:pt x="10145" y="7060"/>
                  </a:lnTo>
                  <a:lnTo>
                    <a:pt x="10156" y="6982"/>
                  </a:lnTo>
                  <a:lnTo>
                    <a:pt x="10163" y="6901"/>
                  </a:lnTo>
                  <a:lnTo>
                    <a:pt x="10163" y="6817"/>
                  </a:lnTo>
                  <a:lnTo>
                    <a:pt x="10163" y="1595"/>
                  </a:lnTo>
                  <a:lnTo>
                    <a:pt x="10163" y="1515"/>
                  </a:lnTo>
                  <a:lnTo>
                    <a:pt x="10156" y="1433"/>
                  </a:lnTo>
                  <a:lnTo>
                    <a:pt x="10145" y="1352"/>
                  </a:lnTo>
                  <a:lnTo>
                    <a:pt x="10131" y="1274"/>
                  </a:lnTo>
                  <a:lnTo>
                    <a:pt x="10115" y="1198"/>
                  </a:lnTo>
                  <a:lnTo>
                    <a:pt x="10094" y="1123"/>
                  </a:lnTo>
                  <a:lnTo>
                    <a:pt x="10066" y="1048"/>
                  </a:lnTo>
                  <a:lnTo>
                    <a:pt x="10040" y="974"/>
                  </a:lnTo>
                  <a:lnTo>
                    <a:pt x="10007" y="905"/>
                  </a:lnTo>
                  <a:lnTo>
                    <a:pt x="9972" y="838"/>
                  </a:lnTo>
                  <a:lnTo>
                    <a:pt x="9935" y="769"/>
                  </a:lnTo>
                  <a:lnTo>
                    <a:pt x="9891" y="705"/>
                  </a:lnTo>
                  <a:lnTo>
                    <a:pt x="9848" y="643"/>
                  </a:lnTo>
                  <a:lnTo>
                    <a:pt x="9799" y="583"/>
                  </a:lnTo>
                  <a:lnTo>
                    <a:pt x="9751" y="524"/>
                  </a:lnTo>
                  <a:lnTo>
                    <a:pt x="9697" y="470"/>
                  </a:lnTo>
                  <a:lnTo>
                    <a:pt x="9643" y="416"/>
                  </a:lnTo>
                  <a:lnTo>
                    <a:pt x="9583" y="365"/>
                  </a:lnTo>
                  <a:lnTo>
                    <a:pt x="9525" y="320"/>
                  </a:lnTo>
                  <a:lnTo>
                    <a:pt x="9463" y="274"/>
                  </a:lnTo>
                  <a:lnTo>
                    <a:pt x="9397" y="233"/>
                  </a:lnTo>
                  <a:lnTo>
                    <a:pt x="9330" y="195"/>
                  </a:lnTo>
                  <a:lnTo>
                    <a:pt x="9260" y="159"/>
                  </a:lnTo>
                  <a:lnTo>
                    <a:pt x="9189" y="127"/>
                  </a:lnTo>
                  <a:lnTo>
                    <a:pt x="9116" y="98"/>
                  </a:lnTo>
                  <a:lnTo>
                    <a:pt x="9044" y="74"/>
                  </a:lnTo>
                  <a:lnTo>
                    <a:pt x="8968" y="52"/>
                  </a:lnTo>
                  <a:lnTo>
                    <a:pt x="8890" y="33"/>
                  </a:lnTo>
                  <a:lnTo>
                    <a:pt x="8812" y="20"/>
                  </a:lnTo>
                  <a:lnTo>
                    <a:pt x="8734" y="9"/>
                  </a:lnTo>
                  <a:lnTo>
                    <a:pt x="8653" y="4"/>
                  </a:lnTo>
                  <a:lnTo>
                    <a:pt x="8572" y="0"/>
                  </a:lnTo>
                  <a:lnTo>
                    <a:pt x="1593" y="0"/>
                  </a:lnTo>
                  <a:lnTo>
                    <a:pt x="1512" y="4"/>
                  </a:lnTo>
                  <a:lnTo>
                    <a:pt x="1431" y="9"/>
                  </a:lnTo>
                  <a:lnTo>
                    <a:pt x="1349" y="20"/>
                  </a:lnTo>
                  <a:lnTo>
                    <a:pt x="1271" y="33"/>
                  </a:lnTo>
                  <a:lnTo>
                    <a:pt x="1196" y="52"/>
                  </a:lnTo>
                  <a:lnTo>
                    <a:pt x="1121" y="74"/>
                  </a:lnTo>
                  <a:lnTo>
                    <a:pt x="1045" y="98"/>
                  </a:lnTo>
                  <a:lnTo>
                    <a:pt x="974" y="127"/>
                  </a:lnTo>
                  <a:lnTo>
                    <a:pt x="902" y="159"/>
                  </a:lnTo>
                  <a:lnTo>
                    <a:pt x="834" y="195"/>
                  </a:lnTo>
                  <a:lnTo>
                    <a:pt x="767" y="233"/>
                  </a:lnTo>
                  <a:lnTo>
                    <a:pt x="702" y="274"/>
                  </a:lnTo>
                  <a:lnTo>
                    <a:pt x="640" y="320"/>
                  </a:lnTo>
                  <a:lnTo>
                    <a:pt x="580" y="365"/>
                  </a:lnTo>
                  <a:lnTo>
                    <a:pt x="521" y="416"/>
                  </a:lnTo>
                  <a:lnTo>
                    <a:pt x="467" y="470"/>
                  </a:lnTo>
                  <a:lnTo>
                    <a:pt x="413" y="524"/>
                  </a:lnTo>
                  <a:lnTo>
                    <a:pt x="364" y="583"/>
                  </a:lnTo>
                  <a:lnTo>
                    <a:pt x="316" y="643"/>
                  </a:lnTo>
                  <a:lnTo>
                    <a:pt x="272" y="705"/>
                  </a:lnTo>
                  <a:lnTo>
                    <a:pt x="230" y="769"/>
                  </a:lnTo>
                  <a:lnTo>
                    <a:pt x="192" y="838"/>
                  </a:lnTo>
                  <a:lnTo>
                    <a:pt x="157" y="905"/>
                  </a:lnTo>
                  <a:lnTo>
                    <a:pt x="125" y="974"/>
                  </a:lnTo>
                  <a:lnTo>
                    <a:pt x="95" y="1048"/>
                  </a:lnTo>
                  <a:lnTo>
                    <a:pt x="71" y="1123"/>
                  </a:lnTo>
                  <a:lnTo>
                    <a:pt x="49" y="1198"/>
                  </a:lnTo>
                  <a:lnTo>
                    <a:pt x="33" y="1274"/>
                  </a:lnTo>
                  <a:lnTo>
                    <a:pt x="16" y="1352"/>
                  </a:lnTo>
                  <a:lnTo>
                    <a:pt x="9" y="1433"/>
                  </a:lnTo>
                  <a:lnTo>
                    <a:pt x="0" y="1515"/>
                  </a:lnTo>
                  <a:lnTo>
                    <a:pt x="0" y="1595"/>
                  </a:lnTo>
                  <a:lnTo>
                    <a:pt x="0" y="6817"/>
                  </a:lnTo>
                  <a:lnTo>
                    <a:pt x="0" y="6901"/>
                  </a:lnTo>
                  <a:lnTo>
                    <a:pt x="9" y="6982"/>
                  </a:lnTo>
                  <a:lnTo>
                    <a:pt x="16" y="7060"/>
                  </a:lnTo>
                  <a:lnTo>
                    <a:pt x="33" y="7139"/>
                  </a:lnTo>
                  <a:lnTo>
                    <a:pt x="49" y="7217"/>
                  </a:lnTo>
                  <a:lnTo>
                    <a:pt x="71" y="7293"/>
                  </a:lnTo>
                  <a:lnTo>
                    <a:pt x="95" y="7365"/>
                  </a:lnTo>
                  <a:lnTo>
                    <a:pt x="125" y="7438"/>
                  </a:lnTo>
                  <a:lnTo>
                    <a:pt x="157" y="7508"/>
                  </a:lnTo>
                  <a:lnTo>
                    <a:pt x="192" y="7578"/>
                  </a:lnTo>
                  <a:lnTo>
                    <a:pt x="230" y="7643"/>
                  </a:lnTo>
                  <a:lnTo>
                    <a:pt x="272" y="7708"/>
                  </a:lnTo>
                  <a:lnTo>
                    <a:pt x="316" y="7772"/>
                  </a:lnTo>
                  <a:lnTo>
                    <a:pt x="364" y="7832"/>
                  </a:lnTo>
                  <a:lnTo>
                    <a:pt x="413" y="7888"/>
                  </a:lnTo>
                  <a:lnTo>
                    <a:pt x="467" y="7945"/>
                  </a:lnTo>
                  <a:lnTo>
                    <a:pt x="521" y="7996"/>
                  </a:lnTo>
                  <a:lnTo>
                    <a:pt x="580" y="8047"/>
                  </a:lnTo>
                  <a:lnTo>
                    <a:pt x="640" y="8096"/>
                  </a:lnTo>
                  <a:lnTo>
                    <a:pt x="702" y="8139"/>
                  </a:lnTo>
                  <a:lnTo>
                    <a:pt x="767" y="8180"/>
                  </a:lnTo>
                  <a:lnTo>
                    <a:pt x="834" y="8220"/>
                  </a:lnTo>
                  <a:lnTo>
                    <a:pt x="902" y="8255"/>
                  </a:lnTo>
                  <a:lnTo>
                    <a:pt x="974" y="8288"/>
                  </a:lnTo>
                  <a:lnTo>
                    <a:pt x="1045" y="8314"/>
                  </a:lnTo>
                  <a:lnTo>
                    <a:pt x="1121" y="8339"/>
                  </a:lnTo>
                  <a:lnTo>
                    <a:pt x="1196" y="8360"/>
                  </a:lnTo>
                  <a:lnTo>
                    <a:pt x="1271" y="8380"/>
                  </a:lnTo>
                  <a:lnTo>
                    <a:pt x="1349" y="8392"/>
                  </a:lnTo>
                  <a:lnTo>
                    <a:pt x="1431" y="8403"/>
                  </a:lnTo>
                  <a:lnTo>
                    <a:pt x="1512" y="8408"/>
                  </a:lnTo>
                  <a:lnTo>
                    <a:pt x="1593" y="8412"/>
                  </a:lnTo>
                  <a:lnTo>
                    <a:pt x="8572" y="8412"/>
                  </a:lnTo>
                  <a:lnTo>
                    <a:pt x="8572" y="8403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81080" y="2376360"/>
              <a:ext cx="1587600" cy="1228680"/>
            </a:xfrm>
            <a:custGeom>
              <a:avLst/>
              <a:gdLst/>
              <a:ahLst/>
              <a:rect l="l" t="t" r="r" b="b"/>
              <a:pathLst>
                <a:path w="9818" h="8066">
                  <a:moveTo>
                    <a:pt x="8399" y="8066"/>
                  </a:moveTo>
                  <a:lnTo>
                    <a:pt x="1420" y="8066"/>
                  </a:lnTo>
                  <a:lnTo>
                    <a:pt x="1346" y="8063"/>
                  </a:lnTo>
                  <a:lnTo>
                    <a:pt x="1277" y="8058"/>
                  </a:lnTo>
                  <a:lnTo>
                    <a:pt x="1204" y="8050"/>
                  </a:lnTo>
                  <a:lnTo>
                    <a:pt x="1134" y="8036"/>
                  </a:lnTo>
                  <a:lnTo>
                    <a:pt x="1066" y="8020"/>
                  </a:lnTo>
                  <a:lnTo>
                    <a:pt x="999" y="8002"/>
                  </a:lnTo>
                  <a:lnTo>
                    <a:pt x="931" y="7979"/>
                  </a:lnTo>
                  <a:lnTo>
                    <a:pt x="869" y="7956"/>
                  </a:lnTo>
                  <a:lnTo>
                    <a:pt x="805" y="7926"/>
                  </a:lnTo>
                  <a:lnTo>
                    <a:pt x="745" y="7894"/>
                  </a:lnTo>
                  <a:lnTo>
                    <a:pt x="686" y="7861"/>
                  </a:lnTo>
                  <a:lnTo>
                    <a:pt x="626" y="7823"/>
                  </a:lnTo>
                  <a:lnTo>
                    <a:pt x="570" y="7783"/>
                  </a:lnTo>
                  <a:lnTo>
                    <a:pt x="518" y="7742"/>
                  </a:lnTo>
                  <a:lnTo>
                    <a:pt x="464" y="7696"/>
                  </a:lnTo>
                  <a:lnTo>
                    <a:pt x="416" y="7650"/>
                  </a:lnTo>
                  <a:lnTo>
                    <a:pt x="370" y="7599"/>
                  </a:lnTo>
                  <a:lnTo>
                    <a:pt x="324" y="7548"/>
                  </a:lnTo>
                  <a:lnTo>
                    <a:pt x="283" y="7494"/>
                  </a:lnTo>
                  <a:lnTo>
                    <a:pt x="243" y="7440"/>
                  </a:lnTo>
                  <a:lnTo>
                    <a:pt x="205" y="7381"/>
                  </a:lnTo>
                  <a:lnTo>
                    <a:pt x="170" y="7321"/>
                  </a:lnTo>
                  <a:lnTo>
                    <a:pt x="140" y="7259"/>
                  </a:lnTo>
                  <a:lnTo>
                    <a:pt x="111" y="7197"/>
                  </a:lnTo>
                  <a:lnTo>
                    <a:pt x="87" y="7132"/>
                  </a:lnTo>
                  <a:lnTo>
                    <a:pt x="62" y="7068"/>
                  </a:lnTo>
                  <a:lnTo>
                    <a:pt x="43" y="7000"/>
                  </a:lnTo>
                  <a:lnTo>
                    <a:pt x="27" y="6931"/>
                  </a:lnTo>
                  <a:lnTo>
                    <a:pt x="16" y="6860"/>
                  </a:lnTo>
                  <a:lnTo>
                    <a:pt x="5" y="6790"/>
                  </a:lnTo>
                  <a:lnTo>
                    <a:pt x="0" y="6717"/>
                  </a:lnTo>
                  <a:lnTo>
                    <a:pt x="0" y="6644"/>
                  </a:lnTo>
                  <a:lnTo>
                    <a:pt x="0" y="1422"/>
                  </a:lnTo>
                  <a:lnTo>
                    <a:pt x="0" y="1349"/>
                  </a:lnTo>
                  <a:lnTo>
                    <a:pt x="5" y="1276"/>
                  </a:lnTo>
                  <a:lnTo>
                    <a:pt x="16" y="1206"/>
                  </a:lnTo>
                  <a:lnTo>
                    <a:pt x="27" y="1137"/>
                  </a:lnTo>
                  <a:lnTo>
                    <a:pt x="43" y="1068"/>
                  </a:lnTo>
                  <a:lnTo>
                    <a:pt x="62" y="1001"/>
                  </a:lnTo>
                  <a:lnTo>
                    <a:pt x="87" y="934"/>
                  </a:lnTo>
                  <a:lnTo>
                    <a:pt x="111" y="869"/>
                  </a:lnTo>
                  <a:lnTo>
                    <a:pt x="140" y="807"/>
                  </a:lnTo>
                  <a:lnTo>
                    <a:pt x="170" y="745"/>
                  </a:lnTo>
                  <a:lnTo>
                    <a:pt x="205" y="686"/>
                  </a:lnTo>
                  <a:lnTo>
                    <a:pt x="243" y="629"/>
                  </a:lnTo>
                  <a:lnTo>
                    <a:pt x="283" y="573"/>
                  </a:lnTo>
                  <a:lnTo>
                    <a:pt x="324" y="518"/>
                  </a:lnTo>
                  <a:lnTo>
                    <a:pt x="370" y="467"/>
                  </a:lnTo>
                  <a:lnTo>
                    <a:pt x="416" y="419"/>
                  </a:lnTo>
                  <a:lnTo>
                    <a:pt x="464" y="370"/>
                  </a:lnTo>
                  <a:lnTo>
                    <a:pt x="518" y="327"/>
                  </a:lnTo>
                  <a:lnTo>
                    <a:pt x="570" y="283"/>
                  </a:lnTo>
                  <a:lnTo>
                    <a:pt x="626" y="243"/>
                  </a:lnTo>
                  <a:lnTo>
                    <a:pt x="686" y="209"/>
                  </a:lnTo>
                  <a:lnTo>
                    <a:pt x="745" y="173"/>
                  </a:lnTo>
                  <a:lnTo>
                    <a:pt x="805" y="140"/>
                  </a:lnTo>
                  <a:lnTo>
                    <a:pt x="869" y="114"/>
                  </a:lnTo>
                  <a:lnTo>
                    <a:pt x="931" y="87"/>
                  </a:lnTo>
                  <a:lnTo>
                    <a:pt x="999" y="66"/>
                  </a:lnTo>
                  <a:lnTo>
                    <a:pt x="1066" y="46"/>
                  </a:lnTo>
                  <a:lnTo>
                    <a:pt x="1134" y="30"/>
                  </a:lnTo>
                  <a:lnTo>
                    <a:pt x="1204" y="16"/>
                  </a:lnTo>
                  <a:lnTo>
                    <a:pt x="1277" y="9"/>
                  </a:lnTo>
                  <a:lnTo>
                    <a:pt x="1346" y="4"/>
                  </a:lnTo>
                  <a:lnTo>
                    <a:pt x="1420" y="0"/>
                  </a:lnTo>
                  <a:lnTo>
                    <a:pt x="8399" y="0"/>
                  </a:lnTo>
                  <a:lnTo>
                    <a:pt x="8471" y="4"/>
                  </a:lnTo>
                  <a:lnTo>
                    <a:pt x="8542" y="9"/>
                  </a:lnTo>
                  <a:lnTo>
                    <a:pt x="8614" y="16"/>
                  </a:lnTo>
                  <a:lnTo>
                    <a:pt x="8685" y="30"/>
                  </a:lnTo>
                  <a:lnTo>
                    <a:pt x="8752" y="46"/>
                  </a:lnTo>
                  <a:lnTo>
                    <a:pt x="8820" y="66"/>
                  </a:lnTo>
                  <a:lnTo>
                    <a:pt x="8885" y="87"/>
                  </a:lnTo>
                  <a:lnTo>
                    <a:pt x="8949" y="114"/>
                  </a:lnTo>
                  <a:lnTo>
                    <a:pt x="9014" y="140"/>
                  </a:lnTo>
                  <a:lnTo>
                    <a:pt x="9074" y="173"/>
                  </a:lnTo>
                  <a:lnTo>
                    <a:pt x="9133" y="209"/>
                  </a:lnTo>
                  <a:lnTo>
                    <a:pt x="9192" y="243"/>
                  </a:lnTo>
                  <a:lnTo>
                    <a:pt x="9246" y="283"/>
                  </a:lnTo>
                  <a:lnTo>
                    <a:pt x="9300" y="327"/>
                  </a:lnTo>
                  <a:lnTo>
                    <a:pt x="9352" y="370"/>
                  </a:lnTo>
                  <a:lnTo>
                    <a:pt x="9403" y="419"/>
                  </a:lnTo>
                  <a:lnTo>
                    <a:pt x="9449" y="467"/>
                  </a:lnTo>
                  <a:lnTo>
                    <a:pt x="9495" y="518"/>
                  </a:lnTo>
                  <a:lnTo>
                    <a:pt x="9534" y="573"/>
                  </a:lnTo>
                  <a:lnTo>
                    <a:pt x="9575" y="629"/>
                  </a:lnTo>
                  <a:lnTo>
                    <a:pt x="9613" y="686"/>
                  </a:lnTo>
                  <a:lnTo>
                    <a:pt x="9649" y="745"/>
                  </a:lnTo>
                  <a:lnTo>
                    <a:pt x="9677" y="807"/>
                  </a:lnTo>
                  <a:lnTo>
                    <a:pt x="9707" y="869"/>
                  </a:lnTo>
                  <a:lnTo>
                    <a:pt x="9732" y="934"/>
                  </a:lnTo>
                  <a:lnTo>
                    <a:pt x="9756" y="1001"/>
                  </a:lnTo>
                  <a:lnTo>
                    <a:pt x="9775" y="1068"/>
                  </a:lnTo>
                  <a:lnTo>
                    <a:pt x="9792" y="1137"/>
                  </a:lnTo>
                  <a:lnTo>
                    <a:pt x="9802" y="1206"/>
                  </a:lnTo>
                  <a:lnTo>
                    <a:pt x="9813" y="1276"/>
                  </a:lnTo>
                  <a:lnTo>
                    <a:pt x="9818" y="1349"/>
                  </a:lnTo>
                  <a:lnTo>
                    <a:pt x="9818" y="1422"/>
                  </a:lnTo>
                  <a:lnTo>
                    <a:pt x="9818" y="6644"/>
                  </a:lnTo>
                  <a:lnTo>
                    <a:pt x="9818" y="6717"/>
                  </a:lnTo>
                  <a:lnTo>
                    <a:pt x="9813" y="6790"/>
                  </a:lnTo>
                  <a:lnTo>
                    <a:pt x="9802" y="6860"/>
                  </a:lnTo>
                  <a:lnTo>
                    <a:pt x="9792" y="6931"/>
                  </a:lnTo>
                  <a:lnTo>
                    <a:pt x="9775" y="7000"/>
                  </a:lnTo>
                  <a:lnTo>
                    <a:pt x="9756" y="7068"/>
                  </a:lnTo>
                  <a:lnTo>
                    <a:pt x="9732" y="7132"/>
                  </a:lnTo>
                  <a:lnTo>
                    <a:pt x="9707" y="7197"/>
                  </a:lnTo>
                  <a:lnTo>
                    <a:pt x="9677" y="7259"/>
                  </a:lnTo>
                  <a:lnTo>
                    <a:pt x="9649" y="7321"/>
                  </a:lnTo>
                  <a:lnTo>
                    <a:pt x="9613" y="7381"/>
                  </a:lnTo>
                  <a:lnTo>
                    <a:pt x="9575" y="7440"/>
                  </a:lnTo>
                  <a:lnTo>
                    <a:pt x="9534" y="7494"/>
                  </a:lnTo>
                  <a:lnTo>
                    <a:pt x="9495" y="7548"/>
                  </a:lnTo>
                  <a:lnTo>
                    <a:pt x="9449" y="7599"/>
                  </a:lnTo>
                  <a:lnTo>
                    <a:pt x="9403" y="7650"/>
                  </a:lnTo>
                  <a:lnTo>
                    <a:pt x="9352" y="7696"/>
                  </a:lnTo>
                  <a:lnTo>
                    <a:pt x="9300" y="7742"/>
                  </a:lnTo>
                  <a:lnTo>
                    <a:pt x="9246" y="7783"/>
                  </a:lnTo>
                  <a:lnTo>
                    <a:pt x="9192" y="7823"/>
                  </a:lnTo>
                  <a:lnTo>
                    <a:pt x="9133" y="7861"/>
                  </a:lnTo>
                  <a:lnTo>
                    <a:pt x="9074" y="7894"/>
                  </a:lnTo>
                  <a:lnTo>
                    <a:pt x="9014" y="7926"/>
                  </a:lnTo>
                  <a:lnTo>
                    <a:pt x="8949" y="7956"/>
                  </a:lnTo>
                  <a:lnTo>
                    <a:pt x="8885" y="7979"/>
                  </a:lnTo>
                  <a:lnTo>
                    <a:pt x="8820" y="8002"/>
                  </a:lnTo>
                  <a:lnTo>
                    <a:pt x="8752" y="8020"/>
                  </a:lnTo>
                  <a:lnTo>
                    <a:pt x="8685" y="8036"/>
                  </a:lnTo>
                  <a:lnTo>
                    <a:pt x="8614" y="8050"/>
                  </a:lnTo>
                  <a:lnTo>
                    <a:pt x="8542" y="8058"/>
                  </a:lnTo>
                  <a:lnTo>
                    <a:pt x="8471" y="8063"/>
                  </a:lnTo>
                  <a:lnTo>
                    <a:pt x="8399" y="8066"/>
                  </a:lnTo>
                  <a:close/>
                </a:path>
              </a:pathLst>
            </a:custGeom>
            <a:solidFill>
              <a:srgbClr val="f0d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23920" y="2417760"/>
              <a:ext cx="1500120" cy="1144440"/>
            </a:xfrm>
            <a:custGeom>
              <a:avLst/>
              <a:gdLst/>
              <a:ahLst/>
              <a:rect l="l" t="t" r="r" b="b"/>
              <a:pathLst>
                <a:path w="9284" h="7528">
                  <a:moveTo>
                    <a:pt x="8132" y="7528"/>
                  </a:moveTo>
                  <a:lnTo>
                    <a:pt x="1153" y="7528"/>
                  </a:lnTo>
                  <a:lnTo>
                    <a:pt x="1093" y="7526"/>
                  </a:lnTo>
                  <a:lnTo>
                    <a:pt x="1036" y="7522"/>
                  </a:lnTo>
                  <a:lnTo>
                    <a:pt x="977" y="7515"/>
                  </a:lnTo>
                  <a:lnTo>
                    <a:pt x="920" y="7503"/>
                  </a:lnTo>
                  <a:lnTo>
                    <a:pt x="867" y="7490"/>
                  </a:lnTo>
                  <a:lnTo>
                    <a:pt x="810" y="7474"/>
                  </a:lnTo>
                  <a:lnTo>
                    <a:pt x="759" y="7457"/>
                  </a:lnTo>
                  <a:lnTo>
                    <a:pt x="704" y="7436"/>
                  </a:lnTo>
                  <a:lnTo>
                    <a:pt x="653" y="7412"/>
                  </a:lnTo>
                  <a:lnTo>
                    <a:pt x="605" y="7388"/>
                  </a:lnTo>
                  <a:lnTo>
                    <a:pt x="556" y="7361"/>
                  </a:lnTo>
                  <a:lnTo>
                    <a:pt x="510" y="7331"/>
                  </a:lnTo>
                  <a:lnTo>
                    <a:pt x="465" y="7298"/>
                  </a:lnTo>
                  <a:lnTo>
                    <a:pt x="421" y="7264"/>
                  </a:lnTo>
                  <a:lnTo>
                    <a:pt x="378" y="7229"/>
                  </a:lnTo>
                  <a:lnTo>
                    <a:pt x="338" y="7188"/>
                  </a:lnTo>
                  <a:lnTo>
                    <a:pt x="299" y="7148"/>
                  </a:lnTo>
                  <a:lnTo>
                    <a:pt x="265" y="7107"/>
                  </a:lnTo>
                  <a:lnTo>
                    <a:pt x="230" y="7064"/>
                  </a:lnTo>
                  <a:lnTo>
                    <a:pt x="197" y="7018"/>
                  </a:lnTo>
                  <a:lnTo>
                    <a:pt x="168" y="6972"/>
                  </a:lnTo>
                  <a:lnTo>
                    <a:pt x="140" y="6923"/>
                  </a:lnTo>
                  <a:lnTo>
                    <a:pt x="113" y="6872"/>
                  </a:lnTo>
                  <a:lnTo>
                    <a:pt x="92" y="6821"/>
                  </a:lnTo>
                  <a:lnTo>
                    <a:pt x="71" y="6770"/>
                  </a:lnTo>
                  <a:lnTo>
                    <a:pt x="51" y="6716"/>
                  </a:lnTo>
                  <a:lnTo>
                    <a:pt x="35" y="6662"/>
                  </a:lnTo>
                  <a:lnTo>
                    <a:pt x="25" y="6605"/>
                  </a:lnTo>
                  <a:lnTo>
                    <a:pt x="14" y="6548"/>
                  </a:lnTo>
                  <a:lnTo>
                    <a:pt x="6" y="6492"/>
                  </a:lnTo>
                  <a:lnTo>
                    <a:pt x="3" y="6433"/>
                  </a:lnTo>
                  <a:lnTo>
                    <a:pt x="0" y="6373"/>
                  </a:lnTo>
                  <a:lnTo>
                    <a:pt x="0" y="1151"/>
                  </a:lnTo>
                  <a:lnTo>
                    <a:pt x="3" y="1092"/>
                  </a:lnTo>
                  <a:lnTo>
                    <a:pt x="6" y="1032"/>
                  </a:lnTo>
                  <a:lnTo>
                    <a:pt x="14" y="976"/>
                  </a:lnTo>
                  <a:lnTo>
                    <a:pt x="25" y="919"/>
                  </a:lnTo>
                  <a:lnTo>
                    <a:pt x="35" y="862"/>
                  </a:lnTo>
                  <a:lnTo>
                    <a:pt x="51" y="809"/>
                  </a:lnTo>
                  <a:lnTo>
                    <a:pt x="71" y="754"/>
                  </a:lnTo>
                  <a:lnTo>
                    <a:pt x="92" y="703"/>
                  </a:lnTo>
                  <a:lnTo>
                    <a:pt x="113" y="652"/>
                  </a:lnTo>
                  <a:lnTo>
                    <a:pt x="140" y="604"/>
                  </a:lnTo>
                  <a:lnTo>
                    <a:pt x="168" y="555"/>
                  </a:lnTo>
                  <a:lnTo>
                    <a:pt x="197" y="507"/>
                  </a:lnTo>
                  <a:lnTo>
                    <a:pt x="230" y="463"/>
                  </a:lnTo>
                  <a:lnTo>
                    <a:pt x="265" y="417"/>
                  </a:lnTo>
                  <a:lnTo>
                    <a:pt x="299" y="376"/>
                  </a:lnTo>
                  <a:lnTo>
                    <a:pt x="338" y="336"/>
                  </a:lnTo>
                  <a:lnTo>
                    <a:pt x="378" y="299"/>
                  </a:lnTo>
                  <a:lnTo>
                    <a:pt x="421" y="261"/>
                  </a:lnTo>
                  <a:lnTo>
                    <a:pt x="465" y="228"/>
                  </a:lnTo>
                  <a:lnTo>
                    <a:pt x="510" y="196"/>
                  </a:lnTo>
                  <a:lnTo>
                    <a:pt x="556" y="166"/>
                  </a:lnTo>
                  <a:lnTo>
                    <a:pt x="605" y="137"/>
                  </a:lnTo>
                  <a:lnTo>
                    <a:pt x="653" y="113"/>
                  </a:lnTo>
                  <a:lnTo>
                    <a:pt x="704" y="88"/>
                  </a:lnTo>
                  <a:lnTo>
                    <a:pt x="759" y="69"/>
                  </a:lnTo>
                  <a:lnTo>
                    <a:pt x="810" y="51"/>
                  </a:lnTo>
                  <a:lnTo>
                    <a:pt x="867" y="35"/>
                  </a:lnTo>
                  <a:lnTo>
                    <a:pt x="920" y="21"/>
                  </a:lnTo>
                  <a:lnTo>
                    <a:pt x="977" y="12"/>
                  </a:lnTo>
                  <a:lnTo>
                    <a:pt x="1036" y="5"/>
                  </a:lnTo>
                  <a:lnTo>
                    <a:pt x="1093" y="0"/>
                  </a:lnTo>
                  <a:lnTo>
                    <a:pt x="1153" y="0"/>
                  </a:lnTo>
                  <a:lnTo>
                    <a:pt x="8132" y="0"/>
                  </a:lnTo>
                  <a:lnTo>
                    <a:pt x="8188" y="0"/>
                  </a:lnTo>
                  <a:lnTo>
                    <a:pt x="8248" y="5"/>
                  </a:lnTo>
                  <a:lnTo>
                    <a:pt x="8307" y="12"/>
                  </a:lnTo>
                  <a:lnTo>
                    <a:pt x="8363" y="21"/>
                  </a:lnTo>
                  <a:lnTo>
                    <a:pt x="8418" y="35"/>
                  </a:lnTo>
                  <a:lnTo>
                    <a:pt x="8471" y="51"/>
                  </a:lnTo>
                  <a:lnTo>
                    <a:pt x="8526" y="69"/>
                  </a:lnTo>
                  <a:lnTo>
                    <a:pt x="8579" y="88"/>
                  </a:lnTo>
                  <a:lnTo>
                    <a:pt x="8631" y="113"/>
                  </a:lnTo>
                  <a:lnTo>
                    <a:pt x="8680" y="137"/>
                  </a:lnTo>
                  <a:lnTo>
                    <a:pt x="8728" y="166"/>
                  </a:lnTo>
                  <a:lnTo>
                    <a:pt x="8774" y="196"/>
                  </a:lnTo>
                  <a:lnTo>
                    <a:pt x="8820" y="228"/>
                  </a:lnTo>
                  <a:lnTo>
                    <a:pt x="8863" y="261"/>
                  </a:lnTo>
                  <a:lnTo>
                    <a:pt x="8906" y="299"/>
                  </a:lnTo>
                  <a:lnTo>
                    <a:pt x="8947" y="336"/>
                  </a:lnTo>
                  <a:lnTo>
                    <a:pt x="8984" y="376"/>
                  </a:lnTo>
                  <a:lnTo>
                    <a:pt x="9019" y="417"/>
                  </a:lnTo>
                  <a:lnTo>
                    <a:pt x="9055" y="463"/>
                  </a:lnTo>
                  <a:lnTo>
                    <a:pt x="9087" y="507"/>
                  </a:lnTo>
                  <a:lnTo>
                    <a:pt x="9117" y="555"/>
                  </a:lnTo>
                  <a:lnTo>
                    <a:pt x="9143" y="604"/>
                  </a:lnTo>
                  <a:lnTo>
                    <a:pt x="9171" y="652"/>
                  </a:lnTo>
                  <a:lnTo>
                    <a:pt x="9192" y="703"/>
                  </a:lnTo>
                  <a:lnTo>
                    <a:pt x="9214" y="754"/>
                  </a:lnTo>
                  <a:lnTo>
                    <a:pt x="9233" y="809"/>
                  </a:lnTo>
                  <a:lnTo>
                    <a:pt x="9246" y="862"/>
                  </a:lnTo>
                  <a:lnTo>
                    <a:pt x="9260" y="919"/>
                  </a:lnTo>
                  <a:lnTo>
                    <a:pt x="9270" y="976"/>
                  </a:lnTo>
                  <a:lnTo>
                    <a:pt x="9279" y="1032"/>
                  </a:lnTo>
                  <a:lnTo>
                    <a:pt x="9281" y="1092"/>
                  </a:lnTo>
                  <a:lnTo>
                    <a:pt x="9284" y="1151"/>
                  </a:lnTo>
                  <a:lnTo>
                    <a:pt x="9284" y="6373"/>
                  </a:lnTo>
                  <a:lnTo>
                    <a:pt x="9281" y="6433"/>
                  </a:lnTo>
                  <a:lnTo>
                    <a:pt x="9279" y="6492"/>
                  </a:lnTo>
                  <a:lnTo>
                    <a:pt x="9270" y="6548"/>
                  </a:lnTo>
                  <a:lnTo>
                    <a:pt x="9260" y="6605"/>
                  </a:lnTo>
                  <a:lnTo>
                    <a:pt x="9246" y="6662"/>
                  </a:lnTo>
                  <a:lnTo>
                    <a:pt x="9233" y="6716"/>
                  </a:lnTo>
                  <a:lnTo>
                    <a:pt x="9214" y="6770"/>
                  </a:lnTo>
                  <a:lnTo>
                    <a:pt x="9192" y="6821"/>
                  </a:lnTo>
                  <a:lnTo>
                    <a:pt x="9171" y="6872"/>
                  </a:lnTo>
                  <a:lnTo>
                    <a:pt x="9143" y="6923"/>
                  </a:lnTo>
                  <a:lnTo>
                    <a:pt x="9117" y="6972"/>
                  </a:lnTo>
                  <a:lnTo>
                    <a:pt x="9087" y="7018"/>
                  </a:lnTo>
                  <a:lnTo>
                    <a:pt x="9055" y="7064"/>
                  </a:lnTo>
                  <a:lnTo>
                    <a:pt x="9019" y="7107"/>
                  </a:lnTo>
                  <a:lnTo>
                    <a:pt x="8984" y="7148"/>
                  </a:lnTo>
                  <a:lnTo>
                    <a:pt x="8947" y="7188"/>
                  </a:lnTo>
                  <a:lnTo>
                    <a:pt x="8906" y="7229"/>
                  </a:lnTo>
                  <a:lnTo>
                    <a:pt x="8863" y="7264"/>
                  </a:lnTo>
                  <a:lnTo>
                    <a:pt x="8820" y="7298"/>
                  </a:lnTo>
                  <a:lnTo>
                    <a:pt x="8774" y="7331"/>
                  </a:lnTo>
                  <a:lnTo>
                    <a:pt x="8728" y="7361"/>
                  </a:lnTo>
                  <a:lnTo>
                    <a:pt x="8680" y="7388"/>
                  </a:lnTo>
                  <a:lnTo>
                    <a:pt x="8631" y="7412"/>
                  </a:lnTo>
                  <a:lnTo>
                    <a:pt x="8579" y="7436"/>
                  </a:lnTo>
                  <a:lnTo>
                    <a:pt x="8526" y="7457"/>
                  </a:lnTo>
                  <a:lnTo>
                    <a:pt x="8471" y="7474"/>
                  </a:lnTo>
                  <a:lnTo>
                    <a:pt x="8418" y="7490"/>
                  </a:lnTo>
                  <a:lnTo>
                    <a:pt x="8363" y="7503"/>
                  </a:lnTo>
                  <a:lnTo>
                    <a:pt x="8307" y="7515"/>
                  </a:lnTo>
                  <a:lnTo>
                    <a:pt x="8248" y="7522"/>
                  </a:lnTo>
                  <a:lnTo>
                    <a:pt x="8188" y="7526"/>
                  </a:lnTo>
                  <a:lnTo>
                    <a:pt x="8132" y="7528"/>
                  </a:lnTo>
                  <a:close/>
                </a:path>
              </a:pathLst>
            </a:custGeom>
            <a:solidFill>
              <a:srgbClr val="da7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23920" y="2415960"/>
              <a:ext cx="1501920" cy="1148040"/>
            </a:xfrm>
            <a:custGeom>
              <a:avLst/>
              <a:gdLst/>
              <a:ahLst/>
              <a:rect l="l" t="t" r="r" b="b"/>
              <a:pathLst>
                <a:path w="9300" h="7545">
                  <a:moveTo>
                    <a:pt x="8140" y="7537"/>
                  </a:moveTo>
                  <a:lnTo>
                    <a:pt x="8140" y="7529"/>
                  </a:lnTo>
                  <a:lnTo>
                    <a:pt x="1161" y="7529"/>
                  </a:lnTo>
                  <a:lnTo>
                    <a:pt x="1104" y="7526"/>
                  </a:lnTo>
                  <a:lnTo>
                    <a:pt x="1044" y="7521"/>
                  </a:lnTo>
                  <a:lnTo>
                    <a:pt x="988" y="7515"/>
                  </a:lnTo>
                  <a:lnTo>
                    <a:pt x="931" y="7505"/>
                  </a:lnTo>
                  <a:lnTo>
                    <a:pt x="875" y="7491"/>
                  </a:lnTo>
                  <a:lnTo>
                    <a:pt x="820" y="7478"/>
                  </a:lnTo>
                  <a:lnTo>
                    <a:pt x="769" y="7459"/>
                  </a:lnTo>
                  <a:lnTo>
                    <a:pt x="715" y="7437"/>
                  </a:lnTo>
                  <a:lnTo>
                    <a:pt x="666" y="7415"/>
                  </a:lnTo>
                  <a:lnTo>
                    <a:pt x="615" y="7388"/>
                  </a:lnTo>
                  <a:lnTo>
                    <a:pt x="567" y="7362"/>
                  </a:lnTo>
                  <a:lnTo>
                    <a:pt x="521" y="7332"/>
                  </a:lnTo>
                  <a:lnTo>
                    <a:pt x="478" y="7300"/>
                  </a:lnTo>
                  <a:lnTo>
                    <a:pt x="434" y="7268"/>
                  </a:lnTo>
                  <a:lnTo>
                    <a:pt x="392" y="7229"/>
                  </a:lnTo>
                  <a:lnTo>
                    <a:pt x="351" y="7192"/>
                  </a:lnTo>
                  <a:lnTo>
                    <a:pt x="313" y="7153"/>
                  </a:lnTo>
                  <a:lnTo>
                    <a:pt x="278" y="7111"/>
                  </a:lnTo>
                  <a:lnTo>
                    <a:pt x="243" y="7068"/>
                  </a:lnTo>
                  <a:lnTo>
                    <a:pt x="213" y="7022"/>
                  </a:lnTo>
                  <a:lnTo>
                    <a:pt x="181" y="6976"/>
                  </a:lnTo>
                  <a:lnTo>
                    <a:pt x="153" y="6927"/>
                  </a:lnTo>
                  <a:lnTo>
                    <a:pt x="130" y="6879"/>
                  </a:lnTo>
                  <a:lnTo>
                    <a:pt x="105" y="6828"/>
                  </a:lnTo>
                  <a:lnTo>
                    <a:pt x="86" y="6776"/>
                  </a:lnTo>
                  <a:lnTo>
                    <a:pt x="68" y="6722"/>
                  </a:lnTo>
                  <a:lnTo>
                    <a:pt x="51" y="6669"/>
                  </a:lnTo>
                  <a:lnTo>
                    <a:pt x="40" y="6614"/>
                  </a:lnTo>
                  <a:lnTo>
                    <a:pt x="30" y="6557"/>
                  </a:lnTo>
                  <a:lnTo>
                    <a:pt x="22" y="6501"/>
                  </a:lnTo>
                  <a:lnTo>
                    <a:pt x="19" y="6442"/>
                  </a:lnTo>
                  <a:lnTo>
                    <a:pt x="17" y="6382"/>
                  </a:lnTo>
                  <a:lnTo>
                    <a:pt x="17" y="1160"/>
                  </a:lnTo>
                  <a:lnTo>
                    <a:pt x="19" y="1101"/>
                  </a:lnTo>
                  <a:lnTo>
                    <a:pt x="22" y="1044"/>
                  </a:lnTo>
                  <a:lnTo>
                    <a:pt x="30" y="988"/>
                  </a:lnTo>
                  <a:lnTo>
                    <a:pt x="40" y="931"/>
                  </a:lnTo>
                  <a:lnTo>
                    <a:pt x="51" y="875"/>
                  </a:lnTo>
                  <a:lnTo>
                    <a:pt x="68" y="820"/>
                  </a:lnTo>
                  <a:lnTo>
                    <a:pt x="86" y="767"/>
                  </a:lnTo>
                  <a:lnTo>
                    <a:pt x="105" y="715"/>
                  </a:lnTo>
                  <a:lnTo>
                    <a:pt x="130" y="664"/>
                  </a:lnTo>
                  <a:lnTo>
                    <a:pt x="153" y="615"/>
                  </a:lnTo>
                  <a:lnTo>
                    <a:pt x="181" y="567"/>
                  </a:lnTo>
                  <a:lnTo>
                    <a:pt x="213" y="521"/>
                  </a:lnTo>
                  <a:lnTo>
                    <a:pt x="243" y="475"/>
                  </a:lnTo>
                  <a:lnTo>
                    <a:pt x="278" y="431"/>
                  </a:lnTo>
                  <a:lnTo>
                    <a:pt x="313" y="391"/>
                  </a:lnTo>
                  <a:lnTo>
                    <a:pt x="351" y="351"/>
                  </a:lnTo>
                  <a:lnTo>
                    <a:pt x="392" y="313"/>
                  </a:lnTo>
                  <a:lnTo>
                    <a:pt x="434" y="278"/>
                  </a:lnTo>
                  <a:lnTo>
                    <a:pt x="478" y="242"/>
                  </a:lnTo>
                  <a:lnTo>
                    <a:pt x="521" y="210"/>
                  </a:lnTo>
                  <a:lnTo>
                    <a:pt x="567" y="180"/>
                  </a:lnTo>
                  <a:lnTo>
                    <a:pt x="615" y="154"/>
                  </a:lnTo>
                  <a:lnTo>
                    <a:pt x="666" y="129"/>
                  </a:lnTo>
                  <a:lnTo>
                    <a:pt x="715" y="106"/>
                  </a:lnTo>
                  <a:lnTo>
                    <a:pt x="769" y="86"/>
                  </a:lnTo>
                  <a:lnTo>
                    <a:pt x="820" y="67"/>
                  </a:lnTo>
                  <a:lnTo>
                    <a:pt x="875" y="51"/>
                  </a:lnTo>
                  <a:lnTo>
                    <a:pt x="931" y="38"/>
                  </a:lnTo>
                  <a:lnTo>
                    <a:pt x="988" y="30"/>
                  </a:lnTo>
                  <a:lnTo>
                    <a:pt x="1044" y="21"/>
                  </a:lnTo>
                  <a:lnTo>
                    <a:pt x="1104" y="16"/>
                  </a:lnTo>
                  <a:lnTo>
                    <a:pt x="1161" y="16"/>
                  </a:lnTo>
                  <a:lnTo>
                    <a:pt x="8140" y="16"/>
                  </a:lnTo>
                  <a:lnTo>
                    <a:pt x="8196" y="16"/>
                  </a:lnTo>
                  <a:lnTo>
                    <a:pt x="8256" y="21"/>
                  </a:lnTo>
                  <a:lnTo>
                    <a:pt x="8313" y="30"/>
                  </a:lnTo>
                  <a:lnTo>
                    <a:pt x="8369" y="38"/>
                  </a:lnTo>
                  <a:lnTo>
                    <a:pt x="8423" y="51"/>
                  </a:lnTo>
                  <a:lnTo>
                    <a:pt x="8479" y="67"/>
                  </a:lnTo>
                  <a:lnTo>
                    <a:pt x="8531" y="86"/>
                  </a:lnTo>
                  <a:lnTo>
                    <a:pt x="8585" y="106"/>
                  </a:lnTo>
                  <a:lnTo>
                    <a:pt x="8633" y="129"/>
                  </a:lnTo>
                  <a:lnTo>
                    <a:pt x="8684" y="154"/>
                  </a:lnTo>
                  <a:lnTo>
                    <a:pt x="8730" y="180"/>
                  </a:lnTo>
                  <a:lnTo>
                    <a:pt x="8780" y="210"/>
                  </a:lnTo>
                  <a:lnTo>
                    <a:pt x="8822" y="242"/>
                  </a:lnTo>
                  <a:lnTo>
                    <a:pt x="8866" y="278"/>
                  </a:lnTo>
                  <a:lnTo>
                    <a:pt x="8909" y="313"/>
                  </a:lnTo>
                  <a:lnTo>
                    <a:pt x="8946" y="351"/>
                  </a:lnTo>
                  <a:lnTo>
                    <a:pt x="8987" y="391"/>
                  </a:lnTo>
                  <a:lnTo>
                    <a:pt x="9022" y="431"/>
                  </a:lnTo>
                  <a:lnTo>
                    <a:pt x="9054" y="475"/>
                  </a:lnTo>
                  <a:lnTo>
                    <a:pt x="9087" y="521"/>
                  </a:lnTo>
                  <a:lnTo>
                    <a:pt x="9116" y="567"/>
                  </a:lnTo>
                  <a:lnTo>
                    <a:pt x="9146" y="615"/>
                  </a:lnTo>
                  <a:lnTo>
                    <a:pt x="9171" y="664"/>
                  </a:lnTo>
                  <a:lnTo>
                    <a:pt x="9192" y="715"/>
                  </a:lnTo>
                  <a:lnTo>
                    <a:pt x="9213" y="767"/>
                  </a:lnTo>
                  <a:lnTo>
                    <a:pt x="9233" y="820"/>
                  </a:lnTo>
                  <a:lnTo>
                    <a:pt x="9246" y="875"/>
                  </a:lnTo>
                  <a:lnTo>
                    <a:pt x="9259" y="931"/>
                  </a:lnTo>
                  <a:lnTo>
                    <a:pt x="9270" y="988"/>
                  </a:lnTo>
                  <a:lnTo>
                    <a:pt x="9278" y="1044"/>
                  </a:lnTo>
                  <a:lnTo>
                    <a:pt x="9282" y="1101"/>
                  </a:lnTo>
                  <a:lnTo>
                    <a:pt x="9284" y="1160"/>
                  </a:lnTo>
                  <a:lnTo>
                    <a:pt x="9284" y="6382"/>
                  </a:lnTo>
                  <a:lnTo>
                    <a:pt x="9282" y="6442"/>
                  </a:lnTo>
                  <a:lnTo>
                    <a:pt x="9278" y="6501"/>
                  </a:lnTo>
                  <a:lnTo>
                    <a:pt x="9270" y="6557"/>
                  </a:lnTo>
                  <a:lnTo>
                    <a:pt x="9259" y="6614"/>
                  </a:lnTo>
                  <a:lnTo>
                    <a:pt x="9246" y="6669"/>
                  </a:lnTo>
                  <a:lnTo>
                    <a:pt x="9233" y="6722"/>
                  </a:lnTo>
                  <a:lnTo>
                    <a:pt x="9213" y="6776"/>
                  </a:lnTo>
                  <a:lnTo>
                    <a:pt x="9192" y="6828"/>
                  </a:lnTo>
                  <a:lnTo>
                    <a:pt x="9171" y="6879"/>
                  </a:lnTo>
                  <a:lnTo>
                    <a:pt x="9146" y="6927"/>
                  </a:lnTo>
                  <a:lnTo>
                    <a:pt x="9116" y="6976"/>
                  </a:lnTo>
                  <a:lnTo>
                    <a:pt x="9087" y="7022"/>
                  </a:lnTo>
                  <a:lnTo>
                    <a:pt x="9054" y="7068"/>
                  </a:lnTo>
                  <a:lnTo>
                    <a:pt x="9022" y="7111"/>
                  </a:lnTo>
                  <a:lnTo>
                    <a:pt x="8987" y="7153"/>
                  </a:lnTo>
                  <a:lnTo>
                    <a:pt x="8946" y="7192"/>
                  </a:lnTo>
                  <a:lnTo>
                    <a:pt x="8909" y="7229"/>
                  </a:lnTo>
                  <a:lnTo>
                    <a:pt x="8866" y="7268"/>
                  </a:lnTo>
                  <a:lnTo>
                    <a:pt x="8822" y="7300"/>
                  </a:lnTo>
                  <a:lnTo>
                    <a:pt x="8780" y="7332"/>
                  </a:lnTo>
                  <a:lnTo>
                    <a:pt x="8730" y="7362"/>
                  </a:lnTo>
                  <a:lnTo>
                    <a:pt x="8684" y="7388"/>
                  </a:lnTo>
                  <a:lnTo>
                    <a:pt x="8633" y="7415"/>
                  </a:lnTo>
                  <a:lnTo>
                    <a:pt x="8585" y="7437"/>
                  </a:lnTo>
                  <a:lnTo>
                    <a:pt x="8531" y="7459"/>
                  </a:lnTo>
                  <a:lnTo>
                    <a:pt x="8479" y="7478"/>
                  </a:lnTo>
                  <a:lnTo>
                    <a:pt x="8423" y="7491"/>
                  </a:lnTo>
                  <a:lnTo>
                    <a:pt x="8369" y="7505"/>
                  </a:lnTo>
                  <a:lnTo>
                    <a:pt x="8313" y="7515"/>
                  </a:lnTo>
                  <a:lnTo>
                    <a:pt x="8256" y="7521"/>
                  </a:lnTo>
                  <a:lnTo>
                    <a:pt x="8196" y="7526"/>
                  </a:lnTo>
                  <a:lnTo>
                    <a:pt x="8140" y="7529"/>
                  </a:lnTo>
                  <a:lnTo>
                    <a:pt x="8140" y="7537"/>
                  </a:lnTo>
                  <a:lnTo>
                    <a:pt x="8140" y="7545"/>
                  </a:lnTo>
                  <a:lnTo>
                    <a:pt x="8199" y="7542"/>
                  </a:lnTo>
                  <a:lnTo>
                    <a:pt x="8256" y="7537"/>
                  </a:lnTo>
                  <a:lnTo>
                    <a:pt x="8315" y="7531"/>
                  </a:lnTo>
                  <a:lnTo>
                    <a:pt x="8371" y="7521"/>
                  </a:lnTo>
                  <a:lnTo>
                    <a:pt x="8428" y="7507"/>
                  </a:lnTo>
                  <a:lnTo>
                    <a:pt x="8483" y="7491"/>
                  </a:lnTo>
                  <a:lnTo>
                    <a:pt x="8536" y="7473"/>
                  </a:lnTo>
                  <a:lnTo>
                    <a:pt x="8590" y="7453"/>
                  </a:lnTo>
                  <a:lnTo>
                    <a:pt x="8642" y="7429"/>
                  </a:lnTo>
                  <a:lnTo>
                    <a:pt x="8693" y="7404"/>
                  </a:lnTo>
                  <a:lnTo>
                    <a:pt x="8741" y="7375"/>
                  </a:lnTo>
                  <a:lnTo>
                    <a:pt x="8787" y="7346"/>
                  </a:lnTo>
                  <a:lnTo>
                    <a:pt x="8833" y="7312"/>
                  </a:lnTo>
                  <a:lnTo>
                    <a:pt x="8877" y="7278"/>
                  </a:lnTo>
                  <a:lnTo>
                    <a:pt x="8919" y="7243"/>
                  </a:lnTo>
                  <a:lnTo>
                    <a:pt x="8960" y="7202"/>
                  </a:lnTo>
                  <a:lnTo>
                    <a:pt x="8997" y="7162"/>
                  </a:lnTo>
                  <a:lnTo>
                    <a:pt x="9036" y="7121"/>
                  </a:lnTo>
                  <a:lnTo>
                    <a:pt x="9068" y="7079"/>
                  </a:lnTo>
                  <a:lnTo>
                    <a:pt x="9100" y="7033"/>
                  </a:lnTo>
                  <a:lnTo>
                    <a:pt x="9133" y="6984"/>
                  </a:lnTo>
                  <a:lnTo>
                    <a:pt x="9160" y="6935"/>
                  </a:lnTo>
                  <a:lnTo>
                    <a:pt x="9184" y="6886"/>
                  </a:lnTo>
                  <a:lnTo>
                    <a:pt x="9208" y="6835"/>
                  </a:lnTo>
                  <a:lnTo>
                    <a:pt x="9230" y="6782"/>
                  </a:lnTo>
                  <a:lnTo>
                    <a:pt x="9249" y="6727"/>
                  </a:lnTo>
                  <a:lnTo>
                    <a:pt x="9262" y="6674"/>
                  </a:lnTo>
                  <a:lnTo>
                    <a:pt x="9275" y="6617"/>
                  </a:lnTo>
                  <a:lnTo>
                    <a:pt x="9287" y="6561"/>
                  </a:lnTo>
                  <a:lnTo>
                    <a:pt x="9294" y="6501"/>
                  </a:lnTo>
                  <a:lnTo>
                    <a:pt x="9298" y="6442"/>
                  </a:lnTo>
                  <a:lnTo>
                    <a:pt x="9300" y="6382"/>
                  </a:lnTo>
                  <a:lnTo>
                    <a:pt x="9300" y="1160"/>
                  </a:lnTo>
                  <a:lnTo>
                    <a:pt x="9298" y="1101"/>
                  </a:lnTo>
                  <a:lnTo>
                    <a:pt x="9294" y="1041"/>
                  </a:lnTo>
                  <a:lnTo>
                    <a:pt x="9287" y="985"/>
                  </a:lnTo>
                  <a:lnTo>
                    <a:pt x="9275" y="928"/>
                  </a:lnTo>
                  <a:lnTo>
                    <a:pt x="9262" y="871"/>
                  </a:lnTo>
                  <a:lnTo>
                    <a:pt x="9249" y="815"/>
                  </a:lnTo>
                  <a:lnTo>
                    <a:pt x="9230" y="760"/>
                  </a:lnTo>
                  <a:lnTo>
                    <a:pt x="9208" y="709"/>
                  </a:lnTo>
                  <a:lnTo>
                    <a:pt x="9184" y="658"/>
                  </a:lnTo>
                  <a:lnTo>
                    <a:pt x="9160" y="607"/>
                  </a:lnTo>
                  <a:lnTo>
                    <a:pt x="9133" y="558"/>
                  </a:lnTo>
                  <a:lnTo>
                    <a:pt x="9100" y="513"/>
                  </a:lnTo>
                  <a:lnTo>
                    <a:pt x="9068" y="467"/>
                  </a:lnTo>
                  <a:lnTo>
                    <a:pt x="9036" y="424"/>
                  </a:lnTo>
                  <a:lnTo>
                    <a:pt x="8997" y="380"/>
                  </a:lnTo>
                  <a:lnTo>
                    <a:pt x="8960" y="340"/>
                  </a:lnTo>
                  <a:lnTo>
                    <a:pt x="8919" y="302"/>
                  </a:lnTo>
                  <a:lnTo>
                    <a:pt x="8877" y="265"/>
                  </a:lnTo>
                  <a:lnTo>
                    <a:pt x="8833" y="230"/>
                  </a:lnTo>
                  <a:lnTo>
                    <a:pt x="8787" y="198"/>
                  </a:lnTo>
                  <a:lnTo>
                    <a:pt x="8741" y="168"/>
                  </a:lnTo>
                  <a:lnTo>
                    <a:pt x="8693" y="141"/>
                  </a:lnTo>
                  <a:lnTo>
                    <a:pt x="8642" y="113"/>
                  </a:lnTo>
                  <a:lnTo>
                    <a:pt x="8590" y="92"/>
                  </a:lnTo>
                  <a:lnTo>
                    <a:pt x="8536" y="70"/>
                  </a:lnTo>
                  <a:lnTo>
                    <a:pt x="8483" y="51"/>
                  </a:lnTo>
                  <a:lnTo>
                    <a:pt x="8428" y="35"/>
                  </a:lnTo>
                  <a:lnTo>
                    <a:pt x="8371" y="25"/>
                  </a:lnTo>
                  <a:lnTo>
                    <a:pt x="8315" y="14"/>
                  </a:lnTo>
                  <a:lnTo>
                    <a:pt x="8256" y="5"/>
                  </a:lnTo>
                  <a:lnTo>
                    <a:pt x="8199" y="0"/>
                  </a:lnTo>
                  <a:lnTo>
                    <a:pt x="8140" y="0"/>
                  </a:lnTo>
                  <a:lnTo>
                    <a:pt x="1161" y="0"/>
                  </a:lnTo>
                  <a:lnTo>
                    <a:pt x="1101" y="0"/>
                  </a:lnTo>
                  <a:lnTo>
                    <a:pt x="1042" y="5"/>
                  </a:lnTo>
                  <a:lnTo>
                    <a:pt x="985" y="14"/>
                  </a:lnTo>
                  <a:lnTo>
                    <a:pt x="928" y="25"/>
                  </a:lnTo>
                  <a:lnTo>
                    <a:pt x="871" y="35"/>
                  </a:lnTo>
                  <a:lnTo>
                    <a:pt x="818" y="51"/>
                  </a:lnTo>
                  <a:lnTo>
                    <a:pt x="764" y="70"/>
                  </a:lnTo>
                  <a:lnTo>
                    <a:pt x="710" y="92"/>
                  </a:lnTo>
                  <a:lnTo>
                    <a:pt x="659" y="113"/>
                  </a:lnTo>
                  <a:lnTo>
                    <a:pt x="608" y="141"/>
                  </a:lnTo>
                  <a:lnTo>
                    <a:pt x="558" y="168"/>
                  </a:lnTo>
                  <a:lnTo>
                    <a:pt x="512" y="198"/>
                  </a:lnTo>
                  <a:lnTo>
                    <a:pt x="467" y="230"/>
                  </a:lnTo>
                  <a:lnTo>
                    <a:pt x="424" y="265"/>
                  </a:lnTo>
                  <a:lnTo>
                    <a:pt x="381" y="302"/>
                  </a:lnTo>
                  <a:lnTo>
                    <a:pt x="340" y="340"/>
                  </a:lnTo>
                  <a:lnTo>
                    <a:pt x="302" y="380"/>
                  </a:lnTo>
                  <a:lnTo>
                    <a:pt x="265" y="424"/>
                  </a:lnTo>
                  <a:lnTo>
                    <a:pt x="233" y="467"/>
                  </a:lnTo>
                  <a:lnTo>
                    <a:pt x="199" y="513"/>
                  </a:lnTo>
                  <a:lnTo>
                    <a:pt x="167" y="558"/>
                  </a:lnTo>
                  <a:lnTo>
                    <a:pt x="141" y="607"/>
                  </a:lnTo>
                  <a:lnTo>
                    <a:pt x="114" y="658"/>
                  </a:lnTo>
                  <a:lnTo>
                    <a:pt x="92" y="709"/>
                  </a:lnTo>
                  <a:lnTo>
                    <a:pt x="70" y="760"/>
                  </a:lnTo>
                  <a:lnTo>
                    <a:pt x="51" y="815"/>
                  </a:lnTo>
                  <a:lnTo>
                    <a:pt x="38" y="871"/>
                  </a:lnTo>
                  <a:lnTo>
                    <a:pt x="24" y="928"/>
                  </a:lnTo>
                  <a:lnTo>
                    <a:pt x="14" y="985"/>
                  </a:lnTo>
                  <a:lnTo>
                    <a:pt x="6" y="1041"/>
                  </a:lnTo>
                  <a:lnTo>
                    <a:pt x="3" y="1101"/>
                  </a:lnTo>
                  <a:lnTo>
                    <a:pt x="0" y="1160"/>
                  </a:lnTo>
                  <a:lnTo>
                    <a:pt x="0" y="6382"/>
                  </a:lnTo>
                  <a:lnTo>
                    <a:pt x="3" y="6442"/>
                  </a:lnTo>
                  <a:lnTo>
                    <a:pt x="6" y="6501"/>
                  </a:lnTo>
                  <a:lnTo>
                    <a:pt x="14" y="6561"/>
                  </a:lnTo>
                  <a:lnTo>
                    <a:pt x="24" y="6617"/>
                  </a:lnTo>
                  <a:lnTo>
                    <a:pt x="38" y="6674"/>
                  </a:lnTo>
                  <a:lnTo>
                    <a:pt x="51" y="6727"/>
                  </a:lnTo>
                  <a:lnTo>
                    <a:pt x="70" y="6782"/>
                  </a:lnTo>
                  <a:lnTo>
                    <a:pt x="92" y="6835"/>
                  </a:lnTo>
                  <a:lnTo>
                    <a:pt x="114" y="6886"/>
                  </a:lnTo>
                  <a:lnTo>
                    <a:pt x="141" y="6935"/>
                  </a:lnTo>
                  <a:lnTo>
                    <a:pt x="167" y="6984"/>
                  </a:lnTo>
                  <a:lnTo>
                    <a:pt x="199" y="7033"/>
                  </a:lnTo>
                  <a:lnTo>
                    <a:pt x="233" y="7079"/>
                  </a:lnTo>
                  <a:lnTo>
                    <a:pt x="265" y="7121"/>
                  </a:lnTo>
                  <a:lnTo>
                    <a:pt x="302" y="7162"/>
                  </a:lnTo>
                  <a:lnTo>
                    <a:pt x="340" y="7202"/>
                  </a:lnTo>
                  <a:lnTo>
                    <a:pt x="381" y="7243"/>
                  </a:lnTo>
                  <a:lnTo>
                    <a:pt x="424" y="7278"/>
                  </a:lnTo>
                  <a:lnTo>
                    <a:pt x="467" y="7312"/>
                  </a:lnTo>
                  <a:lnTo>
                    <a:pt x="512" y="7346"/>
                  </a:lnTo>
                  <a:lnTo>
                    <a:pt x="558" y="7375"/>
                  </a:lnTo>
                  <a:lnTo>
                    <a:pt x="608" y="7404"/>
                  </a:lnTo>
                  <a:lnTo>
                    <a:pt x="659" y="7429"/>
                  </a:lnTo>
                  <a:lnTo>
                    <a:pt x="710" y="7453"/>
                  </a:lnTo>
                  <a:lnTo>
                    <a:pt x="764" y="7473"/>
                  </a:lnTo>
                  <a:lnTo>
                    <a:pt x="818" y="7491"/>
                  </a:lnTo>
                  <a:lnTo>
                    <a:pt x="871" y="7507"/>
                  </a:lnTo>
                  <a:lnTo>
                    <a:pt x="928" y="7521"/>
                  </a:lnTo>
                  <a:lnTo>
                    <a:pt x="985" y="7531"/>
                  </a:lnTo>
                  <a:lnTo>
                    <a:pt x="1042" y="7537"/>
                  </a:lnTo>
                  <a:lnTo>
                    <a:pt x="1101" y="7542"/>
                  </a:lnTo>
                  <a:lnTo>
                    <a:pt x="1161" y="7545"/>
                  </a:lnTo>
                  <a:lnTo>
                    <a:pt x="8140" y="7545"/>
                  </a:lnTo>
                  <a:lnTo>
                    <a:pt x="8140" y="753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144800" y="2438280"/>
              <a:ext cx="1455480" cy="1104840"/>
            </a:xfrm>
            <a:custGeom>
              <a:avLst/>
              <a:gdLst/>
              <a:ahLst/>
              <a:rect l="l" t="t" r="r" b="b"/>
              <a:pathLst>
                <a:path w="9017" h="7261">
                  <a:moveTo>
                    <a:pt x="9017" y="6241"/>
                  </a:moveTo>
                  <a:lnTo>
                    <a:pt x="9014" y="6295"/>
                  </a:lnTo>
                  <a:lnTo>
                    <a:pt x="9012" y="6346"/>
                  </a:lnTo>
                  <a:lnTo>
                    <a:pt x="9003" y="6397"/>
                  </a:lnTo>
                  <a:lnTo>
                    <a:pt x="8996" y="6449"/>
                  </a:lnTo>
                  <a:lnTo>
                    <a:pt x="8984" y="6498"/>
                  </a:lnTo>
                  <a:lnTo>
                    <a:pt x="8971" y="6546"/>
                  </a:lnTo>
                  <a:lnTo>
                    <a:pt x="8955" y="6592"/>
                  </a:lnTo>
                  <a:lnTo>
                    <a:pt x="8936" y="6638"/>
                  </a:lnTo>
                  <a:lnTo>
                    <a:pt x="8915" y="6683"/>
                  </a:lnTo>
                  <a:lnTo>
                    <a:pt x="8893" y="6729"/>
                  </a:lnTo>
                  <a:lnTo>
                    <a:pt x="8869" y="6770"/>
                  </a:lnTo>
                  <a:lnTo>
                    <a:pt x="8842" y="6813"/>
                  </a:lnTo>
                  <a:lnTo>
                    <a:pt x="8814" y="6851"/>
                  </a:lnTo>
                  <a:lnTo>
                    <a:pt x="8782" y="6892"/>
                  </a:lnTo>
                  <a:lnTo>
                    <a:pt x="8752" y="6927"/>
                  </a:lnTo>
                  <a:lnTo>
                    <a:pt x="8717" y="6964"/>
                  </a:lnTo>
                  <a:lnTo>
                    <a:pt x="8683" y="6996"/>
                  </a:lnTo>
                  <a:lnTo>
                    <a:pt x="8644" y="7029"/>
                  </a:lnTo>
                  <a:lnTo>
                    <a:pt x="8607" y="7058"/>
                  </a:lnTo>
                  <a:lnTo>
                    <a:pt x="8566" y="7088"/>
                  </a:lnTo>
                  <a:lnTo>
                    <a:pt x="8526" y="7113"/>
                  </a:lnTo>
                  <a:lnTo>
                    <a:pt x="8483" y="7139"/>
                  </a:lnTo>
                  <a:lnTo>
                    <a:pt x="8439" y="7161"/>
                  </a:lnTo>
                  <a:lnTo>
                    <a:pt x="8393" y="7180"/>
                  </a:lnTo>
                  <a:lnTo>
                    <a:pt x="8347" y="7199"/>
                  </a:lnTo>
                  <a:lnTo>
                    <a:pt x="8299" y="7215"/>
                  </a:lnTo>
                  <a:lnTo>
                    <a:pt x="8250" y="7229"/>
                  </a:lnTo>
                  <a:lnTo>
                    <a:pt x="8202" y="7240"/>
                  </a:lnTo>
                  <a:lnTo>
                    <a:pt x="8153" y="7250"/>
                  </a:lnTo>
                  <a:lnTo>
                    <a:pt x="8102" y="7256"/>
                  </a:lnTo>
                  <a:lnTo>
                    <a:pt x="8048" y="7261"/>
                  </a:lnTo>
                  <a:lnTo>
                    <a:pt x="7997" y="7261"/>
                  </a:lnTo>
                  <a:lnTo>
                    <a:pt x="1020" y="7261"/>
                  </a:lnTo>
                  <a:lnTo>
                    <a:pt x="967" y="7261"/>
                  </a:lnTo>
                  <a:lnTo>
                    <a:pt x="916" y="7256"/>
                  </a:lnTo>
                  <a:lnTo>
                    <a:pt x="864" y="7250"/>
                  </a:lnTo>
                  <a:lnTo>
                    <a:pt x="815" y="7240"/>
                  </a:lnTo>
                  <a:lnTo>
                    <a:pt x="764" y="7229"/>
                  </a:lnTo>
                  <a:lnTo>
                    <a:pt x="716" y="7215"/>
                  </a:lnTo>
                  <a:lnTo>
                    <a:pt x="670" y="7199"/>
                  </a:lnTo>
                  <a:lnTo>
                    <a:pt x="624" y="7180"/>
                  </a:lnTo>
                  <a:lnTo>
                    <a:pt x="578" y="7161"/>
                  </a:lnTo>
                  <a:lnTo>
                    <a:pt x="534" y="7139"/>
                  </a:lnTo>
                  <a:lnTo>
                    <a:pt x="492" y="7113"/>
                  </a:lnTo>
                  <a:lnTo>
                    <a:pt x="451" y="7088"/>
                  </a:lnTo>
                  <a:lnTo>
                    <a:pt x="410" y="7058"/>
                  </a:lnTo>
                  <a:lnTo>
                    <a:pt x="373" y="7029"/>
                  </a:lnTo>
                  <a:lnTo>
                    <a:pt x="335" y="6996"/>
                  </a:lnTo>
                  <a:lnTo>
                    <a:pt x="300" y="6964"/>
                  </a:lnTo>
                  <a:lnTo>
                    <a:pt x="265" y="6927"/>
                  </a:lnTo>
                  <a:lnTo>
                    <a:pt x="233" y="6892"/>
                  </a:lnTo>
                  <a:lnTo>
                    <a:pt x="203" y="6851"/>
                  </a:lnTo>
                  <a:lnTo>
                    <a:pt x="175" y="6813"/>
                  </a:lnTo>
                  <a:lnTo>
                    <a:pt x="149" y="6770"/>
                  </a:lnTo>
                  <a:lnTo>
                    <a:pt x="124" y="6729"/>
                  </a:lnTo>
                  <a:lnTo>
                    <a:pt x="101" y="6683"/>
                  </a:lnTo>
                  <a:lnTo>
                    <a:pt x="81" y="6638"/>
                  </a:lnTo>
                  <a:lnTo>
                    <a:pt x="62" y="6592"/>
                  </a:lnTo>
                  <a:lnTo>
                    <a:pt x="46" y="6546"/>
                  </a:lnTo>
                  <a:lnTo>
                    <a:pt x="33" y="6498"/>
                  </a:lnTo>
                  <a:lnTo>
                    <a:pt x="21" y="6449"/>
                  </a:lnTo>
                  <a:lnTo>
                    <a:pt x="11" y="6397"/>
                  </a:lnTo>
                  <a:lnTo>
                    <a:pt x="5" y="6346"/>
                  </a:lnTo>
                  <a:lnTo>
                    <a:pt x="3" y="6295"/>
                  </a:lnTo>
                  <a:lnTo>
                    <a:pt x="0" y="6241"/>
                  </a:lnTo>
                  <a:lnTo>
                    <a:pt x="0" y="1019"/>
                  </a:lnTo>
                  <a:lnTo>
                    <a:pt x="3" y="967"/>
                  </a:lnTo>
                  <a:lnTo>
                    <a:pt x="5" y="916"/>
                  </a:lnTo>
                  <a:lnTo>
                    <a:pt x="11" y="865"/>
                  </a:lnTo>
                  <a:lnTo>
                    <a:pt x="21" y="814"/>
                  </a:lnTo>
                  <a:lnTo>
                    <a:pt x="33" y="766"/>
                  </a:lnTo>
                  <a:lnTo>
                    <a:pt x="46" y="716"/>
                  </a:lnTo>
                  <a:lnTo>
                    <a:pt x="62" y="668"/>
                  </a:lnTo>
                  <a:lnTo>
                    <a:pt x="81" y="622"/>
                  </a:lnTo>
                  <a:lnTo>
                    <a:pt x="101" y="577"/>
                  </a:lnTo>
                  <a:lnTo>
                    <a:pt x="124" y="534"/>
                  </a:lnTo>
                  <a:lnTo>
                    <a:pt x="149" y="490"/>
                  </a:lnTo>
                  <a:lnTo>
                    <a:pt x="175" y="449"/>
                  </a:lnTo>
                  <a:lnTo>
                    <a:pt x="203" y="409"/>
                  </a:lnTo>
                  <a:lnTo>
                    <a:pt x="233" y="372"/>
                  </a:lnTo>
                  <a:lnTo>
                    <a:pt x="265" y="334"/>
                  </a:lnTo>
                  <a:lnTo>
                    <a:pt x="300" y="299"/>
                  </a:lnTo>
                  <a:lnTo>
                    <a:pt x="335" y="267"/>
                  </a:lnTo>
                  <a:lnTo>
                    <a:pt x="373" y="234"/>
                  </a:lnTo>
                  <a:lnTo>
                    <a:pt x="410" y="204"/>
                  </a:lnTo>
                  <a:lnTo>
                    <a:pt x="451" y="175"/>
                  </a:lnTo>
                  <a:lnTo>
                    <a:pt x="492" y="147"/>
                  </a:lnTo>
                  <a:lnTo>
                    <a:pt x="534" y="124"/>
                  </a:lnTo>
                  <a:lnTo>
                    <a:pt x="578" y="101"/>
                  </a:lnTo>
                  <a:lnTo>
                    <a:pt x="624" y="80"/>
                  </a:lnTo>
                  <a:lnTo>
                    <a:pt x="670" y="62"/>
                  </a:lnTo>
                  <a:lnTo>
                    <a:pt x="716" y="45"/>
                  </a:lnTo>
                  <a:lnTo>
                    <a:pt x="764" y="32"/>
                  </a:lnTo>
                  <a:lnTo>
                    <a:pt x="815" y="21"/>
                  </a:lnTo>
                  <a:lnTo>
                    <a:pt x="864" y="13"/>
                  </a:lnTo>
                  <a:lnTo>
                    <a:pt x="916" y="5"/>
                  </a:lnTo>
                  <a:lnTo>
                    <a:pt x="967" y="2"/>
                  </a:lnTo>
                  <a:lnTo>
                    <a:pt x="1020" y="0"/>
                  </a:lnTo>
                  <a:lnTo>
                    <a:pt x="7997" y="0"/>
                  </a:lnTo>
                  <a:lnTo>
                    <a:pt x="8048" y="2"/>
                  </a:lnTo>
                  <a:lnTo>
                    <a:pt x="8102" y="5"/>
                  </a:lnTo>
                  <a:lnTo>
                    <a:pt x="8153" y="13"/>
                  </a:lnTo>
                  <a:lnTo>
                    <a:pt x="8202" y="21"/>
                  </a:lnTo>
                  <a:lnTo>
                    <a:pt x="8250" y="32"/>
                  </a:lnTo>
                  <a:lnTo>
                    <a:pt x="8299" y="45"/>
                  </a:lnTo>
                  <a:lnTo>
                    <a:pt x="8347" y="62"/>
                  </a:lnTo>
                  <a:lnTo>
                    <a:pt x="8393" y="80"/>
                  </a:lnTo>
                  <a:lnTo>
                    <a:pt x="8439" y="101"/>
                  </a:lnTo>
                  <a:lnTo>
                    <a:pt x="8483" y="124"/>
                  </a:lnTo>
                  <a:lnTo>
                    <a:pt x="8526" y="147"/>
                  </a:lnTo>
                  <a:lnTo>
                    <a:pt x="8566" y="175"/>
                  </a:lnTo>
                  <a:lnTo>
                    <a:pt x="8607" y="204"/>
                  </a:lnTo>
                  <a:lnTo>
                    <a:pt x="8644" y="234"/>
                  </a:lnTo>
                  <a:lnTo>
                    <a:pt x="8683" y="267"/>
                  </a:lnTo>
                  <a:lnTo>
                    <a:pt x="8717" y="299"/>
                  </a:lnTo>
                  <a:lnTo>
                    <a:pt x="8752" y="334"/>
                  </a:lnTo>
                  <a:lnTo>
                    <a:pt x="8782" y="372"/>
                  </a:lnTo>
                  <a:lnTo>
                    <a:pt x="8814" y="409"/>
                  </a:lnTo>
                  <a:lnTo>
                    <a:pt x="8842" y="449"/>
                  </a:lnTo>
                  <a:lnTo>
                    <a:pt x="8869" y="490"/>
                  </a:lnTo>
                  <a:lnTo>
                    <a:pt x="8893" y="534"/>
                  </a:lnTo>
                  <a:lnTo>
                    <a:pt x="8915" y="577"/>
                  </a:lnTo>
                  <a:lnTo>
                    <a:pt x="8936" y="622"/>
                  </a:lnTo>
                  <a:lnTo>
                    <a:pt x="8955" y="668"/>
                  </a:lnTo>
                  <a:lnTo>
                    <a:pt x="8971" y="716"/>
                  </a:lnTo>
                  <a:lnTo>
                    <a:pt x="8984" y="766"/>
                  </a:lnTo>
                  <a:lnTo>
                    <a:pt x="8996" y="814"/>
                  </a:lnTo>
                  <a:lnTo>
                    <a:pt x="9003" y="865"/>
                  </a:lnTo>
                  <a:lnTo>
                    <a:pt x="9012" y="916"/>
                  </a:lnTo>
                  <a:lnTo>
                    <a:pt x="9014" y="967"/>
                  </a:lnTo>
                  <a:lnTo>
                    <a:pt x="9017" y="1019"/>
                  </a:lnTo>
                  <a:lnTo>
                    <a:pt x="9017" y="6241"/>
                  </a:lnTo>
                  <a:close/>
                </a:path>
              </a:pathLst>
            </a:custGeom>
            <a:solidFill>
              <a:srgbClr val="3aa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143000" y="2436840"/>
              <a:ext cx="1459080" cy="1108080"/>
            </a:xfrm>
            <a:custGeom>
              <a:avLst/>
              <a:gdLst/>
              <a:ahLst/>
              <a:rect l="l" t="t" r="r" b="b"/>
              <a:pathLst>
                <a:path w="9032" h="7275">
                  <a:moveTo>
                    <a:pt x="9024" y="6247"/>
                  </a:moveTo>
                  <a:lnTo>
                    <a:pt x="9016" y="6247"/>
                  </a:lnTo>
                  <a:lnTo>
                    <a:pt x="9014" y="6301"/>
                  </a:lnTo>
                  <a:lnTo>
                    <a:pt x="9010" y="6352"/>
                  </a:lnTo>
                  <a:lnTo>
                    <a:pt x="9003" y="6403"/>
                  </a:lnTo>
                  <a:lnTo>
                    <a:pt x="8994" y="6452"/>
                  </a:lnTo>
                  <a:lnTo>
                    <a:pt x="8984" y="6500"/>
                  </a:lnTo>
                  <a:lnTo>
                    <a:pt x="8970" y="6550"/>
                  </a:lnTo>
                  <a:lnTo>
                    <a:pt x="8954" y="6595"/>
                  </a:lnTo>
                  <a:lnTo>
                    <a:pt x="8934" y="6641"/>
                  </a:lnTo>
                  <a:lnTo>
                    <a:pt x="8916" y="6687"/>
                  </a:lnTo>
                  <a:lnTo>
                    <a:pt x="8892" y="6730"/>
                  </a:lnTo>
                  <a:lnTo>
                    <a:pt x="8867" y="6774"/>
                  </a:lnTo>
                  <a:lnTo>
                    <a:pt x="8844" y="6813"/>
                  </a:lnTo>
                  <a:lnTo>
                    <a:pt x="8814" y="6854"/>
                  </a:lnTo>
                  <a:lnTo>
                    <a:pt x="8784" y="6892"/>
                  </a:lnTo>
                  <a:lnTo>
                    <a:pt x="8752" y="6928"/>
                  </a:lnTo>
                  <a:lnTo>
                    <a:pt x="8719" y="6962"/>
                  </a:lnTo>
                  <a:lnTo>
                    <a:pt x="8684" y="6997"/>
                  </a:lnTo>
                  <a:lnTo>
                    <a:pt x="8646" y="7030"/>
                  </a:lnTo>
                  <a:lnTo>
                    <a:pt x="8609" y="7059"/>
                  </a:lnTo>
                  <a:lnTo>
                    <a:pt x="8568" y="7087"/>
                  </a:lnTo>
                  <a:lnTo>
                    <a:pt x="8527" y="7113"/>
                  </a:lnTo>
                  <a:lnTo>
                    <a:pt x="8487" y="7138"/>
                  </a:lnTo>
                  <a:lnTo>
                    <a:pt x="8441" y="7159"/>
                  </a:lnTo>
                  <a:lnTo>
                    <a:pt x="8398" y="7181"/>
                  </a:lnTo>
                  <a:lnTo>
                    <a:pt x="8352" y="7197"/>
                  </a:lnTo>
                  <a:lnTo>
                    <a:pt x="8303" y="7213"/>
                  </a:lnTo>
                  <a:lnTo>
                    <a:pt x="8257" y="7227"/>
                  </a:lnTo>
                  <a:lnTo>
                    <a:pt x="8206" y="7240"/>
                  </a:lnTo>
                  <a:lnTo>
                    <a:pt x="8158" y="7248"/>
                  </a:lnTo>
                  <a:lnTo>
                    <a:pt x="8106" y="7253"/>
                  </a:lnTo>
                  <a:lnTo>
                    <a:pt x="8055" y="7259"/>
                  </a:lnTo>
                  <a:lnTo>
                    <a:pt x="8004" y="7259"/>
                  </a:lnTo>
                  <a:lnTo>
                    <a:pt x="1027" y="7259"/>
                  </a:lnTo>
                  <a:lnTo>
                    <a:pt x="974" y="7259"/>
                  </a:lnTo>
                  <a:lnTo>
                    <a:pt x="923" y="7253"/>
                  </a:lnTo>
                  <a:lnTo>
                    <a:pt x="874" y="7248"/>
                  </a:lnTo>
                  <a:lnTo>
                    <a:pt x="822" y="7240"/>
                  </a:lnTo>
                  <a:lnTo>
                    <a:pt x="774" y="7227"/>
                  </a:lnTo>
                  <a:lnTo>
                    <a:pt x="725" y="7213"/>
                  </a:lnTo>
                  <a:lnTo>
                    <a:pt x="679" y="7197"/>
                  </a:lnTo>
                  <a:lnTo>
                    <a:pt x="633" y="7181"/>
                  </a:lnTo>
                  <a:lnTo>
                    <a:pt x="587" y="7159"/>
                  </a:lnTo>
                  <a:lnTo>
                    <a:pt x="544" y="7138"/>
                  </a:lnTo>
                  <a:lnTo>
                    <a:pt x="502" y="7113"/>
                  </a:lnTo>
                  <a:lnTo>
                    <a:pt x="461" y="7087"/>
                  </a:lnTo>
                  <a:lnTo>
                    <a:pt x="423" y="7059"/>
                  </a:lnTo>
                  <a:lnTo>
                    <a:pt x="382" y="7030"/>
                  </a:lnTo>
                  <a:lnTo>
                    <a:pt x="348" y="6997"/>
                  </a:lnTo>
                  <a:lnTo>
                    <a:pt x="313" y="6962"/>
                  </a:lnTo>
                  <a:lnTo>
                    <a:pt x="277" y="6928"/>
                  </a:lnTo>
                  <a:lnTo>
                    <a:pt x="247" y="6892"/>
                  </a:lnTo>
                  <a:lnTo>
                    <a:pt x="215" y="6854"/>
                  </a:lnTo>
                  <a:lnTo>
                    <a:pt x="188" y="6813"/>
                  </a:lnTo>
                  <a:lnTo>
                    <a:pt x="161" y="6774"/>
                  </a:lnTo>
                  <a:lnTo>
                    <a:pt x="137" y="6730"/>
                  </a:lnTo>
                  <a:lnTo>
                    <a:pt x="115" y="6687"/>
                  </a:lnTo>
                  <a:lnTo>
                    <a:pt x="94" y="6641"/>
                  </a:lnTo>
                  <a:lnTo>
                    <a:pt x="78" y="6595"/>
                  </a:lnTo>
                  <a:lnTo>
                    <a:pt x="62" y="6550"/>
                  </a:lnTo>
                  <a:lnTo>
                    <a:pt x="48" y="6500"/>
                  </a:lnTo>
                  <a:lnTo>
                    <a:pt x="37" y="6452"/>
                  </a:lnTo>
                  <a:lnTo>
                    <a:pt x="26" y="6403"/>
                  </a:lnTo>
                  <a:lnTo>
                    <a:pt x="21" y="6352"/>
                  </a:lnTo>
                  <a:lnTo>
                    <a:pt x="16" y="6301"/>
                  </a:lnTo>
                  <a:lnTo>
                    <a:pt x="16" y="6247"/>
                  </a:lnTo>
                  <a:lnTo>
                    <a:pt x="16" y="1025"/>
                  </a:lnTo>
                  <a:lnTo>
                    <a:pt x="16" y="973"/>
                  </a:lnTo>
                  <a:lnTo>
                    <a:pt x="21" y="922"/>
                  </a:lnTo>
                  <a:lnTo>
                    <a:pt x="26" y="871"/>
                  </a:lnTo>
                  <a:lnTo>
                    <a:pt x="37" y="823"/>
                  </a:lnTo>
                  <a:lnTo>
                    <a:pt x="48" y="774"/>
                  </a:lnTo>
                  <a:lnTo>
                    <a:pt x="62" y="726"/>
                  </a:lnTo>
                  <a:lnTo>
                    <a:pt x="78" y="677"/>
                  </a:lnTo>
                  <a:lnTo>
                    <a:pt x="94" y="632"/>
                  </a:lnTo>
                  <a:lnTo>
                    <a:pt x="115" y="588"/>
                  </a:lnTo>
                  <a:lnTo>
                    <a:pt x="137" y="545"/>
                  </a:lnTo>
                  <a:lnTo>
                    <a:pt x="161" y="501"/>
                  </a:lnTo>
                  <a:lnTo>
                    <a:pt x="188" y="461"/>
                  </a:lnTo>
                  <a:lnTo>
                    <a:pt x="215" y="421"/>
                  </a:lnTo>
                  <a:lnTo>
                    <a:pt x="247" y="383"/>
                  </a:lnTo>
                  <a:lnTo>
                    <a:pt x="277" y="346"/>
                  </a:lnTo>
                  <a:lnTo>
                    <a:pt x="313" y="310"/>
                  </a:lnTo>
                  <a:lnTo>
                    <a:pt x="348" y="278"/>
                  </a:lnTo>
                  <a:lnTo>
                    <a:pt x="382" y="245"/>
                  </a:lnTo>
                  <a:lnTo>
                    <a:pt x="423" y="216"/>
                  </a:lnTo>
                  <a:lnTo>
                    <a:pt x="461" y="189"/>
                  </a:lnTo>
                  <a:lnTo>
                    <a:pt x="502" y="162"/>
                  </a:lnTo>
                  <a:lnTo>
                    <a:pt x="544" y="137"/>
                  </a:lnTo>
                  <a:lnTo>
                    <a:pt x="587" y="114"/>
                  </a:lnTo>
                  <a:lnTo>
                    <a:pt x="633" y="95"/>
                  </a:lnTo>
                  <a:lnTo>
                    <a:pt x="679" y="75"/>
                  </a:lnTo>
                  <a:lnTo>
                    <a:pt x="725" y="59"/>
                  </a:lnTo>
                  <a:lnTo>
                    <a:pt x="774" y="45"/>
                  </a:lnTo>
                  <a:lnTo>
                    <a:pt x="822" y="35"/>
                  </a:lnTo>
                  <a:lnTo>
                    <a:pt x="874" y="27"/>
                  </a:lnTo>
                  <a:lnTo>
                    <a:pt x="923" y="19"/>
                  </a:lnTo>
                  <a:lnTo>
                    <a:pt x="974" y="17"/>
                  </a:lnTo>
                  <a:lnTo>
                    <a:pt x="1027" y="13"/>
                  </a:lnTo>
                  <a:lnTo>
                    <a:pt x="8004" y="13"/>
                  </a:lnTo>
                  <a:lnTo>
                    <a:pt x="8055" y="17"/>
                  </a:lnTo>
                  <a:lnTo>
                    <a:pt x="8106" y="19"/>
                  </a:lnTo>
                  <a:lnTo>
                    <a:pt x="8158" y="27"/>
                  </a:lnTo>
                  <a:lnTo>
                    <a:pt x="8206" y="35"/>
                  </a:lnTo>
                  <a:lnTo>
                    <a:pt x="8257" y="45"/>
                  </a:lnTo>
                  <a:lnTo>
                    <a:pt x="8303" y="59"/>
                  </a:lnTo>
                  <a:lnTo>
                    <a:pt x="8352" y="75"/>
                  </a:lnTo>
                  <a:lnTo>
                    <a:pt x="8398" y="95"/>
                  </a:lnTo>
                  <a:lnTo>
                    <a:pt x="8441" y="114"/>
                  </a:lnTo>
                  <a:lnTo>
                    <a:pt x="8487" y="137"/>
                  </a:lnTo>
                  <a:lnTo>
                    <a:pt x="8527" y="162"/>
                  </a:lnTo>
                  <a:lnTo>
                    <a:pt x="8568" y="189"/>
                  </a:lnTo>
                  <a:lnTo>
                    <a:pt x="8609" y="216"/>
                  </a:lnTo>
                  <a:lnTo>
                    <a:pt x="8646" y="245"/>
                  </a:lnTo>
                  <a:lnTo>
                    <a:pt x="8684" y="278"/>
                  </a:lnTo>
                  <a:lnTo>
                    <a:pt x="8719" y="310"/>
                  </a:lnTo>
                  <a:lnTo>
                    <a:pt x="8752" y="346"/>
                  </a:lnTo>
                  <a:lnTo>
                    <a:pt x="8784" y="383"/>
                  </a:lnTo>
                  <a:lnTo>
                    <a:pt x="8814" y="421"/>
                  </a:lnTo>
                  <a:lnTo>
                    <a:pt x="8844" y="461"/>
                  </a:lnTo>
                  <a:lnTo>
                    <a:pt x="8867" y="501"/>
                  </a:lnTo>
                  <a:lnTo>
                    <a:pt x="8892" y="545"/>
                  </a:lnTo>
                  <a:lnTo>
                    <a:pt x="8916" y="588"/>
                  </a:lnTo>
                  <a:lnTo>
                    <a:pt x="8934" y="632"/>
                  </a:lnTo>
                  <a:lnTo>
                    <a:pt x="8954" y="677"/>
                  </a:lnTo>
                  <a:lnTo>
                    <a:pt x="8970" y="726"/>
                  </a:lnTo>
                  <a:lnTo>
                    <a:pt x="8984" y="774"/>
                  </a:lnTo>
                  <a:lnTo>
                    <a:pt x="8994" y="823"/>
                  </a:lnTo>
                  <a:lnTo>
                    <a:pt x="9003" y="871"/>
                  </a:lnTo>
                  <a:lnTo>
                    <a:pt x="9010" y="922"/>
                  </a:lnTo>
                  <a:lnTo>
                    <a:pt x="9014" y="973"/>
                  </a:lnTo>
                  <a:lnTo>
                    <a:pt x="9016" y="1025"/>
                  </a:lnTo>
                  <a:lnTo>
                    <a:pt x="9016" y="6247"/>
                  </a:lnTo>
                  <a:lnTo>
                    <a:pt x="9024" y="6247"/>
                  </a:lnTo>
                  <a:lnTo>
                    <a:pt x="9032" y="6247"/>
                  </a:lnTo>
                  <a:lnTo>
                    <a:pt x="9032" y="1025"/>
                  </a:lnTo>
                  <a:lnTo>
                    <a:pt x="9030" y="973"/>
                  </a:lnTo>
                  <a:lnTo>
                    <a:pt x="9026" y="920"/>
                  </a:lnTo>
                  <a:lnTo>
                    <a:pt x="9019" y="869"/>
                  </a:lnTo>
                  <a:lnTo>
                    <a:pt x="9010" y="820"/>
                  </a:lnTo>
                  <a:lnTo>
                    <a:pt x="9000" y="768"/>
                  </a:lnTo>
                  <a:lnTo>
                    <a:pt x="8986" y="720"/>
                  </a:lnTo>
                  <a:lnTo>
                    <a:pt x="8970" y="671"/>
                  </a:lnTo>
                  <a:lnTo>
                    <a:pt x="8952" y="625"/>
                  </a:lnTo>
                  <a:lnTo>
                    <a:pt x="8929" y="580"/>
                  </a:lnTo>
                  <a:lnTo>
                    <a:pt x="8908" y="537"/>
                  </a:lnTo>
                  <a:lnTo>
                    <a:pt x="8883" y="494"/>
                  </a:lnTo>
                  <a:lnTo>
                    <a:pt x="8856" y="450"/>
                  </a:lnTo>
                  <a:lnTo>
                    <a:pt x="8827" y="410"/>
                  </a:lnTo>
                  <a:lnTo>
                    <a:pt x="8798" y="372"/>
                  </a:lnTo>
                  <a:lnTo>
                    <a:pt x="8765" y="335"/>
                  </a:lnTo>
                  <a:lnTo>
                    <a:pt x="8729" y="300"/>
                  </a:lnTo>
                  <a:lnTo>
                    <a:pt x="8695" y="264"/>
                  </a:lnTo>
                  <a:lnTo>
                    <a:pt x="8657" y="232"/>
                  </a:lnTo>
                  <a:lnTo>
                    <a:pt x="8619" y="202"/>
                  </a:lnTo>
                  <a:lnTo>
                    <a:pt x="8579" y="176"/>
                  </a:lnTo>
                  <a:lnTo>
                    <a:pt x="8536" y="148"/>
                  </a:lnTo>
                  <a:lnTo>
                    <a:pt x="8492" y="121"/>
                  </a:lnTo>
                  <a:lnTo>
                    <a:pt x="8449" y="100"/>
                  </a:lnTo>
                  <a:lnTo>
                    <a:pt x="8403" y="79"/>
                  </a:lnTo>
                  <a:lnTo>
                    <a:pt x="8358" y="63"/>
                  </a:lnTo>
                  <a:lnTo>
                    <a:pt x="8308" y="45"/>
                  </a:lnTo>
                  <a:lnTo>
                    <a:pt x="8260" y="33"/>
                  </a:lnTo>
                  <a:lnTo>
                    <a:pt x="8211" y="19"/>
                  </a:lnTo>
                  <a:lnTo>
                    <a:pt x="8160" y="11"/>
                  </a:lnTo>
                  <a:lnTo>
                    <a:pt x="8109" y="6"/>
                  </a:lnTo>
                  <a:lnTo>
                    <a:pt x="8057" y="0"/>
                  </a:lnTo>
                  <a:lnTo>
                    <a:pt x="8004" y="0"/>
                  </a:lnTo>
                  <a:lnTo>
                    <a:pt x="1027" y="0"/>
                  </a:lnTo>
                  <a:lnTo>
                    <a:pt x="974" y="0"/>
                  </a:lnTo>
                  <a:lnTo>
                    <a:pt x="923" y="6"/>
                  </a:lnTo>
                  <a:lnTo>
                    <a:pt x="871" y="11"/>
                  </a:lnTo>
                  <a:lnTo>
                    <a:pt x="820" y="19"/>
                  </a:lnTo>
                  <a:lnTo>
                    <a:pt x="771" y="33"/>
                  </a:lnTo>
                  <a:lnTo>
                    <a:pt x="723" y="45"/>
                  </a:lnTo>
                  <a:lnTo>
                    <a:pt x="674" y="63"/>
                  </a:lnTo>
                  <a:lnTo>
                    <a:pt x="628" y="79"/>
                  </a:lnTo>
                  <a:lnTo>
                    <a:pt x="582" y="100"/>
                  </a:lnTo>
                  <a:lnTo>
                    <a:pt x="536" y="121"/>
                  </a:lnTo>
                  <a:lnTo>
                    <a:pt x="493" y="148"/>
                  </a:lnTo>
                  <a:lnTo>
                    <a:pt x="453" y="176"/>
                  </a:lnTo>
                  <a:lnTo>
                    <a:pt x="412" y="202"/>
                  </a:lnTo>
                  <a:lnTo>
                    <a:pt x="375" y="232"/>
                  </a:lnTo>
                  <a:lnTo>
                    <a:pt x="336" y="264"/>
                  </a:lnTo>
                  <a:lnTo>
                    <a:pt x="302" y="300"/>
                  </a:lnTo>
                  <a:lnTo>
                    <a:pt x="267" y="335"/>
                  </a:lnTo>
                  <a:lnTo>
                    <a:pt x="234" y="372"/>
                  </a:lnTo>
                  <a:lnTo>
                    <a:pt x="205" y="410"/>
                  </a:lnTo>
                  <a:lnTo>
                    <a:pt x="175" y="450"/>
                  </a:lnTo>
                  <a:lnTo>
                    <a:pt x="148" y="494"/>
                  </a:lnTo>
                  <a:lnTo>
                    <a:pt x="124" y="537"/>
                  </a:lnTo>
                  <a:lnTo>
                    <a:pt x="102" y="580"/>
                  </a:lnTo>
                  <a:lnTo>
                    <a:pt x="80" y="625"/>
                  </a:lnTo>
                  <a:lnTo>
                    <a:pt x="62" y="671"/>
                  </a:lnTo>
                  <a:lnTo>
                    <a:pt x="46" y="720"/>
                  </a:lnTo>
                  <a:lnTo>
                    <a:pt x="32" y="768"/>
                  </a:lnTo>
                  <a:lnTo>
                    <a:pt x="21" y="820"/>
                  </a:lnTo>
                  <a:lnTo>
                    <a:pt x="10" y="869"/>
                  </a:lnTo>
                  <a:lnTo>
                    <a:pt x="5" y="920"/>
                  </a:lnTo>
                  <a:lnTo>
                    <a:pt x="2" y="973"/>
                  </a:lnTo>
                  <a:lnTo>
                    <a:pt x="0" y="1025"/>
                  </a:lnTo>
                  <a:lnTo>
                    <a:pt x="0" y="6247"/>
                  </a:lnTo>
                  <a:lnTo>
                    <a:pt x="2" y="6301"/>
                  </a:lnTo>
                  <a:lnTo>
                    <a:pt x="5" y="6352"/>
                  </a:lnTo>
                  <a:lnTo>
                    <a:pt x="10" y="6403"/>
                  </a:lnTo>
                  <a:lnTo>
                    <a:pt x="21" y="6455"/>
                  </a:lnTo>
                  <a:lnTo>
                    <a:pt x="32" y="6506"/>
                  </a:lnTo>
                  <a:lnTo>
                    <a:pt x="46" y="6555"/>
                  </a:lnTo>
                  <a:lnTo>
                    <a:pt x="62" y="6601"/>
                  </a:lnTo>
                  <a:lnTo>
                    <a:pt x="80" y="6649"/>
                  </a:lnTo>
                  <a:lnTo>
                    <a:pt x="102" y="6695"/>
                  </a:lnTo>
                  <a:lnTo>
                    <a:pt x="124" y="6739"/>
                  </a:lnTo>
                  <a:lnTo>
                    <a:pt x="148" y="6781"/>
                  </a:lnTo>
                  <a:lnTo>
                    <a:pt x="175" y="6822"/>
                  </a:lnTo>
                  <a:lnTo>
                    <a:pt x="205" y="6862"/>
                  </a:lnTo>
                  <a:lnTo>
                    <a:pt x="234" y="6903"/>
                  </a:lnTo>
                  <a:lnTo>
                    <a:pt x="267" y="6938"/>
                  </a:lnTo>
                  <a:lnTo>
                    <a:pt x="302" y="6976"/>
                  </a:lnTo>
                  <a:lnTo>
                    <a:pt x="336" y="7008"/>
                  </a:lnTo>
                  <a:lnTo>
                    <a:pt x="375" y="7041"/>
                  </a:lnTo>
                  <a:lnTo>
                    <a:pt x="412" y="7073"/>
                  </a:lnTo>
                  <a:lnTo>
                    <a:pt x="453" y="7099"/>
                  </a:lnTo>
                  <a:lnTo>
                    <a:pt x="493" y="7126"/>
                  </a:lnTo>
                  <a:lnTo>
                    <a:pt x="536" y="7151"/>
                  </a:lnTo>
                  <a:lnTo>
                    <a:pt x="582" y="7175"/>
                  </a:lnTo>
                  <a:lnTo>
                    <a:pt x="628" y="7195"/>
                  </a:lnTo>
                  <a:lnTo>
                    <a:pt x="674" y="7213"/>
                  </a:lnTo>
                  <a:lnTo>
                    <a:pt x="723" y="7230"/>
                  </a:lnTo>
                  <a:lnTo>
                    <a:pt x="771" y="7243"/>
                  </a:lnTo>
                  <a:lnTo>
                    <a:pt x="820" y="7253"/>
                  </a:lnTo>
                  <a:lnTo>
                    <a:pt x="871" y="7264"/>
                  </a:lnTo>
                  <a:lnTo>
                    <a:pt x="923" y="7269"/>
                  </a:lnTo>
                  <a:lnTo>
                    <a:pt x="974" y="7275"/>
                  </a:lnTo>
                  <a:lnTo>
                    <a:pt x="1027" y="7275"/>
                  </a:lnTo>
                  <a:lnTo>
                    <a:pt x="8004" y="7275"/>
                  </a:lnTo>
                  <a:lnTo>
                    <a:pt x="8057" y="7275"/>
                  </a:lnTo>
                  <a:lnTo>
                    <a:pt x="8109" y="7269"/>
                  </a:lnTo>
                  <a:lnTo>
                    <a:pt x="8160" y="7264"/>
                  </a:lnTo>
                  <a:lnTo>
                    <a:pt x="8211" y="7253"/>
                  </a:lnTo>
                  <a:lnTo>
                    <a:pt x="8260" y="7243"/>
                  </a:lnTo>
                  <a:lnTo>
                    <a:pt x="8308" y="7230"/>
                  </a:lnTo>
                  <a:lnTo>
                    <a:pt x="8358" y="7213"/>
                  </a:lnTo>
                  <a:lnTo>
                    <a:pt x="8403" y="7195"/>
                  </a:lnTo>
                  <a:lnTo>
                    <a:pt x="8449" y="7175"/>
                  </a:lnTo>
                  <a:lnTo>
                    <a:pt x="8492" y="7151"/>
                  </a:lnTo>
                  <a:lnTo>
                    <a:pt x="8536" y="7126"/>
                  </a:lnTo>
                  <a:lnTo>
                    <a:pt x="8579" y="7099"/>
                  </a:lnTo>
                  <a:lnTo>
                    <a:pt x="8619" y="7073"/>
                  </a:lnTo>
                  <a:lnTo>
                    <a:pt x="8657" y="7041"/>
                  </a:lnTo>
                  <a:lnTo>
                    <a:pt x="8695" y="7008"/>
                  </a:lnTo>
                  <a:lnTo>
                    <a:pt x="8729" y="6976"/>
                  </a:lnTo>
                  <a:lnTo>
                    <a:pt x="8765" y="6938"/>
                  </a:lnTo>
                  <a:lnTo>
                    <a:pt x="8798" y="6903"/>
                  </a:lnTo>
                  <a:lnTo>
                    <a:pt x="8827" y="6862"/>
                  </a:lnTo>
                  <a:lnTo>
                    <a:pt x="8856" y="6822"/>
                  </a:lnTo>
                  <a:lnTo>
                    <a:pt x="8883" y="6781"/>
                  </a:lnTo>
                  <a:lnTo>
                    <a:pt x="8908" y="6739"/>
                  </a:lnTo>
                  <a:lnTo>
                    <a:pt x="8929" y="6695"/>
                  </a:lnTo>
                  <a:lnTo>
                    <a:pt x="8952" y="6649"/>
                  </a:lnTo>
                  <a:lnTo>
                    <a:pt x="8970" y="6601"/>
                  </a:lnTo>
                  <a:lnTo>
                    <a:pt x="8986" y="6555"/>
                  </a:lnTo>
                  <a:lnTo>
                    <a:pt x="9000" y="6506"/>
                  </a:lnTo>
                  <a:lnTo>
                    <a:pt x="9010" y="6455"/>
                  </a:lnTo>
                  <a:lnTo>
                    <a:pt x="9019" y="6403"/>
                  </a:lnTo>
                  <a:lnTo>
                    <a:pt x="9026" y="6352"/>
                  </a:lnTo>
                  <a:lnTo>
                    <a:pt x="9030" y="6301"/>
                  </a:lnTo>
                  <a:lnTo>
                    <a:pt x="9032" y="6247"/>
                  </a:lnTo>
                  <a:lnTo>
                    <a:pt x="9024" y="624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144800" y="2743200"/>
              <a:ext cx="1455480" cy="798480"/>
            </a:xfrm>
            <a:custGeom>
              <a:avLst/>
              <a:gdLst/>
              <a:ahLst/>
              <a:rect l="l" t="t" r="r" b="b"/>
              <a:pathLst>
                <a:path w="9008" h="5255">
                  <a:moveTo>
                    <a:pt x="9000" y="4092"/>
                  </a:moveTo>
                  <a:lnTo>
                    <a:pt x="8838" y="4138"/>
                  </a:lnTo>
                  <a:lnTo>
                    <a:pt x="8671" y="4189"/>
                  </a:lnTo>
                  <a:lnTo>
                    <a:pt x="8501" y="4240"/>
                  </a:lnTo>
                  <a:lnTo>
                    <a:pt x="8331" y="4286"/>
                  </a:lnTo>
                  <a:lnTo>
                    <a:pt x="8161" y="4330"/>
                  </a:lnTo>
                  <a:lnTo>
                    <a:pt x="8077" y="4346"/>
                  </a:lnTo>
                  <a:lnTo>
                    <a:pt x="7993" y="4362"/>
                  </a:lnTo>
                  <a:lnTo>
                    <a:pt x="7912" y="4376"/>
                  </a:lnTo>
                  <a:lnTo>
                    <a:pt x="7831" y="4386"/>
                  </a:lnTo>
                  <a:lnTo>
                    <a:pt x="7753" y="4394"/>
                  </a:lnTo>
                  <a:lnTo>
                    <a:pt x="7675" y="4397"/>
                  </a:lnTo>
                  <a:lnTo>
                    <a:pt x="7683" y="4408"/>
                  </a:lnTo>
                  <a:lnTo>
                    <a:pt x="7723" y="4440"/>
                  </a:lnTo>
                  <a:lnTo>
                    <a:pt x="7764" y="4475"/>
                  </a:lnTo>
                  <a:lnTo>
                    <a:pt x="7804" y="4524"/>
                  </a:lnTo>
                  <a:lnTo>
                    <a:pt x="7839" y="4572"/>
                  </a:lnTo>
                  <a:lnTo>
                    <a:pt x="7871" y="4627"/>
                  </a:lnTo>
                  <a:lnTo>
                    <a:pt x="7899" y="4683"/>
                  </a:lnTo>
                  <a:lnTo>
                    <a:pt x="7921" y="4745"/>
                  </a:lnTo>
                  <a:lnTo>
                    <a:pt x="7937" y="4807"/>
                  </a:lnTo>
                  <a:lnTo>
                    <a:pt x="7945" y="4872"/>
                  </a:lnTo>
                  <a:lnTo>
                    <a:pt x="7947" y="4904"/>
                  </a:lnTo>
                  <a:lnTo>
                    <a:pt x="7947" y="4940"/>
                  </a:lnTo>
                  <a:lnTo>
                    <a:pt x="7947" y="4968"/>
                  </a:lnTo>
                  <a:lnTo>
                    <a:pt x="7947" y="4998"/>
                  </a:lnTo>
                  <a:lnTo>
                    <a:pt x="7947" y="5034"/>
                  </a:lnTo>
                  <a:lnTo>
                    <a:pt x="7945" y="5066"/>
                  </a:lnTo>
                  <a:lnTo>
                    <a:pt x="7939" y="5101"/>
                  </a:lnTo>
                  <a:lnTo>
                    <a:pt x="7933" y="5134"/>
                  </a:lnTo>
                  <a:lnTo>
                    <a:pt x="7926" y="5163"/>
                  </a:lnTo>
                  <a:lnTo>
                    <a:pt x="7915" y="5196"/>
                  </a:lnTo>
                  <a:lnTo>
                    <a:pt x="7905" y="5226"/>
                  </a:lnTo>
                  <a:lnTo>
                    <a:pt x="7891" y="5255"/>
                  </a:lnTo>
                  <a:lnTo>
                    <a:pt x="7988" y="5255"/>
                  </a:lnTo>
                  <a:lnTo>
                    <a:pt x="8039" y="5255"/>
                  </a:lnTo>
                  <a:lnTo>
                    <a:pt x="8090" y="5249"/>
                  </a:lnTo>
                  <a:lnTo>
                    <a:pt x="8142" y="5244"/>
                  </a:lnTo>
                  <a:lnTo>
                    <a:pt x="8190" y="5236"/>
                  </a:lnTo>
                  <a:lnTo>
                    <a:pt x="8241" y="5223"/>
                  </a:lnTo>
                  <a:lnTo>
                    <a:pt x="8287" y="5209"/>
                  </a:lnTo>
                  <a:lnTo>
                    <a:pt x="8336" y="5193"/>
                  </a:lnTo>
                  <a:lnTo>
                    <a:pt x="8382" y="5177"/>
                  </a:lnTo>
                  <a:lnTo>
                    <a:pt x="8425" y="5155"/>
                  </a:lnTo>
                  <a:lnTo>
                    <a:pt x="8471" y="5134"/>
                  </a:lnTo>
                  <a:lnTo>
                    <a:pt x="8511" y="5109"/>
                  </a:lnTo>
                  <a:lnTo>
                    <a:pt x="8552" y="5083"/>
                  </a:lnTo>
                  <a:lnTo>
                    <a:pt x="8593" y="5055"/>
                  </a:lnTo>
                  <a:lnTo>
                    <a:pt x="8630" y="5026"/>
                  </a:lnTo>
                  <a:lnTo>
                    <a:pt x="8668" y="4993"/>
                  </a:lnTo>
                  <a:lnTo>
                    <a:pt x="8703" y="4958"/>
                  </a:lnTo>
                  <a:lnTo>
                    <a:pt x="8736" y="4924"/>
                  </a:lnTo>
                  <a:lnTo>
                    <a:pt x="8768" y="4888"/>
                  </a:lnTo>
                  <a:lnTo>
                    <a:pt x="8798" y="4850"/>
                  </a:lnTo>
                  <a:lnTo>
                    <a:pt x="8828" y="4809"/>
                  </a:lnTo>
                  <a:lnTo>
                    <a:pt x="8851" y="4770"/>
                  </a:lnTo>
                  <a:lnTo>
                    <a:pt x="8876" y="4726"/>
                  </a:lnTo>
                  <a:lnTo>
                    <a:pt x="8900" y="4683"/>
                  </a:lnTo>
                  <a:lnTo>
                    <a:pt x="8918" y="4637"/>
                  </a:lnTo>
                  <a:lnTo>
                    <a:pt x="8938" y="4591"/>
                  </a:lnTo>
                  <a:lnTo>
                    <a:pt x="8954" y="4546"/>
                  </a:lnTo>
                  <a:lnTo>
                    <a:pt x="8968" y="4496"/>
                  </a:lnTo>
                  <a:lnTo>
                    <a:pt x="8978" y="4448"/>
                  </a:lnTo>
                  <a:lnTo>
                    <a:pt x="8987" y="4399"/>
                  </a:lnTo>
                  <a:lnTo>
                    <a:pt x="8994" y="4348"/>
                  </a:lnTo>
                  <a:lnTo>
                    <a:pt x="8998" y="4297"/>
                  </a:lnTo>
                  <a:lnTo>
                    <a:pt x="9000" y="4243"/>
                  </a:lnTo>
                  <a:lnTo>
                    <a:pt x="9008" y="4243"/>
                  </a:lnTo>
                  <a:lnTo>
                    <a:pt x="9000" y="4243"/>
                  </a:lnTo>
                  <a:lnTo>
                    <a:pt x="9000" y="4092"/>
                  </a:lnTo>
                  <a:close/>
                  <a:moveTo>
                    <a:pt x="1892" y="2668"/>
                  </a:moveTo>
                  <a:lnTo>
                    <a:pt x="1262" y="3423"/>
                  </a:lnTo>
                  <a:lnTo>
                    <a:pt x="1300" y="3445"/>
                  </a:lnTo>
                  <a:lnTo>
                    <a:pt x="1335" y="3469"/>
                  </a:lnTo>
                  <a:lnTo>
                    <a:pt x="1354" y="3485"/>
                  </a:lnTo>
                  <a:lnTo>
                    <a:pt x="1370" y="3501"/>
                  </a:lnTo>
                  <a:lnTo>
                    <a:pt x="1381" y="3517"/>
                  </a:lnTo>
                  <a:lnTo>
                    <a:pt x="1392" y="3536"/>
                  </a:lnTo>
                  <a:lnTo>
                    <a:pt x="1400" y="3574"/>
                  </a:lnTo>
                  <a:lnTo>
                    <a:pt x="1406" y="3607"/>
                  </a:lnTo>
                  <a:lnTo>
                    <a:pt x="1402" y="3623"/>
                  </a:lnTo>
                  <a:lnTo>
                    <a:pt x="1400" y="3639"/>
                  </a:lnTo>
                  <a:lnTo>
                    <a:pt x="1395" y="3653"/>
                  </a:lnTo>
                  <a:lnTo>
                    <a:pt x="1386" y="3664"/>
                  </a:lnTo>
                  <a:lnTo>
                    <a:pt x="1370" y="3676"/>
                  </a:lnTo>
                  <a:lnTo>
                    <a:pt x="1351" y="3688"/>
                  </a:lnTo>
                  <a:lnTo>
                    <a:pt x="1330" y="3693"/>
                  </a:lnTo>
                  <a:lnTo>
                    <a:pt x="1305" y="3693"/>
                  </a:lnTo>
                  <a:lnTo>
                    <a:pt x="1287" y="3693"/>
                  </a:lnTo>
                  <a:lnTo>
                    <a:pt x="1266" y="3690"/>
                  </a:lnTo>
                  <a:lnTo>
                    <a:pt x="1278" y="3709"/>
                  </a:lnTo>
                  <a:lnTo>
                    <a:pt x="1287" y="3728"/>
                  </a:lnTo>
                  <a:lnTo>
                    <a:pt x="1292" y="3750"/>
                  </a:lnTo>
                  <a:lnTo>
                    <a:pt x="1295" y="3771"/>
                  </a:lnTo>
                  <a:lnTo>
                    <a:pt x="1292" y="3793"/>
                  </a:lnTo>
                  <a:lnTo>
                    <a:pt x="1287" y="3814"/>
                  </a:lnTo>
                  <a:lnTo>
                    <a:pt x="1278" y="3828"/>
                  </a:lnTo>
                  <a:lnTo>
                    <a:pt x="1271" y="3842"/>
                  </a:lnTo>
                  <a:lnTo>
                    <a:pt x="1260" y="3853"/>
                  </a:lnTo>
                  <a:lnTo>
                    <a:pt x="1246" y="3863"/>
                  </a:lnTo>
                  <a:lnTo>
                    <a:pt x="1230" y="3871"/>
                  </a:lnTo>
                  <a:lnTo>
                    <a:pt x="1214" y="3876"/>
                  </a:lnTo>
                  <a:lnTo>
                    <a:pt x="1195" y="3881"/>
                  </a:lnTo>
                  <a:lnTo>
                    <a:pt x="1176" y="3881"/>
                  </a:lnTo>
                  <a:lnTo>
                    <a:pt x="1174" y="3881"/>
                  </a:lnTo>
                  <a:lnTo>
                    <a:pt x="1149" y="3881"/>
                  </a:lnTo>
                  <a:lnTo>
                    <a:pt x="1130" y="3876"/>
                  </a:lnTo>
                  <a:lnTo>
                    <a:pt x="1103" y="3869"/>
                  </a:lnTo>
                  <a:lnTo>
                    <a:pt x="1117" y="3888"/>
                  </a:lnTo>
                  <a:lnTo>
                    <a:pt x="1128" y="3909"/>
                  </a:lnTo>
                  <a:lnTo>
                    <a:pt x="1133" y="3930"/>
                  </a:lnTo>
                  <a:lnTo>
                    <a:pt x="1135" y="3952"/>
                  </a:lnTo>
                  <a:lnTo>
                    <a:pt x="1133" y="3971"/>
                  </a:lnTo>
                  <a:lnTo>
                    <a:pt x="1128" y="3989"/>
                  </a:lnTo>
                  <a:lnTo>
                    <a:pt x="1119" y="4003"/>
                  </a:lnTo>
                  <a:lnTo>
                    <a:pt x="1109" y="4017"/>
                  </a:lnTo>
                  <a:lnTo>
                    <a:pt x="1098" y="4028"/>
                  </a:lnTo>
                  <a:lnTo>
                    <a:pt x="1084" y="4038"/>
                  </a:lnTo>
                  <a:lnTo>
                    <a:pt x="1071" y="4047"/>
                  </a:lnTo>
                  <a:lnTo>
                    <a:pt x="1057" y="4052"/>
                  </a:lnTo>
                  <a:lnTo>
                    <a:pt x="1043" y="4054"/>
                  </a:lnTo>
                  <a:lnTo>
                    <a:pt x="1031" y="4058"/>
                  </a:lnTo>
                  <a:lnTo>
                    <a:pt x="1017" y="4058"/>
                  </a:lnTo>
                  <a:lnTo>
                    <a:pt x="1015" y="4058"/>
                  </a:lnTo>
                  <a:lnTo>
                    <a:pt x="995" y="4058"/>
                  </a:lnTo>
                  <a:lnTo>
                    <a:pt x="976" y="4054"/>
                  </a:lnTo>
                  <a:lnTo>
                    <a:pt x="958" y="4049"/>
                  </a:lnTo>
                  <a:lnTo>
                    <a:pt x="939" y="4040"/>
                  </a:lnTo>
                  <a:lnTo>
                    <a:pt x="930" y="4049"/>
                  </a:lnTo>
                  <a:lnTo>
                    <a:pt x="930" y="4065"/>
                  </a:lnTo>
                  <a:lnTo>
                    <a:pt x="928" y="4086"/>
                  </a:lnTo>
                  <a:lnTo>
                    <a:pt x="925" y="4109"/>
                  </a:lnTo>
                  <a:lnTo>
                    <a:pt x="914" y="4127"/>
                  </a:lnTo>
                  <a:lnTo>
                    <a:pt x="909" y="4138"/>
                  </a:lnTo>
                  <a:lnTo>
                    <a:pt x="901" y="4143"/>
                  </a:lnTo>
                  <a:lnTo>
                    <a:pt x="893" y="4152"/>
                  </a:lnTo>
                  <a:lnTo>
                    <a:pt x="884" y="4155"/>
                  </a:lnTo>
                  <a:lnTo>
                    <a:pt x="874" y="4160"/>
                  </a:lnTo>
                  <a:lnTo>
                    <a:pt x="863" y="4160"/>
                  </a:lnTo>
                  <a:lnTo>
                    <a:pt x="861" y="4160"/>
                  </a:lnTo>
                  <a:lnTo>
                    <a:pt x="847" y="4157"/>
                  </a:lnTo>
                  <a:lnTo>
                    <a:pt x="833" y="4155"/>
                  </a:lnTo>
                  <a:lnTo>
                    <a:pt x="820" y="4149"/>
                  </a:lnTo>
                  <a:lnTo>
                    <a:pt x="806" y="4141"/>
                  </a:lnTo>
                  <a:lnTo>
                    <a:pt x="774" y="4119"/>
                  </a:lnTo>
                  <a:lnTo>
                    <a:pt x="739" y="4086"/>
                  </a:lnTo>
                  <a:lnTo>
                    <a:pt x="712" y="4079"/>
                  </a:lnTo>
                  <a:lnTo>
                    <a:pt x="684" y="4065"/>
                  </a:lnTo>
                  <a:lnTo>
                    <a:pt x="656" y="4049"/>
                  </a:lnTo>
                  <a:lnTo>
                    <a:pt x="626" y="4030"/>
                  </a:lnTo>
                  <a:lnTo>
                    <a:pt x="594" y="4006"/>
                  </a:lnTo>
                  <a:lnTo>
                    <a:pt x="561" y="3976"/>
                  </a:lnTo>
                  <a:lnTo>
                    <a:pt x="528" y="3941"/>
                  </a:lnTo>
                  <a:lnTo>
                    <a:pt x="493" y="3904"/>
                  </a:lnTo>
                  <a:lnTo>
                    <a:pt x="483" y="3904"/>
                  </a:lnTo>
                  <a:lnTo>
                    <a:pt x="428" y="3906"/>
                  </a:lnTo>
                  <a:lnTo>
                    <a:pt x="231" y="3917"/>
                  </a:lnTo>
                  <a:lnTo>
                    <a:pt x="0" y="3925"/>
                  </a:lnTo>
                  <a:lnTo>
                    <a:pt x="0" y="4243"/>
                  </a:lnTo>
                  <a:lnTo>
                    <a:pt x="0" y="4297"/>
                  </a:lnTo>
                  <a:lnTo>
                    <a:pt x="5" y="4348"/>
                  </a:lnTo>
                  <a:lnTo>
                    <a:pt x="10" y="4399"/>
                  </a:lnTo>
                  <a:lnTo>
                    <a:pt x="21" y="4448"/>
                  </a:lnTo>
                  <a:lnTo>
                    <a:pt x="32" y="4496"/>
                  </a:lnTo>
                  <a:lnTo>
                    <a:pt x="46" y="4546"/>
                  </a:lnTo>
                  <a:lnTo>
                    <a:pt x="62" y="4591"/>
                  </a:lnTo>
                  <a:lnTo>
                    <a:pt x="78" y="4637"/>
                  </a:lnTo>
                  <a:lnTo>
                    <a:pt x="99" y="4683"/>
                  </a:lnTo>
                  <a:lnTo>
                    <a:pt x="121" y="4726"/>
                  </a:lnTo>
                  <a:lnTo>
                    <a:pt x="145" y="4770"/>
                  </a:lnTo>
                  <a:lnTo>
                    <a:pt x="172" y="4809"/>
                  </a:lnTo>
                  <a:lnTo>
                    <a:pt x="199" y="4850"/>
                  </a:lnTo>
                  <a:lnTo>
                    <a:pt x="231" y="4888"/>
                  </a:lnTo>
                  <a:lnTo>
                    <a:pt x="261" y="4924"/>
                  </a:lnTo>
                  <a:lnTo>
                    <a:pt x="297" y="4958"/>
                  </a:lnTo>
                  <a:lnTo>
                    <a:pt x="332" y="4993"/>
                  </a:lnTo>
                  <a:lnTo>
                    <a:pt x="366" y="5026"/>
                  </a:lnTo>
                  <a:lnTo>
                    <a:pt x="407" y="5055"/>
                  </a:lnTo>
                  <a:lnTo>
                    <a:pt x="445" y="5083"/>
                  </a:lnTo>
                  <a:lnTo>
                    <a:pt x="486" y="5109"/>
                  </a:lnTo>
                  <a:lnTo>
                    <a:pt x="528" y="5134"/>
                  </a:lnTo>
                  <a:lnTo>
                    <a:pt x="571" y="5155"/>
                  </a:lnTo>
                  <a:lnTo>
                    <a:pt x="617" y="5177"/>
                  </a:lnTo>
                  <a:lnTo>
                    <a:pt x="663" y="5193"/>
                  </a:lnTo>
                  <a:lnTo>
                    <a:pt x="709" y="5209"/>
                  </a:lnTo>
                  <a:lnTo>
                    <a:pt x="758" y="5223"/>
                  </a:lnTo>
                  <a:lnTo>
                    <a:pt x="806" y="5236"/>
                  </a:lnTo>
                  <a:lnTo>
                    <a:pt x="858" y="5244"/>
                  </a:lnTo>
                  <a:lnTo>
                    <a:pt x="907" y="5249"/>
                  </a:lnTo>
                  <a:lnTo>
                    <a:pt x="958" y="5255"/>
                  </a:lnTo>
                  <a:lnTo>
                    <a:pt x="1011" y="5255"/>
                  </a:lnTo>
                  <a:lnTo>
                    <a:pt x="1546" y="5255"/>
                  </a:lnTo>
                  <a:lnTo>
                    <a:pt x="1530" y="5228"/>
                  </a:lnTo>
                  <a:lnTo>
                    <a:pt x="1516" y="5198"/>
                  </a:lnTo>
                  <a:lnTo>
                    <a:pt x="1508" y="5166"/>
                  </a:lnTo>
                  <a:lnTo>
                    <a:pt x="1505" y="5129"/>
                  </a:lnTo>
                  <a:lnTo>
                    <a:pt x="1508" y="5093"/>
                  </a:lnTo>
                  <a:lnTo>
                    <a:pt x="1516" y="5060"/>
                  </a:lnTo>
                  <a:lnTo>
                    <a:pt x="1530" y="5028"/>
                  </a:lnTo>
                  <a:lnTo>
                    <a:pt x="1546" y="5002"/>
                  </a:lnTo>
                  <a:lnTo>
                    <a:pt x="1567" y="4980"/>
                  </a:lnTo>
                  <a:lnTo>
                    <a:pt x="1579" y="4972"/>
                  </a:lnTo>
                  <a:lnTo>
                    <a:pt x="1589" y="4963"/>
                  </a:lnTo>
                  <a:lnTo>
                    <a:pt x="1602" y="4956"/>
                  </a:lnTo>
                  <a:lnTo>
                    <a:pt x="1616" y="4952"/>
                  </a:lnTo>
                  <a:lnTo>
                    <a:pt x="1630" y="4950"/>
                  </a:lnTo>
                  <a:lnTo>
                    <a:pt x="1646" y="4947"/>
                  </a:lnTo>
                  <a:lnTo>
                    <a:pt x="2574" y="4947"/>
                  </a:lnTo>
                  <a:lnTo>
                    <a:pt x="2590" y="4950"/>
                  </a:lnTo>
                  <a:lnTo>
                    <a:pt x="2603" y="4952"/>
                  </a:lnTo>
                  <a:lnTo>
                    <a:pt x="2617" y="4956"/>
                  </a:lnTo>
                  <a:lnTo>
                    <a:pt x="2631" y="4963"/>
                  </a:lnTo>
                  <a:lnTo>
                    <a:pt x="2655" y="4980"/>
                  </a:lnTo>
                  <a:lnTo>
                    <a:pt x="2674" y="5002"/>
                  </a:lnTo>
                  <a:lnTo>
                    <a:pt x="2690" y="5028"/>
                  </a:lnTo>
                  <a:lnTo>
                    <a:pt x="2704" y="5060"/>
                  </a:lnTo>
                  <a:lnTo>
                    <a:pt x="2712" y="5093"/>
                  </a:lnTo>
                  <a:lnTo>
                    <a:pt x="2714" y="5129"/>
                  </a:lnTo>
                  <a:lnTo>
                    <a:pt x="2712" y="5166"/>
                  </a:lnTo>
                  <a:lnTo>
                    <a:pt x="2704" y="5198"/>
                  </a:lnTo>
                  <a:lnTo>
                    <a:pt x="2693" y="5228"/>
                  </a:lnTo>
                  <a:lnTo>
                    <a:pt x="2677" y="5255"/>
                  </a:lnTo>
                  <a:lnTo>
                    <a:pt x="3151" y="5255"/>
                  </a:lnTo>
                  <a:lnTo>
                    <a:pt x="3135" y="5228"/>
                  </a:lnTo>
                  <a:lnTo>
                    <a:pt x="3125" y="5198"/>
                  </a:lnTo>
                  <a:lnTo>
                    <a:pt x="3116" y="5166"/>
                  </a:lnTo>
                  <a:lnTo>
                    <a:pt x="3114" y="5129"/>
                  </a:lnTo>
                  <a:lnTo>
                    <a:pt x="3116" y="5093"/>
                  </a:lnTo>
                  <a:lnTo>
                    <a:pt x="3125" y="5060"/>
                  </a:lnTo>
                  <a:lnTo>
                    <a:pt x="3135" y="5028"/>
                  </a:lnTo>
                  <a:lnTo>
                    <a:pt x="3155" y="5002"/>
                  </a:lnTo>
                  <a:lnTo>
                    <a:pt x="3173" y="4980"/>
                  </a:lnTo>
                  <a:lnTo>
                    <a:pt x="3187" y="4972"/>
                  </a:lnTo>
                  <a:lnTo>
                    <a:pt x="3197" y="4963"/>
                  </a:lnTo>
                  <a:lnTo>
                    <a:pt x="3211" y="4956"/>
                  </a:lnTo>
                  <a:lnTo>
                    <a:pt x="3224" y="4952"/>
                  </a:lnTo>
                  <a:lnTo>
                    <a:pt x="3238" y="4950"/>
                  </a:lnTo>
                  <a:lnTo>
                    <a:pt x="3254" y="4947"/>
                  </a:lnTo>
                  <a:lnTo>
                    <a:pt x="4182" y="4947"/>
                  </a:lnTo>
                  <a:lnTo>
                    <a:pt x="4196" y="4950"/>
                  </a:lnTo>
                  <a:lnTo>
                    <a:pt x="4212" y="4952"/>
                  </a:lnTo>
                  <a:lnTo>
                    <a:pt x="4226" y="4956"/>
                  </a:lnTo>
                  <a:lnTo>
                    <a:pt x="4237" y="4963"/>
                  </a:lnTo>
                  <a:lnTo>
                    <a:pt x="4250" y="4972"/>
                  </a:lnTo>
                  <a:lnTo>
                    <a:pt x="4260" y="4980"/>
                  </a:lnTo>
                  <a:lnTo>
                    <a:pt x="4283" y="5002"/>
                  </a:lnTo>
                  <a:lnTo>
                    <a:pt x="4299" y="5028"/>
                  </a:lnTo>
                  <a:lnTo>
                    <a:pt x="4312" y="5060"/>
                  </a:lnTo>
                  <a:lnTo>
                    <a:pt x="4320" y="5093"/>
                  </a:lnTo>
                  <a:lnTo>
                    <a:pt x="4323" y="5129"/>
                  </a:lnTo>
                  <a:lnTo>
                    <a:pt x="4320" y="5166"/>
                  </a:lnTo>
                  <a:lnTo>
                    <a:pt x="4312" y="5198"/>
                  </a:lnTo>
                  <a:lnTo>
                    <a:pt x="4299" y="5228"/>
                  </a:lnTo>
                  <a:lnTo>
                    <a:pt x="4283" y="5255"/>
                  </a:lnTo>
                  <a:lnTo>
                    <a:pt x="5980" y="5255"/>
                  </a:lnTo>
                  <a:lnTo>
                    <a:pt x="5942" y="5209"/>
                  </a:lnTo>
                  <a:lnTo>
                    <a:pt x="5907" y="5161"/>
                  </a:lnTo>
                  <a:lnTo>
                    <a:pt x="5878" y="5106"/>
                  </a:lnTo>
                  <a:lnTo>
                    <a:pt x="5853" y="5053"/>
                  </a:lnTo>
                  <a:lnTo>
                    <a:pt x="5832" y="4993"/>
                  </a:lnTo>
                  <a:lnTo>
                    <a:pt x="5818" y="4931"/>
                  </a:lnTo>
                  <a:lnTo>
                    <a:pt x="5809" y="4869"/>
                  </a:lnTo>
                  <a:lnTo>
                    <a:pt x="5807" y="4804"/>
                  </a:lnTo>
                  <a:lnTo>
                    <a:pt x="5807" y="4772"/>
                  </a:lnTo>
                  <a:lnTo>
                    <a:pt x="5809" y="4737"/>
                  </a:lnTo>
                  <a:lnTo>
                    <a:pt x="5818" y="4673"/>
                  </a:lnTo>
                  <a:lnTo>
                    <a:pt x="5834" y="4611"/>
                  </a:lnTo>
                  <a:lnTo>
                    <a:pt x="5855" y="4551"/>
                  </a:lnTo>
                  <a:lnTo>
                    <a:pt x="5883" y="4494"/>
                  </a:lnTo>
                  <a:lnTo>
                    <a:pt x="5915" y="4440"/>
                  </a:lnTo>
                  <a:lnTo>
                    <a:pt x="5950" y="4389"/>
                  </a:lnTo>
                  <a:lnTo>
                    <a:pt x="5991" y="4343"/>
                  </a:lnTo>
                  <a:lnTo>
                    <a:pt x="6018" y="4319"/>
                  </a:lnTo>
                  <a:lnTo>
                    <a:pt x="6045" y="4295"/>
                  </a:lnTo>
                  <a:lnTo>
                    <a:pt x="6071" y="4273"/>
                  </a:lnTo>
                  <a:lnTo>
                    <a:pt x="6101" y="4254"/>
                  </a:lnTo>
                  <a:lnTo>
                    <a:pt x="5818" y="4206"/>
                  </a:lnTo>
                  <a:lnTo>
                    <a:pt x="5675" y="4181"/>
                  </a:lnTo>
                  <a:lnTo>
                    <a:pt x="5535" y="4152"/>
                  </a:lnTo>
                  <a:lnTo>
                    <a:pt x="5394" y="4125"/>
                  </a:lnTo>
                  <a:lnTo>
                    <a:pt x="5252" y="4092"/>
                  </a:lnTo>
                  <a:lnTo>
                    <a:pt x="5111" y="4060"/>
                  </a:lnTo>
                  <a:lnTo>
                    <a:pt x="4971" y="4024"/>
                  </a:lnTo>
                  <a:lnTo>
                    <a:pt x="4830" y="3989"/>
                  </a:lnTo>
                  <a:lnTo>
                    <a:pt x="4690" y="3952"/>
                  </a:lnTo>
                  <a:lnTo>
                    <a:pt x="4552" y="3911"/>
                  </a:lnTo>
                  <a:lnTo>
                    <a:pt x="4414" y="3871"/>
                  </a:lnTo>
                  <a:lnTo>
                    <a:pt x="4277" y="3828"/>
                  </a:lnTo>
                  <a:lnTo>
                    <a:pt x="4140" y="3782"/>
                  </a:lnTo>
                  <a:lnTo>
                    <a:pt x="4005" y="3736"/>
                  </a:lnTo>
                  <a:lnTo>
                    <a:pt x="3869" y="3688"/>
                  </a:lnTo>
                  <a:lnTo>
                    <a:pt x="3735" y="3639"/>
                  </a:lnTo>
                  <a:lnTo>
                    <a:pt x="3602" y="3588"/>
                  </a:lnTo>
                  <a:lnTo>
                    <a:pt x="3470" y="3534"/>
                  </a:lnTo>
                  <a:lnTo>
                    <a:pt x="3338" y="3478"/>
                  </a:lnTo>
                  <a:lnTo>
                    <a:pt x="3208" y="3420"/>
                  </a:lnTo>
                  <a:lnTo>
                    <a:pt x="3082" y="3361"/>
                  </a:lnTo>
                  <a:lnTo>
                    <a:pt x="2955" y="3299"/>
                  </a:lnTo>
                  <a:lnTo>
                    <a:pt x="2831" y="3237"/>
                  </a:lnTo>
                  <a:lnTo>
                    <a:pt x="2706" y="3172"/>
                  </a:lnTo>
                  <a:lnTo>
                    <a:pt x="2585" y="3107"/>
                  </a:lnTo>
                  <a:lnTo>
                    <a:pt x="2463" y="3038"/>
                  </a:lnTo>
                  <a:lnTo>
                    <a:pt x="2345" y="2967"/>
                  </a:lnTo>
                  <a:lnTo>
                    <a:pt x="2228" y="2895"/>
                  </a:lnTo>
                  <a:lnTo>
                    <a:pt x="2115" y="2822"/>
                  </a:lnTo>
                  <a:lnTo>
                    <a:pt x="2002" y="2746"/>
                  </a:lnTo>
                  <a:lnTo>
                    <a:pt x="1892" y="2668"/>
                  </a:lnTo>
                  <a:close/>
                  <a:moveTo>
                    <a:pt x="0" y="0"/>
                  </a:moveTo>
                  <a:lnTo>
                    <a:pt x="0" y="3432"/>
                  </a:lnTo>
                  <a:lnTo>
                    <a:pt x="302" y="3429"/>
                  </a:lnTo>
                  <a:lnTo>
                    <a:pt x="574" y="3423"/>
                  </a:lnTo>
                  <a:lnTo>
                    <a:pt x="590" y="3404"/>
                  </a:lnTo>
                  <a:lnTo>
                    <a:pt x="615" y="3386"/>
                  </a:lnTo>
                  <a:lnTo>
                    <a:pt x="647" y="3369"/>
                  </a:lnTo>
                  <a:lnTo>
                    <a:pt x="688" y="3353"/>
                  </a:lnTo>
                  <a:lnTo>
                    <a:pt x="730" y="3340"/>
                  </a:lnTo>
                  <a:lnTo>
                    <a:pt x="776" y="3331"/>
                  </a:lnTo>
                  <a:lnTo>
                    <a:pt x="822" y="3326"/>
                  </a:lnTo>
                  <a:lnTo>
                    <a:pt x="871" y="3324"/>
                  </a:lnTo>
                  <a:lnTo>
                    <a:pt x="925" y="3326"/>
                  </a:lnTo>
                  <a:lnTo>
                    <a:pt x="953" y="3329"/>
                  </a:lnTo>
                  <a:lnTo>
                    <a:pt x="976" y="3335"/>
                  </a:lnTo>
                  <a:lnTo>
                    <a:pt x="1621" y="2598"/>
                  </a:lnTo>
                  <a:lnTo>
                    <a:pt x="1540" y="2598"/>
                  </a:lnTo>
                  <a:lnTo>
                    <a:pt x="1438" y="2598"/>
                  </a:lnTo>
                  <a:lnTo>
                    <a:pt x="1354" y="2601"/>
                  </a:lnTo>
                  <a:lnTo>
                    <a:pt x="1273" y="2603"/>
                  </a:lnTo>
                  <a:lnTo>
                    <a:pt x="1171" y="2603"/>
                  </a:lnTo>
                  <a:lnTo>
                    <a:pt x="1079" y="2603"/>
                  </a:lnTo>
                  <a:lnTo>
                    <a:pt x="1079" y="2571"/>
                  </a:lnTo>
                  <a:lnTo>
                    <a:pt x="1171" y="2571"/>
                  </a:lnTo>
                  <a:lnTo>
                    <a:pt x="1273" y="2571"/>
                  </a:lnTo>
                  <a:lnTo>
                    <a:pt x="1354" y="2568"/>
                  </a:lnTo>
                  <a:lnTo>
                    <a:pt x="1436" y="2566"/>
                  </a:lnTo>
                  <a:lnTo>
                    <a:pt x="1540" y="2566"/>
                  </a:lnTo>
                  <a:lnTo>
                    <a:pt x="1627" y="2566"/>
                  </a:lnTo>
                  <a:lnTo>
                    <a:pt x="1648" y="2566"/>
                  </a:lnTo>
                  <a:lnTo>
                    <a:pt x="1692" y="2517"/>
                  </a:lnTo>
                  <a:lnTo>
                    <a:pt x="1613" y="2455"/>
                  </a:lnTo>
                  <a:lnTo>
                    <a:pt x="1538" y="2393"/>
                  </a:lnTo>
                  <a:lnTo>
                    <a:pt x="1462" y="2331"/>
                  </a:lnTo>
                  <a:lnTo>
                    <a:pt x="1390" y="2266"/>
                  </a:lnTo>
                  <a:lnTo>
                    <a:pt x="1319" y="2198"/>
                  </a:lnTo>
                  <a:lnTo>
                    <a:pt x="1246" y="2131"/>
                  </a:lnTo>
                  <a:lnTo>
                    <a:pt x="1179" y="2064"/>
                  </a:lnTo>
                  <a:lnTo>
                    <a:pt x="1112" y="1997"/>
                  </a:lnTo>
                  <a:lnTo>
                    <a:pt x="1043" y="1926"/>
                  </a:lnTo>
                  <a:lnTo>
                    <a:pt x="979" y="1854"/>
                  </a:lnTo>
                  <a:lnTo>
                    <a:pt x="917" y="1781"/>
                  </a:lnTo>
                  <a:lnTo>
                    <a:pt x="855" y="1707"/>
                  </a:lnTo>
                  <a:lnTo>
                    <a:pt x="796" y="1633"/>
                  </a:lnTo>
                  <a:lnTo>
                    <a:pt x="736" y="1557"/>
                  </a:lnTo>
                  <a:lnTo>
                    <a:pt x="679" y="1481"/>
                  </a:lnTo>
                  <a:lnTo>
                    <a:pt x="626" y="1403"/>
                  </a:lnTo>
                  <a:lnTo>
                    <a:pt x="571" y="1325"/>
                  </a:lnTo>
                  <a:lnTo>
                    <a:pt x="520" y="1244"/>
                  </a:lnTo>
                  <a:lnTo>
                    <a:pt x="472" y="1163"/>
                  </a:lnTo>
                  <a:lnTo>
                    <a:pt x="423" y="1079"/>
                  </a:lnTo>
                  <a:lnTo>
                    <a:pt x="377" y="995"/>
                  </a:lnTo>
                  <a:lnTo>
                    <a:pt x="332" y="912"/>
                  </a:lnTo>
                  <a:lnTo>
                    <a:pt x="291" y="825"/>
                  </a:lnTo>
                  <a:lnTo>
                    <a:pt x="251" y="740"/>
                  </a:lnTo>
                  <a:lnTo>
                    <a:pt x="212" y="650"/>
                  </a:lnTo>
                  <a:lnTo>
                    <a:pt x="175" y="562"/>
                  </a:lnTo>
                  <a:lnTo>
                    <a:pt x="140" y="472"/>
                  </a:lnTo>
                  <a:lnTo>
                    <a:pt x="108" y="381"/>
                  </a:lnTo>
                  <a:lnTo>
                    <a:pt x="78" y="286"/>
                  </a:lnTo>
                  <a:lnTo>
                    <a:pt x="51" y="192"/>
                  </a:lnTo>
                  <a:lnTo>
                    <a:pt x="24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9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144800" y="2738160"/>
              <a:ext cx="1455480" cy="804960"/>
            </a:xfrm>
            <a:custGeom>
              <a:avLst/>
              <a:gdLst/>
              <a:ahLst/>
              <a:rect l="l" t="t" r="r" b="b"/>
              <a:pathLst>
                <a:path w="9017" h="5295">
                  <a:moveTo>
                    <a:pt x="3160" y="5287"/>
                  </a:moveTo>
                  <a:lnTo>
                    <a:pt x="2686" y="5287"/>
                  </a:lnTo>
                  <a:lnTo>
                    <a:pt x="2683" y="5290"/>
                  </a:lnTo>
                  <a:lnTo>
                    <a:pt x="2677" y="5295"/>
                  </a:lnTo>
                  <a:lnTo>
                    <a:pt x="3169" y="5295"/>
                  </a:lnTo>
                  <a:lnTo>
                    <a:pt x="3164" y="5290"/>
                  </a:lnTo>
                  <a:lnTo>
                    <a:pt x="3160" y="5287"/>
                  </a:lnTo>
                  <a:close/>
                  <a:moveTo>
                    <a:pt x="5989" y="5287"/>
                  </a:moveTo>
                  <a:lnTo>
                    <a:pt x="4292" y="5287"/>
                  </a:lnTo>
                  <a:lnTo>
                    <a:pt x="4292" y="5290"/>
                  </a:lnTo>
                  <a:lnTo>
                    <a:pt x="4286" y="5295"/>
                  </a:lnTo>
                  <a:lnTo>
                    <a:pt x="5997" y="5295"/>
                  </a:lnTo>
                  <a:lnTo>
                    <a:pt x="5989" y="5287"/>
                  </a:lnTo>
                  <a:close/>
                  <a:moveTo>
                    <a:pt x="9017" y="4275"/>
                  </a:moveTo>
                  <a:lnTo>
                    <a:pt x="9009" y="4275"/>
                  </a:lnTo>
                  <a:lnTo>
                    <a:pt x="9007" y="4329"/>
                  </a:lnTo>
                  <a:lnTo>
                    <a:pt x="9003" y="4380"/>
                  </a:lnTo>
                  <a:lnTo>
                    <a:pt x="8996" y="4431"/>
                  </a:lnTo>
                  <a:lnTo>
                    <a:pt x="8987" y="4480"/>
                  </a:lnTo>
                  <a:lnTo>
                    <a:pt x="8977" y="4528"/>
                  </a:lnTo>
                  <a:lnTo>
                    <a:pt x="8963" y="4578"/>
                  </a:lnTo>
                  <a:lnTo>
                    <a:pt x="8947" y="4623"/>
                  </a:lnTo>
                  <a:lnTo>
                    <a:pt x="8927" y="4669"/>
                  </a:lnTo>
                  <a:lnTo>
                    <a:pt x="8909" y="4715"/>
                  </a:lnTo>
                  <a:lnTo>
                    <a:pt x="8885" y="4758"/>
                  </a:lnTo>
                  <a:lnTo>
                    <a:pt x="8860" y="4802"/>
                  </a:lnTo>
                  <a:lnTo>
                    <a:pt x="8837" y="4841"/>
                  </a:lnTo>
                  <a:lnTo>
                    <a:pt x="8807" y="4882"/>
                  </a:lnTo>
                  <a:lnTo>
                    <a:pt x="8777" y="4920"/>
                  </a:lnTo>
                  <a:lnTo>
                    <a:pt x="8745" y="4956"/>
                  </a:lnTo>
                  <a:lnTo>
                    <a:pt x="8712" y="4990"/>
                  </a:lnTo>
                  <a:lnTo>
                    <a:pt x="8677" y="5025"/>
                  </a:lnTo>
                  <a:lnTo>
                    <a:pt x="8639" y="5058"/>
                  </a:lnTo>
                  <a:lnTo>
                    <a:pt x="8602" y="5087"/>
                  </a:lnTo>
                  <a:lnTo>
                    <a:pt x="8561" y="5115"/>
                  </a:lnTo>
                  <a:lnTo>
                    <a:pt x="8520" y="5141"/>
                  </a:lnTo>
                  <a:lnTo>
                    <a:pt x="8480" y="5166"/>
                  </a:lnTo>
                  <a:lnTo>
                    <a:pt x="8434" y="5187"/>
                  </a:lnTo>
                  <a:lnTo>
                    <a:pt x="8391" y="5209"/>
                  </a:lnTo>
                  <a:lnTo>
                    <a:pt x="8345" y="5225"/>
                  </a:lnTo>
                  <a:lnTo>
                    <a:pt x="8296" y="5241"/>
                  </a:lnTo>
                  <a:lnTo>
                    <a:pt x="8250" y="5255"/>
                  </a:lnTo>
                  <a:lnTo>
                    <a:pt x="8199" y="5268"/>
                  </a:lnTo>
                  <a:lnTo>
                    <a:pt x="8151" y="5276"/>
                  </a:lnTo>
                  <a:lnTo>
                    <a:pt x="8099" y="5281"/>
                  </a:lnTo>
                  <a:lnTo>
                    <a:pt x="8048" y="5287"/>
                  </a:lnTo>
                  <a:lnTo>
                    <a:pt x="7997" y="5287"/>
                  </a:lnTo>
                  <a:lnTo>
                    <a:pt x="7900" y="5287"/>
                  </a:lnTo>
                  <a:lnTo>
                    <a:pt x="7896" y="5295"/>
                  </a:lnTo>
                  <a:lnTo>
                    <a:pt x="7997" y="5295"/>
                  </a:lnTo>
                  <a:lnTo>
                    <a:pt x="8048" y="5295"/>
                  </a:lnTo>
                  <a:lnTo>
                    <a:pt x="8102" y="5290"/>
                  </a:lnTo>
                  <a:lnTo>
                    <a:pt x="8153" y="5284"/>
                  </a:lnTo>
                  <a:lnTo>
                    <a:pt x="8202" y="5274"/>
                  </a:lnTo>
                  <a:lnTo>
                    <a:pt x="8250" y="5263"/>
                  </a:lnTo>
                  <a:lnTo>
                    <a:pt x="8299" y="5249"/>
                  </a:lnTo>
                  <a:lnTo>
                    <a:pt x="8347" y="5233"/>
                  </a:lnTo>
                  <a:lnTo>
                    <a:pt x="8393" y="5214"/>
                  </a:lnTo>
                  <a:lnTo>
                    <a:pt x="8439" y="5195"/>
                  </a:lnTo>
                  <a:lnTo>
                    <a:pt x="8483" y="5173"/>
                  </a:lnTo>
                  <a:lnTo>
                    <a:pt x="8526" y="5147"/>
                  </a:lnTo>
                  <a:lnTo>
                    <a:pt x="8566" y="5122"/>
                  </a:lnTo>
                  <a:lnTo>
                    <a:pt x="8607" y="5092"/>
                  </a:lnTo>
                  <a:lnTo>
                    <a:pt x="8644" y="5063"/>
                  </a:lnTo>
                  <a:lnTo>
                    <a:pt x="8683" y="5030"/>
                  </a:lnTo>
                  <a:lnTo>
                    <a:pt x="8717" y="4998"/>
                  </a:lnTo>
                  <a:lnTo>
                    <a:pt x="8752" y="4961"/>
                  </a:lnTo>
                  <a:lnTo>
                    <a:pt x="8782" y="4926"/>
                  </a:lnTo>
                  <a:lnTo>
                    <a:pt x="8814" y="4885"/>
                  </a:lnTo>
                  <a:lnTo>
                    <a:pt x="8842" y="4847"/>
                  </a:lnTo>
                  <a:lnTo>
                    <a:pt x="8869" y="4804"/>
                  </a:lnTo>
                  <a:lnTo>
                    <a:pt x="8893" y="4763"/>
                  </a:lnTo>
                  <a:lnTo>
                    <a:pt x="8915" y="4717"/>
                  </a:lnTo>
                  <a:lnTo>
                    <a:pt x="8936" y="4672"/>
                  </a:lnTo>
                  <a:lnTo>
                    <a:pt x="8955" y="4626"/>
                  </a:lnTo>
                  <a:lnTo>
                    <a:pt x="8971" y="4580"/>
                  </a:lnTo>
                  <a:lnTo>
                    <a:pt x="8984" y="4532"/>
                  </a:lnTo>
                  <a:lnTo>
                    <a:pt x="8996" y="4483"/>
                  </a:lnTo>
                  <a:lnTo>
                    <a:pt x="9003" y="4431"/>
                  </a:lnTo>
                  <a:lnTo>
                    <a:pt x="9012" y="4380"/>
                  </a:lnTo>
                  <a:lnTo>
                    <a:pt x="9014" y="4329"/>
                  </a:lnTo>
                  <a:lnTo>
                    <a:pt x="9017" y="4275"/>
                  </a:lnTo>
                  <a:close/>
                  <a:moveTo>
                    <a:pt x="9017" y="4122"/>
                  </a:moveTo>
                  <a:lnTo>
                    <a:pt x="9009" y="4124"/>
                  </a:lnTo>
                  <a:lnTo>
                    <a:pt x="9009" y="4275"/>
                  </a:lnTo>
                  <a:lnTo>
                    <a:pt x="9017" y="4275"/>
                  </a:lnTo>
                  <a:lnTo>
                    <a:pt x="9017" y="4122"/>
                  </a:lnTo>
                  <a:close/>
                  <a:moveTo>
                    <a:pt x="9" y="3957"/>
                  </a:moveTo>
                  <a:lnTo>
                    <a:pt x="0" y="3957"/>
                  </a:lnTo>
                  <a:lnTo>
                    <a:pt x="0" y="4275"/>
                  </a:lnTo>
                  <a:lnTo>
                    <a:pt x="3" y="4329"/>
                  </a:lnTo>
                  <a:lnTo>
                    <a:pt x="5" y="4380"/>
                  </a:lnTo>
                  <a:lnTo>
                    <a:pt x="11" y="4431"/>
                  </a:lnTo>
                  <a:lnTo>
                    <a:pt x="21" y="4483"/>
                  </a:lnTo>
                  <a:lnTo>
                    <a:pt x="33" y="4532"/>
                  </a:lnTo>
                  <a:lnTo>
                    <a:pt x="46" y="4580"/>
                  </a:lnTo>
                  <a:lnTo>
                    <a:pt x="62" y="4626"/>
                  </a:lnTo>
                  <a:lnTo>
                    <a:pt x="81" y="4672"/>
                  </a:lnTo>
                  <a:lnTo>
                    <a:pt x="101" y="4717"/>
                  </a:lnTo>
                  <a:lnTo>
                    <a:pt x="124" y="4763"/>
                  </a:lnTo>
                  <a:lnTo>
                    <a:pt x="149" y="4804"/>
                  </a:lnTo>
                  <a:lnTo>
                    <a:pt x="175" y="4847"/>
                  </a:lnTo>
                  <a:lnTo>
                    <a:pt x="203" y="4885"/>
                  </a:lnTo>
                  <a:lnTo>
                    <a:pt x="233" y="4926"/>
                  </a:lnTo>
                  <a:lnTo>
                    <a:pt x="265" y="4961"/>
                  </a:lnTo>
                  <a:lnTo>
                    <a:pt x="300" y="4998"/>
                  </a:lnTo>
                  <a:lnTo>
                    <a:pt x="335" y="5030"/>
                  </a:lnTo>
                  <a:lnTo>
                    <a:pt x="373" y="5063"/>
                  </a:lnTo>
                  <a:lnTo>
                    <a:pt x="410" y="5092"/>
                  </a:lnTo>
                  <a:lnTo>
                    <a:pt x="451" y="5122"/>
                  </a:lnTo>
                  <a:lnTo>
                    <a:pt x="492" y="5147"/>
                  </a:lnTo>
                  <a:lnTo>
                    <a:pt x="534" y="5173"/>
                  </a:lnTo>
                  <a:lnTo>
                    <a:pt x="578" y="5195"/>
                  </a:lnTo>
                  <a:lnTo>
                    <a:pt x="624" y="5214"/>
                  </a:lnTo>
                  <a:lnTo>
                    <a:pt x="670" y="5233"/>
                  </a:lnTo>
                  <a:lnTo>
                    <a:pt x="716" y="5249"/>
                  </a:lnTo>
                  <a:lnTo>
                    <a:pt x="764" y="5263"/>
                  </a:lnTo>
                  <a:lnTo>
                    <a:pt x="815" y="5274"/>
                  </a:lnTo>
                  <a:lnTo>
                    <a:pt x="864" y="5284"/>
                  </a:lnTo>
                  <a:lnTo>
                    <a:pt x="916" y="5290"/>
                  </a:lnTo>
                  <a:lnTo>
                    <a:pt x="967" y="5295"/>
                  </a:lnTo>
                  <a:lnTo>
                    <a:pt x="1020" y="5295"/>
                  </a:lnTo>
                  <a:lnTo>
                    <a:pt x="1560" y="5295"/>
                  </a:lnTo>
                  <a:lnTo>
                    <a:pt x="1555" y="5290"/>
                  </a:lnTo>
                  <a:lnTo>
                    <a:pt x="1555" y="5287"/>
                  </a:lnTo>
                  <a:lnTo>
                    <a:pt x="1020" y="5287"/>
                  </a:lnTo>
                  <a:lnTo>
                    <a:pt x="967" y="5287"/>
                  </a:lnTo>
                  <a:lnTo>
                    <a:pt x="916" y="5281"/>
                  </a:lnTo>
                  <a:lnTo>
                    <a:pt x="867" y="5276"/>
                  </a:lnTo>
                  <a:lnTo>
                    <a:pt x="815" y="5268"/>
                  </a:lnTo>
                  <a:lnTo>
                    <a:pt x="767" y="5255"/>
                  </a:lnTo>
                  <a:lnTo>
                    <a:pt x="718" y="5241"/>
                  </a:lnTo>
                  <a:lnTo>
                    <a:pt x="672" y="5225"/>
                  </a:lnTo>
                  <a:lnTo>
                    <a:pt x="626" y="5209"/>
                  </a:lnTo>
                  <a:lnTo>
                    <a:pt x="580" y="5187"/>
                  </a:lnTo>
                  <a:lnTo>
                    <a:pt x="537" y="5166"/>
                  </a:lnTo>
                  <a:lnTo>
                    <a:pt x="495" y="5141"/>
                  </a:lnTo>
                  <a:lnTo>
                    <a:pt x="454" y="5115"/>
                  </a:lnTo>
                  <a:lnTo>
                    <a:pt x="416" y="5087"/>
                  </a:lnTo>
                  <a:lnTo>
                    <a:pt x="375" y="5058"/>
                  </a:lnTo>
                  <a:lnTo>
                    <a:pt x="341" y="5025"/>
                  </a:lnTo>
                  <a:lnTo>
                    <a:pt x="306" y="4990"/>
                  </a:lnTo>
                  <a:lnTo>
                    <a:pt x="270" y="4956"/>
                  </a:lnTo>
                  <a:lnTo>
                    <a:pt x="240" y="4920"/>
                  </a:lnTo>
                  <a:lnTo>
                    <a:pt x="208" y="4882"/>
                  </a:lnTo>
                  <a:lnTo>
                    <a:pt x="181" y="4841"/>
                  </a:lnTo>
                  <a:lnTo>
                    <a:pt x="154" y="4802"/>
                  </a:lnTo>
                  <a:lnTo>
                    <a:pt x="130" y="4758"/>
                  </a:lnTo>
                  <a:lnTo>
                    <a:pt x="108" y="4715"/>
                  </a:lnTo>
                  <a:lnTo>
                    <a:pt x="87" y="4669"/>
                  </a:lnTo>
                  <a:lnTo>
                    <a:pt x="71" y="4623"/>
                  </a:lnTo>
                  <a:lnTo>
                    <a:pt x="55" y="4578"/>
                  </a:lnTo>
                  <a:lnTo>
                    <a:pt x="41" y="4528"/>
                  </a:lnTo>
                  <a:lnTo>
                    <a:pt x="30" y="4480"/>
                  </a:lnTo>
                  <a:lnTo>
                    <a:pt x="19" y="4431"/>
                  </a:lnTo>
                  <a:lnTo>
                    <a:pt x="14" y="4380"/>
                  </a:lnTo>
                  <a:lnTo>
                    <a:pt x="9" y="4329"/>
                  </a:lnTo>
                  <a:lnTo>
                    <a:pt x="9" y="4275"/>
                  </a:lnTo>
                  <a:lnTo>
                    <a:pt x="9" y="3957"/>
                  </a:lnTo>
                  <a:close/>
                  <a:moveTo>
                    <a:pt x="0" y="0"/>
                  </a:moveTo>
                  <a:lnTo>
                    <a:pt x="0" y="3464"/>
                  </a:lnTo>
                  <a:lnTo>
                    <a:pt x="9" y="3464"/>
                  </a:lnTo>
                  <a:lnTo>
                    <a:pt x="9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319400" y="2695320"/>
              <a:ext cx="1089000" cy="22320"/>
            </a:xfrm>
            <a:custGeom>
              <a:avLst/>
              <a:gdLst/>
              <a:ahLst/>
              <a:rect l="l" t="t" r="r" b="b"/>
              <a:pathLst>
                <a:path w="6743" h="147">
                  <a:moveTo>
                    <a:pt x="0" y="39"/>
                  </a:moveTo>
                  <a:lnTo>
                    <a:pt x="131" y="39"/>
                  </a:lnTo>
                  <a:lnTo>
                    <a:pt x="247" y="39"/>
                  </a:lnTo>
                  <a:lnTo>
                    <a:pt x="339" y="36"/>
                  </a:lnTo>
                  <a:lnTo>
                    <a:pt x="431" y="36"/>
                  </a:lnTo>
                  <a:lnTo>
                    <a:pt x="544" y="33"/>
                  </a:lnTo>
                  <a:lnTo>
                    <a:pt x="674" y="36"/>
                  </a:lnTo>
                  <a:lnTo>
                    <a:pt x="785" y="36"/>
                  </a:lnTo>
                  <a:lnTo>
                    <a:pt x="874" y="41"/>
                  </a:lnTo>
                  <a:lnTo>
                    <a:pt x="1008" y="52"/>
                  </a:lnTo>
                  <a:lnTo>
                    <a:pt x="1146" y="60"/>
                  </a:lnTo>
                  <a:lnTo>
                    <a:pt x="1236" y="65"/>
                  </a:lnTo>
                  <a:lnTo>
                    <a:pt x="1349" y="65"/>
                  </a:lnTo>
                  <a:lnTo>
                    <a:pt x="2021" y="74"/>
                  </a:lnTo>
                  <a:lnTo>
                    <a:pt x="2134" y="76"/>
                  </a:lnTo>
                  <a:lnTo>
                    <a:pt x="2221" y="81"/>
                  </a:lnTo>
                  <a:lnTo>
                    <a:pt x="2293" y="90"/>
                  </a:lnTo>
                  <a:lnTo>
                    <a:pt x="2355" y="95"/>
                  </a:lnTo>
                  <a:lnTo>
                    <a:pt x="2421" y="103"/>
                  </a:lnTo>
                  <a:lnTo>
                    <a:pt x="2493" y="111"/>
                  </a:lnTo>
                  <a:lnTo>
                    <a:pt x="2582" y="117"/>
                  </a:lnTo>
                  <a:lnTo>
                    <a:pt x="2695" y="120"/>
                  </a:lnTo>
                  <a:lnTo>
                    <a:pt x="2728" y="120"/>
                  </a:lnTo>
                  <a:lnTo>
                    <a:pt x="2828" y="117"/>
                  </a:lnTo>
                  <a:lnTo>
                    <a:pt x="2909" y="111"/>
                  </a:lnTo>
                  <a:lnTo>
                    <a:pt x="2976" y="103"/>
                  </a:lnTo>
                  <a:lnTo>
                    <a:pt x="3036" y="95"/>
                  </a:lnTo>
                  <a:lnTo>
                    <a:pt x="3095" y="85"/>
                  </a:lnTo>
                  <a:lnTo>
                    <a:pt x="3162" y="76"/>
                  </a:lnTo>
                  <a:lnTo>
                    <a:pt x="3241" y="71"/>
                  </a:lnTo>
                  <a:lnTo>
                    <a:pt x="3337" y="71"/>
                  </a:lnTo>
                  <a:lnTo>
                    <a:pt x="3370" y="71"/>
                  </a:lnTo>
                  <a:lnTo>
                    <a:pt x="3480" y="74"/>
                  </a:lnTo>
                  <a:lnTo>
                    <a:pt x="3570" y="79"/>
                  </a:lnTo>
                  <a:lnTo>
                    <a:pt x="3640" y="87"/>
                  </a:lnTo>
                  <a:lnTo>
                    <a:pt x="3705" y="95"/>
                  </a:lnTo>
                  <a:lnTo>
                    <a:pt x="3770" y="103"/>
                  </a:lnTo>
                  <a:lnTo>
                    <a:pt x="3843" y="111"/>
                  </a:lnTo>
                  <a:lnTo>
                    <a:pt x="3931" y="117"/>
                  </a:lnTo>
                  <a:lnTo>
                    <a:pt x="4044" y="120"/>
                  </a:lnTo>
                  <a:lnTo>
                    <a:pt x="4716" y="127"/>
                  </a:lnTo>
                  <a:lnTo>
                    <a:pt x="4752" y="127"/>
                  </a:lnTo>
                  <a:lnTo>
                    <a:pt x="4852" y="125"/>
                  </a:lnTo>
                  <a:lnTo>
                    <a:pt x="4930" y="120"/>
                  </a:lnTo>
                  <a:lnTo>
                    <a:pt x="4997" y="111"/>
                  </a:lnTo>
                  <a:lnTo>
                    <a:pt x="5057" y="103"/>
                  </a:lnTo>
                  <a:lnTo>
                    <a:pt x="5116" y="95"/>
                  </a:lnTo>
                  <a:lnTo>
                    <a:pt x="5183" y="87"/>
                  </a:lnTo>
                  <a:lnTo>
                    <a:pt x="5259" y="85"/>
                  </a:lnTo>
                  <a:lnTo>
                    <a:pt x="5356" y="81"/>
                  </a:lnTo>
                  <a:lnTo>
                    <a:pt x="5392" y="81"/>
                  </a:lnTo>
                  <a:lnTo>
                    <a:pt x="5505" y="85"/>
                  </a:lnTo>
                  <a:lnTo>
                    <a:pt x="5591" y="92"/>
                  </a:lnTo>
                  <a:lnTo>
                    <a:pt x="5664" y="101"/>
                  </a:lnTo>
                  <a:lnTo>
                    <a:pt x="5726" y="111"/>
                  </a:lnTo>
                  <a:lnTo>
                    <a:pt x="5791" y="122"/>
                  </a:lnTo>
                  <a:lnTo>
                    <a:pt x="5864" y="131"/>
                  </a:lnTo>
                  <a:lnTo>
                    <a:pt x="5956" y="138"/>
                  </a:lnTo>
                  <a:lnTo>
                    <a:pt x="6066" y="141"/>
                  </a:lnTo>
                  <a:lnTo>
                    <a:pt x="6403" y="143"/>
                  </a:lnTo>
                  <a:lnTo>
                    <a:pt x="6741" y="147"/>
                  </a:lnTo>
                  <a:lnTo>
                    <a:pt x="6743" y="113"/>
                  </a:lnTo>
                  <a:lnTo>
                    <a:pt x="6403" y="111"/>
                  </a:lnTo>
                  <a:lnTo>
                    <a:pt x="6066" y="108"/>
                  </a:lnTo>
                  <a:lnTo>
                    <a:pt x="5956" y="106"/>
                  </a:lnTo>
                  <a:lnTo>
                    <a:pt x="5869" y="97"/>
                  </a:lnTo>
                  <a:lnTo>
                    <a:pt x="5797" y="90"/>
                  </a:lnTo>
                  <a:lnTo>
                    <a:pt x="5731" y="79"/>
                  </a:lnTo>
                  <a:lnTo>
                    <a:pt x="5666" y="69"/>
                  </a:lnTo>
                  <a:lnTo>
                    <a:pt x="5594" y="60"/>
                  </a:lnTo>
                  <a:lnTo>
                    <a:pt x="5505" y="52"/>
                  </a:lnTo>
                  <a:lnTo>
                    <a:pt x="5392" y="49"/>
                  </a:lnTo>
                  <a:lnTo>
                    <a:pt x="5356" y="49"/>
                  </a:lnTo>
                  <a:lnTo>
                    <a:pt x="5259" y="52"/>
                  </a:lnTo>
                  <a:lnTo>
                    <a:pt x="5178" y="57"/>
                  </a:lnTo>
                  <a:lnTo>
                    <a:pt x="5114" y="62"/>
                  </a:lnTo>
                  <a:lnTo>
                    <a:pt x="5051" y="71"/>
                  </a:lnTo>
                  <a:lnTo>
                    <a:pt x="4992" y="79"/>
                  </a:lnTo>
                  <a:lnTo>
                    <a:pt x="4927" y="87"/>
                  </a:lnTo>
                  <a:lnTo>
                    <a:pt x="4849" y="92"/>
                  </a:lnTo>
                  <a:lnTo>
                    <a:pt x="4752" y="95"/>
                  </a:lnTo>
                  <a:lnTo>
                    <a:pt x="4716" y="95"/>
                  </a:lnTo>
                  <a:lnTo>
                    <a:pt x="4044" y="87"/>
                  </a:lnTo>
                  <a:lnTo>
                    <a:pt x="3931" y="85"/>
                  </a:lnTo>
                  <a:lnTo>
                    <a:pt x="3845" y="79"/>
                  </a:lnTo>
                  <a:lnTo>
                    <a:pt x="3772" y="71"/>
                  </a:lnTo>
                  <a:lnTo>
                    <a:pt x="3710" y="62"/>
                  </a:lnTo>
                  <a:lnTo>
                    <a:pt x="3645" y="55"/>
                  </a:lnTo>
                  <a:lnTo>
                    <a:pt x="3572" y="46"/>
                  </a:lnTo>
                  <a:lnTo>
                    <a:pt x="3484" y="41"/>
                  </a:lnTo>
                  <a:lnTo>
                    <a:pt x="3370" y="39"/>
                  </a:lnTo>
                  <a:lnTo>
                    <a:pt x="3337" y="39"/>
                  </a:lnTo>
                  <a:lnTo>
                    <a:pt x="3238" y="39"/>
                  </a:lnTo>
                  <a:lnTo>
                    <a:pt x="3160" y="46"/>
                  </a:lnTo>
                  <a:lnTo>
                    <a:pt x="3093" y="55"/>
                  </a:lnTo>
                  <a:lnTo>
                    <a:pt x="3029" y="62"/>
                  </a:lnTo>
                  <a:lnTo>
                    <a:pt x="2971" y="71"/>
                  </a:lnTo>
                  <a:lnTo>
                    <a:pt x="2906" y="79"/>
                  </a:lnTo>
                  <a:lnTo>
                    <a:pt x="2825" y="85"/>
                  </a:lnTo>
                  <a:lnTo>
                    <a:pt x="2728" y="87"/>
                  </a:lnTo>
                  <a:lnTo>
                    <a:pt x="2695" y="87"/>
                  </a:lnTo>
                  <a:lnTo>
                    <a:pt x="2585" y="85"/>
                  </a:lnTo>
                  <a:lnTo>
                    <a:pt x="2495" y="79"/>
                  </a:lnTo>
                  <a:lnTo>
                    <a:pt x="2426" y="71"/>
                  </a:lnTo>
                  <a:lnTo>
                    <a:pt x="2361" y="65"/>
                  </a:lnTo>
                  <a:lnTo>
                    <a:pt x="2296" y="57"/>
                  </a:lnTo>
                  <a:lnTo>
                    <a:pt x="2223" y="49"/>
                  </a:lnTo>
                  <a:lnTo>
                    <a:pt x="2134" y="44"/>
                  </a:lnTo>
                  <a:lnTo>
                    <a:pt x="2021" y="41"/>
                  </a:lnTo>
                  <a:lnTo>
                    <a:pt x="1349" y="33"/>
                  </a:lnTo>
                  <a:lnTo>
                    <a:pt x="1236" y="33"/>
                  </a:lnTo>
                  <a:lnTo>
                    <a:pt x="1149" y="28"/>
                  </a:lnTo>
                  <a:lnTo>
                    <a:pt x="1011" y="20"/>
                  </a:lnTo>
                  <a:lnTo>
                    <a:pt x="877" y="9"/>
                  </a:lnTo>
                  <a:lnTo>
                    <a:pt x="787" y="4"/>
                  </a:lnTo>
                  <a:lnTo>
                    <a:pt x="674" y="4"/>
                  </a:lnTo>
                  <a:lnTo>
                    <a:pt x="544" y="0"/>
                  </a:lnTo>
                  <a:lnTo>
                    <a:pt x="431" y="4"/>
                  </a:lnTo>
                  <a:lnTo>
                    <a:pt x="339" y="4"/>
                  </a:lnTo>
                  <a:lnTo>
                    <a:pt x="245" y="6"/>
                  </a:lnTo>
                  <a:lnTo>
                    <a:pt x="131" y="6"/>
                  </a:lnTo>
                  <a:lnTo>
                    <a:pt x="2" y="6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319400" y="2914560"/>
              <a:ext cx="885600" cy="20520"/>
            </a:xfrm>
            <a:custGeom>
              <a:avLst/>
              <a:gdLst/>
              <a:ahLst/>
              <a:rect l="l" t="t" r="r" b="b"/>
              <a:pathLst>
                <a:path w="5478" h="133">
                  <a:moveTo>
                    <a:pt x="0" y="38"/>
                  </a:moveTo>
                  <a:lnTo>
                    <a:pt x="92" y="41"/>
                  </a:lnTo>
                  <a:lnTo>
                    <a:pt x="194" y="38"/>
                  </a:lnTo>
                  <a:lnTo>
                    <a:pt x="275" y="36"/>
                  </a:lnTo>
                  <a:lnTo>
                    <a:pt x="357" y="36"/>
                  </a:lnTo>
                  <a:lnTo>
                    <a:pt x="459" y="32"/>
                  </a:lnTo>
                  <a:lnTo>
                    <a:pt x="548" y="32"/>
                  </a:lnTo>
                  <a:lnTo>
                    <a:pt x="636" y="36"/>
                  </a:lnTo>
                  <a:lnTo>
                    <a:pt x="710" y="38"/>
                  </a:lnTo>
                  <a:lnTo>
                    <a:pt x="820" y="48"/>
                  </a:lnTo>
                  <a:lnTo>
                    <a:pt x="931" y="60"/>
                  </a:lnTo>
                  <a:lnTo>
                    <a:pt x="1004" y="62"/>
                  </a:lnTo>
                  <a:lnTo>
                    <a:pt x="1093" y="65"/>
                  </a:lnTo>
                  <a:lnTo>
                    <a:pt x="1644" y="71"/>
                  </a:lnTo>
                  <a:lnTo>
                    <a:pt x="1733" y="73"/>
                  </a:lnTo>
                  <a:lnTo>
                    <a:pt x="1803" y="78"/>
                  </a:lnTo>
                  <a:lnTo>
                    <a:pt x="1862" y="84"/>
                  </a:lnTo>
                  <a:lnTo>
                    <a:pt x="1913" y="92"/>
                  </a:lnTo>
                  <a:lnTo>
                    <a:pt x="1968" y="100"/>
                  </a:lnTo>
                  <a:lnTo>
                    <a:pt x="2026" y="105"/>
                  </a:lnTo>
                  <a:lnTo>
                    <a:pt x="2097" y="110"/>
                  </a:lnTo>
                  <a:lnTo>
                    <a:pt x="2189" y="114"/>
                  </a:lnTo>
                  <a:lnTo>
                    <a:pt x="2210" y="114"/>
                  </a:lnTo>
                  <a:lnTo>
                    <a:pt x="2294" y="110"/>
                  </a:lnTo>
                  <a:lnTo>
                    <a:pt x="2362" y="105"/>
                  </a:lnTo>
                  <a:lnTo>
                    <a:pt x="2419" y="98"/>
                  </a:lnTo>
                  <a:lnTo>
                    <a:pt x="2467" y="89"/>
                  </a:lnTo>
                  <a:lnTo>
                    <a:pt x="2516" y="78"/>
                  </a:lnTo>
                  <a:lnTo>
                    <a:pt x="2572" y="71"/>
                  </a:lnTo>
                  <a:lnTo>
                    <a:pt x="2636" y="65"/>
                  </a:lnTo>
                  <a:lnTo>
                    <a:pt x="2718" y="62"/>
                  </a:lnTo>
                  <a:lnTo>
                    <a:pt x="2739" y="62"/>
                  </a:lnTo>
                  <a:lnTo>
                    <a:pt x="2829" y="65"/>
                  </a:lnTo>
                  <a:lnTo>
                    <a:pt x="2898" y="71"/>
                  </a:lnTo>
                  <a:lnTo>
                    <a:pt x="2958" y="78"/>
                  </a:lnTo>
                  <a:lnTo>
                    <a:pt x="3009" y="87"/>
                  </a:lnTo>
                  <a:lnTo>
                    <a:pt x="3063" y="94"/>
                  </a:lnTo>
                  <a:lnTo>
                    <a:pt x="3123" y="103"/>
                  </a:lnTo>
                  <a:lnTo>
                    <a:pt x="3193" y="108"/>
                  </a:lnTo>
                  <a:lnTo>
                    <a:pt x="3284" y="110"/>
                  </a:lnTo>
                  <a:lnTo>
                    <a:pt x="3832" y="117"/>
                  </a:lnTo>
                  <a:lnTo>
                    <a:pt x="3860" y="117"/>
                  </a:lnTo>
                  <a:lnTo>
                    <a:pt x="3940" y="114"/>
                  </a:lnTo>
                  <a:lnTo>
                    <a:pt x="4005" y="108"/>
                  </a:lnTo>
                  <a:lnTo>
                    <a:pt x="4062" y="103"/>
                  </a:lnTo>
                  <a:lnTo>
                    <a:pt x="4110" y="92"/>
                  </a:lnTo>
                  <a:lnTo>
                    <a:pt x="4161" y="84"/>
                  </a:lnTo>
                  <a:lnTo>
                    <a:pt x="4216" y="76"/>
                  </a:lnTo>
                  <a:lnTo>
                    <a:pt x="4277" y="71"/>
                  </a:lnTo>
                  <a:lnTo>
                    <a:pt x="4359" y="71"/>
                  </a:lnTo>
                  <a:lnTo>
                    <a:pt x="4383" y="71"/>
                  </a:lnTo>
                  <a:lnTo>
                    <a:pt x="4472" y="73"/>
                  </a:lnTo>
                  <a:lnTo>
                    <a:pt x="4542" y="81"/>
                  </a:lnTo>
                  <a:lnTo>
                    <a:pt x="4601" y="89"/>
                  </a:lnTo>
                  <a:lnTo>
                    <a:pt x="4652" y="100"/>
                  </a:lnTo>
                  <a:lnTo>
                    <a:pt x="4707" y="108"/>
                  </a:lnTo>
                  <a:lnTo>
                    <a:pt x="4766" y="119"/>
                  </a:lnTo>
                  <a:lnTo>
                    <a:pt x="4838" y="124"/>
                  </a:lnTo>
                  <a:lnTo>
                    <a:pt x="4930" y="130"/>
                  </a:lnTo>
                  <a:lnTo>
                    <a:pt x="5206" y="130"/>
                  </a:lnTo>
                  <a:lnTo>
                    <a:pt x="5478" y="133"/>
                  </a:lnTo>
                  <a:lnTo>
                    <a:pt x="5478" y="100"/>
                  </a:lnTo>
                  <a:lnTo>
                    <a:pt x="5206" y="98"/>
                  </a:lnTo>
                  <a:lnTo>
                    <a:pt x="4930" y="98"/>
                  </a:lnTo>
                  <a:lnTo>
                    <a:pt x="4842" y="92"/>
                  </a:lnTo>
                  <a:lnTo>
                    <a:pt x="4769" y="87"/>
                  </a:lnTo>
                  <a:lnTo>
                    <a:pt x="4712" y="78"/>
                  </a:lnTo>
                  <a:lnTo>
                    <a:pt x="4661" y="68"/>
                  </a:lnTo>
                  <a:lnTo>
                    <a:pt x="4607" y="57"/>
                  </a:lnTo>
                  <a:lnTo>
                    <a:pt x="4548" y="48"/>
                  </a:lnTo>
                  <a:lnTo>
                    <a:pt x="4474" y="41"/>
                  </a:lnTo>
                  <a:lnTo>
                    <a:pt x="4383" y="38"/>
                  </a:lnTo>
                  <a:lnTo>
                    <a:pt x="4359" y="38"/>
                  </a:lnTo>
                  <a:lnTo>
                    <a:pt x="4277" y="41"/>
                  </a:lnTo>
                  <a:lnTo>
                    <a:pt x="4210" y="46"/>
                  </a:lnTo>
                  <a:lnTo>
                    <a:pt x="4156" y="52"/>
                  </a:lnTo>
                  <a:lnTo>
                    <a:pt x="4104" y="62"/>
                  </a:lnTo>
                  <a:lnTo>
                    <a:pt x="4056" y="71"/>
                  </a:lnTo>
                  <a:lnTo>
                    <a:pt x="4002" y="76"/>
                  </a:lnTo>
                  <a:lnTo>
                    <a:pt x="3938" y="81"/>
                  </a:lnTo>
                  <a:lnTo>
                    <a:pt x="3860" y="84"/>
                  </a:lnTo>
                  <a:lnTo>
                    <a:pt x="3835" y="84"/>
                  </a:lnTo>
                  <a:lnTo>
                    <a:pt x="3287" y="78"/>
                  </a:lnTo>
                  <a:lnTo>
                    <a:pt x="3195" y="76"/>
                  </a:lnTo>
                  <a:lnTo>
                    <a:pt x="3125" y="71"/>
                  </a:lnTo>
                  <a:lnTo>
                    <a:pt x="3066" y="62"/>
                  </a:lnTo>
                  <a:lnTo>
                    <a:pt x="3015" y="54"/>
                  </a:lnTo>
                  <a:lnTo>
                    <a:pt x="2963" y="46"/>
                  </a:lnTo>
                  <a:lnTo>
                    <a:pt x="2904" y="38"/>
                  </a:lnTo>
                  <a:lnTo>
                    <a:pt x="2831" y="32"/>
                  </a:lnTo>
                  <a:lnTo>
                    <a:pt x="2739" y="30"/>
                  </a:lnTo>
                  <a:lnTo>
                    <a:pt x="2718" y="30"/>
                  </a:lnTo>
                  <a:lnTo>
                    <a:pt x="2634" y="32"/>
                  </a:lnTo>
                  <a:lnTo>
                    <a:pt x="2567" y="38"/>
                  </a:lnTo>
                  <a:lnTo>
                    <a:pt x="2509" y="46"/>
                  </a:lnTo>
                  <a:lnTo>
                    <a:pt x="2461" y="57"/>
                  </a:lnTo>
                  <a:lnTo>
                    <a:pt x="2413" y="65"/>
                  </a:lnTo>
                  <a:lnTo>
                    <a:pt x="2359" y="73"/>
                  </a:lnTo>
                  <a:lnTo>
                    <a:pt x="2291" y="78"/>
                  </a:lnTo>
                  <a:lnTo>
                    <a:pt x="2210" y="81"/>
                  </a:lnTo>
                  <a:lnTo>
                    <a:pt x="2191" y="81"/>
                  </a:lnTo>
                  <a:lnTo>
                    <a:pt x="2100" y="78"/>
                  </a:lnTo>
                  <a:lnTo>
                    <a:pt x="2030" y="73"/>
                  </a:lnTo>
                  <a:lnTo>
                    <a:pt x="1970" y="68"/>
                  </a:lnTo>
                  <a:lnTo>
                    <a:pt x="1919" y="60"/>
                  </a:lnTo>
                  <a:lnTo>
                    <a:pt x="1865" y="52"/>
                  </a:lnTo>
                  <a:lnTo>
                    <a:pt x="1805" y="46"/>
                  </a:lnTo>
                  <a:lnTo>
                    <a:pt x="1736" y="41"/>
                  </a:lnTo>
                  <a:lnTo>
                    <a:pt x="1644" y="38"/>
                  </a:lnTo>
                  <a:lnTo>
                    <a:pt x="1096" y="32"/>
                  </a:lnTo>
                  <a:lnTo>
                    <a:pt x="1004" y="30"/>
                  </a:lnTo>
                  <a:lnTo>
                    <a:pt x="933" y="27"/>
                  </a:lnTo>
                  <a:lnTo>
                    <a:pt x="823" y="16"/>
                  </a:lnTo>
                  <a:lnTo>
                    <a:pt x="710" y="6"/>
                  </a:lnTo>
                  <a:lnTo>
                    <a:pt x="640" y="2"/>
                  </a:lnTo>
                  <a:lnTo>
                    <a:pt x="548" y="0"/>
                  </a:lnTo>
                  <a:lnTo>
                    <a:pt x="459" y="0"/>
                  </a:lnTo>
                  <a:lnTo>
                    <a:pt x="357" y="2"/>
                  </a:lnTo>
                  <a:lnTo>
                    <a:pt x="272" y="2"/>
                  </a:lnTo>
                  <a:lnTo>
                    <a:pt x="192" y="6"/>
                  </a:lnTo>
                  <a:lnTo>
                    <a:pt x="92" y="8"/>
                  </a:lnTo>
                  <a:lnTo>
                    <a:pt x="0" y="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319400" y="3132000"/>
              <a:ext cx="887400" cy="20520"/>
            </a:xfrm>
            <a:custGeom>
              <a:avLst/>
              <a:gdLst/>
              <a:ahLst/>
              <a:rect l="l" t="t" r="r" b="b"/>
              <a:pathLst>
                <a:path w="5482" h="129">
                  <a:moveTo>
                    <a:pt x="0" y="37"/>
                  </a:moveTo>
                  <a:lnTo>
                    <a:pt x="92" y="37"/>
                  </a:lnTo>
                  <a:lnTo>
                    <a:pt x="194" y="37"/>
                  </a:lnTo>
                  <a:lnTo>
                    <a:pt x="275" y="35"/>
                  </a:lnTo>
                  <a:lnTo>
                    <a:pt x="359" y="32"/>
                  </a:lnTo>
                  <a:lnTo>
                    <a:pt x="461" y="32"/>
                  </a:lnTo>
                  <a:lnTo>
                    <a:pt x="548" y="32"/>
                  </a:lnTo>
                  <a:lnTo>
                    <a:pt x="640" y="35"/>
                  </a:lnTo>
                  <a:lnTo>
                    <a:pt x="710" y="37"/>
                  </a:lnTo>
                  <a:lnTo>
                    <a:pt x="820" y="48"/>
                  </a:lnTo>
                  <a:lnTo>
                    <a:pt x="931" y="56"/>
                  </a:lnTo>
                  <a:lnTo>
                    <a:pt x="1004" y="62"/>
                  </a:lnTo>
                  <a:lnTo>
                    <a:pt x="1096" y="62"/>
                  </a:lnTo>
                  <a:lnTo>
                    <a:pt x="1644" y="67"/>
                  </a:lnTo>
                  <a:lnTo>
                    <a:pt x="1733" y="69"/>
                  </a:lnTo>
                  <a:lnTo>
                    <a:pt x="1805" y="75"/>
                  </a:lnTo>
                  <a:lnTo>
                    <a:pt x="1862" y="83"/>
                  </a:lnTo>
                  <a:lnTo>
                    <a:pt x="1913" y="88"/>
                  </a:lnTo>
                  <a:lnTo>
                    <a:pt x="1968" y="97"/>
                  </a:lnTo>
                  <a:lnTo>
                    <a:pt x="2026" y="104"/>
                  </a:lnTo>
                  <a:lnTo>
                    <a:pt x="2100" y="110"/>
                  </a:lnTo>
                  <a:lnTo>
                    <a:pt x="2191" y="113"/>
                  </a:lnTo>
                  <a:lnTo>
                    <a:pt x="2213" y="113"/>
                  </a:lnTo>
                  <a:lnTo>
                    <a:pt x="2294" y="110"/>
                  </a:lnTo>
                  <a:lnTo>
                    <a:pt x="2362" y="104"/>
                  </a:lnTo>
                  <a:lnTo>
                    <a:pt x="2419" y="97"/>
                  </a:lnTo>
                  <a:lnTo>
                    <a:pt x="2467" y="86"/>
                  </a:lnTo>
                  <a:lnTo>
                    <a:pt x="2518" y="78"/>
                  </a:lnTo>
                  <a:lnTo>
                    <a:pt x="2572" y="69"/>
                  </a:lnTo>
                  <a:lnTo>
                    <a:pt x="2636" y="64"/>
                  </a:lnTo>
                  <a:lnTo>
                    <a:pt x="2718" y="62"/>
                  </a:lnTo>
                  <a:lnTo>
                    <a:pt x="2739" y="62"/>
                  </a:lnTo>
                  <a:lnTo>
                    <a:pt x="2829" y="64"/>
                  </a:lnTo>
                  <a:lnTo>
                    <a:pt x="2901" y="69"/>
                  </a:lnTo>
                  <a:lnTo>
                    <a:pt x="2958" y="78"/>
                  </a:lnTo>
                  <a:lnTo>
                    <a:pt x="3011" y="83"/>
                  </a:lnTo>
                  <a:lnTo>
                    <a:pt x="3063" y="94"/>
                  </a:lnTo>
                  <a:lnTo>
                    <a:pt x="3123" y="99"/>
                  </a:lnTo>
                  <a:lnTo>
                    <a:pt x="3195" y="104"/>
                  </a:lnTo>
                  <a:lnTo>
                    <a:pt x="3287" y="108"/>
                  </a:lnTo>
                  <a:lnTo>
                    <a:pt x="3835" y="115"/>
                  </a:lnTo>
                  <a:lnTo>
                    <a:pt x="3860" y="115"/>
                  </a:lnTo>
                  <a:lnTo>
                    <a:pt x="3940" y="113"/>
                  </a:lnTo>
                  <a:lnTo>
                    <a:pt x="4007" y="108"/>
                  </a:lnTo>
                  <a:lnTo>
                    <a:pt x="4062" y="99"/>
                  </a:lnTo>
                  <a:lnTo>
                    <a:pt x="4113" y="92"/>
                  </a:lnTo>
                  <a:lnTo>
                    <a:pt x="4161" y="83"/>
                  </a:lnTo>
                  <a:lnTo>
                    <a:pt x="4216" y="75"/>
                  </a:lnTo>
                  <a:lnTo>
                    <a:pt x="4281" y="69"/>
                  </a:lnTo>
                  <a:lnTo>
                    <a:pt x="4361" y="67"/>
                  </a:lnTo>
                  <a:lnTo>
                    <a:pt x="4383" y="67"/>
                  </a:lnTo>
                  <a:lnTo>
                    <a:pt x="4472" y="72"/>
                  </a:lnTo>
                  <a:lnTo>
                    <a:pt x="4545" y="78"/>
                  </a:lnTo>
                  <a:lnTo>
                    <a:pt x="4601" y="86"/>
                  </a:lnTo>
                  <a:lnTo>
                    <a:pt x="4652" y="97"/>
                  </a:lnTo>
                  <a:lnTo>
                    <a:pt x="4707" y="108"/>
                  </a:lnTo>
                  <a:lnTo>
                    <a:pt x="4766" y="115"/>
                  </a:lnTo>
                  <a:lnTo>
                    <a:pt x="4838" y="124"/>
                  </a:lnTo>
                  <a:lnTo>
                    <a:pt x="4930" y="126"/>
                  </a:lnTo>
                  <a:lnTo>
                    <a:pt x="5206" y="129"/>
                  </a:lnTo>
                  <a:lnTo>
                    <a:pt x="5482" y="129"/>
                  </a:lnTo>
                  <a:lnTo>
                    <a:pt x="5482" y="97"/>
                  </a:lnTo>
                  <a:lnTo>
                    <a:pt x="5206" y="97"/>
                  </a:lnTo>
                  <a:lnTo>
                    <a:pt x="4930" y="94"/>
                  </a:lnTo>
                  <a:lnTo>
                    <a:pt x="4842" y="92"/>
                  </a:lnTo>
                  <a:lnTo>
                    <a:pt x="4771" y="86"/>
                  </a:lnTo>
                  <a:lnTo>
                    <a:pt x="4712" y="75"/>
                  </a:lnTo>
                  <a:lnTo>
                    <a:pt x="4661" y="64"/>
                  </a:lnTo>
                  <a:lnTo>
                    <a:pt x="4607" y="56"/>
                  </a:lnTo>
                  <a:lnTo>
                    <a:pt x="4548" y="46"/>
                  </a:lnTo>
                  <a:lnTo>
                    <a:pt x="4474" y="40"/>
                  </a:lnTo>
                  <a:lnTo>
                    <a:pt x="4383" y="35"/>
                  </a:lnTo>
                  <a:lnTo>
                    <a:pt x="4361" y="35"/>
                  </a:lnTo>
                  <a:lnTo>
                    <a:pt x="4277" y="37"/>
                  </a:lnTo>
                  <a:lnTo>
                    <a:pt x="4212" y="43"/>
                  </a:lnTo>
                  <a:lnTo>
                    <a:pt x="4156" y="51"/>
                  </a:lnTo>
                  <a:lnTo>
                    <a:pt x="4108" y="59"/>
                  </a:lnTo>
                  <a:lnTo>
                    <a:pt x="4056" y="67"/>
                  </a:lnTo>
                  <a:lnTo>
                    <a:pt x="4002" y="75"/>
                  </a:lnTo>
                  <a:lnTo>
                    <a:pt x="3938" y="80"/>
                  </a:lnTo>
                  <a:lnTo>
                    <a:pt x="3860" y="83"/>
                  </a:lnTo>
                  <a:lnTo>
                    <a:pt x="3835" y="83"/>
                  </a:lnTo>
                  <a:lnTo>
                    <a:pt x="3287" y="75"/>
                  </a:lnTo>
                  <a:lnTo>
                    <a:pt x="3198" y="72"/>
                  </a:lnTo>
                  <a:lnTo>
                    <a:pt x="3125" y="67"/>
                  </a:lnTo>
                  <a:lnTo>
                    <a:pt x="3068" y="62"/>
                  </a:lnTo>
                  <a:lnTo>
                    <a:pt x="3015" y="53"/>
                  </a:lnTo>
                  <a:lnTo>
                    <a:pt x="2963" y="46"/>
                  </a:lnTo>
                  <a:lnTo>
                    <a:pt x="2904" y="37"/>
                  </a:lnTo>
                  <a:lnTo>
                    <a:pt x="2831" y="32"/>
                  </a:lnTo>
                  <a:lnTo>
                    <a:pt x="2739" y="30"/>
                  </a:lnTo>
                  <a:lnTo>
                    <a:pt x="2718" y="30"/>
                  </a:lnTo>
                  <a:lnTo>
                    <a:pt x="2634" y="32"/>
                  </a:lnTo>
                  <a:lnTo>
                    <a:pt x="2567" y="37"/>
                  </a:lnTo>
                  <a:lnTo>
                    <a:pt x="2513" y="46"/>
                  </a:lnTo>
                  <a:lnTo>
                    <a:pt x="2461" y="53"/>
                  </a:lnTo>
                  <a:lnTo>
                    <a:pt x="2413" y="64"/>
                  </a:lnTo>
                  <a:lnTo>
                    <a:pt x="2359" y="72"/>
                  </a:lnTo>
                  <a:lnTo>
                    <a:pt x="2294" y="78"/>
                  </a:lnTo>
                  <a:lnTo>
                    <a:pt x="2213" y="80"/>
                  </a:lnTo>
                  <a:lnTo>
                    <a:pt x="2191" y="80"/>
                  </a:lnTo>
                  <a:lnTo>
                    <a:pt x="2100" y="78"/>
                  </a:lnTo>
                  <a:lnTo>
                    <a:pt x="2030" y="72"/>
                  </a:lnTo>
                  <a:lnTo>
                    <a:pt x="1973" y="64"/>
                  </a:lnTo>
                  <a:lnTo>
                    <a:pt x="1919" y="59"/>
                  </a:lnTo>
                  <a:lnTo>
                    <a:pt x="1867" y="51"/>
                  </a:lnTo>
                  <a:lnTo>
                    <a:pt x="1808" y="43"/>
                  </a:lnTo>
                  <a:lnTo>
                    <a:pt x="1736" y="37"/>
                  </a:lnTo>
                  <a:lnTo>
                    <a:pt x="1644" y="35"/>
                  </a:lnTo>
                  <a:lnTo>
                    <a:pt x="1096" y="30"/>
                  </a:lnTo>
                  <a:lnTo>
                    <a:pt x="1004" y="30"/>
                  </a:lnTo>
                  <a:lnTo>
                    <a:pt x="933" y="23"/>
                  </a:lnTo>
                  <a:lnTo>
                    <a:pt x="823" y="16"/>
                  </a:lnTo>
                  <a:lnTo>
                    <a:pt x="712" y="5"/>
                  </a:lnTo>
                  <a:lnTo>
                    <a:pt x="640" y="2"/>
                  </a:lnTo>
                  <a:lnTo>
                    <a:pt x="548" y="0"/>
                  </a:lnTo>
                  <a:lnTo>
                    <a:pt x="461" y="0"/>
                  </a:lnTo>
                  <a:lnTo>
                    <a:pt x="357" y="0"/>
                  </a:lnTo>
                  <a:lnTo>
                    <a:pt x="275" y="2"/>
                  </a:lnTo>
                  <a:lnTo>
                    <a:pt x="194" y="5"/>
                  </a:lnTo>
                  <a:lnTo>
                    <a:pt x="92" y="5"/>
                  </a:lnTo>
                  <a:lnTo>
                    <a:pt x="0" y="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266920" y="2874960"/>
              <a:ext cx="266760" cy="358560"/>
            </a:xfrm>
            <a:custGeom>
              <a:avLst/>
              <a:gdLst/>
              <a:ahLst/>
              <a:rect l="l" t="t" r="r" b="b"/>
              <a:pathLst>
                <a:path w="1646" h="2358">
                  <a:moveTo>
                    <a:pt x="1149" y="16"/>
                  </a:moveTo>
                  <a:lnTo>
                    <a:pt x="1136" y="5"/>
                  </a:lnTo>
                  <a:lnTo>
                    <a:pt x="2" y="1605"/>
                  </a:lnTo>
                  <a:lnTo>
                    <a:pt x="0" y="1610"/>
                  </a:lnTo>
                  <a:lnTo>
                    <a:pt x="0" y="1618"/>
                  </a:lnTo>
                  <a:lnTo>
                    <a:pt x="2" y="1624"/>
                  </a:lnTo>
                  <a:lnTo>
                    <a:pt x="5" y="1630"/>
                  </a:lnTo>
                  <a:lnTo>
                    <a:pt x="1082" y="2355"/>
                  </a:lnTo>
                  <a:lnTo>
                    <a:pt x="1087" y="2358"/>
                  </a:lnTo>
                  <a:lnTo>
                    <a:pt x="1093" y="2358"/>
                  </a:lnTo>
                  <a:lnTo>
                    <a:pt x="1098" y="2358"/>
                  </a:lnTo>
                  <a:lnTo>
                    <a:pt x="1104" y="2352"/>
                  </a:lnTo>
                  <a:lnTo>
                    <a:pt x="1641" y="1815"/>
                  </a:lnTo>
                  <a:lnTo>
                    <a:pt x="1646" y="1807"/>
                  </a:lnTo>
                  <a:lnTo>
                    <a:pt x="1646" y="1799"/>
                  </a:lnTo>
                  <a:lnTo>
                    <a:pt x="1165" y="11"/>
                  </a:lnTo>
                  <a:lnTo>
                    <a:pt x="1160" y="2"/>
                  </a:lnTo>
                  <a:lnTo>
                    <a:pt x="1152" y="0"/>
                  </a:lnTo>
                  <a:lnTo>
                    <a:pt x="1144" y="0"/>
                  </a:lnTo>
                  <a:lnTo>
                    <a:pt x="1136" y="5"/>
                  </a:lnTo>
                  <a:lnTo>
                    <a:pt x="1149" y="16"/>
                  </a:lnTo>
                  <a:lnTo>
                    <a:pt x="1133" y="18"/>
                  </a:lnTo>
                  <a:lnTo>
                    <a:pt x="1611" y="1799"/>
                  </a:lnTo>
                  <a:lnTo>
                    <a:pt x="1090" y="2319"/>
                  </a:lnTo>
                  <a:lnTo>
                    <a:pt x="37" y="1610"/>
                  </a:lnTo>
                  <a:lnTo>
                    <a:pt x="1163" y="25"/>
                  </a:lnTo>
                  <a:lnTo>
                    <a:pt x="1149" y="16"/>
                  </a:lnTo>
                  <a:lnTo>
                    <a:pt x="1133" y="18"/>
                  </a:lnTo>
                  <a:lnTo>
                    <a:pt x="114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441520" y="2874960"/>
              <a:ext cx="14400" cy="358560"/>
            </a:xfrm>
            <a:custGeom>
              <a:avLst/>
              <a:gdLst/>
              <a:ahLst/>
              <a:rect l="l" t="t" r="r" b="b"/>
              <a:pathLst>
                <a:path w="91" h="2358">
                  <a:moveTo>
                    <a:pt x="33" y="2341"/>
                  </a:moveTo>
                  <a:lnTo>
                    <a:pt x="91" y="16"/>
                  </a:lnTo>
                  <a:lnTo>
                    <a:pt x="89" y="11"/>
                  </a:lnTo>
                  <a:lnTo>
                    <a:pt x="86" y="5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5" y="5"/>
                  </a:lnTo>
                  <a:lnTo>
                    <a:pt x="59" y="8"/>
                  </a:lnTo>
                  <a:lnTo>
                    <a:pt x="59" y="16"/>
                  </a:lnTo>
                  <a:lnTo>
                    <a:pt x="0" y="2341"/>
                  </a:lnTo>
                  <a:lnTo>
                    <a:pt x="3" y="2347"/>
                  </a:lnTo>
                  <a:lnTo>
                    <a:pt x="5" y="2352"/>
                  </a:lnTo>
                  <a:lnTo>
                    <a:pt x="10" y="2358"/>
                  </a:lnTo>
                  <a:lnTo>
                    <a:pt x="16" y="2358"/>
                  </a:lnTo>
                  <a:lnTo>
                    <a:pt x="24" y="2358"/>
                  </a:lnTo>
                  <a:lnTo>
                    <a:pt x="26" y="2352"/>
                  </a:lnTo>
                  <a:lnTo>
                    <a:pt x="33" y="2349"/>
                  </a:lnTo>
                  <a:lnTo>
                    <a:pt x="33" y="2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90680" y="3495600"/>
              <a:ext cx="192240" cy="54000"/>
            </a:xfrm>
            <a:custGeom>
              <a:avLst/>
              <a:gdLst/>
              <a:ahLst/>
              <a:rect l="l" t="t" r="r" b="b"/>
              <a:pathLst>
                <a:path w="1192" h="348">
                  <a:moveTo>
                    <a:pt x="1192" y="173"/>
                  </a:moveTo>
                  <a:lnTo>
                    <a:pt x="1190" y="207"/>
                  </a:lnTo>
                  <a:lnTo>
                    <a:pt x="1181" y="240"/>
                  </a:lnTo>
                  <a:lnTo>
                    <a:pt x="1170" y="270"/>
                  </a:lnTo>
                  <a:lnTo>
                    <a:pt x="1154" y="296"/>
                  </a:lnTo>
                  <a:lnTo>
                    <a:pt x="1135" y="318"/>
                  </a:lnTo>
                  <a:lnTo>
                    <a:pt x="1112" y="334"/>
                  </a:lnTo>
                  <a:lnTo>
                    <a:pt x="1101" y="339"/>
                  </a:lnTo>
                  <a:lnTo>
                    <a:pt x="1087" y="342"/>
                  </a:lnTo>
                  <a:lnTo>
                    <a:pt x="1073" y="344"/>
                  </a:lnTo>
                  <a:lnTo>
                    <a:pt x="1060" y="348"/>
                  </a:lnTo>
                  <a:lnTo>
                    <a:pt x="132" y="348"/>
                  </a:lnTo>
                  <a:lnTo>
                    <a:pt x="118" y="344"/>
                  </a:lnTo>
                  <a:lnTo>
                    <a:pt x="104" y="342"/>
                  </a:lnTo>
                  <a:lnTo>
                    <a:pt x="91" y="339"/>
                  </a:lnTo>
                  <a:lnTo>
                    <a:pt x="81" y="334"/>
                  </a:lnTo>
                  <a:lnTo>
                    <a:pt x="59" y="318"/>
                  </a:lnTo>
                  <a:lnTo>
                    <a:pt x="37" y="296"/>
                  </a:lnTo>
                  <a:lnTo>
                    <a:pt x="24" y="270"/>
                  </a:lnTo>
                  <a:lnTo>
                    <a:pt x="10" y="240"/>
                  </a:lnTo>
                  <a:lnTo>
                    <a:pt x="2" y="207"/>
                  </a:lnTo>
                  <a:lnTo>
                    <a:pt x="0" y="173"/>
                  </a:lnTo>
                  <a:lnTo>
                    <a:pt x="2" y="139"/>
                  </a:lnTo>
                  <a:lnTo>
                    <a:pt x="10" y="107"/>
                  </a:lnTo>
                  <a:lnTo>
                    <a:pt x="24" y="78"/>
                  </a:lnTo>
                  <a:lnTo>
                    <a:pt x="37" y="51"/>
                  </a:lnTo>
                  <a:lnTo>
                    <a:pt x="59" y="29"/>
                  </a:lnTo>
                  <a:lnTo>
                    <a:pt x="81" y="12"/>
                  </a:lnTo>
                  <a:lnTo>
                    <a:pt x="91" y="7"/>
                  </a:lnTo>
                  <a:lnTo>
                    <a:pt x="104" y="5"/>
                  </a:lnTo>
                  <a:lnTo>
                    <a:pt x="118" y="2"/>
                  </a:lnTo>
                  <a:lnTo>
                    <a:pt x="132" y="0"/>
                  </a:lnTo>
                  <a:lnTo>
                    <a:pt x="1060" y="0"/>
                  </a:lnTo>
                  <a:lnTo>
                    <a:pt x="1073" y="2"/>
                  </a:lnTo>
                  <a:lnTo>
                    <a:pt x="1087" y="5"/>
                  </a:lnTo>
                  <a:lnTo>
                    <a:pt x="1101" y="7"/>
                  </a:lnTo>
                  <a:lnTo>
                    <a:pt x="1112" y="12"/>
                  </a:lnTo>
                  <a:lnTo>
                    <a:pt x="1135" y="29"/>
                  </a:lnTo>
                  <a:lnTo>
                    <a:pt x="1154" y="51"/>
                  </a:lnTo>
                  <a:lnTo>
                    <a:pt x="1170" y="78"/>
                  </a:lnTo>
                  <a:lnTo>
                    <a:pt x="1181" y="107"/>
                  </a:lnTo>
                  <a:lnTo>
                    <a:pt x="1190" y="139"/>
                  </a:lnTo>
                  <a:lnTo>
                    <a:pt x="1192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389240" y="3494160"/>
              <a:ext cx="195120" cy="55440"/>
            </a:xfrm>
            <a:custGeom>
              <a:avLst/>
              <a:gdLst/>
              <a:ahLst/>
              <a:rect l="l" t="t" r="r" b="b"/>
              <a:pathLst>
                <a:path w="1209" h="364">
                  <a:moveTo>
                    <a:pt x="1201" y="182"/>
                  </a:moveTo>
                  <a:lnTo>
                    <a:pt x="1193" y="182"/>
                  </a:lnTo>
                  <a:lnTo>
                    <a:pt x="1190" y="216"/>
                  </a:lnTo>
                  <a:lnTo>
                    <a:pt x="1183" y="249"/>
                  </a:lnTo>
                  <a:lnTo>
                    <a:pt x="1172" y="276"/>
                  </a:lnTo>
                  <a:lnTo>
                    <a:pt x="1156" y="300"/>
                  </a:lnTo>
                  <a:lnTo>
                    <a:pt x="1139" y="318"/>
                  </a:lnTo>
                  <a:lnTo>
                    <a:pt x="1118" y="335"/>
                  </a:lnTo>
                  <a:lnTo>
                    <a:pt x="1093" y="343"/>
                  </a:lnTo>
                  <a:lnTo>
                    <a:pt x="1082" y="346"/>
                  </a:lnTo>
                  <a:lnTo>
                    <a:pt x="1069" y="348"/>
                  </a:lnTo>
                  <a:lnTo>
                    <a:pt x="141" y="348"/>
                  </a:lnTo>
                  <a:lnTo>
                    <a:pt x="127" y="346"/>
                  </a:lnTo>
                  <a:lnTo>
                    <a:pt x="116" y="343"/>
                  </a:lnTo>
                  <a:lnTo>
                    <a:pt x="92" y="335"/>
                  </a:lnTo>
                  <a:lnTo>
                    <a:pt x="74" y="318"/>
                  </a:lnTo>
                  <a:lnTo>
                    <a:pt x="54" y="300"/>
                  </a:lnTo>
                  <a:lnTo>
                    <a:pt x="38" y="276"/>
                  </a:lnTo>
                  <a:lnTo>
                    <a:pt x="28" y="249"/>
                  </a:lnTo>
                  <a:lnTo>
                    <a:pt x="19" y="216"/>
                  </a:lnTo>
                  <a:lnTo>
                    <a:pt x="17" y="182"/>
                  </a:lnTo>
                  <a:lnTo>
                    <a:pt x="19" y="148"/>
                  </a:lnTo>
                  <a:lnTo>
                    <a:pt x="28" y="116"/>
                  </a:lnTo>
                  <a:lnTo>
                    <a:pt x="38" y="90"/>
                  </a:lnTo>
                  <a:lnTo>
                    <a:pt x="54" y="65"/>
                  </a:lnTo>
                  <a:lnTo>
                    <a:pt x="74" y="46"/>
                  </a:lnTo>
                  <a:lnTo>
                    <a:pt x="92" y="30"/>
                  </a:lnTo>
                  <a:lnTo>
                    <a:pt x="116" y="21"/>
                  </a:lnTo>
                  <a:lnTo>
                    <a:pt x="127" y="19"/>
                  </a:lnTo>
                  <a:lnTo>
                    <a:pt x="141" y="16"/>
                  </a:lnTo>
                  <a:lnTo>
                    <a:pt x="1069" y="16"/>
                  </a:lnTo>
                  <a:lnTo>
                    <a:pt x="1082" y="19"/>
                  </a:lnTo>
                  <a:lnTo>
                    <a:pt x="1093" y="21"/>
                  </a:lnTo>
                  <a:lnTo>
                    <a:pt x="1118" y="30"/>
                  </a:lnTo>
                  <a:lnTo>
                    <a:pt x="1139" y="46"/>
                  </a:lnTo>
                  <a:lnTo>
                    <a:pt x="1156" y="65"/>
                  </a:lnTo>
                  <a:lnTo>
                    <a:pt x="1172" y="90"/>
                  </a:lnTo>
                  <a:lnTo>
                    <a:pt x="1183" y="116"/>
                  </a:lnTo>
                  <a:lnTo>
                    <a:pt x="1190" y="148"/>
                  </a:lnTo>
                  <a:lnTo>
                    <a:pt x="1193" y="182"/>
                  </a:lnTo>
                  <a:lnTo>
                    <a:pt x="1201" y="182"/>
                  </a:lnTo>
                  <a:lnTo>
                    <a:pt x="1209" y="182"/>
                  </a:lnTo>
                  <a:lnTo>
                    <a:pt x="1207" y="146"/>
                  </a:lnTo>
                  <a:lnTo>
                    <a:pt x="1199" y="113"/>
                  </a:lnTo>
                  <a:lnTo>
                    <a:pt x="1185" y="81"/>
                  </a:lnTo>
                  <a:lnTo>
                    <a:pt x="1169" y="55"/>
                  </a:lnTo>
                  <a:lnTo>
                    <a:pt x="1150" y="33"/>
                  </a:lnTo>
                  <a:lnTo>
                    <a:pt x="1126" y="16"/>
                  </a:lnTo>
                  <a:lnTo>
                    <a:pt x="1112" y="9"/>
                  </a:lnTo>
                  <a:lnTo>
                    <a:pt x="1098" y="5"/>
                  </a:lnTo>
                  <a:lnTo>
                    <a:pt x="1085" y="3"/>
                  </a:lnTo>
                  <a:lnTo>
                    <a:pt x="1069" y="0"/>
                  </a:lnTo>
                  <a:lnTo>
                    <a:pt x="141" y="0"/>
                  </a:lnTo>
                  <a:lnTo>
                    <a:pt x="125" y="3"/>
                  </a:lnTo>
                  <a:lnTo>
                    <a:pt x="111" y="5"/>
                  </a:lnTo>
                  <a:lnTo>
                    <a:pt x="97" y="9"/>
                  </a:lnTo>
                  <a:lnTo>
                    <a:pt x="84" y="16"/>
                  </a:lnTo>
                  <a:lnTo>
                    <a:pt x="74" y="25"/>
                  </a:lnTo>
                  <a:lnTo>
                    <a:pt x="62" y="33"/>
                  </a:lnTo>
                  <a:lnTo>
                    <a:pt x="41" y="55"/>
                  </a:lnTo>
                  <a:lnTo>
                    <a:pt x="25" y="81"/>
                  </a:lnTo>
                  <a:lnTo>
                    <a:pt x="11" y="113"/>
                  </a:lnTo>
                  <a:lnTo>
                    <a:pt x="3" y="146"/>
                  </a:lnTo>
                  <a:lnTo>
                    <a:pt x="0" y="182"/>
                  </a:lnTo>
                  <a:lnTo>
                    <a:pt x="3" y="219"/>
                  </a:lnTo>
                  <a:lnTo>
                    <a:pt x="11" y="251"/>
                  </a:lnTo>
                  <a:lnTo>
                    <a:pt x="25" y="284"/>
                  </a:lnTo>
                  <a:lnTo>
                    <a:pt x="41" y="311"/>
                  </a:lnTo>
                  <a:lnTo>
                    <a:pt x="62" y="332"/>
                  </a:lnTo>
                  <a:lnTo>
                    <a:pt x="74" y="341"/>
                  </a:lnTo>
                  <a:lnTo>
                    <a:pt x="84" y="348"/>
                  </a:lnTo>
                  <a:lnTo>
                    <a:pt x="97" y="357"/>
                  </a:lnTo>
                  <a:lnTo>
                    <a:pt x="111" y="359"/>
                  </a:lnTo>
                  <a:lnTo>
                    <a:pt x="125" y="362"/>
                  </a:lnTo>
                  <a:lnTo>
                    <a:pt x="141" y="364"/>
                  </a:lnTo>
                  <a:lnTo>
                    <a:pt x="1069" y="364"/>
                  </a:lnTo>
                  <a:lnTo>
                    <a:pt x="1085" y="362"/>
                  </a:lnTo>
                  <a:lnTo>
                    <a:pt x="1098" y="359"/>
                  </a:lnTo>
                  <a:lnTo>
                    <a:pt x="1112" y="357"/>
                  </a:lnTo>
                  <a:lnTo>
                    <a:pt x="1126" y="348"/>
                  </a:lnTo>
                  <a:lnTo>
                    <a:pt x="1150" y="332"/>
                  </a:lnTo>
                  <a:lnTo>
                    <a:pt x="1169" y="311"/>
                  </a:lnTo>
                  <a:lnTo>
                    <a:pt x="1185" y="284"/>
                  </a:lnTo>
                  <a:lnTo>
                    <a:pt x="1199" y="251"/>
                  </a:lnTo>
                  <a:lnTo>
                    <a:pt x="1207" y="219"/>
                  </a:lnTo>
                  <a:lnTo>
                    <a:pt x="1209" y="182"/>
                  </a:lnTo>
                  <a:lnTo>
                    <a:pt x="1201" y="18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392120" y="3514680"/>
              <a:ext cx="190800" cy="33120"/>
            </a:xfrm>
            <a:custGeom>
              <a:avLst/>
              <a:gdLst/>
              <a:ahLst/>
              <a:rect l="l" t="t" r="r" b="b"/>
              <a:pathLst>
                <a:path w="1184" h="221">
                  <a:moveTo>
                    <a:pt x="8" y="0"/>
                  </a:moveTo>
                  <a:lnTo>
                    <a:pt x="2" y="27"/>
                  </a:lnTo>
                  <a:lnTo>
                    <a:pt x="0" y="55"/>
                  </a:lnTo>
                  <a:lnTo>
                    <a:pt x="2" y="89"/>
                  </a:lnTo>
                  <a:lnTo>
                    <a:pt x="11" y="122"/>
                  </a:lnTo>
                  <a:lnTo>
                    <a:pt x="21" y="149"/>
                  </a:lnTo>
                  <a:lnTo>
                    <a:pt x="37" y="173"/>
                  </a:lnTo>
                  <a:lnTo>
                    <a:pt x="57" y="191"/>
                  </a:lnTo>
                  <a:lnTo>
                    <a:pt x="75" y="208"/>
                  </a:lnTo>
                  <a:lnTo>
                    <a:pt x="99" y="216"/>
                  </a:lnTo>
                  <a:lnTo>
                    <a:pt x="110" y="219"/>
                  </a:lnTo>
                  <a:lnTo>
                    <a:pt x="124" y="221"/>
                  </a:lnTo>
                  <a:lnTo>
                    <a:pt x="1052" y="221"/>
                  </a:lnTo>
                  <a:lnTo>
                    <a:pt x="1065" y="219"/>
                  </a:lnTo>
                  <a:lnTo>
                    <a:pt x="1076" y="216"/>
                  </a:lnTo>
                  <a:lnTo>
                    <a:pt x="1101" y="208"/>
                  </a:lnTo>
                  <a:lnTo>
                    <a:pt x="1122" y="191"/>
                  </a:lnTo>
                  <a:lnTo>
                    <a:pt x="1139" y="173"/>
                  </a:lnTo>
                  <a:lnTo>
                    <a:pt x="1155" y="149"/>
                  </a:lnTo>
                  <a:lnTo>
                    <a:pt x="1166" y="122"/>
                  </a:lnTo>
                  <a:lnTo>
                    <a:pt x="1173" y="89"/>
                  </a:lnTo>
                  <a:lnTo>
                    <a:pt x="1176" y="55"/>
                  </a:lnTo>
                  <a:lnTo>
                    <a:pt x="1184" y="55"/>
                  </a:lnTo>
                  <a:lnTo>
                    <a:pt x="1176" y="55"/>
                  </a:lnTo>
                  <a:lnTo>
                    <a:pt x="1173" y="27"/>
                  </a:lnTo>
                  <a:lnTo>
                    <a:pt x="1168" y="0"/>
                  </a:lnTo>
                  <a:lnTo>
                    <a:pt x="1160" y="19"/>
                  </a:lnTo>
                  <a:lnTo>
                    <a:pt x="1150" y="37"/>
                  </a:lnTo>
                  <a:lnTo>
                    <a:pt x="1136" y="55"/>
                  </a:lnTo>
                  <a:lnTo>
                    <a:pt x="1122" y="67"/>
                  </a:lnTo>
                  <a:lnTo>
                    <a:pt x="1106" y="78"/>
                  </a:lnTo>
                  <a:lnTo>
                    <a:pt x="1090" y="87"/>
                  </a:lnTo>
                  <a:lnTo>
                    <a:pt x="1071" y="92"/>
                  </a:lnTo>
                  <a:lnTo>
                    <a:pt x="1052" y="92"/>
                  </a:lnTo>
                  <a:lnTo>
                    <a:pt x="124" y="92"/>
                  </a:lnTo>
                  <a:lnTo>
                    <a:pt x="105" y="92"/>
                  </a:lnTo>
                  <a:lnTo>
                    <a:pt x="86" y="87"/>
                  </a:lnTo>
                  <a:lnTo>
                    <a:pt x="70" y="78"/>
                  </a:lnTo>
                  <a:lnTo>
                    <a:pt x="54" y="67"/>
                  </a:lnTo>
                  <a:lnTo>
                    <a:pt x="40" y="55"/>
                  </a:lnTo>
                  <a:lnTo>
                    <a:pt x="27" y="37"/>
                  </a:lnTo>
                  <a:lnTo>
                    <a:pt x="16" y="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8e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90680" y="3512880"/>
              <a:ext cx="192240" cy="36720"/>
            </a:xfrm>
            <a:custGeom>
              <a:avLst/>
              <a:gdLst/>
              <a:ahLst/>
              <a:rect l="l" t="t" r="r" b="b"/>
              <a:pathLst>
                <a:path w="1192" h="244">
                  <a:moveTo>
                    <a:pt x="10" y="0"/>
                  </a:moveTo>
                  <a:lnTo>
                    <a:pt x="2" y="33"/>
                  </a:lnTo>
                  <a:lnTo>
                    <a:pt x="0" y="69"/>
                  </a:lnTo>
                  <a:lnTo>
                    <a:pt x="2" y="103"/>
                  </a:lnTo>
                  <a:lnTo>
                    <a:pt x="10" y="136"/>
                  </a:lnTo>
                  <a:lnTo>
                    <a:pt x="24" y="166"/>
                  </a:lnTo>
                  <a:lnTo>
                    <a:pt x="37" y="192"/>
                  </a:lnTo>
                  <a:lnTo>
                    <a:pt x="59" y="214"/>
                  </a:lnTo>
                  <a:lnTo>
                    <a:pt x="81" y="230"/>
                  </a:lnTo>
                  <a:lnTo>
                    <a:pt x="91" y="235"/>
                  </a:lnTo>
                  <a:lnTo>
                    <a:pt x="104" y="238"/>
                  </a:lnTo>
                  <a:lnTo>
                    <a:pt x="118" y="240"/>
                  </a:lnTo>
                  <a:lnTo>
                    <a:pt x="132" y="244"/>
                  </a:lnTo>
                  <a:lnTo>
                    <a:pt x="1060" y="244"/>
                  </a:lnTo>
                  <a:lnTo>
                    <a:pt x="1073" y="240"/>
                  </a:lnTo>
                  <a:lnTo>
                    <a:pt x="1087" y="238"/>
                  </a:lnTo>
                  <a:lnTo>
                    <a:pt x="1101" y="235"/>
                  </a:lnTo>
                  <a:lnTo>
                    <a:pt x="1112" y="230"/>
                  </a:lnTo>
                  <a:lnTo>
                    <a:pt x="1135" y="214"/>
                  </a:lnTo>
                  <a:lnTo>
                    <a:pt x="1154" y="192"/>
                  </a:lnTo>
                  <a:lnTo>
                    <a:pt x="1170" y="166"/>
                  </a:lnTo>
                  <a:lnTo>
                    <a:pt x="1181" y="136"/>
                  </a:lnTo>
                  <a:lnTo>
                    <a:pt x="1190" y="103"/>
                  </a:lnTo>
                  <a:lnTo>
                    <a:pt x="1192" y="69"/>
                  </a:lnTo>
                  <a:lnTo>
                    <a:pt x="1184" y="69"/>
                  </a:lnTo>
                  <a:lnTo>
                    <a:pt x="1181" y="103"/>
                  </a:lnTo>
                  <a:lnTo>
                    <a:pt x="1174" y="136"/>
                  </a:lnTo>
                  <a:lnTo>
                    <a:pt x="1163" y="163"/>
                  </a:lnTo>
                  <a:lnTo>
                    <a:pt x="1147" y="187"/>
                  </a:lnTo>
                  <a:lnTo>
                    <a:pt x="1130" y="205"/>
                  </a:lnTo>
                  <a:lnTo>
                    <a:pt x="1109" y="222"/>
                  </a:lnTo>
                  <a:lnTo>
                    <a:pt x="1084" y="230"/>
                  </a:lnTo>
                  <a:lnTo>
                    <a:pt x="1073" y="233"/>
                  </a:lnTo>
                  <a:lnTo>
                    <a:pt x="1060" y="235"/>
                  </a:lnTo>
                  <a:lnTo>
                    <a:pt x="132" y="235"/>
                  </a:lnTo>
                  <a:lnTo>
                    <a:pt x="118" y="233"/>
                  </a:lnTo>
                  <a:lnTo>
                    <a:pt x="107" y="230"/>
                  </a:lnTo>
                  <a:lnTo>
                    <a:pt x="83" y="222"/>
                  </a:lnTo>
                  <a:lnTo>
                    <a:pt x="65" y="205"/>
                  </a:lnTo>
                  <a:lnTo>
                    <a:pt x="45" y="187"/>
                  </a:lnTo>
                  <a:lnTo>
                    <a:pt x="29" y="163"/>
                  </a:lnTo>
                  <a:lnTo>
                    <a:pt x="19" y="136"/>
                  </a:lnTo>
                  <a:lnTo>
                    <a:pt x="10" y="103"/>
                  </a:lnTo>
                  <a:lnTo>
                    <a:pt x="8" y="69"/>
                  </a:lnTo>
                  <a:lnTo>
                    <a:pt x="10" y="41"/>
                  </a:lnTo>
                  <a:lnTo>
                    <a:pt x="16" y="14"/>
                  </a:lnTo>
                  <a:lnTo>
                    <a:pt x="10" y="0"/>
                  </a:lnTo>
                  <a:close/>
                  <a:moveTo>
                    <a:pt x="1181" y="0"/>
                  </a:moveTo>
                  <a:lnTo>
                    <a:pt x="1176" y="14"/>
                  </a:lnTo>
                  <a:lnTo>
                    <a:pt x="1181" y="41"/>
                  </a:lnTo>
                  <a:lnTo>
                    <a:pt x="1184" y="69"/>
                  </a:lnTo>
                  <a:lnTo>
                    <a:pt x="1192" y="69"/>
                  </a:lnTo>
                  <a:lnTo>
                    <a:pt x="1190" y="33"/>
                  </a:lnTo>
                  <a:lnTo>
                    <a:pt x="1181" y="0"/>
                  </a:lnTo>
                  <a:close/>
                </a:path>
              </a:pathLst>
            </a:custGeom>
            <a:solidFill>
              <a:srgbClr val="6c3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649520" y="3495600"/>
              <a:ext cx="193680" cy="54000"/>
            </a:xfrm>
            <a:custGeom>
              <a:avLst/>
              <a:gdLst/>
              <a:ahLst/>
              <a:rect l="l" t="t" r="r" b="b"/>
              <a:pathLst>
                <a:path w="1194" h="348">
                  <a:moveTo>
                    <a:pt x="1194" y="173"/>
                  </a:moveTo>
                  <a:lnTo>
                    <a:pt x="1191" y="207"/>
                  </a:lnTo>
                  <a:lnTo>
                    <a:pt x="1183" y="240"/>
                  </a:lnTo>
                  <a:lnTo>
                    <a:pt x="1169" y="270"/>
                  </a:lnTo>
                  <a:lnTo>
                    <a:pt x="1153" y="296"/>
                  </a:lnTo>
                  <a:lnTo>
                    <a:pt x="1134" y="318"/>
                  </a:lnTo>
                  <a:lnTo>
                    <a:pt x="1113" y="334"/>
                  </a:lnTo>
                  <a:lnTo>
                    <a:pt x="1102" y="339"/>
                  </a:lnTo>
                  <a:lnTo>
                    <a:pt x="1088" y="342"/>
                  </a:lnTo>
                  <a:lnTo>
                    <a:pt x="1075" y="344"/>
                  </a:lnTo>
                  <a:lnTo>
                    <a:pt x="1061" y="348"/>
                  </a:lnTo>
                  <a:lnTo>
                    <a:pt x="133" y="348"/>
                  </a:lnTo>
                  <a:lnTo>
                    <a:pt x="120" y="344"/>
                  </a:lnTo>
                  <a:lnTo>
                    <a:pt x="106" y="342"/>
                  </a:lnTo>
                  <a:lnTo>
                    <a:pt x="92" y="339"/>
                  </a:lnTo>
                  <a:lnTo>
                    <a:pt x="82" y="334"/>
                  </a:lnTo>
                  <a:lnTo>
                    <a:pt x="58" y="318"/>
                  </a:lnTo>
                  <a:lnTo>
                    <a:pt x="39" y="296"/>
                  </a:lnTo>
                  <a:lnTo>
                    <a:pt x="23" y="270"/>
                  </a:lnTo>
                  <a:lnTo>
                    <a:pt x="12" y="240"/>
                  </a:lnTo>
                  <a:lnTo>
                    <a:pt x="4" y="207"/>
                  </a:lnTo>
                  <a:lnTo>
                    <a:pt x="0" y="173"/>
                  </a:lnTo>
                  <a:lnTo>
                    <a:pt x="4" y="139"/>
                  </a:lnTo>
                  <a:lnTo>
                    <a:pt x="12" y="107"/>
                  </a:lnTo>
                  <a:lnTo>
                    <a:pt x="23" y="78"/>
                  </a:lnTo>
                  <a:lnTo>
                    <a:pt x="39" y="51"/>
                  </a:lnTo>
                  <a:lnTo>
                    <a:pt x="58" y="29"/>
                  </a:lnTo>
                  <a:lnTo>
                    <a:pt x="82" y="12"/>
                  </a:lnTo>
                  <a:lnTo>
                    <a:pt x="92" y="7"/>
                  </a:lnTo>
                  <a:lnTo>
                    <a:pt x="106" y="5"/>
                  </a:lnTo>
                  <a:lnTo>
                    <a:pt x="120" y="2"/>
                  </a:lnTo>
                  <a:lnTo>
                    <a:pt x="133" y="0"/>
                  </a:lnTo>
                  <a:lnTo>
                    <a:pt x="1061" y="0"/>
                  </a:lnTo>
                  <a:lnTo>
                    <a:pt x="1075" y="2"/>
                  </a:lnTo>
                  <a:lnTo>
                    <a:pt x="1088" y="5"/>
                  </a:lnTo>
                  <a:lnTo>
                    <a:pt x="1102" y="7"/>
                  </a:lnTo>
                  <a:lnTo>
                    <a:pt x="1113" y="12"/>
                  </a:lnTo>
                  <a:lnTo>
                    <a:pt x="1134" y="29"/>
                  </a:lnTo>
                  <a:lnTo>
                    <a:pt x="1153" y="51"/>
                  </a:lnTo>
                  <a:lnTo>
                    <a:pt x="1169" y="78"/>
                  </a:lnTo>
                  <a:lnTo>
                    <a:pt x="1183" y="107"/>
                  </a:lnTo>
                  <a:lnTo>
                    <a:pt x="1191" y="139"/>
                  </a:lnTo>
                  <a:lnTo>
                    <a:pt x="1194" y="173"/>
                  </a:lnTo>
                  <a:close/>
                </a:path>
              </a:pathLst>
            </a:custGeom>
            <a:solidFill>
              <a:srgbClr val="f8f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647720" y="3494160"/>
              <a:ext cx="195480" cy="55440"/>
            </a:xfrm>
            <a:custGeom>
              <a:avLst/>
              <a:gdLst/>
              <a:ahLst/>
              <a:rect l="l" t="t" r="r" b="b"/>
              <a:pathLst>
                <a:path w="1209" h="364">
                  <a:moveTo>
                    <a:pt x="1201" y="182"/>
                  </a:moveTo>
                  <a:lnTo>
                    <a:pt x="1192" y="182"/>
                  </a:lnTo>
                  <a:lnTo>
                    <a:pt x="1190" y="216"/>
                  </a:lnTo>
                  <a:lnTo>
                    <a:pt x="1182" y="249"/>
                  </a:lnTo>
                  <a:lnTo>
                    <a:pt x="1171" y="276"/>
                  </a:lnTo>
                  <a:lnTo>
                    <a:pt x="1155" y="300"/>
                  </a:lnTo>
                  <a:lnTo>
                    <a:pt x="1136" y="318"/>
                  </a:lnTo>
                  <a:lnTo>
                    <a:pt x="1117" y="335"/>
                  </a:lnTo>
                  <a:lnTo>
                    <a:pt x="1093" y="343"/>
                  </a:lnTo>
                  <a:lnTo>
                    <a:pt x="1082" y="346"/>
                  </a:lnTo>
                  <a:lnTo>
                    <a:pt x="1068" y="348"/>
                  </a:lnTo>
                  <a:lnTo>
                    <a:pt x="140" y="348"/>
                  </a:lnTo>
                  <a:lnTo>
                    <a:pt x="127" y="346"/>
                  </a:lnTo>
                  <a:lnTo>
                    <a:pt x="113" y="343"/>
                  </a:lnTo>
                  <a:lnTo>
                    <a:pt x="92" y="335"/>
                  </a:lnTo>
                  <a:lnTo>
                    <a:pt x="70" y="318"/>
                  </a:lnTo>
                  <a:lnTo>
                    <a:pt x="51" y="300"/>
                  </a:lnTo>
                  <a:lnTo>
                    <a:pt x="37" y="276"/>
                  </a:lnTo>
                  <a:lnTo>
                    <a:pt x="27" y="249"/>
                  </a:lnTo>
                  <a:lnTo>
                    <a:pt x="19" y="216"/>
                  </a:lnTo>
                  <a:lnTo>
                    <a:pt x="16" y="182"/>
                  </a:lnTo>
                  <a:lnTo>
                    <a:pt x="19" y="148"/>
                  </a:lnTo>
                  <a:lnTo>
                    <a:pt x="27" y="116"/>
                  </a:lnTo>
                  <a:lnTo>
                    <a:pt x="37" y="90"/>
                  </a:lnTo>
                  <a:lnTo>
                    <a:pt x="51" y="65"/>
                  </a:lnTo>
                  <a:lnTo>
                    <a:pt x="70" y="46"/>
                  </a:lnTo>
                  <a:lnTo>
                    <a:pt x="92" y="30"/>
                  </a:lnTo>
                  <a:lnTo>
                    <a:pt x="113" y="21"/>
                  </a:lnTo>
                  <a:lnTo>
                    <a:pt x="127" y="19"/>
                  </a:lnTo>
                  <a:lnTo>
                    <a:pt x="140" y="16"/>
                  </a:lnTo>
                  <a:lnTo>
                    <a:pt x="1068" y="16"/>
                  </a:lnTo>
                  <a:lnTo>
                    <a:pt x="1082" y="19"/>
                  </a:lnTo>
                  <a:lnTo>
                    <a:pt x="1093" y="21"/>
                  </a:lnTo>
                  <a:lnTo>
                    <a:pt x="1117" y="30"/>
                  </a:lnTo>
                  <a:lnTo>
                    <a:pt x="1136" y="46"/>
                  </a:lnTo>
                  <a:lnTo>
                    <a:pt x="1155" y="65"/>
                  </a:lnTo>
                  <a:lnTo>
                    <a:pt x="1171" y="90"/>
                  </a:lnTo>
                  <a:lnTo>
                    <a:pt x="1182" y="116"/>
                  </a:lnTo>
                  <a:lnTo>
                    <a:pt x="1190" y="148"/>
                  </a:lnTo>
                  <a:lnTo>
                    <a:pt x="1192" y="182"/>
                  </a:lnTo>
                  <a:lnTo>
                    <a:pt x="1201" y="182"/>
                  </a:lnTo>
                  <a:lnTo>
                    <a:pt x="1209" y="182"/>
                  </a:lnTo>
                  <a:lnTo>
                    <a:pt x="1206" y="146"/>
                  </a:lnTo>
                  <a:lnTo>
                    <a:pt x="1198" y="113"/>
                  </a:lnTo>
                  <a:lnTo>
                    <a:pt x="1185" y="81"/>
                  </a:lnTo>
                  <a:lnTo>
                    <a:pt x="1169" y="55"/>
                  </a:lnTo>
                  <a:lnTo>
                    <a:pt x="1146" y="33"/>
                  </a:lnTo>
                  <a:lnTo>
                    <a:pt x="1136" y="25"/>
                  </a:lnTo>
                  <a:lnTo>
                    <a:pt x="1123" y="16"/>
                  </a:lnTo>
                  <a:lnTo>
                    <a:pt x="1112" y="9"/>
                  </a:lnTo>
                  <a:lnTo>
                    <a:pt x="1098" y="5"/>
                  </a:lnTo>
                  <a:lnTo>
                    <a:pt x="1082" y="3"/>
                  </a:lnTo>
                  <a:lnTo>
                    <a:pt x="1068" y="0"/>
                  </a:lnTo>
                  <a:lnTo>
                    <a:pt x="140" y="0"/>
                  </a:lnTo>
                  <a:lnTo>
                    <a:pt x="124" y="3"/>
                  </a:lnTo>
                  <a:lnTo>
                    <a:pt x="110" y="5"/>
                  </a:lnTo>
                  <a:lnTo>
                    <a:pt x="97" y="9"/>
                  </a:lnTo>
                  <a:lnTo>
                    <a:pt x="83" y="16"/>
                  </a:lnTo>
                  <a:lnTo>
                    <a:pt x="73" y="25"/>
                  </a:lnTo>
                  <a:lnTo>
                    <a:pt x="59" y="33"/>
                  </a:lnTo>
                  <a:lnTo>
                    <a:pt x="41" y="55"/>
                  </a:lnTo>
                  <a:lnTo>
                    <a:pt x="21" y="81"/>
                  </a:lnTo>
                  <a:lnTo>
                    <a:pt x="11" y="113"/>
                  </a:lnTo>
                  <a:lnTo>
                    <a:pt x="2" y="146"/>
                  </a:lnTo>
                  <a:lnTo>
                    <a:pt x="0" y="182"/>
                  </a:lnTo>
                  <a:lnTo>
                    <a:pt x="2" y="219"/>
                  </a:lnTo>
                  <a:lnTo>
                    <a:pt x="11" y="251"/>
                  </a:lnTo>
                  <a:lnTo>
                    <a:pt x="21" y="284"/>
                  </a:lnTo>
                  <a:lnTo>
                    <a:pt x="41" y="311"/>
                  </a:lnTo>
                  <a:lnTo>
                    <a:pt x="59" y="332"/>
                  </a:lnTo>
                  <a:lnTo>
                    <a:pt x="73" y="341"/>
                  </a:lnTo>
                  <a:lnTo>
                    <a:pt x="83" y="348"/>
                  </a:lnTo>
                  <a:lnTo>
                    <a:pt x="97" y="357"/>
                  </a:lnTo>
                  <a:lnTo>
                    <a:pt x="110" y="359"/>
                  </a:lnTo>
                  <a:lnTo>
                    <a:pt x="124" y="362"/>
                  </a:lnTo>
                  <a:lnTo>
                    <a:pt x="140" y="364"/>
                  </a:lnTo>
                  <a:lnTo>
                    <a:pt x="1068" y="364"/>
                  </a:lnTo>
                  <a:lnTo>
                    <a:pt x="1082" y="362"/>
                  </a:lnTo>
                  <a:lnTo>
                    <a:pt x="1098" y="359"/>
                  </a:lnTo>
                  <a:lnTo>
                    <a:pt x="1112" y="357"/>
                  </a:lnTo>
                  <a:lnTo>
                    <a:pt x="1123" y="348"/>
                  </a:lnTo>
                  <a:lnTo>
                    <a:pt x="1136" y="341"/>
                  </a:lnTo>
                  <a:lnTo>
                    <a:pt x="1146" y="332"/>
                  </a:lnTo>
                  <a:lnTo>
                    <a:pt x="1169" y="311"/>
                  </a:lnTo>
                  <a:lnTo>
                    <a:pt x="1185" y="284"/>
                  </a:lnTo>
                  <a:lnTo>
                    <a:pt x="1198" y="251"/>
                  </a:lnTo>
                  <a:lnTo>
                    <a:pt x="1206" y="219"/>
                  </a:lnTo>
                  <a:lnTo>
                    <a:pt x="1209" y="182"/>
                  </a:lnTo>
                  <a:lnTo>
                    <a:pt x="1201" y="18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50960" y="3514680"/>
              <a:ext cx="192240" cy="33120"/>
            </a:xfrm>
            <a:custGeom>
              <a:avLst/>
              <a:gdLst/>
              <a:ahLst/>
              <a:rect l="l" t="t" r="r" b="b"/>
              <a:pathLst>
                <a:path w="1185" h="221">
                  <a:moveTo>
                    <a:pt x="5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3" y="89"/>
                  </a:lnTo>
                  <a:lnTo>
                    <a:pt x="11" y="122"/>
                  </a:lnTo>
                  <a:lnTo>
                    <a:pt x="21" y="149"/>
                  </a:lnTo>
                  <a:lnTo>
                    <a:pt x="35" y="173"/>
                  </a:lnTo>
                  <a:lnTo>
                    <a:pt x="54" y="191"/>
                  </a:lnTo>
                  <a:lnTo>
                    <a:pt x="76" y="208"/>
                  </a:lnTo>
                  <a:lnTo>
                    <a:pt x="97" y="216"/>
                  </a:lnTo>
                  <a:lnTo>
                    <a:pt x="111" y="219"/>
                  </a:lnTo>
                  <a:lnTo>
                    <a:pt x="124" y="221"/>
                  </a:lnTo>
                  <a:lnTo>
                    <a:pt x="1052" y="221"/>
                  </a:lnTo>
                  <a:lnTo>
                    <a:pt x="1066" y="219"/>
                  </a:lnTo>
                  <a:lnTo>
                    <a:pt x="1077" y="216"/>
                  </a:lnTo>
                  <a:lnTo>
                    <a:pt x="1101" y="208"/>
                  </a:lnTo>
                  <a:lnTo>
                    <a:pt x="1120" y="191"/>
                  </a:lnTo>
                  <a:lnTo>
                    <a:pt x="1139" y="173"/>
                  </a:lnTo>
                  <a:lnTo>
                    <a:pt x="1155" y="149"/>
                  </a:lnTo>
                  <a:lnTo>
                    <a:pt x="1166" y="122"/>
                  </a:lnTo>
                  <a:lnTo>
                    <a:pt x="1174" y="89"/>
                  </a:lnTo>
                  <a:lnTo>
                    <a:pt x="1176" y="55"/>
                  </a:lnTo>
                  <a:lnTo>
                    <a:pt x="1185" y="55"/>
                  </a:lnTo>
                  <a:lnTo>
                    <a:pt x="1176" y="55"/>
                  </a:lnTo>
                  <a:lnTo>
                    <a:pt x="1174" y="27"/>
                  </a:lnTo>
                  <a:lnTo>
                    <a:pt x="1169" y="0"/>
                  </a:lnTo>
                  <a:lnTo>
                    <a:pt x="1160" y="19"/>
                  </a:lnTo>
                  <a:lnTo>
                    <a:pt x="1150" y="37"/>
                  </a:lnTo>
                  <a:lnTo>
                    <a:pt x="1137" y="55"/>
                  </a:lnTo>
                  <a:lnTo>
                    <a:pt x="1120" y="67"/>
                  </a:lnTo>
                  <a:lnTo>
                    <a:pt x="1107" y="78"/>
                  </a:lnTo>
                  <a:lnTo>
                    <a:pt x="1088" y="87"/>
                  </a:lnTo>
                  <a:lnTo>
                    <a:pt x="1072" y="92"/>
                  </a:lnTo>
                  <a:lnTo>
                    <a:pt x="1052" y="92"/>
                  </a:lnTo>
                  <a:lnTo>
                    <a:pt x="124" y="92"/>
                  </a:lnTo>
                  <a:lnTo>
                    <a:pt x="106" y="92"/>
                  </a:lnTo>
                  <a:lnTo>
                    <a:pt x="87" y="87"/>
                  </a:lnTo>
                  <a:lnTo>
                    <a:pt x="71" y="78"/>
                  </a:lnTo>
                  <a:lnTo>
                    <a:pt x="54" y="67"/>
                  </a:lnTo>
                  <a:lnTo>
                    <a:pt x="41" y="55"/>
                  </a:lnTo>
                  <a:lnTo>
                    <a:pt x="27" y="37"/>
                  </a:lnTo>
                  <a:lnTo>
                    <a:pt x="16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49520" y="3512880"/>
              <a:ext cx="193680" cy="36720"/>
            </a:xfrm>
            <a:custGeom>
              <a:avLst/>
              <a:gdLst/>
              <a:ahLst/>
              <a:rect l="l" t="t" r="r" b="b"/>
              <a:pathLst>
                <a:path w="1194" h="244">
                  <a:moveTo>
                    <a:pt x="12" y="0"/>
                  </a:moveTo>
                  <a:lnTo>
                    <a:pt x="4" y="33"/>
                  </a:lnTo>
                  <a:lnTo>
                    <a:pt x="0" y="69"/>
                  </a:lnTo>
                  <a:lnTo>
                    <a:pt x="4" y="103"/>
                  </a:lnTo>
                  <a:lnTo>
                    <a:pt x="12" y="136"/>
                  </a:lnTo>
                  <a:lnTo>
                    <a:pt x="23" y="166"/>
                  </a:lnTo>
                  <a:lnTo>
                    <a:pt x="39" y="192"/>
                  </a:lnTo>
                  <a:lnTo>
                    <a:pt x="58" y="214"/>
                  </a:lnTo>
                  <a:lnTo>
                    <a:pt x="82" y="230"/>
                  </a:lnTo>
                  <a:lnTo>
                    <a:pt x="92" y="235"/>
                  </a:lnTo>
                  <a:lnTo>
                    <a:pt x="106" y="238"/>
                  </a:lnTo>
                  <a:lnTo>
                    <a:pt x="120" y="240"/>
                  </a:lnTo>
                  <a:lnTo>
                    <a:pt x="133" y="244"/>
                  </a:lnTo>
                  <a:lnTo>
                    <a:pt x="1061" y="244"/>
                  </a:lnTo>
                  <a:lnTo>
                    <a:pt x="1075" y="240"/>
                  </a:lnTo>
                  <a:lnTo>
                    <a:pt x="1088" y="238"/>
                  </a:lnTo>
                  <a:lnTo>
                    <a:pt x="1102" y="235"/>
                  </a:lnTo>
                  <a:lnTo>
                    <a:pt x="1113" y="230"/>
                  </a:lnTo>
                  <a:lnTo>
                    <a:pt x="1134" y="214"/>
                  </a:lnTo>
                  <a:lnTo>
                    <a:pt x="1153" y="192"/>
                  </a:lnTo>
                  <a:lnTo>
                    <a:pt x="1169" y="166"/>
                  </a:lnTo>
                  <a:lnTo>
                    <a:pt x="1183" y="136"/>
                  </a:lnTo>
                  <a:lnTo>
                    <a:pt x="1191" y="103"/>
                  </a:lnTo>
                  <a:lnTo>
                    <a:pt x="1194" y="69"/>
                  </a:lnTo>
                  <a:lnTo>
                    <a:pt x="1185" y="69"/>
                  </a:lnTo>
                  <a:lnTo>
                    <a:pt x="1183" y="103"/>
                  </a:lnTo>
                  <a:lnTo>
                    <a:pt x="1175" y="136"/>
                  </a:lnTo>
                  <a:lnTo>
                    <a:pt x="1164" y="163"/>
                  </a:lnTo>
                  <a:lnTo>
                    <a:pt x="1148" y="187"/>
                  </a:lnTo>
                  <a:lnTo>
                    <a:pt x="1129" y="205"/>
                  </a:lnTo>
                  <a:lnTo>
                    <a:pt x="1110" y="222"/>
                  </a:lnTo>
                  <a:lnTo>
                    <a:pt x="1086" y="230"/>
                  </a:lnTo>
                  <a:lnTo>
                    <a:pt x="1075" y="233"/>
                  </a:lnTo>
                  <a:lnTo>
                    <a:pt x="1061" y="235"/>
                  </a:lnTo>
                  <a:lnTo>
                    <a:pt x="133" y="235"/>
                  </a:lnTo>
                  <a:lnTo>
                    <a:pt x="120" y="233"/>
                  </a:lnTo>
                  <a:lnTo>
                    <a:pt x="106" y="230"/>
                  </a:lnTo>
                  <a:lnTo>
                    <a:pt x="85" y="222"/>
                  </a:lnTo>
                  <a:lnTo>
                    <a:pt x="63" y="205"/>
                  </a:lnTo>
                  <a:lnTo>
                    <a:pt x="44" y="187"/>
                  </a:lnTo>
                  <a:lnTo>
                    <a:pt x="30" y="163"/>
                  </a:lnTo>
                  <a:lnTo>
                    <a:pt x="20" y="136"/>
                  </a:lnTo>
                  <a:lnTo>
                    <a:pt x="12" y="103"/>
                  </a:lnTo>
                  <a:lnTo>
                    <a:pt x="9" y="69"/>
                  </a:lnTo>
                  <a:lnTo>
                    <a:pt x="9" y="41"/>
                  </a:lnTo>
                  <a:lnTo>
                    <a:pt x="14" y="14"/>
                  </a:lnTo>
                  <a:lnTo>
                    <a:pt x="12" y="0"/>
                  </a:lnTo>
                  <a:close/>
                  <a:moveTo>
                    <a:pt x="1183" y="0"/>
                  </a:moveTo>
                  <a:lnTo>
                    <a:pt x="1178" y="14"/>
                  </a:lnTo>
                  <a:lnTo>
                    <a:pt x="1183" y="41"/>
                  </a:lnTo>
                  <a:lnTo>
                    <a:pt x="1185" y="69"/>
                  </a:lnTo>
                  <a:lnTo>
                    <a:pt x="1194" y="69"/>
                  </a:lnTo>
                  <a:lnTo>
                    <a:pt x="1191" y="33"/>
                  </a:lnTo>
                  <a:lnTo>
                    <a:pt x="1183" y="0"/>
                  </a:lnTo>
                  <a:close/>
                </a:path>
              </a:pathLst>
            </a:custGeom>
            <a:solidFill>
              <a:srgbClr val="7537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086200" y="3375000"/>
              <a:ext cx="320400" cy="195120"/>
            </a:xfrm>
            <a:custGeom>
              <a:avLst/>
              <a:gdLst/>
              <a:ahLst/>
              <a:rect l="l" t="t" r="r" b="b"/>
              <a:pathLst>
                <a:path w="1992" h="1289">
                  <a:moveTo>
                    <a:pt x="1992" y="644"/>
                  </a:moveTo>
                  <a:lnTo>
                    <a:pt x="1989" y="677"/>
                  </a:lnTo>
                  <a:lnTo>
                    <a:pt x="1989" y="712"/>
                  </a:lnTo>
                  <a:lnTo>
                    <a:pt x="1978" y="774"/>
                  </a:lnTo>
                  <a:lnTo>
                    <a:pt x="1962" y="836"/>
                  </a:lnTo>
                  <a:lnTo>
                    <a:pt x="1943" y="895"/>
                  </a:lnTo>
                  <a:lnTo>
                    <a:pt x="1916" y="951"/>
                  </a:lnTo>
                  <a:lnTo>
                    <a:pt x="1884" y="1006"/>
                  </a:lnTo>
                  <a:lnTo>
                    <a:pt x="1849" y="1054"/>
                  </a:lnTo>
                  <a:lnTo>
                    <a:pt x="1809" y="1100"/>
                  </a:lnTo>
                  <a:lnTo>
                    <a:pt x="1763" y="1144"/>
                  </a:lnTo>
                  <a:lnTo>
                    <a:pt x="1715" y="1181"/>
                  </a:lnTo>
                  <a:lnTo>
                    <a:pt x="1663" y="1211"/>
                  </a:lnTo>
                  <a:lnTo>
                    <a:pt x="1609" y="1241"/>
                  </a:lnTo>
                  <a:lnTo>
                    <a:pt x="1549" y="1262"/>
                  </a:lnTo>
                  <a:lnTo>
                    <a:pt x="1490" y="1278"/>
                  </a:lnTo>
                  <a:lnTo>
                    <a:pt x="1460" y="1284"/>
                  </a:lnTo>
                  <a:lnTo>
                    <a:pt x="1428" y="1287"/>
                  </a:lnTo>
                  <a:lnTo>
                    <a:pt x="1395" y="1289"/>
                  </a:lnTo>
                  <a:lnTo>
                    <a:pt x="1363" y="1289"/>
                  </a:lnTo>
                  <a:lnTo>
                    <a:pt x="627" y="1289"/>
                  </a:lnTo>
                  <a:lnTo>
                    <a:pt x="594" y="1289"/>
                  </a:lnTo>
                  <a:lnTo>
                    <a:pt x="562" y="1287"/>
                  </a:lnTo>
                  <a:lnTo>
                    <a:pt x="532" y="1284"/>
                  </a:lnTo>
                  <a:lnTo>
                    <a:pt x="500" y="1278"/>
                  </a:lnTo>
                  <a:lnTo>
                    <a:pt x="440" y="1262"/>
                  </a:lnTo>
                  <a:lnTo>
                    <a:pt x="381" y="1241"/>
                  </a:lnTo>
                  <a:lnTo>
                    <a:pt x="327" y="1211"/>
                  </a:lnTo>
                  <a:lnTo>
                    <a:pt x="275" y="1181"/>
                  </a:lnTo>
                  <a:lnTo>
                    <a:pt x="227" y="1144"/>
                  </a:lnTo>
                  <a:lnTo>
                    <a:pt x="184" y="1100"/>
                  </a:lnTo>
                  <a:lnTo>
                    <a:pt x="143" y="1054"/>
                  </a:lnTo>
                  <a:lnTo>
                    <a:pt x="106" y="1006"/>
                  </a:lnTo>
                  <a:lnTo>
                    <a:pt x="76" y="951"/>
                  </a:lnTo>
                  <a:lnTo>
                    <a:pt x="49" y="895"/>
                  </a:lnTo>
                  <a:lnTo>
                    <a:pt x="28" y="836"/>
                  </a:lnTo>
                  <a:lnTo>
                    <a:pt x="12" y="774"/>
                  </a:lnTo>
                  <a:lnTo>
                    <a:pt x="3" y="712"/>
                  </a:lnTo>
                  <a:lnTo>
                    <a:pt x="0" y="677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3" y="580"/>
                  </a:lnTo>
                  <a:lnTo>
                    <a:pt x="12" y="515"/>
                  </a:lnTo>
                  <a:lnTo>
                    <a:pt x="28" y="453"/>
                  </a:lnTo>
                  <a:lnTo>
                    <a:pt x="49" y="393"/>
                  </a:lnTo>
                  <a:lnTo>
                    <a:pt x="76" y="336"/>
                  </a:lnTo>
                  <a:lnTo>
                    <a:pt x="106" y="283"/>
                  </a:lnTo>
                  <a:lnTo>
                    <a:pt x="143" y="234"/>
                  </a:lnTo>
                  <a:lnTo>
                    <a:pt x="184" y="188"/>
                  </a:lnTo>
                  <a:lnTo>
                    <a:pt x="227" y="145"/>
                  </a:lnTo>
                  <a:lnTo>
                    <a:pt x="275" y="110"/>
                  </a:lnTo>
                  <a:lnTo>
                    <a:pt x="327" y="78"/>
                  </a:lnTo>
                  <a:lnTo>
                    <a:pt x="381" y="51"/>
                  </a:lnTo>
                  <a:lnTo>
                    <a:pt x="440" y="29"/>
                  </a:lnTo>
                  <a:lnTo>
                    <a:pt x="500" y="13"/>
                  </a:lnTo>
                  <a:lnTo>
                    <a:pt x="532" y="8"/>
                  </a:lnTo>
                  <a:lnTo>
                    <a:pt x="562" y="2"/>
                  </a:lnTo>
                  <a:lnTo>
                    <a:pt x="594" y="0"/>
                  </a:lnTo>
                  <a:lnTo>
                    <a:pt x="627" y="0"/>
                  </a:lnTo>
                  <a:lnTo>
                    <a:pt x="1363" y="0"/>
                  </a:lnTo>
                  <a:lnTo>
                    <a:pt x="1395" y="0"/>
                  </a:lnTo>
                  <a:lnTo>
                    <a:pt x="1428" y="2"/>
                  </a:lnTo>
                  <a:lnTo>
                    <a:pt x="1460" y="8"/>
                  </a:lnTo>
                  <a:lnTo>
                    <a:pt x="1490" y="13"/>
                  </a:lnTo>
                  <a:lnTo>
                    <a:pt x="1549" y="29"/>
                  </a:lnTo>
                  <a:lnTo>
                    <a:pt x="1609" y="51"/>
                  </a:lnTo>
                  <a:lnTo>
                    <a:pt x="1663" y="78"/>
                  </a:lnTo>
                  <a:lnTo>
                    <a:pt x="1715" y="110"/>
                  </a:lnTo>
                  <a:lnTo>
                    <a:pt x="1763" y="145"/>
                  </a:lnTo>
                  <a:lnTo>
                    <a:pt x="1809" y="188"/>
                  </a:lnTo>
                  <a:lnTo>
                    <a:pt x="1849" y="234"/>
                  </a:lnTo>
                  <a:lnTo>
                    <a:pt x="1884" y="283"/>
                  </a:lnTo>
                  <a:lnTo>
                    <a:pt x="1916" y="336"/>
                  </a:lnTo>
                  <a:lnTo>
                    <a:pt x="1943" y="393"/>
                  </a:lnTo>
                  <a:lnTo>
                    <a:pt x="1962" y="453"/>
                  </a:lnTo>
                  <a:lnTo>
                    <a:pt x="1978" y="515"/>
                  </a:lnTo>
                  <a:lnTo>
                    <a:pt x="1989" y="580"/>
                  </a:lnTo>
                  <a:lnTo>
                    <a:pt x="1989" y="612"/>
                  </a:lnTo>
                  <a:lnTo>
                    <a:pt x="1992" y="644"/>
                  </a:lnTo>
                  <a:close/>
                </a:path>
              </a:pathLst>
            </a:custGeom>
            <a:solidFill>
              <a:srgbClr val="f3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82960" y="3373200"/>
              <a:ext cx="325440" cy="200160"/>
            </a:xfrm>
            <a:custGeom>
              <a:avLst/>
              <a:gdLst/>
              <a:ahLst/>
              <a:rect l="l" t="t" r="r" b="b"/>
              <a:pathLst>
                <a:path w="2008" h="1305">
                  <a:moveTo>
                    <a:pt x="2000" y="652"/>
                  </a:moveTo>
                  <a:lnTo>
                    <a:pt x="1992" y="652"/>
                  </a:lnTo>
                  <a:lnTo>
                    <a:pt x="1990" y="717"/>
                  </a:lnTo>
                  <a:lnTo>
                    <a:pt x="1978" y="782"/>
                  </a:lnTo>
                  <a:lnTo>
                    <a:pt x="1962" y="841"/>
                  </a:lnTo>
                  <a:lnTo>
                    <a:pt x="1944" y="901"/>
                  </a:lnTo>
                  <a:lnTo>
                    <a:pt x="1916" y="957"/>
                  </a:lnTo>
                  <a:lnTo>
                    <a:pt x="1887" y="1009"/>
                  </a:lnTo>
                  <a:lnTo>
                    <a:pt x="1849" y="1057"/>
                  </a:lnTo>
                  <a:lnTo>
                    <a:pt x="1811" y="1103"/>
                  </a:lnTo>
                  <a:lnTo>
                    <a:pt x="1765" y="1143"/>
                  </a:lnTo>
                  <a:lnTo>
                    <a:pt x="1719" y="1182"/>
                  </a:lnTo>
                  <a:lnTo>
                    <a:pt x="1668" y="1214"/>
                  </a:lnTo>
                  <a:lnTo>
                    <a:pt x="1614" y="1240"/>
                  </a:lnTo>
                  <a:lnTo>
                    <a:pt x="1557" y="1262"/>
                  </a:lnTo>
                  <a:lnTo>
                    <a:pt x="1498" y="1278"/>
                  </a:lnTo>
                  <a:lnTo>
                    <a:pt x="1466" y="1284"/>
                  </a:lnTo>
                  <a:lnTo>
                    <a:pt x="1436" y="1286"/>
                  </a:lnTo>
                  <a:lnTo>
                    <a:pt x="1403" y="1289"/>
                  </a:lnTo>
                  <a:lnTo>
                    <a:pt x="1371" y="1289"/>
                  </a:lnTo>
                  <a:lnTo>
                    <a:pt x="635" y="1289"/>
                  </a:lnTo>
                  <a:lnTo>
                    <a:pt x="602" y="1289"/>
                  </a:lnTo>
                  <a:lnTo>
                    <a:pt x="570" y="1286"/>
                  </a:lnTo>
                  <a:lnTo>
                    <a:pt x="540" y="1284"/>
                  </a:lnTo>
                  <a:lnTo>
                    <a:pt x="510" y="1278"/>
                  </a:lnTo>
                  <a:lnTo>
                    <a:pt x="451" y="1262"/>
                  </a:lnTo>
                  <a:lnTo>
                    <a:pt x="395" y="1240"/>
                  </a:lnTo>
                  <a:lnTo>
                    <a:pt x="340" y="1214"/>
                  </a:lnTo>
                  <a:lnTo>
                    <a:pt x="289" y="1182"/>
                  </a:lnTo>
                  <a:lnTo>
                    <a:pt x="241" y="1143"/>
                  </a:lnTo>
                  <a:lnTo>
                    <a:pt x="197" y="1103"/>
                  </a:lnTo>
                  <a:lnTo>
                    <a:pt x="156" y="1057"/>
                  </a:lnTo>
                  <a:lnTo>
                    <a:pt x="122" y="1009"/>
                  </a:lnTo>
                  <a:lnTo>
                    <a:pt x="89" y="957"/>
                  </a:lnTo>
                  <a:lnTo>
                    <a:pt x="66" y="901"/>
                  </a:lnTo>
                  <a:lnTo>
                    <a:pt x="43" y="841"/>
                  </a:lnTo>
                  <a:lnTo>
                    <a:pt x="27" y="782"/>
                  </a:lnTo>
                  <a:lnTo>
                    <a:pt x="20" y="717"/>
                  </a:lnTo>
                  <a:lnTo>
                    <a:pt x="16" y="652"/>
                  </a:lnTo>
                  <a:lnTo>
                    <a:pt x="20" y="588"/>
                  </a:lnTo>
                  <a:lnTo>
                    <a:pt x="27" y="523"/>
                  </a:lnTo>
                  <a:lnTo>
                    <a:pt x="43" y="464"/>
                  </a:lnTo>
                  <a:lnTo>
                    <a:pt x="66" y="404"/>
                  </a:lnTo>
                  <a:lnTo>
                    <a:pt x="89" y="348"/>
                  </a:lnTo>
                  <a:lnTo>
                    <a:pt x="122" y="296"/>
                  </a:lnTo>
                  <a:lnTo>
                    <a:pt x="156" y="247"/>
                  </a:lnTo>
                  <a:lnTo>
                    <a:pt x="197" y="202"/>
                  </a:lnTo>
                  <a:lnTo>
                    <a:pt x="241" y="162"/>
                  </a:lnTo>
                  <a:lnTo>
                    <a:pt x="289" y="123"/>
                  </a:lnTo>
                  <a:lnTo>
                    <a:pt x="340" y="91"/>
                  </a:lnTo>
                  <a:lnTo>
                    <a:pt x="395" y="65"/>
                  </a:lnTo>
                  <a:lnTo>
                    <a:pt x="451" y="42"/>
                  </a:lnTo>
                  <a:lnTo>
                    <a:pt x="510" y="29"/>
                  </a:lnTo>
                  <a:lnTo>
                    <a:pt x="570" y="19"/>
                  </a:lnTo>
                  <a:lnTo>
                    <a:pt x="602" y="16"/>
                  </a:lnTo>
                  <a:lnTo>
                    <a:pt x="635" y="16"/>
                  </a:lnTo>
                  <a:lnTo>
                    <a:pt x="1371" y="16"/>
                  </a:lnTo>
                  <a:lnTo>
                    <a:pt x="1403" y="16"/>
                  </a:lnTo>
                  <a:lnTo>
                    <a:pt x="1436" y="19"/>
                  </a:lnTo>
                  <a:lnTo>
                    <a:pt x="1498" y="29"/>
                  </a:lnTo>
                  <a:lnTo>
                    <a:pt x="1557" y="42"/>
                  </a:lnTo>
                  <a:lnTo>
                    <a:pt x="1614" y="65"/>
                  </a:lnTo>
                  <a:lnTo>
                    <a:pt x="1668" y="91"/>
                  </a:lnTo>
                  <a:lnTo>
                    <a:pt x="1719" y="123"/>
                  </a:lnTo>
                  <a:lnTo>
                    <a:pt x="1765" y="162"/>
                  </a:lnTo>
                  <a:lnTo>
                    <a:pt x="1811" y="202"/>
                  </a:lnTo>
                  <a:lnTo>
                    <a:pt x="1849" y="247"/>
                  </a:lnTo>
                  <a:lnTo>
                    <a:pt x="1887" y="296"/>
                  </a:lnTo>
                  <a:lnTo>
                    <a:pt x="1916" y="348"/>
                  </a:lnTo>
                  <a:lnTo>
                    <a:pt x="1944" y="404"/>
                  </a:lnTo>
                  <a:lnTo>
                    <a:pt x="1962" y="464"/>
                  </a:lnTo>
                  <a:lnTo>
                    <a:pt x="1978" y="523"/>
                  </a:lnTo>
                  <a:lnTo>
                    <a:pt x="1990" y="588"/>
                  </a:lnTo>
                  <a:lnTo>
                    <a:pt x="1992" y="652"/>
                  </a:lnTo>
                  <a:lnTo>
                    <a:pt x="2000" y="652"/>
                  </a:lnTo>
                  <a:lnTo>
                    <a:pt x="2008" y="652"/>
                  </a:lnTo>
                  <a:lnTo>
                    <a:pt x="2008" y="620"/>
                  </a:lnTo>
                  <a:lnTo>
                    <a:pt x="2006" y="585"/>
                  </a:lnTo>
                  <a:lnTo>
                    <a:pt x="1995" y="521"/>
                  </a:lnTo>
                  <a:lnTo>
                    <a:pt x="1978" y="459"/>
                  </a:lnTo>
                  <a:lnTo>
                    <a:pt x="1957" y="399"/>
                  </a:lnTo>
                  <a:lnTo>
                    <a:pt x="1930" y="342"/>
                  </a:lnTo>
                  <a:lnTo>
                    <a:pt x="1900" y="288"/>
                  </a:lnTo>
                  <a:lnTo>
                    <a:pt x="1863" y="237"/>
                  </a:lnTo>
                  <a:lnTo>
                    <a:pt x="1822" y="191"/>
                  </a:lnTo>
                  <a:lnTo>
                    <a:pt x="1776" y="148"/>
                  </a:lnTo>
                  <a:lnTo>
                    <a:pt x="1728" y="111"/>
                  </a:lnTo>
                  <a:lnTo>
                    <a:pt x="1677" y="77"/>
                  </a:lnTo>
                  <a:lnTo>
                    <a:pt x="1620" y="51"/>
                  </a:lnTo>
                  <a:lnTo>
                    <a:pt x="1560" y="29"/>
                  </a:lnTo>
                  <a:lnTo>
                    <a:pt x="1530" y="19"/>
                  </a:lnTo>
                  <a:lnTo>
                    <a:pt x="1500" y="13"/>
                  </a:lnTo>
                  <a:lnTo>
                    <a:pt x="1468" y="8"/>
                  </a:lnTo>
                  <a:lnTo>
                    <a:pt x="1436" y="3"/>
                  </a:lnTo>
                  <a:lnTo>
                    <a:pt x="1403" y="0"/>
                  </a:lnTo>
                  <a:lnTo>
                    <a:pt x="1371" y="0"/>
                  </a:lnTo>
                  <a:lnTo>
                    <a:pt x="635" y="0"/>
                  </a:lnTo>
                  <a:lnTo>
                    <a:pt x="602" y="0"/>
                  </a:lnTo>
                  <a:lnTo>
                    <a:pt x="570" y="3"/>
                  </a:lnTo>
                  <a:lnTo>
                    <a:pt x="538" y="8"/>
                  </a:lnTo>
                  <a:lnTo>
                    <a:pt x="505" y="13"/>
                  </a:lnTo>
                  <a:lnTo>
                    <a:pt x="475" y="19"/>
                  </a:lnTo>
                  <a:lnTo>
                    <a:pt x="446" y="29"/>
                  </a:lnTo>
                  <a:lnTo>
                    <a:pt x="386" y="51"/>
                  </a:lnTo>
                  <a:lnTo>
                    <a:pt x="333" y="77"/>
                  </a:lnTo>
                  <a:lnTo>
                    <a:pt x="278" y="111"/>
                  </a:lnTo>
                  <a:lnTo>
                    <a:pt x="230" y="148"/>
                  </a:lnTo>
                  <a:lnTo>
                    <a:pt x="184" y="191"/>
                  </a:lnTo>
                  <a:lnTo>
                    <a:pt x="143" y="237"/>
                  </a:lnTo>
                  <a:lnTo>
                    <a:pt x="108" y="288"/>
                  </a:lnTo>
                  <a:lnTo>
                    <a:pt x="76" y="342"/>
                  </a:lnTo>
                  <a:lnTo>
                    <a:pt x="48" y="399"/>
                  </a:lnTo>
                  <a:lnTo>
                    <a:pt x="27" y="459"/>
                  </a:lnTo>
                  <a:lnTo>
                    <a:pt x="11" y="521"/>
                  </a:lnTo>
                  <a:lnTo>
                    <a:pt x="2" y="585"/>
                  </a:lnTo>
                  <a:lnTo>
                    <a:pt x="0" y="620"/>
                  </a:lnTo>
                  <a:lnTo>
                    <a:pt x="0" y="652"/>
                  </a:lnTo>
                  <a:lnTo>
                    <a:pt x="0" y="687"/>
                  </a:lnTo>
                  <a:lnTo>
                    <a:pt x="2" y="720"/>
                  </a:lnTo>
                  <a:lnTo>
                    <a:pt x="11" y="784"/>
                  </a:lnTo>
                  <a:lnTo>
                    <a:pt x="27" y="846"/>
                  </a:lnTo>
                  <a:lnTo>
                    <a:pt x="48" y="906"/>
                  </a:lnTo>
                  <a:lnTo>
                    <a:pt x="76" y="965"/>
                  </a:lnTo>
                  <a:lnTo>
                    <a:pt x="108" y="1019"/>
                  </a:lnTo>
                  <a:lnTo>
                    <a:pt x="143" y="1067"/>
                  </a:lnTo>
                  <a:lnTo>
                    <a:pt x="184" y="1113"/>
                  </a:lnTo>
                  <a:lnTo>
                    <a:pt x="230" y="1157"/>
                  </a:lnTo>
                  <a:lnTo>
                    <a:pt x="278" y="1194"/>
                  </a:lnTo>
                  <a:lnTo>
                    <a:pt x="333" y="1226"/>
                  </a:lnTo>
                  <a:lnTo>
                    <a:pt x="386" y="1254"/>
                  </a:lnTo>
                  <a:lnTo>
                    <a:pt x="446" y="1276"/>
                  </a:lnTo>
                  <a:lnTo>
                    <a:pt x="475" y="1286"/>
                  </a:lnTo>
                  <a:lnTo>
                    <a:pt x="505" y="1292"/>
                  </a:lnTo>
                  <a:lnTo>
                    <a:pt x="538" y="1300"/>
                  </a:lnTo>
                  <a:lnTo>
                    <a:pt x="570" y="1302"/>
                  </a:lnTo>
                  <a:lnTo>
                    <a:pt x="602" y="1305"/>
                  </a:lnTo>
                  <a:lnTo>
                    <a:pt x="635" y="1305"/>
                  </a:lnTo>
                  <a:lnTo>
                    <a:pt x="1371" y="1305"/>
                  </a:lnTo>
                  <a:lnTo>
                    <a:pt x="1403" y="1305"/>
                  </a:lnTo>
                  <a:lnTo>
                    <a:pt x="1436" y="1302"/>
                  </a:lnTo>
                  <a:lnTo>
                    <a:pt x="1468" y="1300"/>
                  </a:lnTo>
                  <a:lnTo>
                    <a:pt x="1500" y="1292"/>
                  </a:lnTo>
                  <a:lnTo>
                    <a:pt x="1530" y="1286"/>
                  </a:lnTo>
                  <a:lnTo>
                    <a:pt x="1560" y="1276"/>
                  </a:lnTo>
                  <a:lnTo>
                    <a:pt x="1620" y="1254"/>
                  </a:lnTo>
                  <a:lnTo>
                    <a:pt x="1677" y="1226"/>
                  </a:lnTo>
                  <a:lnTo>
                    <a:pt x="1728" y="1194"/>
                  </a:lnTo>
                  <a:lnTo>
                    <a:pt x="1776" y="1157"/>
                  </a:lnTo>
                  <a:lnTo>
                    <a:pt x="1822" y="1113"/>
                  </a:lnTo>
                  <a:lnTo>
                    <a:pt x="1863" y="1067"/>
                  </a:lnTo>
                  <a:lnTo>
                    <a:pt x="1900" y="1019"/>
                  </a:lnTo>
                  <a:lnTo>
                    <a:pt x="1930" y="965"/>
                  </a:lnTo>
                  <a:lnTo>
                    <a:pt x="1957" y="906"/>
                  </a:lnTo>
                  <a:lnTo>
                    <a:pt x="1978" y="846"/>
                  </a:lnTo>
                  <a:lnTo>
                    <a:pt x="1995" y="784"/>
                  </a:lnTo>
                  <a:lnTo>
                    <a:pt x="2006" y="720"/>
                  </a:lnTo>
                  <a:lnTo>
                    <a:pt x="2008" y="687"/>
                  </a:lnTo>
                  <a:lnTo>
                    <a:pt x="2008" y="652"/>
                  </a:lnTo>
                  <a:lnTo>
                    <a:pt x="2000" y="65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087640" y="3387600"/>
              <a:ext cx="264960" cy="158760"/>
            </a:xfrm>
            <a:custGeom>
              <a:avLst/>
              <a:gdLst/>
              <a:ahLst/>
              <a:rect l="l" t="t" r="r" b="b"/>
              <a:pathLst>
                <a:path w="1647" h="1047">
                  <a:moveTo>
                    <a:pt x="1380" y="0"/>
                  </a:moveTo>
                  <a:lnTo>
                    <a:pt x="670" y="0"/>
                  </a:lnTo>
                  <a:lnTo>
                    <a:pt x="621" y="0"/>
                  </a:lnTo>
                  <a:lnTo>
                    <a:pt x="575" y="6"/>
                  </a:lnTo>
                  <a:lnTo>
                    <a:pt x="532" y="14"/>
                  </a:lnTo>
                  <a:lnTo>
                    <a:pt x="489" y="25"/>
                  </a:lnTo>
                  <a:lnTo>
                    <a:pt x="448" y="41"/>
                  </a:lnTo>
                  <a:lnTo>
                    <a:pt x="407" y="57"/>
                  </a:lnTo>
                  <a:lnTo>
                    <a:pt x="370" y="82"/>
                  </a:lnTo>
                  <a:lnTo>
                    <a:pt x="333" y="105"/>
                  </a:lnTo>
                  <a:lnTo>
                    <a:pt x="317" y="114"/>
                  </a:lnTo>
                  <a:lnTo>
                    <a:pt x="300" y="117"/>
                  </a:lnTo>
                  <a:lnTo>
                    <a:pt x="289" y="114"/>
                  </a:lnTo>
                  <a:lnTo>
                    <a:pt x="281" y="108"/>
                  </a:lnTo>
                  <a:lnTo>
                    <a:pt x="273" y="100"/>
                  </a:lnTo>
                  <a:lnTo>
                    <a:pt x="271" y="89"/>
                  </a:lnTo>
                  <a:lnTo>
                    <a:pt x="273" y="73"/>
                  </a:lnTo>
                  <a:lnTo>
                    <a:pt x="281" y="54"/>
                  </a:lnTo>
                  <a:lnTo>
                    <a:pt x="294" y="32"/>
                  </a:lnTo>
                  <a:lnTo>
                    <a:pt x="313" y="6"/>
                  </a:lnTo>
                  <a:lnTo>
                    <a:pt x="278" y="30"/>
                  </a:lnTo>
                  <a:lnTo>
                    <a:pt x="243" y="54"/>
                  </a:lnTo>
                  <a:lnTo>
                    <a:pt x="211" y="82"/>
                  </a:lnTo>
                  <a:lnTo>
                    <a:pt x="181" y="111"/>
                  </a:lnTo>
                  <a:lnTo>
                    <a:pt x="140" y="156"/>
                  </a:lnTo>
                  <a:lnTo>
                    <a:pt x="106" y="205"/>
                  </a:lnTo>
                  <a:lnTo>
                    <a:pt x="73" y="257"/>
                  </a:lnTo>
                  <a:lnTo>
                    <a:pt x="50" y="313"/>
                  </a:lnTo>
                  <a:lnTo>
                    <a:pt x="27" y="373"/>
                  </a:lnTo>
                  <a:lnTo>
                    <a:pt x="11" y="432"/>
                  </a:lnTo>
                  <a:lnTo>
                    <a:pt x="4" y="497"/>
                  </a:lnTo>
                  <a:lnTo>
                    <a:pt x="0" y="561"/>
                  </a:lnTo>
                  <a:lnTo>
                    <a:pt x="4" y="626"/>
                  </a:lnTo>
                  <a:lnTo>
                    <a:pt x="11" y="691"/>
                  </a:lnTo>
                  <a:lnTo>
                    <a:pt x="27" y="750"/>
                  </a:lnTo>
                  <a:lnTo>
                    <a:pt x="50" y="810"/>
                  </a:lnTo>
                  <a:lnTo>
                    <a:pt x="73" y="866"/>
                  </a:lnTo>
                  <a:lnTo>
                    <a:pt x="106" y="918"/>
                  </a:lnTo>
                  <a:lnTo>
                    <a:pt x="140" y="966"/>
                  </a:lnTo>
                  <a:lnTo>
                    <a:pt x="181" y="1012"/>
                  </a:lnTo>
                  <a:lnTo>
                    <a:pt x="216" y="1047"/>
                  </a:lnTo>
                  <a:lnTo>
                    <a:pt x="195" y="1006"/>
                  </a:lnTo>
                  <a:lnTo>
                    <a:pt x="173" y="966"/>
                  </a:lnTo>
                  <a:lnTo>
                    <a:pt x="157" y="925"/>
                  </a:lnTo>
                  <a:lnTo>
                    <a:pt x="144" y="882"/>
                  </a:lnTo>
                  <a:lnTo>
                    <a:pt x="133" y="836"/>
                  </a:lnTo>
                  <a:lnTo>
                    <a:pt x="124" y="791"/>
                  </a:lnTo>
                  <a:lnTo>
                    <a:pt x="119" y="745"/>
                  </a:lnTo>
                  <a:lnTo>
                    <a:pt x="117" y="697"/>
                  </a:lnTo>
                  <a:lnTo>
                    <a:pt x="119" y="661"/>
                  </a:lnTo>
                  <a:lnTo>
                    <a:pt x="119" y="629"/>
                  </a:lnTo>
                  <a:lnTo>
                    <a:pt x="130" y="564"/>
                  </a:lnTo>
                  <a:lnTo>
                    <a:pt x="146" y="502"/>
                  </a:lnTo>
                  <a:lnTo>
                    <a:pt x="168" y="440"/>
                  </a:lnTo>
                  <a:lnTo>
                    <a:pt x="195" y="384"/>
                  </a:lnTo>
                  <a:lnTo>
                    <a:pt x="225" y="329"/>
                  </a:lnTo>
                  <a:lnTo>
                    <a:pt x="262" y="281"/>
                  </a:lnTo>
                  <a:lnTo>
                    <a:pt x="303" y="232"/>
                  </a:lnTo>
                  <a:lnTo>
                    <a:pt x="349" y="191"/>
                  </a:lnTo>
                  <a:lnTo>
                    <a:pt x="397" y="154"/>
                  </a:lnTo>
                  <a:lnTo>
                    <a:pt x="448" y="122"/>
                  </a:lnTo>
                  <a:lnTo>
                    <a:pt x="505" y="94"/>
                  </a:lnTo>
                  <a:lnTo>
                    <a:pt x="564" y="71"/>
                  </a:lnTo>
                  <a:lnTo>
                    <a:pt x="594" y="62"/>
                  </a:lnTo>
                  <a:lnTo>
                    <a:pt x="624" y="54"/>
                  </a:lnTo>
                  <a:lnTo>
                    <a:pt x="656" y="48"/>
                  </a:lnTo>
                  <a:lnTo>
                    <a:pt x="688" y="46"/>
                  </a:lnTo>
                  <a:lnTo>
                    <a:pt x="718" y="43"/>
                  </a:lnTo>
                  <a:lnTo>
                    <a:pt x="754" y="41"/>
                  </a:lnTo>
                  <a:lnTo>
                    <a:pt x="1490" y="41"/>
                  </a:lnTo>
                  <a:lnTo>
                    <a:pt x="1530" y="43"/>
                  </a:lnTo>
                  <a:lnTo>
                    <a:pt x="1569" y="46"/>
                  </a:lnTo>
                  <a:lnTo>
                    <a:pt x="1609" y="54"/>
                  </a:lnTo>
                  <a:lnTo>
                    <a:pt x="1647" y="62"/>
                  </a:lnTo>
                  <a:lnTo>
                    <a:pt x="1615" y="48"/>
                  </a:lnTo>
                  <a:lnTo>
                    <a:pt x="1585" y="36"/>
                  </a:lnTo>
                  <a:lnTo>
                    <a:pt x="1553" y="25"/>
                  </a:lnTo>
                  <a:lnTo>
                    <a:pt x="1520" y="16"/>
                  </a:lnTo>
                  <a:lnTo>
                    <a:pt x="1484" y="9"/>
                  </a:lnTo>
                  <a:lnTo>
                    <a:pt x="1450" y="2"/>
                  </a:lnTo>
                  <a:lnTo>
                    <a:pt x="1415" y="0"/>
                  </a:lnTo>
                  <a:lnTo>
                    <a:pt x="1380" y="0"/>
                  </a:lnTo>
                  <a:close/>
                </a:path>
              </a:pathLst>
            </a:custGeom>
            <a:solidFill>
              <a:srgbClr val="c9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086200" y="3384360"/>
              <a:ext cx="53640" cy="165240"/>
            </a:xfrm>
            <a:custGeom>
              <a:avLst/>
              <a:gdLst/>
              <a:ahLst/>
              <a:rect l="l" t="t" r="r" b="b"/>
              <a:pathLst>
                <a:path w="341" h="1082">
                  <a:moveTo>
                    <a:pt x="341" y="0"/>
                  </a:moveTo>
                  <a:lnTo>
                    <a:pt x="302" y="23"/>
                  </a:lnTo>
                  <a:lnTo>
                    <a:pt x="268" y="46"/>
                  </a:lnTo>
                  <a:lnTo>
                    <a:pt x="233" y="74"/>
                  </a:lnTo>
                  <a:lnTo>
                    <a:pt x="200" y="101"/>
                  </a:lnTo>
                  <a:lnTo>
                    <a:pt x="171" y="133"/>
                  </a:lnTo>
                  <a:lnTo>
                    <a:pt x="143" y="165"/>
                  </a:lnTo>
                  <a:lnTo>
                    <a:pt x="116" y="200"/>
                  </a:lnTo>
                  <a:lnTo>
                    <a:pt x="95" y="235"/>
                  </a:lnTo>
                  <a:lnTo>
                    <a:pt x="74" y="273"/>
                  </a:lnTo>
                  <a:lnTo>
                    <a:pt x="54" y="313"/>
                  </a:lnTo>
                  <a:lnTo>
                    <a:pt x="38" y="354"/>
                  </a:lnTo>
                  <a:lnTo>
                    <a:pt x="24" y="394"/>
                  </a:lnTo>
                  <a:lnTo>
                    <a:pt x="14" y="440"/>
                  </a:lnTo>
                  <a:lnTo>
                    <a:pt x="6" y="484"/>
                  </a:lnTo>
                  <a:lnTo>
                    <a:pt x="0" y="529"/>
                  </a:lnTo>
                  <a:lnTo>
                    <a:pt x="0" y="575"/>
                  </a:lnTo>
                  <a:lnTo>
                    <a:pt x="0" y="613"/>
                  </a:lnTo>
                  <a:lnTo>
                    <a:pt x="3" y="651"/>
                  </a:lnTo>
                  <a:lnTo>
                    <a:pt x="8" y="688"/>
                  </a:lnTo>
                  <a:lnTo>
                    <a:pt x="17" y="727"/>
                  </a:lnTo>
                  <a:lnTo>
                    <a:pt x="24" y="762"/>
                  </a:lnTo>
                  <a:lnTo>
                    <a:pt x="35" y="797"/>
                  </a:lnTo>
                  <a:lnTo>
                    <a:pt x="49" y="829"/>
                  </a:lnTo>
                  <a:lnTo>
                    <a:pt x="65" y="864"/>
                  </a:lnTo>
                  <a:lnTo>
                    <a:pt x="81" y="893"/>
                  </a:lnTo>
                  <a:lnTo>
                    <a:pt x="100" y="926"/>
                  </a:lnTo>
                  <a:lnTo>
                    <a:pt x="119" y="956"/>
                  </a:lnTo>
                  <a:lnTo>
                    <a:pt x="141" y="983"/>
                  </a:lnTo>
                  <a:lnTo>
                    <a:pt x="162" y="1010"/>
                  </a:lnTo>
                  <a:lnTo>
                    <a:pt x="187" y="1036"/>
                  </a:lnTo>
                  <a:lnTo>
                    <a:pt x="213" y="1061"/>
                  </a:lnTo>
                  <a:lnTo>
                    <a:pt x="240" y="1082"/>
                  </a:lnTo>
                  <a:lnTo>
                    <a:pt x="224" y="1061"/>
                  </a:lnTo>
                  <a:lnTo>
                    <a:pt x="189" y="1026"/>
                  </a:lnTo>
                  <a:lnTo>
                    <a:pt x="148" y="980"/>
                  </a:lnTo>
                  <a:lnTo>
                    <a:pt x="114" y="932"/>
                  </a:lnTo>
                  <a:lnTo>
                    <a:pt x="81" y="880"/>
                  </a:lnTo>
                  <a:lnTo>
                    <a:pt x="58" y="824"/>
                  </a:lnTo>
                  <a:lnTo>
                    <a:pt x="35" y="764"/>
                  </a:lnTo>
                  <a:lnTo>
                    <a:pt x="19" y="705"/>
                  </a:lnTo>
                  <a:lnTo>
                    <a:pt x="12" y="640"/>
                  </a:lnTo>
                  <a:lnTo>
                    <a:pt x="8" y="575"/>
                  </a:lnTo>
                  <a:lnTo>
                    <a:pt x="12" y="511"/>
                  </a:lnTo>
                  <a:lnTo>
                    <a:pt x="19" y="446"/>
                  </a:lnTo>
                  <a:lnTo>
                    <a:pt x="35" y="387"/>
                  </a:lnTo>
                  <a:lnTo>
                    <a:pt x="58" y="327"/>
                  </a:lnTo>
                  <a:lnTo>
                    <a:pt x="81" y="271"/>
                  </a:lnTo>
                  <a:lnTo>
                    <a:pt x="114" y="219"/>
                  </a:lnTo>
                  <a:lnTo>
                    <a:pt x="148" y="170"/>
                  </a:lnTo>
                  <a:lnTo>
                    <a:pt x="189" y="125"/>
                  </a:lnTo>
                  <a:lnTo>
                    <a:pt x="219" y="96"/>
                  </a:lnTo>
                  <a:lnTo>
                    <a:pt x="251" y="68"/>
                  </a:lnTo>
                  <a:lnTo>
                    <a:pt x="286" y="44"/>
                  </a:lnTo>
                  <a:lnTo>
                    <a:pt x="321" y="2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643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06720" y="3395520"/>
              <a:ext cx="322200" cy="195480"/>
            </a:xfrm>
            <a:custGeom>
              <a:avLst/>
              <a:gdLst/>
              <a:ahLst/>
              <a:rect l="l" t="t" r="r" b="b"/>
              <a:pathLst>
                <a:path w="1992" h="1292">
                  <a:moveTo>
                    <a:pt x="1992" y="649"/>
                  </a:moveTo>
                  <a:lnTo>
                    <a:pt x="1992" y="681"/>
                  </a:lnTo>
                  <a:lnTo>
                    <a:pt x="1990" y="713"/>
                  </a:lnTo>
                  <a:lnTo>
                    <a:pt x="1981" y="778"/>
                  </a:lnTo>
                  <a:lnTo>
                    <a:pt x="1965" y="840"/>
                  </a:lnTo>
                  <a:lnTo>
                    <a:pt x="1944" y="900"/>
                  </a:lnTo>
                  <a:lnTo>
                    <a:pt x="1917" y="956"/>
                  </a:lnTo>
                  <a:lnTo>
                    <a:pt x="1887" y="1009"/>
                  </a:lnTo>
                  <a:lnTo>
                    <a:pt x="1850" y="1059"/>
                  </a:lnTo>
                  <a:lnTo>
                    <a:pt x="1809" y="1105"/>
                  </a:lnTo>
                  <a:lnTo>
                    <a:pt x="1765" y="1145"/>
                  </a:lnTo>
                  <a:lnTo>
                    <a:pt x="1717" y="1182"/>
                  </a:lnTo>
                  <a:lnTo>
                    <a:pt x="1666" y="1215"/>
                  </a:lnTo>
                  <a:lnTo>
                    <a:pt x="1609" y="1241"/>
                  </a:lnTo>
                  <a:lnTo>
                    <a:pt x="1553" y="1264"/>
                  </a:lnTo>
                  <a:lnTo>
                    <a:pt x="1493" y="1280"/>
                  </a:lnTo>
                  <a:lnTo>
                    <a:pt x="1461" y="1285"/>
                  </a:lnTo>
                  <a:lnTo>
                    <a:pt x="1431" y="1290"/>
                  </a:lnTo>
                  <a:lnTo>
                    <a:pt x="1399" y="1292"/>
                  </a:lnTo>
                  <a:lnTo>
                    <a:pt x="1366" y="1292"/>
                  </a:lnTo>
                  <a:lnTo>
                    <a:pt x="630" y="1292"/>
                  </a:lnTo>
                  <a:lnTo>
                    <a:pt x="598" y="1292"/>
                  </a:lnTo>
                  <a:lnTo>
                    <a:pt x="564" y="1290"/>
                  </a:lnTo>
                  <a:lnTo>
                    <a:pt x="532" y="1285"/>
                  </a:lnTo>
                  <a:lnTo>
                    <a:pt x="502" y="1280"/>
                  </a:lnTo>
                  <a:lnTo>
                    <a:pt x="444" y="1264"/>
                  </a:lnTo>
                  <a:lnTo>
                    <a:pt x="384" y="1241"/>
                  </a:lnTo>
                  <a:lnTo>
                    <a:pt x="329" y="1215"/>
                  </a:lnTo>
                  <a:lnTo>
                    <a:pt x="278" y="1182"/>
                  </a:lnTo>
                  <a:lnTo>
                    <a:pt x="230" y="1145"/>
                  </a:lnTo>
                  <a:lnTo>
                    <a:pt x="184" y="1105"/>
                  </a:lnTo>
                  <a:lnTo>
                    <a:pt x="143" y="1059"/>
                  </a:lnTo>
                  <a:lnTo>
                    <a:pt x="108" y="1009"/>
                  </a:lnTo>
                  <a:lnTo>
                    <a:pt x="76" y="956"/>
                  </a:lnTo>
                  <a:lnTo>
                    <a:pt x="52" y="900"/>
                  </a:lnTo>
                  <a:lnTo>
                    <a:pt x="30" y="840"/>
                  </a:lnTo>
                  <a:lnTo>
                    <a:pt x="14" y="778"/>
                  </a:lnTo>
                  <a:lnTo>
                    <a:pt x="3" y="713"/>
                  </a:lnTo>
                  <a:lnTo>
                    <a:pt x="3" y="681"/>
                  </a:lnTo>
                  <a:lnTo>
                    <a:pt x="0" y="649"/>
                  </a:lnTo>
                  <a:lnTo>
                    <a:pt x="3" y="615"/>
                  </a:lnTo>
                  <a:lnTo>
                    <a:pt x="3" y="581"/>
                  </a:lnTo>
                  <a:lnTo>
                    <a:pt x="14" y="518"/>
                  </a:lnTo>
                  <a:lnTo>
                    <a:pt x="30" y="456"/>
                  </a:lnTo>
                  <a:lnTo>
                    <a:pt x="52" y="398"/>
                  </a:lnTo>
                  <a:lnTo>
                    <a:pt x="76" y="341"/>
                  </a:lnTo>
                  <a:lnTo>
                    <a:pt x="108" y="287"/>
                  </a:lnTo>
                  <a:lnTo>
                    <a:pt x="143" y="239"/>
                  </a:lnTo>
                  <a:lnTo>
                    <a:pt x="184" y="193"/>
                  </a:lnTo>
                  <a:lnTo>
                    <a:pt x="230" y="149"/>
                  </a:lnTo>
                  <a:lnTo>
                    <a:pt x="278" y="111"/>
                  </a:lnTo>
                  <a:lnTo>
                    <a:pt x="329" y="79"/>
                  </a:lnTo>
                  <a:lnTo>
                    <a:pt x="384" y="52"/>
                  </a:lnTo>
                  <a:lnTo>
                    <a:pt x="444" y="30"/>
                  </a:lnTo>
                  <a:lnTo>
                    <a:pt x="502" y="14"/>
                  </a:lnTo>
                  <a:lnTo>
                    <a:pt x="532" y="9"/>
                  </a:lnTo>
                  <a:lnTo>
                    <a:pt x="564" y="6"/>
                  </a:lnTo>
                  <a:lnTo>
                    <a:pt x="598" y="4"/>
                  </a:lnTo>
                  <a:lnTo>
                    <a:pt x="630" y="0"/>
                  </a:lnTo>
                  <a:lnTo>
                    <a:pt x="1366" y="0"/>
                  </a:lnTo>
                  <a:lnTo>
                    <a:pt x="1399" y="4"/>
                  </a:lnTo>
                  <a:lnTo>
                    <a:pt x="1431" y="6"/>
                  </a:lnTo>
                  <a:lnTo>
                    <a:pt x="1461" y="9"/>
                  </a:lnTo>
                  <a:lnTo>
                    <a:pt x="1493" y="14"/>
                  </a:lnTo>
                  <a:lnTo>
                    <a:pt x="1553" y="30"/>
                  </a:lnTo>
                  <a:lnTo>
                    <a:pt x="1609" y="52"/>
                  </a:lnTo>
                  <a:lnTo>
                    <a:pt x="1666" y="79"/>
                  </a:lnTo>
                  <a:lnTo>
                    <a:pt x="1717" y="111"/>
                  </a:lnTo>
                  <a:lnTo>
                    <a:pt x="1765" y="149"/>
                  </a:lnTo>
                  <a:lnTo>
                    <a:pt x="1809" y="193"/>
                  </a:lnTo>
                  <a:lnTo>
                    <a:pt x="1850" y="239"/>
                  </a:lnTo>
                  <a:lnTo>
                    <a:pt x="1887" y="287"/>
                  </a:lnTo>
                  <a:lnTo>
                    <a:pt x="1917" y="341"/>
                  </a:lnTo>
                  <a:lnTo>
                    <a:pt x="1944" y="398"/>
                  </a:lnTo>
                  <a:lnTo>
                    <a:pt x="1965" y="456"/>
                  </a:lnTo>
                  <a:lnTo>
                    <a:pt x="1981" y="518"/>
                  </a:lnTo>
                  <a:lnTo>
                    <a:pt x="1990" y="581"/>
                  </a:lnTo>
                  <a:lnTo>
                    <a:pt x="1992" y="615"/>
                  </a:lnTo>
                  <a:lnTo>
                    <a:pt x="1992" y="649"/>
                  </a:lnTo>
                  <a:close/>
                </a:path>
              </a:pathLst>
            </a:custGeom>
            <a:solidFill>
              <a:srgbClr val="d9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104920" y="3394080"/>
              <a:ext cx="325440" cy="198360"/>
            </a:xfrm>
            <a:custGeom>
              <a:avLst/>
              <a:gdLst/>
              <a:ahLst/>
              <a:rect l="l" t="t" r="r" b="b"/>
              <a:pathLst>
                <a:path w="2007" h="1308">
                  <a:moveTo>
                    <a:pt x="1999" y="656"/>
                  </a:moveTo>
                  <a:lnTo>
                    <a:pt x="1991" y="656"/>
                  </a:lnTo>
                  <a:lnTo>
                    <a:pt x="1988" y="720"/>
                  </a:lnTo>
                  <a:lnTo>
                    <a:pt x="1981" y="782"/>
                  </a:lnTo>
                  <a:lnTo>
                    <a:pt x="1965" y="845"/>
                  </a:lnTo>
                  <a:lnTo>
                    <a:pt x="1942" y="903"/>
                  </a:lnTo>
                  <a:lnTo>
                    <a:pt x="1919" y="958"/>
                  </a:lnTo>
                  <a:lnTo>
                    <a:pt x="1885" y="1011"/>
                  </a:lnTo>
                  <a:lnTo>
                    <a:pt x="1851" y="1060"/>
                  </a:lnTo>
                  <a:lnTo>
                    <a:pt x="1811" y="1106"/>
                  </a:lnTo>
                  <a:lnTo>
                    <a:pt x="1767" y="1146"/>
                  </a:lnTo>
                  <a:lnTo>
                    <a:pt x="1719" y="1184"/>
                  </a:lnTo>
                  <a:lnTo>
                    <a:pt x="1668" y="1216"/>
                  </a:lnTo>
                  <a:lnTo>
                    <a:pt x="1613" y="1243"/>
                  </a:lnTo>
                  <a:lnTo>
                    <a:pt x="1556" y="1262"/>
                  </a:lnTo>
                  <a:lnTo>
                    <a:pt x="1498" y="1278"/>
                  </a:lnTo>
                  <a:lnTo>
                    <a:pt x="1438" y="1289"/>
                  </a:lnTo>
                  <a:lnTo>
                    <a:pt x="1406" y="1292"/>
                  </a:lnTo>
                  <a:lnTo>
                    <a:pt x="1373" y="1292"/>
                  </a:lnTo>
                  <a:lnTo>
                    <a:pt x="637" y="1292"/>
                  </a:lnTo>
                  <a:lnTo>
                    <a:pt x="605" y="1292"/>
                  </a:lnTo>
                  <a:lnTo>
                    <a:pt x="571" y="1289"/>
                  </a:lnTo>
                  <a:lnTo>
                    <a:pt x="509" y="1278"/>
                  </a:lnTo>
                  <a:lnTo>
                    <a:pt x="451" y="1262"/>
                  </a:lnTo>
                  <a:lnTo>
                    <a:pt x="393" y="1243"/>
                  </a:lnTo>
                  <a:lnTo>
                    <a:pt x="340" y="1216"/>
                  </a:lnTo>
                  <a:lnTo>
                    <a:pt x="288" y="1184"/>
                  </a:lnTo>
                  <a:lnTo>
                    <a:pt x="242" y="1146"/>
                  </a:lnTo>
                  <a:lnTo>
                    <a:pt x="196" y="1106"/>
                  </a:lnTo>
                  <a:lnTo>
                    <a:pt x="159" y="1060"/>
                  </a:lnTo>
                  <a:lnTo>
                    <a:pt x="121" y="1011"/>
                  </a:lnTo>
                  <a:lnTo>
                    <a:pt x="92" y="958"/>
                  </a:lnTo>
                  <a:lnTo>
                    <a:pt x="64" y="903"/>
                  </a:lnTo>
                  <a:lnTo>
                    <a:pt x="46" y="845"/>
                  </a:lnTo>
                  <a:lnTo>
                    <a:pt x="29" y="782"/>
                  </a:lnTo>
                  <a:lnTo>
                    <a:pt x="18" y="720"/>
                  </a:lnTo>
                  <a:lnTo>
                    <a:pt x="16" y="656"/>
                  </a:lnTo>
                  <a:lnTo>
                    <a:pt x="18" y="590"/>
                  </a:lnTo>
                  <a:lnTo>
                    <a:pt x="29" y="525"/>
                  </a:lnTo>
                  <a:lnTo>
                    <a:pt x="46" y="463"/>
                  </a:lnTo>
                  <a:lnTo>
                    <a:pt x="64" y="407"/>
                  </a:lnTo>
                  <a:lnTo>
                    <a:pt x="92" y="350"/>
                  </a:lnTo>
                  <a:lnTo>
                    <a:pt x="121" y="299"/>
                  </a:lnTo>
                  <a:lnTo>
                    <a:pt x="159" y="248"/>
                  </a:lnTo>
                  <a:lnTo>
                    <a:pt x="196" y="205"/>
                  </a:lnTo>
                  <a:lnTo>
                    <a:pt x="242" y="161"/>
                  </a:lnTo>
                  <a:lnTo>
                    <a:pt x="288" y="127"/>
                  </a:lnTo>
                  <a:lnTo>
                    <a:pt x="340" y="94"/>
                  </a:lnTo>
                  <a:lnTo>
                    <a:pt x="393" y="67"/>
                  </a:lnTo>
                  <a:lnTo>
                    <a:pt x="451" y="46"/>
                  </a:lnTo>
                  <a:lnTo>
                    <a:pt x="509" y="30"/>
                  </a:lnTo>
                  <a:lnTo>
                    <a:pt x="541" y="24"/>
                  </a:lnTo>
                  <a:lnTo>
                    <a:pt x="571" y="21"/>
                  </a:lnTo>
                  <a:lnTo>
                    <a:pt x="605" y="19"/>
                  </a:lnTo>
                  <a:lnTo>
                    <a:pt x="637" y="16"/>
                  </a:lnTo>
                  <a:lnTo>
                    <a:pt x="1373" y="16"/>
                  </a:lnTo>
                  <a:lnTo>
                    <a:pt x="1406" y="19"/>
                  </a:lnTo>
                  <a:lnTo>
                    <a:pt x="1438" y="21"/>
                  </a:lnTo>
                  <a:lnTo>
                    <a:pt x="1468" y="24"/>
                  </a:lnTo>
                  <a:lnTo>
                    <a:pt x="1498" y="30"/>
                  </a:lnTo>
                  <a:lnTo>
                    <a:pt x="1556" y="46"/>
                  </a:lnTo>
                  <a:lnTo>
                    <a:pt x="1613" y="67"/>
                  </a:lnTo>
                  <a:lnTo>
                    <a:pt x="1668" y="94"/>
                  </a:lnTo>
                  <a:lnTo>
                    <a:pt x="1719" y="127"/>
                  </a:lnTo>
                  <a:lnTo>
                    <a:pt x="1767" y="161"/>
                  </a:lnTo>
                  <a:lnTo>
                    <a:pt x="1811" y="205"/>
                  </a:lnTo>
                  <a:lnTo>
                    <a:pt x="1851" y="248"/>
                  </a:lnTo>
                  <a:lnTo>
                    <a:pt x="1885" y="299"/>
                  </a:lnTo>
                  <a:lnTo>
                    <a:pt x="1919" y="350"/>
                  </a:lnTo>
                  <a:lnTo>
                    <a:pt x="1942" y="407"/>
                  </a:lnTo>
                  <a:lnTo>
                    <a:pt x="1965" y="463"/>
                  </a:lnTo>
                  <a:lnTo>
                    <a:pt x="1981" y="525"/>
                  </a:lnTo>
                  <a:lnTo>
                    <a:pt x="1988" y="590"/>
                  </a:lnTo>
                  <a:lnTo>
                    <a:pt x="1991" y="656"/>
                  </a:lnTo>
                  <a:lnTo>
                    <a:pt x="1999" y="656"/>
                  </a:lnTo>
                  <a:lnTo>
                    <a:pt x="2007" y="656"/>
                  </a:lnTo>
                  <a:lnTo>
                    <a:pt x="2007" y="620"/>
                  </a:lnTo>
                  <a:lnTo>
                    <a:pt x="2005" y="588"/>
                  </a:lnTo>
                  <a:lnTo>
                    <a:pt x="1997" y="523"/>
                  </a:lnTo>
                  <a:lnTo>
                    <a:pt x="1981" y="461"/>
                  </a:lnTo>
                  <a:lnTo>
                    <a:pt x="1959" y="399"/>
                  </a:lnTo>
                  <a:lnTo>
                    <a:pt x="1931" y="343"/>
                  </a:lnTo>
                  <a:lnTo>
                    <a:pt x="1899" y="288"/>
                  </a:lnTo>
                  <a:lnTo>
                    <a:pt x="1864" y="240"/>
                  </a:lnTo>
                  <a:lnTo>
                    <a:pt x="1824" y="191"/>
                  </a:lnTo>
                  <a:lnTo>
                    <a:pt x="1778" y="150"/>
                  </a:lnTo>
                  <a:lnTo>
                    <a:pt x="1730" y="113"/>
                  </a:lnTo>
                  <a:lnTo>
                    <a:pt x="1675" y="81"/>
                  </a:lnTo>
                  <a:lnTo>
                    <a:pt x="1622" y="53"/>
                  </a:lnTo>
                  <a:lnTo>
                    <a:pt x="1562" y="30"/>
                  </a:lnTo>
                  <a:lnTo>
                    <a:pt x="1532" y="21"/>
                  </a:lnTo>
                  <a:lnTo>
                    <a:pt x="1500" y="13"/>
                  </a:lnTo>
                  <a:lnTo>
                    <a:pt x="1470" y="7"/>
                  </a:lnTo>
                  <a:lnTo>
                    <a:pt x="1438" y="5"/>
                  </a:lnTo>
                  <a:lnTo>
                    <a:pt x="1406" y="2"/>
                  </a:lnTo>
                  <a:lnTo>
                    <a:pt x="1373" y="0"/>
                  </a:lnTo>
                  <a:lnTo>
                    <a:pt x="637" y="0"/>
                  </a:lnTo>
                  <a:lnTo>
                    <a:pt x="601" y="2"/>
                  </a:lnTo>
                  <a:lnTo>
                    <a:pt x="571" y="5"/>
                  </a:lnTo>
                  <a:lnTo>
                    <a:pt x="539" y="7"/>
                  </a:lnTo>
                  <a:lnTo>
                    <a:pt x="507" y="13"/>
                  </a:lnTo>
                  <a:lnTo>
                    <a:pt x="477" y="21"/>
                  </a:lnTo>
                  <a:lnTo>
                    <a:pt x="447" y="30"/>
                  </a:lnTo>
                  <a:lnTo>
                    <a:pt x="388" y="53"/>
                  </a:lnTo>
                  <a:lnTo>
                    <a:pt x="331" y="81"/>
                  </a:lnTo>
                  <a:lnTo>
                    <a:pt x="280" y="113"/>
                  </a:lnTo>
                  <a:lnTo>
                    <a:pt x="232" y="150"/>
                  </a:lnTo>
                  <a:lnTo>
                    <a:pt x="186" y="191"/>
                  </a:lnTo>
                  <a:lnTo>
                    <a:pt x="145" y="240"/>
                  </a:lnTo>
                  <a:lnTo>
                    <a:pt x="108" y="288"/>
                  </a:lnTo>
                  <a:lnTo>
                    <a:pt x="78" y="343"/>
                  </a:lnTo>
                  <a:lnTo>
                    <a:pt x="51" y="399"/>
                  </a:lnTo>
                  <a:lnTo>
                    <a:pt x="29" y="461"/>
                  </a:lnTo>
                  <a:lnTo>
                    <a:pt x="13" y="523"/>
                  </a:lnTo>
                  <a:lnTo>
                    <a:pt x="2" y="588"/>
                  </a:lnTo>
                  <a:lnTo>
                    <a:pt x="2" y="620"/>
                  </a:lnTo>
                  <a:lnTo>
                    <a:pt x="0" y="656"/>
                  </a:lnTo>
                  <a:lnTo>
                    <a:pt x="2" y="688"/>
                  </a:lnTo>
                  <a:lnTo>
                    <a:pt x="2" y="723"/>
                  </a:lnTo>
                  <a:lnTo>
                    <a:pt x="13" y="787"/>
                  </a:lnTo>
                  <a:lnTo>
                    <a:pt x="29" y="850"/>
                  </a:lnTo>
                  <a:lnTo>
                    <a:pt x="51" y="909"/>
                  </a:lnTo>
                  <a:lnTo>
                    <a:pt x="78" y="965"/>
                  </a:lnTo>
                  <a:lnTo>
                    <a:pt x="108" y="1020"/>
                  </a:lnTo>
                  <a:lnTo>
                    <a:pt x="145" y="1071"/>
                  </a:lnTo>
                  <a:lnTo>
                    <a:pt x="186" y="1117"/>
                  </a:lnTo>
                  <a:lnTo>
                    <a:pt x="232" y="1160"/>
                  </a:lnTo>
                  <a:lnTo>
                    <a:pt x="280" y="1197"/>
                  </a:lnTo>
                  <a:lnTo>
                    <a:pt x="331" y="1230"/>
                  </a:lnTo>
                  <a:lnTo>
                    <a:pt x="388" y="1257"/>
                  </a:lnTo>
                  <a:lnTo>
                    <a:pt x="447" y="1278"/>
                  </a:lnTo>
                  <a:lnTo>
                    <a:pt x="477" y="1287"/>
                  </a:lnTo>
                  <a:lnTo>
                    <a:pt x="507" y="1294"/>
                  </a:lnTo>
                  <a:lnTo>
                    <a:pt x="539" y="1299"/>
                  </a:lnTo>
                  <a:lnTo>
                    <a:pt x="571" y="1306"/>
                  </a:lnTo>
                  <a:lnTo>
                    <a:pt x="601" y="1308"/>
                  </a:lnTo>
                  <a:lnTo>
                    <a:pt x="637" y="1308"/>
                  </a:lnTo>
                  <a:lnTo>
                    <a:pt x="1373" y="1308"/>
                  </a:lnTo>
                  <a:lnTo>
                    <a:pt x="1406" y="1308"/>
                  </a:lnTo>
                  <a:lnTo>
                    <a:pt x="1438" y="1306"/>
                  </a:lnTo>
                  <a:lnTo>
                    <a:pt x="1470" y="1299"/>
                  </a:lnTo>
                  <a:lnTo>
                    <a:pt x="1500" y="1294"/>
                  </a:lnTo>
                  <a:lnTo>
                    <a:pt x="1532" y="1287"/>
                  </a:lnTo>
                  <a:lnTo>
                    <a:pt x="1562" y="1278"/>
                  </a:lnTo>
                  <a:lnTo>
                    <a:pt x="1622" y="1257"/>
                  </a:lnTo>
                  <a:lnTo>
                    <a:pt x="1675" y="1230"/>
                  </a:lnTo>
                  <a:lnTo>
                    <a:pt x="1730" y="1197"/>
                  </a:lnTo>
                  <a:lnTo>
                    <a:pt x="1778" y="1160"/>
                  </a:lnTo>
                  <a:lnTo>
                    <a:pt x="1824" y="1117"/>
                  </a:lnTo>
                  <a:lnTo>
                    <a:pt x="1864" y="1071"/>
                  </a:lnTo>
                  <a:lnTo>
                    <a:pt x="1899" y="1020"/>
                  </a:lnTo>
                  <a:lnTo>
                    <a:pt x="1931" y="965"/>
                  </a:lnTo>
                  <a:lnTo>
                    <a:pt x="1959" y="909"/>
                  </a:lnTo>
                  <a:lnTo>
                    <a:pt x="1981" y="850"/>
                  </a:lnTo>
                  <a:lnTo>
                    <a:pt x="1997" y="787"/>
                  </a:lnTo>
                  <a:lnTo>
                    <a:pt x="2005" y="723"/>
                  </a:lnTo>
                  <a:lnTo>
                    <a:pt x="2007" y="688"/>
                  </a:lnTo>
                  <a:lnTo>
                    <a:pt x="2007" y="656"/>
                  </a:lnTo>
                  <a:lnTo>
                    <a:pt x="1999" y="656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08160" y="3433680"/>
              <a:ext cx="90720" cy="155520"/>
            </a:xfrm>
            <a:custGeom>
              <a:avLst/>
              <a:gdLst/>
              <a:ahLst/>
              <a:rect l="l" t="t" r="r" b="b"/>
              <a:pathLst>
                <a:path w="561" h="1022">
                  <a:moveTo>
                    <a:pt x="129" y="0"/>
                  </a:moveTo>
                  <a:lnTo>
                    <a:pt x="99" y="40"/>
                  </a:lnTo>
                  <a:lnTo>
                    <a:pt x="76" y="83"/>
                  </a:lnTo>
                  <a:lnTo>
                    <a:pt x="53" y="132"/>
                  </a:lnTo>
                  <a:lnTo>
                    <a:pt x="35" y="178"/>
                  </a:lnTo>
                  <a:lnTo>
                    <a:pt x="18" y="229"/>
                  </a:lnTo>
                  <a:lnTo>
                    <a:pt x="7" y="281"/>
                  </a:lnTo>
                  <a:lnTo>
                    <a:pt x="2" y="334"/>
                  </a:lnTo>
                  <a:lnTo>
                    <a:pt x="0" y="389"/>
                  </a:lnTo>
                  <a:lnTo>
                    <a:pt x="2" y="453"/>
                  </a:lnTo>
                  <a:lnTo>
                    <a:pt x="13" y="515"/>
                  </a:lnTo>
                  <a:lnTo>
                    <a:pt x="30" y="578"/>
                  </a:lnTo>
                  <a:lnTo>
                    <a:pt x="48" y="636"/>
                  </a:lnTo>
                  <a:lnTo>
                    <a:pt x="76" y="691"/>
                  </a:lnTo>
                  <a:lnTo>
                    <a:pt x="105" y="744"/>
                  </a:lnTo>
                  <a:lnTo>
                    <a:pt x="143" y="793"/>
                  </a:lnTo>
                  <a:lnTo>
                    <a:pt x="180" y="839"/>
                  </a:lnTo>
                  <a:lnTo>
                    <a:pt x="221" y="873"/>
                  </a:lnTo>
                  <a:lnTo>
                    <a:pt x="262" y="909"/>
                  </a:lnTo>
                  <a:lnTo>
                    <a:pt x="308" y="938"/>
                  </a:lnTo>
                  <a:lnTo>
                    <a:pt x="353" y="963"/>
                  </a:lnTo>
                  <a:lnTo>
                    <a:pt x="402" y="984"/>
                  </a:lnTo>
                  <a:lnTo>
                    <a:pt x="453" y="1000"/>
                  </a:lnTo>
                  <a:lnTo>
                    <a:pt x="507" y="1014"/>
                  </a:lnTo>
                  <a:lnTo>
                    <a:pt x="561" y="1022"/>
                  </a:lnTo>
                  <a:lnTo>
                    <a:pt x="513" y="1009"/>
                  </a:lnTo>
                  <a:lnTo>
                    <a:pt x="469" y="990"/>
                  </a:lnTo>
                  <a:lnTo>
                    <a:pt x="426" y="968"/>
                  </a:lnTo>
                  <a:lnTo>
                    <a:pt x="383" y="944"/>
                  </a:lnTo>
                  <a:lnTo>
                    <a:pt x="345" y="914"/>
                  </a:lnTo>
                  <a:lnTo>
                    <a:pt x="308" y="885"/>
                  </a:lnTo>
                  <a:lnTo>
                    <a:pt x="274" y="850"/>
                  </a:lnTo>
                  <a:lnTo>
                    <a:pt x="242" y="815"/>
                  </a:lnTo>
                  <a:lnTo>
                    <a:pt x="216" y="774"/>
                  </a:lnTo>
                  <a:lnTo>
                    <a:pt x="191" y="733"/>
                  </a:lnTo>
                  <a:lnTo>
                    <a:pt x="170" y="691"/>
                  </a:lnTo>
                  <a:lnTo>
                    <a:pt x="150" y="645"/>
                  </a:lnTo>
                  <a:lnTo>
                    <a:pt x="138" y="599"/>
                  </a:lnTo>
                  <a:lnTo>
                    <a:pt x="127" y="550"/>
                  </a:lnTo>
                  <a:lnTo>
                    <a:pt x="118" y="499"/>
                  </a:lnTo>
                  <a:lnTo>
                    <a:pt x="118" y="447"/>
                  </a:lnTo>
                  <a:lnTo>
                    <a:pt x="118" y="396"/>
                  </a:lnTo>
                  <a:lnTo>
                    <a:pt x="127" y="348"/>
                  </a:lnTo>
                  <a:lnTo>
                    <a:pt x="134" y="299"/>
                  </a:lnTo>
                  <a:lnTo>
                    <a:pt x="150" y="253"/>
                  </a:lnTo>
                  <a:lnTo>
                    <a:pt x="167" y="210"/>
                  </a:lnTo>
                  <a:lnTo>
                    <a:pt x="189" y="168"/>
                  </a:lnTo>
                  <a:lnTo>
                    <a:pt x="212" y="127"/>
                  </a:lnTo>
                  <a:lnTo>
                    <a:pt x="240" y="86"/>
                  </a:lnTo>
                  <a:lnTo>
                    <a:pt x="184" y="4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06720" y="3432240"/>
              <a:ext cx="100080" cy="158760"/>
            </a:xfrm>
            <a:custGeom>
              <a:avLst/>
              <a:gdLst/>
              <a:ahLst/>
              <a:rect l="l" t="t" r="r" b="b"/>
              <a:pathLst>
                <a:path w="621" h="1041">
                  <a:moveTo>
                    <a:pt x="133" y="0"/>
                  </a:moveTo>
                  <a:lnTo>
                    <a:pt x="103" y="44"/>
                  </a:lnTo>
                  <a:lnTo>
                    <a:pt x="79" y="90"/>
                  </a:lnTo>
                  <a:lnTo>
                    <a:pt x="55" y="136"/>
                  </a:lnTo>
                  <a:lnTo>
                    <a:pt x="36" y="184"/>
                  </a:lnTo>
                  <a:lnTo>
                    <a:pt x="22" y="235"/>
                  </a:lnTo>
                  <a:lnTo>
                    <a:pt x="11" y="287"/>
                  </a:lnTo>
                  <a:lnTo>
                    <a:pt x="3" y="341"/>
                  </a:lnTo>
                  <a:lnTo>
                    <a:pt x="0" y="398"/>
                  </a:lnTo>
                  <a:lnTo>
                    <a:pt x="3" y="462"/>
                  </a:lnTo>
                  <a:lnTo>
                    <a:pt x="14" y="527"/>
                  </a:lnTo>
                  <a:lnTo>
                    <a:pt x="30" y="587"/>
                  </a:lnTo>
                  <a:lnTo>
                    <a:pt x="49" y="645"/>
                  </a:lnTo>
                  <a:lnTo>
                    <a:pt x="76" y="702"/>
                  </a:lnTo>
                  <a:lnTo>
                    <a:pt x="106" y="756"/>
                  </a:lnTo>
                  <a:lnTo>
                    <a:pt x="143" y="804"/>
                  </a:lnTo>
                  <a:lnTo>
                    <a:pt x="181" y="850"/>
                  </a:lnTo>
                  <a:lnTo>
                    <a:pt x="227" y="891"/>
                  </a:lnTo>
                  <a:lnTo>
                    <a:pt x="273" y="928"/>
                  </a:lnTo>
                  <a:lnTo>
                    <a:pt x="324" y="961"/>
                  </a:lnTo>
                  <a:lnTo>
                    <a:pt x="378" y="988"/>
                  </a:lnTo>
                  <a:lnTo>
                    <a:pt x="435" y="1013"/>
                  </a:lnTo>
                  <a:lnTo>
                    <a:pt x="497" y="1029"/>
                  </a:lnTo>
                  <a:lnTo>
                    <a:pt x="557" y="1039"/>
                  </a:lnTo>
                  <a:lnTo>
                    <a:pt x="589" y="1041"/>
                  </a:lnTo>
                  <a:lnTo>
                    <a:pt x="621" y="1041"/>
                  </a:lnTo>
                  <a:lnTo>
                    <a:pt x="570" y="1031"/>
                  </a:lnTo>
                  <a:lnTo>
                    <a:pt x="516" y="1023"/>
                  </a:lnTo>
                  <a:lnTo>
                    <a:pt x="462" y="1009"/>
                  </a:lnTo>
                  <a:lnTo>
                    <a:pt x="411" y="993"/>
                  </a:lnTo>
                  <a:lnTo>
                    <a:pt x="362" y="972"/>
                  </a:lnTo>
                  <a:lnTo>
                    <a:pt x="317" y="947"/>
                  </a:lnTo>
                  <a:lnTo>
                    <a:pt x="271" y="918"/>
                  </a:lnTo>
                  <a:lnTo>
                    <a:pt x="230" y="882"/>
                  </a:lnTo>
                  <a:lnTo>
                    <a:pt x="189" y="848"/>
                  </a:lnTo>
                  <a:lnTo>
                    <a:pt x="152" y="802"/>
                  </a:lnTo>
                  <a:lnTo>
                    <a:pt x="114" y="753"/>
                  </a:lnTo>
                  <a:lnTo>
                    <a:pt x="85" y="700"/>
                  </a:lnTo>
                  <a:lnTo>
                    <a:pt x="57" y="645"/>
                  </a:lnTo>
                  <a:lnTo>
                    <a:pt x="39" y="587"/>
                  </a:lnTo>
                  <a:lnTo>
                    <a:pt x="22" y="524"/>
                  </a:lnTo>
                  <a:lnTo>
                    <a:pt x="11" y="462"/>
                  </a:lnTo>
                  <a:lnTo>
                    <a:pt x="9" y="398"/>
                  </a:lnTo>
                  <a:lnTo>
                    <a:pt x="11" y="343"/>
                  </a:lnTo>
                  <a:lnTo>
                    <a:pt x="16" y="290"/>
                  </a:lnTo>
                  <a:lnTo>
                    <a:pt x="27" y="238"/>
                  </a:lnTo>
                  <a:lnTo>
                    <a:pt x="44" y="187"/>
                  </a:lnTo>
                  <a:lnTo>
                    <a:pt x="62" y="141"/>
                  </a:lnTo>
                  <a:lnTo>
                    <a:pt x="85" y="92"/>
                  </a:lnTo>
                  <a:lnTo>
                    <a:pt x="108" y="49"/>
                  </a:lnTo>
                  <a:lnTo>
                    <a:pt x="138" y="9"/>
                  </a:lnTo>
                  <a:lnTo>
                    <a:pt x="136" y="6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53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413080" y="3449520"/>
              <a:ext cx="14400" cy="25560"/>
            </a:xfrm>
            <a:custGeom>
              <a:avLst/>
              <a:gdLst/>
              <a:ahLst/>
              <a:rect l="l" t="t" r="r" b="b"/>
              <a:pathLst>
                <a:path w="80" h="173">
                  <a:moveTo>
                    <a:pt x="23" y="0"/>
                  </a:moveTo>
                  <a:lnTo>
                    <a:pt x="0" y="11"/>
                  </a:lnTo>
                  <a:lnTo>
                    <a:pt x="23" y="49"/>
                  </a:lnTo>
                  <a:lnTo>
                    <a:pt x="44" y="90"/>
                  </a:lnTo>
                  <a:lnTo>
                    <a:pt x="64" y="130"/>
                  </a:lnTo>
                  <a:lnTo>
                    <a:pt x="80" y="173"/>
                  </a:lnTo>
                  <a:lnTo>
                    <a:pt x="69" y="127"/>
                  </a:lnTo>
                  <a:lnTo>
                    <a:pt x="56" y="85"/>
                  </a:lnTo>
                  <a:lnTo>
                    <a:pt x="42" y="4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4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416320" y="3449520"/>
              <a:ext cx="12600" cy="36360"/>
            </a:xfrm>
            <a:custGeom>
              <a:avLst/>
              <a:gdLst/>
              <a:ahLst/>
              <a:rect l="l" t="t" r="r" b="b"/>
              <a:pathLst>
                <a:path w="73" h="245">
                  <a:moveTo>
                    <a:pt x="5" y="0"/>
                  </a:moveTo>
                  <a:lnTo>
                    <a:pt x="0" y="5"/>
                  </a:lnTo>
                  <a:lnTo>
                    <a:pt x="19" y="46"/>
                  </a:lnTo>
                  <a:lnTo>
                    <a:pt x="33" y="90"/>
                  </a:lnTo>
                  <a:lnTo>
                    <a:pt x="46" y="132"/>
                  </a:lnTo>
                  <a:lnTo>
                    <a:pt x="57" y="178"/>
                  </a:lnTo>
                  <a:lnTo>
                    <a:pt x="65" y="210"/>
                  </a:lnTo>
                  <a:lnTo>
                    <a:pt x="73" y="245"/>
                  </a:lnTo>
                  <a:lnTo>
                    <a:pt x="71" y="213"/>
                  </a:lnTo>
                  <a:lnTo>
                    <a:pt x="65" y="181"/>
                  </a:lnTo>
                  <a:lnTo>
                    <a:pt x="51" y="119"/>
                  </a:lnTo>
                  <a:lnTo>
                    <a:pt x="30" y="6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53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27240" y="3413160"/>
              <a:ext cx="301680" cy="177840"/>
            </a:xfrm>
            <a:custGeom>
              <a:avLst/>
              <a:gdLst/>
              <a:ahLst/>
              <a:rect l="l" t="t" r="r" b="b"/>
              <a:pathLst>
                <a:path w="1856" h="1170">
                  <a:moveTo>
                    <a:pt x="1856" y="585"/>
                  </a:moveTo>
                  <a:lnTo>
                    <a:pt x="1854" y="645"/>
                  </a:lnTo>
                  <a:lnTo>
                    <a:pt x="1845" y="704"/>
                  </a:lnTo>
                  <a:lnTo>
                    <a:pt x="1832" y="760"/>
                  </a:lnTo>
                  <a:lnTo>
                    <a:pt x="1811" y="815"/>
                  </a:lnTo>
                  <a:lnTo>
                    <a:pt x="1786" y="866"/>
                  </a:lnTo>
                  <a:lnTo>
                    <a:pt x="1756" y="912"/>
                  </a:lnTo>
                  <a:lnTo>
                    <a:pt x="1724" y="958"/>
                  </a:lnTo>
                  <a:lnTo>
                    <a:pt x="1686" y="1001"/>
                  </a:lnTo>
                  <a:lnTo>
                    <a:pt x="1645" y="1039"/>
                  </a:lnTo>
                  <a:lnTo>
                    <a:pt x="1600" y="1071"/>
                  </a:lnTo>
                  <a:lnTo>
                    <a:pt x="1551" y="1101"/>
                  </a:lnTo>
                  <a:lnTo>
                    <a:pt x="1500" y="1126"/>
                  </a:lnTo>
                  <a:lnTo>
                    <a:pt x="1447" y="1144"/>
                  </a:lnTo>
                  <a:lnTo>
                    <a:pt x="1389" y="1160"/>
                  </a:lnTo>
                  <a:lnTo>
                    <a:pt x="1332" y="1168"/>
                  </a:lnTo>
                  <a:lnTo>
                    <a:pt x="1273" y="1170"/>
                  </a:lnTo>
                  <a:lnTo>
                    <a:pt x="585" y="1170"/>
                  </a:lnTo>
                  <a:lnTo>
                    <a:pt x="523" y="1168"/>
                  </a:lnTo>
                  <a:lnTo>
                    <a:pt x="467" y="1160"/>
                  </a:lnTo>
                  <a:lnTo>
                    <a:pt x="410" y="1144"/>
                  </a:lnTo>
                  <a:lnTo>
                    <a:pt x="356" y="1126"/>
                  </a:lnTo>
                  <a:lnTo>
                    <a:pt x="304" y="1101"/>
                  </a:lnTo>
                  <a:lnTo>
                    <a:pt x="256" y="1071"/>
                  </a:lnTo>
                  <a:lnTo>
                    <a:pt x="213" y="1039"/>
                  </a:lnTo>
                  <a:lnTo>
                    <a:pt x="170" y="1001"/>
                  </a:lnTo>
                  <a:lnTo>
                    <a:pt x="131" y="958"/>
                  </a:lnTo>
                  <a:lnTo>
                    <a:pt x="99" y="912"/>
                  </a:lnTo>
                  <a:lnTo>
                    <a:pt x="69" y="866"/>
                  </a:lnTo>
                  <a:lnTo>
                    <a:pt x="45" y="815"/>
                  </a:lnTo>
                  <a:lnTo>
                    <a:pt x="23" y="760"/>
                  </a:lnTo>
                  <a:lnTo>
                    <a:pt x="11" y="704"/>
                  </a:lnTo>
                  <a:lnTo>
                    <a:pt x="2" y="645"/>
                  </a:lnTo>
                  <a:lnTo>
                    <a:pt x="0" y="585"/>
                  </a:lnTo>
                  <a:lnTo>
                    <a:pt x="2" y="527"/>
                  </a:lnTo>
                  <a:lnTo>
                    <a:pt x="11" y="470"/>
                  </a:lnTo>
                  <a:lnTo>
                    <a:pt x="23" y="413"/>
                  </a:lnTo>
                  <a:lnTo>
                    <a:pt x="45" y="359"/>
                  </a:lnTo>
                  <a:lnTo>
                    <a:pt x="69" y="308"/>
                  </a:lnTo>
                  <a:lnTo>
                    <a:pt x="99" y="260"/>
                  </a:lnTo>
                  <a:lnTo>
                    <a:pt x="131" y="214"/>
                  </a:lnTo>
                  <a:lnTo>
                    <a:pt x="170" y="173"/>
                  </a:lnTo>
                  <a:lnTo>
                    <a:pt x="213" y="135"/>
                  </a:lnTo>
                  <a:lnTo>
                    <a:pt x="256" y="101"/>
                  </a:lnTo>
                  <a:lnTo>
                    <a:pt x="304" y="73"/>
                  </a:lnTo>
                  <a:lnTo>
                    <a:pt x="356" y="46"/>
                  </a:lnTo>
                  <a:lnTo>
                    <a:pt x="410" y="27"/>
                  </a:lnTo>
                  <a:lnTo>
                    <a:pt x="467" y="14"/>
                  </a:lnTo>
                  <a:lnTo>
                    <a:pt x="523" y="5"/>
                  </a:lnTo>
                  <a:lnTo>
                    <a:pt x="585" y="0"/>
                  </a:lnTo>
                  <a:lnTo>
                    <a:pt x="1273" y="0"/>
                  </a:lnTo>
                  <a:lnTo>
                    <a:pt x="1332" y="5"/>
                  </a:lnTo>
                  <a:lnTo>
                    <a:pt x="1389" y="14"/>
                  </a:lnTo>
                  <a:lnTo>
                    <a:pt x="1447" y="27"/>
                  </a:lnTo>
                  <a:lnTo>
                    <a:pt x="1500" y="46"/>
                  </a:lnTo>
                  <a:lnTo>
                    <a:pt x="1551" y="73"/>
                  </a:lnTo>
                  <a:lnTo>
                    <a:pt x="1600" y="101"/>
                  </a:lnTo>
                  <a:lnTo>
                    <a:pt x="1645" y="135"/>
                  </a:lnTo>
                  <a:lnTo>
                    <a:pt x="1686" y="173"/>
                  </a:lnTo>
                  <a:lnTo>
                    <a:pt x="1724" y="214"/>
                  </a:lnTo>
                  <a:lnTo>
                    <a:pt x="1756" y="260"/>
                  </a:lnTo>
                  <a:lnTo>
                    <a:pt x="1786" y="308"/>
                  </a:lnTo>
                  <a:lnTo>
                    <a:pt x="1811" y="359"/>
                  </a:lnTo>
                  <a:lnTo>
                    <a:pt x="1832" y="413"/>
                  </a:lnTo>
                  <a:lnTo>
                    <a:pt x="1845" y="470"/>
                  </a:lnTo>
                  <a:lnTo>
                    <a:pt x="1854" y="527"/>
                  </a:lnTo>
                  <a:lnTo>
                    <a:pt x="1856" y="585"/>
                  </a:lnTo>
                  <a:close/>
                </a:path>
              </a:pathLst>
            </a:custGeom>
            <a:solidFill>
              <a:srgbClr val="9cb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27240" y="3411360"/>
              <a:ext cx="303120" cy="181080"/>
            </a:xfrm>
            <a:custGeom>
              <a:avLst/>
              <a:gdLst/>
              <a:ahLst/>
              <a:rect l="l" t="t" r="r" b="b"/>
              <a:pathLst>
                <a:path w="1873" h="1186">
                  <a:moveTo>
                    <a:pt x="1865" y="592"/>
                  </a:moveTo>
                  <a:lnTo>
                    <a:pt x="1857" y="592"/>
                  </a:lnTo>
                  <a:lnTo>
                    <a:pt x="1854" y="652"/>
                  </a:lnTo>
                  <a:lnTo>
                    <a:pt x="1847" y="709"/>
                  </a:lnTo>
                  <a:lnTo>
                    <a:pt x="1833" y="765"/>
                  </a:lnTo>
                  <a:lnTo>
                    <a:pt x="1813" y="817"/>
                  </a:lnTo>
                  <a:lnTo>
                    <a:pt x="1790" y="868"/>
                  </a:lnTo>
                  <a:lnTo>
                    <a:pt x="1760" y="916"/>
                  </a:lnTo>
                  <a:lnTo>
                    <a:pt x="1728" y="960"/>
                  </a:lnTo>
                  <a:lnTo>
                    <a:pt x="1690" y="1000"/>
                  </a:lnTo>
                  <a:lnTo>
                    <a:pt x="1649" y="1038"/>
                  </a:lnTo>
                  <a:lnTo>
                    <a:pt x="1603" y="1073"/>
                  </a:lnTo>
                  <a:lnTo>
                    <a:pt x="1558" y="1100"/>
                  </a:lnTo>
                  <a:lnTo>
                    <a:pt x="1507" y="1124"/>
                  </a:lnTo>
                  <a:lnTo>
                    <a:pt x="1452" y="1143"/>
                  </a:lnTo>
                  <a:lnTo>
                    <a:pt x="1398" y="1159"/>
                  </a:lnTo>
                  <a:lnTo>
                    <a:pt x="1339" y="1167"/>
                  </a:lnTo>
                  <a:lnTo>
                    <a:pt x="1282" y="1170"/>
                  </a:lnTo>
                  <a:lnTo>
                    <a:pt x="594" y="1170"/>
                  </a:lnTo>
                  <a:lnTo>
                    <a:pt x="535" y="1167"/>
                  </a:lnTo>
                  <a:lnTo>
                    <a:pt x="476" y="1159"/>
                  </a:lnTo>
                  <a:lnTo>
                    <a:pt x="421" y="1143"/>
                  </a:lnTo>
                  <a:lnTo>
                    <a:pt x="368" y="1124"/>
                  </a:lnTo>
                  <a:lnTo>
                    <a:pt x="319" y="1100"/>
                  </a:lnTo>
                  <a:lnTo>
                    <a:pt x="271" y="1073"/>
                  </a:lnTo>
                  <a:lnTo>
                    <a:pt x="225" y="1038"/>
                  </a:lnTo>
                  <a:lnTo>
                    <a:pt x="184" y="1000"/>
                  </a:lnTo>
                  <a:lnTo>
                    <a:pt x="149" y="960"/>
                  </a:lnTo>
                  <a:lnTo>
                    <a:pt x="114" y="916"/>
                  </a:lnTo>
                  <a:lnTo>
                    <a:pt x="84" y="868"/>
                  </a:lnTo>
                  <a:lnTo>
                    <a:pt x="60" y="817"/>
                  </a:lnTo>
                  <a:lnTo>
                    <a:pt x="41" y="765"/>
                  </a:lnTo>
                  <a:lnTo>
                    <a:pt x="27" y="709"/>
                  </a:lnTo>
                  <a:lnTo>
                    <a:pt x="20" y="652"/>
                  </a:lnTo>
                  <a:lnTo>
                    <a:pt x="16" y="592"/>
                  </a:lnTo>
                  <a:lnTo>
                    <a:pt x="20" y="534"/>
                  </a:lnTo>
                  <a:lnTo>
                    <a:pt x="27" y="477"/>
                  </a:lnTo>
                  <a:lnTo>
                    <a:pt x="41" y="423"/>
                  </a:lnTo>
                  <a:lnTo>
                    <a:pt x="60" y="369"/>
                  </a:lnTo>
                  <a:lnTo>
                    <a:pt x="84" y="318"/>
                  </a:lnTo>
                  <a:lnTo>
                    <a:pt x="114" y="272"/>
                  </a:lnTo>
                  <a:lnTo>
                    <a:pt x="149" y="226"/>
                  </a:lnTo>
                  <a:lnTo>
                    <a:pt x="184" y="185"/>
                  </a:lnTo>
                  <a:lnTo>
                    <a:pt x="225" y="147"/>
                  </a:lnTo>
                  <a:lnTo>
                    <a:pt x="271" y="115"/>
                  </a:lnTo>
                  <a:lnTo>
                    <a:pt x="319" y="85"/>
                  </a:lnTo>
                  <a:lnTo>
                    <a:pt x="368" y="62"/>
                  </a:lnTo>
                  <a:lnTo>
                    <a:pt x="421" y="42"/>
                  </a:lnTo>
                  <a:lnTo>
                    <a:pt x="476" y="28"/>
                  </a:lnTo>
                  <a:lnTo>
                    <a:pt x="535" y="21"/>
                  </a:lnTo>
                  <a:lnTo>
                    <a:pt x="594" y="16"/>
                  </a:lnTo>
                  <a:lnTo>
                    <a:pt x="1282" y="16"/>
                  </a:lnTo>
                  <a:lnTo>
                    <a:pt x="1339" y="21"/>
                  </a:lnTo>
                  <a:lnTo>
                    <a:pt x="1398" y="28"/>
                  </a:lnTo>
                  <a:lnTo>
                    <a:pt x="1452" y="42"/>
                  </a:lnTo>
                  <a:lnTo>
                    <a:pt x="1507" y="62"/>
                  </a:lnTo>
                  <a:lnTo>
                    <a:pt x="1558" y="85"/>
                  </a:lnTo>
                  <a:lnTo>
                    <a:pt x="1603" y="115"/>
                  </a:lnTo>
                  <a:lnTo>
                    <a:pt x="1649" y="147"/>
                  </a:lnTo>
                  <a:lnTo>
                    <a:pt x="1690" y="185"/>
                  </a:lnTo>
                  <a:lnTo>
                    <a:pt x="1728" y="226"/>
                  </a:lnTo>
                  <a:lnTo>
                    <a:pt x="1760" y="272"/>
                  </a:lnTo>
                  <a:lnTo>
                    <a:pt x="1790" y="318"/>
                  </a:lnTo>
                  <a:lnTo>
                    <a:pt x="1813" y="369"/>
                  </a:lnTo>
                  <a:lnTo>
                    <a:pt x="1833" y="423"/>
                  </a:lnTo>
                  <a:lnTo>
                    <a:pt x="1847" y="477"/>
                  </a:lnTo>
                  <a:lnTo>
                    <a:pt x="1854" y="534"/>
                  </a:lnTo>
                  <a:lnTo>
                    <a:pt x="1857" y="592"/>
                  </a:lnTo>
                  <a:lnTo>
                    <a:pt x="1865" y="592"/>
                  </a:lnTo>
                  <a:lnTo>
                    <a:pt x="1873" y="592"/>
                  </a:lnTo>
                  <a:lnTo>
                    <a:pt x="1871" y="534"/>
                  </a:lnTo>
                  <a:lnTo>
                    <a:pt x="1863" y="474"/>
                  </a:lnTo>
                  <a:lnTo>
                    <a:pt x="1849" y="417"/>
                  </a:lnTo>
                  <a:lnTo>
                    <a:pt x="1827" y="364"/>
                  </a:lnTo>
                  <a:lnTo>
                    <a:pt x="1803" y="309"/>
                  </a:lnTo>
                  <a:lnTo>
                    <a:pt x="1774" y="261"/>
                  </a:lnTo>
                  <a:lnTo>
                    <a:pt x="1739" y="215"/>
                  </a:lnTo>
                  <a:lnTo>
                    <a:pt x="1700" y="175"/>
                  </a:lnTo>
                  <a:lnTo>
                    <a:pt x="1657" y="136"/>
                  </a:lnTo>
                  <a:lnTo>
                    <a:pt x="1615" y="102"/>
                  </a:lnTo>
                  <a:lnTo>
                    <a:pt x="1563" y="72"/>
                  </a:lnTo>
                  <a:lnTo>
                    <a:pt x="1512" y="48"/>
                  </a:lnTo>
                  <a:lnTo>
                    <a:pt x="1458" y="26"/>
                  </a:lnTo>
                  <a:lnTo>
                    <a:pt x="1401" y="12"/>
                  </a:lnTo>
                  <a:lnTo>
                    <a:pt x="1341" y="5"/>
                  </a:lnTo>
                  <a:lnTo>
                    <a:pt x="1282" y="0"/>
                  </a:lnTo>
                  <a:lnTo>
                    <a:pt x="594" y="0"/>
                  </a:lnTo>
                  <a:lnTo>
                    <a:pt x="532" y="5"/>
                  </a:lnTo>
                  <a:lnTo>
                    <a:pt x="473" y="12"/>
                  </a:lnTo>
                  <a:lnTo>
                    <a:pt x="416" y="26"/>
                  </a:lnTo>
                  <a:lnTo>
                    <a:pt x="362" y="48"/>
                  </a:lnTo>
                  <a:lnTo>
                    <a:pt x="310" y="72"/>
                  </a:lnTo>
                  <a:lnTo>
                    <a:pt x="262" y="102"/>
                  </a:lnTo>
                  <a:lnTo>
                    <a:pt x="216" y="136"/>
                  </a:lnTo>
                  <a:lnTo>
                    <a:pt x="174" y="175"/>
                  </a:lnTo>
                  <a:lnTo>
                    <a:pt x="135" y="215"/>
                  </a:lnTo>
                  <a:lnTo>
                    <a:pt x="100" y="261"/>
                  </a:lnTo>
                  <a:lnTo>
                    <a:pt x="71" y="309"/>
                  </a:lnTo>
                  <a:lnTo>
                    <a:pt x="46" y="364"/>
                  </a:lnTo>
                  <a:lnTo>
                    <a:pt x="27" y="417"/>
                  </a:lnTo>
                  <a:lnTo>
                    <a:pt x="11" y="474"/>
                  </a:lnTo>
                  <a:lnTo>
                    <a:pt x="4" y="534"/>
                  </a:lnTo>
                  <a:lnTo>
                    <a:pt x="0" y="592"/>
                  </a:lnTo>
                  <a:lnTo>
                    <a:pt x="4" y="654"/>
                  </a:lnTo>
                  <a:lnTo>
                    <a:pt x="11" y="714"/>
                  </a:lnTo>
                  <a:lnTo>
                    <a:pt x="27" y="771"/>
                  </a:lnTo>
                  <a:lnTo>
                    <a:pt x="46" y="825"/>
                  </a:lnTo>
                  <a:lnTo>
                    <a:pt x="71" y="876"/>
                  </a:lnTo>
                  <a:lnTo>
                    <a:pt x="100" y="924"/>
                  </a:lnTo>
                  <a:lnTo>
                    <a:pt x="135" y="970"/>
                  </a:lnTo>
                  <a:lnTo>
                    <a:pt x="174" y="1013"/>
                  </a:lnTo>
                  <a:lnTo>
                    <a:pt x="216" y="1051"/>
                  </a:lnTo>
                  <a:lnTo>
                    <a:pt x="262" y="1087"/>
                  </a:lnTo>
                  <a:lnTo>
                    <a:pt x="310" y="1116"/>
                  </a:lnTo>
                  <a:lnTo>
                    <a:pt x="362" y="1140"/>
                  </a:lnTo>
                  <a:lnTo>
                    <a:pt x="416" y="1159"/>
                  </a:lnTo>
                  <a:lnTo>
                    <a:pt x="473" y="1175"/>
                  </a:lnTo>
                  <a:lnTo>
                    <a:pt x="532" y="1184"/>
                  </a:lnTo>
                  <a:lnTo>
                    <a:pt x="594" y="1186"/>
                  </a:lnTo>
                  <a:lnTo>
                    <a:pt x="1282" y="1186"/>
                  </a:lnTo>
                  <a:lnTo>
                    <a:pt x="1341" y="1184"/>
                  </a:lnTo>
                  <a:lnTo>
                    <a:pt x="1401" y="1175"/>
                  </a:lnTo>
                  <a:lnTo>
                    <a:pt x="1458" y="1159"/>
                  </a:lnTo>
                  <a:lnTo>
                    <a:pt x="1512" y="1140"/>
                  </a:lnTo>
                  <a:lnTo>
                    <a:pt x="1563" y="1116"/>
                  </a:lnTo>
                  <a:lnTo>
                    <a:pt x="1615" y="1087"/>
                  </a:lnTo>
                  <a:lnTo>
                    <a:pt x="1657" y="1051"/>
                  </a:lnTo>
                  <a:lnTo>
                    <a:pt x="1700" y="1013"/>
                  </a:lnTo>
                  <a:lnTo>
                    <a:pt x="1739" y="970"/>
                  </a:lnTo>
                  <a:lnTo>
                    <a:pt x="1774" y="924"/>
                  </a:lnTo>
                  <a:lnTo>
                    <a:pt x="1803" y="876"/>
                  </a:lnTo>
                  <a:lnTo>
                    <a:pt x="1827" y="825"/>
                  </a:lnTo>
                  <a:lnTo>
                    <a:pt x="1849" y="771"/>
                  </a:lnTo>
                  <a:lnTo>
                    <a:pt x="1863" y="714"/>
                  </a:lnTo>
                  <a:lnTo>
                    <a:pt x="1871" y="654"/>
                  </a:lnTo>
                  <a:lnTo>
                    <a:pt x="1873" y="592"/>
                  </a:lnTo>
                  <a:lnTo>
                    <a:pt x="1865" y="59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30480" y="3417840"/>
              <a:ext cx="128520" cy="171360"/>
            </a:xfrm>
            <a:custGeom>
              <a:avLst/>
              <a:gdLst/>
              <a:ahLst/>
              <a:rect l="l" t="t" r="r" b="b"/>
              <a:pathLst>
                <a:path w="807" h="1133">
                  <a:moveTo>
                    <a:pt x="722" y="0"/>
                  </a:moveTo>
                  <a:lnTo>
                    <a:pt x="710" y="550"/>
                  </a:lnTo>
                  <a:lnTo>
                    <a:pt x="648" y="497"/>
                  </a:lnTo>
                  <a:lnTo>
                    <a:pt x="589" y="442"/>
                  </a:lnTo>
                  <a:lnTo>
                    <a:pt x="533" y="383"/>
                  </a:lnTo>
                  <a:lnTo>
                    <a:pt x="481" y="324"/>
                  </a:lnTo>
                  <a:lnTo>
                    <a:pt x="430" y="258"/>
                  </a:lnTo>
                  <a:lnTo>
                    <a:pt x="381" y="194"/>
                  </a:lnTo>
                  <a:lnTo>
                    <a:pt x="335" y="127"/>
                  </a:lnTo>
                  <a:lnTo>
                    <a:pt x="292" y="53"/>
                  </a:lnTo>
                  <a:lnTo>
                    <a:pt x="260" y="76"/>
                  </a:lnTo>
                  <a:lnTo>
                    <a:pt x="227" y="97"/>
                  </a:lnTo>
                  <a:lnTo>
                    <a:pt x="198" y="122"/>
                  </a:lnTo>
                  <a:lnTo>
                    <a:pt x="168" y="148"/>
                  </a:lnTo>
                  <a:lnTo>
                    <a:pt x="133" y="189"/>
                  </a:lnTo>
                  <a:lnTo>
                    <a:pt x="98" y="235"/>
                  </a:lnTo>
                  <a:lnTo>
                    <a:pt x="68" y="281"/>
                  </a:lnTo>
                  <a:lnTo>
                    <a:pt x="44" y="332"/>
                  </a:lnTo>
                  <a:lnTo>
                    <a:pt x="25" y="386"/>
                  </a:lnTo>
                  <a:lnTo>
                    <a:pt x="11" y="440"/>
                  </a:lnTo>
                  <a:lnTo>
                    <a:pt x="4" y="497"/>
                  </a:lnTo>
                  <a:lnTo>
                    <a:pt x="0" y="555"/>
                  </a:lnTo>
                  <a:lnTo>
                    <a:pt x="4" y="615"/>
                  </a:lnTo>
                  <a:lnTo>
                    <a:pt x="11" y="672"/>
                  </a:lnTo>
                  <a:lnTo>
                    <a:pt x="25" y="728"/>
                  </a:lnTo>
                  <a:lnTo>
                    <a:pt x="44" y="780"/>
                  </a:lnTo>
                  <a:lnTo>
                    <a:pt x="68" y="831"/>
                  </a:lnTo>
                  <a:lnTo>
                    <a:pt x="98" y="879"/>
                  </a:lnTo>
                  <a:lnTo>
                    <a:pt x="133" y="923"/>
                  </a:lnTo>
                  <a:lnTo>
                    <a:pt x="168" y="963"/>
                  </a:lnTo>
                  <a:lnTo>
                    <a:pt x="209" y="1001"/>
                  </a:lnTo>
                  <a:lnTo>
                    <a:pt x="255" y="1036"/>
                  </a:lnTo>
                  <a:lnTo>
                    <a:pt x="303" y="1063"/>
                  </a:lnTo>
                  <a:lnTo>
                    <a:pt x="352" y="1087"/>
                  </a:lnTo>
                  <a:lnTo>
                    <a:pt x="405" y="1106"/>
                  </a:lnTo>
                  <a:lnTo>
                    <a:pt x="460" y="1122"/>
                  </a:lnTo>
                  <a:lnTo>
                    <a:pt x="519" y="1130"/>
                  </a:lnTo>
                  <a:lnTo>
                    <a:pt x="578" y="1133"/>
                  </a:lnTo>
                  <a:lnTo>
                    <a:pt x="692" y="1133"/>
                  </a:lnTo>
                  <a:lnTo>
                    <a:pt x="708" y="1108"/>
                  </a:lnTo>
                  <a:lnTo>
                    <a:pt x="722" y="1082"/>
                  </a:lnTo>
                  <a:lnTo>
                    <a:pt x="748" y="1025"/>
                  </a:lnTo>
                  <a:lnTo>
                    <a:pt x="768" y="965"/>
                  </a:lnTo>
                  <a:lnTo>
                    <a:pt x="784" y="901"/>
                  </a:lnTo>
                  <a:lnTo>
                    <a:pt x="794" y="836"/>
                  </a:lnTo>
                  <a:lnTo>
                    <a:pt x="802" y="769"/>
                  </a:lnTo>
                  <a:lnTo>
                    <a:pt x="807" y="702"/>
                  </a:lnTo>
                  <a:lnTo>
                    <a:pt x="807" y="631"/>
                  </a:lnTo>
                  <a:lnTo>
                    <a:pt x="807" y="555"/>
                  </a:lnTo>
                  <a:lnTo>
                    <a:pt x="802" y="483"/>
                  </a:lnTo>
                  <a:lnTo>
                    <a:pt x="796" y="407"/>
                  </a:lnTo>
                  <a:lnTo>
                    <a:pt x="786" y="334"/>
                  </a:lnTo>
                  <a:lnTo>
                    <a:pt x="778" y="264"/>
                  </a:lnTo>
                  <a:lnTo>
                    <a:pt x="768" y="202"/>
                  </a:lnTo>
                  <a:lnTo>
                    <a:pt x="745" y="92"/>
                  </a:lnTo>
                  <a:lnTo>
                    <a:pt x="727" y="14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60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27240" y="3425760"/>
              <a:ext cx="114480" cy="165240"/>
            </a:xfrm>
            <a:custGeom>
              <a:avLst/>
              <a:gdLst/>
              <a:ahLst/>
              <a:rect l="l" t="t" r="r" b="b"/>
              <a:pathLst>
                <a:path w="699" h="1092">
                  <a:moveTo>
                    <a:pt x="296" y="0"/>
                  </a:moveTo>
                  <a:lnTo>
                    <a:pt x="264" y="19"/>
                  </a:lnTo>
                  <a:lnTo>
                    <a:pt x="232" y="41"/>
                  </a:lnTo>
                  <a:lnTo>
                    <a:pt x="202" y="65"/>
                  </a:lnTo>
                  <a:lnTo>
                    <a:pt x="175" y="90"/>
                  </a:lnTo>
                  <a:lnTo>
                    <a:pt x="147" y="120"/>
                  </a:lnTo>
                  <a:lnTo>
                    <a:pt x="124" y="146"/>
                  </a:lnTo>
                  <a:lnTo>
                    <a:pt x="103" y="178"/>
                  </a:lnTo>
                  <a:lnTo>
                    <a:pt x="80" y="210"/>
                  </a:lnTo>
                  <a:lnTo>
                    <a:pt x="62" y="244"/>
                  </a:lnTo>
                  <a:lnTo>
                    <a:pt x="45" y="279"/>
                  </a:lnTo>
                  <a:lnTo>
                    <a:pt x="32" y="313"/>
                  </a:lnTo>
                  <a:lnTo>
                    <a:pt x="21" y="351"/>
                  </a:lnTo>
                  <a:lnTo>
                    <a:pt x="11" y="389"/>
                  </a:lnTo>
                  <a:lnTo>
                    <a:pt x="5" y="426"/>
                  </a:lnTo>
                  <a:lnTo>
                    <a:pt x="0" y="467"/>
                  </a:lnTo>
                  <a:lnTo>
                    <a:pt x="0" y="507"/>
                  </a:lnTo>
                  <a:lnTo>
                    <a:pt x="2" y="567"/>
                  </a:lnTo>
                  <a:lnTo>
                    <a:pt x="11" y="626"/>
                  </a:lnTo>
                  <a:lnTo>
                    <a:pt x="23" y="682"/>
                  </a:lnTo>
                  <a:lnTo>
                    <a:pt x="45" y="737"/>
                  </a:lnTo>
                  <a:lnTo>
                    <a:pt x="69" y="788"/>
                  </a:lnTo>
                  <a:lnTo>
                    <a:pt x="99" y="834"/>
                  </a:lnTo>
                  <a:lnTo>
                    <a:pt x="131" y="880"/>
                  </a:lnTo>
                  <a:lnTo>
                    <a:pt x="170" y="923"/>
                  </a:lnTo>
                  <a:lnTo>
                    <a:pt x="213" y="961"/>
                  </a:lnTo>
                  <a:lnTo>
                    <a:pt x="256" y="993"/>
                  </a:lnTo>
                  <a:lnTo>
                    <a:pt x="304" y="1023"/>
                  </a:lnTo>
                  <a:lnTo>
                    <a:pt x="356" y="1048"/>
                  </a:lnTo>
                  <a:lnTo>
                    <a:pt x="410" y="1066"/>
                  </a:lnTo>
                  <a:lnTo>
                    <a:pt x="467" y="1082"/>
                  </a:lnTo>
                  <a:lnTo>
                    <a:pt x="523" y="1090"/>
                  </a:lnTo>
                  <a:lnTo>
                    <a:pt x="585" y="1092"/>
                  </a:lnTo>
                  <a:lnTo>
                    <a:pt x="695" y="1092"/>
                  </a:lnTo>
                  <a:lnTo>
                    <a:pt x="695" y="1087"/>
                  </a:lnTo>
                  <a:lnTo>
                    <a:pt x="699" y="1085"/>
                  </a:lnTo>
                  <a:lnTo>
                    <a:pt x="585" y="1085"/>
                  </a:lnTo>
                  <a:lnTo>
                    <a:pt x="526" y="1082"/>
                  </a:lnTo>
                  <a:lnTo>
                    <a:pt x="467" y="1074"/>
                  </a:lnTo>
                  <a:lnTo>
                    <a:pt x="412" y="1058"/>
                  </a:lnTo>
                  <a:lnTo>
                    <a:pt x="359" y="1039"/>
                  </a:lnTo>
                  <a:lnTo>
                    <a:pt x="310" y="1015"/>
                  </a:lnTo>
                  <a:lnTo>
                    <a:pt x="262" y="988"/>
                  </a:lnTo>
                  <a:lnTo>
                    <a:pt x="216" y="953"/>
                  </a:lnTo>
                  <a:lnTo>
                    <a:pt x="175" y="915"/>
                  </a:lnTo>
                  <a:lnTo>
                    <a:pt x="140" y="875"/>
                  </a:lnTo>
                  <a:lnTo>
                    <a:pt x="105" y="831"/>
                  </a:lnTo>
                  <a:lnTo>
                    <a:pt x="75" y="783"/>
                  </a:lnTo>
                  <a:lnTo>
                    <a:pt x="51" y="732"/>
                  </a:lnTo>
                  <a:lnTo>
                    <a:pt x="32" y="680"/>
                  </a:lnTo>
                  <a:lnTo>
                    <a:pt x="18" y="624"/>
                  </a:lnTo>
                  <a:lnTo>
                    <a:pt x="11" y="567"/>
                  </a:lnTo>
                  <a:lnTo>
                    <a:pt x="7" y="507"/>
                  </a:lnTo>
                  <a:lnTo>
                    <a:pt x="11" y="449"/>
                  </a:lnTo>
                  <a:lnTo>
                    <a:pt x="18" y="392"/>
                  </a:lnTo>
                  <a:lnTo>
                    <a:pt x="32" y="338"/>
                  </a:lnTo>
                  <a:lnTo>
                    <a:pt x="51" y="284"/>
                  </a:lnTo>
                  <a:lnTo>
                    <a:pt x="75" y="233"/>
                  </a:lnTo>
                  <a:lnTo>
                    <a:pt x="105" y="187"/>
                  </a:lnTo>
                  <a:lnTo>
                    <a:pt x="140" y="141"/>
                  </a:lnTo>
                  <a:lnTo>
                    <a:pt x="175" y="100"/>
                  </a:lnTo>
                  <a:lnTo>
                    <a:pt x="205" y="74"/>
                  </a:lnTo>
                  <a:lnTo>
                    <a:pt x="234" y="49"/>
                  </a:lnTo>
                  <a:lnTo>
                    <a:pt x="267" y="28"/>
                  </a:lnTo>
                  <a:lnTo>
                    <a:pt x="299" y="5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340000" y="3557520"/>
              <a:ext cx="50760" cy="31680"/>
            </a:xfrm>
            <a:custGeom>
              <a:avLst/>
              <a:gdLst/>
              <a:ahLst/>
              <a:rect l="l" t="t" r="r" b="b"/>
              <a:pathLst>
                <a:path w="324" h="210">
                  <a:moveTo>
                    <a:pt x="57" y="0"/>
                  </a:moveTo>
                  <a:lnTo>
                    <a:pt x="41" y="72"/>
                  </a:lnTo>
                  <a:lnTo>
                    <a:pt x="24" y="132"/>
                  </a:lnTo>
                  <a:lnTo>
                    <a:pt x="0" y="210"/>
                  </a:lnTo>
                  <a:lnTo>
                    <a:pt x="46" y="205"/>
                  </a:lnTo>
                  <a:lnTo>
                    <a:pt x="89" y="196"/>
                  </a:lnTo>
                  <a:lnTo>
                    <a:pt x="132" y="185"/>
                  </a:lnTo>
                  <a:lnTo>
                    <a:pt x="172" y="173"/>
                  </a:lnTo>
                  <a:lnTo>
                    <a:pt x="213" y="156"/>
                  </a:lnTo>
                  <a:lnTo>
                    <a:pt x="251" y="137"/>
                  </a:lnTo>
                  <a:lnTo>
                    <a:pt x="289" y="113"/>
                  </a:lnTo>
                  <a:lnTo>
                    <a:pt x="324" y="88"/>
                  </a:lnTo>
                  <a:lnTo>
                    <a:pt x="257" y="67"/>
                  </a:lnTo>
                  <a:lnTo>
                    <a:pt x="188" y="46"/>
                  </a:lnTo>
                  <a:lnTo>
                    <a:pt x="121" y="2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0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340000" y="3570120"/>
              <a:ext cx="52560" cy="20880"/>
            </a:xfrm>
            <a:custGeom>
              <a:avLst/>
              <a:gdLst/>
              <a:ahLst/>
              <a:rect l="l" t="t" r="r" b="b"/>
              <a:pathLst>
                <a:path w="335" h="129">
                  <a:moveTo>
                    <a:pt x="327" y="0"/>
                  </a:moveTo>
                  <a:lnTo>
                    <a:pt x="292" y="25"/>
                  </a:lnTo>
                  <a:lnTo>
                    <a:pt x="254" y="49"/>
                  </a:lnTo>
                  <a:lnTo>
                    <a:pt x="216" y="68"/>
                  </a:lnTo>
                  <a:lnTo>
                    <a:pt x="175" y="85"/>
                  </a:lnTo>
                  <a:lnTo>
                    <a:pt x="135" y="97"/>
                  </a:lnTo>
                  <a:lnTo>
                    <a:pt x="92" y="108"/>
                  </a:lnTo>
                  <a:lnTo>
                    <a:pt x="49" y="117"/>
                  </a:lnTo>
                  <a:lnTo>
                    <a:pt x="3" y="122"/>
                  </a:lnTo>
                  <a:lnTo>
                    <a:pt x="0" y="129"/>
                  </a:lnTo>
                  <a:lnTo>
                    <a:pt x="46" y="124"/>
                  </a:lnTo>
                  <a:lnTo>
                    <a:pt x="92" y="117"/>
                  </a:lnTo>
                  <a:lnTo>
                    <a:pt x="138" y="106"/>
                  </a:lnTo>
                  <a:lnTo>
                    <a:pt x="181" y="92"/>
                  </a:lnTo>
                  <a:lnTo>
                    <a:pt x="221" y="73"/>
                  </a:lnTo>
                  <a:lnTo>
                    <a:pt x="262" y="55"/>
                  </a:lnTo>
                  <a:lnTo>
                    <a:pt x="300" y="30"/>
                  </a:lnTo>
                  <a:lnTo>
                    <a:pt x="335" y="3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241720" y="3413160"/>
              <a:ext cx="99720" cy="185760"/>
            </a:xfrm>
            <a:custGeom>
              <a:avLst/>
              <a:gdLst/>
              <a:ahLst/>
              <a:rect l="l" t="t" r="r" b="b"/>
              <a:pathLst>
                <a:path w="610" h="1220">
                  <a:moveTo>
                    <a:pt x="30" y="0"/>
                  </a:moveTo>
                  <a:lnTo>
                    <a:pt x="40" y="44"/>
                  </a:lnTo>
                  <a:lnTo>
                    <a:pt x="65" y="154"/>
                  </a:lnTo>
                  <a:lnTo>
                    <a:pt x="81" y="230"/>
                  </a:lnTo>
                  <a:lnTo>
                    <a:pt x="95" y="316"/>
                  </a:lnTo>
                  <a:lnTo>
                    <a:pt x="108" y="410"/>
                  </a:lnTo>
                  <a:lnTo>
                    <a:pt x="116" y="513"/>
                  </a:lnTo>
                  <a:lnTo>
                    <a:pt x="122" y="599"/>
                  </a:lnTo>
                  <a:lnTo>
                    <a:pt x="122" y="688"/>
                  </a:lnTo>
                  <a:lnTo>
                    <a:pt x="118" y="778"/>
                  </a:lnTo>
                  <a:lnTo>
                    <a:pt x="108" y="863"/>
                  </a:lnTo>
                  <a:lnTo>
                    <a:pt x="102" y="907"/>
                  </a:lnTo>
                  <a:lnTo>
                    <a:pt x="95" y="949"/>
                  </a:lnTo>
                  <a:lnTo>
                    <a:pt x="84" y="990"/>
                  </a:lnTo>
                  <a:lnTo>
                    <a:pt x="70" y="1028"/>
                  </a:lnTo>
                  <a:lnTo>
                    <a:pt x="56" y="1066"/>
                  </a:lnTo>
                  <a:lnTo>
                    <a:pt x="40" y="1103"/>
                  </a:lnTo>
                  <a:lnTo>
                    <a:pt x="22" y="1138"/>
                  </a:lnTo>
                  <a:lnTo>
                    <a:pt x="0" y="1170"/>
                  </a:lnTo>
                  <a:lnTo>
                    <a:pt x="11" y="1177"/>
                  </a:lnTo>
                  <a:lnTo>
                    <a:pt x="38" y="1188"/>
                  </a:lnTo>
                  <a:lnTo>
                    <a:pt x="81" y="1200"/>
                  </a:lnTo>
                  <a:lnTo>
                    <a:pt x="108" y="1206"/>
                  </a:lnTo>
                  <a:lnTo>
                    <a:pt x="138" y="1211"/>
                  </a:lnTo>
                  <a:lnTo>
                    <a:pt x="173" y="1216"/>
                  </a:lnTo>
                  <a:lnTo>
                    <a:pt x="210" y="1220"/>
                  </a:lnTo>
                  <a:lnTo>
                    <a:pt x="254" y="1220"/>
                  </a:lnTo>
                  <a:lnTo>
                    <a:pt x="297" y="1216"/>
                  </a:lnTo>
                  <a:lnTo>
                    <a:pt x="346" y="1211"/>
                  </a:lnTo>
                  <a:lnTo>
                    <a:pt x="397" y="1204"/>
                  </a:lnTo>
                  <a:lnTo>
                    <a:pt x="451" y="1190"/>
                  </a:lnTo>
                  <a:lnTo>
                    <a:pt x="507" y="1170"/>
                  </a:lnTo>
                  <a:lnTo>
                    <a:pt x="518" y="1142"/>
                  </a:lnTo>
                  <a:lnTo>
                    <a:pt x="546" y="1057"/>
                  </a:lnTo>
                  <a:lnTo>
                    <a:pt x="559" y="999"/>
                  </a:lnTo>
                  <a:lnTo>
                    <a:pt x="575" y="931"/>
                  </a:lnTo>
                  <a:lnTo>
                    <a:pt x="589" y="852"/>
                  </a:lnTo>
                  <a:lnTo>
                    <a:pt x="599" y="769"/>
                  </a:lnTo>
                  <a:lnTo>
                    <a:pt x="608" y="680"/>
                  </a:lnTo>
                  <a:lnTo>
                    <a:pt x="610" y="585"/>
                  </a:lnTo>
                  <a:lnTo>
                    <a:pt x="608" y="537"/>
                  </a:lnTo>
                  <a:lnTo>
                    <a:pt x="608" y="488"/>
                  </a:lnTo>
                  <a:lnTo>
                    <a:pt x="602" y="440"/>
                  </a:lnTo>
                  <a:lnTo>
                    <a:pt x="597" y="391"/>
                  </a:lnTo>
                  <a:lnTo>
                    <a:pt x="589" y="340"/>
                  </a:lnTo>
                  <a:lnTo>
                    <a:pt x="578" y="292"/>
                  </a:lnTo>
                  <a:lnTo>
                    <a:pt x="564" y="240"/>
                  </a:lnTo>
                  <a:lnTo>
                    <a:pt x="551" y="191"/>
                  </a:lnTo>
                  <a:lnTo>
                    <a:pt x="532" y="143"/>
                  </a:lnTo>
                  <a:lnTo>
                    <a:pt x="511" y="95"/>
                  </a:lnTo>
                  <a:lnTo>
                    <a:pt x="486" y="49"/>
                  </a:lnTo>
                  <a:lnTo>
                    <a:pt x="45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3d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241720" y="3411360"/>
              <a:ext cx="99720" cy="187560"/>
            </a:xfrm>
            <a:custGeom>
              <a:avLst/>
              <a:gdLst/>
              <a:ahLst/>
              <a:rect l="l" t="t" r="r" b="b"/>
              <a:pathLst>
                <a:path w="624" h="1234">
                  <a:moveTo>
                    <a:pt x="36" y="7"/>
                  </a:moveTo>
                  <a:lnTo>
                    <a:pt x="28" y="10"/>
                  </a:lnTo>
                  <a:lnTo>
                    <a:pt x="39" y="51"/>
                  </a:lnTo>
                  <a:lnTo>
                    <a:pt x="57" y="129"/>
                  </a:lnTo>
                  <a:lnTo>
                    <a:pt x="80" y="239"/>
                  </a:lnTo>
                  <a:lnTo>
                    <a:pt x="90" y="301"/>
                  </a:lnTo>
                  <a:lnTo>
                    <a:pt x="98" y="371"/>
                  </a:lnTo>
                  <a:lnTo>
                    <a:pt x="108" y="444"/>
                  </a:lnTo>
                  <a:lnTo>
                    <a:pt x="114" y="520"/>
                  </a:lnTo>
                  <a:lnTo>
                    <a:pt x="119" y="592"/>
                  </a:lnTo>
                  <a:lnTo>
                    <a:pt x="119" y="668"/>
                  </a:lnTo>
                  <a:lnTo>
                    <a:pt x="119" y="739"/>
                  </a:lnTo>
                  <a:lnTo>
                    <a:pt x="114" y="808"/>
                  </a:lnTo>
                  <a:lnTo>
                    <a:pt x="106" y="876"/>
                  </a:lnTo>
                  <a:lnTo>
                    <a:pt x="96" y="940"/>
                  </a:lnTo>
                  <a:lnTo>
                    <a:pt x="80" y="1006"/>
                  </a:lnTo>
                  <a:lnTo>
                    <a:pt x="57" y="1064"/>
                  </a:lnTo>
                  <a:lnTo>
                    <a:pt x="46" y="1094"/>
                  </a:lnTo>
                  <a:lnTo>
                    <a:pt x="34" y="1121"/>
                  </a:lnTo>
                  <a:lnTo>
                    <a:pt x="17" y="1149"/>
                  </a:lnTo>
                  <a:lnTo>
                    <a:pt x="0" y="1172"/>
                  </a:lnTo>
                  <a:lnTo>
                    <a:pt x="0" y="1181"/>
                  </a:lnTo>
                  <a:lnTo>
                    <a:pt x="4" y="1186"/>
                  </a:lnTo>
                  <a:lnTo>
                    <a:pt x="20" y="1195"/>
                  </a:lnTo>
                  <a:lnTo>
                    <a:pt x="41" y="1202"/>
                  </a:lnTo>
                  <a:lnTo>
                    <a:pt x="68" y="1211"/>
                  </a:lnTo>
                  <a:lnTo>
                    <a:pt x="101" y="1218"/>
                  </a:lnTo>
                  <a:lnTo>
                    <a:pt x="144" y="1227"/>
                  </a:lnTo>
                  <a:lnTo>
                    <a:pt x="190" y="1234"/>
                  </a:lnTo>
                  <a:lnTo>
                    <a:pt x="244" y="1234"/>
                  </a:lnTo>
                  <a:lnTo>
                    <a:pt x="306" y="1232"/>
                  </a:lnTo>
                  <a:lnTo>
                    <a:pt x="370" y="1223"/>
                  </a:lnTo>
                  <a:lnTo>
                    <a:pt x="405" y="1218"/>
                  </a:lnTo>
                  <a:lnTo>
                    <a:pt x="441" y="1211"/>
                  </a:lnTo>
                  <a:lnTo>
                    <a:pt x="478" y="1200"/>
                  </a:lnTo>
                  <a:lnTo>
                    <a:pt x="517" y="1186"/>
                  </a:lnTo>
                  <a:lnTo>
                    <a:pt x="522" y="1181"/>
                  </a:lnTo>
                  <a:lnTo>
                    <a:pt x="538" y="1135"/>
                  </a:lnTo>
                  <a:lnTo>
                    <a:pt x="554" y="1078"/>
                  </a:lnTo>
                  <a:lnTo>
                    <a:pt x="573" y="1006"/>
                  </a:lnTo>
                  <a:lnTo>
                    <a:pt x="591" y="919"/>
                  </a:lnTo>
                  <a:lnTo>
                    <a:pt x="608" y="820"/>
                  </a:lnTo>
                  <a:lnTo>
                    <a:pt x="614" y="765"/>
                  </a:lnTo>
                  <a:lnTo>
                    <a:pt x="619" y="709"/>
                  </a:lnTo>
                  <a:lnTo>
                    <a:pt x="621" y="652"/>
                  </a:lnTo>
                  <a:lnTo>
                    <a:pt x="624" y="590"/>
                  </a:lnTo>
                  <a:lnTo>
                    <a:pt x="621" y="520"/>
                  </a:lnTo>
                  <a:lnTo>
                    <a:pt x="616" y="444"/>
                  </a:lnTo>
                  <a:lnTo>
                    <a:pt x="605" y="369"/>
                  </a:lnTo>
                  <a:lnTo>
                    <a:pt x="591" y="295"/>
                  </a:lnTo>
                  <a:lnTo>
                    <a:pt x="570" y="221"/>
                  </a:lnTo>
                  <a:lnTo>
                    <a:pt x="546" y="147"/>
                  </a:lnTo>
                  <a:lnTo>
                    <a:pt x="529" y="110"/>
                  </a:lnTo>
                  <a:lnTo>
                    <a:pt x="511" y="74"/>
                  </a:lnTo>
                  <a:lnTo>
                    <a:pt x="492" y="39"/>
                  </a:lnTo>
                  <a:lnTo>
                    <a:pt x="473" y="5"/>
                  </a:lnTo>
                  <a:lnTo>
                    <a:pt x="465" y="0"/>
                  </a:lnTo>
                  <a:lnTo>
                    <a:pt x="36" y="0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36" y="7"/>
                  </a:lnTo>
                  <a:lnTo>
                    <a:pt x="36" y="16"/>
                  </a:lnTo>
                  <a:lnTo>
                    <a:pt x="465" y="16"/>
                  </a:lnTo>
                  <a:lnTo>
                    <a:pt x="465" y="7"/>
                  </a:lnTo>
                  <a:lnTo>
                    <a:pt x="460" y="12"/>
                  </a:lnTo>
                  <a:lnTo>
                    <a:pt x="478" y="48"/>
                  </a:lnTo>
                  <a:lnTo>
                    <a:pt x="497" y="83"/>
                  </a:lnTo>
                  <a:lnTo>
                    <a:pt x="513" y="118"/>
                  </a:lnTo>
                  <a:lnTo>
                    <a:pt x="529" y="152"/>
                  </a:lnTo>
                  <a:lnTo>
                    <a:pt x="554" y="226"/>
                  </a:lnTo>
                  <a:lnTo>
                    <a:pt x="575" y="299"/>
                  </a:lnTo>
                  <a:lnTo>
                    <a:pt x="589" y="371"/>
                  </a:lnTo>
                  <a:lnTo>
                    <a:pt x="600" y="447"/>
                  </a:lnTo>
                  <a:lnTo>
                    <a:pt x="605" y="520"/>
                  </a:lnTo>
                  <a:lnTo>
                    <a:pt x="608" y="590"/>
                  </a:lnTo>
                  <a:lnTo>
                    <a:pt x="605" y="649"/>
                  </a:lnTo>
                  <a:lnTo>
                    <a:pt x="603" y="709"/>
                  </a:lnTo>
                  <a:lnTo>
                    <a:pt x="598" y="762"/>
                  </a:lnTo>
                  <a:lnTo>
                    <a:pt x="591" y="817"/>
                  </a:lnTo>
                  <a:lnTo>
                    <a:pt x="575" y="916"/>
                  </a:lnTo>
                  <a:lnTo>
                    <a:pt x="557" y="1002"/>
                  </a:lnTo>
                  <a:lnTo>
                    <a:pt x="538" y="1075"/>
                  </a:lnTo>
                  <a:lnTo>
                    <a:pt x="522" y="1129"/>
                  </a:lnTo>
                  <a:lnTo>
                    <a:pt x="511" y="1165"/>
                  </a:lnTo>
                  <a:lnTo>
                    <a:pt x="508" y="1175"/>
                  </a:lnTo>
                  <a:lnTo>
                    <a:pt x="513" y="1177"/>
                  </a:lnTo>
                  <a:lnTo>
                    <a:pt x="511" y="1170"/>
                  </a:lnTo>
                  <a:lnTo>
                    <a:pt x="473" y="1184"/>
                  </a:lnTo>
                  <a:lnTo>
                    <a:pt x="439" y="1195"/>
                  </a:lnTo>
                  <a:lnTo>
                    <a:pt x="368" y="1207"/>
                  </a:lnTo>
                  <a:lnTo>
                    <a:pt x="303" y="1216"/>
                  </a:lnTo>
                  <a:lnTo>
                    <a:pt x="244" y="1218"/>
                  </a:lnTo>
                  <a:lnTo>
                    <a:pt x="193" y="1218"/>
                  </a:lnTo>
                  <a:lnTo>
                    <a:pt x="147" y="1211"/>
                  </a:lnTo>
                  <a:lnTo>
                    <a:pt x="106" y="1205"/>
                  </a:lnTo>
                  <a:lnTo>
                    <a:pt x="71" y="1195"/>
                  </a:lnTo>
                  <a:lnTo>
                    <a:pt x="46" y="1186"/>
                  </a:lnTo>
                  <a:lnTo>
                    <a:pt x="28" y="1177"/>
                  </a:lnTo>
                  <a:lnTo>
                    <a:pt x="14" y="1172"/>
                  </a:lnTo>
                  <a:lnTo>
                    <a:pt x="11" y="1170"/>
                  </a:lnTo>
                  <a:lnTo>
                    <a:pt x="6" y="1177"/>
                  </a:lnTo>
                  <a:lnTo>
                    <a:pt x="14" y="1184"/>
                  </a:lnTo>
                  <a:lnTo>
                    <a:pt x="30" y="1156"/>
                  </a:lnTo>
                  <a:lnTo>
                    <a:pt x="46" y="1129"/>
                  </a:lnTo>
                  <a:lnTo>
                    <a:pt x="60" y="1100"/>
                  </a:lnTo>
                  <a:lnTo>
                    <a:pt x="73" y="1070"/>
                  </a:lnTo>
                  <a:lnTo>
                    <a:pt x="96" y="1011"/>
                  </a:lnTo>
                  <a:lnTo>
                    <a:pt x="112" y="946"/>
                  </a:lnTo>
                  <a:lnTo>
                    <a:pt x="122" y="878"/>
                  </a:lnTo>
                  <a:lnTo>
                    <a:pt x="131" y="808"/>
                  </a:lnTo>
                  <a:lnTo>
                    <a:pt x="136" y="739"/>
                  </a:lnTo>
                  <a:lnTo>
                    <a:pt x="136" y="668"/>
                  </a:lnTo>
                  <a:lnTo>
                    <a:pt x="136" y="592"/>
                  </a:lnTo>
                  <a:lnTo>
                    <a:pt x="131" y="520"/>
                  </a:lnTo>
                  <a:lnTo>
                    <a:pt x="122" y="417"/>
                  </a:lnTo>
                  <a:lnTo>
                    <a:pt x="108" y="323"/>
                  </a:lnTo>
                  <a:lnTo>
                    <a:pt x="96" y="237"/>
                  </a:lnTo>
                  <a:lnTo>
                    <a:pt x="80" y="159"/>
                  </a:lnTo>
                  <a:lnTo>
                    <a:pt x="52" y="48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6" y="16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252880" y="3413160"/>
              <a:ext cx="101520" cy="185760"/>
            </a:xfrm>
            <a:custGeom>
              <a:avLst/>
              <a:gdLst/>
              <a:ahLst/>
              <a:rect l="l" t="t" r="r" b="b"/>
              <a:pathLst>
                <a:path w="621" h="1227">
                  <a:moveTo>
                    <a:pt x="41" y="0"/>
                  </a:moveTo>
                  <a:lnTo>
                    <a:pt x="48" y="38"/>
                  </a:lnTo>
                  <a:lnTo>
                    <a:pt x="71" y="135"/>
                  </a:lnTo>
                  <a:lnTo>
                    <a:pt x="84" y="203"/>
                  </a:lnTo>
                  <a:lnTo>
                    <a:pt x="94" y="281"/>
                  </a:lnTo>
                  <a:lnTo>
                    <a:pt x="108" y="367"/>
                  </a:lnTo>
                  <a:lnTo>
                    <a:pt x="117" y="459"/>
                  </a:lnTo>
                  <a:lnTo>
                    <a:pt x="124" y="555"/>
                  </a:lnTo>
                  <a:lnTo>
                    <a:pt x="127" y="656"/>
                  </a:lnTo>
                  <a:lnTo>
                    <a:pt x="124" y="755"/>
                  </a:lnTo>
                  <a:lnTo>
                    <a:pt x="119" y="804"/>
                  </a:lnTo>
                  <a:lnTo>
                    <a:pt x="117" y="852"/>
                  </a:lnTo>
                  <a:lnTo>
                    <a:pt x="108" y="901"/>
                  </a:lnTo>
                  <a:lnTo>
                    <a:pt x="100" y="947"/>
                  </a:lnTo>
                  <a:lnTo>
                    <a:pt x="89" y="995"/>
                  </a:lnTo>
                  <a:lnTo>
                    <a:pt x="76" y="1039"/>
                  </a:lnTo>
                  <a:lnTo>
                    <a:pt x="60" y="1082"/>
                  </a:lnTo>
                  <a:lnTo>
                    <a:pt x="43" y="1122"/>
                  </a:lnTo>
                  <a:lnTo>
                    <a:pt x="25" y="1160"/>
                  </a:lnTo>
                  <a:lnTo>
                    <a:pt x="0" y="1198"/>
                  </a:lnTo>
                  <a:lnTo>
                    <a:pt x="11" y="1200"/>
                  </a:lnTo>
                  <a:lnTo>
                    <a:pt x="38" y="1209"/>
                  </a:lnTo>
                  <a:lnTo>
                    <a:pt x="84" y="1220"/>
                  </a:lnTo>
                  <a:lnTo>
                    <a:pt x="144" y="1225"/>
                  </a:lnTo>
                  <a:lnTo>
                    <a:pt x="181" y="1227"/>
                  </a:lnTo>
                  <a:lnTo>
                    <a:pt x="219" y="1227"/>
                  </a:lnTo>
                  <a:lnTo>
                    <a:pt x="262" y="1227"/>
                  </a:lnTo>
                  <a:lnTo>
                    <a:pt x="308" y="1222"/>
                  </a:lnTo>
                  <a:lnTo>
                    <a:pt x="356" y="1214"/>
                  </a:lnTo>
                  <a:lnTo>
                    <a:pt x="407" y="1204"/>
                  </a:lnTo>
                  <a:lnTo>
                    <a:pt x="464" y="1190"/>
                  </a:lnTo>
                  <a:lnTo>
                    <a:pt x="522" y="1170"/>
                  </a:lnTo>
                  <a:lnTo>
                    <a:pt x="532" y="1142"/>
                  </a:lnTo>
                  <a:lnTo>
                    <a:pt x="556" y="1057"/>
                  </a:lnTo>
                  <a:lnTo>
                    <a:pt x="570" y="999"/>
                  </a:lnTo>
                  <a:lnTo>
                    <a:pt x="586" y="931"/>
                  </a:lnTo>
                  <a:lnTo>
                    <a:pt x="600" y="852"/>
                  </a:lnTo>
                  <a:lnTo>
                    <a:pt x="610" y="769"/>
                  </a:lnTo>
                  <a:lnTo>
                    <a:pt x="618" y="680"/>
                  </a:lnTo>
                  <a:lnTo>
                    <a:pt x="621" y="585"/>
                  </a:lnTo>
                  <a:lnTo>
                    <a:pt x="621" y="537"/>
                  </a:lnTo>
                  <a:lnTo>
                    <a:pt x="618" y="488"/>
                  </a:lnTo>
                  <a:lnTo>
                    <a:pt x="613" y="440"/>
                  </a:lnTo>
                  <a:lnTo>
                    <a:pt x="607" y="391"/>
                  </a:lnTo>
                  <a:lnTo>
                    <a:pt x="600" y="340"/>
                  </a:lnTo>
                  <a:lnTo>
                    <a:pt x="589" y="292"/>
                  </a:lnTo>
                  <a:lnTo>
                    <a:pt x="578" y="240"/>
                  </a:lnTo>
                  <a:lnTo>
                    <a:pt x="561" y="191"/>
                  </a:lnTo>
                  <a:lnTo>
                    <a:pt x="543" y="143"/>
                  </a:lnTo>
                  <a:lnTo>
                    <a:pt x="522" y="95"/>
                  </a:lnTo>
                  <a:lnTo>
                    <a:pt x="499" y="49"/>
                  </a:lnTo>
                  <a:lnTo>
                    <a:pt x="473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8f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252880" y="3411360"/>
              <a:ext cx="102960" cy="189000"/>
            </a:xfrm>
            <a:custGeom>
              <a:avLst/>
              <a:gdLst/>
              <a:ahLst/>
              <a:rect l="l" t="t" r="r" b="b"/>
              <a:pathLst>
                <a:path w="638" h="1243">
                  <a:moveTo>
                    <a:pt x="49" y="7"/>
                  </a:moveTo>
                  <a:lnTo>
                    <a:pt x="40" y="10"/>
                  </a:lnTo>
                  <a:lnTo>
                    <a:pt x="54" y="67"/>
                  </a:lnTo>
                  <a:lnTo>
                    <a:pt x="76" y="169"/>
                  </a:lnTo>
                  <a:lnTo>
                    <a:pt x="86" y="237"/>
                  </a:lnTo>
                  <a:lnTo>
                    <a:pt x="100" y="313"/>
                  </a:lnTo>
                  <a:lnTo>
                    <a:pt x="108" y="396"/>
                  </a:lnTo>
                  <a:lnTo>
                    <a:pt x="119" y="482"/>
                  </a:lnTo>
                  <a:lnTo>
                    <a:pt x="125" y="574"/>
                  </a:lnTo>
                  <a:lnTo>
                    <a:pt x="127" y="668"/>
                  </a:lnTo>
                  <a:lnTo>
                    <a:pt x="125" y="741"/>
                  </a:lnTo>
                  <a:lnTo>
                    <a:pt x="119" y="813"/>
                  </a:lnTo>
                  <a:lnTo>
                    <a:pt x="111" y="887"/>
                  </a:lnTo>
                  <a:lnTo>
                    <a:pt x="100" y="956"/>
                  </a:lnTo>
                  <a:lnTo>
                    <a:pt x="81" y="1024"/>
                  </a:lnTo>
                  <a:lnTo>
                    <a:pt x="63" y="1087"/>
                  </a:lnTo>
                  <a:lnTo>
                    <a:pt x="49" y="1116"/>
                  </a:lnTo>
                  <a:lnTo>
                    <a:pt x="35" y="1145"/>
                  </a:lnTo>
                  <a:lnTo>
                    <a:pt x="19" y="1172"/>
                  </a:lnTo>
                  <a:lnTo>
                    <a:pt x="3" y="1200"/>
                  </a:lnTo>
                  <a:lnTo>
                    <a:pt x="0" y="1207"/>
                  </a:lnTo>
                  <a:lnTo>
                    <a:pt x="5" y="1213"/>
                  </a:lnTo>
                  <a:lnTo>
                    <a:pt x="19" y="1218"/>
                  </a:lnTo>
                  <a:lnTo>
                    <a:pt x="63" y="1229"/>
                  </a:lnTo>
                  <a:lnTo>
                    <a:pt x="92" y="1234"/>
                  </a:lnTo>
                  <a:lnTo>
                    <a:pt x="127" y="1237"/>
                  </a:lnTo>
                  <a:lnTo>
                    <a:pt x="168" y="1243"/>
                  </a:lnTo>
                  <a:lnTo>
                    <a:pt x="213" y="1243"/>
                  </a:lnTo>
                  <a:lnTo>
                    <a:pt x="281" y="1240"/>
                  </a:lnTo>
                  <a:lnTo>
                    <a:pt x="318" y="1237"/>
                  </a:lnTo>
                  <a:lnTo>
                    <a:pt x="357" y="1232"/>
                  </a:lnTo>
                  <a:lnTo>
                    <a:pt x="399" y="1223"/>
                  </a:lnTo>
                  <a:lnTo>
                    <a:pt x="440" y="1213"/>
                  </a:lnTo>
                  <a:lnTo>
                    <a:pt x="486" y="1200"/>
                  </a:lnTo>
                  <a:lnTo>
                    <a:pt x="532" y="1186"/>
                  </a:lnTo>
                  <a:lnTo>
                    <a:pt x="537" y="1181"/>
                  </a:lnTo>
                  <a:lnTo>
                    <a:pt x="551" y="1135"/>
                  </a:lnTo>
                  <a:lnTo>
                    <a:pt x="567" y="1078"/>
                  </a:lnTo>
                  <a:lnTo>
                    <a:pt x="586" y="1006"/>
                  </a:lnTo>
                  <a:lnTo>
                    <a:pt x="604" y="919"/>
                  </a:lnTo>
                  <a:lnTo>
                    <a:pt x="621" y="820"/>
                  </a:lnTo>
                  <a:lnTo>
                    <a:pt x="629" y="765"/>
                  </a:lnTo>
                  <a:lnTo>
                    <a:pt x="632" y="709"/>
                  </a:lnTo>
                  <a:lnTo>
                    <a:pt x="638" y="652"/>
                  </a:lnTo>
                  <a:lnTo>
                    <a:pt x="638" y="590"/>
                  </a:lnTo>
                  <a:lnTo>
                    <a:pt x="634" y="520"/>
                  </a:lnTo>
                  <a:lnTo>
                    <a:pt x="629" y="444"/>
                  </a:lnTo>
                  <a:lnTo>
                    <a:pt x="621" y="369"/>
                  </a:lnTo>
                  <a:lnTo>
                    <a:pt x="604" y="295"/>
                  </a:lnTo>
                  <a:lnTo>
                    <a:pt x="586" y="221"/>
                  </a:lnTo>
                  <a:lnTo>
                    <a:pt x="559" y="147"/>
                  </a:lnTo>
                  <a:lnTo>
                    <a:pt x="543" y="110"/>
                  </a:lnTo>
                  <a:lnTo>
                    <a:pt x="527" y="74"/>
                  </a:lnTo>
                  <a:lnTo>
                    <a:pt x="507" y="39"/>
                  </a:lnTo>
                  <a:lnTo>
                    <a:pt x="486" y="5"/>
                  </a:lnTo>
                  <a:lnTo>
                    <a:pt x="481" y="0"/>
                  </a:lnTo>
                  <a:lnTo>
                    <a:pt x="49" y="0"/>
                  </a:lnTo>
                  <a:lnTo>
                    <a:pt x="40" y="5"/>
                  </a:lnTo>
                  <a:lnTo>
                    <a:pt x="40" y="10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481" y="16"/>
                  </a:lnTo>
                  <a:lnTo>
                    <a:pt x="481" y="7"/>
                  </a:lnTo>
                  <a:lnTo>
                    <a:pt x="472" y="12"/>
                  </a:lnTo>
                  <a:lnTo>
                    <a:pt x="494" y="48"/>
                  </a:lnTo>
                  <a:lnTo>
                    <a:pt x="510" y="83"/>
                  </a:lnTo>
                  <a:lnTo>
                    <a:pt x="530" y="118"/>
                  </a:lnTo>
                  <a:lnTo>
                    <a:pt x="543" y="152"/>
                  </a:lnTo>
                  <a:lnTo>
                    <a:pt x="569" y="226"/>
                  </a:lnTo>
                  <a:lnTo>
                    <a:pt x="588" y="299"/>
                  </a:lnTo>
                  <a:lnTo>
                    <a:pt x="604" y="371"/>
                  </a:lnTo>
                  <a:lnTo>
                    <a:pt x="613" y="447"/>
                  </a:lnTo>
                  <a:lnTo>
                    <a:pt x="618" y="520"/>
                  </a:lnTo>
                  <a:lnTo>
                    <a:pt x="621" y="590"/>
                  </a:lnTo>
                  <a:lnTo>
                    <a:pt x="621" y="649"/>
                  </a:lnTo>
                  <a:lnTo>
                    <a:pt x="615" y="709"/>
                  </a:lnTo>
                  <a:lnTo>
                    <a:pt x="613" y="762"/>
                  </a:lnTo>
                  <a:lnTo>
                    <a:pt x="604" y="817"/>
                  </a:lnTo>
                  <a:lnTo>
                    <a:pt x="588" y="916"/>
                  </a:lnTo>
                  <a:lnTo>
                    <a:pt x="572" y="1002"/>
                  </a:lnTo>
                  <a:lnTo>
                    <a:pt x="553" y="1075"/>
                  </a:lnTo>
                  <a:lnTo>
                    <a:pt x="537" y="1129"/>
                  </a:lnTo>
                  <a:lnTo>
                    <a:pt x="527" y="1165"/>
                  </a:lnTo>
                  <a:lnTo>
                    <a:pt x="521" y="1175"/>
                  </a:lnTo>
                  <a:lnTo>
                    <a:pt x="530" y="1177"/>
                  </a:lnTo>
                  <a:lnTo>
                    <a:pt x="527" y="1170"/>
                  </a:lnTo>
                  <a:lnTo>
                    <a:pt x="481" y="1186"/>
                  </a:lnTo>
                  <a:lnTo>
                    <a:pt x="438" y="1197"/>
                  </a:lnTo>
                  <a:lnTo>
                    <a:pt x="394" y="1207"/>
                  </a:lnTo>
                  <a:lnTo>
                    <a:pt x="353" y="1216"/>
                  </a:lnTo>
                  <a:lnTo>
                    <a:pt x="316" y="1221"/>
                  </a:lnTo>
                  <a:lnTo>
                    <a:pt x="281" y="1223"/>
                  </a:lnTo>
                  <a:lnTo>
                    <a:pt x="213" y="1227"/>
                  </a:lnTo>
                  <a:lnTo>
                    <a:pt x="168" y="1227"/>
                  </a:lnTo>
                  <a:lnTo>
                    <a:pt x="127" y="1223"/>
                  </a:lnTo>
                  <a:lnTo>
                    <a:pt x="95" y="1218"/>
                  </a:lnTo>
                  <a:lnTo>
                    <a:pt x="65" y="1213"/>
                  </a:lnTo>
                  <a:lnTo>
                    <a:pt x="24" y="1202"/>
                  </a:lnTo>
                  <a:lnTo>
                    <a:pt x="17" y="1200"/>
                  </a:lnTo>
                  <a:lnTo>
                    <a:pt x="12" y="1197"/>
                  </a:lnTo>
                  <a:lnTo>
                    <a:pt x="8" y="1205"/>
                  </a:lnTo>
                  <a:lnTo>
                    <a:pt x="17" y="1211"/>
                  </a:lnTo>
                  <a:lnTo>
                    <a:pt x="33" y="1181"/>
                  </a:lnTo>
                  <a:lnTo>
                    <a:pt x="49" y="1154"/>
                  </a:lnTo>
                  <a:lnTo>
                    <a:pt x="63" y="1124"/>
                  </a:lnTo>
                  <a:lnTo>
                    <a:pt x="76" y="1092"/>
                  </a:lnTo>
                  <a:lnTo>
                    <a:pt x="97" y="1027"/>
                  </a:lnTo>
                  <a:lnTo>
                    <a:pt x="116" y="960"/>
                  </a:lnTo>
                  <a:lnTo>
                    <a:pt x="127" y="889"/>
                  </a:lnTo>
                  <a:lnTo>
                    <a:pt x="135" y="817"/>
                  </a:lnTo>
                  <a:lnTo>
                    <a:pt x="141" y="741"/>
                  </a:lnTo>
                  <a:lnTo>
                    <a:pt x="143" y="668"/>
                  </a:lnTo>
                  <a:lnTo>
                    <a:pt x="141" y="603"/>
                  </a:lnTo>
                  <a:lnTo>
                    <a:pt x="138" y="541"/>
                  </a:lnTo>
                  <a:lnTo>
                    <a:pt x="130" y="423"/>
                  </a:lnTo>
                  <a:lnTo>
                    <a:pt x="116" y="309"/>
                  </a:lnTo>
                  <a:lnTo>
                    <a:pt x="100" y="212"/>
                  </a:lnTo>
                  <a:lnTo>
                    <a:pt x="84" y="126"/>
                  </a:lnTo>
                  <a:lnTo>
                    <a:pt x="70" y="62"/>
                  </a:lnTo>
                  <a:lnTo>
                    <a:pt x="56" y="7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255760" y="3512880"/>
              <a:ext cx="96840" cy="86040"/>
            </a:xfrm>
            <a:custGeom>
              <a:avLst/>
              <a:gdLst/>
              <a:ahLst/>
              <a:rect l="l" t="t" r="r" b="b"/>
              <a:pathLst>
                <a:path w="599" h="567">
                  <a:moveTo>
                    <a:pt x="599" y="0"/>
                  </a:moveTo>
                  <a:lnTo>
                    <a:pt x="570" y="29"/>
                  </a:lnTo>
                  <a:lnTo>
                    <a:pt x="540" y="56"/>
                  </a:lnTo>
                  <a:lnTo>
                    <a:pt x="508" y="81"/>
                  </a:lnTo>
                  <a:lnTo>
                    <a:pt x="475" y="102"/>
                  </a:lnTo>
                  <a:lnTo>
                    <a:pt x="443" y="119"/>
                  </a:lnTo>
                  <a:lnTo>
                    <a:pt x="405" y="132"/>
                  </a:lnTo>
                  <a:lnTo>
                    <a:pt x="367" y="137"/>
                  </a:lnTo>
                  <a:lnTo>
                    <a:pt x="329" y="141"/>
                  </a:lnTo>
                  <a:lnTo>
                    <a:pt x="305" y="141"/>
                  </a:lnTo>
                  <a:lnTo>
                    <a:pt x="278" y="137"/>
                  </a:lnTo>
                  <a:lnTo>
                    <a:pt x="251" y="132"/>
                  </a:lnTo>
                  <a:lnTo>
                    <a:pt x="224" y="125"/>
                  </a:lnTo>
                  <a:lnTo>
                    <a:pt x="197" y="107"/>
                  </a:lnTo>
                  <a:lnTo>
                    <a:pt x="170" y="91"/>
                  </a:lnTo>
                  <a:lnTo>
                    <a:pt x="146" y="73"/>
                  </a:lnTo>
                  <a:lnTo>
                    <a:pt x="119" y="51"/>
                  </a:lnTo>
                  <a:lnTo>
                    <a:pt x="116" y="119"/>
                  </a:lnTo>
                  <a:lnTo>
                    <a:pt x="110" y="183"/>
                  </a:lnTo>
                  <a:lnTo>
                    <a:pt x="103" y="251"/>
                  </a:lnTo>
                  <a:lnTo>
                    <a:pt x="89" y="312"/>
                  </a:lnTo>
                  <a:lnTo>
                    <a:pt x="73" y="375"/>
                  </a:lnTo>
                  <a:lnTo>
                    <a:pt x="54" y="434"/>
                  </a:lnTo>
                  <a:lnTo>
                    <a:pt x="29" y="489"/>
                  </a:lnTo>
                  <a:lnTo>
                    <a:pt x="13" y="515"/>
                  </a:lnTo>
                  <a:lnTo>
                    <a:pt x="0" y="540"/>
                  </a:lnTo>
                  <a:lnTo>
                    <a:pt x="2" y="542"/>
                  </a:lnTo>
                  <a:lnTo>
                    <a:pt x="43" y="553"/>
                  </a:lnTo>
                  <a:lnTo>
                    <a:pt x="73" y="558"/>
                  </a:lnTo>
                  <a:lnTo>
                    <a:pt x="105" y="563"/>
                  </a:lnTo>
                  <a:lnTo>
                    <a:pt x="146" y="567"/>
                  </a:lnTo>
                  <a:lnTo>
                    <a:pt x="191" y="567"/>
                  </a:lnTo>
                  <a:lnTo>
                    <a:pt x="257" y="563"/>
                  </a:lnTo>
                  <a:lnTo>
                    <a:pt x="294" y="561"/>
                  </a:lnTo>
                  <a:lnTo>
                    <a:pt x="331" y="556"/>
                  </a:lnTo>
                  <a:lnTo>
                    <a:pt x="372" y="547"/>
                  </a:lnTo>
                  <a:lnTo>
                    <a:pt x="413" y="540"/>
                  </a:lnTo>
                  <a:lnTo>
                    <a:pt x="456" y="526"/>
                  </a:lnTo>
                  <a:lnTo>
                    <a:pt x="499" y="512"/>
                  </a:lnTo>
                  <a:lnTo>
                    <a:pt x="505" y="505"/>
                  </a:lnTo>
                  <a:lnTo>
                    <a:pt x="515" y="469"/>
                  </a:lnTo>
                  <a:lnTo>
                    <a:pt x="531" y="415"/>
                  </a:lnTo>
                  <a:lnTo>
                    <a:pt x="550" y="342"/>
                  </a:lnTo>
                  <a:lnTo>
                    <a:pt x="564" y="270"/>
                  </a:lnTo>
                  <a:lnTo>
                    <a:pt x="580" y="186"/>
                  </a:lnTo>
                  <a:lnTo>
                    <a:pt x="591" y="95"/>
                  </a:lnTo>
                  <a:lnTo>
                    <a:pt x="599" y="0"/>
                  </a:lnTo>
                  <a:close/>
                </a:path>
              </a:pathLst>
            </a:custGeom>
            <a:solidFill>
              <a:srgbClr val="f2e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52880" y="3511440"/>
              <a:ext cx="101520" cy="87480"/>
            </a:xfrm>
            <a:custGeom>
              <a:avLst/>
              <a:gdLst/>
              <a:ahLst/>
              <a:rect l="l" t="t" r="r" b="b"/>
              <a:pathLst>
                <a:path w="618" h="585">
                  <a:moveTo>
                    <a:pt x="618" y="0"/>
                  </a:moveTo>
                  <a:lnTo>
                    <a:pt x="613" y="11"/>
                  </a:lnTo>
                  <a:lnTo>
                    <a:pt x="605" y="106"/>
                  </a:lnTo>
                  <a:lnTo>
                    <a:pt x="594" y="197"/>
                  </a:lnTo>
                  <a:lnTo>
                    <a:pt x="578" y="281"/>
                  </a:lnTo>
                  <a:lnTo>
                    <a:pt x="564" y="353"/>
                  </a:lnTo>
                  <a:lnTo>
                    <a:pt x="545" y="426"/>
                  </a:lnTo>
                  <a:lnTo>
                    <a:pt x="529" y="480"/>
                  </a:lnTo>
                  <a:lnTo>
                    <a:pt x="519" y="516"/>
                  </a:lnTo>
                  <a:lnTo>
                    <a:pt x="513" y="523"/>
                  </a:lnTo>
                  <a:lnTo>
                    <a:pt x="470" y="537"/>
                  </a:lnTo>
                  <a:lnTo>
                    <a:pt x="427" y="551"/>
                  </a:lnTo>
                  <a:lnTo>
                    <a:pt x="386" y="558"/>
                  </a:lnTo>
                  <a:lnTo>
                    <a:pt x="345" y="567"/>
                  </a:lnTo>
                  <a:lnTo>
                    <a:pt x="308" y="572"/>
                  </a:lnTo>
                  <a:lnTo>
                    <a:pt x="271" y="574"/>
                  </a:lnTo>
                  <a:lnTo>
                    <a:pt x="205" y="578"/>
                  </a:lnTo>
                  <a:lnTo>
                    <a:pt x="160" y="578"/>
                  </a:lnTo>
                  <a:lnTo>
                    <a:pt x="119" y="574"/>
                  </a:lnTo>
                  <a:lnTo>
                    <a:pt x="87" y="569"/>
                  </a:lnTo>
                  <a:lnTo>
                    <a:pt x="57" y="564"/>
                  </a:lnTo>
                  <a:lnTo>
                    <a:pt x="16" y="553"/>
                  </a:lnTo>
                  <a:lnTo>
                    <a:pt x="14" y="551"/>
                  </a:lnTo>
                  <a:lnTo>
                    <a:pt x="27" y="526"/>
                  </a:lnTo>
                  <a:lnTo>
                    <a:pt x="43" y="500"/>
                  </a:lnTo>
                  <a:lnTo>
                    <a:pt x="68" y="445"/>
                  </a:lnTo>
                  <a:lnTo>
                    <a:pt x="87" y="386"/>
                  </a:lnTo>
                  <a:lnTo>
                    <a:pt x="103" y="323"/>
                  </a:lnTo>
                  <a:lnTo>
                    <a:pt x="117" y="262"/>
                  </a:lnTo>
                  <a:lnTo>
                    <a:pt x="124" y="194"/>
                  </a:lnTo>
                  <a:lnTo>
                    <a:pt x="130" y="130"/>
                  </a:lnTo>
                  <a:lnTo>
                    <a:pt x="133" y="62"/>
                  </a:lnTo>
                  <a:lnTo>
                    <a:pt x="124" y="54"/>
                  </a:lnTo>
                  <a:lnTo>
                    <a:pt x="122" y="125"/>
                  </a:lnTo>
                  <a:lnTo>
                    <a:pt x="117" y="192"/>
                  </a:lnTo>
                  <a:lnTo>
                    <a:pt x="108" y="259"/>
                  </a:lnTo>
                  <a:lnTo>
                    <a:pt x="94" y="327"/>
                  </a:lnTo>
                  <a:lnTo>
                    <a:pt x="78" y="389"/>
                  </a:lnTo>
                  <a:lnTo>
                    <a:pt x="57" y="448"/>
                  </a:lnTo>
                  <a:lnTo>
                    <a:pt x="32" y="505"/>
                  </a:lnTo>
                  <a:lnTo>
                    <a:pt x="16" y="532"/>
                  </a:lnTo>
                  <a:lnTo>
                    <a:pt x="0" y="556"/>
                  </a:lnTo>
                  <a:lnTo>
                    <a:pt x="14" y="562"/>
                  </a:lnTo>
                  <a:lnTo>
                    <a:pt x="55" y="572"/>
                  </a:lnTo>
                  <a:lnTo>
                    <a:pt x="84" y="578"/>
                  </a:lnTo>
                  <a:lnTo>
                    <a:pt x="119" y="583"/>
                  </a:lnTo>
                  <a:lnTo>
                    <a:pt x="160" y="585"/>
                  </a:lnTo>
                  <a:lnTo>
                    <a:pt x="205" y="585"/>
                  </a:lnTo>
                  <a:lnTo>
                    <a:pt x="273" y="583"/>
                  </a:lnTo>
                  <a:lnTo>
                    <a:pt x="310" y="580"/>
                  </a:lnTo>
                  <a:lnTo>
                    <a:pt x="349" y="574"/>
                  </a:lnTo>
                  <a:lnTo>
                    <a:pt x="389" y="567"/>
                  </a:lnTo>
                  <a:lnTo>
                    <a:pt x="432" y="556"/>
                  </a:lnTo>
                  <a:lnTo>
                    <a:pt x="476" y="546"/>
                  </a:lnTo>
                  <a:lnTo>
                    <a:pt x="522" y="528"/>
                  </a:lnTo>
                  <a:lnTo>
                    <a:pt x="535" y="489"/>
                  </a:lnTo>
                  <a:lnTo>
                    <a:pt x="548" y="440"/>
                  </a:lnTo>
                  <a:lnTo>
                    <a:pt x="567" y="375"/>
                  </a:lnTo>
                  <a:lnTo>
                    <a:pt x="584" y="297"/>
                  </a:lnTo>
                  <a:lnTo>
                    <a:pt x="600" y="208"/>
                  </a:lnTo>
                  <a:lnTo>
                    <a:pt x="613" y="108"/>
                  </a:lnTo>
                  <a:lnTo>
                    <a:pt x="616" y="5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75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84360" y="3301920"/>
              <a:ext cx="539640" cy="34920"/>
            </a:xfrm>
            <a:custGeom>
              <a:avLst/>
              <a:gdLst/>
              <a:ahLst/>
              <a:rect l="l" t="t" r="r" b="b"/>
              <a:pathLst>
                <a:path w="3351" h="238">
                  <a:moveTo>
                    <a:pt x="0" y="0"/>
                  </a:moveTo>
                  <a:lnTo>
                    <a:pt x="2" y="9"/>
                  </a:lnTo>
                  <a:lnTo>
                    <a:pt x="81" y="28"/>
                  </a:lnTo>
                  <a:lnTo>
                    <a:pt x="161" y="44"/>
                  </a:lnTo>
                  <a:lnTo>
                    <a:pt x="323" y="76"/>
                  </a:lnTo>
                  <a:lnTo>
                    <a:pt x="490" y="103"/>
                  </a:lnTo>
                  <a:lnTo>
                    <a:pt x="663" y="131"/>
                  </a:lnTo>
                  <a:lnTo>
                    <a:pt x="893" y="159"/>
                  </a:lnTo>
                  <a:lnTo>
                    <a:pt x="1119" y="182"/>
                  </a:lnTo>
                  <a:lnTo>
                    <a:pt x="1349" y="203"/>
                  </a:lnTo>
                  <a:lnTo>
                    <a:pt x="1572" y="217"/>
                  </a:lnTo>
                  <a:lnTo>
                    <a:pt x="1791" y="228"/>
                  </a:lnTo>
                  <a:lnTo>
                    <a:pt x="2005" y="233"/>
                  </a:lnTo>
                  <a:lnTo>
                    <a:pt x="2210" y="238"/>
                  </a:lnTo>
                  <a:lnTo>
                    <a:pt x="2404" y="238"/>
                  </a:lnTo>
                  <a:lnTo>
                    <a:pt x="2591" y="238"/>
                  </a:lnTo>
                  <a:lnTo>
                    <a:pt x="2760" y="235"/>
                  </a:lnTo>
                  <a:lnTo>
                    <a:pt x="3049" y="225"/>
                  </a:lnTo>
                  <a:lnTo>
                    <a:pt x="3252" y="217"/>
                  </a:lnTo>
                  <a:lnTo>
                    <a:pt x="3351" y="212"/>
                  </a:lnTo>
                  <a:lnTo>
                    <a:pt x="3351" y="209"/>
                  </a:lnTo>
                  <a:lnTo>
                    <a:pt x="3351" y="203"/>
                  </a:lnTo>
                  <a:lnTo>
                    <a:pt x="3341" y="203"/>
                  </a:lnTo>
                  <a:lnTo>
                    <a:pt x="3224" y="209"/>
                  </a:lnTo>
                  <a:lnTo>
                    <a:pt x="3022" y="219"/>
                  </a:lnTo>
                  <a:lnTo>
                    <a:pt x="2744" y="228"/>
                  </a:lnTo>
                  <a:lnTo>
                    <a:pt x="2580" y="230"/>
                  </a:lnTo>
                  <a:lnTo>
                    <a:pt x="2404" y="230"/>
                  </a:lnTo>
                  <a:lnTo>
                    <a:pt x="2210" y="230"/>
                  </a:lnTo>
                  <a:lnTo>
                    <a:pt x="2005" y="225"/>
                  </a:lnTo>
                  <a:lnTo>
                    <a:pt x="1795" y="219"/>
                  </a:lnTo>
                  <a:lnTo>
                    <a:pt x="1572" y="209"/>
                  </a:lnTo>
                  <a:lnTo>
                    <a:pt x="1349" y="195"/>
                  </a:lnTo>
                  <a:lnTo>
                    <a:pt x="1123" y="173"/>
                  </a:lnTo>
                  <a:lnTo>
                    <a:pt x="893" y="152"/>
                  </a:lnTo>
                  <a:lnTo>
                    <a:pt x="666" y="122"/>
                  </a:lnTo>
                  <a:lnTo>
                    <a:pt x="493" y="95"/>
                  </a:lnTo>
                  <a:lnTo>
                    <a:pt x="323" y="69"/>
                  </a:lnTo>
                  <a:lnTo>
                    <a:pt x="159" y="36"/>
                  </a:lnTo>
                  <a:lnTo>
                    <a:pt x="8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224000" y="3247920"/>
              <a:ext cx="106200" cy="115920"/>
            </a:xfrm>
            <a:custGeom>
              <a:avLst/>
              <a:gdLst/>
              <a:ahLst/>
              <a:rect l="l" t="t" r="r" b="b"/>
              <a:pathLst>
                <a:path w="651" h="755">
                  <a:moveTo>
                    <a:pt x="89" y="108"/>
                  </a:moveTo>
                  <a:lnTo>
                    <a:pt x="95" y="111"/>
                  </a:lnTo>
                  <a:lnTo>
                    <a:pt x="103" y="103"/>
                  </a:lnTo>
                  <a:lnTo>
                    <a:pt x="111" y="92"/>
                  </a:lnTo>
                  <a:lnTo>
                    <a:pt x="135" y="76"/>
                  </a:lnTo>
                  <a:lnTo>
                    <a:pt x="165" y="60"/>
                  </a:lnTo>
                  <a:lnTo>
                    <a:pt x="203" y="44"/>
                  </a:lnTo>
                  <a:lnTo>
                    <a:pt x="243" y="32"/>
                  </a:lnTo>
                  <a:lnTo>
                    <a:pt x="287" y="22"/>
                  </a:lnTo>
                  <a:lnTo>
                    <a:pt x="333" y="16"/>
                  </a:lnTo>
                  <a:lnTo>
                    <a:pt x="378" y="16"/>
                  </a:lnTo>
                  <a:lnTo>
                    <a:pt x="410" y="16"/>
                  </a:lnTo>
                  <a:lnTo>
                    <a:pt x="440" y="20"/>
                  </a:lnTo>
                  <a:lnTo>
                    <a:pt x="470" y="25"/>
                  </a:lnTo>
                  <a:lnTo>
                    <a:pt x="497" y="32"/>
                  </a:lnTo>
                  <a:lnTo>
                    <a:pt x="522" y="44"/>
                  </a:lnTo>
                  <a:lnTo>
                    <a:pt x="543" y="55"/>
                  </a:lnTo>
                  <a:lnTo>
                    <a:pt x="564" y="71"/>
                  </a:lnTo>
                  <a:lnTo>
                    <a:pt x="578" y="89"/>
                  </a:lnTo>
                  <a:lnTo>
                    <a:pt x="591" y="108"/>
                  </a:lnTo>
                  <a:lnTo>
                    <a:pt x="602" y="130"/>
                  </a:lnTo>
                  <a:lnTo>
                    <a:pt x="613" y="154"/>
                  </a:lnTo>
                  <a:lnTo>
                    <a:pt x="621" y="179"/>
                  </a:lnTo>
                  <a:lnTo>
                    <a:pt x="626" y="205"/>
                  </a:lnTo>
                  <a:lnTo>
                    <a:pt x="632" y="232"/>
                  </a:lnTo>
                  <a:lnTo>
                    <a:pt x="635" y="262"/>
                  </a:lnTo>
                  <a:lnTo>
                    <a:pt x="635" y="289"/>
                  </a:lnTo>
                  <a:lnTo>
                    <a:pt x="632" y="335"/>
                  </a:lnTo>
                  <a:lnTo>
                    <a:pt x="626" y="378"/>
                  </a:lnTo>
                  <a:lnTo>
                    <a:pt x="616" y="424"/>
                  </a:lnTo>
                  <a:lnTo>
                    <a:pt x="605" y="467"/>
                  </a:lnTo>
                  <a:lnTo>
                    <a:pt x="586" y="511"/>
                  </a:lnTo>
                  <a:lnTo>
                    <a:pt x="568" y="548"/>
                  </a:lnTo>
                  <a:lnTo>
                    <a:pt x="543" y="586"/>
                  </a:lnTo>
                  <a:lnTo>
                    <a:pt x="513" y="619"/>
                  </a:lnTo>
                  <a:lnTo>
                    <a:pt x="467" y="661"/>
                  </a:lnTo>
                  <a:lnTo>
                    <a:pt x="443" y="683"/>
                  </a:lnTo>
                  <a:lnTo>
                    <a:pt x="416" y="702"/>
                  </a:lnTo>
                  <a:lnTo>
                    <a:pt x="389" y="718"/>
                  </a:lnTo>
                  <a:lnTo>
                    <a:pt x="362" y="729"/>
                  </a:lnTo>
                  <a:lnTo>
                    <a:pt x="333" y="737"/>
                  </a:lnTo>
                  <a:lnTo>
                    <a:pt x="299" y="739"/>
                  </a:lnTo>
                  <a:lnTo>
                    <a:pt x="271" y="737"/>
                  </a:lnTo>
                  <a:lnTo>
                    <a:pt x="241" y="729"/>
                  </a:lnTo>
                  <a:lnTo>
                    <a:pt x="205" y="716"/>
                  </a:lnTo>
                  <a:lnTo>
                    <a:pt x="173" y="697"/>
                  </a:lnTo>
                  <a:lnTo>
                    <a:pt x="135" y="672"/>
                  </a:lnTo>
                  <a:lnTo>
                    <a:pt x="97" y="640"/>
                  </a:lnTo>
                  <a:lnTo>
                    <a:pt x="57" y="599"/>
                  </a:lnTo>
                  <a:lnTo>
                    <a:pt x="14" y="550"/>
                  </a:lnTo>
                  <a:lnTo>
                    <a:pt x="9" y="557"/>
                  </a:lnTo>
                  <a:lnTo>
                    <a:pt x="16" y="557"/>
                  </a:lnTo>
                  <a:lnTo>
                    <a:pt x="97" y="108"/>
                  </a:lnTo>
                  <a:lnTo>
                    <a:pt x="89" y="108"/>
                  </a:lnTo>
                  <a:lnTo>
                    <a:pt x="95" y="111"/>
                  </a:lnTo>
                  <a:lnTo>
                    <a:pt x="89" y="108"/>
                  </a:lnTo>
                  <a:lnTo>
                    <a:pt x="81" y="106"/>
                  </a:lnTo>
                  <a:lnTo>
                    <a:pt x="0" y="554"/>
                  </a:lnTo>
                  <a:lnTo>
                    <a:pt x="3" y="562"/>
                  </a:lnTo>
                  <a:lnTo>
                    <a:pt x="46" y="610"/>
                  </a:lnTo>
                  <a:lnTo>
                    <a:pt x="87" y="651"/>
                  </a:lnTo>
                  <a:lnTo>
                    <a:pt x="124" y="686"/>
                  </a:lnTo>
                  <a:lnTo>
                    <a:pt x="163" y="709"/>
                  </a:lnTo>
                  <a:lnTo>
                    <a:pt x="200" y="732"/>
                  </a:lnTo>
                  <a:lnTo>
                    <a:pt x="235" y="745"/>
                  </a:lnTo>
                  <a:lnTo>
                    <a:pt x="267" y="753"/>
                  </a:lnTo>
                  <a:lnTo>
                    <a:pt x="299" y="755"/>
                  </a:lnTo>
                  <a:lnTo>
                    <a:pt x="335" y="753"/>
                  </a:lnTo>
                  <a:lnTo>
                    <a:pt x="368" y="745"/>
                  </a:lnTo>
                  <a:lnTo>
                    <a:pt x="397" y="732"/>
                  </a:lnTo>
                  <a:lnTo>
                    <a:pt x="424" y="716"/>
                  </a:lnTo>
                  <a:lnTo>
                    <a:pt x="453" y="697"/>
                  </a:lnTo>
                  <a:lnTo>
                    <a:pt x="478" y="675"/>
                  </a:lnTo>
                  <a:lnTo>
                    <a:pt x="527" y="629"/>
                  </a:lnTo>
                  <a:lnTo>
                    <a:pt x="554" y="594"/>
                  </a:lnTo>
                  <a:lnTo>
                    <a:pt x="580" y="557"/>
                  </a:lnTo>
                  <a:lnTo>
                    <a:pt x="602" y="516"/>
                  </a:lnTo>
                  <a:lnTo>
                    <a:pt x="619" y="472"/>
                  </a:lnTo>
                  <a:lnTo>
                    <a:pt x="632" y="426"/>
                  </a:lnTo>
                  <a:lnTo>
                    <a:pt x="642" y="381"/>
                  </a:lnTo>
                  <a:lnTo>
                    <a:pt x="648" y="335"/>
                  </a:lnTo>
                  <a:lnTo>
                    <a:pt x="651" y="289"/>
                  </a:lnTo>
                  <a:lnTo>
                    <a:pt x="651" y="260"/>
                  </a:lnTo>
                  <a:lnTo>
                    <a:pt x="648" y="230"/>
                  </a:lnTo>
                  <a:lnTo>
                    <a:pt x="642" y="203"/>
                  </a:lnTo>
                  <a:lnTo>
                    <a:pt x="637" y="176"/>
                  </a:lnTo>
                  <a:lnTo>
                    <a:pt x="630" y="149"/>
                  </a:lnTo>
                  <a:lnTo>
                    <a:pt x="619" y="124"/>
                  </a:lnTo>
                  <a:lnTo>
                    <a:pt x="605" y="101"/>
                  </a:lnTo>
                  <a:lnTo>
                    <a:pt x="591" y="78"/>
                  </a:lnTo>
                  <a:lnTo>
                    <a:pt x="575" y="60"/>
                  </a:lnTo>
                  <a:lnTo>
                    <a:pt x="554" y="41"/>
                  </a:lnTo>
                  <a:lnTo>
                    <a:pt x="529" y="27"/>
                  </a:lnTo>
                  <a:lnTo>
                    <a:pt x="502" y="16"/>
                  </a:lnTo>
                  <a:lnTo>
                    <a:pt x="472" y="9"/>
                  </a:lnTo>
                  <a:lnTo>
                    <a:pt x="443" y="4"/>
                  </a:lnTo>
                  <a:lnTo>
                    <a:pt x="410" y="0"/>
                  </a:lnTo>
                  <a:lnTo>
                    <a:pt x="378" y="0"/>
                  </a:lnTo>
                  <a:lnTo>
                    <a:pt x="333" y="0"/>
                  </a:lnTo>
                  <a:lnTo>
                    <a:pt x="283" y="9"/>
                  </a:lnTo>
                  <a:lnTo>
                    <a:pt x="241" y="16"/>
                  </a:lnTo>
                  <a:lnTo>
                    <a:pt x="198" y="30"/>
                  </a:lnTo>
                  <a:lnTo>
                    <a:pt x="159" y="44"/>
                  </a:lnTo>
                  <a:lnTo>
                    <a:pt x="127" y="62"/>
                  </a:lnTo>
                  <a:lnTo>
                    <a:pt x="101" y="82"/>
                  </a:lnTo>
                  <a:lnTo>
                    <a:pt x="89" y="92"/>
                  </a:lnTo>
                  <a:lnTo>
                    <a:pt x="81" y="103"/>
                  </a:lnTo>
                  <a:lnTo>
                    <a:pt x="81" y="106"/>
                  </a:lnTo>
                  <a:lnTo>
                    <a:pt x="89" y="108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281240" y="2631960"/>
              <a:ext cx="612720" cy="666720"/>
            </a:xfrm>
            <a:custGeom>
              <a:avLst/>
              <a:gdLst/>
              <a:ahLst/>
              <a:rect l="l" t="t" r="r" b="b"/>
              <a:pathLst>
                <a:path w="3779" h="4373">
                  <a:moveTo>
                    <a:pt x="8" y="4224"/>
                  </a:moveTo>
                  <a:lnTo>
                    <a:pt x="14" y="4230"/>
                  </a:lnTo>
                  <a:lnTo>
                    <a:pt x="54" y="4181"/>
                  </a:lnTo>
                  <a:lnTo>
                    <a:pt x="793" y="3334"/>
                  </a:lnTo>
                  <a:lnTo>
                    <a:pt x="1384" y="2660"/>
                  </a:lnTo>
                  <a:lnTo>
                    <a:pt x="2033" y="1923"/>
                  </a:lnTo>
                  <a:lnTo>
                    <a:pt x="2664" y="1211"/>
                  </a:lnTo>
                  <a:lnTo>
                    <a:pt x="2953" y="887"/>
                  </a:lnTo>
                  <a:lnTo>
                    <a:pt x="3211" y="599"/>
                  </a:lnTo>
                  <a:lnTo>
                    <a:pt x="3433" y="359"/>
                  </a:lnTo>
                  <a:lnTo>
                    <a:pt x="3605" y="175"/>
                  </a:lnTo>
                  <a:lnTo>
                    <a:pt x="3671" y="105"/>
                  </a:lnTo>
                  <a:lnTo>
                    <a:pt x="3722" y="57"/>
                  </a:lnTo>
                  <a:lnTo>
                    <a:pt x="3757" y="25"/>
                  </a:lnTo>
                  <a:lnTo>
                    <a:pt x="3768" y="19"/>
                  </a:lnTo>
                  <a:lnTo>
                    <a:pt x="3770" y="16"/>
                  </a:lnTo>
                  <a:lnTo>
                    <a:pt x="3768" y="14"/>
                  </a:lnTo>
                  <a:lnTo>
                    <a:pt x="3768" y="16"/>
                  </a:lnTo>
                  <a:lnTo>
                    <a:pt x="3770" y="16"/>
                  </a:lnTo>
                  <a:lnTo>
                    <a:pt x="3768" y="14"/>
                  </a:lnTo>
                  <a:lnTo>
                    <a:pt x="3768" y="16"/>
                  </a:lnTo>
                  <a:lnTo>
                    <a:pt x="3768" y="11"/>
                  </a:lnTo>
                  <a:lnTo>
                    <a:pt x="3765" y="14"/>
                  </a:lnTo>
                  <a:lnTo>
                    <a:pt x="3768" y="16"/>
                  </a:lnTo>
                  <a:lnTo>
                    <a:pt x="3768" y="11"/>
                  </a:lnTo>
                  <a:lnTo>
                    <a:pt x="3765" y="14"/>
                  </a:lnTo>
                  <a:lnTo>
                    <a:pt x="3768" y="11"/>
                  </a:lnTo>
                  <a:lnTo>
                    <a:pt x="3762" y="11"/>
                  </a:lnTo>
                  <a:lnTo>
                    <a:pt x="3765" y="14"/>
                  </a:lnTo>
                  <a:lnTo>
                    <a:pt x="3768" y="11"/>
                  </a:lnTo>
                  <a:lnTo>
                    <a:pt x="3762" y="11"/>
                  </a:lnTo>
                  <a:lnTo>
                    <a:pt x="3759" y="19"/>
                  </a:lnTo>
                  <a:lnTo>
                    <a:pt x="3752" y="32"/>
                  </a:lnTo>
                  <a:lnTo>
                    <a:pt x="3719" y="81"/>
                  </a:lnTo>
                  <a:lnTo>
                    <a:pt x="3665" y="154"/>
                  </a:lnTo>
                  <a:lnTo>
                    <a:pt x="3495" y="375"/>
                  </a:lnTo>
                  <a:lnTo>
                    <a:pt x="3230" y="704"/>
                  </a:lnTo>
                  <a:lnTo>
                    <a:pt x="2864" y="1158"/>
                  </a:lnTo>
                  <a:lnTo>
                    <a:pt x="2383" y="1740"/>
                  </a:lnTo>
                  <a:lnTo>
                    <a:pt x="1787" y="2460"/>
                  </a:lnTo>
                  <a:lnTo>
                    <a:pt x="1064" y="3332"/>
                  </a:lnTo>
                  <a:lnTo>
                    <a:pt x="205" y="4359"/>
                  </a:lnTo>
                  <a:lnTo>
                    <a:pt x="211" y="4364"/>
                  </a:lnTo>
                  <a:lnTo>
                    <a:pt x="217" y="4357"/>
                  </a:lnTo>
                  <a:lnTo>
                    <a:pt x="14" y="4216"/>
                  </a:lnTo>
                  <a:lnTo>
                    <a:pt x="8" y="4224"/>
                  </a:lnTo>
                  <a:lnTo>
                    <a:pt x="14" y="4230"/>
                  </a:lnTo>
                  <a:lnTo>
                    <a:pt x="8" y="4224"/>
                  </a:lnTo>
                  <a:lnTo>
                    <a:pt x="3" y="4230"/>
                  </a:lnTo>
                  <a:lnTo>
                    <a:pt x="208" y="4370"/>
                  </a:lnTo>
                  <a:lnTo>
                    <a:pt x="213" y="4373"/>
                  </a:lnTo>
                  <a:lnTo>
                    <a:pt x="219" y="4370"/>
                  </a:lnTo>
                  <a:lnTo>
                    <a:pt x="1136" y="3270"/>
                  </a:lnTo>
                  <a:lnTo>
                    <a:pt x="1897" y="2353"/>
                  </a:lnTo>
                  <a:lnTo>
                    <a:pt x="2516" y="1605"/>
                  </a:lnTo>
                  <a:lnTo>
                    <a:pt x="2995" y="1020"/>
                  </a:lnTo>
                  <a:lnTo>
                    <a:pt x="3352" y="577"/>
                  </a:lnTo>
                  <a:lnTo>
                    <a:pt x="3595" y="269"/>
                  </a:lnTo>
                  <a:lnTo>
                    <a:pt x="3676" y="165"/>
                  </a:lnTo>
                  <a:lnTo>
                    <a:pt x="3733" y="87"/>
                  </a:lnTo>
                  <a:lnTo>
                    <a:pt x="3768" y="38"/>
                  </a:lnTo>
                  <a:lnTo>
                    <a:pt x="3775" y="21"/>
                  </a:lnTo>
                  <a:lnTo>
                    <a:pt x="3779" y="11"/>
                  </a:lnTo>
                  <a:lnTo>
                    <a:pt x="3775" y="2"/>
                  </a:lnTo>
                  <a:lnTo>
                    <a:pt x="3768" y="0"/>
                  </a:lnTo>
                  <a:lnTo>
                    <a:pt x="3762" y="2"/>
                  </a:lnTo>
                  <a:lnTo>
                    <a:pt x="3757" y="5"/>
                  </a:lnTo>
                  <a:lnTo>
                    <a:pt x="3727" y="30"/>
                  </a:lnTo>
                  <a:lnTo>
                    <a:pt x="3681" y="73"/>
                  </a:lnTo>
                  <a:lnTo>
                    <a:pt x="3547" y="210"/>
                  </a:lnTo>
                  <a:lnTo>
                    <a:pt x="3363" y="410"/>
                  </a:lnTo>
                  <a:lnTo>
                    <a:pt x="3133" y="663"/>
                  </a:lnTo>
                  <a:lnTo>
                    <a:pt x="2871" y="955"/>
                  </a:lnTo>
                  <a:lnTo>
                    <a:pt x="2272" y="1630"/>
                  </a:lnTo>
                  <a:lnTo>
                    <a:pt x="1633" y="2355"/>
                  </a:lnTo>
                  <a:lnTo>
                    <a:pt x="1018" y="3053"/>
                  </a:lnTo>
                  <a:lnTo>
                    <a:pt x="500" y="3650"/>
                  </a:lnTo>
                  <a:lnTo>
                    <a:pt x="3" y="4219"/>
                  </a:lnTo>
                  <a:lnTo>
                    <a:pt x="0" y="4224"/>
                  </a:lnTo>
                  <a:lnTo>
                    <a:pt x="3" y="4230"/>
                  </a:lnTo>
                  <a:lnTo>
                    <a:pt x="8" y="422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844640" y="2636640"/>
              <a:ext cx="50760" cy="60480"/>
            </a:xfrm>
            <a:custGeom>
              <a:avLst/>
              <a:gdLst/>
              <a:ahLst/>
              <a:rect l="l" t="t" r="r" b="b"/>
              <a:pathLst>
                <a:path w="316" h="405">
                  <a:moveTo>
                    <a:pt x="316" y="0"/>
                  </a:moveTo>
                  <a:lnTo>
                    <a:pt x="305" y="8"/>
                  </a:lnTo>
                  <a:lnTo>
                    <a:pt x="283" y="30"/>
                  </a:lnTo>
                  <a:lnTo>
                    <a:pt x="261" y="62"/>
                  </a:lnTo>
                  <a:lnTo>
                    <a:pt x="208" y="138"/>
                  </a:lnTo>
                  <a:lnTo>
                    <a:pt x="129" y="237"/>
                  </a:lnTo>
                  <a:lnTo>
                    <a:pt x="0" y="405"/>
                  </a:lnTo>
                  <a:lnTo>
                    <a:pt x="146" y="221"/>
                  </a:lnTo>
                  <a:lnTo>
                    <a:pt x="245" y="97"/>
                  </a:lnTo>
                  <a:lnTo>
                    <a:pt x="302" y="24"/>
                  </a:lnTo>
                  <a:lnTo>
                    <a:pt x="313" y="5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197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49600" y="2639880"/>
              <a:ext cx="139680" cy="166680"/>
            </a:xfrm>
            <a:custGeom>
              <a:avLst/>
              <a:gdLst/>
              <a:ahLst/>
              <a:rect l="l" t="t" r="r" b="b"/>
              <a:pathLst>
                <a:path w="872" h="1089">
                  <a:moveTo>
                    <a:pt x="872" y="0"/>
                  </a:moveTo>
                  <a:lnTo>
                    <a:pt x="834" y="40"/>
                  </a:lnTo>
                  <a:lnTo>
                    <a:pt x="778" y="116"/>
                  </a:lnTo>
                  <a:lnTo>
                    <a:pt x="702" y="212"/>
                  </a:lnTo>
                  <a:lnTo>
                    <a:pt x="459" y="520"/>
                  </a:lnTo>
                  <a:lnTo>
                    <a:pt x="102" y="963"/>
                  </a:lnTo>
                  <a:lnTo>
                    <a:pt x="0" y="1089"/>
                  </a:lnTo>
                  <a:lnTo>
                    <a:pt x="589" y="375"/>
                  </a:lnTo>
                  <a:lnTo>
                    <a:pt x="718" y="207"/>
                  </a:lnTo>
                  <a:lnTo>
                    <a:pt x="797" y="108"/>
                  </a:lnTo>
                  <a:lnTo>
                    <a:pt x="850" y="32"/>
                  </a:lnTo>
                  <a:lnTo>
                    <a:pt x="872" y="0"/>
                  </a:lnTo>
                  <a:close/>
                </a:path>
              </a:pathLst>
            </a:custGeom>
            <a:solidFill>
              <a:srgbClr val="6731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300320" y="2647800"/>
              <a:ext cx="583920" cy="649440"/>
            </a:xfrm>
            <a:custGeom>
              <a:avLst/>
              <a:gdLst/>
              <a:ahLst/>
              <a:rect l="l" t="t" r="r" b="b"/>
              <a:pathLst>
                <a:path w="3616" h="4267">
                  <a:moveTo>
                    <a:pt x="3616" y="0"/>
                  </a:moveTo>
                  <a:lnTo>
                    <a:pt x="3492" y="138"/>
                  </a:lnTo>
                  <a:lnTo>
                    <a:pt x="3368" y="297"/>
                  </a:lnTo>
                  <a:lnTo>
                    <a:pt x="3203" y="502"/>
                  </a:lnTo>
                  <a:lnTo>
                    <a:pt x="2753" y="1061"/>
                  </a:lnTo>
                  <a:lnTo>
                    <a:pt x="2274" y="1640"/>
                  </a:lnTo>
                  <a:lnTo>
                    <a:pt x="1678" y="2360"/>
                  </a:lnTo>
                  <a:lnTo>
                    <a:pt x="955" y="3229"/>
                  </a:lnTo>
                  <a:lnTo>
                    <a:pt x="100" y="4257"/>
                  </a:lnTo>
                  <a:lnTo>
                    <a:pt x="5" y="4191"/>
                  </a:lnTo>
                  <a:lnTo>
                    <a:pt x="0" y="4197"/>
                  </a:lnTo>
                  <a:lnTo>
                    <a:pt x="100" y="4267"/>
                  </a:lnTo>
                  <a:lnTo>
                    <a:pt x="1697" y="2353"/>
                  </a:lnTo>
                  <a:lnTo>
                    <a:pt x="2782" y="1049"/>
                  </a:lnTo>
                  <a:lnTo>
                    <a:pt x="2884" y="923"/>
                  </a:lnTo>
                  <a:lnTo>
                    <a:pt x="3241" y="480"/>
                  </a:lnTo>
                  <a:lnTo>
                    <a:pt x="3484" y="172"/>
                  </a:lnTo>
                  <a:lnTo>
                    <a:pt x="3560" y="76"/>
                  </a:lnTo>
                  <a:lnTo>
                    <a:pt x="3616" y="0"/>
                  </a:lnTo>
                  <a:close/>
                </a:path>
              </a:pathLst>
            </a:custGeom>
            <a:solidFill>
              <a:srgbClr val="6731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51000" y="3330360"/>
              <a:ext cx="42840" cy="42840"/>
            </a:xfrm>
            <a:custGeom>
              <a:avLst/>
              <a:gdLst/>
              <a:ahLst/>
              <a:rect l="l" t="t" r="r" b="b"/>
              <a:pathLst>
                <a:path w="265" h="283">
                  <a:moveTo>
                    <a:pt x="251" y="234"/>
                  </a:moveTo>
                  <a:lnTo>
                    <a:pt x="259" y="237"/>
                  </a:lnTo>
                  <a:lnTo>
                    <a:pt x="265" y="215"/>
                  </a:lnTo>
                  <a:lnTo>
                    <a:pt x="265" y="194"/>
                  </a:lnTo>
                  <a:lnTo>
                    <a:pt x="262" y="166"/>
                  </a:lnTo>
                  <a:lnTo>
                    <a:pt x="256" y="139"/>
                  </a:lnTo>
                  <a:lnTo>
                    <a:pt x="249" y="110"/>
                  </a:lnTo>
                  <a:lnTo>
                    <a:pt x="235" y="83"/>
                  </a:lnTo>
                  <a:lnTo>
                    <a:pt x="216" y="58"/>
                  </a:lnTo>
                  <a:lnTo>
                    <a:pt x="194" y="37"/>
                  </a:lnTo>
                  <a:lnTo>
                    <a:pt x="184" y="26"/>
                  </a:lnTo>
                  <a:lnTo>
                    <a:pt x="170" y="21"/>
                  </a:lnTo>
                  <a:lnTo>
                    <a:pt x="157" y="12"/>
                  </a:lnTo>
                  <a:lnTo>
                    <a:pt x="141" y="7"/>
                  </a:lnTo>
                  <a:lnTo>
                    <a:pt x="106" y="0"/>
                  </a:lnTo>
                  <a:lnTo>
                    <a:pt x="76" y="0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0" y="7"/>
                  </a:lnTo>
                  <a:lnTo>
                    <a:pt x="19" y="16"/>
                  </a:lnTo>
                  <a:lnTo>
                    <a:pt x="10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0" y="58"/>
                  </a:lnTo>
                  <a:lnTo>
                    <a:pt x="3" y="72"/>
                  </a:lnTo>
                  <a:lnTo>
                    <a:pt x="5" y="86"/>
                  </a:lnTo>
                  <a:lnTo>
                    <a:pt x="16" y="113"/>
                  </a:lnTo>
                  <a:lnTo>
                    <a:pt x="33" y="145"/>
                  </a:lnTo>
                  <a:lnTo>
                    <a:pt x="54" y="175"/>
                  </a:lnTo>
                  <a:lnTo>
                    <a:pt x="78" y="201"/>
                  </a:lnTo>
                  <a:lnTo>
                    <a:pt x="100" y="223"/>
                  </a:lnTo>
                  <a:lnTo>
                    <a:pt x="118" y="242"/>
                  </a:lnTo>
                  <a:lnTo>
                    <a:pt x="138" y="258"/>
                  </a:lnTo>
                  <a:lnTo>
                    <a:pt x="157" y="269"/>
                  </a:lnTo>
                  <a:lnTo>
                    <a:pt x="173" y="277"/>
                  </a:lnTo>
                  <a:lnTo>
                    <a:pt x="189" y="283"/>
                  </a:lnTo>
                  <a:lnTo>
                    <a:pt x="203" y="283"/>
                  </a:lnTo>
                  <a:lnTo>
                    <a:pt x="213" y="283"/>
                  </a:lnTo>
                  <a:lnTo>
                    <a:pt x="221" y="280"/>
                  </a:lnTo>
                  <a:lnTo>
                    <a:pt x="232" y="274"/>
                  </a:lnTo>
                  <a:lnTo>
                    <a:pt x="238" y="269"/>
                  </a:lnTo>
                  <a:lnTo>
                    <a:pt x="251" y="256"/>
                  </a:lnTo>
                  <a:lnTo>
                    <a:pt x="259" y="237"/>
                  </a:lnTo>
                  <a:lnTo>
                    <a:pt x="251" y="234"/>
                  </a:lnTo>
                  <a:lnTo>
                    <a:pt x="243" y="231"/>
                  </a:lnTo>
                  <a:lnTo>
                    <a:pt x="238" y="247"/>
                  </a:lnTo>
                  <a:lnTo>
                    <a:pt x="226" y="258"/>
                  </a:lnTo>
                  <a:lnTo>
                    <a:pt x="216" y="263"/>
                  </a:lnTo>
                  <a:lnTo>
                    <a:pt x="203" y="267"/>
                  </a:lnTo>
                  <a:lnTo>
                    <a:pt x="192" y="267"/>
                  </a:lnTo>
                  <a:lnTo>
                    <a:pt x="178" y="261"/>
                  </a:lnTo>
                  <a:lnTo>
                    <a:pt x="164" y="256"/>
                  </a:lnTo>
                  <a:lnTo>
                    <a:pt x="148" y="245"/>
                  </a:lnTo>
                  <a:lnTo>
                    <a:pt x="129" y="231"/>
                  </a:lnTo>
                  <a:lnTo>
                    <a:pt x="111" y="212"/>
                  </a:lnTo>
                  <a:lnTo>
                    <a:pt x="90" y="191"/>
                  </a:lnTo>
                  <a:lnTo>
                    <a:pt x="67" y="164"/>
                  </a:lnTo>
                  <a:lnTo>
                    <a:pt x="46" y="134"/>
                  </a:lnTo>
                  <a:lnTo>
                    <a:pt x="30" y="107"/>
                  </a:lnTo>
                  <a:lnTo>
                    <a:pt x="21" y="81"/>
                  </a:lnTo>
                  <a:lnTo>
                    <a:pt x="16" y="58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4" y="32"/>
                  </a:lnTo>
                  <a:lnTo>
                    <a:pt x="30" y="26"/>
                  </a:lnTo>
                  <a:lnTo>
                    <a:pt x="38" y="21"/>
                  </a:lnTo>
                  <a:lnTo>
                    <a:pt x="49" y="19"/>
                  </a:lnTo>
                  <a:lnTo>
                    <a:pt x="60" y="16"/>
                  </a:lnTo>
                  <a:lnTo>
                    <a:pt x="76" y="16"/>
                  </a:lnTo>
                  <a:lnTo>
                    <a:pt x="102" y="16"/>
                  </a:lnTo>
                  <a:lnTo>
                    <a:pt x="134" y="24"/>
                  </a:lnTo>
                  <a:lnTo>
                    <a:pt x="148" y="29"/>
                  </a:lnTo>
                  <a:lnTo>
                    <a:pt x="162" y="35"/>
                  </a:lnTo>
                  <a:lnTo>
                    <a:pt x="184" y="48"/>
                  </a:lnTo>
                  <a:lnTo>
                    <a:pt x="203" y="70"/>
                  </a:lnTo>
                  <a:lnTo>
                    <a:pt x="219" y="91"/>
                  </a:lnTo>
                  <a:lnTo>
                    <a:pt x="232" y="115"/>
                  </a:lnTo>
                  <a:lnTo>
                    <a:pt x="240" y="143"/>
                  </a:lnTo>
                  <a:lnTo>
                    <a:pt x="245" y="169"/>
                  </a:lnTo>
                  <a:lnTo>
                    <a:pt x="249" y="194"/>
                  </a:lnTo>
                  <a:lnTo>
                    <a:pt x="249" y="215"/>
                  </a:lnTo>
                  <a:lnTo>
                    <a:pt x="243" y="231"/>
                  </a:lnTo>
                  <a:lnTo>
                    <a:pt x="251" y="23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266840" y="3309840"/>
              <a:ext cx="60480" cy="4932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62" y="253"/>
                  </a:moveTo>
                  <a:lnTo>
                    <a:pt x="369" y="256"/>
                  </a:lnTo>
                  <a:lnTo>
                    <a:pt x="378" y="237"/>
                  </a:lnTo>
                  <a:lnTo>
                    <a:pt x="378" y="221"/>
                  </a:lnTo>
                  <a:lnTo>
                    <a:pt x="375" y="199"/>
                  </a:lnTo>
                  <a:lnTo>
                    <a:pt x="369" y="180"/>
                  </a:lnTo>
                  <a:lnTo>
                    <a:pt x="359" y="159"/>
                  </a:lnTo>
                  <a:lnTo>
                    <a:pt x="348" y="140"/>
                  </a:lnTo>
                  <a:lnTo>
                    <a:pt x="332" y="122"/>
                  </a:lnTo>
                  <a:lnTo>
                    <a:pt x="313" y="104"/>
                  </a:lnTo>
                  <a:lnTo>
                    <a:pt x="291" y="86"/>
                  </a:lnTo>
                  <a:lnTo>
                    <a:pt x="270" y="70"/>
                  </a:lnTo>
                  <a:lnTo>
                    <a:pt x="224" y="43"/>
                  </a:lnTo>
                  <a:lnTo>
                    <a:pt x="199" y="30"/>
                  </a:lnTo>
                  <a:lnTo>
                    <a:pt x="175" y="19"/>
                  </a:lnTo>
                  <a:lnTo>
                    <a:pt x="151" y="10"/>
                  </a:lnTo>
                  <a:lnTo>
                    <a:pt x="127" y="5"/>
                  </a:lnTo>
                  <a:lnTo>
                    <a:pt x="102" y="0"/>
                  </a:lnTo>
                  <a:lnTo>
                    <a:pt x="81" y="0"/>
                  </a:lnTo>
                  <a:lnTo>
                    <a:pt x="62" y="0"/>
                  </a:lnTo>
                  <a:lnTo>
                    <a:pt x="42" y="5"/>
                  </a:lnTo>
                  <a:lnTo>
                    <a:pt x="26" y="14"/>
                  </a:lnTo>
                  <a:lnTo>
                    <a:pt x="14" y="26"/>
                  </a:lnTo>
                  <a:lnTo>
                    <a:pt x="5" y="37"/>
                  </a:lnTo>
                  <a:lnTo>
                    <a:pt x="3" y="46"/>
                  </a:lnTo>
                  <a:lnTo>
                    <a:pt x="0" y="56"/>
                  </a:lnTo>
                  <a:lnTo>
                    <a:pt x="0" y="67"/>
                  </a:lnTo>
                  <a:lnTo>
                    <a:pt x="3" y="86"/>
                  </a:lnTo>
                  <a:lnTo>
                    <a:pt x="5" y="108"/>
                  </a:lnTo>
                  <a:lnTo>
                    <a:pt x="14" y="127"/>
                  </a:lnTo>
                  <a:lnTo>
                    <a:pt x="24" y="148"/>
                  </a:lnTo>
                  <a:lnTo>
                    <a:pt x="37" y="170"/>
                  </a:lnTo>
                  <a:lnTo>
                    <a:pt x="51" y="189"/>
                  </a:lnTo>
                  <a:lnTo>
                    <a:pt x="70" y="210"/>
                  </a:lnTo>
                  <a:lnTo>
                    <a:pt x="86" y="229"/>
                  </a:lnTo>
                  <a:lnTo>
                    <a:pt x="108" y="248"/>
                  </a:lnTo>
                  <a:lnTo>
                    <a:pt x="127" y="265"/>
                  </a:lnTo>
                  <a:lnTo>
                    <a:pt x="148" y="281"/>
                  </a:lnTo>
                  <a:lnTo>
                    <a:pt x="173" y="293"/>
                  </a:lnTo>
                  <a:lnTo>
                    <a:pt x="194" y="304"/>
                  </a:lnTo>
                  <a:lnTo>
                    <a:pt x="219" y="313"/>
                  </a:lnTo>
                  <a:lnTo>
                    <a:pt x="240" y="318"/>
                  </a:lnTo>
                  <a:lnTo>
                    <a:pt x="265" y="321"/>
                  </a:lnTo>
                  <a:lnTo>
                    <a:pt x="291" y="318"/>
                  </a:lnTo>
                  <a:lnTo>
                    <a:pt x="305" y="313"/>
                  </a:lnTo>
                  <a:lnTo>
                    <a:pt x="318" y="307"/>
                  </a:lnTo>
                  <a:lnTo>
                    <a:pt x="329" y="299"/>
                  </a:lnTo>
                  <a:lnTo>
                    <a:pt x="343" y="291"/>
                  </a:lnTo>
                  <a:lnTo>
                    <a:pt x="353" y="281"/>
                  </a:lnTo>
                  <a:lnTo>
                    <a:pt x="362" y="267"/>
                  </a:lnTo>
                  <a:lnTo>
                    <a:pt x="369" y="256"/>
                  </a:lnTo>
                  <a:lnTo>
                    <a:pt x="362" y="253"/>
                  </a:lnTo>
                  <a:lnTo>
                    <a:pt x="356" y="248"/>
                  </a:lnTo>
                  <a:lnTo>
                    <a:pt x="348" y="258"/>
                  </a:lnTo>
                  <a:lnTo>
                    <a:pt x="356" y="265"/>
                  </a:lnTo>
                  <a:lnTo>
                    <a:pt x="350" y="258"/>
                  </a:lnTo>
                  <a:lnTo>
                    <a:pt x="332" y="281"/>
                  </a:lnTo>
                  <a:lnTo>
                    <a:pt x="311" y="293"/>
                  </a:lnTo>
                  <a:lnTo>
                    <a:pt x="288" y="302"/>
                  </a:lnTo>
                  <a:lnTo>
                    <a:pt x="265" y="304"/>
                  </a:lnTo>
                  <a:lnTo>
                    <a:pt x="242" y="302"/>
                  </a:lnTo>
                  <a:lnTo>
                    <a:pt x="224" y="297"/>
                  </a:lnTo>
                  <a:lnTo>
                    <a:pt x="203" y="288"/>
                  </a:lnTo>
                  <a:lnTo>
                    <a:pt x="180" y="281"/>
                  </a:lnTo>
                  <a:lnTo>
                    <a:pt x="159" y="267"/>
                  </a:lnTo>
                  <a:lnTo>
                    <a:pt x="137" y="251"/>
                  </a:lnTo>
                  <a:lnTo>
                    <a:pt x="118" y="235"/>
                  </a:lnTo>
                  <a:lnTo>
                    <a:pt x="100" y="219"/>
                  </a:lnTo>
                  <a:lnTo>
                    <a:pt x="81" y="199"/>
                  </a:lnTo>
                  <a:lnTo>
                    <a:pt x="65" y="180"/>
                  </a:lnTo>
                  <a:lnTo>
                    <a:pt x="51" y="159"/>
                  </a:lnTo>
                  <a:lnTo>
                    <a:pt x="37" y="140"/>
                  </a:lnTo>
                  <a:lnTo>
                    <a:pt x="30" y="122"/>
                  </a:lnTo>
                  <a:lnTo>
                    <a:pt x="21" y="102"/>
                  </a:lnTo>
                  <a:lnTo>
                    <a:pt x="16" y="83"/>
                  </a:lnTo>
                  <a:lnTo>
                    <a:pt x="16" y="67"/>
                  </a:lnTo>
                  <a:lnTo>
                    <a:pt x="19" y="51"/>
                  </a:lnTo>
                  <a:lnTo>
                    <a:pt x="24" y="37"/>
                  </a:lnTo>
                  <a:lnTo>
                    <a:pt x="35" y="26"/>
                  </a:lnTo>
                  <a:lnTo>
                    <a:pt x="49" y="21"/>
                  </a:lnTo>
                  <a:lnTo>
                    <a:pt x="65" y="16"/>
                  </a:lnTo>
                  <a:lnTo>
                    <a:pt x="81" y="16"/>
                  </a:lnTo>
                  <a:lnTo>
                    <a:pt x="102" y="16"/>
                  </a:lnTo>
                  <a:lnTo>
                    <a:pt x="124" y="21"/>
                  </a:lnTo>
                  <a:lnTo>
                    <a:pt x="146" y="26"/>
                  </a:lnTo>
                  <a:lnTo>
                    <a:pt x="170" y="35"/>
                  </a:lnTo>
                  <a:lnTo>
                    <a:pt x="215" y="56"/>
                  </a:lnTo>
                  <a:lnTo>
                    <a:pt x="261" y="83"/>
                  </a:lnTo>
                  <a:lnTo>
                    <a:pt x="283" y="99"/>
                  </a:lnTo>
                  <a:lnTo>
                    <a:pt x="302" y="116"/>
                  </a:lnTo>
                  <a:lnTo>
                    <a:pt x="318" y="132"/>
                  </a:lnTo>
                  <a:lnTo>
                    <a:pt x="334" y="150"/>
                  </a:lnTo>
                  <a:lnTo>
                    <a:pt x="345" y="170"/>
                  </a:lnTo>
                  <a:lnTo>
                    <a:pt x="356" y="186"/>
                  </a:lnTo>
                  <a:lnTo>
                    <a:pt x="362" y="202"/>
                  </a:lnTo>
                  <a:lnTo>
                    <a:pt x="362" y="221"/>
                  </a:lnTo>
                  <a:lnTo>
                    <a:pt x="362" y="235"/>
                  </a:lnTo>
                  <a:lnTo>
                    <a:pt x="356" y="248"/>
                  </a:lnTo>
                  <a:lnTo>
                    <a:pt x="362" y="253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306440" y="3257280"/>
              <a:ext cx="63720" cy="46080"/>
            </a:xfrm>
            <a:custGeom>
              <a:avLst/>
              <a:gdLst/>
              <a:ahLst/>
              <a:rect l="l" t="t" r="r" b="b"/>
              <a:pathLst>
                <a:path w="399" h="297">
                  <a:moveTo>
                    <a:pt x="376" y="265"/>
                  </a:moveTo>
                  <a:lnTo>
                    <a:pt x="381" y="270"/>
                  </a:lnTo>
                  <a:lnTo>
                    <a:pt x="388" y="260"/>
                  </a:lnTo>
                  <a:lnTo>
                    <a:pt x="394" y="249"/>
                  </a:lnTo>
                  <a:lnTo>
                    <a:pt x="397" y="232"/>
                  </a:lnTo>
                  <a:lnTo>
                    <a:pt x="399" y="219"/>
                  </a:lnTo>
                  <a:lnTo>
                    <a:pt x="394" y="186"/>
                  </a:lnTo>
                  <a:lnTo>
                    <a:pt x="386" y="152"/>
                  </a:lnTo>
                  <a:lnTo>
                    <a:pt x="378" y="138"/>
                  </a:lnTo>
                  <a:lnTo>
                    <a:pt x="370" y="124"/>
                  </a:lnTo>
                  <a:lnTo>
                    <a:pt x="358" y="111"/>
                  </a:lnTo>
                  <a:lnTo>
                    <a:pt x="346" y="97"/>
                  </a:lnTo>
                  <a:lnTo>
                    <a:pt x="313" y="73"/>
                  </a:lnTo>
                  <a:lnTo>
                    <a:pt x="275" y="49"/>
                  </a:lnTo>
                  <a:lnTo>
                    <a:pt x="232" y="30"/>
                  </a:lnTo>
                  <a:lnTo>
                    <a:pt x="189" y="14"/>
                  </a:lnTo>
                  <a:lnTo>
                    <a:pt x="146" y="3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1" y="3"/>
                  </a:lnTo>
                  <a:lnTo>
                    <a:pt x="57" y="9"/>
                  </a:lnTo>
                  <a:lnTo>
                    <a:pt x="35" y="19"/>
                  </a:lnTo>
                  <a:lnTo>
                    <a:pt x="27" y="25"/>
                  </a:lnTo>
                  <a:lnTo>
                    <a:pt x="19" y="32"/>
                  </a:lnTo>
                  <a:lnTo>
                    <a:pt x="11" y="46"/>
                  </a:lnTo>
                  <a:lnTo>
                    <a:pt x="6" y="57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3" y="103"/>
                  </a:lnTo>
                  <a:lnTo>
                    <a:pt x="8" y="122"/>
                  </a:lnTo>
                  <a:lnTo>
                    <a:pt x="19" y="141"/>
                  </a:lnTo>
                  <a:lnTo>
                    <a:pt x="33" y="159"/>
                  </a:lnTo>
                  <a:lnTo>
                    <a:pt x="59" y="186"/>
                  </a:lnTo>
                  <a:lnTo>
                    <a:pt x="89" y="214"/>
                  </a:lnTo>
                  <a:lnTo>
                    <a:pt x="125" y="235"/>
                  </a:lnTo>
                  <a:lnTo>
                    <a:pt x="160" y="256"/>
                  </a:lnTo>
                  <a:lnTo>
                    <a:pt x="197" y="272"/>
                  </a:lnTo>
                  <a:lnTo>
                    <a:pt x="238" y="286"/>
                  </a:lnTo>
                  <a:lnTo>
                    <a:pt x="273" y="295"/>
                  </a:lnTo>
                  <a:lnTo>
                    <a:pt x="307" y="297"/>
                  </a:lnTo>
                  <a:lnTo>
                    <a:pt x="330" y="297"/>
                  </a:lnTo>
                  <a:lnTo>
                    <a:pt x="351" y="292"/>
                  </a:lnTo>
                  <a:lnTo>
                    <a:pt x="367" y="283"/>
                  </a:lnTo>
                  <a:lnTo>
                    <a:pt x="381" y="270"/>
                  </a:lnTo>
                  <a:lnTo>
                    <a:pt x="376" y="265"/>
                  </a:lnTo>
                  <a:lnTo>
                    <a:pt x="381" y="270"/>
                  </a:lnTo>
                  <a:lnTo>
                    <a:pt x="376" y="265"/>
                  </a:lnTo>
                  <a:lnTo>
                    <a:pt x="370" y="260"/>
                  </a:lnTo>
                  <a:lnTo>
                    <a:pt x="358" y="270"/>
                  </a:lnTo>
                  <a:lnTo>
                    <a:pt x="346" y="276"/>
                  </a:lnTo>
                  <a:lnTo>
                    <a:pt x="326" y="281"/>
                  </a:lnTo>
                  <a:lnTo>
                    <a:pt x="307" y="281"/>
                  </a:lnTo>
                  <a:lnTo>
                    <a:pt x="286" y="281"/>
                  </a:lnTo>
                  <a:lnTo>
                    <a:pt x="264" y="276"/>
                  </a:lnTo>
                  <a:lnTo>
                    <a:pt x="240" y="270"/>
                  </a:lnTo>
                  <a:lnTo>
                    <a:pt x="216" y="262"/>
                  </a:lnTo>
                  <a:lnTo>
                    <a:pt x="167" y="243"/>
                  </a:lnTo>
                  <a:lnTo>
                    <a:pt x="121" y="214"/>
                  </a:lnTo>
                  <a:lnTo>
                    <a:pt x="97" y="200"/>
                  </a:lnTo>
                  <a:lnTo>
                    <a:pt x="79" y="184"/>
                  </a:lnTo>
                  <a:lnTo>
                    <a:pt x="59" y="168"/>
                  </a:lnTo>
                  <a:lnTo>
                    <a:pt x="45" y="148"/>
                  </a:lnTo>
                  <a:lnTo>
                    <a:pt x="33" y="132"/>
                  </a:lnTo>
                  <a:lnTo>
                    <a:pt x="24" y="116"/>
                  </a:lnTo>
                  <a:lnTo>
                    <a:pt x="19" y="100"/>
                  </a:lnTo>
                  <a:lnTo>
                    <a:pt x="17" y="83"/>
                  </a:lnTo>
                  <a:lnTo>
                    <a:pt x="17" y="73"/>
                  </a:lnTo>
                  <a:lnTo>
                    <a:pt x="19" y="62"/>
                  </a:lnTo>
                  <a:lnTo>
                    <a:pt x="24" y="54"/>
                  </a:lnTo>
                  <a:lnTo>
                    <a:pt x="33" y="44"/>
                  </a:lnTo>
                  <a:lnTo>
                    <a:pt x="45" y="32"/>
                  </a:lnTo>
                  <a:lnTo>
                    <a:pt x="63" y="25"/>
                  </a:lnTo>
                  <a:lnTo>
                    <a:pt x="84" y="19"/>
                  </a:lnTo>
                  <a:lnTo>
                    <a:pt x="105" y="16"/>
                  </a:lnTo>
                  <a:lnTo>
                    <a:pt x="143" y="19"/>
                  </a:lnTo>
                  <a:lnTo>
                    <a:pt x="186" y="30"/>
                  </a:lnTo>
                  <a:lnTo>
                    <a:pt x="227" y="44"/>
                  </a:lnTo>
                  <a:lnTo>
                    <a:pt x="268" y="62"/>
                  </a:lnTo>
                  <a:lnTo>
                    <a:pt x="302" y="83"/>
                  </a:lnTo>
                  <a:lnTo>
                    <a:pt x="335" y="108"/>
                  </a:lnTo>
                  <a:lnTo>
                    <a:pt x="356" y="132"/>
                  </a:lnTo>
                  <a:lnTo>
                    <a:pt x="364" y="146"/>
                  </a:lnTo>
                  <a:lnTo>
                    <a:pt x="370" y="157"/>
                  </a:lnTo>
                  <a:lnTo>
                    <a:pt x="381" y="189"/>
                  </a:lnTo>
                  <a:lnTo>
                    <a:pt x="383" y="219"/>
                  </a:lnTo>
                  <a:lnTo>
                    <a:pt x="381" y="232"/>
                  </a:lnTo>
                  <a:lnTo>
                    <a:pt x="378" y="243"/>
                  </a:lnTo>
                  <a:lnTo>
                    <a:pt x="376" y="251"/>
                  </a:lnTo>
                  <a:lnTo>
                    <a:pt x="370" y="260"/>
                  </a:lnTo>
                  <a:lnTo>
                    <a:pt x="376" y="265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329120" y="25844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本节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335240" y="292572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.2.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0" name=""/>
          <p:cNvGraphicFramePr/>
          <p:nvPr/>
        </p:nvGraphicFramePr>
        <p:xfrm>
          <a:off x="2411280" y="293760"/>
          <a:ext cx="360072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93760"/>
                    <a:ext cx="36007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2" name=""/>
          <p:cNvGraphicFramePr/>
          <p:nvPr/>
        </p:nvGraphicFramePr>
        <p:xfrm>
          <a:off x="3995640" y="5300640"/>
          <a:ext cx="100800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5300640"/>
                    <a:ext cx="1008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4" name=""/>
          <p:cNvSpPr/>
          <p:nvPr/>
        </p:nvSpPr>
        <p:spPr>
          <a:xfrm>
            <a:off x="2124000" y="155736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:  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从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4+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700360" y="213372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把③代入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979640" y="270828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4+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128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348000" y="3213000"/>
            <a:ext cx="371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 6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195640" y="386064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64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③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：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 6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411280" y="465300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0" name=""/>
          <p:cNvGraphicFramePr/>
          <p:nvPr/>
        </p:nvGraphicFramePr>
        <p:xfrm>
          <a:off x="2411280" y="341280"/>
          <a:ext cx="331308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41280"/>
                    <a:ext cx="331308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2" name=""/>
          <p:cNvSpPr/>
          <p:nvPr/>
        </p:nvSpPr>
        <p:spPr>
          <a:xfrm>
            <a:off x="1781280" y="1452600"/>
            <a:ext cx="5986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解：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代入</a:t>
            </a:r>
            <a:r>
              <a:rPr b="1" lang="zh-CN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①，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3" name=""/>
          <p:cNvGraphicFramePr/>
          <p:nvPr/>
        </p:nvGraphicFramePr>
        <p:xfrm>
          <a:off x="4184640" y="4643280"/>
          <a:ext cx="7747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84640" y="4643280"/>
                    <a:ext cx="7747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5" name=""/>
          <p:cNvSpPr/>
          <p:nvPr/>
        </p:nvSpPr>
        <p:spPr>
          <a:xfrm>
            <a:off x="3176640" y="2055960"/>
            <a:ext cx="459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+2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5.          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411280" y="2595600"/>
            <a:ext cx="5986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解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411280" y="3129120"/>
            <a:ext cx="5986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1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②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411280" y="4081320"/>
            <a:ext cx="5986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9" name=""/>
          <p:cNvGraphicFramePr/>
          <p:nvPr/>
        </p:nvGraphicFramePr>
        <p:xfrm>
          <a:off x="2411280" y="404640"/>
          <a:ext cx="30988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404640"/>
                    <a:ext cx="3098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1" name=""/>
          <p:cNvGraphicFramePr/>
          <p:nvPr/>
        </p:nvGraphicFramePr>
        <p:xfrm>
          <a:off x="4275000" y="4734000"/>
          <a:ext cx="91440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75000" y="4734000"/>
                    <a:ext cx="9144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3" name=""/>
          <p:cNvSpPr/>
          <p:nvPr/>
        </p:nvSpPr>
        <p:spPr>
          <a:xfrm>
            <a:off x="2187720" y="1351080"/>
            <a:ext cx="4724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:  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从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7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187720" y="243828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+2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11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817720" y="187632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把③代入①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2817720" y="336060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3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③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852720" y="2979720"/>
            <a:ext cx="2745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 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997360" y="374328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2817720" y="417024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0" name=""/>
          <p:cNvGraphicFramePr/>
          <p:nvPr/>
        </p:nvGraphicFramePr>
        <p:xfrm>
          <a:off x="2392200" y="398520"/>
          <a:ext cx="31496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2200" y="398520"/>
                    <a:ext cx="3149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2" name=""/>
          <p:cNvGraphicFramePr/>
          <p:nvPr/>
        </p:nvGraphicFramePr>
        <p:xfrm>
          <a:off x="4332240" y="4734000"/>
          <a:ext cx="80028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2240" y="4734000"/>
                    <a:ext cx="8002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4" name=""/>
          <p:cNvSpPr/>
          <p:nvPr/>
        </p:nvSpPr>
        <p:spPr>
          <a:xfrm>
            <a:off x="2187720" y="135108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00"/>
                </a:solidFill>
                <a:latin typeface="黑体"/>
                <a:ea typeface="黑体"/>
              </a:rPr>
              <a:t>解</a:t>
            </a:r>
            <a:r>
              <a:rPr b="1" lang="en-US" sz="2500" spc="-1" strike="noStrike">
                <a:solidFill>
                  <a:srgbClr val="00cc00"/>
                </a:solidFill>
                <a:latin typeface="Times New Roman"/>
                <a:ea typeface="黑体"/>
              </a:rPr>
              <a:t>:  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从①得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，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=3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+1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817720" y="187632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把③代入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276640" y="239400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+3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3=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637000" y="295596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5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817720" y="336384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0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代入③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黑体"/>
                <a:ea typeface="黑体"/>
              </a:rPr>
              <a:t>，得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681280" y="376560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5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y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816280" y="4194000"/>
            <a:ext cx="4724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原方程组的一个解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"/>
          <p:cNvGrpSpPr/>
          <p:nvPr/>
        </p:nvGrpSpPr>
        <p:grpSpPr>
          <a:xfrm>
            <a:off x="78120" y="-3240"/>
            <a:ext cx="1902960" cy="1212120"/>
            <a:chOff x="78120" y="-3240"/>
            <a:chExt cx="1902960" cy="1212120"/>
          </a:xfrm>
        </p:grpSpPr>
        <p:sp>
          <p:nvSpPr>
            <p:cNvPr id="1272" name=""/>
            <p:cNvSpPr/>
            <p:nvPr/>
          </p:nvSpPr>
          <p:spPr>
            <a:xfrm>
              <a:off x="228600" y="38088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中考 试题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78120" y="-3240"/>
              <a:ext cx="1120320" cy="1212120"/>
              <a:chOff x="78120" y="-3240"/>
              <a:chExt cx="1120320" cy="1212120"/>
            </a:xfrm>
          </p:grpSpPr>
          <p:sp>
            <p:nvSpPr>
              <p:cNvPr id="1274" name=""/>
              <p:cNvSpPr/>
              <p:nvPr/>
            </p:nvSpPr>
            <p:spPr>
              <a:xfrm rot="1806000">
                <a:off x="123120" y="582120"/>
                <a:ext cx="914400" cy="426240"/>
              </a:xfrm>
              <a:custGeom>
                <a:avLst/>
                <a:gdLst>
                  <a:gd name="textAreaLeft" fmla="*/ 204120 w 914400"/>
                  <a:gd name="textAreaRight" fmla="*/ 618480 w 914400"/>
                  <a:gd name="textAreaTop" fmla="*/ 56880 h 426240"/>
                  <a:gd name="textAreaBottom" fmla="*/ 369360 h 42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9656" hR="21600" stAng="10800000" swAng="-5400000"/>
                    <a:lnTo>
                      <a:pt x="9784" y="21600"/>
                    </a:lnTo>
                    <a:arcTo wR="9656" hR="21600" stAng="5400000" swAng="-3099610"/>
                    <a:lnTo>
                      <a:pt x="21048" y="7200"/>
                    </a:lnTo>
                    <a:lnTo>
                      <a:pt x="19376" y="0"/>
                    </a:lnTo>
                    <a:lnTo>
                      <a:pt x="16600" y="7200"/>
                    </a:lnTo>
                    <a:lnTo>
                      <a:pt x="18760" y="7200"/>
                    </a:lnTo>
                    <a:arcTo wR="9656" hR="21600" stAng="2300390" swAng="3089424"/>
                    <a:lnTo>
                      <a:pt x="9720" y="21600"/>
                    </a:lnTo>
                    <a:arcTo wR="9656" hR="21600" stAng="5410186" swAng="5389814"/>
                    <a:close/>
                  </a:path>
                  <a:path fill="darkenLess" w="21600" h="21600">
                    <a:moveTo>
                      <a:pt x="0" y="0"/>
                    </a:moveTo>
                    <a:arcTo wR="9656" hR="21600" stAng="10800000" swAng="-5400000"/>
                    <a:lnTo>
                      <a:pt x="9784" y="21600"/>
                    </a:lnTo>
                    <a:arcTo wR="9656" hR="21600" stAng="5400000" swAng="10186"/>
                    <a:lnTo>
                      <a:pt x="9720" y="21600"/>
                    </a:lnTo>
                    <a:arcTo wR="9656" hR="21600" stAng="5410186" swAng="5389814"/>
                    <a:close/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99cc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12769800">
                <a:off x="241200" y="210600"/>
                <a:ext cx="914400" cy="426240"/>
              </a:xfrm>
              <a:custGeom>
                <a:avLst/>
                <a:gdLst>
                  <a:gd name="textAreaLeft" fmla="*/ 204120 w 914400"/>
                  <a:gd name="textAreaRight" fmla="*/ 618480 w 914400"/>
                  <a:gd name="textAreaTop" fmla="*/ 56880 h 426240"/>
                  <a:gd name="textAreaBottom" fmla="*/ 369360 h 42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9656" hR="21600" stAng="10800000" swAng="-5400000"/>
                    <a:lnTo>
                      <a:pt x="9784" y="21600"/>
                    </a:lnTo>
                    <a:arcTo wR="9656" hR="21600" stAng="5400000" swAng="-3099610"/>
                    <a:lnTo>
                      <a:pt x="21048" y="7200"/>
                    </a:lnTo>
                    <a:lnTo>
                      <a:pt x="19376" y="0"/>
                    </a:lnTo>
                    <a:lnTo>
                      <a:pt x="16600" y="7200"/>
                    </a:lnTo>
                    <a:lnTo>
                      <a:pt x="18760" y="7200"/>
                    </a:lnTo>
                    <a:arcTo wR="9656" hR="21600" stAng="2300390" swAng="3089424"/>
                    <a:lnTo>
                      <a:pt x="9720" y="21600"/>
                    </a:lnTo>
                    <a:arcTo wR="9656" hR="21600" stAng="5410186" swAng="5389814"/>
                    <a:close/>
                  </a:path>
                  <a:path fill="darkenLess" w="21600" h="21600">
                    <a:moveTo>
                      <a:pt x="0" y="0"/>
                    </a:moveTo>
                    <a:arcTo wR="9656" hR="21600" stAng="10800000" swAng="-5400000"/>
                    <a:lnTo>
                      <a:pt x="9784" y="21600"/>
                    </a:lnTo>
                    <a:arcTo wR="9656" hR="21600" stAng="5400000" swAng="10186"/>
                    <a:lnTo>
                      <a:pt x="9720" y="21600"/>
                    </a:lnTo>
                    <a:arcTo wR="9656" hR="21600" stAng="5410186" swAng="5389814"/>
                    <a:close/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99cc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6" name=""/>
          <p:cNvSpPr/>
          <p:nvPr/>
        </p:nvSpPr>
        <p:spPr>
          <a:xfrm>
            <a:off x="816120" y="1095480"/>
            <a:ext cx="123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例</a:t>
            </a:r>
            <a:r>
              <a:rPr b="1" lang="en-US" sz="2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1332000" y="1719360"/>
            <a:ext cx="7065720" cy="943560"/>
            <a:chOff x="1332000" y="1719360"/>
            <a:chExt cx="7065720" cy="943560"/>
          </a:xfrm>
        </p:grpSpPr>
        <p:sp>
          <p:nvSpPr>
            <p:cNvPr id="1278" name=""/>
            <p:cNvSpPr/>
            <p:nvPr/>
          </p:nvSpPr>
          <p:spPr>
            <a:xfrm>
              <a:off x="1332000" y="1898640"/>
              <a:ext cx="7065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方程组                                 的解是</a:t>
              </a:r>
              <a:r>
                <a:rPr b="1" lang="zh-CN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9" name=""/>
            <p:cNvGraphicFramePr/>
            <p:nvPr/>
          </p:nvGraphicFramePr>
          <p:xfrm>
            <a:off x="2946240" y="1719360"/>
            <a:ext cx="2121120" cy="81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46240" y="1719360"/>
                      <a:ext cx="2121120" cy="8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81" name=""/>
          <p:cNvGraphicFramePr/>
          <p:nvPr/>
        </p:nvGraphicFramePr>
        <p:xfrm>
          <a:off x="6392880" y="1515960"/>
          <a:ext cx="990720" cy="7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2880" y="1515960"/>
                    <a:ext cx="9907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3" name=""/>
          <p:cNvGrpSpPr/>
          <p:nvPr/>
        </p:nvGrpSpPr>
        <p:grpSpPr>
          <a:xfrm>
            <a:off x="2232000" y="2627280"/>
            <a:ext cx="5278320" cy="3681360"/>
            <a:chOff x="2232000" y="2627280"/>
            <a:chExt cx="5278320" cy="3681360"/>
          </a:xfrm>
        </p:grpSpPr>
        <p:sp>
          <p:nvSpPr>
            <p:cNvPr id="1284" name=""/>
            <p:cNvSpPr/>
            <p:nvPr/>
          </p:nvSpPr>
          <p:spPr>
            <a:xfrm>
              <a:off x="2232000" y="2671920"/>
              <a:ext cx="762120" cy="533160"/>
            </a:xfrm>
            <a:custGeom>
              <a:avLst/>
              <a:gdLst>
                <a:gd name="textAreaLeft" fmla="*/ 173880 w 762120"/>
                <a:gd name="textAreaRight" fmla="*/ 588240 w 762120"/>
                <a:gd name="textAreaTop" fmla="*/ 121680 h 533160"/>
                <a:gd name="textAreaBottom" fmla="*/ 411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</a:rPr>
                <a:t>解析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100320" y="3344760"/>
              <a:ext cx="4410000" cy="27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由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②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</a:rPr>
                <a:t>得 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</a:rPr>
                <a:t>                </a:t>
              </a:r>
              <a:r>
                <a:rPr b="1" i="1" lang="en-US" sz="2300" spc="-1" strike="noStrike">
                  <a:solidFill>
                    <a:srgbClr val="0000ff"/>
                  </a:solidFill>
                  <a:latin typeface="Times New Roman"/>
                </a:rPr>
                <a:t>x </a:t>
              </a:r>
              <a:r>
                <a:rPr b="1" lang="en-US" sz="2300" spc="-1" strike="noStrike">
                  <a:solidFill>
                    <a:srgbClr val="0000ff"/>
                  </a:solidFill>
                  <a:latin typeface="Times New Roman"/>
                </a:rPr>
                <a:t>= 2</a:t>
              </a:r>
              <a:r>
                <a:rPr b="1" lang="en-US" sz="23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-</a:t>
              </a:r>
              <a:r>
                <a:rPr b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2</a:t>
              </a:r>
              <a:r>
                <a:rPr b="1" i="1" lang="en-US" sz="2300" spc="-1" strike="noStrike">
                  <a:solidFill>
                    <a:srgbClr val="0000ff"/>
                  </a:solidFill>
                  <a:latin typeface="Times New Roman"/>
                </a:rPr>
                <a:t>y  </a:t>
              </a:r>
              <a:r>
                <a:rPr b="1" lang="en-US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③</a:t>
              </a:r>
              <a:r>
                <a:rPr b="1" i="1" lang="en-US" sz="2300" spc="-1" strike="noStrike">
                  <a:solidFill>
                    <a:srgbClr val="0000ff"/>
                  </a:solidFill>
                  <a:latin typeface="Times New Roman"/>
                </a:rPr>
                <a:t> 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把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③</a:t>
              </a:r>
              <a:r>
                <a:rPr b="1" lang="zh-CN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代入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①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</a:rPr>
                <a:t>，</a:t>
              </a:r>
              <a:r>
                <a:rPr b="1" lang="zh-CN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得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    </a:t>
              </a:r>
              <a:r>
                <a:rPr b="1" i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y </a:t>
              </a:r>
              <a:r>
                <a:rPr b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 1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把</a:t>
              </a:r>
              <a:r>
                <a:rPr b="1" i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y</a:t>
              </a:r>
              <a:r>
                <a:rPr b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1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代入②得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                </a:t>
              </a:r>
              <a:r>
                <a:rPr b="1" i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x </a:t>
              </a:r>
              <a:r>
                <a:rPr b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 0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，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</a:rPr>
                <a:t>∴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原方程组的解为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86" name=""/>
            <p:cNvGraphicFramePr/>
            <p:nvPr/>
          </p:nvGraphicFramePr>
          <p:xfrm>
            <a:off x="5607000" y="5597640"/>
            <a:ext cx="914400" cy="71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8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07000" y="5597640"/>
                      <a:ext cx="91440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8" name=""/>
            <p:cNvGraphicFramePr/>
            <p:nvPr/>
          </p:nvGraphicFramePr>
          <p:xfrm>
            <a:off x="3144960" y="2627280"/>
            <a:ext cx="3136680" cy="736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8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44960" y="2627280"/>
                      <a:ext cx="313668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0" name=""/>
          <p:cNvGrpSpPr/>
          <p:nvPr/>
        </p:nvGrpSpPr>
        <p:grpSpPr>
          <a:xfrm>
            <a:off x="78120" y="-3240"/>
            <a:ext cx="1902960" cy="1212120"/>
            <a:chOff x="78120" y="-3240"/>
            <a:chExt cx="1902960" cy="1212120"/>
          </a:xfrm>
        </p:grpSpPr>
        <p:sp>
          <p:nvSpPr>
            <p:cNvPr id="1291" name=""/>
            <p:cNvSpPr/>
            <p:nvPr/>
          </p:nvSpPr>
          <p:spPr>
            <a:xfrm>
              <a:off x="228600" y="38088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中考 试题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2" name=""/>
            <p:cNvGrpSpPr/>
            <p:nvPr/>
          </p:nvGrpSpPr>
          <p:grpSpPr>
            <a:xfrm>
              <a:off x="78120" y="-3240"/>
              <a:ext cx="1120320" cy="1212120"/>
              <a:chOff x="78120" y="-3240"/>
              <a:chExt cx="1120320" cy="1212120"/>
            </a:xfrm>
          </p:grpSpPr>
          <p:sp>
            <p:nvSpPr>
              <p:cNvPr id="1293" name=""/>
              <p:cNvSpPr/>
              <p:nvPr/>
            </p:nvSpPr>
            <p:spPr>
              <a:xfrm rot="1806000">
                <a:off x="123120" y="582120"/>
                <a:ext cx="914400" cy="426240"/>
              </a:xfrm>
              <a:custGeom>
                <a:avLst/>
                <a:gdLst>
                  <a:gd name="textAreaLeft" fmla="*/ 204120 w 914400"/>
                  <a:gd name="textAreaRight" fmla="*/ 618480 w 914400"/>
                  <a:gd name="textAreaTop" fmla="*/ 56880 h 426240"/>
                  <a:gd name="textAreaBottom" fmla="*/ 369360 h 42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9656" hR="21600" stAng="10800000" swAng="-5400000"/>
                    <a:lnTo>
                      <a:pt x="9784" y="21600"/>
                    </a:lnTo>
                    <a:arcTo wR="9656" hR="21600" stAng="5400000" swAng="-3099610"/>
                    <a:lnTo>
                      <a:pt x="21048" y="7200"/>
                    </a:lnTo>
                    <a:lnTo>
                      <a:pt x="19376" y="0"/>
                    </a:lnTo>
                    <a:lnTo>
                      <a:pt x="16600" y="7200"/>
                    </a:lnTo>
                    <a:lnTo>
                      <a:pt x="18760" y="7200"/>
                    </a:lnTo>
                    <a:arcTo wR="9656" hR="21600" stAng="2300390" swAng="3089424"/>
                    <a:lnTo>
                      <a:pt x="9720" y="21600"/>
                    </a:lnTo>
                    <a:arcTo wR="9656" hR="21600" stAng="5410186" swAng="5389814"/>
                    <a:close/>
                  </a:path>
                  <a:path fill="darkenLess" w="21600" h="21600">
                    <a:moveTo>
                      <a:pt x="0" y="0"/>
                    </a:moveTo>
                    <a:arcTo wR="9656" hR="21600" stAng="10800000" swAng="-5400000"/>
                    <a:lnTo>
                      <a:pt x="9784" y="21600"/>
                    </a:lnTo>
                    <a:arcTo wR="9656" hR="21600" stAng="5400000" swAng="10186"/>
                    <a:lnTo>
                      <a:pt x="9720" y="21600"/>
                    </a:lnTo>
                    <a:arcTo wR="9656" hR="21600" stAng="5410186" swAng="5389814"/>
                    <a:close/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99cc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12769800">
                <a:off x="241200" y="210600"/>
                <a:ext cx="914400" cy="426240"/>
              </a:xfrm>
              <a:custGeom>
                <a:avLst/>
                <a:gdLst>
                  <a:gd name="textAreaLeft" fmla="*/ 204120 w 914400"/>
                  <a:gd name="textAreaRight" fmla="*/ 618480 w 914400"/>
                  <a:gd name="textAreaTop" fmla="*/ 56880 h 426240"/>
                  <a:gd name="textAreaBottom" fmla="*/ 369360 h 42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9656" hR="21600" stAng="10800000" swAng="-5400000"/>
                    <a:lnTo>
                      <a:pt x="9784" y="21600"/>
                    </a:lnTo>
                    <a:arcTo wR="9656" hR="21600" stAng="5400000" swAng="-3099610"/>
                    <a:lnTo>
                      <a:pt x="21048" y="7200"/>
                    </a:lnTo>
                    <a:lnTo>
                      <a:pt x="19376" y="0"/>
                    </a:lnTo>
                    <a:lnTo>
                      <a:pt x="16600" y="7200"/>
                    </a:lnTo>
                    <a:lnTo>
                      <a:pt x="18760" y="7200"/>
                    </a:lnTo>
                    <a:arcTo wR="9656" hR="21600" stAng="2300390" swAng="3089424"/>
                    <a:lnTo>
                      <a:pt x="9720" y="21600"/>
                    </a:lnTo>
                    <a:arcTo wR="9656" hR="21600" stAng="5410186" swAng="5389814"/>
                    <a:close/>
                  </a:path>
                  <a:path fill="darkenLess" w="21600" h="21600">
                    <a:moveTo>
                      <a:pt x="0" y="0"/>
                    </a:moveTo>
                    <a:arcTo wR="9656" hR="21600" stAng="10800000" swAng="-5400000"/>
                    <a:lnTo>
                      <a:pt x="9784" y="21600"/>
                    </a:lnTo>
                    <a:arcTo wR="9656" hR="21600" stAng="5400000" swAng="10186"/>
                    <a:lnTo>
                      <a:pt x="9720" y="21600"/>
                    </a:lnTo>
                    <a:arcTo wR="9656" hR="21600" stAng="5410186" swAng="5389814"/>
                    <a:close/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99ccff"/>
                </a:solidFill>
                <a:custDash>
                  <a:ds d="100000" sp="1000"/>
                </a:custDash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5" name=""/>
          <p:cNvGrpSpPr/>
          <p:nvPr/>
        </p:nvGrpSpPr>
        <p:grpSpPr>
          <a:xfrm>
            <a:off x="1332000" y="1719360"/>
            <a:ext cx="7065720" cy="943560"/>
            <a:chOff x="1332000" y="1719360"/>
            <a:chExt cx="7065720" cy="943560"/>
          </a:xfrm>
        </p:grpSpPr>
        <p:sp>
          <p:nvSpPr>
            <p:cNvPr id="1296" name=""/>
            <p:cNvSpPr/>
            <p:nvPr/>
          </p:nvSpPr>
          <p:spPr>
            <a:xfrm>
              <a:off x="1332000" y="1898640"/>
              <a:ext cx="7065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方程组                         的解是</a:t>
              </a:r>
              <a:r>
                <a:rPr b="1" lang="zh-CN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 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97" name=""/>
            <p:cNvGraphicFramePr/>
            <p:nvPr/>
          </p:nvGraphicFramePr>
          <p:xfrm>
            <a:off x="2906640" y="1719360"/>
            <a:ext cx="1638360" cy="81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06640" y="1719360"/>
                      <a:ext cx="1638360" cy="8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99" name=""/>
          <p:cNvGrpSpPr/>
          <p:nvPr/>
        </p:nvGrpSpPr>
        <p:grpSpPr>
          <a:xfrm>
            <a:off x="2187720" y="2717640"/>
            <a:ext cx="5263560" cy="3051360"/>
            <a:chOff x="2187720" y="2717640"/>
            <a:chExt cx="5263560" cy="3051360"/>
          </a:xfrm>
        </p:grpSpPr>
        <p:sp>
          <p:nvSpPr>
            <p:cNvPr id="1300" name=""/>
            <p:cNvSpPr/>
            <p:nvPr/>
          </p:nvSpPr>
          <p:spPr>
            <a:xfrm>
              <a:off x="2187720" y="2762280"/>
              <a:ext cx="761760" cy="533160"/>
            </a:xfrm>
            <a:custGeom>
              <a:avLst/>
              <a:gdLst>
                <a:gd name="textAreaLeft" fmla="*/ 173880 w 761760"/>
                <a:gd name="textAreaRight" fmla="*/ 587880 w 761760"/>
                <a:gd name="textAreaTop" fmla="*/ 121680 h 533160"/>
                <a:gd name="textAreaBottom" fmla="*/ 411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</a:rPr>
                <a:t>解析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041640" y="3384360"/>
              <a:ext cx="4409640" cy="21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将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①</a:t>
              </a:r>
              <a:r>
                <a:rPr b="1" lang="zh-CN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代入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②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</a:rPr>
                <a:t>得   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300" spc="-1" strike="noStrike">
                  <a:solidFill>
                    <a:srgbClr val="0000ff"/>
                  </a:solidFill>
                  <a:latin typeface="Times New Roman"/>
                </a:rPr>
                <a:t>              </a:t>
              </a:r>
              <a:r>
                <a:rPr b="1" i="1" lang="en-US" sz="2300" spc="-1" strike="noStrike">
                  <a:solidFill>
                    <a:srgbClr val="0000ff"/>
                  </a:solidFill>
                  <a:latin typeface="Times New Roman"/>
                </a:rPr>
                <a:t>x </a:t>
              </a:r>
              <a:r>
                <a:rPr b="1" lang="en-US" sz="2300" spc="-1" strike="noStrike">
                  <a:solidFill>
                    <a:srgbClr val="0000ff"/>
                  </a:solidFill>
                  <a:latin typeface="Times New Roman"/>
                </a:rPr>
                <a:t>= 1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把</a:t>
              </a:r>
              <a:r>
                <a:rPr b="1" i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x</a:t>
              </a:r>
              <a:r>
                <a:rPr b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1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代入</a:t>
              </a: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</a:rPr>
                <a:t>①</a:t>
              </a:r>
              <a:r>
                <a:rPr b="1" i="1" lang="zh-CN" sz="23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3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得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              </a:t>
              </a:r>
              <a:r>
                <a:rPr b="1" i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y </a:t>
              </a:r>
              <a:r>
                <a:rPr b="1" lang="en-US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 2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所以原方程组的解为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02" name=""/>
            <p:cNvGraphicFramePr/>
            <p:nvPr/>
          </p:nvGraphicFramePr>
          <p:xfrm>
            <a:off x="5805360" y="5057640"/>
            <a:ext cx="939240" cy="71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05360" y="5057640"/>
                      <a:ext cx="93924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4" name=""/>
            <p:cNvGraphicFramePr/>
            <p:nvPr/>
          </p:nvGraphicFramePr>
          <p:xfrm>
            <a:off x="3159000" y="2717640"/>
            <a:ext cx="3377880" cy="736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59000" y="2717640"/>
                      <a:ext cx="337788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06" name=""/>
          <p:cNvGraphicFramePr/>
          <p:nvPr/>
        </p:nvGraphicFramePr>
        <p:xfrm>
          <a:off x="5921280" y="1494000"/>
          <a:ext cx="863640" cy="78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21280" y="1494000"/>
                    <a:ext cx="8636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8" name=""/>
          <p:cNvSpPr/>
          <p:nvPr/>
        </p:nvSpPr>
        <p:spPr>
          <a:xfrm>
            <a:off x="816120" y="1095480"/>
            <a:ext cx="1234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6600"/>
                </a:solidFill>
                <a:latin typeface="Times New Roman"/>
                <a:ea typeface="黑体"/>
              </a:rPr>
              <a:t>例</a:t>
            </a:r>
            <a:r>
              <a:rPr b="1" lang="en-US" sz="26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9" name=""/>
          <p:cNvGrpSpPr/>
          <p:nvPr/>
        </p:nvGrpSpPr>
        <p:grpSpPr>
          <a:xfrm>
            <a:off x="252360" y="44280"/>
            <a:ext cx="2476440" cy="647640"/>
            <a:chOff x="252360" y="44280"/>
            <a:chExt cx="2476440" cy="647640"/>
          </a:xfrm>
        </p:grpSpPr>
        <p:sp>
          <p:nvSpPr>
            <p:cNvPr id="1310" name=""/>
            <p:cNvSpPr/>
            <p:nvPr/>
          </p:nvSpPr>
          <p:spPr>
            <a:xfrm>
              <a:off x="252360" y="44280"/>
              <a:ext cx="24764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62680" y="503640"/>
              <a:ext cx="210600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2" name=""/>
            <p:cNvGrpSpPr/>
            <p:nvPr/>
          </p:nvGrpSpPr>
          <p:grpSpPr>
            <a:xfrm>
              <a:off x="298800" y="91080"/>
              <a:ext cx="518400" cy="589320"/>
              <a:chOff x="298800" y="91080"/>
              <a:chExt cx="518400" cy="589320"/>
            </a:xfrm>
          </p:grpSpPr>
          <p:grpSp>
            <p:nvGrpSpPr>
              <p:cNvPr id="1313" name=""/>
              <p:cNvGrpSpPr/>
              <p:nvPr/>
            </p:nvGrpSpPr>
            <p:grpSpPr>
              <a:xfrm>
                <a:off x="333720" y="154080"/>
                <a:ext cx="483480" cy="526320"/>
                <a:chOff x="333720" y="154080"/>
                <a:chExt cx="483480" cy="52632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361440" y="154080"/>
                  <a:ext cx="41688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5" name=""/>
                <p:cNvGrpSpPr/>
                <p:nvPr/>
              </p:nvGrpSpPr>
              <p:grpSpPr>
                <a:xfrm>
                  <a:off x="333720" y="223920"/>
                  <a:ext cx="483480" cy="456480"/>
                  <a:chOff x="333720" y="223920"/>
                  <a:chExt cx="483480" cy="456480"/>
                </a:xfrm>
              </p:grpSpPr>
              <p:sp>
                <p:nvSpPr>
                  <p:cNvPr id="1316" name="未知"/>
                  <p:cNvSpPr/>
                  <p:nvPr/>
                </p:nvSpPr>
                <p:spPr>
                  <a:xfrm>
                    <a:off x="333720" y="340200"/>
                    <a:ext cx="3675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未知"/>
                  <p:cNvSpPr/>
                  <p:nvPr/>
                </p:nvSpPr>
                <p:spPr>
                  <a:xfrm>
                    <a:off x="333720" y="300240"/>
                    <a:ext cx="3675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未知"/>
                  <p:cNvSpPr/>
                  <p:nvPr/>
                </p:nvSpPr>
                <p:spPr>
                  <a:xfrm>
                    <a:off x="367200" y="370080"/>
                    <a:ext cx="2898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未知"/>
                  <p:cNvSpPr/>
                  <p:nvPr/>
                </p:nvSpPr>
                <p:spPr>
                  <a:xfrm>
                    <a:off x="489600" y="439560"/>
                    <a:ext cx="334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未知"/>
                  <p:cNvSpPr/>
                  <p:nvPr/>
                </p:nvSpPr>
                <p:spPr>
                  <a:xfrm>
                    <a:off x="479160" y="544680"/>
                    <a:ext cx="64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未知"/>
                  <p:cNvSpPr/>
                  <p:nvPr/>
                </p:nvSpPr>
                <p:spPr>
                  <a:xfrm>
                    <a:off x="384840" y="540000"/>
                    <a:ext cx="2754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未知"/>
                  <p:cNvSpPr/>
                  <p:nvPr/>
                </p:nvSpPr>
                <p:spPr>
                  <a:xfrm>
                    <a:off x="636840" y="448560"/>
                    <a:ext cx="14148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未知"/>
                  <p:cNvSpPr/>
                  <p:nvPr/>
                </p:nvSpPr>
                <p:spPr>
                  <a:xfrm>
                    <a:off x="605160" y="223920"/>
                    <a:ext cx="21204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未知"/>
                  <p:cNvSpPr/>
                  <p:nvPr/>
                </p:nvSpPr>
                <p:spPr>
                  <a:xfrm>
                    <a:off x="621000" y="244800"/>
                    <a:ext cx="17280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5" name=""/>
              <p:cNvGrpSpPr/>
              <p:nvPr/>
            </p:nvGrpSpPr>
            <p:grpSpPr>
              <a:xfrm>
                <a:off x="298800" y="91080"/>
                <a:ext cx="243720" cy="168120"/>
                <a:chOff x="298800" y="91080"/>
                <a:chExt cx="243720" cy="168120"/>
              </a:xfrm>
            </p:grpSpPr>
            <p:sp>
              <p:nvSpPr>
                <p:cNvPr id="1326" name="未知"/>
                <p:cNvSpPr/>
                <p:nvPr/>
              </p:nvSpPr>
              <p:spPr>
                <a:xfrm>
                  <a:off x="298800" y="160920"/>
                  <a:ext cx="14148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未知"/>
                <p:cNvSpPr/>
                <p:nvPr/>
              </p:nvSpPr>
              <p:spPr>
                <a:xfrm>
                  <a:off x="369360" y="91080"/>
                  <a:ext cx="11772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未知"/>
                <p:cNvSpPr/>
                <p:nvPr/>
              </p:nvSpPr>
              <p:spPr>
                <a:xfrm>
                  <a:off x="471960" y="111960"/>
                  <a:ext cx="7056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9" name=""/>
            <p:cNvSpPr txBox="1"/>
            <p:nvPr/>
          </p:nvSpPr>
          <p:spPr>
            <a:xfrm>
              <a:off x="858240" y="92160"/>
              <a:ext cx="182052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课堂小结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276920" y="413640"/>
              <a:ext cx="85572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4026240" y="18900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这节课我们学习了哪些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知识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39640" y="765000"/>
            <a:ext cx="8101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解二元一次方程组的基本思路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240720" y="1916280"/>
            <a:ext cx="6271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、代入消元法的具体做法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40720" y="141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消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161960" y="141300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二元一次方程组通过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消元转化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成一元一次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55640" y="2565360"/>
            <a:ext cx="78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把其中一个方程的某一个未知数用含有另一个未知数的代数式表示，然后把它代入到另一个方程中，便得到一个一元一次方程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705040" y="3933720"/>
            <a:ext cx="6271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、代入消元法要注意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1680480" y="5033880"/>
            <a:ext cx="27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作业：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P8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练习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539640" y="2133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如果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＋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=1.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那么用含有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代数式表示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代数式是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_____________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826920" y="371628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在方程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+4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16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当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时，</a:t>
            </a:r>
            <a:r>
              <a:rPr b="1" i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当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=-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时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85800" y="25671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1.2-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50920" y="189000"/>
            <a:ext cx="2476440" cy="736200"/>
            <a:chOff x="250920" y="189000"/>
            <a:chExt cx="2476440" cy="736200"/>
          </a:xfrm>
        </p:grpSpPr>
        <p:sp>
          <p:nvSpPr>
            <p:cNvPr id="1079" name=""/>
            <p:cNvSpPr/>
            <p:nvPr/>
          </p:nvSpPr>
          <p:spPr>
            <a:xfrm>
              <a:off x="250920" y="189000"/>
              <a:ext cx="24764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61240" y="648360"/>
              <a:ext cx="210600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297360" y="235800"/>
              <a:ext cx="518400" cy="589320"/>
              <a:chOff x="297360" y="235800"/>
              <a:chExt cx="518400" cy="589320"/>
            </a:xfrm>
          </p:grpSpPr>
          <p:grpSp>
            <p:nvGrpSpPr>
              <p:cNvPr id="1082" name=""/>
              <p:cNvGrpSpPr/>
              <p:nvPr/>
            </p:nvGrpSpPr>
            <p:grpSpPr>
              <a:xfrm>
                <a:off x="332280" y="298800"/>
                <a:ext cx="483480" cy="526320"/>
                <a:chOff x="332280" y="298800"/>
                <a:chExt cx="483480" cy="52632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360000" y="298800"/>
                  <a:ext cx="41688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4" name=""/>
                <p:cNvGrpSpPr/>
                <p:nvPr/>
              </p:nvGrpSpPr>
              <p:grpSpPr>
                <a:xfrm>
                  <a:off x="332280" y="368640"/>
                  <a:ext cx="483480" cy="456480"/>
                  <a:chOff x="332280" y="368640"/>
                  <a:chExt cx="483480" cy="456480"/>
                </a:xfrm>
              </p:grpSpPr>
              <p:sp>
                <p:nvSpPr>
                  <p:cNvPr id="1085" name="未知"/>
                  <p:cNvSpPr/>
                  <p:nvPr/>
                </p:nvSpPr>
                <p:spPr>
                  <a:xfrm>
                    <a:off x="332280" y="484920"/>
                    <a:ext cx="3675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未知"/>
                  <p:cNvSpPr/>
                  <p:nvPr/>
                </p:nvSpPr>
                <p:spPr>
                  <a:xfrm>
                    <a:off x="332280" y="444960"/>
                    <a:ext cx="3675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未知"/>
                  <p:cNvSpPr/>
                  <p:nvPr/>
                </p:nvSpPr>
                <p:spPr>
                  <a:xfrm>
                    <a:off x="365760" y="514800"/>
                    <a:ext cx="2898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未知"/>
                  <p:cNvSpPr/>
                  <p:nvPr/>
                </p:nvSpPr>
                <p:spPr>
                  <a:xfrm>
                    <a:off x="488160" y="584280"/>
                    <a:ext cx="334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未知"/>
                  <p:cNvSpPr/>
                  <p:nvPr/>
                </p:nvSpPr>
                <p:spPr>
                  <a:xfrm>
                    <a:off x="477720" y="689400"/>
                    <a:ext cx="64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未知"/>
                  <p:cNvSpPr/>
                  <p:nvPr/>
                </p:nvSpPr>
                <p:spPr>
                  <a:xfrm>
                    <a:off x="383400" y="684720"/>
                    <a:ext cx="2754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未知"/>
                  <p:cNvSpPr/>
                  <p:nvPr/>
                </p:nvSpPr>
                <p:spPr>
                  <a:xfrm>
                    <a:off x="635400" y="593280"/>
                    <a:ext cx="14148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未知"/>
                  <p:cNvSpPr/>
                  <p:nvPr/>
                </p:nvSpPr>
                <p:spPr>
                  <a:xfrm>
                    <a:off x="603720" y="368640"/>
                    <a:ext cx="21204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未知"/>
                  <p:cNvSpPr/>
                  <p:nvPr/>
                </p:nvSpPr>
                <p:spPr>
                  <a:xfrm>
                    <a:off x="619560" y="389520"/>
                    <a:ext cx="17280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4" name=""/>
              <p:cNvGrpSpPr/>
              <p:nvPr/>
            </p:nvGrpSpPr>
            <p:grpSpPr>
              <a:xfrm>
                <a:off x="297360" y="235800"/>
                <a:ext cx="243720" cy="168120"/>
                <a:chOff x="297360" y="235800"/>
                <a:chExt cx="243720" cy="168120"/>
              </a:xfrm>
            </p:grpSpPr>
            <p:sp>
              <p:nvSpPr>
                <p:cNvPr id="1095" name="未知"/>
                <p:cNvSpPr/>
                <p:nvPr/>
              </p:nvSpPr>
              <p:spPr>
                <a:xfrm>
                  <a:off x="297360" y="305640"/>
                  <a:ext cx="14148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未知"/>
                <p:cNvSpPr/>
                <p:nvPr/>
              </p:nvSpPr>
              <p:spPr>
                <a:xfrm>
                  <a:off x="367920" y="235800"/>
                  <a:ext cx="11772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未知"/>
                <p:cNvSpPr/>
                <p:nvPr/>
              </p:nvSpPr>
              <p:spPr>
                <a:xfrm>
                  <a:off x="470520" y="256680"/>
                  <a:ext cx="7056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8" name=""/>
            <p:cNvSpPr txBox="1"/>
            <p:nvPr/>
          </p:nvSpPr>
          <p:spPr>
            <a:xfrm>
              <a:off x="856800" y="236880"/>
              <a:ext cx="182052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知识回味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274040" y="558360"/>
              <a:ext cx="855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3565080" y="4148280"/>
            <a:ext cx="359280" cy="844200"/>
            <a:chOff x="3565080" y="4148280"/>
            <a:chExt cx="359280" cy="844200"/>
          </a:xfrm>
        </p:grpSpPr>
        <p:sp>
          <p:nvSpPr>
            <p:cNvPr id="1101" name=""/>
            <p:cNvSpPr/>
            <p:nvPr/>
          </p:nvSpPr>
          <p:spPr>
            <a:xfrm>
              <a:off x="3577680" y="450252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565080" y="414828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589200" y="4583520"/>
              <a:ext cx="286560" cy="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3565440" y="5372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4861440" y="4292640"/>
            <a:ext cx="1544040" cy="952200"/>
            <a:chOff x="4861440" y="4292640"/>
            <a:chExt cx="1544040" cy="952200"/>
          </a:xfrm>
        </p:grpSpPr>
        <p:sp>
          <p:nvSpPr>
            <p:cNvPr id="1106" name=""/>
            <p:cNvSpPr/>
            <p:nvPr/>
          </p:nvSpPr>
          <p:spPr>
            <a:xfrm>
              <a:off x="4861440" y="450864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微软雅黑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微软雅黑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5347080" y="4292640"/>
              <a:ext cx="1058400" cy="952200"/>
              <a:chOff x="5347080" y="4292640"/>
              <a:chExt cx="1058400" cy="952200"/>
            </a:xfrm>
          </p:grpSpPr>
          <p:sp>
            <p:nvSpPr>
              <p:cNvPr id="1108" name=""/>
              <p:cNvSpPr/>
              <p:nvPr/>
            </p:nvSpPr>
            <p:spPr>
              <a:xfrm>
                <a:off x="5347080" y="4292640"/>
                <a:ext cx="1058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0000"/>
                    </a:solidFill>
                    <a:latin typeface="Times New Roman"/>
                    <a:ea typeface="微软雅黑"/>
                  </a:rPr>
                  <a:t>16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600" spc="-1" strike="noStrike">
                    <a:solidFill>
                      <a:srgbClr val="ff0000"/>
                    </a:solidFill>
                    <a:latin typeface="Times New Roman"/>
                    <a:ea typeface="微软雅黑"/>
                  </a:rPr>
                  <a:t>3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  <a:ea typeface="微软雅黑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659560" y="4724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微软雅黑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437440" y="4795920"/>
                <a:ext cx="863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1" name=""/>
          <p:cNvGrpSpPr/>
          <p:nvPr/>
        </p:nvGrpSpPr>
        <p:grpSpPr>
          <a:xfrm>
            <a:off x="5365800" y="5229360"/>
            <a:ext cx="1524960" cy="952200"/>
            <a:chOff x="5365800" y="5229360"/>
            <a:chExt cx="1524960" cy="952200"/>
          </a:xfrm>
        </p:grpSpPr>
        <p:sp>
          <p:nvSpPr>
            <p:cNvPr id="1112" name=""/>
            <p:cNvSpPr/>
            <p:nvPr/>
          </p:nvSpPr>
          <p:spPr>
            <a:xfrm>
              <a:off x="5365800" y="5445360"/>
              <a:ext cx="56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微软雅黑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微软雅黑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3" name=""/>
            <p:cNvGrpSpPr/>
            <p:nvPr/>
          </p:nvGrpSpPr>
          <p:grpSpPr>
            <a:xfrm>
              <a:off x="5852160" y="5229360"/>
              <a:ext cx="1038600" cy="952200"/>
              <a:chOff x="5852160" y="5229360"/>
              <a:chExt cx="1038600" cy="952200"/>
            </a:xfrm>
          </p:grpSpPr>
          <p:sp>
            <p:nvSpPr>
              <p:cNvPr id="1114" name=""/>
              <p:cNvSpPr/>
              <p:nvPr/>
            </p:nvSpPr>
            <p:spPr>
              <a:xfrm>
                <a:off x="5852160" y="5229360"/>
                <a:ext cx="1038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0000"/>
                    </a:solidFill>
                    <a:latin typeface="Times New Roman"/>
                    <a:ea typeface="微软雅黑"/>
                  </a:rPr>
                  <a:t>16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600" spc="-1" strike="noStrike">
                    <a:solidFill>
                      <a:srgbClr val="ff0000"/>
                    </a:solidFill>
                    <a:latin typeface="Times New Roman"/>
                    <a:ea typeface="微软雅黑"/>
                  </a:rPr>
                  <a:t>4</a:t>
                </a:r>
                <a:r>
                  <a:rPr b="1" i="1" lang="en-US" sz="2600" spc="-1" strike="noStrike">
                    <a:solidFill>
                      <a:srgbClr val="ff0000"/>
                    </a:solidFill>
                    <a:latin typeface="Times New Roman"/>
                    <a:ea typeface="微软雅黑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164280" y="5661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  <a:ea typeface="微软雅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942160" y="5732640"/>
                <a:ext cx="863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7" name=""/>
          <p:cNvSpPr/>
          <p:nvPr/>
        </p:nvSpPr>
        <p:spPr>
          <a:xfrm>
            <a:off x="971640" y="90792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在二元一次方程中，用含有一个未知数的代数式表示另一个未知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539640" y="765000"/>
            <a:ext cx="8326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在上节课的问题中，我们知道小亮家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月份共用了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6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天然气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0t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水。现在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来解决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然气费多少元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t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水费多少元的问题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619280" y="2349360"/>
            <a:ext cx="5759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首先，要知道天然气和水的费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2916360" y="2924280"/>
          <a:ext cx="324000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924280"/>
                    <a:ext cx="324000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2" name=""/>
          <p:cNvSpPr/>
          <p:nvPr/>
        </p:nvSpPr>
        <p:spPr>
          <a:xfrm flipH="1" flipV="1">
            <a:off x="2483640" y="4868280"/>
            <a:ext cx="5651640" cy="1152360"/>
          </a:xfrm>
          <a:prstGeom prst="wedgeRoundRectCallout">
            <a:avLst>
              <a:gd name="adj1" fmla="val 69435"/>
              <a:gd name="adj2" fmla="val -427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我会解一元一次方程，可是现在方程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都有两个未知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3" name="" descr=""/>
          <p:cNvPicPr/>
          <p:nvPr/>
        </p:nvPicPr>
        <p:blipFill>
          <a:blip r:embed="rId3"/>
          <a:stretch/>
        </p:blipFill>
        <p:spPr>
          <a:xfrm>
            <a:off x="468360" y="5157720"/>
            <a:ext cx="103824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124" name=""/>
          <p:cNvGrpSpPr/>
          <p:nvPr/>
        </p:nvGrpSpPr>
        <p:grpSpPr>
          <a:xfrm>
            <a:off x="250920" y="115920"/>
            <a:ext cx="2476440" cy="736200"/>
            <a:chOff x="250920" y="115920"/>
            <a:chExt cx="2476440" cy="736200"/>
          </a:xfrm>
        </p:grpSpPr>
        <p:sp>
          <p:nvSpPr>
            <p:cNvPr id="1125" name=""/>
            <p:cNvSpPr/>
            <p:nvPr/>
          </p:nvSpPr>
          <p:spPr>
            <a:xfrm>
              <a:off x="250920" y="115920"/>
              <a:ext cx="24764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61240" y="575280"/>
              <a:ext cx="210600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7" name=""/>
            <p:cNvGrpSpPr/>
            <p:nvPr/>
          </p:nvGrpSpPr>
          <p:grpSpPr>
            <a:xfrm>
              <a:off x="297360" y="162720"/>
              <a:ext cx="518400" cy="589320"/>
              <a:chOff x="297360" y="162720"/>
              <a:chExt cx="518400" cy="589320"/>
            </a:xfrm>
          </p:grpSpPr>
          <p:grpSp>
            <p:nvGrpSpPr>
              <p:cNvPr id="1128" name=""/>
              <p:cNvGrpSpPr/>
              <p:nvPr/>
            </p:nvGrpSpPr>
            <p:grpSpPr>
              <a:xfrm>
                <a:off x="332280" y="225720"/>
                <a:ext cx="483480" cy="526320"/>
                <a:chOff x="332280" y="225720"/>
                <a:chExt cx="483480" cy="52632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360000" y="225720"/>
                  <a:ext cx="41688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0" name=""/>
                <p:cNvGrpSpPr/>
                <p:nvPr/>
              </p:nvGrpSpPr>
              <p:grpSpPr>
                <a:xfrm>
                  <a:off x="332280" y="295560"/>
                  <a:ext cx="483480" cy="456480"/>
                  <a:chOff x="332280" y="295560"/>
                  <a:chExt cx="483480" cy="456480"/>
                </a:xfrm>
              </p:grpSpPr>
              <p:sp>
                <p:nvSpPr>
                  <p:cNvPr id="1131" name="未知"/>
                  <p:cNvSpPr/>
                  <p:nvPr/>
                </p:nvSpPr>
                <p:spPr>
                  <a:xfrm>
                    <a:off x="332280" y="411840"/>
                    <a:ext cx="3675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未知"/>
                  <p:cNvSpPr/>
                  <p:nvPr/>
                </p:nvSpPr>
                <p:spPr>
                  <a:xfrm>
                    <a:off x="332280" y="371880"/>
                    <a:ext cx="3675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未知"/>
                  <p:cNvSpPr/>
                  <p:nvPr/>
                </p:nvSpPr>
                <p:spPr>
                  <a:xfrm>
                    <a:off x="365760" y="441720"/>
                    <a:ext cx="2898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未知"/>
                  <p:cNvSpPr/>
                  <p:nvPr/>
                </p:nvSpPr>
                <p:spPr>
                  <a:xfrm>
                    <a:off x="488160" y="511200"/>
                    <a:ext cx="334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未知"/>
                  <p:cNvSpPr/>
                  <p:nvPr/>
                </p:nvSpPr>
                <p:spPr>
                  <a:xfrm>
                    <a:off x="477720" y="616320"/>
                    <a:ext cx="64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未知"/>
                  <p:cNvSpPr/>
                  <p:nvPr/>
                </p:nvSpPr>
                <p:spPr>
                  <a:xfrm>
                    <a:off x="383400" y="611640"/>
                    <a:ext cx="2754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未知"/>
                  <p:cNvSpPr/>
                  <p:nvPr/>
                </p:nvSpPr>
                <p:spPr>
                  <a:xfrm>
                    <a:off x="635400" y="520200"/>
                    <a:ext cx="14148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未知"/>
                  <p:cNvSpPr/>
                  <p:nvPr/>
                </p:nvSpPr>
                <p:spPr>
                  <a:xfrm>
                    <a:off x="603720" y="295560"/>
                    <a:ext cx="21204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未知"/>
                  <p:cNvSpPr/>
                  <p:nvPr/>
                </p:nvSpPr>
                <p:spPr>
                  <a:xfrm>
                    <a:off x="619560" y="316440"/>
                    <a:ext cx="17280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297360" y="162720"/>
                <a:ext cx="243720" cy="168120"/>
                <a:chOff x="297360" y="162720"/>
                <a:chExt cx="243720" cy="168120"/>
              </a:xfrm>
            </p:grpSpPr>
            <p:sp>
              <p:nvSpPr>
                <p:cNvPr id="1141" name="未知"/>
                <p:cNvSpPr/>
                <p:nvPr/>
              </p:nvSpPr>
              <p:spPr>
                <a:xfrm>
                  <a:off x="297360" y="232560"/>
                  <a:ext cx="14148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未知"/>
                <p:cNvSpPr/>
                <p:nvPr/>
              </p:nvSpPr>
              <p:spPr>
                <a:xfrm>
                  <a:off x="367920" y="162720"/>
                  <a:ext cx="11772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未知"/>
                <p:cNvSpPr/>
                <p:nvPr/>
              </p:nvSpPr>
              <p:spPr>
                <a:xfrm>
                  <a:off x="470520" y="183600"/>
                  <a:ext cx="7056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4" name=""/>
            <p:cNvSpPr txBox="1"/>
            <p:nvPr/>
          </p:nvSpPr>
          <p:spPr>
            <a:xfrm>
              <a:off x="856800" y="163800"/>
              <a:ext cx="182052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合作探究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274040" y="485280"/>
              <a:ext cx="855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"/>
          <p:cNvSpPr/>
          <p:nvPr/>
        </p:nvSpPr>
        <p:spPr>
          <a:xfrm>
            <a:off x="4230360" y="3960720"/>
            <a:ext cx="891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想一想：如何解这个二元一次方程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310720" y="37148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我会解一元一次方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8" name=""/>
          <p:cNvGraphicFramePr/>
          <p:nvPr/>
        </p:nvGraphicFramePr>
        <p:xfrm>
          <a:off x="3132000" y="476280"/>
          <a:ext cx="410400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476280"/>
                    <a:ext cx="410400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0" name=""/>
          <p:cNvGrpSpPr/>
          <p:nvPr/>
        </p:nvGrpSpPr>
        <p:grpSpPr>
          <a:xfrm>
            <a:off x="1096200" y="476280"/>
            <a:ext cx="2685240" cy="1081080"/>
            <a:chOff x="1096200" y="476280"/>
            <a:chExt cx="2685240" cy="1081080"/>
          </a:xfrm>
        </p:grpSpPr>
        <p:sp>
          <p:nvSpPr>
            <p:cNvPr id="1151" name=""/>
            <p:cNvSpPr/>
            <p:nvPr/>
          </p:nvSpPr>
          <p:spPr>
            <a:xfrm>
              <a:off x="1096200" y="836640"/>
              <a:ext cx="973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天然气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348000" y="476280"/>
              <a:ext cx="433440" cy="431640"/>
            </a:xfrm>
            <a:prstGeom prst="borderCallout1">
              <a:avLst>
                <a:gd name="adj1" fmla="val 18750"/>
                <a:gd name="adj2" fmla="val -8333"/>
                <a:gd name="adj3" fmla="val 131986"/>
                <a:gd name="adj4" fmla="val -239925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48000" y="1125360"/>
              <a:ext cx="432000" cy="432000"/>
            </a:xfrm>
            <a:prstGeom prst="borderCallout1">
              <a:avLst>
                <a:gd name="adj1" fmla="val 18750"/>
                <a:gd name="adj2" fmla="val -8333"/>
                <a:gd name="adj3" fmla="val -14337"/>
                <a:gd name="adj4" fmla="val -244486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924360" y="476280"/>
            <a:ext cx="2592360" cy="1713960"/>
            <a:chOff x="3924360" y="476280"/>
            <a:chExt cx="2592360" cy="1713960"/>
          </a:xfrm>
        </p:grpSpPr>
        <p:sp>
          <p:nvSpPr>
            <p:cNvPr id="1155" name=""/>
            <p:cNvSpPr/>
            <p:nvPr/>
          </p:nvSpPr>
          <p:spPr>
            <a:xfrm>
              <a:off x="3924360" y="1125360"/>
              <a:ext cx="360360" cy="436680"/>
            </a:xfrm>
            <a:prstGeom prst="borderCallout1">
              <a:avLst>
                <a:gd name="adj1" fmla="val 18750"/>
                <a:gd name="adj2" fmla="val -8333"/>
                <a:gd name="adj3" fmla="val 186546"/>
                <a:gd name="adj4" fmla="val 448898"/>
              </a:avLst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995640" y="476280"/>
              <a:ext cx="360360" cy="507960"/>
            </a:xfrm>
            <a:prstGeom prst="borderCallout1">
              <a:avLst>
                <a:gd name="adj1" fmla="val 18750"/>
                <a:gd name="adj2" fmla="val -8333"/>
                <a:gd name="adj3" fmla="val 290314"/>
                <a:gd name="adj4" fmla="val 433481"/>
              </a:avLst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64000" y="1700280"/>
              <a:ext cx="1152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8000"/>
                  </a:solidFill>
                  <a:latin typeface="Times New Roman"/>
                  <a:ea typeface="黑体"/>
                </a:rPr>
                <a:t>水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"/>
          <p:cNvSpPr/>
          <p:nvPr/>
        </p:nvSpPr>
        <p:spPr>
          <a:xfrm>
            <a:off x="684360" y="2421000"/>
            <a:ext cx="8135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方程①和②中的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都表示小亮家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月份的天然气费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都表示水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885040" y="3573360"/>
            <a:ext cx="3205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因此方程②中的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分别与方程①中的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相同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微软雅黑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50920" y="472428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于是我们由②式得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+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0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可以把③代入①式得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+20)+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60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H="1" flipV="1">
            <a:off x="5651640" y="5733360"/>
            <a:ext cx="3024000" cy="865080"/>
          </a:xfrm>
          <a:prstGeom prst="wedgeRoundRectCallout">
            <a:avLst>
              <a:gd name="adj1" fmla="val 68736"/>
              <a:gd name="adj2" fmla="val 4467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黑体"/>
                <a:ea typeface="黑体"/>
              </a:rPr>
              <a:t>啊！这个一元一次方程我会解</a:t>
            </a:r>
            <a:r>
              <a:rPr b="1" lang="zh-CN" sz="2600" spc="-1" strike="noStrike">
                <a:solidFill>
                  <a:srgbClr val="bbe0e3"/>
                </a:solidFill>
                <a:latin typeface="Times New Roman"/>
                <a:ea typeface="黑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755640" y="4076640"/>
            <a:ext cx="7704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又小亮家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月份共用了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6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然气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0t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则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然气费为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元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t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水费为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元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3995640" y="2798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643280" y="33908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443640" y="4724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564000" y="4724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7" name=""/>
          <p:cNvGraphicFramePr/>
          <p:nvPr/>
        </p:nvGraphicFramePr>
        <p:xfrm>
          <a:off x="2411280" y="476280"/>
          <a:ext cx="3600720" cy="10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476280"/>
                    <a:ext cx="360072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9" name=""/>
          <p:cNvSpPr/>
          <p:nvPr/>
        </p:nvSpPr>
        <p:spPr>
          <a:xfrm>
            <a:off x="1403280" y="1557360"/>
            <a:ext cx="39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由②式得：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+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0 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258920" y="217980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把③代入①式得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+20)+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60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354760" y="2654280"/>
            <a:ext cx="17308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解方程④，得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018160" y="3390840"/>
            <a:ext cx="29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2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代入③，得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521160" y="5445000"/>
            <a:ext cx="79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问题：把③代入②可以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468360" y="549360"/>
            <a:ext cx="8101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讨论交流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解二元一次方程组的基本思路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具体做法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79280" y="3500280"/>
            <a:ext cx="87138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在上面的几个例子中，消去一个未知数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法是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把其中一个方程的某一个未知数用含有另一个未知数的代数式表示，然后把它代入到另一个方程中，便得到一个一元一次方程</a:t>
            </a:r>
            <a:r>
              <a:rPr b="1" lang="en-US" sz="2500" spc="-1" strike="noStrike">
                <a:solidFill>
                  <a:srgbClr val="000066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79280" y="1773360"/>
            <a:ext cx="874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解二元一次方程组的基本思路是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消去一个未知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简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消元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得到一个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元一次方程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然后解这个一元一次方程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919880" y="5661000"/>
            <a:ext cx="5386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这种解方程组的方法叫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代入消元法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简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代入法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2268360" y="40464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例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324000" y="0"/>
            <a:ext cx="1708200" cy="1467000"/>
            <a:chOff x="324000" y="0"/>
            <a:chExt cx="1708200" cy="1467000"/>
          </a:xfrm>
        </p:grpSpPr>
        <p:pic>
          <p:nvPicPr>
            <p:cNvPr id="1180" name="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1" name=""/>
            <p:cNvSpPr/>
            <p:nvPr/>
          </p:nvSpPr>
          <p:spPr>
            <a:xfrm rot="355800">
              <a:off x="1002600" y="35784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3059280" y="907920"/>
          <a:ext cx="3771720" cy="11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907920"/>
                    <a:ext cx="37717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4" name=""/>
          <p:cNvGrpSpPr/>
          <p:nvPr/>
        </p:nvGrpSpPr>
        <p:grpSpPr>
          <a:xfrm>
            <a:off x="541800" y="2276640"/>
            <a:ext cx="5184360" cy="545760"/>
            <a:chOff x="541800" y="2276640"/>
            <a:chExt cx="5184360" cy="545760"/>
          </a:xfrm>
        </p:grpSpPr>
        <p:sp>
          <p:nvSpPr>
            <p:cNvPr id="1185" name=""/>
            <p:cNvSpPr/>
            <p:nvPr/>
          </p:nvSpPr>
          <p:spPr>
            <a:xfrm>
              <a:off x="541800" y="2276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001880" y="230184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把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②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代入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①，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3635280" y="2276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+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9.       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547640" y="29242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解得：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692360" y="3573360"/>
            <a:ext cx="54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代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：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1619280" y="4076640"/>
            <a:ext cx="5410080" cy="992160"/>
            <a:chOff x="1619280" y="4076640"/>
            <a:chExt cx="5410080" cy="992160"/>
          </a:xfrm>
        </p:grpSpPr>
        <p:sp>
          <p:nvSpPr>
            <p:cNvPr id="1191" name=""/>
            <p:cNvSpPr/>
            <p:nvPr/>
          </p:nvSpPr>
          <p:spPr>
            <a:xfrm>
              <a:off x="1619280" y="4221000"/>
              <a:ext cx="541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因此原方程组的一个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92" name=""/>
            <p:cNvGraphicFramePr/>
            <p:nvPr/>
          </p:nvGraphicFramePr>
          <p:xfrm>
            <a:off x="5653080" y="4076640"/>
            <a:ext cx="1224000" cy="992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9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53080" y="4076640"/>
                      <a:ext cx="1224000" cy="9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94" name=""/>
          <p:cNvSpPr/>
          <p:nvPr/>
        </p:nvSpPr>
        <p:spPr>
          <a:xfrm flipH="1" flipV="1">
            <a:off x="3059280" y="5084640"/>
            <a:ext cx="5040000" cy="1440000"/>
          </a:xfrm>
          <a:prstGeom prst="wedgeRoundRectCallout">
            <a:avLst>
              <a:gd name="adj1" fmla="val 77023"/>
              <a:gd name="adj2" fmla="val -3379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每位同学把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=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=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代入例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方程①和②中，检验上面算得对不对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6"/>
          <a:stretch/>
        </p:blipFill>
        <p:spPr>
          <a:xfrm>
            <a:off x="0" y="5326200"/>
            <a:ext cx="1844640" cy="15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/>
          <p:nvPr/>
        </p:nvSpPr>
        <p:spPr>
          <a:xfrm>
            <a:off x="1619280" y="476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例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解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108000" y="0"/>
            <a:ext cx="1708200" cy="1467000"/>
            <a:chOff x="108000" y="0"/>
            <a:chExt cx="1708200" cy="1467000"/>
          </a:xfrm>
        </p:grpSpPr>
        <p:pic>
          <p:nvPicPr>
            <p:cNvPr id="1198" name="" descr=""/>
            <p:cNvPicPr/>
            <p:nvPr/>
          </p:nvPicPr>
          <p:blipFill>
            <a:blip r:embed="rId1"/>
            <a:stretch/>
          </p:blipFill>
          <p:spPr>
            <a:xfrm>
              <a:off x="108000" y="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9" name=""/>
            <p:cNvSpPr/>
            <p:nvPr/>
          </p:nvSpPr>
          <p:spPr>
            <a:xfrm rot="355800">
              <a:off x="786600" y="357840"/>
              <a:ext cx="9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00" name=""/>
          <p:cNvGraphicFramePr/>
          <p:nvPr/>
        </p:nvGraphicFramePr>
        <p:xfrm>
          <a:off x="4140360" y="189000"/>
          <a:ext cx="3887640" cy="116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189000"/>
                    <a:ext cx="388764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02" name=""/>
          <p:cNvGrpSpPr/>
          <p:nvPr/>
        </p:nvGrpSpPr>
        <p:grpSpPr>
          <a:xfrm>
            <a:off x="1836720" y="1413000"/>
            <a:ext cx="5687280" cy="728280"/>
            <a:chOff x="1836720" y="1413000"/>
            <a:chExt cx="5687280" cy="728280"/>
          </a:xfrm>
        </p:grpSpPr>
        <p:grpSp>
          <p:nvGrpSpPr>
            <p:cNvPr id="1203" name=""/>
            <p:cNvGrpSpPr/>
            <p:nvPr/>
          </p:nvGrpSpPr>
          <p:grpSpPr>
            <a:xfrm>
              <a:off x="1836720" y="1436760"/>
              <a:ext cx="5687280" cy="520560"/>
              <a:chOff x="1836720" y="1436760"/>
              <a:chExt cx="5687280" cy="520560"/>
            </a:xfrm>
          </p:grpSpPr>
          <p:sp>
            <p:nvSpPr>
              <p:cNvPr id="1204" name=""/>
              <p:cNvSpPr/>
              <p:nvPr/>
            </p:nvSpPr>
            <p:spPr>
              <a:xfrm>
                <a:off x="1836720" y="143676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解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399040" y="1468080"/>
                <a:ext cx="51249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5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从</a:t>
                </a:r>
                <a:r>
                  <a:rPr b="1" lang="zh-CN" sz="25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①</a:t>
                </a:r>
                <a:r>
                  <a:rPr b="1" lang="zh-CN" sz="25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得</a:t>
                </a:r>
                <a:r>
                  <a:rPr b="1" lang="zh-CN" sz="25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，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206" name=""/>
            <p:cNvGraphicFramePr/>
            <p:nvPr/>
          </p:nvGraphicFramePr>
          <p:xfrm>
            <a:off x="3881880" y="1413000"/>
            <a:ext cx="2617560" cy="728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0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81880" y="1413000"/>
                      <a:ext cx="2617560" cy="7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08" name=""/>
          <p:cNvSpPr/>
          <p:nvPr/>
        </p:nvSpPr>
        <p:spPr>
          <a:xfrm>
            <a:off x="1763640" y="35002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代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1476360" y="4005360"/>
            <a:ext cx="5410080" cy="892080"/>
            <a:chOff x="1476360" y="4005360"/>
            <a:chExt cx="5410080" cy="892080"/>
          </a:xfrm>
        </p:grpSpPr>
        <p:sp>
          <p:nvSpPr>
            <p:cNvPr id="1210" name=""/>
            <p:cNvSpPr/>
            <p:nvPr/>
          </p:nvSpPr>
          <p:spPr>
            <a:xfrm>
              <a:off x="1476360" y="4206600"/>
              <a:ext cx="5410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因此原方程组的一个解是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1" name=""/>
            <p:cNvGraphicFramePr/>
            <p:nvPr/>
          </p:nvGraphicFramePr>
          <p:xfrm>
            <a:off x="5221080" y="4005360"/>
            <a:ext cx="936720" cy="892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1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221080" y="4005360"/>
                      <a:ext cx="936720" cy="89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13" name=""/>
          <p:cNvGrpSpPr/>
          <p:nvPr/>
        </p:nvGrpSpPr>
        <p:grpSpPr>
          <a:xfrm>
            <a:off x="1763640" y="2133720"/>
            <a:ext cx="6046920" cy="844200"/>
            <a:chOff x="1763640" y="2133720"/>
            <a:chExt cx="6046920" cy="844200"/>
          </a:xfrm>
        </p:grpSpPr>
        <p:sp>
          <p:nvSpPr>
            <p:cNvPr id="1214" name=""/>
            <p:cNvSpPr/>
            <p:nvPr/>
          </p:nvSpPr>
          <p:spPr>
            <a:xfrm>
              <a:off x="1763640" y="2276640"/>
              <a:ext cx="48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把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③代入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，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得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714920" y="2133720"/>
              <a:ext cx="3095640" cy="844200"/>
              <a:chOff x="4714920" y="2133720"/>
              <a:chExt cx="3095640" cy="844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714920" y="2246400"/>
                <a:ext cx="3095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(  </a:t>
                </a: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)-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7</a:t>
                </a: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=1 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Arial"/>
                    <a:ea typeface="黑体"/>
                  </a:rPr>
                  <a:t>④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7" name=""/>
              <p:cNvGrpSpPr/>
              <p:nvPr/>
            </p:nvGrpSpPr>
            <p:grpSpPr>
              <a:xfrm>
                <a:off x="5168520" y="2133720"/>
                <a:ext cx="359280" cy="844200"/>
                <a:chOff x="5168520" y="2133720"/>
                <a:chExt cx="359280" cy="84420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5181120" y="248796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cc"/>
                      </a:solidFill>
                      <a:latin typeface="Times New Roman"/>
                    </a:rPr>
                    <a:t>2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5168520" y="2133720"/>
                  <a:ext cx="3466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Times New Roman"/>
                    </a:rPr>
                    <a:t>3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192640" y="2568960"/>
                  <a:ext cx="286560" cy="36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21" name=""/>
          <p:cNvSpPr/>
          <p:nvPr/>
        </p:nvSpPr>
        <p:spPr>
          <a:xfrm>
            <a:off x="2658960" y="2924280"/>
            <a:ext cx="20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解方程，得：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=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639880" y="5157720"/>
            <a:ext cx="38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注意：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）把一个方程变形后，不能代入原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）回代时，代入最简单的一个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）方程组的解，记成方程组的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3" name=""/>
          <p:cNvGrpSpPr/>
          <p:nvPr/>
        </p:nvGrpSpPr>
        <p:grpSpPr>
          <a:xfrm>
            <a:off x="115920" y="44280"/>
            <a:ext cx="1752120" cy="1406160"/>
            <a:chOff x="115920" y="44280"/>
            <a:chExt cx="1752120" cy="1406160"/>
          </a:xfrm>
        </p:grpSpPr>
        <p:sp>
          <p:nvSpPr>
            <p:cNvPr id="1224" name=""/>
            <p:cNvSpPr/>
            <p:nvPr/>
          </p:nvSpPr>
          <p:spPr>
            <a:xfrm>
              <a:off x="115920" y="1032480"/>
              <a:ext cx="1614240" cy="274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5" name="" descr=""/>
            <p:cNvPicPr/>
            <p:nvPr/>
          </p:nvPicPr>
          <p:blipFill>
            <a:blip r:embed="rId1"/>
            <a:stretch/>
          </p:blipFill>
          <p:spPr>
            <a:xfrm>
              <a:off x="115920" y="44280"/>
              <a:ext cx="1709280" cy="13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6" name=""/>
            <p:cNvSpPr/>
            <p:nvPr/>
          </p:nvSpPr>
          <p:spPr>
            <a:xfrm>
              <a:off x="723960" y="869040"/>
              <a:ext cx="114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1835280" y="1341360"/>
            <a:ext cx="53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用代入消元法解下列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8" name=""/>
          <p:cNvGraphicFramePr/>
          <p:nvPr/>
        </p:nvGraphicFramePr>
        <p:xfrm>
          <a:off x="1332000" y="2349360"/>
          <a:ext cx="6697440" cy="241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349360"/>
                    <a:ext cx="669744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07:46:10Z</dcterms:created>
  <dc:creator>User</dc:creator>
  <dc:description/>
  <cp:keywords/>
  <dc:language>en-US</dc:language>
  <cp:lastModifiedBy>xcf</cp:lastModifiedBy>
  <dcterms:modified xsi:type="dcterms:W3CDTF">2016-02-06T09:05:31Z</dcterms:modified>
  <cp:revision>7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