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media/image11.jpeg" ContentType="image/jpeg"/>
  <Override PartName="/ppt/media/image9.gif" ContentType="image/gif"/>
  <Override PartName="/ppt/media/image8.gif" ContentType="image/gif"/>
  <Override PartName="/ppt/media/chimes.wav" ContentType="audio/x-wav"/>
  <Override PartName="/ppt/media/type.wav" ContentType="audio/x-wav"/>
  <Override PartName="/ppt/media/image14.gif" ContentType="image/gif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6.wmf" ContentType="image/x-wmf"/>
  <Override PartName="/ppt/media/image7.jpeg" ContentType="image/jpeg"/>
  <Override PartName="/ppt/media/image12.jpeg" ContentType="image/jpeg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6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</p:sldMasterIdLst>
  <p:sldIdLst>
    <p:sldId id="256" r:id="rId8"/>
    <p:sldId id="257" r:id="rId9"/>
    <p:sldId id="258" r:id="rId10"/>
    <p:sldId id="259" r:id="rId11"/>
    <p:sldId id="260" r:id="rId12"/>
    <p:sldId id="261" r:id="rId13"/>
    <p:sldId id="262" r:id="rId14"/>
    <p:sldId id="263" r:id="rId15"/>
    <p:sldId id="264" r:id="rId16"/>
    <p:sldId id="265" r:id="rId17"/>
    <p:sldId id="266" r:id="rId18"/>
    <p:sldId id="267" r:id="rId19"/>
    <p:sldId id="268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" Target="slides/slide1.xml"/><Relationship Id="rId9" Type="http://schemas.openxmlformats.org/officeDocument/2006/relationships/slide" Target="slides/slide2.xml"/><Relationship Id="rId10" Type="http://schemas.openxmlformats.org/officeDocument/2006/relationships/slide" Target="slides/slide3.xml"/><Relationship Id="rId11" Type="http://schemas.openxmlformats.org/officeDocument/2006/relationships/slide" Target="slides/slide4.xml"/><Relationship Id="rId12" Type="http://schemas.openxmlformats.org/officeDocument/2006/relationships/slide" Target="slides/slide5.xml"/><Relationship Id="rId13" Type="http://schemas.openxmlformats.org/officeDocument/2006/relationships/slide" Target="slides/slide6.xml"/><Relationship Id="rId14" Type="http://schemas.openxmlformats.org/officeDocument/2006/relationships/slide" Target="slides/slide7.xml"/><Relationship Id="rId15" Type="http://schemas.openxmlformats.org/officeDocument/2006/relationships/slide" Target="slides/slide8.xml"/><Relationship Id="rId16" Type="http://schemas.openxmlformats.org/officeDocument/2006/relationships/slide" Target="slides/slide9.xml"/><Relationship Id="rId17" Type="http://schemas.openxmlformats.org/officeDocument/2006/relationships/slide" Target="slides/slide10.xml"/><Relationship Id="rId18" Type="http://schemas.openxmlformats.org/officeDocument/2006/relationships/slide" Target="slides/slide11.xml"/><Relationship Id="rId19" Type="http://schemas.openxmlformats.org/officeDocument/2006/relationships/slide" Target="slides/slide12.xml"/><Relationship Id="rId20" Type="http://schemas.openxmlformats.org/officeDocument/2006/relationships/slide" Target="slides/slide13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898E0A-8664-44A4-825E-7610226482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ED483-E7B3-4EDC-88BF-7F2E3E0CD5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8CD69-403B-4B4F-9606-3BC8934C44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3D9B1-383C-42E0-BF8A-E9856FC77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EABF8-6BB1-466E-9C78-33A2C0C6B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F99BA-EB5C-4AA2-B297-13E66C36E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910E77-153E-4230-8BB3-4D18B25182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0CA02-0020-4598-A2F1-7CF21CD545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079254-FFB8-4471-8872-63A182C9F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81A43-0168-432B-B086-3A036823C6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645FC-8CC3-4BAE-ABFD-10362C1FB4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9DDCD-6C4F-4564-A325-F274C29BFD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E74C96-513E-46A9-B01D-4B9C63FF7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F44CA-9F80-42B7-A81B-10528BE53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5F3F24-F64B-43D6-87E3-3AC620331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A29071-2C1E-4E9F-98EF-651521B7F1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04050A-A789-459D-9C88-F01029AB9D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104576-B8D6-4D4D-B5FA-513BF33CDC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23A8B8-85DC-410E-B18D-D5AE382DF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4AD50C-7419-44FB-8359-D9E998CCCB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9D881B-B65C-40D3-BA85-F7116B85A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F1C7EF-C577-416A-801D-4C643D30A1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1EDA8-DABC-4CC2-BCC6-77EFD2461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FC02184-B272-44D7-935F-9A8DA8030A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A867849-5D26-4C66-AC0C-5E65FD488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F06CDA-C8C6-4093-8C34-816350351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E032E4-3A5D-420E-9058-C2866C9BD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6B768F-EE25-4F7D-AD34-F83768B644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1F9C47B-BC31-4090-804D-661BF23672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E6E69D2-1237-42FD-9327-6DA1AF20B6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B37A38D-7052-487B-BBD4-5C643B2628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8F37DA-7F3C-457B-92C6-EDB97559F1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54C128C-5F8F-4C7E-AC3A-B576E1CB0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E2940-1E68-418F-8DFF-FE9D107851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F682A9-950C-4732-96BD-9CC36D263F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01D1FE5-1191-4F4B-9DB4-5860E6208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122E51-129B-404C-84B1-6EE3BD51DB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EEB426-8179-4911-8E69-9E85A97F3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4393E4B-BEBC-4FE7-9C6D-EC5E7989C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FA9557B-58F9-455A-8CAF-327C775AAE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FE76F2-10D1-4E70-925C-47B83F56D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71BED1-FCBD-4150-AC96-40E5A237C3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053886B-05C0-494E-9754-6FAA19A565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5A3C-B706-4A7C-9550-43E472E1A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D3A89-9D33-4A9B-9A83-494F8B6B9D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7F135-2AFB-4B9B-88B6-D1FCD7AD59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C9D24-182C-4942-8BBB-21CD70A437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A5FD15-BDCD-4D22-94F3-71C77CE0E1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3.xml"/><Relationship Id="rId8" Type="http://schemas.openxmlformats.org/officeDocument/2006/relationships/slideLayout" Target="../slideLayouts/slideLayout14.xml"/><Relationship Id="rId9" Type="http://schemas.openxmlformats.org/officeDocument/2006/relationships/slideLayout" Target="../slideLayouts/slideLayout15.xml"/><Relationship Id="rId10" Type="http://schemas.openxmlformats.org/officeDocument/2006/relationships/slideLayout" Target="../slideLayouts/slideLayout16.xml"/><Relationship Id="rId11" Type="http://schemas.openxmlformats.org/officeDocument/2006/relationships/slideLayout" Target="../slideLayouts/slideLayout17.xml"/><Relationship Id="rId12" Type="http://schemas.openxmlformats.org/officeDocument/2006/relationships/slideLayout" Target="../slideLayouts/slideLayout18.xml"/><Relationship Id="rId13" Type="http://schemas.openxmlformats.org/officeDocument/2006/relationships/slideLayout" Target="../slideLayouts/slideLayout19.xml"/><Relationship Id="rId14" Type="http://schemas.openxmlformats.org/officeDocument/2006/relationships/slideLayout" Target="../slideLayouts/slideLayout20.xml"/><Relationship Id="rId15" Type="http://schemas.openxmlformats.org/officeDocument/2006/relationships/slideLayout" Target="../slideLayouts/slideLayout21.xml"/><Relationship Id="rId16" Type="http://schemas.openxmlformats.org/officeDocument/2006/relationships/slideLayout" Target="../slideLayouts/slideLayout22.xml"/><Relationship Id="rId17" Type="http://schemas.openxmlformats.org/officeDocument/2006/relationships/slideLayout" Target="../slideLayouts/slideLayout23.xml"/><Relationship Id="rId18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jpeg"/><Relationship Id="rId3" Type="http://schemas.openxmlformats.org/officeDocument/2006/relationships/image" Target="../media/image1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37.xml"/><Relationship Id="rId8" Type="http://schemas.openxmlformats.org/officeDocument/2006/relationships/slideLayout" Target="../slideLayouts/slideLayout38.xml"/><Relationship Id="rId9" Type="http://schemas.openxmlformats.org/officeDocument/2006/relationships/slideLayout" Target="../slideLayouts/slideLayout39.xml"/><Relationship Id="rId10" Type="http://schemas.openxmlformats.org/officeDocument/2006/relationships/slideLayout" Target="../slideLayouts/slideLayout40.xml"/><Relationship Id="rId11" Type="http://schemas.openxmlformats.org/officeDocument/2006/relationships/slideLayout" Target="../slideLayouts/slideLayout41.xml"/><Relationship Id="rId12" Type="http://schemas.openxmlformats.org/officeDocument/2006/relationships/slideLayout" Target="../slideLayouts/slideLayout42.xml"/><Relationship Id="rId13" Type="http://schemas.openxmlformats.org/officeDocument/2006/relationships/slideLayout" Target="../slideLayouts/slideLayout43.xml"/><Relationship Id="rId14" Type="http://schemas.openxmlformats.org/officeDocument/2006/relationships/slideLayout" Target="../slideLayouts/slideLayout44.xml"/><Relationship Id="rId15" Type="http://schemas.openxmlformats.org/officeDocument/2006/relationships/slideLayout" Target="../slideLayouts/slideLayout45.xml"/><Relationship Id="rId16" Type="http://schemas.openxmlformats.org/officeDocument/2006/relationships/slideLayout" Target="../slideLayouts/slideLayout46.xml"/><Relationship Id="rId17" Type="http://schemas.openxmlformats.org/officeDocument/2006/relationships/slideLayout" Target="../slideLayouts/slideLayout47.xml"/><Relationship Id="rId18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7.jpeg"/><Relationship Id="rId3" Type="http://schemas.openxmlformats.org/officeDocument/2006/relationships/image" Target="../media/image1.jpe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61.xml"/><Relationship Id="rId8" Type="http://schemas.openxmlformats.org/officeDocument/2006/relationships/slideLayout" Target="../slideLayouts/slideLayout62.xml"/><Relationship Id="rId9" Type="http://schemas.openxmlformats.org/officeDocument/2006/relationships/slideLayout" Target="../slideLayouts/slideLayout63.xml"/><Relationship Id="rId10" Type="http://schemas.openxmlformats.org/officeDocument/2006/relationships/slideLayout" Target="../slideLayouts/slideLayout64.xml"/><Relationship Id="rId11" Type="http://schemas.openxmlformats.org/officeDocument/2006/relationships/slideLayout" Target="../slideLayouts/slideLayout65.xml"/><Relationship Id="rId12" Type="http://schemas.openxmlformats.org/officeDocument/2006/relationships/slideLayout" Target="../slideLayouts/slideLayout66.xml"/><Relationship Id="rId13" Type="http://schemas.openxmlformats.org/officeDocument/2006/relationships/slideLayout" Target="../slideLayouts/slideLayout67.xml"/><Relationship Id="rId14" Type="http://schemas.openxmlformats.org/officeDocument/2006/relationships/slideLayout" Target="../slideLayouts/slideLayout68.xml"/><Relationship Id="rId15" Type="http://schemas.openxmlformats.org/officeDocument/2006/relationships/slideLayout" Target="../slideLayouts/slideLayout69.xml"/><Relationship Id="rId16" Type="http://schemas.openxmlformats.org/officeDocument/2006/relationships/slideLayout" Target="../slideLayouts/slideLayout70.xml"/><Relationship Id="rId17" Type="http://schemas.openxmlformats.org/officeDocument/2006/relationships/slideLayout" Target="../slideLayouts/slideLayout71.xml"/><Relationship Id="rId18" Type="http://schemas.openxmlformats.org/officeDocument/2006/relationships/slideLayout" Target="../slideLayouts/slideLayout7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80720" y="281160"/>
            <a:ext cx="7761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FCAD90-3C48-4154-B863-FEBD62C3ADCA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1640" cy="550800"/>
          </a:xfrm>
          <a:prstGeom prst="rect">
            <a:avLst/>
          </a:prstGeom>
          <a:ln w="0">
            <a:noFill/>
          </a:ln>
        </p:spPr>
      </p:pic>
      <p:sp>
        <p:nvSpPr>
          <p:cNvPr id="6" name=""/>
          <p:cNvSpPr/>
          <p:nvPr/>
        </p:nvSpPr>
        <p:spPr>
          <a:xfrm>
            <a:off x="0" y="333360"/>
            <a:ext cx="9134640" cy="219240"/>
          </a:xfrm>
          <a:custGeom>
            <a:avLst/>
            <a:gdLst/>
            <a:ahLst/>
            <a:rect l="l" t="t" r="r" b="b"/>
            <a:pathLst>
              <a:path w="5754" h="138">
                <a:moveTo>
                  <a:pt x="0" y="138"/>
                </a:moveTo>
                <a:lnTo>
                  <a:pt x="578" y="136"/>
                </a:lnTo>
                <a:lnTo>
                  <a:pt x="720" y="2"/>
                </a:lnTo>
                <a:lnTo>
                  <a:pt x="5754" y="0"/>
                </a:lnTo>
              </a:path>
            </a:pathLst>
          </a:custGeom>
          <a:noFill/>
          <a:ln w="76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03280" cy="620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8A4AD-7178-425A-83F1-714E222FBF6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0" y="4005360"/>
            <a:ext cx="9163080" cy="81900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754200" y="1916280"/>
            <a:ext cx="2376360" cy="2304720"/>
          </a:xfrm>
          <a:prstGeom prst="ellipse">
            <a:avLst/>
          </a:prstGeom>
          <a:gradFill rotWithShape="0">
            <a:gsLst>
              <a:gs pos="0">
                <a:srgbClr val="66ffff">
                  <a:alpha val="70196"/>
                </a:srgbClr>
              </a:gs>
              <a:gs pos="100000">
                <a:srgbClr val="2f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5920" y="1197000"/>
            <a:ext cx="5867280" cy="6119640"/>
          </a:xfrm>
          <a:prstGeom prst="ellipse">
            <a:avLst/>
          </a:prstGeom>
          <a:gradFill rotWithShape="0">
            <a:gsLst>
              <a:gs pos="0">
                <a:srgbClr val="ffcc00">
                  <a:alpha val="70196"/>
                </a:srgbClr>
              </a:gs>
              <a:gs pos="100000">
                <a:srgbClr val="755e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5219640" y="476280"/>
            <a:ext cx="3168720" cy="3384360"/>
          </a:xfrm>
          <a:prstGeom prst="ellipse">
            <a:avLst/>
          </a:prstGeom>
          <a:gradFill rotWithShape="0">
            <a:gsLst>
              <a:gs pos="0">
                <a:srgbClr val="66ff33">
                  <a:alpha val="70196"/>
                </a:srgbClr>
              </a:gs>
              <a:gs pos="100000">
                <a:srgbClr val="2f7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11640" y="1700280"/>
            <a:ext cx="3097080" cy="3097080"/>
          </a:xfrm>
          <a:prstGeom prst="ellipse">
            <a:avLst/>
          </a:prstGeom>
          <a:gradFill rotWithShape="0">
            <a:gsLst>
              <a:gs pos="0">
                <a:srgbClr val="ccff33">
                  <a:alpha val="70196"/>
                </a:srgbClr>
              </a:gs>
              <a:gs pos="100000">
                <a:srgbClr val="5e7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" name=""/>
          <p:cNvGrpSpPr/>
          <p:nvPr/>
        </p:nvGrpSpPr>
        <p:grpSpPr>
          <a:xfrm>
            <a:off x="1244520" y="0"/>
            <a:ext cx="7113600" cy="6858000"/>
            <a:chOff x="1244520" y="0"/>
            <a:chExt cx="7113600" cy="6858000"/>
          </a:xfrm>
        </p:grpSpPr>
        <p:sp>
          <p:nvSpPr>
            <p:cNvPr id="56" name=""/>
            <p:cNvSpPr/>
            <p:nvPr/>
          </p:nvSpPr>
          <p:spPr>
            <a:xfrm>
              <a:off x="12445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9216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97324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5529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037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779760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83581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63" name="" descr=""/>
          <p:cNvPicPr/>
          <p:nvPr/>
        </p:nvPicPr>
        <p:blipFill>
          <a:blip r:embed="rId5"/>
          <a:stretch/>
        </p:blipFill>
        <p:spPr>
          <a:xfrm>
            <a:off x="0" y="3860640"/>
            <a:ext cx="9144000" cy="14796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6"/>
          <a:stretch/>
        </p:blipFill>
        <p:spPr>
          <a:xfrm>
            <a:off x="0" y="2195640"/>
            <a:ext cx="9163080" cy="152280"/>
          </a:xfrm>
          <a:prstGeom prst="rect">
            <a:avLst/>
          </a:prstGeom>
          <a:ln w="0">
            <a:noFill/>
          </a:ln>
        </p:spPr>
      </p:pic>
      <p:grpSp>
        <p:nvGrpSpPr>
          <p:cNvPr id="65" name=""/>
          <p:cNvGrpSpPr/>
          <p:nvPr/>
        </p:nvGrpSpPr>
        <p:grpSpPr>
          <a:xfrm>
            <a:off x="0" y="1814400"/>
            <a:ext cx="9144000" cy="2000160"/>
            <a:chOff x="0" y="1814400"/>
            <a:chExt cx="9144000" cy="2000160"/>
          </a:xfrm>
        </p:grpSpPr>
        <p:sp>
          <p:nvSpPr>
            <p:cNvPr id="66" name=""/>
            <p:cNvSpPr/>
            <p:nvPr/>
          </p:nvSpPr>
          <p:spPr>
            <a:xfrm>
              <a:off x="0" y="1814400"/>
              <a:ext cx="9144000" cy="0"/>
            </a:xfrm>
            <a:prstGeom prst="line">
              <a:avLst/>
            </a:prstGeom>
            <a:ln w="1260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0" y="322884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0" y="351468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0" y="381456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"/>
          <p:cNvSpPr/>
          <p:nvPr/>
        </p:nvSpPr>
        <p:spPr>
          <a:xfrm>
            <a:off x="0" y="2643120"/>
            <a:ext cx="9144000" cy="1143000"/>
          </a:xfrm>
          <a:prstGeom prst="rect">
            <a:avLst/>
          </a:prstGeom>
          <a:solidFill>
            <a:srgbClr val="7c5438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14680"/>
            <a:ext cx="9144000" cy="934920"/>
          </a:xfrm>
          <a:prstGeom prst="rect">
            <a:avLst/>
          </a:prstGeom>
          <a:solidFill>
            <a:srgbClr val="33cc33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2" name=""/>
          <p:cNvGrpSpPr/>
          <p:nvPr/>
        </p:nvGrpSpPr>
        <p:grpSpPr>
          <a:xfrm>
            <a:off x="0" y="-600120"/>
            <a:ext cx="10980720" cy="4365720"/>
            <a:chOff x="0" y="-600120"/>
            <a:chExt cx="10980720" cy="4365720"/>
          </a:xfrm>
        </p:grpSpPr>
        <p:sp>
          <p:nvSpPr>
            <p:cNvPr id="73" name=""/>
            <p:cNvSpPr/>
            <p:nvPr/>
          </p:nvSpPr>
          <p:spPr>
            <a:xfrm>
              <a:off x="755640" y="3333600"/>
              <a:ext cx="431640" cy="432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187280" y="3116160"/>
              <a:ext cx="648000" cy="64764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835280" y="2684520"/>
              <a:ext cx="1079280" cy="107928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916360" y="2036880"/>
              <a:ext cx="1726920" cy="172692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92360" y="1701720"/>
              <a:ext cx="2063880" cy="206388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500720" y="1125360"/>
              <a:ext cx="2609640" cy="2610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5940360" y="307800"/>
              <a:ext cx="3456000" cy="3456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093080" y="-195480"/>
              <a:ext cx="3887640" cy="3888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0" y="376560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 flipH="1">
              <a:off x="0" y="-600120"/>
              <a:ext cx="9144000" cy="436572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754200" y="-193680"/>
            <a:ext cx="10225080" cy="3960720"/>
            <a:chOff x="754200" y="-193680"/>
            <a:chExt cx="10225080" cy="3960720"/>
          </a:xfrm>
        </p:grpSpPr>
        <p:sp>
          <p:nvSpPr>
            <p:cNvPr id="84" name=""/>
            <p:cNvSpPr/>
            <p:nvPr/>
          </p:nvSpPr>
          <p:spPr>
            <a:xfrm>
              <a:off x="754200" y="3335400"/>
              <a:ext cx="431640" cy="431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1185840" y="3117960"/>
              <a:ext cx="648000" cy="647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1833840" y="2685960"/>
              <a:ext cx="1079280" cy="1079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2914920" y="2038320"/>
              <a:ext cx="1726920" cy="172728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490920" y="1703520"/>
              <a:ext cx="2063880" cy="206352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4499280" y="1127160"/>
              <a:ext cx="2609640" cy="2609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938920" y="309600"/>
              <a:ext cx="3456000" cy="345600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7091640" y="-193680"/>
              <a:ext cx="3887640" cy="3887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754200" y="3319560"/>
            <a:ext cx="431640" cy="431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1185840" y="3102120"/>
            <a:ext cx="647640" cy="647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833480" y="2670120"/>
            <a:ext cx="1079640" cy="1079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914560" y="2022480"/>
            <a:ext cx="1727280" cy="172728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490920" y="1687680"/>
            <a:ext cx="2063880" cy="206352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498920" y="1111320"/>
            <a:ext cx="2610000" cy="2609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851280" y="465120"/>
            <a:ext cx="3456000" cy="345600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091280" y="-209520"/>
            <a:ext cx="3888000" cy="3887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47640" y="2778120"/>
            <a:ext cx="7819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31800" y="2747880"/>
            <a:ext cx="7819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440000" y="0"/>
            <a:ext cx="7704000" cy="620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Arial"/>
              </a:rPr>
              <a:t>义务教育课程标准实验教科书数学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</a:rPr>
              <a:t>八年级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</a:rPr>
              <a:t>下册（泰山版）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7"/>
    <p:sldLayoutId id="2147483663" r:id="rId8"/>
    <p:sldLayoutId id="2147483664" r:id="rId9"/>
    <p:sldLayoutId id="2147483665" r:id="rId10"/>
    <p:sldLayoutId id="2147483666" r:id="rId11"/>
    <p:sldLayoutId id="2147483667" r:id="rId12"/>
    <p:sldLayoutId id="2147483668" r:id="rId13"/>
    <p:sldLayoutId id="2147483669" r:id="rId14"/>
    <p:sldLayoutId id="2147483670" r:id="rId15"/>
    <p:sldLayoutId id="2147483671" r:id="rId16"/>
    <p:sldLayoutId id="2147483672" r:id="rId17"/>
    <p:sldLayoutId id="2147483673" r:id="rId18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080720" y="281160"/>
            <a:ext cx="77612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457200" y="1341000"/>
            <a:ext cx="8229600" cy="482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3A977-60F3-4E66-869C-EE7F7525110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1640" cy="55080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0" y="333360"/>
            <a:ext cx="9134640" cy="219240"/>
          </a:xfrm>
          <a:custGeom>
            <a:avLst/>
            <a:gdLst/>
            <a:ahLst/>
            <a:rect l="l" t="t" r="r" b="b"/>
            <a:pathLst>
              <a:path w="5754" h="138">
                <a:moveTo>
                  <a:pt x="0" y="138"/>
                </a:moveTo>
                <a:lnTo>
                  <a:pt x="578" y="136"/>
                </a:lnTo>
                <a:lnTo>
                  <a:pt x="720" y="2"/>
                </a:lnTo>
                <a:lnTo>
                  <a:pt x="5754" y="0"/>
                </a:lnTo>
              </a:path>
            </a:pathLst>
          </a:custGeom>
          <a:noFill/>
          <a:ln w="76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0" y="0"/>
            <a:ext cx="1403280" cy="620640"/>
          </a:xfrm>
          <a:prstGeom prst="rect">
            <a:avLst/>
          </a:prstGeom>
          <a:ln w="0">
            <a:noFill/>
          </a:ln>
        </p:spPr>
      </p:pic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770773-F218-4234-A431-B1BD6EDB855B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4"/>
          <a:stretch/>
        </p:blipFill>
        <p:spPr>
          <a:xfrm>
            <a:off x="0" y="4005360"/>
            <a:ext cx="9163080" cy="81900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754200" y="1916280"/>
            <a:ext cx="2376360" cy="2304720"/>
          </a:xfrm>
          <a:prstGeom prst="ellipse">
            <a:avLst/>
          </a:prstGeom>
          <a:gradFill rotWithShape="0">
            <a:gsLst>
              <a:gs pos="0">
                <a:srgbClr val="66ffff">
                  <a:alpha val="70196"/>
                </a:srgbClr>
              </a:gs>
              <a:gs pos="100000">
                <a:srgbClr val="2f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385920" y="1197000"/>
            <a:ext cx="5867280" cy="6119640"/>
          </a:xfrm>
          <a:prstGeom prst="ellipse">
            <a:avLst/>
          </a:prstGeom>
          <a:gradFill rotWithShape="0">
            <a:gsLst>
              <a:gs pos="0">
                <a:srgbClr val="ffcc00">
                  <a:alpha val="70196"/>
                </a:srgbClr>
              </a:gs>
              <a:gs pos="100000">
                <a:srgbClr val="755e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5219640" y="476280"/>
            <a:ext cx="3168720" cy="3384360"/>
          </a:xfrm>
          <a:prstGeom prst="ellipse">
            <a:avLst/>
          </a:prstGeom>
          <a:gradFill rotWithShape="0">
            <a:gsLst>
              <a:gs pos="0">
                <a:srgbClr val="66ff33">
                  <a:alpha val="70196"/>
                </a:srgbClr>
              </a:gs>
              <a:gs pos="100000">
                <a:srgbClr val="2f7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11640" y="1700280"/>
            <a:ext cx="3097080" cy="3097080"/>
          </a:xfrm>
          <a:prstGeom prst="ellipse">
            <a:avLst/>
          </a:prstGeom>
          <a:gradFill rotWithShape="0">
            <a:gsLst>
              <a:gs pos="0">
                <a:srgbClr val="ccff33">
                  <a:alpha val="70196"/>
                </a:srgbClr>
              </a:gs>
              <a:gs pos="100000">
                <a:srgbClr val="5e7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5" name=""/>
          <p:cNvGrpSpPr/>
          <p:nvPr/>
        </p:nvGrpSpPr>
        <p:grpSpPr>
          <a:xfrm>
            <a:off x="1244520" y="0"/>
            <a:ext cx="7113600" cy="6858000"/>
            <a:chOff x="1244520" y="0"/>
            <a:chExt cx="7113600" cy="6858000"/>
          </a:xfrm>
        </p:grpSpPr>
        <p:sp>
          <p:nvSpPr>
            <p:cNvPr id="196" name=""/>
            <p:cNvSpPr/>
            <p:nvPr/>
          </p:nvSpPr>
          <p:spPr>
            <a:xfrm>
              <a:off x="12445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189216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97324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45529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60037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79760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3581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03" name="" descr=""/>
          <p:cNvPicPr/>
          <p:nvPr/>
        </p:nvPicPr>
        <p:blipFill>
          <a:blip r:embed="rId5"/>
          <a:stretch/>
        </p:blipFill>
        <p:spPr>
          <a:xfrm>
            <a:off x="0" y="3860640"/>
            <a:ext cx="9144000" cy="14796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6"/>
          <a:stretch/>
        </p:blipFill>
        <p:spPr>
          <a:xfrm>
            <a:off x="0" y="2195640"/>
            <a:ext cx="9163080" cy="152280"/>
          </a:xfrm>
          <a:prstGeom prst="rect">
            <a:avLst/>
          </a:prstGeom>
          <a:ln w="0">
            <a:noFill/>
          </a:ln>
        </p:spPr>
      </p:pic>
      <p:grpSp>
        <p:nvGrpSpPr>
          <p:cNvPr id="205" name=""/>
          <p:cNvGrpSpPr/>
          <p:nvPr/>
        </p:nvGrpSpPr>
        <p:grpSpPr>
          <a:xfrm>
            <a:off x="0" y="1814400"/>
            <a:ext cx="9144000" cy="2000160"/>
            <a:chOff x="0" y="1814400"/>
            <a:chExt cx="9144000" cy="2000160"/>
          </a:xfrm>
        </p:grpSpPr>
        <p:sp>
          <p:nvSpPr>
            <p:cNvPr id="206" name=""/>
            <p:cNvSpPr/>
            <p:nvPr/>
          </p:nvSpPr>
          <p:spPr>
            <a:xfrm>
              <a:off x="0" y="1814400"/>
              <a:ext cx="9144000" cy="0"/>
            </a:xfrm>
            <a:prstGeom prst="line">
              <a:avLst/>
            </a:prstGeom>
            <a:ln w="1260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0" y="322884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0" y="351468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0" y="381456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0" name=""/>
          <p:cNvSpPr/>
          <p:nvPr/>
        </p:nvSpPr>
        <p:spPr>
          <a:xfrm>
            <a:off x="0" y="2643120"/>
            <a:ext cx="9144000" cy="1143000"/>
          </a:xfrm>
          <a:prstGeom prst="rect">
            <a:avLst/>
          </a:prstGeom>
          <a:solidFill>
            <a:srgbClr val="7c5438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0" y="1714680"/>
            <a:ext cx="9144000" cy="934920"/>
          </a:xfrm>
          <a:prstGeom prst="rect">
            <a:avLst/>
          </a:prstGeom>
          <a:solidFill>
            <a:srgbClr val="33cc33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2" name=""/>
          <p:cNvGrpSpPr/>
          <p:nvPr/>
        </p:nvGrpSpPr>
        <p:grpSpPr>
          <a:xfrm>
            <a:off x="0" y="-600120"/>
            <a:ext cx="10980720" cy="4365720"/>
            <a:chOff x="0" y="-600120"/>
            <a:chExt cx="10980720" cy="4365720"/>
          </a:xfrm>
        </p:grpSpPr>
        <p:sp>
          <p:nvSpPr>
            <p:cNvPr id="213" name=""/>
            <p:cNvSpPr/>
            <p:nvPr/>
          </p:nvSpPr>
          <p:spPr>
            <a:xfrm>
              <a:off x="755640" y="3333600"/>
              <a:ext cx="431640" cy="432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1187280" y="3116160"/>
              <a:ext cx="648000" cy="64764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1835280" y="2684520"/>
              <a:ext cx="1079280" cy="107928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2916360" y="2036880"/>
              <a:ext cx="1726920" cy="172692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492360" y="1701720"/>
              <a:ext cx="2063880" cy="206388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4500720" y="1125360"/>
              <a:ext cx="2609640" cy="2610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940360" y="307800"/>
              <a:ext cx="3456000" cy="3456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7093080" y="-195480"/>
              <a:ext cx="3887640" cy="3888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0" y="376560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 flipH="1">
              <a:off x="0" y="-600120"/>
              <a:ext cx="9144000" cy="436572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3" name=""/>
          <p:cNvGrpSpPr/>
          <p:nvPr/>
        </p:nvGrpSpPr>
        <p:grpSpPr>
          <a:xfrm>
            <a:off x="754200" y="-193680"/>
            <a:ext cx="10225080" cy="3960720"/>
            <a:chOff x="754200" y="-193680"/>
            <a:chExt cx="10225080" cy="3960720"/>
          </a:xfrm>
        </p:grpSpPr>
        <p:sp>
          <p:nvSpPr>
            <p:cNvPr id="224" name=""/>
            <p:cNvSpPr/>
            <p:nvPr/>
          </p:nvSpPr>
          <p:spPr>
            <a:xfrm>
              <a:off x="754200" y="3335400"/>
              <a:ext cx="431640" cy="431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1185840" y="3117960"/>
              <a:ext cx="648000" cy="647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1833840" y="2685960"/>
              <a:ext cx="1079280" cy="1079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2914920" y="2038320"/>
              <a:ext cx="1726920" cy="172728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490920" y="1703520"/>
              <a:ext cx="2063880" cy="206352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4499280" y="1127160"/>
              <a:ext cx="2609640" cy="2609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5938920" y="309600"/>
              <a:ext cx="3456000" cy="345600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7091640" y="-193680"/>
              <a:ext cx="3887640" cy="3887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"/>
          <p:cNvSpPr/>
          <p:nvPr/>
        </p:nvSpPr>
        <p:spPr>
          <a:xfrm>
            <a:off x="754200" y="3319560"/>
            <a:ext cx="431640" cy="431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185840" y="3102120"/>
            <a:ext cx="647640" cy="647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1833480" y="2670120"/>
            <a:ext cx="1079640" cy="1079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2914560" y="2022480"/>
            <a:ext cx="1727280" cy="172728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3490920" y="1687680"/>
            <a:ext cx="2063880" cy="206352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4498920" y="1111320"/>
            <a:ext cx="2610000" cy="2609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851280" y="465120"/>
            <a:ext cx="3456000" cy="345600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7091280" y="-209520"/>
            <a:ext cx="3888000" cy="3887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47640" y="2778120"/>
            <a:ext cx="7819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31800" y="2747880"/>
            <a:ext cx="7819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440000" y="0"/>
            <a:ext cx="7704000" cy="620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300" spc="-1" strike="noStrike">
                <a:solidFill>
                  <a:srgbClr val="ffffff"/>
                </a:solidFill>
                <a:latin typeface="Arial"/>
              </a:rPr>
              <a:t>义务教育课程标准实验教科书数学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</a:rPr>
              <a:t>八年级</a:t>
            </a:r>
            <a:r>
              <a:rPr b="1" lang="en-US" sz="23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1" lang="zh-CN" sz="2300" spc="-1" strike="noStrike">
                <a:solidFill>
                  <a:srgbClr val="ffffff"/>
                </a:solidFill>
                <a:latin typeface="Arial"/>
              </a:rPr>
              <a:t>下册（泰山版）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7"/>
    <p:sldLayoutId id="2147483689" r:id="rId8"/>
    <p:sldLayoutId id="2147483690" r:id="rId9"/>
    <p:sldLayoutId id="2147483691" r:id="rId10"/>
    <p:sldLayoutId id="2147483692" r:id="rId11"/>
    <p:sldLayoutId id="2147483693" r:id="rId12"/>
    <p:sldLayoutId id="2147483694" r:id="rId13"/>
    <p:sldLayoutId id="2147483695" r:id="rId14"/>
    <p:sldLayoutId id="2147483696" r:id="rId15"/>
    <p:sldLayoutId id="2147483697" r:id="rId16"/>
    <p:sldLayoutId id="2147483698" r:id="rId17"/>
    <p:sldLayoutId id="2147483699" r:id="rId18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71640" cy="5508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0" y="333360"/>
            <a:ext cx="9134640" cy="219240"/>
          </a:xfrm>
          <a:custGeom>
            <a:avLst/>
            <a:gdLst/>
            <a:ahLst/>
            <a:rect l="l" t="t" r="r" b="b"/>
            <a:pathLst>
              <a:path w="5754" h="138">
                <a:moveTo>
                  <a:pt x="0" y="138"/>
                </a:moveTo>
                <a:lnTo>
                  <a:pt x="578" y="136"/>
                </a:lnTo>
                <a:lnTo>
                  <a:pt x="720" y="2"/>
                </a:lnTo>
                <a:lnTo>
                  <a:pt x="5754" y="0"/>
                </a:lnTo>
              </a:path>
            </a:pathLst>
          </a:custGeom>
          <a:noFill/>
          <a:ln w="76320">
            <a:solidFill>
              <a:srgbClr val="00ff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0" y="6453360"/>
            <a:ext cx="9144000" cy="0"/>
          </a:xfrm>
          <a:prstGeom prst="line">
            <a:avLst/>
          </a:prstGeom>
          <a:ln w="76320">
            <a:solidFill>
              <a:srgbClr val="00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"/>
          <p:cNvGrpSpPr/>
          <p:nvPr/>
        </p:nvGrpSpPr>
        <p:grpSpPr>
          <a:xfrm>
            <a:off x="8710560" y="6243480"/>
            <a:ext cx="433440" cy="570240"/>
            <a:chOff x="8710560" y="6243480"/>
            <a:chExt cx="433440" cy="570240"/>
          </a:xfrm>
        </p:grpSpPr>
        <p:grpSp>
          <p:nvGrpSpPr>
            <p:cNvPr id="284" name=""/>
            <p:cNvGrpSpPr/>
            <p:nvPr/>
          </p:nvGrpSpPr>
          <p:grpSpPr>
            <a:xfrm>
              <a:off x="8710560" y="6243480"/>
              <a:ext cx="433440" cy="412920"/>
              <a:chOff x="8710560" y="6243480"/>
              <a:chExt cx="433440" cy="412920"/>
            </a:xfrm>
          </p:grpSpPr>
          <p:sp>
            <p:nvSpPr>
              <p:cNvPr id="285" name=""/>
              <p:cNvSpPr/>
              <p:nvPr/>
            </p:nvSpPr>
            <p:spPr>
              <a:xfrm>
                <a:off x="8738280" y="6269760"/>
                <a:ext cx="382680" cy="386640"/>
              </a:xfrm>
              <a:prstGeom prst="ellipse">
                <a:avLst/>
              </a:prstGeom>
              <a:gradFill rotWithShape="0">
                <a:gsLst>
                  <a:gs pos="0">
                    <a:srgbClr val="003300"/>
                  </a:gs>
                  <a:gs pos="100000">
                    <a:srgbClr val="002300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6" name=""/>
              <p:cNvSpPr/>
              <p:nvPr/>
            </p:nvSpPr>
            <p:spPr>
              <a:xfrm>
                <a:off x="8777520" y="6280920"/>
                <a:ext cx="304200" cy="2275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7" name=""/>
              <p:cNvSpPr/>
              <p:nvPr/>
            </p:nvSpPr>
            <p:spPr>
              <a:xfrm>
                <a:off x="8777880" y="6243480"/>
                <a:ext cx="236160" cy="238320"/>
              </a:xfrm>
              <a:prstGeom prst="ellipse">
                <a:avLst/>
              </a:prstGeom>
              <a:gradFill rotWithShape="0">
                <a:gsLst>
                  <a:gs pos="0">
                    <a:srgbClr val="ffffff">
                      <a:alpha val="80000"/>
                    </a:srgbClr>
                  </a:gs>
                  <a:gs pos="100000">
                    <a:srgbClr val="757575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88" name=""/>
              <p:cNvSpPr/>
              <p:nvPr/>
            </p:nvSpPr>
            <p:spPr>
              <a:xfrm>
                <a:off x="8710560" y="6293160"/>
                <a:ext cx="433440" cy="347760"/>
              </a:xfrm>
              <a:prstGeom prst="ellipse">
                <a:avLst/>
              </a:prstGeom>
              <a:gradFill rotWithShape="0">
                <a:gsLst>
                  <a:gs pos="0">
                    <a:srgbClr val="ffff66">
                      <a:alpha val="60000"/>
                    </a:srgbClr>
                  </a:gs>
                  <a:gs pos="100000">
                    <a:srgbClr val="75752f">
                      <a:alpha val="0"/>
                    </a:srgbClr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fld id="{41DC7766-F9F4-4036-A3AF-42F5764ED671}" type="slidenum">
                  <a:rPr b="1" lang="zh-CN" sz="1000" spc="-1" strike="noStrike">
                    <a:solidFill>
                      <a:srgbClr val="fc2514"/>
                    </a:solidFill>
                    <a:latin typeface="Arial"/>
                  </a:rPr>
                  <a:t>&lt;number&gt;</a:t>
                </a:fld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89" name=""/>
            <p:cNvSpPr/>
            <p:nvPr/>
          </p:nvSpPr>
          <p:spPr>
            <a:xfrm>
              <a:off x="8757720" y="6707520"/>
              <a:ext cx="341640" cy="106200"/>
            </a:xfrm>
            <a:prstGeom prst="ellipse">
              <a:avLst/>
            </a:prstGeom>
            <a:gradFill rotWithShape="0">
              <a:gsLst>
                <a:gs pos="0">
                  <a:srgbClr val="000000">
                    <a:alpha val="60000"/>
                  </a:srgbClr>
                </a:gs>
                <a:gs pos="100000">
                  <a:srgbClr val="000000">
                    <a:alpha val="0"/>
                  </a:srgbClr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8440" bIns="28440" anchor="ctr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0" name="" descr=""/>
          <p:cNvPicPr/>
          <p:nvPr/>
        </p:nvPicPr>
        <p:blipFill>
          <a:blip r:embed="rId3"/>
          <a:stretch/>
        </p:blipFill>
        <p:spPr>
          <a:xfrm>
            <a:off x="0" y="6121440"/>
            <a:ext cx="615960" cy="62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"/>
          <p:cNvSpPr/>
          <p:nvPr/>
        </p:nvSpPr>
        <p:spPr>
          <a:xfrm>
            <a:off x="385920" y="1197000"/>
            <a:ext cx="5867280" cy="6119640"/>
          </a:xfrm>
          <a:prstGeom prst="ellipse">
            <a:avLst/>
          </a:prstGeom>
          <a:gradFill rotWithShape="0">
            <a:gsLst>
              <a:gs pos="0">
                <a:srgbClr val="ffcc00">
                  <a:alpha val="70196"/>
                </a:srgbClr>
              </a:gs>
              <a:gs pos="100000">
                <a:srgbClr val="755e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0" name="" descr=""/>
          <p:cNvPicPr/>
          <p:nvPr/>
        </p:nvPicPr>
        <p:blipFill>
          <a:blip r:embed="rId2"/>
          <a:srcRect l="15008" t="0" r="0" b="32751"/>
          <a:stretch/>
        </p:blipFill>
        <p:spPr>
          <a:xfrm>
            <a:off x="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331" name=""/>
          <p:cNvSpPr/>
          <p:nvPr/>
        </p:nvSpPr>
        <p:spPr>
          <a:xfrm>
            <a:off x="395280" y="1197000"/>
            <a:ext cx="5867280" cy="6119640"/>
          </a:xfrm>
          <a:prstGeom prst="ellipse">
            <a:avLst/>
          </a:prstGeom>
          <a:gradFill rotWithShape="0">
            <a:gsLst>
              <a:gs pos="0">
                <a:srgbClr val="ffcc00">
                  <a:alpha val="70196"/>
                </a:srgbClr>
              </a:gs>
              <a:gs pos="100000">
                <a:srgbClr val="755e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95280" y="1197000"/>
            <a:ext cx="5867280" cy="6119640"/>
          </a:xfrm>
          <a:prstGeom prst="ellipse">
            <a:avLst/>
          </a:prstGeom>
          <a:gradFill rotWithShape="0">
            <a:gsLst>
              <a:gs pos="0">
                <a:srgbClr val="ffcc00">
                  <a:alpha val="70196"/>
                </a:srgbClr>
              </a:gs>
              <a:gs pos="100000">
                <a:srgbClr val="755e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3" name="" descr=""/>
          <p:cNvPicPr/>
          <p:nvPr/>
        </p:nvPicPr>
        <p:blipFill>
          <a:blip r:embed="rId3">
            <a:lum contrast="6000"/>
          </a:blip>
          <a:stretch/>
        </p:blipFill>
        <p:spPr>
          <a:xfrm>
            <a:off x="0" y="0"/>
            <a:ext cx="1403280" cy="620640"/>
          </a:xfrm>
          <a:prstGeom prst="rect">
            <a:avLst/>
          </a:prstGeom>
          <a:ln w="0">
            <a:noFill/>
          </a:ln>
        </p:spPr>
      </p:pic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754200" y="1916280"/>
            <a:ext cx="2376360" cy="2304720"/>
          </a:xfrm>
          <a:prstGeom prst="ellipse">
            <a:avLst/>
          </a:prstGeom>
          <a:gradFill rotWithShape="0">
            <a:gsLst>
              <a:gs pos="0">
                <a:srgbClr val="66ffff">
                  <a:alpha val="70196"/>
                </a:srgbClr>
              </a:gs>
              <a:gs pos="100000">
                <a:srgbClr val="2f7575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219640" y="476280"/>
            <a:ext cx="3168720" cy="3384360"/>
          </a:xfrm>
          <a:prstGeom prst="ellipse">
            <a:avLst/>
          </a:prstGeom>
          <a:gradFill rotWithShape="0">
            <a:gsLst>
              <a:gs pos="0">
                <a:srgbClr val="66ff33">
                  <a:alpha val="70196"/>
                </a:srgbClr>
              </a:gs>
              <a:gs pos="100000">
                <a:srgbClr val="2f7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4211640" y="1700280"/>
            <a:ext cx="3097080" cy="3097080"/>
          </a:xfrm>
          <a:prstGeom prst="ellipse">
            <a:avLst/>
          </a:prstGeom>
          <a:gradFill rotWithShape="0">
            <a:gsLst>
              <a:gs pos="0">
                <a:srgbClr val="ccff33">
                  <a:alpha val="70196"/>
                </a:srgbClr>
              </a:gs>
              <a:gs pos="100000">
                <a:srgbClr val="5e7517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8" name=""/>
          <p:cNvGrpSpPr/>
          <p:nvPr/>
        </p:nvGrpSpPr>
        <p:grpSpPr>
          <a:xfrm>
            <a:off x="1244520" y="0"/>
            <a:ext cx="7113600" cy="6858000"/>
            <a:chOff x="1244520" y="0"/>
            <a:chExt cx="7113600" cy="6858000"/>
          </a:xfrm>
        </p:grpSpPr>
        <p:sp>
          <p:nvSpPr>
            <p:cNvPr id="339" name=""/>
            <p:cNvSpPr/>
            <p:nvPr/>
          </p:nvSpPr>
          <p:spPr>
            <a:xfrm>
              <a:off x="12445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89216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97324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5529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60037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779760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58120" y="0"/>
              <a:ext cx="0" cy="6858000"/>
            </a:xfrm>
            <a:prstGeom prst="line">
              <a:avLst/>
            </a:prstGeom>
            <a:ln w="9360">
              <a:solidFill>
                <a:srgbClr val="ffffff">
                  <a:alpha val="26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46" name="" descr=""/>
          <p:cNvPicPr/>
          <p:nvPr/>
        </p:nvPicPr>
        <p:blipFill>
          <a:blip r:embed="rId4"/>
          <a:stretch/>
        </p:blipFill>
        <p:spPr>
          <a:xfrm>
            <a:off x="0" y="3860640"/>
            <a:ext cx="9144000" cy="147960"/>
          </a:xfrm>
          <a:prstGeom prst="rect">
            <a:avLst/>
          </a:prstGeom>
          <a:ln w="0">
            <a:noFill/>
          </a:ln>
        </p:spPr>
      </p:pic>
      <p:pic>
        <p:nvPicPr>
          <p:cNvPr id="347" name="" descr=""/>
          <p:cNvPicPr/>
          <p:nvPr/>
        </p:nvPicPr>
        <p:blipFill>
          <a:blip r:embed="rId5"/>
          <a:stretch/>
        </p:blipFill>
        <p:spPr>
          <a:xfrm>
            <a:off x="0" y="2195640"/>
            <a:ext cx="9163080" cy="152280"/>
          </a:xfrm>
          <a:prstGeom prst="rect">
            <a:avLst/>
          </a:prstGeom>
          <a:ln w="0">
            <a:noFill/>
          </a:ln>
        </p:spPr>
      </p:pic>
      <p:grpSp>
        <p:nvGrpSpPr>
          <p:cNvPr id="348" name=""/>
          <p:cNvGrpSpPr/>
          <p:nvPr/>
        </p:nvGrpSpPr>
        <p:grpSpPr>
          <a:xfrm>
            <a:off x="0" y="1814400"/>
            <a:ext cx="9144000" cy="2000160"/>
            <a:chOff x="0" y="1814400"/>
            <a:chExt cx="9144000" cy="2000160"/>
          </a:xfrm>
        </p:grpSpPr>
        <p:sp>
          <p:nvSpPr>
            <p:cNvPr id="349" name=""/>
            <p:cNvSpPr/>
            <p:nvPr/>
          </p:nvSpPr>
          <p:spPr>
            <a:xfrm>
              <a:off x="0" y="1814400"/>
              <a:ext cx="9144000" cy="0"/>
            </a:xfrm>
            <a:prstGeom prst="line">
              <a:avLst/>
            </a:prstGeom>
            <a:ln w="1260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0" y="322884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0" y="351468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0" y="381456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3" name=""/>
          <p:cNvSpPr/>
          <p:nvPr/>
        </p:nvSpPr>
        <p:spPr>
          <a:xfrm>
            <a:off x="0" y="2643120"/>
            <a:ext cx="9144000" cy="1143000"/>
          </a:xfrm>
          <a:prstGeom prst="rect">
            <a:avLst/>
          </a:prstGeom>
          <a:solidFill>
            <a:srgbClr val="7c5438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0" y="1714680"/>
            <a:ext cx="9144000" cy="934920"/>
          </a:xfrm>
          <a:prstGeom prst="rect">
            <a:avLst/>
          </a:prstGeom>
          <a:solidFill>
            <a:srgbClr val="33cc33">
              <a:alpha val="3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5" name=""/>
          <p:cNvGrpSpPr/>
          <p:nvPr/>
        </p:nvGrpSpPr>
        <p:grpSpPr>
          <a:xfrm>
            <a:off x="0" y="-600120"/>
            <a:ext cx="10980720" cy="4365720"/>
            <a:chOff x="0" y="-600120"/>
            <a:chExt cx="10980720" cy="4365720"/>
          </a:xfrm>
        </p:grpSpPr>
        <p:sp>
          <p:nvSpPr>
            <p:cNvPr id="356" name=""/>
            <p:cNvSpPr/>
            <p:nvPr/>
          </p:nvSpPr>
          <p:spPr>
            <a:xfrm>
              <a:off x="755640" y="3333600"/>
              <a:ext cx="431640" cy="432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187280" y="3116160"/>
              <a:ext cx="648000" cy="64764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835280" y="2684520"/>
              <a:ext cx="1079280" cy="107928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2916360" y="2036880"/>
              <a:ext cx="1726920" cy="172692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92360" y="1701720"/>
              <a:ext cx="2063880" cy="206388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500720" y="1125360"/>
              <a:ext cx="2609640" cy="2610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5940360" y="307800"/>
              <a:ext cx="3456000" cy="3456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093080" y="-195480"/>
              <a:ext cx="3887640" cy="3888000"/>
            </a:xfrm>
            <a:prstGeom prst="ellipse">
              <a:avLst/>
            </a:prstGeom>
            <a:noFill/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0" y="3765600"/>
              <a:ext cx="9144000" cy="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 flipH="1">
              <a:off x="0" y="-600120"/>
              <a:ext cx="9144000" cy="4365720"/>
            </a:xfrm>
            <a:prstGeom prst="line">
              <a:avLst/>
            </a:prstGeom>
            <a:ln w="9360">
              <a:solidFill>
                <a:srgbClr val="ffffff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754200" y="-193680"/>
            <a:ext cx="10225080" cy="3960720"/>
            <a:chOff x="754200" y="-193680"/>
            <a:chExt cx="10225080" cy="3960720"/>
          </a:xfrm>
        </p:grpSpPr>
        <p:sp>
          <p:nvSpPr>
            <p:cNvPr id="367" name=""/>
            <p:cNvSpPr/>
            <p:nvPr/>
          </p:nvSpPr>
          <p:spPr>
            <a:xfrm>
              <a:off x="754200" y="3335400"/>
              <a:ext cx="431640" cy="431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1185840" y="3117960"/>
              <a:ext cx="648000" cy="647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33840" y="2685960"/>
              <a:ext cx="1079280" cy="1079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914920" y="2038320"/>
              <a:ext cx="1726920" cy="172728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490920" y="1703520"/>
              <a:ext cx="2063880" cy="206352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499280" y="1127160"/>
              <a:ext cx="2609640" cy="2609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5938920" y="309600"/>
              <a:ext cx="3456000" cy="345600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7091640" y="-193680"/>
              <a:ext cx="3887640" cy="3887640"/>
            </a:xfrm>
            <a:prstGeom prst="ellipse">
              <a:avLst/>
            </a:prstGeom>
            <a:noFill/>
            <a:ln w="28440">
              <a:solidFill>
                <a:srgbClr val="99cc00">
                  <a:alpha val="25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5" name=""/>
          <p:cNvSpPr/>
          <p:nvPr/>
        </p:nvSpPr>
        <p:spPr>
          <a:xfrm>
            <a:off x="754200" y="3319560"/>
            <a:ext cx="431640" cy="431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1185840" y="3102120"/>
            <a:ext cx="647640" cy="647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1833480" y="2670120"/>
            <a:ext cx="1079640" cy="1079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2914560" y="2022480"/>
            <a:ext cx="1727280" cy="172728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3490920" y="1687680"/>
            <a:ext cx="2063880" cy="206352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4498920" y="1111320"/>
            <a:ext cx="2610000" cy="2609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5940360" y="333360"/>
            <a:ext cx="3456000" cy="345600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7091280" y="-209520"/>
            <a:ext cx="3888000" cy="3887640"/>
          </a:xfrm>
          <a:prstGeom prst="ellipse">
            <a:avLst/>
          </a:prstGeom>
          <a:gradFill rotWithShape="0">
            <a:gsLst>
              <a:gs pos="0">
                <a:srgbClr val="66ff33">
                  <a:alpha val="40000"/>
                </a:srgbClr>
              </a:gs>
              <a:gs pos="50000">
                <a:srgbClr val="ffffff">
                  <a:alpha val="19215"/>
                </a:srgbClr>
              </a:gs>
              <a:gs pos="100000">
                <a:srgbClr val="66ff33">
                  <a:alpha val="40000"/>
                </a:srgbClr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647640" y="2778120"/>
            <a:ext cx="7819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631800" y="2747880"/>
            <a:ext cx="7819920" cy="85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403280" y="0"/>
            <a:ext cx="7129440" cy="620640"/>
          </a:xfrm>
          <a:prstGeom prst="rect">
            <a:avLst/>
          </a:prstGeom>
          <a:solidFill>
            <a:srgbClr val="00ff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义务教育课程标准实验教科书数学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八年级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·</a:t>
            </a: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上册（泰山版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0" y="692280"/>
            <a:ext cx="9144000" cy="0"/>
          </a:xfrm>
          <a:prstGeom prst="line">
            <a:avLst/>
          </a:prstGeom>
          <a:ln w="76320">
            <a:solidFill>
              <a:srgbClr val="00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0" y="4797360"/>
            <a:ext cx="9144000" cy="935280"/>
          </a:xfrm>
          <a:prstGeom prst="rect">
            <a:avLst/>
          </a:prstGeom>
          <a:gradFill rotWithShape="0">
            <a:gsLst>
              <a:gs pos="0">
                <a:srgbClr val="00cc00">
                  <a:alpha val="14117"/>
                </a:srgbClr>
              </a:gs>
              <a:gs pos="100000">
                <a:srgbClr val="0000ff">
                  <a:alpha val="19215"/>
                </a:srgbClr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167760" y="2909880"/>
            <a:ext cx="4371120" cy="3480120"/>
            <a:chOff x="167760" y="2909880"/>
            <a:chExt cx="4371120" cy="3480120"/>
          </a:xfrm>
        </p:grpSpPr>
        <p:grpSp>
          <p:nvGrpSpPr>
            <p:cNvPr id="389" name=""/>
            <p:cNvGrpSpPr/>
            <p:nvPr/>
          </p:nvGrpSpPr>
          <p:grpSpPr>
            <a:xfrm>
              <a:off x="1184040" y="2909880"/>
              <a:ext cx="3354840" cy="3198960"/>
              <a:chOff x="1184040" y="2909880"/>
              <a:chExt cx="3354840" cy="3198960"/>
            </a:xfrm>
          </p:grpSpPr>
          <p:sp>
            <p:nvSpPr>
              <p:cNvPr id="390" name=""/>
              <p:cNvSpPr/>
              <p:nvPr/>
            </p:nvSpPr>
            <p:spPr>
              <a:xfrm rot="13340400">
                <a:off x="1462680" y="3573000"/>
                <a:ext cx="2695320" cy="1872000"/>
              </a:xfrm>
              <a:custGeom>
                <a:avLst/>
                <a:gdLst/>
                <a:ahLst/>
                <a:rect l="l" t="t" r="r" b="b"/>
                <a:pathLst>
                  <a:path w="2112" h="1344">
                    <a:moveTo>
                      <a:pt x="0" y="0"/>
                    </a:moveTo>
                    <a:lnTo>
                      <a:pt x="0" y="1344"/>
                    </a:lnTo>
                    <a:lnTo>
                      <a:pt x="21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f2ff">
                  <a:alpha val="50000"/>
                </a:srgbClr>
              </a:solidFill>
              <a:ln w="190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391" name=""/>
              <p:cNvGrpSpPr/>
              <p:nvPr/>
            </p:nvGrpSpPr>
            <p:grpSpPr>
              <a:xfrm>
                <a:off x="2970360" y="4759200"/>
                <a:ext cx="1218240" cy="1302840"/>
                <a:chOff x="2970360" y="4759200"/>
                <a:chExt cx="1218240" cy="1302840"/>
              </a:xfrm>
            </p:grpSpPr>
            <p:grpSp>
              <p:nvGrpSpPr>
                <p:cNvPr id="392" name=""/>
                <p:cNvGrpSpPr/>
                <p:nvPr/>
              </p:nvGrpSpPr>
              <p:grpSpPr>
                <a:xfrm>
                  <a:off x="3263040" y="4974120"/>
                  <a:ext cx="923400" cy="1017360"/>
                  <a:chOff x="3263040" y="4974120"/>
                  <a:chExt cx="923400" cy="1017360"/>
                </a:xfrm>
              </p:grpSpPr>
              <p:sp>
                <p:nvSpPr>
                  <p:cNvPr id="393" name=""/>
                  <p:cNvSpPr/>
                  <p:nvPr/>
                </p:nvSpPr>
                <p:spPr>
                  <a:xfrm flipH="1" flipV="1">
                    <a:off x="4145760" y="4974120"/>
                    <a:ext cx="40680" cy="367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080" bIns="-10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4" name=""/>
                  <p:cNvSpPr/>
                  <p:nvPr/>
                </p:nvSpPr>
                <p:spPr>
                  <a:xfrm flipH="1" flipV="1">
                    <a:off x="4149360" y="500760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5" name=""/>
                  <p:cNvSpPr/>
                  <p:nvPr/>
                </p:nvSpPr>
                <p:spPr>
                  <a:xfrm flipH="1" flipV="1">
                    <a:off x="4133520" y="502524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6" name=""/>
                  <p:cNvSpPr/>
                  <p:nvPr/>
                </p:nvSpPr>
                <p:spPr>
                  <a:xfrm flipH="1" flipV="1">
                    <a:off x="4118760" y="504144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7" name=""/>
                  <p:cNvSpPr/>
                  <p:nvPr/>
                </p:nvSpPr>
                <p:spPr>
                  <a:xfrm flipH="1" flipV="1">
                    <a:off x="4102560" y="505908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8" name=""/>
                  <p:cNvSpPr/>
                  <p:nvPr/>
                </p:nvSpPr>
                <p:spPr>
                  <a:xfrm flipH="1" flipV="1">
                    <a:off x="4076640" y="5065560"/>
                    <a:ext cx="32760" cy="298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399" name=""/>
                  <p:cNvSpPr/>
                  <p:nvPr/>
                </p:nvSpPr>
                <p:spPr>
                  <a:xfrm flipH="1" flipV="1">
                    <a:off x="4071600" y="5092920"/>
                    <a:ext cx="2196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0" name=""/>
                  <p:cNvSpPr/>
                  <p:nvPr/>
                </p:nvSpPr>
                <p:spPr>
                  <a:xfrm flipH="1" flipV="1">
                    <a:off x="4056840" y="5109120"/>
                    <a:ext cx="2196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1" name=""/>
                  <p:cNvSpPr/>
                  <p:nvPr/>
                </p:nvSpPr>
                <p:spPr>
                  <a:xfrm flipH="1" flipV="1">
                    <a:off x="4041720" y="512604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2" name=""/>
                  <p:cNvSpPr/>
                  <p:nvPr/>
                </p:nvSpPr>
                <p:spPr>
                  <a:xfrm flipH="1" flipV="1">
                    <a:off x="4025520" y="514368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3" name=""/>
                  <p:cNvSpPr/>
                  <p:nvPr/>
                </p:nvSpPr>
                <p:spPr>
                  <a:xfrm flipH="1" flipV="1">
                    <a:off x="3997080" y="5147640"/>
                    <a:ext cx="35640" cy="320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4" name=""/>
                  <p:cNvSpPr/>
                  <p:nvPr/>
                </p:nvSpPr>
                <p:spPr>
                  <a:xfrm flipH="1" flipV="1">
                    <a:off x="3994920" y="517752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5" name=""/>
                  <p:cNvSpPr/>
                  <p:nvPr/>
                </p:nvSpPr>
                <p:spPr>
                  <a:xfrm flipH="1" flipV="1">
                    <a:off x="3979800" y="5193720"/>
                    <a:ext cx="2160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6" name=""/>
                  <p:cNvSpPr/>
                  <p:nvPr/>
                </p:nvSpPr>
                <p:spPr>
                  <a:xfrm flipH="1" flipV="1">
                    <a:off x="3964680" y="5210280"/>
                    <a:ext cx="2196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7" name=""/>
                  <p:cNvSpPr/>
                  <p:nvPr/>
                </p:nvSpPr>
                <p:spPr>
                  <a:xfrm flipH="1" flipV="1">
                    <a:off x="3938040" y="5217840"/>
                    <a:ext cx="32760" cy="298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8" name=""/>
                  <p:cNvSpPr/>
                  <p:nvPr/>
                </p:nvSpPr>
                <p:spPr>
                  <a:xfrm flipH="1" flipV="1">
                    <a:off x="3933720" y="524448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09" name=""/>
                  <p:cNvSpPr/>
                  <p:nvPr/>
                </p:nvSpPr>
                <p:spPr>
                  <a:xfrm flipH="1" flipV="1">
                    <a:off x="3917520" y="526212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0" name=""/>
                  <p:cNvSpPr/>
                  <p:nvPr/>
                </p:nvSpPr>
                <p:spPr>
                  <a:xfrm flipH="1" flipV="1">
                    <a:off x="3902760" y="527832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1" name=""/>
                  <p:cNvSpPr/>
                  <p:nvPr/>
                </p:nvSpPr>
                <p:spPr>
                  <a:xfrm flipH="1" flipV="1">
                    <a:off x="3886920" y="529596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2" name=""/>
                  <p:cNvSpPr/>
                  <p:nvPr/>
                </p:nvSpPr>
                <p:spPr>
                  <a:xfrm flipH="1" flipV="1">
                    <a:off x="3848760" y="5291280"/>
                    <a:ext cx="45000" cy="410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3" name=""/>
                  <p:cNvSpPr/>
                  <p:nvPr/>
                </p:nvSpPr>
                <p:spPr>
                  <a:xfrm flipH="1" flipV="1">
                    <a:off x="3857040" y="532872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4" name=""/>
                  <p:cNvSpPr/>
                  <p:nvPr/>
                </p:nvSpPr>
                <p:spPr>
                  <a:xfrm flipH="1" flipV="1">
                    <a:off x="3841200" y="5346000"/>
                    <a:ext cx="2160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5" name=""/>
                  <p:cNvSpPr/>
                  <p:nvPr/>
                </p:nvSpPr>
                <p:spPr>
                  <a:xfrm flipH="1" flipV="1">
                    <a:off x="3825720" y="536292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6" name=""/>
                  <p:cNvSpPr/>
                  <p:nvPr/>
                </p:nvSpPr>
                <p:spPr>
                  <a:xfrm flipH="1" flipV="1">
                    <a:off x="3809880" y="538020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7" name=""/>
                  <p:cNvSpPr/>
                  <p:nvPr/>
                </p:nvSpPr>
                <p:spPr>
                  <a:xfrm flipH="1" flipV="1">
                    <a:off x="3783960" y="5386680"/>
                    <a:ext cx="32760" cy="298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8" name=""/>
                  <p:cNvSpPr/>
                  <p:nvPr/>
                </p:nvSpPr>
                <p:spPr>
                  <a:xfrm flipH="1" flipV="1">
                    <a:off x="3780000" y="541332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19" name=""/>
                  <p:cNvSpPr/>
                  <p:nvPr/>
                </p:nvSpPr>
                <p:spPr>
                  <a:xfrm flipH="1" flipV="1">
                    <a:off x="3763800" y="5430600"/>
                    <a:ext cx="2196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0" name=""/>
                  <p:cNvSpPr/>
                  <p:nvPr/>
                </p:nvSpPr>
                <p:spPr>
                  <a:xfrm flipH="1" flipV="1">
                    <a:off x="3749040" y="544716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1" name=""/>
                  <p:cNvSpPr/>
                  <p:nvPr/>
                </p:nvSpPr>
                <p:spPr>
                  <a:xfrm flipH="1" flipV="1">
                    <a:off x="3733200" y="546444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2" name=""/>
                  <p:cNvSpPr/>
                  <p:nvPr/>
                </p:nvSpPr>
                <p:spPr>
                  <a:xfrm flipH="1" flipV="1">
                    <a:off x="3694680" y="5460120"/>
                    <a:ext cx="45000" cy="410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3" name=""/>
                  <p:cNvSpPr/>
                  <p:nvPr/>
                </p:nvSpPr>
                <p:spPr>
                  <a:xfrm flipH="1" flipV="1">
                    <a:off x="3702240" y="549864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4" name=""/>
                  <p:cNvSpPr/>
                  <p:nvPr/>
                </p:nvSpPr>
                <p:spPr>
                  <a:xfrm flipH="1" flipV="1">
                    <a:off x="3686760" y="5515200"/>
                    <a:ext cx="2196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5" name=""/>
                  <p:cNvSpPr/>
                  <p:nvPr/>
                </p:nvSpPr>
                <p:spPr>
                  <a:xfrm flipH="1" flipV="1">
                    <a:off x="3672000" y="5531400"/>
                    <a:ext cx="2196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6" name=""/>
                  <p:cNvSpPr/>
                  <p:nvPr/>
                </p:nvSpPr>
                <p:spPr>
                  <a:xfrm flipH="1" flipV="1">
                    <a:off x="3645000" y="5539320"/>
                    <a:ext cx="32760" cy="295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7" name=""/>
                  <p:cNvSpPr/>
                  <p:nvPr/>
                </p:nvSpPr>
                <p:spPr>
                  <a:xfrm flipH="1" flipV="1">
                    <a:off x="3641040" y="556560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8" name=""/>
                  <p:cNvSpPr/>
                  <p:nvPr/>
                </p:nvSpPr>
                <p:spPr>
                  <a:xfrm flipH="1" flipV="1">
                    <a:off x="3625200" y="558324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29" name=""/>
                  <p:cNvSpPr/>
                  <p:nvPr/>
                </p:nvSpPr>
                <p:spPr>
                  <a:xfrm flipH="1" flipV="1">
                    <a:off x="3610080" y="559944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0" name=""/>
                  <p:cNvSpPr/>
                  <p:nvPr/>
                </p:nvSpPr>
                <p:spPr>
                  <a:xfrm flipH="1" flipV="1">
                    <a:off x="3594240" y="561708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1" name=""/>
                  <p:cNvSpPr/>
                  <p:nvPr/>
                </p:nvSpPr>
                <p:spPr>
                  <a:xfrm flipH="1" flipV="1">
                    <a:off x="3555720" y="5612760"/>
                    <a:ext cx="45000" cy="410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2" name=""/>
                  <p:cNvSpPr/>
                  <p:nvPr/>
                </p:nvSpPr>
                <p:spPr>
                  <a:xfrm flipH="1" flipV="1">
                    <a:off x="3564000" y="5649840"/>
                    <a:ext cx="2196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3" name=""/>
                  <p:cNvSpPr/>
                  <p:nvPr/>
                </p:nvSpPr>
                <p:spPr>
                  <a:xfrm flipH="1" flipV="1">
                    <a:off x="3548160" y="566748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4" name=""/>
                  <p:cNvSpPr/>
                  <p:nvPr/>
                </p:nvSpPr>
                <p:spPr>
                  <a:xfrm flipH="1" flipV="1">
                    <a:off x="3533040" y="568404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5" name=""/>
                  <p:cNvSpPr/>
                  <p:nvPr/>
                </p:nvSpPr>
                <p:spPr>
                  <a:xfrm flipH="1" flipV="1">
                    <a:off x="3517200" y="570168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6" name=""/>
                  <p:cNvSpPr/>
                  <p:nvPr/>
                </p:nvSpPr>
                <p:spPr>
                  <a:xfrm flipH="1" flipV="1">
                    <a:off x="3491280" y="5707800"/>
                    <a:ext cx="32760" cy="298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6920" bIns="-169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7" name=""/>
                  <p:cNvSpPr/>
                  <p:nvPr/>
                </p:nvSpPr>
                <p:spPr>
                  <a:xfrm flipH="1" flipV="1">
                    <a:off x="3486960" y="5734440"/>
                    <a:ext cx="2196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8" name=""/>
                  <p:cNvSpPr/>
                  <p:nvPr/>
                </p:nvSpPr>
                <p:spPr>
                  <a:xfrm flipH="1" flipV="1">
                    <a:off x="3471120" y="575208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39" name=""/>
                  <p:cNvSpPr/>
                  <p:nvPr/>
                </p:nvSpPr>
                <p:spPr>
                  <a:xfrm flipH="1" flipV="1">
                    <a:off x="3456360" y="5768280"/>
                    <a:ext cx="2160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0" name=""/>
                  <p:cNvSpPr/>
                  <p:nvPr/>
                </p:nvSpPr>
                <p:spPr>
                  <a:xfrm flipH="1" flipV="1">
                    <a:off x="3440160" y="578592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1" name=""/>
                  <p:cNvSpPr/>
                  <p:nvPr/>
                </p:nvSpPr>
                <p:spPr>
                  <a:xfrm flipH="1" flipV="1">
                    <a:off x="3411720" y="5790240"/>
                    <a:ext cx="35280" cy="320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4760" bIns="-14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2" name=""/>
                  <p:cNvSpPr/>
                  <p:nvPr/>
                </p:nvSpPr>
                <p:spPr>
                  <a:xfrm flipH="1" flipV="1">
                    <a:off x="3409200" y="582012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3" name=""/>
                  <p:cNvSpPr/>
                  <p:nvPr/>
                </p:nvSpPr>
                <p:spPr>
                  <a:xfrm flipH="1" flipV="1">
                    <a:off x="3394440" y="583632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4" name=""/>
                  <p:cNvSpPr/>
                  <p:nvPr/>
                </p:nvSpPr>
                <p:spPr>
                  <a:xfrm flipH="1" flipV="1">
                    <a:off x="3379320" y="5852880"/>
                    <a:ext cx="2160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5" name=""/>
                  <p:cNvSpPr/>
                  <p:nvPr/>
                </p:nvSpPr>
                <p:spPr>
                  <a:xfrm flipH="1" flipV="1">
                    <a:off x="3352320" y="5860800"/>
                    <a:ext cx="32760" cy="295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7280" bIns="-172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6" name=""/>
                  <p:cNvSpPr/>
                  <p:nvPr/>
                </p:nvSpPr>
                <p:spPr>
                  <a:xfrm flipH="1" flipV="1">
                    <a:off x="3348360" y="588672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7" name=""/>
                  <p:cNvSpPr/>
                  <p:nvPr/>
                </p:nvSpPr>
                <p:spPr>
                  <a:xfrm flipH="1" flipV="1">
                    <a:off x="3332520" y="590436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8" name=""/>
                  <p:cNvSpPr/>
                  <p:nvPr/>
                </p:nvSpPr>
                <p:spPr>
                  <a:xfrm flipH="1" flipV="1">
                    <a:off x="3317400" y="5920920"/>
                    <a:ext cx="2160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49" name=""/>
                  <p:cNvSpPr/>
                  <p:nvPr/>
                </p:nvSpPr>
                <p:spPr>
                  <a:xfrm flipH="1" flipV="1">
                    <a:off x="3302280" y="5937480"/>
                    <a:ext cx="21960" cy="198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7000" bIns="-270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0" name=""/>
                  <p:cNvSpPr/>
                  <p:nvPr/>
                </p:nvSpPr>
                <p:spPr>
                  <a:xfrm flipH="1" flipV="1">
                    <a:off x="3263040" y="5933880"/>
                    <a:ext cx="45000" cy="410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760" bIns="-57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451" name=""/>
                  <p:cNvSpPr/>
                  <p:nvPr/>
                </p:nvSpPr>
                <p:spPr>
                  <a:xfrm flipH="1" flipV="1">
                    <a:off x="3271320" y="5971320"/>
                    <a:ext cx="21600" cy="201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6640" bIns="-266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452" name=""/>
                <p:cNvSpPr/>
                <p:nvPr/>
              </p:nvSpPr>
              <p:spPr>
                <a:xfrm rot="7940400">
                  <a:off x="2810160" y="5287320"/>
                  <a:ext cx="15382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40000"/>
                      </a:solidFill>
                      <a:latin typeface="Times New Roman"/>
                    </a:rPr>
                    <a:t>0     1      2     3      4      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53" name=""/>
              <p:cNvGrpSpPr/>
              <p:nvPr/>
            </p:nvGrpSpPr>
            <p:grpSpPr>
              <a:xfrm>
                <a:off x="1431000" y="4244040"/>
                <a:ext cx="1892880" cy="1755720"/>
                <a:chOff x="1431000" y="4244040"/>
                <a:chExt cx="1892880" cy="1755720"/>
              </a:xfrm>
            </p:grpSpPr>
            <p:grpSp>
              <p:nvGrpSpPr>
                <p:cNvPr id="454" name=""/>
                <p:cNvGrpSpPr/>
                <p:nvPr/>
              </p:nvGrpSpPr>
              <p:grpSpPr>
                <a:xfrm>
                  <a:off x="1597320" y="4587480"/>
                  <a:ext cx="1501560" cy="1377720"/>
                  <a:chOff x="1597320" y="4587480"/>
                  <a:chExt cx="1501560" cy="1377720"/>
                </a:xfrm>
              </p:grpSpPr>
              <p:grpSp>
                <p:nvGrpSpPr>
                  <p:cNvPr id="455" name=""/>
                  <p:cNvGrpSpPr/>
                  <p:nvPr/>
                </p:nvGrpSpPr>
                <p:grpSpPr>
                  <a:xfrm>
                    <a:off x="1628280" y="4635000"/>
                    <a:ext cx="1470600" cy="1330200"/>
                    <a:chOff x="1628280" y="4635000"/>
                    <a:chExt cx="1470600" cy="1330200"/>
                  </a:xfrm>
                </p:grpSpPr>
                <p:sp>
                  <p:nvSpPr>
                    <p:cNvPr id="456" name=""/>
                    <p:cNvSpPr/>
                    <p:nvPr/>
                  </p:nvSpPr>
                  <p:spPr>
                    <a:xfrm flipV="1">
                      <a:off x="3068640" y="5931720"/>
                      <a:ext cx="30240" cy="334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3320" bIns="-133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7" name=""/>
                    <p:cNvSpPr/>
                    <p:nvPr/>
                  </p:nvSpPr>
                  <p:spPr>
                    <a:xfrm flipV="1">
                      <a:off x="3053160" y="593352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8" name=""/>
                    <p:cNvSpPr/>
                    <p:nvPr/>
                  </p:nvSpPr>
                  <p:spPr>
                    <a:xfrm flipV="1">
                      <a:off x="3037680" y="591948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59" name=""/>
                    <p:cNvSpPr/>
                    <p:nvPr/>
                  </p:nvSpPr>
                  <p:spPr>
                    <a:xfrm flipV="1">
                      <a:off x="3022200" y="590544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0" name=""/>
                    <p:cNvSpPr/>
                    <p:nvPr/>
                  </p:nvSpPr>
                  <p:spPr>
                    <a:xfrm flipV="1">
                      <a:off x="3006720" y="589140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1" name=""/>
                    <p:cNvSpPr/>
                    <p:nvPr/>
                  </p:nvSpPr>
                  <p:spPr>
                    <a:xfrm flipV="1">
                      <a:off x="2991600" y="5867640"/>
                      <a:ext cx="24480" cy="27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2" name=""/>
                    <p:cNvSpPr/>
                    <p:nvPr/>
                  </p:nvSpPr>
                  <p:spPr>
                    <a:xfrm flipV="1">
                      <a:off x="2975760" y="586224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3" name=""/>
                    <p:cNvSpPr/>
                    <p:nvPr/>
                  </p:nvSpPr>
                  <p:spPr>
                    <a:xfrm flipV="1">
                      <a:off x="2960280" y="584820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4" name=""/>
                    <p:cNvSpPr/>
                    <p:nvPr/>
                  </p:nvSpPr>
                  <p:spPr>
                    <a:xfrm flipV="1">
                      <a:off x="2944800" y="583416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5" name=""/>
                    <p:cNvSpPr/>
                    <p:nvPr/>
                  </p:nvSpPr>
                  <p:spPr>
                    <a:xfrm flipV="1">
                      <a:off x="2929320" y="582012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6" name=""/>
                    <p:cNvSpPr/>
                    <p:nvPr/>
                  </p:nvSpPr>
                  <p:spPr>
                    <a:xfrm flipV="1">
                      <a:off x="2913840" y="5794200"/>
                      <a:ext cx="27000" cy="298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7" name=""/>
                    <p:cNvSpPr/>
                    <p:nvPr/>
                  </p:nvSpPr>
                  <p:spPr>
                    <a:xfrm flipV="1">
                      <a:off x="2898360" y="579240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8" name=""/>
                    <p:cNvSpPr/>
                    <p:nvPr/>
                  </p:nvSpPr>
                  <p:spPr>
                    <a:xfrm flipV="1">
                      <a:off x="2882880" y="577836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69" name=""/>
                    <p:cNvSpPr/>
                    <p:nvPr/>
                  </p:nvSpPr>
                  <p:spPr>
                    <a:xfrm flipV="1">
                      <a:off x="2867400" y="576432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0" name=""/>
                    <p:cNvSpPr/>
                    <p:nvPr/>
                  </p:nvSpPr>
                  <p:spPr>
                    <a:xfrm flipV="1">
                      <a:off x="2851920" y="5740560"/>
                      <a:ext cx="2484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1" name=""/>
                    <p:cNvSpPr/>
                    <p:nvPr/>
                  </p:nvSpPr>
                  <p:spPr>
                    <a:xfrm flipV="1">
                      <a:off x="2836440" y="573588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2" name=""/>
                    <p:cNvSpPr/>
                    <p:nvPr/>
                  </p:nvSpPr>
                  <p:spPr>
                    <a:xfrm flipV="1">
                      <a:off x="2820960" y="572184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3" name=""/>
                    <p:cNvSpPr/>
                    <p:nvPr/>
                  </p:nvSpPr>
                  <p:spPr>
                    <a:xfrm flipV="1">
                      <a:off x="2805480" y="570780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4" name=""/>
                    <p:cNvSpPr/>
                    <p:nvPr/>
                  </p:nvSpPr>
                  <p:spPr>
                    <a:xfrm flipV="1">
                      <a:off x="2790000" y="569376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5" name=""/>
                    <p:cNvSpPr/>
                    <p:nvPr/>
                  </p:nvSpPr>
                  <p:spPr>
                    <a:xfrm flipV="1">
                      <a:off x="2774160" y="5659920"/>
                      <a:ext cx="33840" cy="370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6" name=""/>
                    <p:cNvSpPr/>
                    <p:nvPr/>
                  </p:nvSpPr>
                  <p:spPr>
                    <a:xfrm flipV="1">
                      <a:off x="2759040" y="566532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7" name=""/>
                    <p:cNvSpPr/>
                    <p:nvPr/>
                  </p:nvSpPr>
                  <p:spPr>
                    <a:xfrm flipV="1">
                      <a:off x="2743560" y="565128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8" name=""/>
                    <p:cNvSpPr/>
                    <p:nvPr/>
                  </p:nvSpPr>
                  <p:spPr>
                    <a:xfrm flipV="1">
                      <a:off x="2728080" y="563724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79" name=""/>
                    <p:cNvSpPr/>
                    <p:nvPr/>
                  </p:nvSpPr>
                  <p:spPr>
                    <a:xfrm flipV="1">
                      <a:off x="2712600" y="562320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0" name=""/>
                    <p:cNvSpPr/>
                    <p:nvPr/>
                  </p:nvSpPr>
                  <p:spPr>
                    <a:xfrm flipV="1">
                      <a:off x="2696760" y="5599080"/>
                      <a:ext cx="2484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1" name=""/>
                    <p:cNvSpPr/>
                    <p:nvPr/>
                  </p:nvSpPr>
                  <p:spPr>
                    <a:xfrm flipV="1">
                      <a:off x="2681280" y="559476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2" name=""/>
                    <p:cNvSpPr/>
                    <p:nvPr/>
                  </p:nvSpPr>
                  <p:spPr>
                    <a:xfrm flipV="1">
                      <a:off x="2666160" y="558072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3" name=""/>
                    <p:cNvSpPr/>
                    <p:nvPr/>
                  </p:nvSpPr>
                  <p:spPr>
                    <a:xfrm flipV="1">
                      <a:off x="2650680" y="556668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4" name=""/>
                    <p:cNvSpPr/>
                    <p:nvPr/>
                  </p:nvSpPr>
                  <p:spPr>
                    <a:xfrm flipV="1">
                      <a:off x="2634840" y="555228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5" name=""/>
                    <p:cNvSpPr/>
                    <p:nvPr/>
                  </p:nvSpPr>
                  <p:spPr>
                    <a:xfrm flipV="1">
                      <a:off x="2619360" y="5518800"/>
                      <a:ext cx="33840" cy="370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6" name=""/>
                    <p:cNvSpPr/>
                    <p:nvPr/>
                  </p:nvSpPr>
                  <p:spPr>
                    <a:xfrm flipV="1">
                      <a:off x="2603880" y="552420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7" name=""/>
                    <p:cNvSpPr/>
                    <p:nvPr/>
                  </p:nvSpPr>
                  <p:spPr>
                    <a:xfrm flipV="1">
                      <a:off x="2588400" y="551016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8" name=""/>
                    <p:cNvSpPr/>
                    <p:nvPr/>
                  </p:nvSpPr>
                  <p:spPr>
                    <a:xfrm flipV="1">
                      <a:off x="2573280" y="549612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89" name=""/>
                    <p:cNvSpPr/>
                    <p:nvPr/>
                  </p:nvSpPr>
                  <p:spPr>
                    <a:xfrm flipV="1">
                      <a:off x="2557800" y="5472360"/>
                      <a:ext cx="2448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0" name=""/>
                    <p:cNvSpPr/>
                    <p:nvPr/>
                  </p:nvSpPr>
                  <p:spPr>
                    <a:xfrm flipV="1">
                      <a:off x="2541960" y="546768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1" name=""/>
                    <p:cNvSpPr/>
                    <p:nvPr/>
                  </p:nvSpPr>
                  <p:spPr>
                    <a:xfrm flipV="1">
                      <a:off x="2526480" y="545364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2" name=""/>
                    <p:cNvSpPr/>
                    <p:nvPr/>
                  </p:nvSpPr>
                  <p:spPr>
                    <a:xfrm flipV="1">
                      <a:off x="2511000" y="543960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3" name=""/>
                    <p:cNvSpPr/>
                    <p:nvPr/>
                  </p:nvSpPr>
                  <p:spPr>
                    <a:xfrm flipV="1">
                      <a:off x="2495520" y="542556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4" name=""/>
                    <p:cNvSpPr/>
                    <p:nvPr/>
                  </p:nvSpPr>
                  <p:spPr>
                    <a:xfrm flipV="1">
                      <a:off x="2480400" y="5392080"/>
                      <a:ext cx="33480" cy="370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5" name=""/>
                    <p:cNvSpPr/>
                    <p:nvPr/>
                  </p:nvSpPr>
                  <p:spPr>
                    <a:xfrm flipV="1">
                      <a:off x="2464560" y="539712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6" name=""/>
                    <p:cNvSpPr/>
                    <p:nvPr/>
                  </p:nvSpPr>
                  <p:spPr>
                    <a:xfrm flipV="1">
                      <a:off x="2449080" y="538308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7" name=""/>
                    <p:cNvSpPr/>
                    <p:nvPr/>
                  </p:nvSpPr>
                  <p:spPr>
                    <a:xfrm flipV="1">
                      <a:off x="2433600" y="536904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8" name=""/>
                    <p:cNvSpPr/>
                    <p:nvPr/>
                  </p:nvSpPr>
                  <p:spPr>
                    <a:xfrm flipV="1">
                      <a:off x="2418120" y="535500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499" name=""/>
                    <p:cNvSpPr/>
                    <p:nvPr/>
                  </p:nvSpPr>
                  <p:spPr>
                    <a:xfrm flipV="1">
                      <a:off x="2402640" y="5331240"/>
                      <a:ext cx="24480" cy="27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0" name=""/>
                    <p:cNvSpPr/>
                    <p:nvPr/>
                  </p:nvSpPr>
                  <p:spPr>
                    <a:xfrm flipV="1">
                      <a:off x="2387160" y="5326200"/>
                      <a:ext cx="16560" cy="18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1" name=""/>
                    <p:cNvSpPr/>
                    <p:nvPr/>
                  </p:nvSpPr>
                  <p:spPr>
                    <a:xfrm flipV="1">
                      <a:off x="2371680" y="5312160"/>
                      <a:ext cx="16560" cy="18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2" name=""/>
                    <p:cNvSpPr/>
                    <p:nvPr/>
                  </p:nvSpPr>
                  <p:spPr>
                    <a:xfrm flipV="1">
                      <a:off x="2356200" y="529776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3" name=""/>
                    <p:cNvSpPr/>
                    <p:nvPr/>
                  </p:nvSpPr>
                  <p:spPr>
                    <a:xfrm flipV="1">
                      <a:off x="2340720" y="5283720"/>
                      <a:ext cx="16560" cy="18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440" bIns="-28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4" name=""/>
                    <p:cNvSpPr/>
                    <p:nvPr/>
                  </p:nvSpPr>
                  <p:spPr>
                    <a:xfrm flipV="1">
                      <a:off x="2325240" y="5257800"/>
                      <a:ext cx="27000" cy="298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5" name=""/>
                    <p:cNvSpPr/>
                    <p:nvPr/>
                  </p:nvSpPr>
                  <p:spPr>
                    <a:xfrm flipV="1">
                      <a:off x="2309760" y="525600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6" name=""/>
                    <p:cNvSpPr/>
                    <p:nvPr/>
                  </p:nvSpPr>
                  <p:spPr>
                    <a:xfrm flipV="1">
                      <a:off x="2294280" y="524196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7" name=""/>
                    <p:cNvSpPr/>
                    <p:nvPr/>
                  </p:nvSpPr>
                  <p:spPr>
                    <a:xfrm flipV="1">
                      <a:off x="2278800" y="522792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8" name=""/>
                    <p:cNvSpPr/>
                    <p:nvPr/>
                  </p:nvSpPr>
                  <p:spPr>
                    <a:xfrm flipV="1">
                      <a:off x="2262960" y="5204160"/>
                      <a:ext cx="24840" cy="27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09" name=""/>
                    <p:cNvSpPr/>
                    <p:nvPr/>
                  </p:nvSpPr>
                  <p:spPr>
                    <a:xfrm flipV="1">
                      <a:off x="2247840" y="519948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0" name=""/>
                    <p:cNvSpPr/>
                    <p:nvPr/>
                  </p:nvSpPr>
                  <p:spPr>
                    <a:xfrm flipV="1">
                      <a:off x="2232360" y="518544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1" name=""/>
                    <p:cNvSpPr/>
                    <p:nvPr/>
                  </p:nvSpPr>
                  <p:spPr>
                    <a:xfrm flipV="1">
                      <a:off x="2216880" y="517140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2" name=""/>
                    <p:cNvSpPr/>
                    <p:nvPr/>
                  </p:nvSpPr>
                  <p:spPr>
                    <a:xfrm flipV="1">
                      <a:off x="2201400" y="515736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3" name=""/>
                    <p:cNvSpPr/>
                    <p:nvPr/>
                  </p:nvSpPr>
                  <p:spPr>
                    <a:xfrm flipV="1">
                      <a:off x="2185560" y="5123520"/>
                      <a:ext cx="33840" cy="370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4" name=""/>
                    <p:cNvSpPr/>
                    <p:nvPr/>
                  </p:nvSpPr>
                  <p:spPr>
                    <a:xfrm flipV="1">
                      <a:off x="2170080" y="512892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5" name=""/>
                    <p:cNvSpPr/>
                    <p:nvPr/>
                  </p:nvSpPr>
                  <p:spPr>
                    <a:xfrm flipV="1">
                      <a:off x="2154960" y="511488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6" name=""/>
                    <p:cNvSpPr/>
                    <p:nvPr/>
                  </p:nvSpPr>
                  <p:spPr>
                    <a:xfrm flipV="1">
                      <a:off x="2139480" y="510084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7" name=""/>
                    <p:cNvSpPr/>
                    <p:nvPr/>
                  </p:nvSpPr>
                  <p:spPr>
                    <a:xfrm flipV="1">
                      <a:off x="2123640" y="508644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8" name=""/>
                    <p:cNvSpPr/>
                    <p:nvPr/>
                  </p:nvSpPr>
                  <p:spPr>
                    <a:xfrm flipV="1">
                      <a:off x="2108160" y="5063040"/>
                      <a:ext cx="24840" cy="27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19" name=""/>
                    <p:cNvSpPr/>
                    <p:nvPr/>
                  </p:nvSpPr>
                  <p:spPr>
                    <a:xfrm flipV="1">
                      <a:off x="2092680" y="505836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0" name=""/>
                    <p:cNvSpPr/>
                    <p:nvPr/>
                  </p:nvSpPr>
                  <p:spPr>
                    <a:xfrm flipV="1">
                      <a:off x="2077560" y="504432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1" name=""/>
                    <p:cNvSpPr/>
                    <p:nvPr/>
                  </p:nvSpPr>
                  <p:spPr>
                    <a:xfrm flipV="1">
                      <a:off x="2062080" y="503028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2" name=""/>
                    <p:cNvSpPr/>
                    <p:nvPr/>
                  </p:nvSpPr>
                  <p:spPr>
                    <a:xfrm flipV="1">
                      <a:off x="2046600" y="501624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3" name=""/>
                    <p:cNvSpPr/>
                    <p:nvPr/>
                  </p:nvSpPr>
                  <p:spPr>
                    <a:xfrm flipV="1">
                      <a:off x="2030760" y="4982400"/>
                      <a:ext cx="33840" cy="370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4" name=""/>
                    <p:cNvSpPr/>
                    <p:nvPr/>
                  </p:nvSpPr>
                  <p:spPr>
                    <a:xfrm flipV="1">
                      <a:off x="2015280" y="498780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5" name=""/>
                    <p:cNvSpPr/>
                    <p:nvPr/>
                  </p:nvSpPr>
                  <p:spPr>
                    <a:xfrm flipV="1">
                      <a:off x="1999800" y="497376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6" name=""/>
                    <p:cNvSpPr/>
                    <p:nvPr/>
                  </p:nvSpPr>
                  <p:spPr>
                    <a:xfrm flipV="1">
                      <a:off x="1984680" y="495972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7" name=""/>
                    <p:cNvSpPr/>
                    <p:nvPr/>
                  </p:nvSpPr>
                  <p:spPr>
                    <a:xfrm flipV="1">
                      <a:off x="1969200" y="4935960"/>
                      <a:ext cx="24480" cy="273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8" name=""/>
                    <p:cNvSpPr/>
                    <p:nvPr/>
                  </p:nvSpPr>
                  <p:spPr>
                    <a:xfrm flipV="1">
                      <a:off x="1953360" y="493128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29" name=""/>
                    <p:cNvSpPr/>
                    <p:nvPr/>
                  </p:nvSpPr>
                  <p:spPr>
                    <a:xfrm flipV="1">
                      <a:off x="1937880" y="491724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0" name=""/>
                    <p:cNvSpPr/>
                    <p:nvPr/>
                  </p:nvSpPr>
                  <p:spPr>
                    <a:xfrm flipV="1">
                      <a:off x="1922400" y="490320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1" name=""/>
                    <p:cNvSpPr/>
                    <p:nvPr/>
                  </p:nvSpPr>
                  <p:spPr>
                    <a:xfrm flipV="1">
                      <a:off x="1906920" y="488916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2" name=""/>
                    <p:cNvSpPr/>
                    <p:nvPr/>
                  </p:nvSpPr>
                  <p:spPr>
                    <a:xfrm flipV="1">
                      <a:off x="1891440" y="4855320"/>
                      <a:ext cx="33480" cy="370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9720" bIns="-97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3" name=""/>
                    <p:cNvSpPr/>
                    <p:nvPr/>
                  </p:nvSpPr>
                  <p:spPr>
                    <a:xfrm flipV="1">
                      <a:off x="1875960" y="486072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4" name=""/>
                    <p:cNvSpPr/>
                    <p:nvPr/>
                  </p:nvSpPr>
                  <p:spPr>
                    <a:xfrm flipV="1">
                      <a:off x="1860480" y="484668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5" name=""/>
                    <p:cNvSpPr/>
                    <p:nvPr/>
                  </p:nvSpPr>
                  <p:spPr>
                    <a:xfrm flipV="1">
                      <a:off x="1845000" y="483264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6" name=""/>
                    <p:cNvSpPr/>
                    <p:nvPr/>
                  </p:nvSpPr>
                  <p:spPr>
                    <a:xfrm flipV="1">
                      <a:off x="1829520" y="4818600"/>
                      <a:ext cx="1620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7" name=""/>
                    <p:cNvSpPr/>
                    <p:nvPr/>
                  </p:nvSpPr>
                  <p:spPr>
                    <a:xfrm flipV="1">
                      <a:off x="1814040" y="4794840"/>
                      <a:ext cx="24480" cy="27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8" name=""/>
                    <p:cNvSpPr/>
                    <p:nvPr/>
                  </p:nvSpPr>
                  <p:spPr>
                    <a:xfrm flipV="1">
                      <a:off x="1798560" y="4789800"/>
                      <a:ext cx="16560" cy="18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39" name=""/>
                    <p:cNvSpPr/>
                    <p:nvPr/>
                  </p:nvSpPr>
                  <p:spPr>
                    <a:xfrm flipV="1">
                      <a:off x="1783080" y="4775760"/>
                      <a:ext cx="16560" cy="18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0" name=""/>
                    <p:cNvSpPr/>
                    <p:nvPr/>
                  </p:nvSpPr>
                  <p:spPr>
                    <a:xfrm flipV="1">
                      <a:off x="1767600" y="4761720"/>
                      <a:ext cx="16560" cy="18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1" name=""/>
                    <p:cNvSpPr/>
                    <p:nvPr/>
                  </p:nvSpPr>
                  <p:spPr>
                    <a:xfrm flipV="1">
                      <a:off x="1752120" y="4747320"/>
                      <a:ext cx="16200" cy="18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8800" bIns="-28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2" name=""/>
                    <p:cNvSpPr/>
                    <p:nvPr/>
                  </p:nvSpPr>
                  <p:spPr>
                    <a:xfrm flipV="1">
                      <a:off x="1736640" y="4721400"/>
                      <a:ext cx="27000" cy="2988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920" bIns="-1692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3" name=""/>
                    <p:cNvSpPr/>
                    <p:nvPr/>
                  </p:nvSpPr>
                  <p:spPr>
                    <a:xfrm flipV="1">
                      <a:off x="1721160" y="471960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4" name=""/>
                    <p:cNvSpPr/>
                    <p:nvPr/>
                  </p:nvSpPr>
                  <p:spPr>
                    <a:xfrm flipV="1">
                      <a:off x="1705680" y="470556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5" name=""/>
                    <p:cNvSpPr/>
                    <p:nvPr/>
                  </p:nvSpPr>
                  <p:spPr>
                    <a:xfrm flipV="1">
                      <a:off x="1690200" y="469152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6" name=""/>
                    <p:cNvSpPr/>
                    <p:nvPr/>
                  </p:nvSpPr>
                  <p:spPr>
                    <a:xfrm flipV="1">
                      <a:off x="1674360" y="4667760"/>
                      <a:ext cx="24840" cy="270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800" bIns="-198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7" name=""/>
                    <p:cNvSpPr/>
                    <p:nvPr/>
                  </p:nvSpPr>
                  <p:spPr>
                    <a:xfrm flipV="1">
                      <a:off x="1659240" y="466308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8" name=""/>
                    <p:cNvSpPr/>
                    <p:nvPr/>
                  </p:nvSpPr>
                  <p:spPr>
                    <a:xfrm flipV="1">
                      <a:off x="1643760" y="464904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549" name=""/>
                    <p:cNvSpPr/>
                    <p:nvPr/>
                  </p:nvSpPr>
                  <p:spPr>
                    <a:xfrm flipV="1">
                      <a:off x="1628280" y="4635000"/>
                      <a:ext cx="15840" cy="176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160" bIns="-291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550" name=""/>
                  <p:cNvSpPr/>
                  <p:nvPr/>
                </p:nvSpPr>
                <p:spPr>
                  <a:xfrm flipV="1">
                    <a:off x="1612800" y="4620960"/>
                    <a:ext cx="15840" cy="176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9160" bIns="-29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1" name=""/>
                  <p:cNvSpPr/>
                  <p:nvPr/>
                </p:nvSpPr>
                <p:spPr>
                  <a:xfrm flipV="1">
                    <a:off x="1597320" y="4587480"/>
                    <a:ext cx="33840" cy="3708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9720" bIns="-9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52" name=""/>
                <p:cNvSpPr/>
                <p:nvPr/>
              </p:nvSpPr>
              <p:spPr>
                <a:xfrm rot="13340400">
                  <a:off x="1208880" y="4998600"/>
                  <a:ext cx="233640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40000"/>
                      </a:solidFill>
                      <a:latin typeface="Times New Roman"/>
                    </a:rPr>
                    <a:t>0     1      2     3      4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53" name=""/>
              <p:cNvGrpSpPr/>
              <p:nvPr/>
            </p:nvGrpSpPr>
            <p:grpSpPr>
              <a:xfrm>
                <a:off x="1902960" y="4401720"/>
                <a:ext cx="1969200" cy="387720"/>
                <a:chOff x="1902960" y="4401720"/>
                <a:chExt cx="1969200" cy="387720"/>
              </a:xfrm>
            </p:grpSpPr>
            <p:grpSp>
              <p:nvGrpSpPr>
                <p:cNvPr id="554" name=""/>
                <p:cNvGrpSpPr/>
                <p:nvPr/>
              </p:nvGrpSpPr>
              <p:grpSpPr>
                <a:xfrm>
                  <a:off x="1902960" y="4401720"/>
                  <a:ext cx="1927800" cy="356760"/>
                  <a:chOff x="1902960" y="4401720"/>
                  <a:chExt cx="1927800" cy="356760"/>
                </a:xfrm>
              </p:grpSpPr>
              <p:sp>
                <p:nvSpPr>
                  <p:cNvPr id="555" name=""/>
                  <p:cNvSpPr/>
                  <p:nvPr/>
                </p:nvSpPr>
                <p:spPr>
                  <a:xfrm flipH="1">
                    <a:off x="1902960" y="4401720"/>
                    <a:ext cx="7560" cy="446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160" bIns="-21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6" name=""/>
                  <p:cNvSpPr/>
                  <p:nvPr/>
                </p:nvSpPr>
                <p:spPr>
                  <a:xfrm flipH="1">
                    <a:off x="1927080" y="440532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7" name=""/>
                  <p:cNvSpPr/>
                  <p:nvPr/>
                </p:nvSpPr>
                <p:spPr>
                  <a:xfrm flipH="1">
                    <a:off x="1947600" y="440892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8" name=""/>
                  <p:cNvSpPr/>
                  <p:nvPr/>
                </p:nvSpPr>
                <p:spPr>
                  <a:xfrm flipH="1">
                    <a:off x="1968120" y="441252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59" name=""/>
                  <p:cNvSpPr/>
                  <p:nvPr/>
                </p:nvSpPr>
                <p:spPr>
                  <a:xfrm flipH="1">
                    <a:off x="1988640" y="441612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0" name=""/>
                  <p:cNvSpPr/>
                  <p:nvPr/>
                </p:nvSpPr>
                <p:spPr>
                  <a:xfrm flipH="1">
                    <a:off x="2007000" y="4419720"/>
                    <a:ext cx="648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1" name=""/>
                  <p:cNvSpPr/>
                  <p:nvPr/>
                </p:nvSpPr>
                <p:spPr>
                  <a:xfrm flipH="1">
                    <a:off x="2030040" y="4423320"/>
                    <a:ext cx="432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2" name=""/>
                  <p:cNvSpPr/>
                  <p:nvPr/>
                </p:nvSpPr>
                <p:spPr>
                  <a:xfrm flipH="1">
                    <a:off x="2050560" y="4426920"/>
                    <a:ext cx="432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3" name=""/>
                  <p:cNvSpPr/>
                  <p:nvPr/>
                </p:nvSpPr>
                <p:spPr>
                  <a:xfrm flipH="1">
                    <a:off x="2071440" y="4430160"/>
                    <a:ext cx="396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4" name=""/>
                  <p:cNvSpPr/>
                  <p:nvPr/>
                </p:nvSpPr>
                <p:spPr>
                  <a:xfrm flipH="1">
                    <a:off x="2091960" y="4433760"/>
                    <a:ext cx="396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5" name=""/>
                  <p:cNvSpPr/>
                  <p:nvPr/>
                </p:nvSpPr>
                <p:spPr>
                  <a:xfrm flipH="1">
                    <a:off x="2109960" y="4437360"/>
                    <a:ext cx="6840" cy="3996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6840" bIns="-6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6" name=""/>
                  <p:cNvSpPr/>
                  <p:nvPr/>
                </p:nvSpPr>
                <p:spPr>
                  <a:xfrm flipH="1">
                    <a:off x="2133360" y="444096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7" name=""/>
                  <p:cNvSpPr/>
                  <p:nvPr/>
                </p:nvSpPr>
                <p:spPr>
                  <a:xfrm flipH="1">
                    <a:off x="2154240" y="444456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8" name=""/>
                  <p:cNvSpPr/>
                  <p:nvPr/>
                </p:nvSpPr>
                <p:spPr>
                  <a:xfrm flipH="1">
                    <a:off x="2174760" y="444816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69" name=""/>
                  <p:cNvSpPr/>
                  <p:nvPr/>
                </p:nvSpPr>
                <p:spPr>
                  <a:xfrm flipH="1">
                    <a:off x="2193120" y="4451760"/>
                    <a:ext cx="612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0" name=""/>
                  <p:cNvSpPr/>
                  <p:nvPr/>
                </p:nvSpPr>
                <p:spPr>
                  <a:xfrm flipH="1">
                    <a:off x="2216160" y="445536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1" name=""/>
                  <p:cNvSpPr/>
                  <p:nvPr/>
                </p:nvSpPr>
                <p:spPr>
                  <a:xfrm flipH="1">
                    <a:off x="2236680" y="445896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2" name=""/>
                  <p:cNvSpPr/>
                  <p:nvPr/>
                </p:nvSpPr>
                <p:spPr>
                  <a:xfrm flipH="1">
                    <a:off x="2257200" y="4462200"/>
                    <a:ext cx="4320" cy="237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040" bIns="-23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3" name=""/>
                  <p:cNvSpPr/>
                  <p:nvPr/>
                </p:nvSpPr>
                <p:spPr>
                  <a:xfrm flipH="1">
                    <a:off x="2277720" y="446580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4" name=""/>
                  <p:cNvSpPr/>
                  <p:nvPr/>
                </p:nvSpPr>
                <p:spPr>
                  <a:xfrm flipH="1">
                    <a:off x="2294280" y="4469400"/>
                    <a:ext cx="8640" cy="493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5" name=""/>
                  <p:cNvSpPr/>
                  <p:nvPr/>
                </p:nvSpPr>
                <p:spPr>
                  <a:xfrm flipH="1">
                    <a:off x="2319480" y="447300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6" name=""/>
                  <p:cNvSpPr/>
                  <p:nvPr/>
                </p:nvSpPr>
                <p:spPr>
                  <a:xfrm flipH="1">
                    <a:off x="2340000" y="447660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7" name=""/>
                  <p:cNvSpPr/>
                  <p:nvPr/>
                </p:nvSpPr>
                <p:spPr>
                  <a:xfrm flipH="1">
                    <a:off x="2360520" y="448020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8" name=""/>
                  <p:cNvSpPr/>
                  <p:nvPr/>
                </p:nvSpPr>
                <p:spPr>
                  <a:xfrm flipH="1">
                    <a:off x="2381040" y="448380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79" name=""/>
                  <p:cNvSpPr/>
                  <p:nvPr/>
                </p:nvSpPr>
                <p:spPr>
                  <a:xfrm flipH="1">
                    <a:off x="2399760" y="4487400"/>
                    <a:ext cx="648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0" name=""/>
                  <p:cNvSpPr/>
                  <p:nvPr/>
                </p:nvSpPr>
                <p:spPr>
                  <a:xfrm flipH="1">
                    <a:off x="2422800" y="449100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1" name=""/>
                  <p:cNvSpPr/>
                  <p:nvPr/>
                </p:nvSpPr>
                <p:spPr>
                  <a:xfrm flipH="1">
                    <a:off x="2443320" y="449460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2" name=""/>
                  <p:cNvSpPr/>
                  <p:nvPr/>
                </p:nvSpPr>
                <p:spPr>
                  <a:xfrm flipH="1">
                    <a:off x="2463840" y="44978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3" name=""/>
                  <p:cNvSpPr/>
                  <p:nvPr/>
                </p:nvSpPr>
                <p:spPr>
                  <a:xfrm flipH="1">
                    <a:off x="2484720" y="45014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4" name=""/>
                  <p:cNvSpPr/>
                  <p:nvPr/>
                </p:nvSpPr>
                <p:spPr>
                  <a:xfrm flipH="1">
                    <a:off x="2500920" y="4505040"/>
                    <a:ext cx="8280" cy="493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5" name=""/>
                  <p:cNvSpPr/>
                  <p:nvPr/>
                </p:nvSpPr>
                <p:spPr>
                  <a:xfrm flipH="1">
                    <a:off x="2525760" y="450864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6" name=""/>
                  <p:cNvSpPr/>
                  <p:nvPr/>
                </p:nvSpPr>
                <p:spPr>
                  <a:xfrm flipH="1">
                    <a:off x="2546280" y="451224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7" name=""/>
                  <p:cNvSpPr/>
                  <p:nvPr/>
                </p:nvSpPr>
                <p:spPr>
                  <a:xfrm flipH="1">
                    <a:off x="2567160" y="45158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8" name=""/>
                  <p:cNvSpPr/>
                  <p:nvPr/>
                </p:nvSpPr>
                <p:spPr>
                  <a:xfrm flipH="1">
                    <a:off x="2585520" y="4519440"/>
                    <a:ext cx="612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89" name=""/>
                  <p:cNvSpPr/>
                  <p:nvPr/>
                </p:nvSpPr>
                <p:spPr>
                  <a:xfrm flipH="1">
                    <a:off x="2608560" y="45230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0" name=""/>
                  <p:cNvSpPr/>
                  <p:nvPr/>
                </p:nvSpPr>
                <p:spPr>
                  <a:xfrm flipH="1">
                    <a:off x="2629080" y="45266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1" name=""/>
                  <p:cNvSpPr/>
                  <p:nvPr/>
                </p:nvSpPr>
                <p:spPr>
                  <a:xfrm flipH="1">
                    <a:off x="2649600" y="452988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2" name=""/>
                  <p:cNvSpPr/>
                  <p:nvPr/>
                </p:nvSpPr>
                <p:spPr>
                  <a:xfrm flipH="1">
                    <a:off x="2670120" y="453348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3" name=""/>
                  <p:cNvSpPr/>
                  <p:nvPr/>
                </p:nvSpPr>
                <p:spPr>
                  <a:xfrm flipH="1">
                    <a:off x="2686320" y="4537080"/>
                    <a:ext cx="8640" cy="493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4" name=""/>
                  <p:cNvSpPr/>
                  <p:nvPr/>
                </p:nvSpPr>
                <p:spPr>
                  <a:xfrm flipH="1">
                    <a:off x="2711880" y="454068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5" name=""/>
                  <p:cNvSpPr/>
                  <p:nvPr/>
                </p:nvSpPr>
                <p:spPr>
                  <a:xfrm flipH="1">
                    <a:off x="2732400" y="454428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6" name=""/>
                  <p:cNvSpPr/>
                  <p:nvPr/>
                </p:nvSpPr>
                <p:spPr>
                  <a:xfrm flipH="1">
                    <a:off x="2752920" y="454788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7" name=""/>
                  <p:cNvSpPr/>
                  <p:nvPr/>
                </p:nvSpPr>
                <p:spPr>
                  <a:xfrm flipH="1">
                    <a:off x="2773440" y="455148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8" name=""/>
                  <p:cNvSpPr/>
                  <p:nvPr/>
                </p:nvSpPr>
                <p:spPr>
                  <a:xfrm flipH="1">
                    <a:off x="2792160" y="4555080"/>
                    <a:ext cx="648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99" name=""/>
                  <p:cNvSpPr/>
                  <p:nvPr/>
                </p:nvSpPr>
                <p:spPr>
                  <a:xfrm flipH="1">
                    <a:off x="2814840" y="4558680"/>
                    <a:ext cx="432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0" name=""/>
                  <p:cNvSpPr/>
                  <p:nvPr/>
                </p:nvSpPr>
                <p:spPr>
                  <a:xfrm flipH="1">
                    <a:off x="2835360" y="4561920"/>
                    <a:ext cx="432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1" name=""/>
                  <p:cNvSpPr/>
                  <p:nvPr/>
                </p:nvSpPr>
                <p:spPr>
                  <a:xfrm flipH="1">
                    <a:off x="2855880" y="4565520"/>
                    <a:ext cx="432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2" name=""/>
                  <p:cNvSpPr/>
                  <p:nvPr/>
                </p:nvSpPr>
                <p:spPr>
                  <a:xfrm flipH="1">
                    <a:off x="2876760" y="4569120"/>
                    <a:ext cx="396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3" name=""/>
                  <p:cNvSpPr/>
                  <p:nvPr/>
                </p:nvSpPr>
                <p:spPr>
                  <a:xfrm flipH="1">
                    <a:off x="2894760" y="4572720"/>
                    <a:ext cx="6840" cy="3960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4" name=""/>
                  <p:cNvSpPr/>
                  <p:nvPr/>
                </p:nvSpPr>
                <p:spPr>
                  <a:xfrm flipH="1">
                    <a:off x="2918160" y="457632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5" name=""/>
                  <p:cNvSpPr/>
                  <p:nvPr/>
                </p:nvSpPr>
                <p:spPr>
                  <a:xfrm flipH="1">
                    <a:off x="2938680" y="457992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6" name=""/>
                  <p:cNvSpPr/>
                  <p:nvPr/>
                </p:nvSpPr>
                <p:spPr>
                  <a:xfrm flipH="1">
                    <a:off x="2959560" y="458352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7" name=""/>
                  <p:cNvSpPr/>
                  <p:nvPr/>
                </p:nvSpPr>
                <p:spPr>
                  <a:xfrm flipH="1">
                    <a:off x="2978280" y="4587120"/>
                    <a:ext cx="612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8" name=""/>
                  <p:cNvSpPr/>
                  <p:nvPr/>
                </p:nvSpPr>
                <p:spPr>
                  <a:xfrm flipH="1">
                    <a:off x="3000960" y="459072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09" name=""/>
                  <p:cNvSpPr/>
                  <p:nvPr/>
                </p:nvSpPr>
                <p:spPr>
                  <a:xfrm flipH="1">
                    <a:off x="3021480" y="459396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0" name=""/>
                  <p:cNvSpPr/>
                  <p:nvPr/>
                </p:nvSpPr>
                <p:spPr>
                  <a:xfrm flipH="1">
                    <a:off x="3042000" y="459756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1" name=""/>
                  <p:cNvSpPr/>
                  <p:nvPr/>
                </p:nvSpPr>
                <p:spPr>
                  <a:xfrm flipH="1">
                    <a:off x="3062520" y="460116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2" name=""/>
                  <p:cNvSpPr/>
                  <p:nvPr/>
                </p:nvSpPr>
                <p:spPr>
                  <a:xfrm flipH="1">
                    <a:off x="3079080" y="4604760"/>
                    <a:ext cx="8640" cy="493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3" name=""/>
                  <p:cNvSpPr/>
                  <p:nvPr/>
                </p:nvSpPr>
                <p:spPr>
                  <a:xfrm flipH="1">
                    <a:off x="3104280" y="460836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4" name=""/>
                  <p:cNvSpPr/>
                  <p:nvPr/>
                </p:nvSpPr>
                <p:spPr>
                  <a:xfrm flipH="1">
                    <a:off x="3124800" y="461196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5" name=""/>
                  <p:cNvSpPr/>
                  <p:nvPr/>
                </p:nvSpPr>
                <p:spPr>
                  <a:xfrm flipH="1">
                    <a:off x="3145320" y="461556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6" name=""/>
                  <p:cNvSpPr/>
                  <p:nvPr/>
                </p:nvSpPr>
                <p:spPr>
                  <a:xfrm flipH="1">
                    <a:off x="3166200" y="461916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7" name=""/>
                  <p:cNvSpPr/>
                  <p:nvPr/>
                </p:nvSpPr>
                <p:spPr>
                  <a:xfrm flipH="1">
                    <a:off x="3184560" y="4622760"/>
                    <a:ext cx="6120" cy="360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800" bIns="-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8" name=""/>
                  <p:cNvSpPr/>
                  <p:nvPr/>
                </p:nvSpPr>
                <p:spPr>
                  <a:xfrm flipH="1">
                    <a:off x="3207240" y="462600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19" name=""/>
                  <p:cNvSpPr/>
                  <p:nvPr/>
                </p:nvSpPr>
                <p:spPr>
                  <a:xfrm flipH="1">
                    <a:off x="3228120" y="462960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0" name=""/>
                  <p:cNvSpPr/>
                  <p:nvPr/>
                </p:nvSpPr>
                <p:spPr>
                  <a:xfrm flipH="1">
                    <a:off x="3248640" y="463320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1" name=""/>
                  <p:cNvSpPr/>
                  <p:nvPr/>
                </p:nvSpPr>
                <p:spPr>
                  <a:xfrm flipH="1">
                    <a:off x="3269160" y="463680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2" name=""/>
                  <p:cNvSpPr/>
                  <p:nvPr/>
                </p:nvSpPr>
                <p:spPr>
                  <a:xfrm flipH="1">
                    <a:off x="3285720" y="4640400"/>
                    <a:ext cx="8280" cy="493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3" name=""/>
                  <p:cNvSpPr/>
                  <p:nvPr/>
                </p:nvSpPr>
                <p:spPr>
                  <a:xfrm flipH="1">
                    <a:off x="3310560" y="464400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4" name=""/>
                  <p:cNvSpPr/>
                  <p:nvPr/>
                </p:nvSpPr>
                <p:spPr>
                  <a:xfrm flipH="1">
                    <a:off x="3331080" y="464760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5" name=""/>
                  <p:cNvSpPr/>
                  <p:nvPr/>
                </p:nvSpPr>
                <p:spPr>
                  <a:xfrm flipH="1">
                    <a:off x="3351600" y="465120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6" name=""/>
                  <p:cNvSpPr/>
                  <p:nvPr/>
                </p:nvSpPr>
                <p:spPr>
                  <a:xfrm flipH="1">
                    <a:off x="3370320" y="4654440"/>
                    <a:ext cx="6120" cy="36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7" name=""/>
                  <p:cNvSpPr/>
                  <p:nvPr/>
                </p:nvSpPr>
                <p:spPr>
                  <a:xfrm flipH="1">
                    <a:off x="3393360" y="46580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8" name=""/>
                  <p:cNvSpPr/>
                  <p:nvPr/>
                </p:nvSpPr>
                <p:spPr>
                  <a:xfrm flipH="1">
                    <a:off x="3413880" y="46616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29" name=""/>
                  <p:cNvSpPr/>
                  <p:nvPr/>
                </p:nvSpPr>
                <p:spPr>
                  <a:xfrm flipH="1">
                    <a:off x="3434400" y="46652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0" name=""/>
                  <p:cNvSpPr/>
                  <p:nvPr/>
                </p:nvSpPr>
                <p:spPr>
                  <a:xfrm flipH="1">
                    <a:off x="3454920" y="46688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1" name=""/>
                  <p:cNvSpPr/>
                  <p:nvPr/>
                </p:nvSpPr>
                <p:spPr>
                  <a:xfrm flipH="1">
                    <a:off x="3471480" y="4672440"/>
                    <a:ext cx="8640" cy="493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520" bIns="25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2" name=""/>
                  <p:cNvSpPr/>
                  <p:nvPr/>
                </p:nvSpPr>
                <p:spPr>
                  <a:xfrm flipH="1">
                    <a:off x="3496680" y="46760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3" name=""/>
                  <p:cNvSpPr/>
                  <p:nvPr/>
                </p:nvSpPr>
                <p:spPr>
                  <a:xfrm flipH="1">
                    <a:off x="3517200" y="46796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4" name=""/>
                  <p:cNvSpPr/>
                  <p:nvPr/>
                </p:nvSpPr>
                <p:spPr>
                  <a:xfrm flipH="1">
                    <a:off x="3537720" y="468324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5" name=""/>
                  <p:cNvSpPr/>
                  <p:nvPr/>
                </p:nvSpPr>
                <p:spPr>
                  <a:xfrm flipH="1">
                    <a:off x="3558240" y="468648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6" name=""/>
                  <p:cNvSpPr/>
                  <p:nvPr/>
                </p:nvSpPr>
                <p:spPr>
                  <a:xfrm flipH="1">
                    <a:off x="3576960" y="4690080"/>
                    <a:ext cx="6120" cy="36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7" name=""/>
                  <p:cNvSpPr/>
                  <p:nvPr/>
                </p:nvSpPr>
                <p:spPr>
                  <a:xfrm flipH="1">
                    <a:off x="3599640" y="4693680"/>
                    <a:ext cx="432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8" name=""/>
                  <p:cNvSpPr/>
                  <p:nvPr/>
                </p:nvSpPr>
                <p:spPr>
                  <a:xfrm flipH="1">
                    <a:off x="3620160" y="4697280"/>
                    <a:ext cx="432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39" name=""/>
                  <p:cNvSpPr/>
                  <p:nvPr/>
                </p:nvSpPr>
                <p:spPr>
                  <a:xfrm flipH="1">
                    <a:off x="3640680" y="4700880"/>
                    <a:ext cx="432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0" name=""/>
                  <p:cNvSpPr/>
                  <p:nvPr/>
                </p:nvSpPr>
                <p:spPr>
                  <a:xfrm flipH="1">
                    <a:off x="3661560" y="4704480"/>
                    <a:ext cx="4320" cy="241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680" bIns="-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1" name=""/>
                  <p:cNvSpPr/>
                  <p:nvPr/>
                </p:nvSpPr>
                <p:spPr>
                  <a:xfrm flipH="1">
                    <a:off x="3679560" y="4708080"/>
                    <a:ext cx="6840" cy="3960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7200" bIns="-72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2" name=""/>
                  <p:cNvSpPr/>
                  <p:nvPr/>
                </p:nvSpPr>
                <p:spPr>
                  <a:xfrm flipH="1">
                    <a:off x="3702960" y="471168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3" name=""/>
                  <p:cNvSpPr/>
                  <p:nvPr/>
                </p:nvSpPr>
                <p:spPr>
                  <a:xfrm flipH="1">
                    <a:off x="3723480" y="471528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4" name=""/>
                  <p:cNvSpPr/>
                  <p:nvPr/>
                </p:nvSpPr>
                <p:spPr>
                  <a:xfrm flipH="1">
                    <a:off x="3744000" y="4718520"/>
                    <a:ext cx="432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5" name=""/>
                  <p:cNvSpPr/>
                  <p:nvPr/>
                </p:nvSpPr>
                <p:spPr>
                  <a:xfrm flipH="1">
                    <a:off x="3762720" y="4722120"/>
                    <a:ext cx="6480" cy="36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0440" bIns="-10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6" name=""/>
                  <p:cNvSpPr/>
                  <p:nvPr/>
                </p:nvSpPr>
                <p:spPr>
                  <a:xfrm flipH="1">
                    <a:off x="3785760" y="472572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7" name=""/>
                  <p:cNvSpPr/>
                  <p:nvPr/>
                </p:nvSpPr>
                <p:spPr>
                  <a:xfrm flipH="1">
                    <a:off x="3806280" y="472932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48" name=""/>
                  <p:cNvSpPr/>
                  <p:nvPr/>
                </p:nvSpPr>
                <p:spPr>
                  <a:xfrm flipH="1">
                    <a:off x="3826800" y="4732920"/>
                    <a:ext cx="3960" cy="23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3400" bIns="-23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649" name=""/>
                <p:cNvSpPr/>
                <p:nvPr/>
              </p:nvSpPr>
              <p:spPr>
                <a:xfrm flipH="1">
                  <a:off x="3847320" y="4736520"/>
                  <a:ext cx="3960" cy="23400"/>
                </a:xfrm>
                <a:prstGeom prst="line">
                  <a:avLst/>
                </a:prstGeom>
                <a:ln w="6480">
                  <a:solidFill>
                    <a:srgbClr val="0033cc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"/>
                <p:cNvSpPr/>
                <p:nvPr/>
              </p:nvSpPr>
              <p:spPr>
                <a:xfrm flipH="1">
                  <a:off x="3863520" y="4740120"/>
                  <a:ext cx="8640" cy="49320"/>
                </a:xfrm>
                <a:prstGeom prst="line">
                  <a:avLst/>
                </a:prstGeom>
                <a:ln w="6480">
                  <a:solidFill>
                    <a:srgbClr val="009999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520" bIns="252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651" name=""/>
              <p:cNvSpPr/>
              <p:nvPr/>
            </p:nvSpPr>
            <p:spPr>
              <a:xfrm rot="586800">
                <a:off x="1763280" y="4653000"/>
                <a:ext cx="27745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040000"/>
                    </a:solidFill>
                    <a:latin typeface="Times New Roman"/>
                  </a:rPr>
                  <a:t>0     1      2     3      4      5      6       7     8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2" name=""/>
              <p:cNvSpPr/>
              <p:nvPr/>
            </p:nvSpPr>
            <p:spPr>
              <a:xfrm rot="13340400">
                <a:off x="2458080" y="4541040"/>
                <a:ext cx="1082520" cy="752040"/>
              </a:xfrm>
              <a:custGeom>
                <a:avLst/>
                <a:gdLst/>
                <a:ahLst/>
                <a:rect l="l" t="t" r="r" b="b"/>
                <a:pathLst>
                  <a:path w="2112" h="1344">
                    <a:moveTo>
                      <a:pt x="0" y="0"/>
                    </a:moveTo>
                    <a:lnTo>
                      <a:pt x="0" y="1344"/>
                    </a:lnTo>
                    <a:lnTo>
                      <a:pt x="211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ffff">
                  <a:alpha val="50000"/>
                </a:srgbClr>
              </a:solidFill>
              <a:ln w="19080">
                <a:solidFill>
                  <a:srgbClr val="003366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3" name=""/>
            <p:cNvGrpSpPr/>
            <p:nvPr/>
          </p:nvGrpSpPr>
          <p:grpSpPr>
            <a:xfrm>
              <a:off x="167760" y="4221360"/>
              <a:ext cx="2175120" cy="2168640"/>
              <a:chOff x="167760" y="4221360"/>
              <a:chExt cx="2175120" cy="2168640"/>
            </a:xfrm>
          </p:grpSpPr>
          <p:sp>
            <p:nvSpPr>
              <p:cNvPr id="654" name=""/>
              <p:cNvSpPr/>
              <p:nvPr/>
            </p:nvSpPr>
            <p:spPr>
              <a:xfrm rot="15645000">
                <a:off x="338400" y="4326480"/>
                <a:ext cx="1833480" cy="1905120"/>
              </a:xfrm>
              <a:custGeom>
                <a:avLst/>
                <a:gdLst/>
                <a:ahLst/>
                <a:rect l="l" t="t" r="r" b="b"/>
                <a:pathLst>
                  <a:path w="480" h="480">
                    <a:moveTo>
                      <a:pt x="0" y="0"/>
                    </a:moveTo>
                    <a:lnTo>
                      <a:pt x="480" y="480"/>
                    </a:lnTo>
                    <a:lnTo>
                      <a:pt x="0" y="48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ddf2ff">
                  <a:alpha val="50000"/>
                </a:srgbClr>
              </a:solidFill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55" name=""/>
              <p:cNvSpPr/>
              <p:nvPr/>
            </p:nvSpPr>
            <p:spPr>
              <a:xfrm rot="15645000">
                <a:off x="1284120" y="5178960"/>
                <a:ext cx="584640" cy="607680"/>
              </a:xfrm>
              <a:custGeom>
                <a:avLst/>
                <a:gdLst/>
                <a:ahLst/>
                <a:rect l="l" t="t" r="r" b="b"/>
                <a:pathLst>
                  <a:path w="480" h="480">
                    <a:moveTo>
                      <a:pt x="0" y="0"/>
                    </a:moveTo>
                    <a:lnTo>
                      <a:pt x="480" y="480"/>
                    </a:lnTo>
                    <a:lnTo>
                      <a:pt x="0" y="480"/>
                    </a:lnTo>
                    <a:lnTo>
                      <a:pt x="0" y="0"/>
                    </a:lnTo>
                    <a:close/>
                  </a:path>
                </a:pathLst>
              </a:custGeom>
              <a:noFill/>
              <a:ln w="9360">
                <a:solidFill>
                  <a:srgbClr val="3333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656" name=""/>
              <p:cNvGrpSpPr/>
              <p:nvPr/>
            </p:nvGrpSpPr>
            <p:grpSpPr>
              <a:xfrm>
                <a:off x="626040" y="4471560"/>
                <a:ext cx="1517400" cy="1918440"/>
                <a:chOff x="626040" y="4471560"/>
                <a:chExt cx="1517400" cy="1918440"/>
              </a:xfrm>
            </p:grpSpPr>
            <p:grpSp>
              <p:nvGrpSpPr>
                <p:cNvPr id="657" name=""/>
                <p:cNvGrpSpPr/>
                <p:nvPr/>
              </p:nvGrpSpPr>
              <p:grpSpPr>
                <a:xfrm>
                  <a:off x="645120" y="4558680"/>
                  <a:ext cx="1200960" cy="1633320"/>
                  <a:chOff x="645120" y="4558680"/>
                  <a:chExt cx="1200960" cy="1633320"/>
                </a:xfrm>
              </p:grpSpPr>
              <p:grpSp>
                <p:nvGrpSpPr>
                  <p:cNvPr id="658" name=""/>
                  <p:cNvGrpSpPr/>
                  <p:nvPr/>
                </p:nvGrpSpPr>
                <p:grpSpPr>
                  <a:xfrm>
                    <a:off x="645120" y="4592520"/>
                    <a:ext cx="1152000" cy="1599480"/>
                    <a:chOff x="645120" y="4592520"/>
                    <a:chExt cx="1152000" cy="1599480"/>
                  </a:xfrm>
                </p:grpSpPr>
                <p:sp>
                  <p:nvSpPr>
                    <p:cNvPr id="659" name=""/>
                    <p:cNvSpPr/>
                    <p:nvPr/>
                  </p:nvSpPr>
                  <p:spPr>
                    <a:xfrm>
                      <a:off x="645120" y="6161400"/>
                      <a:ext cx="42480" cy="3060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6200" bIns="-162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0" name=""/>
                    <p:cNvSpPr/>
                    <p:nvPr/>
                  </p:nvSpPr>
                  <p:spPr>
                    <a:xfrm>
                      <a:off x="657000" y="614484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1" name=""/>
                    <p:cNvSpPr/>
                    <p:nvPr/>
                  </p:nvSpPr>
                  <p:spPr>
                    <a:xfrm>
                      <a:off x="669240" y="612792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2" name=""/>
                    <p:cNvSpPr/>
                    <p:nvPr/>
                  </p:nvSpPr>
                  <p:spPr>
                    <a:xfrm>
                      <a:off x="681480" y="611100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3" name=""/>
                    <p:cNvSpPr/>
                    <p:nvPr/>
                  </p:nvSpPr>
                  <p:spPr>
                    <a:xfrm>
                      <a:off x="693720" y="609372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4" name=""/>
                    <p:cNvSpPr/>
                    <p:nvPr/>
                  </p:nvSpPr>
                  <p:spPr>
                    <a:xfrm>
                      <a:off x="705600" y="6077160"/>
                      <a:ext cx="34920" cy="25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5" name=""/>
                    <p:cNvSpPr/>
                    <p:nvPr/>
                  </p:nvSpPr>
                  <p:spPr>
                    <a:xfrm>
                      <a:off x="717840" y="606024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6" name=""/>
                    <p:cNvSpPr/>
                    <p:nvPr/>
                  </p:nvSpPr>
                  <p:spPr>
                    <a:xfrm>
                      <a:off x="730080" y="604332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7" name=""/>
                    <p:cNvSpPr/>
                    <p:nvPr/>
                  </p:nvSpPr>
                  <p:spPr>
                    <a:xfrm>
                      <a:off x="741960" y="6026760"/>
                      <a:ext cx="2340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8" name=""/>
                    <p:cNvSpPr/>
                    <p:nvPr/>
                  </p:nvSpPr>
                  <p:spPr>
                    <a:xfrm>
                      <a:off x="754200" y="600984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69" name=""/>
                    <p:cNvSpPr/>
                    <p:nvPr/>
                  </p:nvSpPr>
                  <p:spPr>
                    <a:xfrm>
                      <a:off x="766440" y="5992920"/>
                      <a:ext cx="38160" cy="2736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0" name=""/>
                    <p:cNvSpPr/>
                    <p:nvPr/>
                  </p:nvSpPr>
                  <p:spPr>
                    <a:xfrm>
                      <a:off x="778680" y="597600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1" name=""/>
                    <p:cNvSpPr/>
                    <p:nvPr/>
                  </p:nvSpPr>
                  <p:spPr>
                    <a:xfrm>
                      <a:off x="790560" y="595908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2" name=""/>
                    <p:cNvSpPr/>
                    <p:nvPr/>
                  </p:nvSpPr>
                  <p:spPr>
                    <a:xfrm>
                      <a:off x="802800" y="594216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3" name=""/>
                    <p:cNvSpPr/>
                    <p:nvPr/>
                  </p:nvSpPr>
                  <p:spPr>
                    <a:xfrm>
                      <a:off x="815040" y="5925240"/>
                      <a:ext cx="34920" cy="25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4" name=""/>
                    <p:cNvSpPr/>
                    <p:nvPr/>
                  </p:nvSpPr>
                  <p:spPr>
                    <a:xfrm>
                      <a:off x="827280" y="590832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5" name=""/>
                    <p:cNvSpPr/>
                    <p:nvPr/>
                  </p:nvSpPr>
                  <p:spPr>
                    <a:xfrm>
                      <a:off x="839520" y="589140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6" name=""/>
                    <p:cNvSpPr/>
                    <p:nvPr/>
                  </p:nvSpPr>
                  <p:spPr>
                    <a:xfrm>
                      <a:off x="851400" y="587484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7" name=""/>
                    <p:cNvSpPr/>
                    <p:nvPr/>
                  </p:nvSpPr>
                  <p:spPr>
                    <a:xfrm>
                      <a:off x="863640" y="585792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8" name=""/>
                    <p:cNvSpPr/>
                    <p:nvPr/>
                  </p:nvSpPr>
                  <p:spPr>
                    <a:xfrm>
                      <a:off x="875880" y="5841000"/>
                      <a:ext cx="47160" cy="3384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960" bIns="-12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79" name=""/>
                    <p:cNvSpPr/>
                    <p:nvPr/>
                  </p:nvSpPr>
                  <p:spPr>
                    <a:xfrm>
                      <a:off x="887760" y="582408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0" name=""/>
                    <p:cNvSpPr/>
                    <p:nvPr/>
                  </p:nvSpPr>
                  <p:spPr>
                    <a:xfrm>
                      <a:off x="900000" y="580716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1" name=""/>
                    <p:cNvSpPr/>
                    <p:nvPr/>
                  </p:nvSpPr>
                  <p:spPr>
                    <a:xfrm>
                      <a:off x="912240" y="579024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2" name=""/>
                    <p:cNvSpPr/>
                    <p:nvPr/>
                  </p:nvSpPr>
                  <p:spPr>
                    <a:xfrm>
                      <a:off x="924480" y="57733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3" name=""/>
                    <p:cNvSpPr/>
                    <p:nvPr/>
                  </p:nvSpPr>
                  <p:spPr>
                    <a:xfrm>
                      <a:off x="936360" y="5756760"/>
                      <a:ext cx="34920" cy="248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4" name=""/>
                    <p:cNvSpPr/>
                    <p:nvPr/>
                  </p:nvSpPr>
                  <p:spPr>
                    <a:xfrm>
                      <a:off x="948600" y="573984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5" name=""/>
                    <p:cNvSpPr/>
                    <p:nvPr/>
                  </p:nvSpPr>
                  <p:spPr>
                    <a:xfrm>
                      <a:off x="960840" y="572292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6" name=""/>
                    <p:cNvSpPr/>
                    <p:nvPr/>
                  </p:nvSpPr>
                  <p:spPr>
                    <a:xfrm>
                      <a:off x="973080" y="570600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7" name=""/>
                    <p:cNvSpPr/>
                    <p:nvPr/>
                  </p:nvSpPr>
                  <p:spPr>
                    <a:xfrm>
                      <a:off x="985320" y="568908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8" name=""/>
                    <p:cNvSpPr/>
                    <p:nvPr/>
                  </p:nvSpPr>
                  <p:spPr>
                    <a:xfrm>
                      <a:off x="997200" y="5672160"/>
                      <a:ext cx="47520" cy="3420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89" name=""/>
                    <p:cNvSpPr/>
                    <p:nvPr/>
                  </p:nvSpPr>
                  <p:spPr>
                    <a:xfrm>
                      <a:off x="1009440" y="565524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0" name=""/>
                    <p:cNvSpPr/>
                    <p:nvPr/>
                  </p:nvSpPr>
                  <p:spPr>
                    <a:xfrm>
                      <a:off x="1021680" y="56383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1" name=""/>
                    <p:cNvSpPr/>
                    <p:nvPr/>
                  </p:nvSpPr>
                  <p:spPr>
                    <a:xfrm>
                      <a:off x="1033560" y="562176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2" name=""/>
                    <p:cNvSpPr/>
                    <p:nvPr/>
                  </p:nvSpPr>
                  <p:spPr>
                    <a:xfrm>
                      <a:off x="1045800" y="5604840"/>
                      <a:ext cx="34920" cy="248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3" name=""/>
                    <p:cNvSpPr/>
                    <p:nvPr/>
                  </p:nvSpPr>
                  <p:spPr>
                    <a:xfrm>
                      <a:off x="1058040" y="55879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4" name=""/>
                    <p:cNvSpPr/>
                    <p:nvPr/>
                  </p:nvSpPr>
                  <p:spPr>
                    <a:xfrm>
                      <a:off x="1070280" y="557100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5" name=""/>
                    <p:cNvSpPr/>
                    <p:nvPr/>
                  </p:nvSpPr>
                  <p:spPr>
                    <a:xfrm>
                      <a:off x="1082160" y="555408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6" name=""/>
                    <p:cNvSpPr/>
                    <p:nvPr/>
                  </p:nvSpPr>
                  <p:spPr>
                    <a:xfrm>
                      <a:off x="1094400" y="553716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7" name=""/>
                    <p:cNvSpPr/>
                    <p:nvPr/>
                  </p:nvSpPr>
                  <p:spPr>
                    <a:xfrm>
                      <a:off x="1106640" y="5520240"/>
                      <a:ext cx="47160" cy="3420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8" name=""/>
                    <p:cNvSpPr/>
                    <p:nvPr/>
                  </p:nvSpPr>
                  <p:spPr>
                    <a:xfrm>
                      <a:off x="1118880" y="55033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699" name=""/>
                    <p:cNvSpPr/>
                    <p:nvPr/>
                  </p:nvSpPr>
                  <p:spPr>
                    <a:xfrm>
                      <a:off x="1131120" y="548640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0" name=""/>
                    <p:cNvSpPr/>
                    <p:nvPr/>
                  </p:nvSpPr>
                  <p:spPr>
                    <a:xfrm>
                      <a:off x="1143000" y="546984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1" name=""/>
                    <p:cNvSpPr/>
                    <p:nvPr/>
                  </p:nvSpPr>
                  <p:spPr>
                    <a:xfrm>
                      <a:off x="1155240" y="54529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2" name=""/>
                    <p:cNvSpPr/>
                    <p:nvPr/>
                  </p:nvSpPr>
                  <p:spPr>
                    <a:xfrm>
                      <a:off x="1167480" y="5436000"/>
                      <a:ext cx="34560" cy="248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3" name=""/>
                    <p:cNvSpPr/>
                    <p:nvPr/>
                  </p:nvSpPr>
                  <p:spPr>
                    <a:xfrm>
                      <a:off x="1179360" y="541944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4" name=""/>
                    <p:cNvSpPr/>
                    <p:nvPr/>
                  </p:nvSpPr>
                  <p:spPr>
                    <a:xfrm>
                      <a:off x="1191600" y="5402160"/>
                      <a:ext cx="23040" cy="169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5" name=""/>
                    <p:cNvSpPr/>
                    <p:nvPr/>
                  </p:nvSpPr>
                  <p:spPr>
                    <a:xfrm>
                      <a:off x="1203840" y="5385240"/>
                      <a:ext cx="23040" cy="1692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9880" bIns="-2988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6" name=""/>
                    <p:cNvSpPr/>
                    <p:nvPr/>
                  </p:nvSpPr>
                  <p:spPr>
                    <a:xfrm>
                      <a:off x="1216080" y="536832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7" name=""/>
                    <p:cNvSpPr/>
                    <p:nvPr/>
                  </p:nvSpPr>
                  <p:spPr>
                    <a:xfrm>
                      <a:off x="1227960" y="5351760"/>
                      <a:ext cx="38160" cy="2736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8" name=""/>
                    <p:cNvSpPr/>
                    <p:nvPr/>
                  </p:nvSpPr>
                  <p:spPr>
                    <a:xfrm>
                      <a:off x="1240200" y="533484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09" name=""/>
                    <p:cNvSpPr/>
                    <p:nvPr/>
                  </p:nvSpPr>
                  <p:spPr>
                    <a:xfrm>
                      <a:off x="1252440" y="53179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0" name=""/>
                    <p:cNvSpPr/>
                    <p:nvPr/>
                  </p:nvSpPr>
                  <p:spPr>
                    <a:xfrm>
                      <a:off x="1264680" y="530100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1" name=""/>
                    <p:cNvSpPr/>
                    <p:nvPr/>
                  </p:nvSpPr>
                  <p:spPr>
                    <a:xfrm>
                      <a:off x="1276920" y="5284080"/>
                      <a:ext cx="34560" cy="248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960" bIns="-21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2" name=""/>
                    <p:cNvSpPr/>
                    <p:nvPr/>
                  </p:nvSpPr>
                  <p:spPr>
                    <a:xfrm>
                      <a:off x="1288800" y="5267520"/>
                      <a:ext cx="22320" cy="158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3" name=""/>
                    <p:cNvSpPr/>
                    <p:nvPr/>
                  </p:nvSpPr>
                  <p:spPr>
                    <a:xfrm>
                      <a:off x="1301040" y="525024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4" name=""/>
                    <p:cNvSpPr/>
                    <p:nvPr/>
                  </p:nvSpPr>
                  <p:spPr>
                    <a:xfrm>
                      <a:off x="1313280" y="52333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5" name=""/>
                    <p:cNvSpPr/>
                    <p:nvPr/>
                  </p:nvSpPr>
                  <p:spPr>
                    <a:xfrm>
                      <a:off x="1325160" y="521676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6" name=""/>
                    <p:cNvSpPr/>
                    <p:nvPr/>
                  </p:nvSpPr>
                  <p:spPr>
                    <a:xfrm>
                      <a:off x="1337400" y="5199840"/>
                      <a:ext cx="47160" cy="3420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7" name=""/>
                    <p:cNvSpPr/>
                    <p:nvPr/>
                  </p:nvSpPr>
                  <p:spPr>
                    <a:xfrm>
                      <a:off x="1349640" y="51829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8" name=""/>
                    <p:cNvSpPr/>
                    <p:nvPr/>
                  </p:nvSpPr>
                  <p:spPr>
                    <a:xfrm>
                      <a:off x="1361880" y="516600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19" name=""/>
                    <p:cNvSpPr/>
                    <p:nvPr/>
                  </p:nvSpPr>
                  <p:spPr>
                    <a:xfrm>
                      <a:off x="1373760" y="514944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0" name=""/>
                    <p:cNvSpPr/>
                    <p:nvPr/>
                  </p:nvSpPr>
                  <p:spPr>
                    <a:xfrm>
                      <a:off x="1386000" y="51325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1" name=""/>
                    <p:cNvSpPr/>
                    <p:nvPr/>
                  </p:nvSpPr>
                  <p:spPr>
                    <a:xfrm>
                      <a:off x="1398240" y="5115240"/>
                      <a:ext cx="34560" cy="25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2" name=""/>
                    <p:cNvSpPr/>
                    <p:nvPr/>
                  </p:nvSpPr>
                  <p:spPr>
                    <a:xfrm>
                      <a:off x="1410480" y="50983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3" name=""/>
                    <p:cNvSpPr/>
                    <p:nvPr/>
                  </p:nvSpPr>
                  <p:spPr>
                    <a:xfrm>
                      <a:off x="1422360" y="508140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4" name=""/>
                    <p:cNvSpPr/>
                    <p:nvPr/>
                  </p:nvSpPr>
                  <p:spPr>
                    <a:xfrm>
                      <a:off x="1434600" y="506484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5" name=""/>
                    <p:cNvSpPr/>
                    <p:nvPr/>
                  </p:nvSpPr>
                  <p:spPr>
                    <a:xfrm>
                      <a:off x="1446840" y="50479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6" name=""/>
                    <p:cNvSpPr/>
                    <p:nvPr/>
                  </p:nvSpPr>
                  <p:spPr>
                    <a:xfrm>
                      <a:off x="1459080" y="5031000"/>
                      <a:ext cx="47160" cy="3420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7" name=""/>
                    <p:cNvSpPr/>
                    <p:nvPr/>
                  </p:nvSpPr>
                  <p:spPr>
                    <a:xfrm>
                      <a:off x="1470960" y="501444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8" name=""/>
                    <p:cNvSpPr/>
                    <p:nvPr/>
                  </p:nvSpPr>
                  <p:spPr>
                    <a:xfrm>
                      <a:off x="1483200" y="49975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29" name=""/>
                    <p:cNvSpPr/>
                    <p:nvPr/>
                  </p:nvSpPr>
                  <p:spPr>
                    <a:xfrm>
                      <a:off x="1495440" y="498060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0" name=""/>
                    <p:cNvSpPr/>
                    <p:nvPr/>
                  </p:nvSpPr>
                  <p:spPr>
                    <a:xfrm>
                      <a:off x="1507680" y="4963320"/>
                      <a:ext cx="34560" cy="25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1" name=""/>
                    <p:cNvSpPr/>
                    <p:nvPr/>
                  </p:nvSpPr>
                  <p:spPr>
                    <a:xfrm>
                      <a:off x="1519560" y="494676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2" name=""/>
                    <p:cNvSpPr/>
                    <p:nvPr/>
                  </p:nvSpPr>
                  <p:spPr>
                    <a:xfrm>
                      <a:off x="1531800" y="492984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3" name=""/>
                    <p:cNvSpPr/>
                    <p:nvPr/>
                  </p:nvSpPr>
                  <p:spPr>
                    <a:xfrm>
                      <a:off x="1544040" y="49129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4" name=""/>
                    <p:cNvSpPr/>
                    <p:nvPr/>
                  </p:nvSpPr>
                  <p:spPr>
                    <a:xfrm>
                      <a:off x="1555920" y="489600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5" name=""/>
                    <p:cNvSpPr/>
                    <p:nvPr/>
                  </p:nvSpPr>
                  <p:spPr>
                    <a:xfrm>
                      <a:off x="1568160" y="4879080"/>
                      <a:ext cx="47520" cy="3420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2600" bIns="-12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6" name=""/>
                    <p:cNvSpPr/>
                    <p:nvPr/>
                  </p:nvSpPr>
                  <p:spPr>
                    <a:xfrm>
                      <a:off x="1580400" y="48625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7" name=""/>
                    <p:cNvSpPr/>
                    <p:nvPr/>
                  </p:nvSpPr>
                  <p:spPr>
                    <a:xfrm>
                      <a:off x="1592640" y="484560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8" name=""/>
                    <p:cNvSpPr/>
                    <p:nvPr/>
                  </p:nvSpPr>
                  <p:spPr>
                    <a:xfrm>
                      <a:off x="1604520" y="482868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39" name=""/>
                    <p:cNvSpPr/>
                    <p:nvPr/>
                  </p:nvSpPr>
                  <p:spPr>
                    <a:xfrm>
                      <a:off x="1616760" y="481176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0" name=""/>
                    <p:cNvSpPr/>
                    <p:nvPr/>
                  </p:nvSpPr>
                  <p:spPr>
                    <a:xfrm>
                      <a:off x="1629000" y="4794840"/>
                      <a:ext cx="34560" cy="25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1" name=""/>
                    <p:cNvSpPr/>
                    <p:nvPr/>
                  </p:nvSpPr>
                  <p:spPr>
                    <a:xfrm>
                      <a:off x="1641240" y="477792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2" name=""/>
                    <p:cNvSpPr/>
                    <p:nvPr/>
                  </p:nvSpPr>
                  <p:spPr>
                    <a:xfrm>
                      <a:off x="1653120" y="4761000"/>
                      <a:ext cx="2340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3" name=""/>
                    <p:cNvSpPr/>
                    <p:nvPr/>
                  </p:nvSpPr>
                  <p:spPr>
                    <a:xfrm>
                      <a:off x="1665360" y="474444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4" name=""/>
                    <p:cNvSpPr/>
                    <p:nvPr/>
                  </p:nvSpPr>
                  <p:spPr>
                    <a:xfrm>
                      <a:off x="1677600" y="4727520"/>
                      <a:ext cx="23040" cy="1656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240" bIns="-302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5" name=""/>
                    <p:cNvSpPr/>
                    <p:nvPr/>
                  </p:nvSpPr>
                  <p:spPr>
                    <a:xfrm>
                      <a:off x="1689480" y="4710600"/>
                      <a:ext cx="38160" cy="27360"/>
                    </a:xfrm>
                    <a:prstGeom prst="line">
                      <a:avLst/>
                    </a:prstGeom>
                    <a:ln w="6480">
                      <a:solidFill>
                        <a:srgbClr val="009999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19440" bIns="-1944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6" name=""/>
                    <p:cNvSpPr/>
                    <p:nvPr/>
                  </p:nvSpPr>
                  <p:spPr>
                    <a:xfrm>
                      <a:off x="1701720" y="469368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7" name=""/>
                    <p:cNvSpPr/>
                    <p:nvPr/>
                  </p:nvSpPr>
                  <p:spPr>
                    <a:xfrm>
                      <a:off x="1713960" y="4676760"/>
                      <a:ext cx="22680" cy="1584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960" bIns="-3096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8" name=""/>
                    <p:cNvSpPr/>
                    <p:nvPr/>
                  </p:nvSpPr>
                  <p:spPr>
                    <a:xfrm>
                      <a:off x="1726200" y="465984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49" name=""/>
                    <p:cNvSpPr/>
                    <p:nvPr/>
                  </p:nvSpPr>
                  <p:spPr>
                    <a:xfrm>
                      <a:off x="1738080" y="4642920"/>
                      <a:ext cx="34920" cy="25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21600" bIns="-21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0" name=""/>
                    <p:cNvSpPr/>
                    <p:nvPr/>
                  </p:nvSpPr>
                  <p:spPr>
                    <a:xfrm>
                      <a:off x="1750320" y="4626000"/>
                      <a:ext cx="2268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1" name=""/>
                    <p:cNvSpPr/>
                    <p:nvPr/>
                  </p:nvSpPr>
                  <p:spPr>
                    <a:xfrm>
                      <a:off x="1762560" y="460944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  <p:sp>
                  <p:nvSpPr>
                    <p:cNvPr id="752" name=""/>
                    <p:cNvSpPr/>
                    <p:nvPr/>
                  </p:nvSpPr>
                  <p:spPr>
                    <a:xfrm>
                      <a:off x="1774800" y="4592520"/>
                      <a:ext cx="22320" cy="16200"/>
                    </a:xfrm>
                    <a:prstGeom prst="line">
                      <a:avLst/>
                    </a:prstGeom>
                    <a:ln w="6480">
                      <a:solidFill>
                        <a:srgbClr val="0033cc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0600" bIns="-306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p:txBody>
                </p:sp>
              </p:grpSp>
              <p:sp>
                <p:nvSpPr>
                  <p:cNvPr id="753" name=""/>
                  <p:cNvSpPr/>
                  <p:nvPr/>
                </p:nvSpPr>
                <p:spPr>
                  <a:xfrm>
                    <a:off x="1786680" y="4575600"/>
                    <a:ext cx="22680" cy="162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600" bIns="-30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4" name=""/>
                  <p:cNvSpPr/>
                  <p:nvPr/>
                </p:nvSpPr>
                <p:spPr>
                  <a:xfrm>
                    <a:off x="1798920" y="4558680"/>
                    <a:ext cx="47160" cy="3420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2600" bIns="-12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755" name=""/>
                <p:cNvSpPr/>
                <p:nvPr/>
              </p:nvSpPr>
              <p:spPr>
                <a:xfrm rot="12954600">
                  <a:off x="1218240" y="4366440"/>
                  <a:ext cx="332640" cy="21279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 vert="eaVer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0     1      2     3      4      5     6      7      8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756" name=""/>
              <p:cNvGrpSpPr/>
              <p:nvPr/>
            </p:nvGrpSpPr>
            <p:grpSpPr>
              <a:xfrm>
                <a:off x="593280" y="5746320"/>
                <a:ext cx="1481400" cy="496440"/>
                <a:chOff x="593280" y="5746320"/>
                <a:chExt cx="1481400" cy="496440"/>
              </a:xfrm>
            </p:grpSpPr>
            <p:sp>
              <p:nvSpPr>
                <p:cNvPr id="757" name=""/>
                <p:cNvSpPr/>
                <p:nvPr/>
              </p:nvSpPr>
              <p:spPr>
                <a:xfrm rot="10245000">
                  <a:off x="603360" y="5861880"/>
                  <a:ext cx="1460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0     1      2     3      4      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758" name=""/>
                <p:cNvGrpSpPr/>
                <p:nvPr/>
              </p:nvGrpSpPr>
              <p:grpSpPr>
                <a:xfrm>
                  <a:off x="911880" y="6010560"/>
                  <a:ext cx="1109160" cy="232200"/>
                  <a:chOff x="911880" y="6010560"/>
                  <a:chExt cx="1109160" cy="232200"/>
                </a:xfrm>
              </p:grpSpPr>
              <p:sp>
                <p:nvSpPr>
                  <p:cNvPr id="759" name=""/>
                  <p:cNvSpPr/>
                  <p:nvPr/>
                </p:nvSpPr>
                <p:spPr>
                  <a:xfrm flipH="1" flipV="1">
                    <a:off x="2012400" y="6010560"/>
                    <a:ext cx="8640" cy="5148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" bIns="4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0" name=""/>
                  <p:cNvSpPr/>
                  <p:nvPr/>
                </p:nvSpPr>
                <p:spPr>
                  <a:xfrm flipH="1" flipV="1">
                    <a:off x="1996560" y="603792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1" name=""/>
                  <p:cNvSpPr/>
                  <p:nvPr/>
                </p:nvSpPr>
                <p:spPr>
                  <a:xfrm flipH="1" flipV="1">
                    <a:off x="1975320" y="604152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2" name=""/>
                  <p:cNvSpPr/>
                  <p:nvPr/>
                </p:nvSpPr>
                <p:spPr>
                  <a:xfrm flipH="1" flipV="1">
                    <a:off x="1955520" y="604476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3" name=""/>
                  <p:cNvSpPr/>
                  <p:nvPr/>
                </p:nvSpPr>
                <p:spPr>
                  <a:xfrm flipH="1" flipV="1">
                    <a:off x="1933920" y="6048360"/>
                    <a:ext cx="468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4" name=""/>
                  <p:cNvSpPr/>
                  <p:nvPr/>
                </p:nvSpPr>
                <p:spPr>
                  <a:xfrm flipH="1" flipV="1">
                    <a:off x="1911960" y="6037200"/>
                    <a:ext cx="6480" cy="417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5" name=""/>
                  <p:cNvSpPr/>
                  <p:nvPr/>
                </p:nvSpPr>
                <p:spPr>
                  <a:xfrm flipH="1" flipV="1">
                    <a:off x="1892880" y="605484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6" name=""/>
                  <p:cNvSpPr/>
                  <p:nvPr/>
                </p:nvSpPr>
                <p:spPr>
                  <a:xfrm flipH="1" flipV="1">
                    <a:off x="1873080" y="605808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7" name=""/>
                  <p:cNvSpPr/>
                  <p:nvPr/>
                </p:nvSpPr>
                <p:spPr>
                  <a:xfrm flipH="1" flipV="1">
                    <a:off x="1852920" y="6061320"/>
                    <a:ext cx="468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8" name=""/>
                  <p:cNvSpPr/>
                  <p:nvPr/>
                </p:nvSpPr>
                <p:spPr>
                  <a:xfrm flipH="1" flipV="1">
                    <a:off x="1831680" y="606492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9" name=""/>
                  <p:cNvSpPr/>
                  <p:nvPr/>
                </p:nvSpPr>
                <p:spPr>
                  <a:xfrm flipH="1" flipV="1">
                    <a:off x="1808640" y="6049080"/>
                    <a:ext cx="7560" cy="4644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60" bIns="-3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0" name=""/>
                  <p:cNvSpPr/>
                  <p:nvPr/>
                </p:nvSpPr>
                <p:spPr>
                  <a:xfrm flipH="1" flipV="1">
                    <a:off x="1790640" y="607176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1" name=""/>
                  <p:cNvSpPr/>
                  <p:nvPr/>
                </p:nvSpPr>
                <p:spPr>
                  <a:xfrm flipH="1" flipV="1">
                    <a:off x="1770480" y="6075000"/>
                    <a:ext cx="468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2" name=""/>
                  <p:cNvSpPr/>
                  <p:nvPr/>
                </p:nvSpPr>
                <p:spPr>
                  <a:xfrm flipH="1" flipV="1">
                    <a:off x="1750680" y="607824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3" name=""/>
                  <p:cNvSpPr/>
                  <p:nvPr/>
                </p:nvSpPr>
                <p:spPr>
                  <a:xfrm flipH="1" flipV="1">
                    <a:off x="1726920" y="6067440"/>
                    <a:ext cx="6840" cy="41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4" name=""/>
                  <p:cNvSpPr/>
                  <p:nvPr/>
                </p:nvSpPr>
                <p:spPr>
                  <a:xfrm flipH="1" flipV="1">
                    <a:off x="1709280" y="608472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5" name=""/>
                  <p:cNvSpPr/>
                  <p:nvPr/>
                </p:nvSpPr>
                <p:spPr>
                  <a:xfrm flipH="1" flipV="1">
                    <a:off x="1688040" y="6088320"/>
                    <a:ext cx="468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6" name=""/>
                  <p:cNvSpPr/>
                  <p:nvPr/>
                </p:nvSpPr>
                <p:spPr>
                  <a:xfrm flipH="1" flipV="1">
                    <a:off x="1668240" y="609156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7" name=""/>
                  <p:cNvSpPr/>
                  <p:nvPr/>
                </p:nvSpPr>
                <p:spPr>
                  <a:xfrm flipH="1" flipV="1">
                    <a:off x="1647000" y="609516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8" name=""/>
                  <p:cNvSpPr/>
                  <p:nvPr/>
                </p:nvSpPr>
                <p:spPr>
                  <a:xfrm flipH="1" flipV="1">
                    <a:off x="1621800" y="6068160"/>
                    <a:ext cx="9360" cy="5760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79" name=""/>
                  <p:cNvSpPr/>
                  <p:nvPr/>
                </p:nvSpPr>
                <p:spPr>
                  <a:xfrm flipH="1" flipV="1">
                    <a:off x="1607040" y="6101640"/>
                    <a:ext cx="468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0" name=""/>
                  <p:cNvSpPr/>
                  <p:nvPr/>
                </p:nvSpPr>
                <p:spPr>
                  <a:xfrm flipH="1" flipV="1">
                    <a:off x="1585800" y="610488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1" name=""/>
                  <p:cNvSpPr/>
                  <p:nvPr/>
                </p:nvSpPr>
                <p:spPr>
                  <a:xfrm flipH="1" flipV="1">
                    <a:off x="1565640" y="610812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2" name=""/>
                  <p:cNvSpPr/>
                  <p:nvPr/>
                </p:nvSpPr>
                <p:spPr>
                  <a:xfrm flipH="1" flipV="1">
                    <a:off x="1544400" y="611172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3" name=""/>
                  <p:cNvSpPr/>
                  <p:nvPr/>
                </p:nvSpPr>
                <p:spPr>
                  <a:xfrm flipH="1" flipV="1">
                    <a:off x="1522440" y="6100560"/>
                    <a:ext cx="6840" cy="417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4" name=""/>
                  <p:cNvSpPr/>
                  <p:nvPr/>
                </p:nvSpPr>
                <p:spPr>
                  <a:xfrm flipH="1" flipV="1">
                    <a:off x="1504440" y="611820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5" name=""/>
                  <p:cNvSpPr/>
                  <p:nvPr/>
                </p:nvSpPr>
                <p:spPr>
                  <a:xfrm flipH="1" flipV="1">
                    <a:off x="1483200" y="612180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6" name=""/>
                  <p:cNvSpPr/>
                  <p:nvPr/>
                </p:nvSpPr>
                <p:spPr>
                  <a:xfrm flipH="1" flipV="1">
                    <a:off x="1463400" y="612504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7" name=""/>
                  <p:cNvSpPr/>
                  <p:nvPr/>
                </p:nvSpPr>
                <p:spPr>
                  <a:xfrm flipH="1" flipV="1">
                    <a:off x="1442160" y="6128280"/>
                    <a:ext cx="468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8" name=""/>
                  <p:cNvSpPr/>
                  <p:nvPr/>
                </p:nvSpPr>
                <p:spPr>
                  <a:xfrm flipH="1" flipV="1">
                    <a:off x="1416960" y="6101280"/>
                    <a:ext cx="9360" cy="5760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89" name=""/>
                  <p:cNvSpPr/>
                  <p:nvPr/>
                </p:nvSpPr>
                <p:spPr>
                  <a:xfrm flipH="1" flipV="1">
                    <a:off x="1400760" y="613512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0" name=""/>
                  <p:cNvSpPr/>
                  <p:nvPr/>
                </p:nvSpPr>
                <p:spPr>
                  <a:xfrm flipH="1" flipV="1">
                    <a:off x="1380960" y="613836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1" name=""/>
                  <p:cNvSpPr/>
                  <p:nvPr/>
                </p:nvSpPr>
                <p:spPr>
                  <a:xfrm flipH="1" flipV="1">
                    <a:off x="1360800" y="6141600"/>
                    <a:ext cx="468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2" name=""/>
                  <p:cNvSpPr/>
                  <p:nvPr/>
                </p:nvSpPr>
                <p:spPr>
                  <a:xfrm flipH="1" flipV="1">
                    <a:off x="1337400" y="6130800"/>
                    <a:ext cx="6480" cy="417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040" bIns="-5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3" name=""/>
                  <p:cNvSpPr/>
                  <p:nvPr/>
                </p:nvSpPr>
                <p:spPr>
                  <a:xfrm flipH="1" flipV="1">
                    <a:off x="1319400" y="614844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4" name=""/>
                  <p:cNvSpPr/>
                  <p:nvPr/>
                </p:nvSpPr>
                <p:spPr>
                  <a:xfrm flipH="1" flipV="1">
                    <a:off x="1298520" y="615168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5" name=""/>
                  <p:cNvSpPr/>
                  <p:nvPr/>
                </p:nvSpPr>
                <p:spPr>
                  <a:xfrm flipH="1" flipV="1">
                    <a:off x="1278360" y="6154920"/>
                    <a:ext cx="468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6" name=""/>
                  <p:cNvSpPr/>
                  <p:nvPr/>
                </p:nvSpPr>
                <p:spPr>
                  <a:xfrm flipH="1" flipV="1">
                    <a:off x="1257120" y="615852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7" name=""/>
                  <p:cNvSpPr/>
                  <p:nvPr/>
                </p:nvSpPr>
                <p:spPr>
                  <a:xfrm flipH="1" flipV="1">
                    <a:off x="1231920" y="6131520"/>
                    <a:ext cx="9360" cy="5760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0800" bIns="10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8" name=""/>
                  <p:cNvSpPr/>
                  <p:nvPr/>
                </p:nvSpPr>
                <p:spPr>
                  <a:xfrm flipH="1" flipV="1">
                    <a:off x="1217520" y="616500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9" name=""/>
                  <p:cNvSpPr/>
                  <p:nvPr/>
                </p:nvSpPr>
                <p:spPr>
                  <a:xfrm flipH="1" flipV="1">
                    <a:off x="1195920" y="6168600"/>
                    <a:ext cx="468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0" name=""/>
                  <p:cNvSpPr/>
                  <p:nvPr/>
                </p:nvSpPr>
                <p:spPr>
                  <a:xfrm flipH="1" flipV="1">
                    <a:off x="1175760" y="617184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1" name=""/>
                  <p:cNvSpPr/>
                  <p:nvPr/>
                </p:nvSpPr>
                <p:spPr>
                  <a:xfrm flipH="1" flipV="1">
                    <a:off x="1154520" y="617508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2" name=""/>
                  <p:cNvSpPr/>
                  <p:nvPr/>
                </p:nvSpPr>
                <p:spPr>
                  <a:xfrm flipH="1" flipV="1">
                    <a:off x="1132560" y="6164280"/>
                    <a:ext cx="6840" cy="41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3" name=""/>
                  <p:cNvSpPr/>
                  <p:nvPr/>
                </p:nvSpPr>
                <p:spPr>
                  <a:xfrm flipH="1" flipV="1">
                    <a:off x="1114560" y="6181560"/>
                    <a:ext cx="468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4" name=""/>
                  <p:cNvSpPr/>
                  <p:nvPr/>
                </p:nvSpPr>
                <p:spPr>
                  <a:xfrm flipH="1" flipV="1">
                    <a:off x="1093320" y="618516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5" name=""/>
                  <p:cNvSpPr/>
                  <p:nvPr/>
                </p:nvSpPr>
                <p:spPr>
                  <a:xfrm flipH="1" flipV="1">
                    <a:off x="1073520" y="618840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6" name=""/>
                  <p:cNvSpPr/>
                  <p:nvPr/>
                </p:nvSpPr>
                <p:spPr>
                  <a:xfrm flipH="1" flipV="1">
                    <a:off x="1052640" y="619200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7" name=""/>
                  <p:cNvSpPr/>
                  <p:nvPr/>
                </p:nvSpPr>
                <p:spPr>
                  <a:xfrm flipH="1" flipV="1">
                    <a:off x="1029240" y="6175800"/>
                    <a:ext cx="7560" cy="4680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0" bIns="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8" name=""/>
                  <p:cNvSpPr/>
                  <p:nvPr/>
                </p:nvSpPr>
                <p:spPr>
                  <a:xfrm flipH="1" flipV="1">
                    <a:off x="1010880" y="619848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9" name=""/>
                  <p:cNvSpPr/>
                  <p:nvPr/>
                </p:nvSpPr>
                <p:spPr>
                  <a:xfrm flipH="1" flipV="1">
                    <a:off x="991080" y="620172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0" name=""/>
                  <p:cNvSpPr/>
                  <p:nvPr/>
                </p:nvSpPr>
                <p:spPr>
                  <a:xfrm flipH="1" flipV="1">
                    <a:off x="971280" y="620496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1" name=""/>
                  <p:cNvSpPr/>
                  <p:nvPr/>
                </p:nvSpPr>
                <p:spPr>
                  <a:xfrm flipH="1" flipV="1">
                    <a:off x="947520" y="6194520"/>
                    <a:ext cx="6840" cy="414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5400" bIns="-54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2" name=""/>
                  <p:cNvSpPr/>
                  <p:nvPr/>
                </p:nvSpPr>
                <p:spPr>
                  <a:xfrm flipH="1" flipV="1">
                    <a:off x="929880" y="6211800"/>
                    <a:ext cx="4320" cy="2736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9440" bIns="-194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3" name=""/>
                  <p:cNvSpPr/>
                  <p:nvPr/>
                </p:nvSpPr>
                <p:spPr>
                  <a:xfrm flipH="1">
                    <a:off x="911880" y="6242760"/>
                    <a:ext cx="1080" cy="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6800" bIns="-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814" name=""/>
              <p:cNvGrpSpPr/>
              <p:nvPr/>
            </p:nvGrpSpPr>
            <p:grpSpPr>
              <a:xfrm>
                <a:off x="1860840" y="4710960"/>
                <a:ext cx="477720" cy="1481400"/>
                <a:chOff x="1860840" y="4710960"/>
                <a:chExt cx="477720" cy="1481400"/>
              </a:xfrm>
            </p:grpSpPr>
            <p:sp>
              <p:nvSpPr>
                <p:cNvPr id="815" name=""/>
                <p:cNvSpPr/>
                <p:nvPr/>
              </p:nvSpPr>
              <p:spPr>
                <a:xfrm rot="4845000">
                  <a:off x="1369080" y="5328360"/>
                  <a:ext cx="146088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0     1      2     3      4      5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816" name=""/>
                <p:cNvGrpSpPr/>
                <p:nvPr/>
              </p:nvGrpSpPr>
              <p:grpSpPr>
                <a:xfrm>
                  <a:off x="2076120" y="4773240"/>
                  <a:ext cx="227160" cy="1067400"/>
                  <a:chOff x="2076120" y="4773240"/>
                  <a:chExt cx="227160" cy="1067400"/>
                </a:xfrm>
              </p:grpSpPr>
              <p:sp>
                <p:nvSpPr>
                  <p:cNvPr id="817" name=""/>
                  <p:cNvSpPr/>
                  <p:nvPr/>
                </p:nvSpPr>
                <p:spPr>
                  <a:xfrm flipH="1">
                    <a:off x="2076120" y="4773240"/>
                    <a:ext cx="53280" cy="900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800" bIns="-37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8" name=""/>
                  <p:cNvSpPr/>
                  <p:nvPr/>
                </p:nvSpPr>
                <p:spPr>
                  <a:xfrm flipH="1">
                    <a:off x="2104200" y="479268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9" name=""/>
                  <p:cNvSpPr/>
                  <p:nvPr/>
                </p:nvSpPr>
                <p:spPr>
                  <a:xfrm flipH="1">
                    <a:off x="2107440" y="481320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0" name=""/>
                  <p:cNvSpPr/>
                  <p:nvPr/>
                </p:nvSpPr>
                <p:spPr>
                  <a:xfrm flipH="1">
                    <a:off x="2110680" y="483192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1" name=""/>
                  <p:cNvSpPr/>
                  <p:nvPr/>
                </p:nvSpPr>
                <p:spPr>
                  <a:xfrm flipH="1">
                    <a:off x="2113920" y="4852800"/>
                    <a:ext cx="28440" cy="43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2" name=""/>
                  <p:cNvSpPr/>
                  <p:nvPr/>
                </p:nvSpPr>
                <p:spPr>
                  <a:xfrm flipH="1">
                    <a:off x="2102040" y="4871880"/>
                    <a:ext cx="43560" cy="68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3" name=""/>
                  <p:cNvSpPr/>
                  <p:nvPr/>
                </p:nvSpPr>
                <p:spPr>
                  <a:xfrm flipH="1">
                    <a:off x="2120400" y="489240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4" name=""/>
                  <p:cNvSpPr/>
                  <p:nvPr/>
                </p:nvSpPr>
                <p:spPr>
                  <a:xfrm flipH="1">
                    <a:off x="2123640" y="491148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5" name=""/>
                  <p:cNvSpPr/>
                  <p:nvPr/>
                </p:nvSpPr>
                <p:spPr>
                  <a:xfrm flipH="1">
                    <a:off x="2126520" y="493092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6" name=""/>
                  <p:cNvSpPr/>
                  <p:nvPr/>
                </p:nvSpPr>
                <p:spPr>
                  <a:xfrm flipH="1">
                    <a:off x="2130120" y="495144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7" name=""/>
                  <p:cNvSpPr/>
                  <p:nvPr/>
                </p:nvSpPr>
                <p:spPr>
                  <a:xfrm flipH="1">
                    <a:off x="2113200" y="4970160"/>
                    <a:ext cx="48240" cy="79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8" name=""/>
                  <p:cNvSpPr/>
                  <p:nvPr/>
                </p:nvSpPr>
                <p:spPr>
                  <a:xfrm flipH="1">
                    <a:off x="2136600" y="499068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9" name=""/>
                  <p:cNvSpPr/>
                  <p:nvPr/>
                </p:nvSpPr>
                <p:spPr>
                  <a:xfrm flipH="1">
                    <a:off x="2139480" y="501012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0" name=""/>
                  <p:cNvSpPr/>
                  <p:nvPr/>
                </p:nvSpPr>
                <p:spPr>
                  <a:xfrm flipH="1">
                    <a:off x="2142720" y="502920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1" name=""/>
                  <p:cNvSpPr/>
                  <p:nvPr/>
                </p:nvSpPr>
                <p:spPr>
                  <a:xfrm flipH="1">
                    <a:off x="2131200" y="5049720"/>
                    <a:ext cx="43200" cy="72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2" name=""/>
                  <p:cNvSpPr/>
                  <p:nvPr/>
                </p:nvSpPr>
                <p:spPr>
                  <a:xfrm flipH="1">
                    <a:off x="2149200" y="5069160"/>
                    <a:ext cx="28440" cy="43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3" name=""/>
                  <p:cNvSpPr/>
                  <p:nvPr/>
                </p:nvSpPr>
                <p:spPr>
                  <a:xfrm flipH="1">
                    <a:off x="2152440" y="508968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4" name=""/>
                  <p:cNvSpPr/>
                  <p:nvPr/>
                </p:nvSpPr>
                <p:spPr>
                  <a:xfrm flipH="1">
                    <a:off x="2155680" y="510840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5" name=""/>
                  <p:cNvSpPr/>
                  <p:nvPr/>
                </p:nvSpPr>
                <p:spPr>
                  <a:xfrm flipH="1">
                    <a:off x="2158920" y="512892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6" name=""/>
                  <p:cNvSpPr/>
                  <p:nvPr/>
                </p:nvSpPr>
                <p:spPr>
                  <a:xfrm flipH="1">
                    <a:off x="2130840" y="5148360"/>
                    <a:ext cx="59760" cy="97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7" name=""/>
                  <p:cNvSpPr/>
                  <p:nvPr/>
                </p:nvSpPr>
                <p:spPr>
                  <a:xfrm flipH="1">
                    <a:off x="2165040" y="516744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8" name=""/>
                  <p:cNvSpPr/>
                  <p:nvPr/>
                </p:nvSpPr>
                <p:spPr>
                  <a:xfrm flipH="1">
                    <a:off x="2168640" y="518796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9" name=""/>
                  <p:cNvSpPr/>
                  <p:nvPr/>
                </p:nvSpPr>
                <p:spPr>
                  <a:xfrm flipH="1">
                    <a:off x="2171520" y="5207400"/>
                    <a:ext cx="28440" cy="43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0" name=""/>
                  <p:cNvSpPr/>
                  <p:nvPr/>
                </p:nvSpPr>
                <p:spPr>
                  <a:xfrm flipH="1">
                    <a:off x="2175120" y="522792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1" name=""/>
                  <p:cNvSpPr/>
                  <p:nvPr/>
                </p:nvSpPr>
                <p:spPr>
                  <a:xfrm flipH="1">
                    <a:off x="2163240" y="5247000"/>
                    <a:ext cx="43200" cy="72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2" name=""/>
                  <p:cNvSpPr/>
                  <p:nvPr/>
                </p:nvSpPr>
                <p:spPr>
                  <a:xfrm flipH="1">
                    <a:off x="2181240" y="526608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3" name=""/>
                  <p:cNvSpPr/>
                  <p:nvPr/>
                </p:nvSpPr>
                <p:spPr>
                  <a:xfrm flipH="1">
                    <a:off x="2184480" y="5286960"/>
                    <a:ext cx="28440" cy="43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4" name=""/>
                  <p:cNvSpPr/>
                  <p:nvPr/>
                </p:nvSpPr>
                <p:spPr>
                  <a:xfrm flipH="1">
                    <a:off x="2187720" y="530604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5" name=""/>
                  <p:cNvSpPr/>
                  <p:nvPr/>
                </p:nvSpPr>
                <p:spPr>
                  <a:xfrm flipH="1">
                    <a:off x="2190960" y="532620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6" name=""/>
                  <p:cNvSpPr/>
                  <p:nvPr/>
                </p:nvSpPr>
                <p:spPr>
                  <a:xfrm flipH="1">
                    <a:off x="2162880" y="5345280"/>
                    <a:ext cx="59760" cy="97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7" name=""/>
                  <p:cNvSpPr/>
                  <p:nvPr/>
                </p:nvSpPr>
                <p:spPr>
                  <a:xfrm flipH="1">
                    <a:off x="2197440" y="536616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8" name=""/>
                  <p:cNvSpPr/>
                  <p:nvPr/>
                </p:nvSpPr>
                <p:spPr>
                  <a:xfrm flipH="1">
                    <a:off x="2200680" y="538524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9" name=""/>
                  <p:cNvSpPr/>
                  <p:nvPr/>
                </p:nvSpPr>
                <p:spPr>
                  <a:xfrm flipH="1">
                    <a:off x="2203920" y="540432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0" name=""/>
                  <p:cNvSpPr/>
                  <p:nvPr/>
                </p:nvSpPr>
                <p:spPr>
                  <a:xfrm flipH="1">
                    <a:off x="2192400" y="5425200"/>
                    <a:ext cx="43200" cy="68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1" name=""/>
                  <p:cNvSpPr/>
                  <p:nvPr/>
                </p:nvSpPr>
                <p:spPr>
                  <a:xfrm flipH="1">
                    <a:off x="2210400" y="544428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2" name=""/>
                  <p:cNvSpPr/>
                  <p:nvPr/>
                </p:nvSpPr>
                <p:spPr>
                  <a:xfrm flipH="1">
                    <a:off x="2213640" y="546480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3" name=""/>
                  <p:cNvSpPr/>
                  <p:nvPr/>
                </p:nvSpPr>
                <p:spPr>
                  <a:xfrm flipH="1">
                    <a:off x="2216520" y="548352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4" name=""/>
                  <p:cNvSpPr/>
                  <p:nvPr/>
                </p:nvSpPr>
                <p:spPr>
                  <a:xfrm flipH="1">
                    <a:off x="2220120" y="550440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5" name=""/>
                  <p:cNvSpPr/>
                  <p:nvPr/>
                </p:nvSpPr>
                <p:spPr>
                  <a:xfrm flipH="1">
                    <a:off x="2192040" y="5523480"/>
                    <a:ext cx="59400" cy="97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7080" bIns="-370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6" name=""/>
                  <p:cNvSpPr/>
                  <p:nvPr/>
                </p:nvSpPr>
                <p:spPr>
                  <a:xfrm flipH="1">
                    <a:off x="2226240" y="554256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7" name=""/>
                  <p:cNvSpPr/>
                  <p:nvPr/>
                </p:nvSpPr>
                <p:spPr>
                  <a:xfrm flipH="1">
                    <a:off x="2229480" y="5563440"/>
                    <a:ext cx="28440" cy="43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8" name=""/>
                  <p:cNvSpPr/>
                  <p:nvPr/>
                </p:nvSpPr>
                <p:spPr>
                  <a:xfrm flipH="1">
                    <a:off x="2232720" y="558252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9" name=""/>
                  <p:cNvSpPr/>
                  <p:nvPr/>
                </p:nvSpPr>
                <p:spPr>
                  <a:xfrm flipH="1">
                    <a:off x="2236320" y="5603040"/>
                    <a:ext cx="2808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0" name=""/>
                  <p:cNvSpPr/>
                  <p:nvPr/>
                </p:nvSpPr>
                <p:spPr>
                  <a:xfrm flipH="1">
                    <a:off x="2224440" y="5621760"/>
                    <a:ext cx="43200" cy="720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600" bIns="-396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1" name=""/>
                  <p:cNvSpPr/>
                  <p:nvPr/>
                </p:nvSpPr>
                <p:spPr>
                  <a:xfrm flipH="1">
                    <a:off x="2242440" y="564156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2" name=""/>
                  <p:cNvSpPr/>
                  <p:nvPr/>
                </p:nvSpPr>
                <p:spPr>
                  <a:xfrm flipH="1">
                    <a:off x="2245680" y="566208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3" name=""/>
                  <p:cNvSpPr/>
                  <p:nvPr/>
                </p:nvSpPr>
                <p:spPr>
                  <a:xfrm flipH="1">
                    <a:off x="2248920" y="568080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4" name=""/>
                  <p:cNvSpPr/>
                  <p:nvPr/>
                </p:nvSpPr>
                <p:spPr>
                  <a:xfrm flipH="1">
                    <a:off x="2252160" y="570132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5" name=""/>
                  <p:cNvSpPr/>
                  <p:nvPr/>
                </p:nvSpPr>
                <p:spPr>
                  <a:xfrm flipH="1">
                    <a:off x="2235240" y="5720760"/>
                    <a:ext cx="48600" cy="7920"/>
                  </a:xfrm>
                  <a:prstGeom prst="line">
                    <a:avLst/>
                  </a:prstGeom>
                  <a:ln w="6480">
                    <a:solidFill>
                      <a:srgbClr val="009999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8880" bIns="-388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6" name=""/>
                  <p:cNvSpPr/>
                  <p:nvPr/>
                </p:nvSpPr>
                <p:spPr>
                  <a:xfrm flipH="1">
                    <a:off x="2258640" y="574128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7" name=""/>
                  <p:cNvSpPr/>
                  <p:nvPr/>
                </p:nvSpPr>
                <p:spPr>
                  <a:xfrm flipH="1">
                    <a:off x="2261880" y="576036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8" name=""/>
                  <p:cNvSpPr/>
                  <p:nvPr/>
                </p:nvSpPr>
                <p:spPr>
                  <a:xfrm flipH="1">
                    <a:off x="2264760" y="5779800"/>
                    <a:ext cx="28440" cy="432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480" bIns="-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9" name=""/>
                  <p:cNvSpPr/>
                  <p:nvPr/>
                </p:nvSpPr>
                <p:spPr>
                  <a:xfrm flipH="1">
                    <a:off x="2253240" y="5800320"/>
                    <a:ext cx="43560" cy="684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9960" bIns="-399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0" name=""/>
                  <p:cNvSpPr/>
                  <p:nvPr/>
                </p:nvSpPr>
                <p:spPr>
                  <a:xfrm flipH="1">
                    <a:off x="2271240" y="5819040"/>
                    <a:ext cx="28440" cy="46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2120" bIns="-421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71" name=""/>
                  <p:cNvSpPr/>
                  <p:nvPr/>
                </p:nvSpPr>
                <p:spPr>
                  <a:xfrm>
                    <a:off x="2303280" y="5839560"/>
                    <a:ext cx="0" cy="1080"/>
                  </a:xfrm>
                  <a:prstGeom prst="line">
                    <a:avLst/>
                  </a:prstGeom>
                  <a:ln w="6480">
                    <a:solidFill>
                      <a:srgbClr val="0033cc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5720" bIns="-457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</p:grpSp>
      </p:grpSp>
      <p:pic>
        <p:nvPicPr>
          <p:cNvPr id="872" name="" descr=""/>
          <p:cNvPicPr/>
          <p:nvPr/>
        </p:nvPicPr>
        <p:blipFill>
          <a:blip r:embed="rId6"/>
          <a:stretch/>
        </p:blipFill>
        <p:spPr>
          <a:xfrm>
            <a:off x="8532720" y="0"/>
            <a:ext cx="617760" cy="6253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7"/>
    <p:sldLayoutId id="2147483715" r:id="rId8"/>
    <p:sldLayoutId id="2147483716" r:id="rId9"/>
    <p:sldLayoutId id="2147483717" r:id="rId10"/>
    <p:sldLayoutId id="2147483718" r:id="rId11"/>
    <p:sldLayoutId id="2147483719" r:id="rId12"/>
    <p:sldLayoutId id="2147483720" r:id="rId13"/>
    <p:sldLayoutId id="2147483721" r:id="rId14"/>
    <p:sldLayoutId id="2147483722" r:id="rId15"/>
    <p:sldLayoutId id="2147483723" r:id="rId16"/>
    <p:sldLayoutId id="2147483724" r:id="rId17"/>
    <p:sldLayoutId id="2147483725" r:id="rId18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gif"/><Relationship Id="rId2" Type="http://schemas.openxmlformats.org/officeDocument/2006/relationships/image" Target="../media/image9.gif"/><Relationship Id="rId3" Type="http://schemas.openxmlformats.org/officeDocument/2006/relationships/image" Target="../media/image9.gif"/><Relationship Id="rId4" Type="http://schemas.openxmlformats.org/officeDocument/2006/relationships/image" Target="../media/image10.png"/><Relationship Id="rId5" Type="http://schemas.openxmlformats.org/officeDocument/2006/relationships/image" Target="../media/image10.png"/><Relationship Id="rId6" Type="http://schemas.openxmlformats.org/officeDocument/2006/relationships/slideLayout" Target="../slideLayouts/slideLayout5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5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5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audio" Target="../media/type.wav"/><Relationship Id="rId7" Type="http://schemas.openxmlformats.org/officeDocument/2006/relationships/audio" Target="../media/chimes.wav"/><Relationship Id="rId8" Type="http://schemas.openxmlformats.org/officeDocument/2006/relationships/audio" Target="../media/type.wav"/><Relationship Id="rId9" Type="http://schemas.openxmlformats.org/officeDocument/2006/relationships/audio" Target="../media/chimes.wav"/><Relationship Id="rId10" Type="http://schemas.openxmlformats.org/officeDocument/2006/relationships/audio" Target="../media/type.wav"/><Relationship Id="rId1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4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4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"/>
          <p:cNvSpPr/>
          <p:nvPr/>
        </p:nvSpPr>
        <p:spPr>
          <a:xfrm>
            <a:off x="1868400" y="260280"/>
            <a:ext cx="53114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华文彩云"/>
              </a:rPr>
              <a:t>湘教版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黑体"/>
              </a:rPr>
              <a:t>  </a:t>
            </a:r>
            <a:r>
              <a:rPr b="1" lang="zh-CN" sz="4800" spc="-1" strike="noStrike">
                <a:solidFill>
                  <a:srgbClr val="ff00ff"/>
                </a:solidFill>
                <a:latin typeface="Times New Roman"/>
              </a:rPr>
              <a:t>SHUXUE </a:t>
            </a:r>
            <a:r>
              <a:rPr b="1" lang="zh-CN" sz="3200" spc="-1" strike="noStrike">
                <a:solidFill>
                  <a:srgbClr val="000066"/>
                </a:solidFill>
                <a:latin typeface="Arial"/>
                <a:ea typeface="隶书"/>
              </a:rPr>
              <a:t>七年级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10" name=""/>
          <p:cNvGrpSpPr/>
          <p:nvPr/>
        </p:nvGrpSpPr>
        <p:grpSpPr>
          <a:xfrm>
            <a:off x="179280" y="5877000"/>
            <a:ext cx="6581520" cy="866880"/>
            <a:chOff x="179280" y="5877000"/>
            <a:chExt cx="6581520" cy="866880"/>
          </a:xfrm>
        </p:grpSpPr>
        <p:sp>
          <p:nvSpPr>
            <p:cNvPr id="911" name=""/>
            <p:cNvSpPr/>
            <p:nvPr/>
          </p:nvSpPr>
          <p:spPr>
            <a:xfrm>
              <a:off x="179280" y="6024600"/>
              <a:ext cx="1317600" cy="414000"/>
            </a:xfrm>
            <a:custGeom>
              <a:avLst/>
              <a:gdLst/>
              <a:ahLst/>
              <a:rect l="l" t="t" r="r" b="b"/>
              <a:pathLst>
                <a:path w="1119" h="600">
                  <a:moveTo>
                    <a:pt x="1119" y="59"/>
                  </a:moveTo>
                  <a:lnTo>
                    <a:pt x="957" y="59"/>
                  </a:lnTo>
                  <a:lnTo>
                    <a:pt x="957" y="147"/>
                  </a:lnTo>
                  <a:lnTo>
                    <a:pt x="918" y="186"/>
                  </a:lnTo>
                  <a:lnTo>
                    <a:pt x="870" y="186"/>
                  </a:lnTo>
                  <a:lnTo>
                    <a:pt x="870" y="93"/>
                  </a:lnTo>
                  <a:lnTo>
                    <a:pt x="737" y="93"/>
                  </a:lnTo>
                  <a:lnTo>
                    <a:pt x="737" y="204"/>
                  </a:lnTo>
                  <a:lnTo>
                    <a:pt x="689" y="204"/>
                  </a:lnTo>
                  <a:lnTo>
                    <a:pt x="685" y="166"/>
                  </a:lnTo>
                  <a:lnTo>
                    <a:pt x="678" y="135"/>
                  </a:lnTo>
                  <a:lnTo>
                    <a:pt x="667" y="108"/>
                  </a:lnTo>
                  <a:lnTo>
                    <a:pt x="653" y="85"/>
                  </a:lnTo>
                  <a:lnTo>
                    <a:pt x="639" y="66"/>
                  </a:lnTo>
                  <a:lnTo>
                    <a:pt x="627" y="51"/>
                  </a:lnTo>
                  <a:lnTo>
                    <a:pt x="615" y="38"/>
                  </a:lnTo>
                  <a:lnTo>
                    <a:pt x="607" y="27"/>
                  </a:lnTo>
                  <a:lnTo>
                    <a:pt x="599" y="40"/>
                  </a:lnTo>
                  <a:lnTo>
                    <a:pt x="590" y="55"/>
                  </a:lnTo>
                  <a:lnTo>
                    <a:pt x="580" y="73"/>
                  </a:lnTo>
                  <a:lnTo>
                    <a:pt x="571" y="93"/>
                  </a:lnTo>
                  <a:lnTo>
                    <a:pt x="563" y="111"/>
                  </a:lnTo>
                  <a:lnTo>
                    <a:pt x="556" y="130"/>
                  </a:lnTo>
                  <a:lnTo>
                    <a:pt x="551" y="145"/>
                  </a:lnTo>
                  <a:lnTo>
                    <a:pt x="547" y="156"/>
                  </a:lnTo>
                  <a:lnTo>
                    <a:pt x="541" y="142"/>
                  </a:lnTo>
                  <a:lnTo>
                    <a:pt x="536" y="126"/>
                  </a:lnTo>
                  <a:lnTo>
                    <a:pt x="529" y="109"/>
                  </a:lnTo>
                  <a:lnTo>
                    <a:pt x="521" y="92"/>
                  </a:lnTo>
                  <a:lnTo>
                    <a:pt x="514" y="76"/>
                  </a:lnTo>
                  <a:lnTo>
                    <a:pt x="506" y="61"/>
                  </a:lnTo>
                  <a:lnTo>
                    <a:pt x="499" y="48"/>
                  </a:lnTo>
                  <a:lnTo>
                    <a:pt x="493" y="39"/>
                  </a:lnTo>
                  <a:lnTo>
                    <a:pt x="483" y="55"/>
                  </a:lnTo>
                  <a:lnTo>
                    <a:pt x="472" y="76"/>
                  </a:lnTo>
                  <a:lnTo>
                    <a:pt x="462" y="100"/>
                  </a:lnTo>
                  <a:lnTo>
                    <a:pt x="453" y="127"/>
                  </a:lnTo>
                  <a:lnTo>
                    <a:pt x="445" y="155"/>
                  </a:lnTo>
                  <a:lnTo>
                    <a:pt x="439" y="184"/>
                  </a:lnTo>
                  <a:lnTo>
                    <a:pt x="434" y="212"/>
                  </a:lnTo>
                  <a:lnTo>
                    <a:pt x="432" y="240"/>
                  </a:lnTo>
                  <a:lnTo>
                    <a:pt x="351" y="240"/>
                  </a:lnTo>
                  <a:lnTo>
                    <a:pt x="351" y="186"/>
                  </a:lnTo>
                  <a:lnTo>
                    <a:pt x="375" y="186"/>
                  </a:lnTo>
                  <a:lnTo>
                    <a:pt x="318" y="87"/>
                  </a:lnTo>
                  <a:lnTo>
                    <a:pt x="150" y="87"/>
                  </a:lnTo>
                  <a:lnTo>
                    <a:pt x="104" y="0"/>
                  </a:lnTo>
                  <a:lnTo>
                    <a:pt x="0" y="229"/>
                  </a:lnTo>
                  <a:lnTo>
                    <a:pt x="0" y="600"/>
                  </a:lnTo>
                  <a:lnTo>
                    <a:pt x="1119" y="600"/>
                  </a:lnTo>
                  <a:lnTo>
                    <a:pt x="1119" y="59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2" name=""/>
            <p:cNvSpPr/>
            <p:nvPr/>
          </p:nvSpPr>
          <p:spPr>
            <a:xfrm>
              <a:off x="179280" y="6413760"/>
              <a:ext cx="1315440" cy="30492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4151160" y="6009120"/>
              <a:ext cx="2609640" cy="429480"/>
            </a:xfrm>
            <a:custGeom>
              <a:avLst/>
              <a:gdLst/>
              <a:ahLst/>
              <a:rect l="l" t="t" r="r" b="b"/>
              <a:pathLst>
                <a:path w="2214" h="621">
                  <a:moveTo>
                    <a:pt x="2214" y="147"/>
                  </a:moveTo>
                  <a:lnTo>
                    <a:pt x="2214" y="147"/>
                  </a:lnTo>
                  <a:lnTo>
                    <a:pt x="2163" y="75"/>
                  </a:lnTo>
                  <a:lnTo>
                    <a:pt x="2087" y="190"/>
                  </a:lnTo>
                  <a:lnTo>
                    <a:pt x="2087" y="108"/>
                  </a:lnTo>
                  <a:lnTo>
                    <a:pt x="2024" y="65"/>
                  </a:lnTo>
                  <a:lnTo>
                    <a:pt x="1977" y="117"/>
                  </a:lnTo>
                  <a:lnTo>
                    <a:pt x="1977" y="168"/>
                  </a:lnTo>
                  <a:lnTo>
                    <a:pt x="1955" y="168"/>
                  </a:lnTo>
                  <a:lnTo>
                    <a:pt x="1955" y="120"/>
                  </a:lnTo>
                  <a:lnTo>
                    <a:pt x="1885" y="49"/>
                  </a:lnTo>
                  <a:lnTo>
                    <a:pt x="1882" y="49"/>
                  </a:lnTo>
                  <a:lnTo>
                    <a:pt x="1874" y="49"/>
                  </a:lnTo>
                  <a:lnTo>
                    <a:pt x="1861" y="49"/>
                  </a:lnTo>
                  <a:lnTo>
                    <a:pt x="1846" y="49"/>
                  </a:lnTo>
                  <a:lnTo>
                    <a:pt x="1828" y="49"/>
                  </a:lnTo>
                  <a:lnTo>
                    <a:pt x="1806" y="49"/>
                  </a:lnTo>
                  <a:lnTo>
                    <a:pt x="1784" y="49"/>
                  </a:lnTo>
                  <a:lnTo>
                    <a:pt x="1761" y="49"/>
                  </a:lnTo>
                  <a:lnTo>
                    <a:pt x="1738" y="49"/>
                  </a:lnTo>
                  <a:lnTo>
                    <a:pt x="1716" y="49"/>
                  </a:lnTo>
                  <a:lnTo>
                    <a:pt x="1694" y="49"/>
                  </a:lnTo>
                  <a:lnTo>
                    <a:pt x="1676" y="49"/>
                  </a:lnTo>
                  <a:lnTo>
                    <a:pt x="1660" y="49"/>
                  </a:lnTo>
                  <a:lnTo>
                    <a:pt x="1647" y="49"/>
                  </a:lnTo>
                  <a:lnTo>
                    <a:pt x="1639" y="49"/>
                  </a:lnTo>
                  <a:lnTo>
                    <a:pt x="1636" y="49"/>
                  </a:lnTo>
                  <a:lnTo>
                    <a:pt x="1631" y="53"/>
                  </a:lnTo>
                  <a:lnTo>
                    <a:pt x="1621" y="63"/>
                  </a:lnTo>
                  <a:lnTo>
                    <a:pt x="1607" y="76"/>
                  </a:lnTo>
                  <a:lnTo>
                    <a:pt x="1592" y="92"/>
                  </a:lnTo>
                  <a:lnTo>
                    <a:pt x="1577" y="108"/>
                  </a:lnTo>
                  <a:lnTo>
                    <a:pt x="1563" y="121"/>
                  </a:lnTo>
                  <a:lnTo>
                    <a:pt x="1554" y="131"/>
                  </a:lnTo>
                  <a:lnTo>
                    <a:pt x="1550" y="135"/>
                  </a:lnTo>
                  <a:lnTo>
                    <a:pt x="1587" y="135"/>
                  </a:lnTo>
                  <a:lnTo>
                    <a:pt x="1587" y="205"/>
                  </a:lnTo>
                  <a:lnTo>
                    <a:pt x="1515" y="205"/>
                  </a:lnTo>
                  <a:lnTo>
                    <a:pt x="1515" y="178"/>
                  </a:lnTo>
                  <a:lnTo>
                    <a:pt x="1515" y="121"/>
                  </a:lnTo>
                  <a:lnTo>
                    <a:pt x="1515" y="63"/>
                  </a:lnTo>
                  <a:lnTo>
                    <a:pt x="1515" y="39"/>
                  </a:lnTo>
                  <a:lnTo>
                    <a:pt x="1512" y="39"/>
                  </a:lnTo>
                  <a:lnTo>
                    <a:pt x="1505" y="40"/>
                  </a:lnTo>
                  <a:lnTo>
                    <a:pt x="1495" y="40"/>
                  </a:lnTo>
                  <a:lnTo>
                    <a:pt x="1481" y="40"/>
                  </a:lnTo>
                  <a:lnTo>
                    <a:pt x="1466" y="40"/>
                  </a:lnTo>
                  <a:lnTo>
                    <a:pt x="1448" y="40"/>
                  </a:lnTo>
                  <a:lnTo>
                    <a:pt x="1429" y="40"/>
                  </a:lnTo>
                  <a:lnTo>
                    <a:pt x="1410" y="40"/>
                  </a:lnTo>
                  <a:lnTo>
                    <a:pt x="1389" y="40"/>
                  </a:lnTo>
                  <a:lnTo>
                    <a:pt x="1371" y="40"/>
                  </a:lnTo>
                  <a:lnTo>
                    <a:pt x="1352" y="39"/>
                  </a:lnTo>
                  <a:lnTo>
                    <a:pt x="1337" y="39"/>
                  </a:lnTo>
                  <a:lnTo>
                    <a:pt x="1323" y="39"/>
                  </a:lnTo>
                  <a:lnTo>
                    <a:pt x="1313" y="39"/>
                  </a:lnTo>
                  <a:lnTo>
                    <a:pt x="1306" y="39"/>
                  </a:lnTo>
                  <a:lnTo>
                    <a:pt x="1304" y="39"/>
                  </a:lnTo>
                  <a:lnTo>
                    <a:pt x="1304" y="84"/>
                  </a:lnTo>
                  <a:lnTo>
                    <a:pt x="1063" y="84"/>
                  </a:lnTo>
                  <a:lnTo>
                    <a:pt x="1063" y="123"/>
                  </a:lnTo>
                  <a:lnTo>
                    <a:pt x="1049" y="124"/>
                  </a:lnTo>
                  <a:lnTo>
                    <a:pt x="1035" y="129"/>
                  </a:lnTo>
                  <a:lnTo>
                    <a:pt x="1020" y="137"/>
                  </a:lnTo>
                  <a:lnTo>
                    <a:pt x="1008" y="147"/>
                  </a:lnTo>
                  <a:lnTo>
                    <a:pt x="996" y="159"/>
                  </a:lnTo>
                  <a:lnTo>
                    <a:pt x="987" y="174"/>
                  </a:lnTo>
                  <a:lnTo>
                    <a:pt x="981" y="190"/>
                  </a:lnTo>
                  <a:lnTo>
                    <a:pt x="979" y="207"/>
                  </a:lnTo>
                  <a:lnTo>
                    <a:pt x="955" y="207"/>
                  </a:lnTo>
                  <a:lnTo>
                    <a:pt x="952" y="176"/>
                  </a:lnTo>
                  <a:lnTo>
                    <a:pt x="944" y="153"/>
                  </a:lnTo>
                  <a:lnTo>
                    <a:pt x="934" y="138"/>
                  </a:lnTo>
                  <a:lnTo>
                    <a:pt x="921" y="132"/>
                  </a:lnTo>
                  <a:lnTo>
                    <a:pt x="909" y="137"/>
                  </a:lnTo>
                  <a:lnTo>
                    <a:pt x="898" y="149"/>
                  </a:lnTo>
                  <a:lnTo>
                    <a:pt x="890" y="174"/>
                  </a:lnTo>
                  <a:lnTo>
                    <a:pt x="888" y="207"/>
                  </a:lnTo>
                  <a:lnTo>
                    <a:pt x="822" y="207"/>
                  </a:lnTo>
                  <a:lnTo>
                    <a:pt x="822" y="11"/>
                  </a:lnTo>
                  <a:lnTo>
                    <a:pt x="783" y="11"/>
                  </a:lnTo>
                  <a:lnTo>
                    <a:pt x="783" y="75"/>
                  </a:lnTo>
                  <a:lnTo>
                    <a:pt x="567" y="75"/>
                  </a:lnTo>
                  <a:lnTo>
                    <a:pt x="524" y="9"/>
                  </a:lnTo>
                  <a:lnTo>
                    <a:pt x="481" y="75"/>
                  </a:lnTo>
                  <a:lnTo>
                    <a:pt x="237" y="75"/>
                  </a:lnTo>
                  <a:lnTo>
                    <a:pt x="237" y="156"/>
                  </a:lnTo>
                  <a:lnTo>
                    <a:pt x="175" y="156"/>
                  </a:lnTo>
                  <a:lnTo>
                    <a:pt x="169" y="149"/>
                  </a:lnTo>
                  <a:lnTo>
                    <a:pt x="162" y="139"/>
                  </a:lnTo>
                  <a:lnTo>
                    <a:pt x="155" y="129"/>
                  </a:lnTo>
                  <a:lnTo>
                    <a:pt x="147" y="117"/>
                  </a:lnTo>
                  <a:lnTo>
                    <a:pt x="140" y="107"/>
                  </a:lnTo>
                  <a:lnTo>
                    <a:pt x="134" y="98"/>
                  </a:lnTo>
                  <a:lnTo>
                    <a:pt x="130" y="92"/>
                  </a:lnTo>
                  <a:lnTo>
                    <a:pt x="129" y="90"/>
                  </a:lnTo>
                  <a:lnTo>
                    <a:pt x="151" y="93"/>
                  </a:lnTo>
                  <a:lnTo>
                    <a:pt x="84" y="0"/>
                  </a:lnTo>
                  <a:lnTo>
                    <a:pt x="26" y="87"/>
                  </a:lnTo>
                  <a:lnTo>
                    <a:pt x="45" y="87"/>
                  </a:lnTo>
                  <a:lnTo>
                    <a:pt x="11" y="151"/>
                  </a:lnTo>
                  <a:lnTo>
                    <a:pt x="33" y="156"/>
                  </a:lnTo>
                  <a:lnTo>
                    <a:pt x="0" y="192"/>
                  </a:lnTo>
                  <a:lnTo>
                    <a:pt x="0" y="621"/>
                  </a:lnTo>
                  <a:lnTo>
                    <a:pt x="2214" y="621"/>
                  </a:lnTo>
                  <a:lnTo>
                    <a:pt x="2214" y="147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4149000" y="6438960"/>
              <a:ext cx="2611800" cy="30492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4149000" y="6256440"/>
              <a:ext cx="5652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6" name=""/>
            <p:cNvSpPr/>
            <p:nvPr/>
          </p:nvSpPr>
          <p:spPr>
            <a:xfrm>
              <a:off x="423396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7" name=""/>
            <p:cNvSpPr/>
            <p:nvPr/>
          </p:nvSpPr>
          <p:spPr>
            <a:xfrm>
              <a:off x="4323240" y="6256440"/>
              <a:ext cx="5904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4149000" y="630468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4149000" y="639324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5853240" y="6256440"/>
              <a:ext cx="5652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593820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02784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3" name=""/>
            <p:cNvSpPr/>
            <p:nvPr/>
          </p:nvSpPr>
          <p:spPr>
            <a:xfrm>
              <a:off x="611712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4" name=""/>
            <p:cNvSpPr/>
            <p:nvPr/>
          </p:nvSpPr>
          <p:spPr>
            <a:xfrm>
              <a:off x="6207120" y="6256440"/>
              <a:ext cx="58680" cy="198720"/>
            </a:xfrm>
            <a:custGeom>
              <a:avLst/>
              <a:gdLst/>
              <a:ahLst/>
              <a:rect l="l" t="t" r="r" b="b"/>
              <a:pathLst>
                <a:path w="49" h="286">
                  <a:moveTo>
                    <a:pt x="25" y="0"/>
                  </a:moveTo>
                  <a:lnTo>
                    <a:pt x="49" y="57"/>
                  </a:lnTo>
                  <a:lnTo>
                    <a:pt x="49" y="286"/>
                  </a:lnTo>
                  <a:lnTo>
                    <a:pt x="0" y="272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296400" y="6267600"/>
              <a:ext cx="58680" cy="204120"/>
            </a:xfrm>
            <a:custGeom>
              <a:avLst/>
              <a:gdLst/>
              <a:ahLst/>
              <a:rect l="l" t="t" r="r" b="b"/>
              <a:pathLst>
                <a:path w="50" h="295">
                  <a:moveTo>
                    <a:pt x="25" y="0"/>
                  </a:moveTo>
                  <a:lnTo>
                    <a:pt x="50" y="56"/>
                  </a:lnTo>
                  <a:lnTo>
                    <a:pt x="50" y="295"/>
                  </a:lnTo>
                  <a:lnTo>
                    <a:pt x="0" y="276"/>
                  </a:lnTo>
                  <a:lnTo>
                    <a:pt x="0" y="56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388200" y="6278400"/>
              <a:ext cx="56520" cy="215280"/>
            </a:xfrm>
            <a:custGeom>
              <a:avLst/>
              <a:gdLst/>
              <a:ahLst/>
              <a:rect l="l" t="t" r="r" b="b"/>
              <a:pathLst>
                <a:path w="49" h="313">
                  <a:moveTo>
                    <a:pt x="24" y="0"/>
                  </a:moveTo>
                  <a:lnTo>
                    <a:pt x="49" y="57"/>
                  </a:lnTo>
                  <a:lnTo>
                    <a:pt x="49" y="313"/>
                  </a:lnTo>
                  <a:lnTo>
                    <a:pt x="0" y="290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477840" y="6292440"/>
              <a:ext cx="56520" cy="233280"/>
            </a:xfrm>
            <a:custGeom>
              <a:avLst/>
              <a:gdLst/>
              <a:ahLst/>
              <a:rect l="l" t="t" r="r" b="b"/>
              <a:pathLst>
                <a:path w="50" h="340">
                  <a:moveTo>
                    <a:pt x="24" y="0"/>
                  </a:moveTo>
                  <a:lnTo>
                    <a:pt x="50" y="58"/>
                  </a:lnTo>
                  <a:lnTo>
                    <a:pt x="50" y="340"/>
                  </a:lnTo>
                  <a:lnTo>
                    <a:pt x="0" y="309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567120" y="6312960"/>
              <a:ext cx="56520" cy="257040"/>
            </a:xfrm>
            <a:custGeom>
              <a:avLst/>
              <a:gdLst/>
              <a:ahLst/>
              <a:rect l="l" t="t" r="r" b="b"/>
              <a:pathLst>
                <a:path w="50" h="373">
                  <a:moveTo>
                    <a:pt x="24" y="0"/>
                  </a:moveTo>
                  <a:lnTo>
                    <a:pt x="50" y="58"/>
                  </a:lnTo>
                  <a:lnTo>
                    <a:pt x="50" y="373"/>
                  </a:lnTo>
                  <a:lnTo>
                    <a:pt x="0" y="326"/>
                  </a:lnTo>
                  <a:lnTo>
                    <a:pt x="0" y="58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657120" y="6336360"/>
              <a:ext cx="56520" cy="298080"/>
            </a:xfrm>
            <a:custGeom>
              <a:avLst/>
              <a:gdLst/>
              <a:ahLst/>
              <a:rect l="l" t="t" r="r" b="b"/>
              <a:pathLst>
                <a:path w="50" h="430">
                  <a:moveTo>
                    <a:pt x="26" y="0"/>
                  </a:moveTo>
                  <a:lnTo>
                    <a:pt x="50" y="56"/>
                  </a:lnTo>
                  <a:lnTo>
                    <a:pt x="50" y="430"/>
                  </a:lnTo>
                  <a:lnTo>
                    <a:pt x="0" y="368"/>
                  </a:lnTo>
                  <a:lnTo>
                    <a:pt x="0" y="56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746400" y="6387840"/>
              <a:ext cx="14400" cy="293760"/>
            </a:xfrm>
            <a:custGeom>
              <a:avLst/>
              <a:gdLst/>
              <a:ahLst/>
              <a:rect l="l" t="t" r="r" b="b"/>
              <a:pathLst>
                <a:path w="13" h="427">
                  <a:moveTo>
                    <a:pt x="13" y="0"/>
                  </a:moveTo>
                  <a:lnTo>
                    <a:pt x="13" y="427"/>
                  </a:lnTo>
                  <a:lnTo>
                    <a:pt x="0" y="396"/>
                  </a:lnTo>
                  <a:lnTo>
                    <a:pt x="0" y="29"/>
                  </a:lnTo>
                  <a:lnTo>
                    <a:pt x="1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1" name=""/>
            <p:cNvSpPr/>
            <p:nvPr/>
          </p:nvSpPr>
          <p:spPr>
            <a:xfrm>
              <a:off x="5822640" y="6304680"/>
              <a:ext cx="938160" cy="144720"/>
            </a:xfrm>
            <a:custGeom>
              <a:avLst/>
              <a:gdLst/>
              <a:ahLst/>
              <a:rect l="l" t="t" r="r" b="b"/>
              <a:pathLst>
                <a:path w="796" h="208">
                  <a:moveTo>
                    <a:pt x="0" y="29"/>
                  </a:moveTo>
                  <a:lnTo>
                    <a:pt x="6" y="29"/>
                  </a:lnTo>
                  <a:lnTo>
                    <a:pt x="16" y="29"/>
                  </a:lnTo>
                  <a:lnTo>
                    <a:pt x="29" y="29"/>
                  </a:lnTo>
                  <a:lnTo>
                    <a:pt x="45" y="29"/>
                  </a:lnTo>
                  <a:lnTo>
                    <a:pt x="63" y="29"/>
                  </a:lnTo>
                  <a:lnTo>
                    <a:pt x="83" y="29"/>
                  </a:lnTo>
                  <a:lnTo>
                    <a:pt x="105" y="29"/>
                  </a:lnTo>
                  <a:lnTo>
                    <a:pt x="127" y="29"/>
                  </a:lnTo>
                  <a:lnTo>
                    <a:pt x="147" y="29"/>
                  </a:lnTo>
                  <a:lnTo>
                    <a:pt x="169" y="29"/>
                  </a:lnTo>
                  <a:lnTo>
                    <a:pt x="189" y="29"/>
                  </a:lnTo>
                  <a:lnTo>
                    <a:pt x="207" y="29"/>
                  </a:lnTo>
                  <a:lnTo>
                    <a:pt x="223" y="29"/>
                  </a:lnTo>
                  <a:lnTo>
                    <a:pt x="236" y="29"/>
                  </a:lnTo>
                  <a:lnTo>
                    <a:pt x="246" y="29"/>
                  </a:lnTo>
                  <a:lnTo>
                    <a:pt x="252" y="29"/>
                  </a:lnTo>
                  <a:lnTo>
                    <a:pt x="259" y="29"/>
                  </a:lnTo>
                  <a:lnTo>
                    <a:pt x="274" y="30"/>
                  </a:lnTo>
                  <a:lnTo>
                    <a:pt x="294" y="32"/>
                  </a:lnTo>
                  <a:lnTo>
                    <a:pt x="319" y="36"/>
                  </a:lnTo>
                  <a:lnTo>
                    <a:pt x="349" y="40"/>
                  </a:lnTo>
                  <a:lnTo>
                    <a:pt x="384" y="46"/>
                  </a:lnTo>
                  <a:lnTo>
                    <a:pt x="420" y="53"/>
                  </a:lnTo>
                  <a:lnTo>
                    <a:pt x="461" y="62"/>
                  </a:lnTo>
                  <a:lnTo>
                    <a:pt x="503" y="72"/>
                  </a:lnTo>
                  <a:lnTo>
                    <a:pt x="546" y="85"/>
                  </a:lnTo>
                  <a:lnTo>
                    <a:pt x="590" y="100"/>
                  </a:lnTo>
                  <a:lnTo>
                    <a:pt x="635" y="116"/>
                  </a:lnTo>
                  <a:lnTo>
                    <a:pt x="677" y="136"/>
                  </a:lnTo>
                  <a:lnTo>
                    <a:pt x="719" y="158"/>
                  </a:lnTo>
                  <a:lnTo>
                    <a:pt x="759" y="182"/>
                  </a:lnTo>
                  <a:lnTo>
                    <a:pt x="796" y="208"/>
                  </a:lnTo>
                  <a:lnTo>
                    <a:pt x="796" y="161"/>
                  </a:lnTo>
                  <a:lnTo>
                    <a:pt x="759" y="135"/>
                  </a:lnTo>
                  <a:lnTo>
                    <a:pt x="719" y="112"/>
                  </a:lnTo>
                  <a:lnTo>
                    <a:pt x="677" y="91"/>
                  </a:lnTo>
                  <a:lnTo>
                    <a:pt x="634" y="74"/>
                  </a:lnTo>
                  <a:lnTo>
                    <a:pt x="590" y="57"/>
                  </a:lnTo>
                  <a:lnTo>
                    <a:pt x="546" y="45"/>
                  </a:lnTo>
                  <a:lnTo>
                    <a:pt x="502" y="33"/>
                  </a:lnTo>
                  <a:lnTo>
                    <a:pt x="461" y="25"/>
                  </a:lnTo>
                  <a:lnTo>
                    <a:pt x="420" y="17"/>
                  </a:lnTo>
                  <a:lnTo>
                    <a:pt x="384" y="11"/>
                  </a:lnTo>
                  <a:lnTo>
                    <a:pt x="349" y="7"/>
                  </a:lnTo>
                  <a:lnTo>
                    <a:pt x="319" y="5"/>
                  </a:lnTo>
                  <a:lnTo>
                    <a:pt x="294" y="2"/>
                  </a:lnTo>
                  <a:lnTo>
                    <a:pt x="274" y="1"/>
                  </a:lnTo>
                  <a:lnTo>
                    <a:pt x="259" y="0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2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2" name=""/>
            <p:cNvSpPr/>
            <p:nvPr/>
          </p:nvSpPr>
          <p:spPr>
            <a:xfrm>
              <a:off x="5822640" y="6393240"/>
              <a:ext cx="938160" cy="212400"/>
            </a:xfrm>
            <a:custGeom>
              <a:avLst/>
              <a:gdLst/>
              <a:ahLst/>
              <a:rect l="l" t="t" r="r" b="b"/>
              <a:pathLst>
                <a:path w="796" h="307">
                  <a:moveTo>
                    <a:pt x="0" y="32"/>
                  </a:moveTo>
                  <a:lnTo>
                    <a:pt x="6" y="32"/>
                  </a:lnTo>
                  <a:lnTo>
                    <a:pt x="16" y="32"/>
                  </a:lnTo>
                  <a:lnTo>
                    <a:pt x="29" y="32"/>
                  </a:lnTo>
                  <a:lnTo>
                    <a:pt x="45" y="32"/>
                  </a:lnTo>
                  <a:lnTo>
                    <a:pt x="63" y="32"/>
                  </a:lnTo>
                  <a:lnTo>
                    <a:pt x="83" y="32"/>
                  </a:lnTo>
                  <a:lnTo>
                    <a:pt x="105" y="32"/>
                  </a:lnTo>
                  <a:lnTo>
                    <a:pt x="127" y="32"/>
                  </a:lnTo>
                  <a:lnTo>
                    <a:pt x="147" y="32"/>
                  </a:lnTo>
                  <a:lnTo>
                    <a:pt x="169" y="32"/>
                  </a:lnTo>
                  <a:lnTo>
                    <a:pt x="189" y="32"/>
                  </a:lnTo>
                  <a:lnTo>
                    <a:pt x="207" y="32"/>
                  </a:lnTo>
                  <a:lnTo>
                    <a:pt x="223" y="32"/>
                  </a:lnTo>
                  <a:lnTo>
                    <a:pt x="236" y="32"/>
                  </a:lnTo>
                  <a:lnTo>
                    <a:pt x="246" y="32"/>
                  </a:lnTo>
                  <a:lnTo>
                    <a:pt x="252" y="32"/>
                  </a:lnTo>
                  <a:lnTo>
                    <a:pt x="299" y="33"/>
                  </a:lnTo>
                  <a:lnTo>
                    <a:pt x="346" y="39"/>
                  </a:lnTo>
                  <a:lnTo>
                    <a:pt x="390" y="46"/>
                  </a:lnTo>
                  <a:lnTo>
                    <a:pt x="433" y="56"/>
                  </a:lnTo>
                  <a:lnTo>
                    <a:pt x="473" y="69"/>
                  </a:lnTo>
                  <a:lnTo>
                    <a:pt x="514" y="85"/>
                  </a:lnTo>
                  <a:lnTo>
                    <a:pt x="551" y="101"/>
                  </a:lnTo>
                  <a:lnTo>
                    <a:pt x="586" y="120"/>
                  </a:lnTo>
                  <a:lnTo>
                    <a:pt x="620" y="140"/>
                  </a:lnTo>
                  <a:lnTo>
                    <a:pt x="652" y="162"/>
                  </a:lnTo>
                  <a:lnTo>
                    <a:pt x="681" y="185"/>
                  </a:lnTo>
                  <a:lnTo>
                    <a:pt x="708" y="209"/>
                  </a:lnTo>
                  <a:lnTo>
                    <a:pt x="734" y="233"/>
                  </a:lnTo>
                  <a:lnTo>
                    <a:pt x="757" y="257"/>
                  </a:lnTo>
                  <a:lnTo>
                    <a:pt x="778" y="283"/>
                  </a:lnTo>
                  <a:lnTo>
                    <a:pt x="796" y="307"/>
                  </a:lnTo>
                  <a:lnTo>
                    <a:pt x="796" y="255"/>
                  </a:lnTo>
                  <a:lnTo>
                    <a:pt x="778" y="231"/>
                  </a:lnTo>
                  <a:lnTo>
                    <a:pt x="757" y="208"/>
                  </a:lnTo>
                  <a:lnTo>
                    <a:pt x="734" y="184"/>
                  </a:lnTo>
                  <a:lnTo>
                    <a:pt x="708" y="161"/>
                  </a:lnTo>
                  <a:lnTo>
                    <a:pt x="681" y="139"/>
                  </a:lnTo>
                  <a:lnTo>
                    <a:pt x="652" y="118"/>
                  </a:lnTo>
                  <a:lnTo>
                    <a:pt x="620" y="99"/>
                  </a:lnTo>
                  <a:lnTo>
                    <a:pt x="586" y="79"/>
                  </a:lnTo>
                  <a:lnTo>
                    <a:pt x="551" y="62"/>
                  </a:lnTo>
                  <a:lnTo>
                    <a:pt x="514" y="47"/>
                  </a:lnTo>
                  <a:lnTo>
                    <a:pt x="473" y="33"/>
                  </a:lnTo>
                  <a:lnTo>
                    <a:pt x="433" y="21"/>
                  </a:lnTo>
                  <a:lnTo>
                    <a:pt x="390" y="12"/>
                  </a:lnTo>
                  <a:lnTo>
                    <a:pt x="346" y="5"/>
                  </a:lnTo>
                  <a:lnTo>
                    <a:pt x="299" y="1"/>
                  </a:lnTo>
                  <a:lnTo>
                    <a:pt x="252" y="0"/>
                  </a:lnTo>
                  <a:lnTo>
                    <a:pt x="246" y="0"/>
                  </a:lnTo>
                  <a:lnTo>
                    <a:pt x="236" y="0"/>
                  </a:lnTo>
                  <a:lnTo>
                    <a:pt x="223" y="0"/>
                  </a:lnTo>
                  <a:lnTo>
                    <a:pt x="207" y="0"/>
                  </a:lnTo>
                  <a:lnTo>
                    <a:pt x="189" y="0"/>
                  </a:lnTo>
                  <a:lnTo>
                    <a:pt x="169" y="0"/>
                  </a:lnTo>
                  <a:lnTo>
                    <a:pt x="147" y="0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3" y="0"/>
                  </a:lnTo>
                  <a:lnTo>
                    <a:pt x="63" y="0"/>
                  </a:lnTo>
                  <a:lnTo>
                    <a:pt x="45" y="0"/>
                  </a:lnTo>
                  <a:lnTo>
                    <a:pt x="29" y="0"/>
                  </a:lnTo>
                  <a:lnTo>
                    <a:pt x="16" y="0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3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4398480" y="6256440"/>
              <a:ext cx="5652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448344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457344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4398480" y="630468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4398480" y="639324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4648680" y="6256440"/>
              <a:ext cx="5652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5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473112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0" name=""/>
            <p:cNvSpPr/>
            <p:nvPr/>
          </p:nvSpPr>
          <p:spPr>
            <a:xfrm>
              <a:off x="482292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1" name=""/>
            <p:cNvSpPr/>
            <p:nvPr/>
          </p:nvSpPr>
          <p:spPr>
            <a:xfrm>
              <a:off x="4648680" y="630468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4648680" y="639324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4898520" y="6256440"/>
              <a:ext cx="5652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498132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507060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4898520" y="630468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4898520" y="639324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8" name=""/>
            <p:cNvSpPr/>
            <p:nvPr/>
          </p:nvSpPr>
          <p:spPr>
            <a:xfrm>
              <a:off x="5145840" y="6256440"/>
              <a:ext cx="5904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9" name=""/>
            <p:cNvSpPr/>
            <p:nvPr/>
          </p:nvSpPr>
          <p:spPr>
            <a:xfrm>
              <a:off x="523080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532080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5145840" y="6304680"/>
              <a:ext cx="25488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5145840" y="6393240"/>
              <a:ext cx="25488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539604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6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6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5480640" y="6256440"/>
              <a:ext cx="5904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557028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5396040" y="630468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5396040" y="639324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564552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50" h="263">
                  <a:moveTo>
                    <a:pt x="24" y="0"/>
                  </a:moveTo>
                  <a:lnTo>
                    <a:pt x="50" y="57"/>
                  </a:lnTo>
                  <a:lnTo>
                    <a:pt x="50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5730840" y="6256440"/>
              <a:ext cx="5868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5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5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5820120" y="6256440"/>
              <a:ext cx="59040" cy="182160"/>
            </a:xfrm>
            <a:custGeom>
              <a:avLst/>
              <a:gdLst/>
              <a:ahLst/>
              <a:rect l="l" t="t" r="r" b="b"/>
              <a:pathLst>
                <a:path w="49" h="263">
                  <a:moveTo>
                    <a:pt x="24" y="0"/>
                  </a:moveTo>
                  <a:lnTo>
                    <a:pt x="49" y="57"/>
                  </a:lnTo>
                  <a:lnTo>
                    <a:pt x="49" y="263"/>
                  </a:lnTo>
                  <a:lnTo>
                    <a:pt x="0" y="263"/>
                  </a:lnTo>
                  <a:lnTo>
                    <a:pt x="0" y="57"/>
                  </a:lnTo>
                  <a:lnTo>
                    <a:pt x="24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1" name=""/>
            <p:cNvSpPr/>
            <p:nvPr/>
          </p:nvSpPr>
          <p:spPr>
            <a:xfrm>
              <a:off x="5645520" y="630468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2" name=""/>
            <p:cNvSpPr/>
            <p:nvPr/>
          </p:nvSpPr>
          <p:spPr>
            <a:xfrm>
              <a:off x="5645520" y="6393240"/>
              <a:ext cx="252000" cy="205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5893200" y="5966640"/>
              <a:ext cx="716760" cy="579600"/>
            </a:xfrm>
            <a:custGeom>
              <a:avLst/>
              <a:gdLst/>
              <a:ahLst/>
              <a:rect l="l" t="t" r="r" b="b"/>
              <a:pathLst>
                <a:path w="607" h="841">
                  <a:moveTo>
                    <a:pt x="0" y="379"/>
                  </a:moveTo>
                  <a:lnTo>
                    <a:pt x="15" y="383"/>
                  </a:lnTo>
                  <a:lnTo>
                    <a:pt x="32" y="386"/>
                  </a:lnTo>
                  <a:lnTo>
                    <a:pt x="52" y="391"/>
                  </a:lnTo>
                  <a:lnTo>
                    <a:pt x="73" y="397"/>
                  </a:lnTo>
                  <a:lnTo>
                    <a:pt x="93" y="405"/>
                  </a:lnTo>
                  <a:lnTo>
                    <a:pt x="116" y="415"/>
                  </a:lnTo>
                  <a:lnTo>
                    <a:pt x="138" y="429"/>
                  </a:lnTo>
                  <a:lnTo>
                    <a:pt x="160" y="447"/>
                  </a:lnTo>
                  <a:lnTo>
                    <a:pt x="181" y="471"/>
                  </a:lnTo>
                  <a:lnTo>
                    <a:pt x="202" y="501"/>
                  </a:lnTo>
                  <a:lnTo>
                    <a:pt x="219" y="537"/>
                  </a:lnTo>
                  <a:lnTo>
                    <a:pt x="235" y="580"/>
                  </a:lnTo>
                  <a:lnTo>
                    <a:pt x="248" y="631"/>
                  </a:lnTo>
                  <a:lnTo>
                    <a:pt x="258" y="691"/>
                  </a:lnTo>
                  <a:lnTo>
                    <a:pt x="264" y="761"/>
                  </a:lnTo>
                  <a:lnTo>
                    <a:pt x="266" y="841"/>
                  </a:lnTo>
                  <a:lnTo>
                    <a:pt x="301" y="841"/>
                  </a:lnTo>
                  <a:lnTo>
                    <a:pt x="301" y="815"/>
                  </a:lnTo>
                  <a:lnTo>
                    <a:pt x="301" y="787"/>
                  </a:lnTo>
                  <a:lnTo>
                    <a:pt x="301" y="756"/>
                  </a:lnTo>
                  <a:lnTo>
                    <a:pt x="302" y="722"/>
                  </a:lnTo>
                  <a:lnTo>
                    <a:pt x="304" y="687"/>
                  </a:lnTo>
                  <a:lnTo>
                    <a:pt x="310" y="651"/>
                  </a:lnTo>
                  <a:lnTo>
                    <a:pt x="318" y="613"/>
                  </a:lnTo>
                  <a:lnTo>
                    <a:pt x="329" y="576"/>
                  </a:lnTo>
                  <a:lnTo>
                    <a:pt x="344" y="539"/>
                  </a:lnTo>
                  <a:lnTo>
                    <a:pt x="364" y="504"/>
                  </a:lnTo>
                  <a:lnTo>
                    <a:pt x="388" y="468"/>
                  </a:lnTo>
                  <a:lnTo>
                    <a:pt x="419" y="435"/>
                  </a:lnTo>
                  <a:lnTo>
                    <a:pt x="455" y="405"/>
                  </a:lnTo>
                  <a:lnTo>
                    <a:pt x="499" y="376"/>
                  </a:lnTo>
                  <a:lnTo>
                    <a:pt x="548" y="351"/>
                  </a:lnTo>
                  <a:lnTo>
                    <a:pt x="607" y="330"/>
                  </a:lnTo>
                  <a:lnTo>
                    <a:pt x="597" y="332"/>
                  </a:lnTo>
                  <a:lnTo>
                    <a:pt x="584" y="336"/>
                  </a:lnTo>
                  <a:lnTo>
                    <a:pt x="570" y="339"/>
                  </a:lnTo>
                  <a:lnTo>
                    <a:pt x="554" y="344"/>
                  </a:lnTo>
                  <a:lnTo>
                    <a:pt x="536" y="351"/>
                  </a:lnTo>
                  <a:lnTo>
                    <a:pt x="517" y="359"/>
                  </a:lnTo>
                  <a:lnTo>
                    <a:pt x="498" y="368"/>
                  </a:lnTo>
                  <a:lnTo>
                    <a:pt x="477" y="378"/>
                  </a:lnTo>
                  <a:lnTo>
                    <a:pt x="456" y="392"/>
                  </a:lnTo>
                  <a:lnTo>
                    <a:pt x="434" y="408"/>
                  </a:lnTo>
                  <a:lnTo>
                    <a:pt x="414" y="426"/>
                  </a:lnTo>
                  <a:lnTo>
                    <a:pt x="394" y="447"/>
                  </a:lnTo>
                  <a:lnTo>
                    <a:pt x="373" y="471"/>
                  </a:lnTo>
                  <a:lnTo>
                    <a:pt x="355" y="498"/>
                  </a:lnTo>
                  <a:lnTo>
                    <a:pt x="338" y="528"/>
                  </a:lnTo>
                  <a:lnTo>
                    <a:pt x="321" y="562"/>
                  </a:lnTo>
                  <a:lnTo>
                    <a:pt x="324" y="550"/>
                  </a:lnTo>
                  <a:lnTo>
                    <a:pt x="326" y="533"/>
                  </a:lnTo>
                  <a:lnTo>
                    <a:pt x="328" y="514"/>
                  </a:lnTo>
                  <a:lnTo>
                    <a:pt x="332" y="491"/>
                  </a:lnTo>
                  <a:lnTo>
                    <a:pt x="335" y="464"/>
                  </a:lnTo>
                  <a:lnTo>
                    <a:pt x="341" y="437"/>
                  </a:lnTo>
                  <a:lnTo>
                    <a:pt x="348" y="407"/>
                  </a:lnTo>
                  <a:lnTo>
                    <a:pt x="356" y="375"/>
                  </a:lnTo>
                  <a:lnTo>
                    <a:pt x="366" y="341"/>
                  </a:lnTo>
                  <a:lnTo>
                    <a:pt x="379" y="306"/>
                  </a:lnTo>
                  <a:lnTo>
                    <a:pt x="394" y="270"/>
                  </a:lnTo>
                  <a:lnTo>
                    <a:pt x="411" y="234"/>
                  </a:lnTo>
                  <a:lnTo>
                    <a:pt x="431" y="196"/>
                  </a:lnTo>
                  <a:lnTo>
                    <a:pt x="454" y="160"/>
                  </a:lnTo>
                  <a:lnTo>
                    <a:pt x="480" y="123"/>
                  </a:lnTo>
                  <a:lnTo>
                    <a:pt x="510" y="87"/>
                  </a:lnTo>
                  <a:lnTo>
                    <a:pt x="486" y="109"/>
                  </a:lnTo>
                  <a:lnTo>
                    <a:pt x="467" y="131"/>
                  </a:lnTo>
                  <a:lnTo>
                    <a:pt x="449" y="153"/>
                  </a:lnTo>
                  <a:lnTo>
                    <a:pt x="434" y="175"/>
                  </a:lnTo>
                  <a:lnTo>
                    <a:pt x="422" y="196"/>
                  </a:lnTo>
                  <a:lnTo>
                    <a:pt x="411" y="216"/>
                  </a:lnTo>
                  <a:lnTo>
                    <a:pt x="402" y="234"/>
                  </a:lnTo>
                  <a:lnTo>
                    <a:pt x="394" y="250"/>
                  </a:lnTo>
                  <a:lnTo>
                    <a:pt x="394" y="233"/>
                  </a:lnTo>
                  <a:lnTo>
                    <a:pt x="396" y="208"/>
                  </a:lnTo>
                  <a:lnTo>
                    <a:pt x="400" y="179"/>
                  </a:lnTo>
                  <a:lnTo>
                    <a:pt x="406" y="146"/>
                  </a:lnTo>
                  <a:lnTo>
                    <a:pt x="412" y="114"/>
                  </a:lnTo>
                  <a:lnTo>
                    <a:pt x="420" y="82"/>
                  </a:lnTo>
                  <a:lnTo>
                    <a:pt x="430" y="57"/>
                  </a:lnTo>
                  <a:lnTo>
                    <a:pt x="440" y="38"/>
                  </a:lnTo>
                  <a:lnTo>
                    <a:pt x="430" y="53"/>
                  </a:lnTo>
                  <a:lnTo>
                    <a:pt x="419" y="73"/>
                  </a:lnTo>
                  <a:lnTo>
                    <a:pt x="410" y="97"/>
                  </a:lnTo>
                  <a:lnTo>
                    <a:pt x="402" y="126"/>
                  </a:lnTo>
                  <a:lnTo>
                    <a:pt x="394" y="158"/>
                  </a:lnTo>
                  <a:lnTo>
                    <a:pt x="389" y="192"/>
                  </a:lnTo>
                  <a:lnTo>
                    <a:pt x="385" y="227"/>
                  </a:lnTo>
                  <a:lnTo>
                    <a:pt x="384" y="263"/>
                  </a:lnTo>
                  <a:lnTo>
                    <a:pt x="374" y="283"/>
                  </a:lnTo>
                  <a:lnTo>
                    <a:pt x="362" y="315"/>
                  </a:lnTo>
                  <a:lnTo>
                    <a:pt x="346" y="359"/>
                  </a:lnTo>
                  <a:lnTo>
                    <a:pt x="329" y="410"/>
                  </a:lnTo>
                  <a:lnTo>
                    <a:pt x="313" y="468"/>
                  </a:lnTo>
                  <a:lnTo>
                    <a:pt x="300" y="529"/>
                  </a:lnTo>
                  <a:lnTo>
                    <a:pt x="289" y="590"/>
                  </a:lnTo>
                  <a:lnTo>
                    <a:pt x="283" y="650"/>
                  </a:lnTo>
                  <a:lnTo>
                    <a:pt x="274" y="617"/>
                  </a:lnTo>
                  <a:lnTo>
                    <a:pt x="265" y="581"/>
                  </a:lnTo>
                  <a:lnTo>
                    <a:pt x="257" y="538"/>
                  </a:lnTo>
                  <a:lnTo>
                    <a:pt x="249" y="491"/>
                  </a:lnTo>
                  <a:lnTo>
                    <a:pt x="244" y="440"/>
                  </a:lnTo>
                  <a:lnTo>
                    <a:pt x="242" y="386"/>
                  </a:lnTo>
                  <a:lnTo>
                    <a:pt x="245" y="330"/>
                  </a:lnTo>
                  <a:lnTo>
                    <a:pt x="253" y="271"/>
                  </a:lnTo>
                  <a:lnTo>
                    <a:pt x="265" y="216"/>
                  </a:lnTo>
                  <a:lnTo>
                    <a:pt x="276" y="168"/>
                  </a:lnTo>
                  <a:lnTo>
                    <a:pt x="287" y="125"/>
                  </a:lnTo>
                  <a:lnTo>
                    <a:pt x="297" y="89"/>
                  </a:lnTo>
                  <a:lnTo>
                    <a:pt x="308" y="59"/>
                  </a:lnTo>
                  <a:lnTo>
                    <a:pt x="318" y="34"/>
                  </a:lnTo>
                  <a:lnTo>
                    <a:pt x="326" y="15"/>
                  </a:lnTo>
                  <a:lnTo>
                    <a:pt x="334" y="0"/>
                  </a:lnTo>
                  <a:lnTo>
                    <a:pt x="326" y="15"/>
                  </a:lnTo>
                  <a:lnTo>
                    <a:pt x="313" y="39"/>
                  </a:lnTo>
                  <a:lnTo>
                    <a:pt x="300" y="72"/>
                  </a:lnTo>
                  <a:lnTo>
                    <a:pt x="285" y="111"/>
                  </a:lnTo>
                  <a:lnTo>
                    <a:pt x="270" y="155"/>
                  </a:lnTo>
                  <a:lnTo>
                    <a:pt x="257" y="200"/>
                  </a:lnTo>
                  <a:lnTo>
                    <a:pt x="248" y="245"/>
                  </a:lnTo>
                  <a:lnTo>
                    <a:pt x="243" y="288"/>
                  </a:lnTo>
                  <a:lnTo>
                    <a:pt x="233" y="263"/>
                  </a:lnTo>
                  <a:lnTo>
                    <a:pt x="218" y="234"/>
                  </a:lnTo>
                  <a:lnTo>
                    <a:pt x="200" y="206"/>
                  </a:lnTo>
                  <a:lnTo>
                    <a:pt x="182" y="175"/>
                  </a:lnTo>
                  <a:lnTo>
                    <a:pt x="165" y="145"/>
                  </a:lnTo>
                  <a:lnTo>
                    <a:pt x="150" y="116"/>
                  </a:lnTo>
                  <a:lnTo>
                    <a:pt x="139" y="88"/>
                  </a:lnTo>
                  <a:lnTo>
                    <a:pt x="136" y="63"/>
                  </a:lnTo>
                  <a:lnTo>
                    <a:pt x="136" y="86"/>
                  </a:lnTo>
                  <a:lnTo>
                    <a:pt x="145" y="116"/>
                  </a:lnTo>
                  <a:lnTo>
                    <a:pt x="160" y="152"/>
                  </a:lnTo>
                  <a:lnTo>
                    <a:pt x="180" y="189"/>
                  </a:lnTo>
                  <a:lnTo>
                    <a:pt x="199" y="227"/>
                  </a:lnTo>
                  <a:lnTo>
                    <a:pt x="217" y="261"/>
                  </a:lnTo>
                  <a:lnTo>
                    <a:pt x="230" y="290"/>
                  </a:lnTo>
                  <a:lnTo>
                    <a:pt x="236" y="309"/>
                  </a:lnTo>
                  <a:lnTo>
                    <a:pt x="233" y="336"/>
                  </a:lnTo>
                  <a:lnTo>
                    <a:pt x="229" y="363"/>
                  </a:lnTo>
                  <a:lnTo>
                    <a:pt x="226" y="390"/>
                  </a:lnTo>
                  <a:lnTo>
                    <a:pt x="226" y="414"/>
                  </a:lnTo>
                  <a:lnTo>
                    <a:pt x="204" y="392"/>
                  </a:lnTo>
                  <a:lnTo>
                    <a:pt x="181" y="366"/>
                  </a:lnTo>
                  <a:lnTo>
                    <a:pt x="158" y="334"/>
                  </a:lnTo>
                  <a:lnTo>
                    <a:pt x="136" y="299"/>
                  </a:lnTo>
                  <a:lnTo>
                    <a:pt x="119" y="259"/>
                  </a:lnTo>
                  <a:lnTo>
                    <a:pt x="107" y="214"/>
                  </a:lnTo>
                  <a:lnTo>
                    <a:pt x="101" y="163"/>
                  </a:lnTo>
                  <a:lnTo>
                    <a:pt x="105" y="108"/>
                  </a:lnTo>
                  <a:lnTo>
                    <a:pt x="99" y="134"/>
                  </a:lnTo>
                  <a:lnTo>
                    <a:pt x="98" y="171"/>
                  </a:lnTo>
                  <a:lnTo>
                    <a:pt x="100" y="212"/>
                  </a:lnTo>
                  <a:lnTo>
                    <a:pt x="107" y="252"/>
                  </a:lnTo>
                  <a:lnTo>
                    <a:pt x="94" y="240"/>
                  </a:lnTo>
                  <a:lnTo>
                    <a:pt x="82" y="224"/>
                  </a:lnTo>
                  <a:lnTo>
                    <a:pt x="70" y="206"/>
                  </a:lnTo>
                  <a:lnTo>
                    <a:pt x="61" y="185"/>
                  </a:lnTo>
                  <a:lnTo>
                    <a:pt x="52" y="164"/>
                  </a:lnTo>
                  <a:lnTo>
                    <a:pt x="45" y="145"/>
                  </a:lnTo>
                  <a:lnTo>
                    <a:pt x="41" y="128"/>
                  </a:lnTo>
                  <a:lnTo>
                    <a:pt x="39" y="116"/>
                  </a:lnTo>
                  <a:lnTo>
                    <a:pt x="39" y="130"/>
                  </a:lnTo>
                  <a:lnTo>
                    <a:pt x="43" y="148"/>
                  </a:lnTo>
                  <a:lnTo>
                    <a:pt x="47" y="169"/>
                  </a:lnTo>
                  <a:lnTo>
                    <a:pt x="55" y="191"/>
                  </a:lnTo>
                  <a:lnTo>
                    <a:pt x="66" y="214"/>
                  </a:lnTo>
                  <a:lnTo>
                    <a:pt x="78" y="234"/>
                  </a:lnTo>
                  <a:lnTo>
                    <a:pt x="94" y="254"/>
                  </a:lnTo>
                  <a:lnTo>
                    <a:pt x="113" y="269"/>
                  </a:lnTo>
                  <a:lnTo>
                    <a:pt x="119" y="285"/>
                  </a:lnTo>
                  <a:lnTo>
                    <a:pt x="127" y="301"/>
                  </a:lnTo>
                  <a:lnTo>
                    <a:pt x="134" y="318"/>
                  </a:lnTo>
                  <a:lnTo>
                    <a:pt x="143" y="333"/>
                  </a:lnTo>
                  <a:lnTo>
                    <a:pt x="151" y="348"/>
                  </a:lnTo>
                  <a:lnTo>
                    <a:pt x="160" y="361"/>
                  </a:lnTo>
                  <a:lnTo>
                    <a:pt x="169" y="372"/>
                  </a:lnTo>
                  <a:lnTo>
                    <a:pt x="177" y="382"/>
                  </a:lnTo>
                  <a:lnTo>
                    <a:pt x="185" y="389"/>
                  </a:lnTo>
                  <a:lnTo>
                    <a:pt x="194" y="397"/>
                  </a:lnTo>
                  <a:lnTo>
                    <a:pt x="203" y="407"/>
                  </a:lnTo>
                  <a:lnTo>
                    <a:pt x="211" y="420"/>
                  </a:lnTo>
                  <a:lnTo>
                    <a:pt x="219" y="438"/>
                  </a:lnTo>
                  <a:lnTo>
                    <a:pt x="227" y="462"/>
                  </a:lnTo>
                  <a:lnTo>
                    <a:pt x="233" y="496"/>
                  </a:lnTo>
                  <a:lnTo>
                    <a:pt x="238" y="537"/>
                  </a:lnTo>
                  <a:lnTo>
                    <a:pt x="230" y="521"/>
                  </a:lnTo>
                  <a:lnTo>
                    <a:pt x="221" y="502"/>
                  </a:lnTo>
                  <a:lnTo>
                    <a:pt x="210" y="485"/>
                  </a:lnTo>
                  <a:lnTo>
                    <a:pt x="197" y="468"/>
                  </a:lnTo>
                  <a:lnTo>
                    <a:pt x="184" y="453"/>
                  </a:lnTo>
                  <a:lnTo>
                    <a:pt x="173" y="439"/>
                  </a:lnTo>
                  <a:lnTo>
                    <a:pt x="164" y="429"/>
                  </a:lnTo>
                  <a:lnTo>
                    <a:pt x="156" y="422"/>
                  </a:lnTo>
                  <a:lnTo>
                    <a:pt x="145" y="405"/>
                  </a:lnTo>
                  <a:lnTo>
                    <a:pt x="134" y="379"/>
                  </a:lnTo>
                  <a:lnTo>
                    <a:pt x="126" y="357"/>
                  </a:lnTo>
                  <a:lnTo>
                    <a:pt x="122" y="348"/>
                  </a:lnTo>
                  <a:lnTo>
                    <a:pt x="124" y="366"/>
                  </a:lnTo>
                  <a:lnTo>
                    <a:pt x="130" y="387"/>
                  </a:lnTo>
                  <a:lnTo>
                    <a:pt x="136" y="406"/>
                  </a:lnTo>
                  <a:lnTo>
                    <a:pt x="138" y="414"/>
                  </a:lnTo>
                  <a:lnTo>
                    <a:pt x="122" y="406"/>
                  </a:lnTo>
                  <a:lnTo>
                    <a:pt x="105" y="398"/>
                  </a:lnTo>
                  <a:lnTo>
                    <a:pt x="86" y="391"/>
                  </a:lnTo>
                  <a:lnTo>
                    <a:pt x="67" y="386"/>
                  </a:lnTo>
                  <a:lnTo>
                    <a:pt x="48" y="382"/>
                  </a:lnTo>
                  <a:lnTo>
                    <a:pt x="30" y="379"/>
                  </a:lnTo>
                  <a:lnTo>
                    <a:pt x="14" y="378"/>
                  </a:lnTo>
                  <a:lnTo>
                    <a:pt x="0" y="379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5690520" y="5877000"/>
              <a:ext cx="1003680" cy="423720"/>
            </a:xfrm>
            <a:custGeom>
              <a:avLst/>
              <a:gdLst/>
              <a:ahLst/>
              <a:rect l="l" t="t" r="r" b="b"/>
              <a:pathLst>
                <a:path w="854" h="614">
                  <a:moveTo>
                    <a:pt x="393" y="145"/>
                  </a:moveTo>
                  <a:lnTo>
                    <a:pt x="396" y="135"/>
                  </a:lnTo>
                  <a:lnTo>
                    <a:pt x="396" y="123"/>
                  </a:lnTo>
                  <a:lnTo>
                    <a:pt x="394" y="108"/>
                  </a:lnTo>
                  <a:lnTo>
                    <a:pt x="388" y="94"/>
                  </a:lnTo>
                  <a:lnTo>
                    <a:pt x="380" y="81"/>
                  </a:lnTo>
                  <a:lnTo>
                    <a:pt x="371" y="71"/>
                  </a:lnTo>
                  <a:lnTo>
                    <a:pt x="361" y="66"/>
                  </a:lnTo>
                  <a:lnTo>
                    <a:pt x="349" y="67"/>
                  </a:lnTo>
                  <a:lnTo>
                    <a:pt x="355" y="61"/>
                  </a:lnTo>
                  <a:lnTo>
                    <a:pt x="358" y="55"/>
                  </a:lnTo>
                  <a:lnTo>
                    <a:pt x="357" y="50"/>
                  </a:lnTo>
                  <a:lnTo>
                    <a:pt x="354" y="46"/>
                  </a:lnTo>
                  <a:lnTo>
                    <a:pt x="348" y="42"/>
                  </a:lnTo>
                  <a:lnTo>
                    <a:pt x="339" y="40"/>
                  </a:lnTo>
                  <a:lnTo>
                    <a:pt x="330" y="40"/>
                  </a:lnTo>
                  <a:lnTo>
                    <a:pt x="317" y="40"/>
                  </a:lnTo>
                  <a:lnTo>
                    <a:pt x="304" y="41"/>
                  </a:lnTo>
                  <a:lnTo>
                    <a:pt x="290" y="44"/>
                  </a:lnTo>
                  <a:lnTo>
                    <a:pt x="275" y="50"/>
                  </a:lnTo>
                  <a:lnTo>
                    <a:pt x="260" y="57"/>
                  </a:lnTo>
                  <a:lnTo>
                    <a:pt x="245" y="65"/>
                  </a:lnTo>
                  <a:lnTo>
                    <a:pt x="230" y="77"/>
                  </a:lnTo>
                  <a:lnTo>
                    <a:pt x="217" y="89"/>
                  </a:lnTo>
                  <a:lnTo>
                    <a:pt x="204" y="104"/>
                  </a:lnTo>
                  <a:lnTo>
                    <a:pt x="191" y="105"/>
                  </a:lnTo>
                  <a:lnTo>
                    <a:pt x="179" y="111"/>
                  </a:lnTo>
                  <a:lnTo>
                    <a:pt x="165" y="120"/>
                  </a:lnTo>
                  <a:lnTo>
                    <a:pt x="153" y="133"/>
                  </a:lnTo>
                  <a:lnTo>
                    <a:pt x="145" y="147"/>
                  </a:lnTo>
                  <a:lnTo>
                    <a:pt x="142" y="161"/>
                  </a:lnTo>
                  <a:lnTo>
                    <a:pt x="145" y="173"/>
                  </a:lnTo>
                  <a:lnTo>
                    <a:pt x="156" y="183"/>
                  </a:lnTo>
                  <a:lnTo>
                    <a:pt x="138" y="194"/>
                  </a:lnTo>
                  <a:lnTo>
                    <a:pt x="127" y="207"/>
                  </a:lnTo>
                  <a:lnTo>
                    <a:pt x="121" y="221"/>
                  </a:lnTo>
                  <a:lnTo>
                    <a:pt x="119" y="233"/>
                  </a:lnTo>
                  <a:lnTo>
                    <a:pt x="121" y="246"/>
                  </a:lnTo>
                  <a:lnTo>
                    <a:pt x="127" y="257"/>
                  </a:lnTo>
                  <a:lnTo>
                    <a:pt x="135" y="268"/>
                  </a:lnTo>
                  <a:lnTo>
                    <a:pt x="145" y="277"/>
                  </a:lnTo>
                  <a:lnTo>
                    <a:pt x="158" y="284"/>
                  </a:lnTo>
                  <a:lnTo>
                    <a:pt x="171" y="288"/>
                  </a:lnTo>
                  <a:lnTo>
                    <a:pt x="184" y="290"/>
                  </a:lnTo>
                  <a:lnTo>
                    <a:pt x="198" y="287"/>
                  </a:lnTo>
                  <a:lnTo>
                    <a:pt x="211" y="282"/>
                  </a:lnTo>
                  <a:lnTo>
                    <a:pt x="222" y="272"/>
                  </a:lnTo>
                  <a:lnTo>
                    <a:pt x="232" y="257"/>
                  </a:lnTo>
                  <a:lnTo>
                    <a:pt x="238" y="238"/>
                  </a:lnTo>
                  <a:lnTo>
                    <a:pt x="245" y="248"/>
                  </a:lnTo>
                  <a:lnTo>
                    <a:pt x="256" y="255"/>
                  </a:lnTo>
                  <a:lnTo>
                    <a:pt x="270" y="258"/>
                  </a:lnTo>
                  <a:lnTo>
                    <a:pt x="285" y="257"/>
                  </a:lnTo>
                  <a:lnTo>
                    <a:pt x="300" y="253"/>
                  </a:lnTo>
                  <a:lnTo>
                    <a:pt x="312" y="244"/>
                  </a:lnTo>
                  <a:lnTo>
                    <a:pt x="324" y="231"/>
                  </a:lnTo>
                  <a:lnTo>
                    <a:pt x="332" y="215"/>
                  </a:lnTo>
                  <a:lnTo>
                    <a:pt x="338" y="227"/>
                  </a:lnTo>
                  <a:lnTo>
                    <a:pt x="344" y="237"/>
                  </a:lnTo>
                  <a:lnTo>
                    <a:pt x="350" y="244"/>
                  </a:lnTo>
                  <a:lnTo>
                    <a:pt x="353" y="246"/>
                  </a:lnTo>
                  <a:lnTo>
                    <a:pt x="336" y="260"/>
                  </a:lnTo>
                  <a:lnTo>
                    <a:pt x="327" y="278"/>
                  </a:lnTo>
                  <a:lnTo>
                    <a:pt x="323" y="296"/>
                  </a:lnTo>
                  <a:lnTo>
                    <a:pt x="324" y="310"/>
                  </a:lnTo>
                  <a:lnTo>
                    <a:pt x="315" y="308"/>
                  </a:lnTo>
                  <a:lnTo>
                    <a:pt x="301" y="307"/>
                  </a:lnTo>
                  <a:lnTo>
                    <a:pt x="282" y="309"/>
                  </a:lnTo>
                  <a:lnTo>
                    <a:pt x="262" y="313"/>
                  </a:lnTo>
                  <a:lnTo>
                    <a:pt x="240" y="318"/>
                  </a:lnTo>
                  <a:lnTo>
                    <a:pt x="220" y="328"/>
                  </a:lnTo>
                  <a:lnTo>
                    <a:pt x="202" y="338"/>
                  </a:lnTo>
                  <a:lnTo>
                    <a:pt x="189" y="351"/>
                  </a:lnTo>
                  <a:lnTo>
                    <a:pt x="185" y="337"/>
                  </a:lnTo>
                  <a:lnTo>
                    <a:pt x="172" y="325"/>
                  </a:lnTo>
                  <a:lnTo>
                    <a:pt x="150" y="317"/>
                  </a:lnTo>
                  <a:lnTo>
                    <a:pt x="123" y="314"/>
                  </a:lnTo>
                  <a:lnTo>
                    <a:pt x="93" y="316"/>
                  </a:lnTo>
                  <a:lnTo>
                    <a:pt x="65" y="326"/>
                  </a:lnTo>
                  <a:lnTo>
                    <a:pt x="38" y="345"/>
                  </a:lnTo>
                  <a:lnTo>
                    <a:pt x="17" y="374"/>
                  </a:lnTo>
                  <a:lnTo>
                    <a:pt x="9" y="392"/>
                  </a:lnTo>
                  <a:lnTo>
                    <a:pt x="5" y="412"/>
                  </a:lnTo>
                  <a:lnTo>
                    <a:pt x="1" y="432"/>
                  </a:lnTo>
                  <a:lnTo>
                    <a:pt x="0" y="453"/>
                  </a:lnTo>
                  <a:lnTo>
                    <a:pt x="2" y="474"/>
                  </a:lnTo>
                  <a:lnTo>
                    <a:pt x="7" y="493"/>
                  </a:lnTo>
                  <a:lnTo>
                    <a:pt x="15" y="512"/>
                  </a:lnTo>
                  <a:lnTo>
                    <a:pt x="25" y="528"/>
                  </a:lnTo>
                  <a:lnTo>
                    <a:pt x="38" y="540"/>
                  </a:lnTo>
                  <a:lnTo>
                    <a:pt x="54" y="551"/>
                  </a:lnTo>
                  <a:lnTo>
                    <a:pt x="74" y="558"/>
                  </a:lnTo>
                  <a:lnTo>
                    <a:pt x="97" y="559"/>
                  </a:lnTo>
                  <a:lnTo>
                    <a:pt x="122" y="555"/>
                  </a:lnTo>
                  <a:lnTo>
                    <a:pt x="152" y="547"/>
                  </a:lnTo>
                  <a:lnTo>
                    <a:pt x="184" y="531"/>
                  </a:lnTo>
                  <a:lnTo>
                    <a:pt x="221" y="509"/>
                  </a:lnTo>
                  <a:lnTo>
                    <a:pt x="241" y="517"/>
                  </a:lnTo>
                  <a:lnTo>
                    <a:pt x="263" y="520"/>
                  </a:lnTo>
                  <a:lnTo>
                    <a:pt x="285" y="517"/>
                  </a:lnTo>
                  <a:lnTo>
                    <a:pt x="306" y="513"/>
                  </a:lnTo>
                  <a:lnTo>
                    <a:pt x="326" y="505"/>
                  </a:lnTo>
                  <a:lnTo>
                    <a:pt x="343" y="494"/>
                  </a:lnTo>
                  <a:lnTo>
                    <a:pt x="357" y="483"/>
                  </a:lnTo>
                  <a:lnTo>
                    <a:pt x="364" y="471"/>
                  </a:lnTo>
                  <a:lnTo>
                    <a:pt x="369" y="483"/>
                  </a:lnTo>
                  <a:lnTo>
                    <a:pt x="378" y="490"/>
                  </a:lnTo>
                  <a:lnTo>
                    <a:pt x="392" y="493"/>
                  </a:lnTo>
                  <a:lnTo>
                    <a:pt x="407" y="492"/>
                  </a:lnTo>
                  <a:lnTo>
                    <a:pt x="424" y="489"/>
                  </a:lnTo>
                  <a:lnTo>
                    <a:pt x="439" y="482"/>
                  </a:lnTo>
                  <a:lnTo>
                    <a:pt x="453" y="471"/>
                  </a:lnTo>
                  <a:lnTo>
                    <a:pt x="463" y="459"/>
                  </a:lnTo>
                  <a:lnTo>
                    <a:pt x="459" y="478"/>
                  </a:lnTo>
                  <a:lnTo>
                    <a:pt x="452" y="501"/>
                  </a:lnTo>
                  <a:lnTo>
                    <a:pt x="448" y="527"/>
                  </a:lnTo>
                  <a:lnTo>
                    <a:pt x="448" y="551"/>
                  </a:lnTo>
                  <a:lnTo>
                    <a:pt x="456" y="574"/>
                  </a:lnTo>
                  <a:lnTo>
                    <a:pt x="472" y="593"/>
                  </a:lnTo>
                  <a:lnTo>
                    <a:pt x="502" y="607"/>
                  </a:lnTo>
                  <a:lnTo>
                    <a:pt x="546" y="614"/>
                  </a:lnTo>
                  <a:lnTo>
                    <a:pt x="593" y="614"/>
                  </a:lnTo>
                  <a:lnTo>
                    <a:pt x="629" y="612"/>
                  </a:lnTo>
                  <a:lnTo>
                    <a:pt x="657" y="606"/>
                  </a:lnTo>
                  <a:lnTo>
                    <a:pt x="676" y="597"/>
                  </a:lnTo>
                  <a:lnTo>
                    <a:pt x="690" y="588"/>
                  </a:lnTo>
                  <a:lnTo>
                    <a:pt x="697" y="576"/>
                  </a:lnTo>
                  <a:lnTo>
                    <a:pt x="702" y="563"/>
                  </a:lnTo>
                  <a:lnTo>
                    <a:pt x="704" y="550"/>
                  </a:lnTo>
                  <a:lnTo>
                    <a:pt x="702" y="531"/>
                  </a:lnTo>
                  <a:lnTo>
                    <a:pt x="692" y="513"/>
                  </a:lnTo>
                  <a:lnTo>
                    <a:pt x="677" y="494"/>
                  </a:lnTo>
                  <a:lnTo>
                    <a:pt x="659" y="481"/>
                  </a:lnTo>
                  <a:lnTo>
                    <a:pt x="637" y="469"/>
                  </a:lnTo>
                  <a:lnTo>
                    <a:pt x="615" y="463"/>
                  </a:lnTo>
                  <a:lnTo>
                    <a:pt x="594" y="464"/>
                  </a:lnTo>
                  <a:lnTo>
                    <a:pt x="576" y="474"/>
                  </a:lnTo>
                  <a:lnTo>
                    <a:pt x="586" y="467"/>
                  </a:lnTo>
                  <a:lnTo>
                    <a:pt x="604" y="460"/>
                  </a:lnTo>
                  <a:lnTo>
                    <a:pt x="626" y="456"/>
                  </a:lnTo>
                  <a:lnTo>
                    <a:pt x="649" y="455"/>
                  </a:lnTo>
                  <a:lnTo>
                    <a:pt x="673" y="459"/>
                  </a:lnTo>
                  <a:lnTo>
                    <a:pt x="695" y="469"/>
                  </a:lnTo>
                  <a:lnTo>
                    <a:pt x="712" y="486"/>
                  </a:lnTo>
                  <a:lnTo>
                    <a:pt x="722" y="512"/>
                  </a:lnTo>
                  <a:lnTo>
                    <a:pt x="735" y="516"/>
                  </a:lnTo>
                  <a:lnTo>
                    <a:pt x="751" y="515"/>
                  </a:lnTo>
                  <a:lnTo>
                    <a:pt x="770" y="508"/>
                  </a:lnTo>
                  <a:lnTo>
                    <a:pt x="788" y="498"/>
                  </a:lnTo>
                  <a:lnTo>
                    <a:pt x="803" y="484"/>
                  </a:lnTo>
                  <a:lnTo>
                    <a:pt x="813" y="468"/>
                  </a:lnTo>
                  <a:lnTo>
                    <a:pt x="817" y="451"/>
                  </a:lnTo>
                  <a:lnTo>
                    <a:pt x="812" y="433"/>
                  </a:lnTo>
                  <a:lnTo>
                    <a:pt x="828" y="428"/>
                  </a:lnTo>
                  <a:lnTo>
                    <a:pt x="841" y="408"/>
                  </a:lnTo>
                  <a:lnTo>
                    <a:pt x="850" y="382"/>
                  </a:lnTo>
                  <a:lnTo>
                    <a:pt x="854" y="351"/>
                  </a:lnTo>
                  <a:lnTo>
                    <a:pt x="849" y="322"/>
                  </a:lnTo>
                  <a:lnTo>
                    <a:pt x="836" y="300"/>
                  </a:lnTo>
                  <a:lnTo>
                    <a:pt x="812" y="291"/>
                  </a:lnTo>
                  <a:lnTo>
                    <a:pt x="778" y="300"/>
                  </a:lnTo>
                  <a:lnTo>
                    <a:pt x="773" y="285"/>
                  </a:lnTo>
                  <a:lnTo>
                    <a:pt x="762" y="275"/>
                  </a:lnTo>
                  <a:lnTo>
                    <a:pt x="743" y="269"/>
                  </a:lnTo>
                  <a:lnTo>
                    <a:pt x="722" y="268"/>
                  </a:lnTo>
                  <a:lnTo>
                    <a:pt x="700" y="272"/>
                  </a:lnTo>
                  <a:lnTo>
                    <a:pt x="682" y="283"/>
                  </a:lnTo>
                  <a:lnTo>
                    <a:pt x="668" y="299"/>
                  </a:lnTo>
                  <a:lnTo>
                    <a:pt x="661" y="323"/>
                  </a:lnTo>
                  <a:lnTo>
                    <a:pt x="657" y="316"/>
                  </a:lnTo>
                  <a:lnTo>
                    <a:pt x="649" y="309"/>
                  </a:lnTo>
                  <a:lnTo>
                    <a:pt x="637" y="303"/>
                  </a:lnTo>
                  <a:lnTo>
                    <a:pt x="624" y="299"/>
                  </a:lnTo>
                  <a:lnTo>
                    <a:pt x="609" y="294"/>
                  </a:lnTo>
                  <a:lnTo>
                    <a:pt x="593" y="292"/>
                  </a:lnTo>
                  <a:lnTo>
                    <a:pt x="576" y="291"/>
                  </a:lnTo>
                  <a:lnTo>
                    <a:pt x="559" y="290"/>
                  </a:lnTo>
                  <a:lnTo>
                    <a:pt x="541" y="291"/>
                  </a:lnTo>
                  <a:lnTo>
                    <a:pt x="524" y="294"/>
                  </a:lnTo>
                  <a:lnTo>
                    <a:pt x="508" y="298"/>
                  </a:lnTo>
                  <a:lnTo>
                    <a:pt x="494" y="303"/>
                  </a:lnTo>
                  <a:lnTo>
                    <a:pt x="482" y="311"/>
                  </a:lnTo>
                  <a:lnTo>
                    <a:pt x="471" y="321"/>
                  </a:lnTo>
                  <a:lnTo>
                    <a:pt x="464" y="332"/>
                  </a:lnTo>
                  <a:lnTo>
                    <a:pt x="460" y="346"/>
                  </a:lnTo>
                  <a:lnTo>
                    <a:pt x="454" y="330"/>
                  </a:lnTo>
                  <a:lnTo>
                    <a:pt x="454" y="315"/>
                  </a:lnTo>
                  <a:lnTo>
                    <a:pt x="459" y="301"/>
                  </a:lnTo>
                  <a:lnTo>
                    <a:pt x="467" y="290"/>
                  </a:lnTo>
                  <a:lnTo>
                    <a:pt x="477" y="282"/>
                  </a:lnTo>
                  <a:lnTo>
                    <a:pt x="487" y="276"/>
                  </a:lnTo>
                  <a:lnTo>
                    <a:pt x="499" y="273"/>
                  </a:lnTo>
                  <a:lnTo>
                    <a:pt x="510" y="276"/>
                  </a:lnTo>
                  <a:lnTo>
                    <a:pt x="515" y="260"/>
                  </a:lnTo>
                  <a:lnTo>
                    <a:pt x="527" y="245"/>
                  </a:lnTo>
                  <a:lnTo>
                    <a:pt x="543" y="231"/>
                  </a:lnTo>
                  <a:lnTo>
                    <a:pt x="563" y="221"/>
                  </a:lnTo>
                  <a:lnTo>
                    <a:pt x="588" y="215"/>
                  </a:lnTo>
                  <a:lnTo>
                    <a:pt x="614" y="215"/>
                  </a:lnTo>
                  <a:lnTo>
                    <a:pt x="642" y="224"/>
                  </a:lnTo>
                  <a:lnTo>
                    <a:pt x="669" y="242"/>
                  </a:lnTo>
                  <a:lnTo>
                    <a:pt x="691" y="252"/>
                  </a:lnTo>
                  <a:lnTo>
                    <a:pt x="718" y="249"/>
                  </a:lnTo>
                  <a:lnTo>
                    <a:pt x="743" y="238"/>
                  </a:lnTo>
                  <a:lnTo>
                    <a:pt x="765" y="222"/>
                  </a:lnTo>
                  <a:lnTo>
                    <a:pt x="779" y="203"/>
                  </a:lnTo>
                  <a:lnTo>
                    <a:pt x="783" y="185"/>
                  </a:lnTo>
                  <a:lnTo>
                    <a:pt x="774" y="172"/>
                  </a:lnTo>
                  <a:lnTo>
                    <a:pt x="747" y="165"/>
                  </a:lnTo>
                  <a:lnTo>
                    <a:pt x="753" y="160"/>
                  </a:lnTo>
                  <a:lnTo>
                    <a:pt x="758" y="154"/>
                  </a:lnTo>
                  <a:lnTo>
                    <a:pt x="762" y="147"/>
                  </a:lnTo>
                  <a:lnTo>
                    <a:pt x="762" y="140"/>
                  </a:lnTo>
                  <a:lnTo>
                    <a:pt x="760" y="133"/>
                  </a:lnTo>
                  <a:lnTo>
                    <a:pt x="757" y="127"/>
                  </a:lnTo>
                  <a:lnTo>
                    <a:pt x="751" y="120"/>
                  </a:lnTo>
                  <a:lnTo>
                    <a:pt x="743" y="116"/>
                  </a:lnTo>
                  <a:lnTo>
                    <a:pt x="733" y="111"/>
                  </a:lnTo>
                  <a:lnTo>
                    <a:pt x="720" y="109"/>
                  </a:lnTo>
                  <a:lnTo>
                    <a:pt x="706" y="108"/>
                  </a:lnTo>
                  <a:lnTo>
                    <a:pt x="689" y="108"/>
                  </a:lnTo>
                  <a:lnTo>
                    <a:pt x="671" y="110"/>
                  </a:lnTo>
                  <a:lnTo>
                    <a:pt x="650" y="115"/>
                  </a:lnTo>
                  <a:lnTo>
                    <a:pt x="627" y="122"/>
                  </a:lnTo>
                  <a:lnTo>
                    <a:pt x="601" y="132"/>
                  </a:lnTo>
                  <a:lnTo>
                    <a:pt x="623" y="119"/>
                  </a:lnTo>
                  <a:lnTo>
                    <a:pt x="642" y="101"/>
                  </a:lnTo>
                  <a:lnTo>
                    <a:pt x="654" y="81"/>
                  </a:lnTo>
                  <a:lnTo>
                    <a:pt x="659" y="62"/>
                  </a:lnTo>
                  <a:lnTo>
                    <a:pt x="656" y="47"/>
                  </a:lnTo>
                  <a:lnTo>
                    <a:pt x="642" y="39"/>
                  </a:lnTo>
                  <a:lnTo>
                    <a:pt x="618" y="40"/>
                  </a:lnTo>
                  <a:lnTo>
                    <a:pt x="581" y="55"/>
                  </a:lnTo>
                  <a:lnTo>
                    <a:pt x="594" y="40"/>
                  </a:lnTo>
                  <a:lnTo>
                    <a:pt x="600" y="28"/>
                  </a:lnTo>
                  <a:lnTo>
                    <a:pt x="598" y="18"/>
                  </a:lnTo>
                  <a:lnTo>
                    <a:pt x="589" y="10"/>
                  </a:lnTo>
                  <a:lnTo>
                    <a:pt x="575" y="4"/>
                  </a:lnTo>
                  <a:lnTo>
                    <a:pt x="558" y="1"/>
                  </a:lnTo>
                  <a:lnTo>
                    <a:pt x="537" y="0"/>
                  </a:lnTo>
                  <a:lnTo>
                    <a:pt x="514" y="1"/>
                  </a:lnTo>
                  <a:lnTo>
                    <a:pt x="491" y="4"/>
                  </a:lnTo>
                  <a:lnTo>
                    <a:pt x="469" y="10"/>
                  </a:lnTo>
                  <a:lnTo>
                    <a:pt x="449" y="18"/>
                  </a:lnTo>
                  <a:lnTo>
                    <a:pt x="432" y="28"/>
                  </a:lnTo>
                  <a:lnTo>
                    <a:pt x="419" y="41"/>
                  </a:lnTo>
                  <a:lnTo>
                    <a:pt x="412" y="57"/>
                  </a:lnTo>
                  <a:lnTo>
                    <a:pt x="412" y="74"/>
                  </a:lnTo>
                  <a:lnTo>
                    <a:pt x="421" y="95"/>
                  </a:lnTo>
                  <a:lnTo>
                    <a:pt x="423" y="101"/>
                  </a:lnTo>
                  <a:lnTo>
                    <a:pt x="423" y="108"/>
                  </a:lnTo>
                  <a:lnTo>
                    <a:pt x="421" y="115"/>
                  </a:lnTo>
                  <a:lnTo>
                    <a:pt x="417" y="122"/>
                  </a:lnTo>
                  <a:lnTo>
                    <a:pt x="411" y="128"/>
                  </a:lnTo>
                  <a:lnTo>
                    <a:pt x="406" y="135"/>
                  </a:lnTo>
                  <a:lnTo>
                    <a:pt x="399" y="140"/>
                  </a:lnTo>
                  <a:lnTo>
                    <a:pt x="393" y="145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1496880" y="6013800"/>
              <a:ext cx="2651760" cy="425160"/>
            </a:xfrm>
            <a:custGeom>
              <a:avLst/>
              <a:gdLst/>
              <a:ahLst/>
              <a:rect l="l" t="t" r="r" b="b"/>
              <a:pathLst>
                <a:path w="2252" h="615">
                  <a:moveTo>
                    <a:pt x="0" y="615"/>
                  </a:moveTo>
                  <a:lnTo>
                    <a:pt x="2252" y="615"/>
                  </a:lnTo>
                  <a:lnTo>
                    <a:pt x="2252" y="138"/>
                  </a:lnTo>
                  <a:lnTo>
                    <a:pt x="2248" y="134"/>
                  </a:lnTo>
                  <a:lnTo>
                    <a:pt x="2238" y="123"/>
                  </a:lnTo>
                  <a:lnTo>
                    <a:pt x="2223" y="109"/>
                  </a:lnTo>
                  <a:lnTo>
                    <a:pt x="2207" y="92"/>
                  </a:lnTo>
                  <a:lnTo>
                    <a:pt x="2190" y="74"/>
                  </a:lnTo>
                  <a:lnTo>
                    <a:pt x="2176" y="61"/>
                  </a:lnTo>
                  <a:lnTo>
                    <a:pt x="2165" y="50"/>
                  </a:lnTo>
                  <a:lnTo>
                    <a:pt x="2162" y="48"/>
                  </a:lnTo>
                  <a:lnTo>
                    <a:pt x="2162" y="42"/>
                  </a:lnTo>
                  <a:lnTo>
                    <a:pt x="2162" y="25"/>
                  </a:lnTo>
                  <a:lnTo>
                    <a:pt x="2162" y="8"/>
                  </a:lnTo>
                  <a:lnTo>
                    <a:pt x="2162" y="0"/>
                  </a:lnTo>
                  <a:lnTo>
                    <a:pt x="2132" y="0"/>
                  </a:lnTo>
                  <a:lnTo>
                    <a:pt x="2132" y="33"/>
                  </a:lnTo>
                  <a:lnTo>
                    <a:pt x="1944" y="33"/>
                  </a:lnTo>
                  <a:lnTo>
                    <a:pt x="1858" y="120"/>
                  </a:lnTo>
                  <a:lnTo>
                    <a:pt x="1882" y="120"/>
                  </a:lnTo>
                  <a:lnTo>
                    <a:pt x="1882" y="214"/>
                  </a:lnTo>
                  <a:lnTo>
                    <a:pt x="1772" y="214"/>
                  </a:lnTo>
                  <a:lnTo>
                    <a:pt x="1772" y="132"/>
                  </a:lnTo>
                  <a:lnTo>
                    <a:pt x="1821" y="132"/>
                  </a:lnTo>
                  <a:lnTo>
                    <a:pt x="1776" y="63"/>
                  </a:lnTo>
                  <a:lnTo>
                    <a:pt x="1581" y="63"/>
                  </a:lnTo>
                  <a:lnTo>
                    <a:pt x="1581" y="39"/>
                  </a:lnTo>
                  <a:lnTo>
                    <a:pt x="1542" y="39"/>
                  </a:lnTo>
                  <a:lnTo>
                    <a:pt x="1542" y="63"/>
                  </a:lnTo>
                  <a:lnTo>
                    <a:pt x="1512" y="63"/>
                  </a:lnTo>
                  <a:lnTo>
                    <a:pt x="1454" y="204"/>
                  </a:lnTo>
                  <a:lnTo>
                    <a:pt x="1214" y="204"/>
                  </a:lnTo>
                  <a:lnTo>
                    <a:pt x="1208" y="147"/>
                  </a:lnTo>
                  <a:lnTo>
                    <a:pt x="1196" y="103"/>
                  </a:lnTo>
                  <a:lnTo>
                    <a:pt x="1180" y="72"/>
                  </a:lnTo>
                  <a:lnTo>
                    <a:pt x="1162" y="55"/>
                  </a:lnTo>
                  <a:lnTo>
                    <a:pt x="1141" y="51"/>
                  </a:lnTo>
                  <a:lnTo>
                    <a:pt x="1120" y="64"/>
                  </a:lnTo>
                  <a:lnTo>
                    <a:pt x="1099" y="92"/>
                  </a:lnTo>
                  <a:lnTo>
                    <a:pt x="1082" y="137"/>
                  </a:lnTo>
                  <a:lnTo>
                    <a:pt x="1012" y="0"/>
                  </a:lnTo>
                  <a:lnTo>
                    <a:pt x="909" y="126"/>
                  </a:lnTo>
                  <a:lnTo>
                    <a:pt x="824" y="5"/>
                  </a:lnTo>
                  <a:lnTo>
                    <a:pt x="728" y="123"/>
                  </a:lnTo>
                  <a:lnTo>
                    <a:pt x="566" y="123"/>
                  </a:lnTo>
                  <a:lnTo>
                    <a:pt x="566" y="204"/>
                  </a:lnTo>
                  <a:lnTo>
                    <a:pt x="538" y="208"/>
                  </a:lnTo>
                  <a:lnTo>
                    <a:pt x="537" y="176"/>
                  </a:lnTo>
                  <a:lnTo>
                    <a:pt x="534" y="141"/>
                  </a:lnTo>
                  <a:lnTo>
                    <a:pt x="529" y="110"/>
                  </a:lnTo>
                  <a:lnTo>
                    <a:pt x="522" y="83"/>
                  </a:lnTo>
                  <a:lnTo>
                    <a:pt x="514" y="64"/>
                  </a:lnTo>
                  <a:lnTo>
                    <a:pt x="505" y="56"/>
                  </a:lnTo>
                  <a:lnTo>
                    <a:pt x="496" y="63"/>
                  </a:lnTo>
                  <a:lnTo>
                    <a:pt x="485" y="88"/>
                  </a:lnTo>
                  <a:lnTo>
                    <a:pt x="481" y="71"/>
                  </a:lnTo>
                  <a:lnTo>
                    <a:pt x="474" y="57"/>
                  </a:lnTo>
                  <a:lnTo>
                    <a:pt x="466" y="49"/>
                  </a:lnTo>
                  <a:lnTo>
                    <a:pt x="455" y="47"/>
                  </a:lnTo>
                  <a:lnTo>
                    <a:pt x="446" y="51"/>
                  </a:lnTo>
                  <a:lnTo>
                    <a:pt x="437" y="65"/>
                  </a:lnTo>
                  <a:lnTo>
                    <a:pt x="430" y="88"/>
                  </a:lnTo>
                  <a:lnTo>
                    <a:pt x="427" y="123"/>
                  </a:lnTo>
                  <a:lnTo>
                    <a:pt x="415" y="119"/>
                  </a:lnTo>
                  <a:lnTo>
                    <a:pt x="405" y="132"/>
                  </a:lnTo>
                  <a:lnTo>
                    <a:pt x="399" y="163"/>
                  </a:lnTo>
                  <a:lnTo>
                    <a:pt x="397" y="208"/>
                  </a:lnTo>
                  <a:lnTo>
                    <a:pt x="363" y="208"/>
                  </a:lnTo>
                  <a:lnTo>
                    <a:pt x="363" y="153"/>
                  </a:lnTo>
                  <a:lnTo>
                    <a:pt x="317" y="107"/>
                  </a:lnTo>
                  <a:lnTo>
                    <a:pt x="180" y="107"/>
                  </a:lnTo>
                  <a:lnTo>
                    <a:pt x="128" y="55"/>
                  </a:lnTo>
                  <a:lnTo>
                    <a:pt x="74" y="135"/>
                  </a:lnTo>
                  <a:lnTo>
                    <a:pt x="74" y="216"/>
                  </a:lnTo>
                  <a:lnTo>
                    <a:pt x="2" y="216"/>
                  </a:lnTo>
                  <a:lnTo>
                    <a:pt x="0" y="615"/>
                  </a:lnTo>
                  <a:close/>
                </a:path>
              </a:pathLst>
            </a:custGeom>
            <a:solidFill>
              <a:srgbClr val="d8c6a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1555560" y="5998320"/>
              <a:ext cx="414720" cy="440280"/>
            </a:xfrm>
            <a:custGeom>
              <a:avLst/>
              <a:gdLst/>
              <a:ahLst/>
              <a:rect l="l" t="t" r="r" b="b"/>
              <a:pathLst>
                <a:path w="351" h="638">
                  <a:moveTo>
                    <a:pt x="166" y="0"/>
                  </a:moveTo>
                  <a:lnTo>
                    <a:pt x="150" y="4"/>
                  </a:lnTo>
                  <a:lnTo>
                    <a:pt x="134" y="22"/>
                  </a:lnTo>
                  <a:lnTo>
                    <a:pt x="119" y="48"/>
                  </a:lnTo>
                  <a:lnTo>
                    <a:pt x="106" y="81"/>
                  </a:lnTo>
                  <a:lnTo>
                    <a:pt x="95" y="118"/>
                  </a:lnTo>
                  <a:lnTo>
                    <a:pt x="86" y="154"/>
                  </a:lnTo>
                  <a:lnTo>
                    <a:pt x="82" y="186"/>
                  </a:lnTo>
                  <a:lnTo>
                    <a:pt x="81" y="211"/>
                  </a:lnTo>
                  <a:lnTo>
                    <a:pt x="74" y="192"/>
                  </a:lnTo>
                  <a:lnTo>
                    <a:pt x="69" y="168"/>
                  </a:lnTo>
                  <a:lnTo>
                    <a:pt x="65" y="148"/>
                  </a:lnTo>
                  <a:lnTo>
                    <a:pt x="63" y="140"/>
                  </a:lnTo>
                  <a:lnTo>
                    <a:pt x="46" y="188"/>
                  </a:lnTo>
                  <a:lnTo>
                    <a:pt x="35" y="230"/>
                  </a:lnTo>
                  <a:lnTo>
                    <a:pt x="30" y="267"/>
                  </a:lnTo>
                  <a:lnTo>
                    <a:pt x="29" y="298"/>
                  </a:lnTo>
                  <a:lnTo>
                    <a:pt x="31" y="323"/>
                  </a:lnTo>
                  <a:lnTo>
                    <a:pt x="38" y="343"/>
                  </a:lnTo>
                  <a:lnTo>
                    <a:pt x="46" y="359"/>
                  </a:lnTo>
                  <a:lnTo>
                    <a:pt x="55" y="369"/>
                  </a:lnTo>
                  <a:lnTo>
                    <a:pt x="45" y="362"/>
                  </a:lnTo>
                  <a:lnTo>
                    <a:pt x="36" y="356"/>
                  </a:lnTo>
                  <a:lnTo>
                    <a:pt x="28" y="351"/>
                  </a:lnTo>
                  <a:lnTo>
                    <a:pt x="21" y="345"/>
                  </a:lnTo>
                  <a:lnTo>
                    <a:pt x="15" y="341"/>
                  </a:lnTo>
                  <a:lnTo>
                    <a:pt x="12" y="338"/>
                  </a:lnTo>
                  <a:lnTo>
                    <a:pt x="9" y="336"/>
                  </a:lnTo>
                  <a:lnTo>
                    <a:pt x="8" y="334"/>
                  </a:lnTo>
                  <a:lnTo>
                    <a:pt x="5" y="367"/>
                  </a:lnTo>
                  <a:lnTo>
                    <a:pt x="1" y="407"/>
                  </a:lnTo>
                  <a:lnTo>
                    <a:pt x="0" y="453"/>
                  </a:lnTo>
                  <a:lnTo>
                    <a:pt x="1" y="499"/>
                  </a:lnTo>
                  <a:lnTo>
                    <a:pt x="7" y="545"/>
                  </a:lnTo>
                  <a:lnTo>
                    <a:pt x="18" y="585"/>
                  </a:lnTo>
                  <a:lnTo>
                    <a:pt x="37" y="618"/>
                  </a:lnTo>
                  <a:lnTo>
                    <a:pt x="65" y="638"/>
                  </a:lnTo>
                  <a:lnTo>
                    <a:pt x="71" y="638"/>
                  </a:lnTo>
                  <a:lnTo>
                    <a:pt x="83" y="638"/>
                  </a:lnTo>
                  <a:lnTo>
                    <a:pt x="97" y="638"/>
                  </a:lnTo>
                  <a:lnTo>
                    <a:pt x="114" y="638"/>
                  </a:lnTo>
                  <a:lnTo>
                    <a:pt x="133" y="638"/>
                  </a:lnTo>
                  <a:lnTo>
                    <a:pt x="152" y="638"/>
                  </a:lnTo>
                  <a:lnTo>
                    <a:pt x="173" y="638"/>
                  </a:lnTo>
                  <a:lnTo>
                    <a:pt x="194" y="638"/>
                  </a:lnTo>
                  <a:lnTo>
                    <a:pt x="214" y="638"/>
                  </a:lnTo>
                  <a:lnTo>
                    <a:pt x="234" y="638"/>
                  </a:lnTo>
                  <a:lnTo>
                    <a:pt x="252" y="638"/>
                  </a:lnTo>
                  <a:lnTo>
                    <a:pt x="268" y="638"/>
                  </a:lnTo>
                  <a:lnTo>
                    <a:pt x="282" y="638"/>
                  </a:lnTo>
                  <a:lnTo>
                    <a:pt x="293" y="638"/>
                  </a:lnTo>
                  <a:lnTo>
                    <a:pt x="300" y="638"/>
                  </a:lnTo>
                  <a:lnTo>
                    <a:pt x="302" y="638"/>
                  </a:lnTo>
                  <a:lnTo>
                    <a:pt x="315" y="621"/>
                  </a:lnTo>
                  <a:lnTo>
                    <a:pt x="326" y="594"/>
                  </a:lnTo>
                  <a:lnTo>
                    <a:pt x="336" y="562"/>
                  </a:lnTo>
                  <a:lnTo>
                    <a:pt x="345" y="527"/>
                  </a:lnTo>
                  <a:lnTo>
                    <a:pt x="349" y="491"/>
                  </a:lnTo>
                  <a:lnTo>
                    <a:pt x="351" y="456"/>
                  </a:lnTo>
                  <a:lnTo>
                    <a:pt x="350" y="427"/>
                  </a:lnTo>
                  <a:lnTo>
                    <a:pt x="345" y="402"/>
                  </a:lnTo>
                  <a:lnTo>
                    <a:pt x="342" y="416"/>
                  </a:lnTo>
                  <a:lnTo>
                    <a:pt x="338" y="430"/>
                  </a:lnTo>
                  <a:lnTo>
                    <a:pt x="332" y="441"/>
                  </a:lnTo>
                  <a:lnTo>
                    <a:pt x="326" y="453"/>
                  </a:lnTo>
                  <a:lnTo>
                    <a:pt x="319" y="462"/>
                  </a:lnTo>
                  <a:lnTo>
                    <a:pt x="313" y="469"/>
                  </a:lnTo>
                  <a:lnTo>
                    <a:pt x="308" y="476"/>
                  </a:lnTo>
                  <a:lnTo>
                    <a:pt x="302" y="479"/>
                  </a:lnTo>
                  <a:lnTo>
                    <a:pt x="309" y="464"/>
                  </a:lnTo>
                  <a:lnTo>
                    <a:pt x="317" y="441"/>
                  </a:lnTo>
                  <a:lnTo>
                    <a:pt x="323" y="413"/>
                  </a:lnTo>
                  <a:lnTo>
                    <a:pt x="327" y="379"/>
                  </a:lnTo>
                  <a:lnTo>
                    <a:pt x="328" y="341"/>
                  </a:lnTo>
                  <a:lnTo>
                    <a:pt x="324" y="300"/>
                  </a:lnTo>
                  <a:lnTo>
                    <a:pt x="312" y="256"/>
                  </a:lnTo>
                  <a:lnTo>
                    <a:pt x="293" y="211"/>
                  </a:lnTo>
                  <a:lnTo>
                    <a:pt x="293" y="222"/>
                  </a:lnTo>
                  <a:lnTo>
                    <a:pt x="289" y="234"/>
                  </a:lnTo>
                  <a:lnTo>
                    <a:pt x="285" y="246"/>
                  </a:lnTo>
                  <a:lnTo>
                    <a:pt x="278" y="257"/>
                  </a:lnTo>
                  <a:lnTo>
                    <a:pt x="271" y="268"/>
                  </a:lnTo>
                  <a:lnTo>
                    <a:pt x="265" y="276"/>
                  </a:lnTo>
                  <a:lnTo>
                    <a:pt x="260" y="282"/>
                  </a:lnTo>
                  <a:lnTo>
                    <a:pt x="259" y="284"/>
                  </a:lnTo>
                  <a:lnTo>
                    <a:pt x="262" y="267"/>
                  </a:lnTo>
                  <a:lnTo>
                    <a:pt x="263" y="240"/>
                  </a:lnTo>
                  <a:lnTo>
                    <a:pt x="263" y="208"/>
                  </a:lnTo>
                  <a:lnTo>
                    <a:pt x="262" y="172"/>
                  </a:lnTo>
                  <a:lnTo>
                    <a:pt x="257" y="137"/>
                  </a:lnTo>
                  <a:lnTo>
                    <a:pt x="249" y="102"/>
                  </a:lnTo>
                  <a:lnTo>
                    <a:pt x="239" y="72"/>
                  </a:lnTo>
                  <a:lnTo>
                    <a:pt x="225" y="50"/>
                  </a:lnTo>
                  <a:lnTo>
                    <a:pt x="225" y="73"/>
                  </a:lnTo>
                  <a:lnTo>
                    <a:pt x="220" y="94"/>
                  </a:lnTo>
                  <a:lnTo>
                    <a:pt x="214" y="109"/>
                  </a:lnTo>
                  <a:lnTo>
                    <a:pt x="212" y="115"/>
                  </a:lnTo>
                  <a:lnTo>
                    <a:pt x="210" y="99"/>
                  </a:lnTo>
                  <a:lnTo>
                    <a:pt x="205" y="80"/>
                  </a:lnTo>
                  <a:lnTo>
                    <a:pt x="197" y="61"/>
                  </a:lnTo>
                  <a:lnTo>
                    <a:pt x="189" y="42"/>
                  </a:lnTo>
                  <a:lnTo>
                    <a:pt x="181" y="26"/>
                  </a:lnTo>
                  <a:lnTo>
                    <a:pt x="173" y="12"/>
                  </a:lnTo>
                  <a:lnTo>
                    <a:pt x="168" y="3"/>
                  </a:lnTo>
                  <a:lnTo>
                    <a:pt x="166" y="0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1718640" y="6129360"/>
              <a:ext cx="893160" cy="309240"/>
            </a:xfrm>
            <a:custGeom>
              <a:avLst/>
              <a:gdLst/>
              <a:ahLst/>
              <a:rect l="l" t="t" r="r" b="b"/>
              <a:pathLst>
                <a:path w="758" h="449">
                  <a:moveTo>
                    <a:pt x="0" y="228"/>
                  </a:moveTo>
                  <a:lnTo>
                    <a:pt x="150" y="0"/>
                  </a:lnTo>
                  <a:lnTo>
                    <a:pt x="299" y="228"/>
                  </a:lnTo>
                  <a:lnTo>
                    <a:pt x="758" y="228"/>
                  </a:lnTo>
                  <a:lnTo>
                    <a:pt x="758" y="449"/>
                  </a:lnTo>
                  <a:lnTo>
                    <a:pt x="0" y="449"/>
                  </a:lnTo>
                  <a:lnTo>
                    <a:pt x="0" y="228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8" name=""/>
            <p:cNvSpPr/>
            <p:nvPr/>
          </p:nvSpPr>
          <p:spPr>
            <a:xfrm>
              <a:off x="1711080" y="6103080"/>
              <a:ext cx="909720" cy="183600"/>
            </a:xfrm>
            <a:custGeom>
              <a:avLst/>
              <a:gdLst/>
              <a:ahLst/>
              <a:rect l="l" t="t" r="r" b="b"/>
              <a:pathLst>
                <a:path w="770" h="264">
                  <a:moveTo>
                    <a:pt x="763" y="264"/>
                  </a:moveTo>
                  <a:lnTo>
                    <a:pt x="304" y="264"/>
                  </a:lnTo>
                  <a:lnTo>
                    <a:pt x="155" y="36"/>
                  </a:lnTo>
                  <a:lnTo>
                    <a:pt x="5" y="264"/>
                  </a:lnTo>
                  <a:lnTo>
                    <a:pt x="0" y="237"/>
                  </a:lnTo>
                  <a:lnTo>
                    <a:pt x="155" y="0"/>
                  </a:lnTo>
                  <a:lnTo>
                    <a:pt x="309" y="237"/>
                  </a:lnTo>
                  <a:lnTo>
                    <a:pt x="770" y="237"/>
                  </a:lnTo>
                  <a:lnTo>
                    <a:pt x="763" y="264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9" name=""/>
            <p:cNvSpPr/>
            <p:nvPr/>
          </p:nvSpPr>
          <p:spPr>
            <a:xfrm>
              <a:off x="1744200" y="6297840"/>
              <a:ext cx="315720" cy="1407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0" name=""/>
            <p:cNvSpPr/>
            <p:nvPr/>
          </p:nvSpPr>
          <p:spPr>
            <a:xfrm>
              <a:off x="1895040" y="6103080"/>
              <a:ext cx="725760" cy="164160"/>
            </a:xfrm>
            <a:custGeom>
              <a:avLst/>
              <a:gdLst/>
              <a:ahLst/>
              <a:rect l="l" t="t" r="r" b="b"/>
              <a:pathLst>
                <a:path w="615" h="237">
                  <a:moveTo>
                    <a:pt x="0" y="0"/>
                  </a:moveTo>
                  <a:lnTo>
                    <a:pt x="154" y="237"/>
                  </a:lnTo>
                  <a:lnTo>
                    <a:pt x="615" y="237"/>
                  </a:lnTo>
                  <a:lnTo>
                    <a:pt x="46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1765800" y="6309000"/>
              <a:ext cx="268200" cy="12960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1494720" y="6438960"/>
              <a:ext cx="2653920" cy="304920"/>
            </a:xfrm>
            <a:prstGeom prst="rect">
              <a:avLst/>
            </a:prstGeom>
            <a:solidFill>
              <a:srgbClr val="33bf0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562120" y="5913000"/>
              <a:ext cx="1025280" cy="282960"/>
            </a:xfrm>
            <a:custGeom>
              <a:avLst/>
              <a:gdLst/>
              <a:ahLst/>
              <a:rect l="l" t="t" r="r" b="b"/>
              <a:pathLst>
                <a:path w="871" h="409">
                  <a:moveTo>
                    <a:pt x="380" y="73"/>
                  </a:moveTo>
                  <a:lnTo>
                    <a:pt x="871" y="73"/>
                  </a:lnTo>
                  <a:lnTo>
                    <a:pt x="652" y="409"/>
                  </a:lnTo>
                  <a:lnTo>
                    <a:pt x="0" y="409"/>
                  </a:lnTo>
                  <a:lnTo>
                    <a:pt x="220" y="73"/>
                  </a:lnTo>
                  <a:lnTo>
                    <a:pt x="306" y="73"/>
                  </a:lnTo>
                  <a:lnTo>
                    <a:pt x="306" y="0"/>
                  </a:lnTo>
                  <a:lnTo>
                    <a:pt x="380" y="0"/>
                  </a:lnTo>
                  <a:lnTo>
                    <a:pt x="380" y="73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71840" y="5999400"/>
              <a:ext cx="1265760" cy="439200"/>
            </a:xfrm>
            <a:custGeom>
              <a:avLst/>
              <a:gdLst/>
              <a:ahLst/>
              <a:rect l="l" t="t" r="r" b="b"/>
              <a:pathLst>
                <a:path w="1073" h="636">
                  <a:moveTo>
                    <a:pt x="1073" y="323"/>
                  </a:moveTo>
                  <a:lnTo>
                    <a:pt x="862" y="0"/>
                  </a:lnTo>
                  <a:lnTo>
                    <a:pt x="651" y="323"/>
                  </a:lnTo>
                  <a:lnTo>
                    <a:pt x="0" y="323"/>
                  </a:lnTo>
                  <a:lnTo>
                    <a:pt x="0" y="636"/>
                  </a:lnTo>
                  <a:lnTo>
                    <a:pt x="1073" y="636"/>
                  </a:lnTo>
                  <a:lnTo>
                    <a:pt x="1073" y="323"/>
                  </a:lnTo>
                  <a:close/>
                </a:path>
              </a:pathLst>
            </a:custGeom>
            <a:solidFill>
              <a:srgbClr val="b2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93080" y="6238440"/>
              <a:ext cx="734760" cy="191880"/>
            </a:xfrm>
            <a:prstGeom prst="rect">
              <a:avLst/>
            </a:prstGeom>
            <a:solidFill>
              <a:srgbClr val="d8b27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6" name=""/>
            <p:cNvSpPr/>
            <p:nvPr/>
          </p:nvSpPr>
          <p:spPr>
            <a:xfrm>
              <a:off x="3627720" y="6361560"/>
              <a:ext cx="410400" cy="77040"/>
            </a:xfrm>
            <a:custGeom>
              <a:avLst/>
              <a:gdLst/>
              <a:ahLst/>
              <a:rect l="l" t="t" r="r" b="b"/>
              <a:pathLst>
                <a:path w="348" h="113">
                  <a:moveTo>
                    <a:pt x="303" y="55"/>
                  </a:moveTo>
                  <a:lnTo>
                    <a:pt x="303" y="0"/>
                  </a:lnTo>
                  <a:lnTo>
                    <a:pt x="0" y="0"/>
                  </a:lnTo>
                  <a:lnTo>
                    <a:pt x="0" y="113"/>
                  </a:lnTo>
                  <a:lnTo>
                    <a:pt x="348" y="113"/>
                  </a:lnTo>
                  <a:lnTo>
                    <a:pt x="348" y="55"/>
                  </a:lnTo>
                  <a:lnTo>
                    <a:pt x="303" y="55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0240" bIns="30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7" name=""/>
            <p:cNvSpPr/>
            <p:nvPr/>
          </p:nvSpPr>
          <p:spPr>
            <a:xfrm>
              <a:off x="3627720" y="6234480"/>
              <a:ext cx="174600" cy="12708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941920" y="6258960"/>
              <a:ext cx="315720" cy="143640"/>
            </a:xfrm>
            <a:prstGeom prst="rect">
              <a:avLst/>
            </a:prstGeom>
            <a:solidFill>
              <a:srgbClr val="c1841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3663360" y="6248160"/>
              <a:ext cx="105840" cy="1130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562120" y="5963760"/>
              <a:ext cx="1284840" cy="259200"/>
            </a:xfrm>
            <a:custGeom>
              <a:avLst/>
              <a:gdLst/>
              <a:ahLst/>
              <a:rect l="l" t="t" r="r" b="b"/>
              <a:pathLst>
                <a:path w="1091" h="375">
                  <a:moveTo>
                    <a:pt x="9" y="375"/>
                  </a:moveTo>
                  <a:lnTo>
                    <a:pt x="660" y="375"/>
                  </a:lnTo>
                  <a:lnTo>
                    <a:pt x="871" y="52"/>
                  </a:lnTo>
                  <a:lnTo>
                    <a:pt x="1082" y="375"/>
                  </a:lnTo>
                  <a:lnTo>
                    <a:pt x="1091" y="336"/>
                  </a:lnTo>
                  <a:lnTo>
                    <a:pt x="871" y="0"/>
                  </a:lnTo>
                  <a:lnTo>
                    <a:pt x="652" y="336"/>
                  </a:lnTo>
                  <a:lnTo>
                    <a:pt x="0" y="336"/>
                  </a:lnTo>
                  <a:lnTo>
                    <a:pt x="9" y="375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3031560" y="6267600"/>
              <a:ext cx="136800" cy="12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958480" y="6267600"/>
              <a:ext cx="56520" cy="12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3187080" y="6267600"/>
              <a:ext cx="53640" cy="12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3439440" y="6267600"/>
              <a:ext cx="87120" cy="12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3382920" y="6267600"/>
              <a:ext cx="39960" cy="12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3545280" y="6267600"/>
              <a:ext cx="39960" cy="125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3512160" y="6096240"/>
              <a:ext cx="63360" cy="2736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21" y="0"/>
                  </a:moveTo>
                  <a:lnTo>
                    <a:pt x="13" y="8"/>
                  </a:lnTo>
                  <a:lnTo>
                    <a:pt x="7" y="19"/>
                  </a:lnTo>
                  <a:lnTo>
                    <a:pt x="2" y="30"/>
                  </a:lnTo>
                  <a:lnTo>
                    <a:pt x="0" y="42"/>
                  </a:lnTo>
                  <a:lnTo>
                    <a:pt x="55" y="4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3600000" y="6096240"/>
              <a:ext cx="65520" cy="27360"/>
            </a:xfrm>
            <a:custGeom>
              <a:avLst/>
              <a:gdLst/>
              <a:ahLst/>
              <a:rect l="l" t="t" r="r" b="b"/>
              <a:pathLst>
                <a:path w="55" h="42">
                  <a:moveTo>
                    <a:pt x="33" y="0"/>
                  </a:moveTo>
                  <a:lnTo>
                    <a:pt x="41" y="8"/>
                  </a:lnTo>
                  <a:lnTo>
                    <a:pt x="48" y="19"/>
                  </a:lnTo>
                  <a:lnTo>
                    <a:pt x="53" y="30"/>
                  </a:lnTo>
                  <a:lnTo>
                    <a:pt x="55" y="42"/>
                  </a:lnTo>
                  <a:lnTo>
                    <a:pt x="0" y="42"/>
                  </a:lnTo>
                  <a:lnTo>
                    <a:pt x="33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9440" bIns="-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3549960" y="6081120"/>
              <a:ext cx="75240" cy="37080"/>
            </a:xfrm>
            <a:custGeom>
              <a:avLst/>
              <a:gdLst/>
              <a:ahLst/>
              <a:rect l="l" t="t" r="r" b="b"/>
              <a:pathLst>
                <a:path w="66" h="53">
                  <a:moveTo>
                    <a:pt x="33" y="53"/>
                  </a:moveTo>
                  <a:lnTo>
                    <a:pt x="66" y="12"/>
                  </a:lnTo>
                  <a:lnTo>
                    <a:pt x="59" y="7"/>
                  </a:lnTo>
                  <a:lnTo>
                    <a:pt x="52" y="4"/>
                  </a:lnTo>
                  <a:lnTo>
                    <a:pt x="43" y="2"/>
                  </a:lnTo>
                  <a:lnTo>
                    <a:pt x="34" y="0"/>
                  </a:lnTo>
                  <a:lnTo>
                    <a:pt x="25" y="2"/>
                  </a:lnTo>
                  <a:lnTo>
                    <a:pt x="15" y="4"/>
                  </a:lnTo>
                  <a:lnTo>
                    <a:pt x="7" y="7"/>
                  </a:lnTo>
                  <a:lnTo>
                    <a:pt x="0" y="12"/>
                  </a:lnTo>
                  <a:lnTo>
                    <a:pt x="33" y="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720" bIns="-9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3597120" y="6114240"/>
              <a:ext cx="409680" cy="119880"/>
            </a:xfrm>
            <a:custGeom>
              <a:avLst/>
              <a:gdLst/>
              <a:ahLst/>
              <a:rect l="l" t="t" r="r" b="b"/>
              <a:pathLst>
                <a:path w="348" h="174">
                  <a:moveTo>
                    <a:pt x="1" y="136"/>
                  </a:moveTo>
                  <a:lnTo>
                    <a:pt x="88" y="0"/>
                  </a:lnTo>
                  <a:lnTo>
                    <a:pt x="122" y="0"/>
                  </a:lnTo>
                  <a:lnTo>
                    <a:pt x="35" y="136"/>
                  </a:lnTo>
                  <a:lnTo>
                    <a:pt x="171" y="136"/>
                  </a:lnTo>
                  <a:lnTo>
                    <a:pt x="259" y="0"/>
                  </a:lnTo>
                  <a:lnTo>
                    <a:pt x="348" y="136"/>
                  </a:lnTo>
                  <a:lnTo>
                    <a:pt x="340" y="174"/>
                  </a:lnTo>
                  <a:lnTo>
                    <a:pt x="259" y="50"/>
                  </a:lnTo>
                  <a:lnTo>
                    <a:pt x="179" y="174"/>
                  </a:lnTo>
                  <a:lnTo>
                    <a:pt x="9" y="174"/>
                  </a:lnTo>
                  <a:lnTo>
                    <a:pt x="0" y="136"/>
                  </a:lnTo>
                  <a:lnTo>
                    <a:pt x="1" y="13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3866040" y="6405480"/>
              <a:ext cx="16236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3811680" y="6368400"/>
              <a:ext cx="162720" cy="288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3809520" y="6150240"/>
              <a:ext cx="188640" cy="83880"/>
            </a:xfrm>
            <a:custGeom>
              <a:avLst/>
              <a:gdLst/>
              <a:ahLst/>
              <a:rect l="l" t="t" r="r" b="b"/>
              <a:pathLst>
                <a:path w="161" h="124">
                  <a:moveTo>
                    <a:pt x="161" y="124"/>
                  </a:moveTo>
                  <a:lnTo>
                    <a:pt x="80" y="0"/>
                  </a:lnTo>
                  <a:lnTo>
                    <a:pt x="0" y="124"/>
                  </a:lnTo>
                  <a:lnTo>
                    <a:pt x="161" y="124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7080" bIns="37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3955320" y="6234480"/>
              <a:ext cx="21240" cy="1270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3639240" y="6114240"/>
              <a:ext cx="261720" cy="93600"/>
            </a:xfrm>
            <a:custGeom>
              <a:avLst/>
              <a:gdLst/>
              <a:ahLst/>
              <a:rect l="l" t="t" r="r" b="b"/>
              <a:pathLst>
                <a:path w="224" h="136">
                  <a:moveTo>
                    <a:pt x="87" y="0"/>
                  </a:moveTo>
                  <a:lnTo>
                    <a:pt x="0" y="136"/>
                  </a:lnTo>
                  <a:lnTo>
                    <a:pt x="136" y="136"/>
                  </a:lnTo>
                  <a:lnTo>
                    <a:pt x="224" y="0"/>
                  </a:lnTo>
                  <a:lnTo>
                    <a:pt x="87" y="0"/>
                  </a:lnTo>
                  <a:close/>
                </a:path>
              </a:pathLst>
            </a:cu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3802320" y="6234480"/>
              <a:ext cx="35280" cy="1270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3627720" y="6234480"/>
              <a:ext cx="35640" cy="127080"/>
            </a:xfrm>
            <a:prstGeom prst="rect">
              <a:avLst/>
            </a:prstGeom>
            <a:solidFill>
              <a:srgbClr val="5b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1018440" y="6438960"/>
              <a:ext cx="1041840" cy="304920"/>
            </a:xfrm>
            <a:custGeom>
              <a:avLst/>
              <a:gdLst/>
              <a:ahLst/>
              <a:rect l="l" t="t" r="r" b="b"/>
              <a:pathLst>
                <a:path w="882" h="442">
                  <a:moveTo>
                    <a:pt x="632" y="0"/>
                  </a:moveTo>
                  <a:lnTo>
                    <a:pt x="646" y="4"/>
                  </a:lnTo>
                  <a:lnTo>
                    <a:pt x="665" y="12"/>
                  </a:lnTo>
                  <a:lnTo>
                    <a:pt x="683" y="23"/>
                  </a:lnTo>
                  <a:lnTo>
                    <a:pt x="699" y="37"/>
                  </a:lnTo>
                  <a:lnTo>
                    <a:pt x="706" y="52"/>
                  </a:lnTo>
                  <a:lnTo>
                    <a:pt x="703" y="67"/>
                  </a:lnTo>
                  <a:lnTo>
                    <a:pt x="682" y="80"/>
                  </a:lnTo>
                  <a:lnTo>
                    <a:pt x="641" y="91"/>
                  </a:lnTo>
                  <a:lnTo>
                    <a:pt x="613" y="96"/>
                  </a:lnTo>
                  <a:lnTo>
                    <a:pt x="585" y="99"/>
                  </a:lnTo>
                  <a:lnTo>
                    <a:pt x="555" y="104"/>
                  </a:lnTo>
                  <a:lnTo>
                    <a:pt x="524" y="107"/>
                  </a:lnTo>
                  <a:lnTo>
                    <a:pt x="493" y="111"/>
                  </a:lnTo>
                  <a:lnTo>
                    <a:pt x="460" y="114"/>
                  </a:lnTo>
                  <a:lnTo>
                    <a:pt x="427" y="118"/>
                  </a:lnTo>
                  <a:lnTo>
                    <a:pt x="394" y="121"/>
                  </a:lnTo>
                  <a:lnTo>
                    <a:pt x="361" y="126"/>
                  </a:lnTo>
                  <a:lnTo>
                    <a:pt x="328" y="130"/>
                  </a:lnTo>
                  <a:lnTo>
                    <a:pt x="295" y="135"/>
                  </a:lnTo>
                  <a:lnTo>
                    <a:pt x="263" y="141"/>
                  </a:lnTo>
                  <a:lnTo>
                    <a:pt x="232" y="146"/>
                  </a:lnTo>
                  <a:lnTo>
                    <a:pt x="200" y="153"/>
                  </a:lnTo>
                  <a:lnTo>
                    <a:pt x="172" y="161"/>
                  </a:lnTo>
                  <a:lnTo>
                    <a:pt x="143" y="170"/>
                  </a:lnTo>
                  <a:lnTo>
                    <a:pt x="116" y="181"/>
                  </a:lnTo>
                  <a:lnTo>
                    <a:pt x="91" y="194"/>
                  </a:lnTo>
                  <a:lnTo>
                    <a:pt x="69" y="207"/>
                  </a:lnTo>
                  <a:lnTo>
                    <a:pt x="48" y="223"/>
                  </a:lnTo>
                  <a:lnTo>
                    <a:pt x="32" y="241"/>
                  </a:lnTo>
                  <a:lnTo>
                    <a:pt x="18" y="259"/>
                  </a:lnTo>
                  <a:lnTo>
                    <a:pt x="8" y="278"/>
                  </a:lnTo>
                  <a:lnTo>
                    <a:pt x="1" y="297"/>
                  </a:lnTo>
                  <a:lnTo>
                    <a:pt x="0" y="317"/>
                  </a:lnTo>
                  <a:lnTo>
                    <a:pt x="2" y="336"/>
                  </a:lnTo>
                  <a:lnTo>
                    <a:pt x="10" y="356"/>
                  </a:lnTo>
                  <a:lnTo>
                    <a:pt x="23" y="374"/>
                  </a:lnTo>
                  <a:lnTo>
                    <a:pt x="41" y="393"/>
                  </a:lnTo>
                  <a:lnTo>
                    <a:pt x="67" y="411"/>
                  </a:lnTo>
                  <a:lnTo>
                    <a:pt x="98" y="427"/>
                  </a:lnTo>
                  <a:lnTo>
                    <a:pt x="136" y="442"/>
                  </a:lnTo>
                  <a:lnTo>
                    <a:pt x="151" y="442"/>
                  </a:lnTo>
                  <a:lnTo>
                    <a:pt x="170" y="442"/>
                  </a:lnTo>
                  <a:lnTo>
                    <a:pt x="196" y="442"/>
                  </a:lnTo>
                  <a:lnTo>
                    <a:pt x="223" y="442"/>
                  </a:lnTo>
                  <a:lnTo>
                    <a:pt x="256" y="442"/>
                  </a:lnTo>
                  <a:lnTo>
                    <a:pt x="288" y="442"/>
                  </a:lnTo>
                  <a:lnTo>
                    <a:pt x="323" y="442"/>
                  </a:lnTo>
                  <a:lnTo>
                    <a:pt x="357" y="442"/>
                  </a:lnTo>
                  <a:lnTo>
                    <a:pt x="392" y="442"/>
                  </a:lnTo>
                  <a:lnTo>
                    <a:pt x="424" y="442"/>
                  </a:lnTo>
                  <a:lnTo>
                    <a:pt x="454" y="442"/>
                  </a:lnTo>
                  <a:lnTo>
                    <a:pt x="480" y="442"/>
                  </a:lnTo>
                  <a:lnTo>
                    <a:pt x="502" y="442"/>
                  </a:lnTo>
                  <a:lnTo>
                    <a:pt x="518" y="442"/>
                  </a:lnTo>
                  <a:lnTo>
                    <a:pt x="530" y="442"/>
                  </a:lnTo>
                  <a:lnTo>
                    <a:pt x="533" y="442"/>
                  </a:lnTo>
                  <a:lnTo>
                    <a:pt x="505" y="436"/>
                  </a:lnTo>
                  <a:lnTo>
                    <a:pt x="471" y="429"/>
                  </a:lnTo>
                  <a:lnTo>
                    <a:pt x="437" y="422"/>
                  </a:lnTo>
                  <a:lnTo>
                    <a:pt x="400" y="413"/>
                  </a:lnTo>
                  <a:lnTo>
                    <a:pt x="363" y="404"/>
                  </a:lnTo>
                  <a:lnTo>
                    <a:pt x="327" y="393"/>
                  </a:lnTo>
                  <a:lnTo>
                    <a:pt x="293" y="381"/>
                  </a:lnTo>
                  <a:lnTo>
                    <a:pt x="262" y="367"/>
                  </a:lnTo>
                  <a:lnTo>
                    <a:pt x="234" y="353"/>
                  </a:lnTo>
                  <a:lnTo>
                    <a:pt x="211" y="338"/>
                  </a:lnTo>
                  <a:lnTo>
                    <a:pt x="194" y="321"/>
                  </a:lnTo>
                  <a:lnTo>
                    <a:pt x="182" y="303"/>
                  </a:lnTo>
                  <a:lnTo>
                    <a:pt x="180" y="284"/>
                  </a:lnTo>
                  <a:lnTo>
                    <a:pt x="185" y="264"/>
                  </a:lnTo>
                  <a:lnTo>
                    <a:pt x="202" y="241"/>
                  </a:lnTo>
                  <a:lnTo>
                    <a:pt x="228" y="218"/>
                  </a:lnTo>
                  <a:lnTo>
                    <a:pt x="247" y="207"/>
                  </a:lnTo>
                  <a:lnTo>
                    <a:pt x="272" y="198"/>
                  </a:lnTo>
                  <a:lnTo>
                    <a:pt x="302" y="191"/>
                  </a:lnTo>
                  <a:lnTo>
                    <a:pt x="335" y="184"/>
                  </a:lnTo>
                  <a:lnTo>
                    <a:pt x="373" y="180"/>
                  </a:lnTo>
                  <a:lnTo>
                    <a:pt x="414" y="174"/>
                  </a:lnTo>
                  <a:lnTo>
                    <a:pt x="456" y="170"/>
                  </a:lnTo>
                  <a:lnTo>
                    <a:pt x="500" y="166"/>
                  </a:lnTo>
                  <a:lnTo>
                    <a:pt x="545" y="162"/>
                  </a:lnTo>
                  <a:lnTo>
                    <a:pt x="589" y="158"/>
                  </a:lnTo>
                  <a:lnTo>
                    <a:pt x="631" y="153"/>
                  </a:lnTo>
                  <a:lnTo>
                    <a:pt x="673" y="147"/>
                  </a:lnTo>
                  <a:lnTo>
                    <a:pt x="712" y="142"/>
                  </a:lnTo>
                  <a:lnTo>
                    <a:pt x="747" y="134"/>
                  </a:lnTo>
                  <a:lnTo>
                    <a:pt x="778" y="124"/>
                  </a:lnTo>
                  <a:lnTo>
                    <a:pt x="804" y="114"/>
                  </a:lnTo>
                  <a:lnTo>
                    <a:pt x="843" y="92"/>
                  </a:lnTo>
                  <a:lnTo>
                    <a:pt x="868" y="72"/>
                  </a:lnTo>
                  <a:lnTo>
                    <a:pt x="880" y="53"/>
                  </a:lnTo>
                  <a:lnTo>
                    <a:pt x="882" y="37"/>
                  </a:lnTo>
                  <a:lnTo>
                    <a:pt x="880" y="23"/>
                  </a:lnTo>
                  <a:lnTo>
                    <a:pt x="873" y="13"/>
                  </a:lnTo>
                  <a:lnTo>
                    <a:pt x="866" y="5"/>
                  </a:lnTo>
                  <a:lnTo>
                    <a:pt x="861" y="0"/>
                  </a:lnTo>
                  <a:lnTo>
                    <a:pt x="632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9" name=""/>
            <p:cNvSpPr/>
            <p:nvPr/>
          </p:nvSpPr>
          <p:spPr>
            <a:xfrm>
              <a:off x="2336040" y="6299280"/>
              <a:ext cx="105840" cy="234720"/>
            </a:xfrm>
            <a:custGeom>
              <a:avLst/>
              <a:gdLst/>
              <a:ahLst/>
              <a:rect l="l" t="t" r="r" b="b"/>
              <a:pathLst>
                <a:path w="91" h="338">
                  <a:moveTo>
                    <a:pt x="7" y="338"/>
                  </a:moveTo>
                  <a:lnTo>
                    <a:pt x="4" y="338"/>
                  </a:lnTo>
                  <a:lnTo>
                    <a:pt x="0" y="335"/>
                  </a:lnTo>
                  <a:lnTo>
                    <a:pt x="4" y="145"/>
                  </a:lnTo>
                  <a:lnTo>
                    <a:pt x="5" y="7"/>
                  </a:lnTo>
                  <a:lnTo>
                    <a:pt x="3" y="4"/>
                  </a:lnTo>
                  <a:lnTo>
                    <a:pt x="3" y="2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67" y="10"/>
                  </a:lnTo>
                  <a:lnTo>
                    <a:pt x="65" y="10"/>
                  </a:lnTo>
                  <a:lnTo>
                    <a:pt x="91" y="335"/>
                  </a:lnTo>
                  <a:lnTo>
                    <a:pt x="87" y="335"/>
                  </a:lnTo>
                  <a:lnTo>
                    <a:pt x="82" y="332"/>
                  </a:lnTo>
                  <a:lnTo>
                    <a:pt x="58" y="11"/>
                  </a:lnTo>
                  <a:lnTo>
                    <a:pt x="15" y="13"/>
                  </a:lnTo>
                  <a:lnTo>
                    <a:pt x="7" y="338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0" name=""/>
            <p:cNvSpPr/>
            <p:nvPr/>
          </p:nvSpPr>
          <p:spPr>
            <a:xfrm>
              <a:off x="2347920" y="6318720"/>
              <a:ext cx="61200" cy="6840"/>
            </a:xfrm>
            <a:custGeom>
              <a:avLst/>
              <a:gdLst/>
              <a:ahLst/>
              <a:rect l="l" t="t" r="r" b="b"/>
              <a:pathLst>
                <a:path w="51" h="10">
                  <a:moveTo>
                    <a:pt x="49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1" y="9"/>
                  </a:lnTo>
                  <a:lnTo>
                    <a:pt x="49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1" name=""/>
            <p:cNvSpPr/>
            <p:nvPr/>
          </p:nvSpPr>
          <p:spPr>
            <a:xfrm>
              <a:off x="2347920" y="6348960"/>
              <a:ext cx="63360" cy="5400"/>
            </a:xfrm>
            <a:custGeom>
              <a:avLst/>
              <a:gdLst/>
              <a:ahLst/>
              <a:rect l="l" t="t" r="r" b="b"/>
              <a:pathLst>
                <a:path w="53" h="9">
                  <a:moveTo>
                    <a:pt x="52" y="0"/>
                  </a:moveTo>
                  <a:lnTo>
                    <a:pt x="1" y="1"/>
                  </a:lnTo>
                  <a:lnTo>
                    <a:pt x="0" y="9"/>
                  </a:lnTo>
                  <a:lnTo>
                    <a:pt x="53" y="8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2347920" y="6340680"/>
              <a:ext cx="63360" cy="3960"/>
            </a:xfrm>
            <a:custGeom>
              <a:avLst/>
              <a:gdLst/>
              <a:ahLst/>
              <a:rect l="l" t="t" r="r" b="b"/>
              <a:pathLst>
                <a:path w="53" h="4">
                  <a:moveTo>
                    <a:pt x="52" y="0"/>
                  </a:moveTo>
                  <a:lnTo>
                    <a:pt x="1" y="1"/>
                  </a:lnTo>
                  <a:lnTo>
                    <a:pt x="0" y="4"/>
                  </a:lnTo>
                  <a:lnTo>
                    <a:pt x="53" y="3"/>
                  </a:lnTo>
                  <a:lnTo>
                    <a:pt x="52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2347920" y="6382080"/>
              <a:ext cx="68400" cy="6840"/>
            </a:xfrm>
            <a:custGeom>
              <a:avLst/>
              <a:gdLst/>
              <a:ahLst/>
              <a:rect l="l" t="t" r="r" b="b"/>
              <a:pathLst>
                <a:path w="58" h="10">
                  <a:moveTo>
                    <a:pt x="57" y="0"/>
                  </a:moveTo>
                  <a:lnTo>
                    <a:pt x="1" y="2"/>
                  </a:lnTo>
                  <a:lnTo>
                    <a:pt x="0" y="10"/>
                  </a:lnTo>
                  <a:lnTo>
                    <a:pt x="58" y="8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960" bIns="-39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2347920" y="6375240"/>
              <a:ext cx="68400" cy="3960"/>
            </a:xfrm>
            <a:custGeom>
              <a:avLst/>
              <a:gdLst/>
              <a:ahLst/>
              <a:rect l="l" t="t" r="r" b="b"/>
              <a:pathLst>
                <a:path w="57" h="6">
                  <a:moveTo>
                    <a:pt x="57" y="0"/>
                  </a:moveTo>
                  <a:lnTo>
                    <a:pt x="1" y="2"/>
                  </a:lnTo>
                  <a:lnTo>
                    <a:pt x="0" y="6"/>
                  </a:lnTo>
                  <a:lnTo>
                    <a:pt x="57" y="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306360" y="5969160"/>
              <a:ext cx="716760" cy="612720"/>
            </a:xfrm>
            <a:custGeom>
              <a:avLst/>
              <a:gdLst/>
              <a:ahLst/>
              <a:rect l="l" t="t" r="r" b="b"/>
              <a:pathLst>
                <a:path w="607" h="888">
                  <a:moveTo>
                    <a:pt x="607" y="380"/>
                  </a:moveTo>
                  <a:lnTo>
                    <a:pt x="592" y="383"/>
                  </a:lnTo>
                  <a:lnTo>
                    <a:pt x="575" y="388"/>
                  </a:lnTo>
                  <a:lnTo>
                    <a:pt x="555" y="391"/>
                  </a:lnTo>
                  <a:lnTo>
                    <a:pt x="535" y="398"/>
                  </a:lnTo>
                  <a:lnTo>
                    <a:pt x="514" y="406"/>
                  </a:lnTo>
                  <a:lnTo>
                    <a:pt x="492" y="418"/>
                  </a:lnTo>
                  <a:lnTo>
                    <a:pt x="469" y="434"/>
                  </a:lnTo>
                  <a:lnTo>
                    <a:pt x="447" y="455"/>
                  </a:lnTo>
                  <a:lnTo>
                    <a:pt x="426" y="480"/>
                  </a:lnTo>
                  <a:lnTo>
                    <a:pt x="407" y="513"/>
                  </a:lnTo>
                  <a:lnTo>
                    <a:pt x="390" y="553"/>
                  </a:lnTo>
                  <a:lnTo>
                    <a:pt x="373" y="601"/>
                  </a:lnTo>
                  <a:lnTo>
                    <a:pt x="361" y="657"/>
                  </a:lnTo>
                  <a:lnTo>
                    <a:pt x="350" y="724"/>
                  </a:lnTo>
                  <a:lnTo>
                    <a:pt x="345" y="800"/>
                  </a:lnTo>
                  <a:lnTo>
                    <a:pt x="342" y="888"/>
                  </a:lnTo>
                  <a:lnTo>
                    <a:pt x="308" y="888"/>
                  </a:lnTo>
                  <a:lnTo>
                    <a:pt x="308" y="855"/>
                  </a:lnTo>
                  <a:lnTo>
                    <a:pt x="308" y="818"/>
                  </a:lnTo>
                  <a:lnTo>
                    <a:pt x="308" y="781"/>
                  </a:lnTo>
                  <a:lnTo>
                    <a:pt x="307" y="742"/>
                  </a:lnTo>
                  <a:lnTo>
                    <a:pt x="303" y="703"/>
                  </a:lnTo>
                  <a:lnTo>
                    <a:pt x="299" y="663"/>
                  </a:lnTo>
                  <a:lnTo>
                    <a:pt x="290" y="623"/>
                  </a:lnTo>
                  <a:lnTo>
                    <a:pt x="279" y="582"/>
                  </a:lnTo>
                  <a:lnTo>
                    <a:pt x="264" y="543"/>
                  </a:lnTo>
                  <a:lnTo>
                    <a:pt x="243" y="506"/>
                  </a:lnTo>
                  <a:lnTo>
                    <a:pt x="219" y="471"/>
                  </a:lnTo>
                  <a:lnTo>
                    <a:pt x="189" y="436"/>
                  </a:lnTo>
                  <a:lnTo>
                    <a:pt x="152" y="405"/>
                  </a:lnTo>
                  <a:lnTo>
                    <a:pt x="108" y="376"/>
                  </a:lnTo>
                  <a:lnTo>
                    <a:pt x="59" y="351"/>
                  </a:lnTo>
                  <a:lnTo>
                    <a:pt x="0" y="330"/>
                  </a:lnTo>
                  <a:lnTo>
                    <a:pt x="11" y="333"/>
                  </a:lnTo>
                  <a:lnTo>
                    <a:pt x="23" y="336"/>
                  </a:lnTo>
                  <a:lnTo>
                    <a:pt x="37" y="340"/>
                  </a:lnTo>
                  <a:lnTo>
                    <a:pt x="54" y="344"/>
                  </a:lnTo>
                  <a:lnTo>
                    <a:pt x="72" y="351"/>
                  </a:lnTo>
                  <a:lnTo>
                    <a:pt x="91" y="359"/>
                  </a:lnTo>
                  <a:lnTo>
                    <a:pt x="111" y="368"/>
                  </a:lnTo>
                  <a:lnTo>
                    <a:pt x="131" y="379"/>
                  </a:lnTo>
                  <a:lnTo>
                    <a:pt x="152" y="393"/>
                  </a:lnTo>
                  <a:lnTo>
                    <a:pt x="173" y="409"/>
                  </a:lnTo>
                  <a:lnTo>
                    <a:pt x="194" y="427"/>
                  </a:lnTo>
                  <a:lnTo>
                    <a:pt x="214" y="448"/>
                  </a:lnTo>
                  <a:lnTo>
                    <a:pt x="234" y="472"/>
                  </a:lnTo>
                  <a:lnTo>
                    <a:pt x="254" y="498"/>
                  </a:lnTo>
                  <a:lnTo>
                    <a:pt x="271" y="528"/>
                  </a:lnTo>
                  <a:lnTo>
                    <a:pt x="287" y="563"/>
                  </a:lnTo>
                  <a:lnTo>
                    <a:pt x="285" y="550"/>
                  </a:lnTo>
                  <a:lnTo>
                    <a:pt x="282" y="534"/>
                  </a:lnTo>
                  <a:lnTo>
                    <a:pt x="280" y="515"/>
                  </a:lnTo>
                  <a:lnTo>
                    <a:pt x="277" y="492"/>
                  </a:lnTo>
                  <a:lnTo>
                    <a:pt x="272" y="465"/>
                  </a:lnTo>
                  <a:lnTo>
                    <a:pt x="266" y="437"/>
                  </a:lnTo>
                  <a:lnTo>
                    <a:pt x="261" y="408"/>
                  </a:lnTo>
                  <a:lnTo>
                    <a:pt x="251" y="375"/>
                  </a:lnTo>
                  <a:lnTo>
                    <a:pt x="241" y="342"/>
                  </a:lnTo>
                  <a:lnTo>
                    <a:pt x="229" y="306"/>
                  </a:lnTo>
                  <a:lnTo>
                    <a:pt x="214" y="271"/>
                  </a:lnTo>
                  <a:lnTo>
                    <a:pt x="197" y="235"/>
                  </a:lnTo>
                  <a:lnTo>
                    <a:pt x="176" y="197"/>
                  </a:lnTo>
                  <a:lnTo>
                    <a:pt x="153" y="160"/>
                  </a:lnTo>
                  <a:lnTo>
                    <a:pt x="127" y="123"/>
                  </a:lnTo>
                  <a:lnTo>
                    <a:pt x="97" y="88"/>
                  </a:lnTo>
                  <a:lnTo>
                    <a:pt x="121" y="110"/>
                  </a:lnTo>
                  <a:lnTo>
                    <a:pt x="141" y="131"/>
                  </a:lnTo>
                  <a:lnTo>
                    <a:pt x="158" y="153"/>
                  </a:lnTo>
                  <a:lnTo>
                    <a:pt x="173" y="175"/>
                  </a:lnTo>
                  <a:lnTo>
                    <a:pt x="186" y="197"/>
                  </a:lnTo>
                  <a:lnTo>
                    <a:pt x="196" y="217"/>
                  </a:lnTo>
                  <a:lnTo>
                    <a:pt x="206" y="235"/>
                  </a:lnTo>
                  <a:lnTo>
                    <a:pt x="214" y="251"/>
                  </a:lnTo>
                  <a:lnTo>
                    <a:pt x="214" y="234"/>
                  </a:lnTo>
                  <a:lnTo>
                    <a:pt x="212" y="208"/>
                  </a:lnTo>
                  <a:lnTo>
                    <a:pt x="209" y="180"/>
                  </a:lnTo>
                  <a:lnTo>
                    <a:pt x="203" y="146"/>
                  </a:lnTo>
                  <a:lnTo>
                    <a:pt x="196" y="114"/>
                  </a:lnTo>
                  <a:lnTo>
                    <a:pt x="188" y="83"/>
                  </a:lnTo>
                  <a:lnTo>
                    <a:pt x="178" y="58"/>
                  </a:lnTo>
                  <a:lnTo>
                    <a:pt x="167" y="38"/>
                  </a:lnTo>
                  <a:lnTo>
                    <a:pt x="179" y="53"/>
                  </a:lnTo>
                  <a:lnTo>
                    <a:pt x="189" y="74"/>
                  </a:lnTo>
                  <a:lnTo>
                    <a:pt x="198" y="98"/>
                  </a:lnTo>
                  <a:lnTo>
                    <a:pt x="206" y="127"/>
                  </a:lnTo>
                  <a:lnTo>
                    <a:pt x="213" y="159"/>
                  </a:lnTo>
                  <a:lnTo>
                    <a:pt x="219" y="192"/>
                  </a:lnTo>
                  <a:lnTo>
                    <a:pt x="222" y="228"/>
                  </a:lnTo>
                  <a:lnTo>
                    <a:pt x="225" y="264"/>
                  </a:lnTo>
                  <a:lnTo>
                    <a:pt x="234" y="283"/>
                  </a:lnTo>
                  <a:lnTo>
                    <a:pt x="247" y="315"/>
                  </a:lnTo>
                  <a:lnTo>
                    <a:pt x="263" y="359"/>
                  </a:lnTo>
                  <a:lnTo>
                    <a:pt x="279" y="411"/>
                  </a:lnTo>
                  <a:lnTo>
                    <a:pt x="295" y="469"/>
                  </a:lnTo>
                  <a:lnTo>
                    <a:pt x="309" y="529"/>
                  </a:lnTo>
                  <a:lnTo>
                    <a:pt x="319" y="590"/>
                  </a:lnTo>
                  <a:lnTo>
                    <a:pt x="325" y="650"/>
                  </a:lnTo>
                  <a:lnTo>
                    <a:pt x="333" y="618"/>
                  </a:lnTo>
                  <a:lnTo>
                    <a:pt x="342" y="581"/>
                  </a:lnTo>
                  <a:lnTo>
                    <a:pt x="352" y="539"/>
                  </a:lnTo>
                  <a:lnTo>
                    <a:pt x="358" y="492"/>
                  </a:lnTo>
                  <a:lnTo>
                    <a:pt x="364" y="441"/>
                  </a:lnTo>
                  <a:lnTo>
                    <a:pt x="365" y="387"/>
                  </a:lnTo>
                  <a:lnTo>
                    <a:pt x="363" y="330"/>
                  </a:lnTo>
                  <a:lnTo>
                    <a:pt x="355" y="272"/>
                  </a:lnTo>
                  <a:lnTo>
                    <a:pt x="343" y="217"/>
                  </a:lnTo>
                  <a:lnTo>
                    <a:pt x="332" y="168"/>
                  </a:lnTo>
                  <a:lnTo>
                    <a:pt x="322" y="126"/>
                  </a:lnTo>
                  <a:lnTo>
                    <a:pt x="310" y="90"/>
                  </a:lnTo>
                  <a:lnTo>
                    <a:pt x="300" y="60"/>
                  </a:lnTo>
                  <a:lnTo>
                    <a:pt x="290" y="35"/>
                  </a:lnTo>
                  <a:lnTo>
                    <a:pt x="282" y="15"/>
                  </a:lnTo>
                  <a:lnTo>
                    <a:pt x="274" y="0"/>
                  </a:lnTo>
                  <a:lnTo>
                    <a:pt x="282" y="15"/>
                  </a:lnTo>
                  <a:lnTo>
                    <a:pt x="294" y="39"/>
                  </a:lnTo>
                  <a:lnTo>
                    <a:pt x="309" y="73"/>
                  </a:lnTo>
                  <a:lnTo>
                    <a:pt x="324" y="112"/>
                  </a:lnTo>
                  <a:lnTo>
                    <a:pt x="338" y="156"/>
                  </a:lnTo>
                  <a:lnTo>
                    <a:pt x="350" y="200"/>
                  </a:lnTo>
                  <a:lnTo>
                    <a:pt x="360" y="245"/>
                  </a:lnTo>
                  <a:lnTo>
                    <a:pt x="365" y="289"/>
                  </a:lnTo>
                  <a:lnTo>
                    <a:pt x="376" y="264"/>
                  </a:lnTo>
                  <a:lnTo>
                    <a:pt x="390" y="236"/>
                  </a:lnTo>
                  <a:lnTo>
                    <a:pt x="408" y="206"/>
                  </a:lnTo>
                  <a:lnTo>
                    <a:pt x="426" y="176"/>
                  </a:lnTo>
                  <a:lnTo>
                    <a:pt x="444" y="145"/>
                  </a:lnTo>
                  <a:lnTo>
                    <a:pt x="459" y="116"/>
                  </a:lnTo>
                  <a:lnTo>
                    <a:pt x="468" y="89"/>
                  </a:lnTo>
                  <a:lnTo>
                    <a:pt x="471" y="64"/>
                  </a:lnTo>
                  <a:lnTo>
                    <a:pt x="471" y="87"/>
                  </a:lnTo>
                  <a:lnTo>
                    <a:pt x="462" y="116"/>
                  </a:lnTo>
                  <a:lnTo>
                    <a:pt x="447" y="152"/>
                  </a:lnTo>
                  <a:lnTo>
                    <a:pt x="429" y="190"/>
                  </a:lnTo>
                  <a:lnTo>
                    <a:pt x="409" y="228"/>
                  </a:lnTo>
                  <a:lnTo>
                    <a:pt x="391" y="261"/>
                  </a:lnTo>
                  <a:lnTo>
                    <a:pt x="377" y="290"/>
                  </a:lnTo>
                  <a:lnTo>
                    <a:pt x="371" y="310"/>
                  </a:lnTo>
                  <a:lnTo>
                    <a:pt x="375" y="336"/>
                  </a:lnTo>
                  <a:lnTo>
                    <a:pt x="378" y="364"/>
                  </a:lnTo>
                  <a:lnTo>
                    <a:pt x="381" y="390"/>
                  </a:lnTo>
                  <a:lnTo>
                    <a:pt x="383" y="414"/>
                  </a:lnTo>
                  <a:lnTo>
                    <a:pt x="405" y="393"/>
                  </a:lnTo>
                  <a:lnTo>
                    <a:pt x="428" y="366"/>
                  </a:lnTo>
                  <a:lnTo>
                    <a:pt x="451" y="335"/>
                  </a:lnTo>
                  <a:lnTo>
                    <a:pt x="471" y="299"/>
                  </a:lnTo>
                  <a:lnTo>
                    <a:pt x="489" y="259"/>
                  </a:lnTo>
                  <a:lnTo>
                    <a:pt x="501" y="214"/>
                  </a:lnTo>
                  <a:lnTo>
                    <a:pt x="507" y="164"/>
                  </a:lnTo>
                  <a:lnTo>
                    <a:pt x="504" y="108"/>
                  </a:lnTo>
                  <a:lnTo>
                    <a:pt x="509" y="135"/>
                  </a:lnTo>
                  <a:lnTo>
                    <a:pt x="512" y="172"/>
                  </a:lnTo>
                  <a:lnTo>
                    <a:pt x="508" y="213"/>
                  </a:lnTo>
                  <a:lnTo>
                    <a:pt x="501" y="253"/>
                  </a:lnTo>
                  <a:lnTo>
                    <a:pt x="514" y="242"/>
                  </a:lnTo>
                  <a:lnTo>
                    <a:pt x="525" y="226"/>
                  </a:lnTo>
                  <a:lnTo>
                    <a:pt x="537" y="206"/>
                  </a:lnTo>
                  <a:lnTo>
                    <a:pt x="547" y="185"/>
                  </a:lnTo>
                  <a:lnTo>
                    <a:pt x="555" y="165"/>
                  </a:lnTo>
                  <a:lnTo>
                    <a:pt x="562" y="145"/>
                  </a:lnTo>
                  <a:lnTo>
                    <a:pt x="567" y="129"/>
                  </a:lnTo>
                  <a:lnTo>
                    <a:pt x="569" y="116"/>
                  </a:lnTo>
                  <a:lnTo>
                    <a:pt x="569" y="130"/>
                  </a:lnTo>
                  <a:lnTo>
                    <a:pt x="566" y="149"/>
                  </a:lnTo>
                  <a:lnTo>
                    <a:pt x="561" y="169"/>
                  </a:lnTo>
                  <a:lnTo>
                    <a:pt x="553" y="191"/>
                  </a:lnTo>
                  <a:lnTo>
                    <a:pt x="543" y="214"/>
                  </a:lnTo>
                  <a:lnTo>
                    <a:pt x="529" y="235"/>
                  </a:lnTo>
                  <a:lnTo>
                    <a:pt x="513" y="255"/>
                  </a:lnTo>
                  <a:lnTo>
                    <a:pt x="494" y="269"/>
                  </a:lnTo>
                  <a:lnTo>
                    <a:pt x="489" y="286"/>
                  </a:lnTo>
                  <a:lnTo>
                    <a:pt x="482" y="302"/>
                  </a:lnTo>
                  <a:lnTo>
                    <a:pt x="474" y="319"/>
                  </a:lnTo>
                  <a:lnTo>
                    <a:pt x="466" y="334"/>
                  </a:lnTo>
                  <a:lnTo>
                    <a:pt x="456" y="349"/>
                  </a:lnTo>
                  <a:lnTo>
                    <a:pt x="448" y="362"/>
                  </a:lnTo>
                  <a:lnTo>
                    <a:pt x="439" y="373"/>
                  </a:lnTo>
                  <a:lnTo>
                    <a:pt x="431" y="382"/>
                  </a:lnTo>
                  <a:lnTo>
                    <a:pt x="423" y="390"/>
                  </a:lnTo>
                  <a:lnTo>
                    <a:pt x="415" y="398"/>
                  </a:lnTo>
                  <a:lnTo>
                    <a:pt x="406" y="408"/>
                  </a:lnTo>
                  <a:lnTo>
                    <a:pt x="398" y="421"/>
                  </a:lnTo>
                  <a:lnTo>
                    <a:pt x="390" y="439"/>
                  </a:lnTo>
                  <a:lnTo>
                    <a:pt x="381" y="464"/>
                  </a:lnTo>
                  <a:lnTo>
                    <a:pt x="376" y="496"/>
                  </a:lnTo>
                  <a:lnTo>
                    <a:pt x="370" y="538"/>
                  </a:lnTo>
                  <a:lnTo>
                    <a:pt x="377" y="521"/>
                  </a:lnTo>
                  <a:lnTo>
                    <a:pt x="387" y="503"/>
                  </a:lnTo>
                  <a:lnTo>
                    <a:pt x="399" y="486"/>
                  </a:lnTo>
                  <a:lnTo>
                    <a:pt x="411" y="469"/>
                  </a:lnTo>
                  <a:lnTo>
                    <a:pt x="423" y="454"/>
                  </a:lnTo>
                  <a:lnTo>
                    <a:pt x="434" y="440"/>
                  </a:lnTo>
                  <a:lnTo>
                    <a:pt x="445" y="429"/>
                  </a:lnTo>
                  <a:lnTo>
                    <a:pt x="453" y="422"/>
                  </a:lnTo>
                  <a:lnTo>
                    <a:pt x="463" y="405"/>
                  </a:lnTo>
                  <a:lnTo>
                    <a:pt x="475" y="380"/>
                  </a:lnTo>
                  <a:lnTo>
                    <a:pt x="483" y="358"/>
                  </a:lnTo>
                  <a:lnTo>
                    <a:pt x="486" y="349"/>
                  </a:lnTo>
                  <a:lnTo>
                    <a:pt x="484" y="366"/>
                  </a:lnTo>
                  <a:lnTo>
                    <a:pt x="478" y="388"/>
                  </a:lnTo>
                  <a:lnTo>
                    <a:pt x="471" y="406"/>
                  </a:lnTo>
                  <a:lnTo>
                    <a:pt x="469" y="414"/>
                  </a:lnTo>
                  <a:lnTo>
                    <a:pt x="485" y="406"/>
                  </a:lnTo>
                  <a:lnTo>
                    <a:pt x="502" y="398"/>
                  </a:lnTo>
                  <a:lnTo>
                    <a:pt x="522" y="391"/>
                  </a:lnTo>
                  <a:lnTo>
                    <a:pt x="540" y="387"/>
                  </a:lnTo>
                  <a:lnTo>
                    <a:pt x="560" y="383"/>
                  </a:lnTo>
                  <a:lnTo>
                    <a:pt x="577" y="380"/>
                  </a:lnTo>
                  <a:lnTo>
                    <a:pt x="593" y="380"/>
                  </a:lnTo>
                  <a:lnTo>
                    <a:pt x="607" y="380"/>
                  </a:lnTo>
                  <a:close/>
                </a:path>
              </a:pathLst>
            </a:custGeom>
            <a:solidFill>
              <a:srgbClr val="0c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86120" y="5884920"/>
              <a:ext cx="961560" cy="411480"/>
            </a:xfrm>
            <a:custGeom>
              <a:avLst/>
              <a:gdLst/>
              <a:ahLst/>
              <a:rect l="l" t="t" r="r" b="b"/>
              <a:pathLst>
                <a:path w="814" h="595">
                  <a:moveTo>
                    <a:pt x="507" y="99"/>
                  </a:moveTo>
                  <a:lnTo>
                    <a:pt x="514" y="74"/>
                  </a:lnTo>
                  <a:lnTo>
                    <a:pt x="510" y="51"/>
                  </a:lnTo>
                  <a:lnTo>
                    <a:pt x="497" y="31"/>
                  </a:lnTo>
                  <a:lnTo>
                    <a:pt x="479" y="15"/>
                  </a:lnTo>
                  <a:lnTo>
                    <a:pt x="455" y="5"/>
                  </a:lnTo>
                  <a:lnTo>
                    <a:pt x="427" y="0"/>
                  </a:lnTo>
                  <a:lnTo>
                    <a:pt x="398" y="3"/>
                  </a:lnTo>
                  <a:lnTo>
                    <a:pt x="371" y="14"/>
                  </a:lnTo>
                  <a:lnTo>
                    <a:pt x="345" y="31"/>
                  </a:lnTo>
                  <a:lnTo>
                    <a:pt x="325" y="51"/>
                  </a:lnTo>
                  <a:lnTo>
                    <a:pt x="309" y="73"/>
                  </a:lnTo>
                  <a:lnTo>
                    <a:pt x="298" y="95"/>
                  </a:lnTo>
                  <a:lnTo>
                    <a:pt x="292" y="119"/>
                  </a:lnTo>
                  <a:lnTo>
                    <a:pt x="292" y="142"/>
                  </a:lnTo>
                  <a:lnTo>
                    <a:pt x="298" y="165"/>
                  </a:lnTo>
                  <a:lnTo>
                    <a:pt x="311" y="188"/>
                  </a:lnTo>
                  <a:lnTo>
                    <a:pt x="302" y="188"/>
                  </a:lnTo>
                  <a:lnTo>
                    <a:pt x="295" y="190"/>
                  </a:lnTo>
                  <a:lnTo>
                    <a:pt x="288" y="191"/>
                  </a:lnTo>
                  <a:lnTo>
                    <a:pt x="282" y="195"/>
                  </a:lnTo>
                  <a:lnTo>
                    <a:pt x="277" y="199"/>
                  </a:lnTo>
                  <a:lnTo>
                    <a:pt x="273" y="204"/>
                  </a:lnTo>
                  <a:lnTo>
                    <a:pt x="270" y="211"/>
                  </a:lnTo>
                  <a:lnTo>
                    <a:pt x="268" y="218"/>
                  </a:lnTo>
                  <a:lnTo>
                    <a:pt x="264" y="204"/>
                  </a:lnTo>
                  <a:lnTo>
                    <a:pt x="261" y="191"/>
                  </a:lnTo>
                  <a:lnTo>
                    <a:pt x="258" y="182"/>
                  </a:lnTo>
                  <a:lnTo>
                    <a:pt x="251" y="175"/>
                  </a:lnTo>
                  <a:lnTo>
                    <a:pt x="269" y="167"/>
                  </a:lnTo>
                  <a:lnTo>
                    <a:pt x="277" y="149"/>
                  </a:lnTo>
                  <a:lnTo>
                    <a:pt x="279" y="126"/>
                  </a:lnTo>
                  <a:lnTo>
                    <a:pt x="270" y="102"/>
                  </a:lnTo>
                  <a:lnTo>
                    <a:pt x="253" y="83"/>
                  </a:lnTo>
                  <a:lnTo>
                    <a:pt x="229" y="73"/>
                  </a:lnTo>
                  <a:lnTo>
                    <a:pt x="197" y="76"/>
                  </a:lnTo>
                  <a:lnTo>
                    <a:pt x="158" y="99"/>
                  </a:lnTo>
                  <a:lnTo>
                    <a:pt x="123" y="131"/>
                  </a:lnTo>
                  <a:lnTo>
                    <a:pt x="103" y="160"/>
                  </a:lnTo>
                  <a:lnTo>
                    <a:pt x="97" y="186"/>
                  </a:lnTo>
                  <a:lnTo>
                    <a:pt x="100" y="206"/>
                  </a:lnTo>
                  <a:lnTo>
                    <a:pt x="112" y="223"/>
                  </a:lnTo>
                  <a:lnTo>
                    <a:pt x="128" y="237"/>
                  </a:lnTo>
                  <a:lnTo>
                    <a:pt x="147" y="245"/>
                  </a:lnTo>
                  <a:lnTo>
                    <a:pt x="167" y="248"/>
                  </a:lnTo>
                  <a:lnTo>
                    <a:pt x="158" y="263"/>
                  </a:lnTo>
                  <a:lnTo>
                    <a:pt x="151" y="280"/>
                  </a:lnTo>
                  <a:lnTo>
                    <a:pt x="146" y="301"/>
                  </a:lnTo>
                  <a:lnTo>
                    <a:pt x="145" y="320"/>
                  </a:lnTo>
                  <a:lnTo>
                    <a:pt x="133" y="271"/>
                  </a:lnTo>
                  <a:lnTo>
                    <a:pt x="115" y="241"/>
                  </a:lnTo>
                  <a:lnTo>
                    <a:pt x="93" y="227"/>
                  </a:lnTo>
                  <a:lnTo>
                    <a:pt x="71" y="228"/>
                  </a:lnTo>
                  <a:lnTo>
                    <a:pt x="53" y="241"/>
                  </a:lnTo>
                  <a:lnTo>
                    <a:pt x="40" y="265"/>
                  </a:lnTo>
                  <a:lnTo>
                    <a:pt x="37" y="297"/>
                  </a:lnTo>
                  <a:lnTo>
                    <a:pt x="47" y="336"/>
                  </a:lnTo>
                  <a:lnTo>
                    <a:pt x="34" y="326"/>
                  </a:lnTo>
                  <a:lnTo>
                    <a:pt x="20" y="325"/>
                  </a:lnTo>
                  <a:lnTo>
                    <a:pt x="8" y="334"/>
                  </a:lnTo>
                  <a:lnTo>
                    <a:pt x="0" y="349"/>
                  </a:lnTo>
                  <a:lnTo>
                    <a:pt x="0" y="372"/>
                  </a:lnTo>
                  <a:lnTo>
                    <a:pt x="11" y="398"/>
                  </a:lnTo>
                  <a:lnTo>
                    <a:pt x="35" y="429"/>
                  </a:lnTo>
                  <a:lnTo>
                    <a:pt x="77" y="464"/>
                  </a:lnTo>
                  <a:lnTo>
                    <a:pt x="71" y="465"/>
                  </a:lnTo>
                  <a:lnTo>
                    <a:pt x="67" y="470"/>
                  </a:lnTo>
                  <a:lnTo>
                    <a:pt x="62" y="477"/>
                  </a:lnTo>
                  <a:lnTo>
                    <a:pt x="59" y="486"/>
                  </a:lnTo>
                  <a:lnTo>
                    <a:pt x="57" y="496"/>
                  </a:lnTo>
                  <a:lnTo>
                    <a:pt x="57" y="509"/>
                  </a:lnTo>
                  <a:lnTo>
                    <a:pt x="61" y="520"/>
                  </a:lnTo>
                  <a:lnTo>
                    <a:pt x="67" y="533"/>
                  </a:lnTo>
                  <a:lnTo>
                    <a:pt x="76" y="546"/>
                  </a:lnTo>
                  <a:lnTo>
                    <a:pt x="88" y="557"/>
                  </a:lnTo>
                  <a:lnTo>
                    <a:pt x="106" y="567"/>
                  </a:lnTo>
                  <a:lnTo>
                    <a:pt x="128" y="577"/>
                  </a:lnTo>
                  <a:lnTo>
                    <a:pt x="154" y="584"/>
                  </a:lnTo>
                  <a:lnTo>
                    <a:pt x="186" y="588"/>
                  </a:lnTo>
                  <a:lnTo>
                    <a:pt x="224" y="589"/>
                  </a:lnTo>
                  <a:lnTo>
                    <a:pt x="268" y="587"/>
                  </a:lnTo>
                  <a:lnTo>
                    <a:pt x="304" y="582"/>
                  </a:lnTo>
                  <a:lnTo>
                    <a:pt x="330" y="577"/>
                  </a:lnTo>
                  <a:lnTo>
                    <a:pt x="349" y="567"/>
                  </a:lnTo>
                  <a:lnTo>
                    <a:pt x="362" y="558"/>
                  </a:lnTo>
                  <a:lnTo>
                    <a:pt x="367" y="547"/>
                  </a:lnTo>
                  <a:lnTo>
                    <a:pt x="370" y="534"/>
                  </a:lnTo>
                  <a:lnTo>
                    <a:pt x="367" y="520"/>
                  </a:lnTo>
                  <a:lnTo>
                    <a:pt x="362" y="507"/>
                  </a:lnTo>
                  <a:lnTo>
                    <a:pt x="375" y="509"/>
                  </a:lnTo>
                  <a:lnTo>
                    <a:pt x="391" y="509"/>
                  </a:lnTo>
                  <a:lnTo>
                    <a:pt x="408" y="508"/>
                  </a:lnTo>
                  <a:lnTo>
                    <a:pt x="425" y="503"/>
                  </a:lnTo>
                  <a:lnTo>
                    <a:pt x="441" y="496"/>
                  </a:lnTo>
                  <a:lnTo>
                    <a:pt x="457" y="486"/>
                  </a:lnTo>
                  <a:lnTo>
                    <a:pt x="470" y="473"/>
                  </a:lnTo>
                  <a:lnTo>
                    <a:pt x="481" y="456"/>
                  </a:lnTo>
                  <a:lnTo>
                    <a:pt x="478" y="467"/>
                  </a:lnTo>
                  <a:lnTo>
                    <a:pt x="476" y="478"/>
                  </a:lnTo>
                  <a:lnTo>
                    <a:pt x="476" y="486"/>
                  </a:lnTo>
                  <a:lnTo>
                    <a:pt x="478" y="493"/>
                  </a:lnTo>
                  <a:lnTo>
                    <a:pt x="482" y="500"/>
                  </a:lnTo>
                  <a:lnTo>
                    <a:pt x="488" y="504"/>
                  </a:lnTo>
                  <a:lnTo>
                    <a:pt x="496" y="510"/>
                  </a:lnTo>
                  <a:lnTo>
                    <a:pt x="507" y="515"/>
                  </a:lnTo>
                  <a:lnTo>
                    <a:pt x="495" y="528"/>
                  </a:lnTo>
                  <a:lnTo>
                    <a:pt x="489" y="541"/>
                  </a:lnTo>
                  <a:lnTo>
                    <a:pt x="492" y="555"/>
                  </a:lnTo>
                  <a:lnTo>
                    <a:pt x="499" y="566"/>
                  </a:lnTo>
                  <a:lnTo>
                    <a:pt x="511" y="578"/>
                  </a:lnTo>
                  <a:lnTo>
                    <a:pt x="527" y="586"/>
                  </a:lnTo>
                  <a:lnTo>
                    <a:pt x="546" y="593"/>
                  </a:lnTo>
                  <a:lnTo>
                    <a:pt x="567" y="595"/>
                  </a:lnTo>
                  <a:lnTo>
                    <a:pt x="600" y="594"/>
                  </a:lnTo>
                  <a:lnTo>
                    <a:pt x="631" y="589"/>
                  </a:lnTo>
                  <a:lnTo>
                    <a:pt x="662" y="580"/>
                  </a:lnTo>
                  <a:lnTo>
                    <a:pt x="691" y="567"/>
                  </a:lnTo>
                  <a:lnTo>
                    <a:pt x="716" y="553"/>
                  </a:lnTo>
                  <a:lnTo>
                    <a:pt x="741" y="534"/>
                  </a:lnTo>
                  <a:lnTo>
                    <a:pt x="762" y="516"/>
                  </a:lnTo>
                  <a:lnTo>
                    <a:pt x="780" y="495"/>
                  </a:lnTo>
                  <a:lnTo>
                    <a:pt x="795" y="474"/>
                  </a:lnTo>
                  <a:lnTo>
                    <a:pt x="805" y="454"/>
                  </a:lnTo>
                  <a:lnTo>
                    <a:pt x="812" y="434"/>
                  </a:lnTo>
                  <a:lnTo>
                    <a:pt x="814" y="416"/>
                  </a:lnTo>
                  <a:lnTo>
                    <a:pt x="811" y="400"/>
                  </a:lnTo>
                  <a:lnTo>
                    <a:pt x="803" y="385"/>
                  </a:lnTo>
                  <a:lnTo>
                    <a:pt x="790" y="374"/>
                  </a:lnTo>
                  <a:lnTo>
                    <a:pt x="771" y="366"/>
                  </a:lnTo>
                  <a:lnTo>
                    <a:pt x="782" y="350"/>
                  </a:lnTo>
                  <a:lnTo>
                    <a:pt x="787" y="328"/>
                  </a:lnTo>
                  <a:lnTo>
                    <a:pt x="785" y="303"/>
                  </a:lnTo>
                  <a:lnTo>
                    <a:pt x="780" y="279"/>
                  </a:lnTo>
                  <a:lnTo>
                    <a:pt x="768" y="259"/>
                  </a:lnTo>
                  <a:lnTo>
                    <a:pt x="754" y="245"/>
                  </a:lnTo>
                  <a:lnTo>
                    <a:pt x="736" y="242"/>
                  </a:lnTo>
                  <a:lnTo>
                    <a:pt x="715" y="252"/>
                  </a:lnTo>
                  <a:lnTo>
                    <a:pt x="708" y="243"/>
                  </a:lnTo>
                  <a:lnTo>
                    <a:pt x="703" y="235"/>
                  </a:lnTo>
                  <a:lnTo>
                    <a:pt x="694" y="228"/>
                  </a:lnTo>
                  <a:lnTo>
                    <a:pt x="688" y="223"/>
                  </a:lnTo>
                  <a:lnTo>
                    <a:pt x="678" y="220"/>
                  </a:lnTo>
                  <a:lnTo>
                    <a:pt x="669" y="219"/>
                  </a:lnTo>
                  <a:lnTo>
                    <a:pt x="659" y="221"/>
                  </a:lnTo>
                  <a:lnTo>
                    <a:pt x="647" y="226"/>
                  </a:lnTo>
                  <a:lnTo>
                    <a:pt x="675" y="210"/>
                  </a:lnTo>
                  <a:lnTo>
                    <a:pt x="692" y="192"/>
                  </a:lnTo>
                  <a:lnTo>
                    <a:pt x="700" y="174"/>
                  </a:lnTo>
                  <a:lnTo>
                    <a:pt x="700" y="158"/>
                  </a:lnTo>
                  <a:lnTo>
                    <a:pt x="692" y="144"/>
                  </a:lnTo>
                  <a:lnTo>
                    <a:pt x="679" y="135"/>
                  </a:lnTo>
                  <a:lnTo>
                    <a:pt x="661" y="133"/>
                  </a:lnTo>
                  <a:lnTo>
                    <a:pt x="638" y="137"/>
                  </a:lnTo>
                  <a:lnTo>
                    <a:pt x="651" y="128"/>
                  </a:lnTo>
                  <a:lnTo>
                    <a:pt x="658" y="118"/>
                  </a:lnTo>
                  <a:lnTo>
                    <a:pt x="661" y="106"/>
                  </a:lnTo>
                  <a:lnTo>
                    <a:pt x="660" y="95"/>
                  </a:lnTo>
                  <a:lnTo>
                    <a:pt x="655" y="84"/>
                  </a:lnTo>
                  <a:lnTo>
                    <a:pt x="648" y="75"/>
                  </a:lnTo>
                  <a:lnTo>
                    <a:pt x="638" y="67"/>
                  </a:lnTo>
                  <a:lnTo>
                    <a:pt x="625" y="60"/>
                  </a:lnTo>
                  <a:lnTo>
                    <a:pt x="612" y="57"/>
                  </a:lnTo>
                  <a:lnTo>
                    <a:pt x="597" y="55"/>
                  </a:lnTo>
                  <a:lnTo>
                    <a:pt x="582" y="58"/>
                  </a:lnTo>
                  <a:lnTo>
                    <a:pt x="565" y="64"/>
                  </a:lnTo>
                  <a:lnTo>
                    <a:pt x="550" y="75"/>
                  </a:lnTo>
                  <a:lnTo>
                    <a:pt x="535" y="90"/>
                  </a:lnTo>
                  <a:lnTo>
                    <a:pt x="523" y="111"/>
                  </a:lnTo>
                  <a:lnTo>
                    <a:pt x="511" y="137"/>
                  </a:lnTo>
                  <a:lnTo>
                    <a:pt x="507" y="99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7" name=""/>
            <p:cNvSpPr/>
            <p:nvPr/>
          </p:nvSpPr>
          <p:spPr>
            <a:xfrm>
              <a:off x="931320" y="6405480"/>
              <a:ext cx="187920" cy="128160"/>
            </a:xfrm>
            <a:custGeom>
              <a:avLst/>
              <a:gdLst/>
              <a:ahLst/>
              <a:rect l="l" t="t" r="r" b="b"/>
              <a:pathLst>
                <a:path w="160" h="185">
                  <a:moveTo>
                    <a:pt x="88" y="183"/>
                  </a:moveTo>
                  <a:lnTo>
                    <a:pt x="87" y="176"/>
                  </a:lnTo>
                  <a:lnTo>
                    <a:pt x="82" y="167"/>
                  </a:lnTo>
                  <a:lnTo>
                    <a:pt x="76" y="159"/>
                  </a:lnTo>
                  <a:lnTo>
                    <a:pt x="67" y="151"/>
                  </a:lnTo>
                  <a:lnTo>
                    <a:pt x="55" y="144"/>
                  </a:lnTo>
                  <a:lnTo>
                    <a:pt x="40" y="140"/>
                  </a:lnTo>
                  <a:lnTo>
                    <a:pt x="22" y="139"/>
                  </a:lnTo>
                  <a:lnTo>
                    <a:pt x="1" y="143"/>
                  </a:lnTo>
                  <a:lnTo>
                    <a:pt x="5" y="135"/>
                  </a:lnTo>
                  <a:lnTo>
                    <a:pt x="9" y="126"/>
                  </a:lnTo>
                  <a:lnTo>
                    <a:pt x="17" y="120"/>
                  </a:lnTo>
                  <a:lnTo>
                    <a:pt x="27" y="116"/>
                  </a:lnTo>
                  <a:lnTo>
                    <a:pt x="38" y="116"/>
                  </a:lnTo>
                  <a:lnTo>
                    <a:pt x="51" y="122"/>
                  </a:lnTo>
                  <a:lnTo>
                    <a:pt x="65" y="132"/>
                  </a:lnTo>
                  <a:lnTo>
                    <a:pt x="80" y="149"/>
                  </a:lnTo>
                  <a:lnTo>
                    <a:pt x="77" y="141"/>
                  </a:lnTo>
                  <a:lnTo>
                    <a:pt x="75" y="131"/>
                  </a:lnTo>
                  <a:lnTo>
                    <a:pt x="69" y="120"/>
                  </a:lnTo>
                  <a:lnTo>
                    <a:pt x="62" y="109"/>
                  </a:lnTo>
                  <a:lnTo>
                    <a:pt x="52" y="100"/>
                  </a:lnTo>
                  <a:lnTo>
                    <a:pt x="38" y="93"/>
                  </a:lnTo>
                  <a:lnTo>
                    <a:pt x="21" y="91"/>
                  </a:lnTo>
                  <a:lnTo>
                    <a:pt x="0" y="94"/>
                  </a:lnTo>
                  <a:lnTo>
                    <a:pt x="2" y="85"/>
                  </a:lnTo>
                  <a:lnTo>
                    <a:pt x="8" y="77"/>
                  </a:lnTo>
                  <a:lnTo>
                    <a:pt x="19" y="71"/>
                  </a:lnTo>
                  <a:lnTo>
                    <a:pt x="30" y="69"/>
                  </a:lnTo>
                  <a:lnTo>
                    <a:pt x="43" y="71"/>
                  </a:lnTo>
                  <a:lnTo>
                    <a:pt x="55" y="80"/>
                  </a:lnTo>
                  <a:lnTo>
                    <a:pt x="68" y="97"/>
                  </a:lnTo>
                  <a:lnTo>
                    <a:pt x="78" y="123"/>
                  </a:lnTo>
                  <a:lnTo>
                    <a:pt x="76" y="108"/>
                  </a:lnTo>
                  <a:lnTo>
                    <a:pt x="73" y="91"/>
                  </a:lnTo>
                  <a:lnTo>
                    <a:pt x="67" y="75"/>
                  </a:lnTo>
                  <a:lnTo>
                    <a:pt x="60" y="59"/>
                  </a:lnTo>
                  <a:lnTo>
                    <a:pt x="51" y="45"/>
                  </a:lnTo>
                  <a:lnTo>
                    <a:pt x="38" y="33"/>
                  </a:lnTo>
                  <a:lnTo>
                    <a:pt x="24" y="25"/>
                  </a:lnTo>
                  <a:lnTo>
                    <a:pt x="7" y="22"/>
                  </a:lnTo>
                  <a:lnTo>
                    <a:pt x="15" y="16"/>
                  </a:lnTo>
                  <a:lnTo>
                    <a:pt x="24" y="13"/>
                  </a:lnTo>
                  <a:lnTo>
                    <a:pt x="34" y="13"/>
                  </a:lnTo>
                  <a:lnTo>
                    <a:pt x="44" y="16"/>
                  </a:lnTo>
                  <a:lnTo>
                    <a:pt x="54" y="25"/>
                  </a:lnTo>
                  <a:lnTo>
                    <a:pt x="65" y="39"/>
                  </a:lnTo>
                  <a:lnTo>
                    <a:pt x="75" y="61"/>
                  </a:lnTo>
                  <a:lnTo>
                    <a:pt x="84" y="91"/>
                  </a:lnTo>
                  <a:lnTo>
                    <a:pt x="84" y="67"/>
                  </a:lnTo>
                  <a:lnTo>
                    <a:pt x="80" y="41"/>
                  </a:lnTo>
                  <a:lnTo>
                    <a:pt x="73" y="18"/>
                  </a:lnTo>
                  <a:lnTo>
                    <a:pt x="60" y="0"/>
                  </a:lnTo>
                  <a:lnTo>
                    <a:pt x="72" y="3"/>
                  </a:lnTo>
                  <a:lnTo>
                    <a:pt x="82" y="10"/>
                  </a:lnTo>
                  <a:lnTo>
                    <a:pt x="90" y="21"/>
                  </a:lnTo>
                  <a:lnTo>
                    <a:pt x="97" y="33"/>
                  </a:lnTo>
                  <a:lnTo>
                    <a:pt x="100" y="48"/>
                  </a:lnTo>
                  <a:lnTo>
                    <a:pt x="103" y="64"/>
                  </a:lnTo>
                  <a:lnTo>
                    <a:pt x="103" y="83"/>
                  </a:lnTo>
                  <a:lnTo>
                    <a:pt x="99" y="102"/>
                  </a:lnTo>
                  <a:lnTo>
                    <a:pt x="103" y="90"/>
                  </a:lnTo>
                  <a:lnTo>
                    <a:pt x="107" y="77"/>
                  </a:lnTo>
                  <a:lnTo>
                    <a:pt x="112" y="64"/>
                  </a:lnTo>
                  <a:lnTo>
                    <a:pt x="119" y="55"/>
                  </a:lnTo>
                  <a:lnTo>
                    <a:pt x="127" y="47"/>
                  </a:lnTo>
                  <a:lnTo>
                    <a:pt x="136" y="42"/>
                  </a:lnTo>
                  <a:lnTo>
                    <a:pt x="148" y="42"/>
                  </a:lnTo>
                  <a:lnTo>
                    <a:pt x="160" y="46"/>
                  </a:lnTo>
                  <a:lnTo>
                    <a:pt x="150" y="53"/>
                  </a:lnTo>
                  <a:lnTo>
                    <a:pt x="138" y="61"/>
                  </a:lnTo>
                  <a:lnTo>
                    <a:pt x="128" y="70"/>
                  </a:lnTo>
                  <a:lnTo>
                    <a:pt x="119" y="82"/>
                  </a:lnTo>
                  <a:lnTo>
                    <a:pt x="111" y="95"/>
                  </a:lnTo>
                  <a:lnTo>
                    <a:pt x="104" y="111"/>
                  </a:lnTo>
                  <a:lnTo>
                    <a:pt x="99" y="129"/>
                  </a:lnTo>
                  <a:lnTo>
                    <a:pt x="97" y="149"/>
                  </a:lnTo>
                  <a:lnTo>
                    <a:pt x="99" y="139"/>
                  </a:lnTo>
                  <a:lnTo>
                    <a:pt x="105" y="128"/>
                  </a:lnTo>
                  <a:lnTo>
                    <a:pt x="111" y="116"/>
                  </a:lnTo>
                  <a:lnTo>
                    <a:pt x="119" y="106"/>
                  </a:lnTo>
                  <a:lnTo>
                    <a:pt x="128" y="98"/>
                  </a:lnTo>
                  <a:lnTo>
                    <a:pt x="137" y="93"/>
                  </a:lnTo>
                  <a:lnTo>
                    <a:pt x="148" y="94"/>
                  </a:lnTo>
                  <a:lnTo>
                    <a:pt x="157" y="101"/>
                  </a:lnTo>
                  <a:lnTo>
                    <a:pt x="151" y="102"/>
                  </a:lnTo>
                  <a:lnTo>
                    <a:pt x="143" y="107"/>
                  </a:lnTo>
                  <a:lnTo>
                    <a:pt x="134" y="115"/>
                  </a:lnTo>
                  <a:lnTo>
                    <a:pt x="125" y="125"/>
                  </a:lnTo>
                  <a:lnTo>
                    <a:pt x="116" y="137"/>
                  </a:lnTo>
                  <a:lnTo>
                    <a:pt x="110" y="152"/>
                  </a:lnTo>
                  <a:lnTo>
                    <a:pt x="106" y="168"/>
                  </a:lnTo>
                  <a:lnTo>
                    <a:pt x="105" y="185"/>
                  </a:lnTo>
                  <a:lnTo>
                    <a:pt x="88" y="183"/>
                  </a:lnTo>
                  <a:close/>
                </a:path>
              </a:pathLst>
            </a:custGeom>
            <a:solidFill>
              <a:srgbClr val="0072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8" name=""/>
            <p:cNvSpPr/>
            <p:nvPr/>
          </p:nvSpPr>
          <p:spPr>
            <a:xfrm>
              <a:off x="615240" y="6455520"/>
              <a:ext cx="110520" cy="68760"/>
            </a:xfrm>
            <a:custGeom>
              <a:avLst/>
              <a:gdLst/>
              <a:ahLst/>
              <a:rect l="l" t="t" r="r" b="b"/>
              <a:pathLst>
                <a:path w="94" h="99">
                  <a:moveTo>
                    <a:pt x="64" y="99"/>
                  </a:moveTo>
                  <a:lnTo>
                    <a:pt x="55" y="82"/>
                  </a:lnTo>
                  <a:lnTo>
                    <a:pt x="66" y="72"/>
                  </a:lnTo>
                  <a:lnTo>
                    <a:pt x="76" y="60"/>
                  </a:lnTo>
                  <a:lnTo>
                    <a:pt x="79" y="48"/>
                  </a:lnTo>
                  <a:lnTo>
                    <a:pt x="77" y="34"/>
                  </a:lnTo>
                  <a:lnTo>
                    <a:pt x="72" y="28"/>
                  </a:lnTo>
                  <a:lnTo>
                    <a:pt x="66" y="23"/>
                  </a:lnTo>
                  <a:lnTo>
                    <a:pt x="58" y="21"/>
                  </a:lnTo>
                  <a:lnTo>
                    <a:pt x="49" y="19"/>
                  </a:lnTo>
                  <a:lnTo>
                    <a:pt x="40" y="19"/>
                  </a:lnTo>
                  <a:lnTo>
                    <a:pt x="31" y="19"/>
                  </a:lnTo>
                  <a:lnTo>
                    <a:pt x="22" y="20"/>
                  </a:lnTo>
                  <a:lnTo>
                    <a:pt x="13" y="21"/>
                  </a:lnTo>
                  <a:lnTo>
                    <a:pt x="4" y="20"/>
                  </a:lnTo>
                  <a:lnTo>
                    <a:pt x="0" y="15"/>
                  </a:lnTo>
                  <a:lnTo>
                    <a:pt x="1" y="8"/>
                  </a:lnTo>
                  <a:lnTo>
                    <a:pt x="9" y="4"/>
                  </a:lnTo>
                  <a:lnTo>
                    <a:pt x="17" y="2"/>
                  </a:lnTo>
                  <a:lnTo>
                    <a:pt x="27" y="0"/>
                  </a:lnTo>
                  <a:lnTo>
                    <a:pt x="40" y="0"/>
                  </a:lnTo>
                  <a:lnTo>
                    <a:pt x="54" y="2"/>
                  </a:lnTo>
                  <a:lnTo>
                    <a:pt x="66" y="5"/>
                  </a:lnTo>
                  <a:lnTo>
                    <a:pt x="78" y="11"/>
                  </a:lnTo>
                  <a:lnTo>
                    <a:pt x="87" y="20"/>
                  </a:lnTo>
                  <a:lnTo>
                    <a:pt x="93" y="33"/>
                  </a:lnTo>
                  <a:lnTo>
                    <a:pt x="94" y="56"/>
                  </a:lnTo>
                  <a:lnTo>
                    <a:pt x="87" y="72"/>
                  </a:lnTo>
                  <a:lnTo>
                    <a:pt x="79" y="80"/>
                  </a:lnTo>
                  <a:lnTo>
                    <a:pt x="76" y="83"/>
                  </a:lnTo>
                  <a:lnTo>
                    <a:pt x="79" y="95"/>
                  </a:lnTo>
                  <a:lnTo>
                    <a:pt x="64" y="99"/>
                  </a:lnTo>
                  <a:close/>
                </a:path>
              </a:pathLst>
            </a:custGeom>
            <a:solidFill>
              <a:srgbClr val="33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09" name="" descr=""/>
          <p:cNvPicPr/>
          <p:nvPr/>
        </p:nvPicPr>
        <p:blipFill>
          <a:blip r:embed="rId1"/>
          <a:stretch/>
        </p:blipFill>
        <p:spPr>
          <a:xfrm flipH="1">
            <a:off x="6830640" y="4437000"/>
            <a:ext cx="2313000" cy="2098800"/>
          </a:xfrm>
          <a:prstGeom prst="rect">
            <a:avLst/>
          </a:prstGeom>
          <a:ln w="0">
            <a:noFill/>
          </a:ln>
        </p:spPr>
      </p:pic>
      <p:pic>
        <p:nvPicPr>
          <p:cNvPr id="1010" name="图片 5285" descr="4_15974_6"/>
          <p:cNvPicPr/>
          <p:nvPr/>
        </p:nvPicPr>
        <p:blipFill>
          <a:blip r:embed="rId2"/>
          <a:stretch/>
        </p:blipFill>
        <p:spPr>
          <a:xfrm>
            <a:off x="6804000" y="189000"/>
            <a:ext cx="1619280" cy="1312920"/>
          </a:xfrm>
          <a:prstGeom prst="rect">
            <a:avLst/>
          </a:prstGeom>
          <a:ln w="0">
            <a:noFill/>
          </a:ln>
        </p:spPr>
      </p:pic>
      <p:pic>
        <p:nvPicPr>
          <p:cNvPr id="1011" name="图片 5285" descr="4_15974_6"/>
          <p:cNvPicPr/>
          <p:nvPr/>
        </p:nvPicPr>
        <p:blipFill>
          <a:blip r:embed="rId3"/>
          <a:stretch/>
        </p:blipFill>
        <p:spPr>
          <a:xfrm>
            <a:off x="395280" y="189000"/>
            <a:ext cx="1619280" cy="1312920"/>
          </a:xfrm>
          <a:prstGeom prst="rect">
            <a:avLst/>
          </a:prstGeom>
          <a:ln w="0">
            <a:noFill/>
          </a:ln>
        </p:spPr>
      </p:pic>
      <p:grpSp>
        <p:nvGrpSpPr>
          <p:cNvPr id="1012" name=""/>
          <p:cNvGrpSpPr/>
          <p:nvPr/>
        </p:nvGrpSpPr>
        <p:grpSpPr>
          <a:xfrm>
            <a:off x="3132000" y="2276640"/>
            <a:ext cx="5113080" cy="2132280"/>
            <a:chOff x="3132000" y="2276640"/>
            <a:chExt cx="5113080" cy="2132280"/>
          </a:xfrm>
        </p:grpSpPr>
        <p:sp>
          <p:nvSpPr>
            <p:cNvPr id="1013" name=""/>
            <p:cNvSpPr txBox="1"/>
            <p:nvPr/>
          </p:nvSpPr>
          <p:spPr>
            <a:xfrm>
              <a:off x="3132000" y="2276640"/>
              <a:ext cx="4667040" cy="1269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Deflate">
                <a:avLst>
                  <a:gd name="adj" fmla="val 375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800" spc="1" strike="noStrike">
                  <a:ln w="25560">
                    <a:solidFill>
                      <a:srgbClr val="ff00ff"/>
                    </a:solidFill>
                    <a:miter/>
                  </a:ln>
                  <a:blipFill rotWithShape="0">
                    <a:blip r:embed="rId4"/>
                    <a:srcRect/>
                    <a:tile tx="0" ty="0" sx="100000" sy="100000" algn="ctr"/>
                  </a:blipFill>
                  <a:effectLst>
                    <a:outerShdw dist="40186" dir="1096358" blurRad="0" rotWithShape="0">
                      <a:srgbClr val="808080">
                        <a:alpha val="80000"/>
                      </a:srgbClr>
                    </a:outerShdw>
                  </a:effectLst>
                  <a:latin typeface="微软雅黑"/>
                </a:rPr>
                <a:t>二元一次方程组的解法</a:t>
              </a:r>
              <a:endParaRPr b="1" lang="en-US" sz="1800" spc="1" strike="noStrike">
                <a:ln w="25560">
                  <a:solidFill>
                    <a:srgbClr val="ff00ff"/>
                  </a:solidFill>
                  <a:miter/>
                </a:ln>
                <a:blipFill rotWithShape="0">
                  <a:blip r:embed="rId5"/>
                  <a:srcRect/>
                  <a:tile tx="0" ty="0" sx="100000" sy="100000" algn="ctr"/>
                </a:blipFill>
                <a:effectLst>
                  <a:outerShdw dist="40186" dir="1096358" blurRad="0" rotWithShape="0">
                    <a:srgbClr val="808080">
                      <a:alpha val="80000"/>
                    </a:srgbClr>
                  </a:outerShdw>
                </a:effectLst>
                <a:latin typeface="微软雅黑"/>
                <a:ea typeface="微软雅黑"/>
              </a:endParaRPr>
            </a:p>
          </p:txBody>
        </p:sp>
        <p:sp>
          <p:nvSpPr>
            <p:cNvPr id="1014" name=""/>
            <p:cNvSpPr/>
            <p:nvPr/>
          </p:nvSpPr>
          <p:spPr>
            <a:xfrm>
              <a:off x="3132000" y="3644640"/>
              <a:ext cx="511308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lnSpc>
                  <a:spcPct val="1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0000ff"/>
                  </a:solidFill>
                  <a:latin typeface="Times New Roman"/>
                  <a:ea typeface="黑体"/>
                </a:rPr>
                <a:t>——</a:t>
              </a:r>
              <a:r>
                <a:rPr b="1" lang="zh-CN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代入消元法</a:t>
              </a:r>
              <a:r>
                <a:rPr b="1" lang="en-US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(</a:t>
              </a:r>
              <a:r>
                <a:rPr b="1" lang="zh-CN" sz="4000" spc="-1" strike="noStrike">
                  <a:solidFill>
                    <a:srgbClr val="0000ff"/>
                  </a:solidFill>
                  <a:latin typeface="黑体"/>
                  <a:ea typeface="黑体"/>
                </a:rPr>
                <a:t>二）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15" name=""/>
          <p:cNvGrpSpPr/>
          <p:nvPr/>
        </p:nvGrpSpPr>
        <p:grpSpPr>
          <a:xfrm>
            <a:off x="684360" y="2349360"/>
            <a:ext cx="2160360" cy="1387440"/>
            <a:chOff x="684360" y="2349360"/>
            <a:chExt cx="2160360" cy="1387440"/>
          </a:xfrm>
        </p:grpSpPr>
        <p:sp>
          <p:nvSpPr>
            <p:cNvPr id="1016" name=""/>
            <p:cNvSpPr/>
            <p:nvPr/>
          </p:nvSpPr>
          <p:spPr>
            <a:xfrm>
              <a:off x="828720" y="3357360"/>
              <a:ext cx="2016000" cy="379440"/>
            </a:xfrm>
            <a:prstGeom prst="ellipse">
              <a:avLst/>
            </a:prstGeom>
            <a:solidFill>
              <a:srgbClr val="339966"/>
            </a:solidFill>
            <a:ln w="0">
              <a:noFill/>
            </a:ln>
            <a:effectLst>
              <a:outerShdw dist="17819" dir="2700000" blurRad="0" rotWithShape="0">
                <a:srgbClr val="1e5b3c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7" name=""/>
            <p:cNvSpPr/>
            <p:nvPr/>
          </p:nvSpPr>
          <p:spPr>
            <a:xfrm>
              <a:off x="1054080" y="2351160"/>
              <a:ext cx="1641600" cy="1276200"/>
            </a:xfrm>
            <a:custGeom>
              <a:avLst/>
              <a:gdLst/>
              <a:ahLst/>
              <a:rect l="l" t="t" r="r" b="b"/>
              <a:pathLst>
                <a:path w="10147" h="8394">
                  <a:moveTo>
                    <a:pt x="8563" y="8394"/>
                  </a:moveTo>
                  <a:lnTo>
                    <a:pt x="1584" y="8394"/>
                  </a:lnTo>
                  <a:lnTo>
                    <a:pt x="1503" y="8392"/>
                  </a:lnTo>
                  <a:lnTo>
                    <a:pt x="1422" y="8387"/>
                  </a:lnTo>
                  <a:lnTo>
                    <a:pt x="1344" y="8376"/>
                  </a:lnTo>
                  <a:lnTo>
                    <a:pt x="1266" y="8362"/>
                  </a:lnTo>
                  <a:lnTo>
                    <a:pt x="1190" y="8346"/>
                  </a:lnTo>
                  <a:lnTo>
                    <a:pt x="1114" y="8325"/>
                  </a:lnTo>
                  <a:lnTo>
                    <a:pt x="1038" y="8297"/>
                  </a:lnTo>
                  <a:lnTo>
                    <a:pt x="969" y="8270"/>
                  </a:lnTo>
                  <a:lnTo>
                    <a:pt x="898" y="8238"/>
                  </a:lnTo>
                  <a:lnTo>
                    <a:pt x="828" y="8203"/>
                  </a:lnTo>
                  <a:lnTo>
                    <a:pt x="763" y="8166"/>
                  </a:lnTo>
                  <a:lnTo>
                    <a:pt x="698" y="8125"/>
                  </a:lnTo>
                  <a:lnTo>
                    <a:pt x="636" y="8079"/>
                  </a:lnTo>
                  <a:lnTo>
                    <a:pt x="576" y="8033"/>
                  </a:lnTo>
                  <a:lnTo>
                    <a:pt x="518" y="7982"/>
                  </a:lnTo>
                  <a:lnTo>
                    <a:pt x="463" y="7931"/>
                  </a:lnTo>
                  <a:lnTo>
                    <a:pt x="410" y="7874"/>
                  </a:lnTo>
                  <a:lnTo>
                    <a:pt x="361" y="7817"/>
                  </a:lnTo>
                  <a:lnTo>
                    <a:pt x="315" y="7758"/>
                  </a:lnTo>
                  <a:lnTo>
                    <a:pt x="270" y="7696"/>
                  </a:lnTo>
                  <a:lnTo>
                    <a:pt x="229" y="7631"/>
                  </a:lnTo>
                  <a:lnTo>
                    <a:pt x="191" y="7563"/>
                  </a:lnTo>
                  <a:lnTo>
                    <a:pt x="156" y="7496"/>
                  </a:lnTo>
                  <a:lnTo>
                    <a:pt x="123" y="7426"/>
                  </a:lnTo>
                  <a:lnTo>
                    <a:pt x="94" y="7353"/>
                  </a:lnTo>
                  <a:lnTo>
                    <a:pt x="70" y="7280"/>
                  </a:lnTo>
                  <a:lnTo>
                    <a:pt x="48" y="7205"/>
                  </a:lnTo>
                  <a:lnTo>
                    <a:pt x="32" y="7130"/>
                  </a:lnTo>
                  <a:lnTo>
                    <a:pt x="16" y="7051"/>
                  </a:lnTo>
                  <a:lnTo>
                    <a:pt x="7" y="6971"/>
                  </a:lnTo>
                  <a:lnTo>
                    <a:pt x="0" y="6890"/>
                  </a:lnTo>
                  <a:lnTo>
                    <a:pt x="0" y="6808"/>
                  </a:lnTo>
                  <a:lnTo>
                    <a:pt x="0" y="1586"/>
                  </a:lnTo>
                  <a:lnTo>
                    <a:pt x="0" y="1506"/>
                  </a:lnTo>
                  <a:lnTo>
                    <a:pt x="7" y="1424"/>
                  </a:lnTo>
                  <a:lnTo>
                    <a:pt x="16" y="1346"/>
                  </a:lnTo>
                  <a:lnTo>
                    <a:pt x="32" y="1267"/>
                  </a:lnTo>
                  <a:lnTo>
                    <a:pt x="48" y="1189"/>
                  </a:lnTo>
                  <a:lnTo>
                    <a:pt x="70" y="1117"/>
                  </a:lnTo>
                  <a:lnTo>
                    <a:pt x="94" y="1041"/>
                  </a:lnTo>
                  <a:lnTo>
                    <a:pt x="123" y="971"/>
                  </a:lnTo>
                  <a:lnTo>
                    <a:pt x="156" y="901"/>
                  </a:lnTo>
                  <a:lnTo>
                    <a:pt x="191" y="831"/>
                  </a:lnTo>
                  <a:lnTo>
                    <a:pt x="229" y="766"/>
                  </a:lnTo>
                  <a:lnTo>
                    <a:pt x="270" y="701"/>
                  </a:lnTo>
                  <a:lnTo>
                    <a:pt x="315" y="640"/>
                  </a:lnTo>
                  <a:lnTo>
                    <a:pt x="361" y="578"/>
                  </a:lnTo>
                  <a:lnTo>
                    <a:pt x="410" y="521"/>
                  </a:lnTo>
                  <a:lnTo>
                    <a:pt x="463" y="467"/>
                  </a:lnTo>
                  <a:lnTo>
                    <a:pt x="518" y="413"/>
                  </a:lnTo>
                  <a:lnTo>
                    <a:pt x="576" y="364"/>
                  </a:lnTo>
                  <a:lnTo>
                    <a:pt x="636" y="316"/>
                  </a:lnTo>
                  <a:lnTo>
                    <a:pt x="698" y="272"/>
                  </a:lnTo>
                  <a:lnTo>
                    <a:pt x="763" y="232"/>
                  </a:lnTo>
                  <a:lnTo>
                    <a:pt x="828" y="191"/>
                  </a:lnTo>
                  <a:lnTo>
                    <a:pt x="898" y="157"/>
                  </a:lnTo>
                  <a:lnTo>
                    <a:pt x="969" y="127"/>
                  </a:lnTo>
                  <a:lnTo>
                    <a:pt x="1038" y="97"/>
                  </a:lnTo>
                  <a:lnTo>
                    <a:pt x="1114" y="73"/>
                  </a:lnTo>
                  <a:lnTo>
                    <a:pt x="1190" y="51"/>
                  </a:lnTo>
                  <a:lnTo>
                    <a:pt x="1266" y="32"/>
                  </a:lnTo>
                  <a:lnTo>
                    <a:pt x="1344" y="19"/>
                  </a:lnTo>
                  <a:lnTo>
                    <a:pt x="1422" y="8"/>
                  </a:lnTo>
                  <a:lnTo>
                    <a:pt x="1503" y="3"/>
                  </a:lnTo>
                  <a:lnTo>
                    <a:pt x="1584" y="0"/>
                  </a:lnTo>
                  <a:lnTo>
                    <a:pt x="8563" y="0"/>
                  </a:lnTo>
                  <a:lnTo>
                    <a:pt x="8644" y="3"/>
                  </a:lnTo>
                  <a:lnTo>
                    <a:pt x="8725" y="8"/>
                  </a:lnTo>
                  <a:lnTo>
                    <a:pt x="8803" y="19"/>
                  </a:lnTo>
                  <a:lnTo>
                    <a:pt x="8881" y="32"/>
                  </a:lnTo>
                  <a:lnTo>
                    <a:pt x="8957" y="51"/>
                  </a:lnTo>
                  <a:lnTo>
                    <a:pt x="9033" y="73"/>
                  </a:lnTo>
                  <a:lnTo>
                    <a:pt x="9105" y="97"/>
                  </a:lnTo>
                  <a:lnTo>
                    <a:pt x="9178" y="127"/>
                  </a:lnTo>
                  <a:lnTo>
                    <a:pt x="9248" y="157"/>
                  </a:lnTo>
                  <a:lnTo>
                    <a:pt x="9316" y="191"/>
                  </a:lnTo>
                  <a:lnTo>
                    <a:pt x="9383" y="232"/>
                  </a:lnTo>
                  <a:lnTo>
                    <a:pt x="9448" y="272"/>
                  </a:lnTo>
                  <a:lnTo>
                    <a:pt x="9510" y="316"/>
                  </a:lnTo>
                  <a:lnTo>
                    <a:pt x="9569" y="364"/>
                  </a:lnTo>
                  <a:lnTo>
                    <a:pt x="9629" y="413"/>
                  </a:lnTo>
                  <a:lnTo>
                    <a:pt x="9682" y="467"/>
                  </a:lnTo>
                  <a:lnTo>
                    <a:pt x="9734" y="521"/>
                  </a:lnTo>
                  <a:lnTo>
                    <a:pt x="9785" y="578"/>
                  </a:lnTo>
                  <a:lnTo>
                    <a:pt x="9831" y="640"/>
                  </a:lnTo>
                  <a:lnTo>
                    <a:pt x="9877" y="701"/>
                  </a:lnTo>
                  <a:lnTo>
                    <a:pt x="9917" y="766"/>
                  </a:lnTo>
                  <a:lnTo>
                    <a:pt x="9956" y="831"/>
                  </a:lnTo>
                  <a:lnTo>
                    <a:pt x="9990" y="901"/>
                  </a:lnTo>
                  <a:lnTo>
                    <a:pt x="10023" y="971"/>
                  </a:lnTo>
                  <a:lnTo>
                    <a:pt x="10052" y="1041"/>
                  </a:lnTo>
                  <a:lnTo>
                    <a:pt x="10076" y="1117"/>
                  </a:lnTo>
                  <a:lnTo>
                    <a:pt x="10098" y="1189"/>
                  </a:lnTo>
                  <a:lnTo>
                    <a:pt x="10115" y="1267"/>
                  </a:lnTo>
                  <a:lnTo>
                    <a:pt x="10128" y="1346"/>
                  </a:lnTo>
                  <a:lnTo>
                    <a:pt x="10138" y="1424"/>
                  </a:lnTo>
                  <a:lnTo>
                    <a:pt x="10144" y="1506"/>
                  </a:lnTo>
                  <a:lnTo>
                    <a:pt x="10147" y="1586"/>
                  </a:lnTo>
                  <a:lnTo>
                    <a:pt x="10147" y="6808"/>
                  </a:lnTo>
                  <a:lnTo>
                    <a:pt x="10144" y="6890"/>
                  </a:lnTo>
                  <a:lnTo>
                    <a:pt x="10138" y="6971"/>
                  </a:lnTo>
                  <a:lnTo>
                    <a:pt x="10128" y="7051"/>
                  </a:lnTo>
                  <a:lnTo>
                    <a:pt x="10115" y="7130"/>
                  </a:lnTo>
                  <a:lnTo>
                    <a:pt x="10098" y="7205"/>
                  </a:lnTo>
                  <a:lnTo>
                    <a:pt x="10076" y="7280"/>
                  </a:lnTo>
                  <a:lnTo>
                    <a:pt x="10052" y="7353"/>
                  </a:lnTo>
                  <a:lnTo>
                    <a:pt x="10023" y="7426"/>
                  </a:lnTo>
                  <a:lnTo>
                    <a:pt x="9990" y="7496"/>
                  </a:lnTo>
                  <a:lnTo>
                    <a:pt x="9956" y="7563"/>
                  </a:lnTo>
                  <a:lnTo>
                    <a:pt x="9917" y="7631"/>
                  </a:lnTo>
                  <a:lnTo>
                    <a:pt x="9877" y="7696"/>
                  </a:lnTo>
                  <a:lnTo>
                    <a:pt x="9831" y="7758"/>
                  </a:lnTo>
                  <a:lnTo>
                    <a:pt x="9785" y="7817"/>
                  </a:lnTo>
                  <a:lnTo>
                    <a:pt x="9734" y="7874"/>
                  </a:lnTo>
                  <a:lnTo>
                    <a:pt x="9682" y="7931"/>
                  </a:lnTo>
                  <a:lnTo>
                    <a:pt x="9629" y="7982"/>
                  </a:lnTo>
                  <a:lnTo>
                    <a:pt x="9569" y="8033"/>
                  </a:lnTo>
                  <a:lnTo>
                    <a:pt x="9510" y="8079"/>
                  </a:lnTo>
                  <a:lnTo>
                    <a:pt x="9448" y="8125"/>
                  </a:lnTo>
                  <a:lnTo>
                    <a:pt x="9383" y="8166"/>
                  </a:lnTo>
                  <a:lnTo>
                    <a:pt x="9316" y="8203"/>
                  </a:lnTo>
                  <a:lnTo>
                    <a:pt x="9248" y="8238"/>
                  </a:lnTo>
                  <a:lnTo>
                    <a:pt x="9178" y="8270"/>
                  </a:lnTo>
                  <a:lnTo>
                    <a:pt x="9105" y="8297"/>
                  </a:lnTo>
                  <a:lnTo>
                    <a:pt x="9033" y="8325"/>
                  </a:lnTo>
                  <a:lnTo>
                    <a:pt x="8957" y="8346"/>
                  </a:lnTo>
                  <a:lnTo>
                    <a:pt x="8881" y="8362"/>
                  </a:lnTo>
                  <a:lnTo>
                    <a:pt x="8803" y="8376"/>
                  </a:lnTo>
                  <a:lnTo>
                    <a:pt x="8725" y="8387"/>
                  </a:lnTo>
                  <a:lnTo>
                    <a:pt x="8644" y="8392"/>
                  </a:lnTo>
                  <a:lnTo>
                    <a:pt x="8563" y="8394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8" name=""/>
            <p:cNvSpPr/>
            <p:nvPr/>
          </p:nvSpPr>
          <p:spPr>
            <a:xfrm>
              <a:off x="1052640" y="2349360"/>
              <a:ext cx="1644480" cy="1281240"/>
            </a:xfrm>
            <a:custGeom>
              <a:avLst/>
              <a:gdLst/>
              <a:ahLst/>
              <a:rect l="l" t="t" r="r" b="b"/>
              <a:pathLst>
                <a:path w="10179" h="8426">
                  <a:moveTo>
                    <a:pt x="8579" y="8410"/>
                  </a:moveTo>
                  <a:lnTo>
                    <a:pt x="8579" y="8394"/>
                  </a:lnTo>
                  <a:lnTo>
                    <a:pt x="1600" y="8394"/>
                  </a:lnTo>
                  <a:lnTo>
                    <a:pt x="1519" y="8392"/>
                  </a:lnTo>
                  <a:lnTo>
                    <a:pt x="1441" y="8387"/>
                  </a:lnTo>
                  <a:lnTo>
                    <a:pt x="1362" y="8376"/>
                  </a:lnTo>
                  <a:lnTo>
                    <a:pt x="1284" y="8362"/>
                  </a:lnTo>
                  <a:lnTo>
                    <a:pt x="1208" y="8346"/>
                  </a:lnTo>
                  <a:lnTo>
                    <a:pt x="1135" y="8324"/>
                  </a:lnTo>
                  <a:lnTo>
                    <a:pt x="1063" y="8300"/>
                  </a:lnTo>
                  <a:lnTo>
                    <a:pt x="990" y="8270"/>
                  </a:lnTo>
                  <a:lnTo>
                    <a:pt x="919" y="8240"/>
                  </a:lnTo>
                  <a:lnTo>
                    <a:pt x="852" y="8205"/>
                  </a:lnTo>
                  <a:lnTo>
                    <a:pt x="787" y="8168"/>
                  </a:lnTo>
                  <a:lnTo>
                    <a:pt x="723" y="8127"/>
                  </a:lnTo>
                  <a:lnTo>
                    <a:pt x="661" y="8081"/>
                  </a:lnTo>
                  <a:lnTo>
                    <a:pt x="604" y="8035"/>
                  </a:lnTo>
                  <a:lnTo>
                    <a:pt x="544" y="7987"/>
                  </a:lnTo>
                  <a:lnTo>
                    <a:pt x="490" y="7936"/>
                  </a:lnTo>
                  <a:lnTo>
                    <a:pt x="439" y="7879"/>
                  </a:lnTo>
                  <a:lnTo>
                    <a:pt x="391" y="7823"/>
                  </a:lnTo>
                  <a:lnTo>
                    <a:pt x="342" y="7763"/>
                  </a:lnTo>
                  <a:lnTo>
                    <a:pt x="299" y="7701"/>
                  </a:lnTo>
                  <a:lnTo>
                    <a:pt x="258" y="7639"/>
                  </a:lnTo>
                  <a:lnTo>
                    <a:pt x="221" y="7572"/>
                  </a:lnTo>
                  <a:lnTo>
                    <a:pt x="185" y="7505"/>
                  </a:lnTo>
                  <a:lnTo>
                    <a:pt x="153" y="7436"/>
                  </a:lnTo>
                  <a:lnTo>
                    <a:pt x="126" y="7364"/>
                  </a:lnTo>
                  <a:lnTo>
                    <a:pt x="102" y="7291"/>
                  </a:lnTo>
                  <a:lnTo>
                    <a:pt x="81" y="7218"/>
                  </a:lnTo>
                  <a:lnTo>
                    <a:pt x="61" y="7139"/>
                  </a:lnTo>
                  <a:lnTo>
                    <a:pt x="48" y="7065"/>
                  </a:lnTo>
                  <a:lnTo>
                    <a:pt x="40" y="6987"/>
                  </a:lnTo>
                  <a:lnTo>
                    <a:pt x="32" y="6906"/>
                  </a:lnTo>
                  <a:lnTo>
                    <a:pt x="32" y="6824"/>
                  </a:lnTo>
                  <a:lnTo>
                    <a:pt x="32" y="1602"/>
                  </a:lnTo>
                  <a:lnTo>
                    <a:pt x="32" y="1522"/>
                  </a:lnTo>
                  <a:lnTo>
                    <a:pt x="40" y="1443"/>
                  </a:lnTo>
                  <a:lnTo>
                    <a:pt x="48" y="1365"/>
                  </a:lnTo>
                  <a:lnTo>
                    <a:pt x="61" y="1287"/>
                  </a:lnTo>
                  <a:lnTo>
                    <a:pt x="81" y="1211"/>
                  </a:lnTo>
                  <a:lnTo>
                    <a:pt x="102" y="1135"/>
                  </a:lnTo>
                  <a:lnTo>
                    <a:pt x="126" y="1062"/>
                  </a:lnTo>
                  <a:lnTo>
                    <a:pt x="153" y="992"/>
                  </a:lnTo>
                  <a:lnTo>
                    <a:pt x="185" y="923"/>
                  </a:lnTo>
                  <a:lnTo>
                    <a:pt x="221" y="855"/>
                  </a:lnTo>
                  <a:lnTo>
                    <a:pt x="258" y="790"/>
                  </a:lnTo>
                  <a:lnTo>
                    <a:pt x="299" y="725"/>
                  </a:lnTo>
                  <a:lnTo>
                    <a:pt x="342" y="663"/>
                  </a:lnTo>
                  <a:lnTo>
                    <a:pt x="391" y="604"/>
                  </a:lnTo>
                  <a:lnTo>
                    <a:pt x="439" y="548"/>
                  </a:lnTo>
                  <a:lnTo>
                    <a:pt x="490" y="493"/>
                  </a:lnTo>
                  <a:lnTo>
                    <a:pt x="544" y="442"/>
                  </a:lnTo>
                  <a:lnTo>
                    <a:pt x="604" y="391"/>
                  </a:lnTo>
                  <a:lnTo>
                    <a:pt x="661" y="345"/>
                  </a:lnTo>
                  <a:lnTo>
                    <a:pt x="723" y="302"/>
                  </a:lnTo>
                  <a:lnTo>
                    <a:pt x="787" y="262"/>
                  </a:lnTo>
                  <a:lnTo>
                    <a:pt x="852" y="224"/>
                  </a:lnTo>
                  <a:lnTo>
                    <a:pt x="919" y="189"/>
                  </a:lnTo>
                  <a:lnTo>
                    <a:pt x="990" y="156"/>
                  </a:lnTo>
                  <a:lnTo>
                    <a:pt x="1063" y="129"/>
                  </a:lnTo>
                  <a:lnTo>
                    <a:pt x="1135" y="105"/>
                  </a:lnTo>
                  <a:lnTo>
                    <a:pt x="1208" y="83"/>
                  </a:lnTo>
                  <a:lnTo>
                    <a:pt x="1284" y="64"/>
                  </a:lnTo>
                  <a:lnTo>
                    <a:pt x="1362" y="51"/>
                  </a:lnTo>
                  <a:lnTo>
                    <a:pt x="1441" y="40"/>
                  </a:lnTo>
                  <a:lnTo>
                    <a:pt x="1519" y="35"/>
                  </a:lnTo>
                  <a:lnTo>
                    <a:pt x="1600" y="32"/>
                  </a:lnTo>
                  <a:lnTo>
                    <a:pt x="8579" y="32"/>
                  </a:lnTo>
                  <a:lnTo>
                    <a:pt x="8657" y="35"/>
                  </a:lnTo>
                  <a:lnTo>
                    <a:pt x="8738" y="40"/>
                  </a:lnTo>
                  <a:lnTo>
                    <a:pt x="8816" y="51"/>
                  </a:lnTo>
                  <a:lnTo>
                    <a:pt x="8895" y="64"/>
                  </a:lnTo>
                  <a:lnTo>
                    <a:pt x="8970" y="83"/>
                  </a:lnTo>
                  <a:lnTo>
                    <a:pt x="9043" y="105"/>
                  </a:lnTo>
                  <a:lnTo>
                    <a:pt x="9116" y="129"/>
                  </a:lnTo>
                  <a:lnTo>
                    <a:pt x="9189" y="156"/>
                  </a:lnTo>
                  <a:lnTo>
                    <a:pt x="9259" y="189"/>
                  </a:lnTo>
                  <a:lnTo>
                    <a:pt x="9326" y="224"/>
                  </a:lnTo>
                  <a:lnTo>
                    <a:pt x="9391" y="262"/>
                  </a:lnTo>
                  <a:lnTo>
                    <a:pt x="9456" y="302"/>
                  </a:lnTo>
                  <a:lnTo>
                    <a:pt x="9516" y="345"/>
                  </a:lnTo>
                  <a:lnTo>
                    <a:pt x="9574" y="391"/>
                  </a:lnTo>
                  <a:lnTo>
                    <a:pt x="9631" y="442"/>
                  </a:lnTo>
                  <a:lnTo>
                    <a:pt x="9688" y="493"/>
                  </a:lnTo>
                  <a:lnTo>
                    <a:pt x="9739" y="548"/>
                  </a:lnTo>
                  <a:lnTo>
                    <a:pt x="9788" y="604"/>
                  </a:lnTo>
                  <a:lnTo>
                    <a:pt x="9836" y="663"/>
                  </a:lnTo>
                  <a:lnTo>
                    <a:pt x="9880" y="725"/>
                  </a:lnTo>
                  <a:lnTo>
                    <a:pt x="9919" y="790"/>
                  </a:lnTo>
                  <a:lnTo>
                    <a:pt x="9958" y="855"/>
                  </a:lnTo>
                  <a:lnTo>
                    <a:pt x="9993" y="923"/>
                  </a:lnTo>
                  <a:lnTo>
                    <a:pt x="10025" y="992"/>
                  </a:lnTo>
                  <a:lnTo>
                    <a:pt x="10052" y="1062"/>
                  </a:lnTo>
                  <a:lnTo>
                    <a:pt x="10076" y="1135"/>
                  </a:lnTo>
                  <a:lnTo>
                    <a:pt x="10098" y="1211"/>
                  </a:lnTo>
                  <a:lnTo>
                    <a:pt x="10114" y="1287"/>
                  </a:lnTo>
                  <a:lnTo>
                    <a:pt x="10131" y="1365"/>
                  </a:lnTo>
                  <a:lnTo>
                    <a:pt x="10138" y="1443"/>
                  </a:lnTo>
                  <a:lnTo>
                    <a:pt x="10147" y="1522"/>
                  </a:lnTo>
                  <a:lnTo>
                    <a:pt x="10147" y="1602"/>
                  </a:lnTo>
                  <a:lnTo>
                    <a:pt x="10147" y="6824"/>
                  </a:lnTo>
                  <a:lnTo>
                    <a:pt x="10147" y="6906"/>
                  </a:lnTo>
                  <a:lnTo>
                    <a:pt x="10138" y="6987"/>
                  </a:lnTo>
                  <a:lnTo>
                    <a:pt x="10131" y="7065"/>
                  </a:lnTo>
                  <a:lnTo>
                    <a:pt x="10114" y="7139"/>
                  </a:lnTo>
                  <a:lnTo>
                    <a:pt x="10098" y="7218"/>
                  </a:lnTo>
                  <a:lnTo>
                    <a:pt x="10076" y="7291"/>
                  </a:lnTo>
                  <a:lnTo>
                    <a:pt x="10052" y="7364"/>
                  </a:lnTo>
                  <a:lnTo>
                    <a:pt x="10025" y="7436"/>
                  </a:lnTo>
                  <a:lnTo>
                    <a:pt x="9993" y="7505"/>
                  </a:lnTo>
                  <a:lnTo>
                    <a:pt x="9958" y="7572"/>
                  </a:lnTo>
                  <a:lnTo>
                    <a:pt x="9919" y="7639"/>
                  </a:lnTo>
                  <a:lnTo>
                    <a:pt x="9880" y="7701"/>
                  </a:lnTo>
                  <a:lnTo>
                    <a:pt x="9836" y="7763"/>
                  </a:lnTo>
                  <a:lnTo>
                    <a:pt x="9788" y="7823"/>
                  </a:lnTo>
                  <a:lnTo>
                    <a:pt x="9739" y="7879"/>
                  </a:lnTo>
                  <a:lnTo>
                    <a:pt x="9688" y="7936"/>
                  </a:lnTo>
                  <a:lnTo>
                    <a:pt x="9631" y="7987"/>
                  </a:lnTo>
                  <a:lnTo>
                    <a:pt x="9574" y="8035"/>
                  </a:lnTo>
                  <a:lnTo>
                    <a:pt x="9516" y="8081"/>
                  </a:lnTo>
                  <a:lnTo>
                    <a:pt x="9456" y="8127"/>
                  </a:lnTo>
                  <a:lnTo>
                    <a:pt x="9391" y="8168"/>
                  </a:lnTo>
                  <a:lnTo>
                    <a:pt x="9326" y="8205"/>
                  </a:lnTo>
                  <a:lnTo>
                    <a:pt x="9259" y="8240"/>
                  </a:lnTo>
                  <a:lnTo>
                    <a:pt x="9189" y="8270"/>
                  </a:lnTo>
                  <a:lnTo>
                    <a:pt x="9116" y="8300"/>
                  </a:lnTo>
                  <a:lnTo>
                    <a:pt x="9043" y="8324"/>
                  </a:lnTo>
                  <a:lnTo>
                    <a:pt x="8970" y="8346"/>
                  </a:lnTo>
                  <a:lnTo>
                    <a:pt x="8895" y="8362"/>
                  </a:lnTo>
                  <a:lnTo>
                    <a:pt x="8816" y="8376"/>
                  </a:lnTo>
                  <a:lnTo>
                    <a:pt x="8738" y="8387"/>
                  </a:lnTo>
                  <a:lnTo>
                    <a:pt x="8657" y="8392"/>
                  </a:lnTo>
                  <a:lnTo>
                    <a:pt x="8579" y="8394"/>
                  </a:lnTo>
                  <a:lnTo>
                    <a:pt x="8579" y="8410"/>
                  </a:lnTo>
                  <a:lnTo>
                    <a:pt x="8579" y="8426"/>
                  </a:lnTo>
                  <a:lnTo>
                    <a:pt x="8660" y="8424"/>
                  </a:lnTo>
                  <a:lnTo>
                    <a:pt x="8741" y="8419"/>
                  </a:lnTo>
                  <a:lnTo>
                    <a:pt x="8821" y="8408"/>
                  </a:lnTo>
                  <a:lnTo>
                    <a:pt x="8900" y="8394"/>
                  </a:lnTo>
                  <a:lnTo>
                    <a:pt x="8978" y="8376"/>
                  </a:lnTo>
                  <a:lnTo>
                    <a:pt x="9054" y="8353"/>
                  </a:lnTo>
                  <a:lnTo>
                    <a:pt x="9127" y="8330"/>
                  </a:lnTo>
                  <a:lnTo>
                    <a:pt x="9199" y="8300"/>
                  </a:lnTo>
                  <a:lnTo>
                    <a:pt x="9272" y="8267"/>
                  </a:lnTo>
                  <a:lnTo>
                    <a:pt x="9339" y="8233"/>
                  </a:lnTo>
                  <a:lnTo>
                    <a:pt x="9408" y="8194"/>
                  </a:lnTo>
                  <a:lnTo>
                    <a:pt x="9472" y="8154"/>
                  </a:lnTo>
                  <a:lnTo>
                    <a:pt x="9537" y="8108"/>
                  </a:lnTo>
                  <a:lnTo>
                    <a:pt x="9596" y="8060"/>
                  </a:lnTo>
                  <a:lnTo>
                    <a:pt x="9655" y="8011"/>
                  </a:lnTo>
                  <a:lnTo>
                    <a:pt x="9709" y="7957"/>
                  </a:lnTo>
                  <a:lnTo>
                    <a:pt x="9763" y="7901"/>
                  </a:lnTo>
                  <a:lnTo>
                    <a:pt x="9815" y="7844"/>
                  </a:lnTo>
                  <a:lnTo>
                    <a:pt x="9861" y="7782"/>
                  </a:lnTo>
                  <a:lnTo>
                    <a:pt x="9907" y="7720"/>
                  </a:lnTo>
                  <a:lnTo>
                    <a:pt x="9947" y="7655"/>
                  </a:lnTo>
                  <a:lnTo>
                    <a:pt x="9988" y="7588"/>
                  </a:lnTo>
                  <a:lnTo>
                    <a:pt x="10022" y="7521"/>
                  </a:lnTo>
                  <a:lnTo>
                    <a:pt x="10055" y="7448"/>
                  </a:lnTo>
                  <a:lnTo>
                    <a:pt x="10082" y="7374"/>
                  </a:lnTo>
                  <a:lnTo>
                    <a:pt x="10108" y="7302"/>
                  </a:lnTo>
                  <a:lnTo>
                    <a:pt x="10131" y="7226"/>
                  </a:lnTo>
                  <a:lnTo>
                    <a:pt x="10147" y="7148"/>
                  </a:lnTo>
                  <a:lnTo>
                    <a:pt x="10160" y="7070"/>
                  </a:lnTo>
                  <a:lnTo>
                    <a:pt x="10170" y="6989"/>
                  </a:lnTo>
                  <a:lnTo>
                    <a:pt x="10179" y="6908"/>
                  </a:lnTo>
                  <a:lnTo>
                    <a:pt x="10179" y="6824"/>
                  </a:lnTo>
                  <a:lnTo>
                    <a:pt x="10179" y="1602"/>
                  </a:lnTo>
                  <a:lnTo>
                    <a:pt x="10179" y="1522"/>
                  </a:lnTo>
                  <a:lnTo>
                    <a:pt x="10170" y="1440"/>
                  </a:lnTo>
                  <a:lnTo>
                    <a:pt x="10160" y="1359"/>
                  </a:lnTo>
                  <a:lnTo>
                    <a:pt x="10147" y="1281"/>
                  </a:lnTo>
                  <a:lnTo>
                    <a:pt x="10131" y="1202"/>
                  </a:lnTo>
                  <a:lnTo>
                    <a:pt x="10108" y="1128"/>
                  </a:lnTo>
                  <a:lnTo>
                    <a:pt x="10082" y="1052"/>
                  </a:lnTo>
                  <a:lnTo>
                    <a:pt x="10055" y="979"/>
                  </a:lnTo>
                  <a:lnTo>
                    <a:pt x="10022" y="909"/>
                  </a:lnTo>
                  <a:lnTo>
                    <a:pt x="9988" y="838"/>
                  </a:lnTo>
                  <a:lnTo>
                    <a:pt x="9947" y="771"/>
                  </a:lnTo>
                  <a:lnTo>
                    <a:pt x="9907" y="707"/>
                  </a:lnTo>
                  <a:lnTo>
                    <a:pt x="9861" y="645"/>
                  </a:lnTo>
                  <a:lnTo>
                    <a:pt x="9815" y="585"/>
                  </a:lnTo>
                  <a:lnTo>
                    <a:pt x="9763" y="525"/>
                  </a:lnTo>
                  <a:lnTo>
                    <a:pt x="9709" y="469"/>
                  </a:lnTo>
                  <a:lnTo>
                    <a:pt x="9655" y="417"/>
                  </a:lnTo>
                  <a:lnTo>
                    <a:pt x="9596" y="366"/>
                  </a:lnTo>
                  <a:lnTo>
                    <a:pt x="9537" y="318"/>
                  </a:lnTo>
                  <a:lnTo>
                    <a:pt x="9472" y="275"/>
                  </a:lnTo>
                  <a:lnTo>
                    <a:pt x="9408" y="232"/>
                  </a:lnTo>
                  <a:lnTo>
                    <a:pt x="9339" y="194"/>
                  </a:lnTo>
                  <a:lnTo>
                    <a:pt x="9272" y="159"/>
                  </a:lnTo>
                  <a:lnTo>
                    <a:pt x="9199" y="127"/>
                  </a:lnTo>
                  <a:lnTo>
                    <a:pt x="9127" y="97"/>
                  </a:lnTo>
                  <a:lnTo>
                    <a:pt x="9054" y="73"/>
                  </a:lnTo>
                  <a:lnTo>
                    <a:pt x="8978" y="51"/>
                  </a:lnTo>
                  <a:lnTo>
                    <a:pt x="8900" y="32"/>
                  </a:lnTo>
                  <a:lnTo>
                    <a:pt x="8821" y="19"/>
                  </a:lnTo>
                  <a:lnTo>
                    <a:pt x="8741" y="7"/>
                  </a:lnTo>
                  <a:lnTo>
                    <a:pt x="8660" y="2"/>
                  </a:lnTo>
                  <a:lnTo>
                    <a:pt x="8579" y="0"/>
                  </a:lnTo>
                  <a:lnTo>
                    <a:pt x="1600" y="0"/>
                  </a:lnTo>
                  <a:lnTo>
                    <a:pt x="1519" y="2"/>
                  </a:lnTo>
                  <a:lnTo>
                    <a:pt x="1438" y="7"/>
                  </a:lnTo>
                  <a:lnTo>
                    <a:pt x="1356" y="19"/>
                  </a:lnTo>
                  <a:lnTo>
                    <a:pt x="1278" y="32"/>
                  </a:lnTo>
                  <a:lnTo>
                    <a:pt x="1200" y="51"/>
                  </a:lnTo>
                  <a:lnTo>
                    <a:pt x="1125" y="73"/>
                  </a:lnTo>
                  <a:lnTo>
                    <a:pt x="1049" y="97"/>
                  </a:lnTo>
                  <a:lnTo>
                    <a:pt x="976" y="127"/>
                  </a:lnTo>
                  <a:lnTo>
                    <a:pt x="906" y="159"/>
                  </a:lnTo>
                  <a:lnTo>
                    <a:pt x="838" y="194"/>
                  </a:lnTo>
                  <a:lnTo>
                    <a:pt x="771" y="232"/>
                  </a:lnTo>
                  <a:lnTo>
                    <a:pt x="707" y="275"/>
                  </a:lnTo>
                  <a:lnTo>
                    <a:pt x="642" y="318"/>
                  </a:lnTo>
                  <a:lnTo>
                    <a:pt x="582" y="366"/>
                  </a:lnTo>
                  <a:lnTo>
                    <a:pt x="523" y="417"/>
                  </a:lnTo>
                  <a:lnTo>
                    <a:pt x="469" y="469"/>
                  </a:lnTo>
                  <a:lnTo>
                    <a:pt x="415" y="525"/>
                  </a:lnTo>
                  <a:lnTo>
                    <a:pt x="364" y="585"/>
                  </a:lnTo>
                  <a:lnTo>
                    <a:pt x="318" y="645"/>
                  </a:lnTo>
                  <a:lnTo>
                    <a:pt x="272" y="707"/>
                  </a:lnTo>
                  <a:lnTo>
                    <a:pt x="231" y="771"/>
                  </a:lnTo>
                  <a:lnTo>
                    <a:pt x="191" y="838"/>
                  </a:lnTo>
                  <a:lnTo>
                    <a:pt x="156" y="909"/>
                  </a:lnTo>
                  <a:lnTo>
                    <a:pt x="123" y="979"/>
                  </a:lnTo>
                  <a:lnTo>
                    <a:pt x="97" y="1052"/>
                  </a:lnTo>
                  <a:lnTo>
                    <a:pt x="69" y="1128"/>
                  </a:lnTo>
                  <a:lnTo>
                    <a:pt x="48" y="1202"/>
                  </a:lnTo>
                  <a:lnTo>
                    <a:pt x="32" y="1281"/>
                  </a:lnTo>
                  <a:lnTo>
                    <a:pt x="16" y="1359"/>
                  </a:lnTo>
                  <a:lnTo>
                    <a:pt x="7" y="1440"/>
                  </a:lnTo>
                  <a:lnTo>
                    <a:pt x="0" y="1522"/>
                  </a:lnTo>
                  <a:lnTo>
                    <a:pt x="0" y="1602"/>
                  </a:lnTo>
                  <a:lnTo>
                    <a:pt x="0" y="6824"/>
                  </a:lnTo>
                  <a:lnTo>
                    <a:pt x="0" y="6908"/>
                  </a:lnTo>
                  <a:lnTo>
                    <a:pt x="7" y="6989"/>
                  </a:lnTo>
                  <a:lnTo>
                    <a:pt x="16" y="7070"/>
                  </a:lnTo>
                  <a:lnTo>
                    <a:pt x="32" y="7148"/>
                  </a:lnTo>
                  <a:lnTo>
                    <a:pt x="48" y="7226"/>
                  </a:lnTo>
                  <a:lnTo>
                    <a:pt x="69" y="7302"/>
                  </a:lnTo>
                  <a:lnTo>
                    <a:pt x="97" y="7374"/>
                  </a:lnTo>
                  <a:lnTo>
                    <a:pt x="123" y="7448"/>
                  </a:lnTo>
                  <a:lnTo>
                    <a:pt x="156" y="7521"/>
                  </a:lnTo>
                  <a:lnTo>
                    <a:pt x="191" y="7588"/>
                  </a:lnTo>
                  <a:lnTo>
                    <a:pt x="231" y="7655"/>
                  </a:lnTo>
                  <a:lnTo>
                    <a:pt x="272" y="7720"/>
                  </a:lnTo>
                  <a:lnTo>
                    <a:pt x="318" y="7782"/>
                  </a:lnTo>
                  <a:lnTo>
                    <a:pt x="364" y="7844"/>
                  </a:lnTo>
                  <a:lnTo>
                    <a:pt x="415" y="7901"/>
                  </a:lnTo>
                  <a:lnTo>
                    <a:pt x="469" y="7957"/>
                  </a:lnTo>
                  <a:lnTo>
                    <a:pt x="523" y="8011"/>
                  </a:lnTo>
                  <a:lnTo>
                    <a:pt x="582" y="8060"/>
                  </a:lnTo>
                  <a:lnTo>
                    <a:pt x="642" y="8108"/>
                  </a:lnTo>
                  <a:lnTo>
                    <a:pt x="707" y="8154"/>
                  </a:lnTo>
                  <a:lnTo>
                    <a:pt x="771" y="8194"/>
                  </a:lnTo>
                  <a:lnTo>
                    <a:pt x="838" y="8233"/>
                  </a:lnTo>
                  <a:lnTo>
                    <a:pt x="906" y="8267"/>
                  </a:lnTo>
                  <a:lnTo>
                    <a:pt x="976" y="8300"/>
                  </a:lnTo>
                  <a:lnTo>
                    <a:pt x="1049" y="8330"/>
                  </a:lnTo>
                  <a:lnTo>
                    <a:pt x="1125" y="8353"/>
                  </a:lnTo>
                  <a:lnTo>
                    <a:pt x="1200" y="8376"/>
                  </a:lnTo>
                  <a:lnTo>
                    <a:pt x="1278" y="8394"/>
                  </a:lnTo>
                  <a:lnTo>
                    <a:pt x="1356" y="8408"/>
                  </a:lnTo>
                  <a:lnTo>
                    <a:pt x="1438" y="8419"/>
                  </a:lnTo>
                  <a:lnTo>
                    <a:pt x="1519" y="8424"/>
                  </a:lnTo>
                  <a:lnTo>
                    <a:pt x="1600" y="8426"/>
                  </a:lnTo>
                  <a:lnTo>
                    <a:pt x="8579" y="8426"/>
                  </a:lnTo>
                  <a:lnTo>
                    <a:pt x="8579" y="8410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025640" y="2351160"/>
              <a:ext cx="1670040" cy="1303200"/>
            </a:xfrm>
            <a:custGeom>
              <a:avLst/>
              <a:gdLst/>
              <a:ahLst/>
              <a:rect l="l" t="t" r="r" b="b"/>
              <a:pathLst>
                <a:path w="10323" h="8570">
                  <a:moveTo>
                    <a:pt x="8709" y="8570"/>
                  </a:moveTo>
                  <a:lnTo>
                    <a:pt x="1614" y="8570"/>
                  </a:lnTo>
                  <a:lnTo>
                    <a:pt x="1530" y="8567"/>
                  </a:lnTo>
                  <a:lnTo>
                    <a:pt x="1449" y="8562"/>
                  </a:lnTo>
                  <a:lnTo>
                    <a:pt x="1368" y="8551"/>
                  </a:lnTo>
                  <a:lnTo>
                    <a:pt x="1288" y="8537"/>
                  </a:lnTo>
                  <a:lnTo>
                    <a:pt x="1212" y="8519"/>
                  </a:lnTo>
                  <a:lnTo>
                    <a:pt x="1134" y="8497"/>
                  </a:lnTo>
                  <a:lnTo>
                    <a:pt x="1058" y="8470"/>
                  </a:lnTo>
                  <a:lnTo>
                    <a:pt x="985" y="8443"/>
                  </a:lnTo>
                  <a:lnTo>
                    <a:pt x="915" y="8410"/>
                  </a:lnTo>
                  <a:lnTo>
                    <a:pt x="844" y="8373"/>
                  </a:lnTo>
                  <a:lnTo>
                    <a:pt x="777" y="8335"/>
                  </a:lnTo>
                  <a:lnTo>
                    <a:pt x="713" y="8292"/>
                  </a:lnTo>
                  <a:lnTo>
                    <a:pt x="648" y="8246"/>
                  </a:lnTo>
                  <a:lnTo>
                    <a:pt x="588" y="8200"/>
                  </a:lnTo>
                  <a:lnTo>
                    <a:pt x="529" y="8148"/>
                  </a:lnTo>
                  <a:lnTo>
                    <a:pt x="473" y="8095"/>
                  </a:lnTo>
                  <a:lnTo>
                    <a:pt x="418" y="8038"/>
                  </a:lnTo>
                  <a:lnTo>
                    <a:pt x="370" y="7979"/>
                  </a:lnTo>
                  <a:lnTo>
                    <a:pt x="321" y="7920"/>
                  </a:lnTo>
                  <a:lnTo>
                    <a:pt x="275" y="7855"/>
                  </a:lnTo>
                  <a:lnTo>
                    <a:pt x="234" y="7791"/>
                  </a:lnTo>
                  <a:lnTo>
                    <a:pt x="195" y="7720"/>
                  </a:lnTo>
                  <a:lnTo>
                    <a:pt x="160" y="7653"/>
                  </a:lnTo>
                  <a:lnTo>
                    <a:pt x="126" y="7579"/>
                  </a:lnTo>
                  <a:lnTo>
                    <a:pt x="98" y="7507"/>
                  </a:lnTo>
                  <a:lnTo>
                    <a:pt x="73" y="7432"/>
                  </a:lnTo>
                  <a:lnTo>
                    <a:pt x="52" y="7353"/>
                  </a:lnTo>
                  <a:lnTo>
                    <a:pt x="32" y="7275"/>
                  </a:lnTo>
                  <a:lnTo>
                    <a:pt x="18" y="7197"/>
                  </a:lnTo>
                  <a:lnTo>
                    <a:pt x="8" y="7116"/>
                  </a:lnTo>
                  <a:lnTo>
                    <a:pt x="2" y="7033"/>
                  </a:lnTo>
                  <a:lnTo>
                    <a:pt x="0" y="6951"/>
                  </a:lnTo>
                  <a:lnTo>
                    <a:pt x="0" y="1619"/>
                  </a:lnTo>
                  <a:lnTo>
                    <a:pt x="2" y="1538"/>
                  </a:lnTo>
                  <a:lnTo>
                    <a:pt x="8" y="1454"/>
                  </a:lnTo>
                  <a:lnTo>
                    <a:pt x="18" y="1373"/>
                  </a:lnTo>
                  <a:lnTo>
                    <a:pt x="32" y="1295"/>
                  </a:lnTo>
                  <a:lnTo>
                    <a:pt x="52" y="1216"/>
                  </a:lnTo>
                  <a:lnTo>
                    <a:pt x="73" y="1138"/>
                  </a:lnTo>
                  <a:lnTo>
                    <a:pt x="98" y="1062"/>
                  </a:lnTo>
                  <a:lnTo>
                    <a:pt x="126" y="990"/>
                  </a:lnTo>
                  <a:lnTo>
                    <a:pt x="160" y="917"/>
                  </a:lnTo>
                  <a:lnTo>
                    <a:pt x="195" y="850"/>
                  </a:lnTo>
                  <a:lnTo>
                    <a:pt x="234" y="779"/>
                  </a:lnTo>
                  <a:lnTo>
                    <a:pt x="275" y="714"/>
                  </a:lnTo>
                  <a:lnTo>
                    <a:pt x="321" y="652"/>
                  </a:lnTo>
                  <a:lnTo>
                    <a:pt x="370" y="590"/>
                  </a:lnTo>
                  <a:lnTo>
                    <a:pt x="418" y="532"/>
                  </a:lnTo>
                  <a:lnTo>
                    <a:pt x="473" y="475"/>
                  </a:lnTo>
                  <a:lnTo>
                    <a:pt x="529" y="421"/>
                  </a:lnTo>
                  <a:lnTo>
                    <a:pt x="588" y="369"/>
                  </a:lnTo>
                  <a:lnTo>
                    <a:pt x="648" y="323"/>
                  </a:lnTo>
                  <a:lnTo>
                    <a:pt x="713" y="278"/>
                  </a:lnTo>
                  <a:lnTo>
                    <a:pt x="777" y="235"/>
                  </a:lnTo>
                  <a:lnTo>
                    <a:pt x="844" y="196"/>
                  </a:lnTo>
                  <a:lnTo>
                    <a:pt x="915" y="162"/>
                  </a:lnTo>
                  <a:lnTo>
                    <a:pt x="985" y="129"/>
                  </a:lnTo>
                  <a:lnTo>
                    <a:pt x="1058" y="99"/>
                  </a:lnTo>
                  <a:lnTo>
                    <a:pt x="1134" y="73"/>
                  </a:lnTo>
                  <a:lnTo>
                    <a:pt x="1212" y="51"/>
                  </a:lnTo>
                  <a:lnTo>
                    <a:pt x="1288" y="35"/>
                  </a:lnTo>
                  <a:lnTo>
                    <a:pt x="1368" y="19"/>
                  </a:lnTo>
                  <a:lnTo>
                    <a:pt x="1449" y="8"/>
                  </a:lnTo>
                  <a:lnTo>
                    <a:pt x="1530" y="3"/>
                  </a:lnTo>
                  <a:lnTo>
                    <a:pt x="1614" y="0"/>
                  </a:lnTo>
                  <a:lnTo>
                    <a:pt x="8709" y="0"/>
                  </a:lnTo>
                  <a:lnTo>
                    <a:pt x="8793" y="3"/>
                  </a:lnTo>
                  <a:lnTo>
                    <a:pt x="8873" y="8"/>
                  </a:lnTo>
                  <a:lnTo>
                    <a:pt x="8954" y="19"/>
                  </a:lnTo>
                  <a:lnTo>
                    <a:pt x="9036" y="35"/>
                  </a:lnTo>
                  <a:lnTo>
                    <a:pt x="9114" y="51"/>
                  </a:lnTo>
                  <a:lnTo>
                    <a:pt x="9189" y="73"/>
                  </a:lnTo>
                  <a:lnTo>
                    <a:pt x="9265" y="99"/>
                  </a:lnTo>
                  <a:lnTo>
                    <a:pt x="9338" y="129"/>
                  </a:lnTo>
                  <a:lnTo>
                    <a:pt x="9408" y="162"/>
                  </a:lnTo>
                  <a:lnTo>
                    <a:pt x="9478" y="196"/>
                  </a:lnTo>
                  <a:lnTo>
                    <a:pt x="9545" y="235"/>
                  </a:lnTo>
                  <a:lnTo>
                    <a:pt x="9610" y="278"/>
                  </a:lnTo>
                  <a:lnTo>
                    <a:pt x="9676" y="323"/>
                  </a:lnTo>
                  <a:lnTo>
                    <a:pt x="9734" y="369"/>
                  </a:lnTo>
                  <a:lnTo>
                    <a:pt x="9794" y="421"/>
                  </a:lnTo>
                  <a:lnTo>
                    <a:pt x="9851" y="475"/>
                  </a:lnTo>
                  <a:lnTo>
                    <a:pt x="9904" y="532"/>
                  </a:lnTo>
                  <a:lnTo>
                    <a:pt x="9955" y="590"/>
                  </a:lnTo>
                  <a:lnTo>
                    <a:pt x="10001" y="652"/>
                  </a:lnTo>
                  <a:lnTo>
                    <a:pt x="10047" y="714"/>
                  </a:lnTo>
                  <a:lnTo>
                    <a:pt x="10091" y="779"/>
                  </a:lnTo>
                  <a:lnTo>
                    <a:pt x="10129" y="850"/>
                  </a:lnTo>
                  <a:lnTo>
                    <a:pt x="10164" y="917"/>
                  </a:lnTo>
                  <a:lnTo>
                    <a:pt x="10196" y="990"/>
                  </a:lnTo>
                  <a:lnTo>
                    <a:pt x="10226" y="1062"/>
                  </a:lnTo>
                  <a:lnTo>
                    <a:pt x="10250" y="1138"/>
                  </a:lnTo>
                  <a:lnTo>
                    <a:pt x="10272" y="1216"/>
                  </a:lnTo>
                  <a:lnTo>
                    <a:pt x="10291" y="1295"/>
                  </a:lnTo>
                  <a:lnTo>
                    <a:pt x="10304" y="1373"/>
                  </a:lnTo>
                  <a:lnTo>
                    <a:pt x="10314" y="1454"/>
                  </a:lnTo>
                  <a:lnTo>
                    <a:pt x="10320" y="1538"/>
                  </a:lnTo>
                  <a:lnTo>
                    <a:pt x="10323" y="1619"/>
                  </a:lnTo>
                  <a:lnTo>
                    <a:pt x="10323" y="6951"/>
                  </a:lnTo>
                  <a:lnTo>
                    <a:pt x="10320" y="7033"/>
                  </a:lnTo>
                  <a:lnTo>
                    <a:pt x="10314" y="7116"/>
                  </a:lnTo>
                  <a:lnTo>
                    <a:pt x="10304" y="7197"/>
                  </a:lnTo>
                  <a:lnTo>
                    <a:pt x="10291" y="7275"/>
                  </a:lnTo>
                  <a:lnTo>
                    <a:pt x="10272" y="7353"/>
                  </a:lnTo>
                  <a:lnTo>
                    <a:pt x="10250" y="7432"/>
                  </a:lnTo>
                  <a:lnTo>
                    <a:pt x="10226" y="7507"/>
                  </a:lnTo>
                  <a:lnTo>
                    <a:pt x="10196" y="7579"/>
                  </a:lnTo>
                  <a:lnTo>
                    <a:pt x="10164" y="7653"/>
                  </a:lnTo>
                  <a:lnTo>
                    <a:pt x="10129" y="7720"/>
                  </a:lnTo>
                  <a:lnTo>
                    <a:pt x="10091" y="7791"/>
                  </a:lnTo>
                  <a:lnTo>
                    <a:pt x="10047" y="7855"/>
                  </a:lnTo>
                  <a:lnTo>
                    <a:pt x="10001" y="7920"/>
                  </a:lnTo>
                  <a:lnTo>
                    <a:pt x="9955" y="7979"/>
                  </a:lnTo>
                  <a:lnTo>
                    <a:pt x="9904" y="8038"/>
                  </a:lnTo>
                  <a:lnTo>
                    <a:pt x="9851" y="8095"/>
                  </a:lnTo>
                  <a:lnTo>
                    <a:pt x="9794" y="8148"/>
                  </a:lnTo>
                  <a:lnTo>
                    <a:pt x="9734" y="8200"/>
                  </a:lnTo>
                  <a:lnTo>
                    <a:pt x="9676" y="8246"/>
                  </a:lnTo>
                  <a:lnTo>
                    <a:pt x="9610" y="8292"/>
                  </a:lnTo>
                  <a:lnTo>
                    <a:pt x="9545" y="8335"/>
                  </a:lnTo>
                  <a:lnTo>
                    <a:pt x="9478" y="8373"/>
                  </a:lnTo>
                  <a:lnTo>
                    <a:pt x="9408" y="8410"/>
                  </a:lnTo>
                  <a:lnTo>
                    <a:pt x="9338" y="8443"/>
                  </a:lnTo>
                  <a:lnTo>
                    <a:pt x="9265" y="8470"/>
                  </a:lnTo>
                  <a:lnTo>
                    <a:pt x="9189" y="8497"/>
                  </a:lnTo>
                  <a:lnTo>
                    <a:pt x="9114" y="8519"/>
                  </a:lnTo>
                  <a:lnTo>
                    <a:pt x="9036" y="8537"/>
                  </a:lnTo>
                  <a:lnTo>
                    <a:pt x="8954" y="8551"/>
                  </a:lnTo>
                  <a:lnTo>
                    <a:pt x="8873" y="8562"/>
                  </a:lnTo>
                  <a:lnTo>
                    <a:pt x="8793" y="8567"/>
                  </a:lnTo>
                  <a:lnTo>
                    <a:pt x="8709" y="8570"/>
                  </a:lnTo>
                  <a:close/>
                </a:path>
              </a:pathLst>
            </a:custGeom>
            <a:solidFill>
              <a:srgbClr val="cdcdd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0" name=""/>
            <p:cNvSpPr/>
            <p:nvPr/>
          </p:nvSpPr>
          <p:spPr>
            <a:xfrm>
              <a:off x="1054080" y="2351160"/>
              <a:ext cx="1641600" cy="1276200"/>
            </a:xfrm>
            <a:custGeom>
              <a:avLst/>
              <a:gdLst/>
              <a:ahLst/>
              <a:rect l="l" t="t" r="r" b="b"/>
              <a:pathLst>
                <a:path w="10147" h="8394">
                  <a:moveTo>
                    <a:pt x="8563" y="8394"/>
                  </a:moveTo>
                  <a:lnTo>
                    <a:pt x="1584" y="8394"/>
                  </a:lnTo>
                  <a:lnTo>
                    <a:pt x="1503" y="8392"/>
                  </a:lnTo>
                  <a:lnTo>
                    <a:pt x="1422" y="8387"/>
                  </a:lnTo>
                  <a:lnTo>
                    <a:pt x="1344" y="8376"/>
                  </a:lnTo>
                  <a:lnTo>
                    <a:pt x="1266" y="8362"/>
                  </a:lnTo>
                  <a:lnTo>
                    <a:pt x="1190" y="8346"/>
                  </a:lnTo>
                  <a:lnTo>
                    <a:pt x="1114" y="8325"/>
                  </a:lnTo>
                  <a:lnTo>
                    <a:pt x="1038" y="8297"/>
                  </a:lnTo>
                  <a:lnTo>
                    <a:pt x="969" y="8270"/>
                  </a:lnTo>
                  <a:lnTo>
                    <a:pt x="898" y="8238"/>
                  </a:lnTo>
                  <a:lnTo>
                    <a:pt x="828" y="8203"/>
                  </a:lnTo>
                  <a:lnTo>
                    <a:pt x="763" y="8166"/>
                  </a:lnTo>
                  <a:lnTo>
                    <a:pt x="698" y="8125"/>
                  </a:lnTo>
                  <a:lnTo>
                    <a:pt x="636" y="8079"/>
                  </a:lnTo>
                  <a:lnTo>
                    <a:pt x="576" y="8033"/>
                  </a:lnTo>
                  <a:lnTo>
                    <a:pt x="518" y="7982"/>
                  </a:lnTo>
                  <a:lnTo>
                    <a:pt x="463" y="7931"/>
                  </a:lnTo>
                  <a:lnTo>
                    <a:pt x="410" y="7874"/>
                  </a:lnTo>
                  <a:lnTo>
                    <a:pt x="361" y="7817"/>
                  </a:lnTo>
                  <a:lnTo>
                    <a:pt x="315" y="7758"/>
                  </a:lnTo>
                  <a:lnTo>
                    <a:pt x="270" y="7696"/>
                  </a:lnTo>
                  <a:lnTo>
                    <a:pt x="229" y="7631"/>
                  </a:lnTo>
                  <a:lnTo>
                    <a:pt x="191" y="7563"/>
                  </a:lnTo>
                  <a:lnTo>
                    <a:pt x="156" y="7496"/>
                  </a:lnTo>
                  <a:lnTo>
                    <a:pt x="123" y="7426"/>
                  </a:lnTo>
                  <a:lnTo>
                    <a:pt x="94" y="7353"/>
                  </a:lnTo>
                  <a:lnTo>
                    <a:pt x="70" y="7280"/>
                  </a:lnTo>
                  <a:lnTo>
                    <a:pt x="48" y="7205"/>
                  </a:lnTo>
                  <a:lnTo>
                    <a:pt x="32" y="7130"/>
                  </a:lnTo>
                  <a:lnTo>
                    <a:pt x="16" y="7051"/>
                  </a:lnTo>
                  <a:lnTo>
                    <a:pt x="7" y="6971"/>
                  </a:lnTo>
                  <a:lnTo>
                    <a:pt x="0" y="6890"/>
                  </a:lnTo>
                  <a:lnTo>
                    <a:pt x="0" y="6808"/>
                  </a:lnTo>
                  <a:lnTo>
                    <a:pt x="0" y="1586"/>
                  </a:lnTo>
                  <a:lnTo>
                    <a:pt x="0" y="1506"/>
                  </a:lnTo>
                  <a:lnTo>
                    <a:pt x="7" y="1424"/>
                  </a:lnTo>
                  <a:lnTo>
                    <a:pt x="16" y="1346"/>
                  </a:lnTo>
                  <a:lnTo>
                    <a:pt x="32" y="1267"/>
                  </a:lnTo>
                  <a:lnTo>
                    <a:pt x="48" y="1189"/>
                  </a:lnTo>
                  <a:lnTo>
                    <a:pt x="70" y="1117"/>
                  </a:lnTo>
                  <a:lnTo>
                    <a:pt x="94" y="1041"/>
                  </a:lnTo>
                  <a:lnTo>
                    <a:pt x="123" y="971"/>
                  </a:lnTo>
                  <a:lnTo>
                    <a:pt x="156" y="901"/>
                  </a:lnTo>
                  <a:lnTo>
                    <a:pt x="191" y="831"/>
                  </a:lnTo>
                  <a:lnTo>
                    <a:pt x="229" y="766"/>
                  </a:lnTo>
                  <a:lnTo>
                    <a:pt x="270" y="701"/>
                  </a:lnTo>
                  <a:lnTo>
                    <a:pt x="315" y="640"/>
                  </a:lnTo>
                  <a:lnTo>
                    <a:pt x="361" y="578"/>
                  </a:lnTo>
                  <a:lnTo>
                    <a:pt x="410" y="521"/>
                  </a:lnTo>
                  <a:lnTo>
                    <a:pt x="463" y="467"/>
                  </a:lnTo>
                  <a:lnTo>
                    <a:pt x="518" y="413"/>
                  </a:lnTo>
                  <a:lnTo>
                    <a:pt x="576" y="364"/>
                  </a:lnTo>
                  <a:lnTo>
                    <a:pt x="636" y="316"/>
                  </a:lnTo>
                  <a:lnTo>
                    <a:pt x="698" y="272"/>
                  </a:lnTo>
                  <a:lnTo>
                    <a:pt x="763" y="232"/>
                  </a:lnTo>
                  <a:lnTo>
                    <a:pt x="828" y="191"/>
                  </a:lnTo>
                  <a:lnTo>
                    <a:pt x="898" y="157"/>
                  </a:lnTo>
                  <a:lnTo>
                    <a:pt x="969" y="127"/>
                  </a:lnTo>
                  <a:lnTo>
                    <a:pt x="1038" y="97"/>
                  </a:lnTo>
                  <a:lnTo>
                    <a:pt x="1114" y="73"/>
                  </a:lnTo>
                  <a:lnTo>
                    <a:pt x="1190" y="51"/>
                  </a:lnTo>
                  <a:lnTo>
                    <a:pt x="1266" y="32"/>
                  </a:lnTo>
                  <a:lnTo>
                    <a:pt x="1344" y="19"/>
                  </a:lnTo>
                  <a:lnTo>
                    <a:pt x="1422" y="8"/>
                  </a:lnTo>
                  <a:lnTo>
                    <a:pt x="1503" y="3"/>
                  </a:lnTo>
                  <a:lnTo>
                    <a:pt x="1584" y="0"/>
                  </a:lnTo>
                  <a:lnTo>
                    <a:pt x="8563" y="0"/>
                  </a:lnTo>
                  <a:lnTo>
                    <a:pt x="8644" y="3"/>
                  </a:lnTo>
                  <a:lnTo>
                    <a:pt x="8725" y="8"/>
                  </a:lnTo>
                  <a:lnTo>
                    <a:pt x="8803" y="19"/>
                  </a:lnTo>
                  <a:lnTo>
                    <a:pt x="8881" y="32"/>
                  </a:lnTo>
                  <a:lnTo>
                    <a:pt x="8957" y="51"/>
                  </a:lnTo>
                  <a:lnTo>
                    <a:pt x="9033" y="73"/>
                  </a:lnTo>
                  <a:lnTo>
                    <a:pt x="9105" y="97"/>
                  </a:lnTo>
                  <a:lnTo>
                    <a:pt x="9178" y="127"/>
                  </a:lnTo>
                  <a:lnTo>
                    <a:pt x="9248" y="157"/>
                  </a:lnTo>
                  <a:lnTo>
                    <a:pt x="9316" y="191"/>
                  </a:lnTo>
                  <a:lnTo>
                    <a:pt x="9383" y="232"/>
                  </a:lnTo>
                  <a:lnTo>
                    <a:pt x="9448" y="272"/>
                  </a:lnTo>
                  <a:lnTo>
                    <a:pt x="9510" y="316"/>
                  </a:lnTo>
                  <a:lnTo>
                    <a:pt x="9569" y="364"/>
                  </a:lnTo>
                  <a:lnTo>
                    <a:pt x="9629" y="413"/>
                  </a:lnTo>
                  <a:lnTo>
                    <a:pt x="9682" y="467"/>
                  </a:lnTo>
                  <a:lnTo>
                    <a:pt x="9734" y="521"/>
                  </a:lnTo>
                  <a:lnTo>
                    <a:pt x="9785" y="578"/>
                  </a:lnTo>
                  <a:lnTo>
                    <a:pt x="9831" y="640"/>
                  </a:lnTo>
                  <a:lnTo>
                    <a:pt x="9877" y="701"/>
                  </a:lnTo>
                  <a:lnTo>
                    <a:pt x="9917" y="766"/>
                  </a:lnTo>
                  <a:lnTo>
                    <a:pt x="9956" y="831"/>
                  </a:lnTo>
                  <a:lnTo>
                    <a:pt x="9990" y="901"/>
                  </a:lnTo>
                  <a:lnTo>
                    <a:pt x="10023" y="971"/>
                  </a:lnTo>
                  <a:lnTo>
                    <a:pt x="10052" y="1041"/>
                  </a:lnTo>
                  <a:lnTo>
                    <a:pt x="10076" y="1117"/>
                  </a:lnTo>
                  <a:lnTo>
                    <a:pt x="10098" y="1189"/>
                  </a:lnTo>
                  <a:lnTo>
                    <a:pt x="10115" y="1267"/>
                  </a:lnTo>
                  <a:lnTo>
                    <a:pt x="10128" y="1346"/>
                  </a:lnTo>
                  <a:lnTo>
                    <a:pt x="10138" y="1424"/>
                  </a:lnTo>
                  <a:lnTo>
                    <a:pt x="10144" y="1506"/>
                  </a:lnTo>
                  <a:lnTo>
                    <a:pt x="10147" y="1586"/>
                  </a:lnTo>
                  <a:lnTo>
                    <a:pt x="10147" y="6808"/>
                  </a:lnTo>
                  <a:lnTo>
                    <a:pt x="10144" y="6890"/>
                  </a:lnTo>
                  <a:lnTo>
                    <a:pt x="10138" y="6971"/>
                  </a:lnTo>
                  <a:lnTo>
                    <a:pt x="10128" y="7051"/>
                  </a:lnTo>
                  <a:lnTo>
                    <a:pt x="10115" y="7130"/>
                  </a:lnTo>
                  <a:lnTo>
                    <a:pt x="10098" y="7205"/>
                  </a:lnTo>
                  <a:lnTo>
                    <a:pt x="10076" y="7280"/>
                  </a:lnTo>
                  <a:lnTo>
                    <a:pt x="10052" y="7353"/>
                  </a:lnTo>
                  <a:lnTo>
                    <a:pt x="10023" y="7426"/>
                  </a:lnTo>
                  <a:lnTo>
                    <a:pt x="9990" y="7496"/>
                  </a:lnTo>
                  <a:lnTo>
                    <a:pt x="9956" y="7563"/>
                  </a:lnTo>
                  <a:lnTo>
                    <a:pt x="9917" y="7631"/>
                  </a:lnTo>
                  <a:lnTo>
                    <a:pt x="9877" y="7696"/>
                  </a:lnTo>
                  <a:lnTo>
                    <a:pt x="9831" y="7758"/>
                  </a:lnTo>
                  <a:lnTo>
                    <a:pt x="9785" y="7817"/>
                  </a:lnTo>
                  <a:lnTo>
                    <a:pt x="9734" y="7874"/>
                  </a:lnTo>
                  <a:lnTo>
                    <a:pt x="9682" y="7931"/>
                  </a:lnTo>
                  <a:lnTo>
                    <a:pt x="9629" y="7982"/>
                  </a:lnTo>
                  <a:lnTo>
                    <a:pt x="9569" y="8033"/>
                  </a:lnTo>
                  <a:lnTo>
                    <a:pt x="9510" y="8079"/>
                  </a:lnTo>
                  <a:lnTo>
                    <a:pt x="9448" y="8125"/>
                  </a:lnTo>
                  <a:lnTo>
                    <a:pt x="9383" y="8166"/>
                  </a:lnTo>
                  <a:lnTo>
                    <a:pt x="9316" y="8203"/>
                  </a:lnTo>
                  <a:lnTo>
                    <a:pt x="9248" y="8238"/>
                  </a:lnTo>
                  <a:lnTo>
                    <a:pt x="9178" y="8270"/>
                  </a:lnTo>
                  <a:lnTo>
                    <a:pt x="9105" y="8297"/>
                  </a:lnTo>
                  <a:lnTo>
                    <a:pt x="9033" y="8325"/>
                  </a:lnTo>
                  <a:lnTo>
                    <a:pt x="8957" y="8346"/>
                  </a:lnTo>
                  <a:lnTo>
                    <a:pt x="8881" y="8362"/>
                  </a:lnTo>
                  <a:lnTo>
                    <a:pt x="8803" y="8376"/>
                  </a:lnTo>
                  <a:lnTo>
                    <a:pt x="8725" y="8387"/>
                  </a:lnTo>
                  <a:lnTo>
                    <a:pt x="8644" y="8392"/>
                  </a:lnTo>
                  <a:lnTo>
                    <a:pt x="8563" y="8394"/>
                  </a:lnTo>
                  <a:close/>
                </a:path>
              </a:pathLst>
            </a:custGeom>
            <a:solidFill>
              <a:srgbClr val="ebbc3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1" name=""/>
            <p:cNvSpPr/>
            <p:nvPr/>
          </p:nvSpPr>
          <p:spPr>
            <a:xfrm>
              <a:off x="1052640" y="2351160"/>
              <a:ext cx="1643040" cy="1277640"/>
            </a:xfrm>
            <a:custGeom>
              <a:avLst/>
              <a:gdLst/>
              <a:ahLst/>
              <a:rect l="l" t="t" r="r" b="b"/>
              <a:pathLst>
                <a:path w="10163" h="8412">
                  <a:moveTo>
                    <a:pt x="8572" y="8403"/>
                  </a:moveTo>
                  <a:lnTo>
                    <a:pt x="8572" y="8396"/>
                  </a:lnTo>
                  <a:lnTo>
                    <a:pt x="1593" y="8396"/>
                  </a:lnTo>
                  <a:lnTo>
                    <a:pt x="1512" y="8392"/>
                  </a:lnTo>
                  <a:lnTo>
                    <a:pt x="1434" y="8387"/>
                  </a:lnTo>
                  <a:lnTo>
                    <a:pt x="1353" y="8376"/>
                  </a:lnTo>
                  <a:lnTo>
                    <a:pt x="1277" y="8362"/>
                  </a:lnTo>
                  <a:lnTo>
                    <a:pt x="1199" y="8346"/>
                  </a:lnTo>
                  <a:lnTo>
                    <a:pt x="1126" y="8325"/>
                  </a:lnTo>
                  <a:lnTo>
                    <a:pt x="1050" y="8301"/>
                  </a:lnTo>
                  <a:lnTo>
                    <a:pt x="980" y="8272"/>
                  </a:lnTo>
                  <a:lnTo>
                    <a:pt x="910" y="8239"/>
                  </a:lnTo>
                  <a:lnTo>
                    <a:pt x="842" y="8203"/>
                  </a:lnTo>
                  <a:lnTo>
                    <a:pt x="775" y="8166"/>
                  </a:lnTo>
                  <a:lnTo>
                    <a:pt x="713" y="8125"/>
                  </a:lnTo>
                  <a:lnTo>
                    <a:pt x="651" y="8083"/>
                  </a:lnTo>
                  <a:lnTo>
                    <a:pt x="591" y="8034"/>
                  </a:lnTo>
                  <a:lnTo>
                    <a:pt x="532" y="7986"/>
                  </a:lnTo>
                  <a:lnTo>
                    <a:pt x="478" y="7934"/>
                  </a:lnTo>
                  <a:lnTo>
                    <a:pt x="426" y="7878"/>
                  </a:lnTo>
                  <a:lnTo>
                    <a:pt x="375" y="7821"/>
                  </a:lnTo>
                  <a:lnTo>
                    <a:pt x="329" y="7761"/>
                  </a:lnTo>
                  <a:lnTo>
                    <a:pt x="286" y="7699"/>
                  </a:lnTo>
                  <a:lnTo>
                    <a:pt x="244" y="7634"/>
                  </a:lnTo>
                  <a:lnTo>
                    <a:pt x="205" y="7570"/>
                  </a:lnTo>
                  <a:lnTo>
                    <a:pt x="170" y="7503"/>
                  </a:lnTo>
                  <a:lnTo>
                    <a:pt x="141" y="7432"/>
                  </a:lnTo>
                  <a:lnTo>
                    <a:pt x="111" y="7360"/>
                  </a:lnTo>
                  <a:lnTo>
                    <a:pt x="87" y="7287"/>
                  </a:lnTo>
                  <a:lnTo>
                    <a:pt x="65" y="7211"/>
                  </a:lnTo>
                  <a:lnTo>
                    <a:pt x="49" y="7136"/>
                  </a:lnTo>
                  <a:lnTo>
                    <a:pt x="33" y="7058"/>
                  </a:lnTo>
                  <a:lnTo>
                    <a:pt x="25" y="6980"/>
                  </a:lnTo>
                  <a:lnTo>
                    <a:pt x="16" y="6899"/>
                  </a:lnTo>
                  <a:lnTo>
                    <a:pt x="16" y="6817"/>
                  </a:lnTo>
                  <a:lnTo>
                    <a:pt x="16" y="1595"/>
                  </a:lnTo>
                  <a:lnTo>
                    <a:pt x="16" y="1515"/>
                  </a:lnTo>
                  <a:lnTo>
                    <a:pt x="25" y="1433"/>
                  </a:lnTo>
                  <a:lnTo>
                    <a:pt x="33" y="1355"/>
                  </a:lnTo>
                  <a:lnTo>
                    <a:pt x="49" y="1276"/>
                  </a:lnTo>
                  <a:lnTo>
                    <a:pt x="65" y="1202"/>
                  </a:lnTo>
                  <a:lnTo>
                    <a:pt x="87" y="1126"/>
                  </a:lnTo>
                  <a:lnTo>
                    <a:pt x="111" y="1053"/>
                  </a:lnTo>
                  <a:lnTo>
                    <a:pt x="141" y="983"/>
                  </a:lnTo>
                  <a:lnTo>
                    <a:pt x="170" y="912"/>
                  </a:lnTo>
                  <a:lnTo>
                    <a:pt x="205" y="845"/>
                  </a:lnTo>
                  <a:lnTo>
                    <a:pt x="244" y="778"/>
                  </a:lnTo>
                  <a:lnTo>
                    <a:pt x="286" y="713"/>
                  </a:lnTo>
                  <a:lnTo>
                    <a:pt x="329" y="651"/>
                  </a:lnTo>
                  <a:lnTo>
                    <a:pt x="375" y="592"/>
                  </a:lnTo>
                  <a:lnTo>
                    <a:pt x="426" y="535"/>
                  </a:lnTo>
                  <a:lnTo>
                    <a:pt x="478" y="481"/>
                  </a:lnTo>
                  <a:lnTo>
                    <a:pt x="532" y="428"/>
                  </a:lnTo>
                  <a:lnTo>
                    <a:pt x="591" y="378"/>
                  </a:lnTo>
                  <a:lnTo>
                    <a:pt x="651" y="332"/>
                  </a:lnTo>
                  <a:lnTo>
                    <a:pt x="713" y="287"/>
                  </a:lnTo>
                  <a:lnTo>
                    <a:pt x="775" y="246"/>
                  </a:lnTo>
                  <a:lnTo>
                    <a:pt x="842" y="209"/>
                  </a:lnTo>
                  <a:lnTo>
                    <a:pt x="910" y="173"/>
                  </a:lnTo>
                  <a:lnTo>
                    <a:pt x="980" y="141"/>
                  </a:lnTo>
                  <a:lnTo>
                    <a:pt x="1050" y="115"/>
                  </a:lnTo>
                  <a:lnTo>
                    <a:pt x="1126" y="90"/>
                  </a:lnTo>
                  <a:lnTo>
                    <a:pt x="1199" y="69"/>
                  </a:lnTo>
                  <a:lnTo>
                    <a:pt x="1277" y="50"/>
                  </a:lnTo>
                  <a:lnTo>
                    <a:pt x="1353" y="36"/>
                  </a:lnTo>
                  <a:lnTo>
                    <a:pt x="1434" y="25"/>
                  </a:lnTo>
                  <a:lnTo>
                    <a:pt x="1512" y="20"/>
                  </a:lnTo>
                  <a:lnTo>
                    <a:pt x="1593" y="17"/>
                  </a:lnTo>
                  <a:lnTo>
                    <a:pt x="8572" y="17"/>
                  </a:lnTo>
                  <a:lnTo>
                    <a:pt x="8653" y="20"/>
                  </a:lnTo>
                  <a:lnTo>
                    <a:pt x="8731" y="25"/>
                  </a:lnTo>
                  <a:lnTo>
                    <a:pt x="8809" y="36"/>
                  </a:lnTo>
                  <a:lnTo>
                    <a:pt x="8888" y="50"/>
                  </a:lnTo>
                  <a:lnTo>
                    <a:pt x="8966" y="69"/>
                  </a:lnTo>
                  <a:lnTo>
                    <a:pt x="9038" y="90"/>
                  </a:lnTo>
                  <a:lnTo>
                    <a:pt x="9111" y="115"/>
                  </a:lnTo>
                  <a:lnTo>
                    <a:pt x="9184" y="141"/>
                  </a:lnTo>
                  <a:lnTo>
                    <a:pt x="9254" y="173"/>
                  </a:lnTo>
                  <a:lnTo>
                    <a:pt x="9322" y="209"/>
                  </a:lnTo>
                  <a:lnTo>
                    <a:pt x="9389" y="246"/>
                  </a:lnTo>
                  <a:lnTo>
                    <a:pt x="9452" y="287"/>
                  </a:lnTo>
                  <a:lnTo>
                    <a:pt x="9514" y="332"/>
                  </a:lnTo>
                  <a:lnTo>
                    <a:pt x="9573" y="378"/>
                  </a:lnTo>
                  <a:lnTo>
                    <a:pt x="9632" y="428"/>
                  </a:lnTo>
                  <a:lnTo>
                    <a:pt x="9686" y="481"/>
                  </a:lnTo>
                  <a:lnTo>
                    <a:pt x="9737" y="535"/>
                  </a:lnTo>
                  <a:lnTo>
                    <a:pt x="9788" y="592"/>
                  </a:lnTo>
                  <a:lnTo>
                    <a:pt x="9834" y="651"/>
                  </a:lnTo>
                  <a:lnTo>
                    <a:pt x="9878" y="713"/>
                  </a:lnTo>
                  <a:lnTo>
                    <a:pt x="9921" y="778"/>
                  </a:lnTo>
                  <a:lnTo>
                    <a:pt x="9958" y="845"/>
                  </a:lnTo>
                  <a:lnTo>
                    <a:pt x="9994" y="912"/>
                  </a:lnTo>
                  <a:lnTo>
                    <a:pt x="10023" y="983"/>
                  </a:lnTo>
                  <a:lnTo>
                    <a:pt x="10053" y="1053"/>
                  </a:lnTo>
                  <a:lnTo>
                    <a:pt x="10078" y="1126"/>
                  </a:lnTo>
                  <a:lnTo>
                    <a:pt x="10099" y="1202"/>
                  </a:lnTo>
                  <a:lnTo>
                    <a:pt x="10115" y="1276"/>
                  </a:lnTo>
                  <a:lnTo>
                    <a:pt x="10131" y="1355"/>
                  </a:lnTo>
                  <a:lnTo>
                    <a:pt x="10140" y="1433"/>
                  </a:lnTo>
                  <a:lnTo>
                    <a:pt x="10147" y="1515"/>
                  </a:lnTo>
                  <a:lnTo>
                    <a:pt x="10147" y="1595"/>
                  </a:lnTo>
                  <a:lnTo>
                    <a:pt x="10147" y="6817"/>
                  </a:lnTo>
                  <a:lnTo>
                    <a:pt x="10147" y="6899"/>
                  </a:lnTo>
                  <a:lnTo>
                    <a:pt x="10140" y="6980"/>
                  </a:lnTo>
                  <a:lnTo>
                    <a:pt x="10131" y="7058"/>
                  </a:lnTo>
                  <a:lnTo>
                    <a:pt x="10115" y="7136"/>
                  </a:lnTo>
                  <a:lnTo>
                    <a:pt x="10099" y="7211"/>
                  </a:lnTo>
                  <a:lnTo>
                    <a:pt x="10078" y="7287"/>
                  </a:lnTo>
                  <a:lnTo>
                    <a:pt x="10053" y="7360"/>
                  </a:lnTo>
                  <a:lnTo>
                    <a:pt x="10023" y="7432"/>
                  </a:lnTo>
                  <a:lnTo>
                    <a:pt x="9994" y="7503"/>
                  </a:lnTo>
                  <a:lnTo>
                    <a:pt x="9958" y="7570"/>
                  </a:lnTo>
                  <a:lnTo>
                    <a:pt x="9921" y="7634"/>
                  </a:lnTo>
                  <a:lnTo>
                    <a:pt x="9878" y="7699"/>
                  </a:lnTo>
                  <a:lnTo>
                    <a:pt x="9834" y="7761"/>
                  </a:lnTo>
                  <a:lnTo>
                    <a:pt x="9788" y="7821"/>
                  </a:lnTo>
                  <a:lnTo>
                    <a:pt x="9737" y="7878"/>
                  </a:lnTo>
                  <a:lnTo>
                    <a:pt x="9686" y="7934"/>
                  </a:lnTo>
                  <a:lnTo>
                    <a:pt x="9632" y="7986"/>
                  </a:lnTo>
                  <a:lnTo>
                    <a:pt x="9573" y="8034"/>
                  </a:lnTo>
                  <a:lnTo>
                    <a:pt x="9514" y="8083"/>
                  </a:lnTo>
                  <a:lnTo>
                    <a:pt x="9452" y="8125"/>
                  </a:lnTo>
                  <a:lnTo>
                    <a:pt x="9389" y="8166"/>
                  </a:lnTo>
                  <a:lnTo>
                    <a:pt x="9322" y="8203"/>
                  </a:lnTo>
                  <a:lnTo>
                    <a:pt x="9254" y="8239"/>
                  </a:lnTo>
                  <a:lnTo>
                    <a:pt x="9184" y="8272"/>
                  </a:lnTo>
                  <a:lnTo>
                    <a:pt x="9111" y="8301"/>
                  </a:lnTo>
                  <a:lnTo>
                    <a:pt x="9038" y="8325"/>
                  </a:lnTo>
                  <a:lnTo>
                    <a:pt x="8966" y="8346"/>
                  </a:lnTo>
                  <a:lnTo>
                    <a:pt x="8888" y="8362"/>
                  </a:lnTo>
                  <a:lnTo>
                    <a:pt x="8809" y="8376"/>
                  </a:lnTo>
                  <a:lnTo>
                    <a:pt x="8731" y="8387"/>
                  </a:lnTo>
                  <a:lnTo>
                    <a:pt x="8653" y="8392"/>
                  </a:lnTo>
                  <a:lnTo>
                    <a:pt x="8572" y="8396"/>
                  </a:lnTo>
                  <a:lnTo>
                    <a:pt x="8572" y="8403"/>
                  </a:lnTo>
                  <a:lnTo>
                    <a:pt x="8572" y="8412"/>
                  </a:lnTo>
                  <a:lnTo>
                    <a:pt x="8653" y="8408"/>
                  </a:lnTo>
                  <a:lnTo>
                    <a:pt x="8734" y="8403"/>
                  </a:lnTo>
                  <a:lnTo>
                    <a:pt x="8812" y="8392"/>
                  </a:lnTo>
                  <a:lnTo>
                    <a:pt x="8890" y="8380"/>
                  </a:lnTo>
                  <a:lnTo>
                    <a:pt x="8968" y="8360"/>
                  </a:lnTo>
                  <a:lnTo>
                    <a:pt x="9044" y="8339"/>
                  </a:lnTo>
                  <a:lnTo>
                    <a:pt x="9116" y="8314"/>
                  </a:lnTo>
                  <a:lnTo>
                    <a:pt x="9189" y="8288"/>
                  </a:lnTo>
                  <a:lnTo>
                    <a:pt x="9260" y="8255"/>
                  </a:lnTo>
                  <a:lnTo>
                    <a:pt x="9330" y="8220"/>
                  </a:lnTo>
                  <a:lnTo>
                    <a:pt x="9397" y="8180"/>
                  </a:lnTo>
                  <a:lnTo>
                    <a:pt x="9463" y="8139"/>
                  </a:lnTo>
                  <a:lnTo>
                    <a:pt x="9525" y="8096"/>
                  </a:lnTo>
                  <a:lnTo>
                    <a:pt x="9583" y="8047"/>
                  </a:lnTo>
                  <a:lnTo>
                    <a:pt x="9643" y="7996"/>
                  </a:lnTo>
                  <a:lnTo>
                    <a:pt x="9697" y="7945"/>
                  </a:lnTo>
                  <a:lnTo>
                    <a:pt x="9751" y="7888"/>
                  </a:lnTo>
                  <a:lnTo>
                    <a:pt x="9799" y="7832"/>
                  </a:lnTo>
                  <a:lnTo>
                    <a:pt x="9848" y="7772"/>
                  </a:lnTo>
                  <a:lnTo>
                    <a:pt x="9891" y="7708"/>
                  </a:lnTo>
                  <a:lnTo>
                    <a:pt x="9935" y="7643"/>
                  </a:lnTo>
                  <a:lnTo>
                    <a:pt x="9972" y="7578"/>
                  </a:lnTo>
                  <a:lnTo>
                    <a:pt x="10007" y="7508"/>
                  </a:lnTo>
                  <a:lnTo>
                    <a:pt x="10040" y="7438"/>
                  </a:lnTo>
                  <a:lnTo>
                    <a:pt x="10066" y="7365"/>
                  </a:lnTo>
                  <a:lnTo>
                    <a:pt x="10094" y="7293"/>
                  </a:lnTo>
                  <a:lnTo>
                    <a:pt x="10115" y="7217"/>
                  </a:lnTo>
                  <a:lnTo>
                    <a:pt x="10131" y="7139"/>
                  </a:lnTo>
                  <a:lnTo>
                    <a:pt x="10145" y="7060"/>
                  </a:lnTo>
                  <a:lnTo>
                    <a:pt x="10156" y="6982"/>
                  </a:lnTo>
                  <a:lnTo>
                    <a:pt x="10163" y="6901"/>
                  </a:lnTo>
                  <a:lnTo>
                    <a:pt x="10163" y="6817"/>
                  </a:lnTo>
                  <a:lnTo>
                    <a:pt x="10163" y="1595"/>
                  </a:lnTo>
                  <a:lnTo>
                    <a:pt x="10163" y="1515"/>
                  </a:lnTo>
                  <a:lnTo>
                    <a:pt x="10156" y="1433"/>
                  </a:lnTo>
                  <a:lnTo>
                    <a:pt x="10145" y="1352"/>
                  </a:lnTo>
                  <a:lnTo>
                    <a:pt x="10131" y="1274"/>
                  </a:lnTo>
                  <a:lnTo>
                    <a:pt x="10115" y="1198"/>
                  </a:lnTo>
                  <a:lnTo>
                    <a:pt x="10094" y="1123"/>
                  </a:lnTo>
                  <a:lnTo>
                    <a:pt x="10066" y="1048"/>
                  </a:lnTo>
                  <a:lnTo>
                    <a:pt x="10040" y="974"/>
                  </a:lnTo>
                  <a:lnTo>
                    <a:pt x="10007" y="905"/>
                  </a:lnTo>
                  <a:lnTo>
                    <a:pt x="9972" y="838"/>
                  </a:lnTo>
                  <a:lnTo>
                    <a:pt x="9935" y="769"/>
                  </a:lnTo>
                  <a:lnTo>
                    <a:pt x="9891" y="705"/>
                  </a:lnTo>
                  <a:lnTo>
                    <a:pt x="9848" y="643"/>
                  </a:lnTo>
                  <a:lnTo>
                    <a:pt x="9799" y="583"/>
                  </a:lnTo>
                  <a:lnTo>
                    <a:pt x="9751" y="524"/>
                  </a:lnTo>
                  <a:lnTo>
                    <a:pt x="9697" y="470"/>
                  </a:lnTo>
                  <a:lnTo>
                    <a:pt x="9643" y="416"/>
                  </a:lnTo>
                  <a:lnTo>
                    <a:pt x="9583" y="365"/>
                  </a:lnTo>
                  <a:lnTo>
                    <a:pt x="9525" y="320"/>
                  </a:lnTo>
                  <a:lnTo>
                    <a:pt x="9463" y="274"/>
                  </a:lnTo>
                  <a:lnTo>
                    <a:pt x="9397" y="233"/>
                  </a:lnTo>
                  <a:lnTo>
                    <a:pt x="9330" y="195"/>
                  </a:lnTo>
                  <a:lnTo>
                    <a:pt x="9260" y="159"/>
                  </a:lnTo>
                  <a:lnTo>
                    <a:pt x="9189" y="127"/>
                  </a:lnTo>
                  <a:lnTo>
                    <a:pt x="9116" y="98"/>
                  </a:lnTo>
                  <a:lnTo>
                    <a:pt x="9044" y="74"/>
                  </a:lnTo>
                  <a:lnTo>
                    <a:pt x="8968" y="52"/>
                  </a:lnTo>
                  <a:lnTo>
                    <a:pt x="8890" y="33"/>
                  </a:lnTo>
                  <a:lnTo>
                    <a:pt x="8812" y="20"/>
                  </a:lnTo>
                  <a:lnTo>
                    <a:pt x="8734" y="9"/>
                  </a:lnTo>
                  <a:lnTo>
                    <a:pt x="8653" y="4"/>
                  </a:lnTo>
                  <a:lnTo>
                    <a:pt x="8572" y="0"/>
                  </a:lnTo>
                  <a:lnTo>
                    <a:pt x="1593" y="0"/>
                  </a:lnTo>
                  <a:lnTo>
                    <a:pt x="1512" y="4"/>
                  </a:lnTo>
                  <a:lnTo>
                    <a:pt x="1431" y="9"/>
                  </a:lnTo>
                  <a:lnTo>
                    <a:pt x="1349" y="20"/>
                  </a:lnTo>
                  <a:lnTo>
                    <a:pt x="1271" y="33"/>
                  </a:lnTo>
                  <a:lnTo>
                    <a:pt x="1196" y="52"/>
                  </a:lnTo>
                  <a:lnTo>
                    <a:pt x="1121" y="74"/>
                  </a:lnTo>
                  <a:lnTo>
                    <a:pt x="1045" y="98"/>
                  </a:lnTo>
                  <a:lnTo>
                    <a:pt x="974" y="127"/>
                  </a:lnTo>
                  <a:lnTo>
                    <a:pt x="902" y="159"/>
                  </a:lnTo>
                  <a:lnTo>
                    <a:pt x="834" y="195"/>
                  </a:lnTo>
                  <a:lnTo>
                    <a:pt x="767" y="233"/>
                  </a:lnTo>
                  <a:lnTo>
                    <a:pt x="702" y="274"/>
                  </a:lnTo>
                  <a:lnTo>
                    <a:pt x="640" y="320"/>
                  </a:lnTo>
                  <a:lnTo>
                    <a:pt x="580" y="365"/>
                  </a:lnTo>
                  <a:lnTo>
                    <a:pt x="521" y="416"/>
                  </a:lnTo>
                  <a:lnTo>
                    <a:pt x="467" y="470"/>
                  </a:lnTo>
                  <a:lnTo>
                    <a:pt x="413" y="524"/>
                  </a:lnTo>
                  <a:lnTo>
                    <a:pt x="364" y="583"/>
                  </a:lnTo>
                  <a:lnTo>
                    <a:pt x="316" y="643"/>
                  </a:lnTo>
                  <a:lnTo>
                    <a:pt x="272" y="705"/>
                  </a:lnTo>
                  <a:lnTo>
                    <a:pt x="230" y="769"/>
                  </a:lnTo>
                  <a:lnTo>
                    <a:pt x="192" y="838"/>
                  </a:lnTo>
                  <a:lnTo>
                    <a:pt x="157" y="905"/>
                  </a:lnTo>
                  <a:lnTo>
                    <a:pt x="125" y="974"/>
                  </a:lnTo>
                  <a:lnTo>
                    <a:pt x="95" y="1048"/>
                  </a:lnTo>
                  <a:lnTo>
                    <a:pt x="71" y="1123"/>
                  </a:lnTo>
                  <a:lnTo>
                    <a:pt x="49" y="1198"/>
                  </a:lnTo>
                  <a:lnTo>
                    <a:pt x="33" y="1274"/>
                  </a:lnTo>
                  <a:lnTo>
                    <a:pt x="16" y="1352"/>
                  </a:lnTo>
                  <a:lnTo>
                    <a:pt x="9" y="1433"/>
                  </a:lnTo>
                  <a:lnTo>
                    <a:pt x="0" y="1515"/>
                  </a:lnTo>
                  <a:lnTo>
                    <a:pt x="0" y="1595"/>
                  </a:lnTo>
                  <a:lnTo>
                    <a:pt x="0" y="6817"/>
                  </a:lnTo>
                  <a:lnTo>
                    <a:pt x="0" y="6901"/>
                  </a:lnTo>
                  <a:lnTo>
                    <a:pt x="9" y="6982"/>
                  </a:lnTo>
                  <a:lnTo>
                    <a:pt x="16" y="7060"/>
                  </a:lnTo>
                  <a:lnTo>
                    <a:pt x="33" y="7139"/>
                  </a:lnTo>
                  <a:lnTo>
                    <a:pt x="49" y="7217"/>
                  </a:lnTo>
                  <a:lnTo>
                    <a:pt x="71" y="7293"/>
                  </a:lnTo>
                  <a:lnTo>
                    <a:pt x="95" y="7365"/>
                  </a:lnTo>
                  <a:lnTo>
                    <a:pt x="125" y="7438"/>
                  </a:lnTo>
                  <a:lnTo>
                    <a:pt x="157" y="7508"/>
                  </a:lnTo>
                  <a:lnTo>
                    <a:pt x="192" y="7578"/>
                  </a:lnTo>
                  <a:lnTo>
                    <a:pt x="230" y="7643"/>
                  </a:lnTo>
                  <a:lnTo>
                    <a:pt x="272" y="7708"/>
                  </a:lnTo>
                  <a:lnTo>
                    <a:pt x="316" y="7772"/>
                  </a:lnTo>
                  <a:lnTo>
                    <a:pt x="364" y="7832"/>
                  </a:lnTo>
                  <a:lnTo>
                    <a:pt x="413" y="7888"/>
                  </a:lnTo>
                  <a:lnTo>
                    <a:pt x="467" y="7945"/>
                  </a:lnTo>
                  <a:lnTo>
                    <a:pt x="521" y="7996"/>
                  </a:lnTo>
                  <a:lnTo>
                    <a:pt x="580" y="8047"/>
                  </a:lnTo>
                  <a:lnTo>
                    <a:pt x="640" y="8096"/>
                  </a:lnTo>
                  <a:lnTo>
                    <a:pt x="702" y="8139"/>
                  </a:lnTo>
                  <a:lnTo>
                    <a:pt x="767" y="8180"/>
                  </a:lnTo>
                  <a:lnTo>
                    <a:pt x="834" y="8220"/>
                  </a:lnTo>
                  <a:lnTo>
                    <a:pt x="902" y="8255"/>
                  </a:lnTo>
                  <a:lnTo>
                    <a:pt x="974" y="8288"/>
                  </a:lnTo>
                  <a:lnTo>
                    <a:pt x="1045" y="8314"/>
                  </a:lnTo>
                  <a:lnTo>
                    <a:pt x="1121" y="8339"/>
                  </a:lnTo>
                  <a:lnTo>
                    <a:pt x="1196" y="8360"/>
                  </a:lnTo>
                  <a:lnTo>
                    <a:pt x="1271" y="8380"/>
                  </a:lnTo>
                  <a:lnTo>
                    <a:pt x="1349" y="8392"/>
                  </a:lnTo>
                  <a:lnTo>
                    <a:pt x="1431" y="8403"/>
                  </a:lnTo>
                  <a:lnTo>
                    <a:pt x="1512" y="8408"/>
                  </a:lnTo>
                  <a:lnTo>
                    <a:pt x="1593" y="8412"/>
                  </a:lnTo>
                  <a:lnTo>
                    <a:pt x="8572" y="8412"/>
                  </a:lnTo>
                  <a:lnTo>
                    <a:pt x="8572" y="8403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2" name=""/>
            <p:cNvSpPr/>
            <p:nvPr/>
          </p:nvSpPr>
          <p:spPr>
            <a:xfrm>
              <a:off x="1081080" y="2376360"/>
              <a:ext cx="1587600" cy="1228680"/>
            </a:xfrm>
            <a:custGeom>
              <a:avLst/>
              <a:gdLst/>
              <a:ahLst/>
              <a:rect l="l" t="t" r="r" b="b"/>
              <a:pathLst>
                <a:path w="9818" h="8066">
                  <a:moveTo>
                    <a:pt x="8399" y="8066"/>
                  </a:moveTo>
                  <a:lnTo>
                    <a:pt x="1420" y="8066"/>
                  </a:lnTo>
                  <a:lnTo>
                    <a:pt x="1346" y="8063"/>
                  </a:lnTo>
                  <a:lnTo>
                    <a:pt x="1277" y="8058"/>
                  </a:lnTo>
                  <a:lnTo>
                    <a:pt x="1204" y="8050"/>
                  </a:lnTo>
                  <a:lnTo>
                    <a:pt x="1134" y="8036"/>
                  </a:lnTo>
                  <a:lnTo>
                    <a:pt x="1066" y="8020"/>
                  </a:lnTo>
                  <a:lnTo>
                    <a:pt x="999" y="8002"/>
                  </a:lnTo>
                  <a:lnTo>
                    <a:pt x="931" y="7979"/>
                  </a:lnTo>
                  <a:lnTo>
                    <a:pt x="869" y="7956"/>
                  </a:lnTo>
                  <a:lnTo>
                    <a:pt x="805" y="7926"/>
                  </a:lnTo>
                  <a:lnTo>
                    <a:pt x="745" y="7894"/>
                  </a:lnTo>
                  <a:lnTo>
                    <a:pt x="686" y="7861"/>
                  </a:lnTo>
                  <a:lnTo>
                    <a:pt x="626" y="7823"/>
                  </a:lnTo>
                  <a:lnTo>
                    <a:pt x="570" y="7783"/>
                  </a:lnTo>
                  <a:lnTo>
                    <a:pt x="518" y="7742"/>
                  </a:lnTo>
                  <a:lnTo>
                    <a:pt x="464" y="7696"/>
                  </a:lnTo>
                  <a:lnTo>
                    <a:pt x="416" y="7650"/>
                  </a:lnTo>
                  <a:lnTo>
                    <a:pt x="370" y="7599"/>
                  </a:lnTo>
                  <a:lnTo>
                    <a:pt x="324" y="7548"/>
                  </a:lnTo>
                  <a:lnTo>
                    <a:pt x="283" y="7494"/>
                  </a:lnTo>
                  <a:lnTo>
                    <a:pt x="243" y="7440"/>
                  </a:lnTo>
                  <a:lnTo>
                    <a:pt x="205" y="7381"/>
                  </a:lnTo>
                  <a:lnTo>
                    <a:pt x="170" y="7321"/>
                  </a:lnTo>
                  <a:lnTo>
                    <a:pt x="140" y="7259"/>
                  </a:lnTo>
                  <a:lnTo>
                    <a:pt x="111" y="7197"/>
                  </a:lnTo>
                  <a:lnTo>
                    <a:pt x="87" y="7132"/>
                  </a:lnTo>
                  <a:lnTo>
                    <a:pt x="62" y="7068"/>
                  </a:lnTo>
                  <a:lnTo>
                    <a:pt x="43" y="7000"/>
                  </a:lnTo>
                  <a:lnTo>
                    <a:pt x="27" y="6931"/>
                  </a:lnTo>
                  <a:lnTo>
                    <a:pt x="16" y="6860"/>
                  </a:lnTo>
                  <a:lnTo>
                    <a:pt x="5" y="6790"/>
                  </a:lnTo>
                  <a:lnTo>
                    <a:pt x="0" y="6717"/>
                  </a:lnTo>
                  <a:lnTo>
                    <a:pt x="0" y="6644"/>
                  </a:lnTo>
                  <a:lnTo>
                    <a:pt x="0" y="1422"/>
                  </a:lnTo>
                  <a:lnTo>
                    <a:pt x="0" y="1349"/>
                  </a:lnTo>
                  <a:lnTo>
                    <a:pt x="5" y="1276"/>
                  </a:lnTo>
                  <a:lnTo>
                    <a:pt x="16" y="1206"/>
                  </a:lnTo>
                  <a:lnTo>
                    <a:pt x="27" y="1137"/>
                  </a:lnTo>
                  <a:lnTo>
                    <a:pt x="43" y="1068"/>
                  </a:lnTo>
                  <a:lnTo>
                    <a:pt x="62" y="1001"/>
                  </a:lnTo>
                  <a:lnTo>
                    <a:pt x="87" y="934"/>
                  </a:lnTo>
                  <a:lnTo>
                    <a:pt x="111" y="869"/>
                  </a:lnTo>
                  <a:lnTo>
                    <a:pt x="140" y="807"/>
                  </a:lnTo>
                  <a:lnTo>
                    <a:pt x="170" y="745"/>
                  </a:lnTo>
                  <a:lnTo>
                    <a:pt x="205" y="686"/>
                  </a:lnTo>
                  <a:lnTo>
                    <a:pt x="243" y="629"/>
                  </a:lnTo>
                  <a:lnTo>
                    <a:pt x="283" y="573"/>
                  </a:lnTo>
                  <a:lnTo>
                    <a:pt x="324" y="518"/>
                  </a:lnTo>
                  <a:lnTo>
                    <a:pt x="370" y="467"/>
                  </a:lnTo>
                  <a:lnTo>
                    <a:pt x="416" y="419"/>
                  </a:lnTo>
                  <a:lnTo>
                    <a:pt x="464" y="370"/>
                  </a:lnTo>
                  <a:lnTo>
                    <a:pt x="518" y="327"/>
                  </a:lnTo>
                  <a:lnTo>
                    <a:pt x="570" y="283"/>
                  </a:lnTo>
                  <a:lnTo>
                    <a:pt x="626" y="243"/>
                  </a:lnTo>
                  <a:lnTo>
                    <a:pt x="686" y="209"/>
                  </a:lnTo>
                  <a:lnTo>
                    <a:pt x="745" y="173"/>
                  </a:lnTo>
                  <a:lnTo>
                    <a:pt x="805" y="140"/>
                  </a:lnTo>
                  <a:lnTo>
                    <a:pt x="869" y="114"/>
                  </a:lnTo>
                  <a:lnTo>
                    <a:pt x="931" y="87"/>
                  </a:lnTo>
                  <a:lnTo>
                    <a:pt x="999" y="66"/>
                  </a:lnTo>
                  <a:lnTo>
                    <a:pt x="1066" y="46"/>
                  </a:lnTo>
                  <a:lnTo>
                    <a:pt x="1134" y="30"/>
                  </a:lnTo>
                  <a:lnTo>
                    <a:pt x="1204" y="16"/>
                  </a:lnTo>
                  <a:lnTo>
                    <a:pt x="1277" y="9"/>
                  </a:lnTo>
                  <a:lnTo>
                    <a:pt x="1346" y="4"/>
                  </a:lnTo>
                  <a:lnTo>
                    <a:pt x="1420" y="0"/>
                  </a:lnTo>
                  <a:lnTo>
                    <a:pt x="8399" y="0"/>
                  </a:lnTo>
                  <a:lnTo>
                    <a:pt x="8471" y="4"/>
                  </a:lnTo>
                  <a:lnTo>
                    <a:pt x="8542" y="9"/>
                  </a:lnTo>
                  <a:lnTo>
                    <a:pt x="8614" y="16"/>
                  </a:lnTo>
                  <a:lnTo>
                    <a:pt x="8685" y="30"/>
                  </a:lnTo>
                  <a:lnTo>
                    <a:pt x="8752" y="46"/>
                  </a:lnTo>
                  <a:lnTo>
                    <a:pt x="8820" y="66"/>
                  </a:lnTo>
                  <a:lnTo>
                    <a:pt x="8885" y="87"/>
                  </a:lnTo>
                  <a:lnTo>
                    <a:pt x="8949" y="114"/>
                  </a:lnTo>
                  <a:lnTo>
                    <a:pt x="9014" y="140"/>
                  </a:lnTo>
                  <a:lnTo>
                    <a:pt x="9074" y="173"/>
                  </a:lnTo>
                  <a:lnTo>
                    <a:pt x="9133" y="209"/>
                  </a:lnTo>
                  <a:lnTo>
                    <a:pt x="9192" y="243"/>
                  </a:lnTo>
                  <a:lnTo>
                    <a:pt x="9246" y="283"/>
                  </a:lnTo>
                  <a:lnTo>
                    <a:pt x="9300" y="327"/>
                  </a:lnTo>
                  <a:lnTo>
                    <a:pt x="9352" y="370"/>
                  </a:lnTo>
                  <a:lnTo>
                    <a:pt x="9403" y="419"/>
                  </a:lnTo>
                  <a:lnTo>
                    <a:pt x="9449" y="467"/>
                  </a:lnTo>
                  <a:lnTo>
                    <a:pt x="9495" y="518"/>
                  </a:lnTo>
                  <a:lnTo>
                    <a:pt x="9534" y="573"/>
                  </a:lnTo>
                  <a:lnTo>
                    <a:pt x="9575" y="629"/>
                  </a:lnTo>
                  <a:lnTo>
                    <a:pt x="9613" y="686"/>
                  </a:lnTo>
                  <a:lnTo>
                    <a:pt x="9649" y="745"/>
                  </a:lnTo>
                  <a:lnTo>
                    <a:pt x="9677" y="807"/>
                  </a:lnTo>
                  <a:lnTo>
                    <a:pt x="9707" y="869"/>
                  </a:lnTo>
                  <a:lnTo>
                    <a:pt x="9732" y="934"/>
                  </a:lnTo>
                  <a:lnTo>
                    <a:pt x="9756" y="1001"/>
                  </a:lnTo>
                  <a:lnTo>
                    <a:pt x="9775" y="1068"/>
                  </a:lnTo>
                  <a:lnTo>
                    <a:pt x="9792" y="1137"/>
                  </a:lnTo>
                  <a:lnTo>
                    <a:pt x="9802" y="1206"/>
                  </a:lnTo>
                  <a:lnTo>
                    <a:pt x="9813" y="1276"/>
                  </a:lnTo>
                  <a:lnTo>
                    <a:pt x="9818" y="1349"/>
                  </a:lnTo>
                  <a:lnTo>
                    <a:pt x="9818" y="1422"/>
                  </a:lnTo>
                  <a:lnTo>
                    <a:pt x="9818" y="6644"/>
                  </a:lnTo>
                  <a:lnTo>
                    <a:pt x="9818" y="6717"/>
                  </a:lnTo>
                  <a:lnTo>
                    <a:pt x="9813" y="6790"/>
                  </a:lnTo>
                  <a:lnTo>
                    <a:pt x="9802" y="6860"/>
                  </a:lnTo>
                  <a:lnTo>
                    <a:pt x="9792" y="6931"/>
                  </a:lnTo>
                  <a:lnTo>
                    <a:pt x="9775" y="7000"/>
                  </a:lnTo>
                  <a:lnTo>
                    <a:pt x="9756" y="7068"/>
                  </a:lnTo>
                  <a:lnTo>
                    <a:pt x="9732" y="7132"/>
                  </a:lnTo>
                  <a:lnTo>
                    <a:pt x="9707" y="7197"/>
                  </a:lnTo>
                  <a:lnTo>
                    <a:pt x="9677" y="7259"/>
                  </a:lnTo>
                  <a:lnTo>
                    <a:pt x="9649" y="7321"/>
                  </a:lnTo>
                  <a:lnTo>
                    <a:pt x="9613" y="7381"/>
                  </a:lnTo>
                  <a:lnTo>
                    <a:pt x="9575" y="7440"/>
                  </a:lnTo>
                  <a:lnTo>
                    <a:pt x="9534" y="7494"/>
                  </a:lnTo>
                  <a:lnTo>
                    <a:pt x="9495" y="7548"/>
                  </a:lnTo>
                  <a:lnTo>
                    <a:pt x="9449" y="7599"/>
                  </a:lnTo>
                  <a:lnTo>
                    <a:pt x="9403" y="7650"/>
                  </a:lnTo>
                  <a:lnTo>
                    <a:pt x="9352" y="7696"/>
                  </a:lnTo>
                  <a:lnTo>
                    <a:pt x="9300" y="7742"/>
                  </a:lnTo>
                  <a:lnTo>
                    <a:pt x="9246" y="7783"/>
                  </a:lnTo>
                  <a:lnTo>
                    <a:pt x="9192" y="7823"/>
                  </a:lnTo>
                  <a:lnTo>
                    <a:pt x="9133" y="7861"/>
                  </a:lnTo>
                  <a:lnTo>
                    <a:pt x="9074" y="7894"/>
                  </a:lnTo>
                  <a:lnTo>
                    <a:pt x="9014" y="7926"/>
                  </a:lnTo>
                  <a:lnTo>
                    <a:pt x="8949" y="7956"/>
                  </a:lnTo>
                  <a:lnTo>
                    <a:pt x="8885" y="7979"/>
                  </a:lnTo>
                  <a:lnTo>
                    <a:pt x="8820" y="8002"/>
                  </a:lnTo>
                  <a:lnTo>
                    <a:pt x="8752" y="8020"/>
                  </a:lnTo>
                  <a:lnTo>
                    <a:pt x="8685" y="8036"/>
                  </a:lnTo>
                  <a:lnTo>
                    <a:pt x="8614" y="8050"/>
                  </a:lnTo>
                  <a:lnTo>
                    <a:pt x="8542" y="8058"/>
                  </a:lnTo>
                  <a:lnTo>
                    <a:pt x="8471" y="8063"/>
                  </a:lnTo>
                  <a:lnTo>
                    <a:pt x="8399" y="8066"/>
                  </a:lnTo>
                  <a:close/>
                </a:path>
              </a:pathLst>
            </a:custGeom>
            <a:solidFill>
              <a:srgbClr val="f0d9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1123920" y="2417760"/>
              <a:ext cx="1500120" cy="1144440"/>
            </a:xfrm>
            <a:custGeom>
              <a:avLst/>
              <a:gdLst/>
              <a:ahLst/>
              <a:rect l="l" t="t" r="r" b="b"/>
              <a:pathLst>
                <a:path w="9284" h="7528">
                  <a:moveTo>
                    <a:pt x="8132" y="7528"/>
                  </a:moveTo>
                  <a:lnTo>
                    <a:pt x="1153" y="7528"/>
                  </a:lnTo>
                  <a:lnTo>
                    <a:pt x="1093" y="7526"/>
                  </a:lnTo>
                  <a:lnTo>
                    <a:pt x="1036" y="7522"/>
                  </a:lnTo>
                  <a:lnTo>
                    <a:pt x="977" y="7515"/>
                  </a:lnTo>
                  <a:lnTo>
                    <a:pt x="920" y="7503"/>
                  </a:lnTo>
                  <a:lnTo>
                    <a:pt x="867" y="7490"/>
                  </a:lnTo>
                  <a:lnTo>
                    <a:pt x="810" y="7474"/>
                  </a:lnTo>
                  <a:lnTo>
                    <a:pt x="759" y="7457"/>
                  </a:lnTo>
                  <a:lnTo>
                    <a:pt x="704" y="7436"/>
                  </a:lnTo>
                  <a:lnTo>
                    <a:pt x="653" y="7412"/>
                  </a:lnTo>
                  <a:lnTo>
                    <a:pt x="605" y="7388"/>
                  </a:lnTo>
                  <a:lnTo>
                    <a:pt x="556" y="7361"/>
                  </a:lnTo>
                  <a:lnTo>
                    <a:pt x="510" y="7331"/>
                  </a:lnTo>
                  <a:lnTo>
                    <a:pt x="465" y="7298"/>
                  </a:lnTo>
                  <a:lnTo>
                    <a:pt x="421" y="7264"/>
                  </a:lnTo>
                  <a:lnTo>
                    <a:pt x="378" y="7229"/>
                  </a:lnTo>
                  <a:lnTo>
                    <a:pt x="338" y="7188"/>
                  </a:lnTo>
                  <a:lnTo>
                    <a:pt x="299" y="7148"/>
                  </a:lnTo>
                  <a:lnTo>
                    <a:pt x="265" y="7107"/>
                  </a:lnTo>
                  <a:lnTo>
                    <a:pt x="230" y="7064"/>
                  </a:lnTo>
                  <a:lnTo>
                    <a:pt x="197" y="7018"/>
                  </a:lnTo>
                  <a:lnTo>
                    <a:pt x="168" y="6972"/>
                  </a:lnTo>
                  <a:lnTo>
                    <a:pt x="140" y="6923"/>
                  </a:lnTo>
                  <a:lnTo>
                    <a:pt x="113" y="6872"/>
                  </a:lnTo>
                  <a:lnTo>
                    <a:pt x="92" y="6821"/>
                  </a:lnTo>
                  <a:lnTo>
                    <a:pt x="71" y="6770"/>
                  </a:lnTo>
                  <a:lnTo>
                    <a:pt x="51" y="6716"/>
                  </a:lnTo>
                  <a:lnTo>
                    <a:pt x="35" y="6662"/>
                  </a:lnTo>
                  <a:lnTo>
                    <a:pt x="25" y="6605"/>
                  </a:lnTo>
                  <a:lnTo>
                    <a:pt x="14" y="6548"/>
                  </a:lnTo>
                  <a:lnTo>
                    <a:pt x="6" y="6492"/>
                  </a:lnTo>
                  <a:lnTo>
                    <a:pt x="3" y="6433"/>
                  </a:lnTo>
                  <a:lnTo>
                    <a:pt x="0" y="6373"/>
                  </a:lnTo>
                  <a:lnTo>
                    <a:pt x="0" y="1151"/>
                  </a:lnTo>
                  <a:lnTo>
                    <a:pt x="3" y="1092"/>
                  </a:lnTo>
                  <a:lnTo>
                    <a:pt x="6" y="1032"/>
                  </a:lnTo>
                  <a:lnTo>
                    <a:pt x="14" y="976"/>
                  </a:lnTo>
                  <a:lnTo>
                    <a:pt x="25" y="919"/>
                  </a:lnTo>
                  <a:lnTo>
                    <a:pt x="35" y="862"/>
                  </a:lnTo>
                  <a:lnTo>
                    <a:pt x="51" y="809"/>
                  </a:lnTo>
                  <a:lnTo>
                    <a:pt x="71" y="754"/>
                  </a:lnTo>
                  <a:lnTo>
                    <a:pt x="92" y="703"/>
                  </a:lnTo>
                  <a:lnTo>
                    <a:pt x="113" y="652"/>
                  </a:lnTo>
                  <a:lnTo>
                    <a:pt x="140" y="604"/>
                  </a:lnTo>
                  <a:lnTo>
                    <a:pt x="168" y="555"/>
                  </a:lnTo>
                  <a:lnTo>
                    <a:pt x="197" y="507"/>
                  </a:lnTo>
                  <a:lnTo>
                    <a:pt x="230" y="463"/>
                  </a:lnTo>
                  <a:lnTo>
                    <a:pt x="265" y="417"/>
                  </a:lnTo>
                  <a:lnTo>
                    <a:pt x="299" y="376"/>
                  </a:lnTo>
                  <a:lnTo>
                    <a:pt x="338" y="336"/>
                  </a:lnTo>
                  <a:lnTo>
                    <a:pt x="378" y="299"/>
                  </a:lnTo>
                  <a:lnTo>
                    <a:pt x="421" y="261"/>
                  </a:lnTo>
                  <a:lnTo>
                    <a:pt x="465" y="228"/>
                  </a:lnTo>
                  <a:lnTo>
                    <a:pt x="510" y="196"/>
                  </a:lnTo>
                  <a:lnTo>
                    <a:pt x="556" y="166"/>
                  </a:lnTo>
                  <a:lnTo>
                    <a:pt x="605" y="137"/>
                  </a:lnTo>
                  <a:lnTo>
                    <a:pt x="653" y="113"/>
                  </a:lnTo>
                  <a:lnTo>
                    <a:pt x="704" y="88"/>
                  </a:lnTo>
                  <a:lnTo>
                    <a:pt x="759" y="69"/>
                  </a:lnTo>
                  <a:lnTo>
                    <a:pt x="810" y="51"/>
                  </a:lnTo>
                  <a:lnTo>
                    <a:pt x="867" y="35"/>
                  </a:lnTo>
                  <a:lnTo>
                    <a:pt x="920" y="21"/>
                  </a:lnTo>
                  <a:lnTo>
                    <a:pt x="977" y="12"/>
                  </a:lnTo>
                  <a:lnTo>
                    <a:pt x="1036" y="5"/>
                  </a:lnTo>
                  <a:lnTo>
                    <a:pt x="1093" y="0"/>
                  </a:lnTo>
                  <a:lnTo>
                    <a:pt x="1153" y="0"/>
                  </a:lnTo>
                  <a:lnTo>
                    <a:pt x="8132" y="0"/>
                  </a:lnTo>
                  <a:lnTo>
                    <a:pt x="8188" y="0"/>
                  </a:lnTo>
                  <a:lnTo>
                    <a:pt x="8248" y="5"/>
                  </a:lnTo>
                  <a:lnTo>
                    <a:pt x="8307" y="12"/>
                  </a:lnTo>
                  <a:lnTo>
                    <a:pt x="8363" y="21"/>
                  </a:lnTo>
                  <a:lnTo>
                    <a:pt x="8418" y="35"/>
                  </a:lnTo>
                  <a:lnTo>
                    <a:pt x="8471" y="51"/>
                  </a:lnTo>
                  <a:lnTo>
                    <a:pt x="8526" y="69"/>
                  </a:lnTo>
                  <a:lnTo>
                    <a:pt x="8579" y="88"/>
                  </a:lnTo>
                  <a:lnTo>
                    <a:pt x="8631" y="113"/>
                  </a:lnTo>
                  <a:lnTo>
                    <a:pt x="8680" y="137"/>
                  </a:lnTo>
                  <a:lnTo>
                    <a:pt x="8728" y="166"/>
                  </a:lnTo>
                  <a:lnTo>
                    <a:pt x="8774" y="196"/>
                  </a:lnTo>
                  <a:lnTo>
                    <a:pt x="8820" y="228"/>
                  </a:lnTo>
                  <a:lnTo>
                    <a:pt x="8863" y="261"/>
                  </a:lnTo>
                  <a:lnTo>
                    <a:pt x="8906" y="299"/>
                  </a:lnTo>
                  <a:lnTo>
                    <a:pt x="8947" y="336"/>
                  </a:lnTo>
                  <a:lnTo>
                    <a:pt x="8984" y="376"/>
                  </a:lnTo>
                  <a:lnTo>
                    <a:pt x="9019" y="417"/>
                  </a:lnTo>
                  <a:lnTo>
                    <a:pt x="9055" y="463"/>
                  </a:lnTo>
                  <a:lnTo>
                    <a:pt x="9087" y="507"/>
                  </a:lnTo>
                  <a:lnTo>
                    <a:pt x="9117" y="555"/>
                  </a:lnTo>
                  <a:lnTo>
                    <a:pt x="9143" y="604"/>
                  </a:lnTo>
                  <a:lnTo>
                    <a:pt x="9171" y="652"/>
                  </a:lnTo>
                  <a:lnTo>
                    <a:pt x="9192" y="703"/>
                  </a:lnTo>
                  <a:lnTo>
                    <a:pt x="9214" y="754"/>
                  </a:lnTo>
                  <a:lnTo>
                    <a:pt x="9233" y="809"/>
                  </a:lnTo>
                  <a:lnTo>
                    <a:pt x="9246" y="862"/>
                  </a:lnTo>
                  <a:lnTo>
                    <a:pt x="9260" y="919"/>
                  </a:lnTo>
                  <a:lnTo>
                    <a:pt x="9270" y="976"/>
                  </a:lnTo>
                  <a:lnTo>
                    <a:pt x="9279" y="1032"/>
                  </a:lnTo>
                  <a:lnTo>
                    <a:pt x="9281" y="1092"/>
                  </a:lnTo>
                  <a:lnTo>
                    <a:pt x="9284" y="1151"/>
                  </a:lnTo>
                  <a:lnTo>
                    <a:pt x="9284" y="6373"/>
                  </a:lnTo>
                  <a:lnTo>
                    <a:pt x="9281" y="6433"/>
                  </a:lnTo>
                  <a:lnTo>
                    <a:pt x="9279" y="6492"/>
                  </a:lnTo>
                  <a:lnTo>
                    <a:pt x="9270" y="6548"/>
                  </a:lnTo>
                  <a:lnTo>
                    <a:pt x="9260" y="6605"/>
                  </a:lnTo>
                  <a:lnTo>
                    <a:pt x="9246" y="6662"/>
                  </a:lnTo>
                  <a:lnTo>
                    <a:pt x="9233" y="6716"/>
                  </a:lnTo>
                  <a:lnTo>
                    <a:pt x="9214" y="6770"/>
                  </a:lnTo>
                  <a:lnTo>
                    <a:pt x="9192" y="6821"/>
                  </a:lnTo>
                  <a:lnTo>
                    <a:pt x="9171" y="6872"/>
                  </a:lnTo>
                  <a:lnTo>
                    <a:pt x="9143" y="6923"/>
                  </a:lnTo>
                  <a:lnTo>
                    <a:pt x="9117" y="6972"/>
                  </a:lnTo>
                  <a:lnTo>
                    <a:pt x="9087" y="7018"/>
                  </a:lnTo>
                  <a:lnTo>
                    <a:pt x="9055" y="7064"/>
                  </a:lnTo>
                  <a:lnTo>
                    <a:pt x="9019" y="7107"/>
                  </a:lnTo>
                  <a:lnTo>
                    <a:pt x="8984" y="7148"/>
                  </a:lnTo>
                  <a:lnTo>
                    <a:pt x="8947" y="7188"/>
                  </a:lnTo>
                  <a:lnTo>
                    <a:pt x="8906" y="7229"/>
                  </a:lnTo>
                  <a:lnTo>
                    <a:pt x="8863" y="7264"/>
                  </a:lnTo>
                  <a:lnTo>
                    <a:pt x="8820" y="7298"/>
                  </a:lnTo>
                  <a:lnTo>
                    <a:pt x="8774" y="7331"/>
                  </a:lnTo>
                  <a:lnTo>
                    <a:pt x="8728" y="7361"/>
                  </a:lnTo>
                  <a:lnTo>
                    <a:pt x="8680" y="7388"/>
                  </a:lnTo>
                  <a:lnTo>
                    <a:pt x="8631" y="7412"/>
                  </a:lnTo>
                  <a:lnTo>
                    <a:pt x="8579" y="7436"/>
                  </a:lnTo>
                  <a:lnTo>
                    <a:pt x="8526" y="7457"/>
                  </a:lnTo>
                  <a:lnTo>
                    <a:pt x="8471" y="7474"/>
                  </a:lnTo>
                  <a:lnTo>
                    <a:pt x="8418" y="7490"/>
                  </a:lnTo>
                  <a:lnTo>
                    <a:pt x="8363" y="7503"/>
                  </a:lnTo>
                  <a:lnTo>
                    <a:pt x="8307" y="7515"/>
                  </a:lnTo>
                  <a:lnTo>
                    <a:pt x="8248" y="7522"/>
                  </a:lnTo>
                  <a:lnTo>
                    <a:pt x="8188" y="7526"/>
                  </a:lnTo>
                  <a:lnTo>
                    <a:pt x="8132" y="7528"/>
                  </a:lnTo>
                  <a:close/>
                </a:path>
              </a:pathLst>
            </a:custGeom>
            <a:solidFill>
              <a:srgbClr val="da762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4" name=""/>
            <p:cNvSpPr/>
            <p:nvPr/>
          </p:nvSpPr>
          <p:spPr>
            <a:xfrm>
              <a:off x="1123920" y="2415960"/>
              <a:ext cx="1501920" cy="1148040"/>
            </a:xfrm>
            <a:custGeom>
              <a:avLst/>
              <a:gdLst/>
              <a:ahLst/>
              <a:rect l="l" t="t" r="r" b="b"/>
              <a:pathLst>
                <a:path w="9300" h="7545">
                  <a:moveTo>
                    <a:pt x="8140" y="7537"/>
                  </a:moveTo>
                  <a:lnTo>
                    <a:pt x="8140" y="7529"/>
                  </a:lnTo>
                  <a:lnTo>
                    <a:pt x="1161" y="7529"/>
                  </a:lnTo>
                  <a:lnTo>
                    <a:pt x="1104" y="7526"/>
                  </a:lnTo>
                  <a:lnTo>
                    <a:pt x="1044" y="7521"/>
                  </a:lnTo>
                  <a:lnTo>
                    <a:pt x="988" y="7515"/>
                  </a:lnTo>
                  <a:lnTo>
                    <a:pt x="931" y="7505"/>
                  </a:lnTo>
                  <a:lnTo>
                    <a:pt x="875" y="7491"/>
                  </a:lnTo>
                  <a:lnTo>
                    <a:pt x="820" y="7478"/>
                  </a:lnTo>
                  <a:lnTo>
                    <a:pt x="769" y="7459"/>
                  </a:lnTo>
                  <a:lnTo>
                    <a:pt x="715" y="7437"/>
                  </a:lnTo>
                  <a:lnTo>
                    <a:pt x="666" y="7415"/>
                  </a:lnTo>
                  <a:lnTo>
                    <a:pt x="615" y="7388"/>
                  </a:lnTo>
                  <a:lnTo>
                    <a:pt x="567" y="7362"/>
                  </a:lnTo>
                  <a:lnTo>
                    <a:pt x="521" y="7332"/>
                  </a:lnTo>
                  <a:lnTo>
                    <a:pt x="478" y="7300"/>
                  </a:lnTo>
                  <a:lnTo>
                    <a:pt x="434" y="7268"/>
                  </a:lnTo>
                  <a:lnTo>
                    <a:pt x="392" y="7229"/>
                  </a:lnTo>
                  <a:lnTo>
                    <a:pt x="351" y="7192"/>
                  </a:lnTo>
                  <a:lnTo>
                    <a:pt x="313" y="7153"/>
                  </a:lnTo>
                  <a:lnTo>
                    <a:pt x="278" y="7111"/>
                  </a:lnTo>
                  <a:lnTo>
                    <a:pt x="243" y="7068"/>
                  </a:lnTo>
                  <a:lnTo>
                    <a:pt x="213" y="7022"/>
                  </a:lnTo>
                  <a:lnTo>
                    <a:pt x="181" y="6976"/>
                  </a:lnTo>
                  <a:lnTo>
                    <a:pt x="153" y="6927"/>
                  </a:lnTo>
                  <a:lnTo>
                    <a:pt x="130" y="6879"/>
                  </a:lnTo>
                  <a:lnTo>
                    <a:pt x="105" y="6828"/>
                  </a:lnTo>
                  <a:lnTo>
                    <a:pt x="86" y="6776"/>
                  </a:lnTo>
                  <a:lnTo>
                    <a:pt x="68" y="6722"/>
                  </a:lnTo>
                  <a:lnTo>
                    <a:pt x="51" y="6669"/>
                  </a:lnTo>
                  <a:lnTo>
                    <a:pt x="40" y="6614"/>
                  </a:lnTo>
                  <a:lnTo>
                    <a:pt x="30" y="6557"/>
                  </a:lnTo>
                  <a:lnTo>
                    <a:pt x="22" y="6501"/>
                  </a:lnTo>
                  <a:lnTo>
                    <a:pt x="19" y="6442"/>
                  </a:lnTo>
                  <a:lnTo>
                    <a:pt x="17" y="6382"/>
                  </a:lnTo>
                  <a:lnTo>
                    <a:pt x="17" y="1160"/>
                  </a:lnTo>
                  <a:lnTo>
                    <a:pt x="19" y="1101"/>
                  </a:lnTo>
                  <a:lnTo>
                    <a:pt x="22" y="1044"/>
                  </a:lnTo>
                  <a:lnTo>
                    <a:pt x="30" y="988"/>
                  </a:lnTo>
                  <a:lnTo>
                    <a:pt x="40" y="931"/>
                  </a:lnTo>
                  <a:lnTo>
                    <a:pt x="51" y="875"/>
                  </a:lnTo>
                  <a:lnTo>
                    <a:pt x="68" y="820"/>
                  </a:lnTo>
                  <a:lnTo>
                    <a:pt x="86" y="767"/>
                  </a:lnTo>
                  <a:lnTo>
                    <a:pt x="105" y="715"/>
                  </a:lnTo>
                  <a:lnTo>
                    <a:pt x="130" y="664"/>
                  </a:lnTo>
                  <a:lnTo>
                    <a:pt x="153" y="615"/>
                  </a:lnTo>
                  <a:lnTo>
                    <a:pt x="181" y="567"/>
                  </a:lnTo>
                  <a:lnTo>
                    <a:pt x="213" y="521"/>
                  </a:lnTo>
                  <a:lnTo>
                    <a:pt x="243" y="475"/>
                  </a:lnTo>
                  <a:lnTo>
                    <a:pt x="278" y="431"/>
                  </a:lnTo>
                  <a:lnTo>
                    <a:pt x="313" y="391"/>
                  </a:lnTo>
                  <a:lnTo>
                    <a:pt x="351" y="351"/>
                  </a:lnTo>
                  <a:lnTo>
                    <a:pt x="392" y="313"/>
                  </a:lnTo>
                  <a:lnTo>
                    <a:pt x="434" y="278"/>
                  </a:lnTo>
                  <a:lnTo>
                    <a:pt x="478" y="242"/>
                  </a:lnTo>
                  <a:lnTo>
                    <a:pt x="521" y="210"/>
                  </a:lnTo>
                  <a:lnTo>
                    <a:pt x="567" y="180"/>
                  </a:lnTo>
                  <a:lnTo>
                    <a:pt x="615" y="154"/>
                  </a:lnTo>
                  <a:lnTo>
                    <a:pt x="666" y="129"/>
                  </a:lnTo>
                  <a:lnTo>
                    <a:pt x="715" y="106"/>
                  </a:lnTo>
                  <a:lnTo>
                    <a:pt x="769" y="86"/>
                  </a:lnTo>
                  <a:lnTo>
                    <a:pt x="820" y="67"/>
                  </a:lnTo>
                  <a:lnTo>
                    <a:pt x="875" y="51"/>
                  </a:lnTo>
                  <a:lnTo>
                    <a:pt x="931" y="38"/>
                  </a:lnTo>
                  <a:lnTo>
                    <a:pt x="988" y="30"/>
                  </a:lnTo>
                  <a:lnTo>
                    <a:pt x="1044" y="21"/>
                  </a:lnTo>
                  <a:lnTo>
                    <a:pt x="1104" y="16"/>
                  </a:lnTo>
                  <a:lnTo>
                    <a:pt x="1161" y="16"/>
                  </a:lnTo>
                  <a:lnTo>
                    <a:pt x="8140" y="16"/>
                  </a:lnTo>
                  <a:lnTo>
                    <a:pt x="8196" y="16"/>
                  </a:lnTo>
                  <a:lnTo>
                    <a:pt x="8256" y="21"/>
                  </a:lnTo>
                  <a:lnTo>
                    <a:pt x="8313" y="30"/>
                  </a:lnTo>
                  <a:lnTo>
                    <a:pt x="8369" y="38"/>
                  </a:lnTo>
                  <a:lnTo>
                    <a:pt x="8423" y="51"/>
                  </a:lnTo>
                  <a:lnTo>
                    <a:pt x="8479" y="67"/>
                  </a:lnTo>
                  <a:lnTo>
                    <a:pt x="8531" y="86"/>
                  </a:lnTo>
                  <a:lnTo>
                    <a:pt x="8585" y="106"/>
                  </a:lnTo>
                  <a:lnTo>
                    <a:pt x="8633" y="129"/>
                  </a:lnTo>
                  <a:lnTo>
                    <a:pt x="8684" y="154"/>
                  </a:lnTo>
                  <a:lnTo>
                    <a:pt x="8730" y="180"/>
                  </a:lnTo>
                  <a:lnTo>
                    <a:pt x="8780" y="210"/>
                  </a:lnTo>
                  <a:lnTo>
                    <a:pt x="8822" y="242"/>
                  </a:lnTo>
                  <a:lnTo>
                    <a:pt x="8866" y="278"/>
                  </a:lnTo>
                  <a:lnTo>
                    <a:pt x="8909" y="313"/>
                  </a:lnTo>
                  <a:lnTo>
                    <a:pt x="8946" y="351"/>
                  </a:lnTo>
                  <a:lnTo>
                    <a:pt x="8987" y="391"/>
                  </a:lnTo>
                  <a:lnTo>
                    <a:pt x="9022" y="431"/>
                  </a:lnTo>
                  <a:lnTo>
                    <a:pt x="9054" y="475"/>
                  </a:lnTo>
                  <a:lnTo>
                    <a:pt x="9087" y="521"/>
                  </a:lnTo>
                  <a:lnTo>
                    <a:pt x="9116" y="567"/>
                  </a:lnTo>
                  <a:lnTo>
                    <a:pt x="9146" y="615"/>
                  </a:lnTo>
                  <a:lnTo>
                    <a:pt x="9171" y="664"/>
                  </a:lnTo>
                  <a:lnTo>
                    <a:pt x="9192" y="715"/>
                  </a:lnTo>
                  <a:lnTo>
                    <a:pt x="9213" y="767"/>
                  </a:lnTo>
                  <a:lnTo>
                    <a:pt x="9233" y="820"/>
                  </a:lnTo>
                  <a:lnTo>
                    <a:pt x="9246" y="875"/>
                  </a:lnTo>
                  <a:lnTo>
                    <a:pt x="9259" y="931"/>
                  </a:lnTo>
                  <a:lnTo>
                    <a:pt x="9270" y="988"/>
                  </a:lnTo>
                  <a:lnTo>
                    <a:pt x="9278" y="1044"/>
                  </a:lnTo>
                  <a:lnTo>
                    <a:pt x="9282" y="1101"/>
                  </a:lnTo>
                  <a:lnTo>
                    <a:pt x="9284" y="1160"/>
                  </a:lnTo>
                  <a:lnTo>
                    <a:pt x="9284" y="6382"/>
                  </a:lnTo>
                  <a:lnTo>
                    <a:pt x="9282" y="6442"/>
                  </a:lnTo>
                  <a:lnTo>
                    <a:pt x="9278" y="6501"/>
                  </a:lnTo>
                  <a:lnTo>
                    <a:pt x="9270" y="6557"/>
                  </a:lnTo>
                  <a:lnTo>
                    <a:pt x="9259" y="6614"/>
                  </a:lnTo>
                  <a:lnTo>
                    <a:pt x="9246" y="6669"/>
                  </a:lnTo>
                  <a:lnTo>
                    <a:pt x="9233" y="6722"/>
                  </a:lnTo>
                  <a:lnTo>
                    <a:pt x="9213" y="6776"/>
                  </a:lnTo>
                  <a:lnTo>
                    <a:pt x="9192" y="6828"/>
                  </a:lnTo>
                  <a:lnTo>
                    <a:pt x="9171" y="6879"/>
                  </a:lnTo>
                  <a:lnTo>
                    <a:pt x="9146" y="6927"/>
                  </a:lnTo>
                  <a:lnTo>
                    <a:pt x="9116" y="6976"/>
                  </a:lnTo>
                  <a:lnTo>
                    <a:pt x="9087" y="7022"/>
                  </a:lnTo>
                  <a:lnTo>
                    <a:pt x="9054" y="7068"/>
                  </a:lnTo>
                  <a:lnTo>
                    <a:pt x="9022" y="7111"/>
                  </a:lnTo>
                  <a:lnTo>
                    <a:pt x="8987" y="7153"/>
                  </a:lnTo>
                  <a:lnTo>
                    <a:pt x="8946" y="7192"/>
                  </a:lnTo>
                  <a:lnTo>
                    <a:pt x="8909" y="7229"/>
                  </a:lnTo>
                  <a:lnTo>
                    <a:pt x="8866" y="7268"/>
                  </a:lnTo>
                  <a:lnTo>
                    <a:pt x="8822" y="7300"/>
                  </a:lnTo>
                  <a:lnTo>
                    <a:pt x="8780" y="7332"/>
                  </a:lnTo>
                  <a:lnTo>
                    <a:pt x="8730" y="7362"/>
                  </a:lnTo>
                  <a:lnTo>
                    <a:pt x="8684" y="7388"/>
                  </a:lnTo>
                  <a:lnTo>
                    <a:pt x="8633" y="7415"/>
                  </a:lnTo>
                  <a:lnTo>
                    <a:pt x="8585" y="7437"/>
                  </a:lnTo>
                  <a:lnTo>
                    <a:pt x="8531" y="7459"/>
                  </a:lnTo>
                  <a:lnTo>
                    <a:pt x="8479" y="7478"/>
                  </a:lnTo>
                  <a:lnTo>
                    <a:pt x="8423" y="7491"/>
                  </a:lnTo>
                  <a:lnTo>
                    <a:pt x="8369" y="7505"/>
                  </a:lnTo>
                  <a:lnTo>
                    <a:pt x="8313" y="7515"/>
                  </a:lnTo>
                  <a:lnTo>
                    <a:pt x="8256" y="7521"/>
                  </a:lnTo>
                  <a:lnTo>
                    <a:pt x="8196" y="7526"/>
                  </a:lnTo>
                  <a:lnTo>
                    <a:pt x="8140" y="7529"/>
                  </a:lnTo>
                  <a:lnTo>
                    <a:pt x="8140" y="7537"/>
                  </a:lnTo>
                  <a:lnTo>
                    <a:pt x="8140" y="7545"/>
                  </a:lnTo>
                  <a:lnTo>
                    <a:pt x="8199" y="7542"/>
                  </a:lnTo>
                  <a:lnTo>
                    <a:pt x="8256" y="7537"/>
                  </a:lnTo>
                  <a:lnTo>
                    <a:pt x="8315" y="7531"/>
                  </a:lnTo>
                  <a:lnTo>
                    <a:pt x="8371" y="7521"/>
                  </a:lnTo>
                  <a:lnTo>
                    <a:pt x="8428" y="7507"/>
                  </a:lnTo>
                  <a:lnTo>
                    <a:pt x="8483" y="7491"/>
                  </a:lnTo>
                  <a:lnTo>
                    <a:pt x="8536" y="7473"/>
                  </a:lnTo>
                  <a:lnTo>
                    <a:pt x="8590" y="7453"/>
                  </a:lnTo>
                  <a:lnTo>
                    <a:pt x="8642" y="7429"/>
                  </a:lnTo>
                  <a:lnTo>
                    <a:pt x="8693" y="7404"/>
                  </a:lnTo>
                  <a:lnTo>
                    <a:pt x="8741" y="7375"/>
                  </a:lnTo>
                  <a:lnTo>
                    <a:pt x="8787" y="7346"/>
                  </a:lnTo>
                  <a:lnTo>
                    <a:pt x="8833" y="7312"/>
                  </a:lnTo>
                  <a:lnTo>
                    <a:pt x="8877" y="7278"/>
                  </a:lnTo>
                  <a:lnTo>
                    <a:pt x="8919" y="7243"/>
                  </a:lnTo>
                  <a:lnTo>
                    <a:pt x="8960" y="7202"/>
                  </a:lnTo>
                  <a:lnTo>
                    <a:pt x="8997" y="7162"/>
                  </a:lnTo>
                  <a:lnTo>
                    <a:pt x="9036" y="7121"/>
                  </a:lnTo>
                  <a:lnTo>
                    <a:pt x="9068" y="7079"/>
                  </a:lnTo>
                  <a:lnTo>
                    <a:pt x="9100" y="7033"/>
                  </a:lnTo>
                  <a:lnTo>
                    <a:pt x="9133" y="6984"/>
                  </a:lnTo>
                  <a:lnTo>
                    <a:pt x="9160" y="6935"/>
                  </a:lnTo>
                  <a:lnTo>
                    <a:pt x="9184" y="6886"/>
                  </a:lnTo>
                  <a:lnTo>
                    <a:pt x="9208" y="6835"/>
                  </a:lnTo>
                  <a:lnTo>
                    <a:pt x="9230" y="6782"/>
                  </a:lnTo>
                  <a:lnTo>
                    <a:pt x="9249" y="6727"/>
                  </a:lnTo>
                  <a:lnTo>
                    <a:pt x="9262" y="6674"/>
                  </a:lnTo>
                  <a:lnTo>
                    <a:pt x="9275" y="6617"/>
                  </a:lnTo>
                  <a:lnTo>
                    <a:pt x="9287" y="6561"/>
                  </a:lnTo>
                  <a:lnTo>
                    <a:pt x="9294" y="6501"/>
                  </a:lnTo>
                  <a:lnTo>
                    <a:pt x="9298" y="6442"/>
                  </a:lnTo>
                  <a:lnTo>
                    <a:pt x="9300" y="6382"/>
                  </a:lnTo>
                  <a:lnTo>
                    <a:pt x="9300" y="1160"/>
                  </a:lnTo>
                  <a:lnTo>
                    <a:pt x="9298" y="1101"/>
                  </a:lnTo>
                  <a:lnTo>
                    <a:pt x="9294" y="1041"/>
                  </a:lnTo>
                  <a:lnTo>
                    <a:pt x="9287" y="985"/>
                  </a:lnTo>
                  <a:lnTo>
                    <a:pt x="9275" y="928"/>
                  </a:lnTo>
                  <a:lnTo>
                    <a:pt x="9262" y="871"/>
                  </a:lnTo>
                  <a:lnTo>
                    <a:pt x="9249" y="815"/>
                  </a:lnTo>
                  <a:lnTo>
                    <a:pt x="9230" y="760"/>
                  </a:lnTo>
                  <a:lnTo>
                    <a:pt x="9208" y="709"/>
                  </a:lnTo>
                  <a:lnTo>
                    <a:pt x="9184" y="658"/>
                  </a:lnTo>
                  <a:lnTo>
                    <a:pt x="9160" y="607"/>
                  </a:lnTo>
                  <a:lnTo>
                    <a:pt x="9133" y="558"/>
                  </a:lnTo>
                  <a:lnTo>
                    <a:pt x="9100" y="513"/>
                  </a:lnTo>
                  <a:lnTo>
                    <a:pt x="9068" y="467"/>
                  </a:lnTo>
                  <a:lnTo>
                    <a:pt x="9036" y="424"/>
                  </a:lnTo>
                  <a:lnTo>
                    <a:pt x="8997" y="380"/>
                  </a:lnTo>
                  <a:lnTo>
                    <a:pt x="8960" y="340"/>
                  </a:lnTo>
                  <a:lnTo>
                    <a:pt x="8919" y="302"/>
                  </a:lnTo>
                  <a:lnTo>
                    <a:pt x="8877" y="265"/>
                  </a:lnTo>
                  <a:lnTo>
                    <a:pt x="8833" y="230"/>
                  </a:lnTo>
                  <a:lnTo>
                    <a:pt x="8787" y="198"/>
                  </a:lnTo>
                  <a:lnTo>
                    <a:pt x="8741" y="168"/>
                  </a:lnTo>
                  <a:lnTo>
                    <a:pt x="8693" y="141"/>
                  </a:lnTo>
                  <a:lnTo>
                    <a:pt x="8642" y="113"/>
                  </a:lnTo>
                  <a:lnTo>
                    <a:pt x="8590" y="92"/>
                  </a:lnTo>
                  <a:lnTo>
                    <a:pt x="8536" y="70"/>
                  </a:lnTo>
                  <a:lnTo>
                    <a:pt x="8483" y="51"/>
                  </a:lnTo>
                  <a:lnTo>
                    <a:pt x="8428" y="35"/>
                  </a:lnTo>
                  <a:lnTo>
                    <a:pt x="8371" y="25"/>
                  </a:lnTo>
                  <a:lnTo>
                    <a:pt x="8315" y="14"/>
                  </a:lnTo>
                  <a:lnTo>
                    <a:pt x="8256" y="5"/>
                  </a:lnTo>
                  <a:lnTo>
                    <a:pt x="8199" y="0"/>
                  </a:lnTo>
                  <a:lnTo>
                    <a:pt x="8140" y="0"/>
                  </a:lnTo>
                  <a:lnTo>
                    <a:pt x="1161" y="0"/>
                  </a:lnTo>
                  <a:lnTo>
                    <a:pt x="1101" y="0"/>
                  </a:lnTo>
                  <a:lnTo>
                    <a:pt x="1042" y="5"/>
                  </a:lnTo>
                  <a:lnTo>
                    <a:pt x="985" y="14"/>
                  </a:lnTo>
                  <a:lnTo>
                    <a:pt x="928" y="25"/>
                  </a:lnTo>
                  <a:lnTo>
                    <a:pt x="871" y="35"/>
                  </a:lnTo>
                  <a:lnTo>
                    <a:pt x="818" y="51"/>
                  </a:lnTo>
                  <a:lnTo>
                    <a:pt x="764" y="70"/>
                  </a:lnTo>
                  <a:lnTo>
                    <a:pt x="710" y="92"/>
                  </a:lnTo>
                  <a:lnTo>
                    <a:pt x="659" y="113"/>
                  </a:lnTo>
                  <a:lnTo>
                    <a:pt x="608" y="141"/>
                  </a:lnTo>
                  <a:lnTo>
                    <a:pt x="558" y="168"/>
                  </a:lnTo>
                  <a:lnTo>
                    <a:pt x="512" y="198"/>
                  </a:lnTo>
                  <a:lnTo>
                    <a:pt x="467" y="230"/>
                  </a:lnTo>
                  <a:lnTo>
                    <a:pt x="424" y="265"/>
                  </a:lnTo>
                  <a:lnTo>
                    <a:pt x="381" y="302"/>
                  </a:lnTo>
                  <a:lnTo>
                    <a:pt x="340" y="340"/>
                  </a:lnTo>
                  <a:lnTo>
                    <a:pt x="302" y="380"/>
                  </a:lnTo>
                  <a:lnTo>
                    <a:pt x="265" y="424"/>
                  </a:lnTo>
                  <a:lnTo>
                    <a:pt x="233" y="467"/>
                  </a:lnTo>
                  <a:lnTo>
                    <a:pt x="199" y="513"/>
                  </a:lnTo>
                  <a:lnTo>
                    <a:pt x="167" y="558"/>
                  </a:lnTo>
                  <a:lnTo>
                    <a:pt x="141" y="607"/>
                  </a:lnTo>
                  <a:lnTo>
                    <a:pt x="114" y="658"/>
                  </a:lnTo>
                  <a:lnTo>
                    <a:pt x="92" y="709"/>
                  </a:lnTo>
                  <a:lnTo>
                    <a:pt x="70" y="760"/>
                  </a:lnTo>
                  <a:lnTo>
                    <a:pt x="51" y="815"/>
                  </a:lnTo>
                  <a:lnTo>
                    <a:pt x="38" y="871"/>
                  </a:lnTo>
                  <a:lnTo>
                    <a:pt x="24" y="928"/>
                  </a:lnTo>
                  <a:lnTo>
                    <a:pt x="14" y="985"/>
                  </a:lnTo>
                  <a:lnTo>
                    <a:pt x="6" y="1041"/>
                  </a:lnTo>
                  <a:lnTo>
                    <a:pt x="3" y="1101"/>
                  </a:lnTo>
                  <a:lnTo>
                    <a:pt x="0" y="1160"/>
                  </a:lnTo>
                  <a:lnTo>
                    <a:pt x="0" y="6382"/>
                  </a:lnTo>
                  <a:lnTo>
                    <a:pt x="3" y="6442"/>
                  </a:lnTo>
                  <a:lnTo>
                    <a:pt x="6" y="6501"/>
                  </a:lnTo>
                  <a:lnTo>
                    <a:pt x="14" y="6561"/>
                  </a:lnTo>
                  <a:lnTo>
                    <a:pt x="24" y="6617"/>
                  </a:lnTo>
                  <a:lnTo>
                    <a:pt x="38" y="6674"/>
                  </a:lnTo>
                  <a:lnTo>
                    <a:pt x="51" y="6727"/>
                  </a:lnTo>
                  <a:lnTo>
                    <a:pt x="70" y="6782"/>
                  </a:lnTo>
                  <a:lnTo>
                    <a:pt x="92" y="6835"/>
                  </a:lnTo>
                  <a:lnTo>
                    <a:pt x="114" y="6886"/>
                  </a:lnTo>
                  <a:lnTo>
                    <a:pt x="141" y="6935"/>
                  </a:lnTo>
                  <a:lnTo>
                    <a:pt x="167" y="6984"/>
                  </a:lnTo>
                  <a:lnTo>
                    <a:pt x="199" y="7033"/>
                  </a:lnTo>
                  <a:lnTo>
                    <a:pt x="233" y="7079"/>
                  </a:lnTo>
                  <a:lnTo>
                    <a:pt x="265" y="7121"/>
                  </a:lnTo>
                  <a:lnTo>
                    <a:pt x="302" y="7162"/>
                  </a:lnTo>
                  <a:lnTo>
                    <a:pt x="340" y="7202"/>
                  </a:lnTo>
                  <a:lnTo>
                    <a:pt x="381" y="7243"/>
                  </a:lnTo>
                  <a:lnTo>
                    <a:pt x="424" y="7278"/>
                  </a:lnTo>
                  <a:lnTo>
                    <a:pt x="467" y="7312"/>
                  </a:lnTo>
                  <a:lnTo>
                    <a:pt x="512" y="7346"/>
                  </a:lnTo>
                  <a:lnTo>
                    <a:pt x="558" y="7375"/>
                  </a:lnTo>
                  <a:lnTo>
                    <a:pt x="608" y="7404"/>
                  </a:lnTo>
                  <a:lnTo>
                    <a:pt x="659" y="7429"/>
                  </a:lnTo>
                  <a:lnTo>
                    <a:pt x="710" y="7453"/>
                  </a:lnTo>
                  <a:lnTo>
                    <a:pt x="764" y="7473"/>
                  </a:lnTo>
                  <a:lnTo>
                    <a:pt x="818" y="7491"/>
                  </a:lnTo>
                  <a:lnTo>
                    <a:pt x="871" y="7507"/>
                  </a:lnTo>
                  <a:lnTo>
                    <a:pt x="928" y="7521"/>
                  </a:lnTo>
                  <a:lnTo>
                    <a:pt x="985" y="7531"/>
                  </a:lnTo>
                  <a:lnTo>
                    <a:pt x="1042" y="7537"/>
                  </a:lnTo>
                  <a:lnTo>
                    <a:pt x="1101" y="7542"/>
                  </a:lnTo>
                  <a:lnTo>
                    <a:pt x="1161" y="7545"/>
                  </a:lnTo>
                  <a:lnTo>
                    <a:pt x="8140" y="7545"/>
                  </a:lnTo>
                  <a:lnTo>
                    <a:pt x="8140" y="7537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5" name=""/>
            <p:cNvSpPr/>
            <p:nvPr/>
          </p:nvSpPr>
          <p:spPr>
            <a:xfrm>
              <a:off x="1144800" y="2438280"/>
              <a:ext cx="1455480" cy="1104840"/>
            </a:xfrm>
            <a:custGeom>
              <a:avLst/>
              <a:gdLst/>
              <a:ahLst/>
              <a:rect l="l" t="t" r="r" b="b"/>
              <a:pathLst>
                <a:path w="9017" h="7261">
                  <a:moveTo>
                    <a:pt x="9017" y="6241"/>
                  </a:moveTo>
                  <a:lnTo>
                    <a:pt x="9014" y="6295"/>
                  </a:lnTo>
                  <a:lnTo>
                    <a:pt x="9012" y="6346"/>
                  </a:lnTo>
                  <a:lnTo>
                    <a:pt x="9003" y="6397"/>
                  </a:lnTo>
                  <a:lnTo>
                    <a:pt x="8996" y="6449"/>
                  </a:lnTo>
                  <a:lnTo>
                    <a:pt x="8984" y="6498"/>
                  </a:lnTo>
                  <a:lnTo>
                    <a:pt x="8971" y="6546"/>
                  </a:lnTo>
                  <a:lnTo>
                    <a:pt x="8955" y="6592"/>
                  </a:lnTo>
                  <a:lnTo>
                    <a:pt x="8936" y="6638"/>
                  </a:lnTo>
                  <a:lnTo>
                    <a:pt x="8915" y="6683"/>
                  </a:lnTo>
                  <a:lnTo>
                    <a:pt x="8893" y="6729"/>
                  </a:lnTo>
                  <a:lnTo>
                    <a:pt x="8869" y="6770"/>
                  </a:lnTo>
                  <a:lnTo>
                    <a:pt x="8842" y="6813"/>
                  </a:lnTo>
                  <a:lnTo>
                    <a:pt x="8814" y="6851"/>
                  </a:lnTo>
                  <a:lnTo>
                    <a:pt x="8782" y="6892"/>
                  </a:lnTo>
                  <a:lnTo>
                    <a:pt x="8752" y="6927"/>
                  </a:lnTo>
                  <a:lnTo>
                    <a:pt x="8717" y="6964"/>
                  </a:lnTo>
                  <a:lnTo>
                    <a:pt x="8683" y="6996"/>
                  </a:lnTo>
                  <a:lnTo>
                    <a:pt x="8644" y="7029"/>
                  </a:lnTo>
                  <a:lnTo>
                    <a:pt x="8607" y="7058"/>
                  </a:lnTo>
                  <a:lnTo>
                    <a:pt x="8566" y="7088"/>
                  </a:lnTo>
                  <a:lnTo>
                    <a:pt x="8526" y="7113"/>
                  </a:lnTo>
                  <a:lnTo>
                    <a:pt x="8483" y="7139"/>
                  </a:lnTo>
                  <a:lnTo>
                    <a:pt x="8439" y="7161"/>
                  </a:lnTo>
                  <a:lnTo>
                    <a:pt x="8393" y="7180"/>
                  </a:lnTo>
                  <a:lnTo>
                    <a:pt x="8347" y="7199"/>
                  </a:lnTo>
                  <a:lnTo>
                    <a:pt x="8299" y="7215"/>
                  </a:lnTo>
                  <a:lnTo>
                    <a:pt x="8250" y="7229"/>
                  </a:lnTo>
                  <a:lnTo>
                    <a:pt x="8202" y="7240"/>
                  </a:lnTo>
                  <a:lnTo>
                    <a:pt x="8153" y="7250"/>
                  </a:lnTo>
                  <a:lnTo>
                    <a:pt x="8102" y="7256"/>
                  </a:lnTo>
                  <a:lnTo>
                    <a:pt x="8048" y="7261"/>
                  </a:lnTo>
                  <a:lnTo>
                    <a:pt x="7997" y="7261"/>
                  </a:lnTo>
                  <a:lnTo>
                    <a:pt x="1020" y="7261"/>
                  </a:lnTo>
                  <a:lnTo>
                    <a:pt x="967" y="7261"/>
                  </a:lnTo>
                  <a:lnTo>
                    <a:pt x="916" y="7256"/>
                  </a:lnTo>
                  <a:lnTo>
                    <a:pt x="864" y="7250"/>
                  </a:lnTo>
                  <a:lnTo>
                    <a:pt x="815" y="7240"/>
                  </a:lnTo>
                  <a:lnTo>
                    <a:pt x="764" y="7229"/>
                  </a:lnTo>
                  <a:lnTo>
                    <a:pt x="716" y="7215"/>
                  </a:lnTo>
                  <a:lnTo>
                    <a:pt x="670" y="7199"/>
                  </a:lnTo>
                  <a:lnTo>
                    <a:pt x="624" y="7180"/>
                  </a:lnTo>
                  <a:lnTo>
                    <a:pt x="578" y="7161"/>
                  </a:lnTo>
                  <a:lnTo>
                    <a:pt x="534" y="7139"/>
                  </a:lnTo>
                  <a:lnTo>
                    <a:pt x="492" y="7113"/>
                  </a:lnTo>
                  <a:lnTo>
                    <a:pt x="451" y="7088"/>
                  </a:lnTo>
                  <a:lnTo>
                    <a:pt x="410" y="7058"/>
                  </a:lnTo>
                  <a:lnTo>
                    <a:pt x="373" y="7029"/>
                  </a:lnTo>
                  <a:lnTo>
                    <a:pt x="335" y="6996"/>
                  </a:lnTo>
                  <a:lnTo>
                    <a:pt x="300" y="6964"/>
                  </a:lnTo>
                  <a:lnTo>
                    <a:pt x="265" y="6927"/>
                  </a:lnTo>
                  <a:lnTo>
                    <a:pt x="233" y="6892"/>
                  </a:lnTo>
                  <a:lnTo>
                    <a:pt x="203" y="6851"/>
                  </a:lnTo>
                  <a:lnTo>
                    <a:pt x="175" y="6813"/>
                  </a:lnTo>
                  <a:lnTo>
                    <a:pt x="149" y="6770"/>
                  </a:lnTo>
                  <a:lnTo>
                    <a:pt x="124" y="6729"/>
                  </a:lnTo>
                  <a:lnTo>
                    <a:pt x="101" y="6683"/>
                  </a:lnTo>
                  <a:lnTo>
                    <a:pt x="81" y="6638"/>
                  </a:lnTo>
                  <a:lnTo>
                    <a:pt x="62" y="6592"/>
                  </a:lnTo>
                  <a:lnTo>
                    <a:pt x="46" y="6546"/>
                  </a:lnTo>
                  <a:lnTo>
                    <a:pt x="33" y="6498"/>
                  </a:lnTo>
                  <a:lnTo>
                    <a:pt x="21" y="6449"/>
                  </a:lnTo>
                  <a:lnTo>
                    <a:pt x="11" y="6397"/>
                  </a:lnTo>
                  <a:lnTo>
                    <a:pt x="5" y="6346"/>
                  </a:lnTo>
                  <a:lnTo>
                    <a:pt x="3" y="6295"/>
                  </a:lnTo>
                  <a:lnTo>
                    <a:pt x="0" y="6241"/>
                  </a:lnTo>
                  <a:lnTo>
                    <a:pt x="0" y="1019"/>
                  </a:lnTo>
                  <a:lnTo>
                    <a:pt x="3" y="967"/>
                  </a:lnTo>
                  <a:lnTo>
                    <a:pt x="5" y="916"/>
                  </a:lnTo>
                  <a:lnTo>
                    <a:pt x="11" y="865"/>
                  </a:lnTo>
                  <a:lnTo>
                    <a:pt x="21" y="814"/>
                  </a:lnTo>
                  <a:lnTo>
                    <a:pt x="33" y="766"/>
                  </a:lnTo>
                  <a:lnTo>
                    <a:pt x="46" y="716"/>
                  </a:lnTo>
                  <a:lnTo>
                    <a:pt x="62" y="668"/>
                  </a:lnTo>
                  <a:lnTo>
                    <a:pt x="81" y="622"/>
                  </a:lnTo>
                  <a:lnTo>
                    <a:pt x="101" y="577"/>
                  </a:lnTo>
                  <a:lnTo>
                    <a:pt x="124" y="534"/>
                  </a:lnTo>
                  <a:lnTo>
                    <a:pt x="149" y="490"/>
                  </a:lnTo>
                  <a:lnTo>
                    <a:pt x="175" y="449"/>
                  </a:lnTo>
                  <a:lnTo>
                    <a:pt x="203" y="409"/>
                  </a:lnTo>
                  <a:lnTo>
                    <a:pt x="233" y="372"/>
                  </a:lnTo>
                  <a:lnTo>
                    <a:pt x="265" y="334"/>
                  </a:lnTo>
                  <a:lnTo>
                    <a:pt x="300" y="299"/>
                  </a:lnTo>
                  <a:lnTo>
                    <a:pt x="335" y="267"/>
                  </a:lnTo>
                  <a:lnTo>
                    <a:pt x="373" y="234"/>
                  </a:lnTo>
                  <a:lnTo>
                    <a:pt x="410" y="204"/>
                  </a:lnTo>
                  <a:lnTo>
                    <a:pt x="451" y="175"/>
                  </a:lnTo>
                  <a:lnTo>
                    <a:pt x="492" y="147"/>
                  </a:lnTo>
                  <a:lnTo>
                    <a:pt x="534" y="124"/>
                  </a:lnTo>
                  <a:lnTo>
                    <a:pt x="578" y="101"/>
                  </a:lnTo>
                  <a:lnTo>
                    <a:pt x="624" y="80"/>
                  </a:lnTo>
                  <a:lnTo>
                    <a:pt x="670" y="62"/>
                  </a:lnTo>
                  <a:lnTo>
                    <a:pt x="716" y="45"/>
                  </a:lnTo>
                  <a:lnTo>
                    <a:pt x="764" y="32"/>
                  </a:lnTo>
                  <a:lnTo>
                    <a:pt x="815" y="21"/>
                  </a:lnTo>
                  <a:lnTo>
                    <a:pt x="864" y="13"/>
                  </a:lnTo>
                  <a:lnTo>
                    <a:pt x="916" y="5"/>
                  </a:lnTo>
                  <a:lnTo>
                    <a:pt x="967" y="2"/>
                  </a:lnTo>
                  <a:lnTo>
                    <a:pt x="1020" y="0"/>
                  </a:lnTo>
                  <a:lnTo>
                    <a:pt x="7997" y="0"/>
                  </a:lnTo>
                  <a:lnTo>
                    <a:pt x="8048" y="2"/>
                  </a:lnTo>
                  <a:lnTo>
                    <a:pt x="8102" y="5"/>
                  </a:lnTo>
                  <a:lnTo>
                    <a:pt x="8153" y="13"/>
                  </a:lnTo>
                  <a:lnTo>
                    <a:pt x="8202" y="21"/>
                  </a:lnTo>
                  <a:lnTo>
                    <a:pt x="8250" y="32"/>
                  </a:lnTo>
                  <a:lnTo>
                    <a:pt x="8299" y="45"/>
                  </a:lnTo>
                  <a:lnTo>
                    <a:pt x="8347" y="62"/>
                  </a:lnTo>
                  <a:lnTo>
                    <a:pt x="8393" y="80"/>
                  </a:lnTo>
                  <a:lnTo>
                    <a:pt x="8439" y="101"/>
                  </a:lnTo>
                  <a:lnTo>
                    <a:pt x="8483" y="124"/>
                  </a:lnTo>
                  <a:lnTo>
                    <a:pt x="8526" y="147"/>
                  </a:lnTo>
                  <a:lnTo>
                    <a:pt x="8566" y="175"/>
                  </a:lnTo>
                  <a:lnTo>
                    <a:pt x="8607" y="204"/>
                  </a:lnTo>
                  <a:lnTo>
                    <a:pt x="8644" y="234"/>
                  </a:lnTo>
                  <a:lnTo>
                    <a:pt x="8683" y="267"/>
                  </a:lnTo>
                  <a:lnTo>
                    <a:pt x="8717" y="299"/>
                  </a:lnTo>
                  <a:lnTo>
                    <a:pt x="8752" y="334"/>
                  </a:lnTo>
                  <a:lnTo>
                    <a:pt x="8782" y="372"/>
                  </a:lnTo>
                  <a:lnTo>
                    <a:pt x="8814" y="409"/>
                  </a:lnTo>
                  <a:lnTo>
                    <a:pt x="8842" y="449"/>
                  </a:lnTo>
                  <a:lnTo>
                    <a:pt x="8869" y="490"/>
                  </a:lnTo>
                  <a:lnTo>
                    <a:pt x="8893" y="534"/>
                  </a:lnTo>
                  <a:lnTo>
                    <a:pt x="8915" y="577"/>
                  </a:lnTo>
                  <a:lnTo>
                    <a:pt x="8936" y="622"/>
                  </a:lnTo>
                  <a:lnTo>
                    <a:pt x="8955" y="668"/>
                  </a:lnTo>
                  <a:lnTo>
                    <a:pt x="8971" y="716"/>
                  </a:lnTo>
                  <a:lnTo>
                    <a:pt x="8984" y="766"/>
                  </a:lnTo>
                  <a:lnTo>
                    <a:pt x="8996" y="814"/>
                  </a:lnTo>
                  <a:lnTo>
                    <a:pt x="9003" y="865"/>
                  </a:lnTo>
                  <a:lnTo>
                    <a:pt x="9012" y="916"/>
                  </a:lnTo>
                  <a:lnTo>
                    <a:pt x="9014" y="967"/>
                  </a:lnTo>
                  <a:lnTo>
                    <a:pt x="9017" y="1019"/>
                  </a:lnTo>
                  <a:lnTo>
                    <a:pt x="9017" y="6241"/>
                  </a:lnTo>
                  <a:close/>
                </a:path>
              </a:pathLst>
            </a:custGeom>
            <a:solidFill>
              <a:srgbClr val="3aab5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1143000" y="2436840"/>
              <a:ext cx="1459080" cy="1108080"/>
            </a:xfrm>
            <a:custGeom>
              <a:avLst/>
              <a:gdLst/>
              <a:ahLst/>
              <a:rect l="l" t="t" r="r" b="b"/>
              <a:pathLst>
                <a:path w="9032" h="7275">
                  <a:moveTo>
                    <a:pt x="9024" y="6247"/>
                  </a:moveTo>
                  <a:lnTo>
                    <a:pt x="9016" y="6247"/>
                  </a:lnTo>
                  <a:lnTo>
                    <a:pt x="9014" y="6301"/>
                  </a:lnTo>
                  <a:lnTo>
                    <a:pt x="9010" y="6352"/>
                  </a:lnTo>
                  <a:lnTo>
                    <a:pt x="9003" y="6403"/>
                  </a:lnTo>
                  <a:lnTo>
                    <a:pt x="8994" y="6452"/>
                  </a:lnTo>
                  <a:lnTo>
                    <a:pt x="8984" y="6500"/>
                  </a:lnTo>
                  <a:lnTo>
                    <a:pt x="8970" y="6550"/>
                  </a:lnTo>
                  <a:lnTo>
                    <a:pt x="8954" y="6595"/>
                  </a:lnTo>
                  <a:lnTo>
                    <a:pt x="8934" y="6641"/>
                  </a:lnTo>
                  <a:lnTo>
                    <a:pt x="8916" y="6687"/>
                  </a:lnTo>
                  <a:lnTo>
                    <a:pt x="8892" y="6730"/>
                  </a:lnTo>
                  <a:lnTo>
                    <a:pt x="8867" y="6774"/>
                  </a:lnTo>
                  <a:lnTo>
                    <a:pt x="8844" y="6813"/>
                  </a:lnTo>
                  <a:lnTo>
                    <a:pt x="8814" y="6854"/>
                  </a:lnTo>
                  <a:lnTo>
                    <a:pt x="8784" y="6892"/>
                  </a:lnTo>
                  <a:lnTo>
                    <a:pt x="8752" y="6928"/>
                  </a:lnTo>
                  <a:lnTo>
                    <a:pt x="8719" y="6962"/>
                  </a:lnTo>
                  <a:lnTo>
                    <a:pt x="8684" y="6997"/>
                  </a:lnTo>
                  <a:lnTo>
                    <a:pt x="8646" y="7030"/>
                  </a:lnTo>
                  <a:lnTo>
                    <a:pt x="8609" y="7059"/>
                  </a:lnTo>
                  <a:lnTo>
                    <a:pt x="8568" y="7087"/>
                  </a:lnTo>
                  <a:lnTo>
                    <a:pt x="8527" y="7113"/>
                  </a:lnTo>
                  <a:lnTo>
                    <a:pt x="8487" y="7138"/>
                  </a:lnTo>
                  <a:lnTo>
                    <a:pt x="8441" y="7159"/>
                  </a:lnTo>
                  <a:lnTo>
                    <a:pt x="8398" y="7181"/>
                  </a:lnTo>
                  <a:lnTo>
                    <a:pt x="8352" y="7197"/>
                  </a:lnTo>
                  <a:lnTo>
                    <a:pt x="8303" y="7213"/>
                  </a:lnTo>
                  <a:lnTo>
                    <a:pt x="8257" y="7227"/>
                  </a:lnTo>
                  <a:lnTo>
                    <a:pt x="8206" y="7240"/>
                  </a:lnTo>
                  <a:lnTo>
                    <a:pt x="8158" y="7248"/>
                  </a:lnTo>
                  <a:lnTo>
                    <a:pt x="8106" y="7253"/>
                  </a:lnTo>
                  <a:lnTo>
                    <a:pt x="8055" y="7259"/>
                  </a:lnTo>
                  <a:lnTo>
                    <a:pt x="8004" y="7259"/>
                  </a:lnTo>
                  <a:lnTo>
                    <a:pt x="1027" y="7259"/>
                  </a:lnTo>
                  <a:lnTo>
                    <a:pt x="974" y="7259"/>
                  </a:lnTo>
                  <a:lnTo>
                    <a:pt x="923" y="7253"/>
                  </a:lnTo>
                  <a:lnTo>
                    <a:pt x="874" y="7248"/>
                  </a:lnTo>
                  <a:lnTo>
                    <a:pt x="822" y="7240"/>
                  </a:lnTo>
                  <a:lnTo>
                    <a:pt x="774" y="7227"/>
                  </a:lnTo>
                  <a:lnTo>
                    <a:pt x="725" y="7213"/>
                  </a:lnTo>
                  <a:lnTo>
                    <a:pt x="679" y="7197"/>
                  </a:lnTo>
                  <a:lnTo>
                    <a:pt x="633" y="7181"/>
                  </a:lnTo>
                  <a:lnTo>
                    <a:pt x="587" y="7159"/>
                  </a:lnTo>
                  <a:lnTo>
                    <a:pt x="544" y="7138"/>
                  </a:lnTo>
                  <a:lnTo>
                    <a:pt x="502" y="7113"/>
                  </a:lnTo>
                  <a:lnTo>
                    <a:pt x="461" y="7087"/>
                  </a:lnTo>
                  <a:lnTo>
                    <a:pt x="423" y="7059"/>
                  </a:lnTo>
                  <a:lnTo>
                    <a:pt x="382" y="7030"/>
                  </a:lnTo>
                  <a:lnTo>
                    <a:pt x="348" y="6997"/>
                  </a:lnTo>
                  <a:lnTo>
                    <a:pt x="313" y="6962"/>
                  </a:lnTo>
                  <a:lnTo>
                    <a:pt x="277" y="6928"/>
                  </a:lnTo>
                  <a:lnTo>
                    <a:pt x="247" y="6892"/>
                  </a:lnTo>
                  <a:lnTo>
                    <a:pt x="215" y="6854"/>
                  </a:lnTo>
                  <a:lnTo>
                    <a:pt x="188" y="6813"/>
                  </a:lnTo>
                  <a:lnTo>
                    <a:pt x="161" y="6774"/>
                  </a:lnTo>
                  <a:lnTo>
                    <a:pt x="137" y="6730"/>
                  </a:lnTo>
                  <a:lnTo>
                    <a:pt x="115" y="6687"/>
                  </a:lnTo>
                  <a:lnTo>
                    <a:pt x="94" y="6641"/>
                  </a:lnTo>
                  <a:lnTo>
                    <a:pt x="78" y="6595"/>
                  </a:lnTo>
                  <a:lnTo>
                    <a:pt x="62" y="6550"/>
                  </a:lnTo>
                  <a:lnTo>
                    <a:pt x="48" y="6500"/>
                  </a:lnTo>
                  <a:lnTo>
                    <a:pt x="37" y="6452"/>
                  </a:lnTo>
                  <a:lnTo>
                    <a:pt x="26" y="6403"/>
                  </a:lnTo>
                  <a:lnTo>
                    <a:pt x="21" y="6352"/>
                  </a:lnTo>
                  <a:lnTo>
                    <a:pt x="16" y="6301"/>
                  </a:lnTo>
                  <a:lnTo>
                    <a:pt x="16" y="6247"/>
                  </a:lnTo>
                  <a:lnTo>
                    <a:pt x="16" y="1025"/>
                  </a:lnTo>
                  <a:lnTo>
                    <a:pt x="16" y="973"/>
                  </a:lnTo>
                  <a:lnTo>
                    <a:pt x="21" y="922"/>
                  </a:lnTo>
                  <a:lnTo>
                    <a:pt x="26" y="871"/>
                  </a:lnTo>
                  <a:lnTo>
                    <a:pt x="37" y="823"/>
                  </a:lnTo>
                  <a:lnTo>
                    <a:pt x="48" y="774"/>
                  </a:lnTo>
                  <a:lnTo>
                    <a:pt x="62" y="726"/>
                  </a:lnTo>
                  <a:lnTo>
                    <a:pt x="78" y="677"/>
                  </a:lnTo>
                  <a:lnTo>
                    <a:pt x="94" y="632"/>
                  </a:lnTo>
                  <a:lnTo>
                    <a:pt x="115" y="588"/>
                  </a:lnTo>
                  <a:lnTo>
                    <a:pt x="137" y="545"/>
                  </a:lnTo>
                  <a:lnTo>
                    <a:pt x="161" y="501"/>
                  </a:lnTo>
                  <a:lnTo>
                    <a:pt x="188" y="461"/>
                  </a:lnTo>
                  <a:lnTo>
                    <a:pt x="215" y="421"/>
                  </a:lnTo>
                  <a:lnTo>
                    <a:pt x="247" y="383"/>
                  </a:lnTo>
                  <a:lnTo>
                    <a:pt x="277" y="346"/>
                  </a:lnTo>
                  <a:lnTo>
                    <a:pt x="313" y="310"/>
                  </a:lnTo>
                  <a:lnTo>
                    <a:pt x="348" y="278"/>
                  </a:lnTo>
                  <a:lnTo>
                    <a:pt x="382" y="245"/>
                  </a:lnTo>
                  <a:lnTo>
                    <a:pt x="423" y="216"/>
                  </a:lnTo>
                  <a:lnTo>
                    <a:pt x="461" y="189"/>
                  </a:lnTo>
                  <a:lnTo>
                    <a:pt x="502" y="162"/>
                  </a:lnTo>
                  <a:lnTo>
                    <a:pt x="544" y="137"/>
                  </a:lnTo>
                  <a:lnTo>
                    <a:pt x="587" y="114"/>
                  </a:lnTo>
                  <a:lnTo>
                    <a:pt x="633" y="95"/>
                  </a:lnTo>
                  <a:lnTo>
                    <a:pt x="679" y="75"/>
                  </a:lnTo>
                  <a:lnTo>
                    <a:pt x="725" y="59"/>
                  </a:lnTo>
                  <a:lnTo>
                    <a:pt x="774" y="45"/>
                  </a:lnTo>
                  <a:lnTo>
                    <a:pt x="822" y="35"/>
                  </a:lnTo>
                  <a:lnTo>
                    <a:pt x="874" y="27"/>
                  </a:lnTo>
                  <a:lnTo>
                    <a:pt x="923" y="19"/>
                  </a:lnTo>
                  <a:lnTo>
                    <a:pt x="974" y="17"/>
                  </a:lnTo>
                  <a:lnTo>
                    <a:pt x="1027" y="13"/>
                  </a:lnTo>
                  <a:lnTo>
                    <a:pt x="8004" y="13"/>
                  </a:lnTo>
                  <a:lnTo>
                    <a:pt x="8055" y="17"/>
                  </a:lnTo>
                  <a:lnTo>
                    <a:pt x="8106" y="19"/>
                  </a:lnTo>
                  <a:lnTo>
                    <a:pt x="8158" y="27"/>
                  </a:lnTo>
                  <a:lnTo>
                    <a:pt x="8206" y="35"/>
                  </a:lnTo>
                  <a:lnTo>
                    <a:pt x="8257" y="45"/>
                  </a:lnTo>
                  <a:lnTo>
                    <a:pt x="8303" y="59"/>
                  </a:lnTo>
                  <a:lnTo>
                    <a:pt x="8352" y="75"/>
                  </a:lnTo>
                  <a:lnTo>
                    <a:pt x="8398" y="95"/>
                  </a:lnTo>
                  <a:lnTo>
                    <a:pt x="8441" y="114"/>
                  </a:lnTo>
                  <a:lnTo>
                    <a:pt x="8487" y="137"/>
                  </a:lnTo>
                  <a:lnTo>
                    <a:pt x="8527" y="162"/>
                  </a:lnTo>
                  <a:lnTo>
                    <a:pt x="8568" y="189"/>
                  </a:lnTo>
                  <a:lnTo>
                    <a:pt x="8609" y="216"/>
                  </a:lnTo>
                  <a:lnTo>
                    <a:pt x="8646" y="245"/>
                  </a:lnTo>
                  <a:lnTo>
                    <a:pt x="8684" y="278"/>
                  </a:lnTo>
                  <a:lnTo>
                    <a:pt x="8719" y="310"/>
                  </a:lnTo>
                  <a:lnTo>
                    <a:pt x="8752" y="346"/>
                  </a:lnTo>
                  <a:lnTo>
                    <a:pt x="8784" y="383"/>
                  </a:lnTo>
                  <a:lnTo>
                    <a:pt x="8814" y="421"/>
                  </a:lnTo>
                  <a:lnTo>
                    <a:pt x="8844" y="461"/>
                  </a:lnTo>
                  <a:lnTo>
                    <a:pt x="8867" y="501"/>
                  </a:lnTo>
                  <a:lnTo>
                    <a:pt x="8892" y="545"/>
                  </a:lnTo>
                  <a:lnTo>
                    <a:pt x="8916" y="588"/>
                  </a:lnTo>
                  <a:lnTo>
                    <a:pt x="8934" y="632"/>
                  </a:lnTo>
                  <a:lnTo>
                    <a:pt x="8954" y="677"/>
                  </a:lnTo>
                  <a:lnTo>
                    <a:pt x="8970" y="726"/>
                  </a:lnTo>
                  <a:lnTo>
                    <a:pt x="8984" y="774"/>
                  </a:lnTo>
                  <a:lnTo>
                    <a:pt x="8994" y="823"/>
                  </a:lnTo>
                  <a:lnTo>
                    <a:pt x="9003" y="871"/>
                  </a:lnTo>
                  <a:lnTo>
                    <a:pt x="9010" y="922"/>
                  </a:lnTo>
                  <a:lnTo>
                    <a:pt x="9014" y="973"/>
                  </a:lnTo>
                  <a:lnTo>
                    <a:pt x="9016" y="1025"/>
                  </a:lnTo>
                  <a:lnTo>
                    <a:pt x="9016" y="6247"/>
                  </a:lnTo>
                  <a:lnTo>
                    <a:pt x="9024" y="6247"/>
                  </a:lnTo>
                  <a:lnTo>
                    <a:pt x="9032" y="6247"/>
                  </a:lnTo>
                  <a:lnTo>
                    <a:pt x="9032" y="1025"/>
                  </a:lnTo>
                  <a:lnTo>
                    <a:pt x="9030" y="973"/>
                  </a:lnTo>
                  <a:lnTo>
                    <a:pt x="9026" y="920"/>
                  </a:lnTo>
                  <a:lnTo>
                    <a:pt x="9019" y="869"/>
                  </a:lnTo>
                  <a:lnTo>
                    <a:pt x="9010" y="820"/>
                  </a:lnTo>
                  <a:lnTo>
                    <a:pt x="9000" y="768"/>
                  </a:lnTo>
                  <a:lnTo>
                    <a:pt x="8986" y="720"/>
                  </a:lnTo>
                  <a:lnTo>
                    <a:pt x="8970" y="671"/>
                  </a:lnTo>
                  <a:lnTo>
                    <a:pt x="8952" y="625"/>
                  </a:lnTo>
                  <a:lnTo>
                    <a:pt x="8929" y="580"/>
                  </a:lnTo>
                  <a:lnTo>
                    <a:pt x="8908" y="537"/>
                  </a:lnTo>
                  <a:lnTo>
                    <a:pt x="8883" y="494"/>
                  </a:lnTo>
                  <a:lnTo>
                    <a:pt x="8856" y="450"/>
                  </a:lnTo>
                  <a:lnTo>
                    <a:pt x="8827" y="410"/>
                  </a:lnTo>
                  <a:lnTo>
                    <a:pt x="8798" y="372"/>
                  </a:lnTo>
                  <a:lnTo>
                    <a:pt x="8765" y="335"/>
                  </a:lnTo>
                  <a:lnTo>
                    <a:pt x="8729" y="300"/>
                  </a:lnTo>
                  <a:lnTo>
                    <a:pt x="8695" y="264"/>
                  </a:lnTo>
                  <a:lnTo>
                    <a:pt x="8657" y="232"/>
                  </a:lnTo>
                  <a:lnTo>
                    <a:pt x="8619" y="202"/>
                  </a:lnTo>
                  <a:lnTo>
                    <a:pt x="8579" y="176"/>
                  </a:lnTo>
                  <a:lnTo>
                    <a:pt x="8536" y="148"/>
                  </a:lnTo>
                  <a:lnTo>
                    <a:pt x="8492" y="121"/>
                  </a:lnTo>
                  <a:lnTo>
                    <a:pt x="8449" y="100"/>
                  </a:lnTo>
                  <a:lnTo>
                    <a:pt x="8403" y="79"/>
                  </a:lnTo>
                  <a:lnTo>
                    <a:pt x="8358" y="63"/>
                  </a:lnTo>
                  <a:lnTo>
                    <a:pt x="8308" y="45"/>
                  </a:lnTo>
                  <a:lnTo>
                    <a:pt x="8260" y="33"/>
                  </a:lnTo>
                  <a:lnTo>
                    <a:pt x="8211" y="19"/>
                  </a:lnTo>
                  <a:lnTo>
                    <a:pt x="8160" y="11"/>
                  </a:lnTo>
                  <a:lnTo>
                    <a:pt x="8109" y="6"/>
                  </a:lnTo>
                  <a:lnTo>
                    <a:pt x="8057" y="0"/>
                  </a:lnTo>
                  <a:lnTo>
                    <a:pt x="8004" y="0"/>
                  </a:lnTo>
                  <a:lnTo>
                    <a:pt x="1027" y="0"/>
                  </a:lnTo>
                  <a:lnTo>
                    <a:pt x="974" y="0"/>
                  </a:lnTo>
                  <a:lnTo>
                    <a:pt x="923" y="6"/>
                  </a:lnTo>
                  <a:lnTo>
                    <a:pt x="871" y="11"/>
                  </a:lnTo>
                  <a:lnTo>
                    <a:pt x="820" y="19"/>
                  </a:lnTo>
                  <a:lnTo>
                    <a:pt x="771" y="33"/>
                  </a:lnTo>
                  <a:lnTo>
                    <a:pt x="723" y="45"/>
                  </a:lnTo>
                  <a:lnTo>
                    <a:pt x="674" y="63"/>
                  </a:lnTo>
                  <a:lnTo>
                    <a:pt x="628" y="79"/>
                  </a:lnTo>
                  <a:lnTo>
                    <a:pt x="582" y="100"/>
                  </a:lnTo>
                  <a:lnTo>
                    <a:pt x="536" y="121"/>
                  </a:lnTo>
                  <a:lnTo>
                    <a:pt x="493" y="148"/>
                  </a:lnTo>
                  <a:lnTo>
                    <a:pt x="453" y="176"/>
                  </a:lnTo>
                  <a:lnTo>
                    <a:pt x="412" y="202"/>
                  </a:lnTo>
                  <a:lnTo>
                    <a:pt x="375" y="232"/>
                  </a:lnTo>
                  <a:lnTo>
                    <a:pt x="336" y="264"/>
                  </a:lnTo>
                  <a:lnTo>
                    <a:pt x="302" y="300"/>
                  </a:lnTo>
                  <a:lnTo>
                    <a:pt x="267" y="335"/>
                  </a:lnTo>
                  <a:lnTo>
                    <a:pt x="234" y="372"/>
                  </a:lnTo>
                  <a:lnTo>
                    <a:pt x="205" y="410"/>
                  </a:lnTo>
                  <a:lnTo>
                    <a:pt x="175" y="450"/>
                  </a:lnTo>
                  <a:lnTo>
                    <a:pt x="148" y="494"/>
                  </a:lnTo>
                  <a:lnTo>
                    <a:pt x="124" y="537"/>
                  </a:lnTo>
                  <a:lnTo>
                    <a:pt x="102" y="580"/>
                  </a:lnTo>
                  <a:lnTo>
                    <a:pt x="80" y="625"/>
                  </a:lnTo>
                  <a:lnTo>
                    <a:pt x="62" y="671"/>
                  </a:lnTo>
                  <a:lnTo>
                    <a:pt x="46" y="720"/>
                  </a:lnTo>
                  <a:lnTo>
                    <a:pt x="32" y="768"/>
                  </a:lnTo>
                  <a:lnTo>
                    <a:pt x="21" y="820"/>
                  </a:lnTo>
                  <a:lnTo>
                    <a:pt x="10" y="869"/>
                  </a:lnTo>
                  <a:lnTo>
                    <a:pt x="5" y="920"/>
                  </a:lnTo>
                  <a:lnTo>
                    <a:pt x="2" y="973"/>
                  </a:lnTo>
                  <a:lnTo>
                    <a:pt x="0" y="1025"/>
                  </a:lnTo>
                  <a:lnTo>
                    <a:pt x="0" y="6247"/>
                  </a:lnTo>
                  <a:lnTo>
                    <a:pt x="2" y="6301"/>
                  </a:lnTo>
                  <a:lnTo>
                    <a:pt x="5" y="6352"/>
                  </a:lnTo>
                  <a:lnTo>
                    <a:pt x="10" y="6403"/>
                  </a:lnTo>
                  <a:lnTo>
                    <a:pt x="21" y="6455"/>
                  </a:lnTo>
                  <a:lnTo>
                    <a:pt x="32" y="6506"/>
                  </a:lnTo>
                  <a:lnTo>
                    <a:pt x="46" y="6555"/>
                  </a:lnTo>
                  <a:lnTo>
                    <a:pt x="62" y="6601"/>
                  </a:lnTo>
                  <a:lnTo>
                    <a:pt x="80" y="6649"/>
                  </a:lnTo>
                  <a:lnTo>
                    <a:pt x="102" y="6695"/>
                  </a:lnTo>
                  <a:lnTo>
                    <a:pt x="124" y="6739"/>
                  </a:lnTo>
                  <a:lnTo>
                    <a:pt x="148" y="6781"/>
                  </a:lnTo>
                  <a:lnTo>
                    <a:pt x="175" y="6822"/>
                  </a:lnTo>
                  <a:lnTo>
                    <a:pt x="205" y="6862"/>
                  </a:lnTo>
                  <a:lnTo>
                    <a:pt x="234" y="6903"/>
                  </a:lnTo>
                  <a:lnTo>
                    <a:pt x="267" y="6938"/>
                  </a:lnTo>
                  <a:lnTo>
                    <a:pt x="302" y="6976"/>
                  </a:lnTo>
                  <a:lnTo>
                    <a:pt x="336" y="7008"/>
                  </a:lnTo>
                  <a:lnTo>
                    <a:pt x="375" y="7041"/>
                  </a:lnTo>
                  <a:lnTo>
                    <a:pt x="412" y="7073"/>
                  </a:lnTo>
                  <a:lnTo>
                    <a:pt x="453" y="7099"/>
                  </a:lnTo>
                  <a:lnTo>
                    <a:pt x="493" y="7126"/>
                  </a:lnTo>
                  <a:lnTo>
                    <a:pt x="536" y="7151"/>
                  </a:lnTo>
                  <a:lnTo>
                    <a:pt x="582" y="7175"/>
                  </a:lnTo>
                  <a:lnTo>
                    <a:pt x="628" y="7195"/>
                  </a:lnTo>
                  <a:lnTo>
                    <a:pt x="674" y="7213"/>
                  </a:lnTo>
                  <a:lnTo>
                    <a:pt x="723" y="7230"/>
                  </a:lnTo>
                  <a:lnTo>
                    <a:pt x="771" y="7243"/>
                  </a:lnTo>
                  <a:lnTo>
                    <a:pt x="820" y="7253"/>
                  </a:lnTo>
                  <a:lnTo>
                    <a:pt x="871" y="7264"/>
                  </a:lnTo>
                  <a:lnTo>
                    <a:pt x="923" y="7269"/>
                  </a:lnTo>
                  <a:lnTo>
                    <a:pt x="974" y="7275"/>
                  </a:lnTo>
                  <a:lnTo>
                    <a:pt x="1027" y="7275"/>
                  </a:lnTo>
                  <a:lnTo>
                    <a:pt x="8004" y="7275"/>
                  </a:lnTo>
                  <a:lnTo>
                    <a:pt x="8057" y="7275"/>
                  </a:lnTo>
                  <a:lnTo>
                    <a:pt x="8109" y="7269"/>
                  </a:lnTo>
                  <a:lnTo>
                    <a:pt x="8160" y="7264"/>
                  </a:lnTo>
                  <a:lnTo>
                    <a:pt x="8211" y="7253"/>
                  </a:lnTo>
                  <a:lnTo>
                    <a:pt x="8260" y="7243"/>
                  </a:lnTo>
                  <a:lnTo>
                    <a:pt x="8308" y="7230"/>
                  </a:lnTo>
                  <a:lnTo>
                    <a:pt x="8358" y="7213"/>
                  </a:lnTo>
                  <a:lnTo>
                    <a:pt x="8403" y="7195"/>
                  </a:lnTo>
                  <a:lnTo>
                    <a:pt x="8449" y="7175"/>
                  </a:lnTo>
                  <a:lnTo>
                    <a:pt x="8492" y="7151"/>
                  </a:lnTo>
                  <a:lnTo>
                    <a:pt x="8536" y="7126"/>
                  </a:lnTo>
                  <a:lnTo>
                    <a:pt x="8579" y="7099"/>
                  </a:lnTo>
                  <a:lnTo>
                    <a:pt x="8619" y="7073"/>
                  </a:lnTo>
                  <a:lnTo>
                    <a:pt x="8657" y="7041"/>
                  </a:lnTo>
                  <a:lnTo>
                    <a:pt x="8695" y="7008"/>
                  </a:lnTo>
                  <a:lnTo>
                    <a:pt x="8729" y="6976"/>
                  </a:lnTo>
                  <a:lnTo>
                    <a:pt x="8765" y="6938"/>
                  </a:lnTo>
                  <a:lnTo>
                    <a:pt x="8798" y="6903"/>
                  </a:lnTo>
                  <a:lnTo>
                    <a:pt x="8827" y="6862"/>
                  </a:lnTo>
                  <a:lnTo>
                    <a:pt x="8856" y="6822"/>
                  </a:lnTo>
                  <a:lnTo>
                    <a:pt x="8883" y="6781"/>
                  </a:lnTo>
                  <a:lnTo>
                    <a:pt x="8908" y="6739"/>
                  </a:lnTo>
                  <a:lnTo>
                    <a:pt x="8929" y="6695"/>
                  </a:lnTo>
                  <a:lnTo>
                    <a:pt x="8952" y="6649"/>
                  </a:lnTo>
                  <a:lnTo>
                    <a:pt x="8970" y="6601"/>
                  </a:lnTo>
                  <a:lnTo>
                    <a:pt x="8986" y="6555"/>
                  </a:lnTo>
                  <a:lnTo>
                    <a:pt x="9000" y="6506"/>
                  </a:lnTo>
                  <a:lnTo>
                    <a:pt x="9010" y="6455"/>
                  </a:lnTo>
                  <a:lnTo>
                    <a:pt x="9019" y="6403"/>
                  </a:lnTo>
                  <a:lnTo>
                    <a:pt x="9026" y="6352"/>
                  </a:lnTo>
                  <a:lnTo>
                    <a:pt x="9030" y="6301"/>
                  </a:lnTo>
                  <a:lnTo>
                    <a:pt x="9032" y="6247"/>
                  </a:lnTo>
                  <a:lnTo>
                    <a:pt x="9024" y="6247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7" name=""/>
            <p:cNvSpPr/>
            <p:nvPr/>
          </p:nvSpPr>
          <p:spPr>
            <a:xfrm>
              <a:off x="1144800" y="2743200"/>
              <a:ext cx="1455480" cy="798480"/>
            </a:xfrm>
            <a:custGeom>
              <a:avLst/>
              <a:gdLst/>
              <a:ahLst/>
              <a:rect l="l" t="t" r="r" b="b"/>
              <a:pathLst>
                <a:path w="9008" h="5255">
                  <a:moveTo>
                    <a:pt x="9000" y="4092"/>
                  </a:moveTo>
                  <a:lnTo>
                    <a:pt x="8838" y="4138"/>
                  </a:lnTo>
                  <a:lnTo>
                    <a:pt x="8671" y="4189"/>
                  </a:lnTo>
                  <a:lnTo>
                    <a:pt x="8501" y="4240"/>
                  </a:lnTo>
                  <a:lnTo>
                    <a:pt x="8331" y="4286"/>
                  </a:lnTo>
                  <a:lnTo>
                    <a:pt x="8161" y="4330"/>
                  </a:lnTo>
                  <a:lnTo>
                    <a:pt x="8077" y="4346"/>
                  </a:lnTo>
                  <a:lnTo>
                    <a:pt x="7993" y="4362"/>
                  </a:lnTo>
                  <a:lnTo>
                    <a:pt x="7912" y="4376"/>
                  </a:lnTo>
                  <a:lnTo>
                    <a:pt x="7831" y="4386"/>
                  </a:lnTo>
                  <a:lnTo>
                    <a:pt x="7753" y="4394"/>
                  </a:lnTo>
                  <a:lnTo>
                    <a:pt x="7675" y="4397"/>
                  </a:lnTo>
                  <a:lnTo>
                    <a:pt x="7683" y="4408"/>
                  </a:lnTo>
                  <a:lnTo>
                    <a:pt x="7723" y="4440"/>
                  </a:lnTo>
                  <a:lnTo>
                    <a:pt x="7764" y="4475"/>
                  </a:lnTo>
                  <a:lnTo>
                    <a:pt x="7804" y="4524"/>
                  </a:lnTo>
                  <a:lnTo>
                    <a:pt x="7839" y="4572"/>
                  </a:lnTo>
                  <a:lnTo>
                    <a:pt x="7871" y="4627"/>
                  </a:lnTo>
                  <a:lnTo>
                    <a:pt x="7899" y="4683"/>
                  </a:lnTo>
                  <a:lnTo>
                    <a:pt x="7921" y="4745"/>
                  </a:lnTo>
                  <a:lnTo>
                    <a:pt x="7937" y="4807"/>
                  </a:lnTo>
                  <a:lnTo>
                    <a:pt x="7945" y="4872"/>
                  </a:lnTo>
                  <a:lnTo>
                    <a:pt x="7947" y="4904"/>
                  </a:lnTo>
                  <a:lnTo>
                    <a:pt x="7947" y="4940"/>
                  </a:lnTo>
                  <a:lnTo>
                    <a:pt x="7947" y="4968"/>
                  </a:lnTo>
                  <a:lnTo>
                    <a:pt x="7947" y="4998"/>
                  </a:lnTo>
                  <a:lnTo>
                    <a:pt x="7947" y="5034"/>
                  </a:lnTo>
                  <a:lnTo>
                    <a:pt x="7945" y="5066"/>
                  </a:lnTo>
                  <a:lnTo>
                    <a:pt x="7939" y="5101"/>
                  </a:lnTo>
                  <a:lnTo>
                    <a:pt x="7933" y="5134"/>
                  </a:lnTo>
                  <a:lnTo>
                    <a:pt x="7926" y="5163"/>
                  </a:lnTo>
                  <a:lnTo>
                    <a:pt x="7915" y="5196"/>
                  </a:lnTo>
                  <a:lnTo>
                    <a:pt x="7905" y="5226"/>
                  </a:lnTo>
                  <a:lnTo>
                    <a:pt x="7891" y="5255"/>
                  </a:lnTo>
                  <a:lnTo>
                    <a:pt x="7988" y="5255"/>
                  </a:lnTo>
                  <a:lnTo>
                    <a:pt x="8039" y="5255"/>
                  </a:lnTo>
                  <a:lnTo>
                    <a:pt x="8090" y="5249"/>
                  </a:lnTo>
                  <a:lnTo>
                    <a:pt x="8142" y="5244"/>
                  </a:lnTo>
                  <a:lnTo>
                    <a:pt x="8190" y="5236"/>
                  </a:lnTo>
                  <a:lnTo>
                    <a:pt x="8241" y="5223"/>
                  </a:lnTo>
                  <a:lnTo>
                    <a:pt x="8287" y="5209"/>
                  </a:lnTo>
                  <a:lnTo>
                    <a:pt x="8336" y="5193"/>
                  </a:lnTo>
                  <a:lnTo>
                    <a:pt x="8382" y="5177"/>
                  </a:lnTo>
                  <a:lnTo>
                    <a:pt x="8425" y="5155"/>
                  </a:lnTo>
                  <a:lnTo>
                    <a:pt x="8471" y="5134"/>
                  </a:lnTo>
                  <a:lnTo>
                    <a:pt x="8511" y="5109"/>
                  </a:lnTo>
                  <a:lnTo>
                    <a:pt x="8552" y="5083"/>
                  </a:lnTo>
                  <a:lnTo>
                    <a:pt x="8593" y="5055"/>
                  </a:lnTo>
                  <a:lnTo>
                    <a:pt x="8630" y="5026"/>
                  </a:lnTo>
                  <a:lnTo>
                    <a:pt x="8668" y="4993"/>
                  </a:lnTo>
                  <a:lnTo>
                    <a:pt x="8703" y="4958"/>
                  </a:lnTo>
                  <a:lnTo>
                    <a:pt x="8736" y="4924"/>
                  </a:lnTo>
                  <a:lnTo>
                    <a:pt x="8768" y="4888"/>
                  </a:lnTo>
                  <a:lnTo>
                    <a:pt x="8798" y="4850"/>
                  </a:lnTo>
                  <a:lnTo>
                    <a:pt x="8828" y="4809"/>
                  </a:lnTo>
                  <a:lnTo>
                    <a:pt x="8851" y="4770"/>
                  </a:lnTo>
                  <a:lnTo>
                    <a:pt x="8876" y="4726"/>
                  </a:lnTo>
                  <a:lnTo>
                    <a:pt x="8900" y="4683"/>
                  </a:lnTo>
                  <a:lnTo>
                    <a:pt x="8918" y="4637"/>
                  </a:lnTo>
                  <a:lnTo>
                    <a:pt x="8938" y="4591"/>
                  </a:lnTo>
                  <a:lnTo>
                    <a:pt x="8954" y="4546"/>
                  </a:lnTo>
                  <a:lnTo>
                    <a:pt x="8968" y="4496"/>
                  </a:lnTo>
                  <a:lnTo>
                    <a:pt x="8978" y="4448"/>
                  </a:lnTo>
                  <a:lnTo>
                    <a:pt x="8987" y="4399"/>
                  </a:lnTo>
                  <a:lnTo>
                    <a:pt x="8994" y="4348"/>
                  </a:lnTo>
                  <a:lnTo>
                    <a:pt x="8998" y="4297"/>
                  </a:lnTo>
                  <a:lnTo>
                    <a:pt x="9000" y="4243"/>
                  </a:lnTo>
                  <a:lnTo>
                    <a:pt x="9008" y="4243"/>
                  </a:lnTo>
                  <a:lnTo>
                    <a:pt x="9000" y="4243"/>
                  </a:lnTo>
                  <a:lnTo>
                    <a:pt x="9000" y="4092"/>
                  </a:lnTo>
                  <a:close/>
                  <a:moveTo>
                    <a:pt x="1892" y="2668"/>
                  </a:moveTo>
                  <a:lnTo>
                    <a:pt x="1262" y="3423"/>
                  </a:lnTo>
                  <a:lnTo>
                    <a:pt x="1300" y="3445"/>
                  </a:lnTo>
                  <a:lnTo>
                    <a:pt x="1335" y="3469"/>
                  </a:lnTo>
                  <a:lnTo>
                    <a:pt x="1354" y="3485"/>
                  </a:lnTo>
                  <a:lnTo>
                    <a:pt x="1370" y="3501"/>
                  </a:lnTo>
                  <a:lnTo>
                    <a:pt x="1381" y="3517"/>
                  </a:lnTo>
                  <a:lnTo>
                    <a:pt x="1392" y="3536"/>
                  </a:lnTo>
                  <a:lnTo>
                    <a:pt x="1400" y="3574"/>
                  </a:lnTo>
                  <a:lnTo>
                    <a:pt x="1406" y="3607"/>
                  </a:lnTo>
                  <a:lnTo>
                    <a:pt x="1402" y="3623"/>
                  </a:lnTo>
                  <a:lnTo>
                    <a:pt x="1400" y="3639"/>
                  </a:lnTo>
                  <a:lnTo>
                    <a:pt x="1395" y="3653"/>
                  </a:lnTo>
                  <a:lnTo>
                    <a:pt x="1386" y="3664"/>
                  </a:lnTo>
                  <a:lnTo>
                    <a:pt x="1370" y="3676"/>
                  </a:lnTo>
                  <a:lnTo>
                    <a:pt x="1351" y="3688"/>
                  </a:lnTo>
                  <a:lnTo>
                    <a:pt x="1330" y="3693"/>
                  </a:lnTo>
                  <a:lnTo>
                    <a:pt x="1305" y="3693"/>
                  </a:lnTo>
                  <a:lnTo>
                    <a:pt x="1287" y="3693"/>
                  </a:lnTo>
                  <a:lnTo>
                    <a:pt x="1266" y="3690"/>
                  </a:lnTo>
                  <a:lnTo>
                    <a:pt x="1278" y="3709"/>
                  </a:lnTo>
                  <a:lnTo>
                    <a:pt x="1287" y="3728"/>
                  </a:lnTo>
                  <a:lnTo>
                    <a:pt x="1292" y="3750"/>
                  </a:lnTo>
                  <a:lnTo>
                    <a:pt x="1295" y="3771"/>
                  </a:lnTo>
                  <a:lnTo>
                    <a:pt x="1292" y="3793"/>
                  </a:lnTo>
                  <a:lnTo>
                    <a:pt x="1287" y="3814"/>
                  </a:lnTo>
                  <a:lnTo>
                    <a:pt x="1278" y="3828"/>
                  </a:lnTo>
                  <a:lnTo>
                    <a:pt x="1271" y="3842"/>
                  </a:lnTo>
                  <a:lnTo>
                    <a:pt x="1260" y="3853"/>
                  </a:lnTo>
                  <a:lnTo>
                    <a:pt x="1246" y="3863"/>
                  </a:lnTo>
                  <a:lnTo>
                    <a:pt x="1230" y="3871"/>
                  </a:lnTo>
                  <a:lnTo>
                    <a:pt x="1214" y="3876"/>
                  </a:lnTo>
                  <a:lnTo>
                    <a:pt x="1195" y="3881"/>
                  </a:lnTo>
                  <a:lnTo>
                    <a:pt x="1176" y="3881"/>
                  </a:lnTo>
                  <a:lnTo>
                    <a:pt x="1174" y="3881"/>
                  </a:lnTo>
                  <a:lnTo>
                    <a:pt x="1149" y="3881"/>
                  </a:lnTo>
                  <a:lnTo>
                    <a:pt x="1130" y="3876"/>
                  </a:lnTo>
                  <a:lnTo>
                    <a:pt x="1103" y="3869"/>
                  </a:lnTo>
                  <a:lnTo>
                    <a:pt x="1117" y="3888"/>
                  </a:lnTo>
                  <a:lnTo>
                    <a:pt x="1128" y="3909"/>
                  </a:lnTo>
                  <a:lnTo>
                    <a:pt x="1133" y="3930"/>
                  </a:lnTo>
                  <a:lnTo>
                    <a:pt x="1135" y="3952"/>
                  </a:lnTo>
                  <a:lnTo>
                    <a:pt x="1133" y="3971"/>
                  </a:lnTo>
                  <a:lnTo>
                    <a:pt x="1128" y="3989"/>
                  </a:lnTo>
                  <a:lnTo>
                    <a:pt x="1119" y="4003"/>
                  </a:lnTo>
                  <a:lnTo>
                    <a:pt x="1109" y="4017"/>
                  </a:lnTo>
                  <a:lnTo>
                    <a:pt x="1098" y="4028"/>
                  </a:lnTo>
                  <a:lnTo>
                    <a:pt x="1084" y="4038"/>
                  </a:lnTo>
                  <a:lnTo>
                    <a:pt x="1071" y="4047"/>
                  </a:lnTo>
                  <a:lnTo>
                    <a:pt x="1057" y="4052"/>
                  </a:lnTo>
                  <a:lnTo>
                    <a:pt x="1043" y="4054"/>
                  </a:lnTo>
                  <a:lnTo>
                    <a:pt x="1031" y="4058"/>
                  </a:lnTo>
                  <a:lnTo>
                    <a:pt x="1017" y="4058"/>
                  </a:lnTo>
                  <a:lnTo>
                    <a:pt x="1015" y="4058"/>
                  </a:lnTo>
                  <a:lnTo>
                    <a:pt x="995" y="4058"/>
                  </a:lnTo>
                  <a:lnTo>
                    <a:pt x="976" y="4054"/>
                  </a:lnTo>
                  <a:lnTo>
                    <a:pt x="958" y="4049"/>
                  </a:lnTo>
                  <a:lnTo>
                    <a:pt x="939" y="4040"/>
                  </a:lnTo>
                  <a:lnTo>
                    <a:pt x="930" y="4049"/>
                  </a:lnTo>
                  <a:lnTo>
                    <a:pt x="930" y="4065"/>
                  </a:lnTo>
                  <a:lnTo>
                    <a:pt x="928" y="4086"/>
                  </a:lnTo>
                  <a:lnTo>
                    <a:pt x="925" y="4109"/>
                  </a:lnTo>
                  <a:lnTo>
                    <a:pt x="914" y="4127"/>
                  </a:lnTo>
                  <a:lnTo>
                    <a:pt x="909" y="4138"/>
                  </a:lnTo>
                  <a:lnTo>
                    <a:pt x="901" y="4143"/>
                  </a:lnTo>
                  <a:lnTo>
                    <a:pt x="893" y="4152"/>
                  </a:lnTo>
                  <a:lnTo>
                    <a:pt x="884" y="4155"/>
                  </a:lnTo>
                  <a:lnTo>
                    <a:pt x="874" y="4160"/>
                  </a:lnTo>
                  <a:lnTo>
                    <a:pt x="863" y="4160"/>
                  </a:lnTo>
                  <a:lnTo>
                    <a:pt x="861" y="4160"/>
                  </a:lnTo>
                  <a:lnTo>
                    <a:pt x="847" y="4157"/>
                  </a:lnTo>
                  <a:lnTo>
                    <a:pt x="833" y="4155"/>
                  </a:lnTo>
                  <a:lnTo>
                    <a:pt x="820" y="4149"/>
                  </a:lnTo>
                  <a:lnTo>
                    <a:pt x="806" y="4141"/>
                  </a:lnTo>
                  <a:lnTo>
                    <a:pt x="774" y="4119"/>
                  </a:lnTo>
                  <a:lnTo>
                    <a:pt x="739" y="4086"/>
                  </a:lnTo>
                  <a:lnTo>
                    <a:pt x="712" y="4079"/>
                  </a:lnTo>
                  <a:lnTo>
                    <a:pt x="684" y="4065"/>
                  </a:lnTo>
                  <a:lnTo>
                    <a:pt x="656" y="4049"/>
                  </a:lnTo>
                  <a:lnTo>
                    <a:pt x="626" y="4030"/>
                  </a:lnTo>
                  <a:lnTo>
                    <a:pt x="594" y="4006"/>
                  </a:lnTo>
                  <a:lnTo>
                    <a:pt x="561" y="3976"/>
                  </a:lnTo>
                  <a:lnTo>
                    <a:pt x="528" y="3941"/>
                  </a:lnTo>
                  <a:lnTo>
                    <a:pt x="493" y="3904"/>
                  </a:lnTo>
                  <a:lnTo>
                    <a:pt x="483" y="3904"/>
                  </a:lnTo>
                  <a:lnTo>
                    <a:pt x="428" y="3906"/>
                  </a:lnTo>
                  <a:lnTo>
                    <a:pt x="231" y="3917"/>
                  </a:lnTo>
                  <a:lnTo>
                    <a:pt x="0" y="3925"/>
                  </a:lnTo>
                  <a:lnTo>
                    <a:pt x="0" y="4243"/>
                  </a:lnTo>
                  <a:lnTo>
                    <a:pt x="0" y="4297"/>
                  </a:lnTo>
                  <a:lnTo>
                    <a:pt x="5" y="4348"/>
                  </a:lnTo>
                  <a:lnTo>
                    <a:pt x="10" y="4399"/>
                  </a:lnTo>
                  <a:lnTo>
                    <a:pt x="21" y="4448"/>
                  </a:lnTo>
                  <a:lnTo>
                    <a:pt x="32" y="4496"/>
                  </a:lnTo>
                  <a:lnTo>
                    <a:pt x="46" y="4546"/>
                  </a:lnTo>
                  <a:lnTo>
                    <a:pt x="62" y="4591"/>
                  </a:lnTo>
                  <a:lnTo>
                    <a:pt x="78" y="4637"/>
                  </a:lnTo>
                  <a:lnTo>
                    <a:pt x="99" y="4683"/>
                  </a:lnTo>
                  <a:lnTo>
                    <a:pt x="121" y="4726"/>
                  </a:lnTo>
                  <a:lnTo>
                    <a:pt x="145" y="4770"/>
                  </a:lnTo>
                  <a:lnTo>
                    <a:pt x="172" y="4809"/>
                  </a:lnTo>
                  <a:lnTo>
                    <a:pt x="199" y="4850"/>
                  </a:lnTo>
                  <a:lnTo>
                    <a:pt x="231" y="4888"/>
                  </a:lnTo>
                  <a:lnTo>
                    <a:pt x="261" y="4924"/>
                  </a:lnTo>
                  <a:lnTo>
                    <a:pt x="297" y="4958"/>
                  </a:lnTo>
                  <a:lnTo>
                    <a:pt x="332" y="4993"/>
                  </a:lnTo>
                  <a:lnTo>
                    <a:pt x="366" y="5026"/>
                  </a:lnTo>
                  <a:lnTo>
                    <a:pt x="407" y="5055"/>
                  </a:lnTo>
                  <a:lnTo>
                    <a:pt x="445" y="5083"/>
                  </a:lnTo>
                  <a:lnTo>
                    <a:pt x="486" y="5109"/>
                  </a:lnTo>
                  <a:lnTo>
                    <a:pt x="528" y="5134"/>
                  </a:lnTo>
                  <a:lnTo>
                    <a:pt x="571" y="5155"/>
                  </a:lnTo>
                  <a:lnTo>
                    <a:pt x="617" y="5177"/>
                  </a:lnTo>
                  <a:lnTo>
                    <a:pt x="663" y="5193"/>
                  </a:lnTo>
                  <a:lnTo>
                    <a:pt x="709" y="5209"/>
                  </a:lnTo>
                  <a:lnTo>
                    <a:pt x="758" y="5223"/>
                  </a:lnTo>
                  <a:lnTo>
                    <a:pt x="806" y="5236"/>
                  </a:lnTo>
                  <a:lnTo>
                    <a:pt x="858" y="5244"/>
                  </a:lnTo>
                  <a:lnTo>
                    <a:pt x="907" y="5249"/>
                  </a:lnTo>
                  <a:lnTo>
                    <a:pt x="958" y="5255"/>
                  </a:lnTo>
                  <a:lnTo>
                    <a:pt x="1011" y="5255"/>
                  </a:lnTo>
                  <a:lnTo>
                    <a:pt x="1546" y="5255"/>
                  </a:lnTo>
                  <a:lnTo>
                    <a:pt x="1530" y="5228"/>
                  </a:lnTo>
                  <a:lnTo>
                    <a:pt x="1516" y="5198"/>
                  </a:lnTo>
                  <a:lnTo>
                    <a:pt x="1508" y="5166"/>
                  </a:lnTo>
                  <a:lnTo>
                    <a:pt x="1505" y="5129"/>
                  </a:lnTo>
                  <a:lnTo>
                    <a:pt x="1508" y="5093"/>
                  </a:lnTo>
                  <a:lnTo>
                    <a:pt x="1516" y="5060"/>
                  </a:lnTo>
                  <a:lnTo>
                    <a:pt x="1530" y="5028"/>
                  </a:lnTo>
                  <a:lnTo>
                    <a:pt x="1546" y="5002"/>
                  </a:lnTo>
                  <a:lnTo>
                    <a:pt x="1567" y="4980"/>
                  </a:lnTo>
                  <a:lnTo>
                    <a:pt x="1579" y="4972"/>
                  </a:lnTo>
                  <a:lnTo>
                    <a:pt x="1589" y="4963"/>
                  </a:lnTo>
                  <a:lnTo>
                    <a:pt x="1602" y="4956"/>
                  </a:lnTo>
                  <a:lnTo>
                    <a:pt x="1616" y="4952"/>
                  </a:lnTo>
                  <a:lnTo>
                    <a:pt x="1630" y="4950"/>
                  </a:lnTo>
                  <a:lnTo>
                    <a:pt x="1646" y="4947"/>
                  </a:lnTo>
                  <a:lnTo>
                    <a:pt x="2574" y="4947"/>
                  </a:lnTo>
                  <a:lnTo>
                    <a:pt x="2590" y="4950"/>
                  </a:lnTo>
                  <a:lnTo>
                    <a:pt x="2603" y="4952"/>
                  </a:lnTo>
                  <a:lnTo>
                    <a:pt x="2617" y="4956"/>
                  </a:lnTo>
                  <a:lnTo>
                    <a:pt x="2631" y="4963"/>
                  </a:lnTo>
                  <a:lnTo>
                    <a:pt x="2655" y="4980"/>
                  </a:lnTo>
                  <a:lnTo>
                    <a:pt x="2674" y="5002"/>
                  </a:lnTo>
                  <a:lnTo>
                    <a:pt x="2690" y="5028"/>
                  </a:lnTo>
                  <a:lnTo>
                    <a:pt x="2704" y="5060"/>
                  </a:lnTo>
                  <a:lnTo>
                    <a:pt x="2712" y="5093"/>
                  </a:lnTo>
                  <a:lnTo>
                    <a:pt x="2714" y="5129"/>
                  </a:lnTo>
                  <a:lnTo>
                    <a:pt x="2712" y="5166"/>
                  </a:lnTo>
                  <a:lnTo>
                    <a:pt x="2704" y="5198"/>
                  </a:lnTo>
                  <a:lnTo>
                    <a:pt x="2693" y="5228"/>
                  </a:lnTo>
                  <a:lnTo>
                    <a:pt x="2677" y="5255"/>
                  </a:lnTo>
                  <a:lnTo>
                    <a:pt x="3151" y="5255"/>
                  </a:lnTo>
                  <a:lnTo>
                    <a:pt x="3135" y="5228"/>
                  </a:lnTo>
                  <a:lnTo>
                    <a:pt x="3125" y="5198"/>
                  </a:lnTo>
                  <a:lnTo>
                    <a:pt x="3116" y="5166"/>
                  </a:lnTo>
                  <a:lnTo>
                    <a:pt x="3114" y="5129"/>
                  </a:lnTo>
                  <a:lnTo>
                    <a:pt x="3116" y="5093"/>
                  </a:lnTo>
                  <a:lnTo>
                    <a:pt x="3125" y="5060"/>
                  </a:lnTo>
                  <a:lnTo>
                    <a:pt x="3135" y="5028"/>
                  </a:lnTo>
                  <a:lnTo>
                    <a:pt x="3155" y="5002"/>
                  </a:lnTo>
                  <a:lnTo>
                    <a:pt x="3173" y="4980"/>
                  </a:lnTo>
                  <a:lnTo>
                    <a:pt x="3187" y="4972"/>
                  </a:lnTo>
                  <a:lnTo>
                    <a:pt x="3197" y="4963"/>
                  </a:lnTo>
                  <a:lnTo>
                    <a:pt x="3211" y="4956"/>
                  </a:lnTo>
                  <a:lnTo>
                    <a:pt x="3224" y="4952"/>
                  </a:lnTo>
                  <a:lnTo>
                    <a:pt x="3238" y="4950"/>
                  </a:lnTo>
                  <a:lnTo>
                    <a:pt x="3254" y="4947"/>
                  </a:lnTo>
                  <a:lnTo>
                    <a:pt x="4182" y="4947"/>
                  </a:lnTo>
                  <a:lnTo>
                    <a:pt x="4196" y="4950"/>
                  </a:lnTo>
                  <a:lnTo>
                    <a:pt x="4212" y="4952"/>
                  </a:lnTo>
                  <a:lnTo>
                    <a:pt x="4226" y="4956"/>
                  </a:lnTo>
                  <a:lnTo>
                    <a:pt x="4237" y="4963"/>
                  </a:lnTo>
                  <a:lnTo>
                    <a:pt x="4250" y="4972"/>
                  </a:lnTo>
                  <a:lnTo>
                    <a:pt x="4260" y="4980"/>
                  </a:lnTo>
                  <a:lnTo>
                    <a:pt x="4283" y="5002"/>
                  </a:lnTo>
                  <a:lnTo>
                    <a:pt x="4299" y="5028"/>
                  </a:lnTo>
                  <a:lnTo>
                    <a:pt x="4312" y="5060"/>
                  </a:lnTo>
                  <a:lnTo>
                    <a:pt x="4320" y="5093"/>
                  </a:lnTo>
                  <a:lnTo>
                    <a:pt x="4323" y="5129"/>
                  </a:lnTo>
                  <a:lnTo>
                    <a:pt x="4320" y="5166"/>
                  </a:lnTo>
                  <a:lnTo>
                    <a:pt x="4312" y="5198"/>
                  </a:lnTo>
                  <a:lnTo>
                    <a:pt x="4299" y="5228"/>
                  </a:lnTo>
                  <a:lnTo>
                    <a:pt x="4283" y="5255"/>
                  </a:lnTo>
                  <a:lnTo>
                    <a:pt x="5980" y="5255"/>
                  </a:lnTo>
                  <a:lnTo>
                    <a:pt x="5942" y="5209"/>
                  </a:lnTo>
                  <a:lnTo>
                    <a:pt x="5907" y="5161"/>
                  </a:lnTo>
                  <a:lnTo>
                    <a:pt x="5878" y="5106"/>
                  </a:lnTo>
                  <a:lnTo>
                    <a:pt x="5853" y="5053"/>
                  </a:lnTo>
                  <a:lnTo>
                    <a:pt x="5832" y="4993"/>
                  </a:lnTo>
                  <a:lnTo>
                    <a:pt x="5818" y="4931"/>
                  </a:lnTo>
                  <a:lnTo>
                    <a:pt x="5809" y="4869"/>
                  </a:lnTo>
                  <a:lnTo>
                    <a:pt x="5807" y="4804"/>
                  </a:lnTo>
                  <a:lnTo>
                    <a:pt x="5807" y="4772"/>
                  </a:lnTo>
                  <a:lnTo>
                    <a:pt x="5809" y="4737"/>
                  </a:lnTo>
                  <a:lnTo>
                    <a:pt x="5818" y="4673"/>
                  </a:lnTo>
                  <a:lnTo>
                    <a:pt x="5834" y="4611"/>
                  </a:lnTo>
                  <a:lnTo>
                    <a:pt x="5855" y="4551"/>
                  </a:lnTo>
                  <a:lnTo>
                    <a:pt x="5883" y="4494"/>
                  </a:lnTo>
                  <a:lnTo>
                    <a:pt x="5915" y="4440"/>
                  </a:lnTo>
                  <a:lnTo>
                    <a:pt x="5950" y="4389"/>
                  </a:lnTo>
                  <a:lnTo>
                    <a:pt x="5991" y="4343"/>
                  </a:lnTo>
                  <a:lnTo>
                    <a:pt x="6018" y="4319"/>
                  </a:lnTo>
                  <a:lnTo>
                    <a:pt x="6045" y="4295"/>
                  </a:lnTo>
                  <a:lnTo>
                    <a:pt x="6071" y="4273"/>
                  </a:lnTo>
                  <a:lnTo>
                    <a:pt x="6101" y="4254"/>
                  </a:lnTo>
                  <a:lnTo>
                    <a:pt x="5818" y="4206"/>
                  </a:lnTo>
                  <a:lnTo>
                    <a:pt x="5675" y="4181"/>
                  </a:lnTo>
                  <a:lnTo>
                    <a:pt x="5535" y="4152"/>
                  </a:lnTo>
                  <a:lnTo>
                    <a:pt x="5394" y="4125"/>
                  </a:lnTo>
                  <a:lnTo>
                    <a:pt x="5252" y="4092"/>
                  </a:lnTo>
                  <a:lnTo>
                    <a:pt x="5111" y="4060"/>
                  </a:lnTo>
                  <a:lnTo>
                    <a:pt x="4971" y="4024"/>
                  </a:lnTo>
                  <a:lnTo>
                    <a:pt x="4830" y="3989"/>
                  </a:lnTo>
                  <a:lnTo>
                    <a:pt x="4690" y="3952"/>
                  </a:lnTo>
                  <a:lnTo>
                    <a:pt x="4552" y="3911"/>
                  </a:lnTo>
                  <a:lnTo>
                    <a:pt x="4414" y="3871"/>
                  </a:lnTo>
                  <a:lnTo>
                    <a:pt x="4277" y="3828"/>
                  </a:lnTo>
                  <a:lnTo>
                    <a:pt x="4140" y="3782"/>
                  </a:lnTo>
                  <a:lnTo>
                    <a:pt x="4005" y="3736"/>
                  </a:lnTo>
                  <a:lnTo>
                    <a:pt x="3869" y="3688"/>
                  </a:lnTo>
                  <a:lnTo>
                    <a:pt x="3735" y="3639"/>
                  </a:lnTo>
                  <a:lnTo>
                    <a:pt x="3602" y="3588"/>
                  </a:lnTo>
                  <a:lnTo>
                    <a:pt x="3470" y="3534"/>
                  </a:lnTo>
                  <a:lnTo>
                    <a:pt x="3338" y="3478"/>
                  </a:lnTo>
                  <a:lnTo>
                    <a:pt x="3208" y="3420"/>
                  </a:lnTo>
                  <a:lnTo>
                    <a:pt x="3082" y="3361"/>
                  </a:lnTo>
                  <a:lnTo>
                    <a:pt x="2955" y="3299"/>
                  </a:lnTo>
                  <a:lnTo>
                    <a:pt x="2831" y="3237"/>
                  </a:lnTo>
                  <a:lnTo>
                    <a:pt x="2706" y="3172"/>
                  </a:lnTo>
                  <a:lnTo>
                    <a:pt x="2585" y="3107"/>
                  </a:lnTo>
                  <a:lnTo>
                    <a:pt x="2463" y="3038"/>
                  </a:lnTo>
                  <a:lnTo>
                    <a:pt x="2345" y="2967"/>
                  </a:lnTo>
                  <a:lnTo>
                    <a:pt x="2228" y="2895"/>
                  </a:lnTo>
                  <a:lnTo>
                    <a:pt x="2115" y="2822"/>
                  </a:lnTo>
                  <a:lnTo>
                    <a:pt x="2002" y="2746"/>
                  </a:lnTo>
                  <a:lnTo>
                    <a:pt x="1892" y="2668"/>
                  </a:lnTo>
                  <a:close/>
                  <a:moveTo>
                    <a:pt x="0" y="0"/>
                  </a:moveTo>
                  <a:lnTo>
                    <a:pt x="0" y="3432"/>
                  </a:lnTo>
                  <a:lnTo>
                    <a:pt x="302" y="3429"/>
                  </a:lnTo>
                  <a:lnTo>
                    <a:pt x="574" y="3423"/>
                  </a:lnTo>
                  <a:lnTo>
                    <a:pt x="590" y="3404"/>
                  </a:lnTo>
                  <a:lnTo>
                    <a:pt x="615" y="3386"/>
                  </a:lnTo>
                  <a:lnTo>
                    <a:pt x="647" y="3369"/>
                  </a:lnTo>
                  <a:lnTo>
                    <a:pt x="688" y="3353"/>
                  </a:lnTo>
                  <a:lnTo>
                    <a:pt x="730" y="3340"/>
                  </a:lnTo>
                  <a:lnTo>
                    <a:pt x="776" y="3331"/>
                  </a:lnTo>
                  <a:lnTo>
                    <a:pt x="822" y="3326"/>
                  </a:lnTo>
                  <a:lnTo>
                    <a:pt x="871" y="3324"/>
                  </a:lnTo>
                  <a:lnTo>
                    <a:pt x="925" y="3326"/>
                  </a:lnTo>
                  <a:lnTo>
                    <a:pt x="953" y="3329"/>
                  </a:lnTo>
                  <a:lnTo>
                    <a:pt x="976" y="3335"/>
                  </a:lnTo>
                  <a:lnTo>
                    <a:pt x="1621" y="2598"/>
                  </a:lnTo>
                  <a:lnTo>
                    <a:pt x="1540" y="2598"/>
                  </a:lnTo>
                  <a:lnTo>
                    <a:pt x="1438" y="2598"/>
                  </a:lnTo>
                  <a:lnTo>
                    <a:pt x="1354" y="2601"/>
                  </a:lnTo>
                  <a:lnTo>
                    <a:pt x="1273" y="2603"/>
                  </a:lnTo>
                  <a:lnTo>
                    <a:pt x="1171" y="2603"/>
                  </a:lnTo>
                  <a:lnTo>
                    <a:pt x="1079" y="2603"/>
                  </a:lnTo>
                  <a:lnTo>
                    <a:pt x="1079" y="2571"/>
                  </a:lnTo>
                  <a:lnTo>
                    <a:pt x="1171" y="2571"/>
                  </a:lnTo>
                  <a:lnTo>
                    <a:pt x="1273" y="2571"/>
                  </a:lnTo>
                  <a:lnTo>
                    <a:pt x="1354" y="2568"/>
                  </a:lnTo>
                  <a:lnTo>
                    <a:pt x="1436" y="2566"/>
                  </a:lnTo>
                  <a:lnTo>
                    <a:pt x="1540" y="2566"/>
                  </a:lnTo>
                  <a:lnTo>
                    <a:pt x="1627" y="2566"/>
                  </a:lnTo>
                  <a:lnTo>
                    <a:pt x="1648" y="2566"/>
                  </a:lnTo>
                  <a:lnTo>
                    <a:pt x="1692" y="2517"/>
                  </a:lnTo>
                  <a:lnTo>
                    <a:pt x="1613" y="2455"/>
                  </a:lnTo>
                  <a:lnTo>
                    <a:pt x="1538" y="2393"/>
                  </a:lnTo>
                  <a:lnTo>
                    <a:pt x="1462" y="2331"/>
                  </a:lnTo>
                  <a:lnTo>
                    <a:pt x="1390" y="2266"/>
                  </a:lnTo>
                  <a:lnTo>
                    <a:pt x="1319" y="2198"/>
                  </a:lnTo>
                  <a:lnTo>
                    <a:pt x="1246" y="2131"/>
                  </a:lnTo>
                  <a:lnTo>
                    <a:pt x="1179" y="2064"/>
                  </a:lnTo>
                  <a:lnTo>
                    <a:pt x="1112" y="1997"/>
                  </a:lnTo>
                  <a:lnTo>
                    <a:pt x="1043" y="1926"/>
                  </a:lnTo>
                  <a:lnTo>
                    <a:pt x="979" y="1854"/>
                  </a:lnTo>
                  <a:lnTo>
                    <a:pt x="917" y="1781"/>
                  </a:lnTo>
                  <a:lnTo>
                    <a:pt x="855" y="1707"/>
                  </a:lnTo>
                  <a:lnTo>
                    <a:pt x="796" y="1633"/>
                  </a:lnTo>
                  <a:lnTo>
                    <a:pt x="736" y="1557"/>
                  </a:lnTo>
                  <a:lnTo>
                    <a:pt x="679" y="1481"/>
                  </a:lnTo>
                  <a:lnTo>
                    <a:pt x="626" y="1403"/>
                  </a:lnTo>
                  <a:lnTo>
                    <a:pt x="571" y="1325"/>
                  </a:lnTo>
                  <a:lnTo>
                    <a:pt x="520" y="1244"/>
                  </a:lnTo>
                  <a:lnTo>
                    <a:pt x="472" y="1163"/>
                  </a:lnTo>
                  <a:lnTo>
                    <a:pt x="423" y="1079"/>
                  </a:lnTo>
                  <a:lnTo>
                    <a:pt x="377" y="995"/>
                  </a:lnTo>
                  <a:lnTo>
                    <a:pt x="332" y="912"/>
                  </a:lnTo>
                  <a:lnTo>
                    <a:pt x="291" y="825"/>
                  </a:lnTo>
                  <a:lnTo>
                    <a:pt x="251" y="740"/>
                  </a:lnTo>
                  <a:lnTo>
                    <a:pt x="212" y="650"/>
                  </a:lnTo>
                  <a:lnTo>
                    <a:pt x="175" y="562"/>
                  </a:lnTo>
                  <a:lnTo>
                    <a:pt x="140" y="472"/>
                  </a:lnTo>
                  <a:lnTo>
                    <a:pt x="108" y="381"/>
                  </a:lnTo>
                  <a:lnTo>
                    <a:pt x="78" y="286"/>
                  </a:lnTo>
                  <a:lnTo>
                    <a:pt x="51" y="192"/>
                  </a:lnTo>
                  <a:lnTo>
                    <a:pt x="24" y="9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a973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8" name=""/>
            <p:cNvSpPr/>
            <p:nvPr/>
          </p:nvSpPr>
          <p:spPr>
            <a:xfrm>
              <a:off x="1144800" y="2738160"/>
              <a:ext cx="1455480" cy="804960"/>
            </a:xfrm>
            <a:custGeom>
              <a:avLst/>
              <a:gdLst/>
              <a:ahLst/>
              <a:rect l="l" t="t" r="r" b="b"/>
              <a:pathLst>
                <a:path w="9017" h="5295">
                  <a:moveTo>
                    <a:pt x="3160" y="5287"/>
                  </a:moveTo>
                  <a:lnTo>
                    <a:pt x="2686" y="5287"/>
                  </a:lnTo>
                  <a:lnTo>
                    <a:pt x="2683" y="5290"/>
                  </a:lnTo>
                  <a:lnTo>
                    <a:pt x="2677" y="5295"/>
                  </a:lnTo>
                  <a:lnTo>
                    <a:pt x="3169" y="5295"/>
                  </a:lnTo>
                  <a:lnTo>
                    <a:pt x="3164" y="5290"/>
                  </a:lnTo>
                  <a:lnTo>
                    <a:pt x="3160" y="5287"/>
                  </a:lnTo>
                  <a:close/>
                  <a:moveTo>
                    <a:pt x="5989" y="5287"/>
                  </a:moveTo>
                  <a:lnTo>
                    <a:pt x="4292" y="5287"/>
                  </a:lnTo>
                  <a:lnTo>
                    <a:pt x="4292" y="5290"/>
                  </a:lnTo>
                  <a:lnTo>
                    <a:pt x="4286" y="5295"/>
                  </a:lnTo>
                  <a:lnTo>
                    <a:pt x="5997" y="5295"/>
                  </a:lnTo>
                  <a:lnTo>
                    <a:pt x="5989" y="5287"/>
                  </a:lnTo>
                  <a:close/>
                  <a:moveTo>
                    <a:pt x="9017" y="4275"/>
                  </a:moveTo>
                  <a:lnTo>
                    <a:pt x="9009" y="4275"/>
                  </a:lnTo>
                  <a:lnTo>
                    <a:pt x="9007" y="4329"/>
                  </a:lnTo>
                  <a:lnTo>
                    <a:pt x="9003" y="4380"/>
                  </a:lnTo>
                  <a:lnTo>
                    <a:pt x="8996" y="4431"/>
                  </a:lnTo>
                  <a:lnTo>
                    <a:pt x="8987" y="4480"/>
                  </a:lnTo>
                  <a:lnTo>
                    <a:pt x="8977" y="4528"/>
                  </a:lnTo>
                  <a:lnTo>
                    <a:pt x="8963" y="4578"/>
                  </a:lnTo>
                  <a:lnTo>
                    <a:pt x="8947" y="4623"/>
                  </a:lnTo>
                  <a:lnTo>
                    <a:pt x="8927" y="4669"/>
                  </a:lnTo>
                  <a:lnTo>
                    <a:pt x="8909" y="4715"/>
                  </a:lnTo>
                  <a:lnTo>
                    <a:pt x="8885" y="4758"/>
                  </a:lnTo>
                  <a:lnTo>
                    <a:pt x="8860" y="4802"/>
                  </a:lnTo>
                  <a:lnTo>
                    <a:pt x="8837" y="4841"/>
                  </a:lnTo>
                  <a:lnTo>
                    <a:pt x="8807" y="4882"/>
                  </a:lnTo>
                  <a:lnTo>
                    <a:pt x="8777" y="4920"/>
                  </a:lnTo>
                  <a:lnTo>
                    <a:pt x="8745" y="4956"/>
                  </a:lnTo>
                  <a:lnTo>
                    <a:pt x="8712" y="4990"/>
                  </a:lnTo>
                  <a:lnTo>
                    <a:pt x="8677" y="5025"/>
                  </a:lnTo>
                  <a:lnTo>
                    <a:pt x="8639" y="5058"/>
                  </a:lnTo>
                  <a:lnTo>
                    <a:pt x="8602" y="5087"/>
                  </a:lnTo>
                  <a:lnTo>
                    <a:pt x="8561" y="5115"/>
                  </a:lnTo>
                  <a:lnTo>
                    <a:pt x="8520" y="5141"/>
                  </a:lnTo>
                  <a:lnTo>
                    <a:pt x="8480" y="5166"/>
                  </a:lnTo>
                  <a:lnTo>
                    <a:pt x="8434" y="5187"/>
                  </a:lnTo>
                  <a:lnTo>
                    <a:pt x="8391" y="5209"/>
                  </a:lnTo>
                  <a:lnTo>
                    <a:pt x="8345" y="5225"/>
                  </a:lnTo>
                  <a:lnTo>
                    <a:pt x="8296" y="5241"/>
                  </a:lnTo>
                  <a:lnTo>
                    <a:pt x="8250" y="5255"/>
                  </a:lnTo>
                  <a:lnTo>
                    <a:pt x="8199" y="5268"/>
                  </a:lnTo>
                  <a:lnTo>
                    <a:pt x="8151" y="5276"/>
                  </a:lnTo>
                  <a:lnTo>
                    <a:pt x="8099" y="5281"/>
                  </a:lnTo>
                  <a:lnTo>
                    <a:pt x="8048" y="5287"/>
                  </a:lnTo>
                  <a:lnTo>
                    <a:pt x="7997" y="5287"/>
                  </a:lnTo>
                  <a:lnTo>
                    <a:pt x="7900" y="5287"/>
                  </a:lnTo>
                  <a:lnTo>
                    <a:pt x="7896" y="5295"/>
                  </a:lnTo>
                  <a:lnTo>
                    <a:pt x="7997" y="5295"/>
                  </a:lnTo>
                  <a:lnTo>
                    <a:pt x="8048" y="5295"/>
                  </a:lnTo>
                  <a:lnTo>
                    <a:pt x="8102" y="5290"/>
                  </a:lnTo>
                  <a:lnTo>
                    <a:pt x="8153" y="5284"/>
                  </a:lnTo>
                  <a:lnTo>
                    <a:pt x="8202" y="5274"/>
                  </a:lnTo>
                  <a:lnTo>
                    <a:pt x="8250" y="5263"/>
                  </a:lnTo>
                  <a:lnTo>
                    <a:pt x="8299" y="5249"/>
                  </a:lnTo>
                  <a:lnTo>
                    <a:pt x="8347" y="5233"/>
                  </a:lnTo>
                  <a:lnTo>
                    <a:pt x="8393" y="5214"/>
                  </a:lnTo>
                  <a:lnTo>
                    <a:pt x="8439" y="5195"/>
                  </a:lnTo>
                  <a:lnTo>
                    <a:pt x="8483" y="5173"/>
                  </a:lnTo>
                  <a:lnTo>
                    <a:pt x="8526" y="5147"/>
                  </a:lnTo>
                  <a:lnTo>
                    <a:pt x="8566" y="5122"/>
                  </a:lnTo>
                  <a:lnTo>
                    <a:pt x="8607" y="5092"/>
                  </a:lnTo>
                  <a:lnTo>
                    <a:pt x="8644" y="5063"/>
                  </a:lnTo>
                  <a:lnTo>
                    <a:pt x="8683" y="5030"/>
                  </a:lnTo>
                  <a:lnTo>
                    <a:pt x="8717" y="4998"/>
                  </a:lnTo>
                  <a:lnTo>
                    <a:pt x="8752" y="4961"/>
                  </a:lnTo>
                  <a:lnTo>
                    <a:pt x="8782" y="4926"/>
                  </a:lnTo>
                  <a:lnTo>
                    <a:pt x="8814" y="4885"/>
                  </a:lnTo>
                  <a:lnTo>
                    <a:pt x="8842" y="4847"/>
                  </a:lnTo>
                  <a:lnTo>
                    <a:pt x="8869" y="4804"/>
                  </a:lnTo>
                  <a:lnTo>
                    <a:pt x="8893" y="4763"/>
                  </a:lnTo>
                  <a:lnTo>
                    <a:pt x="8915" y="4717"/>
                  </a:lnTo>
                  <a:lnTo>
                    <a:pt x="8936" y="4672"/>
                  </a:lnTo>
                  <a:lnTo>
                    <a:pt x="8955" y="4626"/>
                  </a:lnTo>
                  <a:lnTo>
                    <a:pt x="8971" y="4580"/>
                  </a:lnTo>
                  <a:lnTo>
                    <a:pt x="8984" y="4532"/>
                  </a:lnTo>
                  <a:lnTo>
                    <a:pt x="8996" y="4483"/>
                  </a:lnTo>
                  <a:lnTo>
                    <a:pt x="9003" y="4431"/>
                  </a:lnTo>
                  <a:lnTo>
                    <a:pt x="9012" y="4380"/>
                  </a:lnTo>
                  <a:lnTo>
                    <a:pt x="9014" y="4329"/>
                  </a:lnTo>
                  <a:lnTo>
                    <a:pt x="9017" y="4275"/>
                  </a:lnTo>
                  <a:close/>
                  <a:moveTo>
                    <a:pt x="9017" y="4122"/>
                  </a:moveTo>
                  <a:lnTo>
                    <a:pt x="9009" y="4124"/>
                  </a:lnTo>
                  <a:lnTo>
                    <a:pt x="9009" y="4275"/>
                  </a:lnTo>
                  <a:lnTo>
                    <a:pt x="9017" y="4275"/>
                  </a:lnTo>
                  <a:lnTo>
                    <a:pt x="9017" y="4122"/>
                  </a:lnTo>
                  <a:close/>
                  <a:moveTo>
                    <a:pt x="9" y="3957"/>
                  </a:moveTo>
                  <a:lnTo>
                    <a:pt x="0" y="3957"/>
                  </a:lnTo>
                  <a:lnTo>
                    <a:pt x="0" y="4275"/>
                  </a:lnTo>
                  <a:lnTo>
                    <a:pt x="3" y="4329"/>
                  </a:lnTo>
                  <a:lnTo>
                    <a:pt x="5" y="4380"/>
                  </a:lnTo>
                  <a:lnTo>
                    <a:pt x="11" y="4431"/>
                  </a:lnTo>
                  <a:lnTo>
                    <a:pt x="21" y="4483"/>
                  </a:lnTo>
                  <a:lnTo>
                    <a:pt x="33" y="4532"/>
                  </a:lnTo>
                  <a:lnTo>
                    <a:pt x="46" y="4580"/>
                  </a:lnTo>
                  <a:lnTo>
                    <a:pt x="62" y="4626"/>
                  </a:lnTo>
                  <a:lnTo>
                    <a:pt x="81" y="4672"/>
                  </a:lnTo>
                  <a:lnTo>
                    <a:pt x="101" y="4717"/>
                  </a:lnTo>
                  <a:lnTo>
                    <a:pt x="124" y="4763"/>
                  </a:lnTo>
                  <a:lnTo>
                    <a:pt x="149" y="4804"/>
                  </a:lnTo>
                  <a:lnTo>
                    <a:pt x="175" y="4847"/>
                  </a:lnTo>
                  <a:lnTo>
                    <a:pt x="203" y="4885"/>
                  </a:lnTo>
                  <a:lnTo>
                    <a:pt x="233" y="4926"/>
                  </a:lnTo>
                  <a:lnTo>
                    <a:pt x="265" y="4961"/>
                  </a:lnTo>
                  <a:lnTo>
                    <a:pt x="300" y="4998"/>
                  </a:lnTo>
                  <a:lnTo>
                    <a:pt x="335" y="5030"/>
                  </a:lnTo>
                  <a:lnTo>
                    <a:pt x="373" y="5063"/>
                  </a:lnTo>
                  <a:lnTo>
                    <a:pt x="410" y="5092"/>
                  </a:lnTo>
                  <a:lnTo>
                    <a:pt x="451" y="5122"/>
                  </a:lnTo>
                  <a:lnTo>
                    <a:pt x="492" y="5147"/>
                  </a:lnTo>
                  <a:lnTo>
                    <a:pt x="534" y="5173"/>
                  </a:lnTo>
                  <a:lnTo>
                    <a:pt x="578" y="5195"/>
                  </a:lnTo>
                  <a:lnTo>
                    <a:pt x="624" y="5214"/>
                  </a:lnTo>
                  <a:lnTo>
                    <a:pt x="670" y="5233"/>
                  </a:lnTo>
                  <a:lnTo>
                    <a:pt x="716" y="5249"/>
                  </a:lnTo>
                  <a:lnTo>
                    <a:pt x="764" y="5263"/>
                  </a:lnTo>
                  <a:lnTo>
                    <a:pt x="815" y="5274"/>
                  </a:lnTo>
                  <a:lnTo>
                    <a:pt x="864" y="5284"/>
                  </a:lnTo>
                  <a:lnTo>
                    <a:pt x="916" y="5290"/>
                  </a:lnTo>
                  <a:lnTo>
                    <a:pt x="967" y="5295"/>
                  </a:lnTo>
                  <a:lnTo>
                    <a:pt x="1020" y="5295"/>
                  </a:lnTo>
                  <a:lnTo>
                    <a:pt x="1560" y="5295"/>
                  </a:lnTo>
                  <a:lnTo>
                    <a:pt x="1555" y="5290"/>
                  </a:lnTo>
                  <a:lnTo>
                    <a:pt x="1555" y="5287"/>
                  </a:lnTo>
                  <a:lnTo>
                    <a:pt x="1020" y="5287"/>
                  </a:lnTo>
                  <a:lnTo>
                    <a:pt x="967" y="5287"/>
                  </a:lnTo>
                  <a:lnTo>
                    <a:pt x="916" y="5281"/>
                  </a:lnTo>
                  <a:lnTo>
                    <a:pt x="867" y="5276"/>
                  </a:lnTo>
                  <a:lnTo>
                    <a:pt x="815" y="5268"/>
                  </a:lnTo>
                  <a:lnTo>
                    <a:pt x="767" y="5255"/>
                  </a:lnTo>
                  <a:lnTo>
                    <a:pt x="718" y="5241"/>
                  </a:lnTo>
                  <a:lnTo>
                    <a:pt x="672" y="5225"/>
                  </a:lnTo>
                  <a:lnTo>
                    <a:pt x="626" y="5209"/>
                  </a:lnTo>
                  <a:lnTo>
                    <a:pt x="580" y="5187"/>
                  </a:lnTo>
                  <a:lnTo>
                    <a:pt x="537" y="5166"/>
                  </a:lnTo>
                  <a:lnTo>
                    <a:pt x="495" y="5141"/>
                  </a:lnTo>
                  <a:lnTo>
                    <a:pt x="454" y="5115"/>
                  </a:lnTo>
                  <a:lnTo>
                    <a:pt x="416" y="5087"/>
                  </a:lnTo>
                  <a:lnTo>
                    <a:pt x="375" y="5058"/>
                  </a:lnTo>
                  <a:lnTo>
                    <a:pt x="341" y="5025"/>
                  </a:lnTo>
                  <a:lnTo>
                    <a:pt x="306" y="4990"/>
                  </a:lnTo>
                  <a:lnTo>
                    <a:pt x="270" y="4956"/>
                  </a:lnTo>
                  <a:lnTo>
                    <a:pt x="240" y="4920"/>
                  </a:lnTo>
                  <a:lnTo>
                    <a:pt x="208" y="4882"/>
                  </a:lnTo>
                  <a:lnTo>
                    <a:pt x="181" y="4841"/>
                  </a:lnTo>
                  <a:lnTo>
                    <a:pt x="154" y="4802"/>
                  </a:lnTo>
                  <a:lnTo>
                    <a:pt x="130" y="4758"/>
                  </a:lnTo>
                  <a:lnTo>
                    <a:pt x="108" y="4715"/>
                  </a:lnTo>
                  <a:lnTo>
                    <a:pt x="87" y="4669"/>
                  </a:lnTo>
                  <a:lnTo>
                    <a:pt x="71" y="4623"/>
                  </a:lnTo>
                  <a:lnTo>
                    <a:pt x="55" y="4578"/>
                  </a:lnTo>
                  <a:lnTo>
                    <a:pt x="41" y="4528"/>
                  </a:lnTo>
                  <a:lnTo>
                    <a:pt x="30" y="4480"/>
                  </a:lnTo>
                  <a:lnTo>
                    <a:pt x="19" y="4431"/>
                  </a:lnTo>
                  <a:lnTo>
                    <a:pt x="14" y="4380"/>
                  </a:lnTo>
                  <a:lnTo>
                    <a:pt x="9" y="4329"/>
                  </a:lnTo>
                  <a:lnTo>
                    <a:pt x="9" y="4275"/>
                  </a:lnTo>
                  <a:lnTo>
                    <a:pt x="9" y="3957"/>
                  </a:lnTo>
                  <a:close/>
                  <a:moveTo>
                    <a:pt x="0" y="0"/>
                  </a:moveTo>
                  <a:lnTo>
                    <a:pt x="0" y="3464"/>
                  </a:lnTo>
                  <a:lnTo>
                    <a:pt x="9" y="3464"/>
                  </a:lnTo>
                  <a:lnTo>
                    <a:pt x="9" y="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038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1319400" y="2695320"/>
              <a:ext cx="1089000" cy="22320"/>
            </a:xfrm>
            <a:custGeom>
              <a:avLst/>
              <a:gdLst/>
              <a:ahLst/>
              <a:rect l="l" t="t" r="r" b="b"/>
              <a:pathLst>
                <a:path w="6743" h="147">
                  <a:moveTo>
                    <a:pt x="0" y="39"/>
                  </a:moveTo>
                  <a:lnTo>
                    <a:pt x="131" y="39"/>
                  </a:lnTo>
                  <a:lnTo>
                    <a:pt x="247" y="39"/>
                  </a:lnTo>
                  <a:lnTo>
                    <a:pt x="339" y="36"/>
                  </a:lnTo>
                  <a:lnTo>
                    <a:pt x="431" y="36"/>
                  </a:lnTo>
                  <a:lnTo>
                    <a:pt x="544" y="33"/>
                  </a:lnTo>
                  <a:lnTo>
                    <a:pt x="674" y="36"/>
                  </a:lnTo>
                  <a:lnTo>
                    <a:pt x="785" y="36"/>
                  </a:lnTo>
                  <a:lnTo>
                    <a:pt x="874" y="41"/>
                  </a:lnTo>
                  <a:lnTo>
                    <a:pt x="1008" y="52"/>
                  </a:lnTo>
                  <a:lnTo>
                    <a:pt x="1146" y="60"/>
                  </a:lnTo>
                  <a:lnTo>
                    <a:pt x="1236" y="65"/>
                  </a:lnTo>
                  <a:lnTo>
                    <a:pt x="1349" y="65"/>
                  </a:lnTo>
                  <a:lnTo>
                    <a:pt x="2021" y="74"/>
                  </a:lnTo>
                  <a:lnTo>
                    <a:pt x="2134" y="76"/>
                  </a:lnTo>
                  <a:lnTo>
                    <a:pt x="2221" y="81"/>
                  </a:lnTo>
                  <a:lnTo>
                    <a:pt x="2293" y="90"/>
                  </a:lnTo>
                  <a:lnTo>
                    <a:pt x="2355" y="95"/>
                  </a:lnTo>
                  <a:lnTo>
                    <a:pt x="2421" y="103"/>
                  </a:lnTo>
                  <a:lnTo>
                    <a:pt x="2493" y="111"/>
                  </a:lnTo>
                  <a:lnTo>
                    <a:pt x="2582" y="117"/>
                  </a:lnTo>
                  <a:lnTo>
                    <a:pt x="2695" y="120"/>
                  </a:lnTo>
                  <a:lnTo>
                    <a:pt x="2728" y="120"/>
                  </a:lnTo>
                  <a:lnTo>
                    <a:pt x="2828" y="117"/>
                  </a:lnTo>
                  <a:lnTo>
                    <a:pt x="2909" y="111"/>
                  </a:lnTo>
                  <a:lnTo>
                    <a:pt x="2976" y="103"/>
                  </a:lnTo>
                  <a:lnTo>
                    <a:pt x="3036" y="95"/>
                  </a:lnTo>
                  <a:lnTo>
                    <a:pt x="3095" y="85"/>
                  </a:lnTo>
                  <a:lnTo>
                    <a:pt x="3162" y="76"/>
                  </a:lnTo>
                  <a:lnTo>
                    <a:pt x="3241" y="71"/>
                  </a:lnTo>
                  <a:lnTo>
                    <a:pt x="3337" y="71"/>
                  </a:lnTo>
                  <a:lnTo>
                    <a:pt x="3370" y="71"/>
                  </a:lnTo>
                  <a:lnTo>
                    <a:pt x="3480" y="74"/>
                  </a:lnTo>
                  <a:lnTo>
                    <a:pt x="3570" y="79"/>
                  </a:lnTo>
                  <a:lnTo>
                    <a:pt x="3640" y="87"/>
                  </a:lnTo>
                  <a:lnTo>
                    <a:pt x="3705" y="95"/>
                  </a:lnTo>
                  <a:lnTo>
                    <a:pt x="3770" y="103"/>
                  </a:lnTo>
                  <a:lnTo>
                    <a:pt x="3843" y="111"/>
                  </a:lnTo>
                  <a:lnTo>
                    <a:pt x="3931" y="117"/>
                  </a:lnTo>
                  <a:lnTo>
                    <a:pt x="4044" y="120"/>
                  </a:lnTo>
                  <a:lnTo>
                    <a:pt x="4716" y="127"/>
                  </a:lnTo>
                  <a:lnTo>
                    <a:pt x="4752" y="127"/>
                  </a:lnTo>
                  <a:lnTo>
                    <a:pt x="4852" y="125"/>
                  </a:lnTo>
                  <a:lnTo>
                    <a:pt x="4930" y="120"/>
                  </a:lnTo>
                  <a:lnTo>
                    <a:pt x="4997" y="111"/>
                  </a:lnTo>
                  <a:lnTo>
                    <a:pt x="5057" y="103"/>
                  </a:lnTo>
                  <a:lnTo>
                    <a:pt x="5116" y="95"/>
                  </a:lnTo>
                  <a:lnTo>
                    <a:pt x="5183" y="87"/>
                  </a:lnTo>
                  <a:lnTo>
                    <a:pt x="5259" y="85"/>
                  </a:lnTo>
                  <a:lnTo>
                    <a:pt x="5356" y="81"/>
                  </a:lnTo>
                  <a:lnTo>
                    <a:pt x="5392" y="81"/>
                  </a:lnTo>
                  <a:lnTo>
                    <a:pt x="5505" y="85"/>
                  </a:lnTo>
                  <a:lnTo>
                    <a:pt x="5591" y="92"/>
                  </a:lnTo>
                  <a:lnTo>
                    <a:pt x="5664" y="101"/>
                  </a:lnTo>
                  <a:lnTo>
                    <a:pt x="5726" y="111"/>
                  </a:lnTo>
                  <a:lnTo>
                    <a:pt x="5791" y="122"/>
                  </a:lnTo>
                  <a:lnTo>
                    <a:pt x="5864" y="131"/>
                  </a:lnTo>
                  <a:lnTo>
                    <a:pt x="5956" y="138"/>
                  </a:lnTo>
                  <a:lnTo>
                    <a:pt x="6066" y="141"/>
                  </a:lnTo>
                  <a:lnTo>
                    <a:pt x="6403" y="143"/>
                  </a:lnTo>
                  <a:lnTo>
                    <a:pt x="6741" y="147"/>
                  </a:lnTo>
                  <a:lnTo>
                    <a:pt x="6743" y="113"/>
                  </a:lnTo>
                  <a:lnTo>
                    <a:pt x="6403" y="111"/>
                  </a:lnTo>
                  <a:lnTo>
                    <a:pt x="6066" y="108"/>
                  </a:lnTo>
                  <a:lnTo>
                    <a:pt x="5956" y="106"/>
                  </a:lnTo>
                  <a:lnTo>
                    <a:pt x="5869" y="97"/>
                  </a:lnTo>
                  <a:lnTo>
                    <a:pt x="5797" y="90"/>
                  </a:lnTo>
                  <a:lnTo>
                    <a:pt x="5731" y="79"/>
                  </a:lnTo>
                  <a:lnTo>
                    <a:pt x="5666" y="69"/>
                  </a:lnTo>
                  <a:lnTo>
                    <a:pt x="5594" y="60"/>
                  </a:lnTo>
                  <a:lnTo>
                    <a:pt x="5505" y="52"/>
                  </a:lnTo>
                  <a:lnTo>
                    <a:pt x="5392" y="49"/>
                  </a:lnTo>
                  <a:lnTo>
                    <a:pt x="5356" y="49"/>
                  </a:lnTo>
                  <a:lnTo>
                    <a:pt x="5259" y="52"/>
                  </a:lnTo>
                  <a:lnTo>
                    <a:pt x="5178" y="57"/>
                  </a:lnTo>
                  <a:lnTo>
                    <a:pt x="5114" y="62"/>
                  </a:lnTo>
                  <a:lnTo>
                    <a:pt x="5051" y="71"/>
                  </a:lnTo>
                  <a:lnTo>
                    <a:pt x="4992" y="79"/>
                  </a:lnTo>
                  <a:lnTo>
                    <a:pt x="4927" y="87"/>
                  </a:lnTo>
                  <a:lnTo>
                    <a:pt x="4849" y="92"/>
                  </a:lnTo>
                  <a:lnTo>
                    <a:pt x="4752" y="95"/>
                  </a:lnTo>
                  <a:lnTo>
                    <a:pt x="4716" y="95"/>
                  </a:lnTo>
                  <a:lnTo>
                    <a:pt x="4044" y="87"/>
                  </a:lnTo>
                  <a:lnTo>
                    <a:pt x="3931" y="85"/>
                  </a:lnTo>
                  <a:lnTo>
                    <a:pt x="3845" y="79"/>
                  </a:lnTo>
                  <a:lnTo>
                    <a:pt x="3772" y="71"/>
                  </a:lnTo>
                  <a:lnTo>
                    <a:pt x="3710" y="62"/>
                  </a:lnTo>
                  <a:lnTo>
                    <a:pt x="3645" y="55"/>
                  </a:lnTo>
                  <a:lnTo>
                    <a:pt x="3572" y="46"/>
                  </a:lnTo>
                  <a:lnTo>
                    <a:pt x="3484" y="41"/>
                  </a:lnTo>
                  <a:lnTo>
                    <a:pt x="3370" y="39"/>
                  </a:lnTo>
                  <a:lnTo>
                    <a:pt x="3337" y="39"/>
                  </a:lnTo>
                  <a:lnTo>
                    <a:pt x="3238" y="39"/>
                  </a:lnTo>
                  <a:lnTo>
                    <a:pt x="3160" y="46"/>
                  </a:lnTo>
                  <a:lnTo>
                    <a:pt x="3093" y="55"/>
                  </a:lnTo>
                  <a:lnTo>
                    <a:pt x="3029" y="62"/>
                  </a:lnTo>
                  <a:lnTo>
                    <a:pt x="2971" y="71"/>
                  </a:lnTo>
                  <a:lnTo>
                    <a:pt x="2906" y="79"/>
                  </a:lnTo>
                  <a:lnTo>
                    <a:pt x="2825" y="85"/>
                  </a:lnTo>
                  <a:lnTo>
                    <a:pt x="2728" y="87"/>
                  </a:lnTo>
                  <a:lnTo>
                    <a:pt x="2695" y="87"/>
                  </a:lnTo>
                  <a:lnTo>
                    <a:pt x="2585" y="85"/>
                  </a:lnTo>
                  <a:lnTo>
                    <a:pt x="2495" y="79"/>
                  </a:lnTo>
                  <a:lnTo>
                    <a:pt x="2426" y="71"/>
                  </a:lnTo>
                  <a:lnTo>
                    <a:pt x="2361" y="65"/>
                  </a:lnTo>
                  <a:lnTo>
                    <a:pt x="2296" y="57"/>
                  </a:lnTo>
                  <a:lnTo>
                    <a:pt x="2223" y="49"/>
                  </a:lnTo>
                  <a:lnTo>
                    <a:pt x="2134" y="44"/>
                  </a:lnTo>
                  <a:lnTo>
                    <a:pt x="2021" y="41"/>
                  </a:lnTo>
                  <a:lnTo>
                    <a:pt x="1349" y="33"/>
                  </a:lnTo>
                  <a:lnTo>
                    <a:pt x="1236" y="33"/>
                  </a:lnTo>
                  <a:lnTo>
                    <a:pt x="1149" y="28"/>
                  </a:lnTo>
                  <a:lnTo>
                    <a:pt x="1011" y="20"/>
                  </a:lnTo>
                  <a:lnTo>
                    <a:pt x="877" y="9"/>
                  </a:lnTo>
                  <a:lnTo>
                    <a:pt x="787" y="4"/>
                  </a:lnTo>
                  <a:lnTo>
                    <a:pt x="674" y="4"/>
                  </a:lnTo>
                  <a:lnTo>
                    <a:pt x="544" y="0"/>
                  </a:lnTo>
                  <a:lnTo>
                    <a:pt x="431" y="4"/>
                  </a:lnTo>
                  <a:lnTo>
                    <a:pt x="339" y="4"/>
                  </a:lnTo>
                  <a:lnTo>
                    <a:pt x="245" y="6"/>
                  </a:lnTo>
                  <a:lnTo>
                    <a:pt x="131" y="6"/>
                  </a:lnTo>
                  <a:lnTo>
                    <a:pt x="2" y="6"/>
                  </a:lnTo>
                  <a:lnTo>
                    <a:pt x="0" y="39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0" name=""/>
            <p:cNvSpPr/>
            <p:nvPr/>
          </p:nvSpPr>
          <p:spPr>
            <a:xfrm>
              <a:off x="1319400" y="2914560"/>
              <a:ext cx="885600" cy="20520"/>
            </a:xfrm>
            <a:custGeom>
              <a:avLst/>
              <a:gdLst/>
              <a:ahLst/>
              <a:rect l="l" t="t" r="r" b="b"/>
              <a:pathLst>
                <a:path w="5478" h="133">
                  <a:moveTo>
                    <a:pt x="0" y="38"/>
                  </a:moveTo>
                  <a:lnTo>
                    <a:pt x="92" y="41"/>
                  </a:lnTo>
                  <a:lnTo>
                    <a:pt x="194" y="38"/>
                  </a:lnTo>
                  <a:lnTo>
                    <a:pt x="275" y="36"/>
                  </a:lnTo>
                  <a:lnTo>
                    <a:pt x="357" y="36"/>
                  </a:lnTo>
                  <a:lnTo>
                    <a:pt x="459" y="32"/>
                  </a:lnTo>
                  <a:lnTo>
                    <a:pt x="548" y="32"/>
                  </a:lnTo>
                  <a:lnTo>
                    <a:pt x="636" y="36"/>
                  </a:lnTo>
                  <a:lnTo>
                    <a:pt x="710" y="38"/>
                  </a:lnTo>
                  <a:lnTo>
                    <a:pt x="820" y="48"/>
                  </a:lnTo>
                  <a:lnTo>
                    <a:pt x="931" y="60"/>
                  </a:lnTo>
                  <a:lnTo>
                    <a:pt x="1004" y="62"/>
                  </a:lnTo>
                  <a:lnTo>
                    <a:pt x="1093" y="65"/>
                  </a:lnTo>
                  <a:lnTo>
                    <a:pt x="1644" y="71"/>
                  </a:lnTo>
                  <a:lnTo>
                    <a:pt x="1733" y="73"/>
                  </a:lnTo>
                  <a:lnTo>
                    <a:pt x="1803" y="78"/>
                  </a:lnTo>
                  <a:lnTo>
                    <a:pt x="1862" y="84"/>
                  </a:lnTo>
                  <a:lnTo>
                    <a:pt x="1913" y="92"/>
                  </a:lnTo>
                  <a:lnTo>
                    <a:pt x="1968" y="100"/>
                  </a:lnTo>
                  <a:lnTo>
                    <a:pt x="2026" y="105"/>
                  </a:lnTo>
                  <a:lnTo>
                    <a:pt x="2097" y="110"/>
                  </a:lnTo>
                  <a:lnTo>
                    <a:pt x="2189" y="114"/>
                  </a:lnTo>
                  <a:lnTo>
                    <a:pt x="2210" y="114"/>
                  </a:lnTo>
                  <a:lnTo>
                    <a:pt x="2294" y="110"/>
                  </a:lnTo>
                  <a:lnTo>
                    <a:pt x="2362" y="105"/>
                  </a:lnTo>
                  <a:lnTo>
                    <a:pt x="2419" y="98"/>
                  </a:lnTo>
                  <a:lnTo>
                    <a:pt x="2467" y="89"/>
                  </a:lnTo>
                  <a:lnTo>
                    <a:pt x="2516" y="78"/>
                  </a:lnTo>
                  <a:lnTo>
                    <a:pt x="2572" y="71"/>
                  </a:lnTo>
                  <a:lnTo>
                    <a:pt x="2636" y="65"/>
                  </a:lnTo>
                  <a:lnTo>
                    <a:pt x="2718" y="62"/>
                  </a:lnTo>
                  <a:lnTo>
                    <a:pt x="2739" y="62"/>
                  </a:lnTo>
                  <a:lnTo>
                    <a:pt x="2829" y="65"/>
                  </a:lnTo>
                  <a:lnTo>
                    <a:pt x="2898" y="71"/>
                  </a:lnTo>
                  <a:lnTo>
                    <a:pt x="2958" y="78"/>
                  </a:lnTo>
                  <a:lnTo>
                    <a:pt x="3009" y="87"/>
                  </a:lnTo>
                  <a:lnTo>
                    <a:pt x="3063" y="94"/>
                  </a:lnTo>
                  <a:lnTo>
                    <a:pt x="3123" y="103"/>
                  </a:lnTo>
                  <a:lnTo>
                    <a:pt x="3193" y="108"/>
                  </a:lnTo>
                  <a:lnTo>
                    <a:pt x="3284" y="110"/>
                  </a:lnTo>
                  <a:lnTo>
                    <a:pt x="3832" y="117"/>
                  </a:lnTo>
                  <a:lnTo>
                    <a:pt x="3860" y="117"/>
                  </a:lnTo>
                  <a:lnTo>
                    <a:pt x="3940" y="114"/>
                  </a:lnTo>
                  <a:lnTo>
                    <a:pt x="4005" y="108"/>
                  </a:lnTo>
                  <a:lnTo>
                    <a:pt x="4062" y="103"/>
                  </a:lnTo>
                  <a:lnTo>
                    <a:pt x="4110" y="92"/>
                  </a:lnTo>
                  <a:lnTo>
                    <a:pt x="4161" y="84"/>
                  </a:lnTo>
                  <a:lnTo>
                    <a:pt x="4216" y="76"/>
                  </a:lnTo>
                  <a:lnTo>
                    <a:pt x="4277" y="71"/>
                  </a:lnTo>
                  <a:lnTo>
                    <a:pt x="4359" y="71"/>
                  </a:lnTo>
                  <a:lnTo>
                    <a:pt x="4383" y="71"/>
                  </a:lnTo>
                  <a:lnTo>
                    <a:pt x="4472" y="73"/>
                  </a:lnTo>
                  <a:lnTo>
                    <a:pt x="4542" y="81"/>
                  </a:lnTo>
                  <a:lnTo>
                    <a:pt x="4601" y="89"/>
                  </a:lnTo>
                  <a:lnTo>
                    <a:pt x="4652" y="100"/>
                  </a:lnTo>
                  <a:lnTo>
                    <a:pt x="4707" y="108"/>
                  </a:lnTo>
                  <a:lnTo>
                    <a:pt x="4766" y="119"/>
                  </a:lnTo>
                  <a:lnTo>
                    <a:pt x="4838" y="124"/>
                  </a:lnTo>
                  <a:lnTo>
                    <a:pt x="4930" y="130"/>
                  </a:lnTo>
                  <a:lnTo>
                    <a:pt x="5206" y="130"/>
                  </a:lnTo>
                  <a:lnTo>
                    <a:pt x="5478" y="133"/>
                  </a:lnTo>
                  <a:lnTo>
                    <a:pt x="5478" y="100"/>
                  </a:lnTo>
                  <a:lnTo>
                    <a:pt x="5206" y="98"/>
                  </a:lnTo>
                  <a:lnTo>
                    <a:pt x="4930" y="98"/>
                  </a:lnTo>
                  <a:lnTo>
                    <a:pt x="4842" y="92"/>
                  </a:lnTo>
                  <a:lnTo>
                    <a:pt x="4769" y="87"/>
                  </a:lnTo>
                  <a:lnTo>
                    <a:pt x="4712" y="78"/>
                  </a:lnTo>
                  <a:lnTo>
                    <a:pt x="4661" y="68"/>
                  </a:lnTo>
                  <a:lnTo>
                    <a:pt x="4607" y="57"/>
                  </a:lnTo>
                  <a:lnTo>
                    <a:pt x="4548" y="48"/>
                  </a:lnTo>
                  <a:lnTo>
                    <a:pt x="4474" y="41"/>
                  </a:lnTo>
                  <a:lnTo>
                    <a:pt x="4383" y="38"/>
                  </a:lnTo>
                  <a:lnTo>
                    <a:pt x="4359" y="38"/>
                  </a:lnTo>
                  <a:lnTo>
                    <a:pt x="4277" y="41"/>
                  </a:lnTo>
                  <a:lnTo>
                    <a:pt x="4210" y="46"/>
                  </a:lnTo>
                  <a:lnTo>
                    <a:pt x="4156" y="52"/>
                  </a:lnTo>
                  <a:lnTo>
                    <a:pt x="4104" y="62"/>
                  </a:lnTo>
                  <a:lnTo>
                    <a:pt x="4056" y="71"/>
                  </a:lnTo>
                  <a:lnTo>
                    <a:pt x="4002" y="76"/>
                  </a:lnTo>
                  <a:lnTo>
                    <a:pt x="3938" y="81"/>
                  </a:lnTo>
                  <a:lnTo>
                    <a:pt x="3860" y="84"/>
                  </a:lnTo>
                  <a:lnTo>
                    <a:pt x="3835" y="84"/>
                  </a:lnTo>
                  <a:lnTo>
                    <a:pt x="3287" y="78"/>
                  </a:lnTo>
                  <a:lnTo>
                    <a:pt x="3195" y="76"/>
                  </a:lnTo>
                  <a:lnTo>
                    <a:pt x="3125" y="71"/>
                  </a:lnTo>
                  <a:lnTo>
                    <a:pt x="3066" y="62"/>
                  </a:lnTo>
                  <a:lnTo>
                    <a:pt x="3015" y="54"/>
                  </a:lnTo>
                  <a:lnTo>
                    <a:pt x="2963" y="46"/>
                  </a:lnTo>
                  <a:lnTo>
                    <a:pt x="2904" y="38"/>
                  </a:lnTo>
                  <a:lnTo>
                    <a:pt x="2831" y="32"/>
                  </a:lnTo>
                  <a:lnTo>
                    <a:pt x="2739" y="30"/>
                  </a:lnTo>
                  <a:lnTo>
                    <a:pt x="2718" y="30"/>
                  </a:lnTo>
                  <a:lnTo>
                    <a:pt x="2634" y="32"/>
                  </a:lnTo>
                  <a:lnTo>
                    <a:pt x="2567" y="38"/>
                  </a:lnTo>
                  <a:lnTo>
                    <a:pt x="2509" y="46"/>
                  </a:lnTo>
                  <a:lnTo>
                    <a:pt x="2461" y="57"/>
                  </a:lnTo>
                  <a:lnTo>
                    <a:pt x="2413" y="65"/>
                  </a:lnTo>
                  <a:lnTo>
                    <a:pt x="2359" y="73"/>
                  </a:lnTo>
                  <a:lnTo>
                    <a:pt x="2291" y="78"/>
                  </a:lnTo>
                  <a:lnTo>
                    <a:pt x="2210" y="81"/>
                  </a:lnTo>
                  <a:lnTo>
                    <a:pt x="2191" y="81"/>
                  </a:lnTo>
                  <a:lnTo>
                    <a:pt x="2100" y="78"/>
                  </a:lnTo>
                  <a:lnTo>
                    <a:pt x="2030" y="73"/>
                  </a:lnTo>
                  <a:lnTo>
                    <a:pt x="1970" y="68"/>
                  </a:lnTo>
                  <a:lnTo>
                    <a:pt x="1919" y="60"/>
                  </a:lnTo>
                  <a:lnTo>
                    <a:pt x="1865" y="52"/>
                  </a:lnTo>
                  <a:lnTo>
                    <a:pt x="1805" y="46"/>
                  </a:lnTo>
                  <a:lnTo>
                    <a:pt x="1736" y="41"/>
                  </a:lnTo>
                  <a:lnTo>
                    <a:pt x="1644" y="38"/>
                  </a:lnTo>
                  <a:lnTo>
                    <a:pt x="1096" y="32"/>
                  </a:lnTo>
                  <a:lnTo>
                    <a:pt x="1004" y="30"/>
                  </a:lnTo>
                  <a:lnTo>
                    <a:pt x="933" y="27"/>
                  </a:lnTo>
                  <a:lnTo>
                    <a:pt x="823" y="16"/>
                  </a:lnTo>
                  <a:lnTo>
                    <a:pt x="710" y="6"/>
                  </a:lnTo>
                  <a:lnTo>
                    <a:pt x="640" y="2"/>
                  </a:lnTo>
                  <a:lnTo>
                    <a:pt x="548" y="0"/>
                  </a:lnTo>
                  <a:lnTo>
                    <a:pt x="459" y="0"/>
                  </a:lnTo>
                  <a:lnTo>
                    <a:pt x="357" y="2"/>
                  </a:lnTo>
                  <a:lnTo>
                    <a:pt x="272" y="2"/>
                  </a:lnTo>
                  <a:lnTo>
                    <a:pt x="192" y="6"/>
                  </a:lnTo>
                  <a:lnTo>
                    <a:pt x="92" y="8"/>
                  </a:lnTo>
                  <a:lnTo>
                    <a:pt x="0" y="6"/>
                  </a:lnTo>
                  <a:lnTo>
                    <a:pt x="0" y="38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1" name=""/>
            <p:cNvSpPr/>
            <p:nvPr/>
          </p:nvSpPr>
          <p:spPr>
            <a:xfrm>
              <a:off x="1319400" y="3132000"/>
              <a:ext cx="887400" cy="20520"/>
            </a:xfrm>
            <a:custGeom>
              <a:avLst/>
              <a:gdLst/>
              <a:ahLst/>
              <a:rect l="l" t="t" r="r" b="b"/>
              <a:pathLst>
                <a:path w="5482" h="129">
                  <a:moveTo>
                    <a:pt x="0" y="37"/>
                  </a:moveTo>
                  <a:lnTo>
                    <a:pt x="92" y="37"/>
                  </a:lnTo>
                  <a:lnTo>
                    <a:pt x="194" y="37"/>
                  </a:lnTo>
                  <a:lnTo>
                    <a:pt x="275" y="35"/>
                  </a:lnTo>
                  <a:lnTo>
                    <a:pt x="359" y="32"/>
                  </a:lnTo>
                  <a:lnTo>
                    <a:pt x="461" y="32"/>
                  </a:lnTo>
                  <a:lnTo>
                    <a:pt x="548" y="32"/>
                  </a:lnTo>
                  <a:lnTo>
                    <a:pt x="640" y="35"/>
                  </a:lnTo>
                  <a:lnTo>
                    <a:pt x="710" y="37"/>
                  </a:lnTo>
                  <a:lnTo>
                    <a:pt x="820" y="48"/>
                  </a:lnTo>
                  <a:lnTo>
                    <a:pt x="931" y="56"/>
                  </a:lnTo>
                  <a:lnTo>
                    <a:pt x="1004" y="62"/>
                  </a:lnTo>
                  <a:lnTo>
                    <a:pt x="1096" y="62"/>
                  </a:lnTo>
                  <a:lnTo>
                    <a:pt x="1644" y="67"/>
                  </a:lnTo>
                  <a:lnTo>
                    <a:pt x="1733" y="69"/>
                  </a:lnTo>
                  <a:lnTo>
                    <a:pt x="1805" y="75"/>
                  </a:lnTo>
                  <a:lnTo>
                    <a:pt x="1862" y="83"/>
                  </a:lnTo>
                  <a:lnTo>
                    <a:pt x="1913" y="88"/>
                  </a:lnTo>
                  <a:lnTo>
                    <a:pt x="1968" y="97"/>
                  </a:lnTo>
                  <a:lnTo>
                    <a:pt x="2026" y="104"/>
                  </a:lnTo>
                  <a:lnTo>
                    <a:pt x="2100" y="110"/>
                  </a:lnTo>
                  <a:lnTo>
                    <a:pt x="2191" y="113"/>
                  </a:lnTo>
                  <a:lnTo>
                    <a:pt x="2213" y="113"/>
                  </a:lnTo>
                  <a:lnTo>
                    <a:pt x="2294" y="110"/>
                  </a:lnTo>
                  <a:lnTo>
                    <a:pt x="2362" y="104"/>
                  </a:lnTo>
                  <a:lnTo>
                    <a:pt x="2419" y="97"/>
                  </a:lnTo>
                  <a:lnTo>
                    <a:pt x="2467" y="86"/>
                  </a:lnTo>
                  <a:lnTo>
                    <a:pt x="2518" y="78"/>
                  </a:lnTo>
                  <a:lnTo>
                    <a:pt x="2572" y="69"/>
                  </a:lnTo>
                  <a:lnTo>
                    <a:pt x="2636" y="64"/>
                  </a:lnTo>
                  <a:lnTo>
                    <a:pt x="2718" y="62"/>
                  </a:lnTo>
                  <a:lnTo>
                    <a:pt x="2739" y="62"/>
                  </a:lnTo>
                  <a:lnTo>
                    <a:pt x="2829" y="64"/>
                  </a:lnTo>
                  <a:lnTo>
                    <a:pt x="2901" y="69"/>
                  </a:lnTo>
                  <a:lnTo>
                    <a:pt x="2958" y="78"/>
                  </a:lnTo>
                  <a:lnTo>
                    <a:pt x="3011" y="83"/>
                  </a:lnTo>
                  <a:lnTo>
                    <a:pt x="3063" y="94"/>
                  </a:lnTo>
                  <a:lnTo>
                    <a:pt x="3123" y="99"/>
                  </a:lnTo>
                  <a:lnTo>
                    <a:pt x="3195" y="104"/>
                  </a:lnTo>
                  <a:lnTo>
                    <a:pt x="3287" y="108"/>
                  </a:lnTo>
                  <a:lnTo>
                    <a:pt x="3835" y="115"/>
                  </a:lnTo>
                  <a:lnTo>
                    <a:pt x="3860" y="115"/>
                  </a:lnTo>
                  <a:lnTo>
                    <a:pt x="3940" y="113"/>
                  </a:lnTo>
                  <a:lnTo>
                    <a:pt x="4007" y="108"/>
                  </a:lnTo>
                  <a:lnTo>
                    <a:pt x="4062" y="99"/>
                  </a:lnTo>
                  <a:lnTo>
                    <a:pt x="4113" y="92"/>
                  </a:lnTo>
                  <a:lnTo>
                    <a:pt x="4161" y="83"/>
                  </a:lnTo>
                  <a:lnTo>
                    <a:pt x="4216" y="75"/>
                  </a:lnTo>
                  <a:lnTo>
                    <a:pt x="4281" y="69"/>
                  </a:lnTo>
                  <a:lnTo>
                    <a:pt x="4361" y="67"/>
                  </a:lnTo>
                  <a:lnTo>
                    <a:pt x="4383" y="67"/>
                  </a:lnTo>
                  <a:lnTo>
                    <a:pt x="4472" y="72"/>
                  </a:lnTo>
                  <a:lnTo>
                    <a:pt x="4545" y="78"/>
                  </a:lnTo>
                  <a:lnTo>
                    <a:pt x="4601" y="86"/>
                  </a:lnTo>
                  <a:lnTo>
                    <a:pt x="4652" y="97"/>
                  </a:lnTo>
                  <a:lnTo>
                    <a:pt x="4707" y="108"/>
                  </a:lnTo>
                  <a:lnTo>
                    <a:pt x="4766" y="115"/>
                  </a:lnTo>
                  <a:lnTo>
                    <a:pt x="4838" y="124"/>
                  </a:lnTo>
                  <a:lnTo>
                    <a:pt x="4930" y="126"/>
                  </a:lnTo>
                  <a:lnTo>
                    <a:pt x="5206" y="129"/>
                  </a:lnTo>
                  <a:lnTo>
                    <a:pt x="5482" y="129"/>
                  </a:lnTo>
                  <a:lnTo>
                    <a:pt x="5482" y="97"/>
                  </a:lnTo>
                  <a:lnTo>
                    <a:pt x="5206" y="97"/>
                  </a:lnTo>
                  <a:lnTo>
                    <a:pt x="4930" y="94"/>
                  </a:lnTo>
                  <a:lnTo>
                    <a:pt x="4842" y="92"/>
                  </a:lnTo>
                  <a:lnTo>
                    <a:pt x="4771" y="86"/>
                  </a:lnTo>
                  <a:lnTo>
                    <a:pt x="4712" y="75"/>
                  </a:lnTo>
                  <a:lnTo>
                    <a:pt x="4661" y="64"/>
                  </a:lnTo>
                  <a:lnTo>
                    <a:pt x="4607" y="56"/>
                  </a:lnTo>
                  <a:lnTo>
                    <a:pt x="4548" y="46"/>
                  </a:lnTo>
                  <a:lnTo>
                    <a:pt x="4474" y="40"/>
                  </a:lnTo>
                  <a:lnTo>
                    <a:pt x="4383" y="35"/>
                  </a:lnTo>
                  <a:lnTo>
                    <a:pt x="4361" y="35"/>
                  </a:lnTo>
                  <a:lnTo>
                    <a:pt x="4277" y="37"/>
                  </a:lnTo>
                  <a:lnTo>
                    <a:pt x="4212" y="43"/>
                  </a:lnTo>
                  <a:lnTo>
                    <a:pt x="4156" y="51"/>
                  </a:lnTo>
                  <a:lnTo>
                    <a:pt x="4108" y="59"/>
                  </a:lnTo>
                  <a:lnTo>
                    <a:pt x="4056" y="67"/>
                  </a:lnTo>
                  <a:lnTo>
                    <a:pt x="4002" y="75"/>
                  </a:lnTo>
                  <a:lnTo>
                    <a:pt x="3938" y="80"/>
                  </a:lnTo>
                  <a:lnTo>
                    <a:pt x="3860" y="83"/>
                  </a:lnTo>
                  <a:lnTo>
                    <a:pt x="3835" y="83"/>
                  </a:lnTo>
                  <a:lnTo>
                    <a:pt x="3287" y="75"/>
                  </a:lnTo>
                  <a:lnTo>
                    <a:pt x="3198" y="72"/>
                  </a:lnTo>
                  <a:lnTo>
                    <a:pt x="3125" y="67"/>
                  </a:lnTo>
                  <a:lnTo>
                    <a:pt x="3068" y="62"/>
                  </a:lnTo>
                  <a:lnTo>
                    <a:pt x="3015" y="53"/>
                  </a:lnTo>
                  <a:lnTo>
                    <a:pt x="2963" y="46"/>
                  </a:lnTo>
                  <a:lnTo>
                    <a:pt x="2904" y="37"/>
                  </a:lnTo>
                  <a:lnTo>
                    <a:pt x="2831" y="32"/>
                  </a:lnTo>
                  <a:lnTo>
                    <a:pt x="2739" y="30"/>
                  </a:lnTo>
                  <a:lnTo>
                    <a:pt x="2718" y="30"/>
                  </a:lnTo>
                  <a:lnTo>
                    <a:pt x="2634" y="32"/>
                  </a:lnTo>
                  <a:lnTo>
                    <a:pt x="2567" y="37"/>
                  </a:lnTo>
                  <a:lnTo>
                    <a:pt x="2513" y="46"/>
                  </a:lnTo>
                  <a:lnTo>
                    <a:pt x="2461" y="53"/>
                  </a:lnTo>
                  <a:lnTo>
                    <a:pt x="2413" y="64"/>
                  </a:lnTo>
                  <a:lnTo>
                    <a:pt x="2359" y="72"/>
                  </a:lnTo>
                  <a:lnTo>
                    <a:pt x="2294" y="78"/>
                  </a:lnTo>
                  <a:lnTo>
                    <a:pt x="2213" y="80"/>
                  </a:lnTo>
                  <a:lnTo>
                    <a:pt x="2191" y="80"/>
                  </a:lnTo>
                  <a:lnTo>
                    <a:pt x="2100" y="78"/>
                  </a:lnTo>
                  <a:lnTo>
                    <a:pt x="2030" y="72"/>
                  </a:lnTo>
                  <a:lnTo>
                    <a:pt x="1973" y="64"/>
                  </a:lnTo>
                  <a:lnTo>
                    <a:pt x="1919" y="59"/>
                  </a:lnTo>
                  <a:lnTo>
                    <a:pt x="1867" y="51"/>
                  </a:lnTo>
                  <a:lnTo>
                    <a:pt x="1808" y="43"/>
                  </a:lnTo>
                  <a:lnTo>
                    <a:pt x="1736" y="37"/>
                  </a:lnTo>
                  <a:lnTo>
                    <a:pt x="1644" y="35"/>
                  </a:lnTo>
                  <a:lnTo>
                    <a:pt x="1096" y="30"/>
                  </a:lnTo>
                  <a:lnTo>
                    <a:pt x="1004" y="30"/>
                  </a:lnTo>
                  <a:lnTo>
                    <a:pt x="933" y="23"/>
                  </a:lnTo>
                  <a:lnTo>
                    <a:pt x="823" y="16"/>
                  </a:lnTo>
                  <a:lnTo>
                    <a:pt x="712" y="5"/>
                  </a:lnTo>
                  <a:lnTo>
                    <a:pt x="640" y="2"/>
                  </a:lnTo>
                  <a:lnTo>
                    <a:pt x="548" y="0"/>
                  </a:lnTo>
                  <a:lnTo>
                    <a:pt x="461" y="0"/>
                  </a:lnTo>
                  <a:lnTo>
                    <a:pt x="357" y="0"/>
                  </a:lnTo>
                  <a:lnTo>
                    <a:pt x="275" y="2"/>
                  </a:lnTo>
                  <a:lnTo>
                    <a:pt x="194" y="5"/>
                  </a:lnTo>
                  <a:lnTo>
                    <a:pt x="92" y="5"/>
                  </a:lnTo>
                  <a:lnTo>
                    <a:pt x="0" y="5"/>
                  </a:lnTo>
                  <a:lnTo>
                    <a:pt x="0" y="37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266920" y="2874960"/>
              <a:ext cx="266760" cy="358560"/>
            </a:xfrm>
            <a:custGeom>
              <a:avLst/>
              <a:gdLst/>
              <a:ahLst/>
              <a:rect l="l" t="t" r="r" b="b"/>
              <a:pathLst>
                <a:path w="1646" h="2358">
                  <a:moveTo>
                    <a:pt x="1149" y="16"/>
                  </a:moveTo>
                  <a:lnTo>
                    <a:pt x="1136" y="5"/>
                  </a:lnTo>
                  <a:lnTo>
                    <a:pt x="2" y="1605"/>
                  </a:lnTo>
                  <a:lnTo>
                    <a:pt x="0" y="1610"/>
                  </a:lnTo>
                  <a:lnTo>
                    <a:pt x="0" y="1618"/>
                  </a:lnTo>
                  <a:lnTo>
                    <a:pt x="2" y="1624"/>
                  </a:lnTo>
                  <a:lnTo>
                    <a:pt x="5" y="1630"/>
                  </a:lnTo>
                  <a:lnTo>
                    <a:pt x="1082" y="2355"/>
                  </a:lnTo>
                  <a:lnTo>
                    <a:pt x="1087" y="2358"/>
                  </a:lnTo>
                  <a:lnTo>
                    <a:pt x="1093" y="2358"/>
                  </a:lnTo>
                  <a:lnTo>
                    <a:pt x="1098" y="2358"/>
                  </a:lnTo>
                  <a:lnTo>
                    <a:pt x="1104" y="2352"/>
                  </a:lnTo>
                  <a:lnTo>
                    <a:pt x="1641" y="1815"/>
                  </a:lnTo>
                  <a:lnTo>
                    <a:pt x="1646" y="1807"/>
                  </a:lnTo>
                  <a:lnTo>
                    <a:pt x="1646" y="1799"/>
                  </a:lnTo>
                  <a:lnTo>
                    <a:pt x="1165" y="11"/>
                  </a:lnTo>
                  <a:lnTo>
                    <a:pt x="1160" y="2"/>
                  </a:lnTo>
                  <a:lnTo>
                    <a:pt x="1152" y="0"/>
                  </a:lnTo>
                  <a:lnTo>
                    <a:pt x="1144" y="0"/>
                  </a:lnTo>
                  <a:lnTo>
                    <a:pt x="1136" y="5"/>
                  </a:lnTo>
                  <a:lnTo>
                    <a:pt x="1149" y="16"/>
                  </a:lnTo>
                  <a:lnTo>
                    <a:pt x="1133" y="18"/>
                  </a:lnTo>
                  <a:lnTo>
                    <a:pt x="1611" y="1799"/>
                  </a:lnTo>
                  <a:lnTo>
                    <a:pt x="1090" y="2319"/>
                  </a:lnTo>
                  <a:lnTo>
                    <a:pt x="37" y="1610"/>
                  </a:lnTo>
                  <a:lnTo>
                    <a:pt x="1163" y="25"/>
                  </a:lnTo>
                  <a:lnTo>
                    <a:pt x="1149" y="16"/>
                  </a:lnTo>
                  <a:lnTo>
                    <a:pt x="1133" y="18"/>
                  </a:lnTo>
                  <a:lnTo>
                    <a:pt x="1149" y="16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3" name=""/>
            <p:cNvSpPr/>
            <p:nvPr/>
          </p:nvSpPr>
          <p:spPr>
            <a:xfrm>
              <a:off x="2441520" y="2874960"/>
              <a:ext cx="14400" cy="358560"/>
            </a:xfrm>
            <a:custGeom>
              <a:avLst/>
              <a:gdLst/>
              <a:ahLst/>
              <a:rect l="l" t="t" r="r" b="b"/>
              <a:pathLst>
                <a:path w="91" h="2358">
                  <a:moveTo>
                    <a:pt x="33" y="2341"/>
                  </a:moveTo>
                  <a:lnTo>
                    <a:pt x="91" y="16"/>
                  </a:lnTo>
                  <a:lnTo>
                    <a:pt x="89" y="11"/>
                  </a:lnTo>
                  <a:lnTo>
                    <a:pt x="86" y="5"/>
                  </a:lnTo>
                  <a:lnTo>
                    <a:pt x="81" y="0"/>
                  </a:lnTo>
                  <a:lnTo>
                    <a:pt x="75" y="0"/>
                  </a:lnTo>
                  <a:lnTo>
                    <a:pt x="70" y="0"/>
                  </a:lnTo>
                  <a:lnTo>
                    <a:pt x="65" y="5"/>
                  </a:lnTo>
                  <a:lnTo>
                    <a:pt x="59" y="8"/>
                  </a:lnTo>
                  <a:lnTo>
                    <a:pt x="59" y="16"/>
                  </a:lnTo>
                  <a:lnTo>
                    <a:pt x="0" y="2341"/>
                  </a:lnTo>
                  <a:lnTo>
                    <a:pt x="3" y="2347"/>
                  </a:lnTo>
                  <a:lnTo>
                    <a:pt x="5" y="2352"/>
                  </a:lnTo>
                  <a:lnTo>
                    <a:pt x="10" y="2358"/>
                  </a:lnTo>
                  <a:lnTo>
                    <a:pt x="16" y="2358"/>
                  </a:lnTo>
                  <a:lnTo>
                    <a:pt x="24" y="2358"/>
                  </a:lnTo>
                  <a:lnTo>
                    <a:pt x="26" y="2352"/>
                  </a:lnTo>
                  <a:lnTo>
                    <a:pt x="33" y="2349"/>
                  </a:lnTo>
                  <a:lnTo>
                    <a:pt x="33" y="2341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4" name=""/>
            <p:cNvSpPr/>
            <p:nvPr/>
          </p:nvSpPr>
          <p:spPr>
            <a:xfrm>
              <a:off x="1390680" y="3495600"/>
              <a:ext cx="192240" cy="54000"/>
            </a:xfrm>
            <a:custGeom>
              <a:avLst/>
              <a:gdLst/>
              <a:ahLst/>
              <a:rect l="l" t="t" r="r" b="b"/>
              <a:pathLst>
                <a:path w="1192" h="348">
                  <a:moveTo>
                    <a:pt x="1192" y="173"/>
                  </a:moveTo>
                  <a:lnTo>
                    <a:pt x="1190" y="207"/>
                  </a:lnTo>
                  <a:lnTo>
                    <a:pt x="1181" y="240"/>
                  </a:lnTo>
                  <a:lnTo>
                    <a:pt x="1170" y="270"/>
                  </a:lnTo>
                  <a:lnTo>
                    <a:pt x="1154" y="296"/>
                  </a:lnTo>
                  <a:lnTo>
                    <a:pt x="1135" y="318"/>
                  </a:lnTo>
                  <a:lnTo>
                    <a:pt x="1112" y="334"/>
                  </a:lnTo>
                  <a:lnTo>
                    <a:pt x="1101" y="339"/>
                  </a:lnTo>
                  <a:lnTo>
                    <a:pt x="1087" y="342"/>
                  </a:lnTo>
                  <a:lnTo>
                    <a:pt x="1073" y="344"/>
                  </a:lnTo>
                  <a:lnTo>
                    <a:pt x="1060" y="348"/>
                  </a:lnTo>
                  <a:lnTo>
                    <a:pt x="132" y="348"/>
                  </a:lnTo>
                  <a:lnTo>
                    <a:pt x="118" y="344"/>
                  </a:lnTo>
                  <a:lnTo>
                    <a:pt x="104" y="342"/>
                  </a:lnTo>
                  <a:lnTo>
                    <a:pt x="91" y="339"/>
                  </a:lnTo>
                  <a:lnTo>
                    <a:pt x="81" y="334"/>
                  </a:lnTo>
                  <a:lnTo>
                    <a:pt x="59" y="318"/>
                  </a:lnTo>
                  <a:lnTo>
                    <a:pt x="37" y="296"/>
                  </a:lnTo>
                  <a:lnTo>
                    <a:pt x="24" y="270"/>
                  </a:lnTo>
                  <a:lnTo>
                    <a:pt x="10" y="240"/>
                  </a:lnTo>
                  <a:lnTo>
                    <a:pt x="2" y="207"/>
                  </a:lnTo>
                  <a:lnTo>
                    <a:pt x="0" y="173"/>
                  </a:lnTo>
                  <a:lnTo>
                    <a:pt x="2" y="139"/>
                  </a:lnTo>
                  <a:lnTo>
                    <a:pt x="10" y="107"/>
                  </a:lnTo>
                  <a:lnTo>
                    <a:pt x="24" y="78"/>
                  </a:lnTo>
                  <a:lnTo>
                    <a:pt x="37" y="51"/>
                  </a:lnTo>
                  <a:lnTo>
                    <a:pt x="59" y="29"/>
                  </a:lnTo>
                  <a:lnTo>
                    <a:pt x="81" y="12"/>
                  </a:lnTo>
                  <a:lnTo>
                    <a:pt x="91" y="7"/>
                  </a:lnTo>
                  <a:lnTo>
                    <a:pt x="104" y="5"/>
                  </a:lnTo>
                  <a:lnTo>
                    <a:pt x="118" y="2"/>
                  </a:lnTo>
                  <a:lnTo>
                    <a:pt x="132" y="0"/>
                  </a:lnTo>
                  <a:lnTo>
                    <a:pt x="1060" y="0"/>
                  </a:lnTo>
                  <a:lnTo>
                    <a:pt x="1073" y="2"/>
                  </a:lnTo>
                  <a:lnTo>
                    <a:pt x="1087" y="5"/>
                  </a:lnTo>
                  <a:lnTo>
                    <a:pt x="1101" y="7"/>
                  </a:lnTo>
                  <a:lnTo>
                    <a:pt x="1112" y="12"/>
                  </a:lnTo>
                  <a:lnTo>
                    <a:pt x="1135" y="29"/>
                  </a:lnTo>
                  <a:lnTo>
                    <a:pt x="1154" y="51"/>
                  </a:lnTo>
                  <a:lnTo>
                    <a:pt x="1170" y="78"/>
                  </a:lnTo>
                  <a:lnTo>
                    <a:pt x="1181" y="107"/>
                  </a:lnTo>
                  <a:lnTo>
                    <a:pt x="1190" y="139"/>
                  </a:lnTo>
                  <a:lnTo>
                    <a:pt x="1192" y="17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5" name=""/>
            <p:cNvSpPr/>
            <p:nvPr/>
          </p:nvSpPr>
          <p:spPr>
            <a:xfrm>
              <a:off x="1389240" y="3494160"/>
              <a:ext cx="195120" cy="55440"/>
            </a:xfrm>
            <a:custGeom>
              <a:avLst/>
              <a:gdLst/>
              <a:ahLst/>
              <a:rect l="l" t="t" r="r" b="b"/>
              <a:pathLst>
                <a:path w="1209" h="364">
                  <a:moveTo>
                    <a:pt x="1201" y="182"/>
                  </a:moveTo>
                  <a:lnTo>
                    <a:pt x="1193" y="182"/>
                  </a:lnTo>
                  <a:lnTo>
                    <a:pt x="1190" y="216"/>
                  </a:lnTo>
                  <a:lnTo>
                    <a:pt x="1183" y="249"/>
                  </a:lnTo>
                  <a:lnTo>
                    <a:pt x="1172" y="276"/>
                  </a:lnTo>
                  <a:lnTo>
                    <a:pt x="1156" y="300"/>
                  </a:lnTo>
                  <a:lnTo>
                    <a:pt x="1139" y="318"/>
                  </a:lnTo>
                  <a:lnTo>
                    <a:pt x="1118" y="335"/>
                  </a:lnTo>
                  <a:lnTo>
                    <a:pt x="1093" y="343"/>
                  </a:lnTo>
                  <a:lnTo>
                    <a:pt x="1082" y="346"/>
                  </a:lnTo>
                  <a:lnTo>
                    <a:pt x="1069" y="348"/>
                  </a:lnTo>
                  <a:lnTo>
                    <a:pt x="141" y="348"/>
                  </a:lnTo>
                  <a:lnTo>
                    <a:pt x="127" y="346"/>
                  </a:lnTo>
                  <a:lnTo>
                    <a:pt x="116" y="343"/>
                  </a:lnTo>
                  <a:lnTo>
                    <a:pt x="92" y="335"/>
                  </a:lnTo>
                  <a:lnTo>
                    <a:pt x="74" y="318"/>
                  </a:lnTo>
                  <a:lnTo>
                    <a:pt x="54" y="300"/>
                  </a:lnTo>
                  <a:lnTo>
                    <a:pt x="38" y="276"/>
                  </a:lnTo>
                  <a:lnTo>
                    <a:pt x="28" y="249"/>
                  </a:lnTo>
                  <a:lnTo>
                    <a:pt x="19" y="216"/>
                  </a:lnTo>
                  <a:lnTo>
                    <a:pt x="17" y="182"/>
                  </a:lnTo>
                  <a:lnTo>
                    <a:pt x="19" y="148"/>
                  </a:lnTo>
                  <a:lnTo>
                    <a:pt x="28" y="116"/>
                  </a:lnTo>
                  <a:lnTo>
                    <a:pt x="38" y="90"/>
                  </a:lnTo>
                  <a:lnTo>
                    <a:pt x="54" y="65"/>
                  </a:lnTo>
                  <a:lnTo>
                    <a:pt x="74" y="46"/>
                  </a:lnTo>
                  <a:lnTo>
                    <a:pt x="92" y="30"/>
                  </a:lnTo>
                  <a:lnTo>
                    <a:pt x="116" y="21"/>
                  </a:lnTo>
                  <a:lnTo>
                    <a:pt x="127" y="19"/>
                  </a:lnTo>
                  <a:lnTo>
                    <a:pt x="141" y="16"/>
                  </a:lnTo>
                  <a:lnTo>
                    <a:pt x="1069" y="16"/>
                  </a:lnTo>
                  <a:lnTo>
                    <a:pt x="1082" y="19"/>
                  </a:lnTo>
                  <a:lnTo>
                    <a:pt x="1093" y="21"/>
                  </a:lnTo>
                  <a:lnTo>
                    <a:pt x="1118" y="30"/>
                  </a:lnTo>
                  <a:lnTo>
                    <a:pt x="1139" y="46"/>
                  </a:lnTo>
                  <a:lnTo>
                    <a:pt x="1156" y="65"/>
                  </a:lnTo>
                  <a:lnTo>
                    <a:pt x="1172" y="90"/>
                  </a:lnTo>
                  <a:lnTo>
                    <a:pt x="1183" y="116"/>
                  </a:lnTo>
                  <a:lnTo>
                    <a:pt x="1190" y="148"/>
                  </a:lnTo>
                  <a:lnTo>
                    <a:pt x="1193" y="182"/>
                  </a:lnTo>
                  <a:lnTo>
                    <a:pt x="1201" y="182"/>
                  </a:lnTo>
                  <a:lnTo>
                    <a:pt x="1209" y="182"/>
                  </a:lnTo>
                  <a:lnTo>
                    <a:pt x="1207" y="146"/>
                  </a:lnTo>
                  <a:lnTo>
                    <a:pt x="1199" y="113"/>
                  </a:lnTo>
                  <a:lnTo>
                    <a:pt x="1185" y="81"/>
                  </a:lnTo>
                  <a:lnTo>
                    <a:pt x="1169" y="55"/>
                  </a:lnTo>
                  <a:lnTo>
                    <a:pt x="1150" y="33"/>
                  </a:lnTo>
                  <a:lnTo>
                    <a:pt x="1126" y="16"/>
                  </a:lnTo>
                  <a:lnTo>
                    <a:pt x="1112" y="9"/>
                  </a:lnTo>
                  <a:lnTo>
                    <a:pt x="1098" y="5"/>
                  </a:lnTo>
                  <a:lnTo>
                    <a:pt x="1085" y="3"/>
                  </a:lnTo>
                  <a:lnTo>
                    <a:pt x="1069" y="0"/>
                  </a:lnTo>
                  <a:lnTo>
                    <a:pt x="141" y="0"/>
                  </a:lnTo>
                  <a:lnTo>
                    <a:pt x="125" y="3"/>
                  </a:lnTo>
                  <a:lnTo>
                    <a:pt x="111" y="5"/>
                  </a:lnTo>
                  <a:lnTo>
                    <a:pt x="97" y="9"/>
                  </a:lnTo>
                  <a:lnTo>
                    <a:pt x="84" y="16"/>
                  </a:lnTo>
                  <a:lnTo>
                    <a:pt x="74" y="25"/>
                  </a:lnTo>
                  <a:lnTo>
                    <a:pt x="62" y="33"/>
                  </a:lnTo>
                  <a:lnTo>
                    <a:pt x="41" y="55"/>
                  </a:lnTo>
                  <a:lnTo>
                    <a:pt x="25" y="81"/>
                  </a:lnTo>
                  <a:lnTo>
                    <a:pt x="11" y="113"/>
                  </a:lnTo>
                  <a:lnTo>
                    <a:pt x="3" y="146"/>
                  </a:lnTo>
                  <a:lnTo>
                    <a:pt x="0" y="182"/>
                  </a:lnTo>
                  <a:lnTo>
                    <a:pt x="3" y="219"/>
                  </a:lnTo>
                  <a:lnTo>
                    <a:pt x="11" y="251"/>
                  </a:lnTo>
                  <a:lnTo>
                    <a:pt x="25" y="284"/>
                  </a:lnTo>
                  <a:lnTo>
                    <a:pt x="41" y="311"/>
                  </a:lnTo>
                  <a:lnTo>
                    <a:pt x="62" y="332"/>
                  </a:lnTo>
                  <a:lnTo>
                    <a:pt x="74" y="341"/>
                  </a:lnTo>
                  <a:lnTo>
                    <a:pt x="84" y="348"/>
                  </a:lnTo>
                  <a:lnTo>
                    <a:pt x="97" y="357"/>
                  </a:lnTo>
                  <a:lnTo>
                    <a:pt x="111" y="359"/>
                  </a:lnTo>
                  <a:lnTo>
                    <a:pt x="125" y="362"/>
                  </a:lnTo>
                  <a:lnTo>
                    <a:pt x="141" y="364"/>
                  </a:lnTo>
                  <a:lnTo>
                    <a:pt x="1069" y="364"/>
                  </a:lnTo>
                  <a:lnTo>
                    <a:pt x="1085" y="362"/>
                  </a:lnTo>
                  <a:lnTo>
                    <a:pt x="1098" y="359"/>
                  </a:lnTo>
                  <a:lnTo>
                    <a:pt x="1112" y="357"/>
                  </a:lnTo>
                  <a:lnTo>
                    <a:pt x="1126" y="348"/>
                  </a:lnTo>
                  <a:lnTo>
                    <a:pt x="1150" y="332"/>
                  </a:lnTo>
                  <a:lnTo>
                    <a:pt x="1169" y="311"/>
                  </a:lnTo>
                  <a:lnTo>
                    <a:pt x="1185" y="284"/>
                  </a:lnTo>
                  <a:lnTo>
                    <a:pt x="1199" y="251"/>
                  </a:lnTo>
                  <a:lnTo>
                    <a:pt x="1207" y="219"/>
                  </a:lnTo>
                  <a:lnTo>
                    <a:pt x="1209" y="182"/>
                  </a:lnTo>
                  <a:lnTo>
                    <a:pt x="1201" y="182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6" name=""/>
            <p:cNvSpPr/>
            <p:nvPr/>
          </p:nvSpPr>
          <p:spPr>
            <a:xfrm>
              <a:off x="1392120" y="3514680"/>
              <a:ext cx="190800" cy="33120"/>
            </a:xfrm>
            <a:custGeom>
              <a:avLst/>
              <a:gdLst/>
              <a:ahLst/>
              <a:rect l="l" t="t" r="r" b="b"/>
              <a:pathLst>
                <a:path w="1184" h="221">
                  <a:moveTo>
                    <a:pt x="8" y="0"/>
                  </a:moveTo>
                  <a:lnTo>
                    <a:pt x="2" y="27"/>
                  </a:lnTo>
                  <a:lnTo>
                    <a:pt x="0" y="55"/>
                  </a:lnTo>
                  <a:lnTo>
                    <a:pt x="2" y="89"/>
                  </a:lnTo>
                  <a:lnTo>
                    <a:pt x="11" y="122"/>
                  </a:lnTo>
                  <a:lnTo>
                    <a:pt x="21" y="149"/>
                  </a:lnTo>
                  <a:lnTo>
                    <a:pt x="37" y="173"/>
                  </a:lnTo>
                  <a:lnTo>
                    <a:pt x="57" y="191"/>
                  </a:lnTo>
                  <a:lnTo>
                    <a:pt x="75" y="208"/>
                  </a:lnTo>
                  <a:lnTo>
                    <a:pt x="99" y="216"/>
                  </a:lnTo>
                  <a:lnTo>
                    <a:pt x="110" y="219"/>
                  </a:lnTo>
                  <a:lnTo>
                    <a:pt x="124" y="221"/>
                  </a:lnTo>
                  <a:lnTo>
                    <a:pt x="1052" y="221"/>
                  </a:lnTo>
                  <a:lnTo>
                    <a:pt x="1065" y="219"/>
                  </a:lnTo>
                  <a:lnTo>
                    <a:pt x="1076" y="216"/>
                  </a:lnTo>
                  <a:lnTo>
                    <a:pt x="1101" y="208"/>
                  </a:lnTo>
                  <a:lnTo>
                    <a:pt x="1122" y="191"/>
                  </a:lnTo>
                  <a:lnTo>
                    <a:pt x="1139" y="173"/>
                  </a:lnTo>
                  <a:lnTo>
                    <a:pt x="1155" y="149"/>
                  </a:lnTo>
                  <a:lnTo>
                    <a:pt x="1166" y="122"/>
                  </a:lnTo>
                  <a:lnTo>
                    <a:pt x="1173" y="89"/>
                  </a:lnTo>
                  <a:lnTo>
                    <a:pt x="1176" y="55"/>
                  </a:lnTo>
                  <a:lnTo>
                    <a:pt x="1184" y="55"/>
                  </a:lnTo>
                  <a:lnTo>
                    <a:pt x="1176" y="55"/>
                  </a:lnTo>
                  <a:lnTo>
                    <a:pt x="1173" y="27"/>
                  </a:lnTo>
                  <a:lnTo>
                    <a:pt x="1168" y="0"/>
                  </a:lnTo>
                  <a:lnTo>
                    <a:pt x="1160" y="19"/>
                  </a:lnTo>
                  <a:lnTo>
                    <a:pt x="1150" y="37"/>
                  </a:lnTo>
                  <a:lnTo>
                    <a:pt x="1136" y="55"/>
                  </a:lnTo>
                  <a:lnTo>
                    <a:pt x="1122" y="67"/>
                  </a:lnTo>
                  <a:lnTo>
                    <a:pt x="1106" y="78"/>
                  </a:lnTo>
                  <a:lnTo>
                    <a:pt x="1090" y="87"/>
                  </a:lnTo>
                  <a:lnTo>
                    <a:pt x="1071" y="92"/>
                  </a:lnTo>
                  <a:lnTo>
                    <a:pt x="1052" y="92"/>
                  </a:lnTo>
                  <a:lnTo>
                    <a:pt x="124" y="92"/>
                  </a:lnTo>
                  <a:lnTo>
                    <a:pt x="105" y="92"/>
                  </a:lnTo>
                  <a:lnTo>
                    <a:pt x="86" y="87"/>
                  </a:lnTo>
                  <a:lnTo>
                    <a:pt x="70" y="78"/>
                  </a:lnTo>
                  <a:lnTo>
                    <a:pt x="54" y="67"/>
                  </a:lnTo>
                  <a:lnTo>
                    <a:pt x="40" y="55"/>
                  </a:lnTo>
                  <a:lnTo>
                    <a:pt x="27" y="37"/>
                  </a:lnTo>
                  <a:lnTo>
                    <a:pt x="16" y="19"/>
                  </a:lnTo>
                  <a:lnTo>
                    <a:pt x="8" y="0"/>
                  </a:lnTo>
                  <a:close/>
                </a:path>
              </a:pathLst>
            </a:custGeom>
            <a:solidFill>
              <a:srgbClr val="e8e8e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7" name=""/>
            <p:cNvSpPr/>
            <p:nvPr/>
          </p:nvSpPr>
          <p:spPr>
            <a:xfrm>
              <a:off x="1390680" y="3512880"/>
              <a:ext cx="192240" cy="36720"/>
            </a:xfrm>
            <a:custGeom>
              <a:avLst/>
              <a:gdLst/>
              <a:ahLst/>
              <a:rect l="l" t="t" r="r" b="b"/>
              <a:pathLst>
                <a:path w="1192" h="244">
                  <a:moveTo>
                    <a:pt x="10" y="0"/>
                  </a:moveTo>
                  <a:lnTo>
                    <a:pt x="2" y="33"/>
                  </a:lnTo>
                  <a:lnTo>
                    <a:pt x="0" y="69"/>
                  </a:lnTo>
                  <a:lnTo>
                    <a:pt x="2" y="103"/>
                  </a:lnTo>
                  <a:lnTo>
                    <a:pt x="10" y="136"/>
                  </a:lnTo>
                  <a:lnTo>
                    <a:pt x="24" y="166"/>
                  </a:lnTo>
                  <a:lnTo>
                    <a:pt x="37" y="192"/>
                  </a:lnTo>
                  <a:lnTo>
                    <a:pt x="59" y="214"/>
                  </a:lnTo>
                  <a:lnTo>
                    <a:pt x="81" y="230"/>
                  </a:lnTo>
                  <a:lnTo>
                    <a:pt x="91" y="235"/>
                  </a:lnTo>
                  <a:lnTo>
                    <a:pt x="104" y="238"/>
                  </a:lnTo>
                  <a:lnTo>
                    <a:pt x="118" y="240"/>
                  </a:lnTo>
                  <a:lnTo>
                    <a:pt x="132" y="244"/>
                  </a:lnTo>
                  <a:lnTo>
                    <a:pt x="1060" y="244"/>
                  </a:lnTo>
                  <a:lnTo>
                    <a:pt x="1073" y="240"/>
                  </a:lnTo>
                  <a:lnTo>
                    <a:pt x="1087" y="238"/>
                  </a:lnTo>
                  <a:lnTo>
                    <a:pt x="1101" y="235"/>
                  </a:lnTo>
                  <a:lnTo>
                    <a:pt x="1112" y="230"/>
                  </a:lnTo>
                  <a:lnTo>
                    <a:pt x="1135" y="214"/>
                  </a:lnTo>
                  <a:lnTo>
                    <a:pt x="1154" y="192"/>
                  </a:lnTo>
                  <a:lnTo>
                    <a:pt x="1170" y="166"/>
                  </a:lnTo>
                  <a:lnTo>
                    <a:pt x="1181" y="136"/>
                  </a:lnTo>
                  <a:lnTo>
                    <a:pt x="1190" y="103"/>
                  </a:lnTo>
                  <a:lnTo>
                    <a:pt x="1192" y="69"/>
                  </a:lnTo>
                  <a:lnTo>
                    <a:pt x="1184" y="69"/>
                  </a:lnTo>
                  <a:lnTo>
                    <a:pt x="1181" y="103"/>
                  </a:lnTo>
                  <a:lnTo>
                    <a:pt x="1174" y="136"/>
                  </a:lnTo>
                  <a:lnTo>
                    <a:pt x="1163" y="163"/>
                  </a:lnTo>
                  <a:lnTo>
                    <a:pt x="1147" y="187"/>
                  </a:lnTo>
                  <a:lnTo>
                    <a:pt x="1130" y="205"/>
                  </a:lnTo>
                  <a:lnTo>
                    <a:pt x="1109" y="222"/>
                  </a:lnTo>
                  <a:lnTo>
                    <a:pt x="1084" y="230"/>
                  </a:lnTo>
                  <a:lnTo>
                    <a:pt x="1073" y="233"/>
                  </a:lnTo>
                  <a:lnTo>
                    <a:pt x="1060" y="235"/>
                  </a:lnTo>
                  <a:lnTo>
                    <a:pt x="132" y="235"/>
                  </a:lnTo>
                  <a:lnTo>
                    <a:pt x="118" y="233"/>
                  </a:lnTo>
                  <a:lnTo>
                    <a:pt x="107" y="230"/>
                  </a:lnTo>
                  <a:lnTo>
                    <a:pt x="83" y="222"/>
                  </a:lnTo>
                  <a:lnTo>
                    <a:pt x="65" y="205"/>
                  </a:lnTo>
                  <a:lnTo>
                    <a:pt x="45" y="187"/>
                  </a:lnTo>
                  <a:lnTo>
                    <a:pt x="29" y="163"/>
                  </a:lnTo>
                  <a:lnTo>
                    <a:pt x="19" y="136"/>
                  </a:lnTo>
                  <a:lnTo>
                    <a:pt x="10" y="103"/>
                  </a:lnTo>
                  <a:lnTo>
                    <a:pt x="8" y="69"/>
                  </a:lnTo>
                  <a:lnTo>
                    <a:pt x="10" y="41"/>
                  </a:lnTo>
                  <a:lnTo>
                    <a:pt x="16" y="14"/>
                  </a:lnTo>
                  <a:lnTo>
                    <a:pt x="10" y="0"/>
                  </a:lnTo>
                  <a:close/>
                  <a:moveTo>
                    <a:pt x="1181" y="0"/>
                  </a:moveTo>
                  <a:lnTo>
                    <a:pt x="1176" y="14"/>
                  </a:lnTo>
                  <a:lnTo>
                    <a:pt x="1181" y="41"/>
                  </a:lnTo>
                  <a:lnTo>
                    <a:pt x="1184" y="69"/>
                  </a:lnTo>
                  <a:lnTo>
                    <a:pt x="1192" y="69"/>
                  </a:lnTo>
                  <a:lnTo>
                    <a:pt x="1190" y="33"/>
                  </a:lnTo>
                  <a:lnTo>
                    <a:pt x="1181" y="0"/>
                  </a:lnTo>
                  <a:close/>
                </a:path>
              </a:pathLst>
            </a:custGeom>
            <a:solidFill>
              <a:srgbClr val="6c3b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8" name=""/>
            <p:cNvSpPr/>
            <p:nvPr/>
          </p:nvSpPr>
          <p:spPr>
            <a:xfrm>
              <a:off x="1649520" y="3495600"/>
              <a:ext cx="193680" cy="54000"/>
            </a:xfrm>
            <a:custGeom>
              <a:avLst/>
              <a:gdLst/>
              <a:ahLst/>
              <a:rect l="l" t="t" r="r" b="b"/>
              <a:pathLst>
                <a:path w="1194" h="348">
                  <a:moveTo>
                    <a:pt x="1194" y="173"/>
                  </a:moveTo>
                  <a:lnTo>
                    <a:pt x="1191" y="207"/>
                  </a:lnTo>
                  <a:lnTo>
                    <a:pt x="1183" y="240"/>
                  </a:lnTo>
                  <a:lnTo>
                    <a:pt x="1169" y="270"/>
                  </a:lnTo>
                  <a:lnTo>
                    <a:pt x="1153" y="296"/>
                  </a:lnTo>
                  <a:lnTo>
                    <a:pt x="1134" y="318"/>
                  </a:lnTo>
                  <a:lnTo>
                    <a:pt x="1113" y="334"/>
                  </a:lnTo>
                  <a:lnTo>
                    <a:pt x="1102" y="339"/>
                  </a:lnTo>
                  <a:lnTo>
                    <a:pt x="1088" y="342"/>
                  </a:lnTo>
                  <a:lnTo>
                    <a:pt x="1075" y="344"/>
                  </a:lnTo>
                  <a:lnTo>
                    <a:pt x="1061" y="348"/>
                  </a:lnTo>
                  <a:lnTo>
                    <a:pt x="133" y="348"/>
                  </a:lnTo>
                  <a:lnTo>
                    <a:pt x="120" y="344"/>
                  </a:lnTo>
                  <a:lnTo>
                    <a:pt x="106" y="342"/>
                  </a:lnTo>
                  <a:lnTo>
                    <a:pt x="92" y="339"/>
                  </a:lnTo>
                  <a:lnTo>
                    <a:pt x="82" y="334"/>
                  </a:lnTo>
                  <a:lnTo>
                    <a:pt x="58" y="318"/>
                  </a:lnTo>
                  <a:lnTo>
                    <a:pt x="39" y="296"/>
                  </a:lnTo>
                  <a:lnTo>
                    <a:pt x="23" y="270"/>
                  </a:lnTo>
                  <a:lnTo>
                    <a:pt x="12" y="240"/>
                  </a:lnTo>
                  <a:lnTo>
                    <a:pt x="4" y="207"/>
                  </a:lnTo>
                  <a:lnTo>
                    <a:pt x="0" y="173"/>
                  </a:lnTo>
                  <a:lnTo>
                    <a:pt x="4" y="139"/>
                  </a:lnTo>
                  <a:lnTo>
                    <a:pt x="12" y="107"/>
                  </a:lnTo>
                  <a:lnTo>
                    <a:pt x="23" y="78"/>
                  </a:lnTo>
                  <a:lnTo>
                    <a:pt x="39" y="51"/>
                  </a:lnTo>
                  <a:lnTo>
                    <a:pt x="58" y="29"/>
                  </a:lnTo>
                  <a:lnTo>
                    <a:pt x="82" y="12"/>
                  </a:lnTo>
                  <a:lnTo>
                    <a:pt x="92" y="7"/>
                  </a:lnTo>
                  <a:lnTo>
                    <a:pt x="106" y="5"/>
                  </a:lnTo>
                  <a:lnTo>
                    <a:pt x="120" y="2"/>
                  </a:lnTo>
                  <a:lnTo>
                    <a:pt x="133" y="0"/>
                  </a:lnTo>
                  <a:lnTo>
                    <a:pt x="1061" y="0"/>
                  </a:lnTo>
                  <a:lnTo>
                    <a:pt x="1075" y="2"/>
                  </a:lnTo>
                  <a:lnTo>
                    <a:pt x="1088" y="5"/>
                  </a:lnTo>
                  <a:lnTo>
                    <a:pt x="1102" y="7"/>
                  </a:lnTo>
                  <a:lnTo>
                    <a:pt x="1113" y="12"/>
                  </a:lnTo>
                  <a:lnTo>
                    <a:pt x="1134" y="29"/>
                  </a:lnTo>
                  <a:lnTo>
                    <a:pt x="1153" y="51"/>
                  </a:lnTo>
                  <a:lnTo>
                    <a:pt x="1169" y="78"/>
                  </a:lnTo>
                  <a:lnTo>
                    <a:pt x="1183" y="107"/>
                  </a:lnTo>
                  <a:lnTo>
                    <a:pt x="1191" y="139"/>
                  </a:lnTo>
                  <a:lnTo>
                    <a:pt x="1194" y="173"/>
                  </a:lnTo>
                  <a:close/>
                </a:path>
              </a:pathLst>
            </a:custGeom>
            <a:solidFill>
              <a:srgbClr val="f8f5a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7200" bIns="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9" name=""/>
            <p:cNvSpPr/>
            <p:nvPr/>
          </p:nvSpPr>
          <p:spPr>
            <a:xfrm>
              <a:off x="1647720" y="3494160"/>
              <a:ext cx="195480" cy="55440"/>
            </a:xfrm>
            <a:custGeom>
              <a:avLst/>
              <a:gdLst/>
              <a:ahLst/>
              <a:rect l="l" t="t" r="r" b="b"/>
              <a:pathLst>
                <a:path w="1209" h="364">
                  <a:moveTo>
                    <a:pt x="1201" y="182"/>
                  </a:moveTo>
                  <a:lnTo>
                    <a:pt x="1192" y="182"/>
                  </a:lnTo>
                  <a:lnTo>
                    <a:pt x="1190" y="216"/>
                  </a:lnTo>
                  <a:lnTo>
                    <a:pt x="1182" y="249"/>
                  </a:lnTo>
                  <a:lnTo>
                    <a:pt x="1171" y="276"/>
                  </a:lnTo>
                  <a:lnTo>
                    <a:pt x="1155" y="300"/>
                  </a:lnTo>
                  <a:lnTo>
                    <a:pt x="1136" y="318"/>
                  </a:lnTo>
                  <a:lnTo>
                    <a:pt x="1117" y="335"/>
                  </a:lnTo>
                  <a:lnTo>
                    <a:pt x="1093" y="343"/>
                  </a:lnTo>
                  <a:lnTo>
                    <a:pt x="1082" y="346"/>
                  </a:lnTo>
                  <a:lnTo>
                    <a:pt x="1068" y="348"/>
                  </a:lnTo>
                  <a:lnTo>
                    <a:pt x="140" y="348"/>
                  </a:lnTo>
                  <a:lnTo>
                    <a:pt x="127" y="346"/>
                  </a:lnTo>
                  <a:lnTo>
                    <a:pt x="113" y="343"/>
                  </a:lnTo>
                  <a:lnTo>
                    <a:pt x="92" y="335"/>
                  </a:lnTo>
                  <a:lnTo>
                    <a:pt x="70" y="318"/>
                  </a:lnTo>
                  <a:lnTo>
                    <a:pt x="51" y="300"/>
                  </a:lnTo>
                  <a:lnTo>
                    <a:pt x="37" y="276"/>
                  </a:lnTo>
                  <a:lnTo>
                    <a:pt x="27" y="249"/>
                  </a:lnTo>
                  <a:lnTo>
                    <a:pt x="19" y="216"/>
                  </a:lnTo>
                  <a:lnTo>
                    <a:pt x="16" y="182"/>
                  </a:lnTo>
                  <a:lnTo>
                    <a:pt x="19" y="148"/>
                  </a:lnTo>
                  <a:lnTo>
                    <a:pt x="27" y="116"/>
                  </a:lnTo>
                  <a:lnTo>
                    <a:pt x="37" y="90"/>
                  </a:lnTo>
                  <a:lnTo>
                    <a:pt x="51" y="65"/>
                  </a:lnTo>
                  <a:lnTo>
                    <a:pt x="70" y="46"/>
                  </a:lnTo>
                  <a:lnTo>
                    <a:pt x="92" y="30"/>
                  </a:lnTo>
                  <a:lnTo>
                    <a:pt x="113" y="21"/>
                  </a:lnTo>
                  <a:lnTo>
                    <a:pt x="127" y="19"/>
                  </a:lnTo>
                  <a:lnTo>
                    <a:pt x="140" y="16"/>
                  </a:lnTo>
                  <a:lnTo>
                    <a:pt x="1068" y="16"/>
                  </a:lnTo>
                  <a:lnTo>
                    <a:pt x="1082" y="19"/>
                  </a:lnTo>
                  <a:lnTo>
                    <a:pt x="1093" y="21"/>
                  </a:lnTo>
                  <a:lnTo>
                    <a:pt x="1117" y="30"/>
                  </a:lnTo>
                  <a:lnTo>
                    <a:pt x="1136" y="46"/>
                  </a:lnTo>
                  <a:lnTo>
                    <a:pt x="1155" y="65"/>
                  </a:lnTo>
                  <a:lnTo>
                    <a:pt x="1171" y="90"/>
                  </a:lnTo>
                  <a:lnTo>
                    <a:pt x="1182" y="116"/>
                  </a:lnTo>
                  <a:lnTo>
                    <a:pt x="1190" y="148"/>
                  </a:lnTo>
                  <a:lnTo>
                    <a:pt x="1192" y="182"/>
                  </a:lnTo>
                  <a:lnTo>
                    <a:pt x="1201" y="182"/>
                  </a:lnTo>
                  <a:lnTo>
                    <a:pt x="1209" y="182"/>
                  </a:lnTo>
                  <a:lnTo>
                    <a:pt x="1206" y="146"/>
                  </a:lnTo>
                  <a:lnTo>
                    <a:pt x="1198" y="113"/>
                  </a:lnTo>
                  <a:lnTo>
                    <a:pt x="1185" y="81"/>
                  </a:lnTo>
                  <a:lnTo>
                    <a:pt x="1169" y="55"/>
                  </a:lnTo>
                  <a:lnTo>
                    <a:pt x="1146" y="33"/>
                  </a:lnTo>
                  <a:lnTo>
                    <a:pt x="1136" y="25"/>
                  </a:lnTo>
                  <a:lnTo>
                    <a:pt x="1123" y="16"/>
                  </a:lnTo>
                  <a:lnTo>
                    <a:pt x="1112" y="9"/>
                  </a:lnTo>
                  <a:lnTo>
                    <a:pt x="1098" y="5"/>
                  </a:lnTo>
                  <a:lnTo>
                    <a:pt x="1082" y="3"/>
                  </a:lnTo>
                  <a:lnTo>
                    <a:pt x="1068" y="0"/>
                  </a:lnTo>
                  <a:lnTo>
                    <a:pt x="140" y="0"/>
                  </a:lnTo>
                  <a:lnTo>
                    <a:pt x="124" y="3"/>
                  </a:lnTo>
                  <a:lnTo>
                    <a:pt x="110" y="5"/>
                  </a:lnTo>
                  <a:lnTo>
                    <a:pt x="97" y="9"/>
                  </a:lnTo>
                  <a:lnTo>
                    <a:pt x="83" y="16"/>
                  </a:lnTo>
                  <a:lnTo>
                    <a:pt x="73" y="25"/>
                  </a:lnTo>
                  <a:lnTo>
                    <a:pt x="59" y="33"/>
                  </a:lnTo>
                  <a:lnTo>
                    <a:pt x="41" y="55"/>
                  </a:lnTo>
                  <a:lnTo>
                    <a:pt x="21" y="81"/>
                  </a:lnTo>
                  <a:lnTo>
                    <a:pt x="11" y="113"/>
                  </a:lnTo>
                  <a:lnTo>
                    <a:pt x="2" y="146"/>
                  </a:lnTo>
                  <a:lnTo>
                    <a:pt x="0" y="182"/>
                  </a:lnTo>
                  <a:lnTo>
                    <a:pt x="2" y="219"/>
                  </a:lnTo>
                  <a:lnTo>
                    <a:pt x="11" y="251"/>
                  </a:lnTo>
                  <a:lnTo>
                    <a:pt x="21" y="284"/>
                  </a:lnTo>
                  <a:lnTo>
                    <a:pt x="41" y="311"/>
                  </a:lnTo>
                  <a:lnTo>
                    <a:pt x="59" y="332"/>
                  </a:lnTo>
                  <a:lnTo>
                    <a:pt x="73" y="341"/>
                  </a:lnTo>
                  <a:lnTo>
                    <a:pt x="83" y="348"/>
                  </a:lnTo>
                  <a:lnTo>
                    <a:pt x="97" y="357"/>
                  </a:lnTo>
                  <a:lnTo>
                    <a:pt x="110" y="359"/>
                  </a:lnTo>
                  <a:lnTo>
                    <a:pt x="124" y="362"/>
                  </a:lnTo>
                  <a:lnTo>
                    <a:pt x="140" y="364"/>
                  </a:lnTo>
                  <a:lnTo>
                    <a:pt x="1068" y="364"/>
                  </a:lnTo>
                  <a:lnTo>
                    <a:pt x="1082" y="362"/>
                  </a:lnTo>
                  <a:lnTo>
                    <a:pt x="1098" y="359"/>
                  </a:lnTo>
                  <a:lnTo>
                    <a:pt x="1112" y="357"/>
                  </a:lnTo>
                  <a:lnTo>
                    <a:pt x="1123" y="348"/>
                  </a:lnTo>
                  <a:lnTo>
                    <a:pt x="1136" y="341"/>
                  </a:lnTo>
                  <a:lnTo>
                    <a:pt x="1146" y="332"/>
                  </a:lnTo>
                  <a:lnTo>
                    <a:pt x="1169" y="311"/>
                  </a:lnTo>
                  <a:lnTo>
                    <a:pt x="1185" y="284"/>
                  </a:lnTo>
                  <a:lnTo>
                    <a:pt x="1198" y="251"/>
                  </a:lnTo>
                  <a:lnTo>
                    <a:pt x="1206" y="219"/>
                  </a:lnTo>
                  <a:lnTo>
                    <a:pt x="1209" y="182"/>
                  </a:lnTo>
                  <a:lnTo>
                    <a:pt x="1201" y="182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0" name=""/>
            <p:cNvSpPr/>
            <p:nvPr/>
          </p:nvSpPr>
          <p:spPr>
            <a:xfrm>
              <a:off x="1650960" y="3514680"/>
              <a:ext cx="192240" cy="33120"/>
            </a:xfrm>
            <a:custGeom>
              <a:avLst/>
              <a:gdLst/>
              <a:ahLst/>
              <a:rect l="l" t="t" r="r" b="b"/>
              <a:pathLst>
                <a:path w="1185" h="221">
                  <a:moveTo>
                    <a:pt x="5" y="0"/>
                  </a:moveTo>
                  <a:lnTo>
                    <a:pt x="0" y="27"/>
                  </a:lnTo>
                  <a:lnTo>
                    <a:pt x="0" y="55"/>
                  </a:lnTo>
                  <a:lnTo>
                    <a:pt x="3" y="89"/>
                  </a:lnTo>
                  <a:lnTo>
                    <a:pt x="11" y="122"/>
                  </a:lnTo>
                  <a:lnTo>
                    <a:pt x="21" y="149"/>
                  </a:lnTo>
                  <a:lnTo>
                    <a:pt x="35" y="173"/>
                  </a:lnTo>
                  <a:lnTo>
                    <a:pt x="54" y="191"/>
                  </a:lnTo>
                  <a:lnTo>
                    <a:pt x="76" y="208"/>
                  </a:lnTo>
                  <a:lnTo>
                    <a:pt x="97" y="216"/>
                  </a:lnTo>
                  <a:lnTo>
                    <a:pt x="111" y="219"/>
                  </a:lnTo>
                  <a:lnTo>
                    <a:pt x="124" y="221"/>
                  </a:lnTo>
                  <a:lnTo>
                    <a:pt x="1052" y="221"/>
                  </a:lnTo>
                  <a:lnTo>
                    <a:pt x="1066" y="219"/>
                  </a:lnTo>
                  <a:lnTo>
                    <a:pt x="1077" y="216"/>
                  </a:lnTo>
                  <a:lnTo>
                    <a:pt x="1101" y="208"/>
                  </a:lnTo>
                  <a:lnTo>
                    <a:pt x="1120" y="191"/>
                  </a:lnTo>
                  <a:lnTo>
                    <a:pt x="1139" y="173"/>
                  </a:lnTo>
                  <a:lnTo>
                    <a:pt x="1155" y="149"/>
                  </a:lnTo>
                  <a:lnTo>
                    <a:pt x="1166" y="122"/>
                  </a:lnTo>
                  <a:lnTo>
                    <a:pt x="1174" y="89"/>
                  </a:lnTo>
                  <a:lnTo>
                    <a:pt x="1176" y="55"/>
                  </a:lnTo>
                  <a:lnTo>
                    <a:pt x="1185" y="55"/>
                  </a:lnTo>
                  <a:lnTo>
                    <a:pt x="1176" y="55"/>
                  </a:lnTo>
                  <a:lnTo>
                    <a:pt x="1174" y="27"/>
                  </a:lnTo>
                  <a:lnTo>
                    <a:pt x="1169" y="0"/>
                  </a:lnTo>
                  <a:lnTo>
                    <a:pt x="1160" y="19"/>
                  </a:lnTo>
                  <a:lnTo>
                    <a:pt x="1150" y="37"/>
                  </a:lnTo>
                  <a:lnTo>
                    <a:pt x="1137" y="55"/>
                  </a:lnTo>
                  <a:lnTo>
                    <a:pt x="1120" y="67"/>
                  </a:lnTo>
                  <a:lnTo>
                    <a:pt x="1107" y="78"/>
                  </a:lnTo>
                  <a:lnTo>
                    <a:pt x="1088" y="87"/>
                  </a:lnTo>
                  <a:lnTo>
                    <a:pt x="1072" y="92"/>
                  </a:lnTo>
                  <a:lnTo>
                    <a:pt x="1052" y="92"/>
                  </a:lnTo>
                  <a:lnTo>
                    <a:pt x="124" y="92"/>
                  </a:lnTo>
                  <a:lnTo>
                    <a:pt x="106" y="92"/>
                  </a:lnTo>
                  <a:lnTo>
                    <a:pt x="87" y="87"/>
                  </a:lnTo>
                  <a:lnTo>
                    <a:pt x="71" y="78"/>
                  </a:lnTo>
                  <a:lnTo>
                    <a:pt x="54" y="67"/>
                  </a:lnTo>
                  <a:lnTo>
                    <a:pt x="41" y="55"/>
                  </a:lnTo>
                  <a:lnTo>
                    <a:pt x="27" y="37"/>
                  </a:lnTo>
                  <a:lnTo>
                    <a:pt x="16" y="19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f6d2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1" name=""/>
            <p:cNvSpPr/>
            <p:nvPr/>
          </p:nvSpPr>
          <p:spPr>
            <a:xfrm>
              <a:off x="1649520" y="3512880"/>
              <a:ext cx="193680" cy="36720"/>
            </a:xfrm>
            <a:custGeom>
              <a:avLst/>
              <a:gdLst/>
              <a:ahLst/>
              <a:rect l="l" t="t" r="r" b="b"/>
              <a:pathLst>
                <a:path w="1194" h="244">
                  <a:moveTo>
                    <a:pt x="12" y="0"/>
                  </a:moveTo>
                  <a:lnTo>
                    <a:pt x="4" y="33"/>
                  </a:lnTo>
                  <a:lnTo>
                    <a:pt x="0" y="69"/>
                  </a:lnTo>
                  <a:lnTo>
                    <a:pt x="4" y="103"/>
                  </a:lnTo>
                  <a:lnTo>
                    <a:pt x="12" y="136"/>
                  </a:lnTo>
                  <a:lnTo>
                    <a:pt x="23" y="166"/>
                  </a:lnTo>
                  <a:lnTo>
                    <a:pt x="39" y="192"/>
                  </a:lnTo>
                  <a:lnTo>
                    <a:pt x="58" y="214"/>
                  </a:lnTo>
                  <a:lnTo>
                    <a:pt x="82" y="230"/>
                  </a:lnTo>
                  <a:lnTo>
                    <a:pt x="92" y="235"/>
                  </a:lnTo>
                  <a:lnTo>
                    <a:pt x="106" y="238"/>
                  </a:lnTo>
                  <a:lnTo>
                    <a:pt x="120" y="240"/>
                  </a:lnTo>
                  <a:lnTo>
                    <a:pt x="133" y="244"/>
                  </a:lnTo>
                  <a:lnTo>
                    <a:pt x="1061" y="244"/>
                  </a:lnTo>
                  <a:lnTo>
                    <a:pt x="1075" y="240"/>
                  </a:lnTo>
                  <a:lnTo>
                    <a:pt x="1088" y="238"/>
                  </a:lnTo>
                  <a:lnTo>
                    <a:pt x="1102" y="235"/>
                  </a:lnTo>
                  <a:lnTo>
                    <a:pt x="1113" y="230"/>
                  </a:lnTo>
                  <a:lnTo>
                    <a:pt x="1134" y="214"/>
                  </a:lnTo>
                  <a:lnTo>
                    <a:pt x="1153" y="192"/>
                  </a:lnTo>
                  <a:lnTo>
                    <a:pt x="1169" y="166"/>
                  </a:lnTo>
                  <a:lnTo>
                    <a:pt x="1183" y="136"/>
                  </a:lnTo>
                  <a:lnTo>
                    <a:pt x="1191" y="103"/>
                  </a:lnTo>
                  <a:lnTo>
                    <a:pt x="1194" y="69"/>
                  </a:lnTo>
                  <a:lnTo>
                    <a:pt x="1185" y="69"/>
                  </a:lnTo>
                  <a:lnTo>
                    <a:pt x="1183" y="103"/>
                  </a:lnTo>
                  <a:lnTo>
                    <a:pt x="1175" y="136"/>
                  </a:lnTo>
                  <a:lnTo>
                    <a:pt x="1164" y="163"/>
                  </a:lnTo>
                  <a:lnTo>
                    <a:pt x="1148" y="187"/>
                  </a:lnTo>
                  <a:lnTo>
                    <a:pt x="1129" y="205"/>
                  </a:lnTo>
                  <a:lnTo>
                    <a:pt x="1110" y="222"/>
                  </a:lnTo>
                  <a:lnTo>
                    <a:pt x="1086" y="230"/>
                  </a:lnTo>
                  <a:lnTo>
                    <a:pt x="1075" y="233"/>
                  </a:lnTo>
                  <a:lnTo>
                    <a:pt x="1061" y="235"/>
                  </a:lnTo>
                  <a:lnTo>
                    <a:pt x="133" y="235"/>
                  </a:lnTo>
                  <a:lnTo>
                    <a:pt x="120" y="233"/>
                  </a:lnTo>
                  <a:lnTo>
                    <a:pt x="106" y="230"/>
                  </a:lnTo>
                  <a:lnTo>
                    <a:pt x="85" y="222"/>
                  </a:lnTo>
                  <a:lnTo>
                    <a:pt x="63" y="205"/>
                  </a:lnTo>
                  <a:lnTo>
                    <a:pt x="44" y="187"/>
                  </a:lnTo>
                  <a:lnTo>
                    <a:pt x="30" y="163"/>
                  </a:lnTo>
                  <a:lnTo>
                    <a:pt x="20" y="136"/>
                  </a:lnTo>
                  <a:lnTo>
                    <a:pt x="12" y="103"/>
                  </a:lnTo>
                  <a:lnTo>
                    <a:pt x="9" y="69"/>
                  </a:lnTo>
                  <a:lnTo>
                    <a:pt x="9" y="41"/>
                  </a:lnTo>
                  <a:lnTo>
                    <a:pt x="14" y="14"/>
                  </a:lnTo>
                  <a:lnTo>
                    <a:pt x="12" y="0"/>
                  </a:lnTo>
                  <a:close/>
                  <a:moveTo>
                    <a:pt x="1183" y="0"/>
                  </a:moveTo>
                  <a:lnTo>
                    <a:pt x="1178" y="14"/>
                  </a:lnTo>
                  <a:lnTo>
                    <a:pt x="1183" y="41"/>
                  </a:lnTo>
                  <a:lnTo>
                    <a:pt x="1185" y="69"/>
                  </a:lnTo>
                  <a:lnTo>
                    <a:pt x="1194" y="69"/>
                  </a:lnTo>
                  <a:lnTo>
                    <a:pt x="1191" y="33"/>
                  </a:lnTo>
                  <a:lnTo>
                    <a:pt x="1183" y="0"/>
                  </a:lnTo>
                  <a:close/>
                </a:path>
              </a:pathLst>
            </a:custGeom>
            <a:solidFill>
              <a:srgbClr val="7537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2" name=""/>
            <p:cNvSpPr/>
            <p:nvPr/>
          </p:nvSpPr>
          <p:spPr>
            <a:xfrm>
              <a:off x="2086200" y="3375000"/>
              <a:ext cx="320400" cy="195120"/>
            </a:xfrm>
            <a:custGeom>
              <a:avLst/>
              <a:gdLst/>
              <a:ahLst/>
              <a:rect l="l" t="t" r="r" b="b"/>
              <a:pathLst>
                <a:path w="1992" h="1289">
                  <a:moveTo>
                    <a:pt x="1992" y="644"/>
                  </a:moveTo>
                  <a:lnTo>
                    <a:pt x="1989" y="677"/>
                  </a:lnTo>
                  <a:lnTo>
                    <a:pt x="1989" y="712"/>
                  </a:lnTo>
                  <a:lnTo>
                    <a:pt x="1978" y="774"/>
                  </a:lnTo>
                  <a:lnTo>
                    <a:pt x="1962" y="836"/>
                  </a:lnTo>
                  <a:lnTo>
                    <a:pt x="1943" y="895"/>
                  </a:lnTo>
                  <a:lnTo>
                    <a:pt x="1916" y="951"/>
                  </a:lnTo>
                  <a:lnTo>
                    <a:pt x="1884" y="1006"/>
                  </a:lnTo>
                  <a:lnTo>
                    <a:pt x="1849" y="1054"/>
                  </a:lnTo>
                  <a:lnTo>
                    <a:pt x="1809" y="1100"/>
                  </a:lnTo>
                  <a:lnTo>
                    <a:pt x="1763" y="1144"/>
                  </a:lnTo>
                  <a:lnTo>
                    <a:pt x="1715" y="1181"/>
                  </a:lnTo>
                  <a:lnTo>
                    <a:pt x="1663" y="1211"/>
                  </a:lnTo>
                  <a:lnTo>
                    <a:pt x="1609" y="1241"/>
                  </a:lnTo>
                  <a:lnTo>
                    <a:pt x="1549" y="1262"/>
                  </a:lnTo>
                  <a:lnTo>
                    <a:pt x="1490" y="1278"/>
                  </a:lnTo>
                  <a:lnTo>
                    <a:pt x="1460" y="1284"/>
                  </a:lnTo>
                  <a:lnTo>
                    <a:pt x="1428" y="1287"/>
                  </a:lnTo>
                  <a:lnTo>
                    <a:pt x="1395" y="1289"/>
                  </a:lnTo>
                  <a:lnTo>
                    <a:pt x="1363" y="1289"/>
                  </a:lnTo>
                  <a:lnTo>
                    <a:pt x="627" y="1289"/>
                  </a:lnTo>
                  <a:lnTo>
                    <a:pt x="594" y="1289"/>
                  </a:lnTo>
                  <a:lnTo>
                    <a:pt x="562" y="1287"/>
                  </a:lnTo>
                  <a:lnTo>
                    <a:pt x="532" y="1284"/>
                  </a:lnTo>
                  <a:lnTo>
                    <a:pt x="500" y="1278"/>
                  </a:lnTo>
                  <a:lnTo>
                    <a:pt x="440" y="1262"/>
                  </a:lnTo>
                  <a:lnTo>
                    <a:pt x="381" y="1241"/>
                  </a:lnTo>
                  <a:lnTo>
                    <a:pt x="327" y="1211"/>
                  </a:lnTo>
                  <a:lnTo>
                    <a:pt x="275" y="1181"/>
                  </a:lnTo>
                  <a:lnTo>
                    <a:pt x="227" y="1144"/>
                  </a:lnTo>
                  <a:lnTo>
                    <a:pt x="184" y="1100"/>
                  </a:lnTo>
                  <a:lnTo>
                    <a:pt x="143" y="1054"/>
                  </a:lnTo>
                  <a:lnTo>
                    <a:pt x="106" y="1006"/>
                  </a:lnTo>
                  <a:lnTo>
                    <a:pt x="76" y="951"/>
                  </a:lnTo>
                  <a:lnTo>
                    <a:pt x="49" y="895"/>
                  </a:lnTo>
                  <a:lnTo>
                    <a:pt x="28" y="836"/>
                  </a:lnTo>
                  <a:lnTo>
                    <a:pt x="12" y="774"/>
                  </a:lnTo>
                  <a:lnTo>
                    <a:pt x="3" y="712"/>
                  </a:lnTo>
                  <a:lnTo>
                    <a:pt x="0" y="677"/>
                  </a:lnTo>
                  <a:lnTo>
                    <a:pt x="0" y="644"/>
                  </a:lnTo>
                  <a:lnTo>
                    <a:pt x="0" y="612"/>
                  </a:lnTo>
                  <a:lnTo>
                    <a:pt x="3" y="580"/>
                  </a:lnTo>
                  <a:lnTo>
                    <a:pt x="12" y="515"/>
                  </a:lnTo>
                  <a:lnTo>
                    <a:pt x="28" y="453"/>
                  </a:lnTo>
                  <a:lnTo>
                    <a:pt x="49" y="393"/>
                  </a:lnTo>
                  <a:lnTo>
                    <a:pt x="76" y="336"/>
                  </a:lnTo>
                  <a:lnTo>
                    <a:pt x="106" y="283"/>
                  </a:lnTo>
                  <a:lnTo>
                    <a:pt x="143" y="234"/>
                  </a:lnTo>
                  <a:lnTo>
                    <a:pt x="184" y="188"/>
                  </a:lnTo>
                  <a:lnTo>
                    <a:pt x="227" y="145"/>
                  </a:lnTo>
                  <a:lnTo>
                    <a:pt x="275" y="110"/>
                  </a:lnTo>
                  <a:lnTo>
                    <a:pt x="327" y="78"/>
                  </a:lnTo>
                  <a:lnTo>
                    <a:pt x="381" y="51"/>
                  </a:lnTo>
                  <a:lnTo>
                    <a:pt x="440" y="29"/>
                  </a:lnTo>
                  <a:lnTo>
                    <a:pt x="500" y="13"/>
                  </a:lnTo>
                  <a:lnTo>
                    <a:pt x="532" y="8"/>
                  </a:lnTo>
                  <a:lnTo>
                    <a:pt x="562" y="2"/>
                  </a:lnTo>
                  <a:lnTo>
                    <a:pt x="594" y="0"/>
                  </a:lnTo>
                  <a:lnTo>
                    <a:pt x="627" y="0"/>
                  </a:lnTo>
                  <a:lnTo>
                    <a:pt x="1363" y="0"/>
                  </a:lnTo>
                  <a:lnTo>
                    <a:pt x="1395" y="0"/>
                  </a:lnTo>
                  <a:lnTo>
                    <a:pt x="1428" y="2"/>
                  </a:lnTo>
                  <a:lnTo>
                    <a:pt x="1460" y="8"/>
                  </a:lnTo>
                  <a:lnTo>
                    <a:pt x="1490" y="13"/>
                  </a:lnTo>
                  <a:lnTo>
                    <a:pt x="1549" y="29"/>
                  </a:lnTo>
                  <a:lnTo>
                    <a:pt x="1609" y="51"/>
                  </a:lnTo>
                  <a:lnTo>
                    <a:pt x="1663" y="78"/>
                  </a:lnTo>
                  <a:lnTo>
                    <a:pt x="1715" y="110"/>
                  </a:lnTo>
                  <a:lnTo>
                    <a:pt x="1763" y="145"/>
                  </a:lnTo>
                  <a:lnTo>
                    <a:pt x="1809" y="188"/>
                  </a:lnTo>
                  <a:lnTo>
                    <a:pt x="1849" y="234"/>
                  </a:lnTo>
                  <a:lnTo>
                    <a:pt x="1884" y="283"/>
                  </a:lnTo>
                  <a:lnTo>
                    <a:pt x="1916" y="336"/>
                  </a:lnTo>
                  <a:lnTo>
                    <a:pt x="1943" y="393"/>
                  </a:lnTo>
                  <a:lnTo>
                    <a:pt x="1962" y="453"/>
                  </a:lnTo>
                  <a:lnTo>
                    <a:pt x="1978" y="515"/>
                  </a:lnTo>
                  <a:lnTo>
                    <a:pt x="1989" y="580"/>
                  </a:lnTo>
                  <a:lnTo>
                    <a:pt x="1989" y="612"/>
                  </a:lnTo>
                  <a:lnTo>
                    <a:pt x="1992" y="644"/>
                  </a:lnTo>
                  <a:close/>
                </a:path>
              </a:pathLst>
            </a:custGeom>
            <a:solidFill>
              <a:srgbClr val="f3f3f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3" name=""/>
            <p:cNvSpPr/>
            <p:nvPr/>
          </p:nvSpPr>
          <p:spPr>
            <a:xfrm>
              <a:off x="2082960" y="3373200"/>
              <a:ext cx="325440" cy="200160"/>
            </a:xfrm>
            <a:custGeom>
              <a:avLst/>
              <a:gdLst/>
              <a:ahLst/>
              <a:rect l="l" t="t" r="r" b="b"/>
              <a:pathLst>
                <a:path w="2008" h="1305">
                  <a:moveTo>
                    <a:pt x="2000" y="652"/>
                  </a:moveTo>
                  <a:lnTo>
                    <a:pt x="1992" y="652"/>
                  </a:lnTo>
                  <a:lnTo>
                    <a:pt x="1990" y="717"/>
                  </a:lnTo>
                  <a:lnTo>
                    <a:pt x="1978" y="782"/>
                  </a:lnTo>
                  <a:lnTo>
                    <a:pt x="1962" y="841"/>
                  </a:lnTo>
                  <a:lnTo>
                    <a:pt x="1944" y="901"/>
                  </a:lnTo>
                  <a:lnTo>
                    <a:pt x="1916" y="957"/>
                  </a:lnTo>
                  <a:lnTo>
                    <a:pt x="1887" y="1009"/>
                  </a:lnTo>
                  <a:lnTo>
                    <a:pt x="1849" y="1057"/>
                  </a:lnTo>
                  <a:lnTo>
                    <a:pt x="1811" y="1103"/>
                  </a:lnTo>
                  <a:lnTo>
                    <a:pt x="1765" y="1143"/>
                  </a:lnTo>
                  <a:lnTo>
                    <a:pt x="1719" y="1182"/>
                  </a:lnTo>
                  <a:lnTo>
                    <a:pt x="1668" y="1214"/>
                  </a:lnTo>
                  <a:lnTo>
                    <a:pt x="1614" y="1240"/>
                  </a:lnTo>
                  <a:lnTo>
                    <a:pt x="1557" y="1262"/>
                  </a:lnTo>
                  <a:lnTo>
                    <a:pt x="1498" y="1278"/>
                  </a:lnTo>
                  <a:lnTo>
                    <a:pt x="1466" y="1284"/>
                  </a:lnTo>
                  <a:lnTo>
                    <a:pt x="1436" y="1286"/>
                  </a:lnTo>
                  <a:lnTo>
                    <a:pt x="1403" y="1289"/>
                  </a:lnTo>
                  <a:lnTo>
                    <a:pt x="1371" y="1289"/>
                  </a:lnTo>
                  <a:lnTo>
                    <a:pt x="635" y="1289"/>
                  </a:lnTo>
                  <a:lnTo>
                    <a:pt x="602" y="1289"/>
                  </a:lnTo>
                  <a:lnTo>
                    <a:pt x="570" y="1286"/>
                  </a:lnTo>
                  <a:lnTo>
                    <a:pt x="540" y="1284"/>
                  </a:lnTo>
                  <a:lnTo>
                    <a:pt x="510" y="1278"/>
                  </a:lnTo>
                  <a:lnTo>
                    <a:pt x="451" y="1262"/>
                  </a:lnTo>
                  <a:lnTo>
                    <a:pt x="395" y="1240"/>
                  </a:lnTo>
                  <a:lnTo>
                    <a:pt x="340" y="1214"/>
                  </a:lnTo>
                  <a:lnTo>
                    <a:pt x="289" y="1182"/>
                  </a:lnTo>
                  <a:lnTo>
                    <a:pt x="241" y="1143"/>
                  </a:lnTo>
                  <a:lnTo>
                    <a:pt x="197" y="1103"/>
                  </a:lnTo>
                  <a:lnTo>
                    <a:pt x="156" y="1057"/>
                  </a:lnTo>
                  <a:lnTo>
                    <a:pt x="122" y="1009"/>
                  </a:lnTo>
                  <a:lnTo>
                    <a:pt x="89" y="957"/>
                  </a:lnTo>
                  <a:lnTo>
                    <a:pt x="66" y="901"/>
                  </a:lnTo>
                  <a:lnTo>
                    <a:pt x="43" y="841"/>
                  </a:lnTo>
                  <a:lnTo>
                    <a:pt x="27" y="782"/>
                  </a:lnTo>
                  <a:lnTo>
                    <a:pt x="20" y="717"/>
                  </a:lnTo>
                  <a:lnTo>
                    <a:pt x="16" y="652"/>
                  </a:lnTo>
                  <a:lnTo>
                    <a:pt x="20" y="588"/>
                  </a:lnTo>
                  <a:lnTo>
                    <a:pt x="27" y="523"/>
                  </a:lnTo>
                  <a:lnTo>
                    <a:pt x="43" y="464"/>
                  </a:lnTo>
                  <a:lnTo>
                    <a:pt x="66" y="404"/>
                  </a:lnTo>
                  <a:lnTo>
                    <a:pt x="89" y="348"/>
                  </a:lnTo>
                  <a:lnTo>
                    <a:pt x="122" y="296"/>
                  </a:lnTo>
                  <a:lnTo>
                    <a:pt x="156" y="247"/>
                  </a:lnTo>
                  <a:lnTo>
                    <a:pt x="197" y="202"/>
                  </a:lnTo>
                  <a:lnTo>
                    <a:pt x="241" y="162"/>
                  </a:lnTo>
                  <a:lnTo>
                    <a:pt x="289" y="123"/>
                  </a:lnTo>
                  <a:lnTo>
                    <a:pt x="340" y="91"/>
                  </a:lnTo>
                  <a:lnTo>
                    <a:pt x="395" y="65"/>
                  </a:lnTo>
                  <a:lnTo>
                    <a:pt x="451" y="42"/>
                  </a:lnTo>
                  <a:lnTo>
                    <a:pt x="510" y="29"/>
                  </a:lnTo>
                  <a:lnTo>
                    <a:pt x="570" y="19"/>
                  </a:lnTo>
                  <a:lnTo>
                    <a:pt x="602" y="16"/>
                  </a:lnTo>
                  <a:lnTo>
                    <a:pt x="635" y="16"/>
                  </a:lnTo>
                  <a:lnTo>
                    <a:pt x="1371" y="16"/>
                  </a:lnTo>
                  <a:lnTo>
                    <a:pt x="1403" y="16"/>
                  </a:lnTo>
                  <a:lnTo>
                    <a:pt x="1436" y="19"/>
                  </a:lnTo>
                  <a:lnTo>
                    <a:pt x="1498" y="29"/>
                  </a:lnTo>
                  <a:lnTo>
                    <a:pt x="1557" y="42"/>
                  </a:lnTo>
                  <a:lnTo>
                    <a:pt x="1614" y="65"/>
                  </a:lnTo>
                  <a:lnTo>
                    <a:pt x="1668" y="91"/>
                  </a:lnTo>
                  <a:lnTo>
                    <a:pt x="1719" y="123"/>
                  </a:lnTo>
                  <a:lnTo>
                    <a:pt x="1765" y="162"/>
                  </a:lnTo>
                  <a:lnTo>
                    <a:pt x="1811" y="202"/>
                  </a:lnTo>
                  <a:lnTo>
                    <a:pt x="1849" y="247"/>
                  </a:lnTo>
                  <a:lnTo>
                    <a:pt x="1887" y="296"/>
                  </a:lnTo>
                  <a:lnTo>
                    <a:pt x="1916" y="348"/>
                  </a:lnTo>
                  <a:lnTo>
                    <a:pt x="1944" y="404"/>
                  </a:lnTo>
                  <a:lnTo>
                    <a:pt x="1962" y="464"/>
                  </a:lnTo>
                  <a:lnTo>
                    <a:pt x="1978" y="523"/>
                  </a:lnTo>
                  <a:lnTo>
                    <a:pt x="1990" y="588"/>
                  </a:lnTo>
                  <a:lnTo>
                    <a:pt x="1992" y="652"/>
                  </a:lnTo>
                  <a:lnTo>
                    <a:pt x="2000" y="652"/>
                  </a:lnTo>
                  <a:lnTo>
                    <a:pt x="2008" y="652"/>
                  </a:lnTo>
                  <a:lnTo>
                    <a:pt x="2008" y="620"/>
                  </a:lnTo>
                  <a:lnTo>
                    <a:pt x="2006" y="585"/>
                  </a:lnTo>
                  <a:lnTo>
                    <a:pt x="1995" y="521"/>
                  </a:lnTo>
                  <a:lnTo>
                    <a:pt x="1978" y="459"/>
                  </a:lnTo>
                  <a:lnTo>
                    <a:pt x="1957" y="399"/>
                  </a:lnTo>
                  <a:lnTo>
                    <a:pt x="1930" y="342"/>
                  </a:lnTo>
                  <a:lnTo>
                    <a:pt x="1900" y="288"/>
                  </a:lnTo>
                  <a:lnTo>
                    <a:pt x="1863" y="237"/>
                  </a:lnTo>
                  <a:lnTo>
                    <a:pt x="1822" y="191"/>
                  </a:lnTo>
                  <a:lnTo>
                    <a:pt x="1776" y="148"/>
                  </a:lnTo>
                  <a:lnTo>
                    <a:pt x="1728" y="111"/>
                  </a:lnTo>
                  <a:lnTo>
                    <a:pt x="1677" y="77"/>
                  </a:lnTo>
                  <a:lnTo>
                    <a:pt x="1620" y="51"/>
                  </a:lnTo>
                  <a:lnTo>
                    <a:pt x="1560" y="29"/>
                  </a:lnTo>
                  <a:lnTo>
                    <a:pt x="1530" y="19"/>
                  </a:lnTo>
                  <a:lnTo>
                    <a:pt x="1500" y="13"/>
                  </a:lnTo>
                  <a:lnTo>
                    <a:pt x="1468" y="8"/>
                  </a:lnTo>
                  <a:lnTo>
                    <a:pt x="1436" y="3"/>
                  </a:lnTo>
                  <a:lnTo>
                    <a:pt x="1403" y="0"/>
                  </a:lnTo>
                  <a:lnTo>
                    <a:pt x="1371" y="0"/>
                  </a:lnTo>
                  <a:lnTo>
                    <a:pt x="635" y="0"/>
                  </a:lnTo>
                  <a:lnTo>
                    <a:pt x="602" y="0"/>
                  </a:lnTo>
                  <a:lnTo>
                    <a:pt x="570" y="3"/>
                  </a:lnTo>
                  <a:lnTo>
                    <a:pt x="538" y="8"/>
                  </a:lnTo>
                  <a:lnTo>
                    <a:pt x="505" y="13"/>
                  </a:lnTo>
                  <a:lnTo>
                    <a:pt x="475" y="19"/>
                  </a:lnTo>
                  <a:lnTo>
                    <a:pt x="446" y="29"/>
                  </a:lnTo>
                  <a:lnTo>
                    <a:pt x="386" y="51"/>
                  </a:lnTo>
                  <a:lnTo>
                    <a:pt x="333" y="77"/>
                  </a:lnTo>
                  <a:lnTo>
                    <a:pt x="278" y="111"/>
                  </a:lnTo>
                  <a:lnTo>
                    <a:pt x="230" y="148"/>
                  </a:lnTo>
                  <a:lnTo>
                    <a:pt x="184" y="191"/>
                  </a:lnTo>
                  <a:lnTo>
                    <a:pt x="143" y="237"/>
                  </a:lnTo>
                  <a:lnTo>
                    <a:pt x="108" y="288"/>
                  </a:lnTo>
                  <a:lnTo>
                    <a:pt x="76" y="342"/>
                  </a:lnTo>
                  <a:lnTo>
                    <a:pt x="48" y="399"/>
                  </a:lnTo>
                  <a:lnTo>
                    <a:pt x="27" y="459"/>
                  </a:lnTo>
                  <a:lnTo>
                    <a:pt x="11" y="521"/>
                  </a:lnTo>
                  <a:lnTo>
                    <a:pt x="2" y="585"/>
                  </a:lnTo>
                  <a:lnTo>
                    <a:pt x="0" y="620"/>
                  </a:lnTo>
                  <a:lnTo>
                    <a:pt x="0" y="652"/>
                  </a:lnTo>
                  <a:lnTo>
                    <a:pt x="0" y="687"/>
                  </a:lnTo>
                  <a:lnTo>
                    <a:pt x="2" y="720"/>
                  </a:lnTo>
                  <a:lnTo>
                    <a:pt x="11" y="784"/>
                  </a:lnTo>
                  <a:lnTo>
                    <a:pt x="27" y="846"/>
                  </a:lnTo>
                  <a:lnTo>
                    <a:pt x="48" y="906"/>
                  </a:lnTo>
                  <a:lnTo>
                    <a:pt x="76" y="965"/>
                  </a:lnTo>
                  <a:lnTo>
                    <a:pt x="108" y="1019"/>
                  </a:lnTo>
                  <a:lnTo>
                    <a:pt x="143" y="1067"/>
                  </a:lnTo>
                  <a:lnTo>
                    <a:pt x="184" y="1113"/>
                  </a:lnTo>
                  <a:lnTo>
                    <a:pt x="230" y="1157"/>
                  </a:lnTo>
                  <a:lnTo>
                    <a:pt x="278" y="1194"/>
                  </a:lnTo>
                  <a:lnTo>
                    <a:pt x="333" y="1226"/>
                  </a:lnTo>
                  <a:lnTo>
                    <a:pt x="386" y="1254"/>
                  </a:lnTo>
                  <a:lnTo>
                    <a:pt x="446" y="1276"/>
                  </a:lnTo>
                  <a:lnTo>
                    <a:pt x="475" y="1286"/>
                  </a:lnTo>
                  <a:lnTo>
                    <a:pt x="505" y="1292"/>
                  </a:lnTo>
                  <a:lnTo>
                    <a:pt x="538" y="1300"/>
                  </a:lnTo>
                  <a:lnTo>
                    <a:pt x="570" y="1302"/>
                  </a:lnTo>
                  <a:lnTo>
                    <a:pt x="602" y="1305"/>
                  </a:lnTo>
                  <a:lnTo>
                    <a:pt x="635" y="1305"/>
                  </a:lnTo>
                  <a:lnTo>
                    <a:pt x="1371" y="1305"/>
                  </a:lnTo>
                  <a:lnTo>
                    <a:pt x="1403" y="1305"/>
                  </a:lnTo>
                  <a:lnTo>
                    <a:pt x="1436" y="1302"/>
                  </a:lnTo>
                  <a:lnTo>
                    <a:pt x="1468" y="1300"/>
                  </a:lnTo>
                  <a:lnTo>
                    <a:pt x="1500" y="1292"/>
                  </a:lnTo>
                  <a:lnTo>
                    <a:pt x="1530" y="1286"/>
                  </a:lnTo>
                  <a:lnTo>
                    <a:pt x="1560" y="1276"/>
                  </a:lnTo>
                  <a:lnTo>
                    <a:pt x="1620" y="1254"/>
                  </a:lnTo>
                  <a:lnTo>
                    <a:pt x="1677" y="1226"/>
                  </a:lnTo>
                  <a:lnTo>
                    <a:pt x="1728" y="1194"/>
                  </a:lnTo>
                  <a:lnTo>
                    <a:pt x="1776" y="1157"/>
                  </a:lnTo>
                  <a:lnTo>
                    <a:pt x="1822" y="1113"/>
                  </a:lnTo>
                  <a:lnTo>
                    <a:pt x="1863" y="1067"/>
                  </a:lnTo>
                  <a:lnTo>
                    <a:pt x="1900" y="1019"/>
                  </a:lnTo>
                  <a:lnTo>
                    <a:pt x="1930" y="965"/>
                  </a:lnTo>
                  <a:lnTo>
                    <a:pt x="1957" y="906"/>
                  </a:lnTo>
                  <a:lnTo>
                    <a:pt x="1978" y="846"/>
                  </a:lnTo>
                  <a:lnTo>
                    <a:pt x="1995" y="784"/>
                  </a:lnTo>
                  <a:lnTo>
                    <a:pt x="2006" y="720"/>
                  </a:lnTo>
                  <a:lnTo>
                    <a:pt x="2008" y="687"/>
                  </a:lnTo>
                  <a:lnTo>
                    <a:pt x="2008" y="652"/>
                  </a:lnTo>
                  <a:lnTo>
                    <a:pt x="2000" y="652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4" name=""/>
            <p:cNvSpPr/>
            <p:nvPr/>
          </p:nvSpPr>
          <p:spPr>
            <a:xfrm>
              <a:off x="2087640" y="3387600"/>
              <a:ext cx="264960" cy="158760"/>
            </a:xfrm>
            <a:custGeom>
              <a:avLst/>
              <a:gdLst/>
              <a:ahLst/>
              <a:rect l="l" t="t" r="r" b="b"/>
              <a:pathLst>
                <a:path w="1647" h="1047">
                  <a:moveTo>
                    <a:pt x="1380" y="0"/>
                  </a:moveTo>
                  <a:lnTo>
                    <a:pt x="670" y="0"/>
                  </a:lnTo>
                  <a:lnTo>
                    <a:pt x="621" y="0"/>
                  </a:lnTo>
                  <a:lnTo>
                    <a:pt x="575" y="6"/>
                  </a:lnTo>
                  <a:lnTo>
                    <a:pt x="532" y="14"/>
                  </a:lnTo>
                  <a:lnTo>
                    <a:pt x="489" y="25"/>
                  </a:lnTo>
                  <a:lnTo>
                    <a:pt x="448" y="41"/>
                  </a:lnTo>
                  <a:lnTo>
                    <a:pt x="407" y="57"/>
                  </a:lnTo>
                  <a:lnTo>
                    <a:pt x="370" y="82"/>
                  </a:lnTo>
                  <a:lnTo>
                    <a:pt x="333" y="105"/>
                  </a:lnTo>
                  <a:lnTo>
                    <a:pt x="317" y="114"/>
                  </a:lnTo>
                  <a:lnTo>
                    <a:pt x="300" y="117"/>
                  </a:lnTo>
                  <a:lnTo>
                    <a:pt x="289" y="114"/>
                  </a:lnTo>
                  <a:lnTo>
                    <a:pt x="281" y="108"/>
                  </a:lnTo>
                  <a:lnTo>
                    <a:pt x="273" y="100"/>
                  </a:lnTo>
                  <a:lnTo>
                    <a:pt x="271" y="89"/>
                  </a:lnTo>
                  <a:lnTo>
                    <a:pt x="273" y="73"/>
                  </a:lnTo>
                  <a:lnTo>
                    <a:pt x="281" y="54"/>
                  </a:lnTo>
                  <a:lnTo>
                    <a:pt x="294" y="32"/>
                  </a:lnTo>
                  <a:lnTo>
                    <a:pt x="313" y="6"/>
                  </a:lnTo>
                  <a:lnTo>
                    <a:pt x="278" y="30"/>
                  </a:lnTo>
                  <a:lnTo>
                    <a:pt x="243" y="54"/>
                  </a:lnTo>
                  <a:lnTo>
                    <a:pt x="211" y="82"/>
                  </a:lnTo>
                  <a:lnTo>
                    <a:pt x="181" y="111"/>
                  </a:lnTo>
                  <a:lnTo>
                    <a:pt x="140" y="156"/>
                  </a:lnTo>
                  <a:lnTo>
                    <a:pt x="106" y="205"/>
                  </a:lnTo>
                  <a:lnTo>
                    <a:pt x="73" y="257"/>
                  </a:lnTo>
                  <a:lnTo>
                    <a:pt x="50" y="313"/>
                  </a:lnTo>
                  <a:lnTo>
                    <a:pt x="27" y="373"/>
                  </a:lnTo>
                  <a:lnTo>
                    <a:pt x="11" y="432"/>
                  </a:lnTo>
                  <a:lnTo>
                    <a:pt x="4" y="497"/>
                  </a:lnTo>
                  <a:lnTo>
                    <a:pt x="0" y="561"/>
                  </a:lnTo>
                  <a:lnTo>
                    <a:pt x="4" y="626"/>
                  </a:lnTo>
                  <a:lnTo>
                    <a:pt x="11" y="691"/>
                  </a:lnTo>
                  <a:lnTo>
                    <a:pt x="27" y="750"/>
                  </a:lnTo>
                  <a:lnTo>
                    <a:pt x="50" y="810"/>
                  </a:lnTo>
                  <a:lnTo>
                    <a:pt x="73" y="866"/>
                  </a:lnTo>
                  <a:lnTo>
                    <a:pt x="106" y="918"/>
                  </a:lnTo>
                  <a:lnTo>
                    <a:pt x="140" y="966"/>
                  </a:lnTo>
                  <a:lnTo>
                    <a:pt x="181" y="1012"/>
                  </a:lnTo>
                  <a:lnTo>
                    <a:pt x="216" y="1047"/>
                  </a:lnTo>
                  <a:lnTo>
                    <a:pt x="195" y="1006"/>
                  </a:lnTo>
                  <a:lnTo>
                    <a:pt x="173" y="966"/>
                  </a:lnTo>
                  <a:lnTo>
                    <a:pt x="157" y="925"/>
                  </a:lnTo>
                  <a:lnTo>
                    <a:pt x="144" y="882"/>
                  </a:lnTo>
                  <a:lnTo>
                    <a:pt x="133" y="836"/>
                  </a:lnTo>
                  <a:lnTo>
                    <a:pt x="124" y="791"/>
                  </a:lnTo>
                  <a:lnTo>
                    <a:pt x="119" y="745"/>
                  </a:lnTo>
                  <a:lnTo>
                    <a:pt x="117" y="697"/>
                  </a:lnTo>
                  <a:lnTo>
                    <a:pt x="119" y="661"/>
                  </a:lnTo>
                  <a:lnTo>
                    <a:pt x="119" y="629"/>
                  </a:lnTo>
                  <a:lnTo>
                    <a:pt x="130" y="564"/>
                  </a:lnTo>
                  <a:lnTo>
                    <a:pt x="146" y="502"/>
                  </a:lnTo>
                  <a:lnTo>
                    <a:pt x="168" y="440"/>
                  </a:lnTo>
                  <a:lnTo>
                    <a:pt x="195" y="384"/>
                  </a:lnTo>
                  <a:lnTo>
                    <a:pt x="225" y="329"/>
                  </a:lnTo>
                  <a:lnTo>
                    <a:pt x="262" y="281"/>
                  </a:lnTo>
                  <a:lnTo>
                    <a:pt x="303" y="232"/>
                  </a:lnTo>
                  <a:lnTo>
                    <a:pt x="349" y="191"/>
                  </a:lnTo>
                  <a:lnTo>
                    <a:pt x="397" y="154"/>
                  </a:lnTo>
                  <a:lnTo>
                    <a:pt x="448" y="122"/>
                  </a:lnTo>
                  <a:lnTo>
                    <a:pt x="505" y="94"/>
                  </a:lnTo>
                  <a:lnTo>
                    <a:pt x="564" y="71"/>
                  </a:lnTo>
                  <a:lnTo>
                    <a:pt x="594" y="62"/>
                  </a:lnTo>
                  <a:lnTo>
                    <a:pt x="624" y="54"/>
                  </a:lnTo>
                  <a:lnTo>
                    <a:pt x="656" y="48"/>
                  </a:lnTo>
                  <a:lnTo>
                    <a:pt x="688" y="46"/>
                  </a:lnTo>
                  <a:lnTo>
                    <a:pt x="718" y="43"/>
                  </a:lnTo>
                  <a:lnTo>
                    <a:pt x="754" y="41"/>
                  </a:lnTo>
                  <a:lnTo>
                    <a:pt x="1490" y="41"/>
                  </a:lnTo>
                  <a:lnTo>
                    <a:pt x="1530" y="43"/>
                  </a:lnTo>
                  <a:lnTo>
                    <a:pt x="1569" y="46"/>
                  </a:lnTo>
                  <a:lnTo>
                    <a:pt x="1609" y="54"/>
                  </a:lnTo>
                  <a:lnTo>
                    <a:pt x="1647" y="62"/>
                  </a:lnTo>
                  <a:lnTo>
                    <a:pt x="1615" y="48"/>
                  </a:lnTo>
                  <a:lnTo>
                    <a:pt x="1585" y="36"/>
                  </a:lnTo>
                  <a:lnTo>
                    <a:pt x="1553" y="25"/>
                  </a:lnTo>
                  <a:lnTo>
                    <a:pt x="1520" y="16"/>
                  </a:lnTo>
                  <a:lnTo>
                    <a:pt x="1484" y="9"/>
                  </a:lnTo>
                  <a:lnTo>
                    <a:pt x="1450" y="2"/>
                  </a:lnTo>
                  <a:lnTo>
                    <a:pt x="1415" y="0"/>
                  </a:lnTo>
                  <a:lnTo>
                    <a:pt x="1380" y="0"/>
                  </a:lnTo>
                  <a:close/>
                </a:path>
              </a:pathLst>
            </a:custGeom>
            <a:solidFill>
              <a:srgbClr val="c9cac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5" name=""/>
            <p:cNvSpPr/>
            <p:nvPr/>
          </p:nvSpPr>
          <p:spPr>
            <a:xfrm>
              <a:off x="2086200" y="3384360"/>
              <a:ext cx="53640" cy="165240"/>
            </a:xfrm>
            <a:custGeom>
              <a:avLst/>
              <a:gdLst/>
              <a:ahLst/>
              <a:rect l="l" t="t" r="r" b="b"/>
              <a:pathLst>
                <a:path w="341" h="1082">
                  <a:moveTo>
                    <a:pt x="341" y="0"/>
                  </a:moveTo>
                  <a:lnTo>
                    <a:pt x="302" y="23"/>
                  </a:lnTo>
                  <a:lnTo>
                    <a:pt x="268" y="46"/>
                  </a:lnTo>
                  <a:lnTo>
                    <a:pt x="233" y="74"/>
                  </a:lnTo>
                  <a:lnTo>
                    <a:pt x="200" y="101"/>
                  </a:lnTo>
                  <a:lnTo>
                    <a:pt x="171" y="133"/>
                  </a:lnTo>
                  <a:lnTo>
                    <a:pt x="143" y="165"/>
                  </a:lnTo>
                  <a:lnTo>
                    <a:pt x="116" y="200"/>
                  </a:lnTo>
                  <a:lnTo>
                    <a:pt x="95" y="235"/>
                  </a:lnTo>
                  <a:lnTo>
                    <a:pt x="74" y="273"/>
                  </a:lnTo>
                  <a:lnTo>
                    <a:pt x="54" y="313"/>
                  </a:lnTo>
                  <a:lnTo>
                    <a:pt x="38" y="354"/>
                  </a:lnTo>
                  <a:lnTo>
                    <a:pt x="24" y="394"/>
                  </a:lnTo>
                  <a:lnTo>
                    <a:pt x="14" y="440"/>
                  </a:lnTo>
                  <a:lnTo>
                    <a:pt x="6" y="484"/>
                  </a:lnTo>
                  <a:lnTo>
                    <a:pt x="0" y="529"/>
                  </a:lnTo>
                  <a:lnTo>
                    <a:pt x="0" y="575"/>
                  </a:lnTo>
                  <a:lnTo>
                    <a:pt x="0" y="613"/>
                  </a:lnTo>
                  <a:lnTo>
                    <a:pt x="3" y="651"/>
                  </a:lnTo>
                  <a:lnTo>
                    <a:pt x="8" y="688"/>
                  </a:lnTo>
                  <a:lnTo>
                    <a:pt x="17" y="727"/>
                  </a:lnTo>
                  <a:lnTo>
                    <a:pt x="24" y="762"/>
                  </a:lnTo>
                  <a:lnTo>
                    <a:pt x="35" y="797"/>
                  </a:lnTo>
                  <a:lnTo>
                    <a:pt x="49" y="829"/>
                  </a:lnTo>
                  <a:lnTo>
                    <a:pt x="65" y="864"/>
                  </a:lnTo>
                  <a:lnTo>
                    <a:pt x="81" y="893"/>
                  </a:lnTo>
                  <a:lnTo>
                    <a:pt x="100" y="926"/>
                  </a:lnTo>
                  <a:lnTo>
                    <a:pt x="119" y="956"/>
                  </a:lnTo>
                  <a:lnTo>
                    <a:pt x="141" y="983"/>
                  </a:lnTo>
                  <a:lnTo>
                    <a:pt x="162" y="1010"/>
                  </a:lnTo>
                  <a:lnTo>
                    <a:pt x="187" y="1036"/>
                  </a:lnTo>
                  <a:lnTo>
                    <a:pt x="213" y="1061"/>
                  </a:lnTo>
                  <a:lnTo>
                    <a:pt x="240" y="1082"/>
                  </a:lnTo>
                  <a:lnTo>
                    <a:pt x="224" y="1061"/>
                  </a:lnTo>
                  <a:lnTo>
                    <a:pt x="189" y="1026"/>
                  </a:lnTo>
                  <a:lnTo>
                    <a:pt x="148" y="980"/>
                  </a:lnTo>
                  <a:lnTo>
                    <a:pt x="114" y="932"/>
                  </a:lnTo>
                  <a:lnTo>
                    <a:pt x="81" y="880"/>
                  </a:lnTo>
                  <a:lnTo>
                    <a:pt x="58" y="824"/>
                  </a:lnTo>
                  <a:lnTo>
                    <a:pt x="35" y="764"/>
                  </a:lnTo>
                  <a:lnTo>
                    <a:pt x="19" y="705"/>
                  </a:lnTo>
                  <a:lnTo>
                    <a:pt x="12" y="640"/>
                  </a:lnTo>
                  <a:lnTo>
                    <a:pt x="8" y="575"/>
                  </a:lnTo>
                  <a:lnTo>
                    <a:pt x="12" y="511"/>
                  </a:lnTo>
                  <a:lnTo>
                    <a:pt x="19" y="446"/>
                  </a:lnTo>
                  <a:lnTo>
                    <a:pt x="35" y="387"/>
                  </a:lnTo>
                  <a:lnTo>
                    <a:pt x="58" y="327"/>
                  </a:lnTo>
                  <a:lnTo>
                    <a:pt x="81" y="271"/>
                  </a:lnTo>
                  <a:lnTo>
                    <a:pt x="114" y="219"/>
                  </a:lnTo>
                  <a:lnTo>
                    <a:pt x="148" y="170"/>
                  </a:lnTo>
                  <a:lnTo>
                    <a:pt x="189" y="125"/>
                  </a:lnTo>
                  <a:lnTo>
                    <a:pt x="219" y="96"/>
                  </a:lnTo>
                  <a:lnTo>
                    <a:pt x="251" y="68"/>
                  </a:lnTo>
                  <a:lnTo>
                    <a:pt x="286" y="44"/>
                  </a:lnTo>
                  <a:lnTo>
                    <a:pt x="321" y="20"/>
                  </a:lnTo>
                  <a:lnTo>
                    <a:pt x="341" y="0"/>
                  </a:lnTo>
                  <a:close/>
                </a:path>
              </a:pathLst>
            </a:custGeom>
            <a:solidFill>
              <a:srgbClr val="6437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6" name=""/>
            <p:cNvSpPr/>
            <p:nvPr/>
          </p:nvSpPr>
          <p:spPr>
            <a:xfrm>
              <a:off x="2106720" y="3395520"/>
              <a:ext cx="322200" cy="195480"/>
            </a:xfrm>
            <a:custGeom>
              <a:avLst/>
              <a:gdLst/>
              <a:ahLst/>
              <a:rect l="l" t="t" r="r" b="b"/>
              <a:pathLst>
                <a:path w="1992" h="1292">
                  <a:moveTo>
                    <a:pt x="1992" y="649"/>
                  </a:moveTo>
                  <a:lnTo>
                    <a:pt x="1992" y="681"/>
                  </a:lnTo>
                  <a:lnTo>
                    <a:pt x="1990" y="713"/>
                  </a:lnTo>
                  <a:lnTo>
                    <a:pt x="1981" y="778"/>
                  </a:lnTo>
                  <a:lnTo>
                    <a:pt x="1965" y="840"/>
                  </a:lnTo>
                  <a:lnTo>
                    <a:pt x="1944" y="900"/>
                  </a:lnTo>
                  <a:lnTo>
                    <a:pt x="1917" y="956"/>
                  </a:lnTo>
                  <a:lnTo>
                    <a:pt x="1887" y="1009"/>
                  </a:lnTo>
                  <a:lnTo>
                    <a:pt x="1850" y="1059"/>
                  </a:lnTo>
                  <a:lnTo>
                    <a:pt x="1809" y="1105"/>
                  </a:lnTo>
                  <a:lnTo>
                    <a:pt x="1765" y="1145"/>
                  </a:lnTo>
                  <a:lnTo>
                    <a:pt x="1717" y="1182"/>
                  </a:lnTo>
                  <a:lnTo>
                    <a:pt x="1666" y="1215"/>
                  </a:lnTo>
                  <a:lnTo>
                    <a:pt x="1609" y="1241"/>
                  </a:lnTo>
                  <a:lnTo>
                    <a:pt x="1553" y="1264"/>
                  </a:lnTo>
                  <a:lnTo>
                    <a:pt x="1493" y="1280"/>
                  </a:lnTo>
                  <a:lnTo>
                    <a:pt x="1461" y="1285"/>
                  </a:lnTo>
                  <a:lnTo>
                    <a:pt x="1431" y="1290"/>
                  </a:lnTo>
                  <a:lnTo>
                    <a:pt x="1399" y="1292"/>
                  </a:lnTo>
                  <a:lnTo>
                    <a:pt x="1366" y="1292"/>
                  </a:lnTo>
                  <a:lnTo>
                    <a:pt x="630" y="1292"/>
                  </a:lnTo>
                  <a:lnTo>
                    <a:pt x="598" y="1292"/>
                  </a:lnTo>
                  <a:lnTo>
                    <a:pt x="564" y="1290"/>
                  </a:lnTo>
                  <a:lnTo>
                    <a:pt x="532" y="1285"/>
                  </a:lnTo>
                  <a:lnTo>
                    <a:pt x="502" y="1280"/>
                  </a:lnTo>
                  <a:lnTo>
                    <a:pt x="444" y="1264"/>
                  </a:lnTo>
                  <a:lnTo>
                    <a:pt x="384" y="1241"/>
                  </a:lnTo>
                  <a:lnTo>
                    <a:pt x="329" y="1215"/>
                  </a:lnTo>
                  <a:lnTo>
                    <a:pt x="278" y="1182"/>
                  </a:lnTo>
                  <a:lnTo>
                    <a:pt x="230" y="1145"/>
                  </a:lnTo>
                  <a:lnTo>
                    <a:pt x="184" y="1105"/>
                  </a:lnTo>
                  <a:lnTo>
                    <a:pt x="143" y="1059"/>
                  </a:lnTo>
                  <a:lnTo>
                    <a:pt x="108" y="1009"/>
                  </a:lnTo>
                  <a:lnTo>
                    <a:pt x="76" y="956"/>
                  </a:lnTo>
                  <a:lnTo>
                    <a:pt x="52" y="900"/>
                  </a:lnTo>
                  <a:lnTo>
                    <a:pt x="30" y="840"/>
                  </a:lnTo>
                  <a:lnTo>
                    <a:pt x="14" y="778"/>
                  </a:lnTo>
                  <a:lnTo>
                    <a:pt x="3" y="713"/>
                  </a:lnTo>
                  <a:lnTo>
                    <a:pt x="3" y="681"/>
                  </a:lnTo>
                  <a:lnTo>
                    <a:pt x="0" y="649"/>
                  </a:lnTo>
                  <a:lnTo>
                    <a:pt x="3" y="615"/>
                  </a:lnTo>
                  <a:lnTo>
                    <a:pt x="3" y="581"/>
                  </a:lnTo>
                  <a:lnTo>
                    <a:pt x="14" y="518"/>
                  </a:lnTo>
                  <a:lnTo>
                    <a:pt x="30" y="456"/>
                  </a:lnTo>
                  <a:lnTo>
                    <a:pt x="52" y="398"/>
                  </a:lnTo>
                  <a:lnTo>
                    <a:pt x="76" y="341"/>
                  </a:lnTo>
                  <a:lnTo>
                    <a:pt x="108" y="287"/>
                  </a:lnTo>
                  <a:lnTo>
                    <a:pt x="143" y="239"/>
                  </a:lnTo>
                  <a:lnTo>
                    <a:pt x="184" y="193"/>
                  </a:lnTo>
                  <a:lnTo>
                    <a:pt x="230" y="149"/>
                  </a:lnTo>
                  <a:lnTo>
                    <a:pt x="278" y="111"/>
                  </a:lnTo>
                  <a:lnTo>
                    <a:pt x="329" y="79"/>
                  </a:lnTo>
                  <a:lnTo>
                    <a:pt x="384" y="52"/>
                  </a:lnTo>
                  <a:lnTo>
                    <a:pt x="444" y="30"/>
                  </a:lnTo>
                  <a:lnTo>
                    <a:pt x="502" y="14"/>
                  </a:lnTo>
                  <a:lnTo>
                    <a:pt x="532" y="9"/>
                  </a:lnTo>
                  <a:lnTo>
                    <a:pt x="564" y="6"/>
                  </a:lnTo>
                  <a:lnTo>
                    <a:pt x="598" y="4"/>
                  </a:lnTo>
                  <a:lnTo>
                    <a:pt x="630" y="0"/>
                  </a:lnTo>
                  <a:lnTo>
                    <a:pt x="1366" y="0"/>
                  </a:lnTo>
                  <a:lnTo>
                    <a:pt x="1399" y="4"/>
                  </a:lnTo>
                  <a:lnTo>
                    <a:pt x="1431" y="6"/>
                  </a:lnTo>
                  <a:lnTo>
                    <a:pt x="1461" y="9"/>
                  </a:lnTo>
                  <a:lnTo>
                    <a:pt x="1493" y="14"/>
                  </a:lnTo>
                  <a:lnTo>
                    <a:pt x="1553" y="30"/>
                  </a:lnTo>
                  <a:lnTo>
                    <a:pt x="1609" y="52"/>
                  </a:lnTo>
                  <a:lnTo>
                    <a:pt x="1666" y="79"/>
                  </a:lnTo>
                  <a:lnTo>
                    <a:pt x="1717" y="111"/>
                  </a:lnTo>
                  <a:lnTo>
                    <a:pt x="1765" y="149"/>
                  </a:lnTo>
                  <a:lnTo>
                    <a:pt x="1809" y="193"/>
                  </a:lnTo>
                  <a:lnTo>
                    <a:pt x="1850" y="239"/>
                  </a:lnTo>
                  <a:lnTo>
                    <a:pt x="1887" y="287"/>
                  </a:lnTo>
                  <a:lnTo>
                    <a:pt x="1917" y="341"/>
                  </a:lnTo>
                  <a:lnTo>
                    <a:pt x="1944" y="398"/>
                  </a:lnTo>
                  <a:lnTo>
                    <a:pt x="1965" y="456"/>
                  </a:lnTo>
                  <a:lnTo>
                    <a:pt x="1981" y="518"/>
                  </a:lnTo>
                  <a:lnTo>
                    <a:pt x="1990" y="581"/>
                  </a:lnTo>
                  <a:lnTo>
                    <a:pt x="1992" y="615"/>
                  </a:lnTo>
                  <a:lnTo>
                    <a:pt x="1992" y="649"/>
                  </a:lnTo>
                  <a:close/>
                </a:path>
              </a:pathLst>
            </a:custGeom>
            <a:solidFill>
              <a:srgbClr val="d9e1d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7" name=""/>
            <p:cNvSpPr/>
            <p:nvPr/>
          </p:nvSpPr>
          <p:spPr>
            <a:xfrm>
              <a:off x="2104920" y="3394080"/>
              <a:ext cx="325440" cy="198360"/>
            </a:xfrm>
            <a:custGeom>
              <a:avLst/>
              <a:gdLst/>
              <a:ahLst/>
              <a:rect l="l" t="t" r="r" b="b"/>
              <a:pathLst>
                <a:path w="2007" h="1308">
                  <a:moveTo>
                    <a:pt x="1999" y="656"/>
                  </a:moveTo>
                  <a:lnTo>
                    <a:pt x="1991" y="656"/>
                  </a:lnTo>
                  <a:lnTo>
                    <a:pt x="1988" y="720"/>
                  </a:lnTo>
                  <a:lnTo>
                    <a:pt x="1981" y="782"/>
                  </a:lnTo>
                  <a:lnTo>
                    <a:pt x="1965" y="845"/>
                  </a:lnTo>
                  <a:lnTo>
                    <a:pt x="1942" y="903"/>
                  </a:lnTo>
                  <a:lnTo>
                    <a:pt x="1919" y="958"/>
                  </a:lnTo>
                  <a:lnTo>
                    <a:pt x="1885" y="1011"/>
                  </a:lnTo>
                  <a:lnTo>
                    <a:pt x="1851" y="1060"/>
                  </a:lnTo>
                  <a:lnTo>
                    <a:pt x="1811" y="1106"/>
                  </a:lnTo>
                  <a:lnTo>
                    <a:pt x="1767" y="1146"/>
                  </a:lnTo>
                  <a:lnTo>
                    <a:pt x="1719" y="1184"/>
                  </a:lnTo>
                  <a:lnTo>
                    <a:pt x="1668" y="1216"/>
                  </a:lnTo>
                  <a:lnTo>
                    <a:pt x="1613" y="1243"/>
                  </a:lnTo>
                  <a:lnTo>
                    <a:pt x="1556" y="1262"/>
                  </a:lnTo>
                  <a:lnTo>
                    <a:pt x="1498" y="1278"/>
                  </a:lnTo>
                  <a:lnTo>
                    <a:pt x="1438" y="1289"/>
                  </a:lnTo>
                  <a:lnTo>
                    <a:pt x="1406" y="1292"/>
                  </a:lnTo>
                  <a:lnTo>
                    <a:pt x="1373" y="1292"/>
                  </a:lnTo>
                  <a:lnTo>
                    <a:pt x="637" y="1292"/>
                  </a:lnTo>
                  <a:lnTo>
                    <a:pt x="605" y="1292"/>
                  </a:lnTo>
                  <a:lnTo>
                    <a:pt x="571" y="1289"/>
                  </a:lnTo>
                  <a:lnTo>
                    <a:pt x="509" y="1278"/>
                  </a:lnTo>
                  <a:lnTo>
                    <a:pt x="451" y="1262"/>
                  </a:lnTo>
                  <a:lnTo>
                    <a:pt x="393" y="1243"/>
                  </a:lnTo>
                  <a:lnTo>
                    <a:pt x="340" y="1216"/>
                  </a:lnTo>
                  <a:lnTo>
                    <a:pt x="288" y="1184"/>
                  </a:lnTo>
                  <a:lnTo>
                    <a:pt x="242" y="1146"/>
                  </a:lnTo>
                  <a:lnTo>
                    <a:pt x="196" y="1106"/>
                  </a:lnTo>
                  <a:lnTo>
                    <a:pt x="159" y="1060"/>
                  </a:lnTo>
                  <a:lnTo>
                    <a:pt x="121" y="1011"/>
                  </a:lnTo>
                  <a:lnTo>
                    <a:pt x="92" y="958"/>
                  </a:lnTo>
                  <a:lnTo>
                    <a:pt x="64" y="903"/>
                  </a:lnTo>
                  <a:lnTo>
                    <a:pt x="46" y="845"/>
                  </a:lnTo>
                  <a:lnTo>
                    <a:pt x="29" y="782"/>
                  </a:lnTo>
                  <a:lnTo>
                    <a:pt x="18" y="720"/>
                  </a:lnTo>
                  <a:lnTo>
                    <a:pt x="16" y="656"/>
                  </a:lnTo>
                  <a:lnTo>
                    <a:pt x="18" y="590"/>
                  </a:lnTo>
                  <a:lnTo>
                    <a:pt x="29" y="525"/>
                  </a:lnTo>
                  <a:lnTo>
                    <a:pt x="46" y="463"/>
                  </a:lnTo>
                  <a:lnTo>
                    <a:pt x="64" y="407"/>
                  </a:lnTo>
                  <a:lnTo>
                    <a:pt x="92" y="350"/>
                  </a:lnTo>
                  <a:lnTo>
                    <a:pt x="121" y="299"/>
                  </a:lnTo>
                  <a:lnTo>
                    <a:pt x="159" y="248"/>
                  </a:lnTo>
                  <a:lnTo>
                    <a:pt x="196" y="205"/>
                  </a:lnTo>
                  <a:lnTo>
                    <a:pt x="242" y="161"/>
                  </a:lnTo>
                  <a:lnTo>
                    <a:pt x="288" y="127"/>
                  </a:lnTo>
                  <a:lnTo>
                    <a:pt x="340" y="94"/>
                  </a:lnTo>
                  <a:lnTo>
                    <a:pt x="393" y="67"/>
                  </a:lnTo>
                  <a:lnTo>
                    <a:pt x="451" y="46"/>
                  </a:lnTo>
                  <a:lnTo>
                    <a:pt x="509" y="30"/>
                  </a:lnTo>
                  <a:lnTo>
                    <a:pt x="541" y="24"/>
                  </a:lnTo>
                  <a:lnTo>
                    <a:pt x="571" y="21"/>
                  </a:lnTo>
                  <a:lnTo>
                    <a:pt x="605" y="19"/>
                  </a:lnTo>
                  <a:lnTo>
                    <a:pt x="637" y="16"/>
                  </a:lnTo>
                  <a:lnTo>
                    <a:pt x="1373" y="16"/>
                  </a:lnTo>
                  <a:lnTo>
                    <a:pt x="1406" y="19"/>
                  </a:lnTo>
                  <a:lnTo>
                    <a:pt x="1438" y="21"/>
                  </a:lnTo>
                  <a:lnTo>
                    <a:pt x="1468" y="24"/>
                  </a:lnTo>
                  <a:lnTo>
                    <a:pt x="1498" y="30"/>
                  </a:lnTo>
                  <a:lnTo>
                    <a:pt x="1556" y="46"/>
                  </a:lnTo>
                  <a:lnTo>
                    <a:pt x="1613" y="67"/>
                  </a:lnTo>
                  <a:lnTo>
                    <a:pt x="1668" y="94"/>
                  </a:lnTo>
                  <a:lnTo>
                    <a:pt x="1719" y="127"/>
                  </a:lnTo>
                  <a:lnTo>
                    <a:pt x="1767" y="161"/>
                  </a:lnTo>
                  <a:lnTo>
                    <a:pt x="1811" y="205"/>
                  </a:lnTo>
                  <a:lnTo>
                    <a:pt x="1851" y="248"/>
                  </a:lnTo>
                  <a:lnTo>
                    <a:pt x="1885" y="299"/>
                  </a:lnTo>
                  <a:lnTo>
                    <a:pt x="1919" y="350"/>
                  </a:lnTo>
                  <a:lnTo>
                    <a:pt x="1942" y="407"/>
                  </a:lnTo>
                  <a:lnTo>
                    <a:pt x="1965" y="463"/>
                  </a:lnTo>
                  <a:lnTo>
                    <a:pt x="1981" y="525"/>
                  </a:lnTo>
                  <a:lnTo>
                    <a:pt x="1988" y="590"/>
                  </a:lnTo>
                  <a:lnTo>
                    <a:pt x="1991" y="656"/>
                  </a:lnTo>
                  <a:lnTo>
                    <a:pt x="1999" y="656"/>
                  </a:lnTo>
                  <a:lnTo>
                    <a:pt x="2007" y="656"/>
                  </a:lnTo>
                  <a:lnTo>
                    <a:pt x="2007" y="620"/>
                  </a:lnTo>
                  <a:lnTo>
                    <a:pt x="2005" y="588"/>
                  </a:lnTo>
                  <a:lnTo>
                    <a:pt x="1997" y="523"/>
                  </a:lnTo>
                  <a:lnTo>
                    <a:pt x="1981" y="461"/>
                  </a:lnTo>
                  <a:lnTo>
                    <a:pt x="1959" y="399"/>
                  </a:lnTo>
                  <a:lnTo>
                    <a:pt x="1931" y="343"/>
                  </a:lnTo>
                  <a:lnTo>
                    <a:pt x="1899" y="288"/>
                  </a:lnTo>
                  <a:lnTo>
                    <a:pt x="1864" y="240"/>
                  </a:lnTo>
                  <a:lnTo>
                    <a:pt x="1824" y="191"/>
                  </a:lnTo>
                  <a:lnTo>
                    <a:pt x="1778" y="150"/>
                  </a:lnTo>
                  <a:lnTo>
                    <a:pt x="1730" y="113"/>
                  </a:lnTo>
                  <a:lnTo>
                    <a:pt x="1675" y="81"/>
                  </a:lnTo>
                  <a:lnTo>
                    <a:pt x="1622" y="53"/>
                  </a:lnTo>
                  <a:lnTo>
                    <a:pt x="1562" y="30"/>
                  </a:lnTo>
                  <a:lnTo>
                    <a:pt x="1532" y="21"/>
                  </a:lnTo>
                  <a:lnTo>
                    <a:pt x="1500" y="13"/>
                  </a:lnTo>
                  <a:lnTo>
                    <a:pt x="1470" y="7"/>
                  </a:lnTo>
                  <a:lnTo>
                    <a:pt x="1438" y="5"/>
                  </a:lnTo>
                  <a:lnTo>
                    <a:pt x="1406" y="2"/>
                  </a:lnTo>
                  <a:lnTo>
                    <a:pt x="1373" y="0"/>
                  </a:lnTo>
                  <a:lnTo>
                    <a:pt x="637" y="0"/>
                  </a:lnTo>
                  <a:lnTo>
                    <a:pt x="601" y="2"/>
                  </a:lnTo>
                  <a:lnTo>
                    <a:pt x="571" y="5"/>
                  </a:lnTo>
                  <a:lnTo>
                    <a:pt x="539" y="7"/>
                  </a:lnTo>
                  <a:lnTo>
                    <a:pt x="507" y="13"/>
                  </a:lnTo>
                  <a:lnTo>
                    <a:pt x="477" y="21"/>
                  </a:lnTo>
                  <a:lnTo>
                    <a:pt x="447" y="30"/>
                  </a:lnTo>
                  <a:lnTo>
                    <a:pt x="388" y="53"/>
                  </a:lnTo>
                  <a:lnTo>
                    <a:pt x="331" y="81"/>
                  </a:lnTo>
                  <a:lnTo>
                    <a:pt x="280" y="113"/>
                  </a:lnTo>
                  <a:lnTo>
                    <a:pt x="232" y="150"/>
                  </a:lnTo>
                  <a:lnTo>
                    <a:pt x="186" y="191"/>
                  </a:lnTo>
                  <a:lnTo>
                    <a:pt x="145" y="240"/>
                  </a:lnTo>
                  <a:lnTo>
                    <a:pt x="108" y="288"/>
                  </a:lnTo>
                  <a:lnTo>
                    <a:pt x="78" y="343"/>
                  </a:lnTo>
                  <a:lnTo>
                    <a:pt x="51" y="399"/>
                  </a:lnTo>
                  <a:lnTo>
                    <a:pt x="29" y="461"/>
                  </a:lnTo>
                  <a:lnTo>
                    <a:pt x="13" y="523"/>
                  </a:lnTo>
                  <a:lnTo>
                    <a:pt x="2" y="588"/>
                  </a:lnTo>
                  <a:lnTo>
                    <a:pt x="2" y="620"/>
                  </a:lnTo>
                  <a:lnTo>
                    <a:pt x="0" y="656"/>
                  </a:lnTo>
                  <a:lnTo>
                    <a:pt x="2" y="688"/>
                  </a:lnTo>
                  <a:lnTo>
                    <a:pt x="2" y="723"/>
                  </a:lnTo>
                  <a:lnTo>
                    <a:pt x="13" y="787"/>
                  </a:lnTo>
                  <a:lnTo>
                    <a:pt x="29" y="850"/>
                  </a:lnTo>
                  <a:lnTo>
                    <a:pt x="51" y="909"/>
                  </a:lnTo>
                  <a:lnTo>
                    <a:pt x="78" y="965"/>
                  </a:lnTo>
                  <a:lnTo>
                    <a:pt x="108" y="1020"/>
                  </a:lnTo>
                  <a:lnTo>
                    <a:pt x="145" y="1071"/>
                  </a:lnTo>
                  <a:lnTo>
                    <a:pt x="186" y="1117"/>
                  </a:lnTo>
                  <a:lnTo>
                    <a:pt x="232" y="1160"/>
                  </a:lnTo>
                  <a:lnTo>
                    <a:pt x="280" y="1197"/>
                  </a:lnTo>
                  <a:lnTo>
                    <a:pt x="331" y="1230"/>
                  </a:lnTo>
                  <a:lnTo>
                    <a:pt x="388" y="1257"/>
                  </a:lnTo>
                  <a:lnTo>
                    <a:pt x="447" y="1278"/>
                  </a:lnTo>
                  <a:lnTo>
                    <a:pt x="477" y="1287"/>
                  </a:lnTo>
                  <a:lnTo>
                    <a:pt x="507" y="1294"/>
                  </a:lnTo>
                  <a:lnTo>
                    <a:pt x="539" y="1299"/>
                  </a:lnTo>
                  <a:lnTo>
                    <a:pt x="571" y="1306"/>
                  </a:lnTo>
                  <a:lnTo>
                    <a:pt x="601" y="1308"/>
                  </a:lnTo>
                  <a:lnTo>
                    <a:pt x="637" y="1308"/>
                  </a:lnTo>
                  <a:lnTo>
                    <a:pt x="1373" y="1308"/>
                  </a:lnTo>
                  <a:lnTo>
                    <a:pt x="1406" y="1308"/>
                  </a:lnTo>
                  <a:lnTo>
                    <a:pt x="1438" y="1306"/>
                  </a:lnTo>
                  <a:lnTo>
                    <a:pt x="1470" y="1299"/>
                  </a:lnTo>
                  <a:lnTo>
                    <a:pt x="1500" y="1294"/>
                  </a:lnTo>
                  <a:lnTo>
                    <a:pt x="1532" y="1287"/>
                  </a:lnTo>
                  <a:lnTo>
                    <a:pt x="1562" y="1278"/>
                  </a:lnTo>
                  <a:lnTo>
                    <a:pt x="1622" y="1257"/>
                  </a:lnTo>
                  <a:lnTo>
                    <a:pt x="1675" y="1230"/>
                  </a:lnTo>
                  <a:lnTo>
                    <a:pt x="1730" y="1197"/>
                  </a:lnTo>
                  <a:lnTo>
                    <a:pt x="1778" y="1160"/>
                  </a:lnTo>
                  <a:lnTo>
                    <a:pt x="1824" y="1117"/>
                  </a:lnTo>
                  <a:lnTo>
                    <a:pt x="1864" y="1071"/>
                  </a:lnTo>
                  <a:lnTo>
                    <a:pt x="1899" y="1020"/>
                  </a:lnTo>
                  <a:lnTo>
                    <a:pt x="1931" y="965"/>
                  </a:lnTo>
                  <a:lnTo>
                    <a:pt x="1959" y="909"/>
                  </a:lnTo>
                  <a:lnTo>
                    <a:pt x="1981" y="850"/>
                  </a:lnTo>
                  <a:lnTo>
                    <a:pt x="1997" y="787"/>
                  </a:lnTo>
                  <a:lnTo>
                    <a:pt x="2005" y="723"/>
                  </a:lnTo>
                  <a:lnTo>
                    <a:pt x="2007" y="688"/>
                  </a:lnTo>
                  <a:lnTo>
                    <a:pt x="2007" y="656"/>
                  </a:lnTo>
                  <a:lnTo>
                    <a:pt x="1999" y="656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8" name=""/>
            <p:cNvSpPr/>
            <p:nvPr/>
          </p:nvSpPr>
          <p:spPr>
            <a:xfrm>
              <a:off x="2108160" y="3433680"/>
              <a:ext cx="90720" cy="155520"/>
            </a:xfrm>
            <a:custGeom>
              <a:avLst/>
              <a:gdLst/>
              <a:ahLst/>
              <a:rect l="l" t="t" r="r" b="b"/>
              <a:pathLst>
                <a:path w="561" h="1022">
                  <a:moveTo>
                    <a:pt x="129" y="0"/>
                  </a:moveTo>
                  <a:lnTo>
                    <a:pt x="99" y="40"/>
                  </a:lnTo>
                  <a:lnTo>
                    <a:pt x="76" y="83"/>
                  </a:lnTo>
                  <a:lnTo>
                    <a:pt x="53" y="132"/>
                  </a:lnTo>
                  <a:lnTo>
                    <a:pt x="35" y="178"/>
                  </a:lnTo>
                  <a:lnTo>
                    <a:pt x="18" y="229"/>
                  </a:lnTo>
                  <a:lnTo>
                    <a:pt x="7" y="281"/>
                  </a:lnTo>
                  <a:lnTo>
                    <a:pt x="2" y="334"/>
                  </a:lnTo>
                  <a:lnTo>
                    <a:pt x="0" y="389"/>
                  </a:lnTo>
                  <a:lnTo>
                    <a:pt x="2" y="453"/>
                  </a:lnTo>
                  <a:lnTo>
                    <a:pt x="13" y="515"/>
                  </a:lnTo>
                  <a:lnTo>
                    <a:pt x="30" y="578"/>
                  </a:lnTo>
                  <a:lnTo>
                    <a:pt x="48" y="636"/>
                  </a:lnTo>
                  <a:lnTo>
                    <a:pt x="76" y="691"/>
                  </a:lnTo>
                  <a:lnTo>
                    <a:pt x="105" y="744"/>
                  </a:lnTo>
                  <a:lnTo>
                    <a:pt x="143" y="793"/>
                  </a:lnTo>
                  <a:lnTo>
                    <a:pt x="180" y="839"/>
                  </a:lnTo>
                  <a:lnTo>
                    <a:pt x="221" y="873"/>
                  </a:lnTo>
                  <a:lnTo>
                    <a:pt x="262" y="909"/>
                  </a:lnTo>
                  <a:lnTo>
                    <a:pt x="308" y="938"/>
                  </a:lnTo>
                  <a:lnTo>
                    <a:pt x="353" y="963"/>
                  </a:lnTo>
                  <a:lnTo>
                    <a:pt x="402" y="984"/>
                  </a:lnTo>
                  <a:lnTo>
                    <a:pt x="453" y="1000"/>
                  </a:lnTo>
                  <a:lnTo>
                    <a:pt x="507" y="1014"/>
                  </a:lnTo>
                  <a:lnTo>
                    <a:pt x="561" y="1022"/>
                  </a:lnTo>
                  <a:lnTo>
                    <a:pt x="513" y="1009"/>
                  </a:lnTo>
                  <a:lnTo>
                    <a:pt x="469" y="990"/>
                  </a:lnTo>
                  <a:lnTo>
                    <a:pt x="426" y="968"/>
                  </a:lnTo>
                  <a:lnTo>
                    <a:pt x="383" y="944"/>
                  </a:lnTo>
                  <a:lnTo>
                    <a:pt x="345" y="914"/>
                  </a:lnTo>
                  <a:lnTo>
                    <a:pt x="308" y="885"/>
                  </a:lnTo>
                  <a:lnTo>
                    <a:pt x="274" y="850"/>
                  </a:lnTo>
                  <a:lnTo>
                    <a:pt x="242" y="815"/>
                  </a:lnTo>
                  <a:lnTo>
                    <a:pt x="216" y="774"/>
                  </a:lnTo>
                  <a:lnTo>
                    <a:pt x="191" y="733"/>
                  </a:lnTo>
                  <a:lnTo>
                    <a:pt x="170" y="691"/>
                  </a:lnTo>
                  <a:lnTo>
                    <a:pt x="150" y="645"/>
                  </a:lnTo>
                  <a:lnTo>
                    <a:pt x="138" y="599"/>
                  </a:lnTo>
                  <a:lnTo>
                    <a:pt x="127" y="550"/>
                  </a:lnTo>
                  <a:lnTo>
                    <a:pt x="118" y="499"/>
                  </a:lnTo>
                  <a:lnTo>
                    <a:pt x="118" y="447"/>
                  </a:lnTo>
                  <a:lnTo>
                    <a:pt x="118" y="396"/>
                  </a:lnTo>
                  <a:lnTo>
                    <a:pt x="127" y="348"/>
                  </a:lnTo>
                  <a:lnTo>
                    <a:pt x="134" y="299"/>
                  </a:lnTo>
                  <a:lnTo>
                    <a:pt x="150" y="253"/>
                  </a:lnTo>
                  <a:lnTo>
                    <a:pt x="167" y="210"/>
                  </a:lnTo>
                  <a:lnTo>
                    <a:pt x="189" y="168"/>
                  </a:lnTo>
                  <a:lnTo>
                    <a:pt x="212" y="127"/>
                  </a:lnTo>
                  <a:lnTo>
                    <a:pt x="240" y="86"/>
                  </a:lnTo>
                  <a:lnTo>
                    <a:pt x="184" y="46"/>
                  </a:lnTo>
                  <a:lnTo>
                    <a:pt x="129" y="0"/>
                  </a:lnTo>
                  <a:close/>
                </a:path>
              </a:pathLst>
            </a:custGeom>
            <a:solidFill>
              <a:srgbClr val="b4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9" name=""/>
            <p:cNvSpPr/>
            <p:nvPr/>
          </p:nvSpPr>
          <p:spPr>
            <a:xfrm>
              <a:off x="2106720" y="3432240"/>
              <a:ext cx="100080" cy="158760"/>
            </a:xfrm>
            <a:custGeom>
              <a:avLst/>
              <a:gdLst/>
              <a:ahLst/>
              <a:rect l="l" t="t" r="r" b="b"/>
              <a:pathLst>
                <a:path w="621" h="1041">
                  <a:moveTo>
                    <a:pt x="133" y="0"/>
                  </a:moveTo>
                  <a:lnTo>
                    <a:pt x="103" y="44"/>
                  </a:lnTo>
                  <a:lnTo>
                    <a:pt x="79" y="90"/>
                  </a:lnTo>
                  <a:lnTo>
                    <a:pt x="55" y="136"/>
                  </a:lnTo>
                  <a:lnTo>
                    <a:pt x="36" y="184"/>
                  </a:lnTo>
                  <a:lnTo>
                    <a:pt x="22" y="235"/>
                  </a:lnTo>
                  <a:lnTo>
                    <a:pt x="11" y="287"/>
                  </a:lnTo>
                  <a:lnTo>
                    <a:pt x="3" y="341"/>
                  </a:lnTo>
                  <a:lnTo>
                    <a:pt x="0" y="398"/>
                  </a:lnTo>
                  <a:lnTo>
                    <a:pt x="3" y="462"/>
                  </a:lnTo>
                  <a:lnTo>
                    <a:pt x="14" y="527"/>
                  </a:lnTo>
                  <a:lnTo>
                    <a:pt x="30" y="587"/>
                  </a:lnTo>
                  <a:lnTo>
                    <a:pt x="49" y="645"/>
                  </a:lnTo>
                  <a:lnTo>
                    <a:pt x="76" y="702"/>
                  </a:lnTo>
                  <a:lnTo>
                    <a:pt x="106" y="756"/>
                  </a:lnTo>
                  <a:lnTo>
                    <a:pt x="143" y="804"/>
                  </a:lnTo>
                  <a:lnTo>
                    <a:pt x="181" y="850"/>
                  </a:lnTo>
                  <a:lnTo>
                    <a:pt x="227" y="891"/>
                  </a:lnTo>
                  <a:lnTo>
                    <a:pt x="273" y="928"/>
                  </a:lnTo>
                  <a:lnTo>
                    <a:pt x="324" y="961"/>
                  </a:lnTo>
                  <a:lnTo>
                    <a:pt x="378" y="988"/>
                  </a:lnTo>
                  <a:lnTo>
                    <a:pt x="435" y="1013"/>
                  </a:lnTo>
                  <a:lnTo>
                    <a:pt x="497" y="1029"/>
                  </a:lnTo>
                  <a:lnTo>
                    <a:pt x="557" y="1039"/>
                  </a:lnTo>
                  <a:lnTo>
                    <a:pt x="589" y="1041"/>
                  </a:lnTo>
                  <a:lnTo>
                    <a:pt x="621" y="1041"/>
                  </a:lnTo>
                  <a:lnTo>
                    <a:pt x="570" y="1031"/>
                  </a:lnTo>
                  <a:lnTo>
                    <a:pt x="516" y="1023"/>
                  </a:lnTo>
                  <a:lnTo>
                    <a:pt x="462" y="1009"/>
                  </a:lnTo>
                  <a:lnTo>
                    <a:pt x="411" y="993"/>
                  </a:lnTo>
                  <a:lnTo>
                    <a:pt x="362" y="972"/>
                  </a:lnTo>
                  <a:lnTo>
                    <a:pt x="317" y="947"/>
                  </a:lnTo>
                  <a:lnTo>
                    <a:pt x="271" y="918"/>
                  </a:lnTo>
                  <a:lnTo>
                    <a:pt x="230" y="882"/>
                  </a:lnTo>
                  <a:lnTo>
                    <a:pt x="189" y="848"/>
                  </a:lnTo>
                  <a:lnTo>
                    <a:pt x="152" y="802"/>
                  </a:lnTo>
                  <a:lnTo>
                    <a:pt x="114" y="753"/>
                  </a:lnTo>
                  <a:lnTo>
                    <a:pt x="85" y="700"/>
                  </a:lnTo>
                  <a:lnTo>
                    <a:pt x="57" y="645"/>
                  </a:lnTo>
                  <a:lnTo>
                    <a:pt x="39" y="587"/>
                  </a:lnTo>
                  <a:lnTo>
                    <a:pt x="22" y="524"/>
                  </a:lnTo>
                  <a:lnTo>
                    <a:pt x="11" y="462"/>
                  </a:lnTo>
                  <a:lnTo>
                    <a:pt x="9" y="398"/>
                  </a:lnTo>
                  <a:lnTo>
                    <a:pt x="11" y="343"/>
                  </a:lnTo>
                  <a:lnTo>
                    <a:pt x="16" y="290"/>
                  </a:lnTo>
                  <a:lnTo>
                    <a:pt x="27" y="238"/>
                  </a:lnTo>
                  <a:lnTo>
                    <a:pt x="44" y="187"/>
                  </a:lnTo>
                  <a:lnTo>
                    <a:pt x="62" y="141"/>
                  </a:lnTo>
                  <a:lnTo>
                    <a:pt x="85" y="92"/>
                  </a:lnTo>
                  <a:lnTo>
                    <a:pt x="108" y="49"/>
                  </a:lnTo>
                  <a:lnTo>
                    <a:pt x="138" y="9"/>
                  </a:lnTo>
                  <a:lnTo>
                    <a:pt x="136" y="6"/>
                  </a:lnTo>
                  <a:lnTo>
                    <a:pt x="133" y="0"/>
                  </a:lnTo>
                  <a:close/>
                </a:path>
              </a:pathLst>
            </a:custGeom>
            <a:solidFill>
              <a:srgbClr val="653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0" name=""/>
            <p:cNvSpPr/>
            <p:nvPr/>
          </p:nvSpPr>
          <p:spPr>
            <a:xfrm>
              <a:off x="2413080" y="3449520"/>
              <a:ext cx="14400" cy="25560"/>
            </a:xfrm>
            <a:custGeom>
              <a:avLst/>
              <a:gdLst/>
              <a:ahLst/>
              <a:rect l="l" t="t" r="r" b="b"/>
              <a:pathLst>
                <a:path w="80" h="173">
                  <a:moveTo>
                    <a:pt x="23" y="0"/>
                  </a:moveTo>
                  <a:lnTo>
                    <a:pt x="0" y="11"/>
                  </a:lnTo>
                  <a:lnTo>
                    <a:pt x="23" y="49"/>
                  </a:lnTo>
                  <a:lnTo>
                    <a:pt x="44" y="90"/>
                  </a:lnTo>
                  <a:lnTo>
                    <a:pt x="64" y="130"/>
                  </a:lnTo>
                  <a:lnTo>
                    <a:pt x="80" y="173"/>
                  </a:lnTo>
                  <a:lnTo>
                    <a:pt x="69" y="127"/>
                  </a:lnTo>
                  <a:lnTo>
                    <a:pt x="56" y="85"/>
                  </a:lnTo>
                  <a:lnTo>
                    <a:pt x="42" y="41"/>
                  </a:lnTo>
                  <a:lnTo>
                    <a:pt x="23" y="0"/>
                  </a:lnTo>
                  <a:close/>
                </a:path>
              </a:pathLst>
            </a:custGeom>
            <a:solidFill>
              <a:srgbClr val="b4ca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240" bIns="-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1" name=""/>
            <p:cNvSpPr/>
            <p:nvPr/>
          </p:nvSpPr>
          <p:spPr>
            <a:xfrm>
              <a:off x="2416320" y="3449520"/>
              <a:ext cx="12600" cy="36360"/>
            </a:xfrm>
            <a:custGeom>
              <a:avLst/>
              <a:gdLst/>
              <a:ahLst/>
              <a:rect l="l" t="t" r="r" b="b"/>
              <a:pathLst>
                <a:path w="73" h="245">
                  <a:moveTo>
                    <a:pt x="5" y="0"/>
                  </a:moveTo>
                  <a:lnTo>
                    <a:pt x="0" y="5"/>
                  </a:lnTo>
                  <a:lnTo>
                    <a:pt x="19" y="46"/>
                  </a:lnTo>
                  <a:lnTo>
                    <a:pt x="33" y="90"/>
                  </a:lnTo>
                  <a:lnTo>
                    <a:pt x="46" y="132"/>
                  </a:lnTo>
                  <a:lnTo>
                    <a:pt x="57" y="178"/>
                  </a:lnTo>
                  <a:lnTo>
                    <a:pt x="65" y="210"/>
                  </a:lnTo>
                  <a:lnTo>
                    <a:pt x="73" y="245"/>
                  </a:lnTo>
                  <a:lnTo>
                    <a:pt x="71" y="213"/>
                  </a:lnTo>
                  <a:lnTo>
                    <a:pt x="65" y="181"/>
                  </a:lnTo>
                  <a:lnTo>
                    <a:pt x="51" y="119"/>
                  </a:lnTo>
                  <a:lnTo>
                    <a:pt x="30" y="60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653a2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440" bIns="-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2" name=""/>
            <p:cNvSpPr/>
            <p:nvPr/>
          </p:nvSpPr>
          <p:spPr>
            <a:xfrm>
              <a:off x="2127240" y="3413160"/>
              <a:ext cx="301680" cy="177840"/>
            </a:xfrm>
            <a:custGeom>
              <a:avLst/>
              <a:gdLst/>
              <a:ahLst/>
              <a:rect l="l" t="t" r="r" b="b"/>
              <a:pathLst>
                <a:path w="1856" h="1170">
                  <a:moveTo>
                    <a:pt x="1856" y="585"/>
                  </a:moveTo>
                  <a:lnTo>
                    <a:pt x="1854" y="645"/>
                  </a:lnTo>
                  <a:lnTo>
                    <a:pt x="1845" y="704"/>
                  </a:lnTo>
                  <a:lnTo>
                    <a:pt x="1832" y="760"/>
                  </a:lnTo>
                  <a:lnTo>
                    <a:pt x="1811" y="815"/>
                  </a:lnTo>
                  <a:lnTo>
                    <a:pt x="1786" y="866"/>
                  </a:lnTo>
                  <a:lnTo>
                    <a:pt x="1756" y="912"/>
                  </a:lnTo>
                  <a:lnTo>
                    <a:pt x="1724" y="958"/>
                  </a:lnTo>
                  <a:lnTo>
                    <a:pt x="1686" y="1001"/>
                  </a:lnTo>
                  <a:lnTo>
                    <a:pt x="1645" y="1039"/>
                  </a:lnTo>
                  <a:lnTo>
                    <a:pt x="1600" y="1071"/>
                  </a:lnTo>
                  <a:lnTo>
                    <a:pt x="1551" y="1101"/>
                  </a:lnTo>
                  <a:lnTo>
                    <a:pt x="1500" y="1126"/>
                  </a:lnTo>
                  <a:lnTo>
                    <a:pt x="1447" y="1144"/>
                  </a:lnTo>
                  <a:lnTo>
                    <a:pt x="1389" y="1160"/>
                  </a:lnTo>
                  <a:lnTo>
                    <a:pt x="1332" y="1168"/>
                  </a:lnTo>
                  <a:lnTo>
                    <a:pt x="1273" y="1170"/>
                  </a:lnTo>
                  <a:lnTo>
                    <a:pt x="585" y="1170"/>
                  </a:lnTo>
                  <a:lnTo>
                    <a:pt x="523" y="1168"/>
                  </a:lnTo>
                  <a:lnTo>
                    <a:pt x="467" y="1160"/>
                  </a:lnTo>
                  <a:lnTo>
                    <a:pt x="410" y="1144"/>
                  </a:lnTo>
                  <a:lnTo>
                    <a:pt x="356" y="1126"/>
                  </a:lnTo>
                  <a:lnTo>
                    <a:pt x="304" y="1101"/>
                  </a:lnTo>
                  <a:lnTo>
                    <a:pt x="256" y="1071"/>
                  </a:lnTo>
                  <a:lnTo>
                    <a:pt x="213" y="1039"/>
                  </a:lnTo>
                  <a:lnTo>
                    <a:pt x="170" y="1001"/>
                  </a:lnTo>
                  <a:lnTo>
                    <a:pt x="131" y="958"/>
                  </a:lnTo>
                  <a:lnTo>
                    <a:pt x="99" y="912"/>
                  </a:lnTo>
                  <a:lnTo>
                    <a:pt x="69" y="866"/>
                  </a:lnTo>
                  <a:lnTo>
                    <a:pt x="45" y="815"/>
                  </a:lnTo>
                  <a:lnTo>
                    <a:pt x="23" y="760"/>
                  </a:lnTo>
                  <a:lnTo>
                    <a:pt x="11" y="704"/>
                  </a:lnTo>
                  <a:lnTo>
                    <a:pt x="2" y="645"/>
                  </a:lnTo>
                  <a:lnTo>
                    <a:pt x="0" y="585"/>
                  </a:lnTo>
                  <a:lnTo>
                    <a:pt x="2" y="527"/>
                  </a:lnTo>
                  <a:lnTo>
                    <a:pt x="11" y="470"/>
                  </a:lnTo>
                  <a:lnTo>
                    <a:pt x="23" y="413"/>
                  </a:lnTo>
                  <a:lnTo>
                    <a:pt x="45" y="359"/>
                  </a:lnTo>
                  <a:lnTo>
                    <a:pt x="69" y="308"/>
                  </a:lnTo>
                  <a:lnTo>
                    <a:pt x="99" y="260"/>
                  </a:lnTo>
                  <a:lnTo>
                    <a:pt x="131" y="214"/>
                  </a:lnTo>
                  <a:lnTo>
                    <a:pt x="170" y="173"/>
                  </a:lnTo>
                  <a:lnTo>
                    <a:pt x="213" y="135"/>
                  </a:lnTo>
                  <a:lnTo>
                    <a:pt x="256" y="101"/>
                  </a:lnTo>
                  <a:lnTo>
                    <a:pt x="304" y="73"/>
                  </a:lnTo>
                  <a:lnTo>
                    <a:pt x="356" y="46"/>
                  </a:lnTo>
                  <a:lnTo>
                    <a:pt x="410" y="27"/>
                  </a:lnTo>
                  <a:lnTo>
                    <a:pt x="467" y="14"/>
                  </a:lnTo>
                  <a:lnTo>
                    <a:pt x="523" y="5"/>
                  </a:lnTo>
                  <a:lnTo>
                    <a:pt x="585" y="0"/>
                  </a:lnTo>
                  <a:lnTo>
                    <a:pt x="1273" y="0"/>
                  </a:lnTo>
                  <a:lnTo>
                    <a:pt x="1332" y="5"/>
                  </a:lnTo>
                  <a:lnTo>
                    <a:pt x="1389" y="14"/>
                  </a:lnTo>
                  <a:lnTo>
                    <a:pt x="1447" y="27"/>
                  </a:lnTo>
                  <a:lnTo>
                    <a:pt x="1500" y="46"/>
                  </a:lnTo>
                  <a:lnTo>
                    <a:pt x="1551" y="73"/>
                  </a:lnTo>
                  <a:lnTo>
                    <a:pt x="1600" y="101"/>
                  </a:lnTo>
                  <a:lnTo>
                    <a:pt x="1645" y="135"/>
                  </a:lnTo>
                  <a:lnTo>
                    <a:pt x="1686" y="173"/>
                  </a:lnTo>
                  <a:lnTo>
                    <a:pt x="1724" y="214"/>
                  </a:lnTo>
                  <a:lnTo>
                    <a:pt x="1756" y="260"/>
                  </a:lnTo>
                  <a:lnTo>
                    <a:pt x="1786" y="308"/>
                  </a:lnTo>
                  <a:lnTo>
                    <a:pt x="1811" y="359"/>
                  </a:lnTo>
                  <a:lnTo>
                    <a:pt x="1832" y="413"/>
                  </a:lnTo>
                  <a:lnTo>
                    <a:pt x="1845" y="470"/>
                  </a:lnTo>
                  <a:lnTo>
                    <a:pt x="1854" y="527"/>
                  </a:lnTo>
                  <a:lnTo>
                    <a:pt x="1856" y="585"/>
                  </a:lnTo>
                  <a:close/>
                </a:path>
              </a:pathLst>
            </a:custGeom>
            <a:solidFill>
              <a:srgbClr val="9cbeb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3" name=""/>
            <p:cNvSpPr/>
            <p:nvPr/>
          </p:nvSpPr>
          <p:spPr>
            <a:xfrm>
              <a:off x="2127240" y="3411360"/>
              <a:ext cx="303120" cy="181080"/>
            </a:xfrm>
            <a:custGeom>
              <a:avLst/>
              <a:gdLst/>
              <a:ahLst/>
              <a:rect l="l" t="t" r="r" b="b"/>
              <a:pathLst>
                <a:path w="1873" h="1186">
                  <a:moveTo>
                    <a:pt x="1865" y="592"/>
                  </a:moveTo>
                  <a:lnTo>
                    <a:pt x="1857" y="592"/>
                  </a:lnTo>
                  <a:lnTo>
                    <a:pt x="1854" y="652"/>
                  </a:lnTo>
                  <a:lnTo>
                    <a:pt x="1847" y="709"/>
                  </a:lnTo>
                  <a:lnTo>
                    <a:pt x="1833" y="765"/>
                  </a:lnTo>
                  <a:lnTo>
                    <a:pt x="1813" y="817"/>
                  </a:lnTo>
                  <a:lnTo>
                    <a:pt x="1790" y="868"/>
                  </a:lnTo>
                  <a:lnTo>
                    <a:pt x="1760" y="916"/>
                  </a:lnTo>
                  <a:lnTo>
                    <a:pt x="1728" y="960"/>
                  </a:lnTo>
                  <a:lnTo>
                    <a:pt x="1690" y="1000"/>
                  </a:lnTo>
                  <a:lnTo>
                    <a:pt x="1649" y="1038"/>
                  </a:lnTo>
                  <a:lnTo>
                    <a:pt x="1603" y="1073"/>
                  </a:lnTo>
                  <a:lnTo>
                    <a:pt x="1558" y="1100"/>
                  </a:lnTo>
                  <a:lnTo>
                    <a:pt x="1507" y="1124"/>
                  </a:lnTo>
                  <a:lnTo>
                    <a:pt x="1452" y="1143"/>
                  </a:lnTo>
                  <a:lnTo>
                    <a:pt x="1398" y="1159"/>
                  </a:lnTo>
                  <a:lnTo>
                    <a:pt x="1339" y="1167"/>
                  </a:lnTo>
                  <a:lnTo>
                    <a:pt x="1282" y="1170"/>
                  </a:lnTo>
                  <a:lnTo>
                    <a:pt x="594" y="1170"/>
                  </a:lnTo>
                  <a:lnTo>
                    <a:pt x="535" y="1167"/>
                  </a:lnTo>
                  <a:lnTo>
                    <a:pt x="476" y="1159"/>
                  </a:lnTo>
                  <a:lnTo>
                    <a:pt x="421" y="1143"/>
                  </a:lnTo>
                  <a:lnTo>
                    <a:pt x="368" y="1124"/>
                  </a:lnTo>
                  <a:lnTo>
                    <a:pt x="319" y="1100"/>
                  </a:lnTo>
                  <a:lnTo>
                    <a:pt x="271" y="1073"/>
                  </a:lnTo>
                  <a:lnTo>
                    <a:pt x="225" y="1038"/>
                  </a:lnTo>
                  <a:lnTo>
                    <a:pt x="184" y="1000"/>
                  </a:lnTo>
                  <a:lnTo>
                    <a:pt x="149" y="960"/>
                  </a:lnTo>
                  <a:lnTo>
                    <a:pt x="114" y="916"/>
                  </a:lnTo>
                  <a:lnTo>
                    <a:pt x="84" y="868"/>
                  </a:lnTo>
                  <a:lnTo>
                    <a:pt x="60" y="817"/>
                  </a:lnTo>
                  <a:lnTo>
                    <a:pt x="41" y="765"/>
                  </a:lnTo>
                  <a:lnTo>
                    <a:pt x="27" y="709"/>
                  </a:lnTo>
                  <a:lnTo>
                    <a:pt x="20" y="652"/>
                  </a:lnTo>
                  <a:lnTo>
                    <a:pt x="16" y="592"/>
                  </a:lnTo>
                  <a:lnTo>
                    <a:pt x="20" y="534"/>
                  </a:lnTo>
                  <a:lnTo>
                    <a:pt x="27" y="477"/>
                  </a:lnTo>
                  <a:lnTo>
                    <a:pt x="41" y="423"/>
                  </a:lnTo>
                  <a:lnTo>
                    <a:pt x="60" y="369"/>
                  </a:lnTo>
                  <a:lnTo>
                    <a:pt x="84" y="318"/>
                  </a:lnTo>
                  <a:lnTo>
                    <a:pt x="114" y="272"/>
                  </a:lnTo>
                  <a:lnTo>
                    <a:pt x="149" y="226"/>
                  </a:lnTo>
                  <a:lnTo>
                    <a:pt x="184" y="185"/>
                  </a:lnTo>
                  <a:lnTo>
                    <a:pt x="225" y="147"/>
                  </a:lnTo>
                  <a:lnTo>
                    <a:pt x="271" y="115"/>
                  </a:lnTo>
                  <a:lnTo>
                    <a:pt x="319" y="85"/>
                  </a:lnTo>
                  <a:lnTo>
                    <a:pt x="368" y="62"/>
                  </a:lnTo>
                  <a:lnTo>
                    <a:pt x="421" y="42"/>
                  </a:lnTo>
                  <a:lnTo>
                    <a:pt x="476" y="28"/>
                  </a:lnTo>
                  <a:lnTo>
                    <a:pt x="535" y="21"/>
                  </a:lnTo>
                  <a:lnTo>
                    <a:pt x="594" y="16"/>
                  </a:lnTo>
                  <a:lnTo>
                    <a:pt x="1282" y="16"/>
                  </a:lnTo>
                  <a:lnTo>
                    <a:pt x="1339" y="21"/>
                  </a:lnTo>
                  <a:lnTo>
                    <a:pt x="1398" y="28"/>
                  </a:lnTo>
                  <a:lnTo>
                    <a:pt x="1452" y="42"/>
                  </a:lnTo>
                  <a:lnTo>
                    <a:pt x="1507" y="62"/>
                  </a:lnTo>
                  <a:lnTo>
                    <a:pt x="1558" y="85"/>
                  </a:lnTo>
                  <a:lnTo>
                    <a:pt x="1603" y="115"/>
                  </a:lnTo>
                  <a:lnTo>
                    <a:pt x="1649" y="147"/>
                  </a:lnTo>
                  <a:lnTo>
                    <a:pt x="1690" y="185"/>
                  </a:lnTo>
                  <a:lnTo>
                    <a:pt x="1728" y="226"/>
                  </a:lnTo>
                  <a:lnTo>
                    <a:pt x="1760" y="272"/>
                  </a:lnTo>
                  <a:lnTo>
                    <a:pt x="1790" y="318"/>
                  </a:lnTo>
                  <a:lnTo>
                    <a:pt x="1813" y="369"/>
                  </a:lnTo>
                  <a:lnTo>
                    <a:pt x="1833" y="423"/>
                  </a:lnTo>
                  <a:lnTo>
                    <a:pt x="1847" y="477"/>
                  </a:lnTo>
                  <a:lnTo>
                    <a:pt x="1854" y="534"/>
                  </a:lnTo>
                  <a:lnTo>
                    <a:pt x="1857" y="592"/>
                  </a:lnTo>
                  <a:lnTo>
                    <a:pt x="1865" y="592"/>
                  </a:lnTo>
                  <a:lnTo>
                    <a:pt x="1873" y="592"/>
                  </a:lnTo>
                  <a:lnTo>
                    <a:pt x="1871" y="534"/>
                  </a:lnTo>
                  <a:lnTo>
                    <a:pt x="1863" y="474"/>
                  </a:lnTo>
                  <a:lnTo>
                    <a:pt x="1849" y="417"/>
                  </a:lnTo>
                  <a:lnTo>
                    <a:pt x="1827" y="364"/>
                  </a:lnTo>
                  <a:lnTo>
                    <a:pt x="1803" y="309"/>
                  </a:lnTo>
                  <a:lnTo>
                    <a:pt x="1774" y="261"/>
                  </a:lnTo>
                  <a:lnTo>
                    <a:pt x="1739" y="215"/>
                  </a:lnTo>
                  <a:lnTo>
                    <a:pt x="1700" y="175"/>
                  </a:lnTo>
                  <a:lnTo>
                    <a:pt x="1657" y="136"/>
                  </a:lnTo>
                  <a:lnTo>
                    <a:pt x="1615" y="102"/>
                  </a:lnTo>
                  <a:lnTo>
                    <a:pt x="1563" y="72"/>
                  </a:lnTo>
                  <a:lnTo>
                    <a:pt x="1512" y="48"/>
                  </a:lnTo>
                  <a:lnTo>
                    <a:pt x="1458" y="26"/>
                  </a:lnTo>
                  <a:lnTo>
                    <a:pt x="1401" y="12"/>
                  </a:lnTo>
                  <a:lnTo>
                    <a:pt x="1341" y="5"/>
                  </a:lnTo>
                  <a:lnTo>
                    <a:pt x="1282" y="0"/>
                  </a:lnTo>
                  <a:lnTo>
                    <a:pt x="594" y="0"/>
                  </a:lnTo>
                  <a:lnTo>
                    <a:pt x="532" y="5"/>
                  </a:lnTo>
                  <a:lnTo>
                    <a:pt x="473" y="12"/>
                  </a:lnTo>
                  <a:lnTo>
                    <a:pt x="416" y="26"/>
                  </a:lnTo>
                  <a:lnTo>
                    <a:pt x="362" y="48"/>
                  </a:lnTo>
                  <a:lnTo>
                    <a:pt x="310" y="72"/>
                  </a:lnTo>
                  <a:lnTo>
                    <a:pt x="262" y="102"/>
                  </a:lnTo>
                  <a:lnTo>
                    <a:pt x="216" y="136"/>
                  </a:lnTo>
                  <a:lnTo>
                    <a:pt x="174" y="175"/>
                  </a:lnTo>
                  <a:lnTo>
                    <a:pt x="135" y="215"/>
                  </a:lnTo>
                  <a:lnTo>
                    <a:pt x="100" y="261"/>
                  </a:lnTo>
                  <a:lnTo>
                    <a:pt x="71" y="309"/>
                  </a:lnTo>
                  <a:lnTo>
                    <a:pt x="46" y="364"/>
                  </a:lnTo>
                  <a:lnTo>
                    <a:pt x="27" y="417"/>
                  </a:lnTo>
                  <a:lnTo>
                    <a:pt x="11" y="474"/>
                  </a:lnTo>
                  <a:lnTo>
                    <a:pt x="4" y="534"/>
                  </a:lnTo>
                  <a:lnTo>
                    <a:pt x="0" y="592"/>
                  </a:lnTo>
                  <a:lnTo>
                    <a:pt x="4" y="654"/>
                  </a:lnTo>
                  <a:lnTo>
                    <a:pt x="11" y="714"/>
                  </a:lnTo>
                  <a:lnTo>
                    <a:pt x="27" y="771"/>
                  </a:lnTo>
                  <a:lnTo>
                    <a:pt x="46" y="825"/>
                  </a:lnTo>
                  <a:lnTo>
                    <a:pt x="71" y="876"/>
                  </a:lnTo>
                  <a:lnTo>
                    <a:pt x="100" y="924"/>
                  </a:lnTo>
                  <a:lnTo>
                    <a:pt x="135" y="970"/>
                  </a:lnTo>
                  <a:lnTo>
                    <a:pt x="174" y="1013"/>
                  </a:lnTo>
                  <a:lnTo>
                    <a:pt x="216" y="1051"/>
                  </a:lnTo>
                  <a:lnTo>
                    <a:pt x="262" y="1087"/>
                  </a:lnTo>
                  <a:lnTo>
                    <a:pt x="310" y="1116"/>
                  </a:lnTo>
                  <a:lnTo>
                    <a:pt x="362" y="1140"/>
                  </a:lnTo>
                  <a:lnTo>
                    <a:pt x="416" y="1159"/>
                  </a:lnTo>
                  <a:lnTo>
                    <a:pt x="473" y="1175"/>
                  </a:lnTo>
                  <a:lnTo>
                    <a:pt x="532" y="1184"/>
                  </a:lnTo>
                  <a:lnTo>
                    <a:pt x="594" y="1186"/>
                  </a:lnTo>
                  <a:lnTo>
                    <a:pt x="1282" y="1186"/>
                  </a:lnTo>
                  <a:lnTo>
                    <a:pt x="1341" y="1184"/>
                  </a:lnTo>
                  <a:lnTo>
                    <a:pt x="1401" y="1175"/>
                  </a:lnTo>
                  <a:lnTo>
                    <a:pt x="1458" y="1159"/>
                  </a:lnTo>
                  <a:lnTo>
                    <a:pt x="1512" y="1140"/>
                  </a:lnTo>
                  <a:lnTo>
                    <a:pt x="1563" y="1116"/>
                  </a:lnTo>
                  <a:lnTo>
                    <a:pt x="1615" y="1087"/>
                  </a:lnTo>
                  <a:lnTo>
                    <a:pt x="1657" y="1051"/>
                  </a:lnTo>
                  <a:lnTo>
                    <a:pt x="1700" y="1013"/>
                  </a:lnTo>
                  <a:lnTo>
                    <a:pt x="1739" y="970"/>
                  </a:lnTo>
                  <a:lnTo>
                    <a:pt x="1774" y="924"/>
                  </a:lnTo>
                  <a:lnTo>
                    <a:pt x="1803" y="876"/>
                  </a:lnTo>
                  <a:lnTo>
                    <a:pt x="1827" y="825"/>
                  </a:lnTo>
                  <a:lnTo>
                    <a:pt x="1849" y="771"/>
                  </a:lnTo>
                  <a:lnTo>
                    <a:pt x="1863" y="714"/>
                  </a:lnTo>
                  <a:lnTo>
                    <a:pt x="1871" y="654"/>
                  </a:lnTo>
                  <a:lnTo>
                    <a:pt x="1873" y="592"/>
                  </a:lnTo>
                  <a:lnTo>
                    <a:pt x="1865" y="592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4" name=""/>
            <p:cNvSpPr/>
            <p:nvPr/>
          </p:nvSpPr>
          <p:spPr>
            <a:xfrm>
              <a:off x="2130480" y="3417840"/>
              <a:ext cx="128520" cy="171360"/>
            </a:xfrm>
            <a:custGeom>
              <a:avLst/>
              <a:gdLst/>
              <a:ahLst/>
              <a:rect l="l" t="t" r="r" b="b"/>
              <a:pathLst>
                <a:path w="807" h="1133">
                  <a:moveTo>
                    <a:pt x="722" y="0"/>
                  </a:moveTo>
                  <a:lnTo>
                    <a:pt x="710" y="550"/>
                  </a:lnTo>
                  <a:lnTo>
                    <a:pt x="648" y="497"/>
                  </a:lnTo>
                  <a:lnTo>
                    <a:pt x="589" y="442"/>
                  </a:lnTo>
                  <a:lnTo>
                    <a:pt x="533" y="383"/>
                  </a:lnTo>
                  <a:lnTo>
                    <a:pt x="481" y="324"/>
                  </a:lnTo>
                  <a:lnTo>
                    <a:pt x="430" y="258"/>
                  </a:lnTo>
                  <a:lnTo>
                    <a:pt x="381" y="194"/>
                  </a:lnTo>
                  <a:lnTo>
                    <a:pt x="335" y="127"/>
                  </a:lnTo>
                  <a:lnTo>
                    <a:pt x="292" y="53"/>
                  </a:lnTo>
                  <a:lnTo>
                    <a:pt x="260" y="76"/>
                  </a:lnTo>
                  <a:lnTo>
                    <a:pt x="227" y="97"/>
                  </a:lnTo>
                  <a:lnTo>
                    <a:pt x="198" y="122"/>
                  </a:lnTo>
                  <a:lnTo>
                    <a:pt x="168" y="148"/>
                  </a:lnTo>
                  <a:lnTo>
                    <a:pt x="133" y="189"/>
                  </a:lnTo>
                  <a:lnTo>
                    <a:pt x="98" y="235"/>
                  </a:lnTo>
                  <a:lnTo>
                    <a:pt x="68" y="281"/>
                  </a:lnTo>
                  <a:lnTo>
                    <a:pt x="44" y="332"/>
                  </a:lnTo>
                  <a:lnTo>
                    <a:pt x="25" y="386"/>
                  </a:lnTo>
                  <a:lnTo>
                    <a:pt x="11" y="440"/>
                  </a:lnTo>
                  <a:lnTo>
                    <a:pt x="4" y="497"/>
                  </a:lnTo>
                  <a:lnTo>
                    <a:pt x="0" y="555"/>
                  </a:lnTo>
                  <a:lnTo>
                    <a:pt x="4" y="615"/>
                  </a:lnTo>
                  <a:lnTo>
                    <a:pt x="11" y="672"/>
                  </a:lnTo>
                  <a:lnTo>
                    <a:pt x="25" y="728"/>
                  </a:lnTo>
                  <a:lnTo>
                    <a:pt x="44" y="780"/>
                  </a:lnTo>
                  <a:lnTo>
                    <a:pt x="68" y="831"/>
                  </a:lnTo>
                  <a:lnTo>
                    <a:pt x="98" y="879"/>
                  </a:lnTo>
                  <a:lnTo>
                    <a:pt x="133" y="923"/>
                  </a:lnTo>
                  <a:lnTo>
                    <a:pt x="168" y="963"/>
                  </a:lnTo>
                  <a:lnTo>
                    <a:pt x="209" y="1001"/>
                  </a:lnTo>
                  <a:lnTo>
                    <a:pt x="255" y="1036"/>
                  </a:lnTo>
                  <a:lnTo>
                    <a:pt x="303" y="1063"/>
                  </a:lnTo>
                  <a:lnTo>
                    <a:pt x="352" y="1087"/>
                  </a:lnTo>
                  <a:lnTo>
                    <a:pt x="405" y="1106"/>
                  </a:lnTo>
                  <a:lnTo>
                    <a:pt x="460" y="1122"/>
                  </a:lnTo>
                  <a:lnTo>
                    <a:pt x="519" y="1130"/>
                  </a:lnTo>
                  <a:lnTo>
                    <a:pt x="578" y="1133"/>
                  </a:lnTo>
                  <a:lnTo>
                    <a:pt x="692" y="1133"/>
                  </a:lnTo>
                  <a:lnTo>
                    <a:pt x="708" y="1108"/>
                  </a:lnTo>
                  <a:lnTo>
                    <a:pt x="722" y="1082"/>
                  </a:lnTo>
                  <a:lnTo>
                    <a:pt x="748" y="1025"/>
                  </a:lnTo>
                  <a:lnTo>
                    <a:pt x="768" y="965"/>
                  </a:lnTo>
                  <a:lnTo>
                    <a:pt x="784" y="901"/>
                  </a:lnTo>
                  <a:lnTo>
                    <a:pt x="794" y="836"/>
                  </a:lnTo>
                  <a:lnTo>
                    <a:pt x="802" y="769"/>
                  </a:lnTo>
                  <a:lnTo>
                    <a:pt x="807" y="702"/>
                  </a:lnTo>
                  <a:lnTo>
                    <a:pt x="807" y="631"/>
                  </a:lnTo>
                  <a:lnTo>
                    <a:pt x="807" y="555"/>
                  </a:lnTo>
                  <a:lnTo>
                    <a:pt x="802" y="483"/>
                  </a:lnTo>
                  <a:lnTo>
                    <a:pt x="796" y="407"/>
                  </a:lnTo>
                  <a:lnTo>
                    <a:pt x="786" y="334"/>
                  </a:lnTo>
                  <a:lnTo>
                    <a:pt x="778" y="264"/>
                  </a:lnTo>
                  <a:lnTo>
                    <a:pt x="768" y="202"/>
                  </a:lnTo>
                  <a:lnTo>
                    <a:pt x="745" y="92"/>
                  </a:lnTo>
                  <a:lnTo>
                    <a:pt x="727" y="14"/>
                  </a:lnTo>
                  <a:lnTo>
                    <a:pt x="722" y="0"/>
                  </a:lnTo>
                  <a:close/>
                </a:path>
              </a:pathLst>
            </a:custGeom>
            <a:solidFill>
              <a:srgbClr val="608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5" name=""/>
            <p:cNvSpPr/>
            <p:nvPr/>
          </p:nvSpPr>
          <p:spPr>
            <a:xfrm>
              <a:off x="2127240" y="3425760"/>
              <a:ext cx="114480" cy="165240"/>
            </a:xfrm>
            <a:custGeom>
              <a:avLst/>
              <a:gdLst/>
              <a:ahLst/>
              <a:rect l="l" t="t" r="r" b="b"/>
              <a:pathLst>
                <a:path w="699" h="1092">
                  <a:moveTo>
                    <a:pt x="296" y="0"/>
                  </a:moveTo>
                  <a:lnTo>
                    <a:pt x="264" y="19"/>
                  </a:lnTo>
                  <a:lnTo>
                    <a:pt x="232" y="41"/>
                  </a:lnTo>
                  <a:lnTo>
                    <a:pt x="202" y="65"/>
                  </a:lnTo>
                  <a:lnTo>
                    <a:pt x="175" y="90"/>
                  </a:lnTo>
                  <a:lnTo>
                    <a:pt x="147" y="120"/>
                  </a:lnTo>
                  <a:lnTo>
                    <a:pt x="124" y="146"/>
                  </a:lnTo>
                  <a:lnTo>
                    <a:pt x="103" y="178"/>
                  </a:lnTo>
                  <a:lnTo>
                    <a:pt x="80" y="210"/>
                  </a:lnTo>
                  <a:lnTo>
                    <a:pt x="62" y="244"/>
                  </a:lnTo>
                  <a:lnTo>
                    <a:pt x="45" y="279"/>
                  </a:lnTo>
                  <a:lnTo>
                    <a:pt x="32" y="313"/>
                  </a:lnTo>
                  <a:lnTo>
                    <a:pt x="21" y="351"/>
                  </a:lnTo>
                  <a:lnTo>
                    <a:pt x="11" y="389"/>
                  </a:lnTo>
                  <a:lnTo>
                    <a:pt x="5" y="426"/>
                  </a:lnTo>
                  <a:lnTo>
                    <a:pt x="0" y="467"/>
                  </a:lnTo>
                  <a:lnTo>
                    <a:pt x="0" y="507"/>
                  </a:lnTo>
                  <a:lnTo>
                    <a:pt x="2" y="567"/>
                  </a:lnTo>
                  <a:lnTo>
                    <a:pt x="11" y="626"/>
                  </a:lnTo>
                  <a:lnTo>
                    <a:pt x="23" y="682"/>
                  </a:lnTo>
                  <a:lnTo>
                    <a:pt x="45" y="737"/>
                  </a:lnTo>
                  <a:lnTo>
                    <a:pt x="69" y="788"/>
                  </a:lnTo>
                  <a:lnTo>
                    <a:pt x="99" y="834"/>
                  </a:lnTo>
                  <a:lnTo>
                    <a:pt x="131" y="880"/>
                  </a:lnTo>
                  <a:lnTo>
                    <a:pt x="170" y="923"/>
                  </a:lnTo>
                  <a:lnTo>
                    <a:pt x="213" y="961"/>
                  </a:lnTo>
                  <a:lnTo>
                    <a:pt x="256" y="993"/>
                  </a:lnTo>
                  <a:lnTo>
                    <a:pt x="304" y="1023"/>
                  </a:lnTo>
                  <a:lnTo>
                    <a:pt x="356" y="1048"/>
                  </a:lnTo>
                  <a:lnTo>
                    <a:pt x="410" y="1066"/>
                  </a:lnTo>
                  <a:lnTo>
                    <a:pt x="467" y="1082"/>
                  </a:lnTo>
                  <a:lnTo>
                    <a:pt x="523" y="1090"/>
                  </a:lnTo>
                  <a:lnTo>
                    <a:pt x="585" y="1092"/>
                  </a:lnTo>
                  <a:lnTo>
                    <a:pt x="695" y="1092"/>
                  </a:lnTo>
                  <a:lnTo>
                    <a:pt x="695" y="1087"/>
                  </a:lnTo>
                  <a:lnTo>
                    <a:pt x="699" y="1085"/>
                  </a:lnTo>
                  <a:lnTo>
                    <a:pt x="585" y="1085"/>
                  </a:lnTo>
                  <a:lnTo>
                    <a:pt x="526" y="1082"/>
                  </a:lnTo>
                  <a:lnTo>
                    <a:pt x="467" y="1074"/>
                  </a:lnTo>
                  <a:lnTo>
                    <a:pt x="412" y="1058"/>
                  </a:lnTo>
                  <a:lnTo>
                    <a:pt x="359" y="1039"/>
                  </a:lnTo>
                  <a:lnTo>
                    <a:pt x="310" y="1015"/>
                  </a:lnTo>
                  <a:lnTo>
                    <a:pt x="262" y="988"/>
                  </a:lnTo>
                  <a:lnTo>
                    <a:pt x="216" y="953"/>
                  </a:lnTo>
                  <a:lnTo>
                    <a:pt x="175" y="915"/>
                  </a:lnTo>
                  <a:lnTo>
                    <a:pt x="140" y="875"/>
                  </a:lnTo>
                  <a:lnTo>
                    <a:pt x="105" y="831"/>
                  </a:lnTo>
                  <a:lnTo>
                    <a:pt x="75" y="783"/>
                  </a:lnTo>
                  <a:lnTo>
                    <a:pt x="51" y="732"/>
                  </a:lnTo>
                  <a:lnTo>
                    <a:pt x="32" y="680"/>
                  </a:lnTo>
                  <a:lnTo>
                    <a:pt x="18" y="624"/>
                  </a:lnTo>
                  <a:lnTo>
                    <a:pt x="11" y="567"/>
                  </a:lnTo>
                  <a:lnTo>
                    <a:pt x="7" y="507"/>
                  </a:lnTo>
                  <a:lnTo>
                    <a:pt x="11" y="449"/>
                  </a:lnTo>
                  <a:lnTo>
                    <a:pt x="18" y="392"/>
                  </a:lnTo>
                  <a:lnTo>
                    <a:pt x="32" y="338"/>
                  </a:lnTo>
                  <a:lnTo>
                    <a:pt x="51" y="284"/>
                  </a:lnTo>
                  <a:lnTo>
                    <a:pt x="75" y="233"/>
                  </a:lnTo>
                  <a:lnTo>
                    <a:pt x="105" y="187"/>
                  </a:lnTo>
                  <a:lnTo>
                    <a:pt x="140" y="141"/>
                  </a:lnTo>
                  <a:lnTo>
                    <a:pt x="175" y="100"/>
                  </a:lnTo>
                  <a:lnTo>
                    <a:pt x="205" y="74"/>
                  </a:lnTo>
                  <a:lnTo>
                    <a:pt x="234" y="49"/>
                  </a:lnTo>
                  <a:lnTo>
                    <a:pt x="267" y="28"/>
                  </a:lnTo>
                  <a:lnTo>
                    <a:pt x="299" y="5"/>
                  </a:lnTo>
                  <a:lnTo>
                    <a:pt x="296" y="0"/>
                  </a:lnTo>
                  <a:close/>
                </a:path>
              </a:pathLst>
            </a:custGeom>
            <a:solidFill>
              <a:srgbClr val="4d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6" name=""/>
            <p:cNvSpPr/>
            <p:nvPr/>
          </p:nvSpPr>
          <p:spPr>
            <a:xfrm>
              <a:off x="2340000" y="3557520"/>
              <a:ext cx="50760" cy="31680"/>
            </a:xfrm>
            <a:custGeom>
              <a:avLst/>
              <a:gdLst/>
              <a:ahLst/>
              <a:rect l="l" t="t" r="r" b="b"/>
              <a:pathLst>
                <a:path w="324" h="210">
                  <a:moveTo>
                    <a:pt x="57" y="0"/>
                  </a:moveTo>
                  <a:lnTo>
                    <a:pt x="41" y="72"/>
                  </a:lnTo>
                  <a:lnTo>
                    <a:pt x="24" y="132"/>
                  </a:lnTo>
                  <a:lnTo>
                    <a:pt x="0" y="210"/>
                  </a:lnTo>
                  <a:lnTo>
                    <a:pt x="46" y="205"/>
                  </a:lnTo>
                  <a:lnTo>
                    <a:pt x="89" y="196"/>
                  </a:lnTo>
                  <a:lnTo>
                    <a:pt x="132" y="185"/>
                  </a:lnTo>
                  <a:lnTo>
                    <a:pt x="172" y="173"/>
                  </a:lnTo>
                  <a:lnTo>
                    <a:pt x="213" y="156"/>
                  </a:lnTo>
                  <a:lnTo>
                    <a:pt x="251" y="137"/>
                  </a:lnTo>
                  <a:lnTo>
                    <a:pt x="289" y="113"/>
                  </a:lnTo>
                  <a:lnTo>
                    <a:pt x="324" y="88"/>
                  </a:lnTo>
                  <a:lnTo>
                    <a:pt x="257" y="67"/>
                  </a:lnTo>
                  <a:lnTo>
                    <a:pt x="188" y="46"/>
                  </a:lnTo>
                  <a:lnTo>
                    <a:pt x="121" y="24"/>
                  </a:lnTo>
                  <a:lnTo>
                    <a:pt x="57" y="0"/>
                  </a:lnTo>
                  <a:close/>
                </a:path>
              </a:pathLst>
            </a:custGeom>
            <a:solidFill>
              <a:srgbClr val="608f84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7" name=""/>
            <p:cNvSpPr/>
            <p:nvPr/>
          </p:nvSpPr>
          <p:spPr>
            <a:xfrm>
              <a:off x="2340000" y="3570120"/>
              <a:ext cx="52560" cy="20880"/>
            </a:xfrm>
            <a:custGeom>
              <a:avLst/>
              <a:gdLst/>
              <a:ahLst/>
              <a:rect l="l" t="t" r="r" b="b"/>
              <a:pathLst>
                <a:path w="335" h="129">
                  <a:moveTo>
                    <a:pt x="327" y="0"/>
                  </a:moveTo>
                  <a:lnTo>
                    <a:pt x="292" y="25"/>
                  </a:lnTo>
                  <a:lnTo>
                    <a:pt x="254" y="49"/>
                  </a:lnTo>
                  <a:lnTo>
                    <a:pt x="216" y="68"/>
                  </a:lnTo>
                  <a:lnTo>
                    <a:pt x="175" y="85"/>
                  </a:lnTo>
                  <a:lnTo>
                    <a:pt x="135" y="97"/>
                  </a:lnTo>
                  <a:lnTo>
                    <a:pt x="92" y="108"/>
                  </a:lnTo>
                  <a:lnTo>
                    <a:pt x="49" y="117"/>
                  </a:lnTo>
                  <a:lnTo>
                    <a:pt x="3" y="122"/>
                  </a:lnTo>
                  <a:lnTo>
                    <a:pt x="0" y="129"/>
                  </a:lnTo>
                  <a:lnTo>
                    <a:pt x="46" y="124"/>
                  </a:lnTo>
                  <a:lnTo>
                    <a:pt x="92" y="117"/>
                  </a:lnTo>
                  <a:lnTo>
                    <a:pt x="138" y="106"/>
                  </a:lnTo>
                  <a:lnTo>
                    <a:pt x="181" y="92"/>
                  </a:lnTo>
                  <a:lnTo>
                    <a:pt x="221" y="73"/>
                  </a:lnTo>
                  <a:lnTo>
                    <a:pt x="262" y="55"/>
                  </a:lnTo>
                  <a:lnTo>
                    <a:pt x="300" y="30"/>
                  </a:lnTo>
                  <a:lnTo>
                    <a:pt x="335" y="3"/>
                  </a:lnTo>
                  <a:lnTo>
                    <a:pt x="327" y="0"/>
                  </a:lnTo>
                  <a:close/>
                </a:path>
              </a:pathLst>
            </a:custGeom>
            <a:solidFill>
              <a:srgbClr val="4d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8" name=""/>
            <p:cNvSpPr/>
            <p:nvPr/>
          </p:nvSpPr>
          <p:spPr>
            <a:xfrm>
              <a:off x="2241720" y="3413160"/>
              <a:ext cx="99720" cy="185760"/>
            </a:xfrm>
            <a:custGeom>
              <a:avLst/>
              <a:gdLst/>
              <a:ahLst/>
              <a:rect l="l" t="t" r="r" b="b"/>
              <a:pathLst>
                <a:path w="610" h="1220">
                  <a:moveTo>
                    <a:pt x="30" y="0"/>
                  </a:moveTo>
                  <a:lnTo>
                    <a:pt x="40" y="44"/>
                  </a:lnTo>
                  <a:lnTo>
                    <a:pt x="65" y="154"/>
                  </a:lnTo>
                  <a:lnTo>
                    <a:pt x="81" y="230"/>
                  </a:lnTo>
                  <a:lnTo>
                    <a:pt x="95" y="316"/>
                  </a:lnTo>
                  <a:lnTo>
                    <a:pt x="108" y="410"/>
                  </a:lnTo>
                  <a:lnTo>
                    <a:pt x="116" y="513"/>
                  </a:lnTo>
                  <a:lnTo>
                    <a:pt x="122" y="599"/>
                  </a:lnTo>
                  <a:lnTo>
                    <a:pt x="122" y="688"/>
                  </a:lnTo>
                  <a:lnTo>
                    <a:pt x="118" y="778"/>
                  </a:lnTo>
                  <a:lnTo>
                    <a:pt x="108" y="863"/>
                  </a:lnTo>
                  <a:lnTo>
                    <a:pt x="102" y="907"/>
                  </a:lnTo>
                  <a:lnTo>
                    <a:pt x="95" y="949"/>
                  </a:lnTo>
                  <a:lnTo>
                    <a:pt x="84" y="990"/>
                  </a:lnTo>
                  <a:lnTo>
                    <a:pt x="70" y="1028"/>
                  </a:lnTo>
                  <a:lnTo>
                    <a:pt x="56" y="1066"/>
                  </a:lnTo>
                  <a:lnTo>
                    <a:pt x="40" y="1103"/>
                  </a:lnTo>
                  <a:lnTo>
                    <a:pt x="22" y="1138"/>
                  </a:lnTo>
                  <a:lnTo>
                    <a:pt x="0" y="1170"/>
                  </a:lnTo>
                  <a:lnTo>
                    <a:pt x="11" y="1177"/>
                  </a:lnTo>
                  <a:lnTo>
                    <a:pt x="38" y="1188"/>
                  </a:lnTo>
                  <a:lnTo>
                    <a:pt x="81" y="1200"/>
                  </a:lnTo>
                  <a:lnTo>
                    <a:pt x="108" y="1206"/>
                  </a:lnTo>
                  <a:lnTo>
                    <a:pt x="138" y="1211"/>
                  </a:lnTo>
                  <a:lnTo>
                    <a:pt x="173" y="1216"/>
                  </a:lnTo>
                  <a:lnTo>
                    <a:pt x="210" y="1220"/>
                  </a:lnTo>
                  <a:lnTo>
                    <a:pt x="254" y="1220"/>
                  </a:lnTo>
                  <a:lnTo>
                    <a:pt x="297" y="1216"/>
                  </a:lnTo>
                  <a:lnTo>
                    <a:pt x="346" y="1211"/>
                  </a:lnTo>
                  <a:lnTo>
                    <a:pt x="397" y="1204"/>
                  </a:lnTo>
                  <a:lnTo>
                    <a:pt x="451" y="1190"/>
                  </a:lnTo>
                  <a:lnTo>
                    <a:pt x="507" y="1170"/>
                  </a:lnTo>
                  <a:lnTo>
                    <a:pt x="518" y="1142"/>
                  </a:lnTo>
                  <a:lnTo>
                    <a:pt x="546" y="1057"/>
                  </a:lnTo>
                  <a:lnTo>
                    <a:pt x="559" y="999"/>
                  </a:lnTo>
                  <a:lnTo>
                    <a:pt x="575" y="931"/>
                  </a:lnTo>
                  <a:lnTo>
                    <a:pt x="589" y="852"/>
                  </a:lnTo>
                  <a:lnTo>
                    <a:pt x="599" y="769"/>
                  </a:lnTo>
                  <a:lnTo>
                    <a:pt x="608" y="680"/>
                  </a:lnTo>
                  <a:lnTo>
                    <a:pt x="610" y="585"/>
                  </a:lnTo>
                  <a:lnTo>
                    <a:pt x="608" y="537"/>
                  </a:lnTo>
                  <a:lnTo>
                    <a:pt x="608" y="488"/>
                  </a:lnTo>
                  <a:lnTo>
                    <a:pt x="602" y="440"/>
                  </a:lnTo>
                  <a:lnTo>
                    <a:pt x="597" y="391"/>
                  </a:lnTo>
                  <a:lnTo>
                    <a:pt x="589" y="340"/>
                  </a:lnTo>
                  <a:lnTo>
                    <a:pt x="578" y="292"/>
                  </a:lnTo>
                  <a:lnTo>
                    <a:pt x="564" y="240"/>
                  </a:lnTo>
                  <a:lnTo>
                    <a:pt x="551" y="191"/>
                  </a:lnTo>
                  <a:lnTo>
                    <a:pt x="532" y="143"/>
                  </a:lnTo>
                  <a:lnTo>
                    <a:pt x="511" y="95"/>
                  </a:lnTo>
                  <a:lnTo>
                    <a:pt x="486" y="49"/>
                  </a:lnTo>
                  <a:lnTo>
                    <a:pt x="459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f3df5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9" name=""/>
            <p:cNvSpPr/>
            <p:nvPr/>
          </p:nvSpPr>
          <p:spPr>
            <a:xfrm>
              <a:off x="2241720" y="3411360"/>
              <a:ext cx="99720" cy="187560"/>
            </a:xfrm>
            <a:custGeom>
              <a:avLst/>
              <a:gdLst/>
              <a:ahLst/>
              <a:rect l="l" t="t" r="r" b="b"/>
              <a:pathLst>
                <a:path w="624" h="1234">
                  <a:moveTo>
                    <a:pt x="36" y="7"/>
                  </a:moveTo>
                  <a:lnTo>
                    <a:pt x="28" y="10"/>
                  </a:lnTo>
                  <a:lnTo>
                    <a:pt x="39" y="51"/>
                  </a:lnTo>
                  <a:lnTo>
                    <a:pt x="57" y="129"/>
                  </a:lnTo>
                  <a:lnTo>
                    <a:pt x="80" y="239"/>
                  </a:lnTo>
                  <a:lnTo>
                    <a:pt x="90" y="301"/>
                  </a:lnTo>
                  <a:lnTo>
                    <a:pt x="98" y="371"/>
                  </a:lnTo>
                  <a:lnTo>
                    <a:pt x="108" y="444"/>
                  </a:lnTo>
                  <a:lnTo>
                    <a:pt x="114" y="520"/>
                  </a:lnTo>
                  <a:lnTo>
                    <a:pt x="119" y="592"/>
                  </a:lnTo>
                  <a:lnTo>
                    <a:pt x="119" y="668"/>
                  </a:lnTo>
                  <a:lnTo>
                    <a:pt x="119" y="739"/>
                  </a:lnTo>
                  <a:lnTo>
                    <a:pt x="114" y="808"/>
                  </a:lnTo>
                  <a:lnTo>
                    <a:pt x="106" y="876"/>
                  </a:lnTo>
                  <a:lnTo>
                    <a:pt x="96" y="940"/>
                  </a:lnTo>
                  <a:lnTo>
                    <a:pt x="80" y="1006"/>
                  </a:lnTo>
                  <a:lnTo>
                    <a:pt x="57" y="1064"/>
                  </a:lnTo>
                  <a:lnTo>
                    <a:pt x="46" y="1094"/>
                  </a:lnTo>
                  <a:lnTo>
                    <a:pt x="34" y="1121"/>
                  </a:lnTo>
                  <a:lnTo>
                    <a:pt x="17" y="1149"/>
                  </a:lnTo>
                  <a:lnTo>
                    <a:pt x="0" y="1172"/>
                  </a:lnTo>
                  <a:lnTo>
                    <a:pt x="0" y="1181"/>
                  </a:lnTo>
                  <a:lnTo>
                    <a:pt x="4" y="1186"/>
                  </a:lnTo>
                  <a:lnTo>
                    <a:pt x="20" y="1195"/>
                  </a:lnTo>
                  <a:lnTo>
                    <a:pt x="41" y="1202"/>
                  </a:lnTo>
                  <a:lnTo>
                    <a:pt x="68" y="1211"/>
                  </a:lnTo>
                  <a:lnTo>
                    <a:pt x="101" y="1218"/>
                  </a:lnTo>
                  <a:lnTo>
                    <a:pt x="144" y="1227"/>
                  </a:lnTo>
                  <a:lnTo>
                    <a:pt x="190" y="1234"/>
                  </a:lnTo>
                  <a:lnTo>
                    <a:pt x="244" y="1234"/>
                  </a:lnTo>
                  <a:lnTo>
                    <a:pt x="306" y="1232"/>
                  </a:lnTo>
                  <a:lnTo>
                    <a:pt x="370" y="1223"/>
                  </a:lnTo>
                  <a:lnTo>
                    <a:pt x="405" y="1218"/>
                  </a:lnTo>
                  <a:lnTo>
                    <a:pt x="441" y="1211"/>
                  </a:lnTo>
                  <a:lnTo>
                    <a:pt x="478" y="1200"/>
                  </a:lnTo>
                  <a:lnTo>
                    <a:pt x="517" y="1186"/>
                  </a:lnTo>
                  <a:lnTo>
                    <a:pt x="522" y="1181"/>
                  </a:lnTo>
                  <a:lnTo>
                    <a:pt x="538" y="1135"/>
                  </a:lnTo>
                  <a:lnTo>
                    <a:pt x="554" y="1078"/>
                  </a:lnTo>
                  <a:lnTo>
                    <a:pt x="573" y="1006"/>
                  </a:lnTo>
                  <a:lnTo>
                    <a:pt x="591" y="919"/>
                  </a:lnTo>
                  <a:lnTo>
                    <a:pt x="608" y="820"/>
                  </a:lnTo>
                  <a:lnTo>
                    <a:pt x="614" y="765"/>
                  </a:lnTo>
                  <a:lnTo>
                    <a:pt x="619" y="709"/>
                  </a:lnTo>
                  <a:lnTo>
                    <a:pt x="621" y="652"/>
                  </a:lnTo>
                  <a:lnTo>
                    <a:pt x="624" y="590"/>
                  </a:lnTo>
                  <a:lnTo>
                    <a:pt x="621" y="520"/>
                  </a:lnTo>
                  <a:lnTo>
                    <a:pt x="616" y="444"/>
                  </a:lnTo>
                  <a:lnTo>
                    <a:pt x="605" y="369"/>
                  </a:lnTo>
                  <a:lnTo>
                    <a:pt x="591" y="295"/>
                  </a:lnTo>
                  <a:lnTo>
                    <a:pt x="570" y="221"/>
                  </a:lnTo>
                  <a:lnTo>
                    <a:pt x="546" y="147"/>
                  </a:lnTo>
                  <a:lnTo>
                    <a:pt x="529" y="110"/>
                  </a:lnTo>
                  <a:lnTo>
                    <a:pt x="511" y="74"/>
                  </a:lnTo>
                  <a:lnTo>
                    <a:pt x="492" y="39"/>
                  </a:lnTo>
                  <a:lnTo>
                    <a:pt x="473" y="5"/>
                  </a:lnTo>
                  <a:lnTo>
                    <a:pt x="465" y="0"/>
                  </a:lnTo>
                  <a:lnTo>
                    <a:pt x="36" y="0"/>
                  </a:lnTo>
                  <a:lnTo>
                    <a:pt x="28" y="5"/>
                  </a:lnTo>
                  <a:lnTo>
                    <a:pt x="28" y="10"/>
                  </a:lnTo>
                  <a:lnTo>
                    <a:pt x="36" y="7"/>
                  </a:lnTo>
                  <a:lnTo>
                    <a:pt x="36" y="16"/>
                  </a:lnTo>
                  <a:lnTo>
                    <a:pt x="465" y="16"/>
                  </a:lnTo>
                  <a:lnTo>
                    <a:pt x="465" y="7"/>
                  </a:lnTo>
                  <a:lnTo>
                    <a:pt x="460" y="12"/>
                  </a:lnTo>
                  <a:lnTo>
                    <a:pt x="478" y="48"/>
                  </a:lnTo>
                  <a:lnTo>
                    <a:pt x="497" y="83"/>
                  </a:lnTo>
                  <a:lnTo>
                    <a:pt x="513" y="118"/>
                  </a:lnTo>
                  <a:lnTo>
                    <a:pt x="529" y="152"/>
                  </a:lnTo>
                  <a:lnTo>
                    <a:pt x="554" y="226"/>
                  </a:lnTo>
                  <a:lnTo>
                    <a:pt x="575" y="299"/>
                  </a:lnTo>
                  <a:lnTo>
                    <a:pt x="589" y="371"/>
                  </a:lnTo>
                  <a:lnTo>
                    <a:pt x="600" y="447"/>
                  </a:lnTo>
                  <a:lnTo>
                    <a:pt x="605" y="520"/>
                  </a:lnTo>
                  <a:lnTo>
                    <a:pt x="608" y="590"/>
                  </a:lnTo>
                  <a:lnTo>
                    <a:pt x="605" y="649"/>
                  </a:lnTo>
                  <a:lnTo>
                    <a:pt x="603" y="709"/>
                  </a:lnTo>
                  <a:lnTo>
                    <a:pt x="598" y="762"/>
                  </a:lnTo>
                  <a:lnTo>
                    <a:pt x="591" y="817"/>
                  </a:lnTo>
                  <a:lnTo>
                    <a:pt x="575" y="916"/>
                  </a:lnTo>
                  <a:lnTo>
                    <a:pt x="557" y="1002"/>
                  </a:lnTo>
                  <a:lnTo>
                    <a:pt x="538" y="1075"/>
                  </a:lnTo>
                  <a:lnTo>
                    <a:pt x="522" y="1129"/>
                  </a:lnTo>
                  <a:lnTo>
                    <a:pt x="511" y="1165"/>
                  </a:lnTo>
                  <a:lnTo>
                    <a:pt x="508" y="1175"/>
                  </a:lnTo>
                  <a:lnTo>
                    <a:pt x="513" y="1177"/>
                  </a:lnTo>
                  <a:lnTo>
                    <a:pt x="511" y="1170"/>
                  </a:lnTo>
                  <a:lnTo>
                    <a:pt x="473" y="1184"/>
                  </a:lnTo>
                  <a:lnTo>
                    <a:pt x="439" y="1195"/>
                  </a:lnTo>
                  <a:lnTo>
                    <a:pt x="368" y="1207"/>
                  </a:lnTo>
                  <a:lnTo>
                    <a:pt x="303" y="1216"/>
                  </a:lnTo>
                  <a:lnTo>
                    <a:pt x="244" y="1218"/>
                  </a:lnTo>
                  <a:lnTo>
                    <a:pt x="193" y="1218"/>
                  </a:lnTo>
                  <a:lnTo>
                    <a:pt x="147" y="1211"/>
                  </a:lnTo>
                  <a:lnTo>
                    <a:pt x="106" y="1205"/>
                  </a:lnTo>
                  <a:lnTo>
                    <a:pt x="71" y="1195"/>
                  </a:lnTo>
                  <a:lnTo>
                    <a:pt x="46" y="1186"/>
                  </a:lnTo>
                  <a:lnTo>
                    <a:pt x="28" y="1177"/>
                  </a:lnTo>
                  <a:lnTo>
                    <a:pt x="14" y="1172"/>
                  </a:lnTo>
                  <a:lnTo>
                    <a:pt x="11" y="1170"/>
                  </a:lnTo>
                  <a:lnTo>
                    <a:pt x="6" y="1177"/>
                  </a:lnTo>
                  <a:lnTo>
                    <a:pt x="14" y="1184"/>
                  </a:lnTo>
                  <a:lnTo>
                    <a:pt x="30" y="1156"/>
                  </a:lnTo>
                  <a:lnTo>
                    <a:pt x="46" y="1129"/>
                  </a:lnTo>
                  <a:lnTo>
                    <a:pt x="60" y="1100"/>
                  </a:lnTo>
                  <a:lnTo>
                    <a:pt x="73" y="1070"/>
                  </a:lnTo>
                  <a:lnTo>
                    <a:pt x="96" y="1011"/>
                  </a:lnTo>
                  <a:lnTo>
                    <a:pt x="112" y="946"/>
                  </a:lnTo>
                  <a:lnTo>
                    <a:pt x="122" y="878"/>
                  </a:lnTo>
                  <a:lnTo>
                    <a:pt x="131" y="808"/>
                  </a:lnTo>
                  <a:lnTo>
                    <a:pt x="136" y="739"/>
                  </a:lnTo>
                  <a:lnTo>
                    <a:pt x="136" y="668"/>
                  </a:lnTo>
                  <a:lnTo>
                    <a:pt x="136" y="592"/>
                  </a:lnTo>
                  <a:lnTo>
                    <a:pt x="131" y="520"/>
                  </a:lnTo>
                  <a:lnTo>
                    <a:pt x="122" y="417"/>
                  </a:lnTo>
                  <a:lnTo>
                    <a:pt x="108" y="323"/>
                  </a:lnTo>
                  <a:lnTo>
                    <a:pt x="96" y="237"/>
                  </a:lnTo>
                  <a:lnTo>
                    <a:pt x="80" y="159"/>
                  </a:lnTo>
                  <a:lnTo>
                    <a:pt x="52" y="48"/>
                  </a:lnTo>
                  <a:lnTo>
                    <a:pt x="41" y="7"/>
                  </a:lnTo>
                  <a:lnTo>
                    <a:pt x="36" y="7"/>
                  </a:lnTo>
                  <a:lnTo>
                    <a:pt x="36" y="16"/>
                  </a:lnTo>
                  <a:lnTo>
                    <a:pt x="36" y="7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0" name=""/>
            <p:cNvSpPr/>
            <p:nvPr/>
          </p:nvSpPr>
          <p:spPr>
            <a:xfrm>
              <a:off x="2252880" y="3413160"/>
              <a:ext cx="101520" cy="185760"/>
            </a:xfrm>
            <a:custGeom>
              <a:avLst/>
              <a:gdLst/>
              <a:ahLst/>
              <a:rect l="l" t="t" r="r" b="b"/>
              <a:pathLst>
                <a:path w="621" h="1227">
                  <a:moveTo>
                    <a:pt x="41" y="0"/>
                  </a:moveTo>
                  <a:lnTo>
                    <a:pt x="48" y="38"/>
                  </a:lnTo>
                  <a:lnTo>
                    <a:pt x="71" y="135"/>
                  </a:lnTo>
                  <a:lnTo>
                    <a:pt x="84" y="203"/>
                  </a:lnTo>
                  <a:lnTo>
                    <a:pt x="94" y="281"/>
                  </a:lnTo>
                  <a:lnTo>
                    <a:pt x="108" y="367"/>
                  </a:lnTo>
                  <a:lnTo>
                    <a:pt x="117" y="459"/>
                  </a:lnTo>
                  <a:lnTo>
                    <a:pt x="124" y="555"/>
                  </a:lnTo>
                  <a:lnTo>
                    <a:pt x="127" y="656"/>
                  </a:lnTo>
                  <a:lnTo>
                    <a:pt x="124" y="755"/>
                  </a:lnTo>
                  <a:lnTo>
                    <a:pt x="119" y="804"/>
                  </a:lnTo>
                  <a:lnTo>
                    <a:pt x="117" y="852"/>
                  </a:lnTo>
                  <a:lnTo>
                    <a:pt x="108" y="901"/>
                  </a:lnTo>
                  <a:lnTo>
                    <a:pt x="100" y="947"/>
                  </a:lnTo>
                  <a:lnTo>
                    <a:pt x="89" y="995"/>
                  </a:lnTo>
                  <a:lnTo>
                    <a:pt x="76" y="1039"/>
                  </a:lnTo>
                  <a:lnTo>
                    <a:pt x="60" y="1082"/>
                  </a:lnTo>
                  <a:lnTo>
                    <a:pt x="43" y="1122"/>
                  </a:lnTo>
                  <a:lnTo>
                    <a:pt x="25" y="1160"/>
                  </a:lnTo>
                  <a:lnTo>
                    <a:pt x="0" y="1198"/>
                  </a:lnTo>
                  <a:lnTo>
                    <a:pt x="11" y="1200"/>
                  </a:lnTo>
                  <a:lnTo>
                    <a:pt x="38" y="1209"/>
                  </a:lnTo>
                  <a:lnTo>
                    <a:pt x="84" y="1220"/>
                  </a:lnTo>
                  <a:lnTo>
                    <a:pt x="144" y="1225"/>
                  </a:lnTo>
                  <a:lnTo>
                    <a:pt x="181" y="1227"/>
                  </a:lnTo>
                  <a:lnTo>
                    <a:pt x="219" y="1227"/>
                  </a:lnTo>
                  <a:lnTo>
                    <a:pt x="262" y="1227"/>
                  </a:lnTo>
                  <a:lnTo>
                    <a:pt x="308" y="1222"/>
                  </a:lnTo>
                  <a:lnTo>
                    <a:pt x="356" y="1214"/>
                  </a:lnTo>
                  <a:lnTo>
                    <a:pt x="407" y="1204"/>
                  </a:lnTo>
                  <a:lnTo>
                    <a:pt x="464" y="1190"/>
                  </a:lnTo>
                  <a:lnTo>
                    <a:pt x="522" y="1170"/>
                  </a:lnTo>
                  <a:lnTo>
                    <a:pt x="532" y="1142"/>
                  </a:lnTo>
                  <a:lnTo>
                    <a:pt x="556" y="1057"/>
                  </a:lnTo>
                  <a:lnTo>
                    <a:pt x="570" y="999"/>
                  </a:lnTo>
                  <a:lnTo>
                    <a:pt x="586" y="931"/>
                  </a:lnTo>
                  <a:lnTo>
                    <a:pt x="600" y="852"/>
                  </a:lnTo>
                  <a:lnTo>
                    <a:pt x="610" y="769"/>
                  </a:lnTo>
                  <a:lnTo>
                    <a:pt x="618" y="680"/>
                  </a:lnTo>
                  <a:lnTo>
                    <a:pt x="621" y="585"/>
                  </a:lnTo>
                  <a:lnTo>
                    <a:pt x="621" y="537"/>
                  </a:lnTo>
                  <a:lnTo>
                    <a:pt x="618" y="488"/>
                  </a:lnTo>
                  <a:lnTo>
                    <a:pt x="613" y="440"/>
                  </a:lnTo>
                  <a:lnTo>
                    <a:pt x="607" y="391"/>
                  </a:lnTo>
                  <a:lnTo>
                    <a:pt x="600" y="340"/>
                  </a:lnTo>
                  <a:lnTo>
                    <a:pt x="589" y="292"/>
                  </a:lnTo>
                  <a:lnTo>
                    <a:pt x="578" y="240"/>
                  </a:lnTo>
                  <a:lnTo>
                    <a:pt x="561" y="191"/>
                  </a:lnTo>
                  <a:lnTo>
                    <a:pt x="543" y="143"/>
                  </a:lnTo>
                  <a:lnTo>
                    <a:pt x="522" y="95"/>
                  </a:lnTo>
                  <a:lnTo>
                    <a:pt x="499" y="49"/>
                  </a:lnTo>
                  <a:lnTo>
                    <a:pt x="473" y="0"/>
                  </a:lnTo>
                  <a:lnTo>
                    <a:pt x="41" y="0"/>
                  </a:lnTo>
                  <a:close/>
                </a:path>
              </a:pathLst>
            </a:custGeom>
            <a:solidFill>
              <a:srgbClr val="f8f6c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1" name=""/>
            <p:cNvSpPr/>
            <p:nvPr/>
          </p:nvSpPr>
          <p:spPr>
            <a:xfrm>
              <a:off x="2252880" y="3411360"/>
              <a:ext cx="102960" cy="189000"/>
            </a:xfrm>
            <a:custGeom>
              <a:avLst/>
              <a:gdLst/>
              <a:ahLst/>
              <a:rect l="l" t="t" r="r" b="b"/>
              <a:pathLst>
                <a:path w="638" h="1243">
                  <a:moveTo>
                    <a:pt x="49" y="7"/>
                  </a:moveTo>
                  <a:lnTo>
                    <a:pt x="40" y="10"/>
                  </a:lnTo>
                  <a:lnTo>
                    <a:pt x="54" y="67"/>
                  </a:lnTo>
                  <a:lnTo>
                    <a:pt x="76" y="169"/>
                  </a:lnTo>
                  <a:lnTo>
                    <a:pt x="86" y="237"/>
                  </a:lnTo>
                  <a:lnTo>
                    <a:pt x="100" y="313"/>
                  </a:lnTo>
                  <a:lnTo>
                    <a:pt x="108" y="396"/>
                  </a:lnTo>
                  <a:lnTo>
                    <a:pt x="119" y="482"/>
                  </a:lnTo>
                  <a:lnTo>
                    <a:pt x="125" y="574"/>
                  </a:lnTo>
                  <a:lnTo>
                    <a:pt x="127" y="668"/>
                  </a:lnTo>
                  <a:lnTo>
                    <a:pt x="125" y="741"/>
                  </a:lnTo>
                  <a:lnTo>
                    <a:pt x="119" y="813"/>
                  </a:lnTo>
                  <a:lnTo>
                    <a:pt x="111" y="887"/>
                  </a:lnTo>
                  <a:lnTo>
                    <a:pt x="100" y="956"/>
                  </a:lnTo>
                  <a:lnTo>
                    <a:pt x="81" y="1024"/>
                  </a:lnTo>
                  <a:lnTo>
                    <a:pt x="63" y="1087"/>
                  </a:lnTo>
                  <a:lnTo>
                    <a:pt x="49" y="1116"/>
                  </a:lnTo>
                  <a:lnTo>
                    <a:pt x="35" y="1145"/>
                  </a:lnTo>
                  <a:lnTo>
                    <a:pt x="19" y="1172"/>
                  </a:lnTo>
                  <a:lnTo>
                    <a:pt x="3" y="1200"/>
                  </a:lnTo>
                  <a:lnTo>
                    <a:pt x="0" y="1207"/>
                  </a:lnTo>
                  <a:lnTo>
                    <a:pt x="5" y="1213"/>
                  </a:lnTo>
                  <a:lnTo>
                    <a:pt x="19" y="1218"/>
                  </a:lnTo>
                  <a:lnTo>
                    <a:pt x="63" y="1229"/>
                  </a:lnTo>
                  <a:lnTo>
                    <a:pt x="92" y="1234"/>
                  </a:lnTo>
                  <a:lnTo>
                    <a:pt x="127" y="1237"/>
                  </a:lnTo>
                  <a:lnTo>
                    <a:pt x="168" y="1243"/>
                  </a:lnTo>
                  <a:lnTo>
                    <a:pt x="213" y="1243"/>
                  </a:lnTo>
                  <a:lnTo>
                    <a:pt x="281" y="1240"/>
                  </a:lnTo>
                  <a:lnTo>
                    <a:pt x="318" y="1237"/>
                  </a:lnTo>
                  <a:lnTo>
                    <a:pt x="357" y="1232"/>
                  </a:lnTo>
                  <a:lnTo>
                    <a:pt x="399" y="1223"/>
                  </a:lnTo>
                  <a:lnTo>
                    <a:pt x="440" y="1213"/>
                  </a:lnTo>
                  <a:lnTo>
                    <a:pt x="486" y="1200"/>
                  </a:lnTo>
                  <a:lnTo>
                    <a:pt x="532" y="1186"/>
                  </a:lnTo>
                  <a:lnTo>
                    <a:pt x="537" y="1181"/>
                  </a:lnTo>
                  <a:lnTo>
                    <a:pt x="551" y="1135"/>
                  </a:lnTo>
                  <a:lnTo>
                    <a:pt x="567" y="1078"/>
                  </a:lnTo>
                  <a:lnTo>
                    <a:pt x="586" y="1006"/>
                  </a:lnTo>
                  <a:lnTo>
                    <a:pt x="604" y="919"/>
                  </a:lnTo>
                  <a:lnTo>
                    <a:pt x="621" y="820"/>
                  </a:lnTo>
                  <a:lnTo>
                    <a:pt x="629" y="765"/>
                  </a:lnTo>
                  <a:lnTo>
                    <a:pt x="632" y="709"/>
                  </a:lnTo>
                  <a:lnTo>
                    <a:pt x="638" y="652"/>
                  </a:lnTo>
                  <a:lnTo>
                    <a:pt x="638" y="590"/>
                  </a:lnTo>
                  <a:lnTo>
                    <a:pt x="634" y="520"/>
                  </a:lnTo>
                  <a:lnTo>
                    <a:pt x="629" y="444"/>
                  </a:lnTo>
                  <a:lnTo>
                    <a:pt x="621" y="369"/>
                  </a:lnTo>
                  <a:lnTo>
                    <a:pt x="604" y="295"/>
                  </a:lnTo>
                  <a:lnTo>
                    <a:pt x="586" y="221"/>
                  </a:lnTo>
                  <a:lnTo>
                    <a:pt x="559" y="147"/>
                  </a:lnTo>
                  <a:lnTo>
                    <a:pt x="543" y="110"/>
                  </a:lnTo>
                  <a:lnTo>
                    <a:pt x="527" y="74"/>
                  </a:lnTo>
                  <a:lnTo>
                    <a:pt x="507" y="39"/>
                  </a:lnTo>
                  <a:lnTo>
                    <a:pt x="486" y="5"/>
                  </a:lnTo>
                  <a:lnTo>
                    <a:pt x="481" y="0"/>
                  </a:lnTo>
                  <a:lnTo>
                    <a:pt x="49" y="0"/>
                  </a:lnTo>
                  <a:lnTo>
                    <a:pt x="40" y="5"/>
                  </a:lnTo>
                  <a:lnTo>
                    <a:pt x="40" y="10"/>
                  </a:lnTo>
                  <a:lnTo>
                    <a:pt x="49" y="7"/>
                  </a:lnTo>
                  <a:lnTo>
                    <a:pt x="49" y="16"/>
                  </a:lnTo>
                  <a:lnTo>
                    <a:pt x="481" y="16"/>
                  </a:lnTo>
                  <a:lnTo>
                    <a:pt x="481" y="7"/>
                  </a:lnTo>
                  <a:lnTo>
                    <a:pt x="472" y="12"/>
                  </a:lnTo>
                  <a:lnTo>
                    <a:pt x="494" y="48"/>
                  </a:lnTo>
                  <a:lnTo>
                    <a:pt x="510" y="83"/>
                  </a:lnTo>
                  <a:lnTo>
                    <a:pt x="530" y="118"/>
                  </a:lnTo>
                  <a:lnTo>
                    <a:pt x="543" y="152"/>
                  </a:lnTo>
                  <a:lnTo>
                    <a:pt x="569" y="226"/>
                  </a:lnTo>
                  <a:lnTo>
                    <a:pt x="588" y="299"/>
                  </a:lnTo>
                  <a:lnTo>
                    <a:pt x="604" y="371"/>
                  </a:lnTo>
                  <a:lnTo>
                    <a:pt x="613" y="447"/>
                  </a:lnTo>
                  <a:lnTo>
                    <a:pt x="618" y="520"/>
                  </a:lnTo>
                  <a:lnTo>
                    <a:pt x="621" y="590"/>
                  </a:lnTo>
                  <a:lnTo>
                    <a:pt x="621" y="649"/>
                  </a:lnTo>
                  <a:lnTo>
                    <a:pt x="615" y="709"/>
                  </a:lnTo>
                  <a:lnTo>
                    <a:pt x="613" y="762"/>
                  </a:lnTo>
                  <a:lnTo>
                    <a:pt x="604" y="817"/>
                  </a:lnTo>
                  <a:lnTo>
                    <a:pt x="588" y="916"/>
                  </a:lnTo>
                  <a:lnTo>
                    <a:pt x="572" y="1002"/>
                  </a:lnTo>
                  <a:lnTo>
                    <a:pt x="553" y="1075"/>
                  </a:lnTo>
                  <a:lnTo>
                    <a:pt x="537" y="1129"/>
                  </a:lnTo>
                  <a:lnTo>
                    <a:pt x="527" y="1165"/>
                  </a:lnTo>
                  <a:lnTo>
                    <a:pt x="521" y="1175"/>
                  </a:lnTo>
                  <a:lnTo>
                    <a:pt x="530" y="1177"/>
                  </a:lnTo>
                  <a:lnTo>
                    <a:pt x="527" y="1170"/>
                  </a:lnTo>
                  <a:lnTo>
                    <a:pt x="481" y="1186"/>
                  </a:lnTo>
                  <a:lnTo>
                    <a:pt x="438" y="1197"/>
                  </a:lnTo>
                  <a:lnTo>
                    <a:pt x="394" y="1207"/>
                  </a:lnTo>
                  <a:lnTo>
                    <a:pt x="353" y="1216"/>
                  </a:lnTo>
                  <a:lnTo>
                    <a:pt x="316" y="1221"/>
                  </a:lnTo>
                  <a:lnTo>
                    <a:pt x="281" y="1223"/>
                  </a:lnTo>
                  <a:lnTo>
                    <a:pt x="213" y="1227"/>
                  </a:lnTo>
                  <a:lnTo>
                    <a:pt x="168" y="1227"/>
                  </a:lnTo>
                  <a:lnTo>
                    <a:pt x="127" y="1223"/>
                  </a:lnTo>
                  <a:lnTo>
                    <a:pt x="95" y="1218"/>
                  </a:lnTo>
                  <a:lnTo>
                    <a:pt x="65" y="1213"/>
                  </a:lnTo>
                  <a:lnTo>
                    <a:pt x="24" y="1202"/>
                  </a:lnTo>
                  <a:lnTo>
                    <a:pt x="17" y="1200"/>
                  </a:lnTo>
                  <a:lnTo>
                    <a:pt x="12" y="1197"/>
                  </a:lnTo>
                  <a:lnTo>
                    <a:pt x="8" y="1205"/>
                  </a:lnTo>
                  <a:lnTo>
                    <a:pt x="17" y="1211"/>
                  </a:lnTo>
                  <a:lnTo>
                    <a:pt x="33" y="1181"/>
                  </a:lnTo>
                  <a:lnTo>
                    <a:pt x="49" y="1154"/>
                  </a:lnTo>
                  <a:lnTo>
                    <a:pt x="63" y="1124"/>
                  </a:lnTo>
                  <a:lnTo>
                    <a:pt x="76" y="1092"/>
                  </a:lnTo>
                  <a:lnTo>
                    <a:pt x="97" y="1027"/>
                  </a:lnTo>
                  <a:lnTo>
                    <a:pt x="116" y="960"/>
                  </a:lnTo>
                  <a:lnTo>
                    <a:pt x="127" y="889"/>
                  </a:lnTo>
                  <a:lnTo>
                    <a:pt x="135" y="817"/>
                  </a:lnTo>
                  <a:lnTo>
                    <a:pt x="141" y="741"/>
                  </a:lnTo>
                  <a:lnTo>
                    <a:pt x="143" y="668"/>
                  </a:lnTo>
                  <a:lnTo>
                    <a:pt x="141" y="603"/>
                  </a:lnTo>
                  <a:lnTo>
                    <a:pt x="138" y="541"/>
                  </a:lnTo>
                  <a:lnTo>
                    <a:pt x="130" y="423"/>
                  </a:lnTo>
                  <a:lnTo>
                    <a:pt x="116" y="309"/>
                  </a:lnTo>
                  <a:lnTo>
                    <a:pt x="100" y="212"/>
                  </a:lnTo>
                  <a:lnTo>
                    <a:pt x="84" y="126"/>
                  </a:lnTo>
                  <a:lnTo>
                    <a:pt x="70" y="62"/>
                  </a:lnTo>
                  <a:lnTo>
                    <a:pt x="56" y="7"/>
                  </a:lnTo>
                  <a:lnTo>
                    <a:pt x="49" y="7"/>
                  </a:lnTo>
                  <a:lnTo>
                    <a:pt x="49" y="16"/>
                  </a:lnTo>
                  <a:lnTo>
                    <a:pt x="49" y="7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2" name=""/>
            <p:cNvSpPr/>
            <p:nvPr/>
          </p:nvSpPr>
          <p:spPr>
            <a:xfrm>
              <a:off x="2255760" y="3512880"/>
              <a:ext cx="96840" cy="86040"/>
            </a:xfrm>
            <a:custGeom>
              <a:avLst/>
              <a:gdLst/>
              <a:ahLst/>
              <a:rect l="l" t="t" r="r" b="b"/>
              <a:pathLst>
                <a:path w="599" h="567">
                  <a:moveTo>
                    <a:pt x="599" y="0"/>
                  </a:moveTo>
                  <a:lnTo>
                    <a:pt x="570" y="29"/>
                  </a:lnTo>
                  <a:lnTo>
                    <a:pt x="540" y="56"/>
                  </a:lnTo>
                  <a:lnTo>
                    <a:pt x="508" y="81"/>
                  </a:lnTo>
                  <a:lnTo>
                    <a:pt x="475" y="102"/>
                  </a:lnTo>
                  <a:lnTo>
                    <a:pt x="443" y="119"/>
                  </a:lnTo>
                  <a:lnTo>
                    <a:pt x="405" y="132"/>
                  </a:lnTo>
                  <a:lnTo>
                    <a:pt x="367" y="137"/>
                  </a:lnTo>
                  <a:lnTo>
                    <a:pt x="329" y="141"/>
                  </a:lnTo>
                  <a:lnTo>
                    <a:pt x="305" y="141"/>
                  </a:lnTo>
                  <a:lnTo>
                    <a:pt x="278" y="137"/>
                  </a:lnTo>
                  <a:lnTo>
                    <a:pt x="251" y="132"/>
                  </a:lnTo>
                  <a:lnTo>
                    <a:pt x="224" y="125"/>
                  </a:lnTo>
                  <a:lnTo>
                    <a:pt x="197" y="107"/>
                  </a:lnTo>
                  <a:lnTo>
                    <a:pt x="170" y="91"/>
                  </a:lnTo>
                  <a:lnTo>
                    <a:pt x="146" y="73"/>
                  </a:lnTo>
                  <a:lnTo>
                    <a:pt x="119" y="51"/>
                  </a:lnTo>
                  <a:lnTo>
                    <a:pt x="116" y="119"/>
                  </a:lnTo>
                  <a:lnTo>
                    <a:pt x="110" y="183"/>
                  </a:lnTo>
                  <a:lnTo>
                    <a:pt x="103" y="251"/>
                  </a:lnTo>
                  <a:lnTo>
                    <a:pt x="89" y="312"/>
                  </a:lnTo>
                  <a:lnTo>
                    <a:pt x="73" y="375"/>
                  </a:lnTo>
                  <a:lnTo>
                    <a:pt x="54" y="434"/>
                  </a:lnTo>
                  <a:lnTo>
                    <a:pt x="29" y="489"/>
                  </a:lnTo>
                  <a:lnTo>
                    <a:pt x="13" y="515"/>
                  </a:lnTo>
                  <a:lnTo>
                    <a:pt x="0" y="540"/>
                  </a:lnTo>
                  <a:lnTo>
                    <a:pt x="2" y="542"/>
                  </a:lnTo>
                  <a:lnTo>
                    <a:pt x="43" y="553"/>
                  </a:lnTo>
                  <a:lnTo>
                    <a:pt x="73" y="558"/>
                  </a:lnTo>
                  <a:lnTo>
                    <a:pt x="105" y="563"/>
                  </a:lnTo>
                  <a:lnTo>
                    <a:pt x="146" y="567"/>
                  </a:lnTo>
                  <a:lnTo>
                    <a:pt x="191" y="567"/>
                  </a:lnTo>
                  <a:lnTo>
                    <a:pt x="257" y="563"/>
                  </a:lnTo>
                  <a:lnTo>
                    <a:pt x="294" y="561"/>
                  </a:lnTo>
                  <a:lnTo>
                    <a:pt x="331" y="556"/>
                  </a:lnTo>
                  <a:lnTo>
                    <a:pt x="372" y="547"/>
                  </a:lnTo>
                  <a:lnTo>
                    <a:pt x="413" y="540"/>
                  </a:lnTo>
                  <a:lnTo>
                    <a:pt x="456" y="526"/>
                  </a:lnTo>
                  <a:lnTo>
                    <a:pt x="499" y="512"/>
                  </a:lnTo>
                  <a:lnTo>
                    <a:pt x="505" y="505"/>
                  </a:lnTo>
                  <a:lnTo>
                    <a:pt x="515" y="469"/>
                  </a:lnTo>
                  <a:lnTo>
                    <a:pt x="531" y="415"/>
                  </a:lnTo>
                  <a:lnTo>
                    <a:pt x="550" y="342"/>
                  </a:lnTo>
                  <a:lnTo>
                    <a:pt x="564" y="270"/>
                  </a:lnTo>
                  <a:lnTo>
                    <a:pt x="580" y="186"/>
                  </a:lnTo>
                  <a:lnTo>
                    <a:pt x="591" y="95"/>
                  </a:lnTo>
                  <a:lnTo>
                    <a:pt x="599" y="0"/>
                  </a:lnTo>
                  <a:close/>
                </a:path>
              </a:pathLst>
            </a:custGeom>
            <a:solidFill>
              <a:srgbClr val="f2e68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3" name=""/>
            <p:cNvSpPr/>
            <p:nvPr/>
          </p:nvSpPr>
          <p:spPr>
            <a:xfrm>
              <a:off x="2252880" y="3511440"/>
              <a:ext cx="101520" cy="87480"/>
            </a:xfrm>
            <a:custGeom>
              <a:avLst/>
              <a:gdLst/>
              <a:ahLst/>
              <a:rect l="l" t="t" r="r" b="b"/>
              <a:pathLst>
                <a:path w="618" h="585">
                  <a:moveTo>
                    <a:pt x="618" y="0"/>
                  </a:moveTo>
                  <a:lnTo>
                    <a:pt x="613" y="11"/>
                  </a:lnTo>
                  <a:lnTo>
                    <a:pt x="605" y="106"/>
                  </a:lnTo>
                  <a:lnTo>
                    <a:pt x="594" y="197"/>
                  </a:lnTo>
                  <a:lnTo>
                    <a:pt x="578" y="281"/>
                  </a:lnTo>
                  <a:lnTo>
                    <a:pt x="564" y="353"/>
                  </a:lnTo>
                  <a:lnTo>
                    <a:pt x="545" y="426"/>
                  </a:lnTo>
                  <a:lnTo>
                    <a:pt x="529" y="480"/>
                  </a:lnTo>
                  <a:lnTo>
                    <a:pt x="519" y="516"/>
                  </a:lnTo>
                  <a:lnTo>
                    <a:pt x="513" y="523"/>
                  </a:lnTo>
                  <a:lnTo>
                    <a:pt x="470" y="537"/>
                  </a:lnTo>
                  <a:lnTo>
                    <a:pt x="427" y="551"/>
                  </a:lnTo>
                  <a:lnTo>
                    <a:pt x="386" y="558"/>
                  </a:lnTo>
                  <a:lnTo>
                    <a:pt x="345" y="567"/>
                  </a:lnTo>
                  <a:lnTo>
                    <a:pt x="308" y="572"/>
                  </a:lnTo>
                  <a:lnTo>
                    <a:pt x="271" y="574"/>
                  </a:lnTo>
                  <a:lnTo>
                    <a:pt x="205" y="578"/>
                  </a:lnTo>
                  <a:lnTo>
                    <a:pt x="160" y="578"/>
                  </a:lnTo>
                  <a:lnTo>
                    <a:pt x="119" y="574"/>
                  </a:lnTo>
                  <a:lnTo>
                    <a:pt x="87" y="569"/>
                  </a:lnTo>
                  <a:lnTo>
                    <a:pt x="57" y="564"/>
                  </a:lnTo>
                  <a:lnTo>
                    <a:pt x="16" y="553"/>
                  </a:lnTo>
                  <a:lnTo>
                    <a:pt x="14" y="551"/>
                  </a:lnTo>
                  <a:lnTo>
                    <a:pt x="27" y="526"/>
                  </a:lnTo>
                  <a:lnTo>
                    <a:pt x="43" y="500"/>
                  </a:lnTo>
                  <a:lnTo>
                    <a:pt x="68" y="445"/>
                  </a:lnTo>
                  <a:lnTo>
                    <a:pt x="87" y="386"/>
                  </a:lnTo>
                  <a:lnTo>
                    <a:pt x="103" y="323"/>
                  </a:lnTo>
                  <a:lnTo>
                    <a:pt x="117" y="262"/>
                  </a:lnTo>
                  <a:lnTo>
                    <a:pt x="124" y="194"/>
                  </a:lnTo>
                  <a:lnTo>
                    <a:pt x="130" y="130"/>
                  </a:lnTo>
                  <a:lnTo>
                    <a:pt x="133" y="62"/>
                  </a:lnTo>
                  <a:lnTo>
                    <a:pt x="124" y="54"/>
                  </a:lnTo>
                  <a:lnTo>
                    <a:pt x="122" y="125"/>
                  </a:lnTo>
                  <a:lnTo>
                    <a:pt x="117" y="192"/>
                  </a:lnTo>
                  <a:lnTo>
                    <a:pt x="108" y="259"/>
                  </a:lnTo>
                  <a:lnTo>
                    <a:pt x="94" y="327"/>
                  </a:lnTo>
                  <a:lnTo>
                    <a:pt x="78" y="389"/>
                  </a:lnTo>
                  <a:lnTo>
                    <a:pt x="57" y="448"/>
                  </a:lnTo>
                  <a:lnTo>
                    <a:pt x="32" y="505"/>
                  </a:lnTo>
                  <a:lnTo>
                    <a:pt x="16" y="532"/>
                  </a:lnTo>
                  <a:lnTo>
                    <a:pt x="0" y="556"/>
                  </a:lnTo>
                  <a:lnTo>
                    <a:pt x="14" y="562"/>
                  </a:lnTo>
                  <a:lnTo>
                    <a:pt x="55" y="572"/>
                  </a:lnTo>
                  <a:lnTo>
                    <a:pt x="84" y="578"/>
                  </a:lnTo>
                  <a:lnTo>
                    <a:pt x="119" y="583"/>
                  </a:lnTo>
                  <a:lnTo>
                    <a:pt x="160" y="585"/>
                  </a:lnTo>
                  <a:lnTo>
                    <a:pt x="205" y="585"/>
                  </a:lnTo>
                  <a:lnTo>
                    <a:pt x="273" y="583"/>
                  </a:lnTo>
                  <a:lnTo>
                    <a:pt x="310" y="580"/>
                  </a:lnTo>
                  <a:lnTo>
                    <a:pt x="349" y="574"/>
                  </a:lnTo>
                  <a:lnTo>
                    <a:pt x="389" y="567"/>
                  </a:lnTo>
                  <a:lnTo>
                    <a:pt x="432" y="556"/>
                  </a:lnTo>
                  <a:lnTo>
                    <a:pt x="476" y="546"/>
                  </a:lnTo>
                  <a:lnTo>
                    <a:pt x="522" y="528"/>
                  </a:lnTo>
                  <a:lnTo>
                    <a:pt x="535" y="489"/>
                  </a:lnTo>
                  <a:lnTo>
                    <a:pt x="548" y="440"/>
                  </a:lnTo>
                  <a:lnTo>
                    <a:pt x="567" y="375"/>
                  </a:lnTo>
                  <a:lnTo>
                    <a:pt x="584" y="297"/>
                  </a:lnTo>
                  <a:lnTo>
                    <a:pt x="600" y="208"/>
                  </a:lnTo>
                  <a:lnTo>
                    <a:pt x="613" y="108"/>
                  </a:lnTo>
                  <a:lnTo>
                    <a:pt x="616" y="54"/>
                  </a:lnTo>
                  <a:lnTo>
                    <a:pt x="618" y="0"/>
                  </a:lnTo>
                  <a:close/>
                </a:path>
              </a:pathLst>
            </a:custGeom>
            <a:solidFill>
              <a:srgbClr val="753c2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4" name=""/>
            <p:cNvSpPr/>
            <p:nvPr/>
          </p:nvSpPr>
          <p:spPr>
            <a:xfrm>
              <a:off x="684360" y="3301920"/>
              <a:ext cx="539640" cy="34920"/>
            </a:xfrm>
            <a:custGeom>
              <a:avLst/>
              <a:gdLst/>
              <a:ahLst/>
              <a:rect l="l" t="t" r="r" b="b"/>
              <a:pathLst>
                <a:path w="3351" h="238">
                  <a:moveTo>
                    <a:pt x="0" y="0"/>
                  </a:moveTo>
                  <a:lnTo>
                    <a:pt x="2" y="9"/>
                  </a:lnTo>
                  <a:lnTo>
                    <a:pt x="81" y="28"/>
                  </a:lnTo>
                  <a:lnTo>
                    <a:pt x="161" y="44"/>
                  </a:lnTo>
                  <a:lnTo>
                    <a:pt x="323" y="76"/>
                  </a:lnTo>
                  <a:lnTo>
                    <a:pt x="490" y="103"/>
                  </a:lnTo>
                  <a:lnTo>
                    <a:pt x="663" y="131"/>
                  </a:lnTo>
                  <a:lnTo>
                    <a:pt x="893" y="159"/>
                  </a:lnTo>
                  <a:lnTo>
                    <a:pt x="1119" y="182"/>
                  </a:lnTo>
                  <a:lnTo>
                    <a:pt x="1349" y="203"/>
                  </a:lnTo>
                  <a:lnTo>
                    <a:pt x="1572" y="217"/>
                  </a:lnTo>
                  <a:lnTo>
                    <a:pt x="1791" y="228"/>
                  </a:lnTo>
                  <a:lnTo>
                    <a:pt x="2005" y="233"/>
                  </a:lnTo>
                  <a:lnTo>
                    <a:pt x="2210" y="238"/>
                  </a:lnTo>
                  <a:lnTo>
                    <a:pt x="2404" y="238"/>
                  </a:lnTo>
                  <a:lnTo>
                    <a:pt x="2591" y="238"/>
                  </a:lnTo>
                  <a:lnTo>
                    <a:pt x="2760" y="235"/>
                  </a:lnTo>
                  <a:lnTo>
                    <a:pt x="3049" y="225"/>
                  </a:lnTo>
                  <a:lnTo>
                    <a:pt x="3252" y="217"/>
                  </a:lnTo>
                  <a:lnTo>
                    <a:pt x="3351" y="212"/>
                  </a:lnTo>
                  <a:lnTo>
                    <a:pt x="3351" y="209"/>
                  </a:lnTo>
                  <a:lnTo>
                    <a:pt x="3351" y="203"/>
                  </a:lnTo>
                  <a:lnTo>
                    <a:pt x="3341" y="203"/>
                  </a:lnTo>
                  <a:lnTo>
                    <a:pt x="3224" y="209"/>
                  </a:lnTo>
                  <a:lnTo>
                    <a:pt x="3022" y="219"/>
                  </a:lnTo>
                  <a:lnTo>
                    <a:pt x="2744" y="228"/>
                  </a:lnTo>
                  <a:lnTo>
                    <a:pt x="2580" y="230"/>
                  </a:lnTo>
                  <a:lnTo>
                    <a:pt x="2404" y="230"/>
                  </a:lnTo>
                  <a:lnTo>
                    <a:pt x="2210" y="230"/>
                  </a:lnTo>
                  <a:lnTo>
                    <a:pt x="2005" y="225"/>
                  </a:lnTo>
                  <a:lnTo>
                    <a:pt x="1795" y="219"/>
                  </a:lnTo>
                  <a:lnTo>
                    <a:pt x="1572" y="209"/>
                  </a:lnTo>
                  <a:lnTo>
                    <a:pt x="1349" y="195"/>
                  </a:lnTo>
                  <a:lnTo>
                    <a:pt x="1123" y="173"/>
                  </a:lnTo>
                  <a:lnTo>
                    <a:pt x="893" y="152"/>
                  </a:lnTo>
                  <a:lnTo>
                    <a:pt x="666" y="122"/>
                  </a:lnTo>
                  <a:lnTo>
                    <a:pt x="493" y="95"/>
                  </a:lnTo>
                  <a:lnTo>
                    <a:pt x="323" y="69"/>
                  </a:lnTo>
                  <a:lnTo>
                    <a:pt x="159" y="36"/>
                  </a:lnTo>
                  <a:lnTo>
                    <a:pt x="81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4d34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5" name=""/>
            <p:cNvSpPr/>
            <p:nvPr/>
          </p:nvSpPr>
          <p:spPr>
            <a:xfrm>
              <a:off x="1224000" y="3247920"/>
              <a:ext cx="106200" cy="115920"/>
            </a:xfrm>
            <a:custGeom>
              <a:avLst/>
              <a:gdLst/>
              <a:ahLst/>
              <a:rect l="l" t="t" r="r" b="b"/>
              <a:pathLst>
                <a:path w="651" h="755">
                  <a:moveTo>
                    <a:pt x="89" y="108"/>
                  </a:moveTo>
                  <a:lnTo>
                    <a:pt x="95" y="111"/>
                  </a:lnTo>
                  <a:lnTo>
                    <a:pt x="103" y="103"/>
                  </a:lnTo>
                  <a:lnTo>
                    <a:pt x="111" y="92"/>
                  </a:lnTo>
                  <a:lnTo>
                    <a:pt x="135" y="76"/>
                  </a:lnTo>
                  <a:lnTo>
                    <a:pt x="165" y="60"/>
                  </a:lnTo>
                  <a:lnTo>
                    <a:pt x="203" y="44"/>
                  </a:lnTo>
                  <a:lnTo>
                    <a:pt x="243" y="32"/>
                  </a:lnTo>
                  <a:lnTo>
                    <a:pt x="287" y="22"/>
                  </a:lnTo>
                  <a:lnTo>
                    <a:pt x="333" y="16"/>
                  </a:lnTo>
                  <a:lnTo>
                    <a:pt x="378" y="16"/>
                  </a:lnTo>
                  <a:lnTo>
                    <a:pt x="410" y="16"/>
                  </a:lnTo>
                  <a:lnTo>
                    <a:pt x="440" y="20"/>
                  </a:lnTo>
                  <a:lnTo>
                    <a:pt x="470" y="25"/>
                  </a:lnTo>
                  <a:lnTo>
                    <a:pt x="497" y="32"/>
                  </a:lnTo>
                  <a:lnTo>
                    <a:pt x="522" y="44"/>
                  </a:lnTo>
                  <a:lnTo>
                    <a:pt x="543" y="55"/>
                  </a:lnTo>
                  <a:lnTo>
                    <a:pt x="564" y="71"/>
                  </a:lnTo>
                  <a:lnTo>
                    <a:pt x="578" y="89"/>
                  </a:lnTo>
                  <a:lnTo>
                    <a:pt x="591" y="108"/>
                  </a:lnTo>
                  <a:lnTo>
                    <a:pt x="602" y="130"/>
                  </a:lnTo>
                  <a:lnTo>
                    <a:pt x="613" y="154"/>
                  </a:lnTo>
                  <a:lnTo>
                    <a:pt x="621" y="179"/>
                  </a:lnTo>
                  <a:lnTo>
                    <a:pt x="626" y="205"/>
                  </a:lnTo>
                  <a:lnTo>
                    <a:pt x="632" y="232"/>
                  </a:lnTo>
                  <a:lnTo>
                    <a:pt x="635" y="262"/>
                  </a:lnTo>
                  <a:lnTo>
                    <a:pt x="635" y="289"/>
                  </a:lnTo>
                  <a:lnTo>
                    <a:pt x="632" y="335"/>
                  </a:lnTo>
                  <a:lnTo>
                    <a:pt x="626" y="378"/>
                  </a:lnTo>
                  <a:lnTo>
                    <a:pt x="616" y="424"/>
                  </a:lnTo>
                  <a:lnTo>
                    <a:pt x="605" y="467"/>
                  </a:lnTo>
                  <a:lnTo>
                    <a:pt x="586" y="511"/>
                  </a:lnTo>
                  <a:lnTo>
                    <a:pt x="568" y="548"/>
                  </a:lnTo>
                  <a:lnTo>
                    <a:pt x="543" y="586"/>
                  </a:lnTo>
                  <a:lnTo>
                    <a:pt x="513" y="619"/>
                  </a:lnTo>
                  <a:lnTo>
                    <a:pt x="467" y="661"/>
                  </a:lnTo>
                  <a:lnTo>
                    <a:pt x="443" y="683"/>
                  </a:lnTo>
                  <a:lnTo>
                    <a:pt x="416" y="702"/>
                  </a:lnTo>
                  <a:lnTo>
                    <a:pt x="389" y="718"/>
                  </a:lnTo>
                  <a:lnTo>
                    <a:pt x="362" y="729"/>
                  </a:lnTo>
                  <a:lnTo>
                    <a:pt x="333" y="737"/>
                  </a:lnTo>
                  <a:lnTo>
                    <a:pt x="299" y="739"/>
                  </a:lnTo>
                  <a:lnTo>
                    <a:pt x="271" y="737"/>
                  </a:lnTo>
                  <a:lnTo>
                    <a:pt x="241" y="729"/>
                  </a:lnTo>
                  <a:lnTo>
                    <a:pt x="205" y="716"/>
                  </a:lnTo>
                  <a:lnTo>
                    <a:pt x="173" y="697"/>
                  </a:lnTo>
                  <a:lnTo>
                    <a:pt x="135" y="672"/>
                  </a:lnTo>
                  <a:lnTo>
                    <a:pt x="97" y="640"/>
                  </a:lnTo>
                  <a:lnTo>
                    <a:pt x="57" y="599"/>
                  </a:lnTo>
                  <a:lnTo>
                    <a:pt x="14" y="550"/>
                  </a:lnTo>
                  <a:lnTo>
                    <a:pt x="9" y="557"/>
                  </a:lnTo>
                  <a:lnTo>
                    <a:pt x="16" y="557"/>
                  </a:lnTo>
                  <a:lnTo>
                    <a:pt x="97" y="108"/>
                  </a:lnTo>
                  <a:lnTo>
                    <a:pt x="89" y="108"/>
                  </a:lnTo>
                  <a:lnTo>
                    <a:pt x="95" y="111"/>
                  </a:lnTo>
                  <a:lnTo>
                    <a:pt x="89" y="108"/>
                  </a:lnTo>
                  <a:lnTo>
                    <a:pt x="81" y="106"/>
                  </a:lnTo>
                  <a:lnTo>
                    <a:pt x="0" y="554"/>
                  </a:lnTo>
                  <a:lnTo>
                    <a:pt x="3" y="562"/>
                  </a:lnTo>
                  <a:lnTo>
                    <a:pt x="46" y="610"/>
                  </a:lnTo>
                  <a:lnTo>
                    <a:pt x="87" y="651"/>
                  </a:lnTo>
                  <a:lnTo>
                    <a:pt x="124" y="686"/>
                  </a:lnTo>
                  <a:lnTo>
                    <a:pt x="163" y="709"/>
                  </a:lnTo>
                  <a:lnTo>
                    <a:pt x="200" y="732"/>
                  </a:lnTo>
                  <a:lnTo>
                    <a:pt x="235" y="745"/>
                  </a:lnTo>
                  <a:lnTo>
                    <a:pt x="267" y="753"/>
                  </a:lnTo>
                  <a:lnTo>
                    <a:pt x="299" y="755"/>
                  </a:lnTo>
                  <a:lnTo>
                    <a:pt x="335" y="753"/>
                  </a:lnTo>
                  <a:lnTo>
                    <a:pt x="368" y="745"/>
                  </a:lnTo>
                  <a:lnTo>
                    <a:pt x="397" y="732"/>
                  </a:lnTo>
                  <a:lnTo>
                    <a:pt x="424" y="716"/>
                  </a:lnTo>
                  <a:lnTo>
                    <a:pt x="453" y="697"/>
                  </a:lnTo>
                  <a:lnTo>
                    <a:pt x="478" y="675"/>
                  </a:lnTo>
                  <a:lnTo>
                    <a:pt x="527" y="629"/>
                  </a:lnTo>
                  <a:lnTo>
                    <a:pt x="554" y="594"/>
                  </a:lnTo>
                  <a:lnTo>
                    <a:pt x="580" y="557"/>
                  </a:lnTo>
                  <a:lnTo>
                    <a:pt x="602" y="516"/>
                  </a:lnTo>
                  <a:lnTo>
                    <a:pt x="619" y="472"/>
                  </a:lnTo>
                  <a:lnTo>
                    <a:pt x="632" y="426"/>
                  </a:lnTo>
                  <a:lnTo>
                    <a:pt x="642" y="381"/>
                  </a:lnTo>
                  <a:lnTo>
                    <a:pt x="648" y="335"/>
                  </a:lnTo>
                  <a:lnTo>
                    <a:pt x="651" y="289"/>
                  </a:lnTo>
                  <a:lnTo>
                    <a:pt x="651" y="260"/>
                  </a:lnTo>
                  <a:lnTo>
                    <a:pt x="648" y="230"/>
                  </a:lnTo>
                  <a:lnTo>
                    <a:pt x="642" y="203"/>
                  </a:lnTo>
                  <a:lnTo>
                    <a:pt x="637" y="176"/>
                  </a:lnTo>
                  <a:lnTo>
                    <a:pt x="630" y="149"/>
                  </a:lnTo>
                  <a:lnTo>
                    <a:pt x="619" y="124"/>
                  </a:lnTo>
                  <a:lnTo>
                    <a:pt x="605" y="101"/>
                  </a:lnTo>
                  <a:lnTo>
                    <a:pt x="591" y="78"/>
                  </a:lnTo>
                  <a:lnTo>
                    <a:pt x="575" y="60"/>
                  </a:lnTo>
                  <a:lnTo>
                    <a:pt x="554" y="41"/>
                  </a:lnTo>
                  <a:lnTo>
                    <a:pt x="529" y="27"/>
                  </a:lnTo>
                  <a:lnTo>
                    <a:pt x="502" y="16"/>
                  </a:lnTo>
                  <a:lnTo>
                    <a:pt x="472" y="9"/>
                  </a:lnTo>
                  <a:lnTo>
                    <a:pt x="443" y="4"/>
                  </a:lnTo>
                  <a:lnTo>
                    <a:pt x="410" y="0"/>
                  </a:lnTo>
                  <a:lnTo>
                    <a:pt x="378" y="0"/>
                  </a:lnTo>
                  <a:lnTo>
                    <a:pt x="333" y="0"/>
                  </a:lnTo>
                  <a:lnTo>
                    <a:pt x="283" y="9"/>
                  </a:lnTo>
                  <a:lnTo>
                    <a:pt x="241" y="16"/>
                  </a:lnTo>
                  <a:lnTo>
                    <a:pt x="198" y="30"/>
                  </a:lnTo>
                  <a:lnTo>
                    <a:pt x="159" y="44"/>
                  </a:lnTo>
                  <a:lnTo>
                    <a:pt x="127" y="62"/>
                  </a:lnTo>
                  <a:lnTo>
                    <a:pt x="101" y="82"/>
                  </a:lnTo>
                  <a:lnTo>
                    <a:pt x="89" y="92"/>
                  </a:lnTo>
                  <a:lnTo>
                    <a:pt x="81" y="103"/>
                  </a:lnTo>
                  <a:lnTo>
                    <a:pt x="81" y="106"/>
                  </a:lnTo>
                  <a:lnTo>
                    <a:pt x="89" y="108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6" name=""/>
            <p:cNvSpPr/>
            <p:nvPr/>
          </p:nvSpPr>
          <p:spPr>
            <a:xfrm>
              <a:off x="1281240" y="2631960"/>
              <a:ext cx="612720" cy="666720"/>
            </a:xfrm>
            <a:custGeom>
              <a:avLst/>
              <a:gdLst/>
              <a:ahLst/>
              <a:rect l="l" t="t" r="r" b="b"/>
              <a:pathLst>
                <a:path w="3779" h="4373">
                  <a:moveTo>
                    <a:pt x="8" y="4224"/>
                  </a:moveTo>
                  <a:lnTo>
                    <a:pt x="14" y="4230"/>
                  </a:lnTo>
                  <a:lnTo>
                    <a:pt x="54" y="4181"/>
                  </a:lnTo>
                  <a:lnTo>
                    <a:pt x="793" y="3334"/>
                  </a:lnTo>
                  <a:lnTo>
                    <a:pt x="1384" y="2660"/>
                  </a:lnTo>
                  <a:lnTo>
                    <a:pt x="2033" y="1923"/>
                  </a:lnTo>
                  <a:lnTo>
                    <a:pt x="2664" y="1211"/>
                  </a:lnTo>
                  <a:lnTo>
                    <a:pt x="2953" y="887"/>
                  </a:lnTo>
                  <a:lnTo>
                    <a:pt x="3211" y="599"/>
                  </a:lnTo>
                  <a:lnTo>
                    <a:pt x="3433" y="359"/>
                  </a:lnTo>
                  <a:lnTo>
                    <a:pt x="3605" y="175"/>
                  </a:lnTo>
                  <a:lnTo>
                    <a:pt x="3671" y="105"/>
                  </a:lnTo>
                  <a:lnTo>
                    <a:pt x="3722" y="57"/>
                  </a:lnTo>
                  <a:lnTo>
                    <a:pt x="3757" y="25"/>
                  </a:lnTo>
                  <a:lnTo>
                    <a:pt x="3768" y="19"/>
                  </a:lnTo>
                  <a:lnTo>
                    <a:pt x="3770" y="16"/>
                  </a:lnTo>
                  <a:lnTo>
                    <a:pt x="3768" y="14"/>
                  </a:lnTo>
                  <a:lnTo>
                    <a:pt x="3768" y="16"/>
                  </a:lnTo>
                  <a:lnTo>
                    <a:pt x="3770" y="16"/>
                  </a:lnTo>
                  <a:lnTo>
                    <a:pt x="3768" y="14"/>
                  </a:lnTo>
                  <a:lnTo>
                    <a:pt x="3768" y="16"/>
                  </a:lnTo>
                  <a:lnTo>
                    <a:pt x="3768" y="11"/>
                  </a:lnTo>
                  <a:lnTo>
                    <a:pt x="3765" y="14"/>
                  </a:lnTo>
                  <a:lnTo>
                    <a:pt x="3768" y="16"/>
                  </a:lnTo>
                  <a:lnTo>
                    <a:pt x="3768" y="11"/>
                  </a:lnTo>
                  <a:lnTo>
                    <a:pt x="3765" y="14"/>
                  </a:lnTo>
                  <a:lnTo>
                    <a:pt x="3768" y="11"/>
                  </a:lnTo>
                  <a:lnTo>
                    <a:pt x="3762" y="11"/>
                  </a:lnTo>
                  <a:lnTo>
                    <a:pt x="3765" y="14"/>
                  </a:lnTo>
                  <a:lnTo>
                    <a:pt x="3768" y="11"/>
                  </a:lnTo>
                  <a:lnTo>
                    <a:pt x="3762" y="11"/>
                  </a:lnTo>
                  <a:lnTo>
                    <a:pt x="3759" y="19"/>
                  </a:lnTo>
                  <a:lnTo>
                    <a:pt x="3752" y="32"/>
                  </a:lnTo>
                  <a:lnTo>
                    <a:pt x="3719" y="81"/>
                  </a:lnTo>
                  <a:lnTo>
                    <a:pt x="3665" y="154"/>
                  </a:lnTo>
                  <a:lnTo>
                    <a:pt x="3495" y="375"/>
                  </a:lnTo>
                  <a:lnTo>
                    <a:pt x="3230" y="704"/>
                  </a:lnTo>
                  <a:lnTo>
                    <a:pt x="2864" y="1158"/>
                  </a:lnTo>
                  <a:lnTo>
                    <a:pt x="2383" y="1740"/>
                  </a:lnTo>
                  <a:lnTo>
                    <a:pt x="1787" y="2460"/>
                  </a:lnTo>
                  <a:lnTo>
                    <a:pt x="1064" y="3332"/>
                  </a:lnTo>
                  <a:lnTo>
                    <a:pt x="205" y="4359"/>
                  </a:lnTo>
                  <a:lnTo>
                    <a:pt x="211" y="4364"/>
                  </a:lnTo>
                  <a:lnTo>
                    <a:pt x="217" y="4357"/>
                  </a:lnTo>
                  <a:lnTo>
                    <a:pt x="14" y="4216"/>
                  </a:lnTo>
                  <a:lnTo>
                    <a:pt x="8" y="4224"/>
                  </a:lnTo>
                  <a:lnTo>
                    <a:pt x="14" y="4230"/>
                  </a:lnTo>
                  <a:lnTo>
                    <a:pt x="8" y="4224"/>
                  </a:lnTo>
                  <a:lnTo>
                    <a:pt x="3" y="4230"/>
                  </a:lnTo>
                  <a:lnTo>
                    <a:pt x="208" y="4370"/>
                  </a:lnTo>
                  <a:lnTo>
                    <a:pt x="213" y="4373"/>
                  </a:lnTo>
                  <a:lnTo>
                    <a:pt x="219" y="4370"/>
                  </a:lnTo>
                  <a:lnTo>
                    <a:pt x="1136" y="3270"/>
                  </a:lnTo>
                  <a:lnTo>
                    <a:pt x="1897" y="2353"/>
                  </a:lnTo>
                  <a:lnTo>
                    <a:pt x="2516" y="1605"/>
                  </a:lnTo>
                  <a:lnTo>
                    <a:pt x="2995" y="1020"/>
                  </a:lnTo>
                  <a:lnTo>
                    <a:pt x="3352" y="577"/>
                  </a:lnTo>
                  <a:lnTo>
                    <a:pt x="3595" y="269"/>
                  </a:lnTo>
                  <a:lnTo>
                    <a:pt x="3676" y="165"/>
                  </a:lnTo>
                  <a:lnTo>
                    <a:pt x="3733" y="87"/>
                  </a:lnTo>
                  <a:lnTo>
                    <a:pt x="3768" y="38"/>
                  </a:lnTo>
                  <a:lnTo>
                    <a:pt x="3775" y="21"/>
                  </a:lnTo>
                  <a:lnTo>
                    <a:pt x="3779" y="11"/>
                  </a:lnTo>
                  <a:lnTo>
                    <a:pt x="3775" y="2"/>
                  </a:lnTo>
                  <a:lnTo>
                    <a:pt x="3768" y="0"/>
                  </a:lnTo>
                  <a:lnTo>
                    <a:pt x="3762" y="2"/>
                  </a:lnTo>
                  <a:lnTo>
                    <a:pt x="3757" y="5"/>
                  </a:lnTo>
                  <a:lnTo>
                    <a:pt x="3727" y="30"/>
                  </a:lnTo>
                  <a:lnTo>
                    <a:pt x="3681" y="73"/>
                  </a:lnTo>
                  <a:lnTo>
                    <a:pt x="3547" y="210"/>
                  </a:lnTo>
                  <a:lnTo>
                    <a:pt x="3363" y="410"/>
                  </a:lnTo>
                  <a:lnTo>
                    <a:pt x="3133" y="663"/>
                  </a:lnTo>
                  <a:lnTo>
                    <a:pt x="2871" y="955"/>
                  </a:lnTo>
                  <a:lnTo>
                    <a:pt x="2272" y="1630"/>
                  </a:lnTo>
                  <a:lnTo>
                    <a:pt x="1633" y="2355"/>
                  </a:lnTo>
                  <a:lnTo>
                    <a:pt x="1018" y="3053"/>
                  </a:lnTo>
                  <a:lnTo>
                    <a:pt x="500" y="3650"/>
                  </a:lnTo>
                  <a:lnTo>
                    <a:pt x="3" y="4219"/>
                  </a:lnTo>
                  <a:lnTo>
                    <a:pt x="0" y="4224"/>
                  </a:lnTo>
                  <a:lnTo>
                    <a:pt x="3" y="4230"/>
                  </a:lnTo>
                  <a:lnTo>
                    <a:pt x="8" y="4224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7" name=""/>
            <p:cNvSpPr/>
            <p:nvPr/>
          </p:nvSpPr>
          <p:spPr>
            <a:xfrm>
              <a:off x="1844640" y="2636640"/>
              <a:ext cx="50760" cy="60480"/>
            </a:xfrm>
            <a:custGeom>
              <a:avLst/>
              <a:gdLst/>
              <a:ahLst/>
              <a:rect l="l" t="t" r="r" b="b"/>
              <a:pathLst>
                <a:path w="316" h="405">
                  <a:moveTo>
                    <a:pt x="316" y="0"/>
                  </a:moveTo>
                  <a:lnTo>
                    <a:pt x="305" y="8"/>
                  </a:lnTo>
                  <a:lnTo>
                    <a:pt x="283" y="30"/>
                  </a:lnTo>
                  <a:lnTo>
                    <a:pt x="261" y="62"/>
                  </a:lnTo>
                  <a:lnTo>
                    <a:pt x="208" y="138"/>
                  </a:lnTo>
                  <a:lnTo>
                    <a:pt x="129" y="237"/>
                  </a:lnTo>
                  <a:lnTo>
                    <a:pt x="0" y="405"/>
                  </a:lnTo>
                  <a:lnTo>
                    <a:pt x="146" y="221"/>
                  </a:lnTo>
                  <a:lnTo>
                    <a:pt x="245" y="97"/>
                  </a:lnTo>
                  <a:lnTo>
                    <a:pt x="302" y="24"/>
                  </a:lnTo>
                  <a:lnTo>
                    <a:pt x="313" y="5"/>
                  </a:lnTo>
                  <a:lnTo>
                    <a:pt x="316" y="0"/>
                  </a:lnTo>
                  <a:close/>
                </a:path>
              </a:pathLst>
            </a:custGeom>
            <a:solidFill>
              <a:srgbClr val="197f3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8" name=""/>
            <p:cNvSpPr/>
            <p:nvPr/>
          </p:nvSpPr>
          <p:spPr>
            <a:xfrm>
              <a:off x="1749600" y="2639880"/>
              <a:ext cx="139680" cy="166680"/>
            </a:xfrm>
            <a:custGeom>
              <a:avLst/>
              <a:gdLst/>
              <a:ahLst/>
              <a:rect l="l" t="t" r="r" b="b"/>
              <a:pathLst>
                <a:path w="872" h="1089">
                  <a:moveTo>
                    <a:pt x="872" y="0"/>
                  </a:moveTo>
                  <a:lnTo>
                    <a:pt x="834" y="40"/>
                  </a:lnTo>
                  <a:lnTo>
                    <a:pt x="778" y="116"/>
                  </a:lnTo>
                  <a:lnTo>
                    <a:pt x="702" y="212"/>
                  </a:lnTo>
                  <a:lnTo>
                    <a:pt x="459" y="520"/>
                  </a:lnTo>
                  <a:lnTo>
                    <a:pt x="102" y="963"/>
                  </a:lnTo>
                  <a:lnTo>
                    <a:pt x="0" y="1089"/>
                  </a:lnTo>
                  <a:lnTo>
                    <a:pt x="589" y="375"/>
                  </a:lnTo>
                  <a:lnTo>
                    <a:pt x="718" y="207"/>
                  </a:lnTo>
                  <a:lnTo>
                    <a:pt x="797" y="108"/>
                  </a:lnTo>
                  <a:lnTo>
                    <a:pt x="850" y="32"/>
                  </a:lnTo>
                  <a:lnTo>
                    <a:pt x="872" y="0"/>
                  </a:lnTo>
                  <a:close/>
                </a:path>
              </a:pathLst>
            </a:custGeom>
            <a:solidFill>
              <a:srgbClr val="6731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9" name=""/>
            <p:cNvSpPr/>
            <p:nvPr/>
          </p:nvSpPr>
          <p:spPr>
            <a:xfrm>
              <a:off x="1300320" y="2647800"/>
              <a:ext cx="583920" cy="649440"/>
            </a:xfrm>
            <a:custGeom>
              <a:avLst/>
              <a:gdLst/>
              <a:ahLst/>
              <a:rect l="l" t="t" r="r" b="b"/>
              <a:pathLst>
                <a:path w="3616" h="4267">
                  <a:moveTo>
                    <a:pt x="3616" y="0"/>
                  </a:moveTo>
                  <a:lnTo>
                    <a:pt x="3492" y="138"/>
                  </a:lnTo>
                  <a:lnTo>
                    <a:pt x="3368" y="297"/>
                  </a:lnTo>
                  <a:lnTo>
                    <a:pt x="3203" y="502"/>
                  </a:lnTo>
                  <a:lnTo>
                    <a:pt x="2753" y="1061"/>
                  </a:lnTo>
                  <a:lnTo>
                    <a:pt x="2274" y="1640"/>
                  </a:lnTo>
                  <a:lnTo>
                    <a:pt x="1678" y="2360"/>
                  </a:lnTo>
                  <a:lnTo>
                    <a:pt x="955" y="3229"/>
                  </a:lnTo>
                  <a:lnTo>
                    <a:pt x="100" y="4257"/>
                  </a:lnTo>
                  <a:lnTo>
                    <a:pt x="5" y="4191"/>
                  </a:lnTo>
                  <a:lnTo>
                    <a:pt x="0" y="4197"/>
                  </a:lnTo>
                  <a:lnTo>
                    <a:pt x="100" y="4267"/>
                  </a:lnTo>
                  <a:lnTo>
                    <a:pt x="1697" y="2353"/>
                  </a:lnTo>
                  <a:lnTo>
                    <a:pt x="2782" y="1049"/>
                  </a:lnTo>
                  <a:lnTo>
                    <a:pt x="2884" y="923"/>
                  </a:lnTo>
                  <a:lnTo>
                    <a:pt x="3241" y="480"/>
                  </a:lnTo>
                  <a:lnTo>
                    <a:pt x="3484" y="172"/>
                  </a:lnTo>
                  <a:lnTo>
                    <a:pt x="3560" y="76"/>
                  </a:lnTo>
                  <a:lnTo>
                    <a:pt x="3616" y="0"/>
                  </a:lnTo>
                  <a:close/>
                </a:path>
              </a:pathLst>
            </a:custGeom>
            <a:solidFill>
              <a:srgbClr val="67312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0" name=""/>
            <p:cNvSpPr/>
            <p:nvPr/>
          </p:nvSpPr>
          <p:spPr>
            <a:xfrm>
              <a:off x="1251000" y="3330360"/>
              <a:ext cx="42840" cy="42840"/>
            </a:xfrm>
            <a:custGeom>
              <a:avLst/>
              <a:gdLst/>
              <a:ahLst/>
              <a:rect l="l" t="t" r="r" b="b"/>
              <a:pathLst>
                <a:path w="265" h="283">
                  <a:moveTo>
                    <a:pt x="251" y="234"/>
                  </a:moveTo>
                  <a:lnTo>
                    <a:pt x="259" y="237"/>
                  </a:lnTo>
                  <a:lnTo>
                    <a:pt x="265" y="215"/>
                  </a:lnTo>
                  <a:lnTo>
                    <a:pt x="265" y="194"/>
                  </a:lnTo>
                  <a:lnTo>
                    <a:pt x="262" y="166"/>
                  </a:lnTo>
                  <a:lnTo>
                    <a:pt x="256" y="139"/>
                  </a:lnTo>
                  <a:lnTo>
                    <a:pt x="249" y="110"/>
                  </a:lnTo>
                  <a:lnTo>
                    <a:pt x="235" y="83"/>
                  </a:lnTo>
                  <a:lnTo>
                    <a:pt x="216" y="58"/>
                  </a:lnTo>
                  <a:lnTo>
                    <a:pt x="194" y="37"/>
                  </a:lnTo>
                  <a:lnTo>
                    <a:pt x="184" y="26"/>
                  </a:lnTo>
                  <a:lnTo>
                    <a:pt x="170" y="21"/>
                  </a:lnTo>
                  <a:lnTo>
                    <a:pt x="157" y="12"/>
                  </a:lnTo>
                  <a:lnTo>
                    <a:pt x="141" y="7"/>
                  </a:lnTo>
                  <a:lnTo>
                    <a:pt x="106" y="0"/>
                  </a:lnTo>
                  <a:lnTo>
                    <a:pt x="76" y="0"/>
                  </a:lnTo>
                  <a:lnTo>
                    <a:pt x="56" y="0"/>
                  </a:lnTo>
                  <a:lnTo>
                    <a:pt x="44" y="2"/>
                  </a:lnTo>
                  <a:lnTo>
                    <a:pt x="30" y="7"/>
                  </a:lnTo>
                  <a:lnTo>
                    <a:pt x="19" y="16"/>
                  </a:lnTo>
                  <a:lnTo>
                    <a:pt x="10" y="24"/>
                  </a:lnTo>
                  <a:lnTo>
                    <a:pt x="5" y="35"/>
                  </a:lnTo>
                  <a:lnTo>
                    <a:pt x="3" y="45"/>
                  </a:lnTo>
                  <a:lnTo>
                    <a:pt x="0" y="58"/>
                  </a:lnTo>
                  <a:lnTo>
                    <a:pt x="3" y="72"/>
                  </a:lnTo>
                  <a:lnTo>
                    <a:pt x="5" y="86"/>
                  </a:lnTo>
                  <a:lnTo>
                    <a:pt x="16" y="113"/>
                  </a:lnTo>
                  <a:lnTo>
                    <a:pt x="33" y="145"/>
                  </a:lnTo>
                  <a:lnTo>
                    <a:pt x="54" y="175"/>
                  </a:lnTo>
                  <a:lnTo>
                    <a:pt x="78" y="201"/>
                  </a:lnTo>
                  <a:lnTo>
                    <a:pt x="100" y="223"/>
                  </a:lnTo>
                  <a:lnTo>
                    <a:pt x="118" y="242"/>
                  </a:lnTo>
                  <a:lnTo>
                    <a:pt x="138" y="258"/>
                  </a:lnTo>
                  <a:lnTo>
                    <a:pt x="157" y="269"/>
                  </a:lnTo>
                  <a:lnTo>
                    <a:pt x="173" y="277"/>
                  </a:lnTo>
                  <a:lnTo>
                    <a:pt x="189" y="283"/>
                  </a:lnTo>
                  <a:lnTo>
                    <a:pt x="203" y="283"/>
                  </a:lnTo>
                  <a:lnTo>
                    <a:pt x="213" y="283"/>
                  </a:lnTo>
                  <a:lnTo>
                    <a:pt x="221" y="280"/>
                  </a:lnTo>
                  <a:lnTo>
                    <a:pt x="232" y="274"/>
                  </a:lnTo>
                  <a:lnTo>
                    <a:pt x="238" y="269"/>
                  </a:lnTo>
                  <a:lnTo>
                    <a:pt x="251" y="256"/>
                  </a:lnTo>
                  <a:lnTo>
                    <a:pt x="259" y="237"/>
                  </a:lnTo>
                  <a:lnTo>
                    <a:pt x="251" y="234"/>
                  </a:lnTo>
                  <a:lnTo>
                    <a:pt x="243" y="231"/>
                  </a:lnTo>
                  <a:lnTo>
                    <a:pt x="238" y="247"/>
                  </a:lnTo>
                  <a:lnTo>
                    <a:pt x="226" y="258"/>
                  </a:lnTo>
                  <a:lnTo>
                    <a:pt x="216" y="263"/>
                  </a:lnTo>
                  <a:lnTo>
                    <a:pt x="203" y="267"/>
                  </a:lnTo>
                  <a:lnTo>
                    <a:pt x="192" y="267"/>
                  </a:lnTo>
                  <a:lnTo>
                    <a:pt x="178" y="261"/>
                  </a:lnTo>
                  <a:lnTo>
                    <a:pt x="164" y="256"/>
                  </a:lnTo>
                  <a:lnTo>
                    <a:pt x="148" y="245"/>
                  </a:lnTo>
                  <a:lnTo>
                    <a:pt x="129" y="231"/>
                  </a:lnTo>
                  <a:lnTo>
                    <a:pt x="111" y="212"/>
                  </a:lnTo>
                  <a:lnTo>
                    <a:pt x="90" y="191"/>
                  </a:lnTo>
                  <a:lnTo>
                    <a:pt x="67" y="164"/>
                  </a:lnTo>
                  <a:lnTo>
                    <a:pt x="46" y="134"/>
                  </a:lnTo>
                  <a:lnTo>
                    <a:pt x="30" y="107"/>
                  </a:lnTo>
                  <a:lnTo>
                    <a:pt x="21" y="81"/>
                  </a:lnTo>
                  <a:lnTo>
                    <a:pt x="16" y="58"/>
                  </a:lnTo>
                  <a:lnTo>
                    <a:pt x="19" y="48"/>
                  </a:lnTo>
                  <a:lnTo>
                    <a:pt x="21" y="40"/>
                  </a:lnTo>
                  <a:lnTo>
                    <a:pt x="24" y="32"/>
                  </a:lnTo>
                  <a:lnTo>
                    <a:pt x="30" y="26"/>
                  </a:lnTo>
                  <a:lnTo>
                    <a:pt x="38" y="21"/>
                  </a:lnTo>
                  <a:lnTo>
                    <a:pt x="49" y="19"/>
                  </a:lnTo>
                  <a:lnTo>
                    <a:pt x="60" y="16"/>
                  </a:lnTo>
                  <a:lnTo>
                    <a:pt x="76" y="16"/>
                  </a:lnTo>
                  <a:lnTo>
                    <a:pt x="102" y="16"/>
                  </a:lnTo>
                  <a:lnTo>
                    <a:pt x="134" y="24"/>
                  </a:lnTo>
                  <a:lnTo>
                    <a:pt x="148" y="29"/>
                  </a:lnTo>
                  <a:lnTo>
                    <a:pt x="162" y="35"/>
                  </a:lnTo>
                  <a:lnTo>
                    <a:pt x="184" y="48"/>
                  </a:lnTo>
                  <a:lnTo>
                    <a:pt x="203" y="70"/>
                  </a:lnTo>
                  <a:lnTo>
                    <a:pt x="219" y="91"/>
                  </a:lnTo>
                  <a:lnTo>
                    <a:pt x="232" y="115"/>
                  </a:lnTo>
                  <a:lnTo>
                    <a:pt x="240" y="143"/>
                  </a:lnTo>
                  <a:lnTo>
                    <a:pt x="245" y="169"/>
                  </a:lnTo>
                  <a:lnTo>
                    <a:pt x="249" y="194"/>
                  </a:lnTo>
                  <a:lnTo>
                    <a:pt x="249" y="215"/>
                  </a:lnTo>
                  <a:lnTo>
                    <a:pt x="243" y="231"/>
                  </a:lnTo>
                  <a:lnTo>
                    <a:pt x="251" y="234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1" name=""/>
            <p:cNvSpPr/>
            <p:nvPr/>
          </p:nvSpPr>
          <p:spPr>
            <a:xfrm>
              <a:off x="1266840" y="3309840"/>
              <a:ext cx="60480" cy="49320"/>
            </a:xfrm>
            <a:custGeom>
              <a:avLst/>
              <a:gdLst/>
              <a:ahLst/>
              <a:rect l="l" t="t" r="r" b="b"/>
              <a:pathLst>
                <a:path w="378" h="321">
                  <a:moveTo>
                    <a:pt x="362" y="253"/>
                  </a:moveTo>
                  <a:lnTo>
                    <a:pt x="369" y="256"/>
                  </a:lnTo>
                  <a:lnTo>
                    <a:pt x="378" y="237"/>
                  </a:lnTo>
                  <a:lnTo>
                    <a:pt x="378" y="221"/>
                  </a:lnTo>
                  <a:lnTo>
                    <a:pt x="375" y="199"/>
                  </a:lnTo>
                  <a:lnTo>
                    <a:pt x="369" y="180"/>
                  </a:lnTo>
                  <a:lnTo>
                    <a:pt x="359" y="159"/>
                  </a:lnTo>
                  <a:lnTo>
                    <a:pt x="348" y="140"/>
                  </a:lnTo>
                  <a:lnTo>
                    <a:pt x="332" y="122"/>
                  </a:lnTo>
                  <a:lnTo>
                    <a:pt x="313" y="104"/>
                  </a:lnTo>
                  <a:lnTo>
                    <a:pt x="291" y="86"/>
                  </a:lnTo>
                  <a:lnTo>
                    <a:pt x="270" y="70"/>
                  </a:lnTo>
                  <a:lnTo>
                    <a:pt x="224" y="43"/>
                  </a:lnTo>
                  <a:lnTo>
                    <a:pt x="199" y="30"/>
                  </a:lnTo>
                  <a:lnTo>
                    <a:pt x="175" y="19"/>
                  </a:lnTo>
                  <a:lnTo>
                    <a:pt x="151" y="10"/>
                  </a:lnTo>
                  <a:lnTo>
                    <a:pt x="127" y="5"/>
                  </a:lnTo>
                  <a:lnTo>
                    <a:pt x="102" y="0"/>
                  </a:lnTo>
                  <a:lnTo>
                    <a:pt x="81" y="0"/>
                  </a:lnTo>
                  <a:lnTo>
                    <a:pt x="62" y="0"/>
                  </a:lnTo>
                  <a:lnTo>
                    <a:pt x="42" y="5"/>
                  </a:lnTo>
                  <a:lnTo>
                    <a:pt x="26" y="14"/>
                  </a:lnTo>
                  <a:lnTo>
                    <a:pt x="14" y="26"/>
                  </a:lnTo>
                  <a:lnTo>
                    <a:pt x="5" y="37"/>
                  </a:lnTo>
                  <a:lnTo>
                    <a:pt x="3" y="46"/>
                  </a:lnTo>
                  <a:lnTo>
                    <a:pt x="0" y="56"/>
                  </a:lnTo>
                  <a:lnTo>
                    <a:pt x="0" y="67"/>
                  </a:lnTo>
                  <a:lnTo>
                    <a:pt x="3" y="86"/>
                  </a:lnTo>
                  <a:lnTo>
                    <a:pt x="5" y="108"/>
                  </a:lnTo>
                  <a:lnTo>
                    <a:pt x="14" y="127"/>
                  </a:lnTo>
                  <a:lnTo>
                    <a:pt x="24" y="148"/>
                  </a:lnTo>
                  <a:lnTo>
                    <a:pt x="37" y="170"/>
                  </a:lnTo>
                  <a:lnTo>
                    <a:pt x="51" y="189"/>
                  </a:lnTo>
                  <a:lnTo>
                    <a:pt x="70" y="210"/>
                  </a:lnTo>
                  <a:lnTo>
                    <a:pt x="86" y="229"/>
                  </a:lnTo>
                  <a:lnTo>
                    <a:pt x="108" y="248"/>
                  </a:lnTo>
                  <a:lnTo>
                    <a:pt x="127" y="265"/>
                  </a:lnTo>
                  <a:lnTo>
                    <a:pt x="148" y="281"/>
                  </a:lnTo>
                  <a:lnTo>
                    <a:pt x="173" y="293"/>
                  </a:lnTo>
                  <a:lnTo>
                    <a:pt x="194" y="304"/>
                  </a:lnTo>
                  <a:lnTo>
                    <a:pt x="219" y="313"/>
                  </a:lnTo>
                  <a:lnTo>
                    <a:pt x="240" y="318"/>
                  </a:lnTo>
                  <a:lnTo>
                    <a:pt x="265" y="321"/>
                  </a:lnTo>
                  <a:lnTo>
                    <a:pt x="291" y="318"/>
                  </a:lnTo>
                  <a:lnTo>
                    <a:pt x="305" y="313"/>
                  </a:lnTo>
                  <a:lnTo>
                    <a:pt x="318" y="307"/>
                  </a:lnTo>
                  <a:lnTo>
                    <a:pt x="329" y="299"/>
                  </a:lnTo>
                  <a:lnTo>
                    <a:pt x="343" y="291"/>
                  </a:lnTo>
                  <a:lnTo>
                    <a:pt x="353" y="281"/>
                  </a:lnTo>
                  <a:lnTo>
                    <a:pt x="362" y="267"/>
                  </a:lnTo>
                  <a:lnTo>
                    <a:pt x="369" y="256"/>
                  </a:lnTo>
                  <a:lnTo>
                    <a:pt x="362" y="253"/>
                  </a:lnTo>
                  <a:lnTo>
                    <a:pt x="356" y="248"/>
                  </a:lnTo>
                  <a:lnTo>
                    <a:pt x="348" y="258"/>
                  </a:lnTo>
                  <a:lnTo>
                    <a:pt x="356" y="265"/>
                  </a:lnTo>
                  <a:lnTo>
                    <a:pt x="350" y="258"/>
                  </a:lnTo>
                  <a:lnTo>
                    <a:pt x="332" y="281"/>
                  </a:lnTo>
                  <a:lnTo>
                    <a:pt x="311" y="293"/>
                  </a:lnTo>
                  <a:lnTo>
                    <a:pt x="288" y="302"/>
                  </a:lnTo>
                  <a:lnTo>
                    <a:pt x="265" y="304"/>
                  </a:lnTo>
                  <a:lnTo>
                    <a:pt x="242" y="302"/>
                  </a:lnTo>
                  <a:lnTo>
                    <a:pt x="224" y="297"/>
                  </a:lnTo>
                  <a:lnTo>
                    <a:pt x="203" y="288"/>
                  </a:lnTo>
                  <a:lnTo>
                    <a:pt x="180" y="281"/>
                  </a:lnTo>
                  <a:lnTo>
                    <a:pt x="159" y="267"/>
                  </a:lnTo>
                  <a:lnTo>
                    <a:pt x="137" y="251"/>
                  </a:lnTo>
                  <a:lnTo>
                    <a:pt x="118" y="235"/>
                  </a:lnTo>
                  <a:lnTo>
                    <a:pt x="100" y="219"/>
                  </a:lnTo>
                  <a:lnTo>
                    <a:pt x="81" y="199"/>
                  </a:lnTo>
                  <a:lnTo>
                    <a:pt x="65" y="180"/>
                  </a:lnTo>
                  <a:lnTo>
                    <a:pt x="51" y="159"/>
                  </a:lnTo>
                  <a:lnTo>
                    <a:pt x="37" y="140"/>
                  </a:lnTo>
                  <a:lnTo>
                    <a:pt x="30" y="122"/>
                  </a:lnTo>
                  <a:lnTo>
                    <a:pt x="21" y="102"/>
                  </a:lnTo>
                  <a:lnTo>
                    <a:pt x="16" y="83"/>
                  </a:lnTo>
                  <a:lnTo>
                    <a:pt x="16" y="67"/>
                  </a:lnTo>
                  <a:lnTo>
                    <a:pt x="19" y="51"/>
                  </a:lnTo>
                  <a:lnTo>
                    <a:pt x="24" y="37"/>
                  </a:lnTo>
                  <a:lnTo>
                    <a:pt x="35" y="26"/>
                  </a:lnTo>
                  <a:lnTo>
                    <a:pt x="49" y="21"/>
                  </a:lnTo>
                  <a:lnTo>
                    <a:pt x="65" y="16"/>
                  </a:lnTo>
                  <a:lnTo>
                    <a:pt x="81" y="16"/>
                  </a:lnTo>
                  <a:lnTo>
                    <a:pt x="102" y="16"/>
                  </a:lnTo>
                  <a:lnTo>
                    <a:pt x="124" y="21"/>
                  </a:lnTo>
                  <a:lnTo>
                    <a:pt x="146" y="26"/>
                  </a:lnTo>
                  <a:lnTo>
                    <a:pt x="170" y="35"/>
                  </a:lnTo>
                  <a:lnTo>
                    <a:pt x="215" y="56"/>
                  </a:lnTo>
                  <a:lnTo>
                    <a:pt x="261" y="83"/>
                  </a:lnTo>
                  <a:lnTo>
                    <a:pt x="283" y="99"/>
                  </a:lnTo>
                  <a:lnTo>
                    <a:pt x="302" y="116"/>
                  </a:lnTo>
                  <a:lnTo>
                    <a:pt x="318" y="132"/>
                  </a:lnTo>
                  <a:lnTo>
                    <a:pt x="334" y="150"/>
                  </a:lnTo>
                  <a:lnTo>
                    <a:pt x="345" y="170"/>
                  </a:lnTo>
                  <a:lnTo>
                    <a:pt x="356" y="186"/>
                  </a:lnTo>
                  <a:lnTo>
                    <a:pt x="362" y="202"/>
                  </a:lnTo>
                  <a:lnTo>
                    <a:pt x="362" y="221"/>
                  </a:lnTo>
                  <a:lnTo>
                    <a:pt x="362" y="235"/>
                  </a:lnTo>
                  <a:lnTo>
                    <a:pt x="356" y="248"/>
                  </a:lnTo>
                  <a:lnTo>
                    <a:pt x="362" y="253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20" bIns="2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2" name=""/>
            <p:cNvSpPr/>
            <p:nvPr/>
          </p:nvSpPr>
          <p:spPr>
            <a:xfrm>
              <a:off x="1306440" y="3257280"/>
              <a:ext cx="63720" cy="46080"/>
            </a:xfrm>
            <a:custGeom>
              <a:avLst/>
              <a:gdLst/>
              <a:ahLst/>
              <a:rect l="l" t="t" r="r" b="b"/>
              <a:pathLst>
                <a:path w="399" h="297">
                  <a:moveTo>
                    <a:pt x="376" y="265"/>
                  </a:moveTo>
                  <a:lnTo>
                    <a:pt x="381" y="270"/>
                  </a:lnTo>
                  <a:lnTo>
                    <a:pt x="388" y="260"/>
                  </a:lnTo>
                  <a:lnTo>
                    <a:pt x="394" y="249"/>
                  </a:lnTo>
                  <a:lnTo>
                    <a:pt x="397" y="232"/>
                  </a:lnTo>
                  <a:lnTo>
                    <a:pt x="399" y="219"/>
                  </a:lnTo>
                  <a:lnTo>
                    <a:pt x="394" y="186"/>
                  </a:lnTo>
                  <a:lnTo>
                    <a:pt x="386" y="152"/>
                  </a:lnTo>
                  <a:lnTo>
                    <a:pt x="378" y="138"/>
                  </a:lnTo>
                  <a:lnTo>
                    <a:pt x="370" y="124"/>
                  </a:lnTo>
                  <a:lnTo>
                    <a:pt x="358" y="111"/>
                  </a:lnTo>
                  <a:lnTo>
                    <a:pt x="346" y="97"/>
                  </a:lnTo>
                  <a:lnTo>
                    <a:pt x="313" y="73"/>
                  </a:lnTo>
                  <a:lnTo>
                    <a:pt x="275" y="49"/>
                  </a:lnTo>
                  <a:lnTo>
                    <a:pt x="232" y="30"/>
                  </a:lnTo>
                  <a:lnTo>
                    <a:pt x="189" y="14"/>
                  </a:lnTo>
                  <a:lnTo>
                    <a:pt x="146" y="3"/>
                  </a:lnTo>
                  <a:lnTo>
                    <a:pt x="127" y="0"/>
                  </a:lnTo>
                  <a:lnTo>
                    <a:pt x="105" y="0"/>
                  </a:lnTo>
                  <a:lnTo>
                    <a:pt x="81" y="3"/>
                  </a:lnTo>
                  <a:lnTo>
                    <a:pt x="57" y="9"/>
                  </a:lnTo>
                  <a:lnTo>
                    <a:pt x="35" y="19"/>
                  </a:lnTo>
                  <a:lnTo>
                    <a:pt x="27" y="25"/>
                  </a:lnTo>
                  <a:lnTo>
                    <a:pt x="19" y="32"/>
                  </a:lnTo>
                  <a:lnTo>
                    <a:pt x="11" y="46"/>
                  </a:lnTo>
                  <a:lnTo>
                    <a:pt x="6" y="57"/>
                  </a:lnTo>
                  <a:lnTo>
                    <a:pt x="0" y="71"/>
                  </a:lnTo>
                  <a:lnTo>
                    <a:pt x="0" y="83"/>
                  </a:lnTo>
                  <a:lnTo>
                    <a:pt x="3" y="103"/>
                  </a:lnTo>
                  <a:lnTo>
                    <a:pt x="8" y="122"/>
                  </a:lnTo>
                  <a:lnTo>
                    <a:pt x="19" y="141"/>
                  </a:lnTo>
                  <a:lnTo>
                    <a:pt x="33" y="159"/>
                  </a:lnTo>
                  <a:lnTo>
                    <a:pt x="59" y="186"/>
                  </a:lnTo>
                  <a:lnTo>
                    <a:pt x="89" y="214"/>
                  </a:lnTo>
                  <a:lnTo>
                    <a:pt x="125" y="235"/>
                  </a:lnTo>
                  <a:lnTo>
                    <a:pt x="160" y="256"/>
                  </a:lnTo>
                  <a:lnTo>
                    <a:pt x="197" y="272"/>
                  </a:lnTo>
                  <a:lnTo>
                    <a:pt x="238" y="286"/>
                  </a:lnTo>
                  <a:lnTo>
                    <a:pt x="273" y="295"/>
                  </a:lnTo>
                  <a:lnTo>
                    <a:pt x="307" y="297"/>
                  </a:lnTo>
                  <a:lnTo>
                    <a:pt x="330" y="297"/>
                  </a:lnTo>
                  <a:lnTo>
                    <a:pt x="351" y="292"/>
                  </a:lnTo>
                  <a:lnTo>
                    <a:pt x="367" y="283"/>
                  </a:lnTo>
                  <a:lnTo>
                    <a:pt x="381" y="270"/>
                  </a:lnTo>
                  <a:lnTo>
                    <a:pt x="376" y="265"/>
                  </a:lnTo>
                  <a:lnTo>
                    <a:pt x="381" y="270"/>
                  </a:lnTo>
                  <a:lnTo>
                    <a:pt x="376" y="265"/>
                  </a:lnTo>
                  <a:lnTo>
                    <a:pt x="370" y="260"/>
                  </a:lnTo>
                  <a:lnTo>
                    <a:pt x="358" y="270"/>
                  </a:lnTo>
                  <a:lnTo>
                    <a:pt x="346" y="276"/>
                  </a:lnTo>
                  <a:lnTo>
                    <a:pt x="326" y="281"/>
                  </a:lnTo>
                  <a:lnTo>
                    <a:pt x="307" y="281"/>
                  </a:lnTo>
                  <a:lnTo>
                    <a:pt x="286" y="281"/>
                  </a:lnTo>
                  <a:lnTo>
                    <a:pt x="264" y="276"/>
                  </a:lnTo>
                  <a:lnTo>
                    <a:pt x="240" y="270"/>
                  </a:lnTo>
                  <a:lnTo>
                    <a:pt x="216" y="262"/>
                  </a:lnTo>
                  <a:lnTo>
                    <a:pt x="167" y="243"/>
                  </a:lnTo>
                  <a:lnTo>
                    <a:pt x="121" y="214"/>
                  </a:lnTo>
                  <a:lnTo>
                    <a:pt x="97" y="200"/>
                  </a:lnTo>
                  <a:lnTo>
                    <a:pt x="79" y="184"/>
                  </a:lnTo>
                  <a:lnTo>
                    <a:pt x="59" y="168"/>
                  </a:lnTo>
                  <a:lnTo>
                    <a:pt x="45" y="148"/>
                  </a:lnTo>
                  <a:lnTo>
                    <a:pt x="33" y="132"/>
                  </a:lnTo>
                  <a:lnTo>
                    <a:pt x="24" y="116"/>
                  </a:lnTo>
                  <a:lnTo>
                    <a:pt x="19" y="100"/>
                  </a:lnTo>
                  <a:lnTo>
                    <a:pt x="17" y="83"/>
                  </a:lnTo>
                  <a:lnTo>
                    <a:pt x="17" y="73"/>
                  </a:lnTo>
                  <a:lnTo>
                    <a:pt x="19" y="62"/>
                  </a:lnTo>
                  <a:lnTo>
                    <a:pt x="24" y="54"/>
                  </a:lnTo>
                  <a:lnTo>
                    <a:pt x="33" y="44"/>
                  </a:lnTo>
                  <a:lnTo>
                    <a:pt x="45" y="32"/>
                  </a:lnTo>
                  <a:lnTo>
                    <a:pt x="63" y="25"/>
                  </a:lnTo>
                  <a:lnTo>
                    <a:pt x="84" y="19"/>
                  </a:lnTo>
                  <a:lnTo>
                    <a:pt x="105" y="16"/>
                  </a:lnTo>
                  <a:lnTo>
                    <a:pt x="143" y="19"/>
                  </a:lnTo>
                  <a:lnTo>
                    <a:pt x="186" y="30"/>
                  </a:lnTo>
                  <a:lnTo>
                    <a:pt x="227" y="44"/>
                  </a:lnTo>
                  <a:lnTo>
                    <a:pt x="268" y="62"/>
                  </a:lnTo>
                  <a:lnTo>
                    <a:pt x="302" y="83"/>
                  </a:lnTo>
                  <a:lnTo>
                    <a:pt x="335" y="108"/>
                  </a:lnTo>
                  <a:lnTo>
                    <a:pt x="356" y="132"/>
                  </a:lnTo>
                  <a:lnTo>
                    <a:pt x="364" y="146"/>
                  </a:lnTo>
                  <a:lnTo>
                    <a:pt x="370" y="157"/>
                  </a:lnTo>
                  <a:lnTo>
                    <a:pt x="381" y="189"/>
                  </a:lnTo>
                  <a:lnTo>
                    <a:pt x="383" y="219"/>
                  </a:lnTo>
                  <a:lnTo>
                    <a:pt x="381" y="232"/>
                  </a:lnTo>
                  <a:lnTo>
                    <a:pt x="378" y="243"/>
                  </a:lnTo>
                  <a:lnTo>
                    <a:pt x="376" y="251"/>
                  </a:lnTo>
                  <a:lnTo>
                    <a:pt x="370" y="260"/>
                  </a:lnTo>
                  <a:lnTo>
                    <a:pt x="376" y="265"/>
                  </a:lnTo>
                  <a:close/>
                </a:path>
              </a:pathLst>
            </a:custGeom>
            <a:solidFill>
              <a:srgbClr val="773f2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3" name=""/>
            <p:cNvSpPr/>
            <p:nvPr/>
          </p:nvSpPr>
          <p:spPr>
            <a:xfrm>
              <a:off x="1329120" y="2584440"/>
              <a:ext cx="1034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本节内容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4" name=""/>
            <p:cNvSpPr/>
            <p:nvPr/>
          </p:nvSpPr>
          <p:spPr>
            <a:xfrm>
              <a:off x="1335240" y="2925720"/>
              <a:ext cx="1095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0000"/>
                  </a:solidFill>
                  <a:latin typeface="Times New Roman"/>
                </a:rPr>
                <a:t>1.2.1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45" name=""/>
          <p:cNvGrpSpPr/>
          <p:nvPr/>
        </p:nvGrpSpPr>
        <p:grpSpPr>
          <a:xfrm>
            <a:off x="179280" y="133200"/>
            <a:ext cx="2476440" cy="691920"/>
            <a:chOff x="179280" y="133200"/>
            <a:chExt cx="2476440" cy="691920"/>
          </a:xfrm>
        </p:grpSpPr>
        <p:sp>
          <p:nvSpPr>
            <p:cNvPr id="1346" name=""/>
            <p:cNvSpPr/>
            <p:nvPr/>
          </p:nvSpPr>
          <p:spPr>
            <a:xfrm>
              <a:off x="179280" y="133200"/>
              <a:ext cx="2476440" cy="559440"/>
            </a:xfrm>
            <a:prstGeom prst="rect">
              <a:avLst/>
            </a:prstGeom>
            <a:gradFill rotWithShape="0">
              <a:gsLst>
                <a:gs pos="0">
                  <a:srgbClr val="b8e0be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7" name=""/>
            <p:cNvSpPr/>
            <p:nvPr/>
          </p:nvSpPr>
          <p:spPr>
            <a:xfrm>
              <a:off x="489600" y="537120"/>
              <a:ext cx="2106000" cy="15516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48" name=""/>
            <p:cNvGrpSpPr/>
            <p:nvPr/>
          </p:nvGrpSpPr>
          <p:grpSpPr>
            <a:xfrm>
              <a:off x="225720" y="174240"/>
              <a:ext cx="518400" cy="518040"/>
              <a:chOff x="225720" y="174240"/>
              <a:chExt cx="518400" cy="518040"/>
            </a:xfrm>
          </p:grpSpPr>
          <p:grpSp>
            <p:nvGrpSpPr>
              <p:cNvPr id="1349" name=""/>
              <p:cNvGrpSpPr/>
              <p:nvPr/>
            </p:nvGrpSpPr>
            <p:grpSpPr>
              <a:xfrm>
                <a:off x="260640" y="229680"/>
                <a:ext cx="483480" cy="462600"/>
                <a:chOff x="260640" y="229680"/>
                <a:chExt cx="483480" cy="46260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288360" y="229680"/>
                  <a:ext cx="416880" cy="43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66"/>
                    </a:gs>
                    <a:gs pos="100000">
                      <a:srgbClr val="ffcc00"/>
                    </a:gs>
                  </a:gsLst>
                  <a:lin ang="13500000"/>
                </a:gradFill>
                <a:ln w="1260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51" name=""/>
                <p:cNvGrpSpPr/>
                <p:nvPr/>
              </p:nvGrpSpPr>
              <p:grpSpPr>
                <a:xfrm>
                  <a:off x="260640" y="291240"/>
                  <a:ext cx="483480" cy="401040"/>
                  <a:chOff x="260640" y="291240"/>
                  <a:chExt cx="483480" cy="401040"/>
                </a:xfrm>
              </p:grpSpPr>
              <p:sp>
                <p:nvSpPr>
                  <p:cNvPr id="1352" name="未知"/>
                  <p:cNvSpPr/>
                  <p:nvPr/>
                </p:nvSpPr>
                <p:spPr>
                  <a:xfrm>
                    <a:off x="260640" y="393480"/>
                    <a:ext cx="36756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317">
                        <a:moveTo>
                          <a:pt x="0" y="0"/>
                        </a:moveTo>
                        <a:lnTo>
                          <a:pt x="817" y="227"/>
                        </a:lnTo>
                        <a:lnTo>
                          <a:pt x="1497" y="45"/>
                        </a:lnTo>
                        <a:lnTo>
                          <a:pt x="1497" y="136"/>
                        </a:lnTo>
                        <a:lnTo>
                          <a:pt x="817" y="317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100000">
                        <a:srgbClr val="ff99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3" name="未知"/>
                  <p:cNvSpPr/>
                  <p:nvPr/>
                </p:nvSpPr>
                <p:spPr>
                  <a:xfrm>
                    <a:off x="260640" y="358200"/>
                    <a:ext cx="36756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409">
                        <a:moveTo>
                          <a:pt x="0" y="182"/>
                        </a:moveTo>
                        <a:lnTo>
                          <a:pt x="817" y="409"/>
                        </a:lnTo>
                        <a:lnTo>
                          <a:pt x="1497" y="227"/>
                        </a:lnTo>
                        <a:lnTo>
                          <a:pt x="590" y="0"/>
                        </a:lnTo>
                        <a:lnTo>
                          <a:pt x="0" y="182"/>
                        </a:lnTo>
                        <a:close/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4" name="未知"/>
                  <p:cNvSpPr/>
                  <p:nvPr/>
                </p:nvSpPr>
                <p:spPr>
                  <a:xfrm>
                    <a:off x="294120" y="419400"/>
                    <a:ext cx="28980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408">
                        <a:moveTo>
                          <a:pt x="0" y="0"/>
                        </a:moveTo>
                        <a:lnTo>
                          <a:pt x="726" y="181"/>
                        </a:lnTo>
                        <a:lnTo>
                          <a:pt x="1180" y="45"/>
                        </a:lnTo>
                        <a:lnTo>
                          <a:pt x="1134" y="227"/>
                        </a:lnTo>
                        <a:lnTo>
                          <a:pt x="726" y="408"/>
                        </a:lnTo>
                        <a:lnTo>
                          <a:pt x="46" y="1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5" name="未知"/>
                  <p:cNvSpPr/>
                  <p:nvPr/>
                </p:nvSpPr>
                <p:spPr>
                  <a:xfrm>
                    <a:off x="416520" y="480600"/>
                    <a:ext cx="3348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545">
                        <a:moveTo>
                          <a:pt x="0" y="0"/>
                        </a:moveTo>
                        <a:lnTo>
                          <a:pt x="136" y="46"/>
                        </a:lnTo>
                        <a:lnTo>
                          <a:pt x="91" y="136"/>
                        </a:lnTo>
                        <a:lnTo>
                          <a:pt x="136" y="318"/>
                        </a:lnTo>
                        <a:lnTo>
                          <a:pt x="136" y="545"/>
                        </a:lnTo>
                        <a:lnTo>
                          <a:pt x="46" y="545"/>
                        </a:lnTo>
                        <a:lnTo>
                          <a:pt x="0" y="318"/>
                        </a:lnTo>
                        <a:lnTo>
                          <a:pt x="0" y="1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6" name="未知"/>
                  <p:cNvSpPr/>
                  <p:nvPr/>
                </p:nvSpPr>
                <p:spPr>
                  <a:xfrm>
                    <a:off x="406080" y="573120"/>
                    <a:ext cx="6408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58">
                        <a:moveTo>
                          <a:pt x="181" y="106"/>
                        </a:moveTo>
                        <a:cubicBezTo>
                          <a:pt x="151" y="106"/>
                          <a:pt x="106" y="121"/>
                          <a:pt x="91" y="106"/>
                        </a:cubicBezTo>
                        <a:cubicBezTo>
                          <a:pt x="76" y="91"/>
                          <a:pt x="106" y="15"/>
                          <a:pt x="91" y="15"/>
                        </a:cubicBezTo>
                        <a:cubicBezTo>
                          <a:pt x="76" y="15"/>
                          <a:pt x="0" y="83"/>
                          <a:pt x="0" y="106"/>
                        </a:cubicBezTo>
                        <a:cubicBezTo>
                          <a:pt x="0" y="129"/>
                          <a:pt x="46" y="144"/>
                          <a:pt x="91" y="151"/>
                        </a:cubicBezTo>
                        <a:cubicBezTo>
                          <a:pt x="136" y="158"/>
                          <a:pt x="227" y="158"/>
                          <a:pt x="272" y="151"/>
                        </a:cubicBezTo>
                        <a:cubicBezTo>
                          <a:pt x="317" y="144"/>
                          <a:pt x="356" y="129"/>
                          <a:pt x="363" y="106"/>
                        </a:cubicBezTo>
                        <a:cubicBezTo>
                          <a:pt x="370" y="83"/>
                          <a:pt x="340" y="30"/>
                          <a:pt x="317" y="15"/>
                        </a:cubicBezTo>
                        <a:cubicBezTo>
                          <a:pt x="294" y="0"/>
                          <a:pt x="234" y="0"/>
                          <a:pt x="227" y="15"/>
                        </a:cubicBezTo>
                        <a:cubicBezTo>
                          <a:pt x="220" y="30"/>
                          <a:pt x="280" y="91"/>
                          <a:pt x="272" y="106"/>
                        </a:cubicBezTo>
                        <a:cubicBezTo>
                          <a:pt x="264" y="121"/>
                          <a:pt x="211" y="106"/>
                          <a:pt x="181" y="10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e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7" name="未知"/>
                  <p:cNvSpPr/>
                  <p:nvPr/>
                </p:nvSpPr>
                <p:spPr>
                  <a:xfrm>
                    <a:off x="311760" y="569160"/>
                    <a:ext cx="275400" cy="12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587" h="907">
                        <a:moveTo>
                          <a:pt x="1496" y="0"/>
                        </a:moveTo>
                        <a:lnTo>
                          <a:pt x="1587" y="90"/>
                        </a:lnTo>
                        <a:lnTo>
                          <a:pt x="1496" y="181"/>
                        </a:lnTo>
                        <a:lnTo>
                          <a:pt x="907" y="499"/>
                        </a:lnTo>
                        <a:lnTo>
                          <a:pt x="1224" y="589"/>
                        </a:lnTo>
                        <a:lnTo>
                          <a:pt x="1406" y="725"/>
                        </a:lnTo>
                        <a:lnTo>
                          <a:pt x="1360" y="861"/>
                        </a:lnTo>
                        <a:lnTo>
                          <a:pt x="1270" y="907"/>
                        </a:lnTo>
                        <a:lnTo>
                          <a:pt x="1134" y="816"/>
                        </a:lnTo>
                        <a:lnTo>
                          <a:pt x="771" y="725"/>
                        </a:lnTo>
                        <a:lnTo>
                          <a:pt x="226" y="635"/>
                        </a:lnTo>
                        <a:lnTo>
                          <a:pt x="90" y="635"/>
                        </a:lnTo>
                        <a:lnTo>
                          <a:pt x="0" y="544"/>
                        </a:lnTo>
                        <a:lnTo>
                          <a:pt x="90" y="453"/>
                        </a:lnTo>
                        <a:lnTo>
                          <a:pt x="362" y="453"/>
                        </a:lnTo>
                        <a:lnTo>
                          <a:pt x="589" y="453"/>
                        </a:lnTo>
                        <a:lnTo>
                          <a:pt x="680" y="453"/>
                        </a:lnTo>
                        <a:lnTo>
                          <a:pt x="635" y="362"/>
                        </a:lnTo>
                        <a:lnTo>
                          <a:pt x="589" y="226"/>
                        </a:lnTo>
                        <a:lnTo>
                          <a:pt x="544" y="136"/>
                        </a:lnTo>
                        <a:lnTo>
                          <a:pt x="635" y="181"/>
                        </a:lnTo>
                        <a:lnTo>
                          <a:pt x="771" y="181"/>
                        </a:lnTo>
                        <a:lnTo>
                          <a:pt x="861" y="181"/>
                        </a:lnTo>
                        <a:lnTo>
                          <a:pt x="907" y="90"/>
                        </a:lnTo>
                        <a:lnTo>
                          <a:pt x="907" y="226"/>
                        </a:lnTo>
                        <a:lnTo>
                          <a:pt x="861" y="362"/>
                        </a:lnTo>
                        <a:lnTo>
                          <a:pt x="1224" y="181"/>
                        </a:lnTo>
                        <a:lnTo>
                          <a:pt x="1360" y="136"/>
                        </a:lnTo>
                        <a:lnTo>
                          <a:pt x="1406" y="45"/>
                        </a:lnTo>
                        <a:lnTo>
                          <a:pt x="149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8" name="未知"/>
                  <p:cNvSpPr/>
                  <p:nvPr/>
                </p:nvSpPr>
                <p:spPr>
                  <a:xfrm>
                    <a:off x="563760" y="488520"/>
                    <a:ext cx="1414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817" h="726">
                        <a:moveTo>
                          <a:pt x="182" y="0"/>
                        </a:moveTo>
                        <a:lnTo>
                          <a:pt x="182" y="136"/>
                        </a:lnTo>
                        <a:lnTo>
                          <a:pt x="227" y="317"/>
                        </a:lnTo>
                        <a:lnTo>
                          <a:pt x="227" y="408"/>
                        </a:lnTo>
                        <a:lnTo>
                          <a:pt x="0" y="499"/>
                        </a:lnTo>
                        <a:lnTo>
                          <a:pt x="0" y="590"/>
                        </a:lnTo>
                        <a:lnTo>
                          <a:pt x="136" y="635"/>
                        </a:lnTo>
                        <a:lnTo>
                          <a:pt x="136" y="726"/>
                        </a:lnTo>
                        <a:lnTo>
                          <a:pt x="272" y="635"/>
                        </a:lnTo>
                        <a:lnTo>
                          <a:pt x="363" y="590"/>
                        </a:lnTo>
                        <a:lnTo>
                          <a:pt x="454" y="590"/>
                        </a:lnTo>
                        <a:lnTo>
                          <a:pt x="635" y="635"/>
                        </a:lnTo>
                        <a:lnTo>
                          <a:pt x="771" y="635"/>
                        </a:lnTo>
                        <a:lnTo>
                          <a:pt x="817" y="544"/>
                        </a:lnTo>
                        <a:lnTo>
                          <a:pt x="635" y="453"/>
                        </a:lnTo>
                        <a:lnTo>
                          <a:pt x="499" y="453"/>
                        </a:lnTo>
                        <a:lnTo>
                          <a:pt x="408" y="272"/>
                        </a:lnTo>
                        <a:lnTo>
                          <a:pt x="408" y="45"/>
                        </a:lnTo>
                        <a:lnTo>
                          <a:pt x="18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9" name="未知"/>
                  <p:cNvSpPr/>
                  <p:nvPr/>
                </p:nvSpPr>
                <p:spPr>
                  <a:xfrm>
                    <a:off x="532080" y="291240"/>
                    <a:ext cx="212040" cy="20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224" h="1497">
                        <a:moveTo>
                          <a:pt x="0" y="1361"/>
                        </a:moveTo>
                        <a:lnTo>
                          <a:pt x="136" y="1316"/>
                        </a:lnTo>
                        <a:lnTo>
                          <a:pt x="635" y="1407"/>
                        </a:lnTo>
                        <a:lnTo>
                          <a:pt x="1088" y="1044"/>
                        </a:lnTo>
                        <a:lnTo>
                          <a:pt x="1043" y="227"/>
                        </a:lnTo>
                        <a:lnTo>
                          <a:pt x="317" y="136"/>
                        </a:lnTo>
                        <a:lnTo>
                          <a:pt x="317" y="46"/>
                        </a:lnTo>
                        <a:lnTo>
                          <a:pt x="453" y="0"/>
                        </a:lnTo>
                        <a:lnTo>
                          <a:pt x="1134" y="91"/>
                        </a:lnTo>
                        <a:lnTo>
                          <a:pt x="1224" y="1134"/>
                        </a:lnTo>
                        <a:lnTo>
                          <a:pt x="861" y="1407"/>
                        </a:lnTo>
                        <a:lnTo>
                          <a:pt x="680" y="1497"/>
                        </a:lnTo>
                        <a:lnTo>
                          <a:pt x="0" y="136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66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0" name="未知"/>
                  <p:cNvSpPr/>
                  <p:nvPr/>
                </p:nvSpPr>
                <p:spPr>
                  <a:xfrm>
                    <a:off x="547920" y="309600"/>
                    <a:ext cx="17280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1225">
                        <a:moveTo>
                          <a:pt x="227" y="0"/>
                        </a:moveTo>
                        <a:lnTo>
                          <a:pt x="227" y="454"/>
                        </a:lnTo>
                        <a:lnTo>
                          <a:pt x="136" y="590"/>
                        </a:lnTo>
                        <a:lnTo>
                          <a:pt x="454" y="635"/>
                        </a:lnTo>
                        <a:lnTo>
                          <a:pt x="454" y="817"/>
                        </a:lnTo>
                        <a:lnTo>
                          <a:pt x="227" y="862"/>
                        </a:lnTo>
                        <a:lnTo>
                          <a:pt x="136" y="1089"/>
                        </a:lnTo>
                        <a:lnTo>
                          <a:pt x="0" y="1180"/>
                        </a:lnTo>
                        <a:lnTo>
                          <a:pt x="545" y="1225"/>
                        </a:lnTo>
                        <a:lnTo>
                          <a:pt x="998" y="908"/>
                        </a:lnTo>
                        <a:lnTo>
                          <a:pt x="953" y="9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61" name=""/>
              <p:cNvGrpSpPr/>
              <p:nvPr/>
            </p:nvGrpSpPr>
            <p:grpSpPr>
              <a:xfrm>
                <a:off x="225720" y="174240"/>
                <a:ext cx="243720" cy="147960"/>
                <a:chOff x="225720" y="174240"/>
                <a:chExt cx="243720" cy="147960"/>
              </a:xfrm>
            </p:grpSpPr>
            <p:sp>
              <p:nvSpPr>
                <p:cNvPr id="1362" name="未知"/>
                <p:cNvSpPr/>
                <p:nvPr/>
              </p:nvSpPr>
              <p:spPr>
                <a:xfrm>
                  <a:off x="225720" y="235800"/>
                  <a:ext cx="141480" cy="86400"/>
                </a:xfrm>
                <a:custGeom>
                  <a:avLst/>
                  <a:gdLst/>
                  <a:ahLst/>
                  <a:rect l="l" t="t" r="r" b="b"/>
                  <a:pathLst>
                    <a:path w="816" h="635">
                      <a:moveTo>
                        <a:pt x="816" y="499"/>
                      </a:moveTo>
                      <a:lnTo>
                        <a:pt x="635" y="635"/>
                      </a:lnTo>
                      <a:lnTo>
                        <a:pt x="45" y="136"/>
                      </a:lnTo>
                      <a:lnTo>
                        <a:pt x="0" y="0"/>
                      </a:lnTo>
                      <a:lnTo>
                        <a:pt x="816" y="49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99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3" name="未知"/>
                <p:cNvSpPr/>
                <p:nvPr/>
              </p:nvSpPr>
              <p:spPr>
                <a:xfrm>
                  <a:off x="296280" y="174240"/>
                  <a:ext cx="117720" cy="123480"/>
                </a:xfrm>
                <a:custGeom>
                  <a:avLst/>
                  <a:gdLst/>
                  <a:ahLst/>
                  <a:rect l="l" t="t" r="r" b="b"/>
                  <a:pathLst>
                    <a:path w="680" h="907">
                      <a:moveTo>
                        <a:pt x="453" y="907"/>
                      </a:moveTo>
                      <a:lnTo>
                        <a:pt x="680" y="771"/>
                      </a:lnTo>
                      <a:lnTo>
                        <a:pt x="0" y="0"/>
                      </a:lnTo>
                      <a:lnTo>
                        <a:pt x="0" y="136"/>
                      </a:lnTo>
                      <a:lnTo>
                        <a:pt x="453" y="90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8a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4" name="未知"/>
                <p:cNvSpPr/>
                <p:nvPr/>
              </p:nvSpPr>
              <p:spPr>
                <a:xfrm>
                  <a:off x="398880" y="192600"/>
                  <a:ext cx="70560" cy="73800"/>
                </a:xfrm>
                <a:custGeom>
                  <a:avLst/>
                  <a:gdLst/>
                  <a:ahLst/>
                  <a:rect l="l" t="t" r="r" b="b"/>
                  <a:pathLst>
                    <a:path w="408" h="544">
                      <a:moveTo>
                        <a:pt x="226" y="544"/>
                      </a:moveTo>
                      <a:lnTo>
                        <a:pt x="408" y="499"/>
                      </a:lnTo>
                      <a:lnTo>
                        <a:pt x="90" y="0"/>
                      </a:lnTo>
                      <a:lnTo>
                        <a:pt x="0" y="90"/>
                      </a:lnTo>
                      <a:lnTo>
                        <a:pt x="226" y="5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35ad3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65" name=""/>
            <p:cNvSpPr txBox="1"/>
            <p:nvPr/>
          </p:nvSpPr>
          <p:spPr>
            <a:xfrm>
              <a:off x="785160" y="175320"/>
              <a:ext cx="1820520" cy="362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6000" spc="-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黑体"/>
                </a:rPr>
                <a:t>课时训练</a:t>
              </a:r>
              <a:endParaRPr b="1" i="1" lang="en-US" sz="60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1366" name=""/>
            <p:cNvSpPr/>
            <p:nvPr/>
          </p:nvSpPr>
          <p:spPr>
            <a:xfrm>
              <a:off x="1202400" y="457920"/>
              <a:ext cx="85536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67" name=""/>
          <p:cNvSpPr/>
          <p:nvPr/>
        </p:nvSpPr>
        <p:spPr>
          <a:xfrm>
            <a:off x="1330560" y="765000"/>
            <a:ext cx="642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、在方程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2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+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=5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中，用含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的代数式表示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是</a:t>
            </a:r>
            <a:r>
              <a:rPr b="1" lang="zh-CN" sz="2800" spc="-1" strike="noStrike" u="sng">
                <a:solidFill>
                  <a:srgbClr val="000066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8" name=""/>
          <p:cNvSpPr/>
          <p:nvPr/>
        </p:nvSpPr>
        <p:spPr>
          <a:xfrm>
            <a:off x="1441080" y="1628640"/>
            <a:ext cx="66060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、已知方程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2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-3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-4=0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，用含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的代数式表示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=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用含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的代数式表示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=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9" name=""/>
          <p:cNvSpPr/>
          <p:nvPr/>
        </p:nvSpPr>
        <p:spPr>
          <a:xfrm>
            <a:off x="7381440" y="692280"/>
            <a:ext cx="1215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y=5-2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70" name=""/>
          <p:cNvGrpSpPr/>
          <p:nvPr/>
        </p:nvGrpSpPr>
        <p:grpSpPr>
          <a:xfrm>
            <a:off x="7667640" y="1125360"/>
            <a:ext cx="863640" cy="1025280"/>
            <a:chOff x="7667640" y="1125360"/>
            <a:chExt cx="863640" cy="1025280"/>
          </a:xfrm>
        </p:grpSpPr>
        <p:sp>
          <p:nvSpPr>
            <p:cNvPr id="1371" name=""/>
            <p:cNvSpPr/>
            <p:nvPr/>
          </p:nvSpPr>
          <p:spPr>
            <a:xfrm>
              <a:off x="7667640" y="1630080"/>
              <a:ext cx="863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2" name=""/>
            <p:cNvSpPr/>
            <p:nvPr/>
          </p:nvSpPr>
          <p:spPr>
            <a:xfrm>
              <a:off x="7668720" y="1125360"/>
              <a:ext cx="834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2x-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3" name=""/>
            <p:cNvSpPr/>
            <p:nvPr/>
          </p:nvSpPr>
          <p:spPr>
            <a:xfrm>
              <a:off x="7956360" y="1630080"/>
              <a:ext cx="358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0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74" name=""/>
          <p:cNvGrpSpPr/>
          <p:nvPr/>
        </p:nvGrpSpPr>
        <p:grpSpPr>
          <a:xfrm>
            <a:off x="3944880" y="1916280"/>
            <a:ext cx="867960" cy="850320"/>
            <a:chOff x="3944880" y="1916280"/>
            <a:chExt cx="867960" cy="850320"/>
          </a:xfrm>
        </p:grpSpPr>
        <p:sp>
          <p:nvSpPr>
            <p:cNvPr id="1375" name=""/>
            <p:cNvSpPr/>
            <p:nvPr/>
          </p:nvSpPr>
          <p:spPr>
            <a:xfrm>
              <a:off x="3944880" y="2370240"/>
              <a:ext cx="863640" cy="0"/>
            </a:xfrm>
            <a:prstGeom prst="line">
              <a:avLst/>
            </a:prstGeom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6" name=""/>
            <p:cNvSpPr/>
            <p:nvPr/>
          </p:nvSpPr>
          <p:spPr>
            <a:xfrm>
              <a:off x="3944880" y="1916280"/>
              <a:ext cx="8679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3y+4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7" name=""/>
            <p:cNvSpPr/>
            <p:nvPr/>
          </p:nvSpPr>
          <p:spPr>
            <a:xfrm>
              <a:off x="4233240" y="2276640"/>
              <a:ext cx="34668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9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600" spc="-1" strike="noStrike">
                  <a:solidFill>
                    <a:srgbClr val="ff0000"/>
                  </a:solidFill>
                  <a:latin typeface="Times New Roman"/>
                </a:rPr>
                <a:t>2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8" name=""/>
          <p:cNvSpPr/>
          <p:nvPr/>
        </p:nvSpPr>
        <p:spPr>
          <a:xfrm>
            <a:off x="395280" y="2852640"/>
            <a:ext cx="8280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、若方程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=1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-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解也是方程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＋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=5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的解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则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=____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，   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=____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9" name=""/>
          <p:cNvSpPr/>
          <p:nvPr/>
        </p:nvSpPr>
        <p:spPr>
          <a:xfrm>
            <a:off x="1404360" y="328464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0" name=""/>
          <p:cNvSpPr/>
          <p:nvPr/>
        </p:nvSpPr>
        <p:spPr>
          <a:xfrm>
            <a:off x="3060000" y="328464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1" name=""/>
          <p:cNvSpPr/>
          <p:nvPr/>
        </p:nvSpPr>
        <p:spPr>
          <a:xfrm>
            <a:off x="179280" y="4005360"/>
            <a:ext cx="8964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、已知二元一次方程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3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＋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4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=6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，当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i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、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互为相反数时，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=_____</a:t>
            </a:r>
            <a:r>
              <a:rPr b="1" i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，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=______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；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当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i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、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相等时，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i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、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= _______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2" name=""/>
          <p:cNvSpPr/>
          <p:nvPr/>
        </p:nvSpPr>
        <p:spPr>
          <a:xfrm>
            <a:off x="2485440" y="4365720"/>
            <a:ext cx="384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3" name=""/>
          <p:cNvSpPr/>
          <p:nvPr/>
        </p:nvSpPr>
        <p:spPr>
          <a:xfrm>
            <a:off x="900720" y="443880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84" name=""/>
          <p:cNvGrpSpPr/>
          <p:nvPr/>
        </p:nvGrpSpPr>
        <p:grpSpPr>
          <a:xfrm>
            <a:off x="7381440" y="4221000"/>
            <a:ext cx="384840" cy="1014840"/>
            <a:chOff x="7381440" y="4221000"/>
            <a:chExt cx="384840" cy="1014840"/>
          </a:xfrm>
        </p:grpSpPr>
        <p:sp>
          <p:nvSpPr>
            <p:cNvPr id="1385" name=""/>
            <p:cNvSpPr/>
            <p:nvPr/>
          </p:nvSpPr>
          <p:spPr>
            <a:xfrm>
              <a:off x="7451640" y="4725720"/>
              <a:ext cx="289080" cy="0"/>
            </a:xfrm>
            <a:prstGeom prst="line">
              <a:avLst/>
            </a:prstGeom>
            <a:ln w="3168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6" name=""/>
            <p:cNvSpPr/>
            <p:nvPr/>
          </p:nvSpPr>
          <p:spPr>
            <a:xfrm>
              <a:off x="7381440" y="422100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6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7" name=""/>
            <p:cNvSpPr/>
            <p:nvPr/>
          </p:nvSpPr>
          <p:spPr>
            <a:xfrm>
              <a:off x="7381440" y="4654440"/>
              <a:ext cx="38484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ff0000"/>
                  </a:solidFill>
                  <a:latin typeface="Times New Roman"/>
                </a:rPr>
                <a:t>7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88" name=""/>
          <p:cNvSpPr/>
          <p:nvPr/>
        </p:nvSpPr>
        <p:spPr>
          <a:xfrm>
            <a:off x="250920" y="5300640"/>
            <a:ext cx="849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5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、如果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(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+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+4)</a:t>
            </a:r>
            <a:r>
              <a:rPr b="1" lang="en-US" sz="2800" spc="-1" strike="noStrike" baseline="30000">
                <a:solidFill>
                  <a:srgbClr val="000099"/>
                </a:solidFill>
                <a:latin typeface="Times New Roman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＋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3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－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y 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︱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=0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那么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=___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，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=___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。</a:t>
            </a:r>
            <a:r>
              <a:rPr b="0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9" name=""/>
          <p:cNvSpPr/>
          <p:nvPr/>
        </p:nvSpPr>
        <p:spPr>
          <a:xfrm>
            <a:off x="7597080" y="530064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0" name=""/>
          <p:cNvSpPr/>
          <p:nvPr/>
        </p:nvSpPr>
        <p:spPr>
          <a:xfrm>
            <a:off x="6373080" y="5229360"/>
            <a:ext cx="520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-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3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13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1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fill="hold">
                      <p:stCondLst>
                        <p:cond delay="indefinite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1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8" dur="1000"/>
                                        <p:tgtEl>
                                          <p:spTgt spid="1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1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000" fill="hold"/>
                                        <p:tgtEl>
                                          <p:spTgt spid="13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1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1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3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3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9" dur="500" fill="hold"/>
                                        <p:tgtEl>
                                          <p:spTgt spid="1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3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91" name=""/>
          <p:cNvGrpSpPr/>
          <p:nvPr/>
        </p:nvGrpSpPr>
        <p:grpSpPr>
          <a:xfrm>
            <a:off x="4716360" y="765000"/>
            <a:ext cx="3246480" cy="1008000"/>
            <a:chOff x="4716360" y="765000"/>
            <a:chExt cx="3246480" cy="1008000"/>
          </a:xfrm>
        </p:grpSpPr>
        <p:sp>
          <p:nvSpPr>
            <p:cNvPr id="1392" name=""/>
            <p:cNvSpPr/>
            <p:nvPr/>
          </p:nvSpPr>
          <p:spPr>
            <a:xfrm>
              <a:off x="5445000" y="765000"/>
              <a:ext cx="2517840" cy="1008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2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 + 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y 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= 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3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x 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+ 2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y</a:t>
              </a:r>
              <a:r>
                <a:rPr b="1" lang="en-US" sz="20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-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5 = 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3" name=""/>
            <p:cNvSpPr/>
            <p:nvPr/>
          </p:nvSpPr>
          <p:spPr>
            <a:xfrm>
              <a:off x="4716360" y="1009440"/>
              <a:ext cx="674640" cy="504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(2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4" name=""/>
            <p:cNvSpPr/>
            <p:nvPr/>
          </p:nvSpPr>
          <p:spPr>
            <a:xfrm>
              <a:off x="5302080" y="1052280"/>
              <a:ext cx="144360" cy="51444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3320 h 514440"/>
                <a:gd name="textAreaBottom" fmla="*/ 501120 h 514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3492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95" name=""/>
          <p:cNvGrpSpPr/>
          <p:nvPr/>
        </p:nvGrpSpPr>
        <p:grpSpPr>
          <a:xfrm>
            <a:off x="468360" y="765000"/>
            <a:ext cx="3389400" cy="935280"/>
            <a:chOff x="468360" y="765000"/>
            <a:chExt cx="3389400" cy="935280"/>
          </a:xfrm>
        </p:grpSpPr>
        <p:sp>
          <p:nvSpPr>
            <p:cNvPr id="1396" name=""/>
            <p:cNvSpPr/>
            <p:nvPr/>
          </p:nvSpPr>
          <p:spPr>
            <a:xfrm>
              <a:off x="1220760" y="1014480"/>
              <a:ext cx="144360" cy="54936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4040 h 549360"/>
                <a:gd name="textAreaBottom" fmla="*/ 535320 h 549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7" name=""/>
            <p:cNvSpPr/>
            <p:nvPr/>
          </p:nvSpPr>
          <p:spPr>
            <a:xfrm>
              <a:off x="1332000" y="765000"/>
              <a:ext cx="2525760" cy="9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x 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= 2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y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2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x 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+ 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y 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=10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8" name=""/>
            <p:cNvSpPr/>
            <p:nvPr/>
          </p:nvSpPr>
          <p:spPr>
            <a:xfrm>
              <a:off x="468360" y="1052640"/>
              <a:ext cx="658800" cy="576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  <a:ea typeface="Times New Roman"/>
                </a:rPr>
                <a:t>(1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99" name=""/>
          <p:cNvSpPr/>
          <p:nvPr/>
        </p:nvSpPr>
        <p:spPr>
          <a:xfrm>
            <a:off x="611280" y="4581360"/>
            <a:ext cx="799308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思考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你认为具有什么特征的方程用代入法比较方便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0" name=""/>
          <p:cNvSpPr/>
          <p:nvPr/>
        </p:nvSpPr>
        <p:spPr>
          <a:xfrm>
            <a:off x="611280" y="580536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用含哪个未知数的代数式表示另一个未知数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1" name=""/>
          <p:cNvSpPr/>
          <p:nvPr/>
        </p:nvSpPr>
        <p:spPr>
          <a:xfrm>
            <a:off x="1908000" y="189000"/>
            <a:ext cx="4896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6.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用代入法解下列方程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02" name=""/>
          <p:cNvGrpSpPr/>
          <p:nvPr/>
        </p:nvGrpSpPr>
        <p:grpSpPr>
          <a:xfrm>
            <a:off x="324000" y="2852640"/>
            <a:ext cx="2832120" cy="1025280"/>
            <a:chOff x="324000" y="2852640"/>
            <a:chExt cx="2832120" cy="1025280"/>
          </a:xfrm>
        </p:grpSpPr>
        <p:sp>
          <p:nvSpPr>
            <p:cNvPr id="1403" name=""/>
            <p:cNvSpPr/>
            <p:nvPr/>
          </p:nvSpPr>
          <p:spPr>
            <a:xfrm>
              <a:off x="1336680" y="3141360"/>
              <a:ext cx="73080" cy="574920"/>
            </a:xfrm>
            <a:custGeom>
              <a:avLst/>
              <a:gdLst>
                <a:gd name="textAreaLeft" fmla="*/ 46800 w 73080"/>
                <a:gd name="textAreaRight" fmla="*/ 73440 w 73080"/>
                <a:gd name="textAreaTop" fmla="*/ 14760 h 574920"/>
                <a:gd name="textAreaBottom" fmla="*/ 560160 h 5749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4" name=""/>
            <p:cNvSpPr/>
            <p:nvPr/>
          </p:nvSpPr>
          <p:spPr>
            <a:xfrm>
              <a:off x="1403280" y="2852640"/>
              <a:ext cx="17528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+3=2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5" name=""/>
            <p:cNvSpPr/>
            <p:nvPr/>
          </p:nvSpPr>
          <p:spPr>
            <a:xfrm>
              <a:off x="1332000" y="3357360"/>
              <a:ext cx="17524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+2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=8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6" name=""/>
            <p:cNvSpPr/>
            <p:nvPr/>
          </p:nvSpPr>
          <p:spPr>
            <a:xfrm>
              <a:off x="324000" y="3141360"/>
              <a:ext cx="1224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Arial"/>
                </a:rPr>
                <a:t>（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3</a:t>
              </a:r>
              <a:r>
                <a:rPr b="1" lang="zh-CN" sz="2800" spc="-1" strike="noStrike">
                  <a:solidFill>
                    <a:srgbClr val="000066"/>
                  </a:solidFill>
                  <a:latin typeface="Arial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7" name=""/>
          <p:cNvGrpSpPr/>
          <p:nvPr/>
        </p:nvGrpSpPr>
        <p:grpSpPr>
          <a:xfrm>
            <a:off x="4356000" y="2637000"/>
            <a:ext cx="3099960" cy="1096560"/>
            <a:chOff x="4356000" y="2637000"/>
            <a:chExt cx="3099960" cy="1096560"/>
          </a:xfrm>
        </p:grpSpPr>
        <p:sp>
          <p:nvSpPr>
            <p:cNvPr id="1408" name=""/>
            <p:cNvSpPr/>
            <p:nvPr/>
          </p:nvSpPr>
          <p:spPr>
            <a:xfrm>
              <a:off x="5368680" y="2968560"/>
              <a:ext cx="72720" cy="575640"/>
            </a:xfrm>
            <a:custGeom>
              <a:avLst/>
              <a:gdLst>
                <a:gd name="textAreaLeft" fmla="*/ 46440 w 72720"/>
                <a:gd name="textAreaRight" fmla="*/ 73080 w 72720"/>
                <a:gd name="textAreaTop" fmla="*/ 14760 h 575640"/>
                <a:gd name="textAreaBottom" fmla="*/ 560880 h 575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9" name=""/>
            <p:cNvSpPr/>
            <p:nvPr/>
          </p:nvSpPr>
          <p:spPr>
            <a:xfrm>
              <a:off x="5368680" y="3213000"/>
              <a:ext cx="20872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m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+3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n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=1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0" name=""/>
            <p:cNvSpPr/>
            <p:nvPr/>
          </p:nvSpPr>
          <p:spPr>
            <a:xfrm>
              <a:off x="4356000" y="2997000"/>
              <a:ext cx="1366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Arial"/>
                </a:rPr>
                <a:t>（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4</a:t>
              </a:r>
              <a:r>
                <a:rPr b="1" lang="zh-CN" sz="2800" spc="-1" strike="noStrike">
                  <a:solidFill>
                    <a:srgbClr val="000066"/>
                  </a:solidFill>
                  <a:latin typeface="Arial"/>
                </a:rPr>
                <a:t>）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11" name=""/>
            <p:cNvGrpSpPr/>
            <p:nvPr/>
          </p:nvGrpSpPr>
          <p:grpSpPr>
            <a:xfrm>
              <a:off x="5427720" y="2637000"/>
              <a:ext cx="1492920" cy="744120"/>
              <a:chOff x="5427720" y="2637000"/>
              <a:chExt cx="1492920" cy="744120"/>
            </a:xfrm>
          </p:grpSpPr>
          <p:grpSp>
            <p:nvGrpSpPr>
              <p:cNvPr id="1412" name=""/>
              <p:cNvGrpSpPr/>
              <p:nvPr/>
            </p:nvGrpSpPr>
            <p:grpSpPr>
              <a:xfrm>
                <a:off x="6018480" y="2637000"/>
                <a:ext cx="390240" cy="744120"/>
                <a:chOff x="6018480" y="2637000"/>
                <a:chExt cx="390240" cy="744120"/>
              </a:xfrm>
            </p:grpSpPr>
            <p:sp>
              <p:nvSpPr>
                <p:cNvPr id="1413" name=""/>
                <p:cNvSpPr/>
                <p:nvPr/>
              </p:nvSpPr>
              <p:spPr>
                <a:xfrm>
                  <a:off x="6030000" y="2637000"/>
                  <a:ext cx="378720" cy="43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i="1" lang="en-US" sz="2800" spc="-1" strike="noStrike">
                      <a:solidFill>
                        <a:srgbClr val="000066"/>
                      </a:solidFill>
                      <a:latin typeface="Times New Roman"/>
                    </a:rPr>
                    <a:t>n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4" name=""/>
                <p:cNvSpPr/>
                <p:nvPr/>
              </p:nvSpPr>
              <p:spPr>
                <a:xfrm>
                  <a:off x="6018480" y="2970360"/>
                  <a:ext cx="346680" cy="41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00066"/>
                      </a:solidFill>
                      <a:latin typeface="Times New Roman"/>
                    </a:rPr>
                    <a:t>2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5" name=""/>
                <p:cNvSpPr/>
                <p:nvPr/>
              </p:nvSpPr>
              <p:spPr>
                <a:xfrm>
                  <a:off x="6050520" y="3013200"/>
                  <a:ext cx="286920" cy="0"/>
                </a:xfrm>
                <a:prstGeom prst="line">
                  <a:avLst/>
                </a:prstGeom>
                <a:ln w="2556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416" name=""/>
              <p:cNvSpPr/>
              <p:nvPr/>
            </p:nvSpPr>
            <p:spPr>
              <a:xfrm>
                <a:off x="5427720" y="2751120"/>
                <a:ext cx="1492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m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黑体"/>
                    <a:ea typeface="黑体"/>
                  </a:rPr>
                  <a:t>-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     =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17" name=""/>
          <p:cNvGrpSpPr/>
          <p:nvPr/>
        </p:nvGrpSpPr>
        <p:grpSpPr>
          <a:xfrm>
            <a:off x="1332000" y="1700280"/>
            <a:ext cx="1152360" cy="947160"/>
            <a:chOff x="1332000" y="1700280"/>
            <a:chExt cx="1152360" cy="947160"/>
          </a:xfrm>
        </p:grpSpPr>
        <p:sp>
          <p:nvSpPr>
            <p:cNvPr id="1418" name=""/>
            <p:cNvSpPr/>
            <p:nvPr/>
          </p:nvSpPr>
          <p:spPr>
            <a:xfrm>
              <a:off x="1411200" y="1700280"/>
              <a:ext cx="1073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=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=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9" name=""/>
            <p:cNvSpPr/>
            <p:nvPr/>
          </p:nvSpPr>
          <p:spPr>
            <a:xfrm>
              <a:off x="1332000" y="1985760"/>
              <a:ext cx="144360" cy="50472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2960 h 504720"/>
                <a:gd name="textAreaBottom" fmla="*/ 49176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0" name=""/>
          <p:cNvGrpSpPr/>
          <p:nvPr/>
        </p:nvGrpSpPr>
        <p:grpSpPr>
          <a:xfrm>
            <a:off x="5796000" y="1773360"/>
            <a:ext cx="1152360" cy="947160"/>
            <a:chOff x="5796000" y="1773360"/>
            <a:chExt cx="1152360" cy="947160"/>
          </a:xfrm>
        </p:grpSpPr>
        <p:sp>
          <p:nvSpPr>
            <p:cNvPr id="1421" name=""/>
            <p:cNvSpPr/>
            <p:nvPr/>
          </p:nvSpPr>
          <p:spPr>
            <a:xfrm>
              <a:off x="5875200" y="1773360"/>
              <a:ext cx="1073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=-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=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2" name=""/>
            <p:cNvSpPr/>
            <p:nvPr/>
          </p:nvSpPr>
          <p:spPr>
            <a:xfrm>
              <a:off x="5796000" y="2058840"/>
              <a:ext cx="144360" cy="50472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2960 h 504720"/>
                <a:gd name="textAreaBottom" fmla="*/ 49176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3" name=""/>
          <p:cNvGrpSpPr/>
          <p:nvPr/>
        </p:nvGrpSpPr>
        <p:grpSpPr>
          <a:xfrm>
            <a:off x="2340000" y="3716280"/>
            <a:ext cx="1152360" cy="947160"/>
            <a:chOff x="2340000" y="3716280"/>
            <a:chExt cx="1152360" cy="947160"/>
          </a:xfrm>
        </p:grpSpPr>
        <p:sp>
          <p:nvSpPr>
            <p:cNvPr id="1424" name=""/>
            <p:cNvSpPr/>
            <p:nvPr/>
          </p:nvSpPr>
          <p:spPr>
            <a:xfrm>
              <a:off x="2419200" y="3716280"/>
              <a:ext cx="1073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=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=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5" name=""/>
            <p:cNvSpPr/>
            <p:nvPr/>
          </p:nvSpPr>
          <p:spPr>
            <a:xfrm>
              <a:off x="2340000" y="4001760"/>
              <a:ext cx="144360" cy="50472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2960 h 504720"/>
                <a:gd name="textAreaBottom" fmla="*/ 49176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26" name=""/>
          <p:cNvGrpSpPr/>
          <p:nvPr/>
        </p:nvGrpSpPr>
        <p:grpSpPr>
          <a:xfrm>
            <a:off x="5651640" y="3716280"/>
            <a:ext cx="1152360" cy="947160"/>
            <a:chOff x="5651640" y="3716280"/>
            <a:chExt cx="1152360" cy="947160"/>
          </a:xfrm>
        </p:grpSpPr>
        <p:sp>
          <p:nvSpPr>
            <p:cNvPr id="1427" name=""/>
            <p:cNvSpPr/>
            <p:nvPr/>
          </p:nvSpPr>
          <p:spPr>
            <a:xfrm>
              <a:off x="5730840" y="3716280"/>
              <a:ext cx="1073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m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=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n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=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5651640" y="4001760"/>
              <a:ext cx="144360" cy="50472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2960 h 504720"/>
                <a:gd name="textAreaBottom" fmla="*/ 49176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25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9" name=""/>
          <p:cNvSpPr/>
          <p:nvPr/>
        </p:nvSpPr>
        <p:spPr>
          <a:xfrm>
            <a:off x="5152680" y="281160"/>
            <a:ext cx="627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黑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、你会解下列各方程组吗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0" name=""/>
          <p:cNvGrpSpPr/>
          <p:nvPr/>
        </p:nvGrpSpPr>
        <p:grpSpPr>
          <a:xfrm>
            <a:off x="179280" y="260280"/>
            <a:ext cx="2476440" cy="691920"/>
            <a:chOff x="179280" y="260280"/>
            <a:chExt cx="2476440" cy="691920"/>
          </a:xfrm>
        </p:grpSpPr>
        <p:sp>
          <p:nvSpPr>
            <p:cNvPr id="1431" name=""/>
            <p:cNvSpPr/>
            <p:nvPr/>
          </p:nvSpPr>
          <p:spPr>
            <a:xfrm>
              <a:off x="179280" y="260280"/>
              <a:ext cx="2476440" cy="559440"/>
            </a:xfrm>
            <a:prstGeom prst="rect">
              <a:avLst/>
            </a:prstGeom>
            <a:gradFill rotWithShape="0">
              <a:gsLst>
                <a:gs pos="0">
                  <a:srgbClr val="b8e0be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2" name=""/>
            <p:cNvSpPr/>
            <p:nvPr/>
          </p:nvSpPr>
          <p:spPr>
            <a:xfrm>
              <a:off x="489600" y="664200"/>
              <a:ext cx="2106000" cy="15516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33" name=""/>
            <p:cNvGrpSpPr/>
            <p:nvPr/>
          </p:nvGrpSpPr>
          <p:grpSpPr>
            <a:xfrm>
              <a:off x="225720" y="301320"/>
              <a:ext cx="518400" cy="518040"/>
              <a:chOff x="225720" y="301320"/>
              <a:chExt cx="518400" cy="518040"/>
            </a:xfrm>
          </p:grpSpPr>
          <p:grpSp>
            <p:nvGrpSpPr>
              <p:cNvPr id="1434" name=""/>
              <p:cNvGrpSpPr/>
              <p:nvPr/>
            </p:nvGrpSpPr>
            <p:grpSpPr>
              <a:xfrm>
                <a:off x="260640" y="356760"/>
                <a:ext cx="483480" cy="462600"/>
                <a:chOff x="260640" y="356760"/>
                <a:chExt cx="483480" cy="462600"/>
              </a:xfrm>
            </p:grpSpPr>
            <p:sp>
              <p:nvSpPr>
                <p:cNvPr id="1435" name=""/>
                <p:cNvSpPr/>
                <p:nvPr/>
              </p:nvSpPr>
              <p:spPr>
                <a:xfrm>
                  <a:off x="288360" y="356760"/>
                  <a:ext cx="416880" cy="43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66"/>
                    </a:gs>
                    <a:gs pos="100000">
                      <a:srgbClr val="ffcc00"/>
                    </a:gs>
                  </a:gsLst>
                  <a:lin ang="13500000"/>
                </a:gradFill>
                <a:ln w="1260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436" name=""/>
                <p:cNvGrpSpPr/>
                <p:nvPr/>
              </p:nvGrpSpPr>
              <p:grpSpPr>
                <a:xfrm>
                  <a:off x="260640" y="418320"/>
                  <a:ext cx="483480" cy="401040"/>
                  <a:chOff x="260640" y="418320"/>
                  <a:chExt cx="483480" cy="401040"/>
                </a:xfrm>
              </p:grpSpPr>
              <p:sp>
                <p:nvSpPr>
                  <p:cNvPr id="1437" name="未知"/>
                  <p:cNvSpPr/>
                  <p:nvPr/>
                </p:nvSpPr>
                <p:spPr>
                  <a:xfrm>
                    <a:off x="260640" y="520560"/>
                    <a:ext cx="36756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317">
                        <a:moveTo>
                          <a:pt x="0" y="0"/>
                        </a:moveTo>
                        <a:lnTo>
                          <a:pt x="817" y="227"/>
                        </a:lnTo>
                        <a:lnTo>
                          <a:pt x="1497" y="45"/>
                        </a:lnTo>
                        <a:lnTo>
                          <a:pt x="1497" y="136"/>
                        </a:lnTo>
                        <a:lnTo>
                          <a:pt x="817" y="317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100000">
                        <a:srgbClr val="ff99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8" name="未知"/>
                  <p:cNvSpPr/>
                  <p:nvPr/>
                </p:nvSpPr>
                <p:spPr>
                  <a:xfrm>
                    <a:off x="260640" y="485280"/>
                    <a:ext cx="36756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409">
                        <a:moveTo>
                          <a:pt x="0" y="182"/>
                        </a:moveTo>
                        <a:lnTo>
                          <a:pt x="817" y="409"/>
                        </a:lnTo>
                        <a:lnTo>
                          <a:pt x="1497" y="227"/>
                        </a:lnTo>
                        <a:lnTo>
                          <a:pt x="590" y="0"/>
                        </a:lnTo>
                        <a:lnTo>
                          <a:pt x="0" y="182"/>
                        </a:lnTo>
                        <a:close/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9" name="未知"/>
                  <p:cNvSpPr/>
                  <p:nvPr/>
                </p:nvSpPr>
                <p:spPr>
                  <a:xfrm>
                    <a:off x="294120" y="546480"/>
                    <a:ext cx="28980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408">
                        <a:moveTo>
                          <a:pt x="0" y="0"/>
                        </a:moveTo>
                        <a:lnTo>
                          <a:pt x="726" y="181"/>
                        </a:lnTo>
                        <a:lnTo>
                          <a:pt x="1180" y="45"/>
                        </a:lnTo>
                        <a:lnTo>
                          <a:pt x="1134" y="227"/>
                        </a:lnTo>
                        <a:lnTo>
                          <a:pt x="726" y="408"/>
                        </a:lnTo>
                        <a:lnTo>
                          <a:pt x="46" y="1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0" name="未知"/>
                  <p:cNvSpPr/>
                  <p:nvPr/>
                </p:nvSpPr>
                <p:spPr>
                  <a:xfrm>
                    <a:off x="416520" y="607680"/>
                    <a:ext cx="3348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545">
                        <a:moveTo>
                          <a:pt x="0" y="0"/>
                        </a:moveTo>
                        <a:lnTo>
                          <a:pt x="136" y="46"/>
                        </a:lnTo>
                        <a:lnTo>
                          <a:pt x="91" y="136"/>
                        </a:lnTo>
                        <a:lnTo>
                          <a:pt x="136" y="318"/>
                        </a:lnTo>
                        <a:lnTo>
                          <a:pt x="136" y="545"/>
                        </a:lnTo>
                        <a:lnTo>
                          <a:pt x="46" y="545"/>
                        </a:lnTo>
                        <a:lnTo>
                          <a:pt x="0" y="318"/>
                        </a:lnTo>
                        <a:lnTo>
                          <a:pt x="0" y="1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1" name="未知"/>
                  <p:cNvSpPr/>
                  <p:nvPr/>
                </p:nvSpPr>
                <p:spPr>
                  <a:xfrm>
                    <a:off x="406080" y="700200"/>
                    <a:ext cx="6408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58">
                        <a:moveTo>
                          <a:pt x="181" y="106"/>
                        </a:moveTo>
                        <a:cubicBezTo>
                          <a:pt x="151" y="106"/>
                          <a:pt x="106" y="121"/>
                          <a:pt x="91" y="106"/>
                        </a:cubicBezTo>
                        <a:cubicBezTo>
                          <a:pt x="76" y="91"/>
                          <a:pt x="106" y="15"/>
                          <a:pt x="91" y="15"/>
                        </a:cubicBezTo>
                        <a:cubicBezTo>
                          <a:pt x="76" y="15"/>
                          <a:pt x="0" y="83"/>
                          <a:pt x="0" y="106"/>
                        </a:cubicBezTo>
                        <a:cubicBezTo>
                          <a:pt x="0" y="129"/>
                          <a:pt x="46" y="144"/>
                          <a:pt x="91" y="151"/>
                        </a:cubicBezTo>
                        <a:cubicBezTo>
                          <a:pt x="136" y="158"/>
                          <a:pt x="227" y="158"/>
                          <a:pt x="272" y="151"/>
                        </a:cubicBezTo>
                        <a:cubicBezTo>
                          <a:pt x="317" y="144"/>
                          <a:pt x="356" y="129"/>
                          <a:pt x="363" y="106"/>
                        </a:cubicBezTo>
                        <a:cubicBezTo>
                          <a:pt x="370" y="83"/>
                          <a:pt x="340" y="30"/>
                          <a:pt x="317" y="15"/>
                        </a:cubicBezTo>
                        <a:cubicBezTo>
                          <a:pt x="294" y="0"/>
                          <a:pt x="234" y="0"/>
                          <a:pt x="227" y="15"/>
                        </a:cubicBezTo>
                        <a:cubicBezTo>
                          <a:pt x="220" y="30"/>
                          <a:pt x="280" y="91"/>
                          <a:pt x="272" y="106"/>
                        </a:cubicBezTo>
                        <a:cubicBezTo>
                          <a:pt x="264" y="121"/>
                          <a:pt x="211" y="106"/>
                          <a:pt x="181" y="10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e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2" name="未知"/>
                  <p:cNvSpPr/>
                  <p:nvPr/>
                </p:nvSpPr>
                <p:spPr>
                  <a:xfrm>
                    <a:off x="311760" y="696240"/>
                    <a:ext cx="275400" cy="12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587" h="907">
                        <a:moveTo>
                          <a:pt x="1496" y="0"/>
                        </a:moveTo>
                        <a:lnTo>
                          <a:pt x="1587" y="90"/>
                        </a:lnTo>
                        <a:lnTo>
                          <a:pt x="1496" y="181"/>
                        </a:lnTo>
                        <a:lnTo>
                          <a:pt x="907" y="499"/>
                        </a:lnTo>
                        <a:lnTo>
                          <a:pt x="1224" y="589"/>
                        </a:lnTo>
                        <a:lnTo>
                          <a:pt x="1406" y="725"/>
                        </a:lnTo>
                        <a:lnTo>
                          <a:pt x="1360" y="861"/>
                        </a:lnTo>
                        <a:lnTo>
                          <a:pt x="1270" y="907"/>
                        </a:lnTo>
                        <a:lnTo>
                          <a:pt x="1134" y="816"/>
                        </a:lnTo>
                        <a:lnTo>
                          <a:pt x="771" y="725"/>
                        </a:lnTo>
                        <a:lnTo>
                          <a:pt x="226" y="635"/>
                        </a:lnTo>
                        <a:lnTo>
                          <a:pt x="90" y="635"/>
                        </a:lnTo>
                        <a:lnTo>
                          <a:pt x="0" y="544"/>
                        </a:lnTo>
                        <a:lnTo>
                          <a:pt x="90" y="453"/>
                        </a:lnTo>
                        <a:lnTo>
                          <a:pt x="362" y="453"/>
                        </a:lnTo>
                        <a:lnTo>
                          <a:pt x="589" y="453"/>
                        </a:lnTo>
                        <a:lnTo>
                          <a:pt x="680" y="453"/>
                        </a:lnTo>
                        <a:lnTo>
                          <a:pt x="635" y="362"/>
                        </a:lnTo>
                        <a:lnTo>
                          <a:pt x="589" y="226"/>
                        </a:lnTo>
                        <a:lnTo>
                          <a:pt x="544" y="136"/>
                        </a:lnTo>
                        <a:lnTo>
                          <a:pt x="635" y="181"/>
                        </a:lnTo>
                        <a:lnTo>
                          <a:pt x="771" y="181"/>
                        </a:lnTo>
                        <a:lnTo>
                          <a:pt x="861" y="181"/>
                        </a:lnTo>
                        <a:lnTo>
                          <a:pt x="907" y="90"/>
                        </a:lnTo>
                        <a:lnTo>
                          <a:pt x="907" y="226"/>
                        </a:lnTo>
                        <a:lnTo>
                          <a:pt x="861" y="362"/>
                        </a:lnTo>
                        <a:lnTo>
                          <a:pt x="1224" y="181"/>
                        </a:lnTo>
                        <a:lnTo>
                          <a:pt x="1360" y="136"/>
                        </a:lnTo>
                        <a:lnTo>
                          <a:pt x="1406" y="45"/>
                        </a:lnTo>
                        <a:lnTo>
                          <a:pt x="149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3" name="未知"/>
                  <p:cNvSpPr/>
                  <p:nvPr/>
                </p:nvSpPr>
                <p:spPr>
                  <a:xfrm>
                    <a:off x="563760" y="615600"/>
                    <a:ext cx="1414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817" h="726">
                        <a:moveTo>
                          <a:pt x="182" y="0"/>
                        </a:moveTo>
                        <a:lnTo>
                          <a:pt x="182" y="136"/>
                        </a:lnTo>
                        <a:lnTo>
                          <a:pt x="227" y="317"/>
                        </a:lnTo>
                        <a:lnTo>
                          <a:pt x="227" y="408"/>
                        </a:lnTo>
                        <a:lnTo>
                          <a:pt x="0" y="499"/>
                        </a:lnTo>
                        <a:lnTo>
                          <a:pt x="0" y="590"/>
                        </a:lnTo>
                        <a:lnTo>
                          <a:pt x="136" y="635"/>
                        </a:lnTo>
                        <a:lnTo>
                          <a:pt x="136" y="726"/>
                        </a:lnTo>
                        <a:lnTo>
                          <a:pt x="272" y="635"/>
                        </a:lnTo>
                        <a:lnTo>
                          <a:pt x="363" y="590"/>
                        </a:lnTo>
                        <a:lnTo>
                          <a:pt x="454" y="590"/>
                        </a:lnTo>
                        <a:lnTo>
                          <a:pt x="635" y="635"/>
                        </a:lnTo>
                        <a:lnTo>
                          <a:pt x="771" y="635"/>
                        </a:lnTo>
                        <a:lnTo>
                          <a:pt x="817" y="544"/>
                        </a:lnTo>
                        <a:lnTo>
                          <a:pt x="635" y="453"/>
                        </a:lnTo>
                        <a:lnTo>
                          <a:pt x="499" y="453"/>
                        </a:lnTo>
                        <a:lnTo>
                          <a:pt x="408" y="272"/>
                        </a:lnTo>
                        <a:lnTo>
                          <a:pt x="408" y="45"/>
                        </a:lnTo>
                        <a:lnTo>
                          <a:pt x="18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4" name="未知"/>
                  <p:cNvSpPr/>
                  <p:nvPr/>
                </p:nvSpPr>
                <p:spPr>
                  <a:xfrm>
                    <a:off x="532080" y="418320"/>
                    <a:ext cx="212040" cy="20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224" h="1497">
                        <a:moveTo>
                          <a:pt x="0" y="1361"/>
                        </a:moveTo>
                        <a:lnTo>
                          <a:pt x="136" y="1316"/>
                        </a:lnTo>
                        <a:lnTo>
                          <a:pt x="635" y="1407"/>
                        </a:lnTo>
                        <a:lnTo>
                          <a:pt x="1088" y="1044"/>
                        </a:lnTo>
                        <a:lnTo>
                          <a:pt x="1043" y="227"/>
                        </a:lnTo>
                        <a:lnTo>
                          <a:pt x="317" y="136"/>
                        </a:lnTo>
                        <a:lnTo>
                          <a:pt x="317" y="46"/>
                        </a:lnTo>
                        <a:lnTo>
                          <a:pt x="453" y="0"/>
                        </a:lnTo>
                        <a:lnTo>
                          <a:pt x="1134" y="91"/>
                        </a:lnTo>
                        <a:lnTo>
                          <a:pt x="1224" y="1134"/>
                        </a:lnTo>
                        <a:lnTo>
                          <a:pt x="861" y="1407"/>
                        </a:lnTo>
                        <a:lnTo>
                          <a:pt x="680" y="1497"/>
                        </a:lnTo>
                        <a:lnTo>
                          <a:pt x="0" y="136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66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5" name="未知"/>
                  <p:cNvSpPr/>
                  <p:nvPr/>
                </p:nvSpPr>
                <p:spPr>
                  <a:xfrm>
                    <a:off x="547920" y="436680"/>
                    <a:ext cx="17280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1225">
                        <a:moveTo>
                          <a:pt x="227" y="0"/>
                        </a:moveTo>
                        <a:lnTo>
                          <a:pt x="227" y="454"/>
                        </a:lnTo>
                        <a:lnTo>
                          <a:pt x="136" y="590"/>
                        </a:lnTo>
                        <a:lnTo>
                          <a:pt x="454" y="635"/>
                        </a:lnTo>
                        <a:lnTo>
                          <a:pt x="454" y="817"/>
                        </a:lnTo>
                        <a:lnTo>
                          <a:pt x="227" y="862"/>
                        </a:lnTo>
                        <a:lnTo>
                          <a:pt x="136" y="1089"/>
                        </a:lnTo>
                        <a:lnTo>
                          <a:pt x="0" y="1180"/>
                        </a:lnTo>
                        <a:lnTo>
                          <a:pt x="545" y="1225"/>
                        </a:lnTo>
                        <a:lnTo>
                          <a:pt x="998" y="908"/>
                        </a:lnTo>
                        <a:lnTo>
                          <a:pt x="953" y="9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446" name=""/>
              <p:cNvGrpSpPr/>
              <p:nvPr/>
            </p:nvGrpSpPr>
            <p:grpSpPr>
              <a:xfrm>
                <a:off x="225720" y="301320"/>
                <a:ext cx="243720" cy="147960"/>
                <a:chOff x="225720" y="301320"/>
                <a:chExt cx="243720" cy="147960"/>
              </a:xfrm>
            </p:grpSpPr>
            <p:sp>
              <p:nvSpPr>
                <p:cNvPr id="1447" name="未知"/>
                <p:cNvSpPr/>
                <p:nvPr/>
              </p:nvSpPr>
              <p:spPr>
                <a:xfrm>
                  <a:off x="225720" y="362880"/>
                  <a:ext cx="141480" cy="86400"/>
                </a:xfrm>
                <a:custGeom>
                  <a:avLst/>
                  <a:gdLst/>
                  <a:ahLst/>
                  <a:rect l="l" t="t" r="r" b="b"/>
                  <a:pathLst>
                    <a:path w="816" h="635">
                      <a:moveTo>
                        <a:pt x="816" y="499"/>
                      </a:moveTo>
                      <a:lnTo>
                        <a:pt x="635" y="635"/>
                      </a:lnTo>
                      <a:lnTo>
                        <a:pt x="45" y="136"/>
                      </a:lnTo>
                      <a:lnTo>
                        <a:pt x="0" y="0"/>
                      </a:lnTo>
                      <a:lnTo>
                        <a:pt x="816" y="49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99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8" name="未知"/>
                <p:cNvSpPr/>
                <p:nvPr/>
              </p:nvSpPr>
              <p:spPr>
                <a:xfrm>
                  <a:off x="296280" y="301320"/>
                  <a:ext cx="117720" cy="123480"/>
                </a:xfrm>
                <a:custGeom>
                  <a:avLst/>
                  <a:gdLst/>
                  <a:ahLst/>
                  <a:rect l="l" t="t" r="r" b="b"/>
                  <a:pathLst>
                    <a:path w="680" h="907">
                      <a:moveTo>
                        <a:pt x="453" y="907"/>
                      </a:moveTo>
                      <a:lnTo>
                        <a:pt x="680" y="771"/>
                      </a:lnTo>
                      <a:lnTo>
                        <a:pt x="0" y="0"/>
                      </a:lnTo>
                      <a:lnTo>
                        <a:pt x="0" y="136"/>
                      </a:lnTo>
                      <a:lnTo>
                        <a:pt x="453" y="90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8a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9" name="未知"/>
                <p:cNvSpPr/>
                <p:nvPr/>
              </p:nvSpPr>
              <p:spPr>
                <a:xfrm>
                  <a:off x="398880" y="319680"/>
                  <a:ext cx="70560" cy="73800"/>
                </a:xfrm>
                <a:custGeom>
                  <a:avLst/>
                  <a:gdLst/>
                  <a:ahLst/>
                  <a:rect l="l" t="t" r="r" b="b"/>
                  <a:pathLst>
                    <a:path w="408" h="544">
                      <a:moveTo>
                        <a:pt x="226" y="544"/>
                      </a:moveTo>
                      <a:lnTo>
                        <a:pt x="408" y="499"/>
                      </a:lnTo>
                      <a:lnTo>
                        <a:pt x="90" y="0"/>
                      </a:lnTo>
                      <a:lnTo>
                        <a:pt x="0" y="90"/>
                      </a:lnTo>
                      <a:lnTo>
                        <a:pt x="226" y="5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35ad3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50" name=""/>
            <p:cNvSpPr txBox="1"/>
            <p:nvPr/>
          </p:nvSpPr>
          <p:spPr>
            <a:xfrm>
              <a:off x="785160" y="302400"/>
              <a:ext cx="1820520" cy="362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6000" spc="-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黑体"/>
                </a:rPr>
                <a:t>能力提升</a:t>
              </a:r>
              <a:endParaRPr b="1" i="1" lang="en-US" sz="60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1451" name=""/>
            <p:cNvSpPr/>
            <p:nvPr/>
          </p:nvSpPr>
          <p:spPr>
            <a:xfrm>
              <a:off x="1202400" y="585000"/>
              <a:ext cx="85536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2" name=""/>
          <p:cNvGrpSpPr/>
          <p:nvPr/>
        </p:nvGrpSpPr>
        <p:grpSpPr>
          <a:xfrm>
            <a:off x="129960" y="765000"/>
            <a:ext cx="3610080" cy="1442880"/>
            <a:chOff x="129960" y="765000"/>
            <a:chExt cx="3610080" cy="1442880"/>
          </a:xfrm>
        </p:grpSpPr>
        <p:sp>
          <p:nvSpPr>
            <p:cNvPr id="1453" name=""/>
            <p:cNvSpPr/>
            <p:nvPr/>
          </p:nvSpPr>
          <p:spPr>
            <a:xfrm>
              <a:off x="901440" y="947880"/>
              <a:ext cx="2838600" cy="111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  </a:t>
              </a: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-   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=5        </a:t>
              </a:r>
              <a:r>
                <a:rPr b="1" lang="en-US" sz="26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①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    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+      =</a:t>
              </a: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-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1      </a:t>
              </a:r>
              <a:r>
                <a:rPr b="1" lang="en-US" sz="26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②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54" name=""/>
            <p:cNvGrpSpPr/>
            <p:nvPr/>
          </p:nvGrpSpPr>
          <p:grpSpPr>
            <a:xfrm>
              <a:off x="1043640" y="765000"/>
              <a:ext cx="369000" cy="828360"/>
              <a:chOff x="1043640" y="765000"/>
              <a:chExt cx="369000" cy="828360"/>
            </a:xfrm>
          </p:grpSpPr>
          <p:sp>
            <p:nvSpPr>
              <p:cNvPr id="1455" name=""/>
              <p:cNvSpPr/>
              <p:nvPr/>
            </p:nvSpPr>
            <p:spPr>
              <a:xfrm>
                <a:off x="1065960" y="765000"/>
                <a:ext cx="3466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66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1043640" y="1103400"/>
                <a:ext cx="3466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66"/>
                    </a:solidFill>
                    <a:latin typeface="Times New Roman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1064880" y="1197000"/>
                <a:ext cx="287280" cy="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58" name=""/>
            <p:cNvGrpSpPr/>
            <p:nvPr/>
          </p:nvGrpSpPr>
          <p:grpSpPr>
            <a:xfrm>
              <a:off x="1043640" y="1379520"/>
              <a:ext cx="369000" cy="828360"/>
              <a:chOff x="1043640" y="1379520"/>
              <a:chExt cx="369000" cy="828360"/>
            </a:xfrm>
          </p:grpSpPr>
          <p:sp>
            <p:nvSpPr>
              <p:cNvPr id="1459" name=""/>
              <p:cNvSpPr/>
              <p:nvPr/>
            </p:nvSpPr>
            <p:spPr>
              <a:xfrm>
                <a:off x="1065960" y="1379520"/>
                <a:ext cx="3466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66"/>
                    </a:solidFill>
                    <a:latin typeface="Times New Roman"/>
                  </a:rPr>
                  <a:t>x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1043640" y="1717920"/>
                <a:ext cx="3466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66"/>
                    </a:solidFill>
                    <a:latin typeface="Times New Roman"/>
                  </a:rPr>
                  <a:t>2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1064880" y="1811520"/>
                <a:ext cx="287280" cy="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2" name=""/>
            <p:cNvGrpSpPr/>
            <p:nvPr/>
          </p:nvGrpSpPr>
          <p:grpSpPr>
            <a:xfrm>
              <a:off x="1669320" y="770040"/>
              <a:ext cx="349560" cy="828000"/>
              <a:chOff x="1669320" y="770040"/>
              <a:chExt cx="349560" cy="828000"/>
            </a:xfrm>
          </p:grpSpPr>
          <p:sp>
            <p:nvSpPr>
              <p:cNvPr id="1463" name=""/>
              <p:cNvSpPr/>
              <p:nvPr/>
            </p:nvSpPr>
            <p:spPr>
              <a:xfrm>
                <a:off x="1692000" y="770040"/>
                <a:ext cx="3268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66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1669320" y="1108080"/>
                <a:ext cx="3466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66"/>
                    </a:solidFill>
                    <a:latin typeface="Times New Roman"/>
                  </a:rPr>
                  <a:t>4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1690560" y="1201680"/>
                <a:ext cx="287280" cy="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66" name=""/>
            <p:cNvGrpSpPr/>
            <p:nvPr/>
          </p:nvGrpSpPr>
          <p:grpSpPr>
            <a:xfrm>
              <a:off x="1669320" y="1379520"/>
              <a:ext cx="349560" cy="828360"/>
              <a:chOff x="1669320" y="1379520"/>
              <a:chExt cx="349560" cy="828360"/>
            </a:xfrm>
          </p:grpSpPr>
          <p:sp>
            <p:nvSpPr>
              <p:cNvPr id="1467" name=""/>
              <p:cNvSpPr/>
              <p:nvPr/>
            </p:nvSpPr>
            <p:spPr>
              <a:xfrm>
                <a:off x="1692000" y="1379520"/>
                <a:ext cx="3268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600" spc="-1" strike="noStrike">
                    <a:solidFill>
                      <a:srgbClr val="000066"/>
                    </a:solidFill>
                    <a:latin typeface="Times New Roman"/>
                  </a:rPr>
                  <a:t>y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8" name=""/>
              <p:cNvSpPr/>
              <p:nvPr/>
            </p:nvSpPr>
            <p:spPr>
              <a:xfrm>
                <a:off x="1669320" y="1717920"/>
                <a:ext cx="346680" cy="4899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600" spc="-1" strike="noStrike">
                    <a:solidFill>
                      <a:srgbClr val="000066"/>
                    </a:solidFill>
                    <a:latin typeface="Times New Roman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69" name=""/>
              <p:cNvSpPr/>
              <p:nvPr/>
            </p:nvSpPr>
            <p:spPr>
              <a:xfrm>
                <a:off x="1690560" y="1811520"/>
                <a:ext cx="287280" cy="0"/>
              </a:xfrm>
              <a:prstGeom prst="line">
                <a:avLst/>
              </a:prstGeom>
              <a:ln w="2844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470" name=""/>
            <p:cNvSpPr/>
            <p:nvPr/>
          </p:nvSpPr>
          <p:spPr>
            <a:xfrm>
              <a:off x="826920" y="1163520"/>
              <a:ext cx="215640" cy="863640"/>
            </a:xfrm>
            <a:custGeom>
              <a:avLst/>
              <a:gdLst>
                <a:gd name="textAreaLeft" fmla="*/ 137880 w 215640"/>
                <a:gd name="textAreaRight" fmla="*/ 216000 w 215640"/>
                <a:gd name="textAreaTop" fmla="*/ 22320 h 863640"/>
                <a:gd name="textAreaBottom" fmla="*/ 841320 h 8636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1" name=""/>
            <p:cNvSpPr/>
            <p:nvPr/>
          </p:nvSpPr>
          <p:spPr>
            <a:xfrm>
              <a:off x="129960" y="1341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(1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2" name=""/>
          <p:cNvGrpSpPr/>
          <p:nvPr/>
        </p:nvGrpSpPr>
        <p:grpSpPr>
          <a:xfrm>
            <a:off x="4091040" y="981000"/>
            <a:ext cx="4600080" cy="1025640"/>
            <a:chOff x="4091040" y="981000"/>
            <a:chExt cx="4600080" cy="1025640"/>
          </a:xfrm>
        </p:grpSpPr>
        <p:sp>
          <p:nvSpPr>
            <p:cNvPr id="1473" name=""/>
            <p:cNvSpPr/>
            <p:nvPr/>
          </p:nvSpPr>
          <p:spPr>
            <a:xfrm>
              <a:off x="4884480" y="981000"/>
              <a:ext cx="3611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4(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-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1)=5+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y                </a:t>
              </a:r>
              <a:r>
                <a:rPr b="1" lang="zh-CN" sz="26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①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4" name=""/>
            <p:cNvSpPr/>
            <p:nvPr/>
          </p:nvSpPr>
          <p:spPr>
            <a:xfrm>
              <a:off x="4892400" y="1486080"/>
              <a:ext cx="3798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5(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-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1)=4(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-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1)+18     </a:t>
              </a:r>
              <a:r>
                <a:rPr b="1" lang="en-US" sz="26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②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5" name=""/>
            <p:cNvSpPr/>
            <p:nvPr/>
          </p:nvSpPr>
          <p:spPr>
            <a:xfrm>
              <a:off x="4803480" y="1197000"/>
              <a:ext cx="142560" cy="649440"/>
            </a:xfrm>
            <a:custGeom>
              <a:avLst/>
              <a:gdLst>
                <a:gd name="textAreaLeft" fmla="*/ 91080 w 142560"/>
                <a:gd name="textAreaRight" fmla="*/ 142920 w 142560"/>
                <a:gd name="textAreaTop" fmla="*/ 16920 h 649440"/>
                <a:gd name="textAreaBottom" fmla="*/ 632520 h 649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6" name=""/>
            <p:cNvSpPr/>
            <p:nvPr/>
          </p:nvSpPr>
          <p:spPr>
            <a:xfrm>
              <a:off x="4091040" y="12351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(2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77" name=""/>
          <p:cNvGrpSpPr/>
          <p:nvPr/>
        </p:nvGrpSpPr>
        <p:grpSpPr>
          <a:xfrm>
            <a:off x="324000" y="2349360"/>
            <a:ext cx="8280360" cy="922320"/>
            <a:chOff x="324000" y="2349360"/>
            <a:chExt cx="8280360" cy="922320"/>
          </a:xfrm>
        </p:grpSpPr>
        <p:sp>
          <p:nvSpPr>
            <p:cNvPr id="1478" name=""/>
            <p:cNvSpPr/>
            <p:nvPr/>
          </p:nvSpPr>
          <p:spPr>
            <a:xfrm>
              <a:off x="324000" y="2565360"/>
              <a:ext cx="828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2</a:t>
              </a: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、已知方程         的解是     ，求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a</a:t>
              </a: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、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b</a:t>
              </a: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的值。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79" name=""/>
            <p:cNvGrpSpPr/>
            <p:nvPr/>
          </p:nvGrpSpPr>
          <p:grpSpPr>
            <a:xfrm>
              <a:off x="2411280" y="2354040"/>
              <a:ext cx="1514520" cy="917640"/>
              <a:chOff x="2411280" y="2354040"/>
              <a:chExt cx="1514520" cy="917640"/>
            </a:xfrm>
          </p:grpSpPr>
          <p:sp>
            <p:nvSpPr>
              <p:cNvPr id="1480" name=""/>
              <p:cNvSpPr/>
              <p:nvPr/>
            </p:nvSpPr>
            <p:spPr>
              <a:xfrm>
                <a:off x="2469600" y="2354040"/>
                <a:ext cx="1456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ax+by=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1" name=""/>
              <p:cNvSpPr/>
              <p:nvPr/>
            </p:nvSpPr>
            <p:spPr>
              <a:xfrm>
                <a:off x="2445840" y="2751120"/>
                <a:ext cx="1456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bx+ay=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2" name=""/>
              <p:cNvSpPr/>
              <p:nvPr/>
            </p:nvSpPr>
            <p:spPr>
              <a:xfrm>
                <a:off x="2411280" y="2601720"/>
                <a:ext cx="73080" cy="503280"/>
              </a:xfrm>
              <a:custGeom>
                <a:avLst/>
                <a:gdLst>
                  <a:gd name="textAreaLeft" fmla="*/ 46800 w 73080"/>
                  <a:gd name="textAreaRight" fmla="*/ 73440 w 73080"/>
                  <a:gd name="textAreaTop" fmla="*/ 12960 h 503280"/>
                  <a:gd name="textAreaBottom" fmla="*/ 490320 h 503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83" name=""/>
            <p:cNvGrpSpPr/>
            <p:nvPr/>
          </p:nvGrpSpPr>
          <p:grpSpPr>
            <a:xfrm>
              <a:off x="5076720" y="2349360"/>
              <a:ext cx="1012680" cy="825120"/>
              <a:chOff x="5076720" y="2349360"/>
              <a:chExt cx="1012680" cy="825120"/>
            </a:xfrm>
          </p:grpSpPr>
          <p:sp>
            <p:nvSpPr>
              <p:cNvPr id="1484" name=""/>
              <p:cNvSpPr/>
              <p:nvPr/>
            </p:nvSpPr>
            <p:spPr>
              <a:xfrm>
                <a:off x="5154480" y="2349360"/>
                <a:ext cx="934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=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5" name=""/>
              <p:cNvSpPr/>
              <p:nvPr/>
            </p:nvSpPr>
            <p:spPr>
              <a:xfrm>
                <a:off x="5143320" y="2653920"/>
                <a:ext cx="9349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=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86" name=""/>
              <p:cNvSpPr/>
              <p:nvPr/>
            </p:nvSpPr>
            <p:spPr>
              <a:xfrm>
                <a:off x="5076720" y="2566800"/>
                <a:ext cx="144360" cy="503280"/>
              </a:xfrm>
              <a:custGeom>
                <a:avLst/>
                <a:gdLst>
                  <a:gd name="textAreaLeft" fmla="*/ 92160 w 144360"/>
                  <a:gd name="textAreaRight" fmla="*/ 144360 w 144360"/>
                  <a:gd name="textAreaTop" fmla="*/ 12960 h 503280"/>
                  <a:gd name="textAreaBottom" fmla="*/ 490320 h 503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487" name=""/>
          <p:cNvGrpSpPr/>
          <p:nvPr/>
        </p:nvGrpSpPr>
        <p:grpSpPr>
          <a:xfrm>
            <a:off x="973080" y="4149720"/>
            <a:ext cx="7271640" cy="1358640"/>
            <a:chOff x="973080" y="4149720"/>
            <a:chExt cx="7271640" cy="1358640"/>
          </a:xfrm>
        </p:grpSpPr>
        <p:sp>
          <p:nvSpPr>
            <p:cNvPr id="1488" name=""/>
            <p:cNvSpPr/>
            <p:nvPr/>
          </p:nvSpPr>
          <p:spPr>
            <a:xfrm>
              <a:off x="973080" y="4219920"/>
              <a:ext cx="6616440" cy="1288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3</a:t>
              </a: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、已知方程</a:t>
              </a: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           </a:t>
              </a: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的解和方程            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   </a:t>
              </a: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的解相同，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求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(a+b)</a:t>
              </a:r>
              <a:r>
                <a:rPr b="1" lang="en-US" sz="2800" spc="-1" strike="noStrike" baseline="30000">
                  <a:solidFill>
                    <a:srgbClr val="000066"/>
                  </a:solidFill>
                  <a:latin typeface="Times New Roman"/>
                </a:rPr>
                <a:t>2008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  <a:ea typeface="黑体"/>
                </a:rPr>
                <a:t>的值</a:t>
              </a:r>
              <a:r>
                <a:rPr b="1" lang="zh-CN" sz="2800" spc="-1" strike="noStrike">
                  <a:solidFill>
                    <a:srgbClr val="000066"/>
                  </a:solidFill>
                  <a:latin typeface="Times New Roman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489" name=""/>
            <p:cNvGrpSpPr/>
            <p:nvPr/>
          </p:nvGrpSpPr>
          <p:grpSpPr>
            <a:xfrm>
              <a:off x="2339640" y="4149720"/>
              <a:ext cx="2088720" cy="861840"/>
              <a:chOff x="2339640" y="4149720"/>
              <a:chExt cx="2088720" cy="861840"/>
            </a:xfrm>
          </p:grpSpPr>
          <p:sp>
            <p:nvSpPr>
              <p:cNvPr id="1490" name=""/>
              <p:cNvSpPr/>
              <p:nvPr/>
            </p:nvSpPr>
            <p:spPr>
              <a:xfrm>
                <a:off x="2426760" y="4149720"/>
                <a:ext cx="2001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2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+5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=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黑体"/>
                    <a:ea typeface="黑体"/>
                  </a:rPr>
                  <a:t>-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2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1" name=""/>
              <p:cNvSpPr/>
              <p:nvPr/>
            </p:nvSpPr>
            <p:spPr>
              <a:xfrm>
                <a:off x="2417040" y="4491000"/>
                <a:ext cx="2001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a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黑体"/>
                    <a:ea typeface="黑体"/>
                  </a:rPr>
                  <a:t>-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b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=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黑体"/>
                    <a:ea typeface="黑体"/>
                  </a:rPr>
                  <a:t>-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2" name=""/>
              <p:cNvSpPr/>
              <p:nvPr/>
            </p:nvSpPr>
            <p:spPr>
              <a:xfrm>
                <a:off x="2339640" y="4303800"/>
                <a:ext cx="144360" cy="576360"/>
              </a:xfrm>
              <a:custGeom>
                <a:avLst/>
                <a:gdLst>
                  <a:gd name="textAreaLeft" fmla="*/ 92160 w 144360"/>
                  <a:gd name="textAreaRight" fmla="*/ 144360 w 144360"/>
                  <a:gd name="textAreaTop" fmla="*/ 14760 h 576360"/>
                  <a:gd name="textAreaBottom" fmla="*/ 561600 h 57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493" name=""/>
            <p:cNvGrpSpPr/>
            <p:nvPr/>
          </p:nvGrpSpPr>
          <p:grpSpPr>
            <a:xfrm>
              <a:off x="6156000" y="4149720"/>
              <a:ext cx="2088720" cy="861840"/>
              <a:chOff x="6156000" y="4149720"/>
              <a:chExt cx="2088720" cy="861840"/>
            </a:xfrm>
          </p:grpSpPr>
          <p:sp>
            <p:nvSpPr>
              <p:cNvPr id="1494" name=""/>
              <p:cNvSpPr/>
              <p:nvPr/>
            </p:nvSpPr>
            <p:spPr>
              <a:xfrm>
                <a:off x="6243120" y="4149720"/>
                <a:ext cx="2001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3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黑体"/>
                    <a:ea typeface="黑体"/>
                  </a:rPr>
                  <a:t>-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5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=36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5" name=""/>
              <p:cNvSpPr/>
              <p:nvPr/>
            </p:nvSpPr>
            <p:spPr>
              <a:xfrm>
                <a:off x="6233400" y="4491000"/>
                <a:ext cx="20016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b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黑体"/>
                    <a:ea typeface="黑体"/>
                  </a:rPr>
                  <a:t>+</a:t>
                </a: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a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=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黑体"/>
                    <a:ea typeface="黑体"/>
                  </a:rPr>
                  <a:t>-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496" name=""/>
              <p:cNvSpPr/>
              <p:nvPr/>
            </p:nvSpPr>
            <p:spPr>
              <a:xfrm>
                <a:off x="6156000" y="4303800"/>
                <a:ext cx="144360" cy="576360"/>
              </a:xfrm>
              <a:custGeom>
                <a:avLst/>
                <a:gdLst>
                  <a:gd name="textAreaLeft" fmla="*/ 92160 w 144360"/>
                  <a:gd name="textAreaRight" fmla="*/ 144360 w 144360"/>
                  <a:gd name="textAreaTop" fmla="*/ 14760 h 576360"/>
                  <a:gd name="textAreaBottom" fmla="*/ 561600 h 57636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97" name=""/>
          <p:cNvGrpSpPr/>
          <p:nvPr/>
        </p:nvGrpSpPr>
        <p:grpSpPr>
          <a:xfrm>
            <a:off x="252360" y="44280"/>
            <a:ext cx="2476440" cy="647640"/>
            <a:chOff x="252360" y="44280"/>
            <a:chExt cx="2476440" cy="647640"/>
          </a:xfrm>
        </p:grpSpPr>
        <p:sp>
          <p:nvSpPr>
            <p:cNvPr id="1498" name=""/>
            <p:cNvSpPr/>
            <p:nvPr/>
          </p:nvSpPr>
          <p:spPr>
            <a:xfrm>
              <a:off x="252360" y="44280"/>
              <a:ext cx="2476440" cy="636120"/>
            </a:xfrm>
            <a:prstGeom prst="rect">
              <a:avLst/>
            </a:prstGeom>
            <a:gradFill rotWithShape="0">
              <a:gsLst>
                <a:gs pos="0">
                  <a:srgbClr val="b8e0be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9" name=""/>
            <p:cNvSpPr/>
            <p:nvPr/>
          </p:nvSpPr>
          <p:spPr>
            <a:xfrm>
              <a:off x="562680" y="503640"/>
              <a:ext cx="2106000" cy="17676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00" name=""/>
            <p:cNvGrpSpPr/>
            <p:nvPr/>
          </p:nvGrpSpPr>
          <p:grpSpPr>
            <a:xfrm>
              <a:off x="298800" y="91080"/>
              <a:ext cx="518400" cy="589320"/>
              <a:chOff x="298800" y="91080"/>
              <a:chExt cx="518400" cy="589320"/>
            </a:xfrm>
          </p:grpSpPr>
          <p:grpSp>
            <p:nvGrpSpPr>
              <p:cNvPr id="1501" name=""/>
              <p:cNvGrpSpPr/>
              <p:nvPr/>
            </p:nvGrpSpPr>
            <p:grpSpPr>
              <a:xfrm>
                <a:off x="333720" y="154080"/>
                <a:ext cx="483480" cy="526320"/>
                <a:chOff x="333720" y="154080"/>
                <a:chExt cx="483480" cy="526320"/>
              </a:xfrm>
            </p:grpSpPr>
            <p:sp>
              <p:nvSpPr>
                <p:cNvPr id="1502" name=""/>
                <p:cNvSpPr/>
                <p:nvPr/>
              </p:nvSpPr>
              <p:spPr>
                <a:xfrm>
                  <a:off x="361440" y="154080"/>
                  <a:ext cx="416880" cy="49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66"/>
                    </a:gs>
                    <a:gs pos="100000">
                      <a:srgbClr val="ffcc00"/>
                    </a:gs>
                  </a:gsLst>
                  <a:lin ang="13500000"/>
                </a:gradFill>
                <a:ln w="1260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503" name=""/>
                <p:cNvGrpSpPr/>
                <p:nvPr/>
              </p:nvGrpSpPr>
              <p:grpSpPr>
                <a:xfrm>
                  <a:off x="333720" y="223920"/>
                  <a:ext cx="483480" cy="456480"/>
                  <a:chOff x="333720" y="223920"/>
                  <a:chExt cx="483480" cy="456480"/>
                </a:xfrm>
              </p:grpSpPr>
              <p:sp>
                <p:nvSpPr>
                  <p:cNvPr id="1504" name="未知"/>
                  <p:cNvSpPr/>
                  <p:nvPr/>
                </p:nvSpPr>
                <p:spPr>
                  <a:xfrm>
                    <a:off x="333720" y="340200"/>
                    <a:ext cx="36756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317">
                        <a:moveTo>
                          <a:pt x="0" y="0"/>
                        </a:moveTo>
                        <a:lnTo>
                          <a:pt x="817" y="227"/>
                        </a:lnTo>
                        <a:lnTo>
                          <a:pt x="1497" y="45"/>
                        </a:lnTo>
                        <a:lnTo>
                          <a:pt x="1497" y="136"/>
                        </a:lnTo>
                        <a:lnTo>
                          <a:pt x="817" y="317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100000">
                        <a:srgbClr val="ff99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5" name="未知"/>
                  <p:cNvSpPr/>
                  <p:nvPr/>
                </p:nvSpPr>
                <p:spPr>
                  <a:xfrm>
                    <a:off x="333720" y="300240"/>
                    <a:ext cx="36756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409">
                        <a:moveTo>
                          <a:pt x="0" y="182"/>
                        </a:moveTo>
                        <a:lnTo>
                          <a:pt x="817" y="409"/>
                        </a:lnTo>
                        <a:lnTo>
                          <a:pt x="1497" y="227"/>
                        </a:lnTo>
                        <a:lnTo>
                          <a:pt x="590" y="0"/>
                        </a:lnTo>
                        <a:lnTo>
                          <a:pt x="0" y="182"/>
                        </a:lnTo>
                        <a:close/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6" name="未知"/>
                  <p:cNvSpPr/>
                  <p:nvPr/>
                </p:nvSpPr>
                <p:spPr>
                  <a:xfrm>
                    <a:off x="367200" y="370080"/>
                    <a:ext cx="289800" cy="89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408">
                        <a:moveTo>
                          <a:pt x="0" y="0"/>
                        </a:moveTo>
                        <a:lnTo>
                          <a:pt x="726" y="181"/>
                        </a:lnTo>
                        <a:lnTo>
                          <a:pt x="1180" y="45"/>
                        </a:lnTo>
                        <a:lnTo>
                          <a:pt x="1134" y="227"/>
                        </a:lnTo>
                        <a:lnTo>
                          <a:pt x="726" y="408"/>
                        </a:lnTo>
                        <a:lnTo>
                          <a:pt x="46" y="1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7" name="未知"/>
                  <p:cNvSpPr/>
                  <p:nvPr/>
                </p:nvSpPr>
                <p:spPr>
                  <a:xfrm>
                    <a:off x="489600" y="439560"/>
                    <a:ext cx="3348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545">
                        <a:moveTo>
                          <a:pt x="0" y="0"/>
                        </a:moveTo>
                        <a:lnTo>
                          <a:pt x="136" y="46"/>
                        </a:lnTo>
                        <a:lnTo>
                          <a:pt x="91" y="136"/>
                        </a:lnTo>
                        <a:lnTo>
                          <a:pt x="136" y="318"/>
                        </a:lnTo>
                        <a:lnTo>
                          <a:pt x="136" y="545"/>
                        </a:lnTo>
                        <a:lnTo>
                          <a:pt x="46" y="545"/>
                        </a:lnTo>
                        <a:lnTo>
                          <a:pt x="0" y="318"/>
                        </a:lnTo>
                        <a:lnTo>
                          <a:pt x="0" y="1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8" name="未知"/>
                  <p:cNvSpPr/>
                  <p:nvPr/>
                </p:nvSpPr>
                <p:spPr>
                  <a:xfrm>
                    <a:off x="479160" y="544680"/>
                    <a:ext cx="640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58">
                        <a:moveTo>
                          <a:pt x="181" y="106"/>
                        </a:moveTo>
                        <a:cubicBezTo>
                          <a:pt x="151" y="106"/>
                          <a:pt x="106" y="121"/>
                          <a:pt x="91" y="106"/>
                        </a:cubicBezTo>
                        <a:cubicBezTo>
                          <a:pt x="76" y="91"/>
                          <a:pt x="106" y="15"/>
                          <a:pt x="91" y="15"/>
                        </a:cubicBezTo>
                        <a:cubicBezTo>
                          <a:pt x="76" y="15"/>
                          <a:pt x="0" y="83"/>
                          <a:pt x="0" y="106"/>
                        </a:cubicBezTo>
                        <a:cubicBezTo>
                          <a:pt x="0" y="129"/>
                          <a:pt x="46" y="144"/>
                          <a:pt x="91" y="151"/>
                        </a:cubicBezTo>
                        <a:cubicBezTo>
                          <a:pt x="136" y="158"/>
                          <a:pt x="227" y="158"/>
                          <a:pt x="272" y="151"/>
                        </a:cubicBezTo>
                        <a:cubicBezTo>
                          <a:pt x="317" y="144"/>
                          <a:pt x="356" y="129"/>
                          <a:pt x="363" y="106"/>
                        </a:cubicBezTo>
                        <a:cubicBezTo>
                          <a:pt x="370" y="83"/>
                          <a:pt x="340" y="30"/>
                          <a:pt x="317" y="15"/>
                        </a:cubicBezTo>
                        <a:cubicBezTo>
                          <a:pt x="294" y="0"/>
                          <a:pt x="234" y="0"/>
                          <a:pt x="227" y="15"/>
                        </a:cubicBezTo>
                        <a:cubicBezTo>
                          <a:pt x="220" y="30"/>
                          <a:pt x="280" y="91"/>
                          <a:pt x="272" y="106"/>
                        </a:cubicBezTo>
                        <a:cubicBezTo>
                          <a:pt x="264" y="121"/>
                          <a:pt x="211" y="106"/>
                          <a:pt x="181" y="10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e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09" name="未知"/>
                  <p:cNvSpPr/>
                  <p:nvPr/>
                </p:nvSpPr>
                <p:spPr>
                  <a:xfrm>
                    <a:off x="384840" y="540000"/>
                    <a:ext cx="27540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587" h="907">
                        <a:moveTo>
                          <a:pt x="1496" y="0"/>
                        </a:moveTo>
                        <a:lnTo>
                          <a:pt x="1587" y="90"/>
                        </a:lnTo>
                        <a:lnTo>
                          <a:pt x="1496" y="181"/>
                        </a:lnTo>
                        <a:lnTo>
                          <a:pt x="907" y="499"/>
                        </a:lnTo>
                        <a:lnTo>
                          <a:pt x="1224" y="589"/>
                        </a:lnTo>
                        <a:lnTo>
                          <a:pt x="1406" y="725"/>
                        </a:lnTo>
                        <a:lnTo>
                          <a:pt x="1360" y="861"/>
                        </a:lnTo>
                        <a:lnTo>
                          <a:pt x="1270" y="907"/>
                        </a:lnTo>
                        <a:lnTo>
                          <a:pt x="1134" y="816"/>
                        </a:lnTo>
                        <a:lnTo>
                          <a:pt x="771" y="725"/>
                        </a:lnTo>
                        <a:lnTo>
                          <a:pt x="226" y="635"/>
                        </a:lnTo>
                        <a:lnTo>
                          <a:pt x="90" y="635"/>
                        </a:lnTo>
                        <a:lnTo>
                          <a:pt x="0" y="544"/>
                        </a:lnTo>
                        <a:lnTo>
                          <a:pt x="90" y="453"/>
                        </a:lnTo>
                        <a:lnTo>
                          <a:pt x="362" y="453"/>
                        </a:lnTo>
                        <a:lnTo>
                          <a:pt x="589" y="453"/>
                        </a:lnTo>
                        <a:lnTo>
                          <a:pt x="680" y="453"/>
                        </a:lnTo>
                        <a:lnTo>
                          <a:pt x="635" y="362"/>
                        </a:lnTo>
                        <a:lnTo>
                          <a:pt x="589" y="226"/>
                        </a:lnTo>
                        <a:lnTo>
                          <a:pt x="544" y="136"/>
                        </a:lnTo>
                        <a:lnTo>
                          <a:pt x="635" y="181"/>
                        </a:lnTo>
                        <a:lnTo>
                          <a:pt x="771" y="181"/>
                        </a:lnTo>
                        <a:lnTo>
                          <a:pt x="861" y="181"/>
                        </a:lnTo>
                        <a:lnTo>
                          <a:pt x="907" y="90"/>
                        </a:lnTo>
                        <a:lnTo>
                          <a:pt x="907" y="226"/>
                        </a:lnTo>
                        <a:lnTo>
                          <a:pt x="861" y="362"/>
                        </a:lnTo>
                        <a:lnTo>
                          <a:pt x="1224" y="181"/>
                        </a:lnTo>
                        <a:lnTo>
                          <a:pt x="1360" y="136"/>
                        </a:lnTo>
                        <a:lnTo>
                          <a:pt x="1406" y="45"/>
                        </a:lnTo>
                        <a:lnTo>
                          <a:pt x="149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0" name="未知"/>
                  <p:cNvSpPr/>
                  <p:nvPr/>
                </p:nvSpPr>
                <p:spPr>
                  <a:xfrm>
                    <a:off x="636840" y="448560"/>
                    <a:ext cx="141480" cy="112320"/>
                  </a:xfrm>
                  <a:custGeom>
                    <a:avLst/>
                    <a:gdLst/>
                    <a:ahLst/>
                    <a:rect l="l" t="t" r="r" b="b"/>
                    <a:pathLst>
                      <a:path w="817" h="726">
                        <a:moveTo>
                          <a:pt x="182" y="0"/>
                        </a:moveTo>
                        <a:lnTo>
                          <a:pt x="182" y="136"/>
                        </a:lnTo>
                        <a:lnTo>
                          <a:pt x="227" y="317"/>
                        </a:lnTo>
                        <a:lnTo>
                          <a:pt x="227" y="408"/>
                        </a:lnTo>
                        <a:lnTo>
                          <a:pt x="0" y="499"/>
                        </a:lnTo>
                        <a:lnTo>
                          <a:pt x="0" y="590"/>
                        </a:lnTo>
                        <a:lnTo>
                          <a:pt x="136" y="635"/>
                        </a:lnTo>
                        <a:lnTo>
                          <a:pt x="136" y="726"/>
                        </a:lnTo>
                        <a:lnTo>
                          <a:pt x="272" y="635"/>
                        </a:lnTo>
                        <a:lnTo>
                          <a:pt x="363" y="590"/>
                        </a:lnTo>
                        <a:lnTo>
                          <a:pt x="454" y="590"/>
                        </a:lnTo>
                        <a:lnTo>
                          <a:pt x="635" y="635"/>
                        </a:lnTo>
                        <a:lnTo>
                          <a:pt x="771" y="635"/>
                        </a:lnTo>
                        <a:lnTo>
                          <a:pt x="817" y="544"/>
                        </a:lnTo>
                        <a:lnTo>
                          <a:pt x="635" y="453"/>
                        </a:lnTo>
                        <a:lnTo>
                          <a:pt x="499" y="453"/>
                        </a:lnTo>
                        <a:lnTo>
                          <a:pt x="408" y="272"/>
                        </a:lnTo>
                        <a:lnTo>
                          <a:pt x="408" y="45"/>
                        </a:lnTo>
                        <a:lnTo>
                          <a:pt x="18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1" name="未知"/>
                  <p:cNvSpPr/>
                  <p:nvPr/>
                </p:nvSpPr>
                <p:spPr>
                  <a:xfrm>
                    <a:off x="605160" y="223920"/>
                    <a:ext cx="212040" cy="2318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4" h="1497">
                        <a:moveTo>
                          <a:pt x="0" y="1361"/>
                        </a:moveTo>
                        <a:lnTo>
                          <a:pt x="136" y="1316"/>
                        </a:lnTo>
                        <a:lnTo>
                          <a:pt x="635" y="1407"/>
                        </a:lnTo>
                        <a:lnTo>
                          <a:pt x="1088" y="1044"/>
                        </a:lnTo>
                        <a:lnTo>
                          <a:pt x="1043" y="227"/>
                        </a:lnTo>
                        <a:lnTo>
                          <a:pt x="317" y="136"/>
                        </a:lnTo>
                        <a:lnTo>
                          <a:pt x="317" y="46"/>
                        </a:lnTo>
                        <a:lnTo>
                          <a:pt x="453" y="0"/>
                        </a:lnTo>
                        <a:lnTo>
                          <a:pt x="1134" y="91"/>
                        </a:lnTo>
                        <a:lnTo>
                          <a:pt x="1224" y="1134"/>
                        </a:lnTo>
                        <a:lnTo>
                          <a:pt x="861" y="1407"/>
                        </a:lnTo>
                        <a:lnTo>
                          <a:pt x="680" y="1497"/>
                        </a:lnTo>
                        <a:lnTo>
                          <a:pt x="0" y="136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66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512" name="未知"/>
                  <p:cNvSpPr/>
                  <p:nvPr/>
                </p:nvSpPr>
                <p:spPr>
                  <a:xfrm>
                    <a:off x="621000" y="244800"/>
                    <a:ext cx="172800" cy="18972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1225">
                        <a:moveTo>
                          <a:pt x="227" y="0"/>
                        </a:moveTo>
                        <a:lnTo>
                          <a:pt x="227" y="454"/>
                        </a:lnTo>
                        <a:lnTo>
                          <a:pt x="136" y="590"/>
                        </a:lnTo>
                        <a:lnTo>
                          <a:pt x="454" y="635"/>
                        </a:lnTo>
                        <a:lnTo>
                          <a:pt x="454" y="817"/>
                        </a:lnTo>
                        <a:lnTo>
                          <a:pt x="227" y="862"/>
                        </a:lnTo>
                        <a:lnTo>
                          <a:pt x="136" y="1089"/>
                        </a:lnTo>
                        <a:lnTo>
                          <a:pt x="0" y="1180"/>
                        </a:lnTo>
                        <a:lnTo>
                          <a:pt x="545" y="1225"/>
                        </a:lnTo>
                        <a:lnTo>
                          <a:pt x="998" y="908"/>
                        </a:lnTo>
                        <a:lnTo>
                          <a:pt x="953" y="9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513" name=""/>
              <p:cNvGrpSpPr/>
              <p:nvPr/>
            </p:nvGrpSpPr>
            <p:grpSpPr>
              <a:xfrm>
                <a:off x="298800" y="91080"/>
                <a:ext cx="243720" cy="168120"/>
                <a:chOff x="298800" y="91080"/>
                <a:chExt cx="243720" cy="168120"/>
              </a:xfrm>
            </p:grpSpPr>
            <p:sp>
              <p:nvSpPr>
                <p:cNvPr id="1514" name="未知"/>
                <p:cNvSpPr/>
                <p:nvPr/>
              </p:nvSpPr>
              <p:spPr>
                <a:xfrm>
                  <a:off x="298800" y="160920"/>
                  <a:ext cx="141480" cy="98280"/>
                </a:xfrm>
                <a:custGeom>
                  <a:avLst/>
                  <a:gdLst/>
                  <a:ahLst/>
                  <a:rect l="l" t="t" r="r" b="b"/>
                  <a:pathLst>
                    <a:path w="816" h="635">
                      <a:moveTo>
                        <a:pt x="816" y="499"/>
                      </a:moveTo>
                      <a:lnTo>
                        <a:pt x="635" y="635"/>
                      </a:lnTo>
                      <a:lnTo>
                        <a:pt x="45" y="136"/>
                      </a:lnTo>
                      <a:lnTo>
                        <a:pt x="0" y="0"/>
                      </a:lnTo>
                      <a:lnTo>
                        <a:pt x="816" y="49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99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5" name="未知"/>
                <p:cNvSpPr/>
                <p:nvPr/>
              </p:nvSpPr>
              <p:spPr>
                <a:xfrm>
                  <a:off x="369360" y="91080"/>
                  <a:ext cx="117720" cy="140400"/>
                </a:xfrm>
                <a:custGeom>
                  <a:avLst/>
                  <a:gdLst/>
                  <a:ahLst/>
                  <a:rect l="l" t="t" r="r" b="b"/>
                  <a:pathLst>
                    <a:path w="680" h="907">
                      <a:moveTo>
                        <a:pt x="453" y="907"/>
                      </a:moveTo>
                      <a:lnTo>
                        <a:pt x="680" y="771"/>
                      </a:lnTo>
                      <a:lnTo>
                        <a:pt x="0" y="0"/>
                      </a:lnTo>
                      <a:lnTo>
                        <a:pt x="0" y="136"/>
                      </a:lnTo>
                      <a:lnTo>
                        <a:pt x="453" y="90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8a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6" name="未知"/>
                <p:cNvSpPr/>
                <p:nvPr/>
              </p:nvSpPr>
              <p:spPr>
                <a:xfrm>
                  <a:off x="471960" y="111960"/>
                  <a:ext cx="70560" cy="83880"/>
                </a:xfrm>
                <a:custGeom>
                  <a:avLst/>
                  <a:gdLst/>
                  <a:ahLst/>
                  <a:rect l="l" t="t" r="r" b="b"/>
                  <a:pathLst>
                    <a:path w="408" h="544">
                      <a:moveTo>
                        <a:pt x="226" y="544"/>
                      </a:moveTo>
                      <a:lnTo>
                        <a:pt x="408" y="499"/>
                      </a:lnTo>
                      <a:lnTo>
                        <a:pt x="90" y="0"/>
                      </a:lnTo>
                      <a:lnTo>
                        <a:pt x="0" y="90"/>
                      </a:lnTo>
                      <a:lnTo>
                        <a:pt x="226" y="5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35ad3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517" name=""/>
            <p:cNvSpPr txBox="1"/>
            <p:nvPr/>
          </p:nvSpPr>
          <p:spPr>
            <a:xfrm>
              <a:off x="858240" y="92160"/>
              <a:ext cx="1820520" cy="41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6000" spc="-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黑体"/>
                </a:rPr>
                <a:t>课堂小结</a:t>
              </a:r>
              <a:endParaRPr b="1" i="1" lang="en-US" sz="60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1518" name=""/>
            <p:cNvSpPr/>
            <p:nvPr/>
          </p:nvSpPr>
          <p:spPr>
            <a:xfrm>
              <a:off x="1276920" y="413640"/>
              <a:ext cx="855720" cy="27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19" name=""/>
          <p:cNvSpPr/>
          <p:nvPr/>
        </p:nvSpPr>
        <p:spPr>
          <a:xfrm>
            <a:off x="3059280" y="260280"/>
            <a:ext cx="48243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这节课我们学到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了什么知识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0" name=""/>
          <p:cNvSpPr/>
          <p:nvPr/>
        </p:nvSpPr>
        <p:spPr>
          <a:xfrm>
            <a:off x="826920" y="1557360"/>
            <a:ext cx="2676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.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消元实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1" name=""/>
          <p:cNvSpPr/>
          <p:nvPr/>
        </p:nvSpPr>
        <p:spPr>
          <a:xfrm>
            <a:off x="3797640" y="836640"/>
            <a:ext cx="535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Times New Roman"/>
                <a:ea typeface="黑体"/>
              </a:rPr>
              <a:t>巩固代入消元法，解二元一次方程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2" name=""/>
          <p:cNvGrpSpPr/>
          <p:nvPr/>
        </p:nvGrpSpPr>
        <p:grpSpPr>
          <a:xfrm>
            <a:off x="900000" y="1700280"/>
            <a:ext cx="7632360" cy="1154160"/>
            <a:chOff x="900000" y="1700280"/>
            <a:chExt cx="7632360" cy="1154160"/>
          </a:xfrm>
        </p:grpSpPr>
        <p:sp>
          <p:nvSpPr>
            <p:cNvPr id="1523" name=""/>
            <p:cNvSpPr/>
            <p:nvPr/>
          </p:nvSpPr>
          <p:spPr>
            <a:xfrm>
              <a:off x="900000" y="1986480"/>
              <a:ext cx="324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Arial"/>
                  <a:ea typeface="华文行楷"/>
                </a:rPr>
                <a:t>二元一次方程组</a:t>
              </a: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4" name=""/>
            <p:cNvSpPr/>
            <p:nvPr/>
          </p:nvSpPr>
          <p:spPr>
            <a:xfrm>
              <a:off x="4142880" y="1700280"/>
              <a:ext cx="128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华文行楷"/>
                  <a:ea typeface="华文行楷"/>
                </a:rPr>
                <a:t>消 元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5" name=""/>
            <p:cNvSpPr/>
            <p:nvPr/>
          </p:nvSpPr>
          <p:spPr>
            <a:xfrm>
              <a:off x="4074480" y="2273040"/>
              <a:ext cx="1555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Arial"/>
                  <a:ea typeface="华文行楷"/>
                </a:rPr>
                <a:t>代入法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6" name=""/>
            <p:cNvSpPr/>
            <p:nvPr/>
          </p:nvSpPr>
          <p:spPr>
            <a:xfrm>
              <a:off x="5451840" y="1986480"/>
              <a:ext cx="30805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Arial"/>
                </a:rPr>
                <a:t>  </a:t>
              </a:r>
              <a:r>
                <a:rPr b="1" lang="zh-CN" sz="3200" spc="-1" strike="noStrike">
                  <a:solidFill>
                    <a:srgbClr val="0000ff"/>
                  </a:solidFill>
                  <a:latin typeface="Arial"/>
                  <a:ea typeface="华文行楷"/>
                </a:rPr>
                <a:t>一元一次方程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7" name=""/>
            <p:cNvSpPr/>
            <p:nvPr/>
          </p:nvSpPr>
          <p:spPr>
            <a:xfrm>
              <a:off x="4150080" y="2125800"/>
              <a:ext cx="1409760" cy="286200"/>
            </a:xfrm>
            <a:custGeom>
              <a:avLst/>
              <a:gdLst>
                <a:gd name="textAreaLeft" fmla="*/ 220320 w 1409760"/>
                <a:gd name="textAreaRight" fmla="*/ 1331280 w 1409760"/>
                <a:gd name="textAreaTop" fmla="*/ 96120 h 286200"/>
                <a:gd name="textAreaBottom" fmla="*/ 190080 h 2862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7264"/>
                  </a:moveTo>
                  <a:lnTo>
                    <a:pt x="17924" y="7264"/>
                  </a:lnTo>
                  <a:lnTo>
                    <a:pt x="17924" y="0"/>
                  </a:lnTo>
                  <a:lnTo>
                    <a:pt x="21600" y="10800"/>
                  </a:lnTo>
                  <a:lnTo>
                    <a:pt x="17924" y="21600"/>
                  </a:lnTo>
                  <a:lnTo>
                    <a:pt x="17924" y="14336"/>
                  </a:lnTo>
                  <a:lnTo>
                    <a:pt x="3375" y="14336"/>
                  </a:lnTo>
                  <a:close/>
                </a:path>
                <a:path w="21600" h="21600">
                  <a:moveTo>
                    <a:pt x="0" y="7264"/>
                  </a:moveTo>
                  <a:lnTo>
                    <a:pt x="675" y="7264"/>
                  </a:lnTo>
                  <a:lnTo>
                    <a:pt x="675" y="14336"/>
                  </a:lnTo>
                  <a:lnTo>
                    <a:pt x="0" y="14336"/>
                  </a:lnTo>
                  <a:close/>
                </a:path>
                <a:path w="21600" h="21600">
                  <a:moveTo>
                    <a:pt x="1350" y="7264"/>
                  </a:moveTo>
                  <a:lnTo>
                    <a:pt x="2700" y="7264"/>
                  </a:lnTo>
                  <a:lnTo>
                    <a:pt x="2700" y="14336"/>
                  </a:lnTo>
                  <a:lnTo>
                    <a:pt x="1350" y="14336"/>
                  </a:lnTo>
                  <a:close/>
                </a:path>
              </a:pathLst>
            </a:cu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8" name=""/>
          <p:cNvSpPr/>
          <p:nvPr/>
        </p:nvSpPr>
        <p:spPr>
          <a:xfrm>
            <a:off x="684360" y="285264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2.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代入法的一般步骤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29" name=""/>
          <p:cNvGrpSpPr/>
          <p:nvPr/>
        </p:nvGrpSpPr>
        <p:grpSpPr>
          <a:xfrm>
            <a:off x="1403280" y="4076640"/>
            <a:ext cx="6984720" cy="586080"/>
            <a:chOff x="1403280" y="4076640"/>
            <a:chExt cx="6984720" cy="586080"/>
          </a:xfrm>
        </p:grpSpPr>
        <p:sp>
          <p:nvSpPr>
            <p:cNvPr id="1530" name=""/>
            <p:cNvSpPr/>
            <p:nvPr/>
          </p:nvSpPr>
          <p:spPr>
            <a:xfrm>
              <a:off x="1403280" y="4081320"/>
              <a:ext cx="1051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华文行楷"/>
                  <a:ea typeface="华文行楷"/>
                </a:rPr>
                <a:t>即</a:t>
              </a:r>
              <a:r>
                <a:rPr b="0" lang="en-US" sz="3200" spc="-1" strike="noStrike">
                  <a:solidFill>
                    <a:srgbClr val="0000ff"/>
                  </a:solidFill>
                  <a:latin typeface="宋体"/>
                </a:rPr>
                <a:t>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1" name=""/>
            <p:cNvSpPr/>
            <p:nvPr/>
          </p:nvSpPr>
          <p:spPr>
            <a:xfrm>
              <a:off x="2158560" y="4076640"/>
              <a:ext cx="1353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华文行楷"/>
                  <a:ea typeface="华文行楷"/>
                </a:rPr>
                <a:t>变形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2" name=""/>
            <p:cNvSpPr/>
            <p:nvPr/>
          </p:nvSpPr>
          <p:spPr>
            <a:xfrm>
              <a:off x="3878280" y="4076640"/>
              <a:ext cx="16534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华文行楷"/>
                  <a:ea typeface="华文行楷"/>
                </a:rPr>
                <a:t>代替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3" name=""/>
            <p:cNvSpPr/>
            <p:nvPr/>
          </p:nvSpPr>
          <p:spPr>
            <a:xfrm>
              <a:off x="5531760" y="4076640"/>
              <a:ext cx="135360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华文行楷"/>
                  <a:ea typeface="华文行楷"/>
                </a:rPr>
                <a:t>回代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4" name=""/>
            <p:cNvSpPr/>
            <p:nvPr/>
          </p:nvSpPr>
          <p:spPr>
            <a:xfrm>
              <a:off x="7110720" y="4076640"/>
              <a:ext cx="12772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2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0000ff"/>
                  </a:solidFill>
                  <a:latin typeface="华文行楷"/>
                  <a:ea typeface="华文行楷"/>
                </a:rPr>
                <a:t>写解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5" name=""/>
            <p:cNvSpPr/>
            <p:nvPr/>
          </p:nvSpPr>
          <p:spPr>
            <a:xfrm>
              <a:off x="3276720" y="4259160"/>
              <a:ext cx="601200" cy="216000"/>
            </a:xfrm>
            <a:custGeom>
              <a:avLst/>
              <a:gdLst>
                <a:gd name="textAreaLeft" fmla="*/ 93960 w 601200"/>
                <a:gd name="textAreaRight" fmla="*/ 526320 w 601200"/>
                <a:gd name="textAreaTop" fmla="*/ 54000 h 216000"/>
                <a:gd name="textAreaBottom" fmla="*/ 162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6" name=""/>
            <p:cNvSpPr/>
            <p:nvPr/>
          </p:nvSpPr>
          <p:spPr>
            <a:xfrm>
              <a:off x="6584040" y="4259160"/>
              <a:ext cx="601200" cy="216000"/>
            </a:xfrm>
            <a:custGeom>
              <a:avLst/>
              <a:gdLst>
                <a:gd name="textAreaLeft" fmla="*/ 93960 w 601200"/>
                <a:gd name="textAreaRight" fmla="*/ 526320 w 601200"/>
                <a:gd name="textAreaTop" fmla="*/ 54000 h 216000"/>
                <a:gd name="textAreaBottom" fmla="*/ 162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7" name=""/>
            <p:cNvSpPr/>
            <p:nvPr/>
          </p:nvSpPr>
          <p:spPr>
            <a:xfrm>
              <a:off x="4930560" y="4259160"/>
              <a:ext cx="601200" cy="216000"/>
            </a:xfrm>
            <a:custGeom>
              <a:avLst/>
              <a:gdLst>
                <a:gd name="textAreaLeft" fmla="*/ 93960 w 601200"/>
                <a:gd name="textAreaRight" fmla="*/ 526320 w 601200"/>
                <a:gd name="textAreaTop" fmla="*/ 54000 h 216000"/>
                <a:gd name="textAreaBottom" fmla="*/ 162000 h 216000"/>
              </a:gdLst>
              <a:ahLst/>
              <a:rect l="textAreaLeft" t="textAreaTop" r="textAreaRight" b="textAreaBottom"/>
              <a:pathLst>
                <a:path w="21600" h="21600">
                  <a:moveTo>
                    <a:pt x="3375" y="5400"/>
                  </a:moveTo>
                  <a:lnTo>
                    <a:pt x="16200" y="5400"/>
                  </a:lnTo>
                  <a:lnTo>
                    <a:pt x="16200" y="0"/>
                  </a:lnTo>
                  <a:lnTo>
                    <a:pt x="21600" y="10800"/>
                  </a:lnTo>
                  <a:lnTo>
                    <a:pt x="16200" y="21600"/>
                  </a:lnTo>
                  <a:lnTo>
                    <a:pt x="16200" y="16200"/>
                  </a:lnTo>
                  <a:lnTo>
                    <a:pt x="3375" y="16200"/>
                  </a:lnTo>
                  <a:close/>
                </a:path>
                <a:path w="21600" h="21600">
                  <a:moveTo>
                    <a:pt x="0" y="5400"/>
                  </a:moveTo>
                  <a:lnTo>
                    <a:pt x="675" y="5400"/>
                  </a:lnTo>
                  <a:lnTo>
                    <a:pt x="675" y="16200"/>
                  </a:lnTo>
                  <a:lnTo>
                    <a:pt x="0" y="16200"/>
                  </a:lnTo>
                  <a:close/>
                </a:path>
                <a:path w="21600" h="21600">
                  <a:moveTo>
                    <a:pt x="1350" y="5400"/>
                  </a:moveTo>
                  <a:lnTo>
                    <a:pt x="2700" y="5400"/>
                  </a:lnTo>
                  <a:lnTo>
                    <a:pt x="2700" y="16200"/>
                  </a:lnTo>
                  <a:lnTo>
                    <a:pt x="1350" y="16200"/>
                  </a:lnTo>
                  <a:close/>
                </a:path>
              </a:pathLst>
            </a:custGeom>
            <a:solidFill>
              <a:srgbClr val="00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8" name=""/>
          <p:cNvSpPr/>
          <p:nvPr/>
        </p:nvSpPr>
        <p:spPr>
          <a:xfrm>
            <a:off x="2463480" y="3454560"/>
            <a:ext cx="42444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变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9" name=""/>
          <p:cNvSpPr/>
          <p:nvPr/>
        </p:nvSpPr>
        <p:spPr>
          <a:xfrm>
            <a:off x="4263840" y="3454560"/>
            <a:ext cx="42444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0" name=""/>
          <p:cNvSpPr/>
          <p:nvPr/>
        </p:nvSpPr>
        <p:spPr>
          <a:xfrm>
            <a:off x="5776560" y="3454560"/>
            <a:ext cx="42444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1" name=""/>
          <p:cNvSpPr/>
          <p:nvPr/>
        </p:nvSpPr>
        <p:spPr>
          <a:xfrm>
            <a:off x="7432200" y="3525840"/>
            <a:ext cx="42444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2" name=""/>
          <p:cNvSpPr/>
          <p:nvPr/>
        </p:nvSpPr>
        <p:spPr>
          <a:xfrm>
            <a:off x="684360" y="4724280"/>
            <a:ext cx="755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3.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能灵活运用适当方法解二元一次方程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3" name=""/>
          <p:cNvSpPr/>
          <p:nvPr/>
        </p:nvSpPr>
        <p:spPr>
          <a:xfrm>
            <a:off x="2334600" y="5734080"/>
            <a:ext cx="4060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作业：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P12  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习题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.2   A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组   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28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15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2000"/>
                                        <p:tgtEl>
                                          <p:spTgt spid="1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3">
                                  <p:stCondLst>
                                    <p:cond delay="0"/>
                                  </p:stCondLst>
                                  <p:iterate type="lt">
                                    <p:tmAbs val="16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800"/>
                                        <p:tgtEl>
                                          <p:spTgt spid="153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4" dur="8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8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800" fill="hold"/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9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800"/>
                                        <p:tgtEl>
                                          <p:spTgt spid="153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8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8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800" fill="hold"/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800"/>
                                        <p:tgtEl>
                                          <p:spTgt spid="15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0" dur="8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8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800" fill="hold"/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800"/>
                                        <p:tgtEl>
                                          <p:spTgt spid="1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8" dur="8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8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800" fill="hold"/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7" dur="2000"/>
                                        <p:tgtEl>
                                          <p:spTgt spid="1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205"/>
                                  </p:iterate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282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283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28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2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"/>
          <p:cNvSpPr/>
          <p:nvPr/>
        </p:nvSpPr>
        <p:spPr>
          <a:xfrm>
            <a:off x="3774960" y="115920"/>
            <a:ext cx="154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黑体"/>
              </a:rPr>
              <a:t>鸡兔同笼问题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6" name=""/>
          <p:cNvSpPr/>
          <p:nvPr/>
        </p:nvSpPr>
        <p:spPr>
          <a:xfrm>
            <a:off x="2195640" y="549360"/>
            <a:ext cx="61722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今有鸡兔同笼，上有三十五头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  <a:ea typeface="黑体"/>
              </a:rPr>
              <a:t>下有九十四足。问鸡兔各几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7" name=""/>
          <p:cNvSpPr/>
          <p:nvPr/>
        </p:nvSpPr>
        <p:spPr>
          <a:xfrm>
            <a:off x="611280" y="1773360"/>
            <a:ext cx="7848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方法一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解设有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只鸡，则有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(35-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)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只兔子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根据题意得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＋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4(35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-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)=94</a:t>
            </a: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       </a:t>
            </a:r>
            <a:r>
              <a:rPr b="1" i="1" lang="en-US" sz="2800" spc="-1" strike="noStrike">
                <a:solidFill>
                  <a:srgbClr val="000099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=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35-23 = 12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（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只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答：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23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只鸡，有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</a:rPr>
              <a:t>12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  <a:ea typeface="黑体"/>
              </a:rPr>
              <a:t>只兔子</a:t>
            </a:r>
            <a:r>
              <a:rPr b="1" lang="zh-CN" sz="2800" spc="-1" strike="noStrike">
                <a:solidFill>
                  <a:srgbClr val="000099"/>
                </a:solidFill>
                <a:latin typeface="Arial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8" name=""/>
          <p:cNvSpPr/>
          <p:nvPr/>
        </p:nvSpPr>
        <p:spPr>
          <a:xfrm>
            <a:off x="179280" y="3645000"/>
            <a:ext cx="7543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方法二：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解设有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只鸡，有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只兔，由题意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9" name=""/>
          <p:cNvSpPr/>
          <p:nvPr/>
        </p:nvSpPr>
        <p:spPr>
          <a:xfrm>
            <a:off x="2052000" y="5300640"/>
            <a:ext cx="2741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思考：如何解此方程组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0" name=""/>
          <p:cNvGrpSpPr/>
          <p:nvPr/>
        </p:nvGrpSpPr>
        <p:grpSpPr>
          <a:xfrm>
            <a:off x="179280" y="189000"/>
            <a:ext cx="2476440" cy="736200"/>
            <a:chOff x="179280" y="189000"/>
            <a:chExt cx="2476440" cy="736200"/>
          </a:xfrm>
        </p:grpSpPr>
        <p:sp>
          <p:nvSpPr>
            <p:cNvPr id="1081" name=""/>
            <p:cNvSpPr/>
            <p:nvPr/>
          </p:nvSpPr>
          <p:spPr>
            <a:xfrm>
              <a:off x="179280" y="189000"/>
              <a:ext cx="2476440" cy="636120"/>
            </a:xfrm>
            <a:prstGeom prst="rect">
              <a:avLst/>
            </a:prstGeom>
            <a:gradFill rotWithShape="0">
              <a:gsLst>
                <a:gs pos="0">
                  <a:srgbClr val="b8e0be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2" name=""/>
            <p:cNvSpPr/>
            <p:nvPr/>
          </p:nvSpPr>
          <p:spPr>
            <a:xfrm>
              <a:off x="489600" y="648360"/>
              <a:ext cx="2106000" cy="17676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3" name=""/>
            <p:cNvGrpSpPr/>
            <p:nvPr/>
          </p:nvGrpSpPr>
          <p:grpSpPr>
            <a:xfrm>
              <a:off x="225720" y="235800"/>
              <a:ext cx="518400" cy="589320"/>
              <a:chOff x="225720" y="235800"/>
              <a:chExt cx="518400" cy="589320"/>
            </a:xfrm>
          </p:grpSpPr>
          <p:grpSp>
            <p:nvGrpSpPr>
              <p:cNvPr id="1084" name=""/>
              <p:cNvGrpSpPr/>
              <p:nvPr/>
            </p:nvGrpSpPr>
            <p:grpSpPr>
              <a:xfrm>
                <a:off x="260640" y="298800"/>
                <a:ext cx="483480" cy="526320"/>
                <a:chOff x="260640" y="298800"/>
                <a:chExt cx="483480" cy="526320"/>
              </a:xfrm>
            </p:grpSpPr>
            <p:sp>
              <p:nvSpPr>
                <p:cNvPr id="1085" name=""/>
                <p:cNvSpPr/>
                <p:nvPr/>
              </p:nvSpPr>
              <p:spPr>
                <a:xfrm>
                  <a:off x="288360" y="298800"/>
                  <a:ext cx="416880" cy="4986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66"/>
                    </a:gs>
                    <a:gs pos="100000">
                      <a:srgbClr val="ffcc00"/>
                    </a:gs>
                  </a:gsLst>
                  <a:lin ang="13500000"/>
                </a:gradFill>
                <a:ln w="1260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086" name=""/>
                <p:cNvGrpSpPr/>
                <p:nvPr/>
              </p:nvGrpSpPr>
              <p:grpSpPr>
                <a:xfrm>
                  <a:off x="260640" y="368640"/>
                  <a:ext cx="483480" cy="456480"/>
                  <a:chOff x="260640" y="368640"/>
                  <a:chExt cx="483480" cy="456480"/>
                </a:xfrm>
              </p:grpSpPr>
              <p:sp>
                <p:nvSpPr>
                  <p:cNvPr id="1087" name="未知"/>
                  <p:cNvSpPr/>
                  <p:nvPr/>
                </p:nvSpPr>
                <p:spPr>
                  <a:xfrm>
                    <a:off x="260640" y="484920"/>
                    <a:ext cx="367560" cy="69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317">
                        <a:moveTo>
                          <a:pt x="0" y="0"/>
                        </a:moveTo>
                        <a:lnTo>
                          <a:pt x="817" y="227"/>
                        </a:lnTo>
                        <a:lnTo>
                          <a:pt x="1497" y="45"/>
                        </a:lnTo>
                        <a:lnTo>
                          <a:pt x="1497" y="136"/>
                        </a:lnTo>
                        <a:lnTo>
                          <a:pt x="817" y="317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100000">
                        <a:srgbClr val="ff99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22680" bIns="22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8" name="未知"/>
                  <p:cNvSpPr/>
                  <p:nvPr/>
                </p:nvSpPr>
                <p:spPr>
                  <a:xfrm>
                    <a:off x="260640" y="444960"/>
                    <a:ext cx="367560" cy="8964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409">
                        <a:moveTo>
                          <a:pt x="0" y="182"/>
                        </a:moveTo>
                        <a:lnTo>
                          <a:pt x="817" y="409"/>
                        </a:lnTo>
                        <a:lnTo>
                          <a:pt x="1497" y="227"/>
                        </a:lnTo>
                        <a:lnTo>
                          <a:pt x="590" y="0"/>
                        </a:lnTo>
                        <a:lnTo>
                          <a:pt x="0" y="182"/>
                        </a:lnTo>
                        <a:close/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840" bIns="428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89" name="未知"/>
                  <p:cNvSpPr/>
                  <p:nvPr/>
                </p:nvSpPr>
                <p:spPr>
                  <a:xfrm>
                    <a:off x="294120" y="514800"/>
                    <a:ext cx="289800" cy="8928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408">
                        <a:moveTo>
                          <a:pt x="0" y="0"/>
                        </a:moveTo>
                        <a:lnTo>
                          <a:pt x="726" y="181"/>
                        </a:lnTo>
                        <a:lnTo>
                          <a:pt x="1180" y="45"/>
                        </a:lnTo>
                        <a:lnTo>
                          <a:pt x="1134" y="227"/>
                        </a:lnTo>
                        <a:lnTo>
                          <a:pt x="726" y="408"/>
                        </a:lnTo>
                        <a:lnTo>
                          <a:pt x="46" y="1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2480" bIns="424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0" name="未知"/>
                  <p:cNvSpPr/>
                  <p:nvPr/>
                </p:nvSpPr>
                <p:spPr>
                  <a:xfrm>
                    <a:off x="416520" y="584280"/>
                    <a:ext cx="33480" cy="11952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545">
                        <a:moveTo>
                          <a:pt x="0" y="0"/>
                        </a:moveTo>
                        <a:lnTo>
                          <a:pt x="136" y="46"/>
                        </a:lnTo>
                        <a:lnTo>
                          <a:pt x="91" y="136"/>
                        </a:lnTo>
                        <a:lnTo>
                          <a:pt x="136" y="318"/>
                        </a:lnTo>
                        <a:lnTo>
                          <a:pt x="136" y="545"/>
                        </a:lnTo>
                        <a:lnTo>
                          <a:pt x="46" y="545"/>
                        </a:lnTo>
                        <a:lnTo>
                          <a:pt x="0" y="318"/>
                        </a:lnTo>
                        <a:lnTo>
                          <a:pt x="0" y="1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1" name="未知"/>
                  <p:cNvSpPr/>
                  <p:nvPr/>
                </p:nvSpPr>
                <p:spPr>
                  <a:xfrm>
                    <a:off x="406080" y="689400"/>
                    <a:ext cx="64080" cy="2448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58">
                        <a:moveTo>
                          <a:pt x="181" y="106"/>
                        </a:moveTo>
                        <a:cubicBezTo>
                          <a:pt x="151" y="106"/>
                          <a:pt x="106" y="121"/>
                          <a:pt x="91" y="106"/>
                        </a:cubicBezTo>
                        <a:cubicBezTo>
                          <a:pt x="76" y="91"/>
                          <a:pt x="106" y="15"/>
                          <a:pt x="91" y="15"/>
                        </a:cubicBezTo>
                        <a:cubicBezTo>
                          <a:pt x="76" y="15"/>
                          <a:pt x="0" y="83"/>
                          <a:pt x="0" y="106"/>
                        </a:cubicBezTo>
                        <a:cubicBezTo>
                          <a:pt x="0" y="129"/>
                          <a:pt x="46" y="144"/>
                          <a:pt x="91" y="151"/>
                        </a:cubicBezTo>
                        <a:cubicBezTo>
                          <a:pt x="136" y="158"/>
                          <a:pt x="227" y="158"/>
                          <a:pt x="272" y="151"/>
                        </a:cubicBezTo>
                        <a:cubicBezTo>
                          <a:pt x="317" y="144"/>
                          <a:pt x="356" y="129"/>
                          <a:pt x="363" y="106"/>
                        </a:cubicBezTo>
                        <a:cubicBezTo>
                          <a:pt x="370" y="83"/>
                          <a:pt x="340" y="30"/>
                          <a:pt x="317" y="15"/>
                        </a:cubicBezTo>
                        <a:cubicBezTo>
                          <a:pt x="294" y="0"/>
                          <a:pt x="234" y="0"/>
                          <a:pt x="227" y="15"/>
                        </a:cubicBezTo>
                        <a:cubicBezTo>
                          <a:pt x="220" y="30"/>
                          <a:pt x="280" y="91"/>
                          <a:pt x="272" y="106"/>
                        </a:cubicBezTo>
                        <a:cubicBezTo>
                          <a:pt x="264" y="121"/>
                          <a:pt x="211" y="106"/>
                          <a:pt x="181" y="10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e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2320" bIns="-2232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2" name="未知"/>
                  <p:cNvSpPr/>
                  <p:nvPr/>
                </p:nvSpPr>
                <p:spPr>
                  <a:xfrm>
                    <a:off x="311760" y="684720"/>
                    <a:ext cx="275400" cy="140400"/>
                  </a:xfrm>
                  <a:custGeom>
                    <a:avLst/>
                    <a:gdLst/>
                    <a:ahLst/>
                    <a:rect l="l" t="t" r="r" b="b"/>
                    <a:pathLst>
                      <a:path w="1587" h="907">
                        <a:moveTo>
                          <a:pt x="1496" y="0"/>
                        </a:moveTo>
                        <a:lnTo>
                          <a:pt x="1587" y="90"/>
                        </a:lnTo>
                        <a:lnTo>
                          <a:pt x="1496" y="181"/>
                        </a:lnTo>
                        <a:lnTo>
                          <a:pt x="907" y="499"/>
                        </a:lnTo>
                        <a:lnTo>
                          <a:pt x="1224" y="589"/>
                        </a:lnTo>
                        <a:lnTo>
                          <a:pt x="1406" y="725"/>
                        </a:lnTo>
                        <a:lnTo>
                          <a:pt x="1360" y="861"/>
                        </a:lnTo>
                        <a:lnTo>
                          <a:pt x="1270" y="907"/>
                        </a:lnTo>
                        <a:lnTo>
                          <a:pt x="1134" y="816"/>
                        </a:lnTo>
                        <a:lnTo>
                          <a:pt x="771" y="725"/>
                        </a:lnTo>
                        <a:lnTo>
                          <a:pt x="226" y="635"/>
                        </a:lnTo>
                        <a:lnTo>
                          <a:pt x="90" y="635"/>
                        </a:lnTo>
                        <a:lnTo>
                          <a:pt x="0" y="544"/>
                        </a:lnTo>
                        <a:lnTo>
                          <a:pt x="90" y="453"/>
                        </a:lnTo>
                        <a:lnTo>
                          <a:pt x="362" y="453"/>
                        </a:lnTo>
                        <a:lnTo>
                          <a:pt x="589" y="453"/>
                        </a:lnTo>
                        <a:lnTo>
                          <a:pt x="680" y="453"/>
                        </a:lnTo>
                        <a:lnTo>
                          <a:pt x="635" y="362"/>
                        </a:lnTo>
                        <a:lnTo>
                          <a:pt x="589" y="226"/>
                        </a:lnTo>
                        <a:lnTo>
                          <a:pt x="544" y="136"/>
                        </a:lnTo>
                        <a:lnTo>
                          <a:pt x="635" y="181"/>
                        </a:lnTo>
                        <a:lnTo>
                          <a:pt x="771" y="181"/>
                        </a:lnTo>
                        <a:lnTo>
                          <a:pt x="861" y="181"/>
                        </a:lnTo>
                        <a:lnTo>
                          <a:pt x="907" y="90"/>
                        </a:lnTo>
                        <a:lnTo>
                          <a:pt x="907" y="226"/>
                        </a:lnTo>
                        <a:lnTo>
                          <a:pt x="861" y="362"/>
                        </a:lnTo>
                        <a:lnTo>
                          <a:pt x="1224" y="181"/>
                        </a:lnTo>
                        <a:lnTo>
                          <a:pt x="1360" y="136"/>
                        </a:lnTo>
                        <a:lnTo>
                          <a:pt x="1406" y="45"/>
                        </a:lnTo>
                        <a:lnTo>
                          <a:pt x="149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3" name="未知"/>
                  <p:cNvSpPr/>
                  <p:nvPr/>
                </p:nvSpPr>
                <p:spPr>
                  <a:xfrm>
                    <a:off x="563760" y="593280"/>
                    <a:ext cx="141480" cy="112320"/>
                  </a:xfrm>
                  <a:custGeom>
                    <a:avLst/>
                    <a:gdLst/>
                    <a:ahLst/>
                    <a:rect l="l" t="t" r="r" b="b"/>
                    <a:pathLst>
                      <a:path w="817" h="726">
                        <a:moveTo>
                          <a:pt x="182" y="0"/>
                        </a:moveTo>
                        <a:lnTo>
                          <a:pt x="182" y="136"/>
                        </a:lnTo>
                        <a:lnTo>
                          <a:pt x="227" y="317"/>
                        </a:lnTo>
                        <a:lnTo>
                          <a:pt x="227" y="408"/>
                        </a:lnTo>
                        <a:lnTo>
                          <a:pt x="0" y="499"/>
                        </a:lnTo>
                        <a:lnTo>
                          <a:pt x="0" y="590"/>
                        </a:lnTo>
                        <a:lnTo>
                          <a:pt x="136" y="635"/>
                        </a:lnTo>
                        <a:lnTo>
                          <a:pt x="136" y="726"/>
                        </a:lnTo>
                        <a:lnTo>
                          <a:pt x="272" y="635"/>
                        </a:lnTo>
                        <a:lnTo>
                          <a:pt x="363" y="590"/>
                        </a:lnTo>
                        <a:lnTo>
                          <a:pt x="454" y="590"/>
                        </a:lnTo>
                        <a:lnTo>
                          <a:pt x="635" y="635"/>
                        </a:lnTo>
                        <a:lnTo>
                          <a:pt x="771" y="635"/>
                        </a:lnTo>
                        <a:lnTo>
                          <a:pt x="817" y="544"/>
                        </a:lnTo>
                        <a:lnTo>
                          <a:pt x="635" y="453"/>
                        </a:lnTo>
                        <a:lnTo>
                          <a:pt x="499" y="453"/>
                        </a:lnTo>
                        <a:lnTo>
                          <a:pt x="408" y="272"/>
                        </a:lnTo>
                        <a:lnTo>
                          <a:pt x="408" y="45"/>
                        </a:lnTo>
                        <a:lnTo>
                          <a:pt x="18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4" name="未知"/>
                  <p:cNvSpPr/>
                  <p:nvPr/>
                </p:nvSpPr>
                <p:spPr>
                  <a:xfrm>
                    <a:off x="532080" y="368640"/>
                    <a:ext cx="212040" cy="231840"/>
                  </a:xfrm>
                  <a:custGeom>
                    <a:avLst/>
                    <a:gdLst/>
                    <a:ahLst/>
                    <a:rect l="l" t="t" r="r" b="b"/>
                    <a:pathLst>
                      <a:path w="1224" h="1497">
                        <a:moveTo>
                          <a:pt x="0" y="1361"/>
                        </a:moveTo>
                        <a:lnTo>
                          <a:pt x="136" y="1316"/>
                        </a:lnTo>
                        <a:lnTo>
                          <a:pt x="635" y="1407"/>
                        </a:lnTo>
                        <a:lnTo>
                          <a:pt x="1088" y="1044"/>
                        </a:lnTo>
                        <a:lnTo>
                          <a:pt x="1043" y="227"/>
                        </a:lnTo>
                        <a:lnTo>
                          <a:pt x="317" y="136"/>
                        </a:lnTo>
                        <a:lnTo>
                          <a:pt x="317" y="46"/>
                        </a:lnTo>
                        <a:lnTo>
                          <a:pt x="453" y="0"/>
                        </a:lnTo>
                        <a:lnTo>
                          <a:pt x="1134" y="91"/>
                        </a:lnTo>
                        <a:lnTo>
                          <a:pt x="1224" y="1134"/>
                        </a:lnTo>
                        <a:lnTo>
                          <a:pt x="861" y="1407"/>
                        </a:lnTo>
                        <a:lnTo>
                          <a:pt x="680" y="1497"/>
                        </a:lnTo>
                        <a:lnTo>
                          <a:pt x="0" y="136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66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95" name="未知"/>
                  <p:cNvSpPr/>
                  <p:nvPr/>
                </p:nvSpPr>
                <p:spPr>
                  <a:xfrm>
                    <a:off x="547920" y="389520"/>
                    <a:ext cx="172800" cy="18972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1225">
                        <a:moveTo>
                          <a:pt x="227" y="0"/>
                        </a:moveTo>
                        <a:lnTo>
                          <a:pt x="227" y="454"/>
                        </a:lnTo>
                        <a:lnTo>
                          <a:pt x="136" y="590"/>
                        </a:lnTo>
                        <a:lnTo>
                          <a:pt x="454" y="635"/>
                        </a:lnTo>
                        <a:lnTo>
                          <a:pt x="454" y="817"/>
                        </a:lnTo>
                        <a:lnTo>
                          <a:pt x="227" y="862"/>
                        </a:lnTo>
                        <a:lnTo>
                          <a:pt x="136" y="1089"/>
                        </a:lnTo>
                        <a:lnTo>
                          <a:pt x="0" y="1180"/>
                        </a:lnTo>
                        <a:lnTo>
                          <a:pt x="545" y="1225"/>
                        </a:lnTo>
                        <a:lnTo>
                          <a:pt x="998" y="908"/>
                        </a:lnTo>
                        <a:lnTo>
                          <a:pt x="953" y="9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96" name=""/>
              <p:cNvGrpSpPr/>
              <p:nvPr/>
            </p:nvGrpSpPr>
            <p:grpSpPr>
              <a:xfrm>
                <a:off x="225720" y="235800"/>
                <a:ext cx="243720" cy="168120"/>
                <a:chOff x="225720" y="235800"/>
                <a:chExt cx="243720" cy="168120"/>
              </a:xfrm>
            </p:grpSpPr>
            <p:sp>
              <p:nvSpPr>
                <p:cNvPr id="1097" name="未知"/>
                <p:cNvSpPr/>
                <p:nvPr/>
              </p:nvSpPr>
              <p:spPr>
                <a:xfrm>
                  <a:off x="225720" y="305640"/>
                  <a:ext cx="141480" cy="98280"/>
                </a:xfrm>
                <a:custGeom>
                  <a:avLst/>
                  <a:gdLst/>
                  <a:ahLst/>
                  <a:rect l="l" t="t" r="r" b="b"/>
                  <a:pathLst>
                    <a:path w="816" h="635">
                      <a:moveTo>
                        <a:pt x="816" y="499"/>
                      </a:moveTo>
                      <a:lnTo>
                        <a:pt x="635" y="635"/>
                      </a:lnTo>
                      <a:lnTo>
                        <a:pt x="45" y="136"/>
                      </a:lnTo>
                      <a:lnTo>
                        <a:pt x="0" y="0"/>
                      </a:lnTo>
                      <a:lnTo>
                        <a:pt x="816" y="49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99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8" name="未知"/>
                <p:cNvSpPr/>
                <p:nvPr/>
              </p:nvSpPr>
              <p:spPr>
                <a:xfrm>
                  <a:off x="296280" y="235800"/>
                  <a:ext cx="117720" cy="140400"/>
                </a:xfrm>
                <a:custGeom>
                  <a:avLst/>
                  <a:gdLst/>
                  <a:ahLst/>
                  <a:rect l="l" t="t" r="r" b="b"/>
                  <a:pathLst>
                    <a:path w="680" h="907">
                      <a:moveTo>
                        <a:pt x="453" y="907"/>
                      </a:moveTo>
                      <a:lnTo>
                        <a:pt x="680" y="771"/>
                      </a:lnTo>
                      <a:lnTo>
                        <a:pt x="0" y="0"/>
                      </a:lnTo>
                      <a:lnTo>
                        <a:pt x="0" y="136"/>
                      </a:lnTo>
                      <a:lnTo>
                        <a:pt x="453" y="90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8a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99" name="未知"/>
                <p:cNvSpPr/>
                <p:nvPr/>
              </p:nvSpPr>
              <p:spPr>
                <a:xfrm>
                  <a:off x="398880" y="256680"/>
                  <a:ext cx="70560" cy="83880"/>
                </a:xfrm>
                <a:custGeom>
                  <a:avLst/>
                  <a:gdLst/>
                  <a:ahLst/>
                  <a:rect l="l" t="t" r="r" b="b"/>
                  <a:pathLst>
                    <a:path w="408" h="544">
                      <a:moveTo>
                        <a:pt x="226" y="544"/>
                      </a:moveTo>
                      <a:lnTo>
                        <a:pt x="408" y="499"/>
                      </a:lnTo>
                      <a:lnTo>
                        <a:pt x="90" y="0"/>
                      </a:lnTo>
                      <a:lnTo>
                        <a:pt x="0" y="90"/>
                      </a:lnTo>
                      <a:lnTo>
                        <a:pt x="226" y="5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35ad3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00" name=""/>
            <p:cNvSpPr txBox="1"/>
            <p:nvPr/>
          </p:nvSpPr>
          <p:spPr>
            <a:xfrm>
              <a:off x="785160" y="236880"/>
              <a:ext cx="1820520" cy="41256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6000" spc="-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黑体"/>
                </a:rPr>
                <a:t>复习回顾</a:t>
              </a:r>
              <a:endParaRPr b="1" i="1" lang="en-US" sz="60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1101" name=""/>
            <p:cNvSpPr/>
            <p:nvPr/>
          </p:nvSpPr>
          <p:spPr>
            <a:xfrm>
              <a:off x="1202400" y="558360"/>
              <a:ext cx="855360" cy="366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02" name=""/>
          <p:cNvGrpSpPr/>
          <p:nvPr/>
        </p:nvGrpSpPr>
        <p:grpSpPr>
          <a:xfrm>
            <a:off x="2627280" y="4149720"/>
            <a:ext cx="1715040" cy="947160"/>
            <a:chOff x="2627280" y="4149720"/>
            <a:chExt cx="1715040" cy="947160"/>
          </a:xfrm>
        </p:grpSpPr>
        <p:sp>
          <p:nvSpPr>
            <p:cNvPr id="1103" name=""/>
            <p:cNvSpPr/>
            <p:nvPr/>
          </p:nvSpPr>
          <p:spPr>
            <a:xfrm>
              <a:off x="2707920" y="4149720"/>
              <a:ext cx="16344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</a:rPr>
                <a:t>x+y</a:t>
              </a: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</a:rPr>
                <a:t>=3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</a:rPr>
                <a:t>+4</a:t>
              </a: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</a:rPr>
                <a:t>=9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4" name=""/>
            <p:cNvSpPr/>
            <p:nvPr/>
          </p:nvSpPr>
          <p:spPr>
            <a:xfrm>
              <a:off x="2627280" y="4435560"/>
              <a:ext cx="144720" cy="504720"/>
            </a:xfrm>
            <a:custGeom>
              <a:avLst/>
              <a:gdLst>
                <a:gd name="textAreaLeft" fmla="*/ 92520 w 144720"/>
                <a:gd name="textAreaRight" fmla="*/ 145080 w 144720"/>
                <a:gd name="textAreaTop" fmla="*/ 12960 h 504720"/>
                <a:gd name="textAreaBottom" fmla="*/ 49176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2000"/>
                                        <p:tgtEl>
                                          <p:spTgt spid="10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1000"/>
                                        <p:tgtEl>
                                          <p:spTgt spid="10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0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10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" dur="1000"/>
                                        <p:tgtEl>
                                          <p:spTgt spid="10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5" name=""/>
          <p:cNvSpPr/>
          <p:nvPr/>
        </p:nvSpPr>
        <p:spPr>
          <a:xfrm>
            <a:off x="324000" y="1413000"/>
            <a:ext cx="1752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Arial"/>
                <a:ea typeface="黑体"/>
              </a:rPr>
              <a:t>分析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6" name=""/>
          <p:cNvSpPr/>
          <p:nvPr/>
        </p:nvSpPr>
        <p:spPr>
          <a:xfrm>
            <a:off x="1835280" y="141912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⑴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、由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①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可得：</a:t>
            </a:r>
            <a:r>
              <a:rPr b="1" lang="zh-CN" sz="2800" spc="-1" strike="noStrike" u="sng">
                <a:solidFill>
                  <a:srgbClr val="000066"/>
                </a:solidFill>
                <a:uFillTx/>
                <a:latin typeface="黑体"/>
                <a:ea typeface="黑体"/>
              </a:rPr>
              <a:t>           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7" name=""/>
          <p:cNvSpPr/>
          <p:nvPr/>
        </p:nvSpPr>
        <p:spPr>
          <a:xfrm>
            <a:off x="900000" y="2133720"/>
            <a:ext cx="806472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⑵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、把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 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=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35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-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 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代入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得：</a:t>
            </a:r>
            <a:r>
              <a:rPr b="1" lang="zh-CN" sz="2800" spc="-1" strike="noStrike" u="sng">
                <a:solidFill>
                  <a:srgbClr val="000066"/>
                </a:solidFill>
                <a:uFillTx/>
                <a:latin typeface="黑体"/>
                <a:ea typeface="黑体"/>
              </a:rPr>
              <a:t>               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。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(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一元一次方程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8" name=""/>
          <p:cNvSpPr/>
          <p:nvPr/>
        </p:nvSpPr>
        <p:spPr>
          <a:xfrm>
            <a:off x="1042920" y="342900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⑶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、解方程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④</a:t>
            </a:r>
            <a:r>
              <a:rPr b="1" lang="zh-CN" sz="26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得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黑体"/>
              </a:rPr>
              <a:t>:</a:t>
            </a:r>
            <a:r>
              <a:rPr b="1" lang="en-US" sz="2800" spc="-1" strike="noStrike" u="sng">
                <a:solidFill>
                  <a:srgbClr val="000066"/>
                </a:solidFill>
                <a:uFillTx/>
                <a:latin typeface="Arial"/>
                <a:ea typeface="黑体"/>
              </a:rPr>
              <a:t>                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黑体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9" name=""/>
          <p:cNvSpPr/>
          <p:nvPr/>
        </p:nvSpPr>
        <p:spPr>
          <a:xfrm>
            <a:off x="1116000" y="4005360"/>
            <a:ext cx="4897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⑷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、把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=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23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代入</a:t>
            </a: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③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得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: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0" name=""/>
          <p:cNvGrpSpPr/>
          <p:nvPr/>
        </p:nvGrpSpPr>
        <p:grpSpPr>
          <a:xfrm>
            <a:off x="2987640" y="260280"/>
            <a:ext cx="2752920" cy="947160"/>
            <a:chOff x="2987640" y="260280"/>
            <a:chExt cx="2752920" cy="947160"/>
          </a:xfrm>
        </p:grpSpPr>
        <p:sp>
          <p:nvSpPr>
            <p:cNvPr id="1111" name=""/>
            <p:cNvSpPr/>
            <p:nvPr/>
          </p:nvSpPr>
          <p:spPr>
            <a:xfrm>
              <a:off x="3098880" y="260280"/>
              <a:ext cx="264168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x+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=35            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①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+4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=94        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②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2" name=""/>
            <p:cNvSpPr/>
            <p:nvPr/>
          </p:nvSpPr>
          <p:spPr>
            <a:xfrm>
              <a:off x="2987640" y="546120"/>
              <a:ext cx="144360" cy="50472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2960 h 504720"/>
                <a:gd name="textAreaBottom" fmla="*/ 49176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13" name=""/>
          <p:cNvSpPr/>
          <p:nvPr/>
        </p:nvSpPr>
        <p:spPr>
          <a:xfrm>
            <a:off x="4687200" y="1341360"/>
            <a:ext cx="1582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i="1" lang="zh-CN" sz="2800" spc="-1" strike="noStrike">
                <a:solidFill>
                  <a:srgbClr val="ff0000"/>
                </a:solidFill>
                <a:latin typeface="Times New Roman"/>
              </a:rPr>
              <a:t>＝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5</a:t>
            </a:r>
            <a:r>
              <a:rPr b="1" i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-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4" name=""/>
          <p:cNvSpPr/>
          <p:nvPr/>
        </p:nvSpPr>
        <p:spPr>
          <a:xfrm>
            <a:off x="5405400" y="2133720"/>
            <a:ext cx="264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＋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4(35</a:t>
            </a: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-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)=9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5" name=""/>
          <p:cNvSpPr/>
          <p:nvPr/>
        </p:nvSpPr>
        <p:spPr>
          <a:xfrm>
            <a:off x="6471000" y="1346040"/>
            <a:ext cx="461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③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6" name=""/>
          <p:cNvSpPr/>
          <p:nvPr/>
        </p:nvSpPr>
        <p:spPr>
          <a:xfrm>
            <a:off x="8344440" y="2060640"/>
            <a:ext cx="4611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Arial"/>
              </a:rPr>
              <a:t>④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7" name=""/>
          <p:cNvSpPr/>
          <p:nvPr/>
        </p:nvSpPr>
        <p:spPr>
          <a:xfrm>
            <a:off x="4212720" y="3357720"/>
            <a:ext cx="91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18" name=""/>
          <p:cNvGrpSpPr/>
          <p:nvPr/>
        </p:nvGrpSpPr>
        <p:grpSpPr>
          <a:xfrm>
            <a:off x="1589760" y="4581360"/>
            <a:ext cx="4350600" cy="1373760"/>
            <a:chOff x="1589760" y="4581360"/>
            <a:chExt cx="4350600" cy="1373760"/>
          </a:xfrm>
        </p:grpSpPr>
        <p:grpSp>
          <p:nvGrpSpPr>
            <p:cNvPr id="1119" name=""/>
            <p:cNvGrpSpPr/>
            <p:nvPr/>
          </p:nvGrpSpPr>
          <p:grpSpPr>
            <a:xfrm>
              <a:off x="4788000" y="4581360"/>
              <a:ext cx="1152360" cy="1373760"/>
              <a:chOff x="4788000" y="4581360"/>
              <a:chExt cx="1152360" cy="1373760"/>
            </a:xfrm>
          </p:grpSpPr>
          <p:sp>
            <p:nvSpPr>
              <p:cNvPr id="1120" name=""/>
              <p:cNvSpPr/>
              <p:nvPr/>
            </p:nvSpPr>
            <p:spPr>
              <a:xfrm>
                <a:off x="4867200" y="4581360"/>
                <a:ext cx="1073160" cy="1373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=23            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=1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1" name=""/>
              <p:cNvSpPr/>
              <p:nvPr/>
            </p:nvSpPr>
            <p:spPr>
              <a:xfrm>
                <a:off x="4788000" y="4867200"/>
                <a:ext cx="144360" cy="505080"/>
              </a:xfrm>
              <a:custGeom>
                <a:avLst/>
                <a:gdLst>
                  <a:gd name="textAreaLeft" fmla="*/ 92160 w 144360"/>
                  <a:gd name="textAreaRight" fmla="*/ 144360 w 144360"/>
                  <a:gd name="textAreaTop" fmla="*/ 12960 h 505080"/>
                  <a:gd name="textAreaBottom" fmla="*/ 492120 h 5050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122" name=""/>
            <p:cNvSpPr/>
            <p:nvPr/>
          </p:nvSpPr>
          <p:spPr>
            <a:xfrm>
              <a:off x="1589760" y="4798800"/>
              <a:ext cx="269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5</a:t>
              </a: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）原方程组的解是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1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1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1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" dur="1000"/>
                                        <p:tgtEl>
                                          <p:spTgt spid="1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" dur="1000"/>
                                        <p:tgtEl>
                                          <p:spTgt spid="1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123" name=""/>
          <p:cNvGrpSpPr/>
          <p:nvPr/>
        </p:nvGrpSpPr>
        <p:grpSpPr>
          <a:xfrm>
            <a:off x="250920" y="476280"/>
            <a:ext cx="5255640" cy="963720"/>
            <a:chOff x="250920" y="476280"/>
            <a:chExt cx="5255640" cy="963720"/>
          </a:xfrm>
        </p:grpSpPr>
        <p:sp>
          <p:nvSpPr>
            <p:cNvPr id="1124" name=""/>
            <p:cNvSpPr/>
            <p:nvPr/>
          </p:nvSpPr>
          <p:spPr>
            <a:xfrm>
              <a:off x="250920" y="763560"/>
              <a:ext cx="2626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6600"/>
                  </a:solidFill>
                  <a:latin typeface="黑体"/>
                  <a:ea typeface="黑体"/>
                </a:rPr>
                <a:t>例</a:t>
              </a:r>
              <a:r>
                <a:rPr b="1" lang="en-US" sz="2800" spc="-1" strike="noStrike">
                  <a:solidFill>
                    <a:srgbClr val="ff6600"/>
                  </a:solidFill>
                  <a:latin typeface="Times New Roman"/>
                  <a:ea typeface="黑体"/>
                </a:rPr>
                <a:t>1</a:t>
              </a: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  </a:t>
              </a:r>
              <a:r>
                <a:rPr b="1" lang="zh-CN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解方程组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5" name=""/>
            <p:cNvSpPr/>
            <p:nvPr/>
          </p:nvSpPr>
          <p:spPr>
            <a:xfrm>
              <a:off x="2877840" y="476280"/>
              <a:ext cx="2593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x –y = 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6" name=""/>
            <p:cNvSpPr/>
            <p:nvPr/>
          </p:nvSpPr>
          <p:spPr>
            <a:xfrm>
              <a:off x="2877840" y="919440"/>
              <a:ext cx="2242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3x -8 y = 14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7" name=""/>
            <p:cNvSpPr/>
            <p:nvPr/>
          </p:nvSpPr>
          <p:spPr>
            <a:xfrm>
              <a:off x="2808000" y="692280"/>
              <a:ext cx="69480" cy="598320"/>
            </a:xfrm>
            <a:custGeom>
              <a:avLst/>
              <a:gdLst>
                <a:gd name="textAreaLeft" fmla="*/ 44280 w 69480"/>
                <a:gd name="textAreaRight" fmla="*/ 69840 w 69480"/>
                <a:gd name="textAreaTop" fmla="*/ 15480 h 598320"/>
                <a:gd name="textAreaBottom" fmla="*/ 582840 h 59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28" name=""/>
            <p:cNvGrpSpPr/>
            <p:nvPr/>
          </p:nvGrpSpPr>
          <p:grpSpPr>
            <a:xfrm>
              <a:off x="4897080" y="476280"/>
              <a:ext cx="609480" cy="952200"/>
              <a:chOff x="4897080" y="476280"/>
              <a:chExt cx="609480" cy="952200"/>
            </a:xfrm>
          </p:grpSpPr>
          <p:sp>
            <p:nvSpPr>
              <p:cNvPr id="1129" name=""/>
              <p:cNvSpPr/>
              <p:nvPr/>
            </p:nvSpPr>
            <p:spPr>
              <a:xfrm>
                <a:off x="4897080" y="476280"/>
                <a:ext cx="60948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</a:rPr>
                  <a:t>①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0" name=""/>
              <p:cNvSpPr/>
              <p:nvPr/>
            </p:nvSpPr>
            <p:spPr>
              <a:xfrm>
                <a:off x="4897080" y="907920"/>
                <a:ext cx="5335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74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333399"/>
                    </a:solidFill>
                    <a:latin typeface="Times New Roman"/>
                  </a:rPr>
                  <a:t>②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31" name=""/>
          <p:cNvGrpSpPr/>
          <p:nvPr/>
        </p:nvGrpSpPr>
        <p:grpSpPr>
          <a:xfrm>
            <a:off x="5724360" y="404640"/>
            <a:ext cx="3419640" cy="1152360"/>
            <a:chOff x="5724360" y="404640"/>
            <a:chExt cx="3419640" cy="1152360"/>
          </a:xfrm>
        </p:grpSpPr>
        <p:sp>
          <p:nvSpPr>
            <p:cNvPr id="1132" name=""/>
            <p:cNvSpPr/>
            <p:nvPr/>
          </p:nvSpPr>
          <p:spPr>
            <a:xfrm>
              <a:off x="5724360" y="404640"/>
              <a:ext cx="3419640" cy="1152360"/>
            </a:xfrm>
            <a:prstGeom prst="ellipse">
              <a:avLst/>
            </a:prstGeom>
            <a:solidFill>
              <a:srgbClr val="990033"/>
            </a:solidFill>
            <a:ln w="9360">
              <a:solidFill>
                <a:srgbClr val="99003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3" name=""/>
            <p:cNvSpPr/>
            <p:nvPr/>
          </p:nvSpPr>
          <p:spPr>
            <a:xfrm>
              <a:off x="5727600" y="576000"/>
              <a:ext cx="3416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6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用代入法解二元一次方程组的一般步骤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34" name=""/>
          <p:cNvGrpSpPr/>
          <p:nvPr/>
        </p:nvGrpSpPr>
        <p:grpSpPr>
          <a:xfrm>
            <a:off x="250920" y="1413000"/>
            <a:ext cx="4537080" cy="520560"/>
            <a:chOff x="250920" y="1413000"/>
            <a:chExt cx="4537080" cy="520560"/>
          </a:xfrm>
        </p:grpSpPr>
        <p:sp>
          <p:nvSpPr>
            <p:cNvPr id="1135" name=""/>
            <p:cNvSpPr/>
            <p:nvPr/>
          </p:nvSpPr>
          <p:spPr>
            <a:xfrm>
              <a:off x="250920" y="1413000"/>
              <a:ext cx="3025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解：</a:t>
              </a:r>
              <a:r>
                <a:rPr b="1" lang="zh-CN" sz="2800" spc="-1" strike="noStrike">
                  <a:solidFill>
                    <a:srgbClr val="0000cc"/>
                  </a:solidFill>
                  <a:latin typeface="Arial"/>
                  <a:ea typeface="黑体"/>
                </a:rPr>
                <a:t>由①得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6" name=""/>
            <p:cNvSpPr/>
            <p:nvPr/>
          </p:nvSpPr>
          <p:spPr>
            <a:xfrm>
              <a:off x="2411280" y="1413000"/>
              <a:ext cx="2376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</a:rPr>
                <a:t> = 3+ </a:t>
              </a: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</a:rPr>
                <a:t>y </a:t>
              </a:r>
              <a:r>
                <a:rPr b="1" lang="zh-CN" sz="2600" spc="-1" strike="noStrike">
                  <a:solidFill>
                    <a:srgbClr val="0000cc"/>
                  </a:solidFill>
                  <a:latin typeface="Arial"/>
                  <a:ea typeface="黑体"/>
                </a:rPr>
                <a:t>③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37" name=""/>
          <p:cNvSpPr/>
          <p:nvPr/>
        </p:nvSpPr>
        <p:spPr>
          <a:xfrm>
            <a:off x="250920" y="3716280"/>
            <a:ext cx="3390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把③代入</a:t>
            </a:r>
            <a:r>
              <a:rPr b="1" lang="zh-CN" sz="2800" spc="-1" strike="noStrike">
                <a:solidFill>
                  <a:srgbClr val="0000cc"/>
                </a:solidFill>
                <a:latin typeface="Arial"/>
                <a:ea typeface="黑体"/>
              </a:rPr>
              <a:t>②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8" name=""/>
          <p:cNvSpPr/>
          <p:nvPr/>
        </p:nvSpPr>
        <p:spPr>
          <a:xfrm>
            <a:off x="755640" y="4257720"/>
            <a:ext cx="297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3(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3+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)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-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8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=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9" name=""/>
          <p:cNvSpPr/>
          <p:nvPr/>
        </p:nvSpPr>
        <p:spPr>
          <a:xfrm>
            <a:off x="826920" y="4869000"/>
            <a:ext cx="252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9+3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– 8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= 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0" name=""/>
          <p:cNvSpPr/>
          <p:nvPr/>
        </p:nvSpPr>
        <p:spPr>
          <a:xfrm>
            <a:off x="900000" y="5373720"/>
            <a:ext cx="2087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– 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5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= 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1" name=""/>
          <p:cNvSpPr/>
          <p:nvPr/>
        </p:nvSpPr>
        <p:spPr>
          <a:xfrm>
            <a:off x="1042920" y="5805360"/>
            <a:ext cx="17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= – 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2" name=""/>
          <p:cNvSpPr/>
          <p:nvPr/>
        </p:nvSpPr>
        <p:spPr>
          <a:xfrm>
            <a:off x="2340000" y="2133720"/>
            <a:ext cx="5327640" cy="52056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ff0000"/>
                </a:solidFill>
                <a:latin typeface="Times New Roman"/>
              </a:rPr>
              <a:t>、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将方程组里的一个方程变形，用含有一个未知数的式子表示另一个未知数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3" name=""/>
          <p:cNvGrpSpPr/>
          <p:nvPr/>
        </p:nvGrpSpPr>
        <p:grpSpPr>
          <a:xfrm>
            <a:off x="1126800" y="2492280"/>
            <a:ext cx="1098720" cy="581400"/>
            <a:chOff x="1126800" y="2492280"/>
            <a:chExt cx="1098720" cy="581400"/>
          </a:xfrm>
        </p:grpSpPr>
        <p:sp>
          <p:nvSpPr>
            <p:cNvPr id="1144" name=""/>
            <p:cNvSpPr/>
            <p:nvPr/>
          </p:nvSpPr>
          <p:spPr>
            <a:xfrm>
              <a:off x="1126800" y="2492280"/>
              <a:ext cx="424440" cy="581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5" name=""/>
            <p:cNvSpPr/>
            <p:nvPr/>
          </p:nvSpPr>
          <p:spPr>
            <a:xfrm>
              <a:off x="1692360" y="2708280"/>
              <a:ext cx="533160" cy="152280"/>
            </a:xfrm>
            <a:prstGeom prst="rightArrow">
              <a:avLst>
                <a:gd name="adj1" fmla="val 50000"/>
                <a:gd name="adj2" fmla="val 87530"/>
              </a:avLst>
            </a:prstGeom>
            <a:solidFill>
              <a:srgbClr val="ff33cc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46" name=""/>
          <p:cNvGrpSpPr/>
          <p:nvPr/>
        </p:nvGrpSpPr>
        <p:grpSpPr>
          <a:xfrm>
            <a:off x="3564000" y="4653000"/>
            <a:ext cx="1008000" cy="720720"/>
            <a:chOff x="3564000" y="4653000"/>
            <a:chExt cx="1008000" cy="720720"/>
          </a:xfrm>
        </p:grpSpPr>
        <p:sp>
          <p:nvSpPr>
            <p:cNvPr id="1147" name=""/>
            <p:cNvSpPr/>
            <p:nvPr/>
          </p:nvSpPr>
          <p:spPr>
            <a:xfrm>
              <a:off x="3792240" y="4653000"/>
              <a:ext cx="424440" cy="581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代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8" name=""/>
            <p:cNvSpPr/>
            <p:nvPr/>
          </p:nvSpPr>
          <p:spPr>
            <a:xfrm>
              <a:off x="3564000" y="5229360"/>
              <a:ext cx="1008000" cy="144360"/>
            </a:xfrm>
            <a:prstGeom prst="rightArrow">
              <a:avLst>
                <a:gd name="adj1" fmla="val 50000"/>
                <a:gd name="adj2" fmla="val 174564"/>
              </a:avLst>
            </a:prstGeom>
            <a:solidFill>
              <a:srgbClr val="ff33cc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5560" bIns="2556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49" name=""/>
          <p:cNvSpPr/>
          <p:nvPr/>
        </p:nvSpPr>
        <p:spPr>
          <a:xfrm>
            <a:off x="4716360" y="4292640"/>
            <a:ext cx="4191120" cy="947160"/>
          </a:xfrm>
          <a:prstGeom prst="rect">
            <a:avLst/>
          </a:prstGeom>
          <a:noFill/>
          <a:ln w="2556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、用这个式子代替另一个方程中相应的未知数，得到一个一元一次方程，求得一个未知数的值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50" name=""/>
          <p:cNvGrpSpPr/>
          <p:nvPr/>
        </p:nvGrpSpPr>
        <p:grpSpPr>
          <a:xfrm>
            <a:off x="179280" y="115920"/>
            <a:ext cx="2476440" cy="691920"/>
            <a:chOff x="179280" y="115920"/>
            <a:chExt cx="2476440" cy="691920"/>
          </a:xfrm>
        </p:grpSpPr>
        <p:sp>
          <p:nvSpPr>
            <p:cNvPr id="1151" name=""/>
            <p:cNvSpPr/>
            <p:nvPr/>
          </p:nvSpPr>
          <p:spPr>
            <a:xfrm>
              <a:off x="179280" y="115920"/>
              <a:ext cx="2476440" cy="559440"/>
            </a:xfrm>
            <a:prstGeom prst="rect">
              <a:avLst/>
            </a:prstGeom>
            <a:gradFill rotWithShape="0">
              <a:gsLst>
                <a:gs pos="0">
                  <a:srgbClr val="b8e0be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2" name=""/>
            <p:cNvSpPr/>
            <p:nvPr/>
          </p:nvSpPr>
          <p:spPr>
            <a:xfrm>
              <a:off x="489600" y="519840"/>
              <a:ext cx="2106000" cy="15516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53" name=""/>
            <p:cNvGrpSpPr/>
            <p:nvPr/>
          </p:nvGrpSpPr>
          <p:grpSpPr>
            <a:xfrm>
              <a:off x="225720" y="156960"/>
              <a:ext cx="518400" cy="518040"/>
              <a:chOff x="225720" y="156960"/>
              <a:chExt cx="518400" cy="518040"/>
            </a:xfrm>
          </p:grpSpPr>
          <p:grpSp>
            <p:nvGrpSpPr>
              <p:cNvPr id="1154" name=""/>
              <p:cNvGrpSpPr/>
              <p:nvPr/>
            </p:nvGrpSpPr>
            <p:grpSpPr>
              <a:xfrm>
                <a:off x="260640" y="212400"/>
                <a:ext cx="483480" cy="462600"/>
                <a:chOff x="260640" y="212400"/>
                <a:chExt cx="483480" cy="462600"/>
              </a:xfrm>
            </p:grpSpPr>
            <p:sp>
              <p:nvSpPr>
                <p:cNvPr id="1155" name=""/>
                <p:cNvSpPr/>
                <p:nvPr/>
              </p:nvSpPr>
              <p:spPr>
                <a:xfrm>
                  <a:off x="288360" y="212400"/>
                  <a:ext cx="416880" cy="43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66"/>
                    </a:gs>
                    <a:gs pos="100000">
                      <a:srgbClr val="ffcc00"/>
                    </a:gs>
                  </a:gsLst>
                  <a:lin ang="13500000"/>
                </a:gradFill>
                <a:ln w="1260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156" name=""/>
                <p:cNvGrpSpPr/>
                <p:nvPr/>
              </p:nvGrpSpPr>
              <p:grpSpPr>
                <a:xfrm>
                  <a:off x="260640" y="273960"/>
                  <a:ext cx="483480" cy="401040"/>
                  <a:chOff x="260640" y="273960"/>
                  <a:chExt cx="483480" cy="401040"/>
                </a:xfrm>
              </p:grpSpPr>
              <p:sp>
                <p:nvSpPr>
                  <p:cNvPr id="1157" name="未知"/>
                  <p:cNvSpPr/>
                  <p:nvPr/>
                </p:nvSpPr>
                <p:spPr>
                  <a:xfrm>
                    <a:off x="260640" y="376200"/>
                    <a:ext cx="36756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317">
                        <a:moveTo>
                          <a:pt x="0" y="0"/>
                        </a:moveTo>
                        <a:lnTo>
                          <a:pt x="817" y="227"/>
                        </a:lnTo>
                        <a:lnTo>
                          <a:pt x="1497" y="45"/>
                        </a:lnTo>
                        <a:lnTo>
                          <a:pt x="1497" y="136"/>
                        </a:lnTo>
                        <a:lnTo>
                          <a:pt x="817" y="317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100000">
                        <a:srgbClr val="ff99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8" name="未知"/>
                  <p:cNvSpPr/>
                  <p:nvPr/>
                </p:nvSpPr>
                <p:spPr>
                  <a:xfrm>
                    <a:off x="260640" y="340920"/>
                    <a:ext cx="36756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409">
                        <a:moveTo>
                          <a:pt x="0" y="182"/>
                        </a:moveTo>
                        <a:lnTo>
                          <a:pt x="817" y="409"/>
                        </a:lnTo>
                        <a:lnTo>
                          <a:pt x="1497" y="227"/>
                        </a:lnTo>
                        <a:lnTo>
                          <a:pt x="590" y="0"/>
                        </a:lnTo>
                        <a:lnTo>
                          <a:pt x="0" y="182"/>
                        </a:lnTo>
                        <a:close/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9" name="未知"/>
                  <p:cNvSpPr/>
                  <p:nvPr/>
                </p:nvSpPr>
                <p:spPr>
                  <a:xfrm>
                    <a:off x="294120" y="402120"/>
                    <a:ext cx="28980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408">
                        <a:moveTo>
                          <a:pt x="0" y="0"/>
                        </a:moveTo>
                        <a:lnTo>
                          <a:pt x="726" y="181"/>
                        </a:lnTo>
                        <a:lnTo>
                          <a:pt x="1180" y="45"/>
                        </a:lnTo>
                        <a:lnTo>
                          <a:pt x="1134" y="227"/>
                        </a:lnTo>
                        <a:lnTo>
                          <a:pt x="726" y="408"/>
                        </a:lnTo>
                        <a:lnTo>
                          <a:pt x="46" y="1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0" name="未知"/>
                  <p:cNvSpPr/>
                  <p:nvPr/>
                </p:nvSpPr>
                <p:spPr>
                  <a:xfrm>
                    <a:off x="416520" y="463320"/>
                    <a:ext cx="3348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545">
                        <a:moveTo>
                          <a:pt x="0" y="0"/>
                        </a:moveTo>
                        <a:lnTo>
                          <a:pt x="136" y="46"/>
                        </a:lnTo>
                        <a:lnTo>
                          <a:pt x="91" y="136"/>
                        </a:lnTo>
                        <a:lnTo>
                          <a:pt x="136" y="318"/>
                        </a:lnTo>
                        <a:lnTo>
                          <a:pt x="136" y="545"/>
                        </a:lnTo>
                        <a:lnTo>
                          <a:pt x="46" y="545"/>
                        </a:lnTo>
                        <a:lnTo>
                          <a:pt x="0" y="318"/>
                        </a:lnTo>
                        <a:lnTo>
                          <a:pt x="0" y="1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1" name="未知"/>
                  <p:cNvSpPr/>
                  <p:nvPr/>
                </p:nvSpPr>
                <p:spPr>
                  <a:xfrm>
                    <a:off x="406080" y="555840"/>
                    <a:ext cx="6408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58">
                        <a:moveTo>
                          <a:pt x="181" y="106"/>
                        </a:moveTo>
                        <a:cubicBezTo>
                          <a:pt x="151" y="106"/>
                          <a:pt x="106" y="121"/>
                          <a:pt x="91" y="106"/>
                        </a:cubicBezTo>
                        <a:cubicBezTo>
                          <a:pt x="76" y="91"/>
                          <a:pt x="106" y="15"/>
                          <a:pt x="91" y="15"/>
                        </a:cubicBezTo>
                        <a:cubicBezTo>
                          <a:pt x="76" y="15"/>
                          <a:pt x="0" y="83"/>
                          <a:pt x="0" y="106"/>
                        </a:cubicBezTo>
                        <a:cubicBezTo>
                          <a:pt x="0" y="129"/>
                          <a:pt x="46" y="144"/>
                          <a:pt x="91" y="151"/>
                        </a:cubicBezTo>
                        <a:cubicBezTo>
                          <a:pt x="136" y="158"/>
                          <a:pt x="227" y="158"/>
                          <a:pt x="272" y="151"/>
                        </a:cubicBezTo>
                        <a:cubicBezTo>
                          <a:pt x="317" y="144"/>
                          <a:pt x="356" y="129"/>
                          <a:pt x="363" y="106"/>
                        </a:cubicBezTo>
                        <a:cubicBezTo>
                          <a:pt x="370" y="83"/>
                          <a:pt x="340" y="30"/>
                          <a:pt x="317" y="15"/>
                        </a:cubicBezTo>
                        <a:cubicBezTo>
                          <a:pt x="294" y="0"/>
                          <a:pt x="234" y="0"/>
                          <a:pt x="227" y="15"/>
                        </a:cubicBezTo>
                        <a:cubicBezTo>
                          <a:pt x="220" y="30"/>
                          <a:pt x="280" y="91"/>
                          <a:pt x="272" y="106"/>
                        </a:cubicBezTo>
                        <a:cubicBezTo>
                          <a:pt x="264" y="121"/>
                          <a:pt x="211" y="106"/>
                          <a:pt x="181" y="10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e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2" name="未知"/>
                  <p:cNvSpPr/>
                  <p:nvPr/>
                </p:nvSpPr>
                <p:spPr>
                  <a:xfrm>
                    <a:off x="311760" y="551880"/>
                    <a:ext cx="275400" cy="12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587" h="907">
                        <a:moveTo>
                          <a:pt x="1496" y="0"/>
                        </a:moveTo>
                        <a:lnTo>
                          <a:pt x="1587" y="90"/>
                        </a:lnTo>
                        <a:lnTo>
                          <a:pt x="1496" y="181"/>
                        </a:lnTo>
                        <a:lnTo>
                          <a:pt x="907" y="499"/>
                        </a:lnTo>
                        <a:lnTo>
                          <a:pt x="1224" y="589"/>
                        </a:lnTo>
                        <a:lnTo>
                          <a:pt x="1406" y="725"/>
                        </a:lnTo>
                        <a:lnTo>
                          <a:pt x="1360" y="861"/>
                        </a:lnTo>
                        <a:lnTo>
                          <a:pt x="1270" y="907"/>
                        </a:lnTo>
                        <a:lnTo>
                          <a:pt x="1134" y="816"/>
                        </a:lnTo>
                        <a:lnTo>
                          <a:pt x="771" y="725"/>
                        </a:lnTo>
                        <a:lnTo>
                          <a:pt x="226" y="635"/>
                        </a:lnTo>
                        <a:lnTo>
                          <a:pt x="90" y="635"/>
                        </a:lnTo>
                        <a:lnTo>
                          <a:pt x="0" y="544"/>
                        </a:lnTo>
                        <a:lnTo>
                          <a:pt x="90" y="453"/>
                        </a:lnTo>
                        <a:lnTo>
                          <a:pt x="362" y="453"/>
                        </a:lnTo>
                        <a:lnTo>
                          <a:pt x="589" y="453"/>
                        </a:lnTo>
                        <a:lnTo>
                          <a:pt x="680" y="453"/>
                        </a:lnTo>
                        <a:lnTo>
                          <a:pt x="635" y="362"/>
                        </a:lnTo>
                        <a:lnTo>
                          <a:pt x="589" y="226"/>
                        </a:lnTo>
                        <a:lnTo>
                          <a:pt x="544" y="136"/>
                        </a:lnTo>
                        <a:lnTo>
                          <a:pt x="635" y="181"/>
                        </a:lnTo>
                        <a:lnTo>
                          <a:pt x="771" y="181"/>
                        </a:lnTo>
                        <a:lnTo>
                          <a:pt x="861" y="181"/>
                        </a:lnTo>
                        <a:lnTo>
                          <a:pt x="907" y="90"/>
                        </a:lnTo>
                        <a:lnTo>
                          <a:pt x="907" y="226"/>
                        </a:lnTo>
                        <a:lnTo>
                          <a:pt x="861" y="362"/>
                        </a:lnTo>
                        <a:lnTo>
                          <a:pt x="1224" y="181"/>
                        </a:lnTo>
                        <a:lnTo>
                          <a:pt x="1360" y="136"/>
                        </a:lnTo>
                        <a:lnTo>
                          <a:pt x="1406" y="45"/>
                        </a:lnTo>
                        <a:lnTo>
                          <a:pt x="149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3" name="未知"/>
                  <p:cNvSpPr/>
                  <p:nvPr/>
                </p:nvSpPr>
                <p:spPr>
                  <a:xfrm>
                    <a:off x="563760" y="471240"/>
                    <a:ext cx="1414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817" h="726">
                        <a:moveTo>
                          <a:pt x="182" y="0"/>
                        </a:moveTo>
                        <a:lnTo>
                          <a:pt x="182" y="136"/>
                        </a:lnTo>
                        <a:lnTo>
                          <a:pt x="227" y="317"/>
                        </a:lnTo>
                        <a:lnTo>
                          <a:pt x="227" y="408"/>
                        </a:lnTo>
                        <a:lnTo>
                          <a:pt x="0" y="499"/>
                        </a:lnTo>
                        <a:lnTo>
                          <a:pt x="0" y="590"/>
                        </a:lnTo>
                        <a:lnTo>
                          <a:pt x="136" y="635"/>
                        </a:lnTo>
                        <a:lnTo>
                          <a:pt x="136" y="726"/>
                        </a:lnTo>
                        <a:lnTo>
                          <a:pt x="272" y="635"/>
                        </a:lnTo>
                        <a:lnTo>
                          <a:pt x="363" y="590"/>
                        </a:lnTo>
                        <a:lnTo>
                          <a:pt x="454" y="590"/>
                        </a:lnTo>
                        <a:lnTo>
                          <a:pt x="635" y="635"/>
                        </a:lnTo>
                        <a:lnTo>
                          <a:pt x="771" y="635"/>
                        </a:lnTo>
                        <a:lnTo>
                          <a:pt x="817" y="544"/>
                        </a:lnTo>
                        <a:lnTo>
                          <a:pt x="635" y="453"/>
                        </a:lnTo>
                        <a:lnTo>
                          <a:pt x="499" y="453"/>
                        </a:lnTo>
                        <a:lnTo>
                          <a:pt x="408" y="272"/>
                        </a:lnTo>
                        <a:lnTo>
                          <a:pt x="408" y="45"/>
                        </a:lnTo>
                        <a:lnTo>
                          <a:pt x="18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4" name="未知"/>
                  <p:cNvSpPr/>
                  <p:nvPr/>
                </p:nvSpPr>
                <p:spPr>
                  <a:xfrm>
                    <a:off x="532080" y="273960"/>
                    <a:ext cx="212040" cy="20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224" h="1497">
                        <a:moveTo>
                          <a:pt x="0" y="1361"/>
                        </a:moveTo>
                        <a:lnTo>
                          <a:pt x="136" y="1316"/>
                        </a:lnTo>
                        <a:lnTo>
                          <a:pt x="635" y="1407"/>
                        </a:lnTo>
                        <a:lnTo>
                          <a:pt x="1088" y="1044"/>
                        </a:lnTo>
                        <a:lnTo>
                          <a:pt x="1043" y="227"/>
                        </a:lnTo>
                        <a:lnTo>
                          <a:pt x="317" y="136"/>
                        </a:lnTo>
                        <a:lnTo>
                          <a:pt x="317" y="46"/>
                        </a:lnTo>
                        <a:lnTo>
                          <a:pt x="453" y="0"/>
                        </a:lnTo>
                        <a:lnTo>
                          <a:pt x="1134" y="91"/>
                        </a:lnTo>
                        <a:lnTo>
                          <a:pt x="1224" y="1134"/>
                        </a:lnTo>
                        <a:lnTo>
                          <a:pt x="861" y="1407"/>
                        </a:lnTo>
                        <a:lnTo>
                          <a:pt x="680" y="1497"/>
                        </a:lnTo>
                        <a:lnTo>
                          <a:pt x="0" y="136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66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5" name="未知"/>
                  <p:cNvSpPr/>
                  <p:nvPr/>
                </p:nvSpPr>
                <p:spPr>
                  <a:xfrm>
                    <a:off x="547920" y="292320"/>
                    <a:ext cx="17280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1225">
                        <a:moveTo>
                          <a:pt x="227" y="0"/>
                        </a:moveTo>
                        <a:lnTo>
                          <a:pt x="227" y="454"/>
                        </a:lnTo>
                        <a:lnTo>
                          <a:pt x="136" y="590"/>
                        </a:lnTo>
                        <a:lnTo>
                          <a:pt x="454" y="635"/>
                        </a:lnTo>
                        <a:lnTo>
                          <a:pt x="454" y="817"/>
                        </a:lnTo>
                        <a:lnTo>
                          <a:pt x="227" y="862"/>
                        </a:lnTo>
                        <a:lnTo>
                          <a:pt x="136" y="1089"/>
                        </a:lnTo>
                        <a:lnTo>
                          <a:pt x="0" y="1180"/>
                        </a:lnTo>
                        <a:lnTo>
                          <a:pt x="545" y="1225"/>
                        </a:lnTo>
                        <a:lnTo>
                          <a:pt x="998" y="908"/>
                        </a:lnTo>
                        <a:lnTo>
                          <a:pt x="953" y="9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166" name=""/>
              <p:cNvGrpSpPr/>
              <p:nvPr/>
            </p:nvGrpSpPr>
            <p:grpSpPr>
              <a:xfrm>
                <a:off x="225720" y="156960"/>
                <a:ext cx="243720" cy="147960"/>
                <a:chOff x="225720" y="156960"/>
                <a:chExt cx="243720" cy="147960"/>
              </a:xfrm>
            </p:grpSpPr>
            <p:sp>
              <p:nvSpPr>
                <p:cNvPr id="1167" name="未知"/>
                <p:cNvSpPr/>
                <p:nvPr/>
              </p:nvSpPr>
              <p:spPr>
                <a:xfrm>
                  <a:off x="225720" y="218520"/>
                  <a:ext cx="141480" cy="86400"/>
                </a:xfrm>
                <a:custGeom>
                  <a:avLst/>
                  <a:gdLst/>
                  <a:ahLst/>
                  <a:rect l="l" t="t" r="r" b="b"/>
                  <a:pathLst>
                    <a:path w="816" h="635">
                      <a:moveTo>
                        <a:pt x="816" y="499"/>
                      </a:moveTo>
                      <a:lnTo>
                        <a:pt x="635" y="635"/>
                      </a:lnTo>
                      <a:lnTo>
                        <a:pt x="45" y="136"/>
                      </a:lnTo>
                      <a:lnTo>
                        <a:pt x="0" y="0"/>
                      </a:lnTo>
                      <a:lnTo>
                        <a:pt x="816" y="49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99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8" name="未知"/>
                <p:cNvSpPr/>
                <p:nvPr/>
              </p:nvSpPr>
              <p:spPr>
                <a:xfrm>
                  <a:off x="296280" y="156960"/>
                  <a:ext cx="117720" cy="123480"/>
                </a:xfrm>
                <a:custGeom>
                  <a:avLst/>
                  <a:gdLst/>
                  <a:ahLst/>
                  <a:rect l="l" t="t" r="r" b="b"/>
                  <a:pathLst>
                    <a:path w="680" h="907">
                      <a:moveTo>
                        <a:pt x="453" y="907"/>
                      </a:moveTo>
                      <a:lnTo>
                        <a:pt x="680" y="771"/>
                      </a:lnTo>
                      <a:lnTo>
                        <a:pt x="0" y="0"/>
                      </a:lnTo>
                      <a:lnTo>
                        <a:pt x="0" y="136"/>
                      </a:lnTo>
                      <a:lnTo>
                        <a:pt x="453" y="90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8a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9" name="未知"/>
                <p:cNvSpPr/>
                <p:nvPr/>
              </p:nvSpPr>
              <p:spPr>
                <a:xfrm>
                  <a:off x="398880" y="175320"/>
                  <a:ext cx="70560" cy="73800"/>
                </a:xfrm>
                <a:custGeom>
                  <a:avLst/>
                  <a:gdLst/>
                  <a:ahLst/>
                  <a:rect l="l" t="t" r="r" b="b"/>
                  <a:pathLst>
                    <a:path w="408" h="544">
                      <a:moveTo>
                        <a:pt x="226" y="544"/>
                      </a:moveTo>
                      <a:lnTo>
                        <a:pt x="408" y="499"/>
                      </a:lnTo>
                      <a:lnTo>
                        <a:pt x="90" y="0"/>
                      </a:lnTo>
                      <a:lnTo>
                        <a:pt x="0" y="90"/>
                      </a:lnTo>
                      <a:lnTo>
                        <a:pt x="226" y="5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35ad3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170" name=""/>
            <p:cNvSpPr txBox="1"/>
            <p:nvPr/>
          </p:nvSpPr>
          <p:spPr>
            <a:xfrm>
              <a:off x="785160" y="158040"/>
              <a:ext cx="1820520" cy="362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6000" spc="-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黑体"/>
                </a:rPr>
                <a:t>方法概括</a:t>
              </a:r>
              <a:endParaRPr b="1" i="1" lang="en-US" sz="60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1171" name=""/>
            <p:cNvSpPr/>
            <p:nvPr/>
          </p:nvSpPr>
          <p:spPr>
            <a:xfrm>
              <a:off x="1202400" y="440640"/>
              <a:ext cx="85536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9" fill="hold">
                            <p:stCondLst>
                              <p:cond delay="1200"/>
                            </p:stCondLst>
                            <p:childTnLst>
                              <p:par>
                                <p:cTn id="8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" fill="hold">
                            <p:stCondLst>
                              <p:cond delay="1500"/>
                            </p:stCondLst>
                            <p:childTnLst>
                              <p:par>
                                <p:cTn id="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2" name=""/>
          <p:cNvSpPr/>
          <p:nvPr/>
        </p:nvSpPr>
        <p:spPr>
          <a:xfrm>
            <a:off x="250920" y="907920"/>
            <a:ext cx="3733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把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=-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代入③，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"/>
          <p:cNvSpPr/>
          <p:nvPr/>
        </p:nvSpPr>
        <p:spPr>
          <a:xfrm>
            <a:off x="1114560" y="1339920"/>
            <a:ext cx="1447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 = 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4" name=""/>
          <p:cNvGrpSpPr/>
          <p:nvPr/>
        </p:nvGrpSpPr>
        <p:grpSpPr>
          <a:xfrm>
            <a:off x="755640" y="2205000"/>
            <a:ext cx="3998880" cy="939600"/>
            <a:chOff x="755640" y="2205000"/>
            <a:chExt cx="3998880" cy="939600"/>
          </a:xfrm>
        </p:grpSpPr>
        <p:sp>
          <p:nvSpPr>
            <p:cNvPr id="1175" name=""/>
            <p:cNvSpPr/>
            <p:nvPr/>
          </p:nvSpPr>
          <p:spPr>
            <a:xfrm>
              <a:off x="755640" y="2433600"/>
              <a:ext cx="327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∴</a:t>
              </a: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方程组的解是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176" name=""/>
            <p:cNvGrpSpPr/>
            <p:nvPr/>
          </p:nvGrpSpPr>
          <p:grpSpPr>
            <a:xfrm>
              <a:off x="3348000" y="2205000"/>
              <a:ext cx="1406520" cy="939600"/>
              <a:chOff x="3348000" y="2205000"/>
              <a:chExt cx="1406520" cy="939600"/>
            </a:xfrm>
          </p:grpSpPr>
          <p:sp>
            <p:nvSpPr>
              <p:cNvPr id="1177" name=""/>
              <p:cNvSpPr/>
              <p:nvPr/>
            </p:nvSpPr>
            <p:spPr>
              <a:xfrm>
                <a:off x="3400560" y="2205000"/>
                <a:ext cx="1209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cc"/>
                    </a:solidFill>
                    <a:latin typeface="Times New Roman"/>
                  </a:rPr>
                  <a:t>x</a:t>
                </a:r>
                <a:r>
                  <a:rPr b="1" lang="en-US" sz="3000" spc="-1" strike="noStrike">
                    <a:solidFill>
                      <a:srgbClr val="0000cc"/>
                    </a:solidFill>
                    <a:latin typeface="Times New Roman"/>
                  </a:rPr>
                  <a:t> =2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8" name=""/>
              <p:cNvSpPr/>
              <p:nvPr/>
            </p:nvSpPr>
            <p:spPr>
              <a:xfrm>
                <a:off x="3400560" y="2593800"/>
                <a:ext cx="13539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cc"/>
                    </a:solidFill>
                    <a:latin typeface="Times New Roman"/>
                  </a:rPr>
                  <a:t>y</a:t>
                </a:r>
                <a:r>
                  <a:rPr b="1" lang="en-US" sz="3000" spc="-1" strike="noStrike">
                    <a:solidFill>
                      <a:srgbClr val="0000cc"/>
                    </a:solidFill>
                    <a:latin typeface="Times New Roman"/>
                  </a:rPr>
                  <a:t> =</a:t>
                </a:r>
                <a:r>
                  <a:rPr b="1" lang="en-US" sz="3000" spc="-1" strike="noStrike">
                    <a:solidFill>
                      <a:srgbClr val="0000cc"/>
                    </a:solidFill>
                    <a:latin typeface="黑体"/>
                    <a:ea typeface="黑体"/>
                  </a:rPr>
                  <a:t>-</a:t>
                </a:r>
                <a:r>
                  <a:rPr b="1" lang="en-US" sz="3000" spc="-1" strike="noStrike">
                    <a:solidFill>
                      <a:srgbClr val="0000cc"/>
                    </a:solidFill>
                    <a:latin typeface="Times New Roman"/>
                  </a:rPr>
                  <a:t>1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79" name=""/>
              <p:cNvSpPr/>
              <p:nvPr/>
            </p:nvSpPr>
            <p:spPr>
              <a:xfrm>
                <a:off x="3348000" y="2476440"/>
                <a:ext cx="93600" cy="539640"/>
              </a:xfrm>
              <a:custGeom>
                <a:avLst/>
                <a:gdLst>
                  <a:gd name="textAreaLeft" fmla="*/ 59760 w 93600"/>
                  <a:gd name="textAreaRight" fmla="*/ 93960 w 93600"/>
                  <a:gd name="textAreaTop" fmla="*/ 14040 h 539640"/>
                  <a:gd name="textAreaBottom" fmla="*/ 525600 h 53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80" name=""/>
          <p:cNvGrpSpPr/>
          <p:nvPr/>
        </p:nvGrpSpPr>
        <p:grpSpPr>
          <a:xfrm>
            <a:off x="3780000" y="620640"/>
            <a:ext cx="863280" cy="792000"/>
            <a:chOff x="3780000" y="620640"/>
            <a:chExt cx="863280" cy="792000"/>
          </a:xfrm>
        </p:grpSpPr>
        <p:sp>
          <p:nvSpPr>
            <p:cNvPr id="1181" name=""/>
            <p:cNvSpPr/>
            <p:nvPr/>
          </p:nvSpPr>
          <p:spPr>
            <a:xfrm>
              <a:off x="3935160" y="620640"/>
              <a:ext cx="424440" cy="581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2" name=""/>
            <p:cNvSpPr/>
            <p:nvPr/>
          </p:nvSpPr>
          <p:spPr>
            <a:xfrm>
              <a:off x="3780000" y="1269720"/>
              <a:ext cx="863280" cy="142920"/>
            </a:xfrm>
            <a:prstGeom prst="rightArrow">
              <a:avLst>
                <a:gd name="adj1" fmla="val 50000"/>
                <a:gd name="adj2" fmla="val 151008"/>
              </a:avLst>
            </a:prstGeom>
            <a:solidFill>
              <a:srgbClr val="ff33cc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3" name=""/>
          <p:cNvSpPr/>
          <p:nvPr/>
        </p:nvSpPr>
        <p:spPr>
          <a:xfrm>
            <a:off x="4716360" y="549360"/>
            <a:ext cx="4191120" cy="52056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把这个未知数的值代入上面的式子，求得另一个未知数的值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4" name=""/>
          <p:cNvGrpSpPr/>
          <p:nvPr/>
        </p:nvGrpSpPr>
        <p:grpSpPr>
          <a:xfrm>
            <a:off x="3635280" y="3357720"/>
            <a:ext cx="720720" cy="718920"/>
            <a:chOff x="3635280" y="3357720"/>
            <a:chExt cx="720720" cy="718920"/>
          </a:xfrm>
        </p:grpSpPr>
        <p:sp>
          <p:nvSpPr>
            <p:cNvPr id="1185" name=""/>
            <p:cNvSpPr/>
            <p:nvPr/>
          </p:nvSpPr>
          <p:spPr>
            <a:xfrm>
              <a:off x="3719160" y="3357720"/>
              <a:ext cx="424440" cy="581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写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6" name=""/>
            <p:cNvSpPr/>
            <p:nvPr/>
          </p:nvSpPr>
          <p:spPr>
            <a:xfrm>
              <a:off x="3635280" y="4005360"/>
              <a:ext cx="720720" cy="71280"/>
            </a:xfrm>
            <a:prstGeom prst="rightArrow">
              <a:avLst>
                <a:gd name="adj1" fmla="val 50000"/>
                <a:gd name="adj2" fmla="val 252778"/>
              </a:avLst>
            </a:prstGeom>
            <a:solidFill>
              <a:srgbClr val="ff33cc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0800" bIns="-10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87" name=""/>
          <p:cNvSpPr/>
          <p:nvPr/>
        </p:nvSpPr>
        <p:spPr>
          <a:xfrm>
            <a:off x="4500720" y="3645000"/>
            <a:ext cx="4190760" cy="520560"/>
          </a:xfrm>
          <a:prstGeom prst="rect">
            <a:avLst/>
          </a:pr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黑体"/>
                <a:ea typeface="黑体"/>
              </a:rPr>
              <a:t>4</a:t>
            </a: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写出方程组的解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"/>
          <p:cNvSpPr/>
          <p:nvPr/>
        </p:nvSpPr>
        <p:spPr>
          <a:xfrm>
            <a:off x="3611520" y="4438800"/>
            <a:ext cx="1095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Arial"/>
                <a:ea typeface="黑体"/>
              </a:rPr>
              <a:t>用代入法解二元一次方程组的一般步骤</a:t>
            </a:r>
            <a:r>
              <a:rPr b="1" lang="en-US" sz="2800" spc="-1" strike="noStrike">
                <a:solidFill>
                  <a:srgbClr val="000066"/>
                </a:solidFill>
                <a:latin typeface="Arial"/>
                <a:ea typeface="黑体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9" name=""/>
          <p:cNvGrpSpPr/>
          <p:nvPr/>
        </p:nvGrpSpPr>
        <p:grpSpPr>
          <a:xfrm>
            <a:off x="1559160" y="5157720"/>
            <a:ext cx="1428120" cy="581400"/>
            <a:chOff x="1559160" y="5157720"/>
            <a:chExt cx="1428120" cy="581400"/>
          </a:xfrm>
        </p:grpSpPr>
        <p:sp>
          <p:nvSpPr>
            <p:cNvPr id="1190" name=""/>
            <p:cNvSpPr/>
            <p:nvPr/>
          </p:nvSpPr>
          <p:spPr>
            <a:xfrm>
              <a:off x="1559160" y="5157720"/>
              <a:ext cx="424440" cy="581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变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1" name=""/>
            <p:cNvSpPr/>
            <p:nvPr/>
          </p:nvSpPr>
          <p:spPr>
            <a:xfrm>
              <a:off x="2305440" y="5373720"/>
              <a:ext cx="681840" cy="152280"/>
            </a:xfrm>
            <a:prstGeom prst="rightArrow">
              <a:avLst>
                <a:gd name="adj1" fmla="val 50000"/>
                <a:gd name="adj2" fmla="val 111939"/>
              </a:avLst>
            </a:prstGeom>
            <a:solidFill>
              <a:srgbClr val="ff33cc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2" name=""/>
          <p:cNvGrpSpPr/>
          <p:nvPr/>
        </p:nvGrpSpPr>
        <p:grpSpPr>
          <a:xfrm>
            <a:off x="3214440" y="5086440"/>
            <a:ext cx="1356120" cy="581400"/>
            <a:chOff x="3214440" y="5086440"/>
            <a:chExt cx="1356120" cy="581400"/>
          </a:xfrm>
        </p:grpSpPr>
        <p:sp>
          <p:nvSpPr>
            <p:cNvPr id="1193" name=""/>
            <p:cNvSpPr/>
            <p:nvPr/>
          </p:nvSpPr>
          <p:spPr>
            <a:xfrm>
              <a:off x="3214440" y="5086440"/>
              <a:ext cx="424440" cy="581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代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4" name=""/>
            <p:cNvSpPr/>
            <p:nvPr/>
          </p:nvSpPr>
          <p:spPr>
            <a:xfrm>
              <a:off x="3778200" y="5375160"/>
              <a:ext cx="792360" cy="142920"/>
            </a:xfrm>
            <a:prstGeom prst="rightArrow">
              <a:avLst>
                <a:gd name="adj1" fmla="val 50000"/>
                <a:gd name="adj2" fmla="val 138602"/>
              </a:avLst>
            </a:prstGeom>
            <a:solidFill>
              <a:srgbClr val="ff33cc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95" name=""/>
          <p:cNvGrpSpPr/>
          <p:nvPr/>
        </p:nvGrpSpPr>
        <p:grpSpPr>
          <a:xfrm>
            <a:off x="4798800" y="5086440"/>
            <a:ext cx="1427400" cy="581400"/>
            <a:chOff x="4798800" y="5086440"/>
            <a:chExt cx="1427400" cy="581400"/>
          </a:xfrm>
        </p:grpSpPr>
        <p:sp>
          <p:nvSpPr>
            <p:cNvPr id="1196" name=""/>
            <p:cNvSpPr/>
            <p:nvPr/>
          </p:nvSpPr>
          <p:spPr>
            <a:xfrm>
              <a:off x="4798800" y="5086440"/>
              <a:ext cx="424440" cy="5814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3200" spc="-1" strike="noStrike">
                  <a:solidFill>
                    <a:srgbClr val="ffffff"/>
                  </a:solidFill>
                  <a:latin typeface="Times New Roman"/>
                  <a:ea typeface="黑体"/>
                </a:rPr>
                <a:t>求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7" name=""/>
            <p:cNvSpPr/>
            <p:nvPr/>
          </p:nvSpPr>
          <p:spPr>
            <a:xfrm>
              <a:off x="5362560" y="5302080"/>
              <a:ext cx="863640" cy="142920"/>
            </a:xfrm>
            <a:prstGeom prst="rightArrow">
              <a:avLst>
                <a:gd name="adj1" fmla="val 50000"/>
                <a:gd name="adj2" fmla="val 151071"/>
              </a:avLst>
            </a:prstGeom>
            <a:solidFill>
              <a:srgbClr val="ff33cc"/>
            </a:solidFill>
            <a:ln w="9360">
              <a:solidFill>
                <a:srgbClr val="ff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4840" bIns="248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98" name=""/>
          <p:cNvSpPr/>
          <p:nvPr/>
        </p:nvSpPr>
        <p:spPr>
          <a:xfrm>
            <a:off x="6227640" y="5157720"/>
            <a:ext cx="648000" cy="58140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3200" spc="-1" strike="noStrike">
                <a:solidFill>
                  <a:srgbClr val="ffffff"/>
                </a:solidFill>
                <a:latin typeface="Times New Roman"/>
                <a:ea typeface="黑体"/>
              </a:rPr>
              <a:t>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>
                                  <p:stCondLst>
                                    <p:cond delay="0"/>
                                  </p:stCondLst>
                                  <p:iterate type="wd">
                                    <p:tmAbs val="0.900000035762787"/>
                                  </p:iterate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900"/>
                            </p:stCondLst>
                            <p:childTnLst>
                              <p:par>
                                <p:cTn id="9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200"/>
                            </p:stCondLst>
                            <p:childTnLst>
                              <p:par>
                                <p:cTn id="9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"/>
          <p:cNvSpPr/>
          <p:nvPr/>
        </p:nvSpPr>
        <p:spPr>
          <a:xfrm>
            <a:off x="468360" y="1916280"/>
            <a:ext cx="806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提示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对于方程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，可直接将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代入（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00" name=""/>
          <p:cNvGrpSpPr/>
          <p:nvPr/>
        </p:nvGrpSpPr>
        <p:grpSpPr>
          <a:xfrm>
            <a:off x="179280" y="0"/>
            <a:ext cx="2476440" cy="691920"/>
            <a:chOff x="179280" y="0"/>
            <a:chExt cx="2476440" cy="691920"/>
          </a:xfrm>
        </p:grpSpPr>
        <p:sp>
          <p:nvSpPr>
            <p:cNvPr id="1201" name=""/>
            <p:cNvSpPr/>
            <p:nvPr/>
          </p:nvSpPr>
          <p:spPr>
            <a:xfrm>
              <a:off x="179280" y="0"/>
              <a:ext cx="2476440" cy="559440"/>
            </a:xfrm>
            <a:prstGeom prst="rect">
              <a:avLst/>
            </a:prstGeom>
            <a:gradFill rotWithShape="0">
              <a:gsLst>
                <a:gs pos="0">
                  <a:srgbClr val="b8e0be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2" name=""/>
            <p:cNvSpPr/>
            <p:nvPr/>
          </p:nvSpPr>
          <p:spPr>
            <a:xfrm>
              <a:off x="489600" y="403920"/>
              <a:ext cx="2106000" cy="15516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3" name=""/>
            <p:cNvGrpSpPr/>
            <p:nvPr/>
          </p:nvGrpSpPr>
          <p:grpSpPr>
            <a:xfrm>
              <a:off x="225720" y="41040"/>
              <a:ext cx="518400" cy="518040"/>
              <a:chOff x="225720" y="41040"/>
              <a:chExt cx="518400" cy="518040"/>
            </a:xfrm>
          </p:grpSpPr>
          <p:grpSp>
            <p:nvGrpSpPr>
              <p:cNvPr id="1204" name=""/>
              <p:cNvGrpSpPr/>
              <p:nvPr/>
            </p:nvGrpSpPr>
            <p:grpSpPr>
              <a:xfrm>
                <a:off x="260640" y="96480"/>
                <a:ext cx="483480" cy="462600"/>
                <a:chOff x="260640" y="96480"/>
                <a:chExt cx="483480" cy="462600"/>
              </a:xfrm>
            </p:grpSpPr>
            <p:sp>
              <p:nvSpPr>
                <p:cNvPr id="1205" name=""/>
                <p:cNvSpPr/>
                <p:nvPr/>
              </p:nvSpPr>
              <p:spPr>
                <a:xfrm>
                  <a:off x="288360" y="96480"/>
                  <a:ext cx="416880" cy="43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66"/>
                    </a:gs>
                    <a:gs pos="100000">
                      <a:srgbClr val="ffcc00"/>
                    </a:gs>
                  </a:gsLst>
                  <a:lin ang="13500000"/>
                </a:gradFill>
                <a:ln w="1260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206" name=""/>
                <p:cNvGrpSpPr/>
                <p:nvPr/>
              </p:nvGrpSpPr>
              <p:grpSpPr>
                <a:xfrm>
                  <a:off x="260640" y="158040"/>
                  <a:ext cx="483480" cy="401040"/>
                  <a:chOff x="260640" y="158040"/>
                  <a:chExt cx="483480" cy="401040"/>
                </a:xfrm>
              </p:grpSpPr>
              <p:sp>
                <p:nvSpPr>
                  <p:cNvPr id="1207" name="未知"/>
                  <p:cNvSpPr/>
                  <p:nvPr/>
                </p:nvSpPr>
                <p:spPr>
                  <a:xfrm>
                    <a:off x="260640" y="260280"/>
                    <a:ext cx="36756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317">
                        <a:moveTo>
                          <a:pt x="0" y="0"/>
                        </a:moveTo>
                        <a:lnTo>
                          <a:pt x="817" y="227"/>
                        </a:lnTo>
                        <a:lnTo>
                          <a:pt x="1497" y="45"/>
                        </a:lnTo>
                        <a:lnTo>
                          <a:pt x="1497" y="136"/>
                        </a:lnTo>
                        <a:lnTo>
                          <a:pt x="817" y="317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100000">
                        <a:srgbClr val="ff99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8" name="未知"/>
                  <p:cNvSpPr/>
                  <p:nvPr/>
                </p:nvSpPr>
                <p:spPr>
                  <a:xfrm>
                    <a:off x="260640" y="225000"/>
                    <a:ext cx="36756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409">
                        <a:moveTo>
                          <a:pt x="0" y="182"/>
                        </a:moveTo>
                        <a:lnTo>
                          <a:pt x="817" y="409"/>
                        </a:lnTo>
                        <a:lnTo>
                          <a:pt x="1497" y="227"/>
                        </a:lnTo>
                        <a:lnTo>
                          <a:pt x="590" y="0"/>
                        </a:lnTo>
                        <a:lnTo>
                          <a:pt x="0" y="182"/>
                        </a:lnTo>
                        <a:close/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9" name="未知"/>
                  <p:cNvSpPr/>
                  <p:nvPr/>
                </p:nvSpPr>
                <p:spPr>
                  <a:xfrm>
                    <a:off x="294120" y="286200"/>
                    <a:ext cx="28980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408">
                        <a:moveTo>
                          <a:pt x="0" y="0"/>
                        </a:moveTo>
                        <a:lnTo>
                          <a:pt x="726" y="181"/>
                        </a:lnTo>
                        <a:lnTo>
                          <a:pt x="1180" y="45"/>
                        </a:lnTo>
                        <a:lnTo>
                          <a:pt x="1134" y="227"/>
                        </a:lnTo>
                        <a:lnTo>
                          <a:pt x="726" y="408"/>
                        </a:lnTo>
                        <a:lnTo>
                          <a:pt x="46" y="1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0" name="未知"/>
                  <p:cNvSpPr/>
                  <p:nvPr/>
                </p:nvSpPr>
                <p:spPr>
                  <a:xfrm>
                    <a:off x="416520" y="347400"/>
                    <a:ext cx="3348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545">
                        <a:moveTo>
                          <a:pt x="0" y="0"/>
                        </a:moveTo>
                        <a:lnTo>
                          <a:pt x="136" y="46"/>
                        </a:lnTo>
                        <a:lnTo>
                          <a:pt x="91" y="136"/>
                        </a:lnTo>
                        <a:lnTo>
                          <a:pt x="136" y="318"/>
                        </a:lnTo>
                        <a:lnTo>
                          <a:pt x="136" y="545"/>
                        </a:lnTo>
                        <a:lnTo>
                          <a:pt x="46" y="545"/>
                        </a:lnTo>
                        <a:lnTo>
                          <a:pt x="0" y="318"/>
                        </a:lnTo>
                        <a:lnTo>
                          <a:pt x="0" y="1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1" name="未知"/>
                  <p:cNvSpPr/>
                  <p:nvPr/>
                </p:nvSpPr>
                <p:spPr>
                  <a:xfrm>
                    <a:off x="406080" y="439920"/>
                    <a:ext cx="6408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58">
                        <a:moveTo>
                          <a:pt x="181" y="106"/>
                        </a:moveTo>
                        <a:cubicBezTo>
                          <a:pt x="151" y="106"/>
                          <a:pt x="106" y="121"/>
                          <a:pt x="91" y="106"/>
                        </a:cubicBezTo>
                        <a:cubicBezTo>
                          <a:pt x="76" y="91"/>
                          <a:pt x="106" y="15"/>
                          <a:pt x="91" y="15"/>
                        </a:cubicBezTo>
                        <a:cubicBezTo>
                          <a:pt x="76" y="15"/>
                          <a:pt x="0" y="83"/>
                          <a:pt x="0" y="106"/>
                        </a:cubicBezTo>
                        <a:cubicBezTo>
                          <a:pt x="0" y="129"/>
                          <a:pt x="46" y="144"/>
                          <a:pt x="91" y="151"/>
                        </a:cubicBezTo>
                        <a:cubicBezTo>
                          <a:pt x="136" y="158"/>
                          <a:pt x="227" y="158"/>
                          <a:pt x="272" y="151"/>
                        </a:cubicBezTo>
                        <a:cubicBezTo>
                          <a:pt x="317" y="144"/>
                          <a:pt x="356" y="129"/>
                          <a:pt x="363" y="106"/>
                        </a:cubicBezTo>
                        <a:cubicBezTo>
                          <a:pt x="370" y="83"/>
                          <a:pt x="340" y="30"/>
                          <a:pt x="317" y="15"/>
                        </a:cubicBezTo>
                        <a:cubicBezTo>
                          <a:pt x="294" y="0"/>
                          <a:pt x="234" y="0"/>
                          <a:pt x="227" y="15"/>
                        </a:cubicBezTo>
                        <a:cubicBezTo>
                          <a:pt x="220" y="30"/>
                          <a:pt x="280" y="91"/>
                          <a:pt x="272" y="106"/>
                        </a:cubicBezTo>
                        <a:cubicBezTo>
                          <a:pt x="264" y="121"/>
                          <a:pt x="211" y="106"/>
                          <a:pt x="181" y="10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e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2" name="未知"/>
                  <p:cNvSpPr/>
                  <p:nvPr/>
                </p:nvSpPr>
                <p:spPr>
                  <a:xfrm>
                    <a:off x="311760" y="435960"/>
                    <a:ext cx="275400" cy="12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587" h="907">
                        <a:moveTo>
                          <a:pt x="1496" y="0"/>
                        </a:moveTo>
                        <a:lnTo>
                          <a:pt x="1587" y="90"/>
                        </a:lnTo>
                        <a:lnTo>
                          <a:pt x="1496" y="181"/>
                        </a:lnTo>
                        <a:lnTo>
                          <a:pt x="907" y="499"/>
                        </a:lnTo>
                        <a:lnTo>
                          <a:pt x="1224" y="589"/>
                        </a:lnTo>
                        <a:lnTo>
                          <a:pt x="1406" y="725"/>
                        </a:lnTo>
                        <a:lnTo>
                          <a:pt x="1360" y="861"/>
                        </a:lnTo>
                        <a:lnTo>
                          <a:pt x="1270" y="907"/>
                        </a:lnTo>
                        <a:lnTo>
                          <a:pt x="1134" y="816"/>
                        </a:lnTo>
                        <a:lnTo>
                          <a:pt x="771" y="725"/>
                        </a:lnTo>
                        <a:lnTo>
                          <a:pt x="226" y="635"/>
                        </a:lnTo>
                        <a:lnTo>
                          <a:pt x="90" y="635"/>
                        </a:lnTo>
                        <a:lnTo>
                          <a:pt x="0" y="544"/>
                        </a:lnTo>
                        <a:lnTo>
                          <a:pt x="90" y="453"/>
                        </a:lnTo>
                        <a:lnTo>
                          <a:pt x="362" y="453"/>
                        </a:lnTo>
                        <a:lnTo>
                          <a:pt x="589" y="453"/>
                        </a:lnTo>
                        <a:lnTo>
                          <a:pt x="680" y="453"/>
                        </a:lnTo>
                        <a:lnTo>
                          <a:pt x="635" y="362"/>
                        </a:lnTo>
                        <a:lnTo>
                          <a:pt x="589" y="226"/>
                        </a:lnTo>
                        <a:lnTo>
                          <a:pt x="544" y="136"/>
                        </a:lnTo>
                        <a:lnTo>
                          <a:pt x="635" y="181"/>
                        </a:lnTo>
                        <a:lnTo>
                          <a:pt x="771" y="181"/>
                        </a:lnTo>
                        <a:lnTo>
                          <a:pt x="861" y="181"/>
                        </a:lnTo>
                        <a:lnTo>
                          <a:pt x="907" y="90"/>
                        </a:lnTo>
                        <a:lnTo>
                          <a:pt x="907" y="226"/>
                        </a:lnTo>
                        <a:lnTo>
                          <a:pt x="861" y="362"/>
                        </a:lnTo>
                        <a:lnTo>
                          <a:pt x="1224" y="181"/>
                        </a:lnTo>
                        <a:lnTo>
                          <a:pt x="1360" y="136"/>
                        </a:lnTo>
                        <a:lnTo>
                          <a:pt x="1406" y="45"/>
                        </a:lnTo>
                        <a:lnTo>
                          <a:pt x="149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3" name="未知"/>
                  <p:cNvSpPr/>
                  <p:nvPr/>
                </p:nvSpPr>
                <p:spPr>
                  <a:xfrm>
                    <a:off x="563760" y="355320"/>
                    <a:ext cx="1414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817" h="726">
                        <a:moveTo>
                          <a:pt x="182" y="0"/>
                        </a:moveTo>
                        <a:lnTo>
                          <a:pt x="182" y="136"/>
                        </a:lnTo>
                        <a:lnTo>
                          <a:pt x="227" y="317"/>
                        </a:lnTo>
                        <a:lnTo>
                          <a:pt x="227" y="408"/>
                        </a:lnTo>
                        <a:lnTo>
                          <a:pt x="0" y="499"/>
                        </a:lnTo>
                        <a:lnTo>
                          <a:pt x="0" y="590"/>
                        </a:lnTo>
                        <a:lnTo>
                          <a:pt x="136" y="635"/>
                        </a:lnTo>
                        <a:lnTo>
                          <a:pt x="136" y="726"/>
                        </a:lnTo>
                        <a:lnTo>
                          <a:pt x="272" y="635"/>
                        </a:lnTo>
                        <a:lnTo>
                          <a:pt x="363" y="590"/>
                        </a:lnTo>
                        <a:lnTo>
                          <a:pt x="454" y="590"/>
                        </a:lnTo>
                        <a:lnTo>
                          <a:pt x="635" y="635"/>
                        </a:lnTo>
                        <a:lnTo>
                          <a:pt x="771" y="635"/>
                        </a:lnTo>
                        <a:lnTo>
                          <a:pt x="817" y="544"/>
                        </a:lnTo>
                        <a:lnTo>
                          <a:pt x="635" y="453"/>
                        </a:lnTo>
                        <a:lnTo>
                          <a:pt x="499" y="453"/>
                        </a:lnTo>
                        <a:lnTo>
                          <a:pt x="408" y="272"/>
                        </a:lnTo>
                        <a:lnTo>
                          <a:pt x="408" y="45"/>
                        </a:lnTo>
                        <a:lnTo>
                          <a:pt x="18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4" name="未知"/>
                  <p:cNvSpPr/>
                  <p:nvPr/>
                </p:nvSpPr>
                <p:spPr>
                  <a:xfrm>
                    <a:off x="532080" y="158040"/>
                    <a:ext cx="212040" cy="20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224" h="1497">
                        <a:moveTo>
                          <a:pt x="0" y="1361"/>
                        </a:moveTo>
                        <a:lnTo>
                          <a:pt x="136" y="1316"/>
                        </a:lnTo>
                        <a:lnTo>
                          <a:pt x="635" y="1407"/>
                        </a:lnTo>
                        <a:lnTo>
                          <a:pt x="1088" y="1044"/>
                        </a:lnTo>
                        <a:lnTo>
                          <a:pt x="1043" y="227"/>
                        </a:lnTo>
                        <a:lnTo>
                          <a:pt x="317" y="136"/>
                        </a:lnTo>
                        <a:lnTo>
                          <a:pt x="317" y="46"/>
                        </a:lnTo>
                        <a:lnTo>
                          <a:pt x="453" y="0"/>
                        </a:lnTo>
                        <a:lnTo>
                          <a:pt x="1134" y="91"/>
                        </a:lnTo>
                        <a:lnTo>
                          <a:pt x="1224" y="1134"/>
                        </a:lnTo>
                        <a:lnTo>
                          <a:pt x="861" y="1407"/>
                        </a:lnTo>
                        <a:lnTo>
                          <a:pt x="680" y="1497"/>
                        </a:lnTo>
                        <a:lnTo>
                          <a:pt x="0" y="136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66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5" name="未知"/>
                  <p:cNvSpPr/>
                  <p:nvPr/>
                </p:nvSpPr>
                <p:spPr>
                  <a:xfrm>
                    <a:off x="547920" y="176400"/>
                    <a:ext cx="17280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1225">
                        <a:moveTo>
                          <a:pt x="227" y="0"/>
                        </a:moveTo>
                        <a:lnTo>
                          <a:pt x="227" y="454"/>
                        </a:lnTo>
                        <a:lnTo>
                          <a:pt x="136" y="590"/>
                        </a:lnTo>
                        <a:lnTo>
                          <a:pt x="454" y="635"/>
                        </a:lnTo>
                        <a:lnTo>
                          <a:pt x="454" y="817"/>
                        </a:lnTo>
                        <a:lnTo>
                          <a:pt x="227" y="862"/>
                        </a:lnTo>
                        <a:lnTo>
                          <a:pt x="136" y="1089"/>
                        </a:lnTo>
                        <a:lnTo>
                          <a:pt x="0" y="1180"/>
                        </a:lnTo>
                        <a:lnTo>
                          <a:pt x="545" y="1225"/>
                        </a:lnTo>
                        <a:lnTo>
                          <a:pt x="998" y="908"/>
                        </a:lnTo>
                        <a:lnTo>
                          <a:pt x="953" y="9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216" name=""/>
              <p:cNvGrpSpPr/>
              <p:nvPr/>
            </p:nvGrpSpPr>
            <p:grpSpPr>
              <a:xfrm>
                <a:off x="225720" y="41040"/>
                <a:ext cx="243720" cy="147960"/>
                <a:chOff x="225720" y="41040"/>
                <a:chExt cx="243720" cy="147960"/>
              </a:xfrm>
            </p:grpSpPr>
            <p:sp>
              <p:nvSpPr>
                <p:cNvPr id="1217" name="未知"/>
                <p:cNvSpPr/>
                <p:nvPr/>
              </p:nvSpPr>
              <p:spPr>
                <a:xfrm>
                  <a:off x="225720" y="102600"/>
                  <a:ext cx="141480" cy="86400"/>
                </a:xfrm>
                <a:custGeom>
                  <a:avLst/>
                  <a:gdLst/>
                  <a:ahLst/>
                  <a:rect l="l" t="t" r="r" b="b"/>
                  <a:pathLst>
                    <a:path w="816" h="635">
                      <a:moveTo>
                        <a:pt x="816" y="499"/>
                      </a:moveTo>
                      <a:lnTo>
                        <a:pt x="635" y="635"/>
                      </a:lnTo>
                      <a:lnTo>
                        <a:pt x="45" y="136"/>
                      </a:lnTo>
                      <a:lnTo>
                        <a:pt x="0" y="0"/>
                      </a:lnTo>
                      <a:lnTo>
                        <a:pt x="816" y="49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99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8" name="未知"/>
                <p:cNvSpPr/>
                <p:nvPr/>
              </p:nvSpPr>
              <p:spPr>
                <a:xfrm>
                  <a:off x="296280" y="41040"/>
                  <a:ext cx="117720" cy="123480"/>
                </a:xfrm>
                <a:custGeom>
                  <a:avLst/>
                  <a:gdLst/>
                  <a:ahLst/>
                  <a:rect l="l" t="t" r="r" b="b"/>
                  <a:pathLst>
                    <a:path w="680" h="907">
                      <a:moveTo>
                        <a:pt x="453" y="907"/>
                      </a:moveTo>
                      <a:lnTo>
                        <a:pt x="680" y="771"/>
                      </a:lnTo>
                      <a:lnTo>
                        <a:pt x="0" y="0"/>
                      </a:lnTo>
                      <a:lnTo>
                        <a:pt x="0" y="136"/>
                      </a:lnTo>
                      <a:lnTo>
                        <a:pt x="453" y="90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8a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9" name="未知"/>
                <p:cNvSpPr/>
                <p:nvPr/>
              </p:nvSpPr>
              <p:spPr>
                <a:xfrm>
                  <a:off x="398880" y="59400"/>
                  <a:ext cx="70560" cy="73800"/>
                </a:xfrm>
                <a:custGeom>
                  <a:avLst/>
                  <a:gdLst/>
                  <a:ahLst/>
                  <a:rect l="l" t="t" r="r" b="b"/>
                  <a:pathLst>
                    <a:path w="408" h="544">
                      <a:moveTo>
                        <a:pt x="226" y="544"/>
                      </a:moveTo>
                      <a:lnTo>
                        <a:pt x="408" y="499"/>
                      </a:lnTo>
                      <a:lnTo>
                        <a:pt x="90" y="0"/>
                      </a:lnTo>
                      <a:lnTo>
                        <a:pt x="0" y="90"/>
                      </a:lnTo>
                      <a:lnTo>
                        <a:pt x="226" y="5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35ad3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220" name=""/>
            <p:cNvSpPr txBox="1"/>
            <p:nvPr/>
          </p:nvSpPr>
          <p:spPr>
            <a:xfrm>
              <a:off x="785160" y="42120"/>
              <a:ext cx="1820520" cy="362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6000" spc="-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黑体"/>
                </a:rPr>
                <a:t>典例分析</a:t>
              </a:r>
              <a:endParaRPr b="1" i="1" lang="en-US" sz="60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1221" name=""/>
            <p:cNvSpPr/>
            <p:nvPr/>
          </p:nvSpPr>
          <p:spPr>
            <a:xfrm>
              <a:off x="1202400" y="324720"/>
              <a:ext cx="85536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2" name=""/>
          <p:cNvGrpSpPr/>
          <p:nvPr/>
        </p:nvGrpSpPr>
        <p:grpSpPr>
          <a:xfrm>
            <a:off x="2651040" y="765000"/>
            <a:ext cx="3994200" cy="1096560"/>
            <a:chOff x="2651040" y="765000"/>
            <a:chExt cx="3994200" cy="1096560"/>
          </a:xfrm>
        </p:grpSpPr>
        <p:sp>
          <p:nvSpPr>
            <p:cNvPr id="1223" name=""/>
            <p:cNvSpPr/>
            <p:nvPr/>
          </p:nvSpPr>
          <p:spPr>
            <a:xfrm>
              <a:off x="3564000" y="836280"/>
              <a:ext cx="3081240" cy="10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00"/>
                  </a:solidFill>
                  <a:latin typeface="Arial"/>
                </a:rPr>
                <a:t>    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+1=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           </a:t>
              </a:r>
              <a:r>
                <a:rPr b="1" lang="en-US" sz="2600" spc="-1" strike="noStrike">
                  <a:solidFill>
                    <a:srgbClr val="000066"/>
                  </a:solidFill>
                  <a:latin typeface="Times New Roman"/>
                </a:rPr>
                <a:t>①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2(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+1)-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=6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     </a:t>
              </a:r>
              <a:r>
                <a:rPr b="1" lang="en-US" sz="2600" spc="-1" strike="noStrike">
                  <a:solidFill>
                    <a:srgbClr val="000066"/>
                  </a:solidFill>
                  <a:latin typeface="Arial"/>
                </a:rPr>
                <a:t>②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24" name=""/>
            <p:cNvGrpSpPr/>
            <p:nvPr/>
          </p:nvGrpSpPr>
          <p:grpSpPr>
            <a:xfrm>
              <a:off x="3638160" y="765000"/>
              <a:ext cx="370440" cy="744120"/>
              <a:chOff x="3638160" y="765000"/>
              <a:chExt cx="370440" cy="744120"/>
            </a:xfrm>
          </p:grpSpPr>
          <p:sp>
            <p:nvSpPr>
              <p:cNvPr id="1225" name=""/>
              <p:cNvSpPr/>
              <p:nvPr/>
            </p:nvSpPr>
            <p:spPr>
              <a:xfrm>
                <a:off x="3649680" y="765000"/>
                <a:ext cx="35892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66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6" name=""/>
              <p:cNvSpPr/>
              <p:nvPr/>
            </p:nvSpPr>
            <p:spPr>
              <a:xfrm>
                <a:off x="3638160" y="1098360"/>
                <a:ext cx="346680" cy="4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600" spc="-1" strike="noStrike">
                    <a:solidFill>
                      <a:srgbClr val="000066"/>
                    </a:solidFill>
                    <a:latin typeface="Times New Roman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3670560" y="1141200"/>
                <a:ext cx="287280" cy="0"/>
              </a:xfrm>
              <a:prstGeom prst="line">
                <a:avLst/>
              </a:prstGeom>
              <a:ln w="25560">
                <a:solidFill>
                  <a:srgbClr val="00008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28" name=""/>
            <p:cNvSpPr/>
            <p:nvPr/>
          </p:nvSpPr>
          <p:spPr>
            <a:xfrm>
              <a:off x="3492360" y="1052280"/>
              <a:ext cx="69840" cy="598680"/>
            </a:xfrm>
            <a:custGeom>
              <a:avLst/>
              <a:gdLst>
                <a:gd name="textAreaLeft" fmla="*/ 44640 w 69840"/>
                <a:gd name="textAreaRight" fmla="*/ 69840 w 69840"/>
                <a:gd name="textAreaTop" fmla="*/ 15480 h 598680"/>
                <a:gd name="textAreaBottom" fmla="*/ 583200 h 59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9" name=""/>
            <p:cNvSpPr/>
            <p:nvPr/>
          </p:nvSpPr>
          <p:spPr>
            <a:xfrm>
              <a:off x="2651040" y="105228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(1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30" name=""/>
          <p:cNvSpPr/>
          <p:nvPr/>
        </p:nvSpPr>
        <p:spPr>
          <a:xfrm>
            <a:off x="3703680" y="189000"/>
            <a:ext cx="2435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ff66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、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解下列方程组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"/>
          <p:cNvSpPr/>
          <p:nvPr/>
        </p:nvSpPr>
        <p:spPr>
          <a:xfrm>
            <a:off x="1590120" y="2565360"/>
            <a:ext cx="2912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（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）把①代入②，得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2" name=""/>
          <p:cNvGrpSpPr/>
          <p:nvPr/>
        </p:nvGrpSpPr>
        <p:grpSpPr>
          <a:xfrm>
            <a:off x="2484360" y="3141720"/>
            <a:ext cx="3800520" cy="744120"/>
            <a:chOff x="2484360" y="3141720"/>
            <a:chExt cx="3800520" cy="744120"/>
          </a:xfrm>
        </p:grpSpPr>
        <p:sp>
          <p:nvSpPr>
            <p:cNvPr id="1233" name=""/>
            <p:cNvSpPr/>
            <p:nvPr/>
          </p:nvSpPr>
          <p:spPr>
            <a:xfrm>
              <a:off x="2484360" y="3248280"/>
              <a:ext cx="3800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</a:rPr>
                <a:t>2(x+1)</a:t>
              </a: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-</a:t>
              </a: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</a:rPr>
                <a:t>(   +1)=6      </a:t>
              </a:r>
              <a:r>
                <a:rPr b="1" lang="en-US" sz="2600" spc="-1" strike="noStrike">
                  <a:solidFill>
                    <a:srgbClr val="0000cc"/>
                  </a:solidFill>
                  <a:latin typeface="Times New Roman"/>
                </a:rPr>
                <a:t>③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4" name=""/>
            <p:cNvGrpSpPr/>
            <p:nvPr/>
          </p:nvGrpSpPr>
          <p:grpSpPr>
            <a:xfrm>
              <a:off x="3776400" y="3141720"/>
              <a:ext cx="370440" cy="744120"/>
              <a:chOff x="3776400" y="3141720"/>
              <a:chExt cx="370440" cy="744120"/>
            </a:xfrm>
          </p:grpSpPr>
          <p:sp>
            <p:nvSpPr>
              <p:cNvPr id="1235" name=""/>
              <p:cNvSpPr/>
              <p:nvPr/>
            </p:nvSpPr>
            <p:spPr>
              <a:xfrm>
                <a:off x="3787920" y="3141720"/>
                <a:ext cx="35892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x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6" name=""/>
              <p:cNvSpPr/>
              <p:nvPr/>
            </p:nvSpPr>
            <p:spPr>
              <a:xfrm>
                <a:off x="3776400" y="3475080"/>
                <a:ext cx="346680" cy="4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600" spc="-1" strike="noStrike">
                    <a:solidFill>
                      <a:srgbClr val="0000cc"/>
                    </a:solidFill>
                    <a:latin typeface="Times New Roman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7" name=""/>
              <p:cNvSpPr/>
              <p:nvPr/>
            </p:nvSpPr>
            <p:spPr>
              <a:xfrm>
                <a:off x="3808800" y="3517920"/>
                <a:ext cx="287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238" name=""/>
          <p:cNvGrpSpPr/>
          <p:nvPr/>
        </p:nvGrpSpPr>
        <p:grpSpPr>
          <a:xfrm>
            <a:off x="1910160" y="3860640"/>
            <a:ext cx="4285800" cy="744120"/>
            <a:chOff x="1910160" y="3860640"/>
            <a:chExt cx="4285800" cy="744120"/>
          </a:xfrm>
        </p:grpSpPr>
        <p:grpSp>
          <p:nvGrpSpPr>
            <p:cNvPr id="1239" name=""/>
            <p:cNvGrpSpPr/>
            <p:nvPr/>
          </p:nvGrpSpPr>
          <p:grpSpPr>
            <a:xfrm>
              <a:off x="3634920" y="3860640"/>
              <a:ext cx="1008360" cy="744120"/>
              <a:chOff x="3634920" y="3860640"/>
              <a:chExt cx="1008360" cy="744120"/>
            </a:xfrm>
          </p:grpSpPr>
          <p:grpSp>
            <p:nvGrpSpPr>
              <p:cNvPr id="1240" name=""/>
              <p:cNvGrpSpPr/>
              <p:nvPr/>
            </p:nvGrpSpPr>
            <p:grpSpPr>
              <a:xfrm>
                <a:off x="3634920" y="3860640"/>
                <a:ext cx="359280" cy="744120"/>
                <a:chOff x="3634920" y="3860640"/>
                <a:chExt cx="359280" cy="744120"/>
              </a:xfrm>
            </p:grpSpPr>
            <p:sp>
              <p:nvSpPr>
                <p:cNvPr id="1241" name=""/>
                <p:cNvSpPr/>
                <p:nvPr/>
              </p:nvSpPr>
              <p:spPr>
                <a:xfrm>
                  <a:off x="3635280" y="3860640"/>
                  <a:ext cx="358920" cy="43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cc"/>
                      </a:solidFill>
                      <a:latin typeface="Times New Roman"/>
                    </a:rPr>
                    <a:t>5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3634920" y="4194000"/>
                  <a:ext cx="346680" cy="41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600" spc="-1" strike="noStrike">
                      <a:solidFill>
                        <a:srgbClr val="0000cc"/>
                      </a:solidFill>
                      <a:latin typeface="Times New Roman"/>
                    </a:rPr>
                    <a:t>3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3" name=""/>
                <p:cNvSpPr/>
                <p:nvPr/>
              </p:nvSpPr>
              <p:spPr>
                <a:xfrm>
                  <a:off x="3667320" y="423684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244" name=""/>
              <p:cNvSpPr/>
              <p:nvPr/>
            </p:nvSpPr>
            <p:spPr>
              <a:xfrm>
                <a:off x="3903480" y="3975120"/>
                <a:ext cx="7398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=5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45" name=""/>
            <p:cNvSpPr/>
            <p:nvPr/>
          </p:nvSpPr>
          <p:spPr>
            <a:xfrm>
              <a:off x="5456160" y="3933720"/>
              <a:ext cx="739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</a:rPr>
                <a:t>=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6" name=""/>
            <p:cNvSpPr/>
            <p:nvPr/>
          </p:nvSpPr>
          <p:spPr>
            <a:xfrm>
              <a:off x="1910160" y="3975120"/>
              <a:ext cx="3690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解方程③，             即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47" name=""/>
          <p:cNvSpPr/>
          <p:nvPr/>
        </p:nvSpPr>
        <p:spPr>
          <a:xfrm>
            <a:off x="2384640" y="4724280"/>
            <a:ext cx="311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把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=3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代入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①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得：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48" name=""/>
          <p:cNvGrpSpPr/>
          <p:nvPr/>
        </p:nvGrpSpPr>
        <p:grpSpPr>
          <a:xfrm>
            <a:off x="1692360" y="5229360"/>
            <a:ext cx="4575240" cy="939600"/>
            <a:chOff x="1692360" y="5229360"/>
            <a:chExt cx="4575240" cy="939600"/>
          </a:xfrm>
        </p:grpSpPr>
        <p:sp>
          <p:nvSpPr>
            <p:cNvPr id="1249" name=""/>
            <p:cNvSpPr/>
            <p:nvPr/>
          </p:nvSpPr>
          <p:spPr>
            <a:xfrm>
              <a:off x="1692360" y="5445000"/>
              <a:ext cx="367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∴</a:t>
              </a: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原方程组的解是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50" name=""/>
            <p:cNvGrpSpPr/>
            <p:nvPr/>
          </p:nvGrpSpPr>
          <p:grpSpPr>
            <a:xfrm>
              <a:off x="4861080" y="5229360"/>
              <a:ext cx="1406520" cy="939600"/>
              <a:chOff x="4861080" y="5229360"/>
              <a:chExt cx="1406520" cy="939600"/>
            </a:xfrm>
          </p:grpSpPr>
          <p:sp>
            <p:nvSpPr>
              <p:cNvPr id="1251" name=""/>
              <p:cNvSpPr/>
              <p:nvPr/>
            </p:nvSpPr>
            <p:spPr>
              <a:xfrm>
                <a:off x="4913640" y="5229360"/>
                <a:ext cx="1209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cc"/>
                    </a:solidFill>
                    <a:latin typeface="Times New Roman"/>
                  </a:rPr>
                  <a:t>x</a:t>
                </a:r>
                <a:r>
                  <a:rPr b="1" lang="en-US" sz="3000" spc="-1" strike="noStrike">
                    <a:solidFill>
                      <a:srgbClr val="0000cc"/>
                    </a:solidFill>
                    <a:latin typeface="Times New Roman"/>
                  </a:rPr>
                  <a:t> =3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4913640" y="5618160"/>
                <a:ext cx="13539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cc"/>
                    </a:solidFill>
                    <a:latin typeface="Times New Roman"/>
                  </a:rPr>
                  <a:t>y</a:t>
                </a:r>
                <a:r>
                  <a:rPr b="1" lang="en-US" sz="3000" spc="-1" strike="noStrike">
                    <a:solidFill>
                      <a:srgbClr val="0000cc"/>
                    </a:solidFill>
                    <a:latin typeface="Times New Roman"/>
                  </a:rPr>
                  <a:t> =2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4861080" y="5500800"/>
                <a:ext cx="93600" cy="539640"/>
              </a:xfrm>
              <a:custGeom>
                <a:avLst/>
                <a:gdLst>
                  <a:gd name="textAreaLeft" fmla="*/ 59760 w 93600"/>
                  <a:gd name="textAreaRight" fmla="*/ 93960 w 93600"/>
                  <a:gd name="textAreaTop" fmla="*/ 14040 h 539640"/>
                  <a:gd name="textAreaBottom" fmla="*/ 525600 h 53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7" dur="20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54" name=""/>
          <p:cNvGrpSpPr/>
          <p:nvPr/>
        </p:nvGrpSpPr>
        <p:grpSpPr>
          <a:xfrm>
            <a:off x="2146680" y="333360"/>
            <a:ext cx="3993840" cy="1025280"/>
            <a:chOff x="2146680" y="333360"/>
            <a:chExt cx="3993840" cy="1025280"/>
          </a:xfrm>
        </p:grpSpPr>
        <p:sp>
          <p:nvSpPr>
            <p:cNvPr id="1255" name=""/>
            <p:cNvSpPr/>
            <p:nvPr/>
          </p:nvSpPr>
          <p:spPr>
            <a:xfrm>
              <a:off x="3059280" y="333360"/>
              <a:ext cx="3081240" cy="10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+3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=13        </a:t>
              </a:r>
              <a:r>
                <a:rPr b="1" lang="en-US" sz="2600" spc="-1" strike="noStrike">
                  <a:solidFill>
                    <a:srgbClr val="000066"/>
                  </a:solidFill>
                  <a:latin typeface="Times New Roman"/>
                </a:rPr>
                <a:t>①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-2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=0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          </a:t>
              </a:r>
              <a:r>
                <a:rPr b="1" lang="en-US" sz="2600" spc="-1" strike="noStrike">
                  <a:solidFill>
                    <a:srgbClr val="000066"/>
                  </a:solidFill>
                  <a:latin typeface="Arial"/>
                </a:rPr>
                <a:t>②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6" name=""/>
            <p:cNvSpPr/>
            <p:nvPr/>
          </p:nvSpPr>
          <p:spPr>
            <a:xfrm>
              <a:off x="2988000" y="549360"/>
              <a:ext cx="69840" cy="598320"/>
            </a:xfrm>
            <a:custGeom>
              <a:avLst/>
              <a:gdLst>
                <a:gd name="textAreaLeft" fmla="*/ 44640 w 69840"/>
                <a:gd name="textAreaRight" fmla="*/ 69840 w 69840"/>
                <a:gd name="textAreaTop" fmla="*/ 15480 h 598320"/>
                <a:gd name="textAreaBottom" fmla="*/ 582840 h 5983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7" name=""/>
            <p:cNvSpPr/>
            <p:nvPr/>
          </p:nvSpPr>
          <p:spPr>
            <a:xfrm>
              <a:off x="2146680" y="54936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(2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58" name=""/>
          <p:cNvSpPr/>
          <p:nvPr/>
        </p:nvSpPr>
        <p:spPr>
          <a:xfrm>
            <a:off x="3608640" y="1413000"/>
            <a:ext cx="2018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提示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方程组</a:t>
            </a:r>
            <a:r>
              <a:rPr b="1" lang="en-US" sz="28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，需将某个方程变形再代入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59" name=""/>
          <p:cNvGrpSpPr/>
          <p:nvPr/>
        </p:nvGrpSpPr>
        <p:grpSpPr>
          <a:xfrm>
            <a:off x="2120040" y="1989000"/>
            <a:ext cx="4487040" cy="744120"/>
            <a:chOff x="2120040" y="1989000"/>
            <a:chExt cx="4487040" cy="744120"/>
          </a:xfrm>
        </p:grpSpPr>
        <p:sp>
          <p:nvSpPr>
            <p:cNvPr id="1260" name=""/>
            <p:cNvSpPr/>
            <p:nvPr/>
          </p:nvSpPr>
          <p:spPr>
            <a:xfrm>
              <a:off x="2120040" y="2062080"/>
              <a:ext cx="2125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解</a:t>
              </a: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（</a:t>
              </a: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2</a:t>
              </a: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）由</a:t>
              </a:r>
              <a:r>
                <a:rPr b="1" lang="en-US" sz="2600" spc="-1" strike="noStrike">
                  <a:solidFill>
                    <a:srgbClr val="0000cc"/>
                  </a:solidFill>
                  <a:latin typeface="Times New Roman"/>
                </a:rPr>
                <a:t>②</a:t>
              </a: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得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1" name=""/>
            <p:cNvSpPr/>
            <p:nvPr/>
          </p:nvSpPr>
          <p:spPr>
            <a:xfrm>
              <a:off x="4356000" y="2081160"/>
              <a:ext cx="22510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</a:rPr>
                <a:t>=    </a:t>
              </a: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</a:rPr>
                <a:t>y        </a:t>
              </a:r>
              <a:r>
                <a:rPr b="1" lang="en-US" sz="2600" spc="-1" strike="noStrike">
                  <a:solidFill>
                    <a:srgbClr val="0000cc"/>
                  </a:solidFill>
                  <a:latin typeface="Times New Roman"/>
                </a:rPr>
                <a:t>③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2" name=""/>
            <p:cNvGrpSpPr/>
            <p:nvPr/>
          </p:nvGrpSpPr>
          <p:grpSpPr>
            <a:xfrm>
              <a:off x="4860360" y="1989000"/>
              <a:ext cx="359280" cy="744120"/>
              <a:chOff x="4860360" y="1989000"/>
              <a:chExt cx="359280" cy="744120"/>
            </a:xfrm>
          </p:grpSpPr>
          <p:sp>
            <p:nvSpPr>
              <p:cNvPr id="1263" name=""/>
              <p:cNvSpPr/>
              <p:nvPr/>
            </p:nvSpPr>
            <p:spPr>
              <a:xfrm>
                <a:off x="4860720" y="1989000"/>
                <a:ext cx="35892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4" name=""/>
              <p:cNvSpPr/>
              <p:nvPr/>
            </p:nvSpPr>
            <p:spPr>
              <a:xfrm>
                <a:off x="4860360" y="2322360"/>
                <a:ext cx="346680" cy="4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600" spc="-1" strike="noStrike">
                    <a:solidFill>
                      <a:srgbClr val="0000cc"/>
                    </a:solidFill>
                    <a:latin typeface="Times New Roman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5" name=""/>
              <p:cNvSpPr/>
              <p:nvPr/>
            </p:nvSpPr>
            <p:spPr>
              <a:xfrm>
                <a:off x="4892760" y="2365200"/>
                <a:ext cx="287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266" name=""/>
          <p:cNvSpPr/>
          <p:nvPr/>
        </p:nvSpPr>
        <p:spPr>
          <a:xfrm>
            <a:off x="355680" y="3703680"/>
            <a:ext cx="269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67" name=""/>
          <p:cNvGrpSpPr/>
          <p:nvPr/>
        </p:nvGrpSpPr>
        <p:grpSpPr>
          <a:xfrm>
            <a:off x="2248920" y="2708280"/>
            <a:ext cx="5836320" cy="744120"/>
            <a:chOff x="2248920" y="2708280"/>
            <a:chExt cx="5836320" cy="744120"/>
          </a:xfrm>
        </p:grpSpPr>
        <p:sp>
          <p:nvSpPr>
            <p:cNvPr id="1268" name=""/>
            <p:cNvSpPr/>
            <p:nvPr/>
          </p:nvSpPr>
          <p:spPr>
            <a:xfrm>
              <a:off x="2248920" y="2781360"/>
              <a:ext cx="2134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把</a:t>
              </a:r>
              <a:r>
                <a:rPr b="1" lang="en-US" sz="2600" spc="-1" strike="noStrike">
                  <a:solidFill>
                    <a:srgbClr val="0000cc"/>
                  </a:solidFill>
                  <a:latin typeface="Times New Roman"/>
                </a:rPr>
                <a:t>③</a:t>
              </a: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代入</a:t>
              </a: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</a:rPr>
                <a:t>①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，得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69" name=""/>
            <p:cNvGrpSpPr/>
            <p:nvPr/>
          </p:nvGrpSpPr>
          <p:grpSpPr>
            <a:xfrm>
              <a:off x="4788000" y="2708280"/>
              <a:ext cx="3297240" cy="744120"/>
              <a:chOff x="4788000" y="2708280"/>
              <a:chExt cx="3297240" cy="744120"/>
            </a:xfrm>
          </p:grpSpPr>
          <p:sp>
            <p:nvSpPr>
              <p:cNvPr id="1270" name=""/>
              <p:cNvSpPr/>
              <p:nvPr/>
            </p:nvSpPr>
            <p:spPr>
              <a:xfrm>
                <a:off x="4788000" y="2779920"/>
                <a:ext cx="32972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     </a:t>
                </a:r>
                <a:r>
                  <a:rPr b="1" i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+3</a:t>
                </a:r>
                <a:r>
                  <a:rPr b="1" i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=13       </a:t>
                </a:r>
                <a:r>
                  <a:rPr b="1" lang="en-US" sz="2600" spc="-1" strike="noStrike">
                    <a:solidFill>
                      <a:srgbClr val="0000cc"/>
                    </a:solidFill>
                    <a:latin typeface="Times New Roman"/>
                  </a:rPr>
                  <a:t>④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271" name=""/>
              <p:cNvGrpSpPr/>
              <p:nvPr/>
            </p:nvGrpSpPr>
            <p:grpSpPr>
              <a:xfrm>
                <a:off x="5005080" y="2708280"/>
                <a:ext cx="359280" cy="744120"/>
                <a:chOff x="5005080" y="2708280"/>
                <a:chExt cx="359280" cy="744120"/>
              </a:xfrm>
            </p:grpSpPr>
            <p:sp>
              <p:nvSpPr>
                <p:cNvPr id="1272" name=""/>
                <p:cNvSpPr/>
                <p:nvPr/>
              </p:nvSpPr>
              <p:spPr>
                <a:xfrm>
                  <a:off x="5005440" y="2708280"/>
                  <a:ext cx="358920" cy="43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cc"/>
                      </a:solidFill>
                      <a:latin typeface="Times New Roman"/>
                    </a:rPr>
                    <a:t>4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3" name=""/>
                <p:cNvSpPr/>
                <p:nvPr/>
              </p:nvSpPr>
              <p:spPr>
                <a:xfrm>
                  <a:off x="5005080" y="3041640"/>
                  <a:ext cx="346680" cy="41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zh-CN" sz="2600" spc="-1" strike="noStrike">
                      <a:solidFill>
                        <a:srgbClr val="0000cc"/>
                      </a:solidFill>
                      <a:latin typeface="Times New Roman"/>
                    </a:rPr>
                    <a:t>3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4" name=""/>
                <p:cNvSpPr/>
                <p:nvPr/>
              </p:nvSpPr>
              <p:spPr>
                <a:xfrm>
                  <a:off x="5037480" y="3084480"/>
                  <a:ext cx="28728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275" name=""/>
          <p:cNvGrpSpPr/>
          <p:nvPr/>
        </p:nvGrpSpPr>
        <p:grpSpPr>
          <a:xfrm>
            <a:off x="2124000" y="3429000"/>
            <a:ext cx="4339800" cy="1019880"/>
            <a:chOff x="2124000" y="3429000"/>
            <a:chExt cx="4339800" cy="1019880"/>
          </a:xfrm>
        </p:grpSpPr>
        <p:grpSp>
          <p:nvGrpSpPr>
            <p:cNvPr id="1276" name=""/>
            <p:cNvGrpSpPr/>
            <p:nvPr/>
          </p:nvGrpSpPr>
          <p:grpSpPr>
            <a:xfrm>
              <a:off x="3853800" y="3429000"/>
              <a:ext cx="1257840" cy="766080"/>
              <a:chOff x="3853800" y="3429000"/>
              <a:chExt cx="1257840" cy="766080"/>
            </a:xfrm>
          </p:grpSpPr>
          <p:sp>
            <p:nvSpPr>
              <p:cNvPr id="1277" name=""/>
              <p:cNvSpPr/>
              <p:nvPr/>
            </p:nvSpPr>
            <p:spPr>
              <a:xfrm>
                <a:off x="3853800" y="3429000"/>
                <a:ext cx="537480" cy="435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1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3925080" y="3784320"/>
                <a:ext cx="346680" cy="410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8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600" spc="-1" strike="noStrike">
                    <a:solidFill>
                      <a:srgbClr val="0000cc"/>
                    </a:solidFill>
                    <a:latin typeface="Times New Roman"/>
                  </a:rPr>
                  <a:t>3</a:t>
                </a:r>
                <a:endParaRPr b="0" lang="en-US" sz="2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3957480" y="3830400"/>
                <a:ext cx="287280" cy="0"/>
              </a:xfrm>
              <a:prstGeom prst="line">
                <a:avLst/>
              </a:prstGeom>
              <a:ln w="255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4214520" y="3501720"/>
                <a:ext cx="8971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y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=13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281" name=""/>
            <p:cNvSpPr/>
            <p:nvPr/>
          </p:nvSpPr>
          <p:spPr>
            <a:xfrm>
              <a:off x="5745240" y="3506760"/>
              <a:ext cx="7185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</a:rPr>
                <a:t>=3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2" name=""/>
            <p:cNvSpPr/>
            <p:nvPr/>
          </p:nvSpPr>
          <p:spPr>
            <a:xfrm>
              <a:off x="2124000" y="3501720"/>
              <a:ext cx="392904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解方程</a:t>
              </a:r>
              <a:r>
                <a:rPr b="1" lang="en-US" sz="2800" spc="-1" strike="noStrike">
                  <a:solidFill>
                    <a:srgbClr val="0000cc"/>
                  </a:solidFill>
                  <a:latin typeface="Times New Roman"/>
                </a:rPr>
                <a:t>④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，             即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83" name=""/>
          <p:cNvSpPr/>
          <p:nvPr/>
        </p:nvSpPr>
        <p:spPr>
          <a:xfrm>
            <a:off x="2527200" y="4149720"/>
            <a:ext cx="3206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把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=3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代入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③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</a:rPr>
              <a:t>，</a:t>
            </a:r>
            <a:r>
              <a:rPr b="1" lang="zh-CN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得：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0000cc"/>
                </a:solidFill>
                <a:latin typeface="Times New Roman"/>
              </a:rPr>
              <a:t>=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4" name=""/>
          <p:cNvGrpSpPr/>
          <p:nvPr/>
        </p:nvGrpSpPr>
        <p:grpSpPr>
          <a:xfrm>
            <a:off x="1979640" y="4653000"/>
            <a:ext cx="4575240" cy="939600"/>
            <a:chOff x="1979640" y="4653000"/>
            <a:chExt cx="4575240" cy="939600"/>
          </a:xfrm>
        </p:grpSpPr>
        <p:sp>
          <p:nvSpPr>
            <p:cNvPr id="1285" name=""/>
            <p:cNvSpPr/>
            <p:nvPr/>
          </p:nvSpPr>
          <p:spPr>
            <a:xfrm>
              <a:off x="1979640" y="4868640"/>
              <a:ext cx="3673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∴</a:t>
              </a:r>
              <a:r>
                <a:rPr b="1" lang="zh-CN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原方程组的解是：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86" name=""/>
            <p:cNvGrpSpPr/>
            <p:nvPr/>
          </p:nvGrpSpPr>
          <p:grpSpPr>
            <a:xfrm>
              <a:off x="5148360" y="4653000"/>
              <a:ext cx="1406520" cy="939600"/>
              <a:chOff x="5148360" y="4653000"/>
              <a:chExt cx="1406520" cy="939600"/>
            </a:xfrm>
          </p:grpSpPr>
          <p:sp>
            <p:nvSpPr>
              <p:cNvPr id="1287" name=""/>
              <p:cNvSpPr/>
              <p:nvPr/>
            </p:nvSpPr>
            <p:spPr>
              <a:xfrm>
                <a:off x="5200920" y="4653000"/>
                <a:ext cx="120960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cc"/>
                    </a:solidFill>
                    <a:latin typeface="Times New Roman"/>
                  </a:rPr>
                  <a:t>x</a:t>
                </a:r>
                <a:r>
                  <a:rPr b="1" lang="en-US" sz="3000" spc="-1" strike="noStrike">
                    <a:solidFill>
                      <a:srgbClr val="0000cc"/>
                    </a:solidFill>
                    <a:latin typeface="Times New Roman"/>
                  </a:rPr>
                  <a:t> =2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8" name=""/>
              <p:cNvSpPr/>
              <p:nvPr/>
            </p:nvSpPr>
            <p:spPr>
              <a:xfrm>
                <a:off x="5200920" y="5041800"/>
                <a:ext cx="135396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187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3000" spc="-1" strike="noStrike">
                    <a:solidFill>
                      <a:srgbClr val="0000cc"/>
                    </a:solidFill>
                    <a:latin typeface="Times New Roman"/>
                  </a:rPr>
                  <a:t>y</a:t>
                </a:r>
                <a:r>
                  <a:rPr b="1" lang="en-US" sz="3000" spc="-1" strike="noStrike">
                    <a:solidFill>
                      <a:srgbClr val="0000cc"/>
                    </a:solidFill>
                    <a:latin typeface="Times New Roman"/>
                  </a:rPr>
                  <a:t> =3</a:t>
                </a:r>
                <a:endParaRPr b="0" lang="en-US" sz="3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9" name=""/>
              <p:cNvSpPr/>
              <p:nvPr/>
            </p:nvSpPr>
            <p:spPr>
              <a:xfrm>
                <a:off x="5148360" y="4924440"/>
                <a:ext cx="93600" cy="539640"/>
              </a:xfrm>
              <a:custGeom>
                <a:avLst/>
                <a:gdLst>
                  <a:gd name="textAreaLeft" fmla="*/ 59760 w 93600"/>
                  <a:gd name="textAreaRight" fmla="*/ 93960 w 93600"/>
                  <a:gd name="textAreaTop" fmla="*/ 14040 h 539640"/>
                  <a:gd name="textAreaBottom" fmla="*/ 525600 h 53964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21600" y="0"/>
                    </a:moveTo>
                    <a:cubicBezTo>
                      <a:pt x="16200" y="0"/>
                      <a:pt x="10800" y="900"/>
                      <a:pt x="10800" y="1800"/>
                    </a:cubicBezTo>
                    <a:lnTo>
                      <a:pt x="10800" y="9000"/>
                    </a:lnTo>
                    <a:cubicBezTo>
                      <a:pt x="10800" y="9900"/>
                      <a:pt x="5400" y="10800"/>
                      <a:pt x="0" y="10800"/>
                    </a:cubicBezTo>
                    <a:cubicBezTo>
                      <a:pt x="5400" y="10800"/>
                      <a:pt x="10800" y="11700"/>
                      <a:pt x="10800" y="12600"/>
                    </a:cubicBezTo>
                    <a:lnTo>
                      <a:pt x="10800" y="19800"/>
                    </a:lnTo>
                    <a:cubicBezTo>
                      <a:pt x="10800" y="20700"/>
                      <a:pt x="16200" y="21600"/>
                      <a:pt x="21600" y="21600"/>
                    </a:cubicBezTo>
                  </a:path>
                </a:pathLst>
              </a:custGeom>
              <a:noFill/>
              <a:ln w="2844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0" name=""/>
          <p:cNvSpPr/>
          <p:nvPr/>
        </p:nvSpPr>
        <p:spPr>
          <a:xfrm>
            <a:off x="395280" y="189000"/>
            <a:ext cx="8497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例</a:t>
            </a:r>
            <a:r>
              <a:rPr b="1" lang="en-US" sz="2800" spc="-1" strike="noStrike">
                <a:solidFill>
                  <a:srgbClr val="ff6600"/>
                </a:solidFill>
                <a:latin typeface="黑体"/>
                <a:ea typeface="黑体"/>
              </a:rPr>
              <a:t>3</a:t>
            </a:r>
            <a:r>
              <a:rPr b="1" lang="zh-CN" sz="2800" spc="-1" strike="noStrike">
                <a:solidFill>
                  <a:srgbClr val="ff6600"/>
                </a:solidFill>
                <a:latin typeface="黑体"/>
                <a:ea typeface="黑体"/>
              </a:rPr>
              <a:t>：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根据市场调查，某种消毒液的大瓶装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00g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和小瓶装（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50g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）两种产品的销售数量（按瓶计算）比为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 </a:t>
            </a:r>
            <a:r>
              <a:rPr b="1" lang="zh-CN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：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5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。某厂每天生产这种消毒液</a:t>
            </a:r>
            <a:r>
              <a:rPr b="1" lang="en-US" sz="2800" spc="-1" strike="noStrike">
                <a:solidFill>
                  <a:srgbClr val="000099"/>
                </a:solidFill>
                <a:latin typeface="Times New Roman"/>
                <a:ea typeface="黑体"/>
              </a:rPr>
              <a:t>22.5</a:t>
            </a:r>
            <a:r>
              <a:rPr b="1" lang="zh-CN" sz="2800" spc="-1" strike="noStrike">
                <a:solidFill>
                  <a:srgbClr val="000099"/>
                </a:solidFill>
                <a:latin typeface="黑体"/>
                <a:ea typeface="黑体"/>
              </a:rPr>
              <a:t>吨，这些消毒液应该分装大、小瓶两种产品各多少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1" name=""/>
          <p:cNvSpPr/>
          <p:nvPr/>
        </p:nvSpPr>
        <p:spPr>
          <a:xfrm>
            <a:off x="468360" y="2060640"/>
            <a:ext cx="8064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黑体"/>
                <a:ea typeface="黑体"/>
              </a:rPr>
              <a:t>解：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设这些消毒液应该分装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x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大瓶和</a:t>
            </a:r>
            <a:r>
              <a:rPr b="1" i="1" lang="en-US" sz="2800" spc="-1" strike="noStrike">
                <a:solidFill>
                  <a:srgbClr val="0000cc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小瓶</a:t>
            </a:r>
            <a:r>
              <a:rPr b="1" lang="en-US" sz="2800" spc="-1" strike="noStrike">
                <a:solidFill>
                  <a:srgbClr val="0000cc"/>
                </a:solidFill>
                <a:latin typeface="黑体"/>
                <a:ea typeface="黑体"/>
              </a:rPr>
              <a:t>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      </a:t>
            </a:r>
            <a:r>
              <a:rPr b="1" lang="zh-CN" sz="2800" spc="-1" strike="noStrike">
                <a:solidFill>
                  <a:srgbClr val="0000cc"/>
                </a:solidFill>
                <a:latin typeface="黑体"/>
                <a:ea typeface="黑体"/>
              </a:rPr>
              <a:t>列方程组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"/>
          <p:cNvSpPr/>
          <p:nvPr/>
        </p:nvSpPr>
        <p:spPr>
          <a:xfrm>
            <a:off x="1692360" y="5084640"/>
            <a:ext cx="4752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ff"/>
                </a:solidFill>
                <a:latin typeface="黑体"/>
                <a:ea typeface="黑体"/>
              </a:rPr>
              <a:t>解由学生合作完成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93" name=""/>
          <p:cNvGrpSpPr/>
          <p:nvPr/>
        </p:nvGrpSpPr>
        <p:grpSpPr>
          <a:xfrm>
            <a:off x="1403280" y="3141720"/>
            <a:ext cx="5111640" cy="1025280"/>
            <a:chOff x="1403280" y="3141720"/>
            <a:chExt cx="5111640" cy="1025280"/>
          </a:xfrm>
        </p:grpSpPr>
        <p:sp>
          <p:nvSpPr>
            <p:cNvPr id="1294" name=""/>
            <p:cNvSpPr/>
            <p:nvPr/>
          </p:nvSpPr>
          <p:spPr>
            <a:xfrm>
              <a:off x="1474920" y="3141720"/>
              <a:ext cx="5040000" cy="102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=2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                                </a:t>
              </a:r>
              <a:r>
                <a:rPr b="1" lang="en-US" sz="2600" spc="-1" strike="noStrike">
                  <a:solidFill>
                    <a:srgbClr val="000066"/>
                  </a:solidFill>
                  <a:latin typeface="Times New Roman"/>
                </a:rPr>
                <a:t>①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500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+250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=22500000</a:t>
              </a:r>
              <a:r>
                <a:rPr b="1" lang="en-US" sz="2800" spc="-1" strike="noStrike">
                  <a:solidFill>
                    <a:srgbClr val="000066"/>
                  </a:solidFill>
                  <a:latin typeface="Arial"/>
                </a:rPr>
                <a:t>     </a:t>
              </a:r>
              <a:r>
                <a:rPr b="1" lang="en-US" sz="2600" spc="-1" strike="noStrike">
                  <a:solidFill>
                    <a:srgbClr val="000066"/>
                  </a:solidFill>
                  <a:latin typeface="Arial"/>
                </a:rPr>
                <a:t>②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5" name=""/>
            <p:cNvSpPr/>
            <p:nvPr/>
          </p:nvSpPr>
          <p:spPr>
            <a:xfrm>
              <a:off x="1403280" y="3357360"/>
              <a:ext cx="69840" cy="598680"/>
            </a:xfrm>
            <a:custGeom>
              <a:avLst/>
              <a:gdLst>
                <a:gd name="textAreaLeft" fmla="*/ 44640 w 69840"/>
                <a:gd name="textAreaRight" fmla="*/ 69840 w 69840"/>
                <a:gd name="textAreaTop" fmla="*/ 15480 h 598680"/>
                <a:gd name="textAreaBottom" fmla="*/ 583200 h 59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6" name=""/>
          <p:cNvGrpSpPr/>
          <p:nvPr/>
        </p:nvGrpSpPr>
        <p:grpSpPr>
          <a:xfrm>
            <a:off x="1359000" y="4365720"/>
            <a:ext cx="6319440" cy="743760"/>
            <a:chOff x="1359000" y="4365720"/>
            <a:chExt cx="6319440" cy="743760"/>
          </a:xfrm>
        </p:grpSpPr>
        <p:sp>
          <p:nvSpPr>
            <p:cNvPr id="1297" name=""/>
            <p:cNvSpPr/>
            <p:nvPr/>
          </p:nvSpPr>
          <p:spPr>
            <a:xfrm>
              <a:off x="1359000" y="4437000"/>
              <a:ext cx="63194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黑体"/>
                  <a:ea typeface="黑体"/>
                </a:rPr>
                <a:t>分析：</a:t>
              </a: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由（</a:t>
              </a: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1</a:t>
              </a: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）得      代入（</a:t>
              </a:r>
              <a:r>
                <a:rPr b="1" lang="en-US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2</a:t>
              </a: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），消去</a:t>
              </a: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x</a:t>
              </a: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求</a:t>
              </a:r>
              <a:r>
                <a:rPr b="1" i="1" lang="en-US" sz="2800" spc="-1" strike="noStrike">
                  <a:solidFill>
                    <a:srgbClr val="0000cc"/>
                  </a:solidFill>
                  <a:latin typeface="Times New Roman"/>
                  <a:ea typeface="黑体"/>
                </a:rPr>
                <a:t>y</a:t>
              </a:r>
              <a:r>
                <a:rPr b="1" lang="zh-CN" sz="2800" spc="-1" strike="noStrike">
                  <a:solidFill>
                    <a:srgbClr val="0000cc"/>
                  </a:solidFill>
                  <a:latin typeface="黑体"/>
                  <a:ea typeface="黑体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98" name=""/>
            <p:cNvGrpSpPr/>
            <p:nvPr/>
          </p:nvGrpSpPr>
          <p:grpSpPr>
            <a:xfrm>
              <a:off x="3419640" y="4365720"/>
              <a:ext cx="1224000" cy="743760"/>
              <a:chOff x="3419640" y="4365720"/>
              <a:chExt cx="1224000" cy="743760"/>
            </a:xfrm>
          </p:grpSpPr>
          <p:sp>
            <p:nvSpPr>
              <p:cNvPr id="1299" name=""/>
              <p:cNvSpPr/>
              <p:nvPr/>
            </p:nvSpPr>
            <p:spPr>
              <a:xfrm>
                <a:off x="3419640" y="4457520"/>
                <a:ext cx="12240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i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x</a:t>
                </a:r>
                <a:r>
                  <a:rPr b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=    </a:t>
                </a:r>
                <a:r>
                  <a:rPr b="1" i="1" lang="en-US" sz="2800" spc="-1" strike="noStrike">
                    <a:solidFill>
                      <a:srgbClr val="0000cc"/>
                    </a:solidFill>
                    <a:latin typeface="Times New Roman"/>
                  </a:rPr>
                  <a:t>y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00" name=""/>
              <p:cNvGrpSpPr/>
              <p:nvPr/>
            </p:nvGrpSpPr>
            <p:grpSpPr>
              <a:xfrm>
                <a:off x="3924000" y="4365720"/>
                <a:ext cx="359280" cy="743760"/>
                <a:chOff x="3924000" y="4365720"/>
                <a:chExt cx="359280" cy="743760"/>
              </a:xfrm>
            </p:grpSpPr>
            <p:sp>
              <p:nvSpPr>
                <p:cNvPr id="1301" name=""/>
                <p:cNvSpPr/>
                <p:nvPr/>
              </p:nvSpPr>
              <p:spPr>
                <a:xfrm>
                  <a:off x="3924360" y="4365720"/>
                  <a:ext cx="358920" cy="435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800" spc="-1" strike="noStrike">
                      <a:solidFill>
                        <a:srgbClr val="0000cc"/>
                      </a:solidFill>
                      <a:latin typeface="Times New Roman"/>
                    </a:rPr>
                    <a:t>2</a:t>
                  </a:r>
                  <a:endParaRPr b="0" lang="en-US" sz="2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2" name=""/>
                <p:cNvSpPr/>
                <p:nvPr/>
              </p:nvSpPr>
              <p:spPr>
                <a:xfrm>
                  <a:off x="3924000" y="4698720"/>
                  <a:ext cx="346680" cy="4107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8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600" spc="-1" strike="noStrike">
                      <a:solidFill>
                        <a:srgbClr val="0000cc"/>
                      </a:solidFill>
                      <a:latin typeface="Times New Roman"/>
                    </a:rPr>
                    <a:t>5</a:t>
                  </a:r>
                  <a:endParaRPr b="0" lang="en-US" sz="26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3" name=""/>
                <p:cNvSpPr/>
                <p:nvPr/>
              </p:nvSpPr>
              <p:spPr>
                <a:xfrm>
                  <a:off x="3956040" y="4741560"/>
                  <a:ext cx="284400" cy="0"/>
                </a:xfrm>
                <a:prstGeom prst="line">
                  <a:avLst/>
                </a:prstGeom>
                <a:ln w="25560">
                  <a:solidFill>
                    <a:srgbClr val="0000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"/>
          <p:cNvSpPr/>
          <p:nvPr/>
        </p:nvSpPr>
        <p:spPr>
          <a:xfrm>
            <a:off x="395280" y="692280"/>
            <a:ext cx="810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、把下列方程写成用含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x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的式子表示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y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的形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⑴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2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-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＝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3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          ⑵  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3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x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+</a:t>
            </a:r>
            <a:r>
              <a:rPr b="1" i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y</a:t>
            </a: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-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1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＝</a:t>
            </a:r>
            <a:r>
              <a:rPr b="1" lang="en-US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"/>
          <p:cNvSpPr/>
          <p:nvPr/>
        </p:nvSpPr>
        <p:spPr>
          <a:xfrm>
            <a:off x="468360" y="2492280"/>
            <a:ext cx="396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66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66"/>
                </a:solidFill>
                <a:latin typeface="黑体"/>
                <a:ea typeface="黑体"/>
              </a:rPr>
              <a:t>、解二元一次方程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"/>
          <p:cNvSpPr/>
          <p:nvPr/>
        </p:nvSpPr>
        <p:spPr>
          <a:xfrm>
            <a:off x="1404720" y="1700280"/>
            <a:ext cx="11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2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-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"/>
          <p:cNvSpPr/>
          <p:nvPr/>
        </p:nvSpPr>
        <p:spPr>
          <a:xfrm>
            <a:off x="5365440" y="1628640"/>
            <a:ext cx="1194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y</a:t>
            </a: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=1-3</a:t>
            </a:r>
            <a:r>
              <a:rPr b="1" i="1" lang="en-US" sz="2800" spc="-1" strike="noStrike">
                <a:solidFill>
                  <a:srgbClr val="ff0000"/>
                </a:solidFill>
                <a:latin typeface="Times New Roman"/>
              </a:rPr>
              <a:t>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"/>
          <p:cNvSpPr/>
          <p:nvPr/>
        </p:nvSpPr>
        <p:spPr>
          <a:xfrm>
            <a:off x="3000240" y="5589720"/>
            <a:ext cx="98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Times New Roman"/>
                <a:ea typeface="黑体"/>
              </a:rPr>
              <a:t>注意：</a:t>
            </a:r>
            <a:r>
              <a:rPr b="1" lang="zh-CN" sz="2800" spc="-1" strike="noStrike">
                <a:solidFill>
                  <a:srgbClr val="000066"/>
                </a:solidFill>
                <a:latin typeface="Times New Roman"/>
                <a:ea typeface="黑体"/>
              </a:rPr>
              <a:t>怎样变形、代入简便些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9" name=""/>
          <p:cNvGrpSpPr/>
          <p:nvPr/>
        </p:nvGrpSpPr>
        <p:grpSpPr>
          <a:xfrm>
            <a:off x="179280" y="0"/>
            <a:ext cx="2476440" cy="691920"/>
            <a:chOff x="179280" y="0"/>
            <a:chExt cx="2476440" cy="691920"/>
          </a:xfrm>
        </p:grpSpPr>
        <p:sp>
          <p:nvSpPr>
            <p:cNvPr id="1310" name=""/>
            <p:cNvSpPr/>
            <p:nvPr/>
          </p:nvSpPr>
          <p:spPr>
            <a:xfrm>
              <a:off x="179280" y="0"/>
              <a:ext cx="2476440" cy="559440"/>
            </a:xfrm>
            <a:prstGeom prst="rect">
              <a:avLst/>
            </a:prstGeom>
            <a:gradFill rotWithShape="0">
              <a:gsLst>
                <a:gs pos="0">
                  <a:srgbClr val="b8e0be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1" name=""/>
            <p:cNvSpPr/>
            <p:nvPr/>
          </p:nvSpPr>
          <p:spPr>
            <a:xfrm>
              <a:off x="489600" y="403920"/>
              <a:ext cx="2106000" cy="155160"/>
            </a:xfrm>
            <a:prstGeom prst="pie">
              <a:avLst/>
            </a:prstGeom>
            <a:solidFill>
              <a:srgbClr val="00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312" name=""/>
            <p:cNvGrpSpPr/>
            <p:nvPr/>
          </p:nvGrpSpPr>
          <p:grpSpPr>
            <a:xfrm>
              <a:off x="225720" y="41040"/>
              <a:ext cx="518400" cy="518040"/>
              <a:chOff x="225720" y="41040"/>
              <a:chExt cx="518400" cy="518040"/>
            </a:xfrm>
          </p:grpSpPr>
          <p:grpSp>
            <p:nvGrpSpPr>
              <p:cNvPr id="1313" name=""/>
              <p:cNvGrpSpPr/>
              <p:nvPr/>
            </p:nvGrpSpPr>
            <p:grpSpPr>
              <a:xfrm>
                <a:off x="260640" y="96480"/>
                <a:ext cx="483480" cy="462600"/>
                <a:chOff x="260640" y="96480"/>
                <a:chExt cx="483480" cy="462600"/>
              </a:xfrm>
            </p:grpSpPr>
            <p:sp>
              <p:nvSpPr>
                <p:cNvPr id="1314" name=""/>
                <p:cNvSpPr/>
                <p:nvPr/>
              </p:nvSpPr>
              <p:spPr>
                <a:xfrm>
                  <a:off x="288360" y="96480"/>
                  <a:ext cx="416880" cy="4381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ffff66"/>
                    </a:gs>
                    <a:gs pos="100000">
                      <a:srgbClr val="ffcc00"/>
                    </a:gs>
                  </a:gsLst>
                  <a:lin ang="13500000"/>
                </a:gradFill>
                <a:ln w="12600">
                  <a:solidFill>
                    <a:srgbClr val="996633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1315" name=""/>
                <p:cNvGrpSpPr/>
                <p:nvPr/>
              </p:nvGrpSpPr>
              <p:grpSpPr>
                <a:xfrm>
                  <a:off x="260640" y="158040"/>
                  <a:ext cx="483480" cy="401040"/>
                  <a:chOff x="260640" y="158040"/>
                  <a:chExt cx="483480" cy="401040"/>
                </a:xfrm>
              </p:grpSpPr>
              <p:sp>
                <p:nvSpPr>
                  <p:cNvPr id="1316" name="未知"/>
                  <p:cNvSpPr/>
                  <p:nvPr/>
                </p:nvSpPr>
                <p:spPr>
                  <a:xfrm>
                    <a:off x="260640" y="260280"/>
                    <a:ext cx="367560" cy="6084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317">
                        <a:moveTo>
                          <a:pt x="0" y="0"/>
                        </a:moveTo>
                        <a:lnTo>
                          <a:pt x="817" y="227"/>
                        </a:lnTo>
                        <a:lnTo>
                          <a:pt x="1497" y="45"/>
                        </a:lnTo>
                        <a:lnTo>
                          <a:pt x="1497" y="136"/>
                        </a:lnTo>
                        <a:lnTo>
                          <a:pt x="817" y="317"/>
                        </a:lnTo>
                        <a:lnTo>
                          <a:pt x="0" y="90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6600"/>
                      </a:gs>
                      <a:gs pos="100000">
                        <a:srgbClr val="ff99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4040" bIns="1404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7" name="未知"/>
                  <p:cNvSpPr/>
                  <p:nvPr/>
                </p:nvSpPr>
                <p:spPr>
                  <a:xfrm>
                    <a:off x="260640" y="225000"/>
                    <a:ext cx="36756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497" h="409">
                        <a:moveTo>
                          <a:pt x="0" y="182"/>
                        </a:moveTo>
                        <a:lnTo>
                          <a:pt x="817" y="409"/>
                        </a:lnTo>
                        <a:lnTo>
                          <a:pt x="1497" y="227"/>
                        </a:lnTo>
                        <a:lnTo>
                          <a:pt x="590" y="0"/>
                        </a:lnTo>
                        <a:lnTo>
                          <a:pt x="0" y="182"/>
                        </a:lnTo>
                        <a:close/>
                      </a:path>
                    </a:pathLst>
                  </a:custGeom>
                  <a:blipFill rotWithShape="0">
                    <a:blip r:embed="rId1"/>
                    <a:srcRect/>
                    <a:tile tx="0" ty="0" sx="100000" sy="100000" algn="ctr"/>
                  </a:blipFill>
                  <a:ln w="38160">
                    <a:solidFill>
                      <a:srgbClr val="996633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8" name="未知"/>
                  <p:cNvSpPr/>
                  <p:nvPr/>
                </p:nvSpPr>
                <p:spPr>
                  <a:xfrm>
                    <a:off x="294120" y="286200"/>
                    <a:ext cx="289800" cy="78480"/>
                  </a:xfrm>
                  <a:custGeom>
                    <a:avLst/>
                    <a:gdLst/>
                    <a:ahLst/>
                    <a:rect l="l" t="t" r="r" b="b"/>
                    <a:pathLst>
                      <a:path w="1180" h="408">
                        <a:moveTo>
                          <a:pt x="0" y="0"/>
                        </a:moveTo>
                        <a:lnTo>
                          <a:pt x="726" y="181"/>
                        </a:lnTo>
                        <a:lnTo>
                          <a:pt x="1180" y="45"/>
                        </a:lnTo>
                        <a:lnTo>
                          <a:pt x="1134" y="227"/>
                        </a:lnTo>
                        <a:lnTo>
                          <a:pt x="726" y="408"/>
                        </a:lnTo>
                        <a:lnTo>
                          <a:pt x="46" y="18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blipFill rotWithShape="0">
                    <a:blip r:embed="rId2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31680" bIns="3168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9" name="未知"/>
                  <p:cNvSpPr/>
                  <p:nvPr/>
                </p:nvSpPr>
                <p:spPr>
                  <a:xfrm>
                    <a:off x="416520" y="347400"/>
                    <a:ext cx="33480" cy="104760"/>
                  </a:xfrm>
                  <a:custGeom>
                    <a:avLst/>
                    <a:gdLst/>
                    <a:ahLst/>
                    <a:rect l="l" t="t" r="r" b="b"/>
                    <a:pathLst>
                      <a:path w="136" h="545">
                        <a:moveTo>
                          <a:pt x="0" y="0"/>
                        </a:moveTo>
                        <a:lnTo>
                          <a:pt x="136" y="46"/>
                        </a:lnTo>
                        <a:lnTo>
                          <a:pt x="91" y="136"/>
                        </a:lnTo>
                        <a:lnTo>
                          <a:pt x="136" y="318"/>
                        </a:lnTo>
                        <a:lnTo>
                          <a:pt x="136" y="545"/>
                        </a:lnTo>
                        <a:lnTo>
                          <a:pt x="46" y="545"/>
                        </a:lnTo>
                        <a:lnTo>
                          <a:pt x="0" y="318"/>
                        </a:lnTo>
                        <a:lnTo>
                          <a:pt x="0" y="18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66699"/>
                      </a:gs>
                      <a:gs pos="5000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0" name="未知"/>
                  <p:cNvSpPr/>
                  <p:nvPr/>
                </p:nvSpPr>
                <p:spPr>
                  <a:xfrm>
                    <a:off x="406080" y="439920"/>
                    <a:ext cx="64080" cy="21240"/>
                  </a:xfrm>
                  <a:custGeom>
                    <a:avLst/>
                    <a:gdLst/>
                    <a:ahLst/>
                    <a:rect l="l" t="t" r="r" b="b"/>
                    <a:pathLst>
                      <a:path w="370" h="158">
                        <a:moveTo>
                          <a:pt x="181" y="106"/>
                        </a:moveTo>
                        <a:cubicBezTo>
                          <a:pt x="151" y="106"/>
                          <a:pt x="106" y="121"/>
                          <a:pt x="91" y="106"/>
                        </a:cubicBezTo>
                        <a:cubicBezTo>
                          <a:pt x="76" y="91"/>
                          <a:pt x="106" y="15"/>
                          <a:pt x="91" y="15"/>
                        </a:cubicBezTo>
                        <a:cubicBezTo>
                          <a:pt x="76" y="15"/>
                          <a:pt x="0" y="83"/>
                          <a:pt x="0" y="106"/>
                        </a:cubicBezTo>
                        <a:cubicBezTo>
                          <a:pt x="0" y="129"/>
                          <a:pt x="46" y="144"/>
                          <a:pt x="91" y="151"/>
                        </a:cubicBezTo>
                        <a:cubicBezTo>
                          <a:pt x="136" y="158"/>
                          <a:pt x="227" y="158"/>
                          <a:pt x="272" y="151"/>
                        </a:cubicBezTo>
                        <a:cubicBezTo>
                          <a:pt x="317" y="144"/>
                          <a:pt x="356" y="129"/>
                          <a:pt x="363" y="106"/>
                        </a:cubicBezTo>
                        <a:cubicBezTo>
                          <a:pt x="370" y="83"/>
                          <a:pt x="340" y="30"/>
                          <a:pt x="317" y="15"/>
                        </a:cubicBezTo>
                        <a:cubicBezTo>
                          <a:pt x="294" y="0"/>
                          <a:pt x="234" y="0"/>
                          <a:pt x="227" y="15"/>
                        </a:cubicBezTo>
                        <a:cubicBezTo>
                          <a:pt x="220" y="30"/>
                          <a:pt x="280" y="91"/>
                          <a:pt x="272" y="106"/>
                        </a:cubicBezTo>
                        <a:cubicBezTo>
                          <a:pt x="264" y="121"/>
                          <a:pt x="211" y="106"/>
                          <a:pt x="181" y="106"/>
                        </a:cubicBez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ccecff"/>
                      </a:gs>
                      <a:gs pos="100000">
                        <a:srgbClr val="ffffff"/>
                      </a:gs>
                    </a:gsLst>
                    <a:lin ang="5400000"/>
                  </a:gra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560" bIns="-2556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1" name="未知"/>
                  <p:cNvSpPr/>
                  <p:nvPr/>
                </p:nvSpPr>
                <p:spPr>
                  <a:xfrm>
                    <a:off x="311760" y="435960"/>
                    <a:ext cx="275400" cy="123120"/>
                  </a:xfrm>
                  <a:custGeom>
                    <a:avLst/>
                    <a:gdLst/>
                    <a:ahLst/>
                    <a:rect l="l" t="t" r="r" b="b"/>
                    <a:pathLst>
                      <a:path w="1587" h="907">
                        <a:moveTo>
                          <a:pt x="1496" y="0"/>
                        </a:moveTo>
                        <a:lnTo>
                          <a:pt x="1587" y="90"/>
                        </a:lnTo>
                        <a:lnTo>
                          <a:pt x="1496" y="181"/>
                        </a:lnTo>
                        <a:lnTo>
                          <a:pt x="907" y="499"/>
                        </a:lnTo>
                        <a:lnTo>
                          <a:pt x="1224" y="589"/>
                        </a:lnTo>
                        <a:lnTo>
                          <a:pt x="1406" y="725"/>
                        </a:lnTo>
                        <a:lnTo>
                          <a:pt x="1360" y="861"/>
                        </a:lnTo>
                        <a:lnTo>
                          <a:pt x="1270" y="907"/>
                        </a:lnTo>
                        <a:lnTo>
                          <a:pt x="1134" y="816"/>
                        </a:lnTo>
                        <a:lnTo>
                          <a:pt x="771" y="725"/>
                        </a:lnTo>
                        <a:lnTo>
                          <a:pt x="226" y="635"/>
                        </a:lnTo>
                        <a:lnTo>
                          <a:pt x="90" y="635"/>
                        </a:lnTo>
                        <a:lnTo>
                          <a:pt x="0" y="544"/>
                        </a:lnTo>
                        <a:lnTo>
                          <a:pt x="90" y="453"/>
                        </a:lnTo>
                        <a:lnTo>
                          <a:pt x="362" y="453"/>
                        </a:lnTo>
                        <a:lnTo>
                          <a:pt x="589" y="453"/>
                        </a:lnTo>
                        <a:lnTo>
                          <a:pt x="680" y="453"/>
                        </a:lnTo>
                        <a:lnTo>
                          <a:pt x="635" y="362"/>
                        </a:lnTo>
                        <a:lnTo>
                          <a:pt x="589" y="226"/>
                        </a:lnTo>
                        <a:lnTo>
                          <a:pt x="544" y="136"/>
                        </a:lnTo>
                        <a:lnTo>
                          <a:pt x="635" y="181"/>
                        </a:lnTo>
                        <a:lnTo>
                          <a:pt x="771" y="181"/>
                        </a:lnTo>
                        <a:lnTo>
                          <a:pt x="861" y="181"/>
                        </a:lnTo>
                        <a:lnTo>
                          <a:pt x="907" y="90"/>
                        </a:lnTo>
                        <a:lnTo>
                          <a:pt x="907" y="226"/>
                        </a:lnTo>
                        <a:lnTo>
                          <a:pt x="861" y="362"/>
                        </a:lnTo>
                        <a:lnTo>
                          <a:pt x="1224" y="181"/>
                        </a:lnTo>
                        <a:lnTo>
                          <a:pt x="1360" y="136"/>
                        </a:lnTo>
                        <a:lnTo>
                          <a:pt x="1406" y="45"/>
                        </a:lnTo>
                        <a:lnTo>
                          <a:pt x="1496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2" name="未知"/>
                  <p:cNvSpPr/>
                  <p:nvPr/>
                </p:nvSpPr>
                <p:spPr>
                  <a:xfrm>
                    <a:off x="563760" y="355320"/>
                    <a:ext cx="141480" cy="98640"/>
                  </a:xfrm>
                  <a:custGeom>
                    <a:avLst/>
                    <a:gdLst/>
                    <a:ahLst/>
                    <a:rect l="l" t="t" r="r" b="b"/>
                    <a:pathLst>
                      <a:path w="817" h="726">
                        <a:moveTo>
                          <a:pt x="182" y="0"/>
                        </a:moveTo>
                        <a:lnTo>
                          <a:pt x="182" y="136"/>
                        </a:lnTo>
                        <a:lnTo>
                          <a:pt x="227" y="317"/>
                        </a:lnTo>
                        <a:lnTo>
                          <a:pt x="227" y="408"/>
                        </a:lnTo>
                        <a:lnTo>
                          <a:pt x="0" y="499"/>
                        </a:lnTo>
                        <a:lnTo>
                          <a:pt x="0" y="590"/>
                        </a:lnTo>
                        <a:lnTo>
                          <a:pt x="136" y="635"/>
                        </a:lnTo>
                        <a:lnTo>
                          <a:pt x="136" y="726"/>
                        </a:lnTo>
                        <a:lnTo>
                          <a:pt x="272" y="635"/>
                        </a:lnTo>
                        <a:lnTo>
                          <a:pt x="363" y="590"/>
                        </a:lnTo>
                        <a:lnTo>
                          <a:pt x="454" y="590"/>
                        </a:lnTo>
                        <a:lnTo>
                          <a:pt x="635" y="635"/>
                        </a:lnTo>
                        <a:lnTo>
                          <a:pt x="771" y="635"/>
                        </a:lnTo>
                        <a:lnTo>
                          <a:pt x="817" y="544"/>
                        </a:lnTo>
                        <a:lnTo>
                          <a:pt x="635" y="453"/>
                        </a:lnTo>
                        <a:lnTo>
                          <a:pt x="499" y="453"/>
                        </a:lnTo>
                        <a:lnTo>
                          <a:pt x="408" y="272"/>
                        </a:lnTo>
                        <a:lnTo>
                          <a:pt x="408" y="45"/>
                        </a:lnTo>
                        <a:lnTo>
                          <a:pt x="182" y="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666699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3" name="未知"/>
                  <p:cNvSpPr/>
                  <p:nvPr/>
                </p:nvSpPr>
                <p:spPr>
                  <a:xfrm>
                    <a:off x="532080" y="158040"/>
                    <a:ext cx="212040" cy="203400"/>
                  </a:xfrm>
                  <a:custGeom>
                    <a:avLst/>
                    <a:gdLst/>
                    <a:ahLst/>
                    <a:rect l="l" t="t" r="r" b="b"/>
                    <a:pathLst>
                      <a:path w="1224" h="1497">
                        <a:moveTo>
                          <a:pt x="0" y="1361"/>
                        </a:moveTo>
                        <a:lnTo>
                          <a:pt x="136" y="1316"/>
                        </a:lnTo>
                        <a:lnTo>
                          <a:pt x="635" y="1407"/>
                        </a:lnTo>
                        <a:lnTo>
                          <a:pt x="1088" y="1044"/>
                        </a:lnTo>
                        <a:lnTo>
                          <a:pt x="1043" y="227"/>
                        </a:lnTo>
                        <a:lnTo>
                          <a:pt x="317" y="136"/>
                        </a:lnTo>
                        <a:lnTo>
                          <a:pt x="317" y="46"/>
                        </a:lnTo>
                        <a:lnTo>
                          <a:pt x="453" y="0"/>
                        </a:lnTo>
                        <a:lnTo>
                          <a:pt x="1134" y="91"/>
                        </a:lnTo>
                        <a:lnTo>
                          <a:pt x="1224" y="1134"/>
                        </a:lnTo>
                        <a:lnTo>
                          <a:pt x="861" y="1407"/>
                        </a:lnTo>
                        <a:lnTo>
                          <a:pt x="680" y="1497"/>
                        </a:lnTo>
                        <a:lnTo>
                          <a:pt x="0" y="1361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ffffff"/>
                      </a:gs>
                      <a:gs pos="100000">
                        <a:srgbClr val="006600"/>
                      </a:gs>
                    </a:gsLst>
                    <a:lin ang="10800000"/>
                  </a:gradFill>
                  <a:ln w="381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4" name="未知"/>
                  <p:cNvSpPr/>
                  <p:nvPr/>
                </p:nvSpPr>
                <p:spPr>
                  <a:xfrm>
                    <a:off x="547920" y="176400"/>
                    <a:ext cx="172800" cy="166680"/>
                  </a:xfrm>
                  <a:custGeom>
                    <a:avLst/>
                    <a:gdLst/>
                    <a:ahLst/>
                    <a:rect l="l" t="t" r="r" b="b"/>
                    <a:pathLst>
                      <a:path w="998" h="1225">
                        <a:moveTo>
                          <a:pt x="227" y="0"/>
                        </a:moveTo>
                        <a:lnTo>
                          <a:pt x="227" y="454"/>
                        </a:lnTo>
                        <a:lnTo>
                          <a:pt x="136" y="590"/>
                        </a:lnTo>
                        <a:lnTo>
                          <a:pt x="454" y="635"/>
                        </a:lnTo>
                        <a:lnTo>
                          <a:pt x="454" y="817"/>
                        </a:lnTo>
                        <a:lnTo>
                          <a:pt x="227" y="862"/>
                        </a:lnTo>
                        <a:lnTo>
                          <a:pt x="136" y="1089"/>
                        </a:lnTo>
                        <a:lnTo>
                          <a:pt x="0" y="1180"/>
                        </a:lnTo>
                        <a:lnTo>
                          <a:pt x="545" y="1225"/>
                        </a:lnTo>
                        <a:lnTo>
                          <a:pt x="998" y="908"/>
                        </a:lnTo>
                        <a:lnTo>
                          <a:pt x="953" y="91"/>
                        </a:lnTo>
                        <a:lnTo>
                          <a:pt x="227" y="0"/>
                        </a:lnTo>
                        <a:close/>
                      </a:path>
                    </a:pathLst>
                  </a:custGeom>
                  <a:blipFill rotWithShape="0">
                    <a:blip r:embed="rId3"/>
                    <a:srcRect/>
                    <a:tile tx="0" ty="0" sx="100000" sy="100000" algn="ctr"/>
                  </a:blip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325" name=""/>
              <p:cNvGrpSpPr/>
              <p:nvPr/>
            </p:nvGrpSpPr>
            <p:grpSpPr>
              <a:xfrm>
                <a:off x="225720" y="41040"/>
                <a:ext cx="243720" cy="147960"/>
                <a:chOff x="225720" y="41040"/>
                <a:chExt cx="243720" cy="147960"/>
              </a:xfrm>
            </p:grpSpPr>
            <p:sp>
              <p:nvSpPr>
                <p:cNvPr id="1326" name="未知"/>
                <p:cNvSpPr/>
                <p:nvPr/>
              </p:nvSpPr>
              <p:spPr>
                <a:xfrm>
                  <a:off x="225720" y="102600"/>
                  <a:ext cx="141480" cy="86400"/>
                </a:xfrm>
                <a:custGeom>
                  <a:avLst/>
                  <a:gdLst/>
                  <a:ahLst/>
                  <a:rect l="l" t="t" r="r" b="b"/>
                  <a:pathLst>
                    <a:path w="816" h="635">
                      <a:moveTo>
                        <a:pt x="816" y="499"/>
                      </a:moveTo>
                      <a:lnTo>
                        <a:pt x="635" y="635"/>
                      </a:lnTo>
                      <a:lnTo>
                        <a:pt x="45" y="136"/>
                      </a:lnTo>
                      <a:lnTo>
                        <a:pt x="0" y="0"/>
                      </a:lnTo>
                      <a:lnTo>
                        <a:pt x="816" y="499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99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9600" bIns="396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7" name="未知"/>
                <p:cNvSpPr/>
                <p:nvPr/>
              </p:nvSpPr>
              <p:spPr>
                <a:xfrm>
                  <a:off x="296280" y="41040"/>
                  <a:ext cx="117720" cy="123480"/>
                </a:xfrm>
                <a:custGeom>
                  <a:avLst/>
                  <a:gdLst/>
                  <a:ahLst/>
                  <a:rect l="l" t="t" r="r" b="b"/>
                  <a:pathLst>
                    <a:path w="680" h="907">
                      <a:moveTo>
                        <a:pt x="453" y="907"/>
                      </a:moveTo>
                      <a:lnTo>
                        <a:pt x="680" y="771"/>
                      </a:lnTo>
                      <a:lnTo>
                        <a:pt x="0" y="0"/>
                      </a:lnTo>
                      <a:lnTo>
                        <a:pt x="0" y="136"/>
                      </a:lnTo>
                      <a:lnTo>
                        <a:pt x="453" y="907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008a00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8" name="未知"/>
                <p:cNvSpPr/>
                <p:nvPr/>
              </p:nvSpPr>
              <p:spPr>
                <a:xfrm>
                  <a:off x="398880" y="59400"/>
                  <a:ext cx="70560" cy="73800"/>
                </a:xfrm>
                <a:custGeom>
                  <a:avLst/>
                  <a:gdLst/>
                  <a:ahLst/>
                  <a:rect l="l" t="t" r="r" b="b"/>
                  <a:pathLst>
                    <a:path w="408" h="544">
                      <a:moveTo>
                        <a:pt x="226" y="544"/>
                      </a:moveTo>
                      <a:lnTo>
                        <a:pt x="408" y="499"/>
                      </a:lnTo>
                      <a:lnTo>
                        <a:pt x="90" y="0"/>
                      </a:lnTo>
                      <a:lnTo>
                        <a:pt x="0" y="90"/>
                      </a:lnTo>
                      <a:lnTo>
                        <a:pt x="226" y="544"/>
                      </a:lnTo>
                      <a:close/>
                    </a:path>
                  </a:pathLst>
                </a:custGeom>
                <a:gradFill rotWithShape="0">
                  <a:gsLst>
                    <a:gs pos="0">
                      <a:srgbClr val="009900"/>
                    </a:gs>
                    <a:gs pos="100000">
                      <a:srgbClr val="35ad35"/>
                    </a:gs>
                  </a:gsLst>
                  <a:lin ang="5400000"/>
                </a:gradFill>
                <a:ln w="936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7000" bIns="27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329" name=""/>
            <p:cNvSpPr txBox="1"/>
            <p:nvPr/>
          </p:nvSpPr>
          <p:spPr>
            <a:xfrm>
              <a:off x="785160" y="42120"/>
              <a:ext cx="1820520" cy="3625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zh-CN" sz="6000" spc="-1" strike="noStrike">
                  <a:ln w="9360">
                    <a:solidFill>
                      <a:srgbClr val="000000"/>
                    </a:solidFill>
                    <a:miter/>
                  </a:ln>
                  <a:blipFill rotWithShape="0">
                    <a:blip r:embed="rId4"/>
                    <a:srcRect/>
                    <a:stretch/>
                  </a:blipFill>
                  <a:effectLst>
                    <a:outerShdw dist="17819" dir="2700000" blurRad="0" rotWithShape="0">
                      <a:srgbClr val="000000"/>
                    </a:outerShdw>
                  </a:effectLst>
                  <a:latin typeface="黑体"/>
                </a:rPr>
                <a:t>知识应用</a:t>
              </a:r>
              <a:endParaRPr b="1" i="1" lang="en-US" sz="6000" spc="-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5"/>
                  <a:srcRect/>
                  <a:stretch/>
                </a:blipFill>
                <a:effectLst>
                  <a:outerShdw dist="17819" dir="2700000" blurRad="0" rotWithShape="0">
                    <a:srgbClr val="000000"/>
                  </a:outerShdw>
                </a:effectLst>
                <a:latin typeface="黑体"/>
                <a:ea typeface="黑体"/>
              </a:endParaRPr>
            </a:p>
          </p:txBody>
        </p:sp>
        <p:sp>
          <p:nvSpPr>
            <p:cNvPr id="1330" name=""/>
            <p:cNvSpPr/>
            <p:nvPr/>
          </p:nvSpPr>
          <p:spPr>
            <a:xfrm>
              <a:off x="1202400" y="324720"/>
              <a:ext cx="855360" cy="36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1" name=""/>
          <p:cNvGrpSpPr/>
          <p:nvPr/>
        </p:nvGrpSpPr>
        <p:grpSpPr>
          <a:xfrm>
            <a:off x="635040" y="3141720"/>
            <a:ext cx="2498760" cy="1041120"/>
            <a:chOff x="635040" y="3141720"/>
            <a:chExt cx="2498760" cy="1041120"/>
          </a:xfrm>
        </p:grpSpPr>
        <p:sp>
          <p:nvSpPr>
            <p:cNvPr id="1332" name=""/>
            <p:cNvSpPr/>
            <p:nvPr/>
          </p:nvSpPr>
          <p:spPr>
            <a:xfrm>
              <a:off x="1476360" y="3141720"/>
              <a:ext cx="1657440" cy="10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=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3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+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=17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3" name=""/>
            <p:cNvSpPr/>
            <p:nvPr/>
          </p:nvSpPr>
          <p:spPr>
            <a:xfrm>
              <a:off x="1405080" y="3429000"/>
              <a:ext cx="69840" cy="598680"/>
            </a:xfrm>
            <a:custGeom>
              <a:avLst/>
              <a:gdLst>
                <a:gd name="textAreaLeft" fmla="*/ 44640 w 69840"/>
                <a:gd name="textAreaRight" fmla="*/ 69840 w 69840"/>
                <a:gd name="textAreaTop" fmla="*/ 15480 h 598680"/>
                <a:gd name="textAreaBottom" fmla="*/ 583200 h 59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4" name=""/>
            <p:cNvSpPr/>
            <p:nvPr/>
          </p:nvSpPr>
          <p:spPr>
            <a:xfrm>
              <a:off x="635040" y="350064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(1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5" name=""/>
          <p:cNvGrpSpPr/>
          <p:nvPr/>
        </p:nvGrpSpPr>
        <p:grpSpPr>
          <a:xfrm>
            <a:off x="5027400" y="3213000"/>
            <a:ext cx="2498760" cy="1041120"/>
            <a:chOff x="5027400" y="3213000"/>
            <a:chExt cx="2498760" cy="1041120"/>
          </a:xfrm>
        </p:grpSpPr>
        <p:sp>
          <p:nvSpPr>
            <p:cNvPr id="1336" name=""/>
            <p:cNvSpPr/>
            <p:nvPr/>
          </p:nvSpPr>
          <p:spPr>
            <a:xfrm>
              <a:off x="5868720" y="3213000"/>
              <a:ext cx="1657440" cy="1041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2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-7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=1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7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-2</a:t>
              </a:r>
              <a:r>
                <a:rPr b="1" i="1" lang="en-US" sz="2800" spc="-1" strike="noStrike">
                  <a:solidFill>
                    <a:srgbClr val="000066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=</a:t>
              </a: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-</a:t>
              </a:r>
              <a:r>
                <a:rPr b="1" lang="en-US" sz="2800" spc="-1" strike="noStrike">
                  <a:solidFill>
                    <a:srgbClr val="000066"/>
                  </a:solidFill>
                  <a:latin typeface="Times New Roman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7" name=""/>
            <p:cNvSpPr/>
            <p:nvPr/>
          </p:nvSpPr>
          <p:spPr>
            <a:xfrm>
              <a:off x="5797440" y="3500280"/>
              <a:ext cx="69840" cy="598680"/>
            </a:xfrm>
            <a:custGeom>
              <a:avLst/>
              <a:gdLst>
                <a:gd name="textAreaLeft" fmla="*/ 44640 w 69840"/>
                <a:gd name="textAreaRight" fmla="*/ 69840 w 69840"/>
                <a:gd name="textAreaTop" fmla="*/ 15480 h 598680"/>
                <a:gd name="textAreaBottom" fmla="*/ 583200 h 598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844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8" name=""/>
            <p:cNvSpPr/>
            <p:nvPr/>
          </p:nvSpPr>
          <p:spPr>
            <a:xfrm>
              <a:off x="5027400" y="3571920"/>
              <a:ext cx="8208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000066"/>
                  </a:solidFill>
                  <a:latin typeface="黑体"/>
                  <a:ea typeface="黑体"/>
                </a:rPr>
                <a:t>(2)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39" name=""/>
          <p:cNvGrpSpPr/>
          <p:nvPr/>
        </p:nvGrpSpPr>
        <p:grpSpPr>
          <a:xfrm>
            <a:off x="1332000" y="4292640"/>
            <a:ext cx="1152360" cy="947160"/>
            <a:chOff x="1332000" y="4292640"/>
            <a:chExt cx="1152360" cy="947160"/>
          </a:xfrm>
        </p:grpSpPr>
        <p:sp>
          <p:nvSpPr>
            <p:cNvPr id="1340" name=""/>
            <p:cNvSpPr/>
            <p:nvPr/>
          </p:nvSpPr>
          <p:spPr>
            <a:xfrm>
              <a:off x="1411200" y="4292640"/>
              <a:ext cx="1073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=5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=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1" name=""/>
            <p:cNvSpPr/>
            <p:nvPr/>
          </p:nvSpPr>
          <p:spPr>
            <a:xfrm>
              <a:off x="1332000" y="4578120"/>
              <a:ext cx="144360" cy="50472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2960 h 504720"/>
                <a:gd name="textAreaBottom" fmla="*/ 49176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42" name=""/>
          <p:cNvGrpSpPr/>
          <p:nvPr/>
        </p:nvGrpSpPr>
        <p:grpSpPr>
          <a:xfrm>
            <a:off x="5508720" y="4437000"/>
            <a:ext cx="1152360" cy="947160"/>
            <a:chOff x="5508720" y="4437000"/>
            <a:chExt cx="1152360" cy="947160"/>
          </a:xfrm>
        </p:grpSpPr>
        <p:sp>
          <p:nvSpPr>
            <p:cNvPr id="1343" name=""/>
            <p:cNvSpPr/>
            <p:nvPr/>
          </p:nvSpPr>
          <p:spPr>
            <a:xfrm>
              <a:off x="5587920" y="4437000"/>
              <a:ext cx="107316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x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=2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ff0000"/>
                  </a:solidFill>
                  <a:latin typeface="Times New Roman"/>
                </a:rPr>
                <a:t>y</a:t>
              </a:r>
              <a:r>
                <a:rPr b="1" lang="en-US" sz="2800" spc="-1" strike="noStrike">
                  <a:solidFill>
                    <a:srgbClr val="ff0000"/>
                  </a:solidFill>
                  <a:latin typeface="Times New Roman"/>
                </a:rPr>
                <a:t>=-1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4" name=""/>
            <p:cNvSpPr/>
            <p:nvPr/>
          </p:nvSpPr>
          <p:spPr>
            <a:xfrm>
              <a:off x="5508720" y="4722480"/>
              <a:ext cx="144360" cy="504720"/>
            </a:xfrm>
            <a:custGeom>
              <a:avLst/>
              <a:gdLst>
                <a:gd name="textAreaLeft" fmla="*/ 92160 w 144360"/>
                <a:gd name="textAreaRight" fmla="*/ 144360 w 144360"/>
                <a:gd name="textAreaTop" fmla="*/ 12960 h 504720"/>
                <a:gd name="textAreaBottom" fmla="*/ 491760 h 504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3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3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1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1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1000"/>
                                        <p:tgtEl>
                                          <p:spTgt spid="13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4T07:46:10Z</dcterms:created>
  <dc:creator>User</dc:creator>
  <dc:description/>
  <cp:keywords/>
  <dc:language>en-US</dc:language>
  <cp:lastModifiedBy>xcf</cp:lastModifiedBy>
  <dcterms:modified xsi:type="dcterms:W3CDTF">2016-02-07T01:43:50Z</dcterms:modified>
  <cp:revision>71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218</vt:lpwstr>
  </property>
</Properties>
</file>