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0.wmf" ContentType="image/x-wmf"/>
  <Override PartName="/ppt/media/image39.wmf" ContentType="image/x-wmf"/>
  <Override PartName="/ppt/media/image38.wmf" ContentType="image/x-wmf"/>
  <Override PartName="/ppt/media/image36.wmf" ContentType="image/x-wmf"/>
  <Override PartName="/ppt/media/image31.wmf" ContentType="image/x-wmf"/>
  <Override PartName="/ppt/media/image30.wmf" ContentType="image/x-wmf"/>
  <Override PartName="/ppt/media/image48.wmf" ContentType="image/x-wmf"/>
  <Override PartName="/ppt/media/image11.wmf" ContentType="image/x-wmf"/>
  <Override PartName="/ppt/media/image13.wmf" ContentType="image/x-wmf"/>
  <Override PartName="/ppt/media/image42.wmf" ContentType="image/x-wmf"/>
  <Override PartName="/ppt/media/image8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41.wmf" ContentType="image/x-wmf"/>
  <Override PartName="/ppt/media/image16.wmf" ContentType="image/x-wmf"/>
  <Override PartName="/ppt/media/image4.wmf" ContentType="image/x-wmf"/>
  <Override PartName="/ppt/media/image81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35.wmf" ContentType="image/x-wmf"/>
  <Override PartName="/ppt/media/image28.wmf" ContentType="image/x-wmf"/>
  <Override PartName="/ppt/media/image93.wmf" ContentType="image/x-wmf"/>
  <Override PartName="/ppt/media/image10.wmf" ContentType="image/x-wmf"/>
  <Override PartName="/ppt/media/image33.wmf" ContentType="image/x-wmf"/>
  <Override PartName="/ppt/media/image65.wmf" ContentType="image/x-wmf"/>
  <Override PartName="/ppt/media/image66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22.png" ContentType="image/png"/>
  <Override PartName="/ppt/media/image87.wmf" ContentType="image/x-wmf"/>
  <Override PartName="/ppt/media/image47.png" ContentType="image/png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86.wmf" ContentType="image/x-wmf"/>
  <Override PartName="/ppt/media/image97.wmf" ContentType="image/x-wmf"/>
  <Override PartName="/ppt/media/image60.wmf" ContentType="image/x-wmf"/>
  <Override PartName="/ppt/media/image85.wmf" ContentType="image/x-wmf"/>
  <Override PartName="/ppt/media/image101.wmf" ContentType="image/x-wmf"/>
  <Override PartName="/ppt/media/image79.wmf" ContentType="image/x-wmf"/>
  <Override PartName="/ppt/media/image94.wmf" ContentType="image/x-wmf"/>
  <Override PartName="/ppt/media/image29.wmf" ContentType="image/x-wmf"/>
  <Override PartName="/ppt/media/image67.png" ContentType="image/png"/>
  <Override PartName="/ppt/media/image24.wmf" ContentType="image/x-wmf"/>
  <Override PartName="/ppt/media/image23.wmf" ContentType="image/x-wmf"/>
  <Override PartName="/ppt/media/image21.wmf" ContentType="image/x-wmf"/>
  <Override PartName="/ppt/media/image71.png" ContentType="image/png"/>
  <Override PartName="/ppt/media/image6.jpeg" ContentType="image/jpeg"/>
  <Override PartName="/ppt/media/image58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34.wmf" ContentType="image/x-wmf"/>
  <Override PartName="/ppt/media/image68.png" ContentType="image/png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EC6D-BA27-487F-A09E-CABAD69B20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671-FF4E-4F5E-8E65-E401A8C3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51B-DBEA-4B6C-A0BB-0D5967CD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DB3-8CEF-49F5-8A9A-D542989C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796-08D8-428F-ABE8-06FA325F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E4F2-B128-41BE-9346-B2E6A8D6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C106-F263-4070-895A-05483729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E96A-18F9-4FC2-B8DD-3D13DD0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5BF2-E47A-462D-85BB-3B8A399D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49C6-17C2-4041-AC7A-CC35AD5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2C3D-1D9A-4F13-8FAE-EA5D7A0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EAA7-098F-4356-855E-6B23063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396-456C-4221-876C-1A0FAD9E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3948-48C0-48B0-ADF9-DFB6E6BE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7EC-AF9B-4727-9498-2C74945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CF0B-18DB-43C2-8262-C55A6292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5CC8-24CC-4FA5-ACC8-CE70437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B449-FEBD-4F60-AAF6-224A50AA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6A31-6420-4D66-81FF-4A20D85C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21F3-F327-4E58-9BF2-33C7358D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FCE9-C352-4FB4-9B47-50A26B4F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37F4-9ADF-4B4F-9312-8E69CB6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6585-A95B-447E-AA39-BB9F4CF2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505-BA57-4DB9-8DB7-B2F85F0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5951-11C2-4374-B740-32A6D489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0FEB-960F-4882-A2F6-25ABAF9C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65D9-EB11-4156-967D-7F07DA8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8462-2ACC-4E73-BBEC-4D0AB500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1B23-E542-4D75-9D4F-3CF4D43F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2EA3-B215-4513-A937-56786CED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4883-8040-4C28-9171-9A1C867D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35DE-B985-42AF-99F0-55230640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0809-21B2-450A-8455-BC7B875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7BAE-CFEB-4363-9AB9-40FDBA3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338-C8E4-4A60-8CA5-3FCC17F7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3C05-864E-4A09-85F9-DF921FC9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F8F5-0326-4B0B-9F15-61553E36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AD93-3D43-4BFB-BA64-9E139724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F6E3-111C-470E-A34D-B5B1AC4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13DC-285A-4A49-BC68-1B4FEEEE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A3CD-7569-4189-851F-8827A72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84D75-44E7-419E-B572-40E8A383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E6D0-E6A4-4907-BBDA-124D9D8B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31CA-4610-44AA-B41F-94D9273D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A30-FB47-459E-A98A-5E2AADF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B46-EA9F-4898-9B33-75B2164B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EB6-3108-47C6-92B1-A58B286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091-5F64-425F-A3A4-53CCD09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6DD-3DA8-432E-93A1-7C954EF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6A3E-DE41-40DE-AC9F-46264C3F3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5300640"/>
            <a:ext cx="7920000" cy="15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A6B-58DC-4CAD-BCDB-F7F2C91CF5E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200" y="620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1577-8F1F-41BA-A632-EDED868E91B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61f5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61f5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61f5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61f5b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61f5b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0A8-31AE-412C-9E1E-331BC560F0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7391520" y="5410080"/>
            <a:ext cx="165420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70.wmf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wmf"/><Relationship Id="rId3" Type="http://schemas.openxmlformats.org/officeDocument/2006/relationships/image" Target="../media/image71.png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image" Target="../media/image92.wmf"/><Relationship Id="rId10" Type="http://schemas.openxmlformats.org/officeDocument/2006/relationships/image" Target="../media/image93.wmf"/><Relationship Id="rId11" Type="http://schemas.openxmlformats.org/officeDocument/2006/relationships/image" Target="../media/image94.wmf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233964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61f5b"/>
                </a:solidFill>
                <a:latin typeface="Arial"/>
              </a:rPr>
              <a:t>二次根式和它的化简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19320" y="2209680"/>
            <a:ext cx="1865160" cy="1320840"/>
            <a:chOff x="1219320" y="2209680"/>
            <a:chExt cx="1865160" cy="1320840"/>
          </a:xfrm>
        </p:grpSpPr>
        <p:sp>
          <p:nvSpPr>
            <p:cNvPr id="199" name=""/>
            <p:cNvSpPr/>
            <p:nvPr/>
          </p:nvSpPr>
          <p:spPr>
            <a:xfrm>
              <a:off x="1357560" y="3170160"/>
              <a:ext cx="172692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8000" y="2209680"/>
              <a:ext cx="1468440" cy="121608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4240" y="2211480"/>
              <a:ext cx="1490400" cy="12366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8000" y="2211480"/>
              <a:ext cx="1466640" cy="12128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3200" y="2235240"/>
              <a:ext cx="1417680" cy="116532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11360" y="2274840"/>
              <a:ext cx="1339920" cy="108576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11360" y="2273400"/>
              <a:ext cx="1341360" cy="108900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2293920"/>
              <a:ext cx="1300320" cy="104760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29000" y="2292480"/>
              <a:ext cx="1303200" cy="105084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30440" y="2583000"/>
              <a:ext cx="1300320" cy="7570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30440" y="2577960"/>
              <a:ext cx="1300320" cy="7635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85960" y="2538360"/>
              <a:ext cx="973080" cy="205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5960" y="2746440"/>
              <a:ext cx="790560" cy="1908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85960" y="2952720"/>
              <a:ext cx="792360" cy="1908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2320" y="2708280"/>
              <a:ext cx="237960" cy="33984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87840" y="2708280"/>
              <a:ext cx="12600" cy="33984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9680" y="3297240"/>
              <a:ext cx="171360" cy="5076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4788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51120" y="3314520"/>
              <a:ext cx="169920" cy="3204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49680" y="3313080"/>
              <a:ext cx="171360" cy="349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1160" y="3297240"/>
              <a:ext cx="173160" cy="5076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7972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82960" y="3314520"/>
              <a:ext cx="171360" cy="3204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81160" y="3313080"/>
              <a:ext cx="173160" cy="349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0320" y="318276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68520" y="3181320"/>
              <a:ext cx="290520" cy="18900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71760" y="3193920"/>
              <a:ext cx="236520" cy="15084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0320" y="3192480"/>
              <a:ext cx="48960" cy="15552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89400" y="320184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87600" y="3200400"/>
              <a:ext cx="290520" cy="18900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90840" y="3238560"/>
              <a:ext cx="81000" cy="14760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9400" y="3236760"/>
              <a:ext cx="88920" cy="15084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62280" y="3252600"/>
              <a:ext cx="126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65520" y="3252600"/>
              <a:ext cx="11160" cy="3492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08480" y="3219480"/>
              <a:ext cx="268200" cy="16812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8480" y="3217680"/>
              <a:ext cx="269640" cy="17172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09920" y="3222720"/>
              <a:ext cx="115920" cy="16344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8480" y="3230640"/>
              <a:ext cx="101520" cy="15696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97120" y="3355920"/>
              <a:ext cx="46080" cy="3024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97120" y="3368520"/>
              <a:ext cx="47880" cy="190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0000" y="3219480"/>
              <a:ext cx="88920" cy="17604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0000" y="3217680"/>
              <a:ext cx="88920" cy="17784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19360" y="3219480"/>
              <a:ext cx="90720" cy="17604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19360" y="3217680"/>
              <a:ext cx="92160" cy="17964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22600" y="3313080"/>
              <a:ext cx="85680" cy="824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9360" y="3311640"/>
              <a:ext cx="90720" cy="838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9320" y="3112920"/>
              <a:ext cx="482400" cy="3348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1720" y="3062160"/>
              <a:ext cx="93960" cy="10980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840" y="2478240"/>
              <a:ext cx="546120" cy="63180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55760" y="2482920"/>
              <a:ext cx="44640" cy="5724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70080" y="2486160"/>
              <a:ext cx="125640" cy="15696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8680" y="2492280"/>
              <a:ext cx="522000" cy="61596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25840" y="3139920"/>
              <a:ext cx="37800" cy="4140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9880" y="3120840"/>
              <a:ext cx="54000" cy="4608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74800" y="3071880"/>
              <a:ext cx="57240" cy="4284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600" y="2459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本课内容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219320" y="2209680"/>
            <a:ext cx="1865160" cy="1320840"/>
            <a:chOff x="1219320" y="2209680"/>
            <a:chExt cx="1865160" cy="1320840"/>
          </a:xfrm>
        </p:grpSpPr>
        <p:sp>
          <p:nvSpPr>
            <p:cNvPr id="258" name=""/>
            <p:cNvSpPr/>
            <p:nvPr/>
          </p:nvSpPr>
          <p:spPr>
            <a:xfrm>
              <a:off x="1357560" y="3170160"/>
              <a:ext cx="172692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48000" y="2209680"/>
              <a:ext cx="1468440" cy="121608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4240" y="2211480"/>
              <a:ext cx="1490400" cy="12366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48000" y="2211480"/>
              <a:ext cx="1466640" cy="12128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73200" y="2235240"/>
              <a:ext cx="1417680" cy="116532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11360" y="2274840"/>
              <a:ext cx="1339920" cy="108576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11360" y="2273400"/>
              <a:ext cx="1341360" cy="108900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30440" y="2293920"/>
              <a:ext cx="1300320" cy="104760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9000" y="2292480"/>
              <a:ext cx="1303200" cy="105084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30440" y="2583000"/>
              <a:ext cx="1300320" cy="7570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30440" y="2577960"/>
              <a:ext cx="1300320" cy="7635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5960" y="2538360"/>
              <a:ext cx="973080" cy="205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5960" y="2746440"/>
              <a:ext cx="790560" cy="1908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5960" y="2952720"/>
              <a:ext cx="792360" cy="1908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2320" y="2708280"/>
              <a:ext cx="237960" cy="33984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87840" y="2708280"/>
              <a:ext cx="12600" cy="33984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49680" y="3297240"/>
              <a:ext cx="171360" cy="5076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4788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51120" y="3314520"/>
              <a:ext cx="169920" cy="3204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49680" y="3313080"/>
              <a:ext cx="171360" cy="349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1160" y="3297240"/>
              <a:ext cx="173160" cy="5076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7972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82960" y="3314520"/>
              <a:ext cx="171360" cy="3204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81160" y="3313080"/>
              <a:ext cx="173160" cy="349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70320" y="318276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8520" y="3181320"/>
              <a:ext cx="290520" cy="18900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71760" y="3193920"/>
              <a:ext cx="236520" cy="15084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70320" y="3192480"/>
              <a:ext cx="48960" cy="15552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89400" y="320184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7600" y="3200400"/>
              <a:ext cx="290520" cy="18900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90840" y="3238560"/>
              <a:ext cx="81000" cy="14760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89400" y="3236760"/>
              <a:ext cx="88920" cy="15084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62280" y="3252600"/>
              <a:ext cx="126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65520" y="3252600"/>
              <a:ext cx="11160" cy="3492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8480" y="3219480"/>
              <a:ext cx="268200" cy="16812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08480" y="3217680"/>
              <a:ext cx="269640" cy="17172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9920" y="3222720"/>
              <a:ext cx="115920" cy="16344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480" y="3230640"/>
              <a:ext cx="101520" cy="15696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7120" y="3355920"/>
              <a:ext cx="46080" cy="3024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7120" y="3368520"/>
              <a:ext cx="47880" cy="190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10000" y="3219480"/>
              <a:ext cx="88920" cy="17604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10000" y="3217680"/>
              <a:ext cx="88920" cy="17784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19360" y="3219480"/>
              <a:ext cx="90720" cy="17604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19360" y="3217680"/>
              <a:ext cx="92160" cy="17964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2600" y="3313080"/>
              <a:ext cx="85680" cy="824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19360" y="3311640"/>
              <a:ext cx="90720" cy="838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9320" y="3112920"/>
              <a:ext cx="482400" cy="3348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01720" y="3062160"/>
              <a:ext cx="93960" cy="10980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52840" y="2478240"/>
              <a:ext cx="546120" cy="63180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2482920"/>
              <a:ext cx="44640" cy="5724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70080" y="2486160"/>
              <a:ext cx="125640" cy="15696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8680" y="2492280"/>
              <a:ext cx="522000" cy="61596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25840" y="3139920"/>
              <a:ext cx="37800" cy="4140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39880" y="3120840"/>
              <a:ext cx="54000" cy="4608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4800" y="3071880"/>
              <a:ext cx="57240" cy="4284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85600" y="2459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本节内容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984680" y="281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1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3962520"/>
            <a:ext cx="449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.1.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二次根式的化简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19320" y="1660680"/>
            <a:ext cx="66294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今后在化简二次根式时，可以</a:t>
            </a:r>
            <a:r>
              <a:rPr b="1" lang="zh-CN" sz="2500" spc="-1" strike="noStrike">
                <a:solidFill>
                  <a:srgbClr val="0074bf"/>
                </a:solidFill>
                <a:latin typeface="Times New Roman"/>
                <a:ea typeface="黑体"/>
              </a:rPr>
              <a:t>直接把根号下的每一个平方因子去掉平方号以后移到根号外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注意：移到根号外的数必须是非负数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243000" y="209520"/>
            <a:ext cx="1708200" cy="1467000"/>
            <a:chOff x="243000" y="209520"/>
            <a:chExt cx="1708200" cy="1467000"/>
          </a:xfrm>
        </p:grpSpPr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243000" y="20952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 rot="355800">
              <a:off x="921600" y="56736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676520" y="1604880"/>
            <a:ext cx="64767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5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≥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2502000" y="2577960"/>
            <a:ext cx="45846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895480" y="609480"/>
            <a:ext cx="1828800" cy="3556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403440" y="3238560"/>
            <a:ext cx="1778040" cy="4446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3809880" y="1092240"/>
            <a:ext cx="1105200" cy="355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380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3886200" y="2133720"/>
            <a:ext cx="1397160" cy="355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7"/>
          <a:stretch/>
        </p:blipFill>
        <p:spPr>
          <a:xfrm>
            <a:off x="3886200" y="2603520"/>
            <a:ext cx="1066680" cy="368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8"/>
          <a:stretch/>
        </p:blipFill>
        <p:spPr>
          <a:xfrm>
            <a:off x="3809880" y="3911760"/>
            <a:ext cx="2552760" cy="4442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9"/>
          <a:stretch/>
        </p:blipFill>
        <p:spPr>
          <a:xfrm>
            <a:off x="3886200" y="4521240"/>
            <a:ext cx="134604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828800" y="1376280"/>
            <a:ext cx="50292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52280" y="-36360"/>
            <a:ext cx="1683000" cy="1430280"/>
            <a:chOff x="152280" y="-36360"/>
            <a:chExt cx="1683000" cy="1430280"/>
          </a:xfrm>
        </p:grpSpPr>
        <p:sp>
          <p:nvSpPr>
            <p:cNvPr id="404" name=""/>
            <p:cNvSpPr/>
            <p:nvPr/>
          </p:nvSpPr>
          <p:spPr>
            <a:xfrm>
              <a:off x="152280" y="976680"/>
              <a:ext cx="1550520" cy="28152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152280" y="-36360"/>
              <a:ext cx="164160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736560" y="807840"/>
              <a:ext cx="109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654280" y="2222640"/>
            <a:ext cx="1295280" cy="368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641680" y="2908440"/>
            <a:ext cx="1320840" cy="368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2641680" y="3581280"/>
            <a:ext cx="1320840" cy="368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2635200" y="4267080"/>
            <a:ext cx="1308240" cy="3556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5378400" y="2203560"/>
            <a:ext cx="1384200" cy="368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5359320" y="2927520"/>
            <a:ext cx="1384560" cy="3553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9"/>
          <a:stretch/>
        </p:blipFill>
        <p:spPr>
          <a:xfrm>
            <a:off x="5353200" y="3575160"/>
            <a:ext cx="1384200" cy="3682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0"/>
          <a:stretch/>
        </p:blipFill>
        <p:spPr>
          <a:xfrm>
            <a:off x="5378400" y="4260960"/>
            <a:ext cx="138420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76520" y="1187280"/>
            <a:ext cx="601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2438280" y="289548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2444760" y="3816360"/>
            <a:ext cx="2019240" cy="4446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435640" y="2108160"/>
            <a:ext cx="1549440" cy="3556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5410080" y="2914560"/>
            <a:ext cx="2133720" cy="368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5410080" y="3803760"/>
            <a:ext cx="191772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447920" y="118728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，其中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≥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0.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438280" y="2108160"/>
            <a:ext cx="1384560" cy="711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2438280" y="3441600"/>
            <a:ext cx="1650960" cy="673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5200560" y="2146320"/>
            <a:ext cx="1549440" cy="5968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5232240" y="3517920"/>
            <a:ext cx="170208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6680" y="1085760"/>
            <a:ext cx="73152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如图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-2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矩形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CD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边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C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2cm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对角线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cm.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试问：边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是多少？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52280" y="182520"/>
            <a:ext cx="2160360" cy="961200"/>
            <a:chOff x="152280" y="182520"/>
            <a:chExt cx="2160360" cy="961200"/>
          </a:xfrm>
        </p:grpSpPr>
        <p:sp>
          <p:nvSpPr>
            <p:cNvPr id="429" name=""/>
            <p:cNvSpPr/>
            <p:nvPr/>
          </p:nvSpPr>
          <p:spPr>
            <a:xfrm>
              <a:off x="174240" y="843120"/>
              <a:ext cx="1620000" cy="27540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2"/>
            <a:stretch/>
          </p:blipFill>
          <p:spPr>
            <a:xfrm>
              <a:off x="152280" y="182520"/>
              <a:ext cx="826200" cy="9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919080" y="623160"/>
              <a:ext cx="139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做一做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019920" y="2590920"/>
            <a:ext cx="2798640" cy="2196720"/>
            <a:chOff x="6019920" y="2590920"/>
            <a:chExt cx="2798640" cy="2196720"/>
          </a:xfrm>
        </p:grpSpPr>
        <p:pic>
          <p:nvPicPr>
            <p:cNvPr id="433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27986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858000" y="4343400"/>
              <a:ext cx="1195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黑体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4-2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152280" y="4724280"/>
            <a:ext cx="1252800" cy="20178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H="1" flipV="1">
            <a:off x="1066320" y="2513880"/>
            <a:ext cx="3810240" cy="2133720"/>
          </a:xfrm>
          <a:prstGeom prst="wedgeRoundRectCallout">
            <a:avLst>
              <a:gd name="adj1" fmla="val 48291"/>
              <a:gd name="adj2" fmla="val -61611"/>
              <a:gd name="adj3" fmla="val 16667"/>
            </a:avLst>
          </a:prstGeom>
          <a:solidFill>
            <a:srgbClr val="ffffff"/>
          </a:solidFill>
          <a:ln w="9360">
            <a:solidFill>
              <a:srgbClr val="061f5b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由于∠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90</a:t>
            </a:r>
            <a:r>
              <a:rPr b="1" lang="zh-CN" sz="2400" spc="-1" strike="noStrike" baseline="30000">
                <a:solidFill>
                  <a:srgbClr val="061f5b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因此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-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</a:t>
            </a:r>
            <a:r>
              <a:rPr b="1" lang="zh-CN" sz="2400" spc="-1" strike="noStrike" u="sng">
                <a:solidFill>
                  <a:srgbClr val="061f5b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从而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</a:t>
            </a:r>
            <a:r>
              <a:rPr b="1" lang="zh-CN" sz="2400" spc="-1" strike="noStrike" u="sng">
                <a:solidFill>
                  <a:srgbClr val="061f5b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cm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3565440"/>
            <a:ext cx="190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25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2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2514600" y="4038480"/>
            <a:ext cx="12952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90360" y="209520"/>
            <a:ext cx="1708200" cy="1467000"/>
            <a:chOff x="90360" y="209520"/>
            <a:chExt cx="1708200" cy="146700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90360" y="20952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rot="355800">
              <a:off x="768960" y="56736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295280" y="1523880"/>
            <a:ext cx="6858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6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如图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-3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菱形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CD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两条对角线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D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  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分别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8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   ，求它的边长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4724280" y="2044800"/>
            <a:ext cx="596880" cy="39348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5867280" y="2681280"/>
            <a:ext cx="2222640" cy="3035160"/>
            <a:chOff x="5867280" y="2681280"/>
            <a:chExt cx="2222640" cy="3035160"/>
          </a:xfrm>
        </p:grpSpPr>
        <p:pic>
          <p:nvPicPr>
            <p:cNvPr id="445" name="" descr=""/>
            <p:cNvPicPr/>
            <p:nvPr/>
          </p:nvPicPr>
          <p:blipFill>
            <a:blip r:embed="rId4"/>
            <a:stretch/>
          </p:blipFill>
          <p:spPr>
            <a:xfrm>
              <a:off x="5867280" y="2681280"/>
              <a:ext cx="22226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248160" y="5272200"/>
              <a:ext cx="1403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</a:rPr>
                <a:t>4-3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219320" y="68580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8000"/>
                </a:solidFill>
                <a:latin typeface="黑体"/>
                <a:ea typeface="黑体"/>
              </a:rPr>
              <a:t>解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　设菱形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ABCD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的两条对角线相交于点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905120" y="1765440"/>
            <a:ext cx="4419360" cy="59688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7010280" y="3033720"/>
            <a:ext cx="1908000" cy="2682720"/>
            <a:chOff x="7010280" y="3033720"/>
            <a:chExt cx="1908000" cy="2682720"/>
          </a:xfrm>
        </p:grpSpPr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7010280" y="3033720"/>
              <a:ext cx="19080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315200" y="5272200"/>
              <a:ext cx="1403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</a:rPr>
                <a:t>4-3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828800" y="12034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由于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AC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⊥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BD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因此△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OAB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是直角三角形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403848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×3+16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2971800" y="2438280"/>
            <a:ext cx="2692440" cy="5968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1905120" y="3200400"/>
            <a:ext cx="5092560" cy="3808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3606840" y="3683160"/>
            <a:ext cx="2108160" cy="3553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05320" y="441972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28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828800" y="4861080"/>
            <a:ext cx="4191120" cy="474840"/>
            <a:chOff x="1828800" y="4861080"/>
            <a:chExt cx="4191120" cy="474840"/>
          </a:xfrm>
        </p:grpSpPr>
        <p:pic>
          <p:nvPicPr>
            <p:cNvPr id="459" name="" descr=""/>
            <p:cNvPicPr/>
            <p:nvPr/>
          </p:nvPicPr>
          <p:blipFill>
            <a:blip r:embed="rId7"/>
            <a:stretch/>
          </p:blipFill>
          <p:spPr>
            <a:xfrm>
              <a:off x="2806560" y="4867200"/>
              <a:ext cx="321336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1828800" y="4861080"/>
              <a:ext cx="114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从而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243000" y="152280"/>
            <a:ext cx="1708200" cy="1467000"/>
            <a:chOff x="243000" y="152280"/>
            <a:chExt cx="1708200" cy="1467000"/>
          </a:xfrm>
        </p:grpSpPr>
        <p:pic>
          <p:nvPicPr>
            <p:cNvPr id="462" name="" descr=""/>
            <p:cNvPicPr/>
            <p:nvPr/>
          </p:nvPicPr>
          <p:blipFill>
            <a:blip r:embed="rId2"/>
            <a:stretch/>
          </p:blipFill>
          <p:spPr>
            <a:xfrm>
              <a:off x="243000" y="1522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 rot="355800">
              <a:off x="921600" y="51012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600200" y="1676520"/>
            <a:ext cx="5181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7   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化简下列二次根式：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362320" y="2666880"/>
            <a:ext cx="391140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46240" y="304920"/>
            <a:ext cx="2116080" cy="723960"/>
            <a:chOff x="246240" y="304920"/>
            <a:chExt cx="2116080" cy="723960"/>
          </a:xfrm>
        </p:grpSpPr>
        <p:sp>
          <p:nvSpPr>
            <p:cNvPr id="319" name=""/>
            <p:cNvSpPr/>
            <p:nvPr/>
          </p:nvSpPr>
          <p:spPr>
            <a:xfrm>
              <a:off x="290520" y="692280"/>
              <a:ext cx="1611360" cy="33660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46240" y="304920"/>
              <a:ext cx="2116080" cy="652320"/>
              <a:chOff x="246240" y="304920"/>
              <a:chExt cx="2116080" cy="6523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246240" y="304920"/>
                <a:ext cx="1050840" cy="465480"/>
                <a:chOff x="246240" y="304920"/>
                <a:chExt cx="1050840" cy="465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6240" y="304920"/>
                  <a:ext cx="1050840" cy="465480"/>
                </a:xfrm>
                <a:custGeom>
                  <a:avLst/>
                  <a:gdLst/>
                  <a:ahLst/>
                  <a:rect l="l" t="t" r="r" b="b"/>
                  <a:pathLst>
                    <a:path w="1324" h="763">
                      <a:moveTo>
                        <a:pt x="1317" y="119"/>
                      </a:moveTo>
                      <a:lnTo>
                        <a:pt x="1307" y="122"/>
                      </a:lnTo>
                      <a:lnTo>
                        <a:pt x="1297" y="123"/>
                      </a:lnTo>
                      <a:lnTo>
                        <a:pt x="1286" y="123"/>
                      </a:lnTo>
                      <a:lnTo>
                        <a:pt x="1276" y="122"/>
                      </a:lnTo>
                      <a:lnTo>
                        <a:pt x="1264" y="122"/>
                      </a:lnTo>
                      <a:lnTo>
                        <a:pt x="1254" y="121"/>
                      </a:lnTo>
                      <a:lnTo>
                        <a:pt x="1243" y="121"/>
                      </a:lnTo>
                      <a:lnTo>
                        <a:pt x="1232" y="121"/>
                      </a:lnTo>
                      <a:lnTo>
                        <a:pt x="1206" y="116"/>
                      </a:lnTo>
                      <a:lnTo>
                        <a:pt x="1178" y="109"/>
                      </a:lnTo>
                      <a:lnTo>
                        <a:pt x="1150" y="101"/>
                      </a:lnTo>
                      <a:lnTo>
                        <a:pt x="1122" y="93"/>
                      </a:lnTo>
                      <a:lnTo>
                        <a:pt x="1093" y="83"/>
                      </a:lnTo>
                      <a:lnTo>
                        <a:pt x="1065" y="73"/>
                      </a:lnTo>
                      <a:lnTo>
                        <a:pt x="1036" y="63"/>
                      </a:lnTo>
                      <a:lnTo>
                        <a:pt x="1009" y="53"/>
                      </a:lnTo>
                      <a:lnTo>
                        <a:pt x="982" y="42"/>
                      </a:lnTo>
                      <a:lnTo>
                        <a:pt x="957" y="33"/>
                      </a:lnTo>
                      <a:lnTo>
                        <a:pt x="932" y="24"/>
                      </a:lnTo>
                      <a:lnTo>
                        <a:pt x="908" y="16"/>
                      </a:lnTo>
                      <a:lnTo>
                        <a:pt x="887" y="9"/>
                      </a:lnTo>
                      <a:lnTo>
                        <a:pt x="866" y="4"/>
                      </a:lnTo>
                      <a:lnTo>
                        <a:pt x="849" y="1"/>
                      </a:lnTo>
                      <a:lnTo>
                        <a:pt x="832" y="0"/>
                      </a:lnTo>
                      <a:lnTo>
                        <a:pt x="819" y="0"/>
                      </a:lnTo>
                      <a:lnTo>
                        <a:pt x="806" y="1"/>
                      </a:lnTo>
                      <a:lnTo>
                        <a:pt x="793" y="3"/>
                      </a:lnTo>
                      <a:lnTo>
                        <a:pt x="781" y="7"/>
                      </a:lnTo>
                      <a:lnTo>
                        <a:pt x="768" y="10"/>
                      </a:lnTo>
                      <a:lnTo>
                        <a:pt x="755" y="15"/>
                      </a:lnTo>
                      <a:lnTo>
                        <a:pt x="744" y="19"/>
                      </a:lnTo>
                      <a:lnTo>
                        <a:pt x="732" y="25"/>
                      </a:lnTo>
                      <a:lnTo>
                        <a:pt x="721" y="31"/>
                      </a:lnTo>
                      <a:lnTo>
                        <a:pt x="709" y="38"/>
                      </a:lnTo>
                      <a:lnTo>
                        <a:pt x="699" y="45"/>
                      </a:lnTo>
                      <a:lnTo>
                        <a:pt x="687" y="51"/>
                      </a:lnTo>
                      <a:lnTo>
                        <a:pt x="677" y="60"/>
                      </a:lnTo>
                      <a:lnTo>
                        <a:pt x="667" y="66"/>
                      </a:lnTo>
                      <a:lnTo>
                        <a:pt x="656" y="75"/>
                      </a:lnTo>
                      <a:lnTo>
                        <a:pt x="646" y="83"/>
                      </a:lnTo>
                      <a:lnTo>
                        <a:pt x="639" y="86"/>
                      </a:lnTo>
                      <a:lnTo>
                        <a:pt x="632" y="90"/>
                      </a:lnTo>
                      <a:lnTo>
                        <a:pt x="625" y="93"/>
                      </a:lnTo>
                      <a:lnTo>
                        <a:pt x="617" y="95"/>
                      </a:lnTo>
                      <a:lnTo>
                        <a:pt x="610" y="96"/>
                      </a:lnTo>
                      <a:lnTo>
                        <a:pt x="602" y="98"/>
                      </a:lnTo>
                      <a:lnTo>
                        <a:pt x="594" y="98"/>
                      </a:lnTo>
                      <a:lnTo>
                        <a:pt x="586" y="98"/>
                      </a:lnTo>
                      <a:lnTo>
                        <a:pt x="566" y="93"/>
                      </a:lnTo>
                      <a:lnTo>
                        <a:pt x="548" y="87"/>
                      </a:lnTo>
                      <a:lnTo>
                        <a:pt x="529" y="80"/>
                      </a:lnTo>
                      <a:lnTo>
                        <a:pt x="511" y="73"/>
                      </a:lnTo>
                      <a:lnTo>
                        <a:pt x="493" y="66"/>
                      </a:lnTo>
                      <a:lnTo>
                        <a:pt x="474" y="61"/>
                      </a:lnTo>
                      <a:lnTo>
                        <a:pt x="453" y="57"/>
                      </a:lnTo>
                      <a:lnTo>
                        <a:pt x="433" y="57"/>
                      </a:lnTo>
                      <a:lnTo>
                        <a:pt x="417" y="60"/>
                      </a:lnTo>
                      <a:lnTo>
                        <a:pt x="399" y="64"/>
                      </a:lnTo>
                      <a:lnTo>
                        <a:pt x="380" y="72"/>
                      </a:lnTo>
                      <a:lnTo>
                        <a:pt x="359" y="81"/>
                      </a:lnTo>
                      <a:lnTo>
                        <a:pt x="337" y="93"/>
                      </a:lnTo>
                      <a:lnTo>
                        <a:pt x="313" y="107"/>
                      </a:lnTo>
                      <a:lnTo>
                        <a:pt x="289" y="121"/>
                      </a:lnTo>
                      <a:lnTo>
                        <a:pt x="264" y="137"/>
                      </a:lnTo>
                      <a:lnTo>
                        <a:pt x="238" y="154"/>
                      </a:lnTo>
                      <a:lnTo>
                        <a:pt x="213" y="171"/>
                      </a:lnTo>
                      <a:lnTo>
                        <a:pt x="187" y="190"/>
                      </a:lnTo>
                      <a:lnTo>
                        <a:pt x="162" y="207"/>
                      </a:lnTo>
                      <a:lnTo>
                        <a:pt x="137" y="225"/>
                      </a:lnTo>
                      <a:lnTo>
                        <a:pt x="112" y="244"/>
                      </a:lnTo>
                      <a:lnTo>
                        <a:pt x="89" y="261"/>
                      </a:lnTo>
                      <a:lnTo>
                        <a:pt x="68" y="277"/>
                      </a:lnTo>
                      <a:lnTo>
                        <a:pt x="61" y="281"/>
                      </a:lnTo>
                      <a:lnTo>
                        <a:pt x="53" y="285"/>
                      </a:lnTo>
                      <a:lnTo>
                        <a:pt x="43" y="288"/>
                      </a:lnTo>
                      <a:lnTo>
                        <a:pt x="35" y="291"/>
                      </a:lnTo>
                      <a:lnTo>
                        <a:pt x="26" y="295"/>
                      </a:lnTo>
                      <a:lnTo>
                        <a:pt x="18" y="298"/>
                      </a:lnTo>
                      <a:lnTo>
                        <a:pt x="11" y="303"/>
                      </a:lnTo>
                      <a:lnTo>
                        <a:pt x="4" y="307"/>
                      </a:lnTo>
                      <a:lnTo>
                        <a:pt x="0" y="318"/>
                      </a:lnTo>
                      <a:lnTo>
                        <a:pt x="1" y="329"/>
                      </a:lnTo>
                      <a:lnTo>
                        <a:pt x="3" y="338"/>
                      </a:lnTo>
                      <a:lnTo>
                        <a:pt x="5" y="343"/>
                      </a:lnTo>
                      <a:lnTo>
                        <a:pt x="15" y="344"/>
                      </a:lnTo>
                      <a:lnTo>
                        <a:pt x="23" y="346"/>
                      </a:lnTo>
                      <a:lnTo>
                        <a:pt x="32" y="348"/>
                      </a:lnTo>
                      <a:lnTo>
                        <a:pt x="40" y="348"/>
                      </a:lnTo>
                      <a:lnTo>
                        <a:pt x="49" y="349"/>
                      </a:lnTo>
                      <a:lnTo>
                        <a:pt x="57" y="350"/>
                      </a:lnTo>
                      <a:lnTo>
                        <a:pt x="65" y="350"/>
                      </a:lnTo>
                      <a:lnTo>
                        <a:pt x="73" y="350"/>
                      </a:lnTo>
                      <a:lnTo>
                        <a:pt x="85" y="391"/>
                      </a:lnTo>
                      <a:lnTo>
                        <a:pt x="99" y="431"/>
                      </a:lnTo>
                      <a:lnTo>
                        <a:pt x="114" y="465"/>
                      </a:lnTo>
                      <a:lnTo>
                        <a:pt x="131" y="500"/>
                      </a:lnTo>
                      <a:lnTo>
                        <a:pt x="148" y="534"/>
                      </a:lnTo>
                      <a:lnTo>
                        <a:pt x="169" y="571"/>
                      </a:lnTo>
                      <a:lnTo>
                        <a:pt x="190" y="610"/>
                      </a:lnTo>
                      <a:lnTo>
                        <a:pt x="213" y="654"/>
                      </a:lnTo>
                      <a:lnTo>
                        <a:pt x="220" y="664"/>
                      </a:lnTo>
                      <a:lnTo>
                        <a:pt x="232" y="675"/>
                      </a:lnTo>
                      <a:lnTo>
                        <a:pt x="248" y="685"/>
                      </a:lnTo>
                      <a:lnTo>
                        <a:pt x="268" y="695"/>
                      </a:lnTo>
                      <a:lnTo>
                        <a:pt x="292" y="707"/>
                      </a:lnTo>
                      <a:lnTo>
                        <a:pt x="320" y="717"/>
                      </a:lnTo>
                      <a:lnTo>
                        <a:pt x="350" y="728"/>
                      </a:lnTo>
                      <a:lnTo>
                        <a:pt x="383" y="736"/>
                      </a:lnTo>
                      <a:lnTo>
                        <a:pt x="419" y="745"/>
                      </a:lnTo>
                      <a:lnTo>
                        <a:pt x="458" y="752"/>
                      </a:lnTo>
                      <a:lnTo>
                        <a:pt x="497" y="758"/>
                      </a:lnTo>
                      <a:lnTo>
                        <a:pt x="539" y="761"/>
                      </a:lnTo>
                      <a:lnTo>
                        <a:pt x="582" y="763"/>
                      </a:lnTo>
                      <a:lnTo>
                        <a:pt x="626" y="763"/>
                      </a:lnTo>
                      <a:lnTo>
                        <a:pt x="671" y="761"/>
                      </a:lnTo>
                      <a:lnTo>
                        <a:pt x="716" y="757"/>
                      </a:lnTo>
                      <a:lnTo>
                        <a:pt x="764" y="750"/>
                      </a:lnTo>
                      <a:lnTo>
                        <a:pt x="809" y="740"/>
                      </a:lnTo>
                      <a:lnTo>
                        <a:pt x="852" y="731"/>
                      </a:lnTo>
                      <a:lnTo>
                        <a:pt x="891" y="720"/>
                      </a:lnTo>
                      <a:lnTo>
                        <a:pt x="927" y="708"/>
                      </a:lnTo>
                      <a:lnTo>
                        <a:pt x="960" y="695"/>
                      </a:lnTo>
                      <a:lnTo>
                        <a:pt x="991" y="683"/>
                      </a:lnTo>
                      <a:lnTo>
                        <a:pt x="1019" y="669"/>
                      </a:lnTo>
                      <a:lnTo>
                        <a:pt x="1044" y="654"/>
                      </a:lnTo>
                      <a:lnTo>
                        <a:pt x="1066" y="639"/>
                      </a:lnTo>
                      <a:lnTo>
                        <a:pt x="1087" y="624"/>
                      </a:lnTo>
                      <a:lnTo>
                        <a:pt x="1104" y="609"/>
                      </a:lnTo>
                      <a:lnTo>
                        <a:pt x="1120" y="593"/>
                      </a:lnTo>
                      <a:lnTo>
                        <a:pt x="1133" y="577"/>
                      </a:lnTo>
                      <a:lnTo>
                        <a:pt x="1145" y="562"/>
                      </a:lnTo>
                      <a:lnTo>
                        <a:pt x="1154" y="546"/>
                      </a:lnTo>
                      <a:lnTo>
                        <a:pt x="1161" y="528"/>
                      </a:lnTo>
                      <a:lnTo>
                        <a:pt x="1168" y="511"/>
                      </a:lnTo>
                      <a:lnTo>
                        <a:pt x="1176" y="495"/>
                      </a:lnTo>
                      <a:lnTo>
                        <a:pt x="1183" y="478"/>
                      </a:lnTo>
                      <a:lnTo>
                        <a:pt x="1190" y="460"/>
                      </a:lnTo>
                      <a:lnTo>
                        <a:pt x="1196" y="442"/>
                      </a:lnTo>
                      <a:lnTo>
                        <a:pt x="1202" y="425"/>
                      </a:lnTo>
                      <a:lnTo>
                        <a:pt x="1206" y="405"/>
                      </a:lnTo>
                      <a:lnTo>
                        <a:pt x="1209" y="381"/>
                      </a:lnTo>
                      <a:lnTo>
                        <a:pt x="1214" y="356"/>
                      </a:lnTo>
                      <a:lnTo>
                        <a:pt x="1221" y="328"/>
                      </a:lnTo>
                      <a:lnTo>
                        <a:pt x="1229" y="299"/>
                      </a:lnTo>
                      <a:lnTo>
                        <a:pt x="1237" y="270"/>
                      </a:lnTo>
                      <a:lnTo>
                        <a:pt x="1246" y="242"/>
                      </a:lnTo>
                      <a:lnTo>
                        <a:pt x="1254" y="214"/>
                      </a:lnTo>
                      <a:lnTo>
                        <a:pt x="1262" y="187"/>
                      </a:lnTo>
                      <a:lnTo>
                        <a:pt x="1271" y="185"/>
                      </a:lnTo>
                      <a:lnTo>
                        <a:pt x="1279" y="182"/>
                      </a:lnTo>
                      <a:lnTo>
                        <a:pt x="1287" y="177"/>
                      </a:lnTo>
                      <a:lnTo>
                        <a:pt x="1296" y="172"/>
                      </a:lnTo>
                      <a:lnTo>
                        <a:pt x="1304" y="168"/>
                      </a:lnTo>
                      <a:lnTo>
                        <a:pt x="1311" y="162"/>
                      </a:lnTo>
                      <a:lnTo>
                        <a:pt x="1317" y="155"/>
                      </a:lnTo>
                      <a:lnTo>
                        <a:pt x="1324" y="147"/>
                      </a:lnTo>
                      <a:lnTo>
                        <a:pt x="1322" y="141"/>
                      </a:lnTo>
                      <a:lnTo>
                        <a:pt x="1321" y="133"/>
                      </a:lnTo>
                      <a:lnTo>
                        <a:pt x="1319" y="125"/>
                      </a:lnTo>
                      <a:lnTo>
                        <a:pt x="1317" y="119"/>
                      </a:lnTo>
                      <a:close/>
                    </a:path>
                  </a:pathLst>
                </a:custGeom>
                <a:solidFill>
                  <a:srgbClr val="d80000"/>
                </a:solidFill>
                <a:ln w="0">
                  <a:noFill/>
                </a:ln>
                <a:effectLst>
                  <a:outerShdw dist="153753" dir="2700000" blurRad="0" rotWithShape="0">
                    <a:srgbClr val="81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65400" y="425160"/>
                  <a:ext cx="822240" cy="205920"/>
                </a:xfrm>
                <a:custGeom>
                  <a:avLst/>
                  <a:gdLst/>
                  <a:ahLst/>
                  <a:rect l="l" t="t" r="r" b="b"/>
                  <a:pathLst>
                    <a:path w="1036" h="338">
                      <a:moveTo>
                        <a:pt x="879" y="238"/>
                      </a:moveTo>
                      <a:lnTo>
                        <a:pt x="864" y="250"/>
                      </a:lnTo>
                      <a:lnTo>
                        <a:pt x="851" y="259"/>
                      </a:lnTo>
                      <a:lnTo>
                        <a:pt x="838" y="266"/>
                      </a:lnTo>
                      <a:lnTo>
                        <a:pt x="826" y="273"/>
                      </a:lnTo>
                      <a:lnTo>
                        <a:pt x="815" y="277"/>
                      </a:lnTo>
                      <a:lnTo>
                        <a:pt x="805" y="282"/>
                      </a:lnTo>
                      <a:lnTo>
                        <a:pt x="795" y="285"/>
                      </a:lnTo>
                      <a:lnTo>
                        <a:pt x="785" y="288"/>
                      </a:lnTo>
                      <a:lnTo>
                        <a:pt x="775" y="290"/>
                      </a:lnTo>
                      <a:lnTo>
                        <a:pt x="764" y="291"/>
                      </a:lnTo>
                      <a:lnTo>
                        <a:pt x="753" y="292"/>
                      </a:lnTo>
                      <a:lnTo>
                        <a:pt x="741" y="293"/>
                      </a:lnTo>
                      <a:lnTo>
                        <a:pt x="727" y="295"/>
                      </a:lnTo>
                      <a:lnTo>
                        <a:pt x="714" y="297"/>
                      </a:lnTo>
                      <a:lnTo>
                        <a:pt x="699" y="299"/>
                      </a:lnTo>
                      <a:lnTo>
                        <a:pt x="681" y="301"/>
                      </a:lnTo>
                      <a:lnTo>
                        <a:pt x="662" y="306"/>
                      </a:lnTo>
                      <a:lnTo>
                        <a:pt x="641" y="308"/>
                      </a:lnTo>
                      <a:lnTo>
                        <a:pt x="620" y="310"/>
                      </a:lnTo>
                      <a:lnTo>
                        <a:pt x="598" y="311"/>
                      </a:lnTo>
                      <a:lnTo>
                        <a:pt x="578" y="312"/>
                      </a:lnTo>
                      <a:lnTo>
                        <a:pt x="556" y="312"/>
                      </a:lnTo>
                      <a:lnTo>
                        <a:pt x="535" y="313"/>
                      </a:lnTo>
                      <a:lnTo>
                        <a:pt x="514" y="315"/>
                      </a:lnTo>
                      <a:lnTo>
                        <a:pt x="495" y="319"/>
                      </a:lnTo>
                      <a:lnTo>
                        <a:pt x="475" y="322"/>
                      </a:lnTo>
                      <a:lnTo>
                        <a:pt x="455" y="326"/>
                      </a:lnTo>
                      <a:lnTo>
                        <a:pt x="436" y="329"/>
                      </a:lnTo>
                      <a:lnTo>
                        <a:pt x="416" y="331"/>
                      </a:lnTo>
                      <a:lnTo>
                        <a:pt x="397" y="334"/>
                      </a:lnTo>
                      <a:lnTo>
                        <a:pt x="376" y="336"/>
                      </a:lnTo>
                      <a:lnTo>
                        <a:pt x="356" y="337"/>
                      </a:lnTo>
                      <a:lnTo>
                        <a:pt x="336" y="338"/>
                      </a:lnTo>
                      <a:lnTo>
                        <a:pt x="316" y="338"/>
                      </a:lnTo>
                      <a:lnTo>
                        <a:pt x="295" y="337"/>
                      </a:lnTo>
                      <a:lnTo>
                        <a:pt x="276" y="335"/>
                      </a:lnTo>
                      <a:lnTo>
                        <a:pt x="255" y="333"/>
                      </a:lnTo>
                      <a:lnTo>
                        <a:pt x="234" y="329"/>
                      </a:lnTo>
                      <a:lnTo>
                        <a:pt x="215" y="323"/>
                      </a:lnTo>
                      <a:lnTo>
                        <a:pt x="194" y="318"/>
                      </a:lnTo>
                      <a:lnTo>
                        <a:pt x="176" y="311"/>
                      </a:lnTo>
                      <a:lnTo>
                        <a:pt x="158" y="301"/>
                      </a:lnTo>
                      <a:lnTo>
                        <a:pt x="141" y="291"/>
                      </a:lnTo>
                      <a:lnTo>
                        <a:pt x="124" y="280"/>
                      </a:lnTo>
                      <a:lnTo>
                        <a:pt x="108" y="267"/>
                      </a:lnTo>
                      <a:lnTo>
                        <a:pt x="93" y="253"/>
                      </a:lnTo>
                      <a:lnTo>
                        <a:pt x="78" y="238"/>
                      </a:lnTo>
                      <a:lnTo>
                        <a:pt x="63" y="222"/>
                      </a:lnTo>
                      <a:lnTo>
                        <a:pt x="55" y="214"/>
                      </a:lnTo>
                      <a:lnTo>
                        <a:pt x="48" y="206"/>
                      </a:lnTo>
                      <a:lnTo>
                        <a:pt x="41" y="197"/>
                      </a:lnTo>
                      <a:lnTo>
                        <a:pt x="34" y="189"/>
                      </a:lnTo>
                      <a:lnTo>
                        <a:pt x="26" y="178"/>
                      </a:lnTo>
                      <a:lnTo>
                        <a:pt x="17" y="167"/>
                      </a:lnTo>
                      <a:lnTo>
                        <a:pt x="9" y="156"/>
                      </a:lnTo>
                      <a:lnTo>
                        <a:pt x="0" y="146"/>
                      </a:lnTo>
                      <a:lnTo>
                        <a:pt x="14" y="144"/>
                      </a:lnTo>
                      <a:lnTo>
                        <a:pt x="29" y="140"/>
                      </a:lnTo>
                      <a:lnTo>
                        <a:pt x="43" y="138"/>
                      </a:lnTo>
                      <a:lnTo>
                        <a:pt x="58" y="134"/>
                      </a:lnTo>
                      <a:lnTo>
                        <a:pt x="72" y="131"/>
                      </a:lnTo>
                      <a:lnTo>
                        <a:pt x="87" y="128"/>
                      </a:lnTo>
                      <a:lnTo>
                        <a:pt x="102" y="125"/>
                      </a:lnTo>
                      <a:lnTo>
                        <a:pt x="117" y="122"/>
                      </a:lnTo>
                      <a:lnTo>
                        <a:pt x="132" y="118"/>
                      </a:lnTo>
                      <a:lnTo>
                        <a:pt x="147" y="116"/>
                      </a:lnTo>
                      <a:lnTo>
                        <a:pt x="163" y="113"/>
                      </a:lnTo>
                      <a:lnTo>
                        <a:pt x="178" y="110"/>
                      </a:lnTo>
                      <a:lnTo>
                        <a:pt x="194" y="109"/>
                      </a:lnTo>
                      <a:lnTo>
                        <a:pt x="211" y="107"/>
                      </a:lnTo>
                      <a:lnTo>
                        <a:pt x="227" y="106"/>
                      </a:lnTo>
                      <a:lnTo>
                        <a:pt x="245" y="106"/>
                      </a:lnTo>
                      <a:lnTo>
                        <a:pt x="264" y="107"/>
                      </a:lnTo>
                      <a:lnTo>
                        <a:pt x="283" y="109"/>
                      </a:lnTo>
                      <a:lnTo>
                        <a:pt x="300" y="113"/>
                      </a:lnTo>
                      <a:lnTo>
                        <a:pt x="316" y="117"/>
                      </a:lnTo>
                      <a:lnTo>
                        <a:pt x="332" y="121"/>
                      </a:lnTo>
                      <a:lnTo>
                        <a:pt x="350" y="125"/>
                      </a:lnTo>
                      <a:lnTo>
                        <a:pt x="367" y="128"/>
                      </a:lnTo>
                      <a:lnTo>
                        <a:pt x="386" y="129"/>
                      </a:lnTo>
                      <a:lnTo>
                        <a:pt x="406" y="129"/>
                      </a:lnTo>
                      <a:lnTo>
                        <a:pt x="423" y="130"/>
                      </a:lnTo>
                      <a:lnTo>
                        <a:pt x="439" y="130"/>
                      </a:lnTo>
                      <a:lnTo>
                        <a:pt x="454" y="130"/>
                      </a:lnTo>
                      <a:lnTo>
                        <a:pt x="469" y="130"/>
                      </a:lnTo>
                      <a:lnTo>
                        <a:pt x="482" y="130"/>
                      </a:lnTo>
                      <a:lnTo>
                        <a:pt x="494" y="129"/>
                      </a:lnTo>
                      <a:lnTo>
                        <a:pt x="505" y="128"/>
                      </a:lnTo>
                      <a:lnTo>
                        <a:pt x="517" y="126"/>
                      </a:lnTo>
                      <a:lnTo>
                        <a:pt x="527" y="125"/>
                      </a:lnTo>
                      <a:lnTo>
                        <a:pt x="537" y="124"/>
                      </a:lnTo>
                      <a:lnTo>
                        <a:pt x="546" y="122"/>
                      </a:lnTo>
                      <a:lnTo>
                        <a:pt x="557" y="119"/>
                      </a:lnTo>
                      <a:lnTo>
                        <a:pt x="567" y="116"/>
                      </a:lnTo>
                      <a:lnTo>
                        <a:pt x="578" y="113"/>
                      </a:lnTo>
                      <a:lnTo>
                        <a:pt x="588" y="109"/>
                      </a:lnTo>
                      <a:lnTo>
                        <a:pt x="604" y="103"/>
                      </a:lnTo>
                      <a:lnTo>
                        <a:pt x="619" y="98"/>
                      </a:lnTo>
                      <a:lnTo>
                        <a:pt x="633" y="93"/>
                      </a:lnTo>
                      <a:lnTo>
                        <a:pt x="647" y="88"/>
                      </a:lnTo>
                      <a:lnTo>
                        <a:pt x="661" y="84"/>
                      </a:lnTo>
                      <a:lnTo>
                        <a:pt x="674" y="79"/>
                      </a:lnTo>
                      <a:lnTo>
                        <a:pt x="689" y="73"/>
                      </a:lnTo>
                      <a:lnTo>
                        <a:pt x="705" y="68"/>
                      </a:lnTo>
                      <a:lnTo>
                        <a:pt x="722" y="61"/>
                      </a:lnTo>
                      <a:lnTo>
                        <a:pt x="737" y="54"/>
                      </a:lnTo>
                      <a:lnTo>
                        <a:pt x="753" y="47"/>
                      </a:lnTo>
                      <a:lnTo>
                        <a:pt x="769" y="41"/>
                      </a:lnTo>
                      <a:lnTo>
                        <a:pt x="785" y="35"/>
                      </a:lnTo>
                      <a:lnTo>
                        <a:pt x="801" y="31"/>
                      </a:lnTo>
                      <a:lnTo>
                        <a:pt x="817" y="26"/>
                      </a:lnTo>
                      <a:lnTo>
                        <a:pt x="833" y="23"/>
                      </a:lnTo>
                      <a:lnTo>
                        <a:pt x="849" y="18"/>
                      </a:lnTo>
                      <a:lnTo>
                        <a:pt x="867" y="16"/>
                      </a:lnTo>
                      <a:lnTo>
                        <a:pt x="883" y="12"/>
                      </a:lnTo>
                      <a:lnTo>
                        <a:pt x="899" y="10"/>
                      </a:lnTo>
                      <a:lnTo>
                        <a:pt x="916" y="8"/>
                      </a:lnTo>
                      <a:lnTo>
                        <a:pt x="932" y="5"/>
                      </a:lnTo>
                      <a:lnTo>
                        <a:pt x="950" y="3"/>
                      </a:lnTo>
                      <a:lnTo>
                        <a:pt x="966" y="2"/>
                      </a:lnTo>
                      <a:lnTo>
                        <a:pt x="975" y="2"/>
                      </a:lnTo>
                      <a:lnTo>
                        <a:pt x="983" y="1"/>
                      </a:lnTo>
                      <a:lnTo>
                        <a:pt x="992" y="1"/>
                      </a:lnTo>
                      <a:lnTo>
                        <a:pt x="1002" y="1"/>
                      </a:lnTo>
                      <a:lnTo>
                        <a:pt x="1010" y="1"/>
                      </a:lnTo>
                      <a:lnTo>
                        <a:pt x="1019" y="1"/>
                      </a:lnTo>
                      <a:lnTo>
                        <a:pt x="1027" y="0"/>
                      </a:lnTo>
                      <a:lnTo>
                        <a:pt x="1036" y="0"/>
                      </a:lnTo>
                      <a:lnTo>
                        <a:pt x="1030" y="15"/>
                      </a:lnTo>
                      <a:lnTo>
                        <a:pt x="1023" y="28"/>
                      </a:lnTo>
                      <a:lnTo>
                        <a:pt x="1017" y="43"/>
                      </a:lnTo>
                      <a:lnTo>
                        <a:pt x="1010" y="57"/>
                      </a:lnTo>
                      <a:lnTo>
                        <a:pt x="1003" y="71"/>
                      </a:lnTo>
                      <a:lnTo>
                        <a:pt x="996" y="85"/>
                      </a:lnTo>
                      <a:lnTo>
                        <a:pt x="988" y="99"/>
                      </a:lnTo>
                      <a:lnTo>
                        <a:pt x="980" y="113"/>
                      </a:lnTo>
                      <a:lnTo>
                        <a:pt x="974" y="121"/>
                      </a:lnTo>
                      <a:lnTo>
                        <a:pt x="969" y="130"/>
                      </a:lnTo>
                      <a:lnTo>
                        <a:pt x="964" y="138"/>
                      </a:lnTo>
                      <a:lnTo>
                        <a:pt x="958" y="147"/>
                      </a:lnTo>
                      <a:lnTo>
                        <a:pt x="950" y="159"/>
                      </a:lnTo>
                      <a:lnTo>
                        <a:pt x="940" y="171"/>
                      </a:lnTo>
                      <a:lnTo>
                        <a:pt x="931" y="183"/>
                      </a:lnTo>
                      <a:lnTo>
                        <a:pt x="922" y="194"/>
                      </a:lnTo>
                      <a:lnTo>
                        <a:pt x="912" y="206"/>
                      </a:lnTo>
                      <a:lnTo>
                        <a:pt x="901" y="216"/>
                      </a:lnTo>
                      <a:lnTo>
                        <a:pt x="891" y="228"/>
                      </a:lnTo>
                      <a:lnTo>
                        <a:pt x="879" y="2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153753" dir="2700000" blurRad="0" rotWithShape="0">
                    <a:srgbClr val="9898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895320" y="436680"/>
                <a:ext cx="146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61f5b"/>
                    </a:solidFill>
                    <a:latin typeface="Arial"/>
                    <a:ea typeface="黑体"/>
                  </a:rPr>
                  <a:t>说一说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1272960" cy="1603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47920" y="1295280"/>
            <a:ext cx="617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如图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-1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正方形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CD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的边长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它的对角线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的长是多少？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458040" y="2286000"/>
            <a:ext cx="2381040" cy="2516040"/>
            <a:chOff x="6458040" y="2286000"/>
            <a:chExt cx="2381040" cy="251604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6458040" y="2286000"/>
              <a:ext cx="23810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91200" y="4357800"/>
              <a:ext cx="1327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黑体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4-1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99840" y="2666880"/>
            <a:ext cx="2971800" cy="2286000"/>
            <a:chOff x="1599840" y="2666880"/>
            <a:chExt cx="2971800" cy="2286000"/>
          </a:xfrm>
        </p:grpSpPr>
        <p:sp>
          <p:nvSpPr>
            <p:cNvPr id="331" name=""/>
            <p:cNvSpPr/>
            <p:nvPr/>
          </p:nvSpPr>
          <p:spPr>
            <a:xfrm flipH="1" flipV="1">
              <a:off x="1599480" y="2666880"/>
              <a:ext cx="2971800" cy="2286000"/>
            </a:xfrm>
            <a:prstGeom prst="wedgeRoundRectCallout">
              <a:avLst>
                <a:gd name="adj1" fmla="val 63194"/>
                <a:gd name="adj2" fmla="val -45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61f5b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由于∠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B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90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黑体"/>
                  <a:ea typeface="黑体"/>
                </a:rPr>
                <a:t>°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，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因此  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C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B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BC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2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2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8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从而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C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     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4"/>
            <a:stretch/>
          </p:blipFill>
          <p:spPr>
            <a:xfrm>
              <a:off x="3079800" y="4419720"/>
              <a:ext cx="368280" cy="35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676520" y="457200"/>
            <a:ext cx="3797280" cy="7365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2209680" y="2921040"/>
            <a:ext cx="4013280" cy="8888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4267080" y="1231920"/>
            <a:ext cx="1905120" cy="673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4229280" y="1981080"/>
            <a:ext cx="2705040" cy="851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4762440" y="3809880"/>
            <a:ext cx="2247840" cy="673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4800600" y="4521240"/>
            <a:ext cx="2603520" cy="88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243000" y="209520"/>
            <a:ext cx="1708200" cy="1467000"/>
            <a:chOff x="243000" y="209520"/>
            <a:chExt cx="1708200" cy="146700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243000" y="20952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 rot="355800">
              <a:off x="921600" y="56736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600200" y="1528920"/>
            <a:ext cx="6324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8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＞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</a:t>
            </a:r>
            <a:r>
              <a:rPr b="0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324160" y="2438280"/>
            <a:ext cx="491472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2146320" cy="799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2273400" y="3543480"/>
            <a:ext cx="2450880" cy="431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3886200" y="533520"/>
            <a:ext cx="1739880" cy="799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3886200" y="1523880"/>
            <a:ext cx="1206360" cy="6732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4800600" y="3530520"/>
            <a:ext cx="2082960" cy="4572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7"/>
          <a:stretch/>
        </p:blipFill>
        <p:spPr>
          <a:xfrm>
            <a:off x="4800600" y="4140360"/>
            <a:ext cx="1549440" cy="4572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8"/>
          <a:stretch/>
        </p:blipFill>
        <p:spPr>
          <a:xfrm>
            <a:off x="4800600" y="4749840"/>
            <a:ext cx="1523880" cy="355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9"/>
          <a:stretch/>
        </p:blipFill>
        <p:spPr>
          <a:xfrm>
            <a:off x="5257800" y="1523880"/>
            <a:ext cx="1536840" cy="673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0"/>
          <a:stretch/>
        </p:blipFill>
        <p:spPr>
          <a:xfrm>
            <a:off x="3949560" y="2336760"/>
            <a:ext cx="1765440" cy="863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1"/>
          <a:stretch/>
        </p:blipFill>
        <p:spPr>
          <a:xfrm>
            <a:off x="5587920" y="457200"/>
            <a:ext cx="1498680" cy="8636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5791320" y="2514600"/>
            <a:ext cx="11937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380880" y="292320"/>
            <a:ext cx="1751040" cy="890280"/>
            <a:chOff x="380880" y="292320"/>
            <a:chExt cx="1751040" cy="890280"/>
          </a:xfrm>
        </p:grpSpPr>
        <p:grpSp>
          <p:nvGrpSpPr>
            <p:cNvPr id="489" name=""/>
            <p:cNvGrpSpPr/>
            <p:nvPr/>
          </p:nvGrpSpPr>
          <p:grpSpPr>
            <a:xfrm>
              <a:off x="414360" y="512640"/>
              <a:ext cx="1717560" cy="669960"/>
              <a:chOff x="414360" y="512640"/>
              <a:chExt cx="1717560" cy="669960"/>
            </a:xfrm>
          </p:grpSpPr>
          <p:sp>
            <p:nvSpPr>
              <p:cNvPr id="490" name=""/>
              <p:cNvSpPr/>
              <p:nvPr/>
            </p:nvSpPr>
            <p:spPr>
              <a:xfrm>
                <a:off x="414360" y="878040"/>
                <a:ext cx="1646280" cy="304560"/>
              </a:xfrm>
              <a:prstGeom prst="ellipse">
                <a:avLst/>
              </a:prstGeom>
              <a:solidFill>
                <a:srgbClr val="aed3ea"/>
              </a:solidFill>
              <a:ln w="0">
                <a:noFill/>
              </a:ln>
              <a:effectLst>
                <a:outerShdw dist="17819" dir="2700000" blurRad="0" rotWithShape="0">
                  <a:srgbClr val="677e8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100160" y="512640"/>
                <a:ext cx="103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61f5b"/>
                    </a:solidFill>
                    <a:latin typeface="Arial"/>
                    <a:ea typeface="黑体"/>
                  </a:rPr>
                  <a:t>注意</a:t>
                </a:r>
                <a:endParaRPr b="0" lang="en-US" sz="3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80880" y="292320"/>
              <a:ext cx="821520" cy="760680"/>
              <a:chOff x="380880" y="292320"/>
              <a:chExt cx="821520" cy="760680"/>
            </a:xfrm>
          </p:grpSpPr>
          <p:sp>
            <p:nvSpPr>
              <p:cNvPr id="493" name=""/>
              <p:cNvSpPr/>
              <p:nvPr/>
            </p:nvSpPr>
            <p:spPr>
              <a:xfrm>
                <a:off x="380880" y="292320"/>
                <a:ext cx="821520" cy="760680"/>
              </a:xfrm>
              <a:custGeom>
                <a:avLst/>
                <a:gdLst/>
                <a:ahLst/>
                <a:rect l="l" t="t" r="r" b="b"/>
                <a:pathLst>
                  <a:path w="1130" h="1045">
                    <a:moveTo>
                      <a:pt x="1130" y="277"/>
                    </a:moveTo>
                    <a:lnTo>
                      <a:pt x="1130" y="277"/>
                    </a:lnTo>
                    <a:lnTo>
                      <a:pt x="1108" y="147"/>
                    </a:lnTo>
                    <a:lnTo>
                      <a:pt x="940" y="171"/>
                    </a:lnTo>
                    <a:lnTo>
                      <a:pt x="929" y="159"/>
                    </a:lnTo>
                    <a:lnTo>
                      <a:pt x="918" y="145"/>
                    </a:lnTo>
                    <a:lnTo>
                      <a:pt x="906" y="133"/>
                    </a:lnTo>
                    <a:lnTo>
                      <a:pt x="895" y="122"/>
                    </a:lnTo>
                    <a:lnTo>
                      <a:pt x="882" y="110"/>
                    </a:lnTo>
                    <a:lnTo>
                      <a:pt x="868" y="99"/>
                    </a:lnTo>
                    <a:lnTo>
                      <a:pt x="856" y="88"/>
                    </a:lnTo>
                    <a:lnTo>
                      <a:pt x="841" y="79"/>
                    </a:lnTo>
                    <a:lnTo>
                      <a:pt x="827" y="70"/>
                    </a:lnTo>
                    <a:lnTo>
                      <a:pt x="812" y="62"/>
                    </a:lnTo>
                    <a:lnTo>
                      <a:pt x="796" y="54"/>
                    </a:lnTo>
                    <a:lnTo>
                      <a:pt x="779" y="47"/>
                    </a:lnTo>
                    <a:lnTo>
                      <a:pt x="763" y="41"/>
                    </a:lnTo>
                    <a:lnTo>
                      <a:pt x="747" y="35"/>
                    </a:lnTo>
                    <a:lnTo>
                      <a:pt x="730" y="31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03" y="20"/>
                    </a:lnTo>
                    <a:lnTo>
                      <a:pt x="693" y="16"/>
                    </a:lnTo>
                    <a:lnTo>
                      <a:pt x="683" y="12"/>
                    </a:lnTo>
                    <a:lnTo>
                      <a:pt x="672" y="9"/>
                    </a:lnTo>
                    <a:lnTo>
                      <a:pt x="662" y="7"/>
                    </a:lnTo>
                    <a:lnTo>
                      <a:pt x="651" y="4"/>
                    </a:lnTo>
                    <a:lnTo>
                      <a:pt x="640" y="3"/>
                    </a:lnTo>
                    <a:lnTo>
                      <a:pt x="630" y="3"/>
                    </a:lnTo>
                    <a:lnTo>
                      <a:pt x="515" y="3"/>
                    </a:lnTo>
                    <a:lnTo>
                      <a:pt x="502" y="4"/>
                    </a:lnTo>
                    <a:lnTo>
                      <a:pt x="488" y="5"/>
                    </a:lnTo>
                    <a:lnTo>
                      <a:pt x="474" y="9"/>
                    </a:lnTo>
                    <a:lnTo>
                      <a:pt x="461" y="12"/>
                    </a:lnTo>
                    <a:lnTo>
                      <a:pt x="447" y="18"/>
                    </a:lnTo>
                    <a:lnTo>
                      <a:pt x="436" y="25"/>
                    </a:lnTo>
                    <a:lnTo>
                      <a:pt x="424" y="32"/>
                    </a:lnTo>
                    <a:lnTo>
                      <a:pt x="413" y="40"/>
                    </a:lnTo>
                    <a:lnTo>
                      <a:pt x="412" y="39"/>
                    </a:lnTo>
                    <a:lnTo>
                      <a:pt x="410" y="38"/>
                    </a:lnTo>
                    <a:lnTo>
                      <a:pt x="409" y="38"/>
                    </a:lnTo>
                    <a:lnTo>
                      <a:pt x="408" y="37"/>
                    </a:lnTo>
                    <a:lnTo>
                      <a:pt x="408" y="37"/>
                    </a:lnTo>
                    <a:lnTo>
                      <a:pt x="397" y="28"/>
                    </a:lnTo>
                    <a:lnTo>
                      <a:pt x="384" y="20"/>
                    </a:lnTo>
                    <a:lnTo>
                      <a:pt x="371" y="15"/>
                    </a:lnTo>
                    <a:lnTo>
                      <a:pt x="359" y="9"/>
                    </a:lnTo>
                    <a:lnTo>
                      <a:pt x="345" y="5"/>
                    </a:lnTo>
                    <a:lnTo>
                      <a:pt x="332" y="2"/>
                    </a:lnTo>
                    <a:lnTo>
                      <a:pt x="318" y="1"/>
                    </a:lnTo>
                    <a:lnTo>
                      <a:pt x="304" y="0"/>
                    </a:lnTo>
                    <a:lnTo>
                      <a:pt x="190" y="0"/>
                    </a:lnTo>
                    <a:lnTo>
                      <a:pt x="171" y="1"/>
                    </a:lnTo>
                    <a:lnTo>
                      <a:pt x="152" y="4"/>
                    </a:lnTo>
                    <a:lnTo>
                      <a:pt x="134" y="10"/>
                    </a:lnTo>
                    <a:lnTo>
                      <a:pt x="116" y="18"/>
                    </a:lnTo>
                    <a:lnTo>
                      <a:pt x="99" y="27"/>
                    </a:lnTo>
                    <a:lnTo>
                      <a:pt x="84" y="39"/>
                    </a:lnTo>
                    <a:lnTo>
                      <a:pt x="69" y="52"/>
                    </a:lnTo>
                    <a:lnTo>
                      <a:pt x="55" y="67"/>
                    </a:lnTo>
                    <a:lnTo>
                      <a:pt x="44" y="83"/>
                    </a:lnTo>
                    <a:lnTo>
                      <a:pt x="32" y="100"/>
                    </a:lnTo>
                    <a:lnTo>
                      <a:pt x="23" y="120"/>
                    </a:lnTo>
                    <a:lnTo>
                      <a:pt x="15" y="139"/>
                    </a:lnTo>
                    <a:lnTo>
                      <a:pt x="8" y="160"/>
                    </a:lnTo>
                    <a:lnTo>
                      <a:pt x="3" y="182"/>
                    </a:lnTo>
                    <a:lnTo>
                      <a:pt x="1" y="205"/>
                    </a:lnTo>
                    <a:lnTo>
                      <a:pt x="0" y="228"/>
                    </a:lnTo>
                    <a:lnTo>
                      <a:pt x="1" y="253"/>
                    </a:lnTo>
                    <a:lnTo>
                      <a:pt x="5" y="279"/>
                    </a:lnTo>
                    <a:lnTo>
                      <a:pt x="10" y="303"/>
                    </a:lnTo>
                    <a:lnTo>
                      <a:pt x="18" y="326"/>
                    </a:lnTo>
                    <a:lnTo>
                      <a:pt x="28" y="348"/>
                    </a:lnTo>
                    <a:lnTo>
                      <a:pt x="39" y="367"/>
                    </a:lnTo>
                    <a:lnTo>
                      <a:pt x="53" y="387"/>
                    </a:lnTo>
                    <a:lnTo>
                      <a:pt x="68" y="404"/>
                    </a:lnTo>
                    <a:lnTo>
                      <a:pt x="82" y="417"/>
                    </a:lnTo>
                    <a:lnTo>
                      <a:pt x="96" y="427"/>
                    </a:lnTo>
                    <a:lnTo>
                      <a:pt x="110" y="437"/>
                    </a:lnTo>
                    <a:lnTo>
                      <a:pt x="126" y="444"/>
                    </a:lnTo>
                    <a:lnTo>
                      <a:pt x="141" y="449"/>
                    </a:lnTo>
                    <a:lnTo>
                      <a:pt x="157" y="454"/>
                    </a:lnTo>
                    <a:lnTo>
                      <a:pt x="173" y="456"/>
                    </a:lnTo>
                    <a:lnTo>
                      <a:pt x="190" y="457"/>
                    </a:lnTo>
                    <a:lnTo>
                      <a:pt x="239" y="457"/>
                    </a:lnTo>
                    <a:lnTo>
                      <a:pt x="242" y="483"/>
                    </a:lnTo>
                    <a:lnTo>
                      <a:pt x="248" y="507"/>
                    </a:lnTo>
                    <a:lnTo>
                      <a:pt x="255" y="531"/>
                    </a:lnTo>
                    <a:lnTo>
                      <a:pt x="263" y="554"/>
                    </a:lnTo>
                    <a:lnTo>
                      <a:pt x="273" y="576"/>
                    </a:lnTo>
                    <a:lnTo>
                      <a:pt x="284" y="598"/>
                    </a:lnTo>
                    <a:lnTo>
                      <a:pt x="296" y="619"/>
                    </a:lnTo>
                    <a:lnTo>
                      <a:pt x="310" y="640"/>
                    </a:lnTo>
                    <a:lnTo>
                      <a:pt x="325" y="658"/>
                    </a:lnTo>
                    <a:lnTo>
                      <a:pt x="341" y="676"/>
                    </a:lnTo>
                    <a:lnTo>
                      <a:pt x="357" y="694"/>
                    </a:lnTo>
                    <a:lnTo>
                      <a:pt x="376" y="710"/>
                    </a:lnTo>
                    <a:lnTo>
                      <a:pt x="394" y="725"/>
                    </a:lnTo>
                    <a:lnTo>
                      <a:pt x="414" y="739"/>
                    </a:lnTo>
                    <a:lnTo>
                      <a:pt x="435" y="751"/>
                    </a:lnTo>
                    <a:lnTo>
                      <a:pt x="457" y="763"/>
                    </a:lnTo>
                    <a:lnTo>
                      <a:pt x="391" y="937"/>
                    </a:lnTo>
                    <a:lnTo>
                      <a:pt x="272" y="875"/>
                    </a:lnTo>
                    <a:lnTo>
                      <a:pt x="272" y="875"/>
                    </a:lnTo>
                    <a:lnTo>
                      <a:pt x="265" y="872"/>
                    </a:lnTo>
                    <a:lnTo>
                      <a:pt x="258" y="871"/>
                    </a:lnTo>
                    <a:lnTo>
                      <a:pt x="250" y="871"/>
                    </a:lnTo>
                    <a:lnTo>
                      <a:pt x="243" y="872"/>
                    </a:lnTo>
                    <a:lnTo>
                      <a:pt x="236" y="875"/>
                    </a:lnTo>
                    <a:lnTo>
                      <a:pt x="231" y="879"/>
                    </a:lnTo>
                    <a:lnTo>
                      <a:pt x="226" y="884"/>
                    </a:lnTo>
                    <a:lnTo>
                      <a:pt x="221" y="891"/>
                    </a:lnTo>
                    <a:lnTo>
                      <a:pt x="217" y="905"/>
                    </a:lnTo>
                    <a:lnTo>
                      <a:pt x="218" y="920"/>
                    </a:lnTo>
                    <a:lnTo>
                      <a:pt x="225" y="932"/>
                    </a:lnTo>
                    <a:lnTo>
                      <a:pt x="236" y="942"/>
                    </a:lnTo>
                    <a:lnTo>
                      <a:pt x="431" y="1043"/>
                    </a:lnTo>
                    <a:lnTo>
                      <a:pt x="527" y="789"/>
                    </a:lnTo>
                    <a:lnTo>
                      <a:pt x="540" y="792"/>
                    </a:lnTo>
                    <a:lnTo>
                      <a:pt x="552" y="795"/>
                    </a:lnTo>
                    <a:lnTo>
                      <a:pt x="565" y="797"/>
                    </a:lnTo>
                    <a:lnTo>
                      <a:pt x="578" y="799"/>
                    </a:lnTo>
                    <a:lnTo>
                      <a:pt x="590" y="800"/>
                    </a:lnTo>
                    <a:lnTo>
                      <a:pt x="603" y="801"/>
                    </a:lnTo>
                    <a:lnTo>
                      <a:pt x="616" y="802"/>
                    </a:lnTo>
                    <a:lnTo>
                      <a:pt x="628" y="802"/>
                    </a:lnTo>
                    <a:lnTo>
                      <a:pt x="642" y="802"/>
                    </a:lnTo>
                    <a:lnTo>
                      <a:pt x="657" y="801"/>
                    </a:lnTo>
                    <a:lnTo>
                      <a:pt x="671" y="800"/>
                    </a:lnTo>
                    <a:lnTo>
                      <a:pt x="685" y="799"/>
                    </a:lnTo>
                    <a:lnTo>
                      <a:pt x="699" y="796"/>
                    </a:lnTo>
                    <a:lnTo>
                      <a:pt x="713" y="794"/>
                    </a:lnTo>
                    <a:lnTo>
                      <a:pt x="725" y="791"/>
                    </a:lnTo>
                    <a:lnTo>
                      <a:pt x="739" y="787"/>
                    </a:lnTo>
                    <a:lnTo>
                      <a:pt x="841" y="936"/>
                    </a:lnTo>
                    <a:lnTo>
                      <a:pt x="719" y="972"/>
                    </a:lnTo>
                    <a:lnTo>
                      <a:pt x="707" y="979"/>
                    </a:lnTo>
                    <a:lnTo>
                      <a:pt x="698" y="989"/>
                    </a:lnTo>
                    <a:lnTo>
                      <a:pt x="693" y="1003"/>
                    </a:lnTo>
                    <a:lnTo>
                      <a:pt x="694" y="1018"/>
                    </a:lnTo>
                    <a:lnTo>
                      <a:pt x="698" y="1025"/>
                    </a:lnTo>
                    <a:lnTo>
                      <a:pt x="701" y="1032"/>
                    </a:lnTo>
                    <a:lnTo>
                      <a:pt x="707" y="1036"/>
                    </a:lnTo>
                    <a:lnTo>
                      <a:pt x="713" y="1041"/>
                    </a:lnTo>
                    <a:lnTo>
                      <a:pt x="719" y="1043"/>
                    </a:lnTo>
                    <a:lnTo>
                      <a:pt x="726" y="1045"/>
                    </a:lnTo>
                    <a:lnTo>
                      <a:pt x="734" y="1045"/>
                    </a:lnTo>
                    <a:lnTo>
                      <a:pt x="741" y="1043"/>
                    </a:lnTo>
                    <a:lnTo>
                      <a:pt x="960" y="979"/>
                    </a:lnTo>
                    <a:lnTo>
                      <a:pt x="811" y="758"/>
                    </a:lnTo>
                    <a:lnTo>
                      <a:pt x="823" y="751"/>
                    </a:lnTo>
                    <a:lnTo>
                      <a:pt x="836" y="743"/>
                    </a:lnTo>
                    <a:lnTo>
                      <a:pt x="849" y="735"/>
                    </a:lnTo>
                    <a:lnTo>
                      <a:pt x="860" y="726"/>
                    </a:lnTo>
                    <a:lnTo>
                      <a:pt x="873" y="718"/>
                    </a:lnTo>
                    <a:lnTo>
                      <a:pt x="884" y="708"/>
                    </a:lnTo>
                    <a:lnTo>
                      <a:pt x="895" y="698"/>
                    </a:lnTo>
                    <a:lnTo>
                      <a:pt x="906" y="688"/>
                    </a:lnTo>
                    <a:lnTo>
                      <a:pt x="933" y="659"/>
                    </a:lnTo>
                    <a:lnTo>
                      <a:pt x="956" y="628"/>
                    </a:lnTo>
                    <a:lnTo>
                      <a:pt x="975" y="595"/>
                    </a:lnTo>
                    <a:lnTo>
                      <a:pt x="992" y="560"/>
                    </a:lnTo>
                    <a:lnTo>
                      <a:pt x="1004" y="524"/>
                    </a:lnTo>
                    <a:lnTo>
                      <a:pt x="1015" y="487"/>
                    </a:lnTo>
                    <a:lnTo>
                      <a:pt x="1019" y="449"/>
                    </a:lnTo>
                    <a:lnTo>
                      <a:pt x="1022" y="410"/>
                    </a:lnTo>
                    <a:lnTo>
                      <a:pt x="1020" y="388"/>
                    </a:lnTo>
                    <a:lnTo>
                      <a:pt x="1019" y="365"/>
                    </a:lnTo>
                    <a:lnTo>
                      <a:pt x="1016" y="344"/>
                    </a:lnTo>
                    <a:lnTo>
                      <a:pt x="1011" y="322"/>
                    </a:lnTo>
                    <a:lnTo>
                      <a:pt x="1007" y="302"/>
                    </a:lnTo>
                    <a:lnTo>
                      <a:pt x="1000" y="281"/>
                    </a:lnTo>
                    <a:lnTo>
                      <a:pt x="992" y="261"/>
                    </a:lnTo>
                    <a:lnTo>
                      <a:pt x="983" y="242"/>
                    </a:lnTo>
                    <a:lnTo>
                      <a:pt x="1046" y="233"/>
                    </a:lnTo>
                    <a:lnTo>
                      <a:pt x="1055" y="290"/>
                    </a:lnTo>
                    <a:lnTo>
                      <a:pt x="1055" y="290"/>
                    </a:lnTo>
                    <a:lnTo>
                      <a:pt x="1057" y="297"/>
                    </a:lnTo>
                    <a:lnTo>
                      <a:pt x="1061" y="304"/>
                    </a:lnTo>
                    <a:lnTo>
                      <a:pt x="1065" y="310"/>
                    </a:lnTo>
                    <a:lnTo>
                      <a:pt x="1070" y="314"/>
                    </a:lnTo>
                    <a:lnTo>
                      <a:pt x="1077" y="319"/>
                    </a:lnTo>
                    <a:lnTo>
                      <a:pt x="1084" y="321"/>
                    </a:lnTo>
                    <a:lnTo>
                      <a:pt x="1091" y="321"/>
                    </a:lnTo>
                    <a:lnTo>
                      <a:pt x="1099" y="321"/>
                    </a:lnTo>
                    <a:lnTo>
                      <a:pt x="1106" y="319"/>
                    </a:lnTo>
                    <a:lnTo>
                      <a:pt x="1113" y="316"/>
                    </a:lnTo>
                    <a:lnTo>
                      <a:pt x="1118" y="311"/>
                    </a:lnTo>
                    <a:lnTo>
                      <a:pt x="1123" y="306"/>
                    </a:lnTo>
                    <a:lnTo>
                      <a:pt x="1128" y="299"/>
                    </a:lnTo>
                    <a:lnTo>
                      <a:pt x="1130" y="292"/>
                    </a:lnTo>
                    <a:lnTo>
                      <a:pt x="1130" y="286"/>
                    </a:lnTo>
                    <a:lnTo>
                      <a:pt x="1130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66600" y="400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10" y="42"/>
                    </a:moveTo>
                    <a:lnTo>
                      <a:pt x="8" y="31"/>
                    </a:lnTo>
                    <a:lnTo>
                      <a:pt x="6" y="21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1" y="8"/>
                    </a:lnTo>
                    <a:lnTo>
                      <a:pt x="17" y="13"/>
                    </a:lnTo>
                    <a:lnTo>
                      <a:pt x="23" y="18"/>
                    </a:lnTo>
                    <a:lnTo>
                      <a:pt x="29" y="22"/>
                    </a:lnTo>
                    <a:lnTo>
                      <a:pt x="35" y="27"/>
                    </a:lnTo>
                    <a:lnTo>
                      <a:pt x="39" y="32"/>
                    </a:lnTo>
                    <a:lnTo>
                      <a:pt x="45" y="37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9ef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60400" y="353880"/>
                <a:ext cx="61200" cy="214920"/>
              </a:xfrm>
              <a:custGeom>
                <a:avLst/>
                <a:gdLst/>
                <a:ahLst/>
                <a:rect l="l" t="t" r="r" b="b"/>
                <a:pathLst>
                  <a:path w="84" h="296">
                    <a:moveTo>
                      <a:pt x="84" y="149"/>
                    </a:moveTo>
                    <a:lnTo>
                      <a:pt x="83" y="174"/>
                    </a:lnTo>
                    <a:lnTo>
                      <a:pt x="78" y="198"/>
                    </a:lnTo>
                    <a:lnTo>
                      <a:pt x="70" y="221"/>
                    </a:lnTo>
                    <a:lnTo>
                      <a:pt x="60" y="242"/>
                    </a:lnTo>
                    <a:lnTo>
                      <a:pt x="48" y="260"/>
                    </a:lnTo>
                    <a:lnTo>
                      <a:pt x="33" y="275"/>
                    </a:lnTo>
                    <a:lnTo>
                      <a:pt x="17" y="287"/>
                    </a:lnTo>
                    <a:lnTo>
                      <a:pt x="0" y="296"/>
                    </a:lnTo>
                    <a:lnTo>
                      <a:pt x="10" y="280"/>
                    </a:lnTo>
                    <a:lnTo>
                      <a:pt x="19" y="263"/>
                    </a:lnTo>
                    <a:lnTo>
                      <a:pt x="26" y="245"/>
                    </a:lnTo>
                    <a:lnTo>
                      <a:pt x="33" y="227"/>
                    </a:lnTo>
                    <a:lnTo>
                      <a:pt x="38" y="208"/>
                    </a:lnTo>
                    <a:lnTo>
                      <a:pt x="41" y="189"/>
                    </a:lnTo>
                    <a:lnTo>
                      <a:pt x="43" y="169"/>
                    </a:lnTo>
                    <a:lnTo>
                      <a:pt x="45" y="149"/>
                    </a:lnTo>
                    <a:lnTo>
                      <a:pt x="43" y="128"/>
                    </a:lnTo>
                    <a:lnTo>
                      <a:pt x="41" y="108"/>
                    </a:lnTo>
                    <a:lnTo>
                      <a:pt x="38" y="89"/>
                    </a:lnTo>
                    <a:lnTo>
                      <a:pt x="33" y="69"/>
                    </a:lnTo>
                    <a:lnTo>
                      <a:pt x="26" y="51"/>
                    </a:lnTo>
                    <a:lnTo>
                      <a:pt x="19" y="33"/>
                    </a:lnTo>
                    <a:lnTo>
                      <a:pt x="10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1" y="6"/>
                    </a:lnTo>
                    <a:lnTo>
                      <a:pt x="16" y="8"/>
                    </a:lnTo>
                    <a:lnTo>
                      <a:pt x="22" y="11"/>
                    </a:lnTo>
                    <a:lnTo>
                      <a:pt x="25" y="15"/>
                    </a:lnTo>
                    <a:lnTo>
                      <a:pt x="30" y="18"/>
                    </a:lnTo>
                    <a:lnTo>
                      <a:pt x="33" y="22"/>
                    </a:lnTo>
                    <a:lnTo>
                      <a:pt x="37" y="25"/>
                    </a:lnTo>
                    <a:lnTo>
                      <a:pt x="47" y="37"/>
                    </a:lnTo>
                    <a:lnTo>
                      <a:pt x="56" y="51"/>
                    </a:lnTo>
                    <a:lnTo>
                      <a:pt x="64" y="64"/>
                    </a:lnTo>
                    <a:lnTo>
                      <a:pt x="71" y="79"/>
                    </a:lnTo>
                    <a:lnTo>
                      <a:pt x="77" y="95"/>
                    </a:lnTo>
                    <a:lnTo>
                      <a:pt x="80" y="113"/>
                    </a:lnTo>
                    <a:lnTo>
                      <a:pt x="83" y="130"/>
                    </a:lnTo>
                    <a:lnTo>
                      <a:pt x="84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2840" y="349200"/>
                <a:ext cx="165600" cy="223560"/>
              </a:xfrm>
              <a:custGeom>
                <a:avLst/>
                <a:gdLst/>
                <a:ahLst/>
                <a:rect l="l" t="t" r="r" b="b"/>
                <a:pathLst>
                  <a:path w="230" h="308">
                    <a:moveTo>
                      <a:pt x="114" y="0"/>
                    </a:moveTo>
                    <a:lnTo>
                      <a:pt x="126" y="1"/>
                    </a:lnTo>
                    <a:lnTo>
                      <a:pt x="137" y="3"/>
                    </a:lnTo>
                    <a:lnTo>
                      <a:pt x="147" y="6"/>
                    </a:lnTo>
                    <a:lnTo>
                      <a:pt x="156" y="10"/>
                    </a:lnTo>
                    <a:lnTo>
                      <a:pt x="164" y="15"/>
                    </a:lnTo>
                    <a:lnTo>
                      <a:pt x="172" y="21"/>
                    </a:lnTo>
                    <a:lnTo>
                      <a:pt x="178" y="25"/>
                    </a:lnTo>
                    <a:lnTo>
                      <a:pt x="184" y="31"/>
                    </a:lnTo>
                    <a:lnTo>
                      <a:pt x="194" y="43"/>
                    </a:lnTo>
                    <a:lnTo>
                      <a:pt x="203" y="57"/>
                    </a:lnTo>
                    <a:lnTo>
                      <a:pt x="211" y="70"/>
                    </a:lnTo>
                    <a:lnTo>
                      <a:pt x="217" y="85"/>
                    </a:lnTo>
                    <a:lnTo>
                      <a:pt x="223" y="101"/>
                    </a:lnTo>
                    <a:lnTo>
                      <a:pt x="226" y="119"/>
                    </a:lnTo>
                    <a:lnTo>
                      <a:pt x="229" y="136"/>
                    </a:lnTo>
                    <a:lnTo>
                      <a:pt x="230" y="155"/>
                    </a:lnTo>
                    <a:lnTo>
                      <a:pt x="227" y="186"/>
                    </a:lnTo>
                    <a:lnTo>
                      <a:pt x="220" y="214"/>
                    </a:lnTo>
                    <a:lnTo>
                      <a:pt x="210" y="240"/>
                    </a:lnTo>
                    <a:lnTo>
                      <a:pt x="196" y="263"/>
                    </a:lnTo>
                    <a:lnTo>
                      <a:pt x="179" y="281"/>
                    </a:lnTo>
                    <a:lnTo>
                      <a:pt x="159" y="295"/>
                    </a:lnTo>
                    <a:lnTo>
                      <a:pt x="137" y="304"/>
                    </a:lnTo>
                    <a:lnTo>
                      <a:pt x="114" y="308"/>
                    </a:lnTo>
                    <a:lnTo>
                      <a:pt x="103" y="307"/>
                    </a:lnTo>
                    <a:lnTo>
                      <a:pt x="92" y="306"/>
                    </a:lnTo>
                    <a:lnTo>
                      <a:pt x="83" y="302"/>
                    </a:lnTo>
                    <a:lnTo>
                      <a:pt x="74" y="298"/>
                    </a:lnTo>
                    <a:lnTo>
                      <a:pt x="66" y="293"/>
                    </a:lnTo>
                    <a:lnTo>
                      <a:pt x="58" y="288"/>
                    </a:lnTo>
                    <a:lnTo>
                      <a:pt x="52" y="284"/>
                    </a:lnTo>
                    <a:lnTo>
                      <a:pt x="46" y="278"/>
                    </a:lnTo>
                    <a:lnTo>
                      <a:pt x="36" y="266"/>
                    </a:lnTo>
                    <a:lnTo>
                      <a:pt x="27" y="253"/>
                    </a:lnTo>
                    <a:lnTo>
                      <a:pt x="19" y="239"/>
                    </a:lnTo>
                    <a:lnTo>
                      <a:pt x="12" y="223"/>
                    </a:lnTo>
                    <a:lnTo>
                      <a:pt x="7" y="206"/>
                    </a:lnTo>
                    <a:lnTo>
                      <a:pt x="4" y="190"/>
                    </a:lnTo>
                    <a:lnTo>
                      <a:pt x="1" y="173"/>
                    </a:lnTo>
                    <a:lnTo>
                      <a:pt x="0" y="155"/>
                    </a:lnTo>
                    <a:lnTo>
                      <a:pt x="1" y="136"/>
                    </a:lnTo>
                    <a:lnTo>
                      <a:pt x="4" y="119"/>
                    </a:lnTo>
                    <a:lnTo>
                      <a:pt x="7" y="101"/>
                    </a:lnTo>
                    <a:lnTo>
                      <a:pt x="12" y="85"/>
                    </a:lnTo>
                    <a:lnTo>
                      <a:pt x="19" y="70"/>
                    </a:lnTo>
                    <a:lnTo>
                      <a:pt x="27" y="57"/>
                    </a:lnTo>
                    <a:lnTo>
                      <a:pt x="36" y="43"/>
                    </a:lnTo>
                    <a:lnTo>
                      <a:pt x="46" y="31"/>
                    </a:lnTo>
                    <a:lnTo>
                      <a:pt x="52" y="25"/>
                    </a:lnTo>
                    <a:lnTo>
                      <a:pt x="58" y="21"/>
                    </a:lnTo>
                    <a:lnTo>
                      <a:pt x="66" y="15"/>
                    </a:lnTo>
                    <a:lnTo>
                      <a:pt x="74" y="10"/>
                    </a:lnTo>
                    <a:lnTo>
                      <a:pt x="83" y="6"/>
                    </a:lnTo>
                    <a:lnTo>
                      <a:pt x="92" y="3"/>
                    </a:lnTo>
                    <a:lnTo>
                      <a:pt x="103" y="1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24960" y="54576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16" y="0"/>
                    </a:moveTo>
                    <a:lnTo>
                      <a:pt x="18" y="3"/>
                    </a:lnTo>
                    <a:lnTo>
                      <a:pt x="20" y="7"/>
                    </a:lnTo>
                    <a:lnTo>
                      <a:pt x="21" y="10"/>
                    </a:lnTo>
                    <a:lnTo>
                      <a:pt x="24" y="14"/>
                    </a:lnTo>
                    <a:lnTo>
                      <a:pt x="18" y="17"/>
                    </a:lnTo>
                    <a:lnTo>
                      <a:pt x="12" y="21"/>
                    </a:lnTo>
                    <a:lnTo>
                      <a:pt x="5" y="24"/>
                    </a:lnTo>
                    <a:lnTo>
                      <a:pt x="0" y="27"/>
                    </a:lnTo>
                    <a:lnTo>
                      <a:pt x="4" y="21"/>
                    </a:lnTo>
                    <a:lnTo>
                      <a:pt x="8" y="14"/>
                    </a:lnTo>
                    <a:lnTo>
                      <a:pt x="12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4960" y="350640"/>
                <a:ext cx="20160" cy="2304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5" y="20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1"/>
                    </a:lnTo>
                    <a:lnTo>
                      <a:pt x="15" y="23"/>
                    </a:lnTo>
                    <a:lnTo>
                      <a:pt x="10" y="15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20" y="11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4520" y="346320"/>
                <a:ext cx="168480" cy="223560"/>
              </a:xfrm>
              <a:custGeom>
                <a:avLst/>
                <a:gdLst/>
                <a:ahLst/>
                <a:rect l="l" t="t" r="r" b="b"/>
                <a:pathLst>
                  <a:path w="231" h="307">
                    <a:moveTo>
                      <a:pt x="0" y="153"/>
                    </a:moveTo>
                    <a:lnTo>
                      <a:pt x="1" y="134"/>
                    </a:lnTo>
                    <a:lnTo>
                      <a:pt x="3" y="117"/>
                    </a:lnTo>
                    <a:lnTo>
                      <a:pt x="7" y="101"/>
                    </a:lnTo>
                    <a:lnTo>
                      <a:pt x="13" y="85"/>
                    </a:lnTo>
                    <a:lnTo>
                      <a:pt x="20" y="69"/>
                    </a:lnTo>
                    <a:lnTo>
                      <a:pt x="28" y="55"/>
                    </a:lnTo>
                    <a:lnTo>
                      <a:pt x="37" y="42"/>
                    </a:lnTo>
                    <a:lnTo>
                      <a:pt x="47" y="31"/>
                    </a:lnTo>
                    <a:lnTo>
                      <a:pt x="53" y="25"/>
                    </a:lnTo>
                    <a:lnTo>
                      <a:pt x="59" y="19"/>
                    </a:lnTo>
                    <a:lnTo>
                      <a:pt x="67" y="15"/>
                    </a:lnTo>
                    <a:lnTo>
                      <a:pt x="75" y="10"/>
                    </a:lnTo>
                    <a:lnTo>
                      <a:pt x="84" y="5"/>
                    </a:lnTo>
                    <a:lnTo>
                      <a:pt x="93" y="2"/>
                    </a:lnTo>
                    <a:lnTo>
                      <a:pt x="104" y="1"/>
                    </a:lnTo>
                    <a:lnTo>
                      <a:pt x="115" y="0"/>
                    </a:lnTo>
                    <a:lnTo>
                      <a:pt x="127" y="1"/>
                    </a:lnTo>
                    <a:lnTo>
                      <a:pt x="137" y="2"/>
                    </a:lnTo>
                    <a:lnTo>
                      <a:pt x="146" y="5"/>
                    </a:lnTo>
                    <a:lnTo>
                      <a:pt x="156" y="10"/>
                    </a:lnTo>
                    <a:lnTo>
                      <a:pt x="164" y="15"/>
                    </a:lnTo>
                    <a:lnTo>
                      <a:pt x="172" y="19"/>
                    </a:lnTo>
                    <a:lnTo>
                      <a:pt x="178" y="25"/>
                    </a:lnTo>
                    <a:lnTo>
                      <a:pt x="183" y="31"/>
                    </a:lnTo>
                    <a:lnTo>
                      <a:pt x="194" y="42"/>
                    </a:lnTo>
                    <a:lnTo>
                      <a:pt x="203" y="55"/>
                    </a:lnTo>
                    <a:lnTo>
                      <a:pt x="211" y="69"/>
                    </a:lnTo>
                    <a:lnTo>
                      <a:pt x="218" y="85"/>
                    </a:lnTo>
                    <a:lnTo>
                      <a:pt x="224" y="101"/>
                    </a:lnTo>
                    <a:lnTo>
                      <a:pt x="227" y="117"/>
                    </a:lnTo>
                    <a:lnTo>
                      <a:pt x="229" y="134"/>
                    </a:lnTo>
                    <a:lnTo>
                      <a:pt x="231" y="153"/>
                    </a:lnTo>
                    <a:lnTo>
                      <a:pt x="228" y="184"/>
                    </a:lnTo>
                    <a:lnTo>
                      <a:pt x="221" y="213"/>
                    </a:lnTo>
                    <a:lnTo>
                      <a:pt x="211" y="239"/>
                    </a:lnTo>
                    <a:lnTo>
                      <a:pt x="197" y="262"/>
                    </a:lnTo>
                    <a:lnTo>
                      <a:pt x="180" y="281"/>
                    </a:lnTo>
                    <a:lnTo>
                      <a:pt x="160" y="295"/>
                    </a:lnTo>
                    <a:lnTo>
                      <a:pt x="138" y="304"/>
                    </a:lnTo>
                    <a:lnTo>
                      <a:pt x="115" y="307"/>
                    </a:lnTo>
                    <a:lnTo>
                      <a:pt x="104" y="306"/>
                    </a:lnTo>
                    <a:lnTo>
                      <a:pt x="93" y="304"/>
                    </a:lnTo>
                    <a:lnTo>
                      <a:pt x="84" y="302"/>
                    </a:lnTo>
                    <a:lnTo>
                      <a:pt x="75" y="297"/>
                    </a:lnTo>
                    <a:lnTo>
                      <a:pt x="67" y="292"/>
                    </a:lnTo>
                    <a:lnTo>
                      <a:pt x="59" y="287"/>
                    </a:lnTo>
                    <a:lnTo>
                      <a:pt x="53" y="282"/>
                    </a:lnTo>
                    <a:lnTo>
                      <a:pt x="47" y="276"/>
                    </a:lnTo>
                    <a:lnTo>
                      <a:pt x="37" y="265"/>
                    </a:lnTo>
                    <a:lnTo>
                      <a:pt x="28" y="251"/>
                    </a:lnTo>
                    <a:lnTo>
                      <a:pt x="20" y="237"/>
                    </a:lnTo>
                    <a:lnTo>
                      <a:pt x="13" y="222"/>
                    </a:lnTo>
                    <a:lnTo>
                      <a:pt x="7" y="206"/>
                    </a:lnTo>
                    <a:lnTo>
                      <a:pt x="3" y="189"/>
                    </a:lnTo>
                    <a:lnTo>
                      <a:pt x="1" y="171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8760" y="477000"/>
                <a:ext cx="459360" cy="344880"/>
              </a:xfrm>
              <a:custGeom>
                <a:avLst/>
                <a:gdLst/>
                <a:ahLst/>
                <a:rect l="l" t="t" r="r" b="b"/>
                <a:pathLst>
                  <a:path w="632" h="474">
                    <a:moveTo>
                      <a:pt x="632" y="157"/>
                    </a:moveTo>
                    <a:lnTo>
                      <a:pt x="630" y="189"/>
                    </a:lnTo>
                    <a:lnTo>
                      <a:pt x="625" y="221"/>
                    </a:lnTo>
                    <a:lnTo>
                      <a:pt x="618" y="250"/>
                    </a:lnTo>
                    <a:lnTo>
                      <a:pt x="606" y="280"/>
                    </a:lnTo>
                    <a:lnTo>
                      <a:pt x="594" y="308"/>
                    </a:lnTo>
                    <a:lnTo>
                      <a:pt x="577" y="333"/>
                    </a:lnTo>
                    <a:lnTo>
                      <a:pt x="559" y="359"/>
                    </a:lnTo>
                    <a:lnTo>
                      <a:pt x="538" y="381"/>
                    </a:lnTo>
                    <a:lnTo>
                      <a:pt x="515" y="402"/>
                    </a:lnTo>
                    <a:lnTo>
                      <a:pt x="491" y="420"/>
                    </a:lnTo>
                    <a:lnTo>
                      <a:pt x="464" y="436"/>
                    </a:lnTo>
                    <a:lnTo>
                      <a:pt x="437" y="449"/>
                    </a:lnTo>
                    <a:lnTo>
                      <a:pt x="408" y="460"/>
                    </a:lnTo>
                    <a:lnTo>
                      <a:pt x="378" y="467"/>
                    </a:lnTo>
                    <a:lnTo>
                      <a:pt x="346" y="473"/>
                    </a:lnTo>
                    <a:lnTo>
                      <a:pt x="313" y="474"/>
                    </a:lnTo>
                    <a:lnTo>
                      <a:pt x="294" y="473"/>
                    </a:lnTo>
                    <a:lnTo>
                      <a:pt x="274" y="472"/>
                    </a:lnTo>
                    <a:lnTo>
                      <a:pt x="255" y="468"/>
                    </a:lnTo>
                    <a:lnTo>
                      <a:pt x="235" y="465"/>
                    </a:lnTo>
                    <a:lnTo>
                      <a:pt x="217" y="459"/>
                    </a:lnTo>
                    <a:lnTo>
                      <a:pt x="199" y="452"/>
                    </a:lnTo>
                    <a:lnTo>
                      <a:pt x="182" y="445"/>
                    </a:lnTo>
                    <a:lnTo>
                      <a:pt x="165" y="437"/>
                    </a:lnTo>
                    <a:lnTo>
                      <a:pt x="149" y="427"/>
                    </a:lnTo>
                    <a:lnTo>
                      <a:pt x="132" y="418"/>
                    </a:lnTo>
                    <a:lnTo>
                      <a:pt x="117" y="406"/>
                    </a:lnTo>
                    <a:lnTo>
                      <a:pt x="102" y="393"/>
                    </a:lnTo>
                    <a:lnTo>
                      <a:pt x="89" y="381"/>
                    </a:lnTo>
                    <a:lnTo>
                      <a:pt x="76" y="367"/>
                    </a:lnTo>
                    <a:lnTo>
                      <a:pt x="64" y="353"/>
                    </a:lnTo>
                    <a:lnTo>
                      <a:pt x="53" y="338"/>
                    </a:lnTo>
                    <a:lnTo>
                      <a:pt x="70" y="344"/>
                    </a:lnTo>
                    <a:lnTo>
                      <a:pt x="89" y="350"/>
                    </a:lnTo>
                    <a:lnTo>
                      <a:pt x="108" y="355"/>
                    </a:lnTo>
                    <a:lnTo>
                      <a:pt x="128" y="360"/>
                    </a:lnTo>
                    <a:lnTo>
                      <a:pt x="147" y="363"/>
                    </a:lnTo>
                    <a:lnTo>
                      <a:pt x="168" y="367"/>
                    </a:lnTo>
                    <a:lnTo>
                      <a:pt x="189" y="370"/>
                    </a:lnTo>
                    <a:lnTo>
                      <a:pt x="210" y="373"/>
                    </a:lnTo>
                    <a:lnTo>
                      <a:pt x="222" y="374"/>
                    </a:lnTo>
                    <a:lnTo>
                      <a:pt x="235" y="375"/>
                    </a:lnTo>
                    <a:lnTo>
                      <a:pt x="249" y="375"/>
                    </a:lnTo>
                    <a:lnTo>
                      <a:pt x="263" y="376"/>
                    </a:lnTo>
                    <a:lnTo>
                      <a:pt x="276" y="376"/>
                    </a:lnTo>
                    <a:lnTo>
                      <a:pt x="290" y="376"/>
                    </a:lnTo>
                    <a:lnTo>
                      <a:pt x="304" y="376"/>
                    </a:lnTo>
                    <a:lnTo>
                      <a:pt x="318" y="375"/>
                    </a:lnTo>
                    <a:lnTo>
                      <a:pt x="343" y="373"/>
                    </a:lnTo>
                    <a:lnTo>
                      <a:pt x="368" y="370"/>
                    </a:lnTo>
                    <a:lnTo>
                      <a:pt x="391" y="366"/>
                    </a:lnTo>
                    <a:lnTo>
                      <a:pt x="414" y="361"/>
                    </a:lnTo>
                    <a:lnTo>
                      <a:pt x="436" y="357"/>
                    </a:lnTo>
                    <a:lnTo>
                      <a:pt x="458" y="351"/>
                    </a:lnTo>
                    <a:lnTo>
                      <a:pt x="477" y="344"/>
                    </a:lnTo>
                    <a:lnTo>
                      <a:pt x="497" y="337"/>
                    </a:lnTo>
                    <a:lnTo>
                      <a:pt x="499" y="335"/>
                    </a:lnTo>
                    <a:lnTo>
                      <a:pt x="513" y="327"/>
                    </a:lnTo>
                    <a:lnTo>
                      <a:pt x="523" y="314"/>
                    </a:lnTo>
                    <a:lnTo>
                      <a:pt x="529" y="299"/>
                    </a:lnTo>
                    <a:lnTo>
                      <a:pt x="531" y="283"/>
                    </a:lnTo>
                    <a:lnTo>
                      <a:pt x="529" y="272"/>
                    </a:lnTo>
                    <a:lnTo>
                      <a:pt x="526" y="263"/>
                    </a:lnTo>
                    <a:lnTo>
                      <a:pt x="521" y="255"/>
                    </a:lnTo>
                    <a:lnTo>
                      <a:pt x="514" y="248"/>
                    </a:lnTo>
                    <a:lnTo>
                      <a:pt x="506" y="242"/>
                    </a:lnTo>
                    <a:lnTo>
                      <a:pt x="497" y="238"/>
                    </a:lnTo>
                    <a:lnTo>
                      <a:pt x="486" y="235"/>
                    </a:lnTo>
                    <a:lnTo>
                      <a:pt x="476" y="235"/>
                    </a:lnTo>
                    <a:lnTo>
                      <a:pt x="472" y="235"/>
                    </a:lnTo>
                    <a:lnTo>
                      <a:pt x="469" y="237"/>
                    </a:lnTo>
                    <a:lnTo>
                      <a:pt x="466" y="237"/>
                    </a:lnTo>
                    <a:lnTo>
                      <a:pt x="461" y="238"/>
                    </a:lnTo>
                    <a:lnTo>
                      <a:pt x="444" y="245"/>
                    </a:lnTo>
                    <a:lnTo>
                      <a:pt x="426" y="250"/>
                    </a:lnTo>
                    <a:lnTo>
                      <a:pt x="407" y="256"/>
                    </a:lnTo>
                    <a:lnTo>
                      <a:pt x="387" y="261"/>
                    </a:lnTo>
                    <a:lnTo>
                      <a:pt x="368" y="265"/>
                    </a:lnTo>
                    <a:lnTo>
                      <a:pt x="347" y="269"/>
                    </a:lnTo>
                    <a:lnTo>
                      <a:pt x="325" y="271"/>
                    </a:lnTo>
                    <a:lnTo>
                      <a:pt x="303" y="274"/>
                    </a:lnTo>
                    <a:lnTo>
                      <a:pt x="294" y="274"/>
                    </a:lnTo>
                    <a:lnTo>
                      <a:pt x="286" y="274"/>
                    </a:lnTo>
                    <a:lnTo>
                      <a:pt x="275" y="274"/>
                    </a:lnTo>
                    <a:lnTo>
                      <a:pt x="266" y="274"/>
                    </a:lnTo>
                    <a:lnTo>
                      <a:pt x="257" y="274"/>
                    </a:lnTo>
                    <a:lnTo>
                      <a:pt x="248" y="272"/>
                    </a:lnTo>
                    <a:lnTo>
                      <a:pt x="238" y="272"/>
                    </a:lnTo>
                    <a:lnTo>
                      <a:pt x="229" y="271"/>
                    </a:lnTo>
                    <a:lnTo>
                      <a:pt x="206" y="269"/>
                    </a:lnTo>
                    <a:lnTo>
                      <a:pt x="184" y="265"/>
                    </a:lnTo>
                    <a:lnTo>
                      <a:pt x="163" y="261"/>
                    </a:lnTo>
                    <a:lnTo>
                      <a:pt x="143" y="256"/>
                    </a:lnTo>
                    <a:lnTo>
                      <a:pt x="122" y="250"/>
                    </a:lnTo>
                    <a:lnTo>
                      <a:pt x="104" y="245"/>
                    </a:lnTo>
                    <a:lnTo>
                      <a:pt x="85" y="238"/>
                    </a:lnTo>
                    <a:lnTo>
                      <a:pt x="68" y="231"/>
                    </a:lnTo>
                    <a:lnTo>
                      <a:pt x="64" y="230"/>
                    </a:lnTo>
                    <a:lnTo>
                      <a:pt x="61" y="229"/>
                    </a:lnTo>
                    <a:lnTo>
                      <a:pt x="57" y="227"/>
                    </a:lnTo>
                    <a:lnTo>
                      <a:pt x="53" y="227"/>
                    </a:lnTo>
                    <a:lnTo>
                      <a:pt x="46" y="227"/>
                    </a:lnTo>
                    <a:lnTo>
                      <a:pt x="40" y="229"/>
                    </a:lnTo>
                    <a:lnTo>
                      <a:pt x="34" y="230"/>
                    </a:lnTo>
                    <a:lnTo>
                      <a:pt x="29" y="231"/>
                    </a:lnTo>
                    <a:lnTo>
                      <a:pt x="23" y="234"/>
                    </a:lnTo>
                    <a:lnTo>
                      <a:pt x="18" y="237"/>
                    </a:lnTo>
                    <a:lnTo>
                      <a:pt x="14" y="240"/>
                    </a:lnTo>
                    <a:lnTo>
                      <a:pt x="9" y="245"/>
                    </a:lnTo>
                    <a:lnTo>
                      <a:pt x="7" y="235"/>
                    </a:lnTo>
                    <a:lnTo>
                      <a:pt x="4" y="225"/>
                    </a:lnTo>
                    <a:lnTo>
                      <a:pt x="2" y="215"/>
                    </a:lnTo>
                    <a:lnTo>
                      <a:pt x="0" y="204"/>
                    </a:lnTo>
                    <a:lnTo>
                      <a:pt x="12" y="203"/>
                    </a:lnTo>
                    <a:lnTo>
                      <a:pt x="24" y="201"/>
                    </a:lnTo>
                    <a:lnTo>
                      <a:pt x="37" y="197"/>
                    </a:lnTo>
                    <a:lnTo>
                      <a:pt x="48" y="193"/>
                    </a:lnTo>
                    <a:lnTo>
                      <a:pt x="60" y="188"/>
                    </a:lnTo>
                    <a:lnTo>
                      <a:pt x="70" y="182"/>
                    </a:lnTo>
                    <a:lnTo>
                      <a:pt x="82" y="176"/>
                    </a:lnTo>
                    <a:lnTo>
                      <a:pt x="92" y="167"/>
                    </a:lnTo>
                    <a:lnTo>
                      <a:pt x="105" y="177"/>
                    </a:lnTo>
                    <a:lnTo>
                      <a:pt x="117" y="185"/>
                    </a:lnTo>
                    <a:lnTo>
                      <a:pt x="130" y="192"/>
                    </a:lnTo>
                    <a:lnTo>
                      <a:pt x="144" y="197"/>
                    </a:lnTo>
                    <a:lnTo>
                      <a:pt x="158" y="202"/>
                    </a:lnTo>
                    <a:lnTo>
                      <a:pt x="172" y="206"/>
                    </a:lnTo>
                    <a:lnTo>
                      <a:pt x="187" y="207"/>
                    </a:lnTo>
                    <a:lnTo>
                      <a:pt x="200" y="208"/>
                    </a:lnTo>
                    <a:lnTo>
                      <a:pt x="315" y="208"/>
                    </a:lnTo>
                    <a:lnTo>
                      <a:pt x="332" y="207"/>
                    </a:lnTo>
                    <a:lnTo>
                      <a:pt x="348" y="204"/>
                    </a:lnTo>
                    <a:lnTo>
                      <a:pt x="364" y="200"/>
                    </a:lnTo>
                    <a:lnTo>
                      <a:pt x="379" y="194"/>
                    </a:lnTo>
                    <a:lnTo>
                      <a:pt x="395" y="187"/>
                    </a:lnTo>
                    <a:lnTo>
                      <a:pt x="409" y="178"/>
                    </a:lnTo>
                    <a:lnTo>
                      <a:pt x="423" y="167"/>
                    </a:lnTo>
                    <a:lnTo>
                      <a:pt x="437" y="156"/>
                    </a:lnTo>
                    <a:lnTo>
                      <a:pt x="449" y="141"/>
                    </a:lnTo>
                    <a:lnTo>
                      <a:pt x="461" y="126"/>
                    </a:lnTo>
                    <a:lnTo>
                      <a:pt x="471" y="109"/>
                    </a:lnTo>
                    <a:lnTo>
                      <a:pt x="481" y="91"/>
                    </a:lnTo>
                    <a:lnTo>
                      <a:pt x="489" y="73"/>
                    </a:lnTo>
                    <a:lnTo>
                      <a:pt x="494" y="53"/>
                    </a:lnTo>
                    <a:lnTo>
                      <a:pt x="499" y="33"/>
                    </a:lnTo>
                    <a:lnTo>
                      <a:pt x="502" y="12"/>
                    </a:lnTo>
                    <a:lnTo>
                      <a:pt x="589" y="0"/>
                    </a:lnTo>
                    <a:lnTo>
                      <a:pt x="598" y="18"/>
                    </a:lnTo>
                    <a:lnTo>
                      <a:pt x="606" y="36"/>
                    </a:lnTo>
                    <a:lnTo>
                      <a:pt x="614" y="56"/>
                    </a:lnTo>
                    <a:lnTo>
                      <a:pt x="620" y="75"/>
                    </a:lnTo>
                    <a:lnTo>
                      <a:pt x="625" y="95"/>
                    </a:lnTo>
                    <a:lnTo>
                      <a:pt x="628" y="116"/>
                    </a:lnTo>
                    <a:lnTo>
                      <a:pt x="630" y="136"/>
                    </a:lnTo>
                    <a:lnTo>
                      <a:pt x="632" y="157"/>
                    </a:lnTo>
                    <a:close/>
                  </a:path>
                </a:pathLst>
              </a:custGeom>
              <a:solidFill>
                <a:srgbClr val="9ef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97160" y="43776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28"/>
                    </a:moveTo>
                    <a:lnTo>
                      <a:pt x="53" y="18"/>
                    </a:lnTo>
                    <a:lnTo>
                      <a:pt x="47" y="8"/>
                    </a:lnTo>
                    <a:lnTo>
                      <a:pt x="38" y="3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8" y="8"/>
                    </a:lnTo>
                    <a:lnTo>
                      <a:pt x="2" y="18"/>
                    </a:lnTo>
                    <a:lnTo>
                      <a:pt x="0" y="28"/>
                    </a:lnTo>
                    <a:lnTo>
                      <a:pt x="2" y="38"/>
                    </a:lnTo>
                    <a:lnTo>
                      <a:pt x="8" y="48"/>
                    </a:lnTo>
                    <a:lnTo>
                      <a:pt x="16" y="53"/>
                    </a:lnTo>
                    <a:lnTo>
                      <a:pt x="28" y="56"/>
                    </a:lnTo>
                    <a:lnTo>
                      <a:pt x="38" y="53"/>
                    </a:lnTo>
                    <a:lnTo>
                      <a:pt x="47" y="48"/>
                    </a:lnTo>
                    <a:lnTo>
                      <a:pt x="53" y="38"/>
                    </a:lnTo>
                    <a:lnTo>
                      <a:pt x="5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32600" y="440640"/>
                <a:ext cx="40680" cy="4068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28" y="55"/>
                    </a:moveTo>
                    <a:lnTo>
                      <a:pt x="38" y="53"/>
                    </a:lnTo>
                    <a:lnTo>
                      <a:pt x="48" y="47"/>
                    </a:lnTo>
                    <a:lnTo>
                      <a:pt x="53" y="38"/>
                    </a:lnTo>
                    <a:lnTo>
                      <a:pt x="56" y="28"/>
                    </a:lnTo>
                    <a:lnTo>
                      <a:pt x="53" y="16"/>
                    </a:lnTo>
                    <a:lnTo>
                      <a:pt x="48" y="8"/>
                    </a:lnTo>
                    <a:lnTo>
                      <a:pt x="38" y="2"/>
                    </a:lnTo>
                    <a:lnTo>
                      <a:pt x="28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3" y="16"/>
                    </a:lnTo>
                    <a:lnTo>
                      <a:pt x="0" y="28"/>
                    </a:lnTo>
                    <a:lnTo>
                      <a:pt x="3" y="38"/>
                    </a:lnTo>
                    <a:lnTo>
                      <a:pt x="8" y="47"/>
                    </a:lnTo>
                    <a:lnTo>
                      <a:pt x="18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1371600" y="1371600"/>
            <a:ext cx="6477120" cy="1219320"/>
            <a:chOff x="1371600" y="1371600"/>
            <a:chExt cx="6477120" cy="1219320"/>
          </a:xfrm>
        </p:grpSpPr>
        <p:sp>
          <p:nvSpPr>
            <p:cNvPr id="504" name=""/>
            <p:cNvSpPr/>
            <p:nvPr/>
          </p:nvSpPr>
          <p:spPr>
            <a:xfrm>
              <a:off x="1371600" y="1371600"/>
              <a:ext cx="64771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观察上面</a:t>
              </a:r>
              <a:r>
                <a:rPr b="1" lang="zh-CN" sz="25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7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和</a:t>
              </a:r>
              <a:r>
                <a:rPr b="1" lang="zh-CN" sz="25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8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(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1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)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的最后结果：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等，可以发现其中的二次根式有着下面的特点：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1523880" y="1981080"/>
              <a:ext cx="243864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"/>
          <p:cNvSpPr/>
          <p:nvPr/>
        </p:nvSpPr>
        <p:spPr>
          <a:xfrm>
            <a:off x="1371600" y="320040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）被开方数中不含能开得尽方的因数或因式；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374976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）被开方数中不含分母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600200" y="17208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把满足上述两条件的二次根式，叫做</a:t>
            </a:r>
            <a:r>
              <a:rPr b="1" lang="zh-CN" sz="2500" spc="-1" strike="noStrike">
                <a:solidFill>
                  <a:srgbClr val="0074bf"/>
                </a:solidFill>
                <a:latin typeface="黑体"/>
                <a:ea typeface="黑体"/>
              </a:rPr>
              <a:t>最简二次根式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2727360"/>
            <a:ext cx="594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一般地，在二次根式的运算中，最后结果通常要求化成最简二次根式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133720" y="1681200"/>
            <a:ext cx="4647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98440" y="169920"/>
            <a:ext cx="1682280" cy="1430280"/>
            <a:chOff x="298440" y="169920"/>
            <a:chExt cx="1682280" cy="1430280"/>
          </a:xfrm>
        </p:grpSpPr>
        <p:sp>
          <p:nvSpPr>
            <p:cNvPr id="512" name=""/>
            <p:cNvSpPr/>
            <p:nvPr/>
          </p:nvSpPr>
          <p:spPr>
            <a:xfrm>
              <a:off x="298440" y="1182960"/>
              <a:ext cx="1550160" cy="28152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298440" y="169920"/>
              <a:ext cx="16412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882360" y="1014120"/>
              <a:ext cx="109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1308240" cy="672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2641680" y="3733920"/>
            <a:ext cx="1473120" cy="672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5562720" y="2641680"/>
            <a:ext cx="1562040" cy="5713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5562720" y="3778200"/>
            <a:ext cx="162540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752480" y="1295280"/>
            <a:ext cx="60962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＞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1600200" cy="7873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2286000" y="3606840"/>
            <a:ext cx="264168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5518080" y="2292480"/>
            <a:ext cx="2171880" cy="7236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334120" y="3530520"/>
            <a:ext cx="2057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答案：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i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819520" y="2438280"/>
            <a:ext cx="33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1f5b"/>
                </a:solidFill>
                <a:latin typeface="Times New Roman"/>
                <a:ea typeface="黑体"/>
              </a:rPr>
              <a:t>结     束</a:t>
            </a:r>
            <a:endParaRPr b="0" lang="en-US" sz="3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52280" y="228600"/>
            <a:ext cx="2162160" cy="1011240"/>
            <a:chOff x="152280" y="228600"/>
            <a:chExt cx="2162160" cy="1011240"/>
          </a:xfrm>
        </p:grpSpPr>
        <p:sp>
          <p:nvSpPr>
            <p:cNvPr id="334" name=""/>
            <p:cNvSpPr/>
            <p:nvPr/>
          </p:nvSpPr>
          <p:spPr>
            <a:xfrm>
              <a:off x="596520" y="934920"/>
              <a:ext cx="1646280" cy="30492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11523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282320" y="569880"/>
              <a:ext cx="103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探究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514600" y="1460520"/>
            <a:ext cx="3352680" cy="474840"/>
            <a:chOff x="2514600" y="1460520"/>
            <a:chExt cx="3352680" cy="474840"/>
          </a:xfrm>
        </p:grpSpPr>
        <p:sp>
          <p:nvSpPr>
            <p:cNvPr id="338" name=""/>
            <p:cNvSpPr/>
            <p:nvPr/>
          </p:nvSpPr>
          <p:spPr>
            <a:xfrm>
              <a:off x="2514600" y="1460520"/>
              <a:ext cx="335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能化简吗？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43164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"/>
          <p:cNvSpPr/>
          <p:nvPr/>
        </p:nvSpPr>
        <p:spPr>
          <a:xfrm>
            <a:off x="2666880" y="205740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从</a:t>
            </a:r>
            <a:r>
              <a:rPr b="1" lang="zh-CN" sz="25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的第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小题知道，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3708360"/>
            <a:ext cx="6095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 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	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  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4006800" y="2654280"/>
            <a:ext cx="1612800" cy="393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2762280" y="3187800"/>
            <a:ext cx="2184480" cy="3556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2736720" y="3720960"/>
            <a:ext cx="2489400" cy="355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24400" y="4254480"/>
            <a:ext cx="1968480" cy="355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2743200" y="4762440"/>
            <a:ext cx="35560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981080" y="14605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一般地，当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≥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时，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由于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743200" y="2336760"/>
            <a:ext cx="4216320" cy="419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076480" y="3137040"/>
            <a:ext cx="33400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374760" y="247680"/>
            <a:ext cx="1834920" cy="1202040"/>
            <a:chOff x="374760" y="247680"/>
            <a:chExt cx="1834920" cy="1202040"/>
          </a:xfrm>
        </p:grpSpPr>
        <p:sp>
          <p:nvSpPr>
            <p:cNvPr id="351" name=""/>
            <p:cNvSpPr/>
            <p:nvPr/>
          </p:nvSpPr>
          <p:spPr>
            <a:xfrm>
              <a:off x="542160" y="1092960"/>
              <a:ext cx="1344960" cy="32220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14920" y="868320"/>
              <a:ext cx="109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结论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374760" y="247680"/>
              <a:ext cx="1055160" cy="97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1905120" y="1905120"/>
            <a:ext cx="6378120" cy="761760"/>
            <a:chOff x="1905120" y="1905120"/>
            <a:chExt cx="6378120" cy="761760"/>
          </a:xfrm>
        </p:grpSpPr>
        <p:grpSp>
          <p:nvGrpSpPr>
            <p:cNvPr id="355" name=""/>
            <p:cNvGrpSpPr/>
            <p:nvPr/>
          </p:nvGrpSpPr>
          <p:grpSpPr>
            <a:xfrm>
              <a:off x="1905120" y="1905120"/>
              <a:ext cx="5029200" cy="761760"/>
              <a:chOff x="1905120" y="1905120"/>
              <a:chExt cx="5029200" cy="761760"/>
            </a:xfrm>
          </p:grpSpPr>
          <p:sp>
            <p:nvSpPr>
              <p:cNvPr id="356" name=""/>
              <p:cNvSpPr/>
              <p:nvPr/>
            </p:nvSpPr>
            <p:spPr>
              <a:xfrm>
                <a:off x="1905120" y="1905120"/>
                <a:ext cx="5029200" cy="7617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cc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pic>
            <p:nvPicPr>
              <p:cNvPr id="3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2120760"/>
                <a:ext cx="398808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"/>
            <p:cNvSpPr/>
            <p:nvPr/>
          </p:nvSpPr>
          <p:spPr>
            <a:xfrm>
              <a:off x="7814520" y="2057400"/>
              <a:ext cx="46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③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219320" y="3139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公式③从左到右看，是</a:t>
            </a:r>
            <a:r>
              <a:rPr b="1" lang="zh-CN" sz="2400" spc="-1" strike="noStrike">
                <a:solidFill>
                  <a:srgbClr val="0074bf"/>
                </a:solidFill>
                <a:latin typeface="Times New Roman"/>
                <a:ea typeface="黑体"/>
              </a:rPr>
              <a:t>积的算术平方根的性质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36734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利用积的算术平方根的这一性质，可以化简二次根式．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304920" y="152280"/>
            <a:ext cx="1708200" cy="1467000"/>
            <a:chOff x="304920" y="152280"/>
            <a:chExt cx="1708200" cy="146700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355800">
              <a:off x="983520" y="51012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828800" y="1147680"/>
            <a:ext cx="5181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3 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2565360" y="2146320"/>
            <a:ext cx="3911760" cy="368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1981080" y="2990880"/>
            <a:ext cx="5257800" cy="368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2489040" y="3759120"/>
            <a:ext cx="474984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04920" y="152280"/>
            <a:ext cx="1708200" cy="1467000"/>
            <a:chOff x="304920" y="152280"/>
            <a:chExt cx="1708200" cy="146700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355800">
              <a:off x="983520" y="51012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5120" y="1376280"/>
            <a:ext cx="5562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4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根式：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2489040" y="2743200"/>
            <a:ext cx="49658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2489400" cy="380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3009960" y="3048120"/>
            <a:ext cx="2628720" cy="3808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3619440" y="1828800"/>
            <a:ext cx="2095560" cy="380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3657600" y="2286000"/>
            <a:ext cx="1511280" cy="368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3581280" y="411480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3645000" y="4648320"/>
            <a:ext cx="1841400" cy="355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3645000" y="3581280"/>
            <a:ext cx="1841400" cy="406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3670200" y="1295280"/>
            <a:ext cx="181620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295280" y="936720"/>
            <a:ext cx="6553440" cy="1578960"/>
            <a:chOff x="1295280" y="936720"/>
            <a:chExt cx="6553440" cy="1578960"/>
          </a:xfrm>
        </p:grpSpPr>
        <p:sp>
          <p:nvSpPr>
            <p:cNvPr id="382" name=""/>
            <p:cNvSpPr/>
            <p:nvPr/>
          </p:nvSpPr>
          <p:spPr>
            <a:xfrm>
              <a:off x="1295280" y="936720"/>
              <a:ext cx="6477120" cy="15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从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和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看到，化简二次根式时，首先把根号下的平方因子挑出来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(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例如，把    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写成       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)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；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6985080" y="1546200"/>
              <a:ext cx="8636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2057400" y="2079720"/>
              <a:ext cx="139716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1295280" y="2514600"/>
            <a:ext cx="7086600" cy="1425600"/>
            <a:chOff x="1295280" y="2514600"/>
            <a:chExt cx="7086600" cy="1425600"/>
          </a:xfrm>
        </p:grpSpPr>
        <p:sp>
          <p:nvSpPr>
            <p:cNvPr id="386" name=""/>
            <p:cNvSpPr/>
            <p:nvPr/>
          </p:nvSpPr>
          <p:spPr>
            <a:xfrm>
              <a:off x="1295280" y="2514600"/>
              <a:ext cx="7086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然后根据积的算术平方根的性质和公式②，就可以把根号下的平方因子去掉平方号后移到根号外面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(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例如，                   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)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4"/>
            <a:stretch/>
          </p:blipFill>
          <p:spPr>
            <a:xfrm>
              <a:off x="3340080" y="3558960"/>
              <a:ext cx="245124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999数学网 www.12999.com</dc:creator>
  <dc:description/>
  <dc:language>en-US</dc:language>
  <cp:lastModifiedBy>微软用户</cp:lastModifiedBy>
  <dcterms:modified xsi:type="dcterms:W3CDTF">2012-08-03T02:12:10Z</dcterms:modified>
  <cp:revision>2</cp:revision>
  <dc:subject/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80000000000010250600207f7000400038000</vt:lpwstr>
  </property>
  <property fmtid="{D5CDD505-2E9C-101B-9397-08002B2CF9AE}" pid="3" name="Version">
    <vt:r8>1</vt:r8>
  </property>
</Properties>
</file>