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39D-161C-4E97-BEB3-21287505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665-227A-4468-8BA4-67109F4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B0E-A47D-4E42-A890-FF9FE057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F74-84D2-4394-B598-8BEFBD7A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ED5-3A79-4115-A1B9-A00541DC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340-3C32-49DE-B120-4BA5FF1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AB2-4221-419B-94F4-119F608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DAD-C62E-4ED5-BB15-39190243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93E-6EC7-47D3-86A0-F58A8976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9DE-5529-463D-90AD-38A316F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130-DAFF-46D5-9229-6309C50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F1D-9875-4CB4-956E-5E1D83C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8013-FC75-4C1C-993C-FA63AA433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701064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19.1   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命题与定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34680" y="2728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直角三角形的两个锐角互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1066680"/>
            <a:ext cx="2514600" cy="13716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00960" y="255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00960" y="64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67840" y="239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1255680"/>
            <a:ext cx="44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知：如图，在直角三角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4000" y="2460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924360" y="1273320"/>
                <a:ext cx="1224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4560" y="1585800"/>
                <a:ext cx="22334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60360" y="2565360"/>
                <a:ext cx="3888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∵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874440" y="29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4920" y="3357720"/>
                <a:ext cx="223344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39640" y="3048120"/>
            <a:ext cx="40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公理：人们长期以来在实践中总结出来的，并作为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命题真假的根据的命题，叫做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公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9625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定理：经过推理论证为正确的命题叫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定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命题：判断正确或错误的句子叫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命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64832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判断一个命题是假命题，只要举出一个例子，说明该命题不成立就可以了，这种方法称为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举反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判断一个命题是真命题，可以从公理或定理出发，用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逻辑推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方法证明（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公理和定理都是真命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60164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正确的命题称为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真命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错误的命题称为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假命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命题的结构：命题由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题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结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部分构成，常               可写成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“如果、、、那么、、、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形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125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试判断下列句子是否正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5360" y="170028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两条直线相交，只有一个交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5960" y="22050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内错角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02760" y="2708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矩形的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3213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=b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那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716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经过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点确定一条直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72428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发现知识：依据所学知识可以判断（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）（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）是正确的，句子（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）（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）（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）是错误的，这几个句子的特点是可以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判断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一件事情的正确或错误，这样的句子就是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命题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命题：</a:t>
            </a:r>
            <a:br>
              <a:rPr sz="4000"/>
            </a:b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判断正确或者错误的句子叫做命题，正确的命题称为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真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命题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，错误的命题称为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假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命题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41497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b0a05"/>
                </a:solidFill>
                <a:latin typeface="Arial"/>
              </a:rPr>
              <a:t>反之，如果一个句子没有对某一件事情作出任何判断，那么它就不是命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5229360"/>
            <a:ext cx="60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例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）你喜欢数学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）做线段</a:t>
            </a:r>
            <a:r>
              <a:rPr b="1" lang="zh-CN" sz="1800" spc="-1" strike="noStrike">
                <a:solidFill>
                  <a:srgbClr val="0c0d1a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000" y="19051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你能举出一些命题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19520"/>
            <a:ext cx="8001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举出一些不是命题的语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243864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54936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句子哪些是命题？是命题的，指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真命题还是假命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4920" y="1773360"/>
            <a:ext cx="415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猪有四只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三角形两边之和大于第三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画一条曲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四边形都是菱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你的作业做完了吗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同位角相等，两直线平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对顶角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多边形的内角和等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8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P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做线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M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的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360" y="-27000"/>
            <a:ext cx="154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4302000" y="1741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命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272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9440" y="227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37640" y="2276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9080" y="321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81640" y="321300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016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6320" y="42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2640" y="42670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8360" y="4673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0920" y="472428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真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9080" y="5176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6920" y="51577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7080" y="566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96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d1a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c0d1a"/>
                </a:solidFill>
                <a:latin typeface="Arial"/>
              </a:rPr>
              <a:t>观察下列命题，你能发现这些命题有什么共同的结构特征？与同样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eb0a05"/>
                </a:solidFill>
                <a:latin typeface="Arial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三角形的三条边相等，</a:t>
            </a:r>
            <a:r>
              <a:rPr b="1" lang="zh-CN" sz="2800" spc="-1" strike="noStrike">
                <a:solidFill>
                  <a:srgbClr val="eb0a05"/>
                </a:solidFill>
                <a:latin typeface="Arial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三角形全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eb0a05"/>
                </a:solidFill>
                <a:latin typeface="Arial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三角形是等腰三角形，</a:t>
            </a:r>
            <a:r>
              <a:rPr b="1" lang="zh-CN" sz="2800" spc="-1" strike="noStrike">
                <a:solidFill>
                  <a:srgbClr val="eb0a05"/>
                </a:solidFill>
                <a:latin typeface="Arial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三角形的两个底角相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eb0a05"/>
                </a:solidFill>
                <a:latin typeface="Arial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四边形的对角线相等，</a:t>
            </a:r>
            <a:r>
              <a:rPr b="1" lang="zh-CN" sz="2800" spc="-1" strike="noStrike">
                <a:solidFill>
                  <a:srgbClr val="eb0a05"/>
                </a:solidFill>
                <a:latin typeface="Arial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四边形是矩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9040" y="407664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命题是由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题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或条件）和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两部分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81360" y="4419000"/>
            <a:ext cx="31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ahoma"/>
              </a:rPr>
              <a:t>题设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是已知事项，</a:t>
            </a:r>
            <a:r>
              <a:rPr b="1" lang="zh-CN" sz="1800" spc="-1" strike="noStrike">
                <a:solidFill>
                  <a:srgbClr val="ff0066"/>
                </a:solidFill>
                <a:latin typeface="Tahoma"/>
              </a:rPr>
              <a:t>结论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是由已知事项推出的事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6160" y="510480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“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开始的部分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是题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用“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开始的部分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是结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6200" y="563868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例如，在命题（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）中，</a:t>
            </a:r>
            <a:r>
              <a:rPr b="1" lang="zh-CN" sz="18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两个三角形的三条边相等</a:t>
            </a:r>
            <a:r>
              <a:rPr b="1" lang="zh-CN" sz="1800" spc="-1" strike="noStrike">
                <a:solidFill>
                  <a:srgbClr val="ff0066"/>
                </a:solidFill>
                <a:latin typeface="Tahoma"/>
              </a:rPr>
              <a:t>”是题设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1" lang="zh-CN" sz="1800" spc="-1" strike="noStrike">
                <a:solidFill>
                  <a:srgbClr val="eb0a05"/>
                </a:solidFill>
                <a:latin typeface="Tahoma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两个三角形全等</a:t>
            </a:r>
            <a:r>
              <a:rPr b="1" lang="zh-CN" sz="1800" spc="-1" strike="noStrike">
                <a:solidFill>
                  <a:srgbClr val="eb0a05"/>
                </a:solidFill>
                <a:latin typeface="Tahoma"/>
              </a:rPr>
              <a:t>”是结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1080" y="434880"/>
            <a:ext cx="89629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命题一般都写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如果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那么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形式。你能在下面的命题都写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如果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那么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形式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700280"/>
            <a:ext cx="5759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熊猫没有翅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852640"/>
            <a:ext cx="65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顶角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2096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个动物是熊猫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那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就没有翅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3352680"/>
            <a:ext cx="87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角是对顶角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那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就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5800" y="41450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等三角形的对应边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35800" y="464832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三角形全等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那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的对应边就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93360" y="5334120"/>
            <a:ext cx="34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行四边形的对边相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78360" y="5775480"/>
            <a:ext cx="351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四边形是平行四边形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那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的对边就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将命题“三个角都相等的三角形是等边三角形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写成“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如果、、、那么、、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的形式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分别指出命题的题设和结论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这个命题可以写成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如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三角形的三个角都相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那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三角形是等边三角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命题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题设是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三角形的三个角都相等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”结论是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三角形是等边三角形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8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87640" y="-31644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公理与定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9360" y="715680"/>
            <a:ext cx="88646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学中有些命题的正确性是人们在长期</a:t>
            </a:r>
            <a:r>
              <a:rPr b="1" i="1" lang="zh-CN" sz="2800" spc="-1" strike="noStrike">
                <a:solidFill>
                  <a:srgbClr val="ff0066"/>
                </a:solidFill>
                <a:latin typeface="Tahoma"/>
              </a:rPr>
              <a:t>实践中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出来的，并把它们作为判断其他命题真假的原始依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样的</a:t>
            </a:r>
            <a:r>
              <a:rPr b="1" lang="zh-CN" sz="2800" spc="-1" strike="noStrike">
                <a:solidFill>
                  <a:srgbClr val="eb0a05"/>
                </a:solidFill>
                <a:latin typeface="Tahoma"/>
              </a:rPr>
              <a:t>真命题叫做</a:t>
            </a:r>
            <a:r>
              <a:rPr b="1" lang="zh-CN" sz="3200" spc="-1" strike="noStrike">
                <a:solidFill>
                  <a:srgbClr val="0c0d1a"/>
                </a:solidFill>
                <a:latin typeface="Tahoma"/>
                <a:ea typeface="黑体"/>
              </a:rPr>
              <a:t>公理</a:t>
            </a:r>
            <a:r>
              <a:rPr b="1" lang="zh-CN" sz="2800" spc="-1" strike="noStrike">
                <a:solidFill>
                  <a:srgbClr val="eb0a05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4080" y="2750760"/>
            <a:ext cx="530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些命题可以从公理或其他真命题出发，用逻辑推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判断它们是正确的，并且可以进一步作为判断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命题真假的依据，这样的</a:t>
            </a:r>
            <a:r>
              <a:rPr b="1" lang="zh-CN" sz="2800" spc="-1" strike="noStrike">
                <a:solidFill>
                  <a:srgbClr val="eb0a05"/>
                </a:solidFill>
                <a:latin typeface="Tahoma"/>
              </a:rPr>
              <a:t>真命题叫做</a:t>
            </a:r>
            <a:r>
              <a:rPr b="1" lang="zh-CN" sz="3200" spc="-1" strike="noStrike">
                <a:solidFill>
                  <a:srgbClr val="0c0d1a"/>
                </a:solidFill>
                <a:latin typeface="Tahoma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571280"/>
            <a:ext cx="66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等三角形的对应角、对应边分别相等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485680"/>
            <a:ext cx="49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直角三角形的两个锐角互余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040" y="4548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0a05"/>
                </a:solidFill>
                <a:latin typeface="Tahoma"/>
              </a:rPr>
              <a:t>公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040" y="5370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0a05"/>
                </a:solidFill>
                <a:latin typeface="Tahoma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0:59:59Z</dcterms:created>
  <dc:creator>chinacao</dc:creator>
  <dc:description/>
  <dc:language>en-US</dc:language>
  <cp:lastModifiedBy>lenovo</cp:lastModifiedBy>
  <dcterms:modified xsi:type="dcterms:W3CDTF">2007-04-23T07:15:05Z</dcterms:modified>
  <cp:revision>16</cp:revision>
  <dc:subject/>
  <dc:title>幻灯片 1</dc:title>
</cp:coreProperties>
</file>