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132-F368-4C43-BE4C-D5343942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D132-644E-4B02-8456-F7DB24D3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872-7E78-4289-8E39-590FAD2A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E3B-5316-467E-9281-E168899E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74D-BE65-4CE2-A92D-A60E2F2E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AB1-73EE-4A4C-AF28-06A9E437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B1B-8352-46A6-BD39-16907A3E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CA7-F36C-4F2C-AEBF-018BEA03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7A0-2821-4224-A7AE-E67DDD13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55E-7A57-49F7-9C5A-0AE9621F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949-5EB0-497F-948F-5B3D7BAA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08C-9583-4663-B10D-0547A8EF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322A-0B4B-4073-B34A-828D7B6E5D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95640"/>
            <a:ext cx="3176640" cy="2862000"/>
            <a:chOff x="0" y="3995640"/>
            <a:chExt cx="3176640" cy="2862000"/>
          </a:xfrm>
        </p:grpSpPr>
        <p:graphicFrame>
          <p:nvGraphicFramePr>
            <p:cNvPr id="42" name=""/>
            <p:cNvGraphicFramePr/>
            <p:nvPr/>
          </p:nvGraphicFramePr>
          <p:xfrm>
            <a:off x="0" y="4051440"/>
            <a:ext cx="3176640" cy="280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051440"/>
                      <a:ext cx="3176640" cy="280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3006000" y="6001920"/>
                  <a:ext cx="16884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359720" y="3995640"/>
                  <a:ext cx="15624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 flipV="1">
              <a:off x="640440" y="5376240"/>
              <a:ext cx="1877760" cy="10828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794200" y="4060800"/>
            <a:ext cx="3349440" cy="2796480"/>
            <a:chOff x="5794200" y="4060800"/>
            <a:chExt cx="3349440" cy="2796480"/>
          </a:xfrm>
        </p:grpSpPr>
        <p:graphicFrame>
          <p:nvGraphicFramePr>
            <p:cNvPr id="48" name=""/>
            <p:cNvGraphicFramePr/>
            <p:nvPr/>
          </p:nvGraphicFramePr>
          <p:xfrm>
            <a:off x="5794200" y="4115160"/>
            <a:ext cx="3349440" cy="2742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94200" y="4115160"/>
                      <a:ext cx="3349440" cy="27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" name=""/>
            <p:cNvSpPr/>
            <p:nvPr/>
          </p:nvSpPr>
          <p:spPr>
            <a:xfrm>
              <a:off x="6397560" y="4151160"/>
              <a:ext cx="2098800" cy="1784160"/>
            </a:xfrm>
            <a:custGeom>
              <a:avLst/>
              <a:gdLst/>
              <a:ahLst/>
              <a:rect l="l" t="t" r="r" b="b"/>
              <a:pathLst>
                <a:path w="2394" h="1865">
                  <a:moveTo>
                    <a:pt x="3" y="47"/>
                  </a:moveTo>
                  <a:cubicBezTo>
                    <a:pt x="1" y="29"/>
                    <a:pt x="0" y="12"/>
                    <a:pt x="74" y="189"/>
                  </a:cubicBezTo>
                  <a:cubicBezTo>
                    <a:pt x="148" y="366"/>
                    <a:pt x="322" y="861"/>
                    <a:pt x="446" y="1111"/>
                  </a:cubicBezTo>
                  <a:cubicBezTo>
                    <a:pt x="570" y="1361"/>
                    <a:pt x="691" y="1561"/>
                    <a:pt x="818" y="1687"/>
                  </a:cubicBezTo>
                  <a:cubicBezTo>
                    <a:pt x="945" y="1813"/>
                    <a:pt x="1084" y="1863"/>
                    <a:pt x="1208" y="1864"/>
                  </a:cubicBezTo>
                  <a:cubicBezTo>
                    <a:pt x="1332" y="1865"/>
                    <a:pt x="1440" y="1820"/>
                    <a:pt x="1563" y="1696"/>
                  </a:cubicBezTo>
                  <a:cubicBezTo>
                    <a:pt x="1686" y="1572"/>
                    <a:pt x="1817" y="1373"/>
                    <a:pt x="1944" y="1120"/>
                  </a:cubicBezTo>
                  <a:cubicBezTo>
                    <a:pt x="2071" y="867"/>
                    <a:pt x="2256" y="360"/>
                    <a:pt x="2325" y="180"/>
                  </a:cubicBezTo>
                  <a:cubicBezTo>
                    <a:pt x="2394" y="0"/>
                    <a:pt x="2377" y="19"/>
                    <a:pt x="2360" y="3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8963640" y="6020640"/>
                  <a:ext cx="177480" cy="21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7227000" y="4060800"/>
                  <a:ext cx="164880" cy="22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" name=""/>
          <p:cNvGrpSpPr/>
          <p:nvPr/>
        </p:nvGrpSpPr>
        <p:grpSpPr>
          <a:xfrm>
            <a:off x="0" y="0"/>
            <a:ext cx="5105520" cy="1199880"/>
            <a:chOff x="0" y="0"/>
            <a:chExt cx="5105520" cy="1199880"/>
          </a:xfrm>
        </p:grpSpPr>
        <p:grpSp>
          <p:nvGrpSpPr>
            <p:cNvPr id="54" name=""/>
            <p:cNvGrpSpPr/>
            <p:nvPr/>
          </p:nvGrpSpPr>
          <p:grpSpPr>
            <a:xfrm>
              <a:off x="0" y="0"/>
              <a:ext cx="5105520" cy="1199880"/>
              <a:chOff x="0" y="0"/>
              <a:chExt cx="5105520" cy="1199880"/>
            </a:xfrm>
          </p:grpSpPr>
          <p:sp>
            <p:nvSpPr>
              <p:cNvPr id="55" name=""/>
              <p:cNvSpPr/>
              <p:nvPr/>
            </p:nvSpPr>
            <p:spPr>
              <a:xfrm>
                <a:off x="838080" y="720360"/>
                <a:ext cx="4267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0099"/>
                    </a:solidFill>
                    <a:latin typeface="Times New Roman"/>
                  </a:rPr>
                  <a:t>           </a:t>
                </a:r>
                <a:r>
                  <a:rPr b="1" lang="zh-CN" sz="2400" spc="-1" strike="noStrike">
                    <a:solidFill>
                      <a:srgbClr val="990099"/>
                    </a:solidFill>
                    <a:latin typeface="Times New Roman"/>
                  </a:rPr>
                  <a:t>华东师大版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676520" y="228240"/>
                <a:ext cx="314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0099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990099"/>
                    </a:solidFill>
                    <a:latin typeface="Times New Roman"/>
                  </a:rPr>
                  <a:t>八年级（下  册 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57240" y="37800"/>
                <a:ext cx="838080" cy="1085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5400" spc="1" strike="noStrike">
                    <a:ln cap="sq"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/>
                      </a:outerShdw>
                    </a:effectLst>
                    <a:latin typeface="华文新魏"/>
                  </a:rPr>
                  <a:t>数</a:t>
                </a:r>
                <a:endParaRPr b="0" lang="en-US" sz="5400" spc="1" strike="noStrike">
                  <a:ln cap="sq"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  <a:ea typeface="华文新魏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>
                <a:off x="990720" y="0"/>
                <a:ext cx="533160" cy="609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cap="sq"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/>
                      </a:outerShdw>
                    </a:effectLst>
                    <a:latin typeface="华文新魏"/>
                  </a:rPr>
                  <a:t>学</a:t>
                </a:r>
                <a:endParaRPr b="0" lang="en-US" sz="1800" spc="1" strike="noStrike">
                  <a:ln cap="sq"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  <a:ea typeface="华文新魏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0"/>
                <a:ext cx="914400" cy="1199880"/>
              </a:xfrm>
              <a:prstGeom prst="rect">
                <a:avLst/>
              </a:prstGeom>
              <a:noFill/>
              <a:ln cap="sq"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14400" y="609480"/>
                <a:ext cx="4038480" cy="590040"/>
              </a:xfrm>
              <a:prstGeom prst="rect">
                <a:avLst/>
              </a:prstGeom>
              <a:noFill/>
              <a:ln cap="sq"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322800" y="6886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Arial"/>
                </a:rPr>
                <a:t>§18.2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1420920" y="2425680"/>
            <a:ext cx="6400800" cy="924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宋体"/>
              </a:rPr>
              <a:t>函 数 的 图 象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57240" y="1393920"/>
            <a:ext cx="6923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完成同步伴读相关练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37   4;    P38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539720" y="771480"/>
          <a:ext cx="4469040" cy="40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9720" y="771480"/>
                    <a:ext cx="446904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981760" y="3103560"/>
                <a:ext cx="357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205080" y="343080"/>
                <a:ext cx="432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5022720" y="2352600"/>
            <a:ext cx="88920" cy="1015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065560" y="2395440"/>
            <a:ext cx="0" cy="105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28880" y="2395440"/>
            <a:ext cx="130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49720" y="204480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48200" y="333360"/>
            <a:ext cx="35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角坐标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7760" y="5468760"/>
            <a:ext cx="84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的纵坐标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横坐标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记作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1840" y="246240"/>
            <a:ext cx="15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66600" y="399960"/>
            <a:ext cx="8991720" cy="3886200"/>
            <a:chOff x="66600" y="399960"/>
            <a:chExt cx="8991720" cy="38862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66600" y="399960"/>
              <a:ext cx="899172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464200" y="2898000"/>
              <a:ext cx="0" cy="27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0880" y="3175560"/>
              <a:ext cx="1722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603440" y="4317840"/>
            <a:ext cx="46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如何从图上找到各个时刻的气温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65440" y="4915080"/>
            <a:ext cx="336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早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的气温是多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613320" y="2322360"/>
            <a:ext cx="0" cy="5652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96600" y="2379600"/>
            <a:ext cx="288756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8640" y="1785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2120" y="784080"/>
            <a:ext cx="1349640" cy="696960"/>
          </a:xfrm>
          <a:prstGeom prst="wedgeRoundRectCallout">
            <a:avLst>
              <a:gd name="adj1" fmla="val -58824"/>
              <a:gd name="adj2" fmla="val 157518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0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61560" y="5481720"/>
            <a:ext cx="444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=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对应的函数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25080" y="119160"/>
            <a:ext cx="2900880" cy="13737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气温曲线上每一个点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坐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示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的气温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66600" y="399960"/>
            <a:ext cx="8991720" cy="3886200"/>
            <a:chOff x="66600" y="399960"/>
            <a:chExt cx="8991720" cy="38862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66600" y="399960"/>
              <a:ext cx="899172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464200" y="2898000"/>
              <a:ext cx="0" cy="27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0880" y="3175560"/>
              <a:ext cx="1722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644920" y="4216320"/>
            <a:ext cx="25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气温曲线是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图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函数的一个实际例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4320" y="4795920"/>
            <a:ext cx="414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函数的图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由直角坐标系中的一系列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象上每一点坐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x,y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表了函数的一对对应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横坐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自变量的某一个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纵坐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与它对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函数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38720" y="0"/>
            <a:ext cx="3440160" cy="1711440"/>
          </a:xfrm>
          <a:prstGeom prst="cloudCallout">
            <a:avLst>
              <a:gd name="adj1" fmla="val -34865"/>
              <a:gd name="adj2" fmla="val 79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是函数的图象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9000" y="174600"/>
            <a:ext cx="1131840" cy="52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400040" y="262080"/>
                <a:ext cx="38340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要画出函数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的图象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5" name=""/>
          <p:cNvGraphicFramePr/>
          <p:nvPr/>
        </p:nvGraphicFramePr>
        <p:xfrm>
          <a:off x="755640" y="1149480"/>
          <a:ext cx="7009920" cy="1433160"/>
        </p:xfrm>
        <a:graphic>
          <a:graphicData uri="http://schemas.openxmlformats.org/drawingml/2006/table">
            <a:tbl>
              <a:tblPr/>
              <a:tblGrid>
                <a:gridCol w="700560"/>
                <a:gridCol w="700920"/>
                <a:gridCol w="701280"/>
                <a:gridCol w="700920"/>
                <a:gridCol w="700920"/>
                <a:gridCol w="701280"/>
                <a:gridCol w="700920"/>
                <a:gridCol w="700920"/>
                <a:gridCol w="701280"/>
                <a:gridCol w="700920"/>
              </a:tblGrid>
              <a:tr h="74016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839520" y="1765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8320" y="1141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83000" y="1228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97400" y="1940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94000" y="1255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5240" y="1951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02120" y="1241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60720" y="1949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4920" y="1239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29160" y="1978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0240" y="12398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9880" y="19209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60280" y="12254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17520" y="195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4640" y="12240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47760" y="19638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81560" y="1224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10360" y="1849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5320" y="1225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50880" y="1935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01760" y="2786040"/>
          <a:ext cx="6064200" cy="45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1760" y="2786040"/>
                    <a:ext cx="606420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478240" y="3103560"/>
            <a:ext cx="90360" cy="9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27200" y="2944800"/>
            <a:ext cx="0" cy="27367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54400" y="314640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116160" y="4298760"/>
            <a:ext cx="0" cy="1476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62360" y="4622760"/>
            <a:ext cx="144936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73320" y="4579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706920" y="5283360"/>
            <a:ext cx="0" cy="5061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538440" y="5537160"/>
            <a:ext cx="7732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65520" y="54831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75000" y="57657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40200" y="5491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8880" y="4579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48360" y="3094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888080" y="5297040"/>
            <a:ext cx="0" cy="4510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97320" y="5537160"/>
            <a:ext cx="7603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79920" y="4383000"/>
            <a:ext cx="0" cy="13924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11720" y="4622760"/>
            <a:ext cx="13651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084720" y="2863800"/>
            <a:ext cx="0" cy="2897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11720" y="3144960"/>
            <a:ext cx="19699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94000" y="2844720"/>
            <a:ext cx="3800520" cy="2960640"/>
          </a:xfrm>
          <a:custGeom>
            <a:avLst/>
            <a:gdLst/>
            <a:ahLst/>
            <a:rect l="l" t="t" r="r" b="b"/>
            <a:pathLst>
              <a:path w="2394" h="1865">
                <a:moveTo>
                  <a:pt x="3" y="47"/>
                </a:moveTo>
                <a:cubicBezTo>
                  <a:pt x="1" y="29"/>
                  <a:pt x="0" y="12"/>
                  <a:pt x="74" y="189"/>
                </a:cubicBezTo>
                <a:cubicBezTo>
                  <a:pt x="148" y="366"/>
                  <a:pt x="322" y="861"/>
                  <a:pt x="446" y="1111"/>
                </a:cubicBezTo>
                <a:cubicBezTo>
                  <a:pt x="570" y="1361"/>
                  <a:pt x="691" y="1561"/>
                  <a:pt x="818" y="1687"/>
                </a:cubicBezTo>
                <a:cubicBezTo>
                  <a:pt x="945" y="1813"/>
                  <a:pt x="1084" y="1863"/>
                  <a:pt x="1208" y="1864"/>
                </a:cubicBezTo>
                <a:cubicBezTo>
                  <a:pt x="1332" y="1865"/>
                  <a:pt x="1440" y="1820"/>
                  <a:pt x="1563" y="1696"/>
                </a:cubicBezTo>
                <a:cubicBezTo>
                  <a:pt x="1686" y="1572"/>
                  <a:pt x="1817" y="1373"/>
                  <a:pt x="1944" y="1120"/>
                </a:cubicBezTo>
                <a:cubicBezTo>
                  <a:pt x="2071" y="867"/>
                  <a:pt x="2256" y="360"/>
                  <a:pt x="2325" y="180"/>
                </a:cubicBezTo>
                <a:cubicBezTo>
                  <a:pt x="2394" y="0"/>
                  <a:pt x="2377" y="19"/>
                  <a:pt x="2360" y="39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040520" y="5948280"/>
                <a:ext cx="3222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97360" y="2695680"/>
                <a:ext cx="298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6199200" y="0"/>
            <a:ext cx="2684520" cy="985680"/>
          </a:xfrm>
          <a:prstGeom prst="wedgeRoundRectCallout">
            <a:avLst>
              <a:gd name="adj1" fmla="val -87375"/>
              <a:gd name="adj2" fmla="val 60467"/>
              <a:gd name="adj3" fmla="val 16667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步：列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6200" y="3002040"/>
            <a:ext cx="1816200" cy="1117440"/>
          </a:xfrm>
          <a:prstGeom prst="wedgeRoundRectCallout">
            <a:avLst>
              <a:gd name="adj1" fmla="val 97379"/>
              <a:gd name="adj2" fmla="val 93750"/>
              <a:gd name="adj3" fmla="val 16667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步：描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2843280"/>
            <a:ext cx="1976400" cy="1163520"/>
          </a:xfrm>
          <a:prstGeom prst="wedgeRoundRectCallout">
            <a:avLst>
              <a:gd name="adj1" fmla="val -94416"/>
              <a:gd name="adj2" fmla="val 66643"/>
              <a:gd name="adj3" fmla="val 16667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68120" y="187200"/>
            <a:ext cx="830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练习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/>
          <p:nvPr/>
        </p:nvSpPr>
        <p:spPr>
          <a:xfrm>
            <a:off x="3928680" y="225360"/>
            <a:ext cx="24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所给的直角坐标系中画出函数             的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777000" y="0"/>
                <a:ext cx="1257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6" name=""/>
          <p:cNvGraphicFramePr/>
          <p:nvPr/>
        </p:nvGraphicFramePr>
        <p:xfrm>
          <a:off x="328680" y="933480"/>
          <a:ext cx="6924600" cy="1038240"/>
        </p:xfrm>
        <a:graphic>
          <a:graphicData uri="http://schemas.openxmlformats.org/drawingml/2006/table">
            <a:tbl>
              <a:tblPr/>
              <a:tblGrid>
                <a:gridCol w="865080"/>
                <a:gridCol w="866880"/>
                <a:gridCol w="865080"/>
                <a:gridCol w="865080"/>
                <a:gridCol w="865440"/>
                <a:gridCol w="866520"/>
                <a:gridCol w="865440"/>
                <a:gridCol w="86508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535040" y="2308320"/>
          <a:ext cx="6064200" cy="45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2308320"/>
                    <a:ext cx="606420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273800" y="5470560"/>
                <a:ext cx="3225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130640" y="2217600"/>
                <a:ext cx="298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216080" y="144936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59360" y="14652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32200" y="14508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18320" y="1434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62440" y="14508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77280" y="1465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8560" y="14367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71640" y="5268960"/>
            <a:ext cx="0" cy="12049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582640" y="6211800"/>
            <a:ext cx="19746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12960" y="6154560"/>
            <a:ext cx="108000" cy="108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5326200"/>
            <a:ext cx="0" cy="6825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163680" y="5907240"/>
            <a:ext cx="139356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09840" y="586260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48120" y="5297400"/>
            <a:ext cx="0" cy="4651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817440" y="5616720"/>
            <a:ext cx="7398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90880" y="557208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00720" y="5281560"/>
            <a:ext cx="10764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138640" y="4890600"/>
            <a:ext cx="0" cy="4208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43560" y="5021280"/>
            <a:ext cx="7254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81760" y="4991040"/>
            <a:ext cx="10764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732640" y="4527720"/>
            <a:ext cx="0" cy="7840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4732200"/>
            <a:ext cx="13636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89440" y="468936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42120" y="4238280"/>
            <a:ext cx="0" cy="10587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43560" y="4456080"/>
            <a:ext cx="197316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84880" y="439740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757600" y="4455720"/>
            <a:ext cx="3584520" cy="1755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313320" y="4238640"/>
            <a:ext cx="406440" cy="2318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307960" y="6211800"/>
            <a:ext cx="463320" cy="26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712880" y="1139760"/>
          <a:ext cx="5718240" cy="57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2880" y="1139760"/>
                    <a:ext cx="571824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8440" y="28440"/>
          <a:ext cx="8562600" cy="1176480"/>
        </p:xfrm>
        <a:graphic>
          <a:graphicData uri="http://schemas.openxmlformats.org/drawingml/2006/table">
            <a:tbl>
              <a:tblPr/>
              <a:tblGrid>
                <a:gridCol w="657720"/>
                <a:gridCol w="659880"/>
                <a:gridCol w="657720"/>
                <a:gridCol w="660600"/>
                <a:gridCol w="657360"/>
                <a:gridCol w="657720"/>
                <a:gridCol w="660600"/>
                <a:gridCol w="657720"/>
                <a:gridCol w="657360"/>
                <a:gridCol w="660240"/>
                <a:gridCol w="658080"/>
                <a:gridCol w="659880"/>
                <a:gridCol w="657720"/>
              </a:tblGrid>
              <a:tr h="58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838440" y="687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76640" y="6872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43360" y="673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1840" y="67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80120" y="67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34240" y="68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43360" y="673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7480" y="673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50160" y="68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9440" y="6872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53280" y="6872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21880" y="673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622520" y="1211400"/>
                <a:ext cx="9126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876320" y="3524400"/>
            <a:ext cx="108000" cy="10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95360" y="343836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14760" y="3314880"/>
            <a:ext cx="107640" cy="10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12408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52840" y="272412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1880" y="151452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21120" y="635328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40160" y="514836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61000" y="474192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3280" y="453852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02320" y="445140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24600" y="434988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16280" y="1566720"/>
            <a:ext cx="2104920" cy="2017800"/>
          </a:xfrm>
          <a:custGeom>
            <a:avLst/>
            <a:gdLst/>
            <a:ahLst/>
            <a:rect l="l" t="t" r="r" b="b"/>
            <a:pathLst>
              <a:path w="1326" h="1271">
                <a:moveTo>
                  <a:pt x="0" y="1271"/>
                </a:moveTo>
                <a:cubicBezTo>
                  <a:pt x="88" y="1255"/>
                  <a:pt x="177" y="1239"/>
                  <a:pt x="265" y="1216"/>
                </a:cubicBezTo>
                <a:cubicBezTo>
                  <a:pt x="353" y="1193"/>
                  <a:pt x="443" y="1167"/>
                  <a:pt x="530" y="1134"/>
                </a:cubicBezTo>
                <a:cubicBezTo>
                  <a:pt x="617" y="1101"/>
                  <a:pt x="698" y="1077"/>
                  <a:pt x="786" y="1015"/>
                </a:cubicBezTo>
                <a:cubicBezTo>
                  <a:pt x="874" y="953"/>
                  <a:pt x="970" y="928"/>
                  <a:pt x="1060" y="759"/>
                </a:cubicBezTo>
                <a:cubicBezTo>
                  <a:pt x="1150" y="590"/>
                  <a:pt x="1282" y="127"/>
                  <a:pt x="1326" y="0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4419720"/>
            <a:ext cx="2095560" cy="2009520"/>
          </a:xfrm>
          <a:custGeom>
            <a:avLst/>
            <a:gdLst/>
            <a:ahLst/>
            <a:rect l="l" t="t" r="r" b="b"/>
            <a:pathLst>
              <a:path w="1320" h="1266">
                <a:moveTo>
                  <a:pt x="0" y="1266"/>
                </a:moveTo>
                <a:cubicBezTo>
                  <a:pt x="84" y="962"/>
                  <a:pt x="169" y="659"/>
                  <a:pt x="258" y="486"/>
                </a:cubicBezTo>
                <a:cubicBezTo>
                  <a:pt x="347" y="313"/>
                  <a:pt x="444" y="291"/>
                  <a:pt x="534" y="228"/>
                </a:cubicBezTo>
                <a:cubicBezTo>
                  <a:pt x="624" y="165"/>
                  <a:pt x="711" y="137"/>
                  <a:pt x="798" y="108"/>
                </a:cubicBezTo>
                <a:cubicBezTo>
                  <a:pt x="885" y="79"/>
                  <a:pt x="969" y="72"/>
                  <a:pt x="1056" y="54"/>
                </a:cubicBezTo>
                <a:cubicBezTo>
                  <a:pt x="1143" y="36"/>
                  <a:pt x="1276" y="9"/>
                  <a:pt x="1320" y="0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4600" y="1380960"/>
            <a:ext cx="191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画出函数            的图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880" y="5811840"/>
            <a:ext cx="3000600" cy="947160"/>
          </a:xfrm>
          <a:prstGeom prst="rect">
            <a:avLst/>
          </a:prstGeom>
          <a:noFill/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注意：取自变量所的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应在其取值范围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06440" y="406440"/>
            <a:ext cx="8345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补充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你对点的坐标掌握多少？你能说出坐标系中一些  特殊点的坐标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7960" y="2525760"/>
            <a:ext cx="83599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横坐标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坐标比横坐标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坐标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在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象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坐标为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+1,2a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上，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=_______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上，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=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(m-4,1-2m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第三象限，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取值范围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4000" y="264960"/>
            <a:ext cx="1238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"/>
          <p:cNvSpPr/>
          <p:nvPr/>
        </p:nvSpPr>
        <p:spPr>
          <a:xfrm>
            <a:off x="2439720" y="16700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什么是函数的图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97880" y="283068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画函数图象的步骤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06:12:23Z</dcterms:created>
  <dc:creator>hf</dc:creator>
  <dc:description/>
  <dc:language>en-US</dc:language>
  <cp:lastModifiedBy>liujm</cp:lastModifiedBy>
  <dcterms:modified xsi:type="dcterms:W3CDTF">2008-02-25T12:42:54Z</dcterms:modified>
  <cp:revision>40</cp:revision>
  <dc:subject/>
  <dc:title>幻灯片 1</dc:title>
</cp:coreProperties>
</file>