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sound.wav" ContentType="audio/x-wav"/>
  <Override PartName="/ppt/media/image21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1.png" ContentType="image/png"/>
  <Override PartName="/ppt/media/image19.wmf" ContentType="image/x-wmf"/>
  <Override PartName="/ppt/media/image17.wmf" ContentType="image/x-wmf"/>
  <Override PartName="/ppt/media/image7.jpeg" ContentType="image/jpeg"/>
  <Override PartName="/ppt/media/image18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122-3110-4FE5-B2F0-F0954939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D39-3A77-4B55-9641-16B240B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C20C2-A154-416C-94BD-30CEF5554A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E4E97-2F61-4F03-9B1C-627E8B494A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DD1F0-41B5-4ED5-AB97-72A8E281E2C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3F0DF-067A-46B5-9974-B60A2F6A05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87AA8-01BB-473F-A86E-D5963EBB54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97B46-AB49-49D3-81EF-17357A963A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F62B0-9790-4628-BBB3-42024C0656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0EB9E-AF31-4154-854D-049CF4A3FD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43ADB-70B3-4489-B41D-61364825AAB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62D-B1C4-443A-982B-70343D7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A0F-1396-4260-BBD3-01B1A27A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7BB-E9BE-4405-ADE7-119C072A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396B-53C2-4DE2-98F6-683E2C6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E8D9-B52A-4394-96EF-E5978BC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7EEC-5790-477F-B748-430B61BB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71EE-69A6-4B77-A02D-B0078A6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808A-A480-47CD-BEB3-482AE57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B2F-846C-4D3E-9593-D26FE3B7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065-EE0E-4AAA-8775-49DEB527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ACD3-B173-4FCB-A27C-83D89214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E53D-4212-4F00-873C-AAB2E06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16C-71E4-4E87-84BD-0F52C17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BE7-1BEF-483B-8986-F8BB7D97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400-7F91-4FCF-ACBA-043A31A3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7F0DD-B449-4407-B911-5AED17A2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C8C0-0BF2-42F2-81F0-C88CB2BA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0440-0025-4A02-961E-F8F4381A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708C-32E5-4EBC-90D9-46CE8CA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6199-0676-4D0C-B99D-E4C570F8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898-5F39-45E0-BF1E-ED46F2E8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826B-C41C-415C-8924-3342DC3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36C8-C67E-4CD8-A1E1-6D5338B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A0A7-C4B0-44BB-800B-3939120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39D7-E8E0-4C82-8CB8-C745092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4E75-FF6D-438B-936F-05B4CD77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CEBD3-C9BF-4892-9397-A0C76309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FFB8-2926-41CA-A7F8-CDC7D707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DFA9-B4AF-443A-A76A-98B2D7F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E5B1-5A0F-433E-9B19-541D956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8F50-392B-49FB-B361-1D4236D9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4A7-D196-4C74-B71C-AAAF997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1253F-B568-4157-A55C-2F9FC88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7BCC-BB9D-407F-BE0F-C2ABB87B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8D85-EF9D-470A-B38C-D693748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E1B2-93C7-4955-979F-689BA669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10CD-5337-42BE-BC18-F4C9FD83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2DEF-03B9-4C2A-8E2D-B9E8454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2116-1725-4088-A64C-6A84DFB3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9542-6F83-4329-902D-E8745666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242D-6717-4C9E-8C71-2E819A34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CF1A-CB6D-4239-9932-DC434C9D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4D9-0C0E-4E93-991D-6C36711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869F4-3209-46DF-A1DE-1F4A16CF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C03B-E987-4070-A821-3104DDDD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898C-565A-42C2-B868-37154695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9AB5-DFAA-4667-98AE-0CE05AA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4C36-3458-4F3E-BC4B-2A9E1C5B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E987-F1D5-4EA7-A283-83050B3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11E5-0A7E-4C6B-ABBA-5BC025A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B441-E6CD-4282-A6F7-D022825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5D35-57A8-43DA-941E-54315371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F0B7-6F7B-4109-AED1-D030DFB8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10A-53CC-4940-A488-07A3C715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E0BE-0EF5-4EAB-95B4-406BFC17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B8E2-141C-46BE-8E61-2B1441FC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D3E3C-8C8E-44CC-A567-725A10B9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E51D-2C26-4796-A43A-3ADCA3CD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5397-6BD0-4BAA-9819-B0E4F57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886A-47A0-4CCF-8FEA-D22221D1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94B1-9181-4F7B-9383-0B3EDF6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D0D7-CE0A-4D09-84F7-7561A31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EA0F-A40C-4F7C-971F-9B63368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E1A9-61A3-499E-8E3C-A597C1A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B7B-82A1-4748-84A7-6AF0AF1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5B24-12B2-4CF5-8528-BE68D4F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12C1-D544-4B33-960E-3D394612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BD3EE-9A02-4172-9F5E-49362D2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AA12F4-DE0F-47AD-8767-E225386D58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7AD55-9D5B-425A-89D8-CDA277500A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83307-263E-4BBA-B437-544C0599D5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10CB98-5B2C-4E72-9164-0DFFEA6417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1233F-F220-46F0-85A7-B7F129E8D4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130DE-D419-4290-8A60-68708610FD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40DDC-F189-4F0E-85D9-E3D2BF57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DF1-1339-4B7B-BD0F-307B251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21B2C-5280-4797-89E1-39240CF613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79279-38B8-46F1-AD84-B7788C5C34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E3FC4-81B2-4C57-ABF1-4F797D4EBB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7738B-5064-4F26-AEC0-BD27F1F32D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A4EB5-0F07-464E-BF01-2BEFC32673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EE0-443A-4459-8669-622B413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C936FE-E48E-4F50-A8AD-A23FBB349D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D96EC-822B-4806-98A7-ECE5F01707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DEB44-D587-4090-8EFD-2B81AE72C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37C5-FD64-43F0-8BFE-A90FB8869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263-00F9-4C97-B41A-FC0571A51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03B1-436C-44DE-A728-FC92963B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CC4B-070F-4E90-B2C1-8607157B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74BC-83C8-421E-AA8E-4D5D96692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9FE-D3D4-48F3-A2D9-1AEAE3EBC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ldNum" idx="19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42D0684-0F2B-4277-BD41-2ABA9FC6A828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1081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Num" idx="2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7299DA7-9ED3-46EF-83B9-2CD38D60B441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sound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75560" cy="1714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5875200" cy="171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114800" y="57913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39320" y="292428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§18.3.3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次函数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4" name="csou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6360" y="260280"/>
          <a:ext cx="9072720" cy="6513480"/>
        </p:xfrm>
        <a:graphic>
          <a:graphicData uri="http://schemas.openxmlformats.org/drawingml/2006/table">
            <a:tbl>
              <a:tblPr/>
              <a:tblGrid>
                <a:gridCol w="1270080"/>
                <a:gridCol w="1239840"/>
                <a:gridCol w="2097000"/>
                <a:gridCol w="2951280"/>
                <a:gridCol w="1514520"/>
              </a:tblGrid>
              <a:tr h="702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=kx+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  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   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线经过的象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减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&l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&l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2843280" y="1844280"/>
            <a:ext cx="1368360" cy="1079640"/>
            <a:chOff x="2843280" y="1844280"/>
            <a:chExt cx="1368360" cy="1079640"/>
          </a:xfrm>
        </p:grpSpPr>
        <p:sp>
          <p:nvSpPr>
            <p:cNvPr id="487" name=""/>
            <p:cNvSpPr/>
            <p:nvPr/>
          </p:nvSpPr>
          <p:spPr>
            <a:xfrm>
              <a:off x="2843280" y="2492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490920" y="184428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71640" y="3428640"/>
            <a:ext cx="1368360" cy="1152360"/>
            <a:chOff x="2771640" y="3428640"/>
            <a:chExt cx="1368360" cy="1152360"/>
          </a:xfrm>
        </p:grpSpPr>
        <p:sp>
          <p:nvSpPr>
            <p:cNvPr id="490" name=""/>
            <p:cNvSpPr/>
            <p:nvPr/>
          </p:nvSpPr>
          <p:spPr>
            <a:xfrm>
              <a:off x="2771640" y="4076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419280" y="342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59280" y="5084280"/>
            <a:ext cx="1150920" cy="1081080"/>
            <a:chOff x="3059280" y="5084280"/>
            <a:chExt cx="1150920" cy="1081080"/>
          </a:xfrm>
        </p:grpSpPr>
        <p:sp>
          <p:nvSpPr>
            <p:cNvPr id="493" name=""/>
            <p:cNvSpPr/>
            <p:nvPr/>
          </p:nvSpPr>
          <p:spPr>
            <a:xfrm>
              <a:off x="3059280" y="57340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62560" y="50842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203640" y="1917720"/>
            <a:ext cx="1008000" cy="8636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43280" y="35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451640" y="1916280"/>
            <a:ext cx="2808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987280" y="3499920"/>
            <a:ext cx="792360" cy="1008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198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二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51640" y="3500280"/>
            <a:ext cx="2233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59280" y="5516640"/>
            <a:ext cx="792000" cy="71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50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、三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51640" y="5013360"/>
            <a:ext cx="237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而减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64000" y="1989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16360" y="60930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o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59280" y="6165720"/>
            <a:ext cx="11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3645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3809880"/>
            <a:ext cx="4953240" cy="2743200"/>
          </a:xfrm>
          <a:prstGeom prst="cloudCallout">
            <a:avLst>
              <a:gd name="adj1" fmla="val -59518"/>
              <a:gd name="adj2" fmla="val -7812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   &lt; 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图像定经过第二、第四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50292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ahoma"/>
              </a:rPr>
              <a:t>【请你来解答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18960" y="105228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下列各图中的函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符号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04920" y="1904760"/>
            <a:ext cx="1752480" cy="1447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52280" y="1447920"/>
            <a:ext cx="2743200" cy="2818800"/>
            <a:chOff x="152280" y="1447920"/>
            <a:chExt cx="2743200" cy="2818800"/>
          </a:xfrm>
        </p:grpSpPr>
        <p:sp>
          <p:nvSpPr>
            <p:cNvPr id="513" name=""/>
            <p:cNvSpPr/>
            <p:nvPr/>
          </p:nvSpPr>
          <p:spPr>
            <a:xfrm>
              <a:off x="152280" y="3068280"/>
              <a:ext cx="247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1288800" y="1730160"/>
              <a:ext cx="0" cy="253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2530440" y="2857320"/>
              <a:ext cx="365040" cy="42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1022400" y="1447920"/>
              <a:ext cx="40140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21896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09480" y="4343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105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771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 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77120" y="5181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 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124080" y="1523880"/>
            <a:ext cx="2590920" cy="2666520"/>
            <a:chOff x="3124080" y="1523880"/>
            <a:chExt cx="2590920" cy="2666520"/>
          </a:xfrm>
        </p:grpSpPr>
        <p:sp>
          <p:nvSpPr>
            <p:cNvPr id="525" name=""/>
            <p:cNvSpPr/>
            <p:nvPr/>
          </p:nvSpPr>
          <p:spPr>
            <a:xfrm>
              <a:off x="3124080" y="3057480"/>
              <a:ext cx="233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198680" y="1790280"/>
              <a:ext cx="0" cy="24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4"/>
            <a:stretch/>
          </p:blipFill>
          <p:spPr>
            <a:xfrm>
              <a:off x="5370480" y="2857320"/>
              <a:ext cx="344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5"/>
            <a:stretch/>
          </p:blipFill>
          <p:spPr>
            <a:xfrm>
              <a:off x="3944880" y="1523880"/>
              <a:ext cx="3794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"/>
          <p:cNvSpPr/>
          <p:nvPr/>
        </p:nvSpPr>
        <p:spPr>
          <a:xfrm>
            <a:off x="3429000" y="2133720"/>
            <a:ext cx="190512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95880" y="1523880"/>
            <a:ext cx="2590920" cy="2666520"/>
            <a:chOff x="6095880" y="1523880"/>
            <a:chExt cx="2590920" cy="2666520"/>
          </a:xfrm>
        </p:grpSpPr>
        <p:sp>
          <p:nvSpPr>
            <p:cNvPr id="532" name=""/>
            <p:cNvSpPr/>
            <p:nvPr/>
          </p:nvSpPr>
          <p:spPr>
            <a:xfrm>
              <a:off x="6095880" y="3057480"/>
              <a:ext cx="233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170480" y="1790280"/>
              <a:ext cx="0" cy="240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6"/>
            <a:stretch/>
          </p:blipFill>
          <p:spPr>
            <a:xfrm>
              <a:off x="8342280" y="2857320"/>
              <a:ext cx="344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7"/>
            <a:stretch/>
          </p:blipFill>
          <p:spPr>
            <a:xfrm>
              <a:off x="6916680" y="1523880"/>
              <a:ext cx="3794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 flipV="1">
            <a:off x="6705720" y="2437920"/>
            <a:ext cx="1600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3124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826920" y="1701720"/>
            <a:ext cx="831708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次函数                    的图象经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限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图象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的坐标分别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(k-1)x+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62920" y="198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一、二、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00720" y="2637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81440" y="33591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76360" y="5229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6000" y="5302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116080" y="2863800"/>
            <a:ext cx="912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987640" y="1989000"/>
            <a:ext cx="2087640" cy="5511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581800" y="328608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64360" y="2421000"/>
            <a:ext cx="158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96760" y="11239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【请你来参与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52360" y="1413000"/>
            <a:ext cx="937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出函数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y=-2x+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图象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结合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个函数中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随着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增大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将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还是减小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它的图象从左到右怎样变化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2)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取何值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=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取何值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,y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取值范围是什么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66920" y="620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做一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1219320" y="312840"/>
            <a:ext cx="6927840" cy="65451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332000" y="6206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c17"/>
                </a:solidFill>
                <a:latin typeface="Tahoma"/>
              </a:rPr>
              <a:t>Y=-2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05520" y="762120"/>
            <a:ext cx="36576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看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y=-2x+2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图象，随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值增大，</a:t>
            </a:r>
            <a:r>
              <a:rPr b="1" lang="en-US" sz="2400" spc="-1" strike="noStrike">
                <a:solidFill>
                  <a:srgbClr val="0b0c17"/>
                </a:solidFill>
                <a:latin typeface="Tahoma"/>
              </a:rPr>
              <a:t>y</a:t>
            </a:r>
            <a:r>
              <a:rPr b="1" lang="zh-CN" sz="2400" spc="-1" strike="noStrike">
                <a:solidFill>
                  <a:srgbClr val="0b0c17"/>
                </a:solidFill>
                <a:latin typeface="Tahoma"/>
              </a:rPr>
              <a:t>的值有怎样的变化趋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343400" y="380880"/>
            <a:ext cx="228600" cy="279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7835760" y="3886200"/>
            <a:ext cx="241560" cy="216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00000" y="4149720"/>
            <a:ext cx="3095640" cy="192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取何值 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取何值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&lt;x&lt;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取值范围是什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56920" y="31734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3276720" y="333360"/>
            <a:ext cx="1728720" cy="3456000"/>
          </a:xfrm>
          <a:prstGeom prst="line">
            <a:avLst/>
          </a:prstGeom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4642920" y="3068640"/>
            <a:ext cx="360360" cy="720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71600" y="1127160"/>
            <a:ext cx="820728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函数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=(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-3)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-2/3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增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增大而减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8000" y="357336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396720" y="3068280"/>
            <a:ext cx="828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已知点（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）和（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）都在直线</a:t>
            </a:r>
            <a:r>
              <a:rPr b="0" lang="zh-CN" sz="26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/3x+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上，试比较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大小。你能想出几种判断的方法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8360" y="333360"/>
            <a:ext cx="331164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【请你来解答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6360" y="62028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【请你来回忆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通过今天的学习，谈谈你今天的收获有哪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-11160" y="333360"/>
            <a:ext cx="8831160" cy="6264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1447920" y="266688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大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9280" y="1989000"/>
            <a:ext cx="84027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请你来帮忙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次函数的图象是一条直线，一般情况下我们画一次函数的图象，取哪两个点比较简便？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0c17"/>
                </a:solidFill>
                <a:latin typeface="Arial"/>
                <a:ea typeface="黑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36760" y="4292640"/>
            <a:ext cx="39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(-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【学习目标】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掌握一次函数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kx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(k≠0)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性质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能根据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值说出函数的有关性质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"/>
          <p:cNvSpPr/>
          <p:nvPr/>
        </p:nvSpPr>
        <p:spPr>
          <a:xfrm>
            <a:off x="1803960" y="407664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重点   一次函数图象的变化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难点   一次函数图象性质的理解与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4360" y="479736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c17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2565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 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9800" y="37180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2 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         y=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x-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64880" y="184464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在平面直角坐标系中画出下列函数的图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797360"/>
            <a:ext cx="80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你所画的一次函数图象中，直线经过几个象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函数中，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的增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分别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1476360" y="2349360"/>
            <a:ext cx="2158920" cy="990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196160" y="2637000"/>
            <a:ext cx="16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c17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b0c17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b0c17"/>
                </a:solidFill>
                <a:latin typeface="Arial"/>
              </a:rPr>
              <a:t>3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79120" y="404640"/>
            <a:ext cx="34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【请你自己学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自学课本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P44-4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31" descr="学科网(www.zxxk.com)--教育资源门户，提供试卷、教案、课件、论文、素材及各类教学资源下载，还有大量而丰富的教学相关资讯！"/>
          <p:cNvPicPr/>
          <p:nvPr/>
        </p:nvPicPr>
        <p:blipFill>
          <a:blip r:embed="rId2"/>
          <a:stretch/>
        </p:blipFill>
        <p:spPr>
          <a:xfrm>
            <a:off x="1476360" y="620640"/>
            <a:ext cx="61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360" y="406440"/>
            <a:ext cx="77914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　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6206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【请你来归纳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21520" y="12682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所画的一次函数图象中，直线经过了三个象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02440" y="1844640"/>
            <a:ext cx="60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函数值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随自变量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　　上述两条直线都经过一、三象限．又由于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交点坐标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0,b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所以，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正半轴，也称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上方；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点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负半轴，也称在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轴的下方．所以当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0,b≠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直线经过一、三、二象限或一、三、四象限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,b=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线经过一、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在同一坐标系中，画出函数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和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y=-3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／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x-1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的图象（图略）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2637000"/>
            <a:ext cx="81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函数值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随自变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增大而减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发现上述两条直线都经过二、四象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由于直线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轴的交点坐标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0,b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且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＞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正半轴，或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上方；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交点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负半轴，或在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轴的下方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以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0,b≠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，直线经过二、四、一象限或经过二、四、三象限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,b=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直线经过二、四象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9051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下列性质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增大而增大，这时函数的图象从左到右上升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增大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这时函数的图象从左到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404640"/>
            <a:ext cx="5543640" cy="1143000"/>
          </a:xfrm>
          <a:prstGeom prst="cloudCallout">
            <a:avLst>
              <a:gd name="adj1" fmla="val -9611"/>
              <a:gd name="adj2" fmla="val 7347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【请你来概括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2724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479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835280" y="95724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9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35280" y="95724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5280" y="958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95724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160" y="765000"/>
          <a:ext cx="9132840" cy="5921280"/>
        </p:xfrm>
        <a:graphic>
          <a:graphicData uri="http://schemas.openxmlformats.org/drawingml/2006/table">
            <a:tbl>
              <a:tblPr/>
              <a:tblGrid>
                <a:gridCol w="1150920"/>
                <a:gridCol w="1219320"/>
                <a:gridCol w="1830240"/>
                <a:gridCol w="2881440"/>
                <a:gridCol w="2050920"/>
              </a:tblGrid>
              <a:tr h="765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y=kx+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图  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性      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线经过的象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增减性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K&gt;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&lt;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         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1" name=""/>
          <p:cNvGrpSpPr/>
          <p:nvPr/>
        </p:nvGrpSpPr>
        <p:grpSpPr>
          <a:xfrm>
            <a:off x="2556000" y="3284640"/>
            <a:ext cx="1224000" cy="1287360"/>
            <a:chOff x="2556000" y="3284640"/>
            <a:chExt cx="1224000" cy="1287360"/>
          </a:xfrm>
        </p:grpSpPr>
        <p:sp>
          <p:nvSpPr>
            <p:cNvPr id="462" name=""/>
            <p:cNvSpPr/>
            <p:nvPr/>
          </p:nvSpPr>
          <p:spPr>
            <a:xfrm>
              <a:off x="2556000" y="38530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059280" y="328464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411280" y="4797000"/>
            <a:ext cx="1295280" cy="1368360"/>
            <a:chOff x="2411280" y="4797000"/>
            <a:chExt cx="1295280" cy="1368360"/>
          </a:xfrm>
        </p:grpSpPr>
        <p:sp>
          <p:nvSpPr>
            <p:cNvPr id="465" name=""/>
            <p:cNvSpPr/>
            <p:nvPr/>
          </p:nvSpPr>
          <p:spPr>
            <a:xfrm>
              <a:off x="2411280" y="5589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985840" y="4797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484360" y="1988640"/>
            <a:ext cx="1224000" cy="1081080"/>
            <a:chOff x="2484360" y="1988640"/>
            <a:chExt cx="1224000" cy="1081080"/>
          </a:xfrm>
        </p:grpSpPr>
        <p:sp>
          <p:nvSpPr>
            <p:cNvPr id="468" name=""/>
            <p:cNvSpPr/>
            <p:nvPr/>
          </p:nvSpPr>
          <p:spPr>
            <a:xfrm>
              <a:off x="2484360" y="2493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87640" y="1988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H="1">
            <a:off x="2410920" y="2060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333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40360" y="357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第一、三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83280" y="335916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而增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556000" y="3573000"/>
            <a:ext cx="792000" cy="792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4036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二、三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93080" y="2060640"/>
            <a:ext cx="21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484360" y="5444640"/>
            <a:ext cx="1150920" cy="8636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284720" y="5013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、三、四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64360" y="4941720"/>
            <a:ext cx="21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增大而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59280" y="198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59280" y="5805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0,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80000" y="4149720"/>
            <a:ext cx="4952880" cy="2743200"/>
          </a:xfrm>
          <a:prstGeom prst="cloudCallout">
            <a:avLst>
              <a:gd name="adj1" fmla="val -59518"/>
              <a:gd name="adj2" fmla="val -7812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   &gt;  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图像定经过第一、第三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8000" y="-15840"/>
            <a:ext cx="82598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b0c17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=kx+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像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3-03-27T02:1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