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8E0-6D46-4C0A-A296-179CE156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02F2-61C4-4509-B075-29C94F4E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6D68-E846-441C-BDBE-3C87EA91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B822-8422-4B83-9B97-286ED7F5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97A-A888-4EA1-ABBC-7E61E543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89A-2B0B-409E-A13B-87D1C8A1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C88-3F56-4B8B-8490-40CB8675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1527-E922-47D6-9390-722DD8EE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E18-2042-4823-BEEF-CE0B4642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95E0-6B57-4E41-9559-B70E0AE8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82F-F576-4B7E-93D7-39033137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5249-CD1E-4837-92D8-FA132710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2E57-BE80-4F80-8DFE-7387A66F8C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2421000"/>
            <a:ext cx="8497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9900">
                    <a:alpha val="92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二课时 等腰三角形的判定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ff9900">
                  <a:alpha val="92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一条船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出发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里每小时的速度向正北航行，中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到达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，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灯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测得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C=40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BC=80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到灯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08000" y="2209680"/>
            <a:ext cx="2971800" cy="2517120"/>
            <a:chOff x="108000" y="2209680"/>
            <a:chExt cx="2971800" cy="2517120"/>
          </a:xfrm>
        </p:grpSpPr>
        <p:sp>
          <p:nvSpPr>
            <p:cNvPr id="135" name=""/>
            <p:cNvSpPr/>
            <p:nvPr/>
          </p:nvSpPr>
          <p:spPr>
            <a:xfrm>
              <a:off x="1860480" y="24382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640800" y="2742840"/>
              <a:ext cx="12193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1160" y="2743200"/>
              <a:ext cx="129564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3680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1276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6048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800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403280" y="2819160"/>
              <a:ext cx="91368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55560" y="3809880"/>
              <a:ext cx="609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51000" y="259056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26960" y="3429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4136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51280" y="1989000"/>
            <a:ext cx="4495680" cy="376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：∵∠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BC=∠A+∠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∠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=80°- 40°= 40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A=BC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等角对等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∵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=2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-1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C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处到达灯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4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海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95280" y="1890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如果三角形一个角的外的角平分线平行于三角形的第三边，那么这个三角形是等腰三角形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3733920"/>
            <a:ext cx="1600200" cy="167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317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5307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5307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523880" y="2819160"/>
            <a:ext cx="457200" cy="99036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809880"/>
            <a:ext cx="1143000" cy="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4600" y="3429000"/>
            <a:ext cx="3038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524240" y="3351960"/>
            <a:ext cx="6091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060640"/>
            <a:ext cx="54100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：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AB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ΔAB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外角，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=∠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D∥B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因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D∥B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所以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=∠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=∠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=∠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因此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=A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即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ΔAB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是等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如图，ＢＤ是等腰三角形ＡＢＣ的底边ＡＣ上的高，ＤＥ∥ＢＣ，交ＡＢ于点Ｅ．判断△ＢＤＥ是不是等腰三角形，并说明理由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请你自已完成说理过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227640" y="3068640"/>
            <a:ext cx="1746000" cy="1893600"/>
            <a:chOff x="6227640" y="3068640"/>
            <a:chExt cx="1746000" cy="1893600"/>
          </a:xfrm>
        </p:grpSpPr>
        <p:sp>
          <p:nvSpPr>
            <p:cNvPr id="163" name=""/>
            <p:cNvSpPr/>
            <p:nvPr/>
          </p:nvSpPr>
          <p:spPr>
            <a:xfrm>
              <a:off x="6619680" y="3357360"/>
              <a:ext cx="0" cy="14400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19680" y="3284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19680" y="3357360"/>
              <a:ext cx="1079640" cy="136836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19680" y="4725720"/>
              <a:ext cx="107964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619680" y="4076280"/>
              <a:ext cx="576360" cy="64908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619320" y="4076640"/>
              <a:ext cx="57636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63960" y="45082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48040" y="443700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２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06960" y="400500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3680" y="3068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27640" y="389556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45280" y="38732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59320" y="45939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15080" y="458136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-36360" y="-77760"/>
            <a:ext cx="26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练习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5120" y="1125360"/>
            <a:ext cx="799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已知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: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如图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,AD∥BC,BD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平分∠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ABC,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试判断△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ABD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的形状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并说明理由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267080" y="2320560"/>
            <a:ext cx="4724640" cy="2863080"/>
            <a:chOff x="4267080" y="2320560"/>
            <a:chExt cx="4724640" cy="2863080"/>
          </a:xfrm>
        </p:grpSpPr>
        <p:grpSp>
          <p:nvGrpSpPr>
            <p:cNvPr id="180" name=""/>
            <p:cNvGrpSpPr/>
            <p:nvPr/>
          </p:nvGrpSpPr>
          <p:grpSpPr>
            <a:xfrm>
              <a:off x="4472280" y="2320560"/>
              <a:ext cx="3928680" cy="2427120"/>
              <a:chOff x="4472280" y="2320560"/>
              <a:chExt cx="3928680" cy="2427120"/>
            </a:xfrm>
          </p:grpSpPr>
          <p:sp>
            <p:nvSpPr>
              <p:cNvPr id="181" name=""/>
              <p:cNvSpPr/>
              <p:nvPr/>
            </p:nvSpPr>
            <p:spPr>
              <a:xfrm rot="19819800">
                <a:off x="4495680" y="3047760"/>
                <a:ext cx="3187800" cy="939240"/>
              </a:xfrm>
              <a:prstGeom prst="triangle">
                <a:avLst>
                  <a:gd name="adj" fmla="val 50000"/>
                </a:avLst>
              </a:prstGeom>
              <a:noFill/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956120" y="4709880"/>
                <a:ext cx="3444840" cy="12240"/>
              </a:xfrm>
              <a:custGeom>
                <a:avLst/>
                <a:gdLst/>
                <a:ahLst/>
                <a:rect l="l" t="t" r="r" b="b"/>
                <a:pathLst>
                  <a:path w="2170" h="8">
                    <a:moveTo>
                      <a:pt x="0" y="0"/>
                    </a:moveTo>
                    <a:lnTo>
                      <a:pt x="2170" y="8"/>
                    </a:lnTo>
                  </a:path>
                </a:pathLst>
              </a:custGeom>
              <a:noFill/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3480" bIns="-3348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73840" y="3147840"/>
                <a:ext cx="609840" cy="15998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5181480" y="25909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8080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67080" y="457200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8080"/>
                  </a:solidFill>
                  <a:latin typeface="宋体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15200" y="262080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8080"/>
                  </a:solidFill>
                  <a:latin typeface="宋体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72400" y="460224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8080"/>
                  </a:solidFill>
                  <a:latin typeface="宋体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44280"/>
            <a:ext cx="214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练习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098720"/>
            <a:ext cx="561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2.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如图，在等腰△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ABC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中，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AB=AC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，两底角的平分线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BE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和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CD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相交于点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O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，那么△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OBC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是什么三角形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29280" y="1803240"/>
            <a:ext cx="2373480" cy="3294360"/>
          </a:xfrm>
          <a:prstGeom prst="triangle">
            <a:avLst>
              <a:gd name="adj" fmla="val 50000"/>
            </a:avLst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029280" y="3733920"/>
            <a:ext cx="1898640" cy="13636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6504120" y="3733920"/>
            <a:ext cx="1898640" cy="13636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94640" y="1265400"/>
            <a:ext cx="12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64000" y="4870440"/>
            <a:ext cx="12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2880" y="4870440"/>
            <a:ext cx="12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48480" y="3279600"/>
            <a:ext cx="12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宋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48400" y="3324240"/>
            <a:ext cx="12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59640" y="3568680"/>
            <a:ext cx="12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050920" y="-27000"/>
            <a:ext cx="42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0920" y="1052640"/>
          <a:ext cx="8435880" cy="4830480"/>
        </p:xfrm>
        <a:graphic>
          <a:graphicData uri="http://schemas.openxmlformats.org/drawingml/2006/table">
            <a:tbl>
              <a:tblPr/>
              <a:tblGrid>
                <a:gridCol w="720720"/>
                <a:gridCol w="1439640"/>
                <a:gridCol w="1408320"/>
                <a:gridCol w="2624040"/>
                <a:gridCol w="2243160"/>
              </a:tblGrid>
              <a:tr h="82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图    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概   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性质与边角关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d38e1d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判       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9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d38e1d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等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腰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三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角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826920" y="2852640"/>
            <a:ext cx="1752480" cy="2288520"/>
            <a:chOff x="826920" y="2852640"/>
            <a:chExt cx="1752480" cy="2288520"/>
          </a:xfrm>
        </p:grpSpPr>
        <p:sp>
          <p:nvSpPr>
            <p:cNvPr id="202" name=""/>
            <p:cNvSpPr/>
            <p:nvPr/>
          </p:nvSpPr>
          <p:spPr>
            <a:xfrm>
              <a:off x="1131840" y="3233880"/>
              <a:ext cx="1143000" cy="1523880"/>
            </a:xfrm>
            <a:prstGeom prst="triangle">
              <a:avLst>
                <a:gd name="adj" fmla="val 50000"/>
              </a:avLst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36400" y="28526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26920" y="4681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93600" y="4681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340000" y="2492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两边相等的三角形是等腰三角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29040" y="31971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边对等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11760" y="41338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线合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0000" y="5070600"/>
            <a:ext cx="27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轴对称图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43640" y="32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角对等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97560" y="2098800"/>
            <a:ext cx="21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边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206064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腰相等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95280" y="105264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思考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1: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如图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在△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中，已知∠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ABC=∠ACB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BF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平分∠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CF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平分∠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ACB,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请想想看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由以上条件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你能推导出什么结论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并说明理由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771640" y="3284640"/>
            <a:ext cx="4392360" cy="2448720"/>
            <a:chOff x="2771640" y="3284640"/>
            <a:chExt cx="4392360" cy="2448720"/>
          </a:xfrm>
        </p:grpSpPr>
        <p:sp>
          <p:nvSpPr>
            <p:cNvPr id="215" name=""/>
            <p:cNvSpPr/>
            <p:nvPr/>
          </p:nvSpPr>
          <p:spPr>
            <a:xfrm>
              <a:off x="2771640" y="3284640"/>
              <a:ext cx="4392360" cy="2448720"/>
            </a:xfrm>
            <a:prstGeom prst="triangle">
              <a:avLst>
                <a:gd name="adj" fmla="val 50000"/>
              </a:avLst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2771640" y="4683240"/>
              <a:ext cx="2271960" cy="1049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5043240" y="4683240"/>
              <a:ext cx="2120040" cy="1049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859280" y="285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26840" y="56610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42040" y="55166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2440" y="414972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宋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5146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68360" y="2852640"/>
            <a:ext cx="6840000" cy="1947240"/>
            <a:chOff x="468360" y="2852640"/>
            <a:chExt cx="6840000" cy="1947240"/>
          </a:xfrm>
        </p:grpSpPr>
        <p:grpSp>
          <p:nvGrpSpPr>
            <p:cNvPr id="224" name=""/>
            <p:cNvGrpSpPr/>
            <p:nvPr/>
          </p:nvGrpSpPr>
          <p:grpSpPr>
            <a:xfrm>
              <a:off x="2700360" y="4340160"/>
              <a:ext cx="4608000" cy="459720"/>
              <a:chOff x="2700360" y="4340160"/>
              <a:chExt cx="4608000" cy="459720"/>
            </a:xfrm>
          </p:grpSpPr>
          <p:sp>
            <p:nvSpPr>
              <p:cNvPr id="225" name=""/>
              <p:cNvSpPr/>
              <p:nvPr/>
            </p:nvSpPr>
            <p:spPr>
              <a:xfrm>
                <a:off x="3817800" y="4645080"/>
                <a:ext cx="2373480" cy="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700360" y="4340160"/>
                <a:ext cx="153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772600" y="4340160"/>
                <a:ext cx="153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68360" y="285264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94bed"/>
                  </a:solidFill>
                  <a:latin typeface="Times New Roman"/>
                </a:rPr>
                <a:t>如果</a:t>
              </a:r>
              <a:r>
                <a:rPr b="1" lang="zh-CN" sz="2800" spc="-1" strike="noStrike">
                  <a:solidFill>
                    <a:srgbClr val="794bed"/>
                  </a:solidFill>
                  <a:latin typeface="Times New Roman"/>
                </a:rPr>
                <a:t>EG∥BC</a:t>
              </a:r>
              <a:r>
                <a:rPr b="1" lang="zh-CN" sz="2800" spc="-1" strike="noStrike">
                  <a:solidFill>
                    <a:srgbClr val="794bed"/>
                  </a:solidFill>
                  <a:latin typeface="Times New Roman"/>
                </a:rPr>
                <a:t>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24000" y="-136800"/>
            <a:ext cx="3124080" cy="1095480"/>
            <a:chOff x="324000" y="-136800"/>
            <a:chExt cx="3124080" cy="1095480"/>
          </a:xfrm>
        </p:grpSpPr>
        <p:sp>
          <p:nvSpPr>
            <p:cNvPr id="230" name=""/>
            <p:cNvSpPr/>
            <p:nvPr/>
          </p:nvSpPr>
          <p:spPr>
            <a:xfrm>
              <a:off x="324000" y="0"/>
              <a:ext cx="312408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1390680" y="181080"/>
              <a:ext cx="8377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76280" y="-136800"/>
              <a:ext cx="2742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开启        智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19320" y="5486400"/>
            <a:ext cx="5410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与同伴交流你在探索思路的过程中的具体做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752480" y="3352680"/>
            <a:ext cx="1676520" cy="2059920"/>
            <a:chOff x="1752480" y="3352680"/>
            <a:chExt cx="1676520" cy="2059920"/>
          </a:xfrm>
        </p:grpSpPr>
        <p:sp>
          <p:nvSpPr>
            <p:cNvPr id="235" name=""/>
            <p:cNvSpPr/>
            <p:nvPr/>
          </p:nvSpPr>
          <p:spPr>
            <a:xfrm>
              <a:off x="2070000" y="5181480"/>
              <a:ext cx="1152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2069640" y="3733560"/>
              <a:ext cx="57636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62320" y="3352680"/>
              <a:ext cx="2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81320" y="4952880"/>
              <a:ext cx="2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46360" y="3733560"/>
              <a:ext cx="57636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52480" y="4952880"/>
              <a:ext cx="2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057400" y="4419720"/>
            <a:ext cx="1295280" cy="816120"/>
            <a:chOff x="2057400" y="4419720"/>
            <a:chExt cx="1295280" cy="816120"/>
          </a:xfrm>
        </p:grpSpPr>
        <p:grpSp>
          <p:nvGrpSpPr>
            <p:cNvPr id="242" name=""/>
            <p:cNvGrpSpPr/>
            <p:nvPr/>
          </p:nvGrpSpPr>
          <p:grpSpPr>
            <a:xfrm>
              <a:off x="2057400" y="4419720"/>
              <a:ext cx="1295280" cy="761400"/>
              <a:chOff x="2057400" y="4419720"/>
              <a:chExt cx="1295280" cy="76140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2057400" y="4647960"/>
                <a:ext cx="914400" cy="533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9718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057400" y="48182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17880" y="498960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981080" y="4419720"/>
            <a:ext cx="1276560" cy="793800"/>
            <a:chOff x="1981080" y="4419720"/>
            <a:chExt cx="1276560" cy="793800"/>
          </a:xfrm>
        </p:grpSpPr>
        <p:grpSp>
          <p:nvGrpSpPr>
            <p:cNvPr id="248" name=""/>
            <p:cNvGrpSpPr/>
            <p:nvPr/>
          </p:nvGrpSpPr>
          <p:grpSpPr>
            <a:xfrm>
              <a:off x="1981080" y="4419720"/>
              <a:ext cx="1219320" cy="761400"/>
              <a:chOff x="1981080" y="4419720"/>
              <a:chExt cx="1219320" cy="761400"/>
            </a:xfrm>
          </p:grpSpPr>
          <p:sp>
            <p:nvSpPr>
              <p:cNvPr id="249" name=""/>
              <p:cNvSpPr/>
              <p:nvPr/>
            </p:nvSpPr>
            <p:spPr>
              <a:xfrm flipH="1" flipV="1">
                <a:off x="2286000" y="4647960"/>
                <a:ext cx="914400" cy="533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81080" y="44197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800440" y="48369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</a:rPr>
                <a:t>●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54280" y="49672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</a:rPr>
                <a:t>●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733920" y="3352680"/>
            <a:ext cx="1675800" cy="2059920"/>
            <a:chOff x="3733920" y="3352680"/>
            <a:chExt cx="1675800" cy="2059920"/>
          </a:xfrm>
        </p:grpSpPr>
        <p:sp>
          <p:nvSpPr>
            <p:cNvPr id="254" name=""/>
            <p:cNvSpPr/>
            <p:nvPr/>
          </p:nvSpPr>
          <p:spPr>
            <a:xfrm>
              <a:off x="4051080" y="5181480"/>
              <a:ext cx="1152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051080" y="3733560"/>
              <a:ext cx="57600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43400" y="3352680"/>
              <a:ext cx="24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62400" y="4952880"/>
              <a:ext cx="24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27440" y="3733560"/>
              <a:ext cx="57600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33920" y="4952880"/>
              <a:ext cx="24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038480" y="4190760"/>
            <a:ext cx="1219320" cy="990720"/>
            <a:chOff x="4038480" y="4190760"/>
            <a:chExt cx="1219320" cy="990720"/>
          </a:xfrm>
        </p:grpSpPr>
        <p:sp>
          <p:nvSpPr>
            <p:cNvPr id="261" name=""/>
            <p:cNvSpPr/>
            <p:nvPr/>
          </p:nvSpPr>
          <p:spPr>
            <a:xfrm flipV="1">
              <a:off x="4038480" y="4419720"/>
              <a:ext cx="914400" cy="761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7692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781520" y="4190760"/>
              <a:ext cx="15228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952880" y="4647960"/>
              <a:ext cx="15264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886200" y="4038480"/>
            <a:ext cx="1295280" cy="1142640"/>
            <a:chOff x="3886200" y="4038480"/>
            <a:chExt cx="1295280" cy="1142640"/>
          </a:xfrm>
        </p:grpSpPr>
        <p:sp>
          <p:nvSpPr>
            <p:cNvPr id="266" name=""/>
            <p:cNvSpPr/>
            <p:nvPr/>
          </p:nvSpPr>
          <p:spPr>
            <a:xfrm flipH="1" flipV="1">
              <a:off x="4343400" y="4495320"/>
              <a:ext cx="838080" cy="685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19720" y="4038480"/>
              <a:ext cx="1522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43400" y="4114800"/>
              <a:ext cx="1522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14800" y="4724280"/>
              <a:ext cx="1522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14800" y="4876920"/>
              <a:ext cx="1522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6200" y="4267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562720" y="3352680"/>
            <a:ext cx="1675800" cy="2059920"/>
            <a:chOff x="5562720" y="3352680"/>
            <a:chExt cx="1675800" cy="2059920"/>
          </a:xfrm>
        </p:grpSpPr>
        <p:sp>
          <p:nvSpPr>
            <p:cNvPr id="273" name=""/>
            <p:cNvSpPr/>
            <p:nvPr/>
          </p:nvSpPr>
          <p:spPr>
            <a:xfrm>
              <a:off x="5879880" y="5181480"/>
              <a:ext cx="1152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879880" y="3733560"/>
              <a:ext cx="57600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72200" y="3352680"/>
              <a:ext cx="24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1200" y="4952880"/>
              <a:ext cx="24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56240" y="3733560"/>
              <a:ext cx="57600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62720" y="4952880"/>
              <a:ext cx="24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867280" y="4419720"/>
            <a:ext cx="1295640" cy="761760"/>
            <a:chOff x="5867280" y="4419720"/>
            <a:chExt cx="1295640" cy="761760"/>
          </a:xfrm>
        </p:grpSpPr>
        <p:sp>
          <p:nvSpPr>
            <p:cNvPr id="280" name=""/>
            <p:cNvSpPr/>
            <p:nvPr/>
          </p:nvSpPr>
          <p:spPr>
            <a:xfrm flipV="1">
              <a:off x="5867280" y="4724280"/>
              <a:ext cx="99072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05720" y="4800600"/>
              <a:ext cx="7596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799320" y="4836600"/>
              <a:ext cx="96840" cy="39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81680" y="4419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562720" y="4343400"/>
            <a:ext cx="1447200" cy="838080"/>
            <a:chOff x="5562720" y="4343400"/>
            <a:chExt cx="1447200" cy="838080"/>
          </a:xfrm>
        </p:grpSpPr>
        <p:sp>
          <p:nvSpPr>
            <p:cNvPr id="285" name=""/>
            <p:cNvSpPr/>
            <p:nvPr/>
          </p:nvSpPr>
          <p:spPr>
            <a:xfrm flipH="1" flipV="1">
              <a:off x="6019560" y="4724280"/>
              <a:ext cx="99036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00840" y="4838760"/>
              <a:ext cx="152280" cy="7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118200" y="4800240"/>
              <a:ext cx="74520" cy="95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62720" y="4343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24000" y="-136800"/>
            <a:ext cx="3124080" cy="1095480"/>
            <a:chOff x="324000" y="-136800"/>
            <a:chExt cx="3124080" cy="1095480"/>
          </a:xfrm>
        </p:grpSpPr>
        <p:sp>
          <p:nvSpPr>
            <p:cNvPr id="290" name=""/>
            <p:cNvSpPr/>
            <p:nvPr/>
          </p:nvSpPr>
          <p:spPr>
            <a:xfrm>
              <a:off x="324000" y="0"/>
              <a:ext cx="312408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1390680" y="181080"/>
              <a:ext cx="8377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476280" y="-136800"/>
              <a:ext cx="2742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开启        智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5640" y="985680"/>
            <a:ext cx="6481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例各说法对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26920" y="1833480"/>
            <a:ext cx="74901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等腰三角形两底角的平分线相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等腰三角形两腰上的中线相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等腰三角形两腰上的高相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75120" y="5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67280" y="189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94bed"/>
                </a:solidFill>
                <a:latin typeface="Arial"/>
              </a:rPr>
              <a:t>思考</a:t>
            </a:r>
            <a:r>
              <a:rPr b="1" lang="zh-CN" sz="3200" spc="-1" strike="noStrike">
                <a:solidFill>
                  <a:srgbClr val="794bed"/>
                </a:solidFill>
                <a:latin typeface="Arial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6934320" y="1895400"/>
            <a:ext cx="914400" cy="2157120"/>
            <a:chOff x="6934320" y="1895400"/>
            <a:chExt cx="914400" cy="2157120"/>
          </a:xfrm>
        </p:grpSpPr>
        <p:grpSp>
          <p:nvGrpSpPr>
            <p:cNvPr id="43" name=""/>
            <p:cNvGrpSpPr/>
            <p:nvPr/>
          </p:nvGrpSpPr>
          <p:grpSpPr>
            <a:xfrm>
              <a:off x="7367760" y="1895400"/>
              <a:ext cx="252360" cy="2081160"/>
              <a:chOff x="7367760" y="1895400"/>
              <a:chExt cx="252360" cy="2081160"/>
            </a:xfrm>
          </p:grpSpPr>
          <p:sp>
            <p:nvSpPr>
              <p:cNvPr id="44" name=""/>
              <p:cNvSpPr/>
              <p:nvPr/>
            </p:nvSpPr>
            <p:spPr>
              <a:xfrm>
                <a:off x="7391520" y="3747960"/>
                <a:ext cx="228600" cy="228600"/>
              </a:xfrm>
              <a:prstGeom prst="rect">
                <a:avLst/>
              </a:prstGeom>
              <a:noFill/>
              <a:ln cap="sq"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367760" y="1895400"/>
                <a:ext cx="12600" cy="2063520"/>
              </a:xfrm>
              <a:custGeom>
                <a:avLst/>
                <a:gdLst/>
                <a:ahLst/>
                <a:rect l="l" t="t" r="r" b="b"/>
                <a:pathLst>
                  <a:path w="8" h="1300">
                    <a:moveTo>
                      <a:pt x="0" y="0"/>
                    </a:moveTo>
                    <a:lnTo>
                      <a:pt x="8" y="1300"/>
                    </a:lnTo>
                  </a:path>
                </a:pathLst>
              </a:custGeom>
              <a:noFill/>
              <a:ln cap="sq"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7215120" y="2219040"/>
              <a:ext cx="125640" cy="61920"/>
            </a:xfrm>
            <a:custGeom>
              <a:avLst/>
              <a:gdLst/>
              <a:ahLst/>
              <a:rect l="l" t="t" r="r" b="b"/>
              <a:pathLst>
                <a:path w="79" h="39">
                  <a:moveTo>
                    <a:pt x="0" y="0"/>
                  </a:moveTo>
                  <a:cubicBezTo>
                    <a:pt x="23" y="22"/>
                    <a:pt x="44" y="39"/>
                    <a:pt x="79" y="39"/>
                  </a:cubicBezTo>
                </a:path>
              </a:pathLst>
            </a:custGeom>
            <a:noFill/>
            <a:ln cap="sq" w="38160">
              <a:solidFill>
                <a:srgbClr val="04d0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377120" y="2381040"/>
              <a:ext cx="189000" cy="42840"/>
            </a:xfrm>
            <a:custGeom>
              <a:avLst/>
              <a:gdLst/>
              <a:ahLst/>
              <a:rect l="l" t="t" r="r" b="b"/>
              <a:pathLst>
                <a:path w="119" h="27">
                  <a:moveTo>
                    <a:pt x="0" y="24"/>
                  </a:moveTo>
                  <a:cubicBezTo>
                    <a:pt x="28" y="21"/>
                    <a:pt x="92" y="27"/>
                    <a:pt x="119" y="0"/>
                  </a:cubicBezTo>
                </a:path>
              </a:pathLst>
            </a:custGeom>
            <a:noFill/>
            <a:ln cap="sq" w="38160">
              <a:solidFill>
                <a:srgbClr val="04d0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934320" y="3900240"/>
              <a:ext cx="0" cy="152280"/>
            </a:xfrm>
            <a:prstGeom prst="line">
              <a:avLst/>
            </a:prstGeom>
            <a:ln cap="sq" w="38160">
              <a:solidFill>
                <a:srgbClr val="04d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3900240"/>
              <a:ext cx="0" cy="152280"/>
            </a:xfrm>
            <a:prstGeom prst="line">
              <a:avLst/>
            </a:prstGeom>
            <a:ln cap="sq" w="38160">
              <a:solidFill>
                <a:srgbClr val="04d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772400" y="3900240"/>
              <a:ext cx="0" cy="152280"/>
            </a:xfrm>
            <a:prstGeom prst="line">
              <a:avLst/>
            </a:prstGeom>
            <a:ln cap="sq" w="38160">
              <a:solidFill>
                <a:srgbClr val="04d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48720" y="3900240"/>
              <a:ext cx="0" cy="152280"/>
            </a:xfrm>
            <a:prstGeom prst="line">
              <a:avLst/>
            </a:prstGeom>
            <a:ln cap="sq" w="38160">
              <a:solidFill>
                <a:srgbClr val="04d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619280" y="4428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复习引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1392120"/>
            <a:ext cx="56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腰三角形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两腰相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79560" y="905040"/>
            <a:ext cx="7695720" cy="3506400"/>
            <a:chOff x="979560" y="905040"/>
            <a:chExt cx="7695720" cy="3506400"/>
          </a:xfrm>
        </p:grpSpPr>
        <p:sp>
          <p:nvSpPr>
            <p:cNvPr id="55" name=""/>
            <p:cNvSpPr/>
            <p:nvPr/>
          </p:nvSpPr>
          <p:spPr>
            <a:xfrm>
              <a:off x="979560" y="905040"/>
              <a:ext cx="510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宋体"/>
                </a:rPr>
                <a:t>等腰三角形有哪些特征呢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6008760" y="1315800"/>
              <a:ext cx="2666520" cy="3095640"/>
              <a:chOff x="6008760" y="1315800"/>
              <a:chExt cx="2666520" cy="3095640"/>
            </a:xfrm>
          </p:grpSpPr>
          <p:sp>
            <p:nvSpPr>
              <p:cNvPr id="57" name=""/>
              <p:cNvSpPr/>
              <p:nvPr/>
            </p:nvSpPr>
            <p:spPr>
              <a:xfrm>
                <a:off x="6389640" y="1848960"/>
                <a:ext cx="1904400" cy="2133360"/>
              </a:xfrm>
              <a:prstGeom prst="triangle">
                <a:avLst>
                  <a:gd name="adj" fmla="val 50000"/>
                </a:avLst>
              </a:prstGeom>
              <a:noFill/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075440" y="1315800"/>
                <a:ext cx="60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08760" y="383004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065800" y="383004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88920" y="206064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腰三角形的两个底角相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简称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等边对等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141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腰三角形顶角的平分线、底边上的中线和底边上的高互相重合。（简称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三线合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400800" y="1819440"/>
            <a:ext cx="1905120" cy="2158920"/>
            <a:chOff x="6400800" y="1819440"/>
            <a:chExt cx="1905120" cy="2158920"/>
          </a:xfrm>
        </p:grpSpPr>
        <p:sp>
          <p:nvSpPr>
            <p:cNvPr id="64" name=""/>
            <p:cNvSpPr/>
            <p:nvPr/>
          </p:nvSpPr>
          <p:spPr>
            <a:xfrm>
              <a:off x="6400800" y="1857240"/>
              <a:ext cx="954000" cy="2120760"/>
            </a:xfrm>
            <a:custGeom>
              <a:avLst/>
              <a:gdLst/>
              <a:ahLst/>
              <a:rect l="l" t="t" r="r" b="b"/>
              <a:pathLst>
                <a:path w="601" h="1336">
                  <a:moveTo>
                    <a:pt x="601" y="0"/>
                  </a:moveTo>
                  <a:lnTo>
                    <a:pt x="0" y="1336"/>
                  </a:lnTo>
                </a:path>
              </a:pathLst>
            </a:custGeom>
            <a:noFill/>
            <a:ln cap="sq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67760" y="1819440"/>
              <a:ext cx="938160" cy="2158920"/>
            </a:xfrm>
            <a:custGeom>
              <a:avLst/>
              <a:gdLst/>
              <a:ahLst/>
              <a:rect l="l" t="t" r="r" b="b"/>
              <a:pathLst>
                <a:path w="591" h="1360">
                  <a:moveTo>
                    <a:pt x="0" y="0"/>
                  </a:moveTo>
                  <a:lnTo>
                    <a:pt x="591" y="1360"/>
                  </a:lnTo>
                </a:path>
              </a:pathLst>
            </a:custGeom>
            <a:noFill/>
            <a:ln cap="sq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558120" y="3724200"/>
            <a:ext cx="1606320" cy="274680"/>
            <a:chOff x="6558120" y="3724200"/>
            <a:chExt cx="1606320" cy="274680"/>
          </a:xfrm>
        </p:grpSpPr>
        <p:sp>
          <p:nvSpPr>
            <p:cNvPr id="67" name=""/>
            <p:cNvSpPr/>
            <p:nvPr/>
          </p:nvSpPr>
          <p:spPr>
            <a:xfrm>
              <a:off x="6558120" y="3724200"/>
              <a:ext cx="155520" cy="262080"/>
            </a:xfrm>
            <a:custGeom>
              <a:avLst/>
              <a:gdLst/>
              <a:ahLst/>
              <a:rect l="l" t="t" r="r" b="b"/>
              <a:pathLst>
                <a:path w="98" h="165">
                  <a:moveTo>
                    <a:pt x="0" y="0"/>
                  </a:moveTo>
                  <a:cubicBezTo>
                    <a:pt x="23" y="24"/>
                    <a:pt x="42" y="51"/>
                    <a:pt x="66" y="74"/>
                  </a:cubicBezTo>
                  <a:cubicBezTo>
                    <a:pt x="76" y="105"/>
                    <a:pt x="84" y="136"/>
                    <a:pt x="98" y="165"/>
                  </a:cubicBezTo>
                </a:path>
              </a:pathLst>
            </a:custGeom>
            <a:noFill/>
            <a:ln cap="sq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67520" y="3724200"/>
              <a:ext cx="196920" cy="274680"/>
            </a:xfrm>
            <a:custGeom>
              <a:avLst/>
              <a:gdLst/>
              <a:ahLst/>
              <a:rect l="l" t="t" r="r" b="b"/>
              <a:pathLst>
                <a:path w="124" h="173">
                  <a:moveTo>
                    <a:pt x="124" y="0"/>
                  </a:moveTo>
                  <a:cubicBezTo>
                    <a:pt x="92" y="10"/>
                    <a:pt x="86" y="31"/>
                    <a:pt x="58" y="50"/>
                  </a:cubicBezTo>
                  <a:cubicBezTo>
                    <a:pt x="35" y="84"/>
                    <a:pt x="29" y="84"/>
                    <a:pt x="17" y="124"/>
                  </a:cubicBezTo>
                  <a:cubicBezTo>
                    <a:pt x="12" y="141"/>
                    <a:pt x="0" y="173"/>
                    <a:pt x="0" y="173"/>
                  </a:cubicBezTo>
                </a:path>
              </a:pathLst>
            </a:custGeom>
            <a:noFill/>
            <a:ln cap="sq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15920" y="47242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腰三角形是轴对称图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称轴是底边的中垂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034640" y="117360"/>
            <a:ext cx="7929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Δ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=A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中有哪些角相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 rot="5400000">
            <a:off x="12600" y="65520"/>
            <a:ext cx="1194120" cy="115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复习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55736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B=∠C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在三角形中等边对等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068640"/>
            <a:ext cx="633708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２．反过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ΔABC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中， 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B=∠C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AB=AC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成立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372360" y="260280"/>
            <a:ext cx="2302920" cy="2767320"/>
            <a:chOff x="6372360" y="260280"/>
            <a:chExt cx="2302920" cy="2767320"/>
          </a:xfrm>
        </p:grpSpPr>
        <p:sp>
          <p:nvSpPr>
            <p:cNvPr id="75" name=""/>
            <p:cNvSpPr/>
            <p:nvPr/>
          </p:nvSpPr>
          <p:spPr>
            <a:xfrm>
              <a:off x="6701400" y="723960"/>
              <a:ext cx="1644840" cy="1854720"/>
            </a:xfrm>
            <a:prstGeom prst="triangle">
              <a:avLst>
                <a:gd name="adj" fmla="val 50000"/>
              </a:avLst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293600" y="260280"/>
              <a:ext cx="52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72360" y="2446200"/>
              <a:ext cx="52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48960" y="2446200"/>
              <a:ext cx="52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8381880" cy="1676520"/>
          </a:xfrm>
          <a:prstGeom prst="cloudCallout">
            <a:avLst>
              <a:gd name="adj1" fmla="val 29013"/>
              <a:gd name="adj2" fmla="val 7234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作一个三角形，有两个角相等，这两个角所对的边是否相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1905120"/>
            <a:ext cx="1600200" cy="167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38880" y="134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347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29600" y="347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1773360"/>
            <a:ext cx="5410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Δ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=∠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分线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=∠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=∠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由三角形内角和的性质得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B=∠A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沿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628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36957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折叠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B=∠AD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= ∠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所以射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射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合，射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射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合，从而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合，因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=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1905120"/>
            <a:ext cx="0" cy="1676160"/>
          </a:xfrm>
          <a:prstGeom prst="line">
            <a:avLst/>
          </a:prstGeom>
          <a:ln w="3816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62920" y="2514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2514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9440" y="2205000"/>
            <a:ext cx="141840" cy="14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524720" y="2276640"/>
            <a:ext cx="285120" cy="14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280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等腰三角形有以下的判定方法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920" y="134136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　如果一个三角形有两个角相等，那么这个三角形是等腰三角形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2708280"/>
            <a:ext cx="7632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简单地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在同一个三角形中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等角对等到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3251160" cy="72072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定理的证明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981000"/>
            <a:ext cx="7345440" cy="39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等腰三角形的判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9900"/>
                </a:solidFill>
                <a:latin typeface="宋体"/>
              </a:rPr>
              <a:t>如果一个三角形有两个角相等，那么这个三角形是等腰三角形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如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∠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＝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B=A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要证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=AC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只要能构造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所在的两个三角形全等就可以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同学们自已完成证明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093080" y="4581360"/>
            <a:ext cx="5032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96360" y="4581360"/>
            <a:ext cx="64764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093080" y="5950080"/>
            <a:ext cx="1150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40720" y="4498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5867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8360" y="58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宋体"/>
              </a:rPr>
              <a:t>练习</a:t>
            </a:r>
            <a:r>
              <a:rPr b="0" lang="zh-CN" sz="54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20" y="981000"/>
            <a:ext cx="91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在△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ABC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中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, 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已知∠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A=40°,∠B=70°,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判断△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ABC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是什么三角形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为什么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212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练习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580000" y="1700280"/>
            <a:ext cx="3095280" cy="4033440"/>
            <a:chOff x="5580000" y="1700280"/>
            <a:chExt cx="3095280" cy="4033440"/>
          </a:xfrm>
        </p:grpSpPr>
        <p:sp>
          <p:nvSpPr>
            <p:cNvPr id="108" name=""/>
            <p:cNvSpPr/>
            <p:nvPr/>
          </p:nvSpPr>
          <p:spPr>
            <a:xfrm>
              <a:off x="5580000" y="1700280"/>
              <a:ext cx="3095280" cy="4033440"/>
            </a:xfrm>
            <a:prstGeom prst="triangle">
              <a:avLst>
                <a:gd name="adj" fmla="val 50000"/>
              </a:avLst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580000" y="4203360"/>
              <a:ext cx="2532240" cy="15296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288120" y="1125360"/>
            <a:ext cx="16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5661000"/>
            <a:ext cx="16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64640" y="5657760"/>
            <a:ext cx="16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32640" y="3786120"/>
            <a:ext cx="16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125360"/>
            <a:ext cx="532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如图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已知∠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A=36°, ∠DBC=36°, ∠C=72°,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则∠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1=</a:t>
            </a:r>
            <a:r>
              <a:rPr b="1" lang="zh-CN" sz="4000" spc="-1" strike="noStrike" u="sng">
                <a:solidFill>
                  <a:srgbClr val="794bed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,∠2=</a:t>
            </a:r>
            <a:r>
              <a:rPr b="1" lang="zh-CN" sz="4000" spc="-1" strike="noStrike" u="sng">
                <a:solidFill>
                  <a:srgbClr val="794bed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, 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图中的等腰三角形有</a:t>
            </a:r>
            <a:r>
              <a:rPr b="1" lang="zh-CN" sz="4000" spc="-1" strike="noStrike" u="sng">
                <a:solidFill>
                  <a:srgbClr val="794bed"/>
                </a:solidFill>
                <a:uFillTx/>
                <a:latin typeface="宋体"/>
              </a:rPr>
              <a:t>                  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6000" y="5373720"/>
            <a:ext cx="144360" cy="1429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12000" y="4365720"/>
            <a:ext cx="432000" cy="2156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486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12000" y="450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１．一次数学实践活动的内容是测量河宽，如图，即测量Ａ，Ｂ之间的距离．同学们想出了许多方法，其中小聪的方法是：从点Ａ出发，沿着与直线ＡＢ成６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的ＡＣ方向前进至Ｃ，在Ｃ处测得Ｃ＝３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量出ＡＣ的长，它就是河宽（即Ａ，Ｂ之间的距离）．这个方法正确吗？请说明理由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：小聪的测量方法正确．理由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∵ ∠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ＤＡＣ＝ ∠Ｂ＋ ∠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　　　　　　　　　（三角形的外角的性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∴ ∠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ＡＢＣ＝ ∠ＤＡＣ－ ∠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　　　　　　＝６０ 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° 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－３０ 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° 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＝３０ 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∴ ∠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ＡＢＣ＝ ∠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∴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ＡＢ＝ＡＣ（在一个三角形中，等角对等边．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372360" y="2421000"/>
            <a:ext cx="2089080" cy="2013120"/>
            <a:chOff x="6372360" y="2421000"/>
            <a:chExt cx="2089080" cy="2013120"/>
          </a:xfrm>
        </p:grpSpPr>
        <p:sp>
          <p:nvSpPr>
            <p:cNvPr id="121" name=""/>
            <p:cNvSpPr/>
            <p:nvPr/>
          </p:nvSpPr>
          <p:spPr>
            <a:xfrm flipH="1" flipV="1">
              <a:off x="7334280" y="3597840"/>
              <a:ext cx="288000" cy="14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372360" y="2421000"/>
              <a:ext cx="2089080" cy="2013120"/>
              <a:chOff x="6372360" y="2421000"/>
              <a:chExt cx="2089080" cy="2013120"/>
            </a:xfrm>
          </p:grpSpPr>
          <p:sp>
            <p:nvSpPr>
              <p:cNvPr id="123" name=""/>
              <p:cNvSpPr/>
              <p:nvPr/>
            </p:nvSpPr>
            <p:spPr>
              <a:xfrm flipV="1">
                <a:off x="6732720" y="3571560"/>
                <a:ext cx="720720" cy="50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372360" y="2421000"/>
                <a:ext cx="2089080" cy="2013120"/>
                <a:chOff x="6372360" y="2421000"/>
                <a:chExt cx="2089080" cy="2013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453440" y="2421000"/>
                  <a:ext cx="0" cy="180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6732720" y="2708280"/>
                  <a:ext cx="720720" cy="136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6372360" y="2707920"/>
                  <a:ext cx="2089080" cy="73080"/>
                </a:xfrm>
                <a:prstGeom prst="line">
                  <a:avLst/>
                </a:prstGeom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V="1">
                  <a:off x="6372360" y="3500280"/>
                  <a:ext cx="2089080" cy="144360"/>
                </a:xfrm>
                <a:prstGeom prst="line">
                  <a:avLst/>
                </a:prstGeom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021800" y="3645000"/>
                  <a:ext cx="934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</a:rPr>
                    <a:t>６０ 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380360" y="2421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380360" y="3213360"/>
                  <a:ext cx="273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516720" y="4065840"/>
                  <a:ext cx="289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blinds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05:10:07Z</dcterms:created>
  <dc:creator/>
  <dc:description/>
  <dc:language>en-US</dc:language>
  <cp:lastModifiedBy/>
  <dcterms:modified xsi:type="dcterms:W3CDTF">2015-10-28T10:33:23Z</dcterms:modified>
  <cp:revision>27</cp:revision>
  <dc:subject/>
  <dc:title/>
</cp:coreProperties>
</file>