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chimes.wav" ContentType="audio/x-wav"/>
  <Override PartName="/ppt/media/image6.jpeg" ContentType="image/jpeg"/>
  <Override PartName="/ppt/media/image8.png" ContentType="image/png"/>
  <Override PartName="/ppt/media/image5.jpeg" ContentType="image/jpe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8683625" cy="11753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A48-9582-4457-9B88-3876AB50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5AC-97C0-49AA-9119-A6DF4190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0CF-AA03-483E-897B-0BEA8DD6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F4E-7F9B-4287-BAC3-E69AD803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7FD-044D-4628-B505-6E32443B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795-8E87-4F82-AE44-D22D5526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436-94D3-4CEB-8F14-6932856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94E-49B8-4A7C-B74B-89546545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F78-DC40-4A32-A273-D1B59CCD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8B8-6F2F-46B4-91A7-D1F73A8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49E-BEE5-490D-85B7-1407800F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072-270C-4C49-A6A0-9507930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F9E0-EAC4-4E58-8B87-9DD74B7762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672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有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两条边相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三角形叫做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等腰三角形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6760" y="4600440"/>
            <a:ext cx="856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腰三角形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相等的两边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另一边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底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腰的夹角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顶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腰和底边的夹角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底角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65320" y="1200240"/>
            <a:ext cx="3352680" cy="3111480"/>
            <a:chOff x="2965320" y="1200240"/>
            <a:chExt cx="3352680" cy="3111480"/>
          </a:xfrm>
        </p:grpSpPr>
        <p:sp>
          <p:nvSpPr>
            <p:cNvPr id="44" name=""/>
            <p:cNvSpPr/>
            <p:nvPr/>
          </p:nvSpPr>
          <p:spPr>
            <a:xfrm>
              <a:off x="3422520" y="1657440"/>
              <a:ext cx="2438280" cy="2438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13240" y="1200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37120" y="386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65320" y="39434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419280" y="1668600"/>
            <a:ext cx="2438640" cy="2438280"/>
            <a:chOff x="3419280" y="1668600"/>
            <a:chExt cx="2438640" cy="2438280"/>
          </a:xfrm>
        </p:grpSpPr>
        <p:sp>
          <p:nvSpPr>
            <p:cNvPr id="49" name=""/>
            <p:cNvSpPr/>
            <p:nvPr/>
          </p:nvSpPr>
          <p:spPr>
            <a:xfrm flipH="1">
              <a:off x="3419280" y="1668600"/>
              <a:ext cx="1219320" cy="243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38960" y="1668600"/>
              <a:ext cx="1218960" cy="243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417840" y="4070520"/>
            <a:ext cx="2438280" cy="14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59280" y="2852640"/>
            <a:ext cx="3217320" cy="609480"/>
            <a:chOff x="3059280" y="2852640"/>
            <a:chExt cx="3217320" cy="609480"/>
          </a:xfrm>
        </p:grpSpPr>
        <p:sp>
          <p:nvSpPr>
            <p:cNvPr id="53" name=""/>
            <p:cNvSpPr/>
            <p:nvPr/>
          </p:nvSpPr>
          <p:spPr>
            <a:xfrm>
              <a:off x="5534280" y="2852640"/>
              <a:ext cx="742320" cy="60948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59280" y="2852640"/>
              <a:ext cx="742320" cy="60948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75160" y="4352760"/>
            <a:ext cx="863640" cy="457200"/>
          </a:xfrm>
          <a:prstGeom prst="wedgeRoundRectCallout">
            <a:avLst>
              <a:gd name="adj1" fmla="val -90990"/>
              <a:gd name="adj2" fmla="val -9756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隶书"/>
              </a:rPr>
              <a:t>底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092840" y="1829160"/>
            <a:ext cx="790200" cy="858600"/>
            <a:chOff x="4092840" y="1829160"/>
            <a:chExt cx="790200" cy="858600"/>
          </a:xfrm>
        </p:grpSpPr>
        <p:sp>
          <p:nvSpPr>
            <p:cNvPr id="57" name=""/>
            <p:cNvSpPr/>
            <p:nvPr/>
          </p:nvSpPr>
          <p:spPr>
            <a:xfrm rot="6028800">
              <a:off x="4475520" y="1779480"/>
              <a:ext cx="153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848" y="749"/>
                  </a:moveTo>
                  <a:arcTo wR="10800" hR="10800" stAng="-6687910" swAng="6687910"/>
                  <a:lnTo>
                    <a:pt x="10800" y="10800"/>
                  </a:lnTo>
                  <a:close/>
                </a:path>
                <a:path fill="none" w="21600" h="21600">
                  <a:moveTo>
                    <a:pt x="6848" y="749"/>
                  </a:moveTo>
                  <a:arcTo wR="10800" hR="10800" stAng="-6687910" swAng="668791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92840" y="2001960"/>
              <a:ext cx="79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顶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488040" y="3626280"/>
            <a:ext cx="2471040" cy="636840"/>
            <a:chOff x="3488040" y="3626280"/>
            <a:chExt cx="2471040" cy="636840"/>
          </a:xfrm>
        </p:grpSpPr>
        <p:sp>
          <p:nvSpPr>
            <p:cNvPr id="60" name=""/>
            <p:cNvSpPr/>
            <p:nvPr/>
          </p:nvSpPr>
          <p:spPr>
            <a:xfrm>
              <a:off x="3488040" y="3805200"/>
              <a:ext cx="151920" cy="45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884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070400">
              <a:off x="5683320" y="3624480"/>
              <a:ext cx="15120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13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133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35600" y="3652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64000" y="3667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81080" y="765000"/>
            <a:ext cx="1510920" cy="3859200"/>
            <a:chOff x="181080" y="765000"/>
            <a:chExt cx="1510920" cy="38592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81080" y="2935440"/>
              <a:ext cx="1510920" cy="16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81080" y="765000"/>
              <a:ext cx="909720" cy="1722960"/>
            </a:xfrm>
            <a:prstGeom prst="wedgeEllipseCallout">
              <a:avLst>
                <a:gd name="adj1" fmla="val -36787"/>
                <a:gd name="adj2" fmla="val 5963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什么是等腰三角形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38480" y="3068640"/>
            <a:ext cx="1981080" cy="371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60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14640" y="466560"/>
            <a:ext cx="286848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2360" y="17334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</a:t>
            </a:r>
            <a:r>
              <a:rPr b="1" lang="zh-CN" sz="1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solidFill>
            <a:srgbClr val="00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32680" y="2940480"/>
            <a:ext cx="2417040" cy="2753280"/>
            <a:chOff x="5332680" y="2940480"/>
            <a:chExt cx="2417040" cy="2753280"/>
          </a:xfrm>
        </p:grpSpPr>
        <p:sp>
          <p:nvSpPr>
            <p:cNvPr id="188" name=""/>
            <p:cNvSpPr/>
            <p:nvPr/>
          </p:nvSpPr>
          <p:spPr>
            <a:xfrm rot="3219000">
              <a:off x="6838200" y="4605480"/>
              <a:ext cx="609120" cy="105840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3219000">
              <a:off x="5634720" y="2970000"/>
              <a:ext cx="609120" cy="105840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 rot="13070400">
            <a:off x="6326640" y="5730120"/>
            <a:ext cx="945720" cy="71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37" y="2523"/>
                </a:moveTo>
                <a:arcTo wR="10800" hR="10800" stAng="-3002022" swAng="5670702"/>
                <a:lnTo>
                  <a:pt x="10800" y="10800"/>
                </a:lnTo>
                <a:close/>
              </a:path>
              <a:path fill="none" w="21600" h="21600">
                <a:moveTo>
                  <a:pt x="17737" y="2523"/>
                </a:moveTo>
                <a:arcTo wR="10800" hR="10800" stAng="-3002022" swAng="567070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3070400">
            <a:off x="6388560" y="5989320"/>
            <a:ext cx="1413000" cy="66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7" y="4549"/>
                </a:moveTo>
                <a:arcTo wR="10800" hR="10800" stAng="-2121766" swAng="4790446"/>
                <a:lnTo>
                  <a:pt x="10800" y="10800"/>
                </a:lnTo>
                <a:close/>
              </a:path>
              <a:path fill="none" w="21600" h="21600">
                <a:moveTo>
                  <a:pt x="19607" y="4549"/>
                </a:moveTo>
                <a:arcTo wR="10800" hR="10800" stAng="-2121766" swAng="479044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894400">
            <a:off x="5785560" y="5238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ahoma"/>
                <a:ea typeface="隶书"/>
              </a:rPr>
              <a:t>底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6" presetSubtype="37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719760" y="1168560"/>
            <a:ext cx="2082960" cy="2259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80320" y="1123920"/>
            <a:ext cx="0" cy="225900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8720" y="33847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61280" y="339732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53240" y="338148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85120" y="5605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90520" y="4579920"/>
            <a:ext cx="3067200" cy="642600"/>
            <a:chOff x="1190520" y="4579920"/>
            <a:chExt cx="3067200" cy="642600"/>
          </a:xfrm>
        </p:grpSpPr>
        <p:sp>
          <p:nvSpPr>
            <p:cNvPr id="200" name=""/>
            <p:cNvSpPr/>
            <p:nvPr/>
          </p:nvSpPr>
          <p:spPr>
            <a:xfrm>
              <a:off x="1190520" y="4579920"/>
              <a:ext cx="306720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大胆猜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190520" y="457992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1500120" y="5508720"/>
            <a:ext cx="7078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等腰三角形除了两腰相等以外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你还能发现它的其他特征吗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50920" y="1065240"/>
            <a:ext cx="632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）上面剪出的等腰三角形是轴对称图形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2480" y="1525680"/>
            <a:ext cx="63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）把剪出的等腰三角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沿折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对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找出其中相等的线段和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填入下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62160" y="2481120"/>
          <a:ext cx="3809880" cy="1981080"/>
        </p:xfrm>
        <a:graphic>
          <a:graphicData uri="http://schemas.openxmlformats.org/drawingml/2006/table">
            <a:tbl>
              <a:tblPr/>
              <a:tblGrid>
                <a:gridCol w="2151000"/>
                <a:gridCol w="1658880"/>
              </a:tblGrid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重合的线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重合的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179280" y="260280"/>
            <a:ext cx="8280000" cy="608760"/>
            <a:chOff x="179280" y="260280"/>
            <a:chExt cx="8280000" cy="608760"/>
          </a:xfrm>
        </p:grpSpPr>
        <p:sp>
          <p:nvSpPr>
            <p:cNvPr id="207" name=""/>
            <p:cNvSpPr/>
            <p:nvPr/>
          </p:nvSpPr>
          <p:spPr>
            <a:xfrm>
              <a:off x="2628360" y="289800"/>
              <a:ext cx="5830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探索等腰三角形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280" y="260280"/>
              <a:ext cx="3659040" cy="581400"/>
              <a:chOff x="179280" y="260280"/>
              <a:chExt cx="3659040" cy="5814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79280" y="329040"/>
                <a:ext cx="2240280" cy="416160"/>
                <a:chOff x="179280" y="329040"/>
                <a:chExt cx="2240280" cy="416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86720" y="329040"/>
                  <a:ext cx="1932840" cy="416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179280" y="453240"/>
                  <a:ext cx="406440" cy="185760"/>
                  <a:chOff x="179280" y="453240"/>
                  <a:chExt cx="406440" cy="185760"/>
                </a:xfrm>
              </p:grpSpPr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53240"/>
                    <a:ext cx="406440" cy="1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3" name=""/>
                  <p:cNvSpPr/>
                  <p:nvPr/>
                </p:nvSpPr>
                <p:spPr>
                  <a:xfrm>
                    <a:off x="196920" y="461160"/>
                    <a:ext cx="371160" cy="16956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"/>
              <p:cNvSpPr/>
              <p:nvPr/>
            </p:nvSpPr>
            <p:spPr>
              <a:xfrm>
                <a:off x="658800" y="260280"/>
                <a:ext cx="3179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合作学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79640" y="83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猜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160" y="2538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）等腰三角形的两个底角相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28800" y="1773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等腰三角形的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21120" y="630360"/>
            <a:ext cx="830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6673680" y="0"/>
            <a:ext cx="2469960" cy="3116160"/>
            <a:chOff x="6673680" y="0"/>
            <a:chExt cx="2469960" cy="3116160"/>
          </a:xfrm>
        </p:grpSpPr>
        <p:grpSp>
          <p:nvGrpSpPr>
            <p:cNvPr id="220" name=""/>
            <p:cNvGrpSpPr/>
            <p:nvPr/>
          </p:nvGrpSpPr>
          <p:grpSpPr>
            <a:xfrm>
              <a:off x="6947280" y="392760"/>
              <a:ext cx="1950120" cy="2314800"/>
              <a:chOff x="6947280" y="392760"/>
              <a:chExt cx="1950120" cy="2314800"/>
            </a:xfrm>
          </p:grpSpPr>
          <p:sp>
            <p:nvSpPr>
              <p:cNvPr id="221" name=""/>
              <p:cNvSpPr/>
              <p:nvPr/>
            </p:nvSpPr>
            <p:spPr>
              <a:xfrm>
                <a:off x="6947280" y="392760"/>
                <a:ext cx="1950120" cy="2314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21080" y="453960"/>
                <a:ext cx="0" cy="22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006040" y="0"/>
              <a:ext cx="34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3680" y="25106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18920" y="25106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8520" y="2595600"/>
              <a:ext cx="32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93720" y="320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等腰三角形的顶角平分线、底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边上中线、底边上的高相互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43000" y="141120"/>
            <a:ext cx="6494400" cy="615600"/>
            <a:chOff x="1143000" y="141120"/>
            <a:chExt cx="6494400" cy="615600"/>
          </a:xfrm>
        </p:grpSpPr>
        <p:sp>
          <p:nvSpPr>
            <p:cNvPr id="229" name=""/>
            <p:cNvSpPr/>
            <p:nvPr/>
          </p:nvSpPr>
          <p:spPr>
            <a:xfrm>
              <a:off x="3063960" y="17748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探索等腰三角形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143000" y="141120"/>
              <a:ext cx="2870280" cy="592200"/>
              <a:chOff x="1143000" y="141120"/>
              <a:chExt cx="2870280" cy="5922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1143000" y="225360"/>
                <a:ext cx="1757520" cy="507960"/>
                <a:chOff x="1143000" y="225360"/>
                <a:chExt cx="1757520" cy="5079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384200" y="22536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1143000" y="377280"/>
                  <a:ext cx="318960" cy="226440"/>
                  <a:chOff x="1143000" y="377280"/>
                  <a:chExt cx="318960" cy="226440"/>
                </a:xfrm>
              </p:grpSpPr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728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5" name=""/>
                  <p:cNvSpPr/>
                  <p:nvPr/>
                </p:nvSpPr>
                <p:spPr>
                  <a:xfrm>
                    <a:off x="1156680" y="38700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>
                <a:off x="1519200" y="14112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探究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3880" y="3936960"/>
            <a:ext cx="61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析：</a:t>
            </a:r>
            <a:r>
              <a:rPr b="1" lang="en-US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何证明两个角相等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06400" y="4265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　　</a:t>
            </a:r>
            <a:r>
              <a:rPr b="1" lang="en-US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何构造两个全等的三角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46280" y="134136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命题的题设和结论是什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数学符号如何表示题设和结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3440" y="941400"/>
            <a:ext cx="3612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你能用所学的知识验证等腰三角形的两个底角相 等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62960" y="2295360"/>
            <a:ext cx="4074840" cy="1661040"/>
            <a:chOff x="2262960" y="2295360"/>
            <a:chExt cx="4074840" cy="1661040"/>
          </a:xfrm>
        </p:grpSpPr>
        <p:grpSp>
          <p:nvGrpSpPr>
            <p:cNvPr id="242" name=""/>
            <p:cNvGrpSpPr/>
            <p:nvPr/>
          </p:nvGrpSpPr>
          <p:grpSpPr>
            <a:xfrm>
              <a:off x="2262960" y="2295360"/>
              <a:ext cx="1015920" cy="1157760"/>
              <a:chOff x="2262960" y="2295360"/>
              <a:chExt cx="1015920" cy="1157760"/>
            </a:xfrm>
          </p:grpSpPr>
          <p:sp>
            <p:nvSpPr>
              <p:cNvPr id="243" name=""/>
              <p:cNvSpPr/>
              <p:nvPr/>
            </p:nvSpPr>
            <p:spPr>
              <a:xfrm>
                <a:off x="2262960" y="2295360"/>
                <a:ext cx="100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已知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69440" y="2871720"/>
                <a:ext cx="100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求证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3036600" y="2295360"/>
              <a:ext cx="33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△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ABC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中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,AB=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2160" y="2871720"/>
              <a:ext cx="139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∠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B=∠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3480" y="33750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证明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553080" y="1322280"/>
            <a:ext cx="2344680" cy="3285000"/>
            <a:chOff x="6553080" y="1322280"/>
            <a:chExt cx="2344680" cy="3285000"/>
          </a:xfrm>
        </p:grpSpPr>
        <p:sp>
          <p:nvSpPr>
            <p:cNvPr id="249" name=""/>
            <p:cNvSpPr/>
            <p:nvPr/>
          </p:nvSpPr>
          <p:spPr>
            <a:xfrm>
              <a:off x="6953760" y="1761480"/>
              <a:ext cx="1467360" cy="2493360"/>
            </a:xfrm>
            <a:prstGeom prst="flowChartExtra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95560" y="1322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53080" y="4004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22920" y="4025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4920" y="117360"/>
            <a:ext cx="6494400" cy="615600"/>
            <a:chOff x="34920" y="117360"/>
            <a:chExt cx="6494400" cy="615600"/>
          </a:xfrm>
        </p:grpSpPr>
        <p:sp>
          <p:nvSpPr>
            <p:cNvPr id="254" name=""/>
            <p:cNvSpPr/>
            <p:nvPr/>
          </p:nvSpPr>
          <p:spPr>
            <a:xfrm>
              <a:off x="1955880" y="15372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引导学生推理证明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4920" y="117360"/>
              <a:ext cx="2870280" cy="592200"/>
              <a:chOff x="34920" y="117360"/>
              <a:chExt cx="2870280" cy="5922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4920" y="201600"/>
                <a:ext cx="1757520" cy="507960"/>
                <a:chOff x="34920" y="201600"/>
                <a:chExt cx="1757520" cy="5079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76120" y="20160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34920" y="353520"/>
                  <a:ext cx="318960" cy="226440"/>
                  <a:chOff x="34920" y="353520"/>
                  <a:chExt cx="318960" cy="22644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4920" y="35352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0" name=""/>
                  <p:cNvSpPr/>
                  <p:nvPr/>
                </p:nvSpPr>
                <p:spPr>
                  <a:xfrm>
                    <a:off x="48600" y="36324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1" name=""/>
              <p:cNvSpPr/>
              <p:nvPr/>
            </p:nvSpPr>
            <p:spPr>
              <a:xfrm>
                <a:off x="411120" y="11736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论证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378560" y="981000"/>
            <a:ext cx="0" cy="280692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32000" y="3384720"/>
            <a:ext cx="76676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715000" y="399960"/>
            <a:ext cx="3427200" cy="4018320"/>
            <a:chOff x="5715000" y="399960"/>
            <a:chExt cx="3427200" cy="4018320"/>
          </a:xfrm>
        </p:grpSpPr>
        <p:sp>
          <p:nvSpPr>
            <p:cNvPr id="265" name=""/>
            <p:cNvSpPr/>
            <p:nvPr/>
          </p:nvSpPr>
          <p:spPr>
            <a:xfrm>
              <a:off x="6110280" y="928440"/>
              <a:ext cx="2520720" cy="2880000"/>
            </a:xfrm>
            <a:prstGeom prst="flowChartExtra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6080" y="399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15000" y="3836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67360" y="3746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7154640" y="3836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50520" y="157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82160" y="15256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1225600">
            <a:off x="6796080" y="598680"/>
            <a:ext cx="815400" cy="80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88" y="20797"/>
                </a:moveTo>
                <a:arcTo wR="10800" hR="10800" stAng="4065605" swAng="2058998"/>
                <a:lnTo>
                  <a:pt x="10800" y="10800"/>
                </a:lnTo>
                <a:close/>
              </a:path>
              <a:path fill="none" w="21600" h="21600">
                <a:moveTo>
                  <a:pt x="14888" y="20797"/>
                </a:moveTo>
                <a:arcTo wR="10800" hR="10800" stAng="4065605" swAng="205899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1225600">
            <a:off x="7105680" y="594720"/>
            <a:ext cx="812520" cy="80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4" y="21576"/>
                </a:moveTo>
                <a:arcTo wR="10800" hR="10800" stAng="5169490" swAng="1564904"/>
                <a:lnTo>
                  <a:pt x="10800" y="10800"/>
                </a:lnTo>
                <a:close/>
              </a:path>
              <a:path fill="none" w="21600" h="21600">
                <a:moveTo>
                  <a:pt x="11524" y="21576"/>
                </a:moveTo>
                <a:arcTo wR="10800" hR="10800" stAng="5169490" swAng="156490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103440" y="907920"/>
            <a:ext cx="2521440" cy="2879640"/>
            <a:chOff x="6103440" y="907920"/>
            <a:chExt cx="2521440" cy="2879640"/>
          </a:xfrm>
        </p:grpSpPr>
        <p:sp>
          <p:nvSpPr>
            <p:cNvPr id="276" name=""/>
            <p:cNvSpPr/>
            <p:nvPr/>
          </p:nvSpPr>
          <p:spPr>
            <a:xfrm flipH="1">
              <a:off x="6103440" y="907920"/>
              <a:ext cx="1260360" cy="2879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64160" y="907920"/>
              <a:ext cx="1260720" cy="2879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404120" y="123840"/>
            <a:ext cx="1952640" cy="10983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1490760" y="1384200"/>
            <a:ext cx="5292720" cy="3195720"/>
            <a:chOff x="1490760" y="1384200"/>
            <a:chExt cx="5292720" cy="3195720"/>
          </a:xfrm>
        </p:grpSpPr>
        <p:sp>
          <p:nvSpPr>
            <p:cNvPr id="280" name=""/>
            <p:cNvSpPr/>
            <p:nvPr/>
          </p:nvSpPr>
          <p:spPr>
            <a:xfrm>
              <a:off x="1490760" y="2582640"/>
              <a:ext cx="4037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作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B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中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83040" y="1384200"/>
              <a:ext cx="2628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作顶角的平分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2097360" y="2087640"/>
              <a:ext cx="4419360" cy="385560"/>
              <a:chOff x="2097360" y="2087640"/>
              <a:chExt cx="4419360" cy="385560"/>
            </a:xfrm>
          </p:grpSpPr>
          <p:sp>
            <p:nvSpPr>
              <p:cNvPr id="283" name=""/>
              <p:cNvSpPr/>
              <p:nvPr/>
            </p:nvSpPr>
            <p:spPr>
              <a:xfrm>
                <a:off x="2097360" y="2104920"/>
                <a:ext cx="441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证：△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BD≌ △ACD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62400" y="2087640"/>
                <a:ext cx="12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AS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011320" y="3187440"/>
              <a:ext cx="4419720" cy="385920"/>
              <a:chOff x="2011320" y="3187440"/>
              <a:chExt cx="4419720" cy="385920"/>
            </a:xfrm>
          </p:grpSpPr>
          <p:sp>
            <p:nvSpPr>
              <p:cNvPr id="286" name=""/>
              <p:cNvSpPr/>
              <p:nvPr/>
            </p:nvSpPr>
            <p:spPr>
              <a:xfrm>
                <a:off x="2011320" y="3205080"/>
                <a:ext cx="441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证：△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BD≌ △ACD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76720" y="3187440"/>
                <a:ext cx="1268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AS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400840" y="3681360"/>
              <a:ext cx="205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作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B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高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927440" y="4192560"/>
              <a:ext cx="4856040" cy="387360"/>
              <a:chOff x="1927440" y="4192560"/>
              <a:chExt cx="4856040" cy="387360"/>
            </a:xfrm>
          </p:grpSpPr>
          <p:sp>
            <p:nvSpPr>
              <p:cNvPr id="290" name=""/>
              <p:cNvSpPr/>
              <p:nvPr/>
            </p:nvSpPr>
            <p:spPr>
              <a:xfrm>
                <a:off x="1927440" y="4211640"/>
                <a:ext cx="373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ahoma"/>
                  </a:rPr>
                  <a:t>证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△ABD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△AC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62920" y="4192560"/>
                <a:ext cx="1420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（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H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）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 txBox="1"/>
          <p:nvPr/>
        </p:nvSpPr>
        <p:spPr>
          <a:xfrm>
            <a:off x="3243240" y="774720"/>
            <a:ext cx="216072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证法欣赏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803160" y="1405080"/>
            <a:ext cx="1638360" cy="3487320"/>
            <a:chOff x="803160" y="1405080"/>
            <a:chExt cx="1638360" cy="3487320"/>
          </a:xfrm>
        </p:grpSpPr>
        <p:grpSp>
          <p:nvGrpSpPr>
            <p:cNvPr id="294" name=""/>
            <p:cNvGrpSpPr/>
            <p:nvPr/>
          </p:nvGrpSpPr>
          <p:grpSpPr>
            <a:xfrm>
              <a:off x="853920" y="1405080"/>
              <a:ext cx="1587600" cy="1033200"/>
              <a:chOff x="853920" y="1405080"/>
              <a:chExt cx="1587600" cy="10332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853920" y="1405080"/>
                <a:ext cx="1163160" cy="1033200"/>
                <a:chOff x="853920" y="1405080"/>
                <a:chExt cx="1163160" cy="10332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013400" y="1405080"/>
                  <a:ext cx="1003680" cy="1033200"/>
                </a:xfrm>
                <a:custGeom>
                  <a:avLst/>
                  <a:gdLst>
                    <a:gd name="textAreaLeft" fmla="*/ 146880 w 1003680"/>
                    <a:gd name="textAreaRight" fmla="*/ 856800 w 1003680"/>
                    <a:gd name="textAreaTop" fmla="*/ 146880 h 1033200"/>
                    <a:gd name="textAreaBottom" fmla="*/ 886320 h 1033200"/>
                  </a:gdLst>
                  <a:ahLst/>
                  <a:rect l="textAreaLeft" t="textAreaTop" r="textAreaRight" b="textAreaBottom"/>
                  <a:pathLst>
                    <a:path w="21600" h="222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435"/>
                      </a:lnTo>
                      <a:arcTo wR="10800" hR="10800" stAng="10800000" swAng="-5400000"/>
                      <a:lnTo>
                        <a:pt x="10800" y="222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33cc">
                        <a:alpha val="10196"/>
                      </a:srgbClr>
                    </a:gs>
                    <a:gs pos="100000">
                      <a:srgbClr val="859de5"/>
                    </a:gs>
                  </a:gsLst>
                  <a:lin ang="5400000"/>
                </a:gradFill>
                <a:ln w="255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853920" y="1713960"/>
                  <a:ext cx="210960" cy="461160"/>
                  <a:chOff x="853920" y="1713960"/>
                  <a:chExt cx="210960" cy="461160"/>
                </a:xfrm>
              </p:grpSpPr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1713960"/>
                    <a:ext cx="210960" cy="4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9" name=""/>
                  <p:cNvSpPr/>
                  <p:nvPr/>
                </p:nvSpPr>
                <p:spPr>
                  <a:xfrm>
                    <a:off x="862920" y="1733760"/>
                    <a:ext cx="192600" cy="421200"/>
                  </a:xfrm>
                  <a:prstGeom prst="ellipse">
                    <a:avLst/>
                  </a:prstGeom>
                  <a:solidFill>
                    <a:srgbClr val="0000ff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1020600" y="1635120"/>
                <a:ext cx="142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方法</a:t>
                </a:r>
                <a:r>
                  <a:rPr b="1" lang="en-US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12520" y="2525760"/>
              <a:ext cx="1587600" cy="1033200"/>
              <a:chOff x="812520" y="2525760"/>
              <a:chExt cx="1587600" cy="10332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812520" y="2525760"/>
                <a:ext cx="1163160" cy="1033200"/>
                <a:chOff x="812520" y="2525760"/>
                <a:chExt cx="1163160" cy="1033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972000" y="2525760"/>
                  <a:ext cx="1003680" cy="1033200"/>
                </a:xfrm>
                <a:custGeom>
                  <a:avLst/>
                  <a:gdLst>
                    <a:gd name="textAreaLeft" fmla="*/ 146880 w 1003680"/>
                    <a:gd name="textAreaRight" fmla="*/ 856800 w 1003680"/>
                    <a:gd name="textAreaTop" fmla="*/ 146880 h 1033200"/>
                    <a:gd name="textAreaBottom" fmla="*/ 886320 h 1033200"/>
                  </a:gdLst>
                  <a:ahLst/>
                  <a:rect l="textAreaLeft" t="textAreaTop" r="textAreaRight" b="textAreaBottom"/>
                  <a:pathLst>
                    <a:path w="21600" h="222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435"/>
                      </a:lnTo>
                      <a:arcTo wR="10800" hR="10800" stAng="10800000" swAng="-5400000"/>
                      <a:lnTo>
                        <a:pt x="10800" y="222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33cc">
                        <a:alpha val="10196"/>
                      </a:srgbClr>
                    </a:gs>
                    <a:gs pos="100000">
                      <a:srgbClr val="859de5"/>
                    </a:gs>
                  </a:gsLst>
                  <a:lin ang="5400000"/>
                </a:gradFill>
                <a:ln w="255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812520" y="2834640"/>
                  <a:ext cx="210960" cy="461160"/>
                  <a:chOff x="812520" y="2834640"/>
                  <a:chExt cx="210960" cy="461160"/>
                </a:xfrm>
              </p:grpSpPr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520" y="2834640"/>
                    <a:ext cx="210960" cy="4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6" name=""/>
                  <p:cNvSpPr/>
                  <p:nvPr/>
                </p:nvSpPr>
                <p:spPr>
                  <a:xfrm>
                    <a:off x="821520" y="2854440"/>
                    <a:ext cx="192600" cy="421200"/>
                  </a:xfrm>
                  <a:prstGeom prst="ellipse">
                    <a:avLst/>
                  </a:prstGeom>
                  <a:solidFill>
                    <a:srgbClr val="0000ff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7" name=""/>
              <p:cNvSpPr/>
              <p:nvPr/>
            </p:nvSpPr>
            <p:spPr>
              <a:xfrm>
                <a:off x="979200" y="2755800"/>
                <a:ext cx="142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方法</a:t>
                </a:r>
                <a:r>
                  <a:rPr b="1" lang="en-US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803160" y="3859200"/>
              <a:ext cx="1587600" cy="1033200"/>
              <a:chOff x="803160" y="3859200"/>
              <a:chExt cx="1587600" cy="10332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803160" y="3859200"/>
                <a:ext cx="1163160" cy="1033200"/>
                <a:chOff x="803160" y="3859200"/>
                <a:chExt cx="1163160" cy="10332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62640" y="3859200"/>
                  <a:ext cx="1003680" cy="1033200"/>
                </a:xfrm>
                <a:custGeom>
                  <a:avLst/>
                  <a:gdLst>
                    <a:gd name="textAreaLeft" fmla="*/ 146880 w 1003680"/>
                    <a:gd name="textAreaRight" fmla="*/ 856800 w 1003680"/>
                    <a:gd name="textAreaTop" fmla="*/ 146880 h 1033200"/>
                    <a:gd name="textAreaBottom" fmla="*/ 886320 h 1033200"/>
                  </a:gdLst>
                  <a:ahLst/>
                  <a:rect l="textAreaLeft" t="textAreaTop" r="textAreaRight" b="textAreaBottom"/>
                  <a:pathLst>
                    <a:path w="21600" h="222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435"/>
                      </a:lnTo>
                      <a:arcTo wR="10800" hR="10800" stAng="10800000" swAng="-5400000"/>
                      <a:lnTo>
                        <a:pt x="10800" y="222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33cc">
                        <a:alpha val="10196"/>
                      </a:srgbClr>
                    </a:gs>
                    <a:gs pos="100000">
                      <a:srgbClr val="859de5"/>
                    </a:gs>
                  </a:gsLst>
                  <a:lin ang="5400000"/>
                </a:gradFill>
                <a:ln w="255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803160" y="4168080"/>
                  <a:ext cx="210960" cy="461160"/>
                  <a:chOff x="803160" y="4168080"/>
                  <a:chExt cx="210960" cy="461160"/>
                </a:xfrm>
              </p:grpSpPr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4168080"/>
                    <a:ext cx="210960" cy="4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" name=""/>
                  <p:cNvSpPr/>
                  <p:nvPr/>
                </p:nvSpPr>
                <p:spPr>
                  <a:xfrm>
                    <a:off x="812160" y="4187880"/>
                    <a:ext cx="192600" cy="421200"/>
                  </a:xfrm>
                  <a:prstGeom prst="ellipse">
                    <a:avLst/>
                  </a:prstGeom>
                  <a:solidFill>
                    <a:srgbClr val="0000ff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>
                <a:off x="969840" y="4089240"/>
                <a:ext cx="142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方法</a:t>
                </a:r>
                <a:r>
                  <a:rPr b="1" lang="en-US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3</a:t>
                </a: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770040" y="0"/>
            <a:ext cx="6494400" cy="615600"/>
            <a:chOff x="770040" y="0"/>
            <a:chExt cx="6494400" cy="615600"/>
          </a:xfrm>
        </p:grpSpPr>
        <p:sp>
          <p:nvSpPr>
            <p:cNvPr id="316" name=""/>
            <p:cNvSpPr/>
            <p:nvPr/>
          </p:nvSpPr>
          <p:spPr>
            <a:xfrm>
              <a:off x="2691000" y="3636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引导学生推理证明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70040" y="0"/>
              <a:ext cx="2870280" cy="592200"/>
              <a:chOff x="770040" y="0"/>
              <a:chExt cx="2870280" cy="5922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770040" y="84240"/>
                <a:ext cx="1757520" cy="507960"/>
                <a:chOff x="770040" y="84240"/>
                <a:chExt cx="1757520" cy="5079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011240" y="8424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770040" y="236160"/>
                  <a:ext cx="318960" cy="226440"/>
                  <a:chOff x="770040" y="236160"/>
                  <a:chExt cx="318960" cy="226440"/>
                </a:xfrm>
              </p:grpSpPr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0040" y="23616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2" name=""/>
                  <p:cNvSpPr/>
                  <p:nvPr/>
                </p:nvSpPr>
                <p:spPr>
                  <a:xfrm>
                    <a:off x="783720" y="24588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1146240" y="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例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85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385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38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38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1552680" y="3112920"/>
            <a:ext cx="2818800" cy="2863800"/>
            <a:chOff x="1552680" y="3112920"/>
            <a:chExt cx="2818800" cy="2863800"/>
          </a:xfrm>
        </p:grpSpPr>
        <p:grpSp>
          <p:nvGrpSpPr>
            <p:cNvPr id="325" name=""/>
            <p:cNvGrpSpPr/>
            <p:nvPr/>
          </p:nvGrpSpPr>
          <p:grpSpPr>
            <a:xfrm>
              <a:off x="1563480" y="3473280"/>
              <a:ext cx="2015640" cy="2038320"/>
              <a:chOff x="1563480" y="3473280"/>
              <a:chExt cx="2015640" cy="2038320"/>
            </a:xfrm>
          </p:grpSpPr>
          <p:sp>
            <p:nvSpPr>
              <p:cNvPr id="326" name=""/>
              <p:cNvSpPr/>
              <p:nvPr/>
            </p:nvSpPr>
            <p:spPr>
              <a:xfrm>
                <a:off x="1563480" y="3473280"/>
                <a:ext cx="2015640" cy="20160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75800" y="3530520"/>
                <a:ext cx="0" cy="198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268360" y="31129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2680" y="56084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95480" y="53402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5560" y="56019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43040" y="1089000"/>
            <a:ext cx="89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论证等腰三角形的性质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684440" y="1670040"/>
            <a:ext cx="6336720" cy="1225440"/>
            <a:chOff x="1684440" y="1670040"/>
            <a:chExt cx="6336720" cy="1225440"/>
          </a:xfrm>
        </p:grpSpPr>
        <p:grpSp>
          <p:nvGrpSpPr>
            <p:cNvPr id="334" name=""/>
            <p:cNvGrpSpPr/>
            <p:nvPr/>
          </p:nvGrpSpPr>
          <p:grpSpPr>
            <a:xfrm>
              <a:off x="1684440" y="1670040"/>
              <a:ext cx="6336720" cy="1225440"/>
              <a:chOff x="1684440" y="1670040"/>
              <a:chExt cx="6336720" cy="1225440"/>
            </a:xfrm>
          </p:grpSpPr>
          <p:sp>
            <p:nvSpPr>
              <p:cNvPr id="335" name=""/>
              <p:cNvSpPr/>
              <p:nvPr/>
            </p:nvSpPr>
            <p:spPr>
              <a:xfrm>
                <a:off x="1684440" y="2374920"/>
                <a:ext cx="61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求证：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D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平分∠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BAC 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，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D⊥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33520" y="1670040"/>
                <a:ext cx="568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已知：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在△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BC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中，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B=AC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，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D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是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3901680" y="2077920"/>
              <a:ext cx="130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边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C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上的中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19240" y="233280"/>
            <a:ext cx="6494400" cy="615600"/>
            <a:chOff x="1119240" y="233280"/>
            <a:chExt cx="6494400" cy="615600"/>
          </a:xfrm>
        </p:grpSpPr>
        <p:sp>
          <p:nvSpPr>
            <p:cNvPr id="339" name=""/>
            <p:cNvSpPr/>
            <p:nvPr/>
          </p:nvSpPr>
          <p:spPr>
            <a:xfrm>
              <a:off x="3040200" y="26964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引导学生推理证明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119240" y="233280"/>
              <a:ext cx="2870280" cy="592200"/>
              <a:chOff x="1119240" y="233280"/>
              <a:chExt cx="2870280" cy="59220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1119240" y="317520"/>
                <a:ext cx="1757520" cy="507960"/>
                <a:chOff x="1119240" y="317520"/>
                <a:chExt cx="1757520" cy="5079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360440" y="31752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1119240" y="469440"/>
                  <a:ext cx="318960" cy="226440"/>
                  <a:chOff x="1119240" y="469440"/>
                  <a:chExt cx="318960" cy="226440"/>
                </a:xfrm>
              </p:grpSpPr>
              <p:pic>
                <p:nvPicPr>
                  <p:cNvPr id="34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119240" y="46944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5" name=""/>
                  <p:cNvSpPr/>
                  <p:nvPr/>
                </p:nvSpPr>
                <p:spPr>
                  <a:xfrm>
                    <a:off x="1132920" y="47916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1495440" y="23328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例题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74680" y="1230480"/>
            <a:ext cx="24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得出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87600" y="1139760"/>
            <a:ext cx="457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等腰三角形的性质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888240" y="2225520"/>
            <a:ext cx="2255400" cy="2802240"/>
            <a:chOff x="6888240" y="2225520"/>
            <a:chExt cx="2255400" cy="2802240"/>
          </a:xfrm>
        </p:grpSpPr>
        <p:sp>
          <p:nvSpPr>
            <p:cNvPr id="350" name=""/>
            <p:cNvSpPr/>
            <p:nvPr/>
          </p:nvSpPr>
          <p:spPr>
            <a:xfrm>
              <a:off x="7214040" y="2248200"/>
              <a:ext cx="1869840" cy="24051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42480" y="2318040"/>
              <a:ext cx="0" cy="233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77720" y="22255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88240" y="44287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31880" y="4659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9160" y="46576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39800" y="1932120"/>
            <a:ext cx="8064360" cy="2089440"/>
            <a:chOff x="739800" y="1932120"/>
            <a:chExt cx="8064360" cy="2089440"/>
          </a:xfrm>
        </p:grpSpPr>
        <p:sp>
          <p:nvSpPr>
            <p:cNvPr id="357" name=""/>
            <p:cNvSpPr/>
            <p:nvPr/>
          </p:nvSpPr>
          <p:spPr>
            <a:xfrm>
              <a:off x="1100160" y="1932120"/>
              <a:ext cx="7704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）等腰三角形的两个底角相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简写成“</a:t>
              </a: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等边对等角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”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800" y="2830320"/>
              <a:ext cx="77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）等腰三角形的顶角平线、底边上中线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底边上的高线相互重合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（简写成“</a:t>
              </a: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三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             </a:t>
              </a: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合一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”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270080" y="4743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等腰三角形是轴对称图形，对称轴是底边上的中线（底边上的高线，顶角平分线）所在的直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82800" y="235080"/>
            <a:ext cx="8140680" cy="615600"/>
            <a:chOff x="982800" y="235080"/>
            <a:chExt cx="8140680" cy="615600"/>
          </a:xfrm>
        </p:grpSpPr>
        <p:sp>
          <p:nvSpPr>
            <p:cNvPr id="361" name=""/>
            <p:cNvSpPr/>
            <p:nvPr/>
          </p:nvSpPr>
          <p:spPr>
            <a:xfrm>
              <a:off x="2138400" y="271440"/>
              <a:ext cx="6985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师生共同归纳等腰三角形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982800" y="235080"/>
              <a:ext cx="2870280" cy="592200"/>
              <a:chOff x="982800" y="235080"/>
              <a:chExt cx="2870280" cy="59220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982800" y="319320"/>
                <a:ext cx="1757520" cy="507960"/>
                <a:chOff x="982800" y="319320"/>
                <a:chExt cx="1757520" cy="5079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224000" y="31932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982800" y="471240"/>
                  <a:ext cx="318960" cy="226440"/>
                  <a:chOff x="982800" y="471240"/>
                  <a:chExt cx="318960" cy="226440"/>
                </a:xfrm>
              </p:grpSpPr>
              <p:pic>
                <p:nvPicPr>
                  <p:cNvPr id="366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982800" y="47124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7" name=""/>
                  <p:cNvSpPr/>
                  <p:nvPr/>
                </p:nvSpPr>
                <p:spPr>
                  <a:xfrm>
                    <a:off x="996480" y="48096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8" name=""/>
              <p:cNvSpPr/>
              <p:nvPr/>
            </p:nvSpPr>
            <p:spPr>
              <a:xfrm>
                <a:off x="1359000" y="23508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归纳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2036880" y="506160"/>
            <a:ext cx="5975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：如图：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533840" y="4121280"/>
            <a:ext cx="1993320" cy="641160"/>
            <a:chOff x="4533840" y="4121280"/>
            <a:chExt cx="1993320" cy="641160"/>
          </a:xfrm>
        </p:grpSpPr>
        <p:sp>
          <p:nvSpPr>
            <p:cNvPr id="371" name=""/>
            <p:cNvSpPr/>
            <p:nvPr/>
          </p:nvSpPr>
          <p:spPr>
            <a:xfrm>
              <a:off x="4533840" y="4121280"/>
              <a:ext cx="183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43920" y="4121280"/>
              <a:ext cx="183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93720" y="1731960"/>
            <a:ext cx="2741760" cy="3394800"/>
            <a:chOff x="693720" y="1731960"/>
            <a:chExt cx="2741760" cy="3394800"/>
          </a:xfrm>
        </p:grpSpPr>
        <p:sp>
          <p:nvSpPr>
            <p:cNvPr id="374" name=""/>
            <p:cNvSpPr/>
            <p:nvPr/>
          </p:nvSpPr>
          <p:spPr>
            <a:xfrm>
              <a:off x="2049840" y="2773440"/>
              <a:ext cx="30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693720" y="1731960"/>
              <a:ext cx="2741760" cy="3394800"/>
              <a:chOff x="693720" y="1731960"/>
              <a:chExt cx="2741760" cy="3394800"/>
            </a:xfrm>
          </p:grpSpPr>
          <p:sp>
            <p:nvSpPr>
              <p:cNvPr id="376" name=""/>
              <p:cNvSpPr/>
              <p:nvPr/>
            </p:nvSpPr>
            <p:spPr>
              <a:xfrm>
                <a:off x="1745280" y="4545360"/>
                <a:ext cx="68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693720" y="1731960"/>
                <a:ext cx="2741760" cy="3220200"/>
                <a:chOff x="693720" y="1731960"/>
                <a:chExt cx="2741760" cy="32202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693720" y="1731960"/>
                  <a:ext cx="2741760" cy="3220200"/>
                  <a:chOff x="693720" y="1731960"/>
                  <a:chExt cx="2741760" cy="3220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1178280" y="2147400"/>
                    <a:ext cx="1780920" cy="2438280"/>
                  </a:xfrm>
                  <a:prstGeom prst="flowChartExtra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833120" y="173196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93720" y="435492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960640" y="437076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2052720" y="2232720"/>
                  <a:ext cx="0" cy="23652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1477800" y="2058840"/>
                  <a:ext cx="814680" cy="1059480"/>
                  <a:chOff x="1477800" y="2058840"/>
                  <a:chExt cx="814680" cy="10594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1754640" y="27500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21225600">
                    <a:off x="1514520" y="2097000"/>
                    <a:ext cx="740520" cy="721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888" y="20797"/>
                        </a:moveTo>
                        <a:arcTo wR="10800" hR="10800" stAng="4065605" swAng="20589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888" y="20797"/>
                        </a:moveTo>
                        <a:arcTo wR="10800" hR="10800" stAng="4065605" swAng="2058998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rot="21225600">
                  <a:off x="1796040" y="1996200"/>
                  <a:ext cx="738000" cy="72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524" y="21576"/>
                      </a:moveTo>
                      <a:arcTo wR="10800" hR="10800" stAng="5169490" swAng="15649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524" y="21576"/>
                      </a:moveTo>
                      <a:arcTo wR="10800" hR="10800" stAng="5169490" swAng="1564904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8" name=""/>
          <p:cNvSpPr/>
          <p:nvPr/>
        </p:nvSpPr>
        <p:spPr>
          <a:xfrm>
            <a:off x="3230640" y="1735200"/>
            <a:ext cx="216000" cy="25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582560" y="1106640"/>
            <a:ext cx="7704000" cy="3282120"/>
            <a:chOff x="1582560" y="1106640"/>
            <a:chExt cx="7704000" cy="3282120"/>
          </a:xfrm>
        </p:grpSpPr>
        <p:sp>
          <p:nvSpPr>
            <p:cNvPr id="390" name=""/>
            <p:cNvSpPr/>
            <p:nvPr/>
          </p:nvSpPr>
          <p:spPr>
            <a:xfrm>
              <a:off x="3422520" y="1703160"/>
              <a:ext cx="568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(1) ∵ AB=AC ,AD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是角平分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    ∴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D⊥</a:t>
              </a:r>
              <a:r>
                <a:rPr b="1" lang="en-US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，</a:t>
              </a:r>
              <a:r>
                <a:rPr b="1" lang="zh-CN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49040" y="2651040"/>
              <a:ext cx="4012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(2) ∵ AB=AC,AD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是中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    ∴ </a:t>
              </a:r>
              <a:r>
                <a:rPr b="1" lang="en-US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⊥</a:t>
              </a:r>
              <a:r>
                <a:rPr b="1" lang="en-US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∠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＿＝∠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5760" y="3441600"/>
              <a:ext cx="586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(3) ∵ AB=AC,AD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是高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    ∴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＿ ＝ 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    ∠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＿＝∠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82560" y="1106640"/>
              <a:ext cx="75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性质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：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∵</a:t>
              </a:r>
              <a:r>
                <a:rPr b="0" lang="zh-CN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B=AC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，∴∠＿＿＝∠＿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8920" y="1657080"/>
              <a:ext cx="14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性质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10120" y="255600"/>
            <a:ext cx="1155240" cy="2592360"/>
          </a:xfrm>
          <a:prstGeom prst="rect">
            <a:avLst/>
          </a:prstGeom>
          <a:gradFill rotWithShape="0">
            <a:gsLst>
              <a:gs pos="0">
                <a:srgbClr val="ff0066">
                  <a:alpha val="49019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几何语言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1163520" y="3538440"/>
            <a:ext cx="7657920" cy="1717560"/>
            <a:chOff x="1163520" y="3538440"/>
            <a:chExt cx="7657920" cy="1717560"/>
          </a:xfrm>
        </p:grpSpPr>
        <p:sp>
          <p:nvSpPr>
            <p:cNvPr id="397" name=""/>
            <p:cNvSpPr/>
            <p:nvPr/>
          </p:nvSpPr>
          <p:spPr>
            <a:xfrm>
              <a:off x="1698480" y="4019400"/>
              <a:ext cx="22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① 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顶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+2×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底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=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39520" y="4467240"/>
              <a:ext cx="22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② 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顶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=180°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－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2×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65520" y="4887720"/>
              <a:ext cx="260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③ 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底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180°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－顶角）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÷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0160" y="4295520"/>
              <a:ext cx="3581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宋体"/>
                </a:rPr>
                <a:t>④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0°</a:t>
              </a:r>
              <a:r>
                <a:rPr b="1" lang="zh-CN" sz="1800" spc="-1" strike="noStrike">
                  <a:solidFill>
                    <a:srgbClr val="a50021"/>
                  </a:solidFill>
                  <a:latin typeface="宋体"/>
                </a:rPr>
                <a:t>＜顶角＜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⑤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0°</a:t>
              </a:r>
              <a:r>
                <a:rPr b="1" lang="zh-CN" sz="1800" spc="-1" strike="noStrike">
                  <a:solidFill>
                    <a:srgbClr val="a50021"/>
                  </a:solidFill>
                  <a:latin typeface="宋体"/>
                </a:rPr>
                <a:t>＜底角＜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9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63520" y="3538440"/>
              <a:ext cx="42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结论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: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在等腰三角形中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-42840" y="1643040"/>
            <a:ext cx="8969400" cy="1865160"/>
            <a:chOff x="-42840" y="1643040"/>
            <a:chExt cx="8969400" cy="1865160"/>
          </a:xfrm>
        </p:grpSpPr>
        <p:sp>
          <p:nvSpPr>
            <p:cNvPr id="404" name=""/>
            <p:cNvSpPr/>
            <p:nvPr/>
          </p:nvSpPr>
          <p:spPr>
            <a:xfrm>
              <a:off x="411120" y="1643040"/>
              <a:ext cx="85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（</a:t>
              </a:r>
              <a:r>
                <a:rPr b="1" lang="en-US" sz="1800" spc="-1" strike="noStrike">
                  <a:solidFill>
                    <a:srgbClr val="000099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）等腰三角形一个底角为</a:t>
              </a:r>
              <a:r>
                <a:rPr b="1" lang="en-US" sz="1800" spc="-1" strike="noStrike">
                  <a:solidFill>
                    <a:srgbClr val="000099"/>
                  </a:solidFill>
                  <a:latin typeface="宋体"/>
                </a:rPr>
                <a:t>70°,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它的另外两个为</a:t>
              </a:r>
              <a:r>
                <a:rPr b="1" lang="zh-CN" sz="1800" spc="-1" strike="noStrike" u="sng">
                  <a:solidFill>
                    <a:srgbClr val="000099"/>
                  </a:solidFill>
                  <a:uFillTx/>
                  <a:latin typeface="宋体"/>
                </a:rPr>
                <a:t>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8000" y="2619360"/>
              <a:ext cx="823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3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）等腰三角形一个角为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50°,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它的另外两个角为</a:t>
              </a:r>
              <a:r>
                <a:rPr b="1" lang="zh-CN" sz="1800" spc="-1" strike="noStrike" u="sng">
                  <a:solidFill>
                    <a:srgbClr val="000099"/>
                  </a:solidFill>
                  <a:uFillTx/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440" y="3051000"/>
              <a:ext cx="815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42840" y="2136600"/>
              <a:ext cx="847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2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）等腰三角形一个顶角为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80°,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它的另外两个角为</a:t>
              </a:r>
              <a:r>
                <a:rPr b="1" lang="zh-CN" sz="1800" spc="-1" strike="noStrike" u="sng">
                  <a:solidFill>
                    <a:srgbClr val="000099"/>
                  </a:solidFill>
                  <a:uFillTx/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52360" y="44280"/>
            <a:ext cx="252108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981000"/>
            <a:ext cx="207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、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24160" y="1714680"/>
            <a:ext cx="3233520" cy="323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ecb8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7080" y="787320"/>
            <a:ext cx="581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等腰三角形的性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844560" y="1047600"/>
            <a:ext cx="88041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图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AB=AC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D=BC=AD,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图中共有几个等腰三角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861080" y="2781360"/>
            <a:ext cx="2037960" cy="3297240"/>
            <a:chOff x="4861080" y="2781360"/>
            <a:chExt cx="2037960" cy="3297240"/>
          </a:xfrm>
        </p:grpSpPr>
        <p:sp>
          <p:nvSpPr>
            <p:cNvPr id="412" name=""/>
            <p:cNvSpPr/>
            <p:nvPr/>
          </p:nvSpPr>
          <p:spPr>
            <a:xfrm>
              <a:off x="5228280" y="3046680"/>
              <a:ext cx="1562040" cy="25473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218920" y="4592880"/>
              <a:ext cx="123660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861080" y="2781360"/>
              <a:ext cx="2037960" cy="3297240"/>
              <a:chOff x="4861080" y="2781360"/>
              <a:chExt cx="2037960" cy="3297240"/>
            </a:xfrm>
          </p:grpSpPr>
          <p:sp>
            <p:nvSpPr>
              <p:cNvPr id="415" name=""/>
              <p:cNvSpPr/>
              <p:nvPr/>
            </p:nvSpPr>
            <p:spPr>
              <a:xfrm>
                <a:off x="6539760" y="41979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61080" y="5446440"/>
                <a:ext cx="32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16760" y="2781360"/>
                <a:ext cx="3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573600" y="571032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12720" y="2133720"/>
            <a:ext cx="72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宋体"/>
              </a:rPr>
              <a:t>(2)</a:t>
            </a:r>
            <a:r>
              <a:rPr b="1" lang="zh-CN" sz="1800" spc="-1" strike="noStrike">
                <a:solidFill>
                  <a:srgbClr val="6600cc"/>
                </a:solidFill>
                <a:latin typeface="宋体"/>
              </a:rPr>
              <a:t>设</a:t>
            </a:r>
            <a:r>
              <a:rPr b="0" lang="zh-CN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∠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A</a:t>
            </a:r>
            <a:r>
              <a:rPr b="0" lang="zh-CN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为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x°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你能分别表示出 图中其它各角吗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89000"/>
            <a:ext cx="266544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拓展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47640" y="249228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(3)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你能求出△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ABC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各角的度数吗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9280" y="270828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变式训练：若已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=100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º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你能否求出顶架上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D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D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度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924360" y="3933720"/>
            <a:ext cx="3816000" cy="1870560"/>
            <a:chOff x="3924360" y="3933720"/>
            <a:chExt cx="3816000" cy="1870560"/>
          </a:xfrm>
        </p:grpSpPr>
        <p:sp>
          <p:nvSpPr>
            <p:cNvPr id="424" name=""/>
            <p:cNvSpPr/>
            <p:nvPr/>
          </p:nvSpPr>
          <p:spPr>
            <a:xfrm>
              <a:off x="5490720" y="3933720"/>
              <a:ext cx="6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24360" y="5314680"/>
              <a:ext cx="7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61560" y="540540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5520" y="5333400"/>
              <a:ext cx="7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72200" y="4337280"/>
              <a:ext cx="2872440" cy="1093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08600" y="4337280"/>
              <a:ext cx="0" cy="1086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83760" y="5242680"/>
              <a:ext cx="19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7280" y="5242680"/>
              <a:ext cx="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324000" y="189000"/>
            <a:ext cx="257148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拓展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1262520"/>
            <a:ext cx="79214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现在工人师傅要加固屋顶，他们通过测量找到了横梁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中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然后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点之间钉上一根木桩，他们认为木桩是垂直横梁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他们的说法对吗？请说明理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1116000" y="1700280"/>
            <a:ext cx="20113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谈谈收获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995640" y="1557360"/>
            <a:ext cx="39513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这节课我们学到了什么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333360"/>
            <a:ext cx="141768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54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150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80513"/>
              <a:gd name="adj2" fmla="val 364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952720" cy="266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3384720" cy="273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08000" y="11736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观察下面的图形，你能发现它们有什么共同特点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580000" y="3500280"/>
            <a:ext cx="3384720" cy="295128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132000" y="1844640"/>
            <a:ext cx="2448000" cy="3313080"/>
            <a:chOff x="3132000" y="1844640"/>
            <a:chExt cx="2448000" cy="3313080"/>
          </a:xfrm>
        </p:grpSpPr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3132000" y="1844640"/>
              <a:ext cx="244800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254120" y="3427560"/>
              <a:ext cx="264960" cy="1177920"/>
            </a:xfrm>
            <a:prstGeom prst="line">
              <a:avLst/>
            </a:prstGeom>
            <a:ln w="57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4120" y="3390480"/>
              <a:ext cx="570960" cy="0"/>
            </a:xfrm>
            <a:prstGeom prst="line">
              <a:avLst/>
            </a:prstGeom>
            <a:ln w="57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539240" y="3390480"/>
              <a:ext cx="285480" cy="1288080"/>
            </a:xfrm>
            <a:prstGeom prst="line">
              <a:avLst/>
            </a:prstGeom>
            <a:ln w="57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2692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北京五塔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27640" y="35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西安半坡博物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692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Comic Sans MS"/>
              </a:rPr>
              <a:t>斜拉桥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1484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Comic Sans MS"/>
              </a:rPr>
              <a:t>体育观看台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Comic Sans MS"/>
              </a:rPr>
              <a:t>埃及金字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116000" y="1268280"/>
            <a:ext cx="1008000" cy="151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781360"/>
            <a:ext cx="1584360" cy="71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268280"/>
            <a:ext cx="647640" cy="158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573360"/>
            <a:ext cx="792360" cy="172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84000" y="3646440"/>
            <a:ext cx="865080" cy="172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84360" y="5300280"/>
            <a:ext cx="1657080" cy="73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05360"/>
            <a:ext cx="1513080" cy="194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80360" y="4005360"/>
            <a:ext cx="1763640" cy="194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950080"/>
            <a:ext cx="32767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6720" y="1341360"/>
            <a:ext cx="215640" cy="1150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812000" y="1413000"/>
            <a:ext cx="144720" cy="107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811640" y="2492280"/>
            <a:ext cx="36036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72000" y="3357720"/>
            <a:ext cx="287280" cy="1295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3080" y="3357720"/>
            <a:ext cx="287640" cy="1295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3357720"/>
            <a:ext cx="6462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5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5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5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5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203040"/>
            <a:ext cx="6408720" cy="4435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22520" y="329076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△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什么特点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956280" y="3979800"/>
            <a:ext cx="1192320" cy="4651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47200" y="1609560"/>
            <a:ext cx="53568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隶书"/>
              </a:rPr>
              <a:t>看一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12680" y="463860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提问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剪出的三角形是等腰三角形吗？并指出其中的腰、底边、顶角、底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360" y="260280"/>
            <a:ext cx="9072000" cy="737640"/>
            <a:chOff x="-36360" y="260280"/>
            <a:chExt cx="9072000" cy="737640"/>
          </a:xfrm>
        </p:grpSpPr>
        <p:sp>
          <p:nvSpPr>
            <p:cNvPr id="106" name=""/>
            <p:cNvSpPr/>
            <p:nvPr/>
          </p:nvSpPr>
          <p:spPr>
            <a:xfrm>
              <a:off x="2647080" y="296640"/>
              <a:ext cx="6388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实践观察，认识等腰三角形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-36360" y="260280"/>
              <a:ext cx="4008600" cy="592200"/>
              <a:chOff x="-36360" y="260280"/>
              <a:chExt cx="4008600" cy="5922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-36360" y="344520"/>
                <a:ext cx="2454120" cy="507960"/>
                <a:chOff x="-36360" y="344520"/>
                <a:chExt cx="2454120" cy="5079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00240" y="344520"/>
                  <a:ext cx="21175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-36360" y="496440"/>
                  <a:ext cx="445320" cy="226440"/>
                  <a:chOff x="-36360" y="496440"/>
                  <a:chExt cx="445320" cy="226440"/>
                </a:xfrm>
              </p:grpSpPr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496440"/>
                    <a:ext cx="44532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" name=""/>
                  <p:cNvSpPr/>
                  <p:nvPr/>
                </p:nvSpPr>
                <p:spPr>
                  <a:xfrm>
                    <a:off x="-16920" y="506160"/>
                    <a:ext cx="4064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>
                <a:off x="488880" y="260280"/>
                <a:ext cx="3483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探究一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14640" y="58572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576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38480" y="3068640"/>
            <a:ext cx="198108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228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61080" y="3040200"/>
            <a:ext cx="1941480" cy="378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6560" y="1844640"/>
            <a:ext cx="86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6560" y="1844640"/>
            <a:ext cx="86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</a:t>
            </a:r>
            <a:r>
              <a:rPr b="1" lang="zh-CN" sz="1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solidFill>
            <a:srgbClr val="00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61080" y="3040200"/>
            <a:ext cx="1941480" cy="3789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576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12:37:19Z</dcterms:created>
  <dc:creator/>
  <dc:description/>
  <cp:keywords/>
  <dc:language>en-US</dc:language>
  <cp:lastModifiedBy/>
  <dcterms:modified xsi:type="dcterms:W3CDTF">2015-10-28T10:31:5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