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gif" ContentType="image/gif"/>
  <Override PartName="/ppt/media/image9.png" ContentType="image/pn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chimes.wav" ContentType="audio/x-wav"/>
  <Override PartName="/ppt/media/image6.jpeg" ContentType="image/jpeg"/>
  <Override PartName="/ppt/media/image8.png" ContentType="image/png"/>
  <Override PartName="/ppt/media/image5.jpeg" ContentType="image/jpeg"/>
  <Override PartName="/ppt/media/image15.gif" ContentType="image/gif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8683625" cy="11753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74E1-341D-430B-8DD0-25B22964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EC62-2C81-4AEA-8907-21281F14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D1A9-19CA-4482-B6EF-423F4020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30E8-A81D-4CBA-8191-987BE15C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BBA7-E3D0-434F-8DF0-12AD256E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87A7-5426-4E97-ABF9-6BA2D2B4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A61E-A3B7-4871-9885-4213CE03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3AF0-B885-46E3-9C71-D4253130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4987-8209-4E09-B90E-B4F8C0B9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C36B-5F8C-44E5-8C74-D6614D7C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CD3E-5B35-498A-8274-7DB9BF89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8F5C-9EE9-44C5-82AB-E4996401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83B9-ADA7-4DCC-B6AC-66145903EC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gif"/><Relationship Id="rId3" Type="http://schemas.openxmlformats.org/officeDocument/2006/relationships/image" Target="../media/image2.jpeg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.jpeg"/><Relationship Id="rId3" Type="http://schemas.openxmlformats.org/officeDocument/2006/relationships/slide" Target="slide21.xm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3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gif"/><Relationship Id="rId3" Type="http://schemas.openxmlformats.org/officeDocument/2006/relationships/image" Target="../media/image2.jpeg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gif"/><Relationship Id="rId3" Type="http://schemas.openxmlformats.org/officeDocument/2006/relationships/image" Target="../media/image2.jpeg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.jpeg"/><Relationship Id="rId3" Type="http://schemas.openxmlformats.org/officeDocument/2006/relationships/slide" Target="slide13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gif"/><Relationship Id="rId3" Type="http://schemas.openxmlformats.org/officeDocument/2006/relationships/image" Target="../media/image2.jpeg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6720" y="620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有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两条边相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的三角形叫做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等腰三角形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6760" y="4600440"/>
            <a:ext cx="8569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腰三角形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相等的两边叫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做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另一边叫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底边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两腰的夹角叫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顶角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腰和底边的夹角叫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底角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965320" y="1200240"/>
            <a:ext cx="3352680" cy="3111480"/>
            <a:chOff x="2965320" y="1200240"/>
            <a:chExt cx="3352680" cy="3111480"/>
          </a:xfrm>
        </p:grpSpPr>
        <p:sp>
          <p:nvSpPr>
            <p:cNvPr id="44" name=""/>
            <p:cNvSpPr/>
            <p:nvPr/>
          </p:nvSpPr>
          <p:spPr>
            <a:xfrm>
              <a:off x="3422520" y="1657440"/>
              <a:ext cx="2438280" cy="24382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13240" y="1200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937120" y="38671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65320" y="39434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419280" y="1668600"/>
            <a:ext cx="2438640" cy="2438280"/>
            <a:chOff x="3419280" y="1668600"/>
            <a:chExt cx="2438640" cy="2438280"/>
          </a:xfrm>
        </p:grpSpPr>
        <p:sp>
          <p:nvSpPr>
            <p:cNvPr id="49" name=""/>
            <p:cNvSpPr/>
            <p:nvPr/>
          </p:nvSpPr>
          <p:spPr>
            <a:xfrm flipH="1">
              <a:off x="3419280" y="1668600"/>
              <a:ext cx="1219320" cy="243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38960" y="1668600"/>
              <a:ext cx="1218960" cy="243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417840" y="4070520"/>
            <a:ext cx="2438280" cy="144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059280" y="2852640"/>
            <a:ext cx="3217320" cy="609480"/>
            <a:chOff x="3059280" y="2852640"/>
            <a:chExt cx="3217320" cy="609480"/>
          </a:xfrm>
        </p:grpSpPr>
        <p:sp>
          <p:nvSpPr>
            <p:cNvPr id="53" name=""/>
            <p:cNvSpPr/>
            <p:nvPr/>
          </p:nvSpPr>
          <p:spPr>
            <a:xfrm>
              <a:off x="5534280" y="2852640"/>
              <a:ext cx="742320" cy="609480"/>
            </a:xfrm>
            <a:prstGeom prst="wedgeEllipseCallout">
              <a:avLst>
                <a:gd name="adj1" fmla="val -97222"/>
                <a:gd name="adj2" fmla="val 538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59280" y="2852640"/>
              <a:ext cx="742320" cy="609480"/>
            </a:xfrm>
            <a:prstGeom prst="wedgeEllipseCallout">
              <a:avLst>
                <a:gd name="adj1" fmla="val 83101"/>
                <a:gd name="adj2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475160" y="4352760"/>
            <a:ext cx="863640" cy="457200"/>
          </a:xfrm>
          <a:prstGeom prst="wedgeRoundRectCallout">
            <a:avLst>
              <a:gd name="adj1" fmla="val -90990"/>
              <a:gd name="adj2" fmla="val -9756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隶书"/>
              </a:rPr>
              <a:t>底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092840" y="1829160"/>
            <a:ext cx="790200" cy="858600"/>
            <a:chOff x="4092840" y="1829160"/>
            <a:chExt cx="790200" cy="858600"/>
          </a:xfrm>
        </p:grpSpPr>
        <p:sp>
          <p:nvSpPr>
            <p:cNvPr id="57" name=""/>
            <p:cNvSpPr/>
            <p:nvPr/>
          </p:nvSpPr>
          <p:spPr>
            <a:xfrm rot="6028800">
              <a:off x="4475520" y="1779480"/>
              <a:ext cx="153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848" y="749"/>
                  </a:moveTo>
                  <a:arcTo wR="10800" hR="10800" stAng="-6687910" swAng="6687910"/>
                  <a:lnTo>
                    <a:pt x="10800" y="10800"/>
                  </a:lnTo>
                  <a:close/>
                </a:path>
                <a:path fill="none" w="21600" h="21600">
                  <a:moveTo>
                    <a:pt x="6848" y="749"/>
                  </a:moveTo>
                  <a:arcTo wR="10800" hR="10800" stAng="-6687910" swAng="668791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092840" y="2001960"/>
              <a:ext cx="79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Tahoma"/>
                  <a:ea typeface="隶书"/>
                </a:rPr>
                <a:t>顶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488040" y="3626280"/>
            <a:ext cx="2471040" cy="636840"/>
            <a:chOff x="3488040" y="3626280"/>
            <a:chExt cx="2471040" cy="636840"/>
          </a:xfrm>
        </p:grpSpPr>
        <p:sp>
          <p:nvSpPr>
            <p:cNvPr id="60" name=""/>
            <p:cNvSpPr/>
            <p:nvPr/>
          </p:nvSpPr>
          <p:spPr>
            <a:xfrm>
              <a:off x="3488040" y="3805200"/>
              <a:ext cx="151920" cy="45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2884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3070400">
              <a:off x="5683320" y="3624480"/>
              <a:ext cx="151200" cy="456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5133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5133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35600" y="36529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66"/>
                  </a:solidFill>
                  <a:latin typeface="Tahoma"/>
                  <a:ea typeface="隶书"/>
                </a:rPr>
                <a:t>底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64000" y="36673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66"/>
                  </a:solidFill>
                  <a:latin typeface="Tahoma"/>
                  <a:ea typeface="隶书"/>
                </a:rPr>
                <a:t>底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81080" y="765000"/>
            <a:ext cx="1510920" cy="3859200"/>
            <a:chOff x="181080" y="765000"/>
            <a:chExt cx="1510920" cy="385920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181080" y="2935440"/>
              <a:ext cx="1510920" cy="16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181080" y="765000"/>
              <a:ext cx="909720" cy="1722960"/>
            </a:xfrm>
            <a:prstGeom prst="wedgeEllipseCallout">
              <a:avLst>
                <a:gd name="adj1" fmla="val -36787"/>
                <a:gd name="adj2" fmla="val 5963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什么是等腰三角形呢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138480" y="3068640"/>
            <a:ext cx="1981080" cy="3716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987640" y="333360"/>
            <a:ext cx="286848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画演示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11280" y="566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36000" y="58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4600" y="184464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（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）把剪出的等腰三角形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△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ABC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沿折痕对折，除两腰重合外还有没有重合的部分？并指出重合的部分是什么？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3213000"/>
            <a:ext cx="0" cy="295272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4" action="ppaction://hlinksldjump"/>
          </p:cNvPr>
          <p:cNvSpPr/>
          <p:nvPr/>
        </p:nvSpPr>
        <p:spPr>
          <a:xfrm flipH="1">
            <a:off x="2771640" y="3213000"/>
            <a:ext cx="223200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14640" y="466560"/>
            <a:ext cx="2868480" cy="2089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画演示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8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2360" y="173340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（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）把剪出的等腰三角形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△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ABC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沿折痕对折，除两腰重合外还有没有重合的部分？并指出重合的部分是什么？</a:t>
            </a:r>
            <a:r>
              <a:rPr b="1" lang="zh-CN" sz="1800" spc="-1" strike="noStrike">
                <a:solidFill>
                  <a:srgbClr val="ffff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03640" y="3213000"/>
            <a:ext cx="0" cy="295272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3" action="ppaction://hlinksldjump"/>
          </p:cNvPr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solidFill>
            <a:srgbClr val="00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332680" y="2940480"/>
            <a:ext cx="2417040" cy="2753280"/>
            <a:chOff x="5332680" y="2940480"/>
            <a:chExt cx="2417040" cy="2753280"/>
          </a:xfrm>
        </p:grpSpPr>
        <p:sp>
          <p:nvSpPr>
            <p:cNvPr id="188" name=""/>
            <p:cNvSpPr/>
            <p:nvPr/>
          </p:nvSpPr>
          <p:spPr>
            <a:xfrm rot="3219000">
              <a:off x="6838200" y="4605480"/>
              <a:ext cx="609120" cy="1058400"/>
            </a:xfrm>
            <a:prstGeom prst="wedgeEllipseCallout">
              <a:avLst>
                <a:gd name="adj1" fmla="val -97222"/>
                <a:gd name="adj2" fmla="val 538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ahoma"/>
                  <a:ea typeface="隶书"/>
                </a:rPr>
                <a:t>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3219000">
              <a:off x="5634720" y="2970000"/>
              <a:ext cx="609120" cy="1058400"/>
            </a:xfrm>
            <a:prstGeom prst="wedgeEllipseCallout">
              <a:avLst>
                <a:gd name="adj1" fmla="val 83101"/>
                <a:gd name="adj2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ahoma"/>
                  <a:ea typeface="隶书"/>
                </a:rPr>
                <a:t>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 rot="13070400">
            <a:off x="6326640" y="5730120"/>
            <a:ext cx="945720" cy="71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737" y="2523"/>
                </a:moveTo>
                <a:arcTo wR="10800" hR="10800" stAng="-3002022" swAng="5670702"/>
                <a:lnTo>
                  <a:pt x="10800" y="10800"/>
                </a:lnTo>
                <a:close/>
              </a:path>
              <a:path fill="none" w="21600" h="21600">
                <a:moveTo>
                  <a:pt x="17737" y="2523"/>
                </a:moveTo>
                <a:arcTo wR="10800" hR="10800" stAng="-3002022" swAng="5670702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3070400">
            <a:off x="6388560" y="5989320"/>
            <a:ext cx="1413000" cy="66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07" y="4549"/>
                </a:moveTo>
                <a:arcTo wR="10800" hR="10800" stAng="-2121766" swAng="4790446"/>
                <a:lnTo>
                  <a:pt x="10800" y="10800"/>
                </a:lnTo>
                <a:close/>
              </a:path>
              <a:path fill="none" w="21600" h="21600">
                <a:moveTo>
                  <a:pt x="19607" y="4549"/>
                </a:moveTo>
                <a:arcTo wR="10800" hR="10800" stAng="-2121766" swAng="4790446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2894400">
            <a:off x="5785560" y="5238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Tahoma"/>
                <a:ea typeface="隶书"/>
              </a:rPr>
              <a:t>底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6" presetSubtype="37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5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719760" y="1168560"/>
            <a:ext cx="2082960" cy="2259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80320" y="1123920"/>
            <a:ext cx="0" cy="225900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08720" y="3384720"/>
            <a:ext cx="7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61280" y="3397320"/>
            <a:ext cx="7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553240" y="3381480"/>
            <a:ext cx="34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85120" y="560520"/>
            <a:ext cx="7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190520" y="4579920"/>
            <a:ext cx="3067200" cy="642600"/>
            <a:chOff x="1190520" y="4579920"/>
            <a:chExt cx="3067200" cy="642600"/>
          </a:xfrm>
        </p:grpSpPr>
        <p:sp>
          <p:nvSpPr>
            <p:cNvPr id="200" name=""/>
            <p:cNvSpPr/>
            <p:nvPr/>
          </p:nvSpPr>
          <p:spPr>
            <a:xfrm>
              <a:off x="1190520" y="4579920"/>
              <a:ext cx="3067200" cy="6426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大胆猜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190520" y="4579920"/>
              <a:ext cx="53352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"/>
          <p:cNvSpPr/>
          <p:nvPr/>
        </p:nvSpPr>
        <p:spPr>
          <a:xfrm>
            <a:off x="1500120" y="5508720"/>
            <a:ext cx="70786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楷体_GB2312"/>
              </a:rPr>
              <a:t>等腰三角形除了两腰相等以外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楷体_GB2312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楷体_GB2312"/>
              </a:rPr>
              <a:t>你还能发现它的其他特征吗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楷体_GB2312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50920" y="1065240"/>
            <a:ext cx="632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）上面剪出的等腰三角形是轴对称图形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22480" y="1525680"/>
            <a:ext cx="632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）把剪出的等腰三角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A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沿折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A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对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找出其中相等的线段和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填入下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262160" y="2481120"/>
          <a:ext cx="3809880" cy="1981080"/>
        </p:xfrm>
        <a:graphic>
          <a:graphicData uri="http://schemas.openxmlformats.org/drawingml/2006/table">
            <a:tbl>
              <a:tblPr/>
              <a:tblGrid>
                <a:gridCol w="2151000"/>
                <a:gridCol w="1658880"/>
              </a:tblGrid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重合的线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重合的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6" name=""/>
          <p:cNvGrpSpPr/>
          <p:nvPr/>
        </p:nvGrpSpPr>
        <p:grpSpPr>
          <a:xfrm>
            <a:off x="179280" y="260280"/>
            <a:ext cx="8280000" cy="608760"/>
            <a:chOff x="179280" y="260280"/>
            <a:chExt cx="8280000" cy="608760"/>
          </a:xfrm>
        </p:grpSpPr>
        <p:sp>
          <p:nvSpPr>
            <p:cNvPr id="207" name=""/>
            <p:cNvSpPr/>
            <p:nvPr/>
          </p:nvSpPr>
          <p:spPr>
            <a:xfrm>
              <a:off x="2628360" y="289800"/>
              <a:ext cx="5830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Arial"/>
                  <a:ea typeface="楷体_GB2312"/>
                </a:rPr>
                <a:t>探索等腰三角形的性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79280" y="260280"/>
              <a:ext cx="3659040" cy="581400"/>
              <a:chOff x="179280" y="260280"/>
              <a:chExt cx="3659040" cy="58140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179280" y="329040"/>
                <a:ext cx="2240280" cy="416160"/>
                <a:chOff x="179280" y="329040"/>
                <a:chExt cx="2240280" cy="4161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86720" y="329040"/>
                  <a:ext cx="1932840" cy="416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bff9b"/>
                    </a:gs>
                    <a:gs pos="50000">
                      <a:srgbClr val="ffffff"/>
                    </a:gs>
                    <a:gs pos="100000">
                      <a:srgbClr val="9bff9b"/>
                    </a:gs>
                  </a:gsLst>
                  <a:lin ang="5400000"/>
                </a:gradFill>
                <a:ln w="25560">
                  <a:solidFill>
                    <a:srgbClr val="009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1" name=""/>
                <p:cNvGrpSpPr/>
                <p:nvPr/>
              </p:nvGrpSpPr>
              <p:grpSpPr>
                <a:xfrm>
                  <a:off x="179280" y="453240"/>
                  <a:ext cx="406440" cy="185760"/>
                  <a:chOff x="179280" y="453240"/>
                  <a:chExt cx="406440" cy="185760"/>
                </a:xfrm>
              </p:grpSpPr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453240"/>
                    <a:ext cx="406440" cy="1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3" name=""/>
                  <p:cNvSpPr/>
                  <p:nvPr/>
                </p:nvSpPr>
                <p:spPr>
                  <a:xfrm>
                    <a:off x="196920" y="461160"/>
                    <a:ext cx="371160" cy="169560"/>
                  </a:xfrm>
                  <a:prstGeom prst="ellipse">
                    <a:avLst/>
                  </a:prstGeom>
                  <a:solidFill>
                    <a:srgbClr val="25ff25">
                      <a:alpha val="49000"/>
                    </a:srgbClr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4" name=""/>
              <p:cNvSpPr/>
              <p:nvPr/>
            </p:nvSpPr>
            <p:spPr>
              <a:xfrm>
                <a:off x="658800" y="260280"/>
                <a:ext cx="3179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合作学习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zoom dir="in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79640" y="836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我猜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160" y="253836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）等腰三角形的两个底角相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28800" y="1773360"/>
            <a:ext cx="52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等腰三角形的性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921120" y="630360"/>
            <a:ext cx="830160" cy="91440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6673680" y="0"/>
            <a:ext cx="2469960" cy="3116160"/>
            <a:chOff x="6673680" y="0"/>
            <a:chExt cx="2469960" cy="3116160"/>
          </a:xfrm>
        </p:grpSpPr>
        <p:grpSp>
          <p:nvGrpSpPr>
            <p:cNvPr id="220" name=""/>
            <p:cNvGrpSpPr/>
            <p:nvPr/>
          </p:nvGrpSpPr>
          <p:grpSpPr>
            <a:xfrm>
              <a:off x="6947280" y="392760"/>
              <a:ext cx="1950120" cy="2314800"/>
              <a:chOff x="6947280" y="392760"/>
              <a:chExt cx="1950120" cy="2314800"/>
            </a:xfrm>
          </p:grpSpPr>
          <p:sp>
            <p:nvSpPr>
              <p:cNvPr id="221" name=""/>
              <p:cNvSpPr/>
              <p:nvPr/>
            </p:nvSpPr>
            <p:spPr>
              <a:xfrm>
                <a:off x="6947280" y="392760"/>
                <a:ext cx="1950120" cy="23148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921080" y="453960"/>
                <a:ext cx="0" cy="224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8006040" y="0"/>
              <a:ext cx="34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73680" y="251064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818920" y="251064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78520" y="2595600"/>
              <a:ext cx="32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93720" y="32004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等腰三角形的顶角平分线、底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边上中线、底边上的高相互重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143000" y="141120"/>
            <a:ext cx="6494400" cy="615600"/>
            <a:chOff x="1143000" y="141120"/>
            <a:chExt cx="6494400" cy="615600"/>
          </a:xfrm>
        </p:grpSpPr>
        <p:sp>
          <p:nvSpPr>
            <p:cNvPr id="229" name=""/>
            <p:cNvSpPr/>
            <p:nvPr/>
          </p:nvSpPr>
          <p:spPr>
            <a:xfrm>
              <a:off x="3063960" y="177480"/>
              <a:ext cx="4573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Arial"/>
                  <a:ea typeface="楷体_GB2312"/>
                </a:rPr>
                <a:t>探索等腰三角形的性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1143000" y="141120"/>
              <a:ext cx="2870280" cy="592200"/>
              <a:chOff x="1143000" y="141120"/>
              <a:chExt cx="2870280" cy="59220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1143000" y="225360"/>
                <a:ext cx="1757520" cy="507960"/>
                <a:chOff x="1143000" y="225360"/>
                <a:chExt cx="1757520" cy="5079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1384200" y="225360"/>
                  <a:ext cx="1516320" cy="507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bff9b"/>
                    </a:gs>
                    <a:gs pos="50000">
                      <a:srgbClr val="ffffff"/>
                    </a:gs>
                    <a:gs pos="100000">
                      <a:srgbClr val="9bff9b"/>
                    </a:gs>
                  </a:gsLst>
                  <a:lin ang="5400000"/>
                </a:gradFill>
                <a:ln w="25560">
                  <a:solidFill>
                    <a:srgbClr val="009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3" name=""/>
                <p:cNvGrpSpPr/>
                <p:nvPr/>
              </p:nvGrpSpPr>
              <p:grpSpPr>
                <a:xfrm>
                  <a:off x="1143000" y="377280"/>
                  <a:ext cx="318960" cy="226440"/>
                  <a:chOff x="1143000" y="377280"/>
                  <a:chExt cx="318960" cy="226440"/>
                </a:xfrm>
              </p:grpSpPr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77280"/>
                    <a:ext cx="318960" cy="22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35" name=""/>
                  <p:cNvSpPr/>
                  <p:nvPr/>
                </p:nvSpPr>
                <p:spPr>
                  <a:xfrm>
                    <a:off x="1156680" y="387000"/>
                    <a:ext cx="291240" cy="207000"/>
                  </a:xfrm>
                  <a:prstGeom prst="ellipse">
                    <a:avLst/>
                  </a:prstGeom>
                  <a:solidFill>
                    <a:srgbClr val="25ff25">
                      <a:alpha val="49000"/>
                    </a:srgbClr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6" name=""/>
              <p:cNvSpPr/>
              <p:nvPr/>
            </p:nvSpPr>
            <p:spPr>
              <a:xfrm>
                <a:off x="1519200" y="141120"/>
                <a:ext cx="2494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探究二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523880" y="3936960"/>
            <a:ext cx="613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析：</a:t>
            </a:r>
            <a:r>
              <a:rPr b="1" lang="en-US" sz="1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1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何证明两个角相等？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06400" y="426564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宋体"/>
              </a:rPr>
              <a:t>　　</a:t>
            </a:r>
            <a:r>
              <a:rPr b="1" lang="en-US" sz="1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1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何构造两个全等的三角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46280" y="1341360"/>
            <a:ext cx="58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命题的题设和结论是什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数学符号如何表示题设和结论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43440" y="941400"/>
            <a:ext cx="3612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楷体_GB2312"/>
              </a:rPr>
              <a:t>你能用所学的知识验证等腰三角形的两个底角相 等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262960" y="2295360"/>
            <a:ext cx="4074840" cy="1661040"/>
            <a:chOff x="2262960" y="2295360"/>
            <a:chExt cx="4074840" cy="1661040"/>
          </a:xfrm>
        </p:grpSpPr>
        <p:grpSp>
          <p:nvGrpSpPr>
            <p:cNvPr id="242" name=""/>
            <p:cNvGrpSpPr/>
            <p:nvPr/>
          </p:nvGrpSpPr>
          <p:grpSpPr>
            <a:xfrm>
              <a:off x="2262960" y="2295360"/>
              <a:ext cx="1015920" cy="1157760"/>
              <a:chOff x="2262960" y="2295360"/>
              <a:chExt cx="1015920" cy="1157760"/>
            </a:xfrm>
          </p:grpSpPr>
          <p:sp>
            <p:nvSpPr>
              <p:cNvPr id="243" name=""/>
              <p:cNvSpPr/>
              <p:nvPr/>
            </p:nvSpPr>
            <p:spPr>
              <a:xfrm>
                <a:off x="2262960" y="2295360"/>
                <a:ext cx="1009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已知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: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269440" y="2871720"/>
                <a:ext cx="1009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求证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: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3036600" y="2295360"/>
              <a:ext cx="33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△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ABC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中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,AB=A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22160" y="2871720"/>
              <a:ext cx="139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∠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B=∠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83480" y="3375000"/>
              <a:ext cx="100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证明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553080" y="1322280"/>
            <a:ext cx="2344680" cy="3285000"/>
            <a:chOff x="6553080" y="1322280"/>
            <a:chExt cx="2344680" cy="3285000"/>
          </a:xfrm>
        </p:grpSpPr>
        <p:sp>
          <p:nvSpPr>
            <p:cNvPr id="249" name=""/>
            <p:cNvSpPr/>
            <p:nvPr/>
          </p:nvSpPr>
          <p:spPr>
            <a:xfrm>
              <a:off x="6953760" y="1761480"/>
              <a:ext cx="1467360" cy="2493360"/>
            </a:xfrm>
            <a:prstGeom prst="flowChartExtra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495560" y="1322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53080" y="4004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422920" y="40258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4920" y="117360"/>
            <a:ext cx="6494400" cy="615600"/>
            <a:chOff x="34920" y="117360"/>
            <a:chExt cx="6494400" cy="615600"/>
          </a:xfrm>
        </p:grpSpPr>
        <p:sp>
          <p:nvSpPr>
            <p:cNvPr id="254" name=""/>
            <p:cNvSpPr/>
            <p:nvPr/>
          </p:nvSpPr>
          <p:spPr>
            <a:xfrm>
              <a:off x="1955880" y="153720"/>
              <a:ext cx="4573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Arial"/>
                  <a:ea typeface="楷体_GB2312"/>
                </a:rPr>
                <a:t>引导学生推理证明性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34920" y="117360"/>
              <a:ext cx="2870280" cy="592200"/>
              <a:chOff x="34920" y="117360"/>
              <a:chExt cx="2870280" cy="59220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34920" y="201600"/>
                <a:ext cx="1757520" cy="507960"/>
                <a:chOff x="34920" y="201600"/>
                <a:chExt cx="1757520" cy="5079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276120" y="201600"/>
                  <a:ext cx="1516320" cy="507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bff9b"/>
                    </a:gs>
                    <a:gs pos="50000">
                      <a:srgbClr val="ffffff"/>
                    </a:gs>
                    <a:gs pos="100000">
                      <a:srgbClr val="9bff9b"/>
                    </a:gs>
                  </a:gsLst>
                  <a:lin ang="5400000"/>
                </a:gradFill>
                <a:ln w="25560">
                  <a:solidFill>
                    <a:srgbClr val="009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8" name=""/>
                <p:cNvGrpSpPr/>
                <p:nvPr/>
              </p:nvGrpSpPr>
              <p:grpSpPr>
                <a:xfrm>
                  <a:off x="34920" y="353520"/>
                  <a:ext cx="318960" cy="226440"/>
                  <a:chOff x="34920" y="353520"/>
                  <a:chExt cx="318960" cy="226440"/>
                </a:xfrm>
              </p:grpSpPr>
              <p:pic>
                <p:nvPicPr>
                  <p:cNvPr id="259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34920" y="353520"/>
                    <a:ext cx="318960" cy="22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0" name=""/>
                  <p:cNvSpPr/>
                  <p:nvPr/>
                </p:nvSpPr>
                <p:spPr>
                  <a:xfrm>
                    <a:off x="48600" y="363240"/>
                    <a:ext cx="291240" cy="207000"/>
                  </a:xfrm>
                  <a:prstGeom prst="ellipse">
                    <a:avLst/>
                  </a:prstGeom>
                  <a:solidFill>
                    <a:srgbClr val="25ff25">
                      <a:alpha val="49000"/>
                    </a:srgbClr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1" name=""/>
              <p:cNvSpPr/>
              <p:nvPr/>
            </p:nvSpPr>
            <p:spPr>
              <a:xfrm>
                <a:off x="411120" y="117360"/>
                <a:ext cx="2494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论证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378560" y="981000"/>
            <a:ext cx="0" cy="280692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32000" y="3384720"/>
            <a:ext cx="766764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715000" y="399960"/>
            <a:ext cx="3427200" cy="4018320"/>
            <a:chOff x="5715000" y="399960"/>
            <a:chExt cx="3427200" cy="4018320"/>
          </a:xfrm>
        </p:grpSpPr>
        <p:sp>
          <p:nvSpPr>
            <p:cNvPr id="265" name=""/>
            <p:cNvSpPr/>
            <p:nvPr/>
          </p:nvSpPr>
          <p:spPr>
            <a:xfrm>
              <a:off x="6110280" y="928440"/>
              <a:ext cx="2520720" cy="2880000"/>
            </a:xfrm>
            <a:prstGeom prst="flowChartExtra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56080" y="3999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15000" y="38368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67360" y="37465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7154640" y="3836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50520" y="1574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382160" y="15256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21225600">
            <a:off x="6796080" y="598680"/>
            <a:ext cx="815400" cy="80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888" y="20797"/>
                </a:moveTo>
                <a:arcTo wR="10800" hR="10800" stAng="4065605" swAng="2058998"/>
                <a:lnTo>
                  <a:pt x="10800" y="10800"/>
                </a:lnTo>
                <a:close/>
              </a:path>
              <a:path fill="none" w="21600" h="21600">
                <a:moveTo>
                  <a:pt x="14888" y="20797"/>
                </a:moveTo>
                <a:arcTo wR="10800" hR="10800" stAng="4065605" swAng="2058998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21225600">
            <a:off x="7105680" y="594720"/>
            <a:ext cx="812520" cy="80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24" y="21576"/>
                </a:moveTo>
                <a:arcTo wR="10800" hR="10800" stAng="5169490" swAng="1564904"/>
                <a:lnTo>
                  <a:pt x="10800" y="10800"/>
                </a:lnTo>
                <a:close/>
              </a:path>
              <a:path fill="none" w="21600" h="21600">
                <a:moveTo>
                  <a:pt x="11524" y="21576"/>
                </a:moveTo>
                <a:arcTo wR="10800" hR="10800" stAng="5169490" swAng="1564904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103440" y="907920"/>
            <a:ext cx="2521440" cy="2879640"/>
            <a:chOff x="6103440" y="907920"/>
            <a:chExt cx="2521440" cy="2879640"/>
          </a:xfrm>
        </p:grpSpPr>
        <p:sp>
          <p:nvSpPr>
            <p:cNvPr id="276" name=""/>
            <p:cNvSpPr/>
            <p:nvPr/>
          </p:nvSpPr>
          <p:spPr>
            <a:xfrm flipH="1">
              <a:off x="6103440" y="907920"/>
              <a:ext cx="1260360" cy="28796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364160" y="907920"/>
              <a:ext cx="1260720" cy="28796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7404120" y="123840"/>
            <a:ext cx="1952640" cy="109836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1490760" y="1384200"/>
            <a:ext cx="5292720" cy="3195720"/>
            <a:chOff x="1490760" y="1384200"/>
            <a:chExt cx="5292720" cy="3195720"/>
          </a:xfrm>
        </p:grpSpPr>
        <p:sp>
          <p:nvSpPr>
            <p:cNvPr id="280" name=""/>
            <p:cNvSpPr/>
            <p:nvPr/>
          </p:nvSpPr>
          <p:spPr>
            <a:xfrm>
              <a:off x="1490760" y="2582640"/>
              <a:ext cx="4037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作△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AB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中线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A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83040" y="1384200"/>
              <a:ext cx="2628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作顶角的平分线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2097360" y="2087640"/>
              <a:ext cx="4419360" cy="385560"/>
              <a:chOff x="2097360" y="2087640"/>
              <a:chExt cx="4419360" cy="385560"/>
            </a:xfrm>
          </p:grpSpPr>
          <p:sp>
            <p:nvSpPr>
              <p:cNvPr id="283" name=""/>
              <p:cNvSpPr/>
              <p:nvPr/>
            </p:nvSpPr>
            <p:spPr>
              <a:xfrm>
                <a:off x="2097360" y="2104920"/>
                <a:ext cx="441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证：△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BD≌ △ACD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162400" y="2087640"/>
                <a:ext cx="126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SAS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011320" y="3187440"/>
              <a:ext cx="4419720" cy="385920"/>
              <a:chOff x="2011320" y="3187440"/>
              <a:chExt cx="4419720" cy="385920"/>
            </a:xfrm>
          </p:grpSpPr>
          <p:sp>
            <p:nvSpPr>
              <p:cNvPr id="286" name=""/>
              <p:cNvSpPr/>
              <p:nvPr/>
            </p:nvSpPr>
            <p:spPr>
              <a:xfrm>
                <a:off x="2011320" y="3205080"/>
                <a:ext cx="441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证：△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BD≌ △ACD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076720" y="3187440"/>
                <a:ext cx="1268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SAS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2400840" y="3681360"/>
              <a:ext cx="2057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作△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AB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高线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1927440" y="4192560"/>
              <a:ext cx="4856040" cy="387360"/>
              <a:chOff x="1927440" y="4192560"/>
              <a:chExt cx="4856040" cy="387360"/>
            </a:xfrm>
          </p:grpSpPr>
          <p:sp>
            <p:nvSpPr>
              <p:cNvPr id="290" name=""/>
              <p:cNvSpPr/>
              <p:nvPr/>
            </p:nvSpPr>
            <p:spPr>
              <a:xfrm>
                <a:off x="1927440" y="4211640"/>
                <a:ext cx="373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ahoma"/>
                  </a:rPr>
                  <a:t>证：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t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△ABD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t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△ACD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362920" y="4192560"/>
                <a:ext cx="1420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</a:rPr>
                  <a:t>（</a:t>
                </a: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H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</a:rPr>
                  <a:t>）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"/>
          <p:cNvSpPr txBox="1"/>
          <p:nvPr/>
        </p:nvSpPr>
        <p:spPr>
          <a:xfrm>
            <a:off x="3243240" y="774720"/>
            <a:ext cx="2160720" cy="13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证法欣赏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803160" y="1405080"/>
            <a:ext cx="1638360" cy="3487320"/>
            <a:chOff x="803160" y="1405080"/>
            <a:chExt cx="1638360" cy="3487320"/>
          </a:xfrm>
        </p:grpSpPr>
        <p:grpSp>
          <p:nvGrpSpPr>
            <p:cNvPr id="294" name=""/>
            <p:cNvGrpSpPr/>
            <p:nvPr/>
          </p:nvGrpSpPr>
          <p:grpSpPr>
            <a:xfrm>
              <a:off x="853920" y="1405080"/>
              <a:ext cx="1587600" cy="1033200"/>
              <a:chOff x="853920" y="1405080"/>
              <a:chExt cx="1587600" cy="103320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853920" y="1405080"/>
                <a:ext cx="1163160" cy="1033200"/>
                <a:chOff x="853920" y="1405080"/>
                <a:chExt cx="1163160" cy="10332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013400" y="1405080"/>
                  <a:ext cx="1003680" cy="1033200"/>
                </a:xfrm>
                <a:custGeom>
                  <a:avLst/>
                  <a:gdLst>
                    <a:gd name="textAreaLeft" fmla="*/ 146880 w 1003680"/>
                    <a:gd name="textAreaRight" fmla="*/ 856800 w 1003680"/>
                    <a:gd name="textAreaTop" fmla="*/ 146880 h 1033200"/>
                    <a:gd name="textAreaBottom" fmla="*/ 886320 h 1033200"/>
                  </a:gdLst>
                  <a:ahLst/>
                  <a:rect l="textAreaLeft" t="textAreaTop" r="textAreaRight" b="textAreaBottom"/>
                  <a:pathLst>
                    <a:path w="21600" h="222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435"/>
                      </a:lnTo>
                      <a:arcTo wR="10800" hR="10800" stAng="10800000" swAng="-5400000"/>
                      <a:lnTo>
                        <a:pt x="10800" y="222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0033cc">
                        <a:alpha val="10196"/>
                      </a:srgbClr>
                    </a:gs>
                    <a:gs pos="100000">
                      <a:srgbClr val="859de5"/>
                    </a:gs>
                  </a:gsLst>
                  <a:lin ang="5400000"/>
                </a:gradFill>
                <a:ln w="255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"/>
                <p:cNvGrpSpPr/>
                <p:nvPr/>
              </p:nvGrpSpPr>
              <p:grpSpPr>
                <a:xfrm>
                  <a:off x="853920" y="1713960"/>
                  <a:ext cx="210960" cy="461160"/>
                  <a:chOff x="853920" y="1713960"/>
                  <a:chExt cx="210960" cy="461160"/>
                </a:xfrm>
              </p:grpSpPr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1713960"/>
                    <a:ext cx="210960" cy="4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9" name=""/>
                  <p:cNvSpPr/>
                  <p:nvPr/>
                </p:nvSpPr>
                <p:spPr>
                  <a:xfrm>
                    <a:off x="862920" y="1733760"/>
                    <a:ext cx="192600" cy="421200"/>
                  </a:xfrm>
                  <a:prstGeom prst="ellipse">
                    <a:avLst/>
                  </a:prstGeom>
                  <a:solidFill>
                    <a:srgbClr val="0000ff">
                      <a:alpha val="49000"/>
                    </a:srgbClr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1020600" y="1635120"/>
                <a:ext cx="142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66"/>
                    </a:solidFill>
                    <a:latin typeface="楷体_GB2312"/>
                    <a:ea typeface="楷体_GB2312"/>
                  </a:rPr>
                  <a:t>方法</a:t>
                </a:r>
                <a:r>
                  <a:rPr b="1" lang="en-US" sz="1800" spc="-1" strike="noStrike">
                    <a:solidFill>
                      <a:srgbClr val="ff0066"/>
                    </a:solidFill>
                    <a:latin typeface="楷体_GB2312"/>
                    <a:ea typeface="楷体_GB2312"/>
                  </a:rPr>
                  <a:t>1</a:t>
                </a:r>
                <a:r>
                  <a:rPr b="1" lang="zh-CN" sz="1800" spc="-1" strike="noStrike">
                    <a:solidFill>
                      <a:srgbClr val="ff0066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812520" y="2525760"/>
              <a:ext cx="1587600" cy="1033200"/>
              <a:chOff x="812520" y="2525760"/>
              <a:chExt cx="1587600" cy="103320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812520" y="2525760"/>
                <a:ext cx="1163160" cy="1033200"/>
                <a:chOff x="812520" y="2525760"/>
                <a:chExt cx="1163160" cy="10332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972000" y="2525760"/>
                  <a:ext cx="1003680" cy="1033200"/>
                </a:xfrm>
                <a:custGeom>
                  <a:avLst/>
                  <a:gdLst>
                    <a:gd name="textAreaLeft" fmla="*/ 146880 w 1003680"/>
                    <a:gd name="textAreaRight" fmla="*/ 856800 w 1003680"/>
                    <a:gd name="textAreaTop" fmla="*/ 146880 h 1033200"/>
                    <a:gd name="textAreaBottom" fmla="*/ 886320 h 1033200"/>
                  </a:gdLst>
                  <a:ahLst/>
                  <a:rect l="textAreaLeft" t="textAreaTop" r="textAreaRight" b="textAreaBottom"/>
                  <a:pathLst>
                    <a:path w="21600" h="222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435"/>
                      </a:lnTo>
                      <a:arcTo wR="10800" hR="10800" stAng="10800000" swAng="-5400000"/>
                      <a:lnTo>
                        <a:pt x="10800" y="222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0033cc">
                        <a:alpha val="10196"/>
                      </a:srgbClr>
                    </a:gs>
                    <a:gs pos="100000">
                      <a:srgbClr val="859de5"/>
                    </a:gs>
                  </a:gsLst>
                  <a:lin ang="5400000"/>
                </a:gradFill>
                <a:ln w="255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4" name=""/>
                <p:cNvGrpSpPr/>
                <p:nvPr/>
              </p:nvGrpSpPr>
              <p:grpSpPr>
                <a:xfrm>
                  <a:off x="812520" y="2834640"/>
                  <a:ext cx="210960" cy="461160"/>
                  <a:chOff x="812520" y="2834640"/>
                  <a:chExt cx="210960" cy="461160"/>
                </a:xfrm>
              </p:grpSpPr>
              <p:pic>
                <p:nvPicPr>
                  <p:cNvPr id="3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2520" y="2834640"/>
                    <a:ext cx="210960" cy="4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6" name=""/>
                  <p:cNvSpPr/>
                  <p:nvPr/>
                </p:nvSpPr>
                <p:spPr>
                  <a:xfrm>
                    <a:off x="821520" y="2854440"/>
                    <a:ext cx="192600" cy="421200"/>
                  </a:xfrm>
                  <a:prstGeom prst="ellipse">
                    <a:avLst/>
                  </a:prstGeom>
                  <a:solidFill>
                    <a:srgbClr val="0000ff">
                      <a:alpha val="49000"/>
                    </a:srgbClr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07" name=""/>
              <p:cNvSpPr/>
              <p:nvPr/>
            </p:nvSpPr>
            <p:spPr>
              <a:xfrm>
                <a:off x="979200" y="2755800"/>
                <a:ext cx="142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66"/>
                    </a:solidFill>
                    <a:latin typeface="楷体_GB2312"/>
                    <a:ea typeface="楷体_GB2312"/>
                  </a:rPr>
                  <a:t>方法</a:t>
                </a:r>
                <a:r>
                  <a:rPr b="1" lang="en-US" sz="1800" spc="-1" strike="noStrike">
                    <a:solidFill>
                      <a:srgbClr val="ff0066"/>
                    </a:solidFill>
                    <a:latin typeface="楷体_GB2312"/>
                    <a:ea typeface="楷体_GB2312"/>
                  </a:rPr>
                  <a:t>2</a:t>
                </a:r>
                <a:r>
                  <a:rPr b="1" lang="zh-CN" sz="1800" spc="-1" strike="noStrike">
                    <a:solidFill>
                      <a:srgbClr val="ff0066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803160" y="3859200"/>
              <a:ext cx="1587600" cy="1033200"/>
              <a:chOff x="803160" y="3859200"/>
              <a:chExt cx="1587600" cy="103320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803160" y="3859200"/>
                <a:ext cx="1163160" cy="1033200"/>
                <a:chOff x="803160" y="3859200"/>
                <a:chExt cx="1163160" cy="10332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62640" y="3859200"/>
                  <a:ext cx="1003680" cy="1033200"/>
                </a:xfrm>
                <a:custGeom>
                  <a:avLst/>
                  <a:gdLst>
                    <a:gd name="textAreaLeft" fmla="*/ 146880 w 1003680"/>
                    <a:gd name="textAreaRight" fmla="*/ 856800 w 1003680"/>
                    <a:gd name="textAreaTop" fmla="*/ 146880 h 1033200"/>
                    <a:gd name="textAreaBottom" fmla="*/ 886320 h 1033200"/>
                  </a:gdLst>
                  <a:ahLst/>
                  <a:rect l="textAreaLeft" t="textAreaTop" r="textAreaRight" b="textAreaBottom"/>
                  <a:pathLst>
                    <a:path w="21600" h="222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435"/>
                      </a:lnTo>
                      <a:arcTo wR="10800" hR="10800" stAng="10800000" swAng="-5400000"/>
                      <a:lnTo>
                        <a:pt x="10800" y="222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0033cc">
                        <a:alpha val="10196"/>
                      </a:srgbClr>
                    </a:gs>
                    <a:gs pos="100000">
                      <a:srgbClr val="859de5"/>
                    </a:gs>
                  </a:gsLst>
                  <a:lin ang="5400000"/>
                </a:gradFill>
                <a:ln w="255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1" name=""/>
                <p:cNvGrpSpPr/>
                <p:nvPr/>
              </p:nvGrpSpPr>
              <p:grpSpPr>
                <a:xfrm>
                  <a:off x="803160" y="4168080"/>
                  <a:ext cx="210960" cy="461160"/>
                  <a:chOff x="803160" y="4168080"/>
                  <a:chExt cx="210960" cy="461160"/>
                </a:xfrm>
              </p:grpSpPr>
              <p:pic>
                <p:nvPicPr>
                  <p:cNvPr id="3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3160" y="4168080"/>
                    <a:ext cx="210960" cy="4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3" name=""/>
                  <p:cNvSpPr/>
                  <p:nvPr/>
                </p:nvSpPr>
                <p:spPr>
                  <a:xfrm>
                    <a:off x="812160" y="4187880"/>
                    <a:ext cx="192600" cy="421200"/>
                  </a:xfrm>
                  <a:prstGeom prst="ellipse">
                    <a:avLst/>
                  </a:prstGeom>
                  <a:solidFill>
                    <a:srgbClr val="0000ff">
                      <a:alpha val="49000"/>
                    </a:srgbClr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4" name=""/>
              <p:cNvSpPr/>
              <p:nvPr/>
            </p:nvSpPr>
            <p:spPr>
              <a:xfrm>
                <a:off x="969840" y="4089240"/>
                <a:ext cx="142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66"/>
                    </a:solidFill>
                    <a:latin typeface="楷体_GB2312"/>
                    <a:ea typeface="楷体_GB2312"/>
                  </a:rPr>
                  <a:t>方法</a:t>
                </a:r>
                <a:r>
                  <a:rPr b="1" lang="en-US" sz="1800" spc="-1" strike="noStrike">
                    <a:solidFill>
                      <a:srgbClr val="ff0066"/>
                    </a:solidFill>
                    <a:latin typeface="楷体_GB2312"/>
                    <a:ea typeface="楷体_GB2312"/>
                  </a:rPr>
                  <a:t>3</a:t>
                </a:r>
                <a:r>
                  <a:rPr b="1" lang="zh-CN" sz="1800" spc="-1" strike="noStrike">
                    <a:solidFill>
                      <a:srgbClr val="ff0066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770040" y="0"/>
            <a:ext cx="6494400" cy="615600"/>
            <a:chOff x="770040" y="0"/>
            <a:chExt cx="6494400" cy="615600"/>
          </a:xfrm>
        </p:grpSpPr>
        <p:sp>
          <p:nvSpPr>
            <p:cNvPr id="316" name=""/>
            <p:cNvSpPr/>
            <p:nvPr/>
          </p:nvSpPr>
          <p:spPr>
            <a:xfrm>
              <a:off x="2691000" y="36360"/>
              <a:ext cx="4573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Arial"/>
                  <a:ea typeface="楷体_GB2312"/>
                </a:rPr>
                <a:t>引导学生推理证明性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770040" y="0"/>
              <a:ext cx="2870280" cy="592200"/>
              <a:chOff x="770040" y="0"/>
              <a:chExt cx="2870280" cy="59220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770040" y="84240"/>
                <a:ext cx="1757520" cy="507960"/>
                <a:chOff x="770040" y="84240"/>
                <a:chExt cx="1757520" cy="50796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1011240" y="84240"/>
                  <a:ext cx="1516320" cy="507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bff9b"/>
                    </a:gs>
                    <a:gs pos="50000">
                      <a:srgbClr val="ffffff"/>
                    </a:gs>
                    <a:gs pos="100000">
                      <a:srgbClr val="9bff9b"/>
                    </a:gs>
                  </a:gsLst>
                  <a:lin ang="5400000"/>
                </a:gradFill>
                <a:ln w="25560">
                  <a:solidFill>
                    <a:srgbClr val="009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0" name=""/>
                <p:cNvGrpSpPr/>
                <p:nvPr/>
              </p:nvGrpSpPr>
              <p:grpSpPr>
                <a:xfrm>
                  <a:off x="770040" y="236160"/>
                  <a:ext cx="318960" cy="226440"/>
                  <a:chOff x="770040" y="236160"/>
                  <a:chExt cx="318960" cy="226440"/>
                </a:xfrm>
              </p:grpSpPr>
              <p:pic>
                <p:nvPicPr>
                  <p:cNvPr id="3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70040" y="236160"/>
                    <a:ext cx="318960" cy="22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2" name=""/>
                  <p:cNvSpPr/>
                  <p:nvPr/>
                </p:nvSpPr>
                <p:spPr>
                  <a:xfrm>
                    <a:off x="783720" y="245880"/>
                    <a:ext cx="291240" cy="207000"/>
                  </a:xfrm>
                  <a:prstGeom prst="ellipse">
                    <a:avLst/>
                  </a:prstGeom>
                  <a:solidFill>
                    <a:srgbClr val="25ff25">
                      <a:alpha val="49000"/>
                    </a:srgbClr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3" name=""/>
              <p:cNvSpPr/>
              <p:nvPr/>
            </p:nvSpPr>
            <p:spPr>
              <a:xfrm>
                <a:off x="1146240" y="0"/>
                <a:ext cx="2494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例题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385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385" fill="hold"/>
                                        <p:tgtEl>
                                          <p:spTgt spid="2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8" dur="385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0" dur="385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1552680" y="3112920"/>
            <a:ext cx="2818800" cy="2863800"/>
            <a:chOff x="1552680" y="3112920"/>
            <a:chExt cx="2818800" cy="2863800"/>
          </a:xfrm>
        </p:grpSpPr>
        <p:grpSp>
          <p:nvGrpSpPr>
            <p:cNvPr id="325" name=""/>
            <p:cNvGrpSpPr/>
            <p:nvPr/>
          </p:nvGrpSpPr>
          <p:grpSpPr>
            <a:xfrm>
              <a:off x="1563480" y="3473280"/>
              <a:ext cx="2015640" cy="2038320"/>
              <a:chOff x="1563480" y="3473280"/>
              <a:chExt cx="2015640" cy="2038320"/>
            </a:xfrm>
          </p:grpSpPr>
          <p:sp>
            <p:nvSpPr>
              <p:cNvPr id="326" name=""/>
              <p:cNvSpPr/>
              <p:nvPr/>
            </p:nvSpPr>
            <p:spPr>
              <a:xfrm>
                <a:off x="1563480" y="3473280"/>
                <a:ext cx="2015640" cy="201600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575800" y="3530520"/>
                <a:ext cx="0" cy="198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2268360" y="3112920"/>
              <a:ext cx="65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52680" y="560844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95480" y="53402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55560" y="56019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743040" y="1089000"/>
            <a:ext cx="89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论证等腰三角形的性质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684440" y="1670040"/>
            <a:ext cx="6336720" cy="1225440"/>
            <a:chOff x="1684440" y="1670040"/>
            <a:chExt cx="6336720" cy="1225440"/>
          </a:xfrm>
        </p:grpSpPr>
        <p:grpSp>
          <p:nvGrpSpPr>
            <p:cNvPr id="334" name=""/>
            <p:cNvGrpSpPr/>
            <p:nvPr/>
          </p:nvGrpSpPr>
          <p:grpSpPr>
            <a:xfrm>
              <a:off x="1684440" y="1670040"/>
              <a:ext cx="6336720" cy="1225440"/>
              <a:chOff x="1684440" y="1670040"/>
              <a:chExt cx="6336720" cy="1225440"/>
            </a:xfrm>
          </p:grpSpPr>
          <p:sp>
            <p:nvSpPr>
              <p:cNvPr id="335" name=""/>
              <p:cNvSpPr/>
              <p:nvPr/>
            </p:nvSpPr>
            <p:spPr>
              <a:xfrm>
                <a:off x="1684440" y="2374920"/>
                <a:ext cx="612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Arial"/>
                  </a:rPr>
                  <a:t>求证：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AD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Arial"/>
                  </a:rPr>
                  <a:t>平分∠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BAC 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Arial"/>
                  </a:rPr>
                  <a:t>，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AD⊥B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333520" y="1670040"/>
                <a:ext cx="568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Arial"/>
                  </a:rPr>
                  <a:t>已知：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Arial"/>
                  </a:rPr>
                  <a:t>在△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ABC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Arial"/>
                  </a:rPr>
                  <a:t>中，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AB=AC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Arial"/>
                  </a:rPr>
                  <a:t>，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AD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Arial"/>
                  </a:rPr>
                  <a:t>是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3901680" y="2077920"/>
              <a:ext cx="130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边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BC</a:t>
              </a: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上的中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119240" y="233280"/>
            <a:ext cx="6494400" cy="615600"/>
            <a:chOff x="1119240" y="233280"/>
            <a:chExt cx="6494400" cy="615600"/>
          </a:xfrm>
        </p:grpSpPr>
        <p:sp>
          <p:nvSpPr>
            <p:cNvPr id="339" name=""/>
            <p:cNvSpPr/>
            <p:nvPr/>
          </p:nvSpPr>
          <p:spPr>
            <a:xfrm>
              <a:off x="3040200" y="269640"/>
              <a:ext cx="4573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Arial"/>
                  <a:ea typeface="楷体_GB2312"/>
                </a:rPr>
                <a:t>引导学生推理证明性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1119240" y="233280"/>
              <a:ext cx="2870280" cy="592200"/>
              <a:chOff x="1119240" y="233280"/>
              <a:chExt cx="2870280" cy="592200"/>
            </a:xfrm>
          </p:grpSpPr>
          <p:grpSp>
            <p:nvGrpSpPr>
              <p:cNvPr id="341" name=""/>
              <p:cNvGrpSpPr/>
              <p:nvPr/>
            </p:nvGrpSpPr>
            <p:grpSpPr>
              <a:xfrm>
                <a:off x="1119240" y="317520"/>
                <a:ext cx="1757520" cy="507960"/>
                <a:chOff x="1119240" y="317520"/>
                <a:chExt cx="1757520" cy="50796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360440" y="317520"/>
                  <a:ext cx="1516320" cy="507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bff9b"/>
                    </a:gs>
                    <a:gs pos="50000">
                      <a:srgbClr val="ffffff"/>
                    </a:gs>
                    <a:gs pos="100000">
                      <a:srgbClr val="9bff9b"/>
                    </a:gs>
                  </a:gsLst>
                  <a:lin ang="5400000"/>
                </a:gradFill>
                <a:ln w="25560">
                  <a:solidFill>
                    <a:srgbClr val="009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3" name=""/>
                <p:cNvGrpSpPr/>
                <p:nvPr/>
              </p:nvGrpSpPr>
              <p:grpSpPr>
                <a:xfrm>
                  <a:off x="1119240" y="469440"/>
                  <a:ext cx="318960" cy="226440"/>
                  <a:chOff x="1119240" y="469440"/>
                  <a:chExt cx="318960" cy="226440"/>
                </a:xfrm>
              </p:grpSpPr>
              <p:pic>
                <p:nvPicPr>
                  <p:cNvPr id="344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119240" y="469440"/>
                    <a:ext cx="318960" cy="22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5" name=""/>
                  <p:cNvSpPr/>
                  <p:nvPr/>
                </p:nvSpPr>
                <p:spPr>
                  <a:xfrm>
                    <a:off x="1132920" y="479160"/>
                    <a:ext cx="291240" cy="207000"/>
                  </a:xfrm>
                  <a:prstGeom prst="ellipse">
                    <a:avLst/>
                  </a:prstGeom>
                  <a:solidFill>
                    <a:srgbClr val="25ff25">
                      <a:alpha val="49000"/>
                    </a:srgbClr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6" name=""/>
              <p:cNvSpPr/>
              <p:nvPr/>
            </p:nvSpPr>
            <p:spPr>
              <a:xfrm>
                <a:off x="1495440" y="233280"/>
                <a:ext cx="2494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例题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174680" y="1230480"/>
            <a:ext cx="24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我得出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87600" y="1139760"/>
            <a:ext cx="457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等腰三角形的性质：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888240" y="2225520"/>
            <a:ext cx="2255400" cy="2802240"/>
            <a:chOff x="6888240" y="2225520"/>
            <a:chExt cx="2255400" cy="2802240"/>
          </a:xfrm>
        </p:grpSpPr>
        <p:sp>
          <p:nvSpPr>
            <p:cNvPr id="350" name=""/>
            <p:cNvSpPr/>
            <p:nvPr/>
          </p:nvSpPr>
          <p:spPr>
            <a:xfrm>
              <a:off x="7214040" y="2248200"/>
              <a:ext cx="1869840" cy="24051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42480" y="2318040"/>
              <a:ext cx="0" cy="233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77720" y="222552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88240" y="442872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831880" y="4659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49160" y="46576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39800" y="1932120"/>
            <a:ext cx="8064360" cy="2089440"/>
            <a:chOff x="739800" y="1932120"/>
            <a:chExt cx="8064360" cy="2089440"/>
          </a:xfrm>
        </p:grpSpPr>
        <p:sp>
          <p:nvSpPr>
            <p:cNvPr id="357" name=""/>
            <p:cNvSpPr/>
            <p:nvPr/>
          </p:nvSpPr>
          <p:spPr>
            <a:xfrm>
              <a:off x="1100160" y="1932120"/>
              <a:ext cx="7704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1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）等腰三角形的两个底角相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       </a:t>
              </a:r>
              <a:r>
                <a:rPr b="1" lang="zh-CN" sz="1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（简写成“</a:t>
              </a:r>
              <a:r>
                <a:rPr b="1" lang="zh-CN" sz="1800" spc="-1" strike="noStrike">
                  <a:solidFill>
                    <a:srgbClr val="9900cc"/>
                  </a:solidFill>
                  <a:latin typeface="Arial"/>
                  <a:ea typeface="楷体_GB2312"/>
                </a:rPr>
                <a:t>等边对等角</a:t>
              </a:r>
              <a:r>
                <a:rPr b="1" lang="zh-CN" sz="1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”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9800" y="2830320"/>
              <a:ext cx="7764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1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（</a:t>
              </a:r>
              <a:r>
                <a:rPr b="1" lang="zh-CN" sz="1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）等腰三角形的顶角平线、底边上中线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     </a:t>
              </a:r>
              <a:r>
                <a:rPr b="1" lang="zh-CN" sz="1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底边上的高线相互重合</a:t>
              </a: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（简写成“</a:t>
              </a:r>
              <a:r>
                <a:rPr b="1" lang="zh-CN" sz="1800" spc="-1" strike="noStrike">
                  <a:solidFill>
                    <a:srgbClr val="9900cc"/>
                  </a:solidFill>
                  <a:latin typeface="Arial"/>
                  <a:ea typeface="楷体_GB2312"/>
                </a:rPr>
                <a:t>三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00cc"/>
                  </a:solidFill>
                  <a:latin typeface="Arial"/>
                  <a:ea typeface="楷体_GB2312"/>
                </a:rPr>
                <a:t>             </a:t>
              </a:r>
              <a:r>
                <a:rPr b="1" lang="zh-CN" sz="1800" spc="-1" strike="noStrike">
                  <a:solidFill>
                    <a:srgbClr val="9900cc"/>
                  </a:solidFill>
                  <a:latin typeface="Arial"/>
                  <a:ea typeface="楷体_GB2312"/>
                </a:rPr>
                <a:t>合一</a:t>
              </a: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”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270080" y="474336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等腰三角形是轴对称图形，对称轴是底边上的中线（底边上的高线，顶角平分线）所在的直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982800" y="235080"/>
            <a:ext cx="8140680" cy="615600"/>
            <a:chOff x="982800" y="235080"/>
            <a:chExt cx="8140680" cy="615600"/>
          </a:xfrm>
        </p:grpSpPr>
        <p:sp>
          <p:nvSpPr>
            <p:cNvPr id="361" name=""/>
            <p:cNvSpPr/>
            <p:nvPr/>
          </p:nvSpPr>
          <p:spPr>
            <a:xfrm>
              <a:off x="2138400" y="271440"/>
              <a:ext cx="6985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Arial"/>
                  <a:ea typeface="楷体_GB2312"/>
                </a:rPr>
                <a:t>师生共同归纳等腰三角形的性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982800" y="235080"/>
              <a:ext cx="2870280" cy="592200"/>
              <a:chOff x="982800" y="235080"/>
              <a:chExt cx="2870280" cy="592200"/>
            </a:xfrm>
          </p:grpSpPr>
          <p:grpSp>
            <p:nvGrpSpPr>
              <p:cNvPr id="363" name=""/>
              <p:cNvGrpSpPr/>
              <p:nvPr/>
            </p:nvGrpSpPr>
            <p:grpSpPr>
              <a:xfrm>
                <a:off x="982800" y="319320"/>
                <a:ext cx="1757520" cy="507960"/>
                <a:chOff x="982800" y="319320"/>
                <a:chExt cx="1757520" cy="50796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1224000" y="319320"/>
                  <a:ext cx="1516320" cy="507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bff9b"/>
                    </a:gs>
                    <a:gs pos="50000">
                      <a:srgbClr val="ffffff"/>
                    </a:gs>
                    <a:gs pos="100000">
                      <a:srgbClr val="9bff9b"/>
                    </a:gs>
                  </a:gsLst>
                  <a:lin ang="5400000"/>
                </a:gradFill>
                <a:ln w="25560">
                  <a:solidFill>
                    <a:srgbClr val="009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5" name=""/>
                <p:cNvGrpSpPr/>
                <p:nvPr/>
              </p:nvGrpSpPr>
              <p:grpSpPr>
                <a:xfrm>
                  <a:off x="982800" y="471240"/>
                  <a:ext cx="318960" cy="226440"/>
                  <a:chOff x="982800" y="471240"/>
                  <a:chExt cx="318960" cy="226440"/>
                </a:xfrm>
              </p:grpSpPr>
              <p:pic>
                <p:nvPicPr>
                  <p:cNvPr id="366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982800" y="471240"/>
                    <a:ext cx="318960" cy="22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7" name=""/>
                  <p:cNvSpPr/>
                  <p:nvPr/>
                </p:nvSpPr>
                <p:spPr>
                  <a:xfrm>
                    <a:off x="996480" y="480960"/>
                    <a:ext cx="291240" cy="207000"/>
                  </a:xfrm>
                  <a:prstGeom prst="ellipse">
                    <a:avLst/>
                  </a:prstGeom>
                  <a:solidFill>
                    <a:srgbClr val="25ff25">
                      <a:alpha val="49000"/>
                    </a:srgbClr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8" name=""/>
              <p:cNvSpPr/>
              <p:nvPr/>
            </p:nvSpPr>
            <p:spPr>
              <a:xfrm>
                <a:off x="1359000" y="235080"/>
                <a:ext cx="2494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归纳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2036880" y="506160"/>
            <a:ext cx="5975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空：如图：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4533840" y="4121280"/>
            <a:ext cx="1993320" cy="641160"/>
            <a:chOff x="4533840" y="4121280"/>
            <a:chExt cx="1993320" cy="641160"/>
          </a:xfrm>
        </p:grpSpPr>
        <p:sp>
          <p:nvSpPr>
            <p:cNvPr id="371" name=""/>
            <p:cNvSpPr/>
            <p:nvPr/>
          </p:nvSpPr>
          <p:spPr>
            <a:xfrm>
              <a:off x="4533840" y="4121280"/>
              <a:ext cx="183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43920" y="4121280"/>
              <a:ext cx="183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93720" y="1731960"/>
            <a:ext cx="2741760" cy="3394800"/>
            <a:chOff x="693720" y="1731960"/>
            <a:chExt cx="2741760" cy="3394800"/>
          </a:xfrm>
        </p:grpSpPr>
        <p:sp>
          <p:nvSpPr>
            <p:cNvPr id="374" name=""/>
            <p:cNvSpPr/>
            <p:nvPr/>
          </p:nvSpPr>
          <p:spPr>
            <a:xfrm>
              <a:off x="2049840" y="2773440"/>
              <a:ext cx="30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693720" y="1731960"/>
              <a:ext cx="2741760" cy="3394800"/>
              <a:chOff x="693720" y="1731960"/>
              <a:chExt cx="2741760" cy="3394800"/>
            </a:xfrm>
          </p:grpSpPr>
          <p:sp>
            <p:nvSpPr>
              <p:cNvPr id="376" name=""/>
              <p:cNvSpPr/>
              <p:nvPr/>
            </p:nvSpPr>
            <p:spPr>
              <a:xfrm>
                <a:off x="1745280" y="4545360"/>
                <a:ext cx="68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693720" y="1731960"/>
                <a:ext cx="2741760" cy="3220200"/>
                <a:chOff x="693720" y="1731960"/>
                <a:chExt cx="2741760" cy="3220200"/>
              </a:xfrm>
            </p:grpSpPr>
            <p:grpSp>
              <p:nvGrpSpPr>
                <p:cNvPr id="378" name=""/>
                <p:cNvGrpSpPr/>
                <p:nvPr/>
              </p:nvGrpSpPr>
              <p:grpSpPr>
                <a:xfrm>
                  <a:off x="693720" y="1731960"/>
                  <a:ext cx="2741760" cy="3220200"/>
                  <a:chOff x="693720" y="1731960"/>
                  <a:chExt cx="2741760" cy="322020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>
                    <a:off x="1178280" y="2147400"/>
                    <a:ext cx="1780920" cy="2438280"/>
                  </a:xfrm>
                  <a:prstGeom prst="flowChartExtra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1833120" y="1731960"/>
                    <a:ext cx="474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693720" y="4354920"/>
                    <a:ext cx="474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2960640" y="4370760"/>
                    <a:ext cx="474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3" name=""/>
                <p:cNvSpPr/>
                <p:nvPr/>
              </p:nvSpPr>
              <p:spPr>
                <a:xfrm>
                  <a:off x="2052720" y="2232720"/>
                  <a:ext cx="0" cy="23652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4" name=""/>
                <p:cNvGrpSpPr/>
                <p:nvPr/>
              </p:nvGrpSpPr>
              <p:grpSpPr>
                <a:xfrm>
                  <a:off x="1477800" y="2058840"/>
                  <a:ext cx="814680" cy="1059480"/>
                  <a:chOff x="1477800" y="2058840"/>
                  <a:chExt cx="814680" cy="105948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1754640" y="275004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rot="21225600">
                    <a:off x="1514520" y="2097000"/>
                    <a:ext cx="740520" cy="721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888" y="20797"/>
                        </a:moveTo>
                        <a:arcTo wR="10800" hR="10800" stAng="4065605" swAng="20589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888" y="20797"/>
                        </a:moveTo>
                        <a:arcTo wR="10800" hR="10800" stAng="4065605" swAng="2058998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 rot="21225600">
                  <a:off x="1796040" y="1996200"/>
                  <a:ext cx="738000" cy="72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524" y="21576"/>
                      </a:moveTo>
                      <a:arcTo wR="10800" hR="10800" stAng="5169490" swAng="15649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524" y="21576"/>
                      </a:moveTo>
                      <a:arcTo wR="10800" hR="10800" stAng="5169490" swAng="1564904"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8" name=""/>
          <p:cNvSpPr/>
          <p:nvPr/>
        </p:nvSpPr>
        <p:spPr>
          <a:xfrm>
            <a:off x="3230640" y="1735200"/>
            <a:ext cx="216000" cy="2520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582560" y="1106640"/>
            <a:ext cx="7704000" cy="3282120"/>
            <a:chOff x="1582560" y="1106640"/>
            <a:chExt cx="7704000" cy="3282120"/>
          </a:xfrm>
        </p:grpSpPr>
        <p:sp>
          <p:nvSpPr>
            <p:cNvPr id="390" name=""/>
            <p:cNvSpPr/>
            <p:nvPr/>
          </p:nvSpPr>
          <p:spPr>
            <a:xfrm>
              <a:off x="3422520" y="1703160"/>
              <a:ext cx="5688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(1) ∵ AB=AC ,AD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是角平分线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,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     ∴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AD⊥</a:t>
              </a:r>
              <a:r>
                <a:rPr b="1" lang="en-US" sz="2800" spc="-1" strike="noStrike" u="sng">
                  <a:solidFill>
                    <a:srgbClr val="333399"/>
                  </a:solidFill>
                  <a:uFillTx/>
                  <a:latin typeface="Arial"/>
                </a:rPr>
                <a:t>        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，</a:t>
              </a:r>
              <a:r>
                <a:rPr b="1" lang="zh-CN" sz="2800" spc="-1" strike="noStrike" u="sng">
                  <a:solidFill>
                    <a:srgbClr val="333399"/>
                  </a:solidFill>
                  <a:uFillTx/>
                  <a:latin typeface="Arial"/>
                </a:rPr>
                <a:t>        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＝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C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749040" y="2651040"/>
              <a:ext cx="4012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(2) ∵ AB=AC,AD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是中线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,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     ∴ </a:t>
              </a:r>
              <a:r>
                <a:rPr b="1" lang="en-US" sz="2800" spc="-1" strike="noStrike" u="sng">
                  <a:solidFill>
                    <a:srgbClr val="333399"/>
                  </a:solidFill>
                  <a:uFillTx/>
                  <a:latin typeface="Arial"/>
                </a:rPr>
                <a:t>       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⊥</a:t>
              </a:r>
              <a:r>
                <a:rPr b="1" lang="en-US" sz="2800" spc="-1" strike="noStrike" u="sng">
                  <a:solidFill>
                    <a:srgbClr val="333399"/>
                  </a:solidFill>
                  <a:uFillTx/>
                  <a:latin typeface="Arial"/>
                </a:rPr>
                <a:t>       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,∠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＿＝∠＿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25760" y="3441600"/>
              <a:ext cx="586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(3) ∵ AB=AC,AD 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是高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,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     ∴  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＿ ＝ ＿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,     ∠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＿＝∠＿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82560" y="1106640"/>
              <a:ext cx="756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性质</a:t>
              </a:r>
              <a:r>
                <a:rPr b="1" lang="en-US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：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∵</a:t>
              </a:r>
              <a:r>
                <a:rPr b="0" lang="zh-CN" sz="2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AB=AC 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，∴∠＿＿＝∠＿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58920" y="1657080"/>
              <a:ext cx="14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性质</a:t>
              </a:r>
              <a:r>
                <a:rPr b="1" lang="en-US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510120" y="255600"/>
            <a:ext cx="1155240" cy="2592360"/>
          </a:xfrm>
          <a:prstGeom prst="rect">
            <a:avLst/>
          </a:prstGeom>
          <a:gradFill rotWithShape="0">
            <a:gsLst>
              <a:gs pos="0">
                <a:srgbClr val="ff0066">
                  <a:alpha val="49019"/>
                </a:srgbClr>
              </a:gs>
              <a:gs pos="100000">
                <a:srgbClr val="ffffff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几何语言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"/>
          <p:cNvGrpSpPr/>
          <p:nvPr/>
        </p:nvGrpSpPr>
        <p:grpSpPr>
          <a:xfrm>
            <a:off x="1163520" y="3538440"/>
            <a:ext cx="7657920" cy="1717560"/>
            <a:chOff x="1163520" y="3538440"/>
            <a:chExt cx="7657920" cy="1717560"/>
          </a:xfrm>
        </p:grpSpPr>
        <p:sp>
          <p:nvSpPr>
            <p:cNvPr id="397" name=""/>
            <p:cNvSpPr/>
            <p:nvPr/>
          </p:nvSpPr>
          <p:spPr>
            <a:xfrm>
              <a:off x="1698480" y="4019400"/>
              <a:ext cx="221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① </a:t>
              </a: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顶角</a:t>
              </a:r>
              <a:r>
                <a:rPr b="1" lang="en-US" sz="1800" spc="-1" strike="noStrike">
                  <a:solidFill>
                    <a:srgbClr val="ff0000"/>
                  </a:solidFill>
                  <a:latin typeface="宋体"/>
                </a:rPr>
                <a:t>+2×</a:t>
              </a: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底角</a:t>
              </a:r>
              <a:r>
                <a:rPr b="1" lang="en-US" sz="1800" spc="-1" strike="noStrike">
                  <a:solidFill>
                    <a:srgbClr val="ff0000"/>
                  </a:solidFill>
                  <a:latin typeface="宋体"/>
                </a:rPr>
                <a:t>=18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39520" y="4467240"/>
              <a:ext cx="22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② </a:t>
              </a: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顶角</a:t>
              </a:r>
              <a:r>
                <a:rPr b="1" lang="en-US" sz="1800" spc="-1" strike="noStrike">
                  <a:solidFill>
                    <a:srgbClr val="ff0000"/>
                  </a:solidFill>
                  <a:latin typeface="宋体"/>
                </a:rPr>
                <a:t>=180°</a:t>
              </a: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－</a:t>
              </a:r>
              <a:r>
                <a:rPr b="1" lang="en-US" sz="1800" spc="-1" strike="noStrike">
                  <a:solidFill>
                    <a:srgbClr val="ff0000"/>
                  </a:solidFill>
                  <a:latin typeface="宋体"/>
                </a:rPr>
                <a:t>2×</a:t>
              </a: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底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65520" y="4887720"/>
              <a:ext cx="260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③ </a:t>
              </a: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底角</a:t>
              </a:r>
              <a:r>
                <a:rPr b="1" lang="en-US" sz="1800" spc="-1" strike="noStrike">
                  <a:solidFill>
                    <a:srgbClr val="ff0000"/>
                  </a:solidFill>
                  <a:latin typeface="宋体"/>
                </a:rPr>
                <a:t>=</a:t>
              </a: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（</a:t>
              </a:r>
              <a:r>
                <a:rPr b="1" lang="en-US" sz="1800" spc="-1" strike="noStrike">
                  <a:solidFill>
                    <a:srgbClr val="ff0000"/>
                  </a:solidFill>
                  <a:latin typeface="宋体"/>
                </a:rPr>
                <a:t>180°</a:t>
              </a: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－顶角）</a:t>
              </a:r>
              <a:r>
                <a:rPr b="1" lang="en-US" sz="1800" spc="-1" strike="noStrike">
                  <a:solidFill>
                    <a:srgbClr val="ff0000"/>
                  </a:solidFill>
                  <a:latin typeface="宋体"/>
                </a:rPr>
                <a:t>÷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40160" y="4295520"/>
              <a:ext cx="35812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a50021"/>
                  </a:solidFill>
                  <a:latin typeface="宋体"/>
                </a:rPr>
                <a:t>④</a:t>
              </a:r>
              <a:r>
                <a:rPr b="1" lang="en-US" sz="1800" spc="-1" strike="noStrike">
                  <a:solidFill>
                    <a:srgbClr val="a50021"/>
                  </a:solidFill>
                  <a:latin typeface="宋体"/>
                </a:rPr>
                <a:t>0°</a:t>
              </a:r>
              <a:r>
                <a:rPr b="1" lang="zh-CN" sz="1800" spc="-1" strike="noStrike">
                  <a:solidFill>
                    <a:srgbClr val="a50021"/>
                  </a:solidFill>
                  <a:latin typeface="宋体"/>
                </a:rPr>
                <a:t>＜顶角＜</a:t>
              </a:r>
              <a:r>
                <a:rPr b="1" lang="en-US" sz="1800" spc="-1" strike="noStrike">
                  <a:solidFill>
                    <a:srgbClr val="a50021"/>
                  </a:solidFill>
                  <a:latin typeface="宋体"/>
                </a:rPr>
                <a:t>18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宋体"/>
                </a:rPr>
                <a:t>⑤</a:t>
              </a:r>
              <a:r>
                <a:rPr b="1" lang="en-US" sz="1800" spc="-1" strike="noStrike">
                  <a:solidFill>
                    <a:srgbClr val="a50021"/>
                  </a:solidFill>
                  <a:latin typeface="宋体"/>
                </a:rPr>
                <a:t>0°</a:t>
              </a:r>
              <a:r>
                <a:rPr b="1" lang="zh-CN" sz="1800" spc="-1" strike="noStrike">
                  <a:solidFill>
                    <a:srgbClr val="a50021"/>
                  </a:solidFill>
                  <a:latin typeface="宋体"/>
                </a:rPr>
                <a:t>＜底角＜</a:t>
              </a:r>
              <a:r>
                <a:rPr b="1" lang="en-US" sz="1800" spc="-1" strike="noStrike">
                  <a:solidFill>
                    <a:srgbClr val="a50021"/>
                  </a:solidFill>
                  <a:latin typeface="宋体"/>
                </a:rPr>
                <a:t>9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63520" y="3538440"/>
              <a:ext cx="421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结论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:</a:t>
              </a: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在等腰三角形中</a:t>
              </a: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-42840" y="1643040"/>
            <a:ext cx="8969400" cy="1865160"/>
            <a:chOff x="-42840" y="1643040"/>
            <a:chExt cx="8969400" cy="1865160"/>
          </a:xfrm>
        </p:grpSpPr>
        <p:sp>
          <p:nvSpPr>
            <p:cNvPr id="404" name=""/>
            <p:cNvSpPr/>
            <p:nvPr/>
          </p:nvSpPr>
          <p:spPr>
            <a:xfrm>
              <a:off x="411120" y="1643040"/>
              <a:ext cx="851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（</a:t>
              </a:r>
              <a:r>
                <a:rPr b="1" lang="en-US" sz="1800" spc="-1" strike="noStrike">
                  <a:solidFill>
                    <a:srgbClr val="000099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）等腰三角形一个底角为</a:t>
              </a:r>
              <a:r>
                <a:rPr b="1" lang="en-US" sz="1800" spc="-1" strike="noStrike">
                  <a:solidFill>
                    <a:srgbClr val="000099"/>
                  </a:solidFill>
                  <a:latin typeface="宋体"/>
                </a:rPr>
                <a:t>70°,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它的另外两个为</a:t>
              </a:r>
              <a:r>
                <a:rPr b="1" lang="zh-CN" sz="1800" spc="-1" strike="noStrike" u="sng">
                  <a:solidFill>
                    <a:srgbClr val="000099"/>
                  </a:solidFill>
                  <a:uFillTx/>
                  <a:latin typeface="宋体"/>
                </a:rPr>
                <a:t>   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8000" y="2619360"/>
              <a:ext cx="823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   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（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3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）等腰三角形一个角为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50°,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它的另外两个角为</a:t>
              </a:r>
              <a:r>
                <a:rPr b="1" lang="zh-CN" sz="1800" spc="-1" strike="noStrike" u="sng">
                  <a:solidFill>
                    <a:srgbClr val="000099"/>
                  </a:solidFill>
                  <a:uFillTx/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2440" y="3051000"/>
              <a:ext cx="8158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-42840" y="2136600"/>
              <a:ext cx="847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（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2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）等腰三角形一个顶角为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80°,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它的另外两个角为</a:t>
              </a:r>
              <a:r>
                <a:rPr b="1" lang="zh-CN" sz="1800" spc="-1" strike="noStrike" u="sng">
                  <a:solidFill>
                    <a:srgbClr val="000099"/>
                  </a:solidFill>
                  <a:uFillTx/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252360" y="44280"/>
            <a:ext cx="2521080" cy="6404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bbe0e3"/>
              </a:gs>
              <a:gs pos="100000">
                <a:srgbClr val="ffff66"/>
              </a:gs>
            </a:gsLst>
            <a:lin ang="135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知识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5280" y="981000"/>
            <a:ext cx="2070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、填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324160" y="1714680"/>
            <a:ext cx="3233520" cy="323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2ecb8"/>
              </a:gs>
              <a:gs pos="100000">
                <a:srgbClr val="ff99ff"/>
              </a:gs>
            </a:gsLst>
            <a:lin ang="5400000"/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7080" y="787320"/>
            <a:ext cx="581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等腰三角形的性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844560" y="1047600"/>
            <a:ext cx="88041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如图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,AB=AC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上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BD=BC=AD,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图中共有几个等腰三角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861080" y="2781360"/>
            <a:ext cx="2037960" cy="3297240"/>
            <a:chOff x="4861080" y="2781360"/>
            <a:chExt cx="2037960" cy="3297240"/>
          </a:xfrm>
        </p:grpSpPr>
        <p:sp>
          <p:nvSpPr>
            <p:cNvPr id="412" name=""/>
            <p:cNvSpPr/>
            <p:nvPr/>
          </p:nvSpPr>
          <p:spPr>
            <a:xfrm>
              <a:off x="5228280" y="3046680"/>
              <a:ext cx="1562040" cy="254736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5218920" y="4592880"/>
              <a:ext cx="123660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4861080" y="2781360"/>
              <a:ext cx="2037960" cy="3297240"/>
              <a:chOff x="4861080" y="2781360"/>
              <a:chExt cx="2037960" cy="3297240"/>
            </a:xfrm>
          </p:grpSpPr>
          <p:sp>
            <p:nvSpPr>
              <p:cNvPr id="415" name=""/>
              <p:cNvSpPr/>
              <p:nvPr/>
            </p:nvSpPr>
            <p:spPr>
              <a:xfrm>
                <a:off x="6539760" y="419796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861080" y="5446440"/>
                <a:ext cx="32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116760" y="2781360"/>
                <a:ext cx="3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573600" y="571032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"/>
          <p:cNvSpPr/>
          <p:nvPr/>
        </p:nvSpPr>
        <p:spPr>
          <a:xfrm>
            <a:off x="612720" y="2133720"/>
            <a:ext cx="72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宋体"/>
              </a:rPr>
              <a:t>(2)</a:t>
            </a:r>
            <a:r>
              <a:rPr b="1" lang="zh-CN" sz="1800" spc="-1" strike="noStrike">
                <a:solidFill>
                  <a:srgbClr val="6600cc"/>
                </a:solidFill>
                <a:latin typeface="宋体"/>
              </a:rPr>
              <a:t>设</a:t>
            </a:r>
            <a:r>
              <a:rPr b="0" lang="zh-CN" sz="1800" spc="-1" strike="noStrike">
                <a:solidFill>
                  <a:srgbClr val="6600cc"/>
                </a:solidFill>
                <a:latin typeface="Arial"/>
                <a:ea typeface="楷体_GB2312"/>
              </a:rPr>
              <a:t>∠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  <a:ea typeface="楷体_GB2312"/>
              </a:rPr>
              <a:t>A</a:t>
            </a:r>
            <a:r>
              <a:rPr b="0" lang="zh-CN" sz="1800" spc="-1" strike="noStrike">
                <a:solidFill>
                  <a:srgbClr val="6600cc"/>
                </a:solidFill>
                <a:latin typeface="Arial"/>
                <a:ea typeface="楷体_GB2312"/>
              </a:rPr>
              <a:t>为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  <a:ea typeface="楷体_GB2312"/>
              </a:rPr>
              <a:t>x°</a:t>
            </a:r>
            <a:r>
              <a:rPr b="1" lang="zh-CN" sz="1800" spc="-1" strike="noStrike">
                <a:solidFill>
                  <a:srgbClr val="6600cc"/>
                </a:solidFill>
                <a:latin typeface="Arial"/>
                <a:ea typeface="楷体_GB2312"/>
              </a:rPr>
              <a:t>你能分别表示出 图中其它各角吗？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89000"/>
            <a:ext cx="2665440" cy="6404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bbe0e3"/>
              </a:gs>
              <a:gs pos="100000">
                <a:srgbClr val="ffff66"/>
              </a:gs>
            </a:gsLst>
            <a:lin ang="135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拓展提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547640" y="249228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宋体"/>
              </a:rPr>
              <a:t>(3)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你能求出△</a:t>
            </a:r>
            <a:r>
              <a:rPr b="1" lang="en-US" sz="1800" spc="-1" strike="noStrike">
                <a:solidFill>
                  <a:srgbClr val="ff0066"/>
                </a:solidFill>
                <a:latin typeface="宋体"/>
              </a:rPr>
              <a:t>ABC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各角的度数吗</a:t>
            </a:r>
            <a:r>
              <a:rPr b="1" lang="en-US" sz="1800" spc="-1" strike="noStrike">
                <a:solidFill>
                  <a:srgbClr val="ff0066"/>
                </a:solidFill>
                <a:latin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79280" y="2708280"/>
            <a:ext cx="815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变式训练：若已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AC=100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º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你能否求出顶架上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AD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D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度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924360" y="3933720"/>
            <a:ext cx="3816000" cy="1870560"/>
            <a:chOff x="3924360" y="3933720"/>
            <a:chExt cx="3816000" cy="1870560"/>
          </a:xfrm>
        </p:grpSpPr>
        <p:sp>
          <p:nvSpPr>
            <p:cNvPr id="424" name=""/>
            <p:cNvSpPr/>
            <p:nvPr/>
          </p:nvSpPr>
          <p:spPr>
            <a:xfrm>
              <a:off x="5490720" y="3933720"/>
              <a:ext cx="66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24360" y="5314680"/>
              <a:ext cx="74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61560" y="5405400"/>
              <a:ext cx="73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995520" y="5333400"/>
              <a:ext cx="74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72200" y="4337280"/>
              <a:ext cx="2872440" cy="10936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08600" y="4337280"/>
              <a:ext cx="0" cy="1086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783760" y="5242680"/>
              <a:ext cx="19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957280" y="5242680"/>
              <a:ext cx="0" cy="1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324000" y="189000"/>
            <a:ext cx="2571480" cy="6404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bbe0e3"/>
              </a:gs>
              <a:gs pos="100000">
                <a:srgbClr val="ffff66"/>
              </a:gs>
            </a:gsLst>
            <a:lin ang="135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拓展提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4000" y="1262520"/>
            <a:ext cx="79214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现在工人师傅要加固屋顶，他们通过测量找到了横梁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中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然后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A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两点之间钉上一根木桩，他们认为木桩是垂直横梁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你认为他们的说法对吗？请说明理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1116000" y="1700280"/>
            <a:ext cx="201132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谈谈收获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995640" y="1557360"/>
            <a:ext cx="3951360" cy="12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这节课我们学到了什么？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6" name=""/>
          <p:cNvSpPr/>
          <p:nvPr/>
        </p:nvSpPr>
        <p:spPr>
          <a:xfrm>
            <a:off x="468360" y="333360"/>
            <a:ext cx="1417680" cy="6404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bbe0e3"/>
              </a:gs>
              <a:gs pos="100000">
                <a:srgbClr val="ffff66"/>
              </a:gs>
            </a:gsLst>
            <a:lin ang="135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54" dur="3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5" dur="1500" autoRev="1" fill="hold"/>
                                        <p:tgtEl>
                                          <p:spTgt spid="4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3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80513"/>
              <a:gd name="adj2" fmla="val 364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2952720" cy="2664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580000" y="692280"/>
            <a:ext cx="3384720" cy="2736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08000" y="117360"/>
            <a:ext cx="70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观察下面的图形，你能发现它们有什么共同特点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79280" y="3573360"/>
            <a:ext cx="2952720" cy="2951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5580000" y="3500280"/>
            <a:ext cx="3384720" cy="295128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3132000" y="1844640"/>
            <a:ext cx="2448000" cy="3313080"/>
            <a:chOff x="3132000" y="1844640"/>
            <a:chExt cx="2448000" cy="3313080"/>
          </a:xfrm>
        </p:grpSpPr>
        <p:pic>
          <p:nvPicPr>
            <p:cNvPr id="76" name="" descr=""/>
            <p:cNvPicPr/>
            <p:nvPr/>
          </p:nvPicPr>
          <p:blipFill>
            <a:blip r:embed="rId6"/>
            <a:stretch/>
          </p:blipFill>
          <p:spPr>
            <a:xfrm>
              <a:off x="3132000" y="1844640"/>
              <a:ext cx="2448000" cy="33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4254120" y="3427560"/>
              <a:ext cx="264960" cy="1177920"/>
            </a:xfrm>
            <a:prstGeom prst="line">
              <a:avLst/>
            </a:prstGeom>
            <a:ln w="5724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54120" y="3390480"/>
              <a:ext cx="570960" cy="0"/>
            </a:xfrm>
            <a:prstGeom prst="line">
              <a:avLst/>
            </a:prstGeom>
            <a:ln w="5724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4539240" y="3390480"/>
              <a:ext cx="285480" cy="1288080"/>
            </a:xfrm>
            <a:prstGeom prst="line">
              <a:avLst/>
            </a:prstGeom>
            <a:ln w="5724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26920" y="6165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北京五塔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27640" y="3573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西安半坡博物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59640" y="6922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Comic Sans MS"/>
              </a:rPr>
              <a:t>斜拉桥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14842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Comic Sans MS"/>
              </a:rPr>
              <a:t>体育观看台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765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Comic Sans MS"/>
              </a:rPr>
              <a:t>埃及金字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116000" y="1268280"/>
            <a:ext cx="1008000" cy="1513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2781360"/>
            <a:ext cx="1584360" cy="712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4000" y="1268280"/>
            <a:ext cx="647640" cy="1584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47640" y="3573360"/>
            <a:ext cx="792360" cy="1727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84000" y="3646440"/>
            <a:ext cx="865080" cy="1727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84360" y="5300280"/>
            <a:ext cx="1657080" cy="73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866920" y="4005360"/>
            <a:ext cx="1513080" cy="1944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80360" y="4005360"/>
            <a:ext cx="1763640" cy="1944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5950080"/>
            <a:ext cx="327672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56720" y="1341360"/>
            <a:ext cx="215640" cy="1150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812000" y="1413000"/>
            <a:ext cx="144720" cy="1079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7811640" y="2492280"/>
            <a:ext cx="36036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572000" y="3357720"/>
            <a:ext cx="287280" cy="1295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13080" y="3357720"/>
            <a:ext cx="287640" cy="1295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211280" y="3357720"/>
            <a:ext cx="6462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5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5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5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5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5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203040"/>
            <a:ext cx="6408720" cy="4435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022520" y="3290760"/>
            <a:ext cx="197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△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C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什么特点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956280" y="3979800"/>
            <a:ext cx="1192320" cy="46512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747200" y="1609560"/>
            <a:ext cx="53568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隶书"/>
              </a:rPr>
              <a:t>看一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12680" y="4638600"/>
            <a:ext cx="71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提问：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剪出的三角形是等腰三角形吗？并指出其中的腰、底边、顶角、底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-36360" y="260280"/>
            <a:ext cx="9072000" cy="737640"/>
            <a:chOff x="-36360" y="260280"/>
            <a:chExt cx="9072000" cy="737640"/>
          </a:xfrm>
        </p:grpSpPr>
        <p:sp>
          <p:nvSpPr>
            <p:cNvPr id="106" name=""/>
            <p:cNvSpPr/>
            <p:nvPr/>
          </p:nvSpPr>
          <p:spPr>
            <a:xfrm>
              <a:off x="2647080" y="296640"/>
              <a:ext cx="638856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ff"/>
                  </a:solidFill>
                  <a:latin typeface="Arial"/>
                  <a:ea typeface="楷体_GB2312"/>
                </a:rPr>
                <a:t>实践观察，认识等腰三角形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-36360" y="260280"/>
              <a:ext cx="4008600" cy="592200"/>
              <a:chOff x="-36360" y="260280"/>
              <a:chExt cx="4008600" cy="59220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-36360" y="344520"/>
                <a:ext cx="2454120" cy="507960"/>
                <a:chOff x="-36360" y="344520"/>
                <a:chExt cx="2454120" cy="5079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300240" y="344520"/>
                  <a:ext cx="2117520" cy="507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bff9b"/>
                    </a:gs>
                    <a:gs pos="50000">
                      <a:srgbClr val="ffffff"/>
                    </a:gs>
                    <a:gs pos="100000">
                      <a:srgbClr val="9bff9b"/>
                    </a:gs>
                  </a:gsLst>
                  <a:lin ang="5400000"/>
                </a:gradFill>
                <a:ln w="25560">
                  <a:solidFill>
                    <a:srgbClr val="009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" name=""/>
                <p:cNvGrpSpPr/>
                <p:nvPr/>
              </p:nvGrpSpPr>
              <p:grpSpPr>
                <a:xfrm>
                  <a:off x="-36360" y="496440"/>
                  <a:ext cx="445320" cy="226440"/>
                  <a:chOff x="-36360" y="496440"/>
                  <a:chExt cx="445320" cy="226440"/>
                </a:xfrm>
              </p:grpSpPr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496440"/>
                    <a:ext cx="445320" cy="22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2" name=""/>
                  <p:cNvSpPr/>
                  <p:nvPr/>
                </p:nvSpPr>
                <p:spPr>
                  <a:xfrm>
                    <a:off x="-16920" y="506160"/>
                    <a:ext cx="406440" cy="207000"/>
                  </a:xfrm>
                  <a:prstGeom prst="ellipse">
                    <a:avLst/>
                  </a:prstGeom>
                  <a:solidFill>
                    <a:srgbClr val="25ff25">
                      <a:alpha val="49000"/>
                    </a:srgbClr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>
                <a:off x="488880" y="260280"/>
                <a:ext cx="3483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探究一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"/>
                            </p:stCondLst>
                            <p:childTnLst>
                              <p:par>
                                <p:cTn id="11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14640" y="585720"/>
            <a:ext cx="286848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画演示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11280" y="566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36000" y="58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5760" y="184464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（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）把剪出的等腰三角形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△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ABC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沿折痕对折，除两腰重合外还有没有重合的部分？并指出重合的部分是什么？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03640" y="3213000"/>
            <a:ext cx="0" cy="295272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771640" y="3213000"/>
            <a:ext cx="223200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38480" y="3068640"/>
            <a:ext cx="1981080" cy="3716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987640" y="333360"/>
            <a:ext cx="286848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画演示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11280" y="566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36000" y="58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2280" y="184464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（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）把剪出的等腰三角形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△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ABC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沿折痕对折，除两腰重合外还有没有重合的部分？并指出重合的部分是什么？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03640" y="3213000"/>
            <a:ext cx="0" cy="295272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4" action="ppaction://hlinksldjump"/>
          </p:cNvPr>
          <p:cNvSpPr/>
          <p:nvPr/>
        </p:nvSpPr>
        <p:spPr>
          <a:xfrm flipH="1">
            <a:off x="2771640" y="3213000"/>
            <a:ext cx="223200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861080" y="3040200"/>
            <a:ext cx="1941480" cy="3789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987640" y="333360"/>
            <a:ext cx="286848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画演示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566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36000" y="58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6560" y="1844640"/>
            <a:ext cx="86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（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）把剪出的等腰三角形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△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ABC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沿折痕对折，除两腰重合外还有没有重合的部分？并指出重合的部分是什么？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3213000"/>
            <a:ext cx="0" cy="295272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4" action="ppaction://hlinksldjump"/>
          </p:cNvPr>
          <p:cNvSpPr/>
          <p:nvPr/>
        </p:nvSpPr>
        <p:spPr>
          <a:xfrm flipH="1">
            <a:off x="2771640" y="3213000"/>
            <a:ext cx="223200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987640" y="333360"/>
            <a:ext cx="286848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画演示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1280" y="566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36000" y="58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6560" y="1844640"/>
            <a:ext cx="86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（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）把剪出的等腰三角形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△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ABC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沿折痕对折，除两腰重合外还有没有重合的部分？并指出重合的部分是什么？</a:t>
            </a:r>
            <a:r>
              <a:rPr b="1" lang="zh-CN" sz="1800" spc="-1" strike="noStrike">
                <a:solidFill>
                  <a:srgbClr val="ffff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solidFill>
            <a:srgbClr val="00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03640" y="3213000"/>
            <a:ext cx="0" cy="295272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3" action="ppaction://hlinksldjump"/>
          </p:cNvPr>
          <p:cNvSpPr/>
          <p:nvPr/>
        </p:nvSpPr>
        <p:spPr>
          <a:xfrm flipH="1">
            <a:off x="2771640" y="3213000"/>
            <a:ext cx="223200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861080" y="3040200"/>
            <a:ext cx="1941480" cy="3789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987640" y="333360"/>
            <a:ext cx="286848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画演示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11280" y="566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58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5760" y="184464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（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）把剪出的等腰三角形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△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ABC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沿折痕对折，除两腰重合外还有没有重合的部分？并指出重合的部分是什么？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03640" y="3213000"/>
            <a:ext cx="0" cy="295272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4" action="ppaction://hlinksldjump"/>
          </p:cNvPr>
          <p:cNvSpPr/>
          <p:nvPr/>
        </p:nvSpPr>
        <p:spPr>
          <a:xfrm flipH="1">
            <a:off x="2771640" y="3213000"/>
            <a:ext cx="223200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5T12:37:19Z</dcterms:created>
  <dc:creator/>
  <dc:description/>
  <cp:keywords/>
  <dc:language>en-US</dc:language>
  <cp:lastModifiedBy/>
  <dcterms:modified xsi:type="dcterms:W3CDTF">2015-10-28T10:31:5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