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E9E-8E63-41B1-B852-96B2C303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F20-222A-4B7C-AA1D-A17571D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DF1-40EF-4AA6-AA8C-0EABB8EA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6C6-F0C7-44B0-8766-80D41D55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EC6B-CB7D-40B6-BE33-429DFE9B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DB4-59F0-46CA-B342-507C391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651-E6EB-4772-859F-68A74CB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4B6-916B-49BE-AEDA-AE051F67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1AD2-3E75-4791-A408-F1BC5EBF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44B6-73F5-4DB3-B200-35ACB59C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DC21-3A96-4190-854E-576035F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086-4074-4E64-AD69-B681BFB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4585-A972-47E8-B7E2-F4CDBAC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A32-3569-404E-B942-49AF8AE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C142-AF0D-4380-B2D6-478FA950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A060-E629-4688-9F32-29358C3B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29EE-36AE-440A-BDB3-7A1FB14A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19D-05CB-4B62-A554-87FC17C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3C2-AD36-4D8F-AB0C-8259A26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6C0-8513-4CFE-84B6-794F448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96C-5571-44AA-970F-49EC101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C02-6151-49F8-9CE6-B485E8D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FF9-9883-43FC-86CE-745A72E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D86-01F9-4D7D-A90E-F1C140D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B96-030D-4BC4-B197-B4527951D04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4E7-881D-4D07-A67E-82858758C73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8200" y="242100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00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一课时 作线段和角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00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1268280"/>
            <a:ext cx="640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尺规作图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42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已知线段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如图所示，画一个等腰三角形，使其腰长等于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，底边长等于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B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32400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50292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：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利用尺规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2∠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β(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0°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作一个角，使它等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α+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31687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8915400" cy="4800240"/>
            <a:chOff x="0" y="0"/>
            <a:chExt cx="8915400" cy="4800240"/>
          </a:xfrm>
        </p:grpSpPr>
        <p:sp>
          <p:nvSpPr>
            <p:cNvPr id="160" name=""/>
            <p:cNvSpPr/>
            <p:nvPr/>
          </p:nvSpPr>
          <p:spPr>
            <a:xfrm>
              <a:off x="0" y="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练习：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09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分别画出满足下列条件的三角形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已知两边及夹角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85800" y="2362320"/>
              <a:ext cx="2666880" cy="2437920"/>
              <a:chOff x="685800" y="2362320"/>
              <a:chExt cx="2666880" cy="24379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85800" y="3124080"/>
                <a:ext cx="2666880" cy="993240"/>
                <a:chOff x="685800" y="3124080"/>
                <a:chExt cx="2666880" cy="993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38080" y="3657600"/>
                  <a:ext cx="2210040" cy="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895480" y="3200400"/>
                  <a:ext cx="4572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33cc"/>
                      </a:solidFill>
                      <a:latin typeface="Times New Roman"/>
                    </a:rPr>
                    <a:t>·</a:t>
                  </a:r>
                  <a:endParaRPr b="0" lang="en-US" sz="5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85800" y="3200400"/>
                  <a:ext cx="4572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33cc"/>
                      </a:solidFill>
                      <a:latin typeface="Times New Roman"/>
                    </a:rPr>
                    <a:t>·</a:t>
                  </a:r>
                  <a:endParaRPr b="0" lang="en-US" sz="5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76520" y="31240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62120" y="2362320"/>
                <a:ext cx="2133000" cy="1069200"/>
                <a:chOff x="762120" y="2362320"/>
                <a:chExt cx="2133000" cy="1069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914400" y="2971800"/>
                  <a:ext cx="1675800" cy="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62120" y="2514600"/>
                  <a:ext cx="4568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33cc"/>
                      </a:solidFill>
                      <a:latin typeface="Times New Roman"/>
                    </a:rPr>
                    <a:t>·</a:t>
                  </a:r>
                  <a:endParaRPr b="0" lang="en-US" sz="5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438280" y="2514600"/>
                  <a:ext cx="4568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33cc"/>
                      </a:solidFill>
                      <a:latin typeface="Times New Roman"/>
                    </a:rPr>
                    <a:t>·</a:t>
                  </a:r>
                  <a:endParaRPr b="0" lang="en-US" sz="5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23880" y="2362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219320" y="3809880"/>
                <a:ext cx="1523880" cy="990360"/>
                <a:chOff x="1219320" y="3809880"/>
                <a:chExt cx="1523880" cy="99036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1219320" y="3809880"/>
                  <a:ext cx="914400" cy="76212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19320" y="4572000"/>
                  <a:ext cx="1523880" cy="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71600" y="4343400"/>
                  <a:ext cx="3045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1" swAng="5400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1" swAng="5400001"/>
                    </a:path>
                  </a:pathLst>
                </a:custGeom>
                <a:noFill/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676520" y="41148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8" name=""/>
          <p:cNvGrpSpPr/>
          <p:nvPr/>
        </p:nvGrpSpPr>
        <p:grpSpPr>
          <a:xfrm>
            <a:off x="4038480" y="1371600"/>
            <a:ext cx="4496040" cy="3200040"/>
            <a:chOff x="4038480" y="1371600"/>
            <a:chExt cx="4496040" cy="3200040"/>
          </a:xfrm>
        </p:grpSpPr>
        <p:grpSp>
          <p:nvGrpSpPr>
            <p:cNvPr id="179" name=""/>
            <p:cNvGrpSpPr/>
            <p:nvPr/>
          </p:nvGrpSpPr>
          <p:grpSpPr>
            <a:xfrm>
              <a:off x="4800600" y="2362320"/>
              <a:ext cx="3048120" cy="2209320"/>
              <a:chOff x="4800600" y="2362320"/>
              <a:chExt cx="3048120" cy="22093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800600" y="2362320"/>
                <a:ext cx="2666880" cy="992880"/>
                <a:chOff x="4800600" y="2362320"/>
                <a:chExt cx="2666880" cy="992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52880" y="2895480"/>
                  <a:ext cx="2210040" cy="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10280" y="2438280"/>
                  <a:ext cx="4572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33cc"/>
                      </a:solidFill>
                      <a:latin typeface="Times New Roman"/>
                    </a:rPr>
                    <a:t>·</a:t>
                  </a:r>
                  <a:endParaRPr b="0" lang="en-US" sz="5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00600" y="2438280"/>
                  <a:ext cx="4572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33cc"/>
                      </a:solidFill>
                      <a:latin typeface="Times New Roman"/>
                    </a:rPr>
                    <a:t>·</a:t>
                  </a:r>
                  <a:endParaRPr b="0" lang="en-US" sz="5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791320" y="2362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800600" y="3352680"/>
                <a:ext cx="1523880" cy="990360"/>
                <a:chOff x="4800600" y="3352680"/>
                <a:chExt cx="1523880" cy="99036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800600" y="3352680"/>
                  <a:ext cx="914400" cy="76212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800600" y="4114800"/>
                  <a:ext cx="1523880" cy="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52880" y="3886200"/>
                  <a:ext cx="3045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1" swAng="5400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1" swAng="5400001"/>
                    </a:path>
                  </a:pathLst>
                </a:custGeom>
                <a:noFill/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57800" y="36576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477120" y="3124080"/>
                <a:ext cx="1371600" cy="1447560"/>
                <a:chOff x="6477120" y="3124080"/>
                <a:chExt cx="1371600" cy="1447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315200" y="3124080"/>
                  <a:ext cx="533520" cy="99072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6477120" y="4114800"/>
                  <a:ext cx="1371600" cy="0"/>
                </a:xfrm>
                <a:prstGeom prst="line">
                  <a:avLst/>
                </a:prstGeom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7391520" y="3657600"/>
                  <a:ext cx="45648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14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934320" y="35053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β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4038480" y="1371600"/>
              <a:ext cx="44960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已知两角及夹边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28600" y="5334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已知三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已知：直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及直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外一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求作：过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D∥A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502520" y="2349360"/>
            <a:ext cx="4030200" cy="2516040"/>
            <a:chOff x="4502520" y="2349360"/>
            <a:chExt cx="4030200" cy="2516040"/>
          </a:xfrm>
        </p:grpSpPr>
        <p:sp>
          <p:nvSpPr>
            <p:cNvPr id="199" name=""/>
            <p:cNvSpPr/>
            <p:nvPr/>
          </p:nvSpPr>
          <p:spPr>
            <a:xfrm>
              <a:off x="4572000" y="4289400"/>
              <a:ext cx="39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9800" y="3139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435640" y="2849040"/>
              <a:ext cx="2016000" cy="201636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02520" y="4290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69080" y="4289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8160" y="4290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72000" y="2349360"/>
              <a:ext cx="30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华文行楷"/>
                  <a:ea typeface="华文行楷"/>
                </a:rPr>
                <a:t>l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8000" y="15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线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∠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8000" y="90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C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C=a,AB=c,∠ABC=∠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50028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一条线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C=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7520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顶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,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一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,∠DBC=∠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724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射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截取线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A=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56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连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C,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就是所求作的三角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59280" y="170028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2349360"/>
            <a:ext cx="223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28000" y="1341000"/>
            <a:ext cx="64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1893600"/>
            <a:ext cx="64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24000" y="2492280"/>
            <a:ext cx="2590920" cy="1152360"/>
            <a:chOff x="5724000" y="2492280"/>
            <a:chExt cx="2590920" cy="1152360"/>
          </a:xfrm>
        </p:grpSpPr>
        <p:sp>
          <p:nvSpPr>
            <p:cNvPr id="217" name=""/>
            <p:cNvSpPr/>
            <p:nvPr/>
          </p:nvSpPr>
          <p:spPr>
            <a:xfrm flipH="1">
              <a:off x="5724000" y="2492280"/>
              <a:ext cx="208764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24360" y="35002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b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84720" y="2942640"/>
              <a:ext cx="649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33cc"/>
                  </a:solidFill>
                  <a:latin typeface="宋体"/>
                </a:rPr>
                <a:t>α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54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通过本节学习，应理解一些作图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隶书"/>
              </a:rPr>
              <a:t>语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过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直线；或作直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射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连结两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或连结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上截取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=xx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圆心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半径作圆（弧）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点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别以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圆心，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半径作                 弧，两弧相交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71640" y="0"/>
            <a:ext cx="3311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本课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9640" y="112536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两个基本作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作一条线段等于已知线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265800" cy="14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678040" y="3660840"/>
            <a:ext cx="5112000" cy="2247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9640" y="342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作一个角等于已知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基本作图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几何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限定用直尺和圆规来画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尺规作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基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常用的尺规作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称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基本作图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尺是没有刻度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复杂的尺规作图都是由基本作图组成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前学过的”作一条线段等于已知线段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一种基本作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再介绍几种基本作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627280" y="3716280"/>
          <a:ext cx="57610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716280"/>
                    <a:ext cx="57610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0920" y="1413000"/>
            <a:ext cx="860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作法：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、画射线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、用圆规量出线段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MN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的长，在射线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上截取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AC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MN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线段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AC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就是所要画的线段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0"/>
            <a:ext cx="8540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、作一条线段等于已知线段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836640"/>
            <a:ext cx="86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：线段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N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求作线段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使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N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作一个角等于已知角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15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： 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作：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`O`B`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`O`B`=∠AO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4360" y="2036880"/>
            <a:ext cx="3025800" cy="2259720"/>
            <a:chOff x="684360" y="2036880"/>
            <a:chExt cx="3025800" cy="2259720"/>
          </a:xfrm>
        </p:grpSpPr>
        <p:sp>
          <p:nvSpPr>
            <p:cNvPr id="95" name=""/>
            <p:cNvSpPr/>
            <p:nvPr/>
          </p:nvSpPr>
          <p:spPr>
            <a:xfrm>
              <a:off x="684360" y="3836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189080" y="2179800"/>
              <a:ext cx="2158920" cy="1800000"/>
              <a:chOff x="1189080" y="2179800"/>
              <a:chExt cx="2158920" cy="18000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1189080" y="2179800"/>
                <a:ext cx="180000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89080" y="397980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349800" y="3763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91600" y="203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306864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作射线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`A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1" lang="zh-CN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以点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为圆心，以任意长为半径作弧，交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A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交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以点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为圆心，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长为半径作弧，交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`A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以点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为圆心，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长为半径作弧，交前弧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D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经过点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D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作射线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O`B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`O`B`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就是所求的角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0606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89080" y="403200"/>
            <a:ext cx="2158920" cy="1800000"/>
            <a:chOff x="1189080" y="403200"/>
            <a:chExt cx="2158920" cy="1800000"/>
          </a:xfrm>
        </p:grpSpPr>
        <p:sp>
          <p:nvSpPr>
            <p:cNvPr id="104" name=""/>
            <p:cNvSpPr/>
            <p:nvPr/>
          </p:nvSpPr>
          <p:spPr>
            <a:xfrm flipV="1">
              <a:off x="1189080" y="403200"/>
              <a:ext cx="1800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9080" y="220320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rot="1550400">
            <a:off x="-235800" y="513360"/>
            <a:ext cx="3022200" cy="331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79" y="11"/>
                </a:moveTo>
                <a:arcTo wR="10800" hR="10800" stAng="-5247608" swAng="5247608"/>
                <a:lnTo>
                  <a:pt x="10800" y="10800"/>
                </a:lnTo>
                <a:close/>
              </a:path>
              <a:path fill="none" w="21600" h="21600">
                <a:moveTo>
                  <a:pt x="11279" y="11"/>
                </a:moveTo>
                <a:arcTo wR="10800" hR="10800" stAng="-5247608" swAng="5247608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9800" y="1987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91600" y="26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70520" y="22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8880" y="83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003640" y="40428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20500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50400">
            <a:off x="3442680" y="483120"/>
            <a:ext cx="3168000" cy="31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4000" y="21337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9080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6880" y="2133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3080" y="76500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99120" y="764640"/>
            <a:ext cx="4400640" cy="25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57" y="1154"/>
                </a:moveTo>
                <a:arcTo wR="10800" hR="10800" stAng="-3796296" swAng="888249"/>
                <a:lnTo>
                  <a:pt x="10800" y="10800"/>
                </a:lnTo>
                <a:close/>
              </a:path>
              <a:path fill="none" w="21600" h="21600">
                <a:moveTo>
                  <a:pt x="15657" y="1154"/>
                </a:moveTo>
                <a:arcTo wR="10800" hR="10800" stAng="-3796296" swAng="888249"/>
              </a:path>
            </a:pathLst>
          </a:custGeom>
          <a:noFill/>
          <a:ln w="57240">
            <a:solidFill>
              <a:srgbClr val="0e68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33336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3284640"/>
            <a:ext cx="828036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证明：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作法可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△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`O`D`≌△COD(SSS)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∠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`O`D`=∠COD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全等三角形的对应角相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即∠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`O`B`=∠AO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133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476280"/>
            <a:ext cx="2158920" cy="1800000"/>
            <a:chOff x="973080" y="476280"/>
            <a:chExt cx="2158920" cy="1800000"/>
          </a:xfrm>
        </p:grpSpPr>
        <p:sp>
          <p:nvSpPr>
            <p:cNvPr id="123" name=""/>
            <p:cNvSpPr/>
            <p:nvPr/>
          </p:nvSpPr>
          <p:spPr>
            <a:xfrm flipV="1">
              <a:off x="973080" y="476280"/>
              <a:ext cx="1800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3080" y="227628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550400">
            <a:off x="-451800" y="586440"/>
            <a:ext cx="3022200" cy="331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79" y="11"/>
                </a:moveTo>
                <a:arcTo wR="10800" hR="10800" stAng="-5247608" swAng="5247608"/>
                <a:lnTo>
                  <a:pt x="10800" y="10800"/>
                </a:lnTo>
                <a:close/>
              </a:path>
              <a:path fill="none" w="21600" h="21600">
                <a:moveTo>
                  <a:pt x="11279" y="11"/>
                </a:moveTo>
                <a:arcTo wR="10800" hR="10800" stAng="-5247608" swAng="5247608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7080" y="1052640"/>
            <a:ext cx="360360" cy="1224000"/>
          </a:xfrm>
          <a:prstGeom prst="line">
            <a:avLst/>
          </a:prstGeom>
          <a:ln w="9360">
            <a:solidFill>
              <a:srgbClr val="cc00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380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5600" y="33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488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28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33336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54720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3479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550400">
            <a:off x="3153600" y="627840"/>
            <a:ext cx="3168000" cy="31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1197000"/>
            <a:ext cx="360360" cy="1150920"/>
          </a:xfrm>
          <a:prstGeom prst="line">
            <a:avLst/>
          </a:prstGeom>
          <a:ln w="9360">
            <a:solidFill>
              <a:srgbClr val="cc00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720" y="22766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13372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9600" y="2276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90792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`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11840" y="907560"/>
            <a:ext cx="4400640" cy="25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57" y="1154"/>
                </a:moveTo>
                <a:arcTo wR="10800" hR="10800" stAng="-3796296" swAng="888249"/>
                <a:lnTo>
                  <a:pt x="10800" y="10800"/>
                </a:lnTo>
                <a:close/>
              </a:path>
              <a:path fill="none" w="21600" h="21600">
                <a:moveTo>
                  <a:pt x="15657" y="1154"/>
                </a:moveTo>
                <a:arcTo wR="10800" hR="10800" stAng="-3796296" swAng="888249"/>
              </a:path>
            </a:pathLst>
          </a:custGeom>
          <a:noFill/>
          <a:ln w="57240">
            <a:solidFill>
              <a:srgbClr val="0e68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0920" y="3284640"/>
          <a:ext cx="2376720" cy="64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84640"/>
                    <a:ext cx="237672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17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线段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如下图，求作一线段，使它的长度等于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 2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608360" cy="5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6551640" cy="657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99400" y="4220280"/>
            <a:ext cx="34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所以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</a:rPr>
              <a:t>EF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就是所求作的线段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31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已知∠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求作一个角，使它等于∠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∠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1319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biLevel thresh="50000"/>
            <a:lum bright="-48000"/>
          </a:blip>
          <a:stretch/>
        </p:blipFill>
        <p:spPr>
          <a:xfrm>
            <a:off x="4788000" y="2781360"/>
            <a:ext cx="2663640" cy="255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82000" y="5373000"/>
            <a:ext cx="32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所以∠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CDF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就是所求作的线段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8000" y="431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巩固练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已知线段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图所示，画一条线段，使其等于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AB-2C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2808360" cy="112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808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已知∠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∠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图所示，画一个角，使其等于∠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-2∠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1036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3:19:36Z</dcterms:created>
  <dc:creator/>
  <dc:description/>
  <dc:language>en-US</dc:language>
  <cp:lastModifiedBy/>
  <dcterms:modified xsi:type="dcterms:W3CDTF">2015-10-28T10:51:16Z</dcterms:modified>
  <cp:revision>51</cp:revision>
  <dc:subject/>
  <dc:title/>
</cp:coreProperties>
</file>