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E5C2-59A9-4913-9DED-18FF8385E3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一起作了一些较复杂的几何图形，它们的作法与基本作图有什么关系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同学读题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同学们谈谈对本题的想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学生作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师析：交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满足怎样的条件，要到。。就要在。。；要到。。就要在。。。，所以应该是这两条线的交点。下次同学们遇到这种作图，同时满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条件怎么办？既要满足条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就应在满足条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图形上；又要满足条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就应在满足条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图形上，所以应在图形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公共部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刚才同学们使用的这四种作图是我们尺规作图中最基本的作图。我们回顾一下它们的作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让我们首先分析一下已知条件和待求图形。学生口述作法，教师板演作图 ，看来一个完整的作图题，应当写出已知、求作、作法、作图、结论这五个步骤（板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面请同学们作线段的垂直平分线和已知角的平分线，两位同学黑板板演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四个基本作图是我们作出其它几何图形的基础，今后在作图中，如果用到了这四种基本作图，不必详述过程可以一句话概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同学谈谈对本题的想法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师完整板书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他方法讨论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师结：虽然作图顺序不同，都是利用基本作图完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同学们按步骤完成练习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．找一例投影纠错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找一位同学谈谈本题的解决方法（板书方法：先画草图；分析性质；选择基本作图）教师结：图形有几种性质，就有几类作图方法；运用不同的性质，选择不同的基本作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谈谈你对本题的想法。找一例实物投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8920" y="4941360"/>
            <a:ext cx="8675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4941360"/>
            <a:ext cx="8675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8200" y="242100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9900">
                    <a:alpha val="9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三课时 基本作图的应用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9900">
                  <a:alpha val="9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1197000"/>
            <a:ext cx="640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</a:rPr>
              <a:t>尺规作图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137960"/>
            <a:ext cx="792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例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2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如图，有一不完整的圆形，现要制作一个与原图同样大小的圆，请你根据所学的有关知识，利用尺规作图．（不写已知，求作，作法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2852640"/>
            <a:ext cx="5113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）作出这个圆的圆心；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974480" y="3404880"/>
            <a:ext cx="4110840" cy="3623400"/>
            <a:chOff x="4974480" y="3404880"/>
            <a:chExt cx="4110840" cy="3623400"/>
          </a:xfrm>
        </p:grpSpPr>
        <p:grpSp>
          <p:nvGrpSpPr>
            <p:cNvPr id="263" name=""/>
            <p:cNvGrpSpPr/>
            <p:nvPr/>
          </p:nvGrpSpPr>
          <p:grpSpPr>
            <a:xfrm>
              <a:off x="4974480" y="3404880"/>
              <a:ext cx="4110840" cy="3623400"/>
              <a:chOff x="4974480" y="3404880"/>
              <a:chExt cx="4110840" cy="36234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4974480" y="3404880"/>
                <a:ext cx="4110840" cy="3623400"/>
                <a:chOff x="4974480" y="3404880"/>
                <a:chExt cx="4110840" cy="3623400"/>
              </a:xfrm>
            </p:grpSpPr>
            <p:sp>
              <p:nvSpPr>
                <p:cNvPr id="265" name=""/>
                <p:cNvSpPr/>
                <p:nvPr/>
              </p:nvSpPr>
              <p:spPr>
                <a:xfrm rot="1402800">
                  <a:off x="5718600" y="4754880"/>
                  <a:ext cx="1883520" cy="198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4" y="7445"/>
                      </a:moveTo>
                      <a:arcTo wR="10800" hR="10800" stAng="-9713979" swAng="84673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4" y="7445"/>
                      </a:moveTo>
                      <a:arcTo wR="10800" hR="10800" stAng="-9713979" swAng="8467386"/>
                    </a:path>
                  </a:pathLst>
                </a:custGeom>
                <a:noFill/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084720" y="5013360"/>
                  <a:ext cx="1223640" cy="0"/>
                </a:xfrm>
                <a:prstGeom prst="line">
                  <a:avLst/>
                </a:prstGeom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308720" y="5013360"/>
                  <a:ext cx="286920" cy="647640"/>
                </a:xfrm>
                <a:prstGeom prst="line">
                  <a:avLst/>
                </a:prstGeom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673680" y="3789360"/>
                  <a:ext cx="0" cy="2374920"/>
                </a:xfrm>
                <a:prstGeom prst="line">
                  <a:avLst/>
                </a:prstGeom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5724720" y="4736880"/>
                  <a:ext cx="3168360" cy="1368360"/>
                </a:xfrm>
                <a:prstGeom prst="line">
                  <a:avLst/>
                </a:prstGeom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4974480" y="3404880"/>
                  <a:ext cx="2928960" cy="2405880"/>
                  <a:chOff x="4974480" y="3404880"/>
                  <a:chExt cx="2928960" cy="24058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15827400">
                    <a:off x="6059160" y="3926160"/>
                    <a:ext cx="1828440" cy="1671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678" y="6434"/>
                        </a:moveTo>
                        <a:arcTo wR="10800" hR="10800" stAng="-1430757" swAng="14307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678" y="6434"/>
                        </a:moveTo>
                        <a:arcTo wR="10800" hR="10800" stAng="-1430757" swAng="1430757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9051800">
                    <a:off x="5311080" y="3771720"/>
                    <a:ext cx="1736280" cy="167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801" y="6723"/>
                        </a:moveTo>
                        <a:arcTo wR="10800" hR="10800" stAng="-1330660" swAng="13306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801" y="6723"/>
                        </a:moveTo>
                        <a:arcTo wR="10800" hR="10800" stAng="-1330660" swAng="1330660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5498640" y="3861000"/>
                  <a:ext cx="3050640" cy="2856240"/>
                  <a:chOff x="5498640" y="3861000"/>
                  <a:chExt cx="3050640" cy="285624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V="1" rot="20520600">
                    <a:off x="6135840" y="6004800"/>
                    <a:ext cx="7192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8148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814857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7530600">
                    <a:off x="6173280" y="4022280"/>
                    <a:ext cx="1701000" cy="2533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216" y="7946"/>
                        </a:moveTo>
                        <a:arcTo wR="10800" hR="10800" stAng="-919248" swAng="919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216" y="7946"/>
                        </a:moveTo>
                        <a:arcTo wR="10800" hR="10800" stAng="-919248" swAng="919248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6511680" y="3779280"/>
                  <a:ext cx="2573640" cy="3037680"/>
                  <a:chOff x="6511680" y="3779280"/>
                  <a:chExt cx="2573640" cy="303768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19435800">
                    <a:off x="6940440" y="4767120"/>
                    <a:ext cx="1827720" cy="1671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678" y="6434"/>
                        </a:moveTo>
                        <a:arcTo wR="10800" hR="10800" stAng="-1430757" swAng="14307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678" y="6434"/>
                        </a:moveTo>
                        <a:arcTo wR="10800" hR="10800" stAng="-1430757" swAng="1430757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1059600">
                    <a:off x="6724080" y="4002840"/>
                    <a:ext cx="1735560" cy="167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801" y="6723"/>
                        </a:moveTo>
                        <a:arcTo wR="10800" hR="10800" stAng="-1330660" swAng="13306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801" y="6723"/>
                        </a:moveTo>
                        <a:arcTo wR="10800" hR="10800" stAng="-1330660" swAng="1330660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6010560" y="4329360"/>
                  <a:ext cx="2184480" cy="2612160"/>
                  <a:chOff x="6010560" y="4329360"/>
                  <a:chExt cx="2184480" cy="26121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V="1" rot="2347800">
                    <a:off x="5976000" y="5546160"/>
                    <a:ext cx="720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8148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814857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10958400">
                    <a:off x="6436080" y="4366800"/>
                    <a:ext cx="1701000" cy="2536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216" y="7946"/>
                        </a:moveTo>
                        <a:arcTo wR="10800" hR="10800" stAng="-919248" swAng="919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216" y="7946"/>
                        </a:moveTo>
                        <a:arcTo wR="10800" hR="10800" stAng="-919248" swAng="919248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2" name=""/>
              <p:cNvSpPr/>
              <p:nvPr/>
            </p:nvSpPr>
            <p:spPr>
              <a:xfrm>
                <a:off x="7528680" y="5707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510160" y="48960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99240" y="4606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39240" y="4606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9600" y="53992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6734520" y="378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89800" y="6093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68360" y="5373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61800" y="486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04560" y="5257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282320"/>
            <a:ext cx="792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例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2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如图，有一不完整的圆形，现要制作一个与原图同样大小的圆，请你根据所学的有关知识，利用尺规作图．（不写已知，求作，作法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41040" y="3141720"/>
            <a:ext cx="3623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）作出弧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MN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的中点．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724360" y="4437000"/>
            <a:ext cx="2089080" cy="1944720"/>
            <a:chOff x="5724360" y="4437000"/>
            <a:chExt cx="2089080" cy="1944720"/>
          </a:xfrm>
        </p:grpSpPr>
        <p:sp>
          <p:nvSpPr>
            <p:cNvPr id="296" name=""/>
            <p:cNvSpPr/>
            <p:nvPr/>
          </p:nvSpPr>
          <p:spPr>
            <a:xfrm>
              <a:off x="5940000" y="4437000"/>
              <a:ext cx="1873440" cy="187344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4360" y="4869000"/>
              <a:ext cx="2089080" cy="1512720"/>
            </a:xfrm>
            <a:custGeom>
              <a:avLst/>
              <a:gdLst/>
              <a:ahLst/>
              <a:rect l="l" t="t" r="r" b="b"/>
              <a:pathLst>
                <a:path w="1225" h="953">
                  <a:moveTo>
                    <a:pt x="136" y="0"/>
                  </a:moveTo>
                  <a:lnTo>
                    <a:pt x="454" y="46"/>
                  </a:lnTo>
                  <a:lnTo>
                    <a:pt x="499" y="272"/>
                  </a:lnTo>
                  <a:lnTo>
                    <a:pt x="771" y="136"/>
                  </a:lnTo>
                  <a:lnTo>
                    <a:pt x="862" y="499"/>
                  </a:lnTo>
                  <a:lnTo>
                    <a:pt x="1043" y="227"/>
                  </a:lnTo>
                  <a:lnTo>
                    <a:pt x="1225" y="454"/>
                  </a:lnTo>
                  <a:lnTo>
                    <a:pt x="1089" y="817"/>
                  </a:lnTo>
                  <a:lnTo>
                    <a:pt x="771" y="953"/>
                  </a:lnTo>
                  <a:lnTo>
                    <a:pt x="681" y="907"/>
                  </a:lnTo>
                  <a:lnTo>
                    <a:pt x="544" y="907"/>
                  </a:lnTo>
                  <a:lnTo>
                    <a:pt x="318" y="862"/>
                  </a:lnTo>
                  <a:lnTo>
                    <a:pt x="0" y="454"/>
                  </a:lnTo>
                  <a:lnTo>
                    <a:pt x="0" y="91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b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774288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81800" y="4653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-599400" y="981000"/>
            <a:ext cx="4691520" cy="3524760"/>
            <a:chOff x="-599400" y="981000"/>
            <a:chExt cx="4691520" cy="3524760"/>
          </a:xfrm>
        </p:grpSpPr>
        <p:sp>
          <p:nvSpPr>
            <p:cNvPr id="301" name=""/>
            <p:cNvSpPr/>
            <p:nvPr/>
          </p:nvSpPr>
          <p:spPr>
            <a:xfrm rot="1260600">
              <a:off x="-57240" y="2197080"/>
              <a:ext cx="182772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664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664460"/>
                </a:path>
              </a:pathLst>
            </a:custGeom>
            <a:noFill/>
            <a:ln cap="sq" w="349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171400">
              <a:off x="583920" y="2350800"/>
              <a:ext cx="182772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664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664460"/>
                </a:path>
              </a:pathLst>
            </a:custGeom>
            <a:noFill/>
            <a:ln cap="sq" w="349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-599400" y="981000"/>
              <a:ext cx="4691520" cy="3524760"/>
              <a:chOff x="-599400" y="981000"/>
              <a:chExt cx="4691520" cy="35247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-599400" y="981000"/>
                <a:ext cx="4425120" cy="3524760"/>
                <a:chOff x="-599400" y="981000"/>
                <a:chExt cx="4425120" cy="3524760"/>
              </a:xfrm>
            </p:grpSpPr>
            <p:sp>
              <p:nvSpPr>
                <p:cNvPr id="305" name=""/>
                <p:cNvSpPr/>
                <p:nvPr/>
              </p:nvSpPr>
              <p:spPr>
                <a:xfrm rot="4748400">
                  <a:off x="279000" y="2375280"/>
                  <a:ext cx="1834920" cy="143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3099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309906"/>
                    </a:path>
                  </a:pathLst>
                </a:custGeom>
                <a:noFill/>
                <a:ln cap="sq" w="3492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-599400" y="981000"/>
                  <a:ext cx="4425120" cy="3524760"/>
                  <a:chOff x="-599400" y="981000"/>
                  <a:chExt cx="4425120" cy="352476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-599400" y="1366920"/>
                    <a:ext cx="4425120" cy="3138840"/>
                    <a:chOff x="-599400" y="1366920"/>
                    <a:chExt cx="4425120" cy="3138840"/>
                  </a:xfrm>
                </p:grpSpPr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-599400" y="1366920"/>
                      <a:ext cx="4425120" cy="3138840"/>
                      <a:chOff x="-599400" y="1366920"/>
                      <a:chExt cx="4425120" cy="3138840"/>
                    </a:xfrm>
                  </p:grpSpPr>
                  <p:grpSp>
                    <p:nvGrpSpPr>
                      <p:cNvPr id="309" name=""/>
                      <p:cNvGrpSpPr/>
                      <p:nvPr/>
                    </p:nvGrpSpPr>
                    <p:grpSpPr>
                      <a:xfrm>
                        <a:off x="-599400" y="1366920"/>
                        <a:ext cx="4425120" cy="3138840"/>
                        <a:chOff x="-599400" y="1366920"/>
                        <a:chExt cx="4425120" cy="3138840"/>
                      </a:xfrm>
                    </p:grpSpPr>
                    <p:grpSp>
                      <p:nvGrpSpPr>
                        <p:cNvPr id="310" name=""/>
                        <p:cNvGrpSpPr/>
                        <p:nvPr/>
                      </p:nvGrpSpPr>
                      <p:grpSpPr>
                        <a:xfrm>
                          <a:off x="944280" y="1366920"/>
                          <a:ext cx="2881440" cy="1726920"/>
                          <a:chOff x="944280" y="1366920"/>
                          <a:chExt cx="2881440" cy="1726920"/>
                        </a:xfrm>
                      </p:grpSpPr>
                      <p:grpSp>
                        <p:nvGrpSpPr>
                          <p:cNvPr id="311" name=""/>
                          <p:cNvGrpSpPr/>
                          <p:nvPr/>
                        </p:nvGrpSpPr>
                        <p:grpSpPr>
                          <a:xfrm>
                            <a:off x="944280" y="1366920"/>
                            <a:ext cx="2881440" cy="1726920"/>
                            <a:chOff x="944280" y="1366920"/>
                            <a:chExt cx="2881440" cy="1726920"/>
                          </a:xfrm>
                        </p:grpSpPr>
                        <p:sp>
                          <p:nvSpPr>
                            <p:cNvPr id="312" name=""/>
                            <p:cNvSpPr/>
                            <p:nvPr/>
                          </p:nvSpPr>
                          <p:spPr>
                            <a:xfrm flipH="1">
                              <a:off x="944280" y="1366920"/>
                              <a:ext cx="1007640" cy="1726920"/>
                            </a:xfrm>
                            <a:prstGeom prst="line">
                              <a:avLst/>
                            </a:prstGeom>
                            <a:ln cap="sq" w="34920">
                              <a:solidFill>
                                <a:srgbClr val="00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33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3" name=""/>
                            <p:cNvSpPr/>
                            <p:nvPr/>
                          </p:nvSpPr>
                          <p:spPr>
                            <a:xfrm>
                              <a:off x="944640" y="3093840"/>
                              <a:ext cx="2881080" cy="0"/>
                            </a:xfrm>
                            <a:prstGeom prst="line">
                              <a:avLst/>
                            </a:prstGeom>
                            <a:ln cap="sq" w="34920">
                              <a:solidFill>
                                <a:srgbClr val="00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33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>
                            <a:off x="1315440" y="2519280"/>
                            <a:ext cx="3772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i="1" lang="en-US" sz="2800" spc="-1" strike="noStrike">
                                <a:solidFill>
                                  <a:srgbClr val="003300"/>
                                </a:solidFill>
                                <a:latin typeface="Times New Roman"/>
                              </a:rPr>
                              <a:t>α</a:t>
                            </a:r>
                            <a:endParaRPr b="0" lang="en-US" sz="2800" spc="-1" strike="noStrike">
                              <a:solidFill>
                                <a:srgbClr val="0033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 rot="2733000">
                          <a:off x="-315000" y="2521800"/>
                          <a:ext cx="1830600" cy="156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137153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1371530"/>
                            </a:path>
                          </a:pathLst>
                        </a:custGeom>
                        <a:noFill/>
                        <a:ln cap="sq" w="34920">
                          <a:solidFill>
                            <a:srgbClr val="00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6" name=""/>
                      <p:cNvSpPr/>
                      <p:nvPr/>
                    </p:nvSpPr>
                    <p:spPr>
                      <a:xfrm rot="200400">
                        <a:off x="542520" y="1828440"/>
                        <a:ext cx="1826280" cy="18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6644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664460"/>
                          </a:path>
                        </a:pathLst>
                      </a:custGeom>
                      <a:noFill/>
                      <a:ln cap="sq" w="34920">
                        <a:solidFill>
                          <a:srgbClr val="00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 rot="4655400">
                        <a:off x="1270800" y="2139840"/>
                        <a:ext cx="1826280" cy="18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6644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664460"/>
                          </a:path>
                        </a:pathLst>
                      </a:custGeom>
                      <a:noFill/>
                      <a:ln cap="sq" w="34920">
                        <a:solidFill>
                          <a:srgbClr val="00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1692000" y="1869840"/>
                        <a:ext cx="1368000" cy="1223640"/>
                      </a:xfrm>
                      <a:prstGeom prst="line">
                        <a:avLst/>
                      </a:prstGeom>
                      <a:ln cap="sq" w="34920">
                        <a:solidFill>
                          <a:srgbClr val="00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539640" y="2806560"/>
                      <a:ext cx="415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060360" y="3022560"/>
                      <a:ext cx="416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1331640" y="1438200"/>
                      <a:ext cx="416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2" name=""/>
                  <p:cNvSpPr/>
                  <p:nvPr/>
                </p:nvSpPr>
                <p:spPr>
                  <a:xfrm>
                    <a:off x="1728720" y="98100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3725640" y="30225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684360" y="4581360"/>
            <a:ext cx="3168360" cy="79236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几何作图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95640" y="47242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48360" y="4581360"/>
            <a:ext cx="3168720" cy="79236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基本作图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829760" y="740880"/>
            <a:ext cx="4110840" cy="3623400"/>
            <a:chOff x="4829760" y="740880"/>
            <a:chExt cx="4110840" cy="3623400"/>
          </a:xfrm>
        </p:grpSpPr>
        <p:grpSp>
          <p:nvGrpSpPr>
            <p:cNvPr id="328" name=""/>
            <p:cNvGrpSpPr/>
            <p:nvPr/>
          </p:nvGrpSpPr>
          <p:grpSpPr>
            <a:xfrm>
              <a:off x="4829760" y="740880"/>
              <a:ext cx="4110840" cy="3623400"/>
              <a:chOff x="4829760" y="740880"/>
              <a:chExt cx="4110840" cy="36234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829760" y="740880"/>
                <a:ext cx="4110840" cy="3623400"/>
                <a:chOff x="4829760" y="740880"/>
                <a:chExt cx="4110840" cy="3623400"/>
              </a:xfrm>
            </p:grpSpPr>
            <p:sp>
              <p:nvSpPr>
                <p:cNvPr id="330" name=""/>
                <p:cNvSpPr/>
                <p:nvPr/>
              </p:nvSpPr>
              <p:spPr>
                <a:xfrm rot="1402800">
                  <a:off x="5573880" y="2090880"/>
                  <a:ext cx="1883520" cy="198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4" y="7445"/>
                      </a:moveTo>
                      <a:arcTo wR="10800" hR="10800" stAng="-9713979" swAng="84673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4" y="7445"/>
                      </a:moveTo>
                      <a:arcTo wR="10800" hR="10800" stAng="-9713979" swAng="8467386"/>
                    </a:path>
                  </a:pathLst>
                </a:custGeom>
                <a:noFill/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940000" y="2349360"/>
                  <a:ext cx="1223640" cy="0"/>
                </a:xfrm>
                <a:prstGeom prst="line">
                  <a:avLst/>
                </a:prstGeom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64000" y="2349360"/>
                  <a:ext cx="286920" cy="647640"/>
                </a:xfrm>
                <a:prstGeom prst="line">
                  <a:avLst/>
                </a:prstGeom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528960" y="1125360"/>
                  <a:ext cx="0" cy="2374920"/>
                </a:xfrm>
                <a:prstGeom prst="line">
                  <a:avLst/>
                </a:prstGeom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5580000" y="2072880"/>
                  <a:ext cx="3168360" cy="1368360"/>
                </a:xfrm>
                <a:prstGeom prst="line">
                  <a:avLst/>
                </a:prstGeom>
                <a:ln cap="sq" w="284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4829760" y="740880"/>
                  <a:ext cx="2928960" cy="2405880"/>
                  <a:chOff x="4829760" y="740880"/>
                  <a:chExt cx="2928960" cy="24058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15827400">
                    <a:off x="5914440" y="1262160"/>
                    <a:ext cx="1828440" cy="1671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678" y="6434"/>
                        </a:moveTo>
                        <a:arcTo wR="10800" hR="10800" stAng="-1430757" swAng="14307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678" y="6434"/>
                        </a:moveTo>
                        <a:arcTo wR="10800" hR="10800" stAng="-1430757" swAng="1430757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rot="19051800">
                    <a:off x="5166360" y="1107720"/>
                    <a:ext cx="1736280" cy="167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801" y="6723"/>
                        </a:moveTo>
                        <a:arcTo wR="10800" hR="10800" stAng="-1330660" swAng="13306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801" y="6723"/>
                        </a:moveTo>
                        <a:arcTo wR="10800" hR="10800" stAng="-1330660" swAng="1330660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5353920" y="1197000"/>
                  <a:ext cx="3050640" cy="2856240"/>
                  <a:chOff x="5353920" y="1197000"/>
                  <a:chExt cx="3050640" cy="2856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V="1" rot="20520600">
                    <a:off x="5991120" y="3340800"/>
                    <a:ext cx="7192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8148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814857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7530600">
                    <a:off x="6028560" y="1358280"/>
                    <a:ext cx="1701000" cy="2533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216" y="7946"/>
                        </a:moveTo>
                        <a:arcTo wR="10800" hR="10800" stAng="-919248" swAng="919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216" y="7946"/>
                        </a:moveTo>
                        <a:arcTo wR="10800" hR="10800" stAng="-919248" swAng="919248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6366960" y="1115280"/>
                  <a:ext cx="2573640" cy="3037680"/>
                  <a:chOff x="6366960" y="1115280"/>
                  <a:chExt cx="2573640" cy="30376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19435800">
                    <a:off x="6795720" y="2103120"/>
                    <a:ext cx="1827720" cy="1671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678" y="6434"/>
                        </a:moveTo>
                        <a:arcTo wR="10800" hR="10800" stAng="-1430757" swAng="14307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678" y="6434"/>
                        </a:moveTo>
                        <a:arcTo wR="10800" hR="10800" stAng="-1430757" swAng="1430757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1059600">
                    <a:off x="6579360" y="1338840"/>
                    <a:ext cx="1735560" cy="167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801" y="6723"/>
                        </a:moveTo>
                        <a:arcTo wR="10800" hR="10800" stAng="-1330660" swAng="13306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801" y="6723"/>
                        </a:moveTo>
                        <a:arcTo wR="10800" hR="10800" stAng="-1330660" swAng="1330660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5865840" y="1665360"/>
                  <a:ext cx="2184480" cy="2612160"/>
                  <a:chOff x="5865840" y="1665360"/>
                  <a:chExt cx="2184480" cy="261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V="1" rot="2347800">
                    <a:off x="5831280" y="2882160"/>
                    <a:ext cx="720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8148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814857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10958400">
                    <a:off x="6291360" y="1702800"/>
                    <a:ext cx="1701000" cy="2536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216" y="7946"/>
                        </a:moveTo>
                        <a:arcTo wR="10800" hR="10800" stAng="-919248" swAng="919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216" y="7946"/>
                        </a:moveTo>
                        <a:arcTo wR="10800" hR="10800" stAng="-919248" swAng="919248"/>
                      </a:path>
                    </a:pathLst>
                  </a:custGeom>
                  <a:noFill/>
                  <a:ln cap="sq" w="255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7" name=""/>
              <p:cNvSpPr/>
              <p:nvPr/>
            </p:nvSpPr>
            <p:spPr>
              <a:xfrm>
                <a:off x="7383960" y="3043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65440" y="2232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54520" y="1942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094160" y="1942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55240" y="2735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6589440" y="1125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450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23640" y="2709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17080" y="220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59840" y="259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8000" y="1103040"/>
            <a:ext cx="82090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例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3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如图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107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国道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OA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320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国道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OB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在某市相交于点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，在∠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AOB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的内部有工厂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和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，现要修建一个货站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，使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到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OA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、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OB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的距离相等且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PC=PD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，用尺规作出货站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的位置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不写作法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保留作图痕迹，写出结论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)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18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隶书"/>
              </a:rPr>
              <a:t>三、利用基本作图解决实际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1603440" y="2254320"/>
            <a:ext cx="3817800" cy="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54760" y="2254320"/>
            <a:ext cx="1152360" cy="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142520" y="2781360"/>
            <a:ext cx="4216320" cy="3744720"/>
            <a:chOff x="4142520" y="2781360"/>
            <a:chExt cx="4216320" cy="3744720"/>
          </a:xfrm>
        </p:grpSpPr>
        <p:sp>
          <p:nvSpPr>
            <p:cNvPr id="363" name=""/>
            <p:cNvSpPr/>
            <p:nvPr/>
          </p:nvSpPr>
          <p:spPr>
            <a:xfrm flipH="1">
              <a:off x="4154040" y="3141720"/>
              <a:ext cx="1223640" cy="3384360"/>
            </a:xfrm>
            <a:prstGeom prst="line">
              <a:avLst/>
            </a:prstGeom>
            <a:ln cap="sq"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13080" y="5302080"/>
              <a:ext cx="3816000" cy="0"/>
            </a:xfrm>
            <a:prstGeom prst="line">
              <a:avLst/>
            </a:prstGeom>
            <a:ln cap="sq"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65440" y="2781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42520" y="4870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57800" y="5230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58520" y="3979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00720" y="4627440"/>
              <a:ext cx="3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89440" y="4798800"/>
              <a:ext cx="71280" cy="71640"/>
            </a:xfrm>
            <a:prstGeom prst="ellipse">
              <a:avLst/>
            </a:prstGeom>
            <a:solidFill>
              <a:srgbClr val="220011"/>
            </a:solidFill>
            <a:ln cap="sq"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57800" y="4294080"/>
              <a:ext cx="71280" cy="71280"/>
            </a:xfrm>
            <a:prstGeom prst="ellipse">
              <a:avLst/>
            </a:prstGeom>
            <a:solidFill>
              <a:srgbClr val="220011"/>
            </a:solidFill>
            <a:ln cap="sq"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72" name="">
            <a:hlinkClick r:id="rId1" action="ppaction://hlinksldjump"/>
          </p:cNvPr>
          <p:cNvSpPr/>
          <p:nvPr/>
        </p:nvSpPr>
        <p:spPr>
          <a:xfrm>
            <a:off x="5038560" y="5516640"/>
            <a:ext cx="3168720" cy="79200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几何作图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5640" y="5516640"/>
            <a:ext cx="3168720" cy="79200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实际作图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95640" y="580536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2124000" y="1989000"/>
            <a:ext cx="4896000" cy="3770280"/>
            <a:chOff x="2124000" y="1989000"/>
            <a:chExt cx="4896000" cy="3770280"/>
          </a:xfrm>
        </p:grpSpPr>
        <p:grpSp>
          <p:nvGrpSpPr>
            <p:cNvPr id="376" name=""/>
            <p:cNvGrpSpPr/>
            <p:nvPr/>
          </p:nvGrpSpPr>
          <p:grpSpPr>
            <a:xfrm>
              <a:off x="2124000" y="1989000"/>
              <a:ext cx="4896000" cy="3770280"/>
              <a:chOff x="2124000" y="1989000"/>
              <a:chExt cx="4896000" cy="377028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2124000" y="1989000"/>
                <a:ext cx="4896000" cy="3770280"/>
                <a:chOff x="2124000" y="1989000"/>
                <a:chExt cx="4896000" cy="377028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124000" y="1989000"/>
                  <a:ext cx="4896000" cy="3770280"/>
                  <a:chOff x="2124000" y="1989000"/>
                  <a:chExt cx="4896000" cy="3770280"/>
                </a:xfrm>
              </p:grpSpPr>
              <p:pic>
                <p:nvPicPr>
                  <p:cNvPr id="379" name="" descr=""/>
                  <p:cNvPicPr/>
                  <p:nvPr/>
                </p:nvPicPr>
                <p:blipFill>
                  <a:blip r:embed="rId1"/>
                  <a:srcRect l="0" t="0" r="0" b="7636"/>
                  <a:stretch/>
                </p:blipFill>
                <p:spPr>
                  <a:xfrm>
                    <a:off x="2124000" y="1989000"/>
                    <a:ext cx="482436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0" name=""/>
                  <p:cNvSpPr/>
                  <p:nvPr/>
                </p:nvSpPr>
                <p:spPr>
                  <a:xfrm flipV="1" rot="19738200">
                    <a:off x="2928600" y="2243160"/>
                    <a:ext cx="1008000" cy="2734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3603" y="370"/>
                        </a:moveTo>
                        <a:arcTo wR="10800" hR="10800" stAng="-4497535" swAng="16094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3603" y="370"/>
                        </a:moveTo>
                        <a:arcTo wR="10800" hR="10800" stAng="-4497535" swAng="1609493"/>
                      </a:path>
                    </a:pathLst>
                  </a:custGeom>
                  <a:noFill/>
                  <a:ln cap="sq" w="2232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V="1">
                    <a:off x="5075280" y="3646440"/>
                    <a:ext cx="1297080" cy="503280"/>
                  </a:xfrm>
                  <a:prstGeom prst="line">
                    <a:avLst/>
                  </a:prstGeom>
                  <a:ln cap="sq" w="2232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516720" y="2133360"/>
                    <a:ext cx="503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G</a:t>
                    </a:r>
                    <a:endParaRPr b="0" lang="en-US" sz="20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003640" y="1989000"/>
                    <a:ext cx="503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E</a:t>
                    </a:r>
                    <a:endParaRPr b="0" lang="en-US" sz="20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"/>
                <p:cNvSpPr/>
                <p:nvPr/>
              </p:nvSpPr>
              <p:spPr>
                <a:xfrm>
                  <a:off x="4788000" y="3933720"/>
                  <a:ext cx="144360" cy="144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435640" y="299700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00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78400" y="3055680"/>
                <a:ext cx="73080" cy="7164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3060360" y="3287520"/>
              <a:ext cx="57492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595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59578"/>
                </a:path>
              </a:pathLst>
            </a:custGeom>
            <a:noFill/>
            <a:ln cap="sq" w="22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68800" y="4135320"/>
              <a:ext cx="36720" cy="36360"/>
            </a:xfrm>
            <a:prstGeom prst="ellipse">
              <a:avLst/>
            </a:prstGeom>
            <a:solidFill>
              <a:srgbClr val="226822"/>
            </a:solidFill>
            <a:ln cap="sq"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48360" y="4653000"/>
            <a:ext cx="144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2976480" y="5661000"/>
            <a:ext cx="29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则点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所求作的货站位置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403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例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的解答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4211640" y="4653000"/>
            <a:ext cx="115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32000" y="2779560"/>
            <a:ext cx="324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59280" y="3284640"/>
            <a:ext cx="217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4920" y="105264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　　对尺规作图再认识的过程中，你有何新的收获？  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8120" y="33336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26822"/>
                </a:solidFill>
                <a:latin typeface="Verdana"/>
                <a:ea typeface="华文隶书"/>
              </a:rPr>
              <a:t>四、反思与提高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56000" y="3141720"/>
            <a:ext cx="2268360" cy="57456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几何作图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30920" y="3284640"/>
            <a:ext cx="698400" cy="236520"/>
          </a:xfrm>
          <a:custGeom>
            <a:avLst/>
            <a:gdLst>
              <a:gd name="textAreaLeft" fmla="*/ 109080 w 698400"/>
              <a:gd name="textAreaRight" fmla="*/ 611280 w 69840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96000" y="3141720"/>
            <a:ext cx="2268720" cy="57456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基本作图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9280" y="3141720"/>
            <a:ext cx="2376720" cy="54936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实际作图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64000" y="3284640"/>
            <a:ext cx="698400" cy="236520"/>
          </a:xfrm>
          <a:custGeom>
            <a:avLst/>
            <a:gdLst>
              <a:gd name="textAreaLeft" fmla="*/ 109080 w 698400"/>
              <a:gd name="textAreaRight" fmla="*/ 611280 w 69840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1052640"/>
            <a:ext cx="69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作一条线段等于已知线段；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作一个角等于已知角；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5120" y="2708280"/>
            <a:ext cx="6716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作已知角的平分线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过一点做已知直线的垂线；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作已知线段的垂直平分线；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2720" y="189000"/>
            <a:ext cx="6120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Verdana"/>
                <a:ea typeface="隶书"/>
              </a:rPr>
              <a:t>五个基本尺规作图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1268280"/>
            <a:ext cx="727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、作一条线段等于已知线段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.                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33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Verdana"/>
                <a:ea typeface="隶书"/>
              </a:rPr>
              <a:t>一、基本尺规作图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43640" y="1484280"/>
            <a:ext cx="1536120" cy="520560"/>
            <a:chOff x="6443640" y="1484280"/>
            <a:chExt cx="1536120" cy="520560"/>
          </a:xfrm>
        </p:grpSpPr>
        <p:grpSp>
          <p:nvGrpSpPr>
            <p:cNvPr id="167" name=""/>
            <p:cNvGrpSpPr/>
            <p:nvPr/>
          </p:nvGrpSpPr>
          <p:grpSpPr>
            <a:xfrm>
              <a:off x="6443640" y="1805040"/>
              <a:ext cx="1536120" cy="146880"/>
              <a:chOff x="6443640" y="1805040"/>
              <a:chExt cx="1536120" cy="146880"/>
            </a:xfrm>
          </p:grpSpPr>
          <p:sp>
            <p:nvSpPr>
              <p:cNvPr id="168" name=""/>
              <p:cNvSpPr/>
              <p:nvPr/>
            </p:nvSpPr>
            <p:spPr>
              <a:xfrm>
                <a:off x="6443640" y="1949040"/>
                <a:ext cx="153612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443640" y="1805040"/>
                <a:ext cx="1535760" cy="143280"/>
                <a:chOff x="6443640" y="1805040"/>
                <a:chExt cx="1535760" cy="143280"/>
              </a:xfrm>
            </p:grpSpPr>
            <p:sp>
              <p:nvSpPr>
                <p:cNvPr id="170" name=""/>
                <p:cNvSpPr/>
                <p:nvPr/>
              </p:nvSpPr>
              <p:spPr>
                <a:xfrm flipV="1">
                  <a:off x="7979400" y="180504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6443640" y="180504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7076880" y="148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0920" y="2565360"/>
            <a:ext cx="561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、作一个角等于已知角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.        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874400" y="2276640"/>
            <a:ext cx="3182040" cy="3033360"/>
            <a:chOff x="4874400" y="2276640"/>
            <a:chExt cx="3182040" cy="3033360"/>
          </a:xfrm>
        </p:grpSpPr>
        <p:sp>
          <p:nvSpPr>
            <p:cNvPr id="175" name=""/>
            <p:cNvSpPr/>
            <p:nvPr/>
          </p:nvSpPr>
          <p:spPr>
            <a:xfrm>
              <a:off x="6379920" y="2276640"/>
              <a:ext cx="1676520" cy="1143000"/>
            </a:xfrm>
            <a:custGeom>
              <a:avLst/>
              <a:gdLst/>
              <a:ahLst/>
              <a:rect l="l" t="t" r="r" b="b"/>
              <a:pathLst>
                <a:path w="1056" h="720">
                  <a:moveTo>
                    <a:pt x="1056" y="720"/>
                  </a:moveTo>
                  <a:lnTo>
                    <a:pt x="0" y="720"/>
                  </a:lnTo>
                  <a:lnTo>
                    <a:pt x="720" y="0"/>
                  </a:lnTo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09960" y="297504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宋体"/>
                </a:rPr>
                <a:t>α</a:t>
              </a:r>
              <a:endParaRPr b="0" lang="en-US" sz="2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05600">
              <a:off x="5187240" y="3164400"/>
              <a:ext cx="184176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470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47086"/>
                </a:path>
              </a:pathLst>
            </a:custGeom>
            <a:noFill/>
            <a:ln cap="sq" w="349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24000" y="4076640"/>
            <a:ext cx="482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、作已知角的平分线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122800" y="3808080"/>
            <a:ext cx="3024360" cy="2570400"/>
            <a:chOff x="5122800" y="3808080"/>
            <a:chExt cx="3024360" cy="2570400"/>
          </a:xfrm>
        </p:grpSpPr>
        <p:grpSp>
          <p:nvGrpSpPr>
            <p:cNvPr id="180" name=""/>
            <p:cNvGrpSpPr/>
            <p:nvPr/>
          </p:nvGrpSpPr>
          <p:grpSpPr>
            <a:xfrm>
              <a:off x="5574960" y="4272840"/>
              <a:ext cx="2386800" cy="1664640"/>
              <a:chOff x="5574960" y="4272840"/>
              <a:chExt cx="2386800" cy="1664640"/>
            </a:xfrm>
          </p:grpSpPr>
          <p:sp>
            <p:nvSpPr>
              <p:cNvPr id="181" name=""/>
              <p:cNvSpPr/>
              <p:nvPr/>
            </p:nvSpPr>
            <p:spPr>
              <a:xfrm>
                <a:off x="5574960" y="5182200"/>
                <a:ext cx="2386800" cy="755280"/>
              </a:xfrm>
              <a:prstGeom prst="line">
                <a:avLst/>
              </a:prstGeom>
              <a:ln cap="sq" w="349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574960" y="4272840"/>
                <a:ext cx="1937520" cy="909360"/>
              </a:xfrm>
              <a:prstGeom prst="line">
                <a:avLst/>
              </a:prstGeom>
              <a:ln cap="sq" w="349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rot="21269400">
              <a:off x="7692480" y="589896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1269400">
              <a:off x="5143680" y="49885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1269400">
              <a:off x="7419240" y="382788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905800" cy="680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9810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过在直线上的点</a:t>
            </a:r>
            <a:r>
              <a:rPr b="1" lang="en-GB" sz="32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作出直线的垂线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2200" y="2708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过直线外的点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，作出直线的垂线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476360" y="3645000"/>
            <a:ext cx="6048360" cy="2295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332000" y="0"/>
            <a:ext cx="63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、过一点做已知直线的垂线；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2484360" y="2708280"/>
          <a:ext cx="3240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708280"/>
                    <a:ext cx="324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50920" y="404640"/>
            <a:ext cx="6264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、作已知线段的垂直平分线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003640" y="1773360"/>
            <a:ext cx="2592720" cy="2233440"/>
          </a:xfrm>
          <a:prstGeom prst="triangle">
            <a:avLst>
              <a:gd name="adj" fmla="val 50000"/>
            </a:avLst>
          </a:prstGeom>
          <a:noFill/>
          <a:ln cap="sq"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02520" y="1433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26520" y="388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3800" y="388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6240" y="1268280"/>
            <a:ext cx="32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．作线段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PQ=B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1240" y="1924200"/>
            <a:ext cx="36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．作∠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EDF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=∠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5720" y="263700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．作射线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AG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平分∠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3213000"/>
            <a:ext cx="498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．作线段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的垂直平分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线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18900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Verdana"/>
                <a:ea typeface="隶书"/>
              </a:rPr>
              <a:t>小耍一下！看你怎么样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62792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例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1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已知两边及其夹角，求作三角形．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443280" y="4854600"/>
            <a:ext cx="1297080" cy="520560"/>
            <a:chOff x="6443280" y="4854600"/>
            <a:chExt cx="1297080" cy="520560"/>
          </a:xfrm>
        </p:grpSpPr>
        <p:grpSp>
          <p:nvGrpSpPr>
            <p:cNvPr id="206" name=""/>
            <p:cNvGrpSpPr/>
            <p:nvPr/>
          </p:nvGrpSpPr>
          <p:grpSpPr>
            <a:xfrm>
              <a:off x="6443280" y="5286600"/>
              <a:ext cx="1297080" cy="71280"/>
              <a:chOff x="6443280" y="5286600"/>
              <a:chExt cx="1297080" cy="712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6443280" y="5357880"/>
                <a:ext cx="1297080" cy="0"/>
              </a:xfrm>
              <a:prstGeom prst="line">
                <a:avLst/>
              </a:prstGeom>
              <a:ln cap="sq" w="349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39280" y="5286600"/>
                <a:ext cx="0" cy="71280"/>
              </a:xfrm>
              <a:prstGeom prst="line">
                <a:avLst/>
              </a:prstGeom>
              <a:ln cap="sq" w="349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43640" y="5286600"/>
                <a:ext cx="0" cy="71280"/>
              </a:xfrm>
              <a:prstGeom prst="line">
                <a:avLst/>
              </a:prstGeom>
              <a:ln cap="sq" w="349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877080" y="4854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443640" y="4135320"/>
            <a:ext cx="2087640" cy="520560"/>
            <a:chOff x="6443640" y="4135320"/>
            <a:chExt cx="2087640" cy="520560"/>
          </a:xfrm>
        </p:grpSpPr>
        <p:grpSp>
          <p:nvGrpSpPr>
            <p:cNvPr id="212" name=""/>
            <p:cNvGrpSpPr/>
            <p:nvPr/>
          </p:nvGrpSpPr>
          <p:grpSpPr>
            <a:xfrm>
              <a:off x="6443640" y="4567320"/>
              <a:ext cx="2087640" cy="71280"/>
              <a:chOff x="6443640" y="4567320"/>
              <a:chExt cx="2087640" cy="71280"/>
            </a:xfrm>
          </p:grpSpPr>
          <p:sp>
            <p:nvSpPr>
              <p:cNvPr id="213" name=""/>
              <p:cNvSpPr/>
              <p:nvPr/>
            </p:nvSpPr>
            <p:spPr>
              <a:xfrm>
                <a:off x="6443640" y="4638600"/>
                <a:ext cx="2087640" cy="0"/>
              </a:xfrm>
              <a:prstGeom prst="line">
                <a:avLst/>
              </a:prstGeom>
              <a:ln cap="sq" w="349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43640" y="4567320"/>
                <a:ext cx="0" cy="71280"/>
              </a:xfrm>
              <a:prstGeom prst="line">
                <a:avLst/>
              </a:prstGeom>
              <a:ln cap="sq" w="349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531280" y="4567320"/>
                <a:ext cx="0" cy="71280"/>
              </a:xfrm>
              <a:prstGeom prst="line">
                <a:avLst/>
              </a:prstGeom>
              <a:ln cap="sq" w="349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308720" y="4135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161320" y="2783520"/>
            <a:ext cx="2866680" cy="2401560"/>
            <a:chOff x="5161320" y="2783520"/>
            <a:chExt cx="2866680" cy="2401560"/>
          </a:xfrm>
        </p:grpSpPr>
        <p:sp>
          <p:nvSpPr>
            <p:cNvPr id="218" name=""/>
            <p:cNvSpPr/>
            <p:nvPr/>
          </p:nvSpPr>
          <p:spPr>
            <a:xfrm flipH="1">
              <a:off x="6703920" y="2836800"/>
              <a:ext cx="531720" cy="936720"/>
            </a:xfrm>
            <a:prstGeom prst="line">
              <a:avLst/>
            </a:prstGeom>
            <a:ln cap="sq" w="349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4280" y="3773520"/>
              <a:ext cx="1323720" cy="0"/>
            </a:xfrm>
            <a:prstGeom prst="line">
              <a:avLst/>
            </a:prstGeom>
            <a:ln cap="sq" w="349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75080" y="3198960"/>
              <a:ext cx="3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Times New Roman"/>
                </a:rPr>
                <a:t>α</a:t>
              </a:r>
              <a:endParaRPr b="0" lang="en-US" sz="2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733000">
              <a:off x="5445720" y="3201480"/>
              <a:ext cx="1828800" cy="156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7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71530"/>
                </a:path>
              </a:pathLst>
            </a:custGeom>
            <a:noFill/>
            <a:ln cap="sq" w="349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5280" y="189000"/>
            <a:ext cx="80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Verdana"/>
                <a:ea typeface="隶书"/>
              </a:rPr>
              <a:t>二、基本作图的应用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-312120" y="2708280"/>
            <a:ext cx="4691520" cy="3524760"/>
            <a:chOff x="-312120" y="2708280"/>
            <a:chExt cx="4691520" cy="3524760"/>
          </a:xfrm>
        </p:grpSpPr>
        <p:sp>
          <p:nvSpPr>
            <p:cNvPr id="224" name=""/>
            <p:cNvSpPr/>
            <p:nvPr/>
          </p:nvSpPr>
          <p:spPr>
            <a:xfrm rot="1260600">
              <a:off x="229680" y="3924360"/>
              <a:ext cx="182772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664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664460"/>
                </a:path>
              </a:pathLst>
            </a:custGeom>
            <a:noFill/>
            <a:ln cap="sq" w="349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0171400">
              <a:off x="871200" y="4078080"/>
              <a:ext cx="182772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664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664460"/>
                </a:path>
              </a:pathLst>
            </a:custGeom>
            <a:noFill/>
            <a:ln cap="sq" w="349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-312120" y="2708280"/>
              <a:ext cx="4691520" cy="3524760"/>
              <a:chOff x="-312120" y="2708280"/>
              <a:chExt cx="4691520" cy="352476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-312120" y="2708280"/>
                <a:ext cx="4425120" cy="3524760"/>
                <a:chOff x="-312120" y="2708280"/>
                <a:chExt cx="4425120" cy="3524760"/>
              </a:xfrm>
            </p:grpSpPr>
            <p:sp>
              <p:nvSpPr>
                <p:cNvPr id="228" name=""/>
                <p:cNvSpPr/>
                <p:nvPr/>
              </p:nvSpPr>
              <p:spPr>
                <a:xfrm rot="4748400">
                  <a:off x="566280" y="4102560"/>
                  <a:ext cx="1834920" cy="143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3099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309906"/>
                    </a:path>
                  </a:pathLst>
                </a:custGeom>
                <a:noFill/>
                <a:ln cap="sq" w="3492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-312120" y="2708280"/>
                  <a:ext cx="4425120" cy="3524760"/>
                  <a:chOff x="-312120" y="2708280"/>
                  <a:chExt cx="4425120" cy="352476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-312120" y="3094200"/>
                    <a:ext cx="4425120" cy="3138840"/>
                    <a:chOff x="-312120" y="3094200"/>
                    <a:chExt cx="4425120" cy="3138840"/>
                  </a:xfrm>
                </p:grpSpPr>
                <p:grpSp>
                  <p:nvGrpSpPr>
                    <p:cNvPr id="231" name=""/>
                    <p:cNvGrpSpPr/>
                    <p:nvPr/>
                  </p:nvGrpSpPr>
                  <p:grpSpPr>
                    <a:xfrm>
                      <a:off x="-312120" y="3094200"/>
                      <a:ext cx="4425120" cy="3138840"/>
                      <a:chOff x="-312120" y="3094200"/>
                      <a:chExt cx="4425120" cy="3138840"/>
                    </a:xfrm>
                  </p:grpSpPr>
                  <p:grpSp>
                    <p:nvGrpSpPr>
                      <p:cNvPr id="232" name=""/>
                      <p:cNvGrpSpPr/>
                      <p:nvPr/>
                    </p:nvGrpSpPr>
                    <p:grpSpPr>
                      <a:xfrm>
                        <a:off x="-312120" y="3094200"/>
                        <a:ext cx="4425120" cy="3138840"/>
                        <a:chOff x="-312120" y="3094200"/>
                        <a:chExt cx="4425120" cy="3138840"/>
                      </a:xfrm>
                    </p:grpSpPr>
                    <p:grpSp>
                      <p:nvGrpSpPr>
                        <p:cNvPr id="233" name=""/>
                        <p:cNvGrpSpPr/>
                        <p:nvPr/>
                      </p:nvGrpSpPr>
                      <p:grpSpPr>
                        <a:xfrm>
                          <a:off x="1231560" y="3094200"/>
                          <a:ext cx="2881440" cy="1726920"/>
                          <a:chOff x="1231560" y="3094200"/>
                          <a:chExt cx="2881440" cy="1726920"/>
                        </a:xfrm>
                      </p:grpSpPr>
                      <p:grpSp>
                        <p:nvGrpSpPr>
                          <p:cNvPr id="234" name=""/>
                          <p:cNvGrpSpPr/>
                          <p:nvPr/>
                        </p:nvGrpSpPr>
                        <p:grpSpPr>
                          <a:xfrm>
                            <a:off x="1231560" y="3094200"/>
                            <a:ext cx="2881440" cy="1726920"/>
                            <a:chOff x="1231560" y="3094200"/>
                            <a:chExt cx="2881440" cy="1726920"/>
                          </a:xfrm>
                        </p:grpSpPr>
                        <p:sp>
                          <p:nvSpPr>
                            <p:cNvPr id="235" name=""/>
                            <p:cNvSpPr/>
                            <p:nvPr/>
                          </p:nvSpPr>
                          <p:spPr>
                            <a:xfrm flipH="1">
                              <a:off x="1231560" y="3094200"/>
                              <a:ext cx="1007640" cy="1726920"/>
                            </a:xfrm>
                            <a:prstGeom prst="line">
                              <a:avLst/>
                            </a:prstGeom>
                            <a:ln cap="sq" w="34920">
                              <a:solidFill>
                                <a:srgbClr val="00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33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6" name=""/>
                            <p:cNvSpPr/>
                            <p:nvPr/>
                          </p:nvSpPr>
                          <p:spPr>
                            <a:xfrm>
                              <a:off x="1231920" y="4821120"/>
                              <a:ext cx="2881080" cy="0"/>
                            </a:xfrm>
                            <a:prstGeom prst="line">
                              <a:avLst/>
                            </a:prstGeom>
                            <a:ln cap="sq" w="34920">
                              <a:solidFill>
                                <a:srgbClr val="0033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33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>
                            <a:off x="1602720" y="4246560"/>
                            <a:ext cx="3772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i="1" lang="en-US" sz="2800" spc="-1" strike="noStrike">
                                <a:solidFill>
                                  <a:srgbClr val="003300"/>
                                </a:solidFill>
                                <a:latin typeface="Times New Roman"/>
                              </a:rPr>
                              <a:t>α</a:t>
                            </a:r>
                            <a:endParaRPr b="0" lang="en-US" sz="2800" spc="-1" strike="noStrike">
                              <a:solidFill>
                                <a:srgbClr val="0033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2733000">
                          <a:off x="-27720" y="4249080"/>
                          <a:ext cx="1830600" cy="156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137153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1371530"/>
                            </a:path>
                          </a:pathLst>
                        </a:custGeom>
                        <a:noFill/>
                        <a:ln cap="sq" w="34920">
                          <a:solidFill>
                            <a:srgbClr val="00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9" name=""/>
                      <p:cNvSpPr/>
                      <p:nvPr/>
                    </p:nvSpPr>
                    <p:spPr>
                      <a:xfrm rot="200400">
                        <a:off x="829800" y="3555720"/>
                        <a:ext cx="1826280" cy="18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6644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664460"/>
                          </a:path>
                        </a:pathLst>
                      </a:custGeom>
                      <a:noFill/>
                      <a:ln cap="sq" w="34920">
                        <a:solidFill>
                          <a:srgbClr val="00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 rot="4655400">
                        <a:off x="1558080" y="3867120"/>
                        <a:ext cx="1826280" cy="18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6644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664460"/>
                          </a:path>
                        </a:pathLst>
                      </a:custGeom>
                      <a:noFill/>
                      <a:ln cap="sq" w="34920">
                        <a:solidFill>
                          <a:srgbClr val="00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1979280" y="3597120"/>
                        <a:ext cx="1368000" cy="1223640"/>
                      </a:xfrm>
                      <a:prstGeom prst="line">
                        <a:avLst/>
                      </a:prstGeom>
                      <a:ln cap="sq" w="34920">
                        <a:solidFill>
                          <a:srgbClr val="00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826920" y="4533840"/>
                      <a:ext cx="415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3347640" y="4749840"/>
                      <a:ext cx="416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618920" y="3165480"/>
                      <a:ext cx="416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5" name=""/>
                  <p:cNvSpPr/>
                  <p:nvPr/>
                </p:nvSpPr>
                <p:spPr>
                  <a:xfrm>
                    <a:off x="2016000" y="270828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6" name=""/>
              <p:cNvSpPr/>
              <p:nvPr/>
            </p:nvSpPr>
            <p:spPr>
              <a:xfrm>
                <a:off x="4012920" y="47498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34640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在上题图形的基础上，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以线段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为邻边作一个平行四边形．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2565360"/>
            <a:ext cx="134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0011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0011"/>
                </a:solidFill>
                <a:latin typeface="Times New Roman"/>
              </a:rPr>
              <a:t>求作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0011"/>
                </a:solidFill>
                <a:latin typeface="Times New Roman"/>
              </a:rPr>
              <a:t>作法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1209240"/>
            <a:ext cx="7921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例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2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如图，有一不完整的圆形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现要制作一个与原图同样大小的圆，请你根据所学的有关知识，利用尺规作图．（不写已知，求作，作法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2924280"/>
            <a:ext cx="518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）作出这个圆的圆心；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581440" y="2492280"/>
            <a:ext cx="2561760" cy="1944720"/>
            <a:chOff x="5581440" y="2492280"/>
            <a:chExt cx="2561760" cy="1944720"/>
          </a:xfrm>
        </p:grpSpPr>
        <p:grpSp>
          <p:nvGrpSpPr>
            <p:cNvPr id="254" name=""/>
            <p:cNvGrpSpPr/>
            <p:nvPr/>
          </p:nvGrpSpPr>
          <p:grpSpPr>
            <a:xfrm>
              <a:off x="5724360" y="2492280"/>
              <a:ext cx="2089080" cy="1944720"/>
              <a:chOff x="5724360" y="2492280"/>
              <a:chExt cx="2089080" cy="1944720"/>
            </a:xfrm>
          </p:grpSpPr>
          <p:sp>
            <p:nvSpPr>
              <p:cNvPr id="255" name=""/>
              <p:cNvSpPr/>
              <p:nvPr/>
            </p:nvSpPr>
            <p:spPr>
              <a:xfrm>
                <a:off x="5940000" y="2492280"/>
                <a:ext cx="1873440" cy="1873440"/>
              </a:xfrm>
              <a:prstGeom prst="ellipse">
                <a:avLst/>
              </a:prstGeom>
              <a:solidFill>
                <a:srgbClr val="3333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24360" y="2924280"/>
                <a:ext cx="2089080" cy="1512720"/>
              </a:xfrm>
              <a:custGeom>
                <a:avLst/>
                <a:gdLst/>
                <a:ahLst/>
                <a:rect l="l" t="t" r="r" b="b"/>
                <a:pathLst>
                  <a:path w="1225" h="953">
                    <a:moveTo>
                      <a:pt x="136" y="0"/>
                    </a:moveTo>
                    <a:lnTo>
                      <a:pt x="454" y="46"/>
                    </a:lnTo>
                    <a:lnTo>
                      <a:pt x="499" y="272"/>
                    </a:lnTo>
                    <a:lnTo>
                      <a:pt x="771" y="136"/>
                    </a:lnTo>
                    <a:lnTo>
                      <a:pt x="862" y="499"/>
                    </a:lnTo>
                    <a:lnTo>
                      <a:pt x="1043" y="227"/>
                    </a:lnTo>
                    <a:lnTo>
                      <a:pt x="1225" y="454"/>
                    </a:lnTo>
                    <a:lnTo>
                      <a:pt x="1089" y="817"/>
                    </a:lnTo>
                    <a:lnTo>
                      <a:pt x="771" y="953"/>
                    </a:lnTo>
                    <a:lnTo>
                      <a:pt x="681" y="907"/>
                    </a:lnTo>
                    <a:lnTo>
                      <a:pt x="544" y="907"/>
                    </a:lnTo>
                    <a:lnTo>
                      <a:pt x="318" y="862"/>
                    </a:lnTo>
                    <a:lnTo>
                      <a:pt x="0" y="454"/>
                    </a:lnTo>
                    <a:lnTo>
                      <a:pt x="0" y="91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b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7742880" y="3500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81440" y="27082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1:22:28Z</dcterms:created>
  <dc:creator/>
  <dc:description/>
  <dc:language>en-US</dc:language>
  <cp:lastModifiedBy/>
  <dcterms:modified xsi:type="dcterms:W3CDTF">2015-10-28T10:53:58Z</dcterms:modified>
  <cp:revision>117</cp:revision>
  <dc:subject/>
  <dc:title/>
</cp:coreProperties>
</file>