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gif" ContentType="image/gif"/>
  <Override PartName="/ppt/media/arrow.wav" ContentType="audio/x-wav"/>
  <Override PartName="/ppt/media/coin.wav" ContentType="audio/x-wav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327-B4E4-48C9-9DC0-5CD623F4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9A5-F9FC-4B91-BB59-38DF894E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1FD-5E93-4FD4-AC53-BF359BA6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E2D-4F3B-4519-91F2-E3C226A8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ABB2-F04E-4EB6-892F-7A1F71E2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870-5119-4435-893B-3AC09DD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81B-321F-4065-9DD5-1190DFF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AB8-B39E-425E-AF52-2B41964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F2B2-7AA9-4E6A-AE41-2E2BE27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C84-D660-4837-B720-629BE9F4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9F31-7DB7-40E9-89ED-F4B0C54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A35-2854-4062-934D-0752E3B4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A29-DE19-4269-B1D3-6964A798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BCF-AC3B-4022-BFA2-2CEB6E1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72D-D918-441A-AA74-9B5C0DD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8638-C916-4965-BD01-96E5891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5B5-1C47-442F-A28C-EF1CB620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BCF0-267D-4117-B547-090B115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F48B-8C3E-4C6E-B624-DE1D9AF3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CCF2-FDE0-49B4-9F55-0F9FF2BD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AF40-E09A-4FBC-A887-56D51FBC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B4B7-53FB-4FE1-B9C7-44E3AC0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DCC-282C-4010-B007-B17E28FA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DA0C-51D6-45D9-B405-39B8E009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2FB6-5251-4567-A1A2-49DEC9C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3DE8-141F-432D-8220-B9558CD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BB4A-BE86-4531-9FCE-894EA28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9573-C1B2-49DE-BEDC-D2B1C1BD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56D4-A317-4FB9-885B-6815067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87E2-CA1F-40F8-B8F3-82039B9D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B6F-E629-42C4-8C28-13FA5748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6CF-3D33-45C1-94E6-71DDA84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2FE-23DA-4328-AF86-D0EE655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E3D-716F-42BD-9580-71DF9EF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2CB-DC91-4964-AF88-F75C820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A4A-5FC9-47A3-A357-6FA3ABF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18A-8B1E-4D27-8323-38B61A6AA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7491-6C25-4DE8-B38F-D3DE641EF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C9D2-D1C9-4F02-88EC-728D15155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audio" Target="../media/arrow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82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课时 角平分线、垂线和中垂线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197000"/>
            <a:ext cx="640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尺规作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已知线段</a:t>
            </a:r>
            <a:r>
              <a:rPr b="1" i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画出它的垂直平分线</a:t>
            </a:r>
            <a:r>
              <a:rPr b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0"/>
            <a:ext cx="21603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行楷"/>
              </a:rPr>
              <a:t>做一做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行楷"/>
              <a:ea typeface="华文行楷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2565360"/>
          <a:ext cx="3671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3671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403280" y="3933720"/>
            <a:ext cx="3168720" cy="2016360"/>
          </a:xfrm>
          <a:prstGeom prst="cloudCallout">
            <a:avLst>
              <a:gd name="adj1" fmla="val 63925"/>
              <a:gd name="adj2" fmla="val -6243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说出你的作图思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437000"/>
            <a:ext cx="3780000" cy="1513080"/>
          </a:xfrm>
          <a:prstGeom prst="wedgeRoundRectCallout">
            <a:avLst>
              <a:gd name="adj1" fmla="val -25009"/>
              <a:gd name="adj2" fmla="val -108342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议一议；能否说出这种画法的依据，小组讨论交流一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523880" cy="552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10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已知：角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线段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作：等腰三角形△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使其顶角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BAC=∠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为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3672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1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别是菱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一条边和对角线，请你用尺规把这个菱形补充完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2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540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两个村庄，要从灌溉总渠引两条水渠便于灌溉，请你选择最佳方案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32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60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如图，已知线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作：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C=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3923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94042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教学反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本节课你掌握了哪些知识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还有哪些疑惑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基本作图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几何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限定用直尺和圆规来画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规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基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常用的尺规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尺是没有刻度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复杂的尺规作图都是由基本作图组成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前学过的”作一条线段等于已知线段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一种基本作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介绍几种基本作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平分已知角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443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知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O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作：射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OC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O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5589720"/>
            <a:ext cx="360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79640" y="3068280"/>
            <a:ext cx="2521080" cy="2521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4560" y="56466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61400" y="5430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O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7080" y="31273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3284640"/>
            <a:ext cx="8540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上，分别截取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使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D=O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分别以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为圆心，大于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D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长为半径作弧，在∠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O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内，两弧交于点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作射线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O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就是所求的射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2781360"/>
            <a:ext cx="3600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259920"/>
            <a:ext cx="2521080" cy="2521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875400">
            <a:off x="2039760" y="1316520"/>
            <a:ext cx="2301120" cy="29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323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32331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27280" y="1196640"/>
            <a:ext cx="4176720" cy="1584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4360" y="1622880"/>
            <a:ext cx="86436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2" y="153"/>
                </a:moveTo>
                <a:arcTo wR="10800" hR="10800" stAng="-4820611" swAng="4466246"/>
                <a:lnTo>
                  <a:pt x="10800" y="10800"/>
                </a:lnTo>
                <a:close/>
              </a:path>
              <a:path fill="none" w="21600" h="21600">
                <a:moveTo>
                  <a:pt x="12612" y="153"/>
                </a:moveTo>
                <a:arcTo wR="10800" hR="10800" stAng="-4820611" swAng="4466246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4512000">
            <a:off x="4152600" y="928080"/>
            <a:ext cx="115848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00" y="78"/>
                </a:moveTo>
                <a:arcTo wR="10800" hR="10800" stAng="-5814684" swAng="4346247"/>
                <a:lnTo>
                  <a:pt x="10800" y="10800"/>
                </a:lnTo>
                <a:close/>
              </a:path>
              <a:path fill="none" w="21600" h="21600">
                <a:moveTo>
                  <a:pt x="9500" y="78"/>
                </a:moveTo>
                <a:arcTo wR="10800" hR="10800" stAng="-5814684" swAng="4346247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1440" y="26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800" y="3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6160" y="134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6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e681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512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268280"/>
            <a:ext cx="854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任意画一个钝角，并作出它的平分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0"/>
            <a:ext cx="3743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练一练</a:t>
            </a:r>
            <a:endParaRPr b="0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060640"/>
            <a:ext cx="60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试把一个钝角四等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52640"/>
            <a:ext cx="8137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任意画一个三角形，画出三个内角的角平分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不写画法，保留作图痕迹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784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已知：角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线段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作：等腰三角形△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使其顶角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BAC=∠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为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经过一点作已知直线的垂线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05800" cy="68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4000" y="981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如图，点</a:t>
            </a:r>
            <a:r>
              <a:rPr b="1" lang="en-GB" sz="32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在直线上，试过点</a:t>
            </a:r>
            <a:r>
              <a:rPr b="1" lang="en-GB" sz="32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画出直线的垂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708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如图，如果点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不在直线上，试和同学讨论，应采取怎样的步骤，过点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画出直线的垂线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6048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71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题的作法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任取一点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使点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和点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的两侧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以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点为圆心，以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长为半径画弧，交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点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分别以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点为圆心，以大于                    长为半径画弧，两弧相交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点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点作直线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所以，直线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就是所求作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837560" y="2527200"/>
          <a:ext cx="10954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37560" y="2527200"/>
                    <a:ext cx="10954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练　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如图，过点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画∠</a:t>
            </a:r>
            <a:r>
              <a:rPr b="1" i="1" lang="en-GB" sz="3200" spc="-1" strike="noStrike">
                <a:solidFill>
                  <a:srgbClr val="ff0000"/>
                </a:solidFill>
                <a:latin typeface="宋体"/>
              </a:rPr>
              <a:t>O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两边的垂线</a:t>
            </a: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32360" y="1628640"/>
          <a:ext cx="324000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240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11280" y="3500280"/>
            <a:ext cx="6481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如图，画 △</a:t>
            </a:r>
            <a:r>
              <a:rPr b="1" i="1" lang="en-GB" sz="3200" spc="-1" strike="noStrike">
                <a:solidFill>
                  <a:srgbClr val="ff0000"/>
                </a:solidFill>
                <a:latin typeface="宋体"/>
              </a:rPr>
              <a:t>ABC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边 </a:t>
            </a:r>
            <a:r>
              <a:rPr b="1" i="1" lang="en-GB" sz="3200" spc="-1" strike="noStrike">
                <a:solidFill>
                  <a:srgbClr val="ff0000"/>
                </a:solidFill>
                <a:latin typeface="宋体"/>
              </a:rPr>
              <a:t>BC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上的高</a:t>
            </a:r>
            <a:r>
              <a:rPr b="1" lang="en-GB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24360" y="4221000"/>
          <a:ext cx="2016000" cy="194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016000" cy="19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什么垂直平分线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过线段的中点，垂直这条线段的直线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线段垂直平分线有哪些特征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线段的垂直平分线上的点到线段两端点的距离相等；反过来，到线段两端点距离相等的点在线段的垂直平分线上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3:19:36Z</dcterms:created>
  <dc:creator/>
  <dc:description/>
  <dc:language>en-US</dc:language>
  <cp:lastModifiedBy/>
  <dcterms:modified xsi:type="dcterms:W3CDTF">2015-10-28T10:52:13Z</dcterms:modified>
  <cp:revision>46</cp:revision>
  <dc:subject/>
  <dc:title/>
</cp:coreProperties>
</file>