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690-62F5-4125-8CBB-7FC90F92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4DC-3E98-49B6-A2D9-34D6AD89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1CE-BC66-4FF2-B5EB-A9CB3371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7CE-FC36-490C-9426-E1766A7F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16E-5C12-401A-B87B-0CBF03DB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6E7-6550-4AB1-8254-8145B020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221-9EA9-49D3-8190-28EDEA69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A0F-859D-44E6-AACC-3B72990E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2E0-5E5F-4A47-AD12-8F9C1156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422-94F9-45BC-A036-A867DF99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4E9-7D3D-48F8-80C5-6E6E03A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EA1-63D3-439C-941F-55CFDEA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B917-D3BE-4CC9-8140-C48B4759A6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276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把下面各式写成省略加号的和的形式：  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－（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－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－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说出式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+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两种读法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209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省略加号？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68580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复习旧知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762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计算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+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+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31160" y="1752840"/>
            <a:ext cx="341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+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+3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5+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676520"/>
            <a:ext cx="4343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： 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+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 +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-17-5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-22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494640" y="41868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wheel spokes="3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228600" y="18284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24+3.2-16-3.5+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80920" y="1676160"/>
            <a:ext cx="5410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24+3.2-16-3.5+0.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38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20.8-16-3.5+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-36.8-3.5+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.3+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191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362320"/>
            <a:ext cx="304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2860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(-24-16)+(3.2+0.3)-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8954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+(3.5-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429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+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0384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1981080"/>
                <a:ext cx="7010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：</m:t>
                    </m:r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819520" y="5029200"/>
            <a:ext cx="304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219320"/>
            <a:ext cx="7208640" cy="812160"/>
            <a:chOff x="990720" y="1219320"/>
            <a:chExt cx="7208640" cy="812160"/>
          </a:xfrm>
        </p:grpSpPr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990720" y="1219320"/>
                  <a:ext cx="7208640" cy="76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（</m:t>
                      </m:r>
                      <m:r>
                        <m:t xml:space="preserve">2</m:t>
                      </m:r>
                      <m:r>
                        <m:t xml:space="preserve">）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" name=""/>
            <p:cNvSpPr/>
            <p:nvPr/>
          </p:nvSpPr>
          <p:spPr>
            <a:xfrm>
              <a:off x="1647720" y="1390320"/>
              <a:ext cx="914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447920" y="396252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2743200"/>
                <a:ext cx="405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14600" y="3581280"/>
                <a:ext cx="3352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438280" y="4572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-21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334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228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变形是否正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  1-4+5-4=1-4+4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590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1-2+3-4=2-1+4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62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 4.5-1.7-2.5+1.8=4.5-2.5+1.8-1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4876920"/>
            <a:ext cx="7164360" cy="1353960"/>
            <a:chOff x="0" y="4876920"/>
            <a:chExt cx="7164360" cy="135396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0" y="4876920"/>
                  <a:ext cx="7164360" cy="13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４．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634680" y="5181480"/>
              <a:ext cx="914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 rot="5400000">
            <a:off x="5828760" y="1409400"/>
            <a:ext cx="2666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随堂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练习第二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51080" y="1218600"/>
            <a:ext cx="18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数相加，和一定大于任一个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04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8364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数相加，和小于任一个加数，那么这两个数一定都是负数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3880" y="380952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零减去一个数，仍得这个数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3520" y="4647600"/>
            <a:ext cx="35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相反数相减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13200" y="548604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数和是正数，那么这两个数一定是正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1752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节课的注意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在计算过程中要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95288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作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习题第三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同步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154080"/>
            <a:ext cx="160020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3809880"/>
            <a:ext cx="1676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3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20T15:44:1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