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1DA1-E66F-4B61-AAC7-57E52F11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6AC-D69A-4833-9FA0-C57E5F8A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013-4B53-470F-999B-BFE7D12A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D79-0D27-41BD-BF87-B7B4DC1C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268D-516F-4C33-B5A7-A44097E4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695C-A507-4B1A-872C-7769569F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8D57-3F87-402E-A66B-744A9FE8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053C-47E6-4BB8-9B76-EB5AB05D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6684-1353-43E8-901B-EE09CBB3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75B5-C48E-403D-A18C-EBE2EC4E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09EF-9360-4C10-A9D8-E8F7A4A8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8F2-5C84-4505-8F8D-BDC654FA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0827-2CBA-41E9-8514-233AFFEB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C2D9-56E3-4907-8F99-2FF8E713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1CE3-F0A8-4B94-83C1-40B962DE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636C-FD81-49A6-A99A-F03775E9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8943-4FFA-417A-B2FB-B6675171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6EF4F-B8E4-4D8A-8711-F4434624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4A25A-0D84-4B3C-82E7-546A1042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F7F73-2EF5-4147-AB59-BD099C13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8E582-60D0-4CCC-830A-B4EFA606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C731B-0F05-459C-978C-E921B1E8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653-2A5C-4348-8A57-8638521C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8B9E-D2B6-48E5-B300-B3E33FCB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DDD7-0621-4DFC-8FA2-DEF15EA0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D49CF-0DDE-4115-B03E-33C84538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B6C1D-C301-4F82-B8DD-F0F06BDC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B3B7-28EE-43DD-8E3F-BAB6845E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E8304-0CA8-48DA-9935-45D34672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BAFE3-1C84-44D7-A46B-7E203140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A2E6F-6AA4-4A6B-93C1-B7D321FD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554D7-DE55-43F7-8DD1-F767A2E5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A6C5B-5B99-4852-941F-D34BD5AE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2620-661B-4141-87B3-6934692C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EDEB1-3A58-484A-8A87-A830D574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A9E7C-A112-4A99-9F99-3EC040AA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992E2-EFC2-4151-AC31-7262CF6C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F3E23-5DB4-48FF-8E34-AB4DAE4D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F4788-5A75-4509-9441-60B40C3A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A5295-361B-430F-9AF7-C333515C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30CDD-925E-43FE-AE50-266CAA12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EFA55-5857-4DF2-86B1-BA6DA30E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00AD9-791A-4F23-82EF-5208FFA5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5F969-7E3A-479B-9D76-811F4533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F36-8C50-47DC-B6EE-3D30BAFA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62489-79AC-4F1C-AADB-E1C6FE83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D351B-7772-468B-A3C2-0A5B1D52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60DAB-5201-4319-B35E-DF7A598B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6C20A-FA7E-4028-820D-98EF2B00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3CD18-029A-49FB-AADF-56F3797C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278F1-42FC-41F5-A524-1DD60DAF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ECBDF-E525-4196-9033-C5272712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37632-860B-4F1C-9D95-9D6FFAEE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641D5-BC0E-4393-97DD-0CCE7018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0BF88-6BF9-4FF5-8CDD-02D318A5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574-BE39-40B2-825E-35D82614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FC9FA-B897-425E-B3E5-B83DBADD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B471D-6DDE-4915-B639-4F65F880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A2CA8-515F-403F-A578-F59D7AB7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BF15F-1291-4580-B98E-CCAAB8F6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ACF8B-DB7A-45AF-9950-EFB80EE9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C02F8-DA15-4936-A136-F4F332BA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1BBD5-7C4C-44B7-8E7D-B1C34274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B9C23-D01A-4297-A041-62F2C750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F8D2E-3899-4B38-B4AE-AAB9BF34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A3810-2D30-4108-A592-8CEFB944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051-CB18-4E2E-9090-9C715094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EE07A-D4BC-4EA8-854C-2C424B5A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52713-3F0A-47E3-97D6-2952098C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C528D-418D-42D5-9CE8-A653EAFF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40DF8-DDAC-4398-8802-62F252D3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A5428-984E-4182-88FF-EEE3C564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D4C0B-8347-447C-8280-532ABF5D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2E919-16F0-45A3-9E26-47D4F331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C1772-389D-42F1-B06C-3CE73D41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831E2-F82D-4FA6-9C6F-F3755C93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F237A-DF35-4F27-94D8-39DBF8AC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48E-52BF-4F87-B198-B77C0915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F3761-7B9C-4BF0-A95F-F48B5F98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C5584-EF93-4428-A1C4-B5F283E2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66655-BA80-4402-99C9-BFFE3799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F2908-7FAB-4085-AF72-EA74B4A1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2F573-35C1-4DD2-95C3-70406560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4CD-E6E5-4DCF-8241-1831B676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图片 1" descr=""/>
          <p:cNvPicPr/>
          <p:nvPr/>
        </p:nvPicPr>
        <p:blipFill>
          <a:blip r:embed="rId2"/>
          <a:stretch/>
        </p:blipFill>
        <p:spPr>
          <a:xfrm>
            <a:off x="210960" y="341280"/>
            <a:ext cx="171612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CC8D-CDD8-4BBE-96FA-2FC9501795E7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8FB0-1935-4145-8C0E-F5A397CF4C6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210960" y="341280"/>
            <a:ext cx="1716120" cy="171612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9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76A9-F676-460D-ACF0-1B67341D5918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3143-F965-4FF0-8F05-4F3CE205D60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1" descr=""/>
          <p:cNvPicPr/>
          <p:nvPr/>
        </p:nvPicPr>
        <p:blipFill>
          <a:blip r:embed="rId2"/>
          <a:stretch/>
        </p:blipFill>
        <p:spPr>
          <a:xfrm>
            <a:off x="210960" y="341280"/>
            <a:ext cx="1716120" cy="171612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08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2C5E-CE7B-421F-B40C-66FF90819934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6A3B-B7A7-4E91-9973-657A6DBDFB3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1" descr=""/>
          <p:cNvPicPr/>
          <p:nvPr/>
        </p:nvPicPr>
        <p:blipFill>
          <a:blip r:embed="rId2"/>
          <a:stretch/>
        </p:blipFill>
        <p:spPr>
          <a:xfrm>
            <a:off x="210960" y="341280"/>
            <a:ext cx="1716120" cy="17161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63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70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8CE3-1FE5-42EE-BAD4-172FF040447A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D8E1-7150-4FDD-B923-154D086FA88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1" descr=""/>
          <p:cNvPicPr/>
          <p:nvPr/>
        </p:nvPicPr>
        <p:blipFill>
          <a:blip r:embed="rId2"/>
          <a:stretch/>
        </p:blipFill>
        <p:spPr>
          <a:xfrm>
            <a:off x="210960" y="341280"/>
            <a:ext cx="171612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19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26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A46D-6638-43F3-BC70-CEA489EB4874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0FB8-91D2-4DA4-AFB2-C8051064327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2"/>
          <a:stretch/>
        </p:blipFill>
        <p:spPr>
          <a:xfrm>
            <a:off x="210960" y="341280"/>
            <a:ext cx="171612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75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86FD-D720-4111-A9B9-7831F443A6D7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4453-D1A7-43AD-A9F4-5B7F7A43F25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图片 1" descr=""/>
          <p:cNvPicPr/>
          <p:nvPr/>
        </p:nvPicPr>
        <p:blipFill>
          <a:blip r:embed="rId2"/>
          <a:stretch/>
        </p:blipFill>
        <p:spPr>
          <a:xfrm>
            <a:off x="210960" y="341280"/>
            <a:ext cx="1716120" cy="171612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1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8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003D-9799-423D-8108-ABE6604D0FF7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4C88-3029-40F3-9163-21EEE8DBD45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838080" y="17524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.6.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有理数的加法法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WordArt 2"/>
          <p:cNvSpPr txBox="1"/>
          <p:nvPr/>
        </p:nvSpPr>
        <p:spPr>
          <a:xfrm>
            <a:off x="2286000" y="457200"/>
            <a:ext cx="358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学习目标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279360" y="31114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能熟练说出有理数加法法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能熟练地应用有理数加法法则进行有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理数加法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WordArt 2"/>
          <p:cNvSpPr txBox="1"/>
          <p:nvPr/>
        </p:nvSpPr>
        <p:spPr>
          <a:xfrm>
            <a:off x="2971800" y="457200"/>
            <a:ext cx="3200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自学指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09480" y="2581200"/>
            <a:ext cx="82267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andara"/>
                <a:ea typeface="黑体"/>
              </a:rPr>
              <a:t>自学范围：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课本第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2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8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-30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页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andara"/>
                <a:ea typeface="黑体"/>
              </a:rPr>
              <a:t>自学时间：</a:t>
            </a:r>
            <a:r>
              <a:rPr b="1" lang="en-US" sz="3600" spc="-1" strike="noStrike">
                <a:solidFill>
                  <a:srgbClr val="cc0000"/>
                </a:solidFill>
                <a:latin typeface="Candara"/>
                <a:ea typeface="黑体"/>
              </a:rPr>
              <a:t> </a:t>
            </a:r>
            <a:r>
              <a:rPr b="1" lang="en-US" sz="3600" spc="-1" strike="noStrike">
                <a:solidFill>
                  <a:srgbClr val="31b6fd"/>
                </a:solidFill>
                <a:latin typeface="Candara"/>
                <a:ea typeface="黑体"/>
              </a:rPr>
              <a:t> </a:t>
            </a:r>
            <a:r>
              <a:rPr b="1" lang="en-US" sz="3600" spc="-1" strike="noStrike">
                <a:solidFill>
                  <a:srgbClr val="2d83f4"/>
                </a:solidFill>
                <a:latin typeface="Candara"/>
                <a:ea typeface="黑体"/>
              </a:rPr>
              <a:t>8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分钟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andara"/>
                <a:ea typeface="黑体"/>
              </a:rPr>
              <a:t>自学方法</a:t>
            </a:r>
            <a:r>
              <a:rPr b="1" lang="zh-CN" sz="3600" spc="-1" strike="noStrike">
                <a:solidFill>
                  <a:srgbClr val="cc0000"/>
                </a:solidFill>
                <a:latin typeface="Candara"/>
              </a:rPr>
              <a:t>：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独立看书，独立思考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andara"/>
                <a:ea typeface="黑体"/>
              </a:rPr>
              <a:t>自学要求：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1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、根据实际问题理解加法运算法则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2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、掌握有理数的加法法则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WordArt 2"/>
          <p:cNvSpPr txBox="1"/>
          <p:nvPr/>
        </p:nvSpPr>
        <p:spPr>
          <a:xfrm>
            <a:off x="2514600" y="304920"/>
            <a:ext cx="2819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自学检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90" name="矩形 1"/>
          <p:cNvSpPr/>
          <p:nvPr/>
        </p:nvSpPr>
        <p:spPr>
          <a:xfrm>
            <a:off x="533520" y="1001880"/>
            <a:ext cx="807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口算下列各题，并说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(+4)+(+7)=          (2)(-4)+(-7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(+4)+(-7)=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4)(-4)+(+7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5)(+4)+(-4)=          (6)(+9)+(-2)=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7)(-9)+(+2)=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8)(-9)+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"/>
          <p:cNvSpPr/>
          <p:nvPr/>
        </p:nvSpPr>
        <p:spPr>
          <a:xfrm>
            <a:off x="558720" y="3679920"/>
            <a:ext cx="76708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说明下列用负数表示的量的实际意义，并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兰第一次前进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，接着按同一方向又前进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，小兰两次一共前进了几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京的气温第一天上升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第二天又上升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北京的气温两天一共上升了几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东方汽车向东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之后，再向东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，东方汽车一共向东走了几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2959200" y="1676520"/>
            <a:ext cx="68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7077240" y="1689120"/>
            <a:ext cx="76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7"/>
          <p:cNvSpPr/>
          <p:nvPr/>
        </p:nvSpPr>
        <p:spPr>
          <a:xfrm>
            <a:off x="5847840" y="441972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3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6324480" y="5108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0"/>
          <p:cNvSpPr/>
          <p:nvPr/>
        </p:nvSpPr>
        <p:spPr>
          <a:xfrm>
            <a:off x="5791320" y="6019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-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4"/>
          <p:cNvSpPr/>
          <p:nvPr/>
        </p:nvSpPr>
        <p:spPr>
          <a:xfrm>
            <a:off x="609480" y="0"/>
            <a:ext cx="853452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一、计算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1)15+(-22)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2)(-0.9)+1.5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3)2.7+(-3.5)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                             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3e87"/>
                </a:solidFill>
                <a:latin typeface="Times New Roman"/>
              </a:rPr>
              <a:t>二、用“</a:t>
            </a:r>
            <a:r>
              <a:rPr b="1" lang="en-US" sz="3200" spc="-1" strike="noStrike">
                <a:solidFill>
                  <a:srgbClr val="073e87"/>
                </a:solidFill>
                <a:latin typeface="Times New Roman"/>
              </a:rPr>
              <a:t>&gt;”</a:t>
            </a:r>
            <a:r>
              <a:rPr b="1" lang="zh-CN" sz="3200" spc="-1" strike="noStrike">
                <a:solidFill>
                  <a:srgbClr val="073e87"/>
                </a:solidFill>
                <a:latin typeface="Times New Roman"/>
              </a:rPr>
              <a:t>或“</a:t>
            </a:r>
            <a:r>
              <a:rPr b="1" lang="en-US" sz="3200" spc="-1" strike="noStrike">
                <a:solidFill>
                  <a:srgbClr val="073e87"/>
                </a:solidFill>
                <a:latin typeface="Times New Roman"/>
              </a:rPr>
              <a:t>&lt;”</a:t>
            </a:r>
            <a:r>
              <a:rPr b="1" lang="zh-CN" sz="3200" spc="-1" strike="noStrike">
                <a:solidFill>
                  <a:srgbClr val="073e87"/>
                </a:solidFill>
                <a:latin typeface="Times New Roman"/>
              </a:rPr>
              <a:t>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&gt;0,b&gt;0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那么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+b____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(2)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&lt;0,b&lt;0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那么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+b____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(3)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&gt;0,b&lt;0,|a|&gt;|b|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那么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+b____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(4)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&lt;0,b&gt;0, |a|&lt;|b|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那么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+b____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971800" y="16891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7129440" y="1609560"/>
            <a:ext cx="10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28954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-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5776920" y="43084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5862600" y="481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6856560" y="53164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6869160" y="57038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xwsan3"/>
          <p:cNvPicPr/>
          <p:nvPr/>
        </p:nvPicPr>
        <p:blipFill>
          <a:blip r:embed="rId1"/>
          <a:stretch/>
        </p:blipFill>
        <p:spPr>
          <a:xfrm>
            <a:off x="2440080" y="76320"/>
            <a:ext cx="236052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6" name="Object 11"/>
              <p:cNvSpPr txBox="1"/>
              <p:nvPr/>
            </p:nvSpPr>
            <p:spPr>
              <a:xfrm>
                <a:off x="5245200" y="2027160"/>
                <a:ext cx="24685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2"/>
              <p:cNvSpPr txBox="1"/>
              <p:nvPr/>
            </p:nvSpPr>
            <p:spPr>
              <a:xfrm>
                <a:off x="1752480" y="2808360"/>
                <a:ext cx="24228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3"/>
              <p:cNvSpPr txBox="1"/>
              <p:nvPr/>
            </p:nvSpPr>
            <p:spPr>
              <a:xfrm>
                <a:off x="5410080" y="2697120"/>
                <a:ext cx="16304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4"/>
              <p:cNvSpPr txBox="1"/>
              <p:nvPr/>
            </p:nvSpPr>
            <p:spPr>
              <a:xfrm>
                <a:off x="7758000" y="1989000"/>
                <a:ext cx="579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TextBox 6"/>
          <p:cNvSpPr/>
          <p:nvPr/>
        </p:nvSpPr>
        <p:spPr>
          <a:xfrm>
            <a:off x="4076640" y="29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6"/>
              <p:cNvSpPr txBox="1"/>
              <p:nvPr/>
            </p:nvSpPr>
            <p:spPr>
              <a:xfrm>
                <a:off x="7370640" y="2732040"/>
                <a:ext cx="10083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2"/>
          <p:cNvSpPr txBox="1"/>
          <p:nvPr/>
        </p:nvSpPr>
        <p:spPr>
          <a:xfrm>
            <a:off x="3048120" y="380880"/>
            <a:ext cx="297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知识归纳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04920" y="2173320"/>
            <a:ext cx="853416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理数加法的一般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24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先判断类型 （同号、异号等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24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再确定和的符号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24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后进行绝对值的加减运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2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2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WordArt 2"/>
          <p:cNvSpPr txBox="1"/>
          <p:nvPr/>
        </p:nvSpPr>
        <p:spPr>
          <a:xfrm>
            <a:off x="3124080" y="380880"/>
            <a:ext cx="3124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合作探究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15" name="矩形 3"/>
          <p:cNvSpPr/>
          <p:nvPr/>
        </p:nvSpPr>
        <p:spPr>
          <a:xfrm>
            <a:off x="990720" y="2320920"/>
            <a:ext cx="77724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有理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数轴上的位置如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+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值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B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C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D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|a|=5,|b|=3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&lt;b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+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值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4"/>
          <p:cNvSpPr/>
          <p:nvPr/>
        </p:nvSpPr>
        <p:spPr>
          <a:xfrm>
            <a:off x="762120" y="1219320"/>
            <a:ext cx="7391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a+|a|=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什么数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|a+1|=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那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=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11" descr=""/>
          <p:cNvPicPr/>
          <p:nvPr/>
        </p:nvPicPr>
        <p:blipFill>
          <a:blip r:embed="rId1"/>
          <a:stretch/>
        </p:blipFill>
        <p:spPr>
          <a:xfrm>
            <a:off x="3657600" y="3262320"/>
            <a:ext cx="4648320" cy="5526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"/>
          <p:cNvSpPr/>
          <p:nvPr/>
        </p:nvSpPr>
        <p:spPr>
          <a:xfrm>
            <a:off x="4876920" y="1249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或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6"/>
          <p:cNvSpPr/>
          <p:nvPr/>
        </p:nvSpPr>
        <p:spPr>
          <a:xfrm>
            <a:off x="4876920" y="1773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137160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"/>
          <p:cNvSpPr/>
          <p:nvPr/>
        </p:nvSpPr>
        <p:spPr>
          <a:xfrm>
            <a:off x="7074000" y="5037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2"/>
          <p:cNvSpPr txBox="1"/>
          <p:nvPr/>
        </p:nvSpPr>
        <p:spPr>
          <a:xfrm>
            <a:off x="3200400" y="45720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收获与疑惑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900000" y="2781360"/>
            <a:ext cx="7239240" cy="1783800"/>
          </a:xfrm>
          <a:prstGeom prst="rect">
            <a:avLst/>
          </a:prstGeom>
          <a:solidFill>
            <a:srgbClr val="003300">
              <a:alpha val="17000"/>
            </a:srgbClr>
          </a:solidFill>
          <a:ln w="14292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本节课你学习了什么知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你还有什么疑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2"/>
          <p:cNvSpPr txBox="1"/>
          <p:nvPr/>
        </p:nvSpPr>
        <p:spPr>
          <a:xfrm>
            <a:off x="3200400" y="60948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作 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990720" y="21985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页习题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03:19:38Z</dcterms:created>
  <dc:creator>王敏杰</dc:creator>
  <dc:description/>
  <cp:keywords/>
  <dc:language>en-US</dc:language>
  <cp:lastModifiedBy>AutoBVT</cp:lastModifiedBy>
  <dcterms:modified xsi:type="dcterms:W3CDTF">2015-11-30T08:23:52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  <property fmtid="{D5CDD505-2E9C-101B-9397-08002B2CF9AE}" pid="3" name="Version">
    <vt:r8>1</vt:r8>
  </property>
</Properties>
</file>