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16.png" ContentType="image/png"/>
  <Override PartName="/ppt/media/image14.wmf" ContentType="image/x-wmf"/>
  <Override PartName="/ppt/media/image9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9302-679E-41B5-88F9-2AFD32AF9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F3E-7012-45F6-BC5E-1E4384338F9F}" type="slidenum"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24A-4CC5-435E-A828-29E80BA7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EC1-CD24-4B92-9A5A-88B36A74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C34-5B05-4882-B53A-FD6561FD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9E9-9B69-4765-B22D-94883248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6D50-D4E9-4481-AA56-9CE328EF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06CC-0CEA-49CE-92DD-4C07D53E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A3B3-445D-4C37-A648-61DE833B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DD56-4077-4B03-9014-B50A8C46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105D-5AEA-4080-B63B-8DDCF61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CCDB-8908-454A-931E-FFE4AA0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F17-692D-40B8-8D70-3BD6012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F4E-BCFF-42DF-8EDA-1028E881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B9A-6D9E-4638-8C28-B77E1A3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2C0-B39F-40D3-9609-FABAC84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FE18-D6DC-4379-AD7C-916E2E7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7A17-701D-4E3A-B3AC-E7978067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978-1D2D-43BF-AC13-291F53C2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A1A-51FE-41E9-98B1-D524652E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068-B056-4170-B787-62C5A8B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4DB-0A29-49A4-97E5-DF3763B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537-4172-40E8-B51F-972C1DD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407-FC1D-4510-8479-8E69AA67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89F-4642-4AA2-9DF2-51EC476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25C-EA84-4AD2-A702-0B2B13F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2A1-71CC-4595-BA05-9FA562084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E71-9E10-45B4-8FC0-5A62FA7440B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B98-D0D5-4F86-A586-80AF8C0D7B0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2" descr="D78DF7E3FAF5A30E"/>
          <p:cNvPicPr/>
          <p:nvPr/>
        </p:nvPicPr>
        <p:blipFill>
          <a:blip r:embed="rId1"/>
          <a:stretch/>
        </p:blipFill>
        <p:spPr>
          <a:xfrm>
            <a:off x="0" y="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2556000" y="1844640"/>
            <a:ext cx="47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有理数的乘法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8893080" y="6627960"/>
            <a:ext cx="11448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8E9-16D9-44B2-A1E1-ADAE341E3DB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214200" y="500040"/>
            <a:ext cx="8572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f1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f17"/>
                </a:solidFill>
                <a:latin typeface="Arial"/>
              </a:rPr>
              <a:t>一个数与</a:t>
            </a:r>
            <a:r>
              <a:rPr b="1" lang="en-US" sz="3200" spc="-1" strike="noStrike">
                <a:solidFill>
                  <a:srgbClr val="0f0f1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f0f17"/>
                </a:solidFill>
                <a:latin typeface="Arial"/>
              </a:rPr>
              <a:t>相乘得这个数，一个数与</a:t>
            </a:r>
            <a:r>
              <a:rPr b="1" lang="en-US" sz="3200" spc="-1" strike="noStrike">
                <a:solidFill>
                  <a:srgbClr val="0f0f17"/>
                </a:solidFill>
                <a:latin typeface="Arial"/>
              </a:rPr>
              <a:t>-1</a:t>
            </a:r>
            <a:r>
              <a:rPr b="1" lang="zh-CN" sz="3200" spc="-1" strike="noStrike">
                <a:solidFill>
                  <a:srgbClr val="0f0f17"/>
                </a:solidFill>
                <a:latin typeface="Arial"/>
              </a:rPr>
              <a:t>相乘等于这个数的相反数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28760" y="2571840"/>
            <a:ext cx="8429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1)5×(-3)       (2)(-4)×0.25;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3)            ;     (4)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图片 63" descr=""/>
          <p:cNvPicPr/>
          <p:nvPr/>
        </p:nvPicPr>
        <p:blipFill>
          <a:blip r:embed="rId1"/>
          <a:stretch/>
        </p:blipFill>
        <p:spPr>
          <a:xfrm>
            <a:off x="0" y="0"/>
            <a:ext cx="57240" cy="2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Object 28"/>
          <p:cNvGraphicFramePr/>
          <p:nvPr/>
        </p:nvGraphicFramePr>
        <p:xfrm>
          <a:off x="1106640" y="4643280"/>
          <a:ext cx="1393560" cy="7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6640" y="4643280"/>
                    <a:ext cx="13935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0"/>
          <p:cNvGraphicFramePr/>
          <p:nvPr/>
        </p:nvGraphicFramePr>
        <p:xfrm>
          <a:off x="1214280" y="5357880"/>
          <a:ext cx="439920" cy="75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4280" y="5357880"/>
                    <a:ext cx="4399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1"/>
          <p:cNvGraphicFramePr/>
          <p:nvPr/>
        </p:nvGraphicFramePr>
        <p:xfrm>
          <a:off x="3786120" y="4643280"/>
          <a:ext cx="2460600" cy="82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86120" y="4643280"/>
                    <a:ext cx="24606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WordArt 12"/>
          <p:cNvSpPr txBox="1"/>
          <p:nvPr/>
        </p:nvSpPr>
        <p:spPr>
          <a:xfrm>
            <a:off x="357120" y="500040"/>
            <a:ext cx="18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归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928800" y="4000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392904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214880" y="55720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B147-5303-4FAE-B666-6134E3EEC76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57120" y="785880"/>
            <a:ext cx="84297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形如          的式子叫做二阶行列式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它的运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法则用公式表示为          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=ad-bc,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依此法则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算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根据题意得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2×4-1×(-3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8+3=11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571760" y="714240"/>
            <a:ext cx="1071360" cy="714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3929040" y="1428840"/>
            <a:ext cx="1143000" cy="761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1214280" y="2143080"/>
            <a:ext cx="1135080" cy="7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4"/>
          <a:stretch/>
        </p:blipFill>
        <p:spPr>
          <a:xfrm>
            <a:off x="3357720" y="2928960"/>
            <a:ext cx="1214280" cy="84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FD9-A614-4589-B629-1D2F7A8AAC9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2438280" y="1905120"/>
            <a:ext cx="4365720" cy="15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再见！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1D9-A8CA-406B-A2D4-AC0A0CD92EE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50920" y="907920"/>
            <a:ext cx="33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复习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28600" y="21178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0f17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f0f17"/>
                </a:solidFill>
                <a:latin typeface="Times New Roman"/>
              </a:rPr>
              <a:t>在小学里我们已经学习了正有理数和零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Times New Roman"/>
              </a:rPr>
              <a:t>乘法运算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f0f17"/>
                </a:solidFill>
                <a:latin typeface="Times New Roman"/>
              </a:rPr>
              <a:t>请同学们计算下列各题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9640" y="4365720"/>
            <a:ext cx="83822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</a:rPr>
              <a:t> 6       0 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f0f17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073160" y="4149720"/>
                <a:ext cx="461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" name="Group 6"/>
          <p:cNvGrpSpPr/>
          <p:nvPr/>
        </p:nvGrpSpPr>
        <p:grpSpPr>
          <a:xfrm>
            <a:off x="1987560" y="4226040"/>
            <a:ext cx="1143000" cy="914400"/>
            <a:chOff x="1987560" y="4226040"/>
            <a:chExt cx="1143000" cy="914400"/>
          </a:xfrm>
        </p:grpSpPr>
        <mc:AlternateContent>
          <mc:Choice xmlns:a14="http://schemas.microsoft.com/office/drawing/2010/main" Requires="a14">
            <p:sp>
              <p:nvSpPr>
                <p:cNvPr id="99" name="Object 7"/>
                <p:cNvSpPr txBox="1"/>
                <p:nvPr/>
              </p:nvSpPr>
              <p:spPr>
                <a:xfrm>
                  <a:off x="1987560" y="4226040"/>
                  <a:ext cx="3553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8"/>
                <p:cNvSpPr txBox="1"/>
                <p:nvPr/>
              </p:nvSpPr>
              <p:spPr>
                <a:xfrm>
                  <a:off x="2292120" y="445464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9"/>
                <p:cNvSpPr txBox="1"/>
                <p:nvPr/>
              </p:nvSpPr>
              <p:spPr>
                <a:xfrm>
                  <a:off x="2774880" y="4226040"/>
                  <a:ext cx="355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Group 10"/>
          <p:cNvGrpSpPr/>
          <p:nvPr/>
        </p:nvGrpSpPr>
        <p:grpSpPr>
          <a:xfrm>
            <a:off x="3564000" y="4149720"/>
            <a:ext cx="1439280" cy="914400"/>
            <a:chOff x="3564000" y="4149720"/>
            <a:chExt cx="1439280" cy="914400"/>
          </a:xfrm>
        </p:grpSpPr>
        <mc:AlternateContent>
          <mc:Choice xmlns:a14="http://schemas.microsoft.com/office/drawing/2010/main" Requires="a14">
            <p:sp>
              <p:nvSpPr>
                <p:cNvPr id="103" name="Object 11"/>
                <p:cNvSpPr txBox="1"/>
                <p:nvPr/>
              </p:nvSpPr>
              <p:spPr>
                <a:xfrm>
                  <a:off x="3564000" y="4226040"/>
                  <a:ext cx="4449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2"/>
                <p:cNvSpPr txBox="1"/>
                <p:nvPr/>
              </p:nvSpPr>
              <p:spPr>
                <a:xfrm>
                  <a:off x="3895920" y="4530960"/>
                  <a:ext cx="664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3"/>
                <p:cNvSpPr txBox="1"/>
                <p:nvPr/>
              </p:nvSpPr>
              <p:spPr>
                <a:xfrm>
                  <a:off x="4516920" y="4149720"/>
                  <a:ext cx="48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6" name="Picture 14" descr="rw1-7"/>
          <p:cNvPicPr/>
          <p:nvPr/>
        </p:nvPicPr>
        <p:blipFill>
          <a:blip r:embed="rId1"/>
          <a:stretch/>
        </p:blipFill>
        <p:spPr>
          <a:xfrm>
            <a:off x="5943600" y="841320"/>
            <a:ext cx="2590920" cy="9874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6084720" y="5373720"/>
            <a:ext cx="354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WordArt 19"/>
          <p:cNvSpPr txBox="1"/>
          <p:nvPr/>
        </p:nvSpPr>
        <p:spPr>
          <a:xfrm>
            <a:off x="7451640" y="5373720"/>
            <a:ext cx="4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4211640" y="5373720"/>
                <a:ext cx="36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1"/>
              <p:cNvSpPr txBox="1"/>
              <p:nvPr/>
            </p:nvSpPr>
            <p:spPr>
              <a:xfrm>
                <a:off x="2268360" y="5445000"/>
                <a:ext cx="43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2"/>
              <p:cNvSpPr txBox="1"/>
              <p:nvPr/>
            </p:nvSpPr>
            <p:spPr>
              <a:xfrm>
                <a:off x="971640" y="5373720"/>
                <a:ext cx="287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0D2-74C2-49EB-AAB2-030C334D2FA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WordArt 2"/>
          <p:cNvSpPr txBox="1"/>
          <p:nvPr/>
        </p:nvSpPr>
        <p:spPr>
          <a:xfrm>
            <a:off x="3059280" y="1125360"/>
            <a:ext cx="216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目标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50920" y="2492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能说出有理数的乘法法则并能运用法则进行乘法运算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59B-40C1-4317-9802-08089F9F452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WordArt 2"/>
          <p:cNvSpPr txBox="1"/>
          <p:nvPr/>
        </p:nvSpPr>
        <p:spPr>
          <a:xfrm>
            <a:off x="3203640" y="1557360"/>
            <a:ext cx="21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指导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95280" y="227664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自学内容：自学课本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页练习前的所有内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自学时间：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分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自学方法：看课本与小组讨论相结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自学要求：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理解有理数的乘法法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会用法则进行有理数的乘法运算。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D4F-F05C-488E-9DE5-4C30767F25D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2071800" y="500040"/>
            <a:ext cx="28810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检测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571680" y="1349280"/>
            <a:ext cx="8215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两数相乘</a:t>
            </a:r>
            <a:r>
              <a:rPr b="0" lang="en-US" sz="3200" spc="-1" strike="noStrike" u="sng">
                <a:solidFill>
                  <a:srgbClr val="0f0f17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得正，</a:t>
            </a:r>
            <a:r>
              <a:rPr b="0" lang="en-US" sz="3200" spc="-1" strike="noStrike" u="sng">
                <a:solidFill>
                  <a:srgbClr val="0f0f17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得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并把</a:t>
            </a:r>
            <a:r>
              <a:rPr b="0" lang="en-US" sz="3200" spc="-1" strike="noStrike" u="sng">
                <a:solidFill>
                  <a:srgbClr val="0f0f17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相乘。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计算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-2)×3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的结果是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A)-6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B)6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C)-5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D)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ab&gt;0,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则必有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(    )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A&gt;0 ,b&gt;0            B.a&lt;0,b&lt;0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C. a&gt;0,b&lt;0             D.a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同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3000240" y="128592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6072120" y="1285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1571760" y="2000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对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4929120" y="28576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4071960" y="43578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2AEF-FE63-46D6-A1FA-A1E649A0091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46040" y="203040"/>
            <a:ext cx="238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749160" y="101520"/>
            <a:ext cx="23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42960" y="500040"/>
            <a:ext cx="814392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已知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,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数在数轴上的对应点如图所示，下列结论正确的是 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.ab&gt;0              B.ab&lt;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. b-a&lt;0             D.a+b&gt;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6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E14SCZJA7SHSSX08.eps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4322520" cy="500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graphicFrame>
        <p:nvGraphicFramePr>
          <p:cNvPr id="131" name="Object 14"/>
          <p:cNvGraphicFramePr/>
          <p:nvPr/>
        </p:nvGraphicFramePr>
        <p:xfrm>
          <a:off x="1785960" y="5143680"/>
          <a:ext cx="1285920" cy="88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5143680"/>
                    <a:ext cx="128592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"/>
          <p:cNvGraphicFramePr/>
          <p:nvPr/>
        </p:nvGraphicFramePr>
        <p:xfrm>
          <a:off x="5500800" y="3786120"/>
          <a:ext cx="2643120" cy="72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0800" y="3786120"/>
                    <a:ext cx="2643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25"/>
          <p:cNvSpPr/>
          <p:nvPr/>
        </p:nvSpPr>
        <p:spPr>
          <a:xfrm>
            <a:off x="4500720" y="987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1714680" y="44290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3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5786280" y="457200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7120" y="8571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当堂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3857760" y="5214960"/>
          <a:ext cx="5698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7760" y="5214960"/>
                    <a:ext cx="5698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4AF9-2DD6-416D-87B4-1867CF8FB6C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28760" y="928800"/>
            <a:ext cx="8143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71680" y="1357200"/>
            <a:ext cx="81435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两数相乘同号得正异号得负，并把绝对值相乘；任何数同零相乘都得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乘法的运算步骤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）若有带分数，应先把带分数化为假分数；（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）先确定符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）在确定绝对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1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f0f17"/>
                </a:solidFill>
                <a:latin typeface="Arial"/>
              </a:rPr>
              <a:t>、乘法法则的逆运用，由积的符号确定因数的符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857160" y="500040"/>
            <a:ext cx="2071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归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A2F-2D5F-4D00-B019-A284A9C912F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85840" y="500040"/>
            <a:ext cx="86439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 -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倍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     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A)-6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B)1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C)6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D)-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2,3,4,-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四个数中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任取两个数相乘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所得积最大的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A)20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B)-20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C)1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D)1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理数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,b,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数轴上表示的点如下图所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c.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E14SCZJA7SHSSX09.eps" descr=""/>
          <p:cNvPicPr/>
          <p:nvPr/>
        </p:nvPicPr>
        <p:blipFill>
          <a:blip r:embed="rId1"/>
          <a:stretch/>
        </p:blipFill>
        <p:spPr>
          <a:xfrm>
            <a:off x="3143160" y="5857920"/>
            <a:ext cx="4714920" cy="35712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4"/>
          <p:cNvSpPr/>
          <p:nvPr/>
        </p:nvSpPr>
        <p:spPr>
          <a:xfrm>
            <a:off x="1962000" y="3395520"/>
            <a:ext cx="5193000" cy="2119320"/>
          </a:xfrm>
          <a:prstGeom prst="pie">
            <a:avLst/>
          </a:prstGeom>
          <a:noFill/>
          <a:ln w="9360">
            <a:solidFill>
              <a:srgbClr val="e5f2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642960" y="428760"/>
            <a:ext cx="40003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堂练习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3571920" y="1285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2714760" y="32148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1428840" y="51436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CDF-10BF-4E0B-A34E-C88A4387227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4240" y="214200"/>
            <a:ext cx="70866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、口算并找规律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1)  3×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；        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5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3)    ×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；        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4)    0×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6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×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；         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6)    2×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7)   0×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；                        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(8)   1×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f0f1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71680" y="47149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做完这题，你能发现什么规律？一个数与</a:t>
            </a: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相乘，积是什么？一个数与（</a:t>
            </a: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）相乘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2786040" y="5715000"/>
            <a:ext cx="71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本身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6858000" y="5572080"/>
            <a:ext cx="1357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他的相反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0"/>
              <p:cNvSpPr txBox="1"/>
              <p:nvPr/>
            </p:nvSpPr>
            <p:spPr>
              <a:xfrm>
                <a:off x="3348000" y="2500200"/>
                <a:ext cx="50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Text Box 22"/>
          <p:cNvSpPr/>
          <p:nvPr/>
        </p:nvSpPr>
        <p:spPr>
          <a:xfrm>
            <a:off x="3348000" y="2000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7424640" y="2000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6786720" y="26449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6572160" y="3144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3286080" y="31431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6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321480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929280" y="35719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714240" y="9288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若</a:t>
            </a: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a=1,|b|=4,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的值为 </a:t>
            </a:r>
            <a:r>
              <a:rPr b="1" lang="zh-CN" sz="2800" spc="-1" strike="noStrike" u="sng">
                <a:solidFill>
                  <a:srgbClr val="0f0f17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f0f17"/>
                </a:solidFill>
                <a:latin typeface="Times New Roman"/>
              </a:rPr>
              <a:t> 。　　</a:t>
            </a:r>
            <a:r>
              <a:rPr b="1" lang="en-US" sz="2800" spc="-1" strike="noStrike">
                <a:solidFill>
                  <a:srgbClr val="0f0f1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5000760" y="7858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±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03:26:35Z</dcterms:created>
  <dc:creator>济宁十五中资源服务器</dc:creator>
  <dc:description/>
  <dc:language>en-US</dc:language>
  <cp:lastModifiedBy>微软用户</cp:lastModifiedBy>
  <dcterms:modified xsi:type="dcterms:W3CDTF">2015-08-29T00:05:39Z</dcterms:modified>
  <cp:revision>129</cp:revision>
  <dc:subject/>
  <dc:title>PowerPoint 演示文稿</dc:title>
</cp:coreProperties>
</file>