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28.wmf" ContentType="image/x-wmf"/>
  <Override PartName="/ppt/media/image26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7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29.wmf" ContentType="image/x-wmf"/>
  <Override PartName="/ppt/media/image11.png" ContentType="image/png"/>
  <Override PartName="/ppt/media/image12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30.wmf" ContentType="image/x-wmf"/>
  <Override PartName="/ppt/media/image35.wmf" ContentType="image/x-wmf"/>
  <Override PartName="/ppt/media/image37.wmf" ContentType="image/x-wmf"/>
  <Override PartName="/ppt/media/image7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FCF-E2DD-4D33-97E3-D8B6387A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66F-334D-4CC7-9118-E00460F5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714-24E9-44CF-A72E-B04286D8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A0A-DDBB-48FC-BB7D-60A6247A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8F39-0614-4C62-8B9C-3637848B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72DB-88D6-4DAE-A3F8-3527AD77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2210-2FDF-4156-A8AD-5D822604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FE44-E1A1-42DC-AB57-86259EEC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E040-6351-41DB-ABC6-88934B5D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8631-EEB6-4170-8074-D846AF37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3796-FCFA-4AE3-8B6E-142040C4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A5A-450C-4AD0-A826-B3EEE862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757E-3B5D-4F7A-B839-8F6F054D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5A51-CB82-452A-AA04-ED19D182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05CE-207D-4093-A245-4A53FCA9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E65C-3F0C-4608-87F4-AC3E94D6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B136-12B7-4209-B256-B194639B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86440-DBF3-4265-AD03-17A0196E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F1D92-BEFB-4C5A-9A44-E66B96E6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28050-4438-4680-932C-F67FCB1B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01654-3B60-4F45-9266-57454EBC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261E-CF7D-4071-B9FD-F18F5223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F13C-7B6C-4D30-B10F-73226955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00E98-6937-473E-8243-6B200A51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13F4D-D4D6-4606-A58B-35F6E3F3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C87F8-DBD3-45E9-8FBD-E6D64051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1FD1F-0673-4180-B671-D53445A1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6C85B-6857-4A32-8EFB-3EB03523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66F4F-7BA7-4DC6-86D1-52B078C1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EFC92-7A3C-4085-BA9B-98C23D3E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D52-9EB1-452D-AEC5-FC9466AD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127-BA40-4624-BE31-69E1DD87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C69B-78EB-4C7A-957C-2F167416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E82-AE6E-402F-B898-93A3F734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0D2-79F2-40C1-B4D9-D2B45667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3AF-831E-4D2C-8FBB-0B89CB82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9CE4-3886-455A-AA03-466B495C4F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3E4C-8833-4C1F-BEA2-72B7330006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07BF-61A7-4A02-961F-3952CB4C05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hyperlink" Target="file:///&#22797;&#20064;&#25945;&#26448;.DOC" TargetMode="External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hyperlink" Target="file:///&#22797;&#20064;&#25945;&#26448;.DOC" TargetMode="External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复习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1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2"/>
          <p:cNvSpPr/>
          <p:nvPr/>
        </p:nvSpPr>
        <p:spPr>
          <a:xfrm>
            <a:off x="1054080" y="1125360"/>
            <a:ext cx="3146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二　二次函数图象的平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77336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果将抛物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沿直角平面坐标向左平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单位，再向上平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单位，得到抛物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997560" y="270720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004920" y="2707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92040" y="1357200"/>
          <a:ext cx="7981920" cy="55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357200"/>
                    <a:ext cx="798192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2040" y="1243080"/>
          <a:ext cx="798192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243080"/>
                    <a:ext cx="798192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92040" y="1243080"/>
          <a:ext cx="798192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243080"/>
                    <a:ext cx="798192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12"/>
          <p:cNvSpPr/>
          <p:nvPr/>
        </p:nvSpPr>
        <p:spPr>
          <a:xfrm>
            <a:off x="1304280" y="836640"/>
            <a:ext cx="4261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三　二次函数与一次函数的综合应用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216000" y="1484280"/>
            <a:ext cx="8893080" cy="38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200" spc="-1" strike="noStrike">
                <a:solidFill>
                  <a:srgbClr val="ff9900"/>
                </a:solidFill>
                <a:latin typeface="Times New Roman"/>
                <a:ea typeface="黑体"/>
              </a:rPr>
              <a:t>3</a:t>
            </a:r>
            <a:r>
              <a:rPr b="1" lang="zh-CN" sz="2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矩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垂直平分线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在的直线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，建立平面直角坐标系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写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中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坐标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顶点、对称轴平行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，并且经过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抛物线的表达式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对角线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上述抛物线除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外的另一交点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坐标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△PE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面积与△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面积具有怎样的关系？证明你的结论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2990880" cy="27241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6000" y="450864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利用矩形的性质可以得到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及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D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的中点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的坐标，然后利用顶点式求出抛物线的表达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92040" y="1035000"/>
          <a:ext cx="7778880" cy="59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35000"/>
                    <a:ext cx="777888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92040" y="907920"/>
          <a:ext cx="7851960" cy="627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07920"/>
                    <a:ext cx="7851960" cy="627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2"/>
          <p:cNvSpPr/>
          <p:nvPr/>
        </p:nvSpPr>
        <p:spPr>
          <a:xfrm>
            <a:off x="1303560" y="981000"/>
            <a:ext cx="39571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四　二次函数的图象和性质的应用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216000" y="1628640"/>
            <a:ext cx="889308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已知抛物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0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四点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大小关系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不能确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7289640" y="21326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A</a:t>
            </a:r>
            <a:r>
              <a:rPr b="0" lang="en-US" sz="2400" spc="-1" strike="noStrike">
                <a:solidFill>
                  <a:srgbClr val="c0504d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216000" y="4508640"/>
            <a:ext cx="889308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　结合图形，找到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O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四个点的大致位置，容易看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大小关系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92040" y="1243080"/>
          <a:ext cx="798192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243080"/>
                    <a:ext cx="798192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知识归纳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557360"/>
            <a:ext cx="8642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二次函数的概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般地，形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常数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函数，叫做二次函数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号右边必须是整式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自变量的最高次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特殊的二次函数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的图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次函数的图象是一条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它是轴对称图形，其对称轴平行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481840" y="2203920"/>
            <a:ext cx="21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c0504d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7639200" y="221940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a≠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4398480" y="5013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抛物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2053080" y="551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1056600" y="981000"/>
            <a:ext cx="3225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五　求二次函数的表达式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216000" y="162864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已知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象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，它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的一个交点坐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的交点坐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，并写出此二次函数的表达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图象，写出函数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正数时，自变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取值范围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216000" y="436572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由于二次函数经过具体的两个点，可以把这两个点的坐标代入即可求出表达式，然后根据图象求出自变量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的取值范围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92040" y="1341360"/>
          <a:ext cx="8520120" cy="43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341360"/>
                    <a:ext cx="852012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92040" y="1335240"/>
          <a:ext cx="84758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335240"/>
                    <a:ext cx="84758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2"/>
          <p:cNvSpPr/>
          <p:nvPr/>
        </p:nvSpPr>
        <p:spPr>
          <a:xfrm>
            <a:off x="1362600" y="981000"/>
            <a:ext cx="4060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六　二次函数和其他知识的综合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/>
          <p:nvPr/>
        </p:nvSpPr>
        <p:spPr>
          <a:xfrm>
            <a:off x="216000" y="162864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6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已知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象与坐标轴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(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该二次函数的表达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该函数图象的对称轴上存在一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使得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周长最小．请求出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坐标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090960" y="1362240"/>
            <a:ext cx="2962080" cy="4133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216000" y="1700280"/>
            <a:ext cx="88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把点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(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,0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和点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(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5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代入表达式即可求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值，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仿宋_GB2312"/>
              </a:rPr>
              <a:t>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BP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周长中的边长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是确定的，只要求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PA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P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和最小即可，因此要把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PA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P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转化到一条线上，在此还要利用抛物线的对称性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92040" y="907920"/>
          <a:ext cx="843300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07920"/>
                    <a:ext cx="843300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5796000" y="907920"/>
            <a:ext cx="2079720" cy="244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118200" y="3499200"/>
            <a:ext cx="12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图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2040" y="1023840"/>
          <a:ext cx="8286840" cy="57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23840"/>
                    <a:ext cx="828684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92040" y="1274760"/>
          <a:ext cx="8286840" cy="48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274760"/>
                    <a:ext cx="828684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复习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268280"/>
            <a:ext cx="86421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象的形状、大小、开口方向只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关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的性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知识归纳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1557360"/>
            <a:ext cx="864216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利用二次函数求最值的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润最大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会利用二次函数求解最值的一般步骤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用二次函数解决“利润最大化”问题的一般步骤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找出销售单价与利润之间的函数关系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注明范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出该二次函数图象的顶点坐标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由函数顶点坐标求得其最值，即求得“最大利润”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产量最大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会利用二次函数求解最值的几种方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1162080"/>
            <a:ext cx="86421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产量最大化问题与最大利润问题类似，若问题中的函数类型是二次函数，可以利用求二次函数的顶点处的函数值来解决．也可以应用配方法求其顶点，利用函数图象也可以判断函数的最值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求最值问题中，我们常用二次函数的表达式求顶点坐标来求最值；也可以运用“数形结合”的方法，结合函数图象来判断求解最值；还可以利用列表的方法估计最值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图形有关的最值问题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直角三角形中矩形的最大面积：要求面积就需要知道矩形的两条边，因此，把这两条边分别用含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代数式表示出来，代入面积公式就能转化为数学问题了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981000"/>
            <a:ext cx="8642160" cy="39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警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利用二次函数解答涉及图形的最值问题时，要注意图形中自变量的取值范围及是否有实际意义，这是很多同学易犯错的地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与一元二次方程的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于一元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只要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于某个具体的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就可以将函数转化成一元二次方程，这个方程的解是抛物线上纵坐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点的横坐标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特殊地，如果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值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所得方程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该方程的解是抛物线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交点的横坐标．若方程无解，则说明抛物线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无交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36120" y="179280"/>
            <a:ext cx="25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981000"/>
            <a:ext cx="86421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次函数的图象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的交点个数与一元二次方程的根的个数之间的关系，可以总结如下：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a≠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得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方程有两个不等实数根，二次函数的图象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交点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方程有两个相等实数根，二次函数的图象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只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交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即顶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方程没有实数根，二次函数的图象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没有交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/>
          <p:nvPr/>
        </p:nvSpPr>
        <p:spPr>
          <a:xfrm>
            <a:off x="1827000" y="299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/>
          <p:nvPr/>
        </p:nvSpPr>
        <p:spPr>
          <a:xfrm>
            <a:off x="2126520" y="407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12"/>
          <p:cNvSpPr/>
          <p:nvPr/>
        </p:nvSpPr>
        <p:spPr>
          <a:xfrm>
            <a:off x="2432160" y="1700280"/>
            <a:ext cx="2006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一　一元二次方程与二次函数的关系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考点攻略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65120" y="2554200"/>
          <a:ext cx="8548560" cy="32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554200"/>
                    <a:ext cx="854856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/>
          <p:nvPr/>
        </p:nvSpPr>
        <p:spPr>
          <a:xfrm>
            <a:off x="1855440" y="30830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92040" y="1450800"/>
          <a:ext cx="8201160" cy="36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50800"/>
                    <a:ext cx="820116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2"/>
          <p:cNvSpPr/>
          <p:nvPr/>
        </p:nvSpPr>
        <p:spPr>
          <a:xfrm>
            <a:off x="1056600" y="1135080"/>
            <a:ext cx="3225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二　二次函数与图形面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2205000"/>
            <a:ext cx="8642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苗圃的形状是直角梯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∥D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⊥CD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已有的墙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另外两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长度之和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如果梯形的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变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梯形面积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问：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取何值时，梯形的面积最大？最大面积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567160" y="1125360"/>
            <a:ext cx="4009680" cy="25718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50920" y="4221000"/>
            <a:ext cx="86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从题中已知梯形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除去一腰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的长和一个特殊角∠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AD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135°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这里可利用梯形面积公式等相关知识构造出函数解析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24000" y="1450800"/>
          <a:ext cx="8607240" cy="519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50800"/>
                    <a:ext cx="8607240" cy="51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386080" y="1914480"/>
            <a:ext cx="437184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97000"/>
          <a:ext cx="8390160" cy="554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839016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814920" y="22039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开口向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6600960" y="22039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开口向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3814920" y="27072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开口向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>
            <a:hlinkClick r:id="rId3"/>
          </p:cNvPr>
          <p:cNvSpPr/>
          <p:nvPr/>
        </p:nvSpPr>
        <p:spPr>
          <a:xfrm>
            <a:off x="6586920" y="27072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开口向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700360" y="3497400"/>
          <a:ext cx="2641680" cy="1133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3497400"/>
                    <a:ext cx="264168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>
            <a:hlinkClick r:id="rId6"/>
          </p:cNvPr>
          <p:cNvSpPr/>
          <p:nvPr/>
        </p:nvSpPr>
        <p:spPr>
          <a:xfrm>
            <a:off x="6256800" y="3854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(h</a:t>
            </a: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k)</a:t>
            </a: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2"/>
          <p:cNvSpPr/>
          <p:nvPr/>
        </p:nvSpPr>
        <p:spPr>
          <a:xfrm>
            <a:off x="1054080" y="1135080"/>
            <a:ext cx="3146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三　二次函数与几何图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/>
          <p:nvPr/>
        </p:nvSpPr>
        <p:spPr>
          <a:xfrm>
            <a:off x="250920" y="1989000"/>
            <a:ext cx="864216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在矩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常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的动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重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连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⊥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射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关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函数关系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何值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最大，最大值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973080" y="5006880"/>
          <a:ext cx="7677360" cy="8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5006880"/>
                    <a:ext cx="76773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/>
          <p:nvPr/>
        </p:nvSpPr>
        <p:spPr>
          <a:xfrm>
            <a:off x="250920" y="170028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设法证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这两条线段所在的两个三角形相似，由比例式建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关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函数关系式；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将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m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值代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中的函数关系式，配方化成顶点式后求最值；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3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逆向思考，当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仿宋_GB2312"/>
              </a:rPr>
              <a:t>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是等腰三角形，因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E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  <a:ea typeface="仿宋_GB2312"/>
              </a:rPr>
              <a:t>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所以只能是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再由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可得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Rt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  <a:ea typeface="仿宋_GB2312"/>
              </a:rPr>
              <a:t>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FE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  <a:ea typeface="仿宋_GB2312"/>
              </a:rPr>
              <a:t>≌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Rt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  <a:ea typeface="仿宋_GB2312"/>
              </a:rPr>
              <a:t>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E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从而求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m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值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18960" y="1052640"/>
          <a:ext cx="853452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052640"/>
                    <a:ext cx="853452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318960" y="1052640"/>
          <a:ext cx="8534520" cy="56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052640"/>
                    <a:ext cx="853452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18960" y="2060640"/>
          <a:ext cx="8461440" cy="352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2060640"/>
                    <a:ext cx="846144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12"/>
          <p:cNvSpPr/>
          <p:nvPr/>
        </p:nvSpPr>
        <p:spPr>
          <a:xfrm>
            <a:off x="1056600" y="1135080"/>
            <a:ext cx="3225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四　二次函数与生活应用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/>
          <p:nvPr/>
        </p:nvSpPr>
        <p:spPr>
          <a:xfrm>
            <a:off x="250920" y="1844640"/>
            <a:ext cx="8642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利达经销店为某工厂代销一种建筑材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里的代销是指厂家先免费提供货源，待货物售出后再进行结算，未售出的由厂家负责处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当每吨售价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时，月销售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吨．该经销店为提高经营利润，准备采取降价的方式进行促销．经市场调查发现：当每吨售价每下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时，月销售量就会增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吨．综合考虑各种因素，每售出一吨建筑材料共需支付厂家及其他费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．设每吨材料售价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该经销店的月利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1628640"/>
            <a:ext cx="86421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每吨售价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时，计算此时的月销售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函数关系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要求写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取值范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该经销店要获得最大月利润，售价应定为每吨多少元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静说：“当月利润最大时，月销售额也最大．”你认为对吗？请说明理由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18960" y="1773360"/>
          <a:ext cx="8461440" cy="37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773360"/>
                    <a:ext cx="846144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08000" y="905040"/>
          <a:ext cx="9028080" cy="605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05040"/>
                    <a:ext cx="9028080" cy="60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74600" y="876240"/>
          <a:ext cx="8896320" cy="615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876240"/>
                    <a:ext cx="8896320" cy="61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6400" y="1341360"/>
          <a:ext cx="8390160" cy="70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341360"/>
                    <a:ext cx="8390160" cy="70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24000" y="1341360"/>
          <a:ext cx="8432640" cy="45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432640" cy="45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12"/>
          <p:cNvSpPr/>
          <p:nvPr/>
        </p:nvSpPr>
        <p:spPr>
          <a:xfrm>
            <a:off x="1054080" y="981000"/>
            <a:ext cx="3146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五　二次函数与体育活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465120" y="1893960"/>
          <a:ext cx="8518680" cy="47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893960"/>
                    <a:ext cx="85186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395280" y="1197000"/>
          <a:ext cx="8447040" cy="348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447040" cy="34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/>
          <p:nvPr/>
        </p:nvSpPr>
        <p:spPr>
          <a:xfrm>
            <a:off x="250920" y="1628640"/>
            <a:ext cx="86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决这个问题的关键是正确地进行数学建模，将运动员在空中的运动路线抽象为所给出的直角坐标系中的抛物线，用待定系数法求出表达式，再利用函数知识求解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318960" y="1179360"/>
          <a:ext cx="8534520" cy="592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179360"/>
                    <a:ext cx="8534520" cy="592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18960" y="1052640"/>
          <a:ext cx="8534520" cy="51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052640"/>
                    <a:ext cx="853452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6400" y="841320"/>
          <a:ext cx="8317080" cy="644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841320"/>
                    <a:ext cx="8317080" cy="64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462920" y="151344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减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3867840" y="284868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增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6694920" y="151344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减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6450480" y="254376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增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4520160" y="409644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增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3897720" y="543312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减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6741000" y="409644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增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12480" y="51570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减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836640"/>
            <a:ext cx="864216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图象的平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地，平移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图象可得到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图象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抓住顶点坐标的变化，熟记平移规律，左加右减，上加下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7086600" cy="202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2"/>
          <p:cNvSpPr/>
          <p:nvPr/>
        </p:nvSpPr>
        <p:spPr>
          <a:xfrm>
            <a:off x="995760" y="1700280"/>
            <a:ext cx="3347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一　二次函数的定义应用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考点攻略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2374920"/>
            <a:ext cx="8642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已知抛物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x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开口向下，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4087800"/>
            <a:ext cx="86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本题容易考虑不全面，只考虑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m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＜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而忽略抛物线是二次函数的图象，自变量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次数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.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由抛物线开口向下得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m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＜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且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m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m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m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35400" y="179280"/>
            <a:ext cx="26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2040" y="1268280"/>
          <a:ext cx="8201160" cy="210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268280"/>
                    <a:ext cx="8201160" cy="21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92040" y="2684520"/>
          <a:ext cx="8113680" cy="2830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040" y="2684520"/>
                    <a:ext cx="811368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10T00:49:35Z</dcterms:modified>
  <cp:revision>359</cp:revision>
  <dc:subject/>
  <dc:title>幻灯片 1</dc:title>
</cp:coreProperties>
</file>