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036-5815-4F68-9E65-4421B487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C90-E1CB-47F3-9FD8-AD783FBC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E28-88D9-4ABF-93C1-E6DCDE47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A60-B17D-4A24-8690-45B7D2B9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FA7C-BB44-4E06-AB96-47537B77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99A6-514C-4E38-BBFF-74EF1DD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FD8E-BD4A-4D03-AE0E-66CAA7C7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781-D4A5-4280-A6CB-577FCED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A18A-9A16-456B-B8C1-C35849FD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8C2-CE78-4F5C-AC0B-177CF26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F6EE-BD62-4F7D-A6E0-FDAB2CD4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49B-9535-4767-AE57-0A89A6F4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ECF0-9800-45FF-8BBC-502291A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91DC-B59E-4386-9EB6-E8AC3B20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5E30-A468-4C36-9936-CA66E96F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06F-F9DE-40AD-9912-40ECE381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FF81-BD38-45E0-9005-933DDED2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4A97-74DC-4170-B54D-C6C8DF40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B34F-55E1-411D-8CAF-1204ABBB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C318-6943-4E83-B415-0BAD278B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A420-B312-41FD-B3F8-233CFBB8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A080-CEFD-46B8-B6B4-B0B527A3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FAF-AA75-4EC8-A3AB-00E0CAE8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F6C1-B384-4538-9A05-F1463286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2C7B-DB5E-4326-8DBC-97EBC23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98C0-3E12-4FB1-B030-EBE90F5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B1BC-9470-4941-8D3B-6F240A9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AE32-9C59-4C60-9CEE-7B8E7275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7569-CB58-4F68-813B-0C8EC309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1369-0ABE-4FEF-90E9-52D0A023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20E-DABE-493C-93FE-D4AE8CED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1B5-3B84-48D1-8BF9-FD186F58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A37-48B9-4AA2-9B92-D2F676A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F4C-65BD-497C-83F0-4C4EF0D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1F3-A2E8-4690-9108-6B01FD0F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121-E5D1-49B8-A7D3-5646AF6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B40C-550D-459D-AD53-FE21882D3B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DB9-4B53-4A7B-BD92-D8DDCF96D4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30D2-1C07-4436-8BE3-478F1D2042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3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1117440"/>
            <a:ext cx="8642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易错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圆心到直线上某一点的距离看成是圆心到直线的距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的切线的性质及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性质：圆的切线垂直于经过切点的半径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定：经过直径的一端，并且垂直于这条直径的直线是圆的切线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内切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11744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三角形三边都相切的圆可以作出一个，并且只能作出一个，这个圆叫做三角形的内切圆，内切圆的圆心是三角形角平分线的交点，叫做三角形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一个确定的三角形来说，其内切圆有且只有一个，其内心也有且只有一个：内心就是内切圆的圆心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与圆的位置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同一平面内两圆作相对运动，可以得到下面五种位置关系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两圆半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圆心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19400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内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413000"/>
          <a:ext cx="8280360" cy="3023640"/>
        </p:xfrm>
        <a:graphic>
          <a:graphicData uri="http://schemas.openxmlformats.org/drawingml/2006/table">
            <a:tbl>
              <a:tblPr/>
              <a:tblGrid>
                <a:gridCol w="1206360"/>
                <a:gridCol w="2470320"/>
                <a:gridCol w="4603680"/>
              </a:tblGrid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置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点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764800" y="1994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5821560" y="194940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gt;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＋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2764800" y="245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5808240" y="2496960"/>
            <a:ext cx="11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＋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2836440" y="29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5894280" y="295740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lt;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＋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2836440" y="346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5820840" y="3462480"/>
            <a:ext cx="11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－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2836440" y="3967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5690880" y="39672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≤d&lt;R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－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18960" y="914400"/>
          <a:ext cx="8201160" cy="53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14400"/>
                    <a:ext cx="820116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948360" y="3429000"/>
          <a:ext cx="1597320" cy="79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3429000"/>
                    <a:ext cx="15973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18960" y="1197000"/>
          <a:ext cx="8142480" cy="137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7000"/>
                    <a:ext cx="814248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12000" y="765000"/>
          <a:ext cx="1277640" cy="78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765000"/>
                    <a:ext cx="12776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50920" y="184464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锥的侧面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锥的侧面展开图是一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圆锥母线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底面圆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那么这个扇形的半径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扇形的弧长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锥侧面积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锥的侧面展开图的形状是扇形，它的半径等于圆锥的母线长，它的弧长是圆锥底面圆的周长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841640" y="24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扇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1685520" y="359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05040" y="359892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3313080" y="422280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2"/>
          <p:cNvSpPr/>
          <p:nvPr/>
        </p:nvSpPr>
        <p:spPr>
          <a:xfrm>
            <a:off x="810360" y="1700280"/>
            <a:ext cx="2798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确定圆的条件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2349360"/>
            <a:ext cx="8642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河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网格中，一条圆弧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点，那么这条圆弧所在圆的圆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8293680" y="29052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2923920" cy="341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920" y="49417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　圆心既在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垂线上又在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垂线上，由图可以看出圆心应该是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Q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2040" y="1625760"/>
          <a:ext cx="8201160" cy="343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625760"/>
                    <a:ext cx="8201160" cy="34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"/>
          <p:cNvSpPr/>
          <p:nvPr/>
        </p:nvSpPr>
        <p:spPr>
          <a:xfrm>
            <a:off x="992160" y="1052640"/>
            <a:ext cx="2963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垂径定理及其推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701720"/>
            <a:ext cx="86421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弦，半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⊥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5906160" y="22622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2638440" cy="3429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443700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　连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O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因为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OC⊥AB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B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3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因为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OD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4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在直角三角形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DO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中，由勾股定理可以得到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O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5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O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5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D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1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m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5276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确定圆的要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心确定其位置，半径确定其大小．只有圆心没有半径，虽圆的位置固定，但大小不定，因而圆不确定；只有半径而没有圆心，虽圆的大小固定，但圆心的位置不定，因而圆也不确定；只有圆心和半径都固定，圆才被唯一确定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与圆的位置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与圆的位置关系有三种：点在圆外、点在圆上、点在圆内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2040" y="1052640"/>
          <a:ext cx="8461440" cy="51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52640"/>
                    <a:ext cx="84614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2"/>
          <p:cNvSpPr/>
          <p:nvPr/>
        </p:nvSpPr>
        <p:spPr>
          <a:xfrm>
            <a:off x="1488600" y="1197000"/>
            <a:ext cx="4505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圆心角、弧、弦、弦心距之间的关系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1846440"/>
            <a:ext cx="86421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5389200" y="23922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2638440" cy="3486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0920" y="443700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] </a:t>
            </a:r>
            <a:r>
              <a:rPr b="1" i="1" lang="en-US" sz="2400" spc="-1" strike="noStrike">
                <a:solidFill>
                  <a:srgbClr val="3366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　由三角形的外角求得∠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40°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∠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4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2"/>
          <p:cNvSpPr/>
          <p:nvPr/>
        </p:nvSpPr>
        <p:spPr>
          <a:xfrm>
            <a:off x="930600" y="981000"/>
            <a:ext cx="2780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圆心角与圆周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7017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∥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2989440" y="2205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76236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48428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由同弧所对的圆心角等于它所对的圆周角的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倍，得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∠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44°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又因为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∥C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所以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44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92040" y="1552680"/>
          <a:ext cx="8461440" cy="409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52680"/>
                    <a:ext cx="846144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2"/>
          <p:cNvSpPr/>
          <p:nvPr/>
        </p:nvSpPr>
        <p:spPr>
          <a:xfrm>
            <a:off x="1115640" y="981000"/>
            <a:ext cx="3329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与圆有关的开放性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701720"/>
            <a:ext cx="8642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内接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对角线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，延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圆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∠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度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图中现有的一对不全等的相似三角形，并说明理由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2040" y="1052640"/>
          <a:ext cx="8388360" cy="52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52640"/>
                    <a:ext cx="838836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2040" y="1058760"/>
          <a:ext cx="8258400" cy="542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58760"/>
                    <a:ext cx="825840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2"/>
          <p:cNvSpPr/>
          <p:nvPr/>
        </p:nvSpPr>
        <p:spPr>
          <a:xfrm>
            <a:off x="1177560" y="981000"/>
            <a:ext cx="351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六　圆与圆的位置关系的判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701720"/>
            <a:ext cx="86421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圆心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两圆的位置关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外切　　　　　　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相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内切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内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/>
          <p:nvPr/>
        </p:nvSpPr>
        <p:spPr>
          <a:xfrm>
            <a:off x="4906080" y="226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58136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　圆心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1O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 cm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两圆的半径之差，所以两圆内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02888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圆外，即这个点到圆心的距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半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圆上，即这个点到圆心的距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半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圆内，即这个点到圆心的距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半径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点与圆的位置关系可由点到圆心的距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圆的半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来比较得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圆心的距离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圆内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圆上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77656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大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77656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等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77656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小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871200" y="981000"/>
            <a:ext cx="2676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七　计算扇形面积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92040" y="1844640"/>
          <a:ext cx="8244000" cy="41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844640"/>
                    <a:ext cx="8244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7166520" y="239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7760" y="4437000"/>
          <a:ext cx="8113680" cy="175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760" y="4437000"/>
                    <a:ext cx="81136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2"/>
          <p:cNvSpPr/>
          <p:nvPr/>
        </p:nvSpPr>
        <p:spPr>
          <a:xfrm>
            <a:off x="747720" y="981000"/>
            <a:ext cx="23112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八　计算弧长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170172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正方形的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对角的两个顶点为圆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为半径画弧，则所得到的两条弧长度之和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果保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3105360" cy="2933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162080" y="270720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413000"/>
          <a:ext cx="811368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1368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2"/>
          <p:cNvSpPr/>
          <p:nvPr/>
        </p:nvSpPr>
        <p:spPr>
          <a:xfrm>
            <a:off x="871200" y="981000"/>
            <a:ext cx="2676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九　圆的切线性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92040" y="1844640"/>
          <a:ext cx="8244000" cy="41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844640"/>
                    <a:ext cx="8244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3400560" cy="3295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50920" y="479736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连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则在</a:t>
            </a: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△BC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中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利用角的互余证明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D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92040" y="1184400"/>
          <a:ext cx="843300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84400"/>
                    <a:ext cx="843300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92040" y="1069920"/>
          <a:ext cx="8433000" cy="53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69920"/>
                    <a:ext cx="84330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92040" y="1484280"/>
          <a:ext cx="8373960" cy="46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4280"/>
                    <a:ext cx="837396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2"/>
          <p:cNvSpPr/>
          <p:nvPr/>
        </p:nvSpPr>
        <p:spPr>
          <a:xfrm>
            <a:off x="1056600" y="98100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十　圆的切线的判定方法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70172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△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直角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直径作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交斜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457440" cy="292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50920" y="414972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先由勾股定理求出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再利用相似求出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C.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只要证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D⊥D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就能说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与⊙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相切，利用直角三角形斜边上的中线等于斜边的一半得到等边转化为等角，进而算出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D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直角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02888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圆外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与圆的位置关系可以转化为点到圆心的距离与半径之间的关系；反过来，也可以通过这种数量关系判断点与圆的位置关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径定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径定理：垂直于弦的直径平分这条弦，并且平分弦所对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件中的“弦”可以是直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论中的“平分弧”指平分弦所对的劣弧、优弧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10628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92040" y="1190520"/>
          <a:ext cx="83739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90520"/>
                    <a:ext cx="83739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2040" y="1460520"/>
          <a:ext cx="837396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60520"/>
                    <a:ext cx="83739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92040" y="1465200"/>
          <a:ext cx="831708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65200"/>
                    <a:ext cx="831708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12"/>
          <p:cNvSpPr/>
          <p:nvPr/>
        </p:nvSpPr>
        <p:spPr>
          <a:xfrm>
            <a:off x="963360" y="981000"/>
            <a:ext cx="2798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十一　圆锥面积问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70172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△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斜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一条直角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轴旋转一周得一个几何体．求这个几何体的表面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92040" y="1589040"/>
          <a:ext cx="83739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89040"/>
                    <a:ext cx="83739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448080" y="1471680"/>
            <a:ext cx="2247840" cy="39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92040" y="1557360"/>
          <a:ext cx="83739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57360"/>
                    <a:ext cx="83739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92040" y="1552680"/>
          <a:ext cx="8317080" cy="33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52680"/>
                    <a:ext cx="8317080" cy="33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811080"/>
            <a:ext cx="878508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垂径定理的推论：平分弦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是直径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直径垂直于弦，并且平分弦所对的弧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圆的旋转不变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对称性：圆是中心对称图形，对称中心为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探究圆中角的一些性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在同圆或等圆中，如果圆心角相等，那么它们所对的弧相等，所对的弦相等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理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在同圆或等圆中，如果两个圆心角、两条弧、</a:t>
            </a:r>
            <a:br>
              <a:rPr sz="2300"/>
            </a:br>
            <a:r>
              <a:rPr b="1" lang="zh-CN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有一组量相等，那么它们所对应的其余各组量都分别相等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218000" y="246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66120" y="5126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两条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42920" y="836640"/>
            <a:ext cx="889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周角与圆心角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的定义：顶点在圆上，且角的两边还与圆相交的角叫做圆周角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有两个特征：角的顶点在圆上，两边在圆内的部分是圆的两条弦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与圆心角的关系：一条弧所对的圆周角等于它所对的圆心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周角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性质：在同圆或等圆中，同弧或等弧所对的圆周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91916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7735680" y="543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02888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径所对的圆周角是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直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圆周角所对的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弧”指“在一个圆中的同一段弧”；“等弧”指“在同圆或等圆中相等的弧”；“同弧或等弧”不能改为“同弦或等弦”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确定圆的条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在同一直线上的三个点确定一个圆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外接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80928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直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117440"/>
            <a:ext cx="8642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角形的三个顶点确定一个圆，这个圆叫做三角形的外接圆，外接圆的圆心是三角形三边垂直平分线的交点，叫做三角形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线与圆的位置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圆的半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圆心到直线的距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16820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外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052640"/>
          <a:ext cx="8424720" cy="4713120"/>
        </p:xfrm>
        <a:graphic>
          <a:graphicData uri="http://schemas.openxmlformats.org/drawingml/2006/table">
            <a:tbl>
              <a:tblPr/>
              <a:tblGrid>
                <a:gridCol w="1079280"/>
                <a:gridCol w="2808360"/>
                <a:gridCol w="2268720"/>
                <a:gridCol w="2268360"/>
              </a:tblGrid>
              <a:tr h="86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个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RV24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188928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RV25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1922400" cy="1751040"/>
          </a:xfrm>
          <a:prstGeom prst="rect">
            <a:avLst/>
          </a:prstGeom>
          <a:ln w="0">
            <a:noFill/>
          </a:ln>
        </p:spPr>
      </p:pic>
      <p:pic>
        <p:nvPicPr>
          <p:cNvPr id="162" name="RV26" descr=""/>
          <p:cNvPicPr/>
          <p:nvPr/>
        </p:nvPicPr>
        <p:blipFill>
          <a:blip r:embed="rId3"/>
          <a:stretch/>
        </p:blipFill>
        <p:spPr>
          <a:xfrm>
            <a:off x="7020000" y="2276640"/>
            <a:ext cx="1562040" cy="1304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836440" y="4541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5428800" y="4541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589160" y="4541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2683080" y="51912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gt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5346360" y="5262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</a:t>
            </a: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＝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7117200" y="519120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c0504d"/>
                </a:solidFill>
                <a:latin typeface="宋体"/>
              </a:rPr>
              <a:t>d&lt;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1:17Z</dcterms:modified>
  <cp:revision>359</cp:revision>
  <dc:subject/>
  <dc:title>幻灯片 1</dc:title>
</cp:coreProperties>
</file>