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8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3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2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22.wmf" ContentType="image/x-wmf"/>
  <Override PartName="/ppt/media/image23.png" ContentType="image/png"/>
  <Override PartName="/ppt/media/image2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9B7-87C1-4506-8E82-D5623E8E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A80-350D-4A25-82F0-78225BC7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743-D8C6-4A21-8B3F-77A6835A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440-2424-4E01-94FF-52BE722B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E5FC-317A-4B3D-B2A7-F6C0DD6E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9FA-5F9B-4707-9E26-4B442C5A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25F2-FA10-4055-8F06-E1BC8C3A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C191-3FF0-42E3-A3C9-06CD5295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3E8-3638-44AE-BEB5-1CFBFEE1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B331-8B7D-4CAE-A46E-ABE36C64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E29-05B6-4691-88DF-E6338F0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9B4-F459-41F1-A93E-67DB8B1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0D0D-28A8-4150-B8AD-DD136D27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1E21-F8FE-4B65-99FF-19E0F247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C06A-F8F3-44EB-B159-9E413875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3540-E191-431B-95FD-B91B8882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62E2-DE51-4686-B90C-EAD0719C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4D7C-169E-4D88-AE02-5B44C023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F0D9-CD76-4ACD-8AC2-871FC4F7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24B0-F6B8-42FD-BDD0-54B3599C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3A45-D8DF-4410-80CE-A2FEB2F2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F70F-D2D9-4542-9B30-21A6C994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205-BAE8-46E2-9046-E7764E1F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19FF-1B8F-4B38-BB14-139D51E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EF71-0C8D-487D-9147-36BF5E48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5878-4F34-4E6D-953D-95368D6F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20E8-5636-4863-A8C1-4C5CFCD0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49AB-0FDC-465F-B6D1-7D3579AA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F409-48DE-4DE2-A409-16776AAA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A618-FA98-4A49-851D-5D491AED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E73-B02A-49D6-AF64-6D42355D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D59-C353-4F07-9AEF-22DFDC07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72D-363A-4BB7-96A0-C217A5FE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996-2B53-403D-B6AF-C75E21A9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82B-1413-4569-9701-26B8E51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9A4-6BD5-4BA6-8A29-1818D68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8EF5-4EBE-4D15-AFF2-35EE878803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7E8A-DBD9-4B25-8D6C-B27DF999AB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8A8A-9DCB-46AF-AE30-3076A94BE9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4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1052640"/>
          <a:ext cx="8569080" cy="4867200"/>
        </p:xfrm>
        <a:graphic>
          <a:graphicData uri="http://schemas.openxmlformats.org/drawingml/2006/table">
            <a:tbl>
              <a:tblPr/>
              <a:tblGrid>
                <a:gridCol w="1152360"/>
                <a:gridCol w="1295280"/>
                <a:gridCol w="1513080"/>
                <a:gridCol w="4608360"/>
              </a:tblGrid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综合考查圆与统计、概率的知识点，重点在于切线、圆的相关性质、概率的计算、统计图的分析，其中圆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统计与概率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图表的分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概率的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的相关性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切线与圆的有关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讨论、数形结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扇形图考查中位数与众数，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同时利用动点与图形变换，考查圆的有关性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18960" y="1700280"/>
          <a:ext cx="8447040" cy="45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700280"/>
                    <a:ext cx="844704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665800" y="29962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70028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半圆，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此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了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图中阴影部分的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7742520" y="2262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2852640"/>
            <a:ext cx="281952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18960" y="1341360"/>
          <a:ext cx="8447040" cy="45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41360"/>
                    <a:ext cx="844704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062080" y="1609560"/>
            <a:ext cx="5019840" cy="363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24000" y="1197000"/>
          <a:ext cx="8562960" cy="46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56296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62200" y="2520000"/>
            <a:ext cx="39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95280" y="1052640"/>
          <a:ext cx="8424720" cy="494964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224000"/>
                <a:gridCol w="4968720"/>
              </a:tblGrid>
              <a:tr h="96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本卷综合考查九年级全学年的内容，共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章节，其中代数部分占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几何部分占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统计与概率占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重点在于考查学生对于九年级所学内容的理解能力和应用能力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技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代数与函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几何与图形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与概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题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形结合、样本估计总体、分类讨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正方形的性质考查函数，第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阅读理解的方式考查学生的分析能力，第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图形运动考查学生对于压轴题的分析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24040"/>
            <a:ext cx="864216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发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J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(a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若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直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侧，在直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找一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最小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法如下：作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直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对称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′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′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与直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交点就是所求的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再如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等边三角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高，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找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最小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法如下：作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对称点，恰好与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合，连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一点，则这点就是所求的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最小值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00080" y="1919160"/>
            <a:ext cx="5343840" cy="301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6720" y="1328760"/>
          <a:ext cx="8496000" cy="3828960"/>
        </p:xfrm>
        <a:graphic>
          <a:graphicData uri="http://schemas.openxmlformats.org/drawingml/2006/table">
            <a:tbl>
              <a:tblPr/>
              <a:tblGrid>
                <a:gridCol w="1008000"/>
                <a:gridCol w="936360"/>
                <a:gridCol w="1151280"/>
                <a:gridCol w="5400360"/>
              </a:tblGrid>
              <a:tr h="116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统计与概率是新课改后增加的内容，本卷的考查主要体现在对统计内容的理解及统计与概率的内在联系，重点是统计图的分析和概率的计算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图表的分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概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8960" y="1157400"/>
          <a:ext cx="8375760" cy="52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57400"/>
                    <a:ext cx="837576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18960" y="1484280"/>
          <a:ext cx="8375760" cy="38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484280"/>
                    <a:ext cx="837576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18960" y="1052640"/>
          <a:ext cx="830268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30268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18960" y="1222200"/>
          <a:ext cx="8302680" cy="602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22200"/>
                    <a:ext cx="8302680" cy="60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771640" y="2066760"/>
            <a:ext cx="3600720" cy="27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1040760" y="90792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18960" y="1484280"/>
          <a:ext cx="8317080" cy="51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484280"/>
                    <a:ext cx="83170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986200" y="2057400"/>
            <a:ext cx="3171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18960" y="1119240"/>
          <a:ext cx="850608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19240"/>
                    <a:ext cx="850608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57680" y="1919160"/>
            <a:ext cx="3429000" cy="301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18960" y="1201680"/>
          <a:ext cx="8578800" cy="856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01680"/>
                    <a:ext cx="8578800" cy="856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6720" y="1576440"/>
          <a:ext cx="8496000" cy="1276200"/>
        </p:xfrm>
        <a:graphic>
          <a:graphicData uri="http://schemas.openxmlformats.org/drawingml/2006/table">
            <a:tbl>
              <a:tblPr/>
              <a:tblGrid>
                <a:gridCol w="1368360"/>
                <a:gridCol w="7127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形结合思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无理数的概念考查概率，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生活实际考查统计知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18960" y="1197000"/>
          <a:ext cx="8506080" cy="53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97000"/>
                    <a:ext cx="850608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18960" y="1247760"/>
          <a:ext cx="8506080" cy="47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47760"/>
                    <a:ext cx="8506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91720" y="2520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初中总复习基础测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1125360"/>
          <a:ext cx="8642160" cy="4867560"/>
        </p:xfrm>
        <a:graphic>
          <a:graphicData uri="http://schemas.openxmlformats.org/drawingml/2006/table">
            <a:tbl>
              <a:tblPr/>
              <a:tblGrid>
                <a:gridCol w="865080"/>
                <a:gridCol w="1655640"/>
                <a:gridCol w="61214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考查初中数学的所有重点内容，以基本知识点的把握为主，其中基础题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能力题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提高题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与代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形与几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与概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形结合、分类讨论，从特殊到一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探索图形从特殊到一般的规律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考查动手操作能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函数与等边三角形的性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72404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不等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解都能使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次不等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立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≤7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≤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≥7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4732200" y="2276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18960" y="1484280"/>
          <a:ext cx="8433000" cy="34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484280"/>
                    <a:ext cx="843300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671480" y="2506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17240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、乙两个同学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环形跑道上的同一点出发，同向而行，甲的速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/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乙的速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/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，跑道上此两人间的较短部分的长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0≤x≤30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间函数关系可用图象表示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6310440" y="31701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467000" y="2000160"/>
            <a:ext cx="621000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52520" y="1380960"/>
            <a:ext cx="6438960" cy="409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7240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　由于两人从同一地点出发，同向而行，所以两人之间的距离从零开始逐渐增大，到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00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两人之间的距离为最大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然后甲逐渐追上乙，两人之间的距离在不断减小，到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00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甲追上乙，两人之间的较短距离为零，继而两人的较短距离又在不断增大，所以甲乙的较短距离经历了一个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过程；再者，两人之间的距离是时间的一次函数，所以正确答案为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00280"/>
            <a:ext cx="864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夷昌中学开展“阳光体育活动”，九年级一班全体同学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分别参加了巴山舞、乒乓球、篮球三个项目的活动，陈老师在此时统计了该班正在参加这三项活动的人数，并绘制了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频数分布直方图和扇形统计图．根据这两个统计图，可以知道此时该班正在参加乒乓球活动的人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 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112120" y="4064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557360"/>
            <a:ext cx="8642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斜边分别向外侧作等腰直角三角形，直角顶点分别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顺次连接这四个点，得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正方形时，我们发现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正方形；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矩形时，请判断：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要求证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一般平行四边形时，设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(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125360"/>
            <a:ext cx="8642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试用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代数式表示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什么四边形？并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685800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18960" y="1320840"/>
          <a:ext cx="8359920" cy="44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20840"/>
                    <a:ext cx="835992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18960" y="1000080"/>
          <a:ext cx="835992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00080"/>
                    <a:ext cx="835992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18960" y="982800"/>
          <a:ext cx="835992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82800"/>
                    <a:ext cx="835992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691720" y="2520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初中总复习综合测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24000" y="981000"/>
          <a:ext cx="8569080" cy="5011560"/>
        </p:xfrm>
        <a:graphic>
          <a:graphicData uri="http://schemas.openxmlformats.org/drawingml/2006/table">
            <a:tbl>
              <a:tblPr/>
              <a:tblGrid>
                <a:gridCol w="1223640"/>
                <a:gridCol w="648000"/>
                <a:gridCol w="1728720"/>
                <a:gridCol w="4968720"/>
              </a:tblGrid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的考查范围是初中数学的所有内容，重点在于培养学生的基本解题能力，其中基础题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能力题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提高题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与代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形与几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与概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体代入的方法、数形结合、分类讨论、从特殊到一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利用整体代入的方法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考查学生的操作能力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学生对于图形变换的分析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动点为载体，考查学生对于压轴题的分析和解决能力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1557360"/>
            <a:ext cx="8642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①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两个相似比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等腰直角三角形，将两个三角形如图③放置，小直角三角形的斜边与大直角三角形的一直角边重合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图③中，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小直角三角形，使两直角边分别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如图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在图③中，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小直角三角形，使它的斜边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延长线分别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如图⑤，此时结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仍然成立？若成立，请给出证明；若不成立，请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155736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⑥，在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是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点，满足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周长等于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周长的一半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与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试问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否构成三角形的三边长？若能，指出三角形的形状，并给出证明；若不能，请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429080" cy="4964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57240" y="1676520"/>
            <a:ext cx="722952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/>
          <p:nvPr/>
        </p:nvSpPr>
        <p:spPr>
          <a:xfrm>
            <a:off x="108000" y="1125360"/>
            <a:ext cx="8893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在图④中，由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将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绕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旋转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8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得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E′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如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Z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Z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D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连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∵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238140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125360"/>
            <a:ext cx="86421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在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△BE′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中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B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又∵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垂直平分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代换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在图⑤中，由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将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绕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旋转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得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′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如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Z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357336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∵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在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△BE′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中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B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又可证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F≌△CE′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E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132000" y="981000"/>
            <a:ext cx="308628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1125360"/>
            <a:ext cx="8642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代换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Z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将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D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绕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顺时针旋转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得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且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G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326736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/>
          <p:nvPr/>
        </p:nvSpPr>
        <p:spPr>
          <a:xfrm>
            <a:off x="250920" y="1125360"/>
            <a:ext cx="86421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因为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的周长等于正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周长的一半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所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化简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从而可得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G≌△A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推出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A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A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5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此时该问题就转化为图⑤中的问题了．由前面的结论知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N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M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N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再由勾股定理的逆定理知：线段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可构成直角三角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268280"/>
            <a:ext cx="86421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某校开展形式多样的“阳光体育”活动，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班同学积极响应，全班参与，晶晶绘制了该班同学参加体育项目情况的扇形统计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由图可知参加人数最多的体育项目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排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乒乓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篮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跳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492920" y="273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322720" cy="281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955800"/>
            <a:ext cx="864216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为广泛开展阳光健身活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红星中学投入维修场地、安装设施、购置器材及其他项目的资金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．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反映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投入资金分配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以来购置器材投入资金的年增长率的具体数据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以上信息，下列判断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总投入中购置器材的资金最多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投入资金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投入资金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投入资金的年增长率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投入资金的年增长率相同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的投入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×38%×(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．其中正确判断的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8030160" y="491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1920" y="876240"/>
            <a:ext cx="722016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00360" y="2520000"/>
            <a:ext cx="56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下册阶段综合测试五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(</a:t>
            </a: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月考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3:35Z</dcterms:modified>
  <cp:revision>315</cp:revision>
  <dc:subject/>
  <dc:title>幻灯片 1</dc:title>
</cp:coreProperties>
</file>