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chimes.wav" ContentType="audio/x-wav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2420640"/>
            <a:ext cx="608328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428920" cy="3238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24560" y="1052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师大版教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type.wav"/><Relationship Id="rId3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32000" y="3284640"/>
            <a:ext cx="6172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节    三角函数的有关计算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)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一章　直角三角形的边角关系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87280" y="2117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通过这节课的学习，你有哪些收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4507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感悟与反思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133848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如图，某地夏日一天中午，太阳光线与地面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0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角，房屋朝南的窗户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B=1.8 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要在窗户外面上方安装一个水平挡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使光线恰好不能直射室内，求挡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宽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结果精确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01 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24000" y="203040"/>
            <a:ext cx="4534920" cy="740880"/>
            <a:chOff x="324000" y="203040"/>
            <a:chExt cx="4534920" cy="740880"/>
          </a:xfrm>
        </p:grpSpPr>
        <p:sp>
          <p:nvSpPr>
            <p:cNvPr id="167" name=""/>
            <p:cNvSpPr/>
            <p:nvPr/>
          </p:nvSpPr>
          <p:spPr>
            <a:xfrm>
              <a:off x="324000" y="240480"/>
              <a:ext cx="3371040" cy="7034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zh-CN" sz="3600" spc="-1" strike="noStrike">
                  <a:solidFill>
                    <a:srgbClr val="ff33cc"/>
                  </a:solidFill>
                  <a:latin typeface="Arial"/>
                </a:rPr>
                <a:t>活动与探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3713040" y="203040"/>
              <a:ext cx="1145880" cy="63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81240" y="322200"/>
              <a:ext cx="501120" cy="49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67440" y="2997360"/>
            <a:ext cx="260820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855720" y="3213000"/>
            <a:ext cx="3440160" cy="792360"/>
            <a:chOff x="855720" y="3213000"/>
            <a:chExt cx="3440160" cy="792360"/>
          </a:xfrm>
        </p:grpSpPr>
        <p:sp>
          <p:nvSpPr>
            <p:cNvPr id="172" name=""/>
            <p:cNvSpPr/>
            <p:nvPr/>
          </p:nvSpPr>
          <p:spPr>
            <a:xfrm>
              <a:off x="855720" y="3325680"/>
              <a:ext cx="25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解：因为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tan80°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3708360" y="3213000"/>
                  <a:ext cx="5875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75" name=""/>
          <p:cNvGrpSpPr/>
          <p:nvPr/>
        </p:nvGrpSpPr>
        <p:grpSpPr>
          <a:xfrm>
            <a:off x="179280" y="4004640"/>
            <a:ext cx="6551280" cy="1800360"/>
            <a:chOff x="179280" y="4004640"/>
            <a:chExt cx="6551280" cy="1800360"/>
          </a:xfrm>
        </p:grpSpPr>
        <p:sp>
          <p:nvSpPr>
            <p:cNvPr id="176" name=""/>
            <p:cNvSpPr/>
            <p:nvPr/>
          </p:nvSpPr>
          <p:spPr>
            <a:xfrm>
              <a:off x="179280" y="4004640"/>
              <a:ext cx="655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所以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AC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＝　　　　≈　　　　　　　　　　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0.317≈0.32(m)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1816920" y="4014720"/>
                  <a:ext cx="1680120" cy="99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r>
                            <m:rPr>
                              <m:lit/>
                              <m:nor/>
                            </m:rPr>
                            <m:t xml:space="preserve">80</m:t>
                          </m:r>
                          <m:r>
                            <m:t xml:space="preserve">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4321440" y="4005360"/>
                  <a:ext cx="13485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7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9" name=""/>
          <p:cNvSpPr/>
          <p:nvPr/>
        </p:nvSpPr>
        <p:spPr>
          <a:xfrm>
            <a:off x="903240" y="5661720"/>
            <a:ext cx="44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所以水平挡板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宽度应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0.3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米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95280" y="260280"/>
            <a:ext cx="4172040" cy="685800"/>
            <a:chOff x="395280" y="260280"/>
            <a:chExt cx="4172040" cy="685800"/>
          </a:xfrm>
        </p:grpSpPr>
        <p:sp>
          <p:nvSpPr>
            <p:cNvPr id="181" name=""/>
            <p:cNvSpPr/>
            <p:nvPr/>
          </p:nvSpPr>
          <p:spPr>
            <a:xfrm>
              <a:off x="395280" y="301680"/>
              <a:ext cx="2952720" cy="642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 </a:t>
              </a:r>
              <a:r>
                <a:rPr b="1" lang="zh-CN" sz="36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作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348000" y="260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68360" y="3888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2336760" y="23490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习题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4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050920" y="1700280"/>
            <a:ext cx="489600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再见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96040" y="5445000"/>
            <a:ext cx="1660680" cy="4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2007.6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28960" y="-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00000" y="692280"/>
            <a:ext cx="7380360" cy="52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464000" cy="2649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登山缆车的吊箱经过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达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走过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00m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已知缆车行驶的路线与水平面的夹角为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α=16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那么缆车垂直上升的距离是多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28960" y="-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465300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Rt△A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BC=ABsin16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44520" y="5376960"/>
            <a:ext cx="32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你知道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sin16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多少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1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用科学计算器求锐角的三角函数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要用到三个键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600" y="1197000"/>
            <a:ext cx="9131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例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sin1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cos4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 tan8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sin7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8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5″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按键盘顺序如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877000"/>
            <a:ext cx="8991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计算器的型号与功能可能不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请按相应的说明书使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87640" y="692280"/>
            <a:ext cx="2742480" cy="520560"/>
            <a:chOff x="2987640" y="692280"/>
            <a:chExt cx="2742480" cy="520560"/>
          </a:xfrm>
        </p:grpSpPr>
        <p:sp>
          <p:nvSpPr>
            <p:cNvPr id="96" name=""/>
            <p:cNvSpPr/>
            <p:nvPr/>
          </p:nvSpPr>
          <p:spPr>
            <a:xfrm>
              <a:off x="2987640" y="692280"/>
              <a:ext cx="851040" cy="52056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s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33720" y="692280"/>
              <a:ext cx="851040" cy="52056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c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9080" y="692280"/>
              <a:ext cx="851040" cy="52056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t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128520" y="2216160"/>
          <a:ext cx="8867880" cy="3444480"/>
        </p:xfrm>
        <a:graphic>
          <a:graphicData uri="http://schemas.openxmlformats.org/drawingml/2006/table">
            <a:tbl>
              <a:tblPr/>
              <a:tblGrid>
                <a:gridCol w="1395360"/>
                <a:gridCol w="5029200"/>
                <a:gridCol w="2443320"/>
              </a:tblGrid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按键的顺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显示结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Sin16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Cos42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tan85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宋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sin72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宋体"/>
                        </a:rPr>
                        <a:t>0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宋体"/>
                        </a:rPr>
                        <a:t>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5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655640" y="285264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03640" y="285264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2720" y="285264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4720" y="292428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0.2756353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43160" y="-17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55640" y="350028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3640" y="350028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52720" y="350028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4720" y="35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0.743144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8720" y="4076640"/>
            <a:ext cx="68580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76360" y="407664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5640" y="407664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96000" y="400536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1.43005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4360" y="465300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2000" y="465300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79640" y="465300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9080" y="4653000"/>
            <a:ext cx="68256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46560" y="465300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65300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5157720"/>
            <a:ext cx="68436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515772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2560" y="5157720"/>
            <a:ext cx="68580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45080" y="5157720"/>
            <a:ext cx="7556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4869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0.9544503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72000" y="2852640"/>
            <a:ext cx="60984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60984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75240" y="4076640"/>
            <a:ext cx="60948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16720" y="5157720"/>
            <a:ext cx="60948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94200" y="1773360"/>
            <a:ext cx="4825800" cy="286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142920"/>
            <a:ext cx="8748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登山缆车的吊箱经过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达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走过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00m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已知缆车行驶的路线与水平面的夹角为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α=16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那么缆车垂直上升的距离是多少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28960" y="-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941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Rt△A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BC=ABsin16</a:t>
            </a:r>
            <a:r>
              <a:rPr b="1" lang="zh-CN" sz="2800" spc="-1" strike="noStrike" baseline="30000">
                <a:solidFill>
                  <a:srgbClr val="ffff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≈55.12 (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11280" y="549360"/>
            <a:ext cx="7345440" cy="2879280"/>
            <a:chOff x="611280" y="549360"/>
            <a:chExt cx="7345440" cy="2879280"/>
          </a:xfrm>
        </p:grpSpPr>
        <p:sp>
          <p:nvSpPr>
            <p:cNvPr id="133" name=""/>
            <p:cNvSpPr/>
            <p:nvPr/>
          </p:nvSpPr>
          <p:spPr>
            <a:xfrm>
              <a:off x="611280" y="549360"/>
              <a:ext cx="7345440" cy="2879280"/>
            </a:xfrm>
            <a:prstGeom prst="cloudCallout">
              <a:avLst>
                <a:gd name="adj1" fmla="val -40916"/>
                <a:gd name="adj2" fmla="val 52916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996600"/>
                </a:buClr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20560" y="837000"/>
              <a:ext cx="5947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当缆车继续从点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到达点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时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它又走过了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200m.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缆车由点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B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到点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D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的行驶路线与水平面的夹角为∠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β=42</a:t>
              </a:r>
              <a:r>
                <a:rPr b="1" lang="zh-CN" sz="2800" spc="-1" strike="noStrike" baseline="30000">
                  <a:solidFill>
                    <a:srgbClr val="ffffff"/>
                  </a:solidFill>
                  <a:latin typeface="宋体"/>
                </a:rPr>
                <a:t>0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由此你还能计算什么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4608360" cy="273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28960" y="-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4000" y="260280"/>
            <a:ext cx="22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5252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2240" y="-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9536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536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3440" y="1268280"/>
            <a:ext cx="8675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用计算器求下列各式的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1)sin56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；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sin15°49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3)cos20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；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4)tan29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5)tan44°59′59″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6)sin15°+cos61°+tan76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5280" y="115920"/>
            <a:ext cx="4172040" cy="744840"/>
            <a:chOff x="395280" y="115920"/>
            <a:chExt cx="4172040" cy="744840"/>
          </a:xfrm>
        </p:grpSpPr>
        <p:sp>
          <p:nvSpPr>
            <p:cNvPr id="145" name=""/>
            <p:cNvSpPr/>
            <p:nvPr/>
          </p:nvSpPr>
          <p:spPr>
            <a:xfrm>
              <a:off x="395280" y="157320"/>
              <a:ext cx="2952720" cy="7034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00"/>
                  </a:solidFill>
                  <a:latin typeface="Times New Roman"/>
                  <a:ea typeface="隶书"/>
                </a:rPr>
                <a:t>     </a:t>
              </a:r>
              <a:r>
                <a:rPr b="1" lang="zh-CN" sz="4000" spc="-1" strike="noStrike">
                  <a:solidFill>
                    <a:srgbClr val="ff33cc"/>
                  </a:solidFill>
                  <a:latin typeface="Times New Roman"/>
                  <a:ea typeface="隶书"/>
                </a:rPr>
                <a:t>随堂练习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468360" y="24444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395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个人由山底爬到山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需先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山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00m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再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0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山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00m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求山高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结果精确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1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960" y="-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67560" y="1898640"/>
            <a:ext cx="3125520" cy="1890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67000" y="2133360"/>
            <a:ext cx="43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Courier New"/>
              </a:rPr>
              <a:t>解：如图，根据题意，可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BC=300 m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BA=100 m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=40°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BF=30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342900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CB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BD=BCsin4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            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00×0.6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=192.8(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0120" y="4797360"/>
            <a:ext cx="5020920" cy="1195560"/>
            <a:chOff x="600120" y="4797360"/>
            <a:chExt cx="5020920" cy="1195560"/>
          </a:xfrm>
        </p:grpSpPr>
        <p:sp>
          <p:nvSpPr>
            <p:cNvPr id="154" name=""/>
            <p:cNvSpPr/>
            <p:nvPr/>
          </p:nvSpPr>
          <p:spPr>
            <a:xfrm>
              <a:off x="600120" y="4797360"/>
              <a:ext cx="502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在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Rt△ABF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中，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AF=ABsin30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                    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</a:rPr>
                <a:t>=100×     =50(m)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3929040" y="5192640"/>
                  <a:ext cx="34452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6" name=""/>
          <p:cNvSpPr/>
          <p:nvPr/>
        </p:nvSpPr>
        <p:spPr>
          <a:xfrm>
            <a:off x="763920" y="5949360"/>
            <a:ext cx="69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所以山高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E=AF+B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92.8+5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42.8(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716880" y="981000"/>
            <a:ext cx="2103120" cy="2664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6560" y="3175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求图中避雷针的长度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结果精确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1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8000" y="1618920"/>
            <a:ext cx="56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解：如图，根据题意，可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B=20m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AB=50°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DAB=56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36360" y="256536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DB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DB=ABtan56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             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0×1.48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=29.652(m)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" y="3933720"/>
            <a:ext cx="520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CB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B=ABtan5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             ≈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0×1.19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=23.836(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8160" y="5300280"/>
            <a:ext cx="636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所以避雷针的长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DC=DB-CB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9.652-23.836≈5.82(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>王建波</dc:creator>
  <dc:description/>
  <dc:language>en-US</dc:language>
  <cp:lastModifiedBy>User</cp:lastModifiedBy>
  <dcterms:modified xsi:type="dcterms:W3CDTF">2014-02-18T02:02:16Z</dcterms:modified>
  <cp:revision>160</cp:revision>
  <dc:subject/>
  <dc:title>PowerPoint 演示文稿</dc:title>
</cp:coreProperties>
</file>