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.gif" ContentType="image/gif"/>
  <Override PartName="/ppt/media/image6.wmf" ContentType="image/x-wmf"/>
  <Override PartName="/ppt/media/image1.png" ContentType="image/png"/>
  <Override PartName="/ppt/media/type.wav" ContentType="audio/x-wav"/>
  <Override PartName="/ppt/media/image7.png" ContentType="image/png"/>
  <Override PartName="/ppt/media/image4.gif" ContentType="image/gif"/>
  <Override PartName="/ppt/media/chimes.wav" ContentType="audio/x-wav"/>
  <Override PartName="/ppt/media/image2.gif" ContentType="image/gif"/>
  <Override PartName="/ppt/media/image5.png" ContentType="image/png"/>
  <Override PartName="/ppt/media/image10.png" ContentType="image/png"/>
  <Override PartName="/ppt/media/image8.wmf" ContentType="image/x-wmf"/>
  <Override PartName="/ppt/media/image11.gif" ContentType="image/gi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2A8-3288-4DF1-ACA0-5E0205D2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EF6-C138-4E69-A88E-9797216A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C78-C249-4512-ACE7-1E16B270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047-CCE4-4549-97AE-D325D9C3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1E64-8F75-4FBF-929D-6DDED6FD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F8CD-EF60-4E96-885A-22CB142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C3DF-20F5-4F78-AB13-4D451BEF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2845-DDDB-49D5-B392-1BB86BC5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F1C1-DDAA-4D02-9EDA-1DB0E64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E061-1393-4225-98BF-CEC8A474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7867-E6BF-4D9E-959D-9DBC25C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F45-E0DF-44B5-AEDF-648FA45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37F-9258-4270-ABF5-F6EDE2E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F795-367B-41B6-AE86-51170FCB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533-6A63-477F-AE2E-9D6A4373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18DF-649C-49EF-8C16-5DDB786D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827E-50D5-4AAF-BA9F-81A23F6C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3BD-E14C-42AC-8FBE-F56834B7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13F-2DB5-4958-A83C-97C759E5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A82-4BB2-41BE-8E65-B5E58C4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86D-A79D-47A7-B32B-CD82655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54D3-20CF-4136-807A-CDE515E9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C00-B1DE-4075-8FFC-D3011C7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B723-D762-493F-BA3B-FCDEDF2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A0F-1DFE-4721-90BF-4B6CB7824D5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01F4-BB8A-4D9B-8876-F0C48C1B726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gif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9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5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19280" y="2565360"/>
            <a:ext cx="6095880" cy="203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第四节  船有触礁的危险吗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1268280"/>
            <a:ext cx="55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一章  直角三角形的边角关系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11970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一灯柱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被一钢缆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固定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C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与地面成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夹角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DB=5m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现再在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上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2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加固另一根钢缆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ED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钢缆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E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长度为多少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01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457200" y="227160"/>
            <a:ext cx="2362320" cy="1076400"/>
            <a:chOff x="457200" y="227160"/>
            <a:chExt cx="2362320" cy="1076400"/>
          </a:xfrm>
        </p:grpSpPr>
        <p:sp>
          <p:nvSpPr>
            <p:cNvPr id="503" name=""/>
            <p:cNvSpPr/>
            <p:nvPr/>
          </p:nvSpPr>
          <p:spPr>
            <a:xfrm>
              <a:off x="457200" y="275760"/>
              <a:ext cx="2362320" cy="1027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随堂练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隶书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37120" y="22716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877080" y="33336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657600"/>
            <a:ext cx="1981080" cy="878040"/>
          </a:xfrm>
          <a:prstGeom prst="cloudCallout">
            <a:avLst>
              <a:gd name="adj1" fmla="val -11217"/>
              <a:gd name="adj2" fmla="val 11781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怎么做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rcRect l="33764" t="52186" r="55097" b="27706"/>
          <a:stretch/>
        </p:blipFill>
        <p:spPr>
          <a:xfrm>
            <a:off x="6896160" y="3127320"/>
            <a:ext cx="2171520" cy="327348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2438280" y="4419720"/>
            <a:ext cx="1600200" cy="8380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我先将它数学化</a:t>
            </a: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114800" y="3352680"/>
            <a:ext cx="2666880" cy="3126960"/>
            <a:chOff x="4114800" y="3352680"/>
            <a:chExt cx="2666880" cy="3126960"/>
          </a:xfrm>
        </p:grpSpPr>
        <p:sp>
          <p:nvSpPr>
            <p:cNvPr id="510" name=""/>
            <p:cNvSpPr/>
            <p:nvPr/>
          </p:nvSpPr>
          <p:spPr>
            <a:xfrm>
              <a:off x="4267080" y="609588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00800" y="3733920"/>
              <a:ext cx="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4266720" y="3733920"/>
              <a:ext cx="213372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266720" y="4572000"/>
              <a:ext cx="2133720" cy="1523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24480" y="3352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722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148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3600" y="40989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48680" y="5715000"/>
              <a:ext cx="303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75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57800" y="6019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5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505400" y="26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钢缆长几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1125360"/>
            <a:ext cx="8958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根据题意可知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CDB=4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EC=2m,DB=5m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DE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-252360" y="3500280"/>
            <a:ext cx="1523880" cy="792360"/>
          </a:xfrm>
          <a:prstGeom prst="cloudCallout">
            <a:avLst>
              <a:gd name="adj1" fmla="val 29064"/>
              <a:gd name="adj2" fmla="val 48796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就这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0" y="4149720"/>
            <a:ext cx="1665360" cy="2514600"/>
            <a:chOff x="0" y="4149720"/>
            <a:chExt cx="1665360" cy="2514600"/>
          </a:xfrm>
        </p:grpSpPr>
        <p:grpSp>
          <p:nvGrpSpPr>
            <p:cNvPr id="526" name=""/>
            <p:cNvGrpSpPr/>
            <p:nvPr/>
          </p:nvGrpSpPr>
          <p:grpSpPr>
            <a:xfrm>
              <a:off x="0" y="4651200"/>
              <a:ext cx="1665360" cy="2013120"/>
              <a:chOff x="0" y="4651200"/>
              <a:chExt cx="1665360" cy="2013120"/>
            </a:xfrm>
          </p:grpSpPr>
          <p:sp>
            <p:nvSpPr>
              <p:cNvPr id="527" name=""/>
              <p:cNvSpPr/>
              <p:nvPr/>
            </p:nvSpPr>
            <p:spPr>
              <a:xfrm>
                <a:off x="0" y="4651200"/>
                <a:ext cx="1665360" cy="201312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60440" y="4690800"/>
                <a:ext cx="576000" cy="5670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4960" y="4841640"/>
                <a:ext cx="63720" cy="730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5840" y="48574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01680" y="491652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20760" y="493236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0040" y="4976640"/>
                <a:ext cx="461880" cy="61128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49200" y="497844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65040" y="49924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25240" y="5072040"/>
                <a:ext cx="22320" cy="698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17560" y="5083200"/>
                <a:ext cx="41040" cy="1396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52400" y="5200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04680" y="523872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6840" y="526392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7960" y="528624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9800" y="529560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44480" y="5321160"/>
                <a:ext cx="307800" cy="81108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960" y="5370480"/>
                <a:ext cx="654120" cy="66348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960480" y="54720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7720" y="552924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22160" y="5572080"/>
                <a:ext cx="61920" cy="20772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600" y="56592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4760" y="56610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5920" y="56768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6560" y="584172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55520" y="591012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73160" y="59576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61880" y="5959440"/>
                <a:ext cx="328680" cy="3960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20760" y="5967360"/>
                <a:ext cx="560160" cy="2048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9280" y="5987880"/>
                <a:ext cx="249120" cy="2001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076400" y="60004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39680" y="6045120"/>
                <a:ext cx="1473120" cy="56052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84200" y="6221160"/>
                <a:ext cx="957240" cy="28260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1640" y="5059080"/>
                <a:ext cx="79200" cy="3492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71560" y="5072040"/>
                <a:ext cx="68040" cy="284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98400" y="505116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68320" y="50623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76320" y="414972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258920" y="41241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BDE≈51.12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400800" y="1784520"/>
            <a:ext cx="2666880" cy="3126600"/>
            <a:chOff x="6400800" y="1784520"/>
            <a:chExt cx="2666880" cy="3126600"/>
          </a:xfrm>
        </p:grpSpPr>
        <p:sp>
          <p:nvSpPr>
            <p:cNvPr id="567" name=""/>
            <p:cNvSpPr/>
            <p:nvPr/>
          </p:nvSpPr>
          <p:spPr>
            <a:xfrm>
              <a:off x="6553080" y="4527360"/>
              <a:ext cx="2210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686800" y="2165400"/>
              <a:ext cx="0" cy="23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552720" y="2165400"/>
              <a:ext cx="2133720" cy="236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52720" y="3003480"/>
              <a:ext cx="2133720" cy="152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610480" y="1784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58200" y="4451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686800" y="2774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00800" y="4451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229600" y="25304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934680" y="4146480"/>
              <a:ext cx="303840" cy="76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81680" y="4206960"/>
              <a:ext cx="5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43800" y="44514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5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1258920" y="1700280"/>
                <a:ext cx="2282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1344600" y="4581360"/>
                <a:ext cx="259704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1908000" y="63388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钢缆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E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长度约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7.96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4027320" y="1832040"/>
                <a:ext cx="2617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330200" y="2565360"/>
                <a:ext cx="6099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55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230480" y="3087720"/>
                <a:ext cx="5540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1415880" y="5448240"/>
                <a:ext cx="5113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7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344340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真知在实践中诞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333360"/>
            <a:ext cx="187164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0" y="1052640"/>
            <a:ext cx="88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水库大坝的截面是梯形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CD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坝顶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=6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坡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D=8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坡底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C=30m,∠ADC=135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1)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坡角∠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大小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2)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果坝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00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修建这个大坝共需多少土石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01m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392040" cy="4572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6320" y="3657600"/>
            <a:ext cx="1687320" cy="878040"/>
          </a:xfrm>
          <a:prstGeom prst="cloudCallout">
            <a:avLst>
              <a:gd name="adj1" fmla="val -4282"/>
              <a:gd name="adj2" fmla="val 1056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咋办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5105520"/>
            <a:ext cx="1905120" cy="877680"/>
          </a:xfrm>
          <a:prstGeom prst="cloudCallout">
            <a:avLst>
              <a:gd name="adj1" fmla="val -81333"/>
              <a:gd name="adj2" fmla="val -2974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先构造直角三角形</a:t>
            </a:r>
            <a:r>
              <a:rPr b="0" lang="zh-CN" sz="18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364000" y="2997360"/>
            <a:ext cx="3352680" cy="1450080"/>
            <a:chOff x="5364000" y="2997360"/>
            <a:chExt cx="3352680" cy="1450080"/>
          </a:xfrm>
        </p:grpSpPr>
        <p:sp>
          <p:nvSpPr>
            <p:cNvPr id="594" name=""/>
            <p:cNvSpPr/>
            <p:nvPr/>
          </p:nvSpPr>
          <p:spPr>
            <a:xfrm>
              <a:off x="7032600" y="3394080"/>
              <a:ext cx="9205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516280" y="4060800"/>
              <a:ext cx="300996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506920" y="3387600"/>
              <a:ext cx="1517760" cy="65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937280" y="3378240"/>
              <a:ext cx="627120" cy="73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35600" y="2997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64000" y="398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35800" y="3987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02280" y="299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380232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大坝中的数学计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79280" y="260280"/>
            <a:ext cx="2376720" cy="1065240"/>
            <a:chOff x="179280" y="260280"/>
            <a:chExt cx="2376720" cy="1065240"/>
          </a:xfrm>
        </p:grpSpPr>
        <p:sp>
          <p:nvSpPr>
            <p:cNvPr id="604" name=""/>
            <p:cNvSpPr/>
            <p:nvPr/>
          </p:nvSpPr>
          <p:spPr>
            <a:xfrm>
              <a:off x="179280" y="297720"/>
              <a:ext cx="2376720" cy="10278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随堂练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隶书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56320" y="260280"/>
              <a:ext cx="183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76320" y="981000"/>
            <a:ext cx="600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(1)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坡角∠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大小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1116000" y="4437000"/>
            <a:ext cx="392040" cy="4572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-252360" y="2997360"/>
            <a:ext cx="1981080" cy="877680"/>
          </a:xfrm>
          <a:prstGeom prst="cloudCallout">
            <a:avLst>
              <a:gd name="adj1" fmla="val -11217"/>
              <a:gd name="adj2" fmla="val 1926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有两个直角三角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63640" y="3500280"/>
            <a:ext cx="1440000" cy="722520"/>
          </a:xfrm>
          <a:prstGeom prst="cloudCallout">
            <a:avLst>
              <a:gd name="adj1" fmla="val -47462"/>
              <a:gd name="adj2" fmla="val 20143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先作辅助线</a:t>
            </a: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638680" y="1039320"/>
            <a:ext cx="3429000" cy="1742760"/>
            <a:chOff x="5638680" y="1039320"/>
            <a:chExt cx="3429000" cy="1742760"/>
          </a:xfrm>
        </p:grpSpPr>
        <p:grpSp>
          <p:nvGrpSpPr>
            <p:cNvPr id="612" name=""/>
            <p:cNvGrpSpPr/>
            <p:nvPr/>
          </p:nvGrpSpPr>
          <p:grpSpPr>
            <a:xfrm>
              <a:off x="5638680" y="1332000"/>
              <a:ext cx="3352680" cy="1450080"/>
              <a:chOff x="5638680" y="1332000"/>
              <a:chExt cx="3352680" cy="1450080"/>
            </a:xfrm>
          </p:grpSpPr>
          <p:sp>
            <p:nvSpPr>
              <p:cNvPr id="613" name=""/>
              <p:cNvSpPr/>
              <p:nvPr/>
            </p:nvSpPr>
            <p:spPr>
              <a:xfrm>
                <a:off x="7307280" y="1728720"/>
                <a:ext cx="92052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790960" y="2395440"/>
                <a:ext cx="300996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781600" y="1722240"/>
                <a:ext cx="1517760" cy="65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11960" y="1712880"/>
                <a:ext cx="627120" cy="73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010280" y="1332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38680" y="2322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10480" y="2322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076960" y="13320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7543800" y="14079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58200" y="17892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7480" y="23223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0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 rot="3491400">
              <a:off x="8046720" y="1181880"/>
              <a:ext cx="759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122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122754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19760" y="1727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135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76320" y="140796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过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作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DE⊥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于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E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过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作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F⊥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于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8077320" y="1712880"/>
            <a:ext cx="457200" cy="1069200"/>
            <a:chOff x="8077320" y="1712880"/>
            <a:chExt cx="457200" cy="1069200"/>
          </a:xfrm>
        </p:grpSpPr>
        <p:grpSp>
          <p:nvGrpSpPr>
            <p:cNvPr id="628" name=""/>
            <p:cNvGrpSpPr/>
            <p:nvPr/>
          </p:nvGrpSpPr>
          <p:grpSpPr>
            <a:xfrm>
              <a:off x="8077320" y="1712880"/>
              <a:ext cx="380880" cy="1069200"/>
              <a:chOff x="8077320" y="1712880"/>
              <a:chExt cx="380880" cy="1069200"/>
            </a:xfrm>
          </p:grpSpPr>
          <p:sp>
            <p:nvSpPr>
              <p:cNvPr id="629" name=""/>
              <p:cNvSpPr/>
              <p:nvPr/>
            </p:nvSpPr>
            <p:spPr>
              <a:xfrm>
                <a:off x="8229600" y="171288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077320" y="2322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8153280" y="201744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┐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969240" y="1712880"/>
            <a:ext cx="574560" cy="1069200"/>
            <a:chOff x="6969240" y="1712880"/>
            <a:chExt cx="574560" cy="1069200"/>
          </a:xfrm>
        </p:grpSpPr>
        <p:grpSp>
          <p:nvGrpSpPr>
            <p:cNvPr id="633" name=""/>
            <p:cNvGrpSpPr/>
            <p:nvPr/>
          </p:nvGrpSpPr>
          <p:grpSpPr>
            <a:xfrm>
              <a:off x="7162920" y="1712880"/>
              <a:ext cx="380880" cy="1069200"/>
              <a:chOff x="7162920" y="1712880"/>
              <a:chExt cx="380880" cy="1069200"/>
            </a:xfrm>
          </p:grpSpPr>
          <p:sp>
            <p:nvSpPr>
              <p:cNvPr id="634" name=""/>
              <p:cNvSpPr/>
              <p:nvPr/>
            </p:nvSpPr>
            <p:spPr>
              <a:xfrm>
                <a:off x="7315200" y="171288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162920" y="23223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6969240" y="20365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3780000" y="4869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∴∠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BC≈17°8′21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711360" y="2395440"/>
                <a:ext cx="4456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3382920" y="57340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坡角∠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约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7°8′21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268360" y="2997360"/>
                <a:ext cx="6764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251240" y="3532320"/>
                <a:ext cx="4345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4070520" y="1159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解答问题需要有条有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9640" y="169920"/>
            <a:ext cx="187164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76320" y="1125360"/>
            <a:ext cx="373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(2)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果坝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00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修建这个大坝共需多少土石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01m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1143000" y="4381560"/>
            <a:ext cx="392040" cy="457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0" y="3933720"/>
            <a:ext cx="1441440" cy="878040"/>
          </a:xfrm>
          <a:prstGeom prst="cloudCallout">
            <a:avLst>
              <a:gd name="adj1" fmla="val 3305"/>
              <a:gd name="adj2" fmla="val 1256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再求体积</a:t>
            </a: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547640" y="4149720"/>
            <a:ext cx="1676520" cy="878040"/>
          </a:xfrm>
          <a:prstGeom prst="cloudCallout">
            <a:avLst>
              <a:gd name="adj1" fmla="val -30680"/>
              <a:gd name="adj2" fmla="val -750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先算面积</a:t>
            </a:r>
            <a:r>
              <a:rPr b="0" lang="zh-CN" sz="20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139920" y="3141720"/>
                <a:ext cx="531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梯形面积公式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得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>
            <a:off x="3132000" y="572292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修建这个大坝共需土石方约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0182.34m</a:t>
            </a:r>
            <a:r>
              <a:rPr b="0" lang="zh-CN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3708360" y="4005360"/>
                <a:ext cx="3006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2987640" y="4987800"/>
                <a:ext cx="5678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1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3419280" y="1463760"/>
            <a:ext cx="5607360" cy="1465560"/>
            <a:chOff x="3419280" y="1463760"/>
            <a:chExt cx="5607360" cy="1465560"/>
          </a:xfrm>
        </p:grpSpPr>
        <p:sp>
          <p:nvSpPr>
            <p:cNvPr id="653" name=""/>
            <p:cNvSpPr/>
            <p:nvPr/>
          </p:nvSpPr>
          <p:spPr>
            <a:xfrm>
              <a:off x="7494840" y="1479600"/>
              <a:ext cx="92088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5978880" y="2145960"/>
              <a:ext cx="3009960" cy="3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969160" y="1472760"/>
              <a:ext cx="1517760" cy="655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99520" y="1463760"/>
              <a:ext cx="627120" cy="736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419280" y="2146320"/>
              <a:ext cx="2546280" cy="314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913280" y="1473120"/>
              <a:ext cx="257004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825880" y="1473120"/>
              <a:ext cx="258948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379920" y="2146320"/>
              <a:ext cx="260532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426440" y="2225520"/>
              <a:ext cx="83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4944960" y="1806480"/>
            <a:ext cx="920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429000" y="2472840"/>
            <a:ext cx="300996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419640" y="1800000"/>
            <a:ext cx="1517400" cy="65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850000" y="1790640"/>
            <a:ext cx="627120" cy="736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4832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76720" y="2400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248520" y="2400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15000" y="1409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360" y="13413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0" y="27082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606920" y="1790640"/>
            <a:ext cx="574560" cy="1069200"/>
            <a:chOff x="4606920" y="1790640"/>
            <a:chExt cx="574560" cy="1069200"/>
          </a:xfrm>
        </p:grpSpPr>
        <p:grpSp>
          <p:nvGrpSpPr>
            <p:cNvPr id="673" name=""/>
            <p:cNvGrpSpPr/>
            <p:nvPr/>
          </p:nvGrpSpPr>
          <p:grpSpPr>
            <a:xfrm>
              <a:off x="4800600" y="1790640"/>
              <a:ext cx="380880" cy="1069200"/>
              <a:chOff x="4800600" y="1790640"/>
              <a:chExt cx="380880" cy="1069200"/>
            </a:xfrm>
          </p:grpSpPr>
          <p:sp>
            <p:nvSpPr>
              <p:cNvPr id="674" name=""/>
              <p:cNvSpPr/>
              <p:nvPr/>
            </p:nvSpPr>
            <p:spPr>
              <a:xfrm>
                <a:off x="4952880" y="1790640"/>
                <a:ext cx="0" cy="6858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800600" y="24001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4606920" y="2114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187880" y="260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计算需要空间想象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684360" y="363600"/>
            <a:ext cx="187164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52280" y="2057400"/>
            <a:ext cx="881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填表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已知一个角的三角函数值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求这个角的度数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逆向思维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442800" y="2997360"/>
          <a:ext cx="8305920" cy="2663640"/>
        </p:xfrm>
        <a:graphic>
          <a:graphicData uri="http://schemas.openxmlformats.org/drawingml/2006/table">
            <a:tbl>
              <a:tblPr/>
              <a:tblGrid>
                <a:gridCol w="1371600"/>
                <a:gridCol w="1447920"/>
                <a:gridCol w="1371600"/>
                <a:gridCol w="1371600"/>
                <a:gridCol w="1371600"/>
                <a:gridCol w="1371600"/>
              </a:tblGrid>
              <a:tr h="87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98600" y="3022560"/>
                <a:ext cx="1225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22360" y="3965400"/>
                <a:ext cx="1216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495360" y="4803840"/>
                <a:ext cx="1243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706840" y="3218040"/>
                <a:ext cx="461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3262320" y="3068640"/>
                <a:ext cx="133524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227400" y="3967200"/>
                <a:ext cx="14032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287880" y="5046840"/>
                <a:ext cx="1269720" cy="41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6081840" y="3057480"/>
                <a:ext cx="1271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018120" y="3965400"/>
                <a:ext cx="1359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6116760" y="5016600"/>
                <a:ext cx="1226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5538960" y="3203640"/>
                <a:ext cx="453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8226360" y="3228840"/>
                <a:ext cx="4240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3573000" y="228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  <a:ea typeface="隶书"/>
              </a:rPr>
              <a:t>回味无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610720" y="1197000"/>
            <a:ext cx="32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fe1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由锐角的三角函数值求锐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2700360" y="5013360"/>
                <a:ext cx="433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8244000" y="4149720"/>
                <a:ext cx="431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2700360" y="4149720"/>
                <a:ext cx="431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5508720" y="5013360"/>
                <a:ext cx="4316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8720" y="4149720"/>
                <a:ext cx="423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8244000" y="5013360"/>
                <a:ext cx="4237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 rot="16079400">
            <a:off x="7060320" y="397440"/>
            <a:ext cx="992160" cy="210492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424640" y="936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156720" y="1762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571240" y="609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560440" y="1665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576640" y="103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96000" y="1833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923160" y="1744560"/>
            <a:ext cx="142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304200" y="1643040"/>
            <a:ext cx="8465040" cy="3178440"/>
            <a:chOff x="304200" y="1643040"/>
            <a:chExt cx="8465040" cy="3178440"/>
          </a:xfrm>
        </p:grpSpPr>
        <p:grpSp>
          <p:nvGrpSpPr>
            <p:cNvPr id="712" name=""/>
            <p:cNvGrpSpPr/>
            <p:nvPr/>
          </p:nvGrpSpPr>
          <p:grpSpPr>
            <a:xfrm>
              <a:off x="304200" y="1643040"/>
              <a:ext cx="3771000" cy="520560"/>
              <a:chOff x="304200" y="1643040"/>
              <a:chExt cx="3771000" cy="520560"/>
            </a:xfrm>
          </p:grpSpPr>
          <p:sp>
            <p:nvSpPr>
              <p:cNvPr id="713" name=""/>
              <p:cNvSpPr/>
              <p:nvPr/>
            </p:nvSpPr>
            <p:spPr>
              <a:xfrm>
                <a:off x="2556360" y="1643040"/>
                <a:ext cx="1518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= a</a:t>
                </a:r>
                <a:r>
                  <a:rPr b="1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+b</a:t>
                </a:r>
                <a:r>
                  <a:rPr b="1" lang="en-US" sz="2800" spc="-1" strike="noStrike" baseline="30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4200" y="1662120"/>
                <a:ext cx="160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(1)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三边的关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307440" y="2601720"/>
              <a:ext cx="4255200" cy="483480"/>
              <a:chOff x="307440" y="2601720"/>
              <a:chExt cx="4255200" cy="483480"/>
            </a:xfrm>
          </p:grpSpPr>
          <p:sp>
            <p:nvSpPr>
              <p:cNvPr id="716" name=""/>
              <p:cNvSpPr/>
              <p:nvPr/>
            </p:nvSpPr>
            <p:spPr>
              <a:xfrm>
                <a:off x="2673720" y="2601720"/>
                <a:ext cx="188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A+∠B=90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07440" y="2625480"/>
                <a:ext cx="160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(2) 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锐角的关系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383040" y="3633480"/>
              <a:ext cx="8386200" cy="1188000"/>
              <a:chOff x="383040" y="3633480"/>
              <a:chExt cx="8386200" cy="1188000"/>
            </a:xfrm>
          </p:grpSpPr>
          <p:sp>
            <p:nvSpPr>
              <p:cNvPr id="719" name=""/>
              <p:cNvSpPr/>
              <p:nvPr/>
            </p:nvSpPr>
            <p:spPr>
              <a:xfrm>
                <a:off x="487440" y="3633480"/>
                <a:ext cx="36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(3)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边角的关系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(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其中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可以换成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B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442480" y="4019400"/>
                <a:ext cx="107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对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351400" y="4402080"/>
                <a:ext cx="12222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372640" y="4368600"/>
                <a:ext cx="109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邻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589040" y="442260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斜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155600" y="4470120"/>
                <a:ext cx="12650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225800" y="4090680"/>
                <a:ext cx="107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对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678120" y="439416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斜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301920" y="4432320"/>
                <a:ext cx="12096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336120" y="4079880"/>
                <a:ext cx="109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邻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566480" y="4357440"/>
                <a:ext cx="1074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对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495920" y="4408200"/>
                <a:ext cx="1273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60360" y="4044960"/>
                <a:ext cx="1096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∠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的邻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694200" y="4201920"/>
                <a:ext cx="136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tA=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508120" y="422892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osA=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83040" y="425268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sinA=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630680" y="4201920"/>
                <a:ext cx="86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tanA=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6" name=""/>
          <p:cNvSpPr/>
          <p:nvPr/>
        </p:nvSpPr>
        <p:spPr>
          <a:xfrm rot="8269800">
            <a:off x="8367480" y="783720"/>
            <a:ext cx="141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44200" y="249120"/>
            <a:ext cx="65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除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外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边和两锐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25800" y="682560"/>
            <a:ext cx="43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知几个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以求出其余的未知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77680" y="113832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三个关系研究这个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81320" y="2120760"/>
            <a:ext cx="47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系式中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,b,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个量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知两个可求出第三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12640" y="3129120"/>
            <a:ext cx="46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系式中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,B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两个量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知一个可求出另一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30480" y="481176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一个关系式中都有两边一角三个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知两个可求出第三个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06200" y="5291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利用三个关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除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外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知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06200" y="57229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至少有一个是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可以求出其余的三个未知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025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1428840" y="765000"/>
            <a:ext cx="1295280" cy="1523880"/>
            <a:chOff x="1428840" y="765000"/>
            <a:chExt cx="1295280" cy="1523880"/>
          </a:xfrm>
        </p:grpSpPr>
        <p:sp>
          <p:nvSpPr>
            <p:cNvPr id="746" name=""/>
            <p:cNvSpPr/>
            <p:nvPr/>
          </p:nvSpPr>
          <p:spPr>
            <a:xfrm>
              <a:off x="1428840" y="765000"/>
              <a:ext cx="1265760" cy="15238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42880" y="822600"/>
              <a:ext cx="1281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581120" y="947880"/>
            <a:ext cx="104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独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作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71640" y="2593800"/>
            <a:ext cx="777240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4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.6    1,2,3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124160" y="11970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知识的升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76320" y="83664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，有一斜坡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0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，坡顶离地面的高度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20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此斜坡的倾斜角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058920" y="5022720"/>
            <a:ext cx="2361960" cy="1835280"/>
            <a:chOff x="3058920" y="5022720"/>
            <a:chExt cx="2361960" cy="1835280"/>
          </a:xfrm>
        </p:grpSpPr>
        <p:pic>
          <p:nvPicPr>
            <p:cNvPr id="753" name="" descr=""/>
            <p:cNvPicPr/>
            <p:nvPr/>
          </p:nvPicPr>
          <p:blipFill>
            <a:blip r:embed="rId1"/>
            <a:stretch/>
          </p:blipFill>
          <p:spPr>
            <a:xfrm flipH="1">
              <a:off x="3058920" y="5022720"/>
              <a:ext cx="236196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 flipH="1">
              <a:off x="3668760" y="57531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76320" y="175104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建筑物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在地面上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点测得其顶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仰角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向建筑物前进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50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至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又测得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仰角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5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该建筑物的高度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1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320" y="3579840"/>
            <a:ext cx="6781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燕尾槽的横断面是一个等腰梯形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其中燕尾角∠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=55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外口宽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=180m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燕尾槽的深度是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70m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它的里口宽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C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mm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705720" y="762120"/>
            <a:ext cx="2361960" cy="1831320"/>
            <a:chOff x="6705720" y="762120"/>
            <a:chExt cx="2361960" cy="1831320"/>
          </a:xfrm>
        </p:grpSpPr>
        <p:sp>
          <p:nvSpPr>
            <p:cNvPr id="758" name=""/>
            <p:cNvSpPr/>
            <p:nvPr/>
          </p:nvSpPr>
          <p:spPr>
            <a:xfrm flipH="1">
              <a:off x="6780960" y="1143360"/>
              <a:ext cx="2133720" cy="1066680"/>
            </a:xfrm>
            <a:prstGeom prst="rtTriangl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0572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686800" y="762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686800" y="2133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543880" y="1829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6943680" y="4221000"/>
            <a:ext cx="2200320" cy="1297800"/>
            <a:chOff x="6943680" y="4221000"/>
            <a:chExt cx="2200320" cy="1297800"/>
          </a:xfrm>
        </p:grpSpPr>
        <p:grpSp>
          <p:nvGrpSpPr>
            <p:cNvPr id="764" name=""/>
            <p:cNvGrpSpPr/>
            <p:nvPr/>
          </p:nvGrpSpPr>
          <p:grpSpPr>
            <a:xfrm>
              <a:off x="6943680" y="4221000"/>
              <a:ext cx="2200320" cy="1297800"/>
              <a:chOff x="6943680" y="4221000"/>
              <a:chExt cx="2200320" cy="1297800"/>
            </a:xfrm>
          </p:grpSpPr>
          <p:sp>
            <p:nvSpPr>
              <p:cNvPr id="765" name=""/>
              <p:cNvSpPr/>
              <p:nvPr/>
            </p:nvSpPr>
            <p:spPr>
              <a:xfrm>
                <a:off x="6943680" y="4601880"/>
                <a:ext cx="2200320" cy="84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7477200" y="4601880"/>
                <a:ext cx="1165320" cy="520560"/>
              </a:xfrm>
              <a:custGeom>
                <a:avLst/>
                <a:gdLst>
                  <a:gd name="textAreaLeft" fmla="*/ 256320 w 1165320"/>
                  <a:gd name="textAreaRight" fmla="*/ 909000 w 1165320"/>
                  <a:gd name="textAreaTop" fmla="*/ 114480 h 520560"/>
                  <a:gd name="textAreaBottom" fmla="*/ 40608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477200" y="4221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324920" y="505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67920" y="5059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239320" y="42210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7782120" y="46018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952280" y="0"/>
            <a:ext cx="5023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4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1.6   1,2,3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16000" y="216000"/>
            <a:ext cx="2646360" cy="1547640"/>
            <a:chOff x="216000" y="216000"/>
            <a:chExt cx="2646360" cy="15476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1663920" y="21600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5" name=""/>
            <p:cNvGrpSpPr/>
            <p:nvPr/>
          </p:nvGrpSpPr>
          <p:grpSpPr>
            <a:xfrm>
              <a:off x="216000" y="258840"/>
              <a:ext cx="1676520" cy="1191960"/>
              <a:chOff x="216000" y="258840"/>
              <a:chExt cx="1676520" cy="1191960"/>
            </a:xfrm>
          </p:grpSpPr>
          <p:sp>
            <p:nvSpPr>
              <p:cNvPr id="776" name=""/>
              <p:cNvSpPr/>
              <p:nvPr/>
            </p:nvSpPr>
            <p:spPr>
              <a:xfrm>
                <a:off x="216000" y="28332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34720" y="25884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368280" y="59688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 txBox="1"/>
          <p:nvPr/>
        </p:nvSpPr>
        <p:spPr>
          <a:xfrm>
            <a:off x="3263760" y="4102200"/>
            <a:ext cx="266724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80" name=""/>
          <p:cNvSpPr/>
          <p:nvPr/>
        </p:nvSpPr>
        <p:spPr>
          <a:xfrm>
            <a:off x="4083840" y="981000"/>
            <a:ext cx="17352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99ff99"/>
                </a:solidFill>
                <a:latin typeface="Tahoma"/>
                <a:ea typeface="隶书"/>
              </a:rPr>
              <a:t>结束寄语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34960" y="20448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afe1ff"/>
              </a:buClr>
              <a:buSzPct val="6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悟性的高低取决于有无悟“心”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其实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人与人的差别就在于你是否去思考、去发现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2280" y="6019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特殊角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30</a:t>
            </a:r>
            <a:r>
              <a:rPr b="0" lang="zh-CN" sz="32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45</a:t>
            </a:r>
            <a:r>
              <a:rPr b="0" lang="zh-CN" sz="32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60</a:t>
            </a:r>
            <a:r>
              <a:rPr b="0" lang="zh-CN" sz="32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角的三角函数值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5228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填空  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ABC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∠C=90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079400">
            <a:off x="6880680" y="-22680"/>
            <a:ext cx="992160" cy="2105280"/>
          </a:xfrm>
          <a:prstGeom prst="rtTriangl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07200" y="4255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41160" y="1459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69480" y="90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198280" y="1413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413200" y="714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87920" y="1554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74360" y="62064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b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3160" y="1197000"/>
            <a:ext cx="21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+∠B=9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84160" y="692280"/>
            <a:ext cx="4217760" cy="520560"/>
            <a:chOff x="884160" y="692280"/>
            <a:chExt cx="4217760" cy="520560"/>
          </a:xfrm>
        </p:grpSpPr>
        <p:sp>
          <p:nvSpPr>
            <p:cNvPr id="225" name=""/>
            <p:cNvSpPr/>
            <p:nvPr/>
          </p:nvSpPr>
          <p:spPr>
            <a:xfrm>
              <a:off x="884160" y="692280"/>
              <a:ext cx="20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(1)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三边的关系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5000" y="1125360"/>
              <a:ext cx="1726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84160" y="1252440"/>
            <a:ext cx="4506840" cy="520560"/>
            <a:chOff x="884160" y="1252440"/>
            <a:chExt cx="4506840" cy="520560"/>
          </a:xfrm>
        </p:grpSpPr>
        <p:sp>
          <p:nvSpPr>
            <p:cNvPr id="228" name=""/>
            <p:cNvSpPr/>
            <p:nvPr/>
          </p:nvSpPr>
          <p:spPr>
            <a:xfrm>
              <a:off x="884160" y="1252440"/>
              <a:ext cx="205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(2)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锐角的关系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5000" y="1699920"/>
              <a:ext cx="20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997280" y="3443400"/>
            <a:ext cx="2120400" cy="955440"/>
            <a:chOff x="1997280" y="3443400"/>
            <a:chExt cx="2120400" cy="955440"/>
          </a:xfrm>
        </p:grpSpPr>
        <p:sp>
          <p:nvSpPr>
            <p:cNvPr id="231" name=""/>
            <p:cNvSpPr/>
            <p:nvPr/>
          </p:nvSpPr>
          <p:spPr>
            <a:xfrm>
              <a:off x="2178720" y="3443400"/>
              <a:ext cx="14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对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97280" y="3925800"/>
              <a:ext cx="2120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99520" y="3878280"/>
              <a:ext cx="145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邻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954080" y="2363760"/>
            <a:ext cx="2185920" cy="928440"/>
            <a:chOff x="1954080" y="2363760"/>
            <a:chExt cx="2185920" cy="928440"/>
          </a:xfrm>
        </p:grpSpPr>
        <p:sp>
          <p:nvSpPr>
            <p:cNvPr id="235" name=""/>
            <p:cNvSpPr/>
            <p:nvPr/>
          </p:nvSpPr>
          <p:spPr>
            <a:xfrm>
              <a:off x="2483280" y="2771640"/>
              <a:ext cx="11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斜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4080" y="2843280"/>
              <a:ext cx="2185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7840" y="2363760"/>
              <a:ext cx="14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对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565960" y="2363760"/>
            <a:ext cx="2318760" cy="936360"/>
            <a:chOff x="5565960" y="2363760"/>
            <a:chExt cx="2318760" cy="936360"/>
          </a:xfrm>
        </p:grpSpPr>
        <p:sp>
          <p:nvSpPr>
            <p:cNvPr id="239" name=""/>
            <p:cNvSpPr/>
            <p:nvPr/>
          </p:nvSpPr>
          <p:spPr>
            <a:xfrm>
              <a:off x="6126840" y="2779560"/>
              <a:ext cx="116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斜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65960" y="2850840"/>
              <a:ext cx="2318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83240" y="2363760"/>
              <a:ext cx="145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邻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462280" y="3514680"/>
            <a:ext cx="2556000" cy="927000"/>
            <a:chOff x="5462280" y="3514680"/>
            <a:chExt cx="2556000" cy="927000"/>
          </a:xfrm>
        </p:grpSpPr>
        <p:sp>
          <p:nvSpPr>
            <p:cNvPr id="243" name=""/>
            <p:cNvSpPr/>
            <p:nvPr/>
          </p:nvSpPr>
          <p:spPr>
            <a:xfrm>
              <a:off x="5462280" y="3921120"/>
              <a:ext cx="250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对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60560" y="3978360"/>
              <a:ext cx="2457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56320" y="3514680"/>
              <a:ext cx="145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∠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的邻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826920" y="1844640"/>
            <a:ext cx="6551640" cy="2606760"/>
            <a:chOff x="826920" y="1844640"/>
            <a:chExt cx="6551640" cy="2606760"/>
          </a:xfrm>
        </p:grpSpPr>
        <p:sp>
          <p:nvSpPr>
            <p:cNvPr id="247" name=""/>
            <p:cNvSpPr/>
            <p:nvPr/>
          </p:nvSpPr>
          <p:spPr>
            <a:xfrm>
              <a:off x="890280" y="1844640"/>
              <a:ext cx="19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边角的关系是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3298680"/>
              <a:ext cx="302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54560" y="4440240"/>
              <a:ext cx="30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54560" y="3298680"/>
              <a:ext cx="30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98560" y="4451400"/>
              <a:ext cx="302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354560" y="37004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tA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2920" y="2563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osA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720" y="254952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inA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1080" y="3662280"/>
            <a:ext cx="12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tanA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221120" y="2349360"/>
            <a:ext cx="5002920" cy="2120760"/>
            <a:chOff x="1221120" y="2349360"/>
            <a:chExt cx="5002920" cy="2120760"/>
          </a:xfrm>
        </p:grpSpPr>
        <p:grpSp>
          <p:nvGrpSpPr>
            <p:cNvPr id="257" name=""/>
            <p:cNvGrpSpPr/>
            <p:nvPr/>
          </p:nvGrpSpPr>
          <p:grpSpPr>
            <a:xfrm>
              <a:off x="1319400" y="2581200"/>
              <a:ext cx="416880" cy="520560"/>
              <a:chOff x="1319400" y="2581200"/>
              <a:chExt cx="416880" cy="520560"/>
            </a:xfrm>
          </p:grpSpPr>
          <p:sp>
            <p:nvSpPr>
              <p:cNvPr id="258" name=""/>
              <p:cNvSpPr/>
              <p:nvPr/>
            </p:nvSpPr>
            <p:spPr>
              <a:xfrm>
                <a:off x="1388880" y="265284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19400" y="258120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183040" y="2365200"/>
              <a:ext cx="416880" cy="520560"/>
              <a:chOff x="2183040" y="2365200"/>
              <a:chExt cx="416880" cy="520560"/>
            </a:xfrm>
          </p:grpSpPr>
          <p:sp>
            <p:nvSpPr>
              <p:cNvPr id="261" name=""/>
              <p:cNvSpPr/>
              <p:nvPr/>
            </p:nvSpPr>
            <p:spPr>
              <a:xfrm>
                <a:off x="2252520" y="243684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83040" y="236520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4802400" y="2600280"/>
              <a:ext cx="416880" cy="520560"/>
              <a:chOff x="4802400" y="2600280"/>
              <a:chExt cx="416880" cy="520560"/>
            </a:xfrm>
          </p:grpSpPr>
          <p:sp>
            <p:nvSpPr>
              <p:cNvPr id="264" name=""/>
              <p:cNvSpPr/>
              <p:nvPr/>
            </p:nvSpPr>
            <p:spPr>
              <a:xfrm>
                <a:off x="4871880" y="267192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02400" y="260028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718240" y="2349360"/>
              <a:ext cx="416880" cy="520560"/>
              <a:chOff x="5718240" y="2349360"/>
              <a:chExt cx="416880" cy="520560"/>
            </a:xfrm>
          </p:grpSpPr>
          <p:sp>
            <p:nvSpPr>
              <p:cNvPr id="267" name=""/>
              <p:cNvSpPr/>
              <p:nvPr/>
            </p:nvSpPr>
            <p:spPr>
              <a:xfrm>
                <a:off x="5787720" y="242100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718240" y="234936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221120" y="3713040"/>
              <a:ext cx="416880" cy="520560"/>
              <a:chOff x="1221120" y="3713040"/>
              <a:chExt cx="416880" cy="520560"/>
            </a:xfrm>
          </p:grpSpPr>
          <p:sp>
            <p:nvSpPr>
              <p:cNvPr id="270" name=""/>
              <p:cNvSpPr/>
              <p:nvPr/>
            </p:nvSpPr>
            <p:spPr>
              <a:xfrm>
                <a:off x="1290600" y="378468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221120" y="371304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275200" y="3462480"/>
              <a:ext cx="416880" cy="520560"/>
              <a:chOff x="2275200" y="3462480"/>
              <a:chExt cx="416880" cy="520560"/>
            </a:xfrm>
          </p:grpSpPr>
          <p:sp>
            <p:nvSpPr>
              <p:cNvPr id="273" name=""/>
              <p:cNvSpPr/>
              <p:nvPr/>
            </p:nvSpPr>
            <p:spPr>
              <a:xfrm>
                <a:off x="2344680" y="353412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275200" y="346248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38760" y="3749760"/>
              <a:ext cx="416880" cy="520560"/>
              <a:chOff x="4838760" y="3749760"/>
              <a:chExt cx="416880" cy="520560"/>
            </a:xfrm>
          </p:grpSpPr>
          <p:sp>
            <p:nvSpPr>
              <p:cNvPr id="276" name=""/>
              <p:cNvSpPr/>
              <p:nvPr/>
            </p:nvSpPr>
            <p:spPr>
              <a:xfrm>
                <a:off x="4908240" y="382140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38760" y="374976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5807160" y="3533760"/>
              <a:ext cx="416880" cy="520560"/>
              <a:chOff x="5807160" y="3533760"/>
              <a:chExt cx="416880" cy="520560"/>
            </a:xfrm>
          </p:grpSpPr>
          <p:sp>
            <p:nvSpPr>
              <p:cNvPr id="279" name=""/>
              <p:cNvSpPr/>
              <p:nvPr/>
            </p:nvSpPr>
            <p:spPr>
              <a:xfrm>
                <a:off x="5876640" y="3605400"/>
                <a:ext cx="287280" cy="3603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07160" y="3533760"/>
                <a:ext cx="416880" cy="520560"/>
              </a:xfrm>
              <a:prstGeom prst="rect">
                <a:avLst/>
              </a:prstGeom>
              <a:solidFill>
                <a:srgbClr val="0068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5772240" y="3949560"/>
              <a:ext cx="416880" cy="520560"/>
            </a:xfrm>
            <a:prstGeom prst="rect">
              <a:avLst/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44960" y="3876840"/>
              <a:ext cx="416880" cy="520560"/>
            </a:xfrm>
            <a:prstGeom prst="rect">
              <a:avLst/>
            </a:prstGeom>
            <a:solidFill>
              <a:srgbClr val="0068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732720" y="1341360"/>
            <a:ext cx="14256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441600" y="361800"/>
            <a:ext cx="5005440" cy="2003400"/>
            <a:chOff x="3441600" y="361800"/>
            <a:chExt cx="5005440" cy="2003400"/>
          </a:xfrm>
        </p:grpSpPr>
        <p:sp>
          <p:nvSpPr>
            <p:cNvPr id="285" name=""/>
            <p:cNvSpPr/>
            <p:nvPr/>
          </p:nvSpPr>
          <p:spPr>
            <a:xfrm>
              <a:off x="3441600" y="1844640"/>
              <a:ext cx="253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其中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可以换成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8269800">
              <a:off x="8178480" y="353520"/>
              <a:ext cx="14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971280" y="4572000"/>
            <a:ext cx="71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除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外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共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边和两锐角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5400" y="5024520"/>
            <a:ext cx="60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R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中除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外的已知元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求出未知元素的过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07880" y="548640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叫做解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角三角形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280" y="1143000"/>
            <a:ext cx="521172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中有一个小岛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该岛四周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里内有暗礁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今有货轮由西向东航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开始在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岛南偏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5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往东行驶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里后到达该岛的南偏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之后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货轮继续向东航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6320" y="76320"/>
            <a:ext cx="2361960" cy="997560"/>
            <a:chOff x="76320" y="76320"/>
            <a:chExt cx="2361960" cy="997560"/>
          </a:xfrm>
        </p:grpSpPr>
        <p:sp>
          <p:nvSpPr>
            <p:cNvPr id="292" name=""/>
            <p:cNvSpPr/>
            <p:nvPr/>
          </p:nvSpPr>
          <p:spPr>
            <a:xfrm>
              <a:off x="76320" y="76320"/>
              <a:ext cx="2361960" cy="997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想一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隶书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3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52280" y="160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732720" y="404640"/>
            <a:ext cx="522000" cy="6098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 flipH="1">
            <a:off x="5003640" y="1413000"/>
            <a:ext cx="2362320" cy="1834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5824440"/>
            <a:ext cx="8020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要解决这个问题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我们可以将其数学化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94172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请与同伴交流你是怎么想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怎么去做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933720"/>
            <a:ext cx="6251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你认为货轮继续向东航行途中会有触礁的危险吗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297480" y="3816360"/>
            <a:ext cx="2666880" cy="2136240"/>
            <a:chOff x="6297480" y="3816360"/>
            <a:chExt cx="2666880" cy="2136240"/>
          </a:xfrm>
        </p:grpSpPr>
        <p:sp>
          <p:nvSpPr>
            <p:cNvPr id="300" name=""/>
            <p:cNvSpPr/>
            <p:nvPr/>
          </p:nvSpPr>
          <p:spPr>
            <a:xfrm>
              <a:off x="6373800" y="556920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373800" y="4197600"/>
              <a:ext cx="236196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049960" y="4197600"/>
              <a:ext cx="68580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431200" y="3816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7480" y="549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21360" y="5492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83480" y="549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49760" y="4502160"/>
              <a:ext cx="83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831000" y="412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02400" y="3816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ahoma"/>
                </a:rPr>
                <a:t>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11880" y="4349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ahoma"/>
                </a:rPr>
                <a:t>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252960" y="380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船有触礁的危险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101080" y="1773360"/>
            <a:ext cx="649080" cy="287280"/>
          </a:xfrm>
          <a:custGeom>
            <a:avLst/>
            <a:gdLst/>
            <a:ahLst/>
            <a:rect l="l" t="t" r="r" b="b"/>
            <a:pathLst>
              <a:path w="680" h="352">
                <a:moveTo>
                  <a:pt x="240" y="96"/>
                </a:moveTo>
                <a:cubicBezTo>
                  <a:pt x="187" y="114"/>
                  <a:pt x="237" y="134"/>
                  <a:pt x="184" y="152"/>
                </a:cubicBezTo>
                <a:cubicBezTo>
                  <a:pt x="148" y="179"/>
                  <a:pt x="132" y="183"/>
                  <a:pt x="88" y="192"/>
                </a:cubicBezTo>
                <a:cubicBezTo>
                  <a:pt x="73" y="214"/>
                  <a:pt x="67" y="245"/>
                  <a:pt x="48" y="264"/>
                </a:cubicBezTo>
                <a:cubicBezTo>
                  <a:pt x="33" y="279"/>
                  <a:pt x="15" y="289"/>
                  <a:pt x="0" y="304"/>
                </a:cubicBezTo>
                <a:cubicBezTo>
                  <a:pt x="35" y="316"/>
                  <a:pt x="62" y="333"/>
                  <a:pt x="96" y="344"/>
                </a:cubicBezTo>
                <a:cubicBezTo>
                  <a:pt x="162" y="338"/>
                  <a:pt x="217" y="331"/>
                  <a:pt x="280" y="352"/>
                </a:cubicBezTo>
                <a:cubicBezTo>
                  <a:pt x="326" y="346"/>
                  <a:pt x="356" y="328"/>
                  <a:pt x="392" y="352"/>
                </a:cubicBezTo>
                <a:cubicBezTo>
                  <a:pt x="421" y="349"/>
                  <a:pt x="452" y="352"/>
                  <a:pt x="480" y="344"/>
                </a:cubicBezTo>
                <a:cubicBezTo>
                  <a:pt x="500" y="338"/>
                  <a:pt x="500" y="301"/>
                  <a:pt x="520" y="296"/>
                </a:cubicBezTo>
                <a:cubicBezTo>
                  <a:pt x="559" y="287"/>
                  <a:pt x="600" y="291"/>
                  <a:pt x="640" y="288"/>
                </a:cubicBezTo>
                <a:cubicBezTo>
                  <a:pt x="675" y="265"/>
                  <a:pt x="667" y="254"/>
                  <a:pt x="680" y="216"/>
                </a:cubicBezTo>
                <a:cubicBezTo>
                  <a:pt x="677" y="208"/>
                  <a:pt x="679" y="196"/>
                  <a:pt x="672" y="192"/>
                </a:cubicBezTo>
                <a:cubicBezTo>
                  <a:pt x="650" y="179"/>
                  <a:pt x="600" y="168"/>
                  <a:pt x="600" y="168"/>
                </a:cubicBezTo>
                <a:cubicBezTo>
                  <a:pt x="585" y="153"/>
                  <a:pt x="576" y="133"/>
                  <a:pt x="560" y="120"/>
                </a:cubicBezTo>
                <a:cubicBezTo>
                  <a:pt x="553" y="115"/>
                  <a:pt x="544" y="116"/>
                  <a:pt x="536" y="112"/>
                </a:cubicBezTo>
                <a:cubicBezTo>
                  <a:pt x="501" y="95"/>
                  <a:pt x="469" y="84"/>
                  <a:pt x="432" y="72"/>
                </a:cubicBezTo>
                <a:cubicBezTo>
                  <a:pt x="413" y="15"/>
                  <a:pt x="430" y="33"/>
                  <a:pt x="392" y="8"/>
                </a:cubicBezTo>
                <a:cubicBezTo>
                  <a:pt x="346" y="23"/>
                  <a:pt x="290" y="0"/>
                  <a:pt x="248" y="24"/>
                </a:cubicBezTo>
                <a:cubicBezTo>
                  <a:pt x="229" y="35"/>
                  <a:pt x="248" y="68"/>
                  <a:pt x="240" y="88"/>
                </a:cubicBezTo>
                <a:cubicBezTo>
                  <a:pt x="235" y="100"/>
                  <a:pt x="184" y="115"/>
                  <a:pt x="240" y="96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101080" y="1916280"/>
            <a:ext cx="671400" cy="155520"/>
          </a:xfrm>
          <a:custGeom>
            <a:avLst/>
            <a:gdLst/>
            <a:ahLst/>
            <a:rect l="l" t="t" r="r" b="b"/>
            <a:pathLst>
              <a:path w="423" h="98">
                <a:moveTo>
                  <a:pt x="0" y="46"/>
                </a:moveTo>
                <a:cubicBezTo>
                  <a:pt x="11" y="65"/>
                  <a:pt x="22" y="84"/>
                  <a:pt x="45" y="91"/>
                </a:cubicBezTo>
                <a:cubicBezTo>
                  <a:pt x="68" y="98"/>
                  <a:pt x="106" y="91"/>
                  <a:pt x="136" y="91"/>
                </a:cubicBezTo>
                <a:cubicBezTo>
                  <a:pt x="166" y="91"/>
                  <a:pt x="196" y="91"/>
                  <a:pt x="226" y="91"/>
                </a:cubicBezTo>
                <a:cubicBezTo>
                  <a:pt x="256" y="91"/>
                  <a:pt x="287" y="98"/>
                  <a:pt x="317" y="91"/>
                </a:cubicBezTo>
                <a:cubicBezTo>
                  <a:pt x="347" y="84"/>
                  <a:pt x="393" y="61"/>
                  <a:pt x="408" y="46"/>
                </a:cubicBezTo>
                <a:cubicBezTo>
                  <a:pt x="423" y="31"/>
                  <a:pt x="408" y="8"/>
                  <a:pt x="408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40720" y="1197000"/>
            <a:ext cx="1368360" cy="136836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56960" y="119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280" y="1828800"/>
            <a:ext cx="8991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要知道货轮继续向东航行途中有无触礁的危险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只要过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作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⊥BC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延长线于点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D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果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&gt;1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则无触礁的危险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根据题意可知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BAD=5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CAD=2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BC= 20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=x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海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23840"/>
            <a:ext cx="218772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flipH="1">
            <a:off x="6553080" y="0"/>
            <a:ext cx="2362320" cy="18352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0" y="3716280"/>
            <a:ext cx="1523880" cy="1157400"/>
          </a:xfrm>
          <a:prstGeom prst="cloudCallout">
            <a:avLst>
              <a:gd name="adj1" fmla="val 29064"/>
              <a:gd name="adj2" fmla="val 4259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数学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58640" y="4076640"/>
            <a:ext cx="1665360" cy="2514600"/>
            <a:chOff x="458640" y="4076640"/>
            <a:chExt cx="1665360" cy="2514600"/>
          </a:xfrm>
        </p:grpSpPr>
        <p:grpSp>
          <p:nvGrpSpPr>
            <p:cNvPr id="321" name=""/>
            <p:cNvGrpSpPr/>
            <p:nvPr/>
          </p:nvGrpSpPr>
          <p:grpSpPr>
            <a:xfrm>
              <a:off x="458640" y="4578120"/>
              <a:ext cx="1665360" cy="2013120"/>
              <a:chOff x="458640" y="4578120"/>
              <a:chExt cx="1665360" cy="2013120"/>
            </a:xfrm>
          </p:grpSpPr>
          <p:sp>
            <p:nvSpPr>
              <p:cNvPr id="322" name=""/>
              <p:cNvSpPr/>
              <p:nvPr/>
            </p:nvSpPr>
            <p:spPr>
              <a:xfrm>
                <a:off x="458640" y="4578120"/>
                <a:ext cx="1665360" cy="201312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19080" y="4617720"/>
                <a:ext cx="576000" cy="5670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3600" y="4768560"/>
                <a:ext cx="63720" cy="730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44480" y="4784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60320" y="484344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79400" y="485928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958680" y="4903560"/>
                <a:ext cx="461880" cy="61128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07840" y="490536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23680" y="491940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83880" y="4998960"/>
                <a:ext cx="22320" cy="698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276200" y="5010120"/>
                <a:ext cx="41040" cy="1396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11040" y="512748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63320" y="516564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85480" y="519084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66600" y="521316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98440" y="522252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03120" y="5248080"/>
                <a:ext cx="307800" cy="81108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42600" y="5297400"/>
                <a:ext cx="654120" cy="66348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419120" y="539892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206360" y="545616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80800" y="5499000"/>
                <a:ext cx="61920" cy="20772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8240" y="558612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93400" y="558792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04560" y="560376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25200" y="576864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14160" y="58370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31800" y="58845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920520" y="5886360"/>
                <a:ext cx="328680" cy="3960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9400" y="5894280"/>
                <a:ext cx="560160" cy="2048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37920" y="5914800"/>
                <a:ext cx="249120" cy="2001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35040" y="592740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8320" y="5972040"/>
                <a:ext cx="1473120" cy="56052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42840" y="6148080"/>
                <a:ext cx="957240" cy="28260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60280" y="4986000"/>
                <a:ext cx="79200" cy="3492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0200" y="4998960"/>
                <a:ext cx="68040" cy="284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57040" y="497808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26960" y="498924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34960" y="40766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050920" y="6165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货轮继续向东航行途中没有触礁的危险</a:t>
            </a: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8458200" y="3505320"/>
            <a:ext cx="609480" cy="1755000"/>
            <a:chOff x="8458200" y="3505320"/>
            <a:chExt cx="609480" cy="1755000"/>
          </a:xfrm>
        </p:grpSpPr>
        <p:sp>
          <p:nvSpPr>
            <p:cNvPr id="362" name=""/>
            <p:cNvSpPr/>
            <p:nvPr/>
          </p:nvSpPr>
          <p:spPr>
            <a:xfrm flipV="1">
              <a:off x="8839080" y="350532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68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4495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400800" y="3124080"/>
            <a:ext cx="2666880" cy="2136240"/>
            <a:chOff x="6400800" y="3124080"/>
            <a:chExt cx="2666880" cy="2136240"/>
          </a:xfrm>
        </p:grpSpPr>
        <p:sp>
          <p:nvSpPr>
            <p:cNvPr id="366" name=""/>
            <p:cNvSpPr/>
            <p:nvPr/>
          </p:nvSpPr>
          <p:spPr>
            <a:xfrm>
              <a:off x="6477120" y="487692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477120" y="3505320"/>
              <a:ext cx="236196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153280" y="3505320"/>
              <a:ext cx="68580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53452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008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24680" y="4800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868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3809880"/>
              <a:ext cx="83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934320" y="342864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05720" y="3124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ahoma"/>
                </a:rPr>
                <a:t>北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15200" y="3657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ahoma"/>
                </a:rPr>
                <a:t>东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843200" y="3429000"/>
                <a:ext cx="4425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,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841400" y="4191120"/>
                <a:ext cx="43722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"/>
          <p:cNvGrpSpPr/>
          <p:nvPr/>
        </p:nvGrpSpPr>
        <p:grpSpPr>
          <a:xfrm>
            <a:off x="8153280" y="3352320"/>
            <a:ext cx="989640" cy="780480"/>
            <a:chOff x="8153280" y="3352320"/>
            <a:chExt cx="989640" cy="780480"/>
          </a:xfrm>
        </p:grpSpPr>
        <p:sp>
          <p:nvSpPr>
            <p:cNvPr id="380" name=""/>
            <p:cNvSpPr/>
            <p:nvPr/>
          </p:nvSpPr>
          <p:spPr>
            <a:xfrm flipH="1" flipV="1">
              <a:off x="8534520" y="3351960"/>
              <a:ext cx="608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99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53280" y="3733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5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8172360" y="3771360"/>
            <a:ext cx="1039680" cy="780480"/>
            <a:chOff x="8172360" y="3771360"/>
            <a:chExt cx="1039680" cy="780480"/>
          </a:xfrm>
        </p:grpSpPr>
        <p:sp>
          <p:nvSpPr>
            <p:cNvPr id="383" name=""/>
            <p:cNvSpPr/>
            <p:nvPr/>
          </p:nvSpPr>
          <p:spPr>
            <a:xfrm flipH="1" flipV="1">
              <a:off x="8572680" y="3771000"/>
              <a:ext cx="6393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172360" y="41529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25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00240" y="4737240"/>
                <a:ext cx="3646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687680" y="5159520"/>
                <a:ext cx="72007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63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海里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2651040" y="85572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真知在实践中诞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280" y="152388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小明想测量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高度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他在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仰望塔顶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测得仰角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再往塔的方向前进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50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至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测得仰角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该塔有多高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小明的身高忽略不计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8600" y="76320"/>
            <a:ext cx="2361960" cy="997560"/>
            <a:chOff x="228600" y="76320"/>
            <a:chExt cx="2361960" cy="997560"/>
          </a:xfrm>
        </p:grpSpPr>
        <p:sp>
          <p:nvSpPr>
            <p:cNvPr id="390" name=""/>
            <p:cNvSpPr/>
            <p:nvPr/>
          </p:nvSpPr>
          <p:spPr>
            <a:xfrm>
              <a:off x="228600" y="76320"/>
              <a:ext cx="2361960" cy="997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想一想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隶书"/>
                </a:rPr>
                <a:t>2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1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304560" y="18072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522360" cy="609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228600" y="39625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要解决这问题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我们仍需将其数学化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5080" y="5105520"/>
            <a:ext cx="456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请与同伴交流你是怎么想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准备怎么去做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32767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现在你能完成这个任务吗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3"/>
          <a:srcRect l="81837" t="76595" r="1095" b="9738"/>
          <a:stretch/>
        </p:blipFill>
        <p:spPr>
          <a:xfrm>
            <a:off x="5103720" y="3259080"/>
            <a:ext cx="4040280" cy="2600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220920" y="7621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古塔究竟有多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7440" y="14479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这个图形与前面的图形相同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因此解答如下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0" y="3657600"/>
            <a:ext cx="2122560" cy="2724120"/>
            <a:chOff x="0" y="3657600"/>
            <a:chExt cx="2122560" cy="272412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0" y="3657600"/>
              <a:ext cx="21225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33520" y="37908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880" y="3730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8ae8"/>
                  </a:solidFill>
                  <a:latin typeface="隶书"/>
                  <a:ea typeface="隶书"/>
                </a:rPr>
                <a:t>这样解答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72360" y="2421000"/>
            <a:ext cx="2666880" cy="2135880"/>
            <a:chOff x="6372360" y="2421000"/>
            <a:chExt cx="2666880" cy="2135880"/>
          </a:xfrm>
        </p:grpSpPr>
        <p:sp>
          <p:nvSpPr>
            <p:cNvPr id="404" name=""/>
            <p:cNvSpPr/>
            <p:nvPr/>
          </p:nvSpPr>
          <p:spPr>
            <a:xfrm>
              <a:off x="6448320" y="4173480"/>
              <a:ext cx="236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8810640" y="280188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448320" y="2801880"/>
              <a:ext cx="236232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8124840" y="2801880"/>
              <a:ext cx="68580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505720" y="2421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72360" y="4097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96240" y="4097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58360" y="4097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29760" y="3792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81840" y="4097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50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53960" y="3944880"/>
              <a:ext cx="151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29560" y="3792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3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01160" y="39448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277120" y="3792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60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1494000" y="2666880"/>
                <a:ext cx="54021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,tan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739880" y="3429000"/>
                <a:ext cx="4400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790640" y="3992400"/>
                <a:ext cx="3646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862280" y="4545000"/>
                <a:ext cx="65563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2057400" y="557388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该塔约有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3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高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184464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根据题意可知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A=3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DBC=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AB=50m,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则∠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DC=6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BDC=3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CD=x 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57400" y="62229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99"/>
                </a:solidFill>
                <a:latin typeface="隶书"/>
                <a:ea typeface="隶书"/>
              </a:rPr>
              <a:t>老师期望</a:t>
            </a:r>
            <a:r>
              <a:rPr b="0" lang="zh-CN" sz="2800" spc="-1" strike="noStrike">
                <a:solidFill>
                  <a:srgbClr val="99ff99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这道题你能有更简单的解法吗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097080" y="7621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行家看“门道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5360" y="198360"/>
            <a:ext cx="218592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79280" y="1413000"/>
            <a:ext cx="6172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某商场准备改善原有楼梯的安全性能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把倾角由原来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减至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35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已知原楼梯的长度为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4m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调整后的楼梯会加长多少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楼梯多占多长一段地面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结果精确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01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9280" y="260280"/>
            <a:ext cx="2362320" cy="660240"/>
            <a:chOff x="179280" y="260280"/>
            <a:chExt cx="2362320" cy="660240"/>
          </a:xfrm>
        </p:grpSpPr>
        <p:sp>
          <p:nvSpPr>
            <p:cNvPr id="429" name=""/>
            <p:cNvSpPr/>
            <p:nvPr/>
          </p:nvSpPr>
          <p:spPr>
            <a:xfrm>
              <a:off x="179280" y="308880"/>
              <a:ext cx="2362320" cy="611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做一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400" spc="-1" strike="noStrike" baseline="-25000">
                  <a:solidFill>
                    <a:srgbClr val="000000"/>
                  </a:solidFill>
                  <a:latin typeface="Times New Roman"/>
                  <a:ea typeface="隶书"/>
                </a:rPr>
                <a:t>2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59200" y="260280"/>
              <a:ext cx="18360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76320" y="4343400"/>
            <a:ext cx="624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现在你能完成这个任务吗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7164360" y="549360"/>
            <a:ext cx="522360" cy="6094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6320" y="51814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请与同伴交流你是怎么想的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准备怎么去做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rcRect l="29901" t="24414" r="50763" b="57985"/>
          <a:stretch/>
        </p:blipFill>
        <p:spPr>
          <a:xfrm>
            <a:off x="6400800" y="2062080"/>
            <a:ext cx="27432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5867280" y="4191120"/>
            <a:ext cx="3200400" cy="2135880"/>
            <a:chOff x="5867280" y="4191120"/>
            <a:chExt cx="3200400" cy="2135880"/>
          </a:xfrm>
        </p:grpSpPr>
        <p:sp>
          <p:nvSpPr>
            <p:cNvPr id="436" name=""/>
            <p:cNvSpPr/>
            <p:nvPr/>
          </p:nvSpPr>
          <p:spPr>
            <a:xfrm>
              <a:off x="6095880" y="5943600"/>
              <a:ext cx="274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095880" y="4572000"/>
              <a:ext cx="274320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933960" y="4572000"/>
              <a:ext cx="190512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839080" y="4572000"/>
              <a:ext cx="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672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686440" y="4191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104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816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5784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700440" y="404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楼梯加长了多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-108000" y="4011480"/>
            <a:ext cx="2438280" cy="22161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-31680" y="1123920"/>
            <a:ext cx="899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根据题意可知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A=35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BDC=4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DB=4m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1)AB-B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149800" y="1878120"/>
            <a:ext cx="3200400" cy="2135880"/>
            <a:chOff x="5149800" y="1878120"/>
            <a:chExt cx="3200400" cy="2135880"/>
          </a:xfrm>
        </p:grpSpPr>
        <p:grpSp>
          <p:nvGrpSpPr>
            <p:cNvPr id="449" name=""/>
            <p:cNvGrpSpPr/>
            <p:nvPr/>
          </p:nvGrpSpPr>
          <p:grpSpPr>
            <a:xfrm>
              <a:off x="5149800" y="1878120"/>
              <a:ext cx="3200400" cy="2135880"/>
              <a:chOff x="5149800" y="1878120"/>
              <a:chExt cx="3200400" cy="2135880"/>
            </a:xfrm>
          </p:grpSpPr>
          <p:sp>
            <p:nvSpPr>
              <p:cNvPr id="450" name=""/>
              <p:cNvSpPr/>
              <p:nvPr/>
            </p:nvSpPr>
            <p:spPr>
              <a:xfrm>
                <a:off x="5378400" y="363060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378400" y="2259000"/>
                <a:ext cx="274320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216480" y="2259000"/>
                <a:ext cx="190512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121600" y="225900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49800" y="355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968960" y="18781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93000" y="355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64200" y="355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40360" y="324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7131240" y="2792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759640" y="34020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5600" y="3249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35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21760" y="34020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97720" y="3249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209680" y="2106720"/>
                <a:ext cx="2227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95640" y="2924280"/>
                <a:ext cx="2589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124000" y="3284640"/>
                <a:ext cx="22273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340000" y="5789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调整后的楼梯会加长约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48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117880" y="4168800"/>
                <a:ext cx="70117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2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3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484360" y="5261040"/>
                <a:ext cx="4341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≈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3857760" y="26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联想的功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68360" y="331920"/>
            <a:ext cx="187164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8680" y="1268280"/>
            <a:ext cx="875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解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图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根据题意可知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A=35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∠BDC=40</a:t>
            </a:r>
            <a:r>
              <a:rPr b="0" lang="zh-CN" sz="2800" spc="-1" strike="noStrike" baseline="30000">
                <a:solidFill>
                  <a:srgbClr val="ffffff"/>
                </a:solidFill>
                <a:latin typeface="隶书"/>
                <a:ea typeface="隶书"/>
              </a:rPr>
              <a:t>°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DB=4m.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求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(2) AD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的长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692680" y="2443320"/>
            <a:ext cx="3200400" cy="2135880"/>
            <a:chOff x="5692680" y="2443320"/>
            <a:chExt cx="3200400" cy="2135880"/>
          </a:xfrm>
        </p:grpSpPr>
        <p:grpSp>
          <p:nvGrpSpPr>
            <p:cNvPr id="474" name=""/>
            <p:cNvGrpSpPr/>
            <p:nvPr/>
          </p:nvGrpSpPr>
          <p:grpSpPr>
            <a:xfrm>
              <a:off x="5692680" y="2443320"/>
              <a:ext cx="3200400" cy="2135880"/>
              <a:chOff x="5692680" y="2443320"/>
              <a:chExt cx="3200400" cy="2135880"/>
            </a:xfrm>
          </p:grpSpPr>
          <p:sp>
            <p:nvSpPr>
              <p:cNvPr id="475" name=""/>
              <p:cNvSpPr/>
              <p:nvPr/>
            </p:nvSpPr>
            <p:spPr>
              <a:xfrm>
                <a:off x="5921280" y="4195800"/>
                <a:ext cx="2743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921280" y="2824200"/>
                <a:ext cx="274320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759360" y="2824200"/>
                <a:ext cx="190512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664480" y="282420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692680" y="4119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511840" y="2443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435880" y="4119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07080" y="41194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283240" y="3814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7674120" y="3357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02520" y="3967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78480" y="3814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35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64640" y="3967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40600" y="3814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ffffff"/>
                  </a:solidFill>
                  <a:latin typeface="隶书"/>
                  <a:ea typeface="隶书"/>
                </a:rPr>
                <a:t>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826920" y="2190600"/>
                <a:ext cx="231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348000" y="2205000"/>
                <a:ext cx="22827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915840" y="3027240"/>
                <a:ext cx="225612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971640" y="62229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答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楼梯多占约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0.61m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长的一段地面</a:t>
            </a: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3351240" y="2952720"/>
                <a:ext cx="22273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900000" y="3889440"/>
                <a:ext cx="229248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720800" y="4284720"/>
                <a:ext cx="3178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790640" y="5276880"/>
                <a:ext cx="4037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5789520" y="5502240"/>
                <a:ext cx="1328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4505400" y="260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  <a:ea typeface="隶书"/>
              </a:rPr>
              <a:t>联想的功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363600"/>
            <a:ext cx="187200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问题解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4:21:54Z</dcterms:created>
  <dc:creator>刘芳亚</dc:creator>
  <dc:description/>
  <dc:language>en-US</dc:language>
  <cp:lastModifiedBy>User</cp:lastModifiedBy>
  <dcterms:modified xsi:type="dcterms:W3CDTF">2014-02-18T02:05:06Z</dcterms:modified>
  <cp:revision>48</cp:revision>
  <dc:subject/>
  <dc:title>幻灯片 1</dc:title>
</cp:coreProperties>
</file>