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6.wmf" ContentType="image/x-wmf"/>
  <Override PartName="/ppt/media/image7.png" ContentType="image/png"/>
  <Override PartName="/ppt/media/image4.png" ContentType="image/png"/>
  <Override PartName="/ppt/media/image5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B222-57A8-4D49-B36E-B26623248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F1BB-DB75-4F5F-9365-D3500AD2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6A80-17BA-4DAA-92FF-94067A05F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1FBB-C2E4-4261-8D81-7B61F21C5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3D8E-95DA-44EE-BD9F-21DF14C3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E8A3-78ED-4517-BB18-8CACE938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F045-5397-438E-A5F6-38AEB50E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0491-6501-4A4C-9A98-E1EAEB74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8876-3DAE-42A6-9B87-49876A8D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3355-BCCB-4485-A990-F81452AF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688A-1099-4DFA-A7C7-BD9DFEA0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B54F-4D9B-4C70-ACA0-BB3C2FDC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0D12-545C-42F3-9F28-AFD20071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B61A-4D7C-4AE4-8A87-91FBBE60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EF8E-A5A2-41D1-92B9-8184C7BC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25AD-B818-47B4-A288-508C182A5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448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5800" y="167292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448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5800" y="4023000"/>
            <a:ext cx="260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354F-7C05-478F-AAB8-75D944131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809E-5608-4717-85DE-CBE42D84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0055-0B48-4267-9EFA-4DDD1787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EA52-29EB-4CFB-A78B-34B8E921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533C-3507-43E4-B5BD-178508A8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6652-A747-493B-91BC-7C3834E8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402300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3B1C-E779-4726-BE24-9166F88D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672920"/>
            <a:ext cx="39412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3000"/>
            <a:ext cx="8076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6821-92C1-4505-BA26-E1167FB6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8D0C-1BB7-4B85-8AFF-033466892EE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4D58-EF16-4922-8F73-6A312DD8669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4920" y="1268280"/>
            <a:ext cx="80629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第一章 直角三角形的边角关系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第五节 测量物体的高度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(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二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反思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我们直接测量出这根木棒的长度为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2.3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米。你们小组的测量结果与此相接近吗？有差距的原因是什么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71640" y="3500280"/>
            <a:ext cx="7561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结论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一是误差引起的。这种误差主要来源于我们自制的测角仪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二是读数错误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反思二：测量物体高度有哪些方法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673280"/>
            <a:ext cx="807696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当测量底部可以到达的物体的高度时，如左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当测量底部不可以直接到达的物体的高度时，如右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14055" t="55006" r="60536" b="26406"/>
          <a:stretch/>
        </p:blipFill>
        <p:spPr>
          <a:xfrm>
            <a:off x="755640" y="3645000"/>
            <a:ext cx="3240000" cy="191772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4643280" y="3573360"/>
            <a:ext cx="3097440" cy="2016360"/>
            <a:chOff x="4643280" y="3573360"/>
            <a:chExt cx="3097440" cy="2016360"/>
          </a:xfrm>
        </p:grpSpPr>
        <p:pic>
          <p:nvPicPr>
            <p:cNvPr id="181" name="" descr=""/>
            <p:cNvPicPr/>
            <p:nvPr/>
          </p:nvPicPr>
          <p:blipFill>
            <a:blip r:embed="rId2"/>
            <a:srcRect l="61463" t="14835" r="13132" b="67126"/>
            <a:stretch/>
          </p:blipFill>
          <p:spPr>
            <a:xfrm>
              <a:off x="4643280" y="3573360"/>
              <a:ext cx="3097440" cy="20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5164920" y="4997520"/>
              <a:ext cx="1145520" cy="591840"/>
            </a:xfrm>
            <a:prstGeom prst="irregularSeal1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11280" y="907560"/>
            <a:ext cx="807696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课后作业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习题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知识回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仿宋_GB2312"/>
              </a:rPr>
              <a:t>测角仪的使用方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仿宋_GB2312"/>
              </a:rPr>
              <a:t>测量底部可以到达的物体高度的方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仿宋_GB2312"/>
              </a:rPr>
              <a:t>测量底部不可以到达的物体高度的方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2987640" y="216000"/>
            <a:ext cx="2881080" cy="2800080"/>
            <a:chOff x="2987640" y="216000"/>
            <a:chExt cx="2881080" cy="280008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2987640" y="216000"/>
              <a:ext cx="2881080" cy="28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4284720" y="24922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715400">
              <a:off x="3636000" y="2349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9529400">
              <a:off x="4716720" y="2349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2964000">
              <a:off x="3242520" y="20199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8541800">
              <a:off x="5080320" y="19832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5400000">
              <a:off x="5252400" y="1732320"/>
              <a:ext cx="57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5400000">
              <a:off x="3065040" y="1626480"/>
              <a:ext cx="4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211640" y="2944800"/>
            <a:ext cx="431640" cy="2232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427640" y="1647720"/>
            <a:ext cx="0" cy="2521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356000" y="4023720"/>
            <a:ext cx="144720" cy="144360"/>
          </a:xfrm>
          <a:prstGeom prst="triangle">
            <a:avLst>
              <a:gd name="adj" fmla="val 4190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333360"/>
            <a:ext cx="6767280" cy="581400"/>
          </a:xfrm>
          <a:prstGeom prst="rect">
            <a:avLst/>
          </a:prstGeom>
          <a:solidFill>
            <a:srgbClr val="00ffff">
              <a:alpha val="40000"/>
            </a:srgbClr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使用测倾器测量倾斜角的步骤如下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5661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、把支架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竖直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插入地面，使支架的中心线、铅垂线和度盘的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0°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刻度线重合，这时度盘的顶线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PQ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在水平位置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56000" y="14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867280" y="141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87640" y="1557360"/>
            <a:ext cx="2879640" cy="0"/>
          </a:xfrm>
          <a:prstGeom prst="line">
            <a:avLst/>
          </a:prstGeom>
          <a:ln w="82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4500720" y="1052640"/>
            <a:ext cx="2909520" cy="2709720"/>
            <a:chOff x="4500720" y="1052640"/>
            <a:chExt cx="2909520" cy="270972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4500720" y="1052640"/>
              <a:ext cx="2909520" cy="27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810760" y="3256920"/>
              <a:ext cx="43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715400">
              <a:off x="5118840" y="3111840"/>
              <a:ext cx="5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9529400">
              <a:off x="6270840" y="3108600"/>
              <a:ext cx="58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2964000">
              <a:off x="4765680" y="2739240"/>
              <a:ext cx="56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8541800">
              <a:off x="6635520" y="2711880"/>
              <a:ext cx="48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5400000">
              <a:off x="6806160" y="2526120"/>
              <a:ext cx="55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5400000">
              <a:off x="4593960" y="2418840"/>
              <a:ext cx="47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724360" y="3716280"/>
            <a:ext cx="432000" cy="1225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40360" y="2421000"/>
            <a:ext cx="0" cy="2016000"/>
          </a:xfrm>
          <a:prstGeom prst="line">
            <a:avLst/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867280" y="4365000"/>
            <a:ext cx="144720" cy="144360"/>
          </a:xfrm>
          <a:prstGeom prst="triangle">
            <a:avLst>
              <a:gd name="adj" fmla="val 4190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5300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、转动转盘，使度盘的直径对准目标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，记下此时铅垂线所指的度数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2268360" y="189000"/>
            <a:ext cx="3672000" cy="2232000"/>
          </a:xfrm>
          <a:prstGeom prst="line">
            <a:avLst/>
          </a:prstGeom>
          <a:ln w="442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692360" y="189000"/>
            <a:ext cx="647640" cy="4752720"/>
            <a:chOff x="1692360" y="189000"/>
            <a:chExt cx="647640" cy="4752720"/>
          </a:xfrm>
        </p:grpSpPr>
        <p:sp>
          <p:nvSpPr>
            <p:cNvPr id="118" name=""/>
            <p:cNvSpPr/>
            <p:nvPr/>
          </p:nvSpPr>
          <p:spPr>
            <a:xfrm>
              <a:off x="1692360" y="189000"/>
              <a:ext cx="574560" cy="4752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65440" y="18900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332000" y="4941720"/>
            <a:ext cx="6696000" cy="0"/>
          </a:xfrm>
          <a:prstGeom prst="line">
            <a:avLst/>
          </a:prstGeom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268360" y="2349360"/>
            <a:ext cx="3672000" cy="0"/>
          </a:xfrm>
          <a:prstGeom prst="line">
            <a:avLst/>
          </a:prstGeom>
          <a:ln w="507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24360" y="1773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30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920000">
                                      <p:cBhvr>
                                        <p:cTn id="1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164360" y="1052640"/>
            <a:ext cx="695520" cy="476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164360" y="981000"/>
            <a:ext cx="0" cy="3311640"/>
          </a:xfrm>
          <a:prstGeom prst="line">
            <a:avLst/>
          </a:prstGeom>
          <a:ln w="38160">
            <a:solidFill>
              <a:srgbClr val="993366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58920" y="4292640"/>
            <a:ext cx="6408720" cy="0"/>
          </a:xfrm>
          <a:prstGeom prst="line">
            <a:avLst/>
          </a:prstGeom>
          <a:ln w="38160">
            <a:solidFill>
              <a:srgbClr val="8a95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124000" y="2997360"/>
            <a:ext cx="935280" cy="907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2484360" y="3860640"/>
            <a:ext cx="216000" cy="432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flipV="1">
            <a:off x="2627280" y="981000"/>
            <a:ext cx="4537080" cy="244800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11280" y="4221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30430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93080" y="549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20000" y="42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84360" y="4292640"/>
            <a:ext cx="4680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27280" y="3429000"/>
            <a:ext cx="453708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479736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、在测点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安置测倾器，测得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的仰角∠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MCE=α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36000" y="31399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53006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、量出测点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到物体底部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N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的水平距离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AN=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5805360"/>
            <a:ext cx="748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、量出测倾器的高度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AC=a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，可求出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MN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的高度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MN=ME+EN=l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tan</a:t>
            </a:r>
            <a:r>
              <a:rPr b="1" lang="el-GR" sz="2400" spc="-1" strike="noStrike">
                <a:solidFill>
                  <a:srgbClr val="ffffff"/>
                </a:solidFill>
                <a:latin typeface="宋体"/>
              </a:rPr>
              <a:t>α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+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115920"/>
            <a:ext cx="489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测量底部可以直接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达的物体的高度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59280" y="2997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4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8360" y="189000"/>
            <a:ext cx="4967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测量底部不可以直接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达的物体的高度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836640"/>
            <a:ext cx="571680" cy="2952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flipH="1">
            <a:off x="1692360" y="3789360"/>
            <a:ext cx="5472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403280" y="2997360"/>
            <a:ext cx="574920" cy="558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692360" y="3500280"/>
            <a:ext cx="0" cy="28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2413080" y="2997360"/>
            <a:ext cx="574560" cy="5587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V="1">
            <a:off x="1692360" y="907920"/>
            <a:ext cx="5184720" cy="2376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700360" y="907920"/>
            <a:ext cx="4176720" cy="23767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00360" y="3500280"/>
            <a:ext cx="0" cy="28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92360" y="3284640"/>
            <a:ext cx="547200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03640" y="3789360"/>
            <a:ext cx="2952720" cy="0"/>
          </a:xfrm>
          <a:prstGeom prst="line">
            <a:avLst/>
          </a:prstGeom>
          <a:ln w="76320">
            <a:solidFill>
              <a:srgbClr val="38ac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42210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、在测点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处安置测倾器，测得此时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的仰角∠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MCE=α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76360" y="37512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76360" y="285264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56000" y="37893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84360" y="28526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93080" y="4762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4360" y="35719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64360" y="30686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79640" y="2852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797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、在测点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与物体之间的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处安置测倾器，测得此时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的仰角∠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MDE=β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59280" y="28368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55166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、量出测倾器的高度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AC=BD=a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，以及测点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A,B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之间的距离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AB=b.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根据测量数据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可求出物体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MN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的高度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435640" y="6261120"/>
          <a:ext cx="2879640" cy="596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35640" y="6261120"/>
                    <a:ext cx="287964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60000">
                                      <p:cBhvr>
                                        <p:cTn id="9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12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115920"/>
            <a:ext cx="80769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活动内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907560"/>
            <a:ext cx="807696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以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人为一小组，合作测量旗杆的高度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并填写记录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说明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1. 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宋体"/>
              </a:rPr>
              <a:t>不能直接用皮尺测量它的高度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注意实验时的安全，同学之间要互让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3.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测量的过程中会产生测量误差，因此，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多测两组数据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并取它们的平均值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正确地使用测倾器，特别要注意测量过程中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确、规范地读数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积极参与测量活动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并能对在测量过程中遇到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困难，想方没法，团结协作，共同解决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539640" y="160200"/>
          <a:ext cx="8209080" cy="6357960"/>
        </p:xfrm>
        <a:graphic>
          <a:graphicData uri="http://schemas.openxmlformats.org/drawingml/2006/table">
            <a:tbl>
              <a:tblPr/>
              <a:tblGrid>
                <a:gridCol w="1982880"/>
                <a:gridCol w="1301760"/>
                <a:gridCol w="460440"/>
                <a:gridCol w="1179360"/>
                <a:gridCol w="1640160"/>
                <a:gridCol w="1644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Courier New"/>
                        </a:rPr>
                        <a:t>课题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701"/>
                          </a:solidFill>
                          <a:latin typeface="Arial"/>
                        </a:rPr>
                        <a:t>测量物体的高度</a:t>
                      </a:r>
                      <a:r>
                        <a:rPr b="0" lang="zh-CN" sz="2800" spc="-1" strike="noStrike">
                          <a:solidFill>
                            <a:srgbClr val="ff0701"/>
                          </a:solidFill>
                          <a:latin typeface="Arial"/>
                        </a:rPr>
                        <a:t> （范例一）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Courier New"/>
                        </a:rPr>
                        <a:t>测量示意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Courier New"/>
                        </a:rPr>
                        <a:t>测得数据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Courier New"/>
                        </a:rPr>
                        <a:t>测量项目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Courier New"/>
                        </a:rPr>
                        <a:t>第一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Courier New"/>
                        </a:rPr>
                        <a:t>第二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Courier New"/>
                        </a:rPr>
                        <a:t>平均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701"/>
                          </a:solidFill>
                          <a:latin typeface="Arial"/>
                        </a:rPr>
                        <a:t>C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701"/>
                          </a:solidFill>
                          <a:latin typeface="Arial"/>
                        </a:rPr>
                        <a:t>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701"/>
                          </a:solidFill>
                          <a:latin typeface="宋体"/>
                        </a:rPr>
                        <a:t>∠</a:t>
                      </a:r>
                      <a:r>
                        <a:rPr b="0" lang="zh-CN" sz="2400" spc="-1" strike="noStrike">
                          <a:solidFill>
                            <a:srgbClr val="ff0701"/>
                          </a:solidFill>
                          <a:latin typeface="宋体"/>
                        </a:rPr>
                        <a:t>M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Courier New"/>
                        </a:rPr>
                        <a:t>计算过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Courier New"/>
                        </a:rPr>
                        <a:t>活动感受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Courier New"/>
                        </a:rPr>
                        <a:t>负责人及参加人员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Courier New"/>
                        </a:rPr>
                        <a:t>计算者和复核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Courier New"/>
                        </a:rPr>
                        <a:t>指导教师审核意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Courier New"/>
                        </a:rPr>
                        <a:t>备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69" name="" descr=""/>
          <p:cNvPicPr/>
          <p:nvPr/>
        </p:nvPicPr>
        <p:blipFill>
          <a:blip r:embed="rId1"/>
          <a:srcRect l="14055" t="55006" r="60536" b="26406"/>
          <a:stretch/>
        </p:blipFill>
        <p:spPr>
          <a:xfrm>
            <a:off x="4067280" y="765000"/>
            <a:ext cx="1800000" cy="106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539640" y="160200"/>
          <a:ext cx="8209080" cy="6751800"/>
        </p:xfrm>
        <a:graphic>
          <a:graphicData uri="http://schemas.openxmlformats.org/drawingml/2006/table">
            <a:tbl>
              <a:tblPr/>
              <a:tblGrid>
                <a:gridCol w="1982880"/>
                <a:gridCol w="1301760"/>
                <a:gridCol w="460440"/>
                <a:gridCol w="1179360"/>
                <a:gridCol w="1629000"/>
                <a:gridCol w="1655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Courier New"/>
                        </a:rPr>
                        <a:t>课题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701"/>
                          </a:solidFill>
                          <a:latin typeface="宋体"/>
                        </a:rPr>
                        <a:t>测量物体的高度</a:t>
                      </a:r>
                      <a:r>
                        <a:rPr b="0" lang="zh-CN" sz="2800" spc="-1" strike="noStrike">
                          <a:solidFill>
                            <a:srgbClr val="ff0701"/>
                          </a:solidFill>
                          <a:latin typeface="宋体"/>
                        </a:rPr>
                        <a:t> （范例二）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7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Courier New"/>
                        </a:rPr>
                        <a:t>测量示意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Courier New"/>
                        </a:rPr>
                        <a:t>测得数据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Courier New"/>
                        </a:rPr>
                        <a:t>测量项目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Courier New"/>
                        </a:rPr>
                        <a:t>第一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Courier New"/>
                        </a:rPr>
                        <a:t>第二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Courier New"/>
                        </a:rPr>
                        <a:t>平均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701"/>
                          </a:solidFill>
                          <a:latin typeface="宋体"/>
                        </a:rPr>
                        <a:t>C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701"/>
                          </a:solidFill>
                          <a:latin typeface="宋体"/>
                        </a:rPr>
                        <a:t>B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701"/>
                          </a:solidFill>
                          <a:latin typeface="宋体"/>
                        </a:rPr>
                        <a:t>∠</a:t>
                      </a:r>
                      <a:r>
                        <a:rPr b="0" lang="zh-CN" sz="2400" spc="-1" strike="noStrike">
                          <a:solidFill>
                            <a:srgbClr val="ff0701"/>
                          </a:solidFill>
                          <a:latin typeface="宋体"/>
                        </a:rPr>
                        <a:t>M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701"/>
                          </a:solidFill>
                          <a:latin typeface="宋体"/>
                        </a:rPr>
                        <a:t>∠</a:t>
                      </a:r>
                      <a:r>
                        <a:rPr b="0" lang="zh-CN" sz="2400" spc="-1" strike="noStrike">
                          <a:solidFill>
                            <a:srgbClr val="ff0701"/>
                          </a:solidFill>
                          <a:latin typeface="宋体"/>
                        </a:rPr>
                        <a:t>M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Courier New"/>
                        </a:rPr>
                        <a:t>计算过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Courier New"/>
                        </a:rPr>
                        <a:t>活动感受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Courier New"/>
                        </a:rPr>
                        <a:t>负责人及参加人员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Courier New"/>
                        </a:rPr>
                        <a:t>计算者和复核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Courier New"/>
                        </a:rPr>
                        <a:t>指导教师审核意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宋体"/>
                          <a:ea typeface="Courier New"/>
                        </a:rPr>
                        <a:t>备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4067280" y="692280"/>
            <a:ext cx="2303280" cy="1225440"/>
            <a:chOff x="4067280" y="692280"/>
            <a:chExt cx="2303280" cy="122544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rcRect l="61463" t="14835" r="13132" b="67126"/>
            <a:stretch/>
          </p:blipFill>
          <p:spPr>
            <a:xfrm>
              <a:off x="4067280" y="692280"/>
              <a:ext cx="230328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455000" y="1557720"/>
              <a:ext cx="851760" cy="359640"/>
            </a:xfrm>
            <a:prstGeom prst="irregularSeal1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8T18:33:50Z</dcterms:created>
  <dc:creator>laiyj</dc:creator>
  <dc:description/>
  <dc:language>en-US</dc:language>
  <cp:lastModifiedBy>User</cp:lastModifiedBy>
  <dcterms:modified xsi:type="dcterms:W3CDTF">2014-02-18T02:06:29Z</dcterms:modified>
  <cp:revision>13</cp:revision>
  <dc:subject/>
  <dc:title>1.5测量物体的高度(2)</dc:title>
</cp:coreProperties>
</file>