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BOMB17.WAV" ContentType="audio/x-wav"/>
  <Override PartName="/ppt/media/image7.png" ContentType="image/png"/>
  <Override PartName="/ppt/media/type.wav" ContentType="audio/x-wav"/>
  <Override PartName="/ppt/media/whoosh.wav" ContentType="audio/x-wav"/>
  <Override PartName="/ppt/media/image5.png" ContentType="image/png"/>
  <Override PartName="/ppt/media/image13.wmf" ContentType="image/x-wmf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TYPE.WAV" ContentType="audio/x-wav"/>
  <Override PartName="/ppt/media/image12.png" ContentType="image/png"/>
  <Override PartName="/ppt/media/image11.png" ContentType="image/png"/>
  <Override PartName="/ppt/media/image1.png" ContentType="image/png"/>
  <Override PartName="/ppt/media/image2.jpeg" ContentType="image/jpeg"/>
  <Override PartName="/ppt/media/Joy9.wav" ContentType="audio/x-wav"/>
  <Override PartName="/ppt/media/image3.png" ContentType="image/png"/>
  <Override PartName="/ppt/media/image4.jpeg" ContentType="image/jpeg"/>
  <Override PartName="/ppt/media/image6.jpeg" ContentType="image/jpeg"/>
  <Override PartName="/ppt/media/applause.wav" ContentType="audio/x-wav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3064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588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19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19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96960" y="54900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3588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413064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3588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501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19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501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19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6960" y="54900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588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508720" y="6248520"/>
            <a:ext cx="345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http://www.binheedu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292720" y="6675480"/>
            <a:ext cx="3209760" cy="0"/>
          </a:xfrm>
          <a:prstGeom prst="line">
            <a:avLst/>
          </a:prstGeom>
          <a:ln cap="sq"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459640" y="6105600"/>
            <a:ext cx="532080" cy="70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59280" y="2420640"/>
            <a:ext cx="6083280" cy="161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2428920" cy="3238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508720" y="6248520"/>
            <a:ext cx="345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http://www.bnup.com.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2720" y="6675480"/>
            <a:ext cx="3209760" cy="0"/>
          </a:xfrm>
          <a:prstGeom prst="line">
            <a:avLst/>
          </a:prstGeom>
          <a:ln cap="sq"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459640" y="6105600"/>
            <a:ext cx="532080" cy="708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24560" y="105264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北师大版教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3.xml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0.xml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audio" Target="../media/type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TYPE.WAV"/><Relationship Id="rId27" Type="http://schemas.openxmlformats.org/officeDocument/2006/relationships/audio" Target="../media/type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whoosh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10.png"/><Relationship Id="rId18" Type="http://schemas.openxmlformats.org/officeDocument/2006/relationships/oleObject" Target="../embeddings/oleObject1.bin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wmf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BOMB17.WAV"/><Relationship Id="rId25" Type="http://schemas.openxmlformats.org/officeDocument/2006/relationships/audio" Target="../media/Joy9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audio" Target="../media/Joy9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2.xm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332000" y="3284640"/>
            <a:ext cx="6172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二节    结识抛物线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4360" y="1628640"/>
            <a:ext cx="7619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二章   二次函数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195640" y="836640"/>
            <a:ext cx="2952720" cy="7207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72640" y="29520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练习与提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e9e2b6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60920" y="981000"/>
            <a:ext cx="53175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、已知函数                                         是关于</a:t>
            </a:r>
            <a:r>
              <a:rPr b="1" i="1" lang="zh-CN" sz="2400" spc="-1" strike="noStrike">
                <a:solidFill>
                  <a:srgbClr val="e9e2b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的二次函数。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）满足条件的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m 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的值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为何值时，抛物线有最低点？求出这个最低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这时当</a:t>
            </a:r>
            <a:r>
              <a:rPr b="1" i="1" lang="zh-CN" sz="2400" spc="-1" strike="noStrike">
                <a:solidFill>
                  <a:srgbClr val="e9e2b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为何值时，</a:t>
            </a:r>
            <a:r>
              <a:rPr b="1" i="1" lang="zh-CN" sz="2400" spc="-1" strike="noStrike">
                <a:solidFill>
                  <a:srgbClr val="e9e2b6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随</a:t>
            </a:r>
            <a:r>
              <a:rPr b="1" i="1" lang="zh-CN" sz="2400" spc="-1" strike="noStrike">
                <a:solidFill>
                  <a:srgbClr val="e9e2b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的增大而增大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为何值时，函数有最大值？最大值是多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这时当</a:t>
            </a:r>
            <a:r>
              <a:rPr b="1" i="1" lang="zh-CN" sz="2400" spc="-1" strike="noStrike">
                <a:solidFill>
                  <a:srgbClr val="e9e2b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为何值时，</a:t>
            </a:r>
            <a:r>
              <a:rPr b="1" i="1" lang="zh-CN" sz="2400" spc="-1" strike="noStrike">
                <a:solidFill>
                  <a:srgbClr val="e9e2b6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随</a:t>
            </a:r>
            <a:r>
              <a:rPr b="1" i="1" lang="zh-CN" sz="2400" spc="-1" strike="noStrike">
                <a:solidFill>
                  <a:srgbClr val="e9e2b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的增大而减小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195640" y="836640"/>
                <a:ext cx="29160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788000" y="2044800"/>
            <a:ext cx="3852360" cy="4343400"/>
            <a:chOff x="4788000" y="2044800"/>
            <a:chExt cx="3852360" cy="4343400"/>
          </a:xfrm>
        </p:grpSpPr>
        <p:grpSp>
          <p:nvGrpSpPr>
            <p:cNvPr id="283" name=""/>
            <p:cNvGrpSpPr/>
            <p:nvPr/>
          </p:nvGrpSpPr>
          <p:grpSpPr>
            <a:xfrm>
              <a:off x="4788000" y="2273400"/>
              <a:ext cx="3657600" cy="4114800"/>
              <a:chOff x="4788000" y="2273400"/>
              <a:chExt cx="3657600" cy="411480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4788000" y="2425680"/>
                <a:ext cx="3429000" cy="3962520"/>
                <a:chOff x="4788000" y="2425680"/>
                <a:chExt cx="3429000" cy="3962520"/>
              </a:xfrm>
            </p:grpSpPr>
            <p:pic>
              <p:nvPicPr>
                <p:cNvPr id="285" name="" descr=""/>
                <p:cNvPicPr/>
                <p:nvPr/>
              </p:nvPicPr>
              <p:blipFill>
                <a:blip r:embed="rId1"/>
                <a:srcRect l="29000" t="17999" r="26000" b="12669"/>
                <a:stretch/>
              </p:blipFill>
              <p:spPr>
                <a:xfrm>
                  <a:off x="4788000" y="2425680"/>
                  <a:ext cx="3429000" cy="396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6" name=""/>
                <p:cNvSpPr/>
                <p:nvPr/>
              </p:nvSpPr>
              <p:spPr>
                <a:xfrm>
                  <a:off x="5550120" y="3083040"/>
                  <a:ext cx="1352520" cy="2371680"/>
                </a:xfrm>
                <a:custGeom>
                  <a:avLst/>
                  <a:gdLst/>
                  <a:ahLst/>
                  <a:rect l="l" t="t" r="r" b="b"/>
                  <a:pathLst>
                    <a:path w="852" h="1494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6" y="18"/>
                      </a:lnTo>
                      <a:lnTo>
                        <a:pt x="6" y="24"/>
                      </a:lnTo>
                      <a:lnTo>
                        <a:pt x="6" y="30"/>
                      </a:lnTo>
                      <a:lnTo>
                        <a:pt x="6" y="36"/>
                      </a:lnTo>
                      <a:lnTo>
                        <a:pt x="6" y="42"/>
                      </a:lnTo>
                      <a:lnTo>
                        <a:pt x="12" y="48"/>
                      </a:lnTo>
                      <a:lnTo>
                        <a:pt x="12" y="54"/>
                      </a:lnTo>
                      <a:lnTo>
                        <a:pt x="12" y="60"/>
                      </a:lnTo>
                      <a:lnTo>
                        <a:pt x="12" y="66"/>
                      </a:lnTo>
                      <a:lnTo>
                        <a:pt x="12" y="72"/>
                      </a:lnTo>
                      <a:lnTo>
                        <a:pt x="12" y="78"/>
                      </a:lnTo>
                      <a:lnTo>
                        <a:pt x="18" y="78"/>
                      </a:lnTo>
                      <a:lnTo>
                        <a:pt x="18" y="84"/>
                      </a:lnTo>
                      <a:lnTo>
                        <a:pt x="18" y="90"/>
                      </a:lnTo>
                      <a:lnTo>
                        <a:pt x="18" y="96"/>
                      </a:lnTo>
                      <a:lnTo>
                        <a:pt x="18" y="102"/>
                      </a:lnTo>
                      <a:lnTo>
                        <a:pt x="24" y="108"/>
                      </a:lnTo>
                      <a:lnTo>
                        <a:pt x="24" y="114"/>
                      </a:lnTo>
                      <a:lnTo>
                        <a:pt x="24" y="120"/>
                      </a:lnTo>
                      <a:lnTo>
                        <a:pt x="24" y="126"/>
                      </a:lnTo>
                      <a:lnTo>
                        <a:pt x="24" y="132"/>
                      </a:lnTo>
                      <a:lnTo>
                        <a:pt x="30" y="138"/>
                      </a:lnTo>
                      <a:lnTo>
                        <a:pt x="30" y="144"/>
                      </a:lnTo>
                      <a:lnTo>
                        <a:pt x="30" y="150"/>
                      </a:lnTo>
                      <a:lnTo>
                        <a:pt x="30" y="156"/>
                      </a:lnTo>
                      <a:lnTo>
                        <a:pt x="30" y="162"/>
                      </a:lnTo>
                      <a:lnTo>
                        <a:pt x="36" y="168"/>
                      </a:lnTo>
                      <a:lnTo>
                        <a:pt x="36" y="174"/>
                      </a:lnTo>
                      <a:lnTo>
                        <a:pt x="36" y="180"/>
                      </a:lnTo>
                      <a:lnTo>
                        <a:pt x="36" y="186"/>
                      </a:lnTo>
                      <a:lnTo>
                        <a:pt x="36" y="192"/>
                      </a:lnTo>
                      <a:lnTo>
                        <a:pt x="42" y="192"/>
                      </a:lnTo>
                      <a:lnTo>
                        <a:pt x="42" y="198"/>
                      </a:lnTo>
                      <a:lnTo>
                        <a:pt x="42" y="204"/>
                      </a:lnTo>
                      <a:lnTo>
                        <a:pt x="42" y="210"/>
                      </a:lnTo>
                      <a:lnTo>
                        <a:pt x="42" y="216"/>
                      </a:lnTo>
                      <a:lnTo>
                        <a:pt x="42" y="222"/>
                      </a:lnTo>
                      <a:lnTo>
                        <a:pt x="48" y="228"/>
                      </a:lnTo>
                      <a:lnTo>
                        <a:pt x="48" y="234"/>
                      </a:lnTo>
                      <a:lnTo>
                        <a:pt x="48" y="240"/>
                      </a:lnTo>
                      <a:lnTo>
                        <a:pt x="48" y="246"/>
                      </a:lnTo>
                      <a:lnTo>
                        <a:pt x="54" y="252"/>
                      </a:lnTo>
                      <a:lnTo>
                        <a:pt x="54" y="258"/>
                      </a:lnTo>
                      <a:lnTo>
                        <a:pt x="54" y="264"/>
                      </a:lnTo>
                      <a:lnTo>
                        <a:pt x="54" y="270"/>
                      </a:lnTo>
                      <a:lnTo>
                        <a:pt x="54" y="276"/>
                      </a:lnTo>
                      <a:lnTo>
                        <a:pt x="60" y="282"/>
                      </a:lnTo>
                      <a:lnTo>
                        <a:pt x="60" y="288"/>
                      </a:lnTo>
                      <a:lnTo>
                        <a:pt x="60" y="294"/>
                      </a:lnTo>
                      <a:lnTo>
                        <a:pt x="60" y="300"/>
                      </a:lnTo>
                      <a:lnTo>
                        <a:pt x="60" y="306"/>
                      </a:lnTo>
                      <a:lnTo>
                        <a:pt x="66" y="306"/>
                      </a:lnTo>
                      <a:lnTo>
                        <a:pt x="66" y="312"/>
                      </a:lnTo>
                      <a:lnTo>
                        <a:pt x="66" y="318"/>
                      </a:lnTo>
                      <a:lnTo>
                        <a:pt x="66" y="324"/>
                      </a:lnTo>
                      <a:lnTo>
                        <a:pt x="66" y="330"/>
                      </a:lnTo>
                      <a:lnTo>
                        <a:pt x="66" y="336"/>
                      </a:lnTo>
                      <a:lnTo>
                        <a:pt x="72" y="336"/>
                      </a:lnTo>
                      <a:lnTo>
                        <a:pt x="72" y="342"/>
                      </a:lnTo>
                      <a:lnTo>
                        <a:pt x="72" y="348"/>
                      </a:lnTo>
                      <a:lnTo>
                        <a:pt x="72" y="354"/>
                      </a:lnTo>
                      <a:lnTo>
                        <a:pt x="72" y="360"/>
                      </a:lnTo>
                      <a:lnTo>
                        <a:pt x="78" y="360"/>
                      </a:lnTo>
                      <a:lnTo>
                        <a:pt x="78" y="366"/>
                      </a:lnTo>
                      <a:lnTo>
                        <a:pt x="78" y="372"/>
                      </a:lnTo>
                      <a:lnTo>
                        <a:pt x="78" y="378"/>
                      </a:lnTo>
                      <a:lnTo>
                        <a:pt x="78" y="384"/>
                      </a:lnTo>
                      <a:lnTo>
                        <a:pt x="84" y="390"/>
                      </a:lnTo>
                      <a:lnTo>
                        <a:pt x="84" y="396"/>
                      </a:lnTo>
                      <a:lnTo>
                        <a:pt x="84" y="402"/>
                      </a:lnTo>
                      <a:lnTo>
                        <a:pt x="84" y="408"/>
                      </a:lnTo>
                      <a:lnTo>
                        <a:pt x="84" y="414"/>
                      </a:lnTo>
                      <a:lnTo>
                        <a:pt x="90" y="414"/>
                      </a:lnTo>
                      <a:lnTo>
                        <a:pt x="90" y="420"/>
                      </a:lnTo>
                      <a:lnTo>
                        <a:pt x="90" y="426"/>
                      </a:lnTo>
                      <a:lnTo>
                        <a:pt x="90" y="432"/>
                      </a:lnTo>
                      <a:lnTo>
                        <a:pt x="90" y="438"/>
                      </a:lnTo>
                      <a:lnTo>
                        <a:pt x="96" y="438"/>
                      </a:lnTo>
                      <a:lnTo>
                        <a:pt x="96" y="444"/>
                      </a:lnTo>
                      <a:lnTo>
                        <a:pt x="96" y="450"/>
                      </a:lnTo>
                      <a:lnTo>
                        <a:pt x="96" y="456"/>
                      </a:lnTo>
                      <a:lnTo>
                        <a:pt x="96" y="462"/>
                      </a:lnTo>
                      <a:lnTo>
                        <a:pt x="102" y="468"/>
                      </a:lnTo>
                      <a:lnTo>
                        <a:pt x="102" y="474"/>
                      </a:lnTo>
                      <a:lnTo>
                        <a:pt x="102" y="480"/>
                      </a:lnTo>
                      <a:lnTo>
                        <a:pt x="102" y="486"/>
                      </a:lnTo>
                      <a:lnTo>
                        <a:pt x="108" y="492"/>
                      </a:lnTo>
                      <a:lnTo>
                        <a:pt x="108" y="498"/>
                      </a:lnTo>
                      <a:lnTo>
                        <a:pt x="108" y="504"/>
                      </a:lnTo>
                      <a:lnTo>
                        <a:pt x="108" y="510"/>
                      </a:lnTo>
                      <a:lnTo>
                        <a:pt x="108" y="516"/>
                      </a:lnTo>
                      <a:lnTo>
                        <a:pt x="114" y="522"/>
                      </a:lnTo>
                      <a:lnTo>
                        <a:pt x="114" y="528"/>
                      </a:lnTo>
                      <a:lnTo>
                        <a:pt x="114" y="534"/>
                      </a:lnTo>
                      <a:lnTo>
                        <a:pt x="114" y="540"/>
                      </a:lnTo>
                      <a:lnTo>
                        <a:pt x="120" y="540"/>
                      </a:lnTo>
                      <a:lnTo>
                        <a:pt x="120" y="546"/>
                      </a:lnTo>
                      <a:lnTo>
                        <a:pt x="120" y="552"/>
                      </a:lnTo>
                      <a:lnTo>
                        <a:pt x="120" y="558"/>
                      </a:lnTo>
                      <a:lnTo>
                        <a:pt x="120" y="564"/>
                      </a:lnTo>
                      <a:lnTo>
                        <a:pt x="126" y="564"/>
                      </a:lnTo>
                      <a:lnTo>
                        <a:pt x="126" y="570"/>
                      </a:lnTo>
                      <a:lnTo>
                        <a:pt x="126" y="576"/>
                      </a:lnTo>
                      <a:lnTo>
                        <a:pt x="126" y="582"/>
                      </a:lnTo>
                      <a:lnTo>
                        <a:pt x="126" y="588"/>
                      </a:lnTo>
                      <a:lnTo>
                        <a:pt x="132" y="594"/>
                      </a:lnTo>
                      <a:lnTo>
                        <a:pt x="132" y="600"/>
                      </a:lnTo>
                      <a:lnTo>
                        <a:pt x="132" y="606"/>
                      </a:lnTo>
                      <a:lnTo>
                        <a:pt x="132" y="612"/>
                      </a:lnTo>
                      <a:lnTo>
                        <a:pt x="138" y="612"/>
                      </a:lnTo>
                      <a:lnTo>
                        <a:pt x="138" y="618"/>
                      </a:lnTo>
                      <a:lnTo>
                        <a:pt x="138" y="624"/>
                      </a:lnTo>
                      <a:lnTo>
                        <a:pt x="138" y="630"/>
                      </a:lnTo>
                      <a:lnTo>
                        <a:pt x="138" y="636"/>
                      </a:lnTo>
                      <a:lnTo>
                        <a:pt x="144" y="636"/>
                      </a:lnTo>
                      <a:lnTo>
                        <a:pt x="144" y="642"/>
                      </a:lnTo>
                      <a:lnTo>
                        <a:pt x="144" y="648"/>
                      </a:lnTo>
                      <a:lnTo>
                        <a:pt x="144" y="654"/>
                      </a:lnTo>
                      <a:lnTo>
                        <a:pt x="150" y="660"/>
                      </a:lnTo>
                      <a:lnTo>
                        <a:pt x="150" y="666"/>
                      </a:lnTo>
                      <a:lnTo>
                        <a:pt x="150" y="672"/>
                      </a:lnTo>
                      <a:lnTo>
                        <a:pt x="150" y="678"/>
                      </a:lnTo>
                      <a:lnTo>
                        <a:pt x="150" y="684"/>
                      </a:lnTo>
                      <a:lnTo>
                        <a:pt x="156" y="684"/>
                      </a:lnTo>
                      <a:lnTo>
                        <a:pt x="156" y="690"/>
                      </a:lnTo>
                      <a:lnTo>
                        <a:pt x="156" y="696"/>
                      </a:lnTo>
                      <a:lnTo>
                        <a:pt x="156" y="702"/>
                      </a:lnTo>
                      <a:lnTo>
                        <a:pt x="162" y="708"/>
                      </a:lnTo>
                      <a:lnTo>
                        <a:pt x="162" y="714"/>
                      </a:lnTo>
                      <a:lnTo>
                        <a:pt x="162" y="720"/>
                      </a:lnTo>
                      <a:lnTo>
                        <a:pt x="162" y="726"/>
                      </a:lnTo>
                      <a:lnTo>
                        <a:pt x="168" y="732"/>
                      </a:lnTo>
                      <a:lnTo>
                        <a:pt x="168" y="738"/>
                      </a:lnTo>
                      <a:lnTo>
                        <a:pt x="168" y="744"/>
                      </a:lnTo>
                      <a:lnTo>
                        <a:pt x="168" y="750"/>
                      </a:lnTo>
                      <a:lnTo>
                        <a:pt x="174" y="750"/>
                      </a:lnTo>
                      <a:lnTo>
                        <a:pt x="174" y="756"/>
                      </a:lnTo>
                      <a:lnTo>
                        <a:pt x="174" y="762"/>
                      </a:lnTo>
                      <a:lnTo>
                        <a:pt x="174" y="768"/>
                      </a:lnTo>
                      <a:lnTo>
                        <a:pt x="180" y="768"/>
                      </a:lnTo>
                      <a:lnTo>
                        <a:pt x="180" y="774"/>
                      </a:lnTo>
                      <a:lnTo>
                        <a:pt x="180" y="780"/>
                      </a:lnTo>
                      <a:lnTo>
                        <a:pt x="180" y="786"/>
                      </a:lnTo>
                      <a:lnTo>
                        <a:pt x="180" y="792"/>
                      </a:lnTo>
                      <a:lnTo>
                        <a:pt x="186" y="792"/>
                      </a:lnTo>
                      <a:lnTo>
                        <a:pt x="186" y="798"/>
                      </a:lnTo>
                      <a:lnTo>
                        <a:pt x="186" y="804"/>
                      </a:lnTo>
                      <a:lnTo>
                        <a:pt x="186" y="810"/>
                      </a:lnTo>
                      <a:lnTo>
                        <a:pt x="192" y="816"/>
                      </a:lnTo>
                      <a:lnTo>
                        <a:pt x="192" y="822"/>
                      </a:lnTo>
                      <a:lnTo>
                        <a:pt x="192" y="828"/>
                      </a:lnTo>
                      <a:lnTo>
                        <a:pt x="192" y="834"/>
                      </a:lnTo>
                      <a:lnTo>
                        <a:pt x="198" y="834"/>
                      </a:lnTo>
                      <a:lnTo>
                        <a:pt x="198" y="840"/>
                      </a:lnTo>
                      <a:lnTo>
                        <a:pt x="198" y="846"/>
                      </a:lnTo>
                      <a:lnTo>
                        <a:pt x="198" y="852"/>
                      </a:lnTo>
                      <a:lnTo>
                        <a:pt x="204" y="852"/>
                      </a:lnTo>
                      <a:lnTo>
                        <a:pt x="204" y="858"/>
                      </a:lnTo>
                      <a:lnTo>
                        <a:pt x="204" y="864"/>
                      </a:lnTo>
                      <a:lnTo>
                        <a:pt x="204" y="870"/>
                      </a:lnTo>
                      <a:lnTo>
                        <a:pt x="204" y="876"/>
                      </a:lnTo>
                      <a:lnTo>
                        <a:pt x="210" y="876"/>
                      </a:lnTo>
                      <a:lnTo>
                        <a:pt x="210" y="882"/>
                      </a:lnTo>
                      <a:lnTo>
                        <a:pt x="210" y="888"/>
                      </a:lnTo>
                      <a:lnTo>
                        <a:pt x="210" y="894"/>
                      </a:lnTo>
                      <a:lnTo>
                        <a:pt x="216" y="894"/>
                      </a:lnTo>
                      <a:lnTo>
                        <a:pt x="216" y="900"/>
                      </a:lnTo>
                      <a:lnTo>
                        <a:pt x="216" y="906"/>
                      </a:lnTo>
                      <a:lnTo>
                        <a:pt x="216" y="912"/>
                      </a:lnTo>
                      <a:lnTo>
                        <a:pt x="222" y="912"/>
                      </a:lnTo>
                      <a:lnTo>
                        <a:pt x="222" y="918"/>
                      </a:lnTo>
                      <a:lnTo>
                        <a:pt x="222" y="924"/>
                      </a:lnTo>
                      <a:lnTo>
                        <a:pt x="222" y="930"/>
                      </a:lnTo>
                      <a:lnTo>
                        <a:pt x="228" y="936"/>
                      </a:lnTo>
                      <a:lnTo>
                        <a:pt x="228" y="942"/>
                      </a:lnTo>
                      <a:lnTo>
                        <a:pt x="228" y="948"/>
                      </a:lnTo>
                      <a:lnTo>
                        <a:pt x="234" y="954"/>
                      </a:lnTo>
                      <a:lnTo>
                        <a:pt x="234" y="960"/>
                      </a:lnTo>
                      <a:lnTo>
                        <a:pt x="234" y="966"/>
                      </a:lnTo>
                      <a:lnTo>
                        <a:pt x="240" y="972"/>
                      </a:lnTo>
                      <a:lnTo>
                        <a:pt x="240" y="978"/>
                      </a:lnTo>
                      <a:lnTo>
                        <a:pt x="240" y="984"/>
                      </a:lnTo>
                      <a:lnTo>
                        <a:pt x="246" y="990"/>
                      </a:lnTo>
                      <a:lnTo>
                        <a:pt x="246" y="996"/>
                      </a:lnTo>
                      <a:lnTo>
                        <a:pt x="246" y="1002"/>
                      </a:lnTo>
                      <a:lnTo>
                        <a:pt x="252" y="1008"/>
                      </a:lnTo>
                      <a:lnTo>
                        <a:pt x="252" y="1014"/>
                      </a:lnTo>
                      <a:lnTo>
                        <a:pt x="252" y="1020"/>
                      </a:lnTo>
                      <a:lnTo>
                        <a:pt x="258" y="1026"/>
                      </a:lnTo>
                      <a:lnTo>
                        <a:pt x="258" y="1032"/>
                      </a:lnTo>
                      <a:lnTo>
                        <a:pt x="258" y="1038"/>
                      </a:lnTo>
                      <a:lnTo>
                        <a:pt x="264" y="1044"/>
                      </a:lnTo>
                      <a:lnTo>
                        <a:pt x="264" y="1050"/>
                      </a:lnTo>
                      <a:lnTo>
                        <a:pt x="264" y="1056"/>
                      </a:lnTo>
                      <a:lnTo>
                        <a:pt x="270" y="1056"/>
                      </a:lnTo>
                      <a:lnTo>
                        <a:pt x="270" y="1062"/>
                      </a:lnTo>
                      <a:lnTo>
                        <a:pt x="270" y="1068"/>
                      </a:lnTo>
                      <a:lnTo>
                        <a:pt x="276" y="1074"/>
                      </a:lnTo>
                      <a:lnTo>
                        <a:pt x="276" y="1080"/>
                      </a:lnTo>
                      <a:lnTo>
                        <a:pt x="276" y="1086"/>
                      </a:lnTo>
                      <a:lnTo>
                        <a:pt x="282" y="1092"/>
                      </a:lnTo>
                      <a:lnTo>
                        <a:pt x="282" y="1098"/>
                      </a:lnTo>
                      <a:lnTo>
                        <a:pt x="282" y="1104"/>
                      </a:lnTo>
                      <a:lnTo>
                        <a:pt x="288" y="1104"/>
                      </a:lnTo>
                      <a:lnTo>
                        <a:pt x="288" y="1110"/>
                      </a:lnTo>
                      <a:lnTo>
                        <a:pt x="288" y="1116"/>
                      </a:lnTo>
                      <a:lnTo>
                        <a:pt x="288" y="1122"/>
                      </a:lnTo>
                      <a:lnTo>
                        <a:pt x="294" y="1122"/>
                      </a:lnTo>
                      <a:lnTo>
                        <a:pt x="294" y="1128"/>
                      </a:lnTo>
                      <a:lnTo>
                        <a:pt x="294" y="1134"/>
                      </a:lnTo>
                      <a:lnTo>
                        <a:pt x="300" y="1134"/>
                      </a:lnTo>
                      <a:lnTo>
                        <a:pt x="300" y="1140"/>
                      </a:lnTo>
                      <a:lnTo>
                        <a:pt x="300" y="1146"/>
                      </a:lnTo>
                      <a:lnTo>
                        <a:pt x="300" y="1152"/>
                      </a:lnTo>
                      <a:lnTo>
                        <a:pt x="306" y="1152"/>
                      </a:lnTo>
                      <a:lnTo>
                        <a:pt x="306" y="1158"/>
                      </a:lnTo>
                      <a:lnTo>
                        <a:pt x="306" y="1164"/>
                      </a:lnTo>
                      <a:lnTo>
                        <a:pt x="312" y="1164"/>
                      </a:lnTo>
                      <a:lnTo>
                        <a:pt x="312" y="1170"/>
                      </a:lnTo>
                      <a:lnTo>
                        <a:pt x="312" y="1176"/>
                      </a:lnTo>
                      <a:lnTo>
                        <a:pt x="312" y="1182"/>
                      </a:lnTo>
                      <a:lnTo>
                        <a:pt x="318" y="1182"/>
                      </a:lnTo>
                      <a:lnTo>
                        <a:pt x="318" y="1188"/>
                      </a:lnTo>
                      <a:lnTo>
                        <a:pt x="318" y="1194"/>
                      </a:lnTo>
                      <a:lnTo>
                        <a:pt x="324" y="1194"/>
                      </a:lnTo>
                      <a:lnTo>
                        <a:pt x="324" y="1200"/>
                      </a:lnTo>
                      <a:lnTo>
                        <a:pt x="324" y="1206"/>
                      </a:lnTo>
                      <a:lnTo>
                        <a:pt x="330" y="1206"/>
                      </a:lnTo>
                      <a:lnTo>
                        <a:pt x="330" y="1212"/>
                      </a:lnTo>
                      <a:lnTo>
                        <a:pt x="330" y="1218"/>
                      </a:lnTo>
                      <a:lnTo>
                        <a:pt x="336" y="1224"/>
                      </a:lnTo>
                      <a:lnTo>
                        <a:pt x="336" y="1230"/>
                      </a:lnTo>
                      <a:lnTo>
                        <a:pt x="342" y="1236"/>
                      </a:lnTo>
                      <a:lnTo>
                        <a:pt x="342" y="1242"/>
                      </a:lnTo>
                      <a:lnTo>
                        <a:pt x="342" y="1248"/>
                      </a:lnTo>
                      <a:lnTo>
                        <a:pt x="348" y="1248"/>
                      </a:lnTo>
                      <a:lnTo>
                        <a:pt x="348" y="1254"/>
                      </a:lnTo>
                      <a:lnTo>
                        <a:pt x="348" y="1260"/>
                      </a:lnTo>
                      <a:lnTo>
                        <a:pt x="354" y="1260"/>
                      </a:lnTo>
                      <a:lnTo>
                        <a:pt x="354" y="1266"/>
                      </a:lnTo>
                      <a:lnTo>
                        <a:pt x="354" y="1272"/>
                      </a:lnTo>
                      <a:lnTo>
                        <a:pt x="360" y="1272"/>
                      </a:lnTo>
                      <a:lnTo>
                        <a:pt x="360" y="1278"/>
                      </a:lnTo>
                      <a:lnTo>
                        <a:pt x="360" y="1284"/>
                      </a:lnTo>
                      <a:lnTo>
                        <a:pt x="366" y="1284"/>
                      </a:lnTo>
                      <a:lnTo>
                        <a:pt x="366" y="1290"/>
                      </a:lnTo>
                      <a:lnTo>
                        <a:pt x="372" y="1296"/>
                      </a:lnTo>
                      <a:lnTo>
                        <a:pt x="372" y="1302"/>
                      </a:lnTo>
                      <a:lnTo>
                        <a:pt x="378" y="1308"/>
                      </a:lnTo>
                      <a:lnTo>
                        <a:pt x="378" y="1314"/>
                      </a:lnTo>
                      <a:lnTo>
                        <a:pt x="384" y="1314"/>
                      </a:lnTo>
                      <a:lnTo>
                        <a:pt x="384" y="1320"/>
                      </a:lnTo>
                      <a:lnTo>
                        <a:pt x="384" y="1326"/>
                      </a:lnTo>
                      <a:lnTo>
                        <a:pt x="390" y="1326"/>
                      </a:lnTo>
                      <a:lnTo>
                        <a:pt x="390" y="1332"/>
                      </a:lnTo>
                      <a:lnTo>
                        <a:pt x="390" y="1338"/>
                      </a:lnTo>
                      <a:lnTo>
                        <a:pt x="396" y="1338"/>
                      </a:lnTo>
                      <a:lnTo>
                        <a:pt x="396" y="1344"/>
                      </a:lnTo>
                      <a:lnTo>
                        <a:pt x="402" y="1350"/>
                      </a:lnTo>
                      <a:lnTo>
                        <a:pt x="402" y="1356"/>
                      </a:lnTo>
                      <a:lnTo>
                        <a:pt x="408" y="1356"/>
                      </a:lnTo>
                      <a:lnTo>
                        <a:pt x="408" y="1362"/>
                      </a:lnTo>
                      <a:lnTo>
                        <a:pt x="408" y="1368"/>
                      </a:lnTo>
                      <a:lnTo>
                        <a:pt x="414" y="1368"/>
                      </a:lnTo>
                      <a:lnTo>
                        <a:pt x="414" y="1374"/>
                      </a:lnTo>
                      <a:lnTo>
                        <a:pt x="420" y="1374"/>
                      </a:lnTo>
                      <a:lnTo>
                        <a:pt x="420" y="1380"/>
                      </a:lnTo>
                      <a:lnTo>
                        <a:pt x="426" y="1380"/>
                      </a:lnTo>
                      <a:lnTo>
                        <a:pt x="426" y="1386"/>
                      </a:lnTo>
                      <a:lnTo>
                        <a:pt x="426" y="1392"/>
                      </a:lnTo>
                      <a:lnTo>
                        <a:pt x="432" y="1392"/>
                      </a:lnTo>
                      <a:lnTo>
                        <a:pt x="432" y="1398"/>
                      </a:lnTo>
                      <a:lnTo>
                        <a:pt x="438" y="1398"/>
                      </a:lnTo>
                      <a:lnTo>
                        <a:pt x="438" y="1404"/>
                      </a:lnTo>
                      <a:lnTo>
                        <a:pt x="444" y="1410"/>
                      </a:lnTo>
                      <a:lnTo>
                        <a:pt x="450" y="1416"/>
                      </a:lnTo>
                      <a:lnTo>
                        <a:pt x="450" y="1422"/>
                      </a:lnTo>
                      <a:lnTo>
                        <a:pt x="456" y="1422"/>
                      </a:lnTo>
                      <a:lnTo>
                        <a:pt x="456" y="1428"/>
                      </a:lnTo>
                      <a:lnTo>
                        <a:pt x="462" y="1428"/>
                      </a:lnTo>
                      <a:lnTo>
                        <a:pt x="462" y="1434"/>
                      </a:lnTo>
                      <a:lnTo>
                        <a:pt x="468" y="1434"/>
                      </a:lnTo>
                      <a:lnTo>
                        <a:pt x="468" y="1440"/>
                      </a:lnTo>
                      <a:lnTo>
                        <a:pt x="474" y="1440"/>
                      </a:lnTo>
                      <a:lnTo>
                        <a:pt x="474" y="1446"/>
                      </a:lnTo>
                      <a:lnTo>
                        <a:pt x="480" y="1446"/>
                      </a:lnTo>
                      <a:lnTo>
                        <a:pt x="480" y="1452"/>
                      </a:lnTo>
                      <a:lnTo>
                        <a:pt x="486" y="1452"/>
                      </a:lnTo>
                      <a:lnTo>
                        <a:pt x="486" y="1458"/>
                      </a:lnTo>
                      <a:lnTo>
                        <a:pt x="492" y="1458"/>
                      </a:lnTo>
                      <a:lnTo>
                        <a:pt x="498" y="1464"/>
                      </a:lnTo>
                      <a:lnTo>
                        <a:pt x="504" y="1464"/>
                      </a:lnTo>
                      <a:lnTo>
                        <a:pt x="504" y="1470"/>
                      </a:lnTo>
                      <a:lnTo>
                        <a:pt x="510" y="1470"/>
                      </a:lnTo>
                      <a:lnTo>
                        <a:pt x="516" y="1476"/>
                      </a:lnTo>
                      <a:lnTo>
                        <a:pt x="522" y="1476"/>
                      </a:lnTo>
                      <a:lnTo>
                        <a:pt x="522" y="1482"/>
                      </a:lnTo>
                      <a:lnTo>
                        <a:pt x="528" y="1482"/>
                      </a:lnTo>
                      <a:lnTo>
                        <a:pt x="534" y="1482"/>
                      </a:lnTo>
                      <a:lnTo>
                        <a:pt x="540" y="1488"/>
                      </a:lnTo>
                      <a:lnTo>
                        <a:pt x="546" y="1488"/>
                      </a:lnTo>
                      <a:lnTo>
                        <a:pt x="552" y="1488"/>
                      </a:lnTo>
                      <a:lnTo>
                        <a:pt x="558" y="1488"/>
                      </a:lnTo>
                      <a:lnTo>
                        <a:pt x="558" y="1494"/>
                      </a:lnTo>
                      <a:lnTo>
                        <a:pt x="564" y="1494"/>
                      </a:lnTo>
                      <a:lnTo>
                        <a:pt x="570" y="1494"/>
                      </a:lnTo>
                      <a:lnTo>
                        <a:pt x="576" y="1494"/>
                      </a:lnTo>
                      <a:lnTo>
                        <a:pt x="582" y="1494"/>
                      </a:lnTo>
                      <a:lnTo>
                        <a:pt x="588" y="1494"/>
                      </a:lnTo>
                      <a:lnTo>
                        <a:pt x="594" y="1494"/>
                      </a:lnTo>
                      <a:lnTo>
                        <a:pt x="600" y="1494"/>
                      </a:lnTo>
                      <a:lnTo>
                        <a:pt x="606" y="1494"/>
                      </a:lnTo>
                      <a:lnTo>
                        <a:pt x="606" y="1488"/>
                      </a:lnTo>
                      <a:lnTo>
                        <a:pt x="612" y="1488"/>
                      </a:lnTo>
                      <a:lnTo>
                        <a:pt x="618" y="1488"/>
                      </a:lnTo>
                      <a:lnTo>
                        <a:pt x="624" y="1488"/>
                      </a:lnTo>
                      <a:lnTo>
                        <a:pt x="630" y="1482"/>
                      </a:lnTo>
                      <a:lnTo>
                        <a:pt x="636" y="1482"/>
                      </a:lnTo>
                      <a:lnTo>
                        <a:pt x="642" y="1482"/>
                      </a:lnTo>
                      <a:lnTo>
                        <a:pt x="642" y="1476"/>
                      </a:lnTo>
                      <a:lnTo>
                        <a:pt x="648" y="1476"/>
                      </a:lnTo>
                      <a:lnTo>
                        <a:pt x="654" y="1470"/>
                      </a:lnTo>
                      <a:lnTo>
                        <a:pt x="660" y="1470"/>
                      </a:lnTo>
                      <a:lnTo>
                        <a:pt x="660" y="1464"/>
                      </a:lnTo>
                      <a:lnTo>
                        <a:pt x="666" y="1464"/>
                      </a:lnTo>
                      <a:lnTo>
                        <a:pt x="672" y="1458"/>
                      </a:lnTo>
                      <a:lnTo>
                        <a:pt x="678" y="1458"/>
                      </a:lnTo>
                      <a:lnTo>
                        <a:pt x="678" y="1452"/>
                      </a:lnTo>
                      <a:lnTo>
                        <a:pt x="684" y="1452"/>
                      </a:lnTo>
                      <a:lnTo>
                        <a:pt x="684" y="1446"/>
                      </a:lnTo>
                      <a:lnTo>
                        <a:pt x="690" y="1446"/>
                      </a:lnTo>
                      <a:lnTo>
                        <a:pt x="690" y="1440"/>
                      </a:lnTo>
                      <a:lnTo>
                        <a:pt x="696" y="1440"/>
                      </a:lnTo>
                      <a:lnTo>
                        <a:pt x="696" y="1434"/>
                      </a:lnTo>
                      <a:lnTo>
                        <a:pt x="702" y="1434"/>
                      </a:lnTo>
                      <a:lnTo>
                        <a:pt x="702" y="1428"/>
                      </a:lnTo>
                      <a:lnTo>
                        <a:pt x="708" y="1428"/>
                      </a:lnTo>
                      <a:lnTo>
                        <a:pt x="708" y="1422"/>
                      </a:lnTo>
                      <a:lnTo>
                        <a:pt x="714" y="1422"/>
                      </a:lnTo>
                      <a:lnTo>
                        <a:pt x="714" y="1416"/>
                      </a:lnTo>
                      <a:lnTo>
                        <a:pt x="720" y="1410"/>
                      </a:lnTo>
                      <a:lnTo>
                        <a:pt x="726" y="1404"/>
                      </a:lnTo>
                      <a:lnTo>
                        <a:pt x="726" y="1398"/>
                      </a:lnTo>
                      <a:lnTo>
                        <a:pt x="732" y="1398"/>
                      </a:lnTo>
                      <a:lnTo>
                        <a:pt x="732" y="1392"/>
                      </a:lnTo>
                      <a:lnTo>
                        <a:pt x="738" y="1392"/>
                      </a:lnTo>
                      <a:lnTo>
                        <a:pt x="738" y="1386"/>
                      </a:lnTo>
                      <a:lnTo>
                        <a:pt x="738" y="1380"/>
                      </a:lnTo>
                      <a:lnTo>
                        <a:pt x="744" y="1380"/>
                      </a:lnTo>
                      <a:lnTo>
                        <a:pt x="744" y="1374"/>
                      </a:lnTo>
                      <a:lnTo>
                        <a:pt x="750" y="1374"/>
                      </a:lnTo>
                      <a:lnTo>
                        <a:pt x="750" y="1368"/>
                      </a:lnTo>
                      <a:lnTo>
                        <a:pt x="756" y="1368"/>
                      </a:lnTo>
                      <a:lnTo>
                        <a:pt x="756" y="1362"/>
                      </a:lnTo>
                      <a:lnTo>
                        <a:pt x="756" y="1356"/>
                      </a:lnTo>
                      <a:lnTo>
                        <a:pt x="762" y="1356"/>
                      </a:lnTo>
                      <a:lnTo>
                        <a:pt x="762" y="1350"/>
                      </a:lnTo>
                      <a:lnTo>
                        <a:pt x="768" y="1344"/>
                      </a:lnTo>
                      <a:lnTo>
                        <a:pt x="768" y="1338"/>
                      </a:lnTo>
                      <a:lnTo>
                        <a:pt x="774" y="1338"/>
                      </a:lnTo>
                      <a:lnTo>
                        <a:pt x="774" y="1332"/>
                      </a:lnTo>
                      <a:lnTo>
                        <a:pt x="774" y="1326"/>
                      </a:lnTo>
                      <a:lnTo>
                        <a:pt x="780" y="1326"/>
                      </a:lnTo>
                      <a:lnTo>
                        <a:pt x="780" y="1320"/>
                      </a:lnTo>
                      <a:lnTo>
                        <a:pt x="780" y="1314"/>
                      </a:lnTo>
                      <a:lnTo>
                        <a:pt x="786" y="1314"/>
                      </a:lnTo>
                      <a:lnTo>
                        <a:pt x="786" y="1308"/>
                      </a:lnTo>
                      <a:lnTo>
                        <a:pt x="792" y="1302"/>
                      </a:lnTo>
                      <a:lnTo>
                        <a:pt x="792" y="1296"/>
                      </a:lnTo>
                      <a:lnTo>
                        <a:pt x="798" y="1290"/>
                      </a:lnTo>
                      <a:lnTo>
                        <a:pt x="798" y="1284"/>
                      </a:lnTo>
                      <a:lnTo>
                        <a:pt x="804" y="1284"/>
                      </a:lnTo>
                      <a:lnTo>
                        <a:pt x="804" y="1278"/>
                      </a:lnTo>
                      <a:lnTo>
                        <a:pt x="804" y="1272"/>
                      </a:lnTo>
                      <a:lnTo>
                        <a:pt x="810" y="1272"/>
                      </a:lnTo>
                      <a:lnTo>
                        <a:pt x="810" y="1266"/>
                      </a:lnTo>
                      <a:lnTo>
                        <a:pt x="810" y="1260"/>
                      </a:lnTo>
                      <a:lnTo>
                        <a:pt x="816" y="1260"/>
                      </a:lnTo>
                      <a:lnTo>
                        <a:pt x="816" y="1254"/>
                      </a:lnTo>
                      <a:lnTo>
                        <a:pt x="816" y="1248"/>
                      </a:lnTo>
                      <a:lnTo>
                        <a:pt x="822" y="1248"/>
                      </a:lnTo>
                      <a:lnTo>
                        <a:pt x="822" y="1242"/>
                      </a:lnTo>
                      <a:lnTo>
                        <a:pt x="822" y="1236"/>
                      </a:lnTo>
                      <a:lnTo>
                        <a:pt x="828" y="1230"/>
                      </a:lnTo>
                      <a:lnTo>
                        <a:pt x="828" y="1224"/>
                      </a:lnTo>
                      <a:lnTo>
                        <a:pt x="834" y="1218"/>
                      </a:lnTo>
                      <a:lnTo>
                        <a:pt x="834" y="1212"/>
                      </a:lnTo>
                      <a:lnTo>
                        <a:pt x="834" y="1206"/>
                      </a:lnTo>
                      <a:lnTo>
                        <a:pt x="840" y="1206"/>
                      </a:lnTo>
                      <a:lnTo>
                        <a:pt x="840" y="1200"/>
                      </a:lnTo>
                      <a:lnTo>
                        <a:pt x="840" y="1194"/>
                      </a:lnTo>
                      <a:lnTo>
                        <a:pt x="846" y="1194"/>
                      </a:lnTo>
                      <a:lnTo>
                        <a:pt x="846" y="1188"/>
                      </a:lnTo>
                      <a:lnTo>
                        <a:pt x="846" y="1182"/>
                      </a:lnTo>
                      <a:lnTo>
                        <a:pt x="852" y="1182"/>
                      </a:lnTo>
                      <a:lnTo>
                        <a:pt x="852" y="1176"/>
                      </a:lnTo>
                      <a:lnTo>
                        <a:pt x="852" y="1170"/>
                      </a:lnTo>
                    </a:path>
                  </a:pathLst>
                </a:custGeom>
                <a:noFill/>
                <a:ln w="9360">
                  <a:solidFill>
                    <a:srgbClr val="d54f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2640" y="3083040"/>
                  <a:ext cx="495360" cy="1857240"/>
                </a:xfrm>
                <a:custGeom>
                  <a:avLst/>
                  <a:gdLst/>
                  <a:ahLst/>
                  <a:rect l="l" t="t" r="r" b="b"/>
                  <a:pathLst>
                    <a:path w="312" h="1170">
                      <a:moveTo>
                        <a:pt x="0" y="1170"/>
                      </a:moveTo>
                      <a:lnTo>
                        <a:pt x="0" y="1164"/>
                      </a:lnTo>
                      <a:lnTo>
                        <a:pt x="6" y="1164"/>
                      </a:lnTo>
                      <a:lnTo>
                        <a:pt x="6" y="1158"/>
                      </a:lnTo>
                      <a:lnTo>
                        <a:pt x="6" y="1152"/>
                      </a:lnTo>
                      <a:lnTo>
                        <a:pt x="12" y="1152"/>
                      </a:lnTo>
                      <a:lnTo>
                        <a:pt x="12" y="1146"/>
                      </a:lnTo>
                      <a:lnTo>
                        <a:pt x="12" y="1140"/>
                      </a:lnTo>
                      <a:lnTo>
                        <a:pt x="12" y="1134"/>
                      </a:lnTo>
                      <a:lnTo>
                        <a:pt x="18" y="1134"/>
                      </a:lnTo>
                      <a:lnTo>
                        <a:pt x="18" y="1128"/>
                      </a:lnTo>
                      <a:lnTo>
                        <a:pt x="18" y="1122"/>
                      </a:lnTo>
                      <a:lnTo>
                        <a:pt x="24" y="1122"/>
                      </a:lnTo>
                      <a:lnTo>
                        <a:pt x="24" y="1116"/>
                      </a:lnTo>
                      <a:lnTo>
                        <a:pt x="24" y="1110"/>
                      </a:lnTo>
                      <a:lnTo>
                        <a:pt x="24" y="1104"/>
                      </a:lnTo>
                      <a:lnTo>
                        <a:pt x="30" y="1104"/>
                      </a:lnTo>
                      <a:lnTo>
                        <a:pt x="30" y="1098"/>
                      </a:lnTo>
                      <a:lnTo>
                        <a:pt x="30" y="1092"/>
                      </a:lnTo>
                      <a:lnTo>
                        <a:pt x="36" y="1086"/>
                      </a:lnTo>
                      <a:lnTo>
                        <a:pt x="36" y="1080"/>
                      </a:lnTo>
                      <a:lnTo>
                        <a:pt x="36" y="1074"/>
                      </a:lnTo>
                      <a:lnTo>
                        <a:pt x="42" y="1068"/>
                      </a:lnTo>
                      <a:lnTo>
                        <a:pt x="42" y="1062"/>
                      </a:lnTo>
                      <a:lnTo>
                        <a:pt x="42" y="1056"/>
                      </a:lnTo>
                      <a:lnTo>
                        <a:pt x="48" y="1056"/>
                      </a:lnTo>
                      <a:lnTo>
                        <a:pt x="48" y="1050"/>
                      </a:lnTo>
                      <a:lnTo>
                        <a:pt x="48" y="1044"/>
                      </a:lnTo>
                      <a:lnTo>
                        <a:pt x="54" y="1038"/>
                      </a:lnTo>
                      <a:lnTo>
                        <a:pt x="54" y="1032"/>
                      </a:lnTo>
                      <a:lnTo>
                        <a:pt x="54" y="1026"/>
                      </a:lnTo>
                      <a:lnTo>
                        <a:pt x="60" y="1020"/>
                      </a:lnTo>
                      <a:lnTo>
                        <a:pt x="60" y="1014"/>
                      </a:lnTo>
                      <a:lnTo>
                        <a:pt x="60" y="1008"/>
                      </a:lnTo>
                      <a:lnTo>
                        <a:pt x="66" y="1002"/>
                      </a:lnTo>
                      <a:lnTo>
                        <a:pt x="66" y="996"/>
                      </a:lnTo>
                      <a:lnTo>
                        <a:pt x="66" y="990"/>
                      </a:lnTo>
                      <a:lnTo>
                        <a:pt x="72" y="984"/>
                      </a:lnTo>
                      <a:lnTo>
                        <a:pt x="72" y="978"/>
                      </a:lnTo>
                      <a:lnTo>
                        <a:pt x="72" y="972"/>
                      </a:lnTo>
                      <a:lnTo>
                        <a:pt x="78" y="966"/>
                      </a:lnTo>
                      <a:lnTo>
                        <a:pt x="78" y="960"/>
                      </a:lnTo>
                      <a:lnTo>
                        <a:pt x="78" y="954"/>
                      </a:lnTo>
                      <a:lnTo>
                        <a:pt x="84" y="948"/>
                      </a:lnTo>
                      <a:lnTo>
                        <a:pt x="84" y="942"/>
                      </a:lnTo>
                      <a:lnTo>
                        <a:pt x="84" y="936"/>
                      </a:lnTo>
                      <a:lnTo>
                        <a:pt x="90" y="930"/>
                      </a:lnTo>
                      <a:lnTo>
                        <a:pt x="90" y="924"/>
                      </a:lnTo>
                      <a:lnTo>
                        <a:pt x="90" y="918"/>
                      </a:lnTo>
                      <a:lnTo>
                        <a:pt x="90" y="912"/>
                      </a:lnTo>
                      <a:lnTo>
                        <a:pt x="96" y="912"/>
                      </a:lnTo>
                      <a:lnTo>
                        <a:pt x="96" y="906"/>
                      </a:lnTo>
                      <a:lnTo>
                        <a:pt x="96" y="900"/>
                      </a:lnTo>
                      <a:lnTo>
                        <a:pt x="96" y="894"/>
                      </a:lnTo>
                      <a:lnTo>
                        <a:pt x="102" y="894"/>
                      </a:lnTo>
                      <a:lnTo>
                        <a:pt x="102" y="888"/>
                      </a:lnTo>
                      <a:lnTo>
                        <a:pt x="102" y="882"/>
                      </a:lnTo>
                      <a:lnTo>
                        <a:pt x="102" y="876"/>
                      </a:lnTo>
                      <a:lnTo>
                        <a:pt x="108" y="876"/>
                      </a:lnTo>
                      <a:lnTo>
                        <a:pt x="108" y="870"/>
                      </a:lnTo>
                      <a:lnTo>
                        <a:pt x="108" y="864"/>
                      </a:lnTo>
                      <a:lnTo>
                        <a:pt x="108" y="858"/>
                      </a:lnTo>
                      <a:lnTo>
                        <a:pt x="108" y="852"/>
                      </a:lnTo>
                      <a:lnTo>
                        <a:pt x="114" y="852"/>
                      </a:lnTo>
                      <a:lnTo>
                        <a:pt x="114" y="846"/>
                      </a:lnTo>
                      <a:lnTo>
                        <a:pt x="114" y="840"/>
                      </a:lnTo>
                      <a:lnTo>
                        <a:pt x="114" y="834"/>
                      </a:lnTo>
                      <a:lnTo>
                        <a:pt x="120" y="834"/>
                      </a:lnTo>
                      <a:lnTo>
                        <a:pt x="120" y="828"/>
                      </a:lnTo>
                      <a:lnTo>
                        <a:pt x="120" y="822"/>
                      </a:lnTo>
                      <a:lnTo>
                        <a:pt x="120" y="816"/>
                      </a:lnTo>
                      <a:lnTo>
                        <a:pt x="126" y="810"/>
                      </a:lnTo>
                      <a:lnTo>
                        <a:pt x="126" y="804"/>
                      </a:lnTo>
                      <a:lnTo>
                        <a:pt x="126" y="798"/>
                      </a:lnTo>
                      <a:lnTo>
                        <a:pt x="126" y="792"/>
                      </a:lnTo>
                      <a:lnTo>
                        <a:pt x="132" y="792"/>
                      </a:lnTo>
                      <a:lnTo>
                        <a:pt x="132" y="786"/>
                      </a:lnTo>
                      <a:lnTo>
                        <a:pt x="132" y="780"/>
                      </a:lnTo>
                      <a:lnTo>
                        <a:pt x="132" y="774"/>
                      </a:lnTo>
                      <a:lnTo>
                        <a:pt x="132" y="768"/>
                      </a:lnTo>
                      <a:lnTo>
                        <a:pt x="138" y="768"/>
                      </a:lnTo>
                      <a:lnTo>
                        <a:pt x="138" y="762"/>
                      </a:lnTo>
                      <a:lnTo>
                        <a:pt x="138" y="756"/>
                      </a:lnTo>
                      <a:lnTo>
                        <a:pt x="138" y="750"/>
                      </a:lnTo>
                      <a:lnTo>
                        <a:pt x="144" y="750"/>
                      </a:lnTo>
                      <a:lnTo>
                        <a:pt x="144" y="744"/>
                      </a:lnTo>
                      <a:lnTo>
                        <a:pt x="144" y="738"/>
                      </a:lnTo>
                      <a:lnTo>
                        <a:pt x="144" y="732"/>
                      </a:lnTo>
                      <a:lnTo>
                        <a:pt x="150" y="726"/>
                      </a:lnTo>
                      <a:lnTo>
                        <a:pt x="150" y="720"/>
                      </a:lnTo>
                      <a:lnTo>
                        <a:pt x="150" y="714"/>
                      </a:lnTo>
                      <a:lnTo>
                        <a:pt x="150" y="708"/>
                      </a:lnTo>
                      <a:lnTo>
                        <a:pt x="156" y="702"/>
                      </a:lnTo>
                      <a:lnTo>
                        <a:pt x="156" y="696"/>
                      </a:lnTo>
                      <a:lnTo>
                        <a:pt x="156" y="690"/>
                      </a:lnTo>
                      <a:lnTo>
                        <a:pt x="156" y="684"/>
                      </a:lnTo>
                      <a:lnTo>
                        <a:pt x="162" y="684"/>
                      </a:lnTo>
                      <a:lnTo>
                        <a:pt x="162" y="678"/>
                      </a:lnTo>
                      <a:lnTo>
                        <a:pt x="162" y="672"/>
                      </a:lnTo>
                      <a:lnTo>
                        <a:pt x="162" y="666"/>
                      </a:lnTo>
                      <a:lnTo>
                        <a:pt x="162" y="660"/>
                      </a:lnTo>
                      <a:lnTo>
                        <a:pt x="168" y="654"/>
                      </a:lnTo>
                      <a:lnTo>
                        <a:pt x="168" y="648"/>
                      </a:lnTo>
                      <a:lnTo>
                        <a:pt x="168" y="642"/>
                      </a:lnTo>
                      <a:lnTo>
                        <a:pt x="168" y="636"/>
                      </a:lnTo>
                      <a:lnTo>
                        <a:pt x="174" y="636"/>
                      </a:lnTo>
                      <a:lnTo>
                        <a:pt x="174" y="630"/>
                      </a:lnTo>
                      <a:lnTo>
                        <a:pt x="174" y="624"/>
                      </a:lnTo>
                      <a:lnTo>
                        <a:pt x="174" y="618"/>
                      </a:lnTo>
                      <a:lnTo>
                        <a:pt x="174" y="612"/>
                      </a:lnTo>
                      <a:lnTo>
                        <a:pt x="180" y="612"/>
                      </a:lnTo>
                      <a:lnTo>
                        <a:pt x="180" y="606"/>
                      </a:lnTo>
                      <a:lnTo>
                        <a:pt x="180" y="600"/>
                      </a:lnTo>
                      <a:lnTo>
                        <a:pt x="180" y="594"/>
                      </a:lnTo>
                      <a:lnTo>
                        <a:pt x="186" y="588"/>
                      </a:lnTo>
                      <a:lnTo>
                        <a:pt x="186" y="582"/>
                      </a:lnTo>
                      <a:lnTo>
                        <a:pt x="186" y="576"/>
                      </a:lnTo>
                      <a:lnTo>
                        <a:pt x="186" y="570"/>
                      </a:lnTo>
                      <a:lnTo>
                        <a:pt x="186" y="564"/>
                      </a:lnTo>
                      <a:lnTo>
                        <a:pt x="192" y="564"/>
                      </a:lnTo>
                      <a:lnTo>
                        <a:pt x="192" y="558"/>
                      </a:lnTo>
                      <a:lnTo>
                        <a:pt x="192" y="552"/>
                      </a:lnTo>
                      <a:lnTo>
                        <a:pt x="192" y="546"/>
                      </a:lnTo>
                      <a:lnTo>
                        <a:pt x="192" y="540"/>
                      </a:lnTo>
                      <a:lnTo>
                        <a:pt x="198" y="540"/>
                      </a:lnTo>
                      <a:lnTo>
                        <a:pt x="198" y="534"/>
                      </a:lnTo>
                      <a:lnTo>
                        <a:pt x="198" y="528"/>
                      </a:lnTo>
                      <a:lnTo>
                        <a:pt x="198" y="522"/>
                      </a:lnTo>
                      <a:lnTo>
                        <a:pt x="204" y="516"/>
                      </a:lnTo>
                      <a:lnTo>
                        <a:pt x="204" y="510"/>
                      </a:lnTo>
                      <a:lnTo>
                        <a:pt x="204" y="504"/>
                      </a:lnTo>
                      <a:lnTo>
                        <a:pt x="204" y="498"/>
                      </a:lnTo>
                      <a:lnTo>
                        <a:pt x="204" y="492"/>
                      </a:lnTo>
                      <a:lnTo>
                        <a:pt x="210" y="486"/>
                      </a:lnTo>
                      <a:lnTo>
                        <a:pt x="210" y="480"/>
                      </a:lnTo>
                      <a:lnTo>
                        <a:pt x="210" y="474"/>
                      </a:lnTo>
                      <a:lnTo>
                        <a:pt x="210" y="468"/>
                      </a:lnTo>
                      <a:lnTo>
                        <a:pt x="216" y="462"/>
                      </a:lnTo>
                      <a:lnTo>
                        <a:pt x="216" y="456"/>
                      </a:lnTo>
                      <a:lnTo>
                        <a:pt x="216" y="450"/>
                      </a:lnTo>
                      <a:lnTo>
                        <a:pt x="216" y="444"/>
                      </a:lnTo>
                      <a:lnTo>
                        <a:pt x="216" y="438"/>
                      </a:lnTo>
                      <a:lnTo>
                        <a:pt x="222" y="438"/>
                      </a:lnTo>
                      <a:lnTo>
                        <a:pt x="222" y="432"/>
                      </a:lnTo>
                      <a:lnTo>
                        <a:pt x="222" y="426"/>
                      </a:lnTo>
                      <a:lnTo>
                        <a:pt x="222" y="420"/>
                      </a:lnTo>
                      <a:lnTo>
                        <a:pt x="222" y="414"/>
                      </a:lnTo>
                      <a:lnTo>
                        <a:pt x="228" y="414"/>
                      </a:lnTo>
                      <a:lnTo>
                        <a:pt x="228" y="408"/>
                      </a:lnTo>
                      <a:lnTo>
                        <a:pt x="228" y="402"/>
                      </a:lnTo>
                      <a:lnTo>
                        <a:pt x="228" y="396"/>
                      </a:lnTo>
                      <a:lnTo>
                        <a:pt x="228" y="390"/>
                      </a:lnTo>
                      <a:lnTo>
                        <a:pt x="234" y="384"/>
                      </a:lnTo>
                      <a:lnTo>
                        <a:pt x="234" y="378"/>
                      </a:lnTo>
                      <a:lnTo>
                        <a:pt x="234" y="372"/>
                      </a:lnTo>
                      <a:lnTo>
                        <a:pt x="234" y="366"/>
                      </a:lnTo>
                      <a:lnTo>
                        <a:pt x="234" y="360"/>
                      </a:lnTo>
                      <a:lnTo>
                        <a:pt x="240" y="360"/>
                      </a:lnTo>
                      <a:lnTo>
                        <a:pt x="240" y="354"/>
                      </a:lnTo>
                      <a:lnTo>
                        <a:pt x="240" y="348"/>
                      </a:lnTo>
                      <a:lnTo>
                        <a:pt x="240" y="342"/>
                      </a:lnTo>
                      <a:lnTo>
                        <a:pt x="240" y="336"/>
                      </a:lnTo>
                      <a:lnTo>
                        <a:pt x="246" y="336"/>
                      </a:lnTo>
                      <a:lnTo>
                        <a:pt x="246" y="330"/>
                      </a:lnTo>
                      <a:lnTo>
                        <a:pt x="246" y="324"/>
                      </a:lnTo>
                      <a:lnTo>
                        <a:pt x="246" y="318"/>
                      </a:lnTo>
                      <a:lnTo>
                        <a:pt x="246" y="312"/>
                      </a:lnTo>
                      <a:lnTo>
                        <a:pt x="246" y="306"/>
                      </a:lnTo>
                      <a:lnTo>
                        <a:pt x="252" y="306"/>
                      </a:lnTo>
                      <a:lnTo>
                        <a:pt x="252" y="300"/>
                      </a:lnTo>
                      <a:lnTo>
                        <a:pt x="252" y="294"/>
                      </a:lnTo>
                      <a:lnTo>
                        <a:pt x="252" y="288"/>
                      </a:lnTo>
                      <a:lnTo>
                        <a:pt x="252" y="282"/>
                      </a:lnTo>
                      <a:lnTo>
                        <a:pt x="258" y="276"/>
                      </a:lnTo>
                      <a:lnTo>
                        <a:pt x="258" y="270"/>
                      </a:lnTo>
                      <a:lnTo>
                        <a:pt x="258" y="264"/>
                      </a:lnTo>
                      <a:lnTo>
                        <a:pt x="258" y="258"/>
                      </a:lnTo>
                      <a:lnTo>
                        <a:pt x="258" y="252"/>
                      </a:lnTo>
                      <a:lnTo>
                        <a:pt x="264" y="246"/>
                      </a:lnTo>
                      <a:lnTo>
                        <a:pt x="264" y="240"/>
                      </a:lnTo>
                      <a:lnTo>
                        <a:pt x="264" y="234"/>
                      </a:lnTo>
                      <a:lnTo>
                        <a:pt x="264" y="228"/>
                      </a:lnTo>
                      <a:lnTo>
                        <a:pt x="270" y="222"/>
                      </a:lnTo>
                      <a:lnTo>
                        <a:pt x="270" y="216"/>
                      </a:lnTo>
                      <a:lnTo>
                        <a:pt x="270" y="210"/>
                      </a:lnTo>
                      <a:lnTo>
                        <a:pt x="270" y="204"/>
                      </a:lnTo>
                      <a:lnTo>
                        <a:pt x="270" y="198"/>
                      </a:lnTo>
                      <a:lnTo>
                        <a:pt x="270" y="192"/>
                      </a:lnTo>
                      <a:lnTo>
                        <a:pt x="276" y="192"/>
                      </a:lnTo>
                      <a:lnTo>
                        <a:pt x="276" y="186"/>
                      </a:lnTo>
                      <a:lnTo>
                        <a:pt x="276" y="180"/>
                      </a:lnTo>
                      <a:lnTo>
                        <a:pt x="276" y="174"/>
                      </a:lnTo>
                      <a:lnTo>
                        <a:pt x="276" y="168"/>
                      </a:lnTo>
                      <a:lnTo>
                        <a:pt x="282" y="162"/>
                      </a:lnTo>
                      <a:lnTo>
                        <a:pt x="282" y="156"/>
                      </a:lnTo>
                      <a:lnTo>
                        <a:pt x="282" y="150"/>
                      </a:lnTo>
                      <a:lnTo>
                        <a:pt x="282" y="144"/>
                      </a:lnTo>
                      <a:lnTo>
                        <a:pt x="282" y="138"/>
                      </a:lnTo>
                      <a:lnTo>
                        <a:pt x="288" y="132"/>
                      </a:lnTo>
                      <a:lnTo>
                        <a:pt x="288" y="126"/>
                      </a:lnTo>
                      <a:lnTo>
                        <a:pt x="288" y="120"/>
                      </a:lnTo>
                      <a:lnTo>
                        <a:pt x="288" y="114"/>
                      </a:lnTo>
                      <a:lnTo>
                        <a:pt x="288" y="108"/>
                      </a:lnTo>
                      <a:lnTo>
                        <a:pt x="294" y="102"/>
                      </a:lnTo>
                      <a:lnTo>
                        <a:pt x="294" y="96"/>
                      </a:lnTo>
                      <a:lnTo>
                        <a:pt x="294" y="90"/>
                      </a:lnTo>
                      <a:lnTo>
                        <a:pt x="294" y="84"/>
                      </a:lnTo>
                      <a:lnTo>
                        <a:pt x="294" y="78"/>
                      </a:lnTo>
                      <a:lnTo>
                        <a:pt x="300" y="78"/>
                      </a:lnTo>
                      <a:lnTo>
                        <a:pt x="300" y="72"/>
                      </a:lnTo>
                      <a:lnTo>
                        <a:pt x="300" y="66"/>
                      </a:lnTo>
                      <a:lnTo>
                        <a:pt x="300" y="60"/>
                      </a:lnTo>
                      <a:lnTo>
                        <a:pt x="300" y="54"/>
                      </a:lnTo>
                      <a:lnTo>
                        <a:pt x="300" y="48"/>
                      </a:lnTo>
                      <a:lnTo>
                        <a:pt x="306" y="42"/>
                      </a:lnTo>
                      <a:lnTo>
                        <a:pt x="306" y="36"/>
                      </a:lnTo>
                      <a:lnTo>
                        <a:pt x="306" y="30"/>
                      </a:lnTo>
                      <a:lnTo>
                        <a:pt x="306" y="24"/>
                      </a:lnTo>
                      <a:lnTo>
                        <a:pt x="306" y="18"/>
                      </a:lnTo>
                      <a:lnTo>
                        <a:pt x="312" y="12"/>
                      </a:lnTo>
                      <a:lnTo>
                        <a:pt x="312" y="6"/>
                      </a:lnTo>
                      <a:lnTo>
                        <a:pt x="312" y="0"/>
                      </a:lnTo>
                    </a:path>
                  </a:pathLst>
                </a:custGeom>
                <a:noFill/>
                <a:ln w="9360">
                  <a:solidFill>
                    <a:srgbClr val="d54f4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7912080" y="5473800"/>
                <a:ext cx="533520" cy="0"/>
              </a:xfrm>
              <a:prstGeom prst="line">
                <a:avLst/>
              </a:prstGeom>
              <a:ln w="9360">
                <a:solidFill>
                  <a:srgbClr val="d54f4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6464160" y="2273400"/>
                <a:ext cx="0" cy="380880"/>
              </a:xfrm>
              <a:prstGeom prst="line">
                <a:avLst/>
              </a:prstGeom>
              <a:ln w="9360">
                <a:solidFill>
                  <a:srgbClr val="d54f4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6205680" y="5321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37000" y="2044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07360" y="5397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464160" y="5092560"/>
            <a:ext cx="38124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240" y="0"/>
                </a:moveTo>
                <a:lnTo>
                  <a:pt x="240" y="240"/>
                </a:lnTo>
                <a:lnTo>
                  <a:pt x="0" y="240"/>
                </a:lnTo>
                <a:lnTo>
                  <a:pt x="24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21600" y="549360"/>
            <a:ext cx="578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已知点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(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抛物线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坐标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在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轴上是否存在点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使得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OA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等腰三角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若存在，求出点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坐标；若不存在，说明理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797520" y="4788000"/>
            <a:ext cx="426240" cy="459720"/>
            <a:chOff x="6797520" y="4788000"/>
            <a:chExt cx="426240" cy="459720"/>
          </a:xfrm>
        </p:grpSpPr>
        <p:sp>
          <p:nvSpPr>
            <p:cNvPr id="296" name=""/>
            <p:cNvSpPr/>
            <p:nvPr/>
          </p:nvSpPr>
          <p:spPr>
            <a:xfrm>
              <a:off x="6797520" y="509292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23440" y="4788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464160" y="5092560"/>
            <a:ext cx="533520" cy="38124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240"/>
                </a:moveTo>
                <a:lnTo>
                  <a:pt x="336" y="240"/>
                </a:lnTo>
                <a:lnTo>
                  <a:pt x="240" y="0"/>
                </a:lnTo>
                <a:lnTo>
                  <a:pt x="0" y="240"/>
                </a:lnTo>
                <a:close/>
              </a:path>
            </a:pathLst>
          </a:cu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64160" y="5092560"/>
            <a:ext cx="727200" cy="381240"/>
          </a:xfrm>
          <a:custGeom>
            <a:avLst/>
            <a:gdLst/>
            <a:ahLst/>
            <a:rect l="l" t="t" r="r" b="b"/>
            <a:pathLst>
              <a:path w="458" h="240">
                <a:moveTo>
                  <a:pt x="240" y="0"/>
                </a:moveTo>
                <a:lnTo>
                  <a:pt x="458" y="237"/>
                </a:lnTo>
                <a:lnTo>
                  <a:pt x="0" y="240"/>
                </a:lnTo>
              </a:path>
            </a:pathLst>
          </a:custGeom>
          <a:noFill/>
          <a:ln w="93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31000" y="5092560"/>
            <a:ext cx="914400" cy="3812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576" y="0"/>
                </a:moveTo>
                <a:lnTo>
                  <a:pt x="0" y="240"/>
                </a:lnTo>
                <a:lnTo>
                  <a:pt x="336" y="240"/>
                </a:lnTo>
                <a:lnTo>
                  <a:pt x="576" y="0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rId2" action="ppaction://hlinksldjump"/>
          </p:cNvPr>
          <p:cNvSpPr/>
          <p:nvPr/>
        </p:nvSpPr>
        <p:spPr>
          <a:xfrm>
            <a:off x="8172360" y="18900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5486400" y="0"/>
            <a:ext cx="3200040" cy="2971440"/>
            <a:chOff x="5486400" y="0"/>
            <a:chExt cx="3200040" cy="297144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5486400" y="0"/>
              <a:ext cx="3200040" cy="29714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697360" y="177120"/>
                  <a:ext cx="627480" cy="43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7702560" y="2134080"/>
                  <a:ext cx="761040" cy="43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6" name=""/>
          <p:cNvSpPr/>
          <p:nvPr/>
        </p:nvSpPr>
        <p:spPr>
          <a:xfrm>
            <a:off x="7010280" y="1447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7086600" y="75960"/>
            <a:ext cx="0" cy="2895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280"/>
            <a:ext cx="1600200" cy="1371600"/>
          </a:xfrm>
          <a:prstGeom prst="rect">
            <a:avLst/>
          </a:prstGeom>
          <a:solidFill>
            <a:srgbClr val="00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152280"/>
            <a:ext cx="1600200" cy="1371600"/>
          </a:xfrm>
          <a:prstGeom prst="rect">
            <a:avLst/>
          </a:prstGeom>
          <a:solidFill>
            <a:srgbClr val="00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152280"/>
            <a:ext cx="1600200" cy="1371600"/>
          </a:xfrm>
          <a:prstGeom prst="rect">
            <a:avLst/>
          </a:prstGeom>
          <a:solidFill>
            <a:srgbClr val="00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48520" y="1523880"/>
            <a:ext cx="1600200" cy="13716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24480" y="1523880"/>
            <a:ext cx="1600200" cy="13716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24480" y="1523880"/>
            <a:ext cx="1600200" cy="13716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48520" y="1523880"/>
            <a:ext cx="1600200" cy="13716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24480" y="1523880"/>
            <a:ext cx="1600200" cy="13716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0920" y="18900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小结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二次函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y=</a:t>
            </a:r>
            <a:r>
              <a:rPr b="1" lang="zh-CN" sz="2400" spc="-1" strike="noStrike">
                <a:solidFill>
                  <a:srgbClr val="dd1545"/>
                </a:solidFill>
                <a:latin typeface="Times New Roman"/>
              </a:rPr>
              <a:t>±</a:t>
            </a:r>
            <a:r>
              <a:rPr b="0" lang="zh-CN" sz="2400" spc="-1" strike="noStrike">
                <a:solidFill>
                  <a:srgbClr val="dd1545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41400" y="781200"/>
            <a:ext cx="20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顶点坐标与对称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79840" y="12384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２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置与开口方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17920" y="170964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３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增减性与最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15320" y="1447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10280" y="1447920"/>
            <a:ext cx="39960" cy="39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10280" y="1447920"/>
            <a:ext cx="39960" cy="39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48520" y="152280"/>
            <a:ext cx="1600200" cy="1371600"/>
          </a:xfrm>
          <a:prstGeom prst="rect">
            <a:avLst/>
          </a:prstGeom>
          <a:solidFill>
            <a:srgbClr val="00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31760" y="2971800"/>
          <a:ext cx="8859960" cy="3852720"/>
        </p:xfrm>
        <a:graphic>
          <a:graphicData uri="http://schemas.openxmlformats.org/drawingml/2006/table">
            <a:tbl>
              <a:tblPr/>
              <a:tblGrid>
                <a:gridCol w="1428840"/>
                <a:gridCol w="3678120"/>
                <a:gridCol w="3753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27de0"/>
                    </a:solidFill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437760" y="299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抛物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9360" y="352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顶点坐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9440" y="4059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称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6760" y="459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1040" y="5126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开口方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1760" y="571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增减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6269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最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51120" y="29368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=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27480" y="2994120"/>
            <a:ext cx="9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= -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03000" y="3470400"/>
            <a:ext cx="13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32000" y="3505320"/>
            <a:ext cx="13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46520" y="400356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75520" y="40384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97920" y="4572000"/>
            <a:ext cx="25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轴的上方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除顶点外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84480" y="4599000"/>
            <a:ext cx="26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轴的下方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除顶点外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68480" y="510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向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49760" y="510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向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94120" y="6289560"/>
            <a:ext cx="24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x=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最小值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2" action="ppaction://hlinksldjump"/>
          </p:cNvPr>
          <p:cNvSpPr/>
          <p:nvPr/>
        </p:nvSpPr>
        <p:spPr>
          <a:xfrm>
            <a:off x="5751720" y="6248520"/>
            <a:ext cx="24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x=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最大值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563868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在对称轴的左侧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,y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随着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的增大而减小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在对称轴的右侧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, y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随着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的增大而增大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57800" y="563868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在对称轴的左侧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,y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随着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的增大而增大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在对称轴的右侧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, y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随着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的增大而减小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22096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根据图形填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500"/>
                            </p:stCondLst>
                            <p:childTnLst>
                              <p:par>
                                <p:cTn id="47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7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0"/>
                            </p:stCondLst>
                            <p:childTnLst>
                              <p:par>
                                <p:cTn id="49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755640" y="549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课后作业 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87640" y="213372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4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习题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,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题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07200" y="41497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祝你成功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24000" y="1557360"/>
            <a:ext cx="8385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隶书"/>
                <a:ea typeface="隶书"/>
              </a:rPr>
              <a:t>有不断的思考</a:t>
            </a:r>
            <a:r>
              <a:rPr b="1" lang="zh-CN" sz="60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r>
              <a:rPr b="1" lang="zh-CN" sz="6000" spc="-1" strike="noStrike">
                <a:solidFill>
                  <a:srgbClr val="ffff00"/>
                </a:solidFill>
                <a:latin typeface="隶书"/>
                <a:ea typeface="隶书"/>
              </a:rPr>
              <a:t>才会有新的发现</a:t>
            </a:r>
            <a:r>
              <a:rPr b="1" lang="zh-CN" sz="6000" spc="-1" strike="noStrike">
                <a:solidFill>
                  <a:srgbClr val="ffff00"/>
                </a:solidFill>
                <a:latin typeface="隶书"/>
                <a:ea typeface="隶书"/>
              </a:rPr>
              <a:t>;</a:t>
            </a:r>
            <a:r>
              <a:rPr b="1" lang="zh-CN" sz="6000" spc="-1" strike="noStrike">
                <a:solidFill>
                  <a:srgbClr val="ffff00"/>
                </a:solidFill>
                <a:latin typeface="隶书"/>
                <a:ea typeface="隶书"/>
              </a:rPr>
              <a:t>有量的变化</a:t>
            </a:r>
            <a:r>
              <a:rPr b="1" lang="zh-CN" sz="60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r>
              <a:rPr b="1" lang="zh-CN" sz="6000" spc="-1" strike="noStrike">
                <a:solidFill>
                  <a:srgbClr val="ffff00"/>
                </a:solidFill>
                <a:latin typeface="隶书"/>
                <a:ea typeface="隶书"/>
              </a:rPr>
              <a:t>才会有质的进步</a:t>
            </a:r>
            <a:r>
              <a:rPr b="1" lang="zh-CN" sz="6000" spc="-1" strike="noStrike">
                <a:solidFill>
                  <a:srgbClr val="ffff00"/>
                </a:solidFill>
                <a:latin typeface="隶书"/>
                <a:ea typeface="隶书"/>
              </a:rPr>
              <a:t>.</a:t>
            </a:r>
            <a:r>
              <a:rPr b="1" lang="zh-CN" sz="6000" spc="-1" strike="noStrike">
                <a:solidFill>
                  <a:srgbClr val="003300"/>
                </a:solidFill>
                <a:latin typeface="隶书"/>
                <a:ea typeface="隶书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9640" y="404640"/>
            <a:ext cx="31244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Times New Roman"/>
                <a:ea typeface="隶书"/>
              </a:rPr>
              <a:t>结束寄语</a:t>
            </a:r>
            <a:r>
              <a:rPr b="1" lang="zh-CN" sz="5100" spc="-1" strike="noStrike">
                <a:solidFill>
                  <a:srgbClr val="ff0000"/>
                </a:solidFill>
                <a:latin typeface="Times New Roman"/>
                <a:ea typeface="隶书"/>
              </a:rPr>
              <a:t>: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508720" y="4005360"/>
            <a:ext cx="266688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523880" y="1676520"/>
            <a:ext cx="51818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生活中的抛物线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50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50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914400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78760" y="425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复习填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33880" y="981000"/>
            <a:ext cx="720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一般地，形如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常数，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≠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函数叫做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67280" y="249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画函数图象的主要步骤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7440" y="1341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1545"/>
                </a:solidFill>
                <a:latin typeface="Times New Roman"/>
              </a:rPr>
              <a:t>二次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2640" y="3141720"/>
            <a:ext cx="24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_____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09680" y="3108240"/>
            <a:ext cx="23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77480" y="3108240"/>
            <a:ext cx="23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_____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36000" y="3068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1545"/>
                </a:solidFill>
                <a:latin typeface="Times New Roman"/>
              </a:rPr>
              <a:t>列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3280" y="3068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1545"/>
                </a:solidFill>
                <a:latin typeface="Times New Roman"/>
              </a:rPr>
              <a:t>描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0920" y="3068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1545"/>
                </a:solidFill>
                <a:latin typeface="Times New Roman"/>
              </a:rPr>
              <a:t>连线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31240" y="3692520"/>
            <a:ext cx="17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请你画出二次函数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图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68280" y="4138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列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43000" y="4826160"/>
            <a:ext cx="7086600" cy="1117440"/>
            <a:chOff x="1143000" y="4826160"/>
            <a:chExt cx="7086600" cy="1117440"/>
          </a:xfrm>
        </p:grpSpPr>
        <p:sp>
          <p:nvSpPr>
            <p:cNvPr id="103" name=""/>
            <p:cNvSpPr/>
            <p:nvPr/>
          </p:nvSpPr>
          <p:spPr>
            <a:xfrm>
              <a:off x="1143000" y="5384880"/>
              <a:ext cx="708120" cy="558720"/>
            </a:xfrm>
            <a:prstGeom prst="rect">
              <a:avLst/>
            </a:prstGeom>
            <a:noFill/>
            <a:ln w="9360">
              <a:solidFill>
                <a:srgbClr val="727d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43000" y="4826160"/>
              <a:ext cx="708120" cy="558720"/>
            </a:xfrm>
            <a:prstGeom prst="rect">
              <a:avLst/>
            </a:prstGeom>
            <a:noFill/>
            <a:ln w="9360">
              <a:solidFill>
                <a:srgbClr val="727d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143000" y="4826160"/>
              <a:ext cx="7086600" cy="1117440"/>
              <a:chOff x="1143000" y="4826160"/>
              <a:chExt cx="7086600" cy="1117440"/>
            </a:xfrm>
          </p:grpSpPr>
          <p:sp>
            <p:nvSpPr>
              <p:cNvPr id="106" name=""/>
              <p:cNvSpPr/>
              <p:nvPr/>
            </p:nvSpPr>
            <p:spPr>
              <a:xfrm>
                <a:off x="1143000" y="4826160"/>
                <a:ext cx="7086600" cy="0"/>
              </a:xfrm>
              <a:prstGeom prst="line">
                <a:avLst/>
              </a:prstGeom>
              <a:ln cap="sq" w="28440">
                <a:solidFill>
                  <a:srgbClr val="727d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143000" y="5384880"/>
                <a:ext cx="7086600" cy="0"/>
              </a:xfrm>
              <a:prstGeom prst="line">
                <a:avLst/>
              </a:prstGeom>
              <a:ln w="12600">
                <a:solidFill>
                  <a:srgbClr val="727d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143000" y="4826160"/>
                <a:ext cx="0" cy="1117440"/>
              </a:xfrm>
              <a:prstGeom prst="line">
                <a:avLst/>
              </a:prstGeom>
              <a:ln cap="sq" w="28440">
                <a:solidFill>
                  <a:srgbClr val="727d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851120" y="4826160"/>
                <a:ext cx="0" cy="1117440"/>
              </a:xfrm>
              <a:prstGeom prst="line">
                <a:avLst/>
              </a:prstGeom>
              <a:ln w="12600">
                <a:solidFill>
                  <a:srgbClr val="727d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60680" y="4826160"/>
                <a:ext cx="0" cy="1117440"/>
              </a:xfrm>
              <a:prstGeom prst="line">
                <a:avLst/>
              </a:prstGeom>
              <a:ln w="12600">
                <a:solidFill>
                  <a:srgbClr val="727d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68800" y="4826160"/>
                <a:ext cx="0" cy="1117440"/>
              </a:xfrm>
              <a:prstGeom prst="line">
                <a:avLst/>
              </a:prstGeom>
              <a:ln w="12600">
                <a:solidFill>
                  <a:srgbClr val="727d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978360" y="4826160"/>
                <a:ext cx="0" cy="1117440"/>
              </a:xfrm>
              <a:prstGeom prst="line">
                <a:avLst/>
              </a:prstGeom>
              <a:ln w="12600">
                <a:solidFill>
                  <a:srgbClr val="727d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86480" y="4826160"/>
                <a:ext cx="0" cy="1117440"/>
              </a:xfrm>
              <a:prstGeom prst="line">
                <a:avLst/>
              </a:prstGeom>
              <a:ln w="12600">
                <a:solidFill>
                  <a:srgbClr val="727d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94240" y="4826160"/>
                <a:ext cx="0" cy="1117440"/>
              </a:xfrm>
              <a:prstGeom prst="line">
                <a:avLst/>
              </a:prstGeom>
              <a:ln w="12600">
                <a:solidFill>
                  <a:srgbClr val="727d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03800" y="4826160"/>
                <a:ext cx="0" cy="1117440"/>
              </a:xfrm>
              <a:prstGeom prst="line">
                <a:avLst/>
              </a:prstGeom>
              <a:ln w="12600">
                <a:solidFill>
                  <a:srgbClr val="727d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11920" y="4826160"/>
                <a:ext cx="0" cy="1117440"/>
              </a:xfrm>
              <a:prstGeom prst="line">
                <a:avLst/>
              </a:prstGeom>
              <a:ln w="12600">
                <a:solidFill>
                  <a:srgbClr val="727d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521480" y="4826160"/>
                <a:ext cx="0" cy="1117440"/>
              </a:xfrm>
              <a:prstGeom prst="line">
                <a:avLst/>
              </a:prstGeom>
              <a:ln w="12600">
                <a:solidFill>
                  <a:srgbClr val="727d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29600" y="4826160"/>
                <a:ext cx="0" cy="1117440"/>
              </a:xfrm>
              <a:prstGeom prst="line">
                <a:avLst/>
              </a:prstGeom>
              <a:ln cap="sq" w="28440">
                <a:solidFill>
                  <a:srgbClr val="727d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103800" y="5943600"/>
                <a:ext cx="708120" cy="0"/>
              </a:xfrm>
              <a:prstGeom prst="line">
                <a:avLst/>
              </a:prstGeom>
              <a:ln w="12600">
                <a:solidFill>
                  <a:srgbClr val="727d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3000" y="5943600"/>
                <a:ext cx="4960800" cy="0"/>
              </a:xfrm>
              <a:prstGeom prst="line">
                <a:avLst/>
              </a:prstGeom>
              <a:ln cap="sq" w="28440">
                <a:solidFill>
                  <a:srgbClr val="727d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811920" y="5943600"/>
                <a:ext cx="1417680" cy="0"/>
              </a:xfrm>
              <a:prstGeom prst="line">
                <a:avLst/>
              </a:prstGeom>
              <a:ln cap="sq" w="28440">
                <a:solidFill>
                  <a:srgbClr val="727d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2065680" y="4876920"/>
            <a:ext cx="59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     0        1       2       3       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79000" y="5410080"/>
            <a:ext cx="60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       4        1      0        1       4        9      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68400" y="1273320"/>
            <a:ext cx="730080" cy="558720"/>
          </a:xfrm>
          <a:prstGeom prst="rect">
            <a:avLst/>
          </a:prstGeom>
          <a:noFill/>
          <a:ln w="9360">
            <a:solidFill>
              <a:srgbClr val="e9e2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9e2b6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68400" y="714240"/>
            <a:ext cx="730080" cy="559080"/>
          </a:xfrm>
          <a:prstGeom prst="rect">
            <a:avLst/>
          </a:prstGeom>
          <a:noFill/>
          <a:ln w="9360">
            <a:solidFill>
              <a:srgbClr val="e9e2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9e2b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68400" y="714240"/>
            <a:ext cx="7305120" cy="1117440"/>
            <a:chOff x="968400" y="714240"/>
            <a:chExt cx="7305120" cy="1117440"/>
          </a:xfrm>
        </p:grpSpPr>
        <p:sp>
          <p:nvSpPr>
            <p:cNvPr id="127" name=""/>
            <p:cNvSpPr/>
            <p:nvPr/>
          </p:nvSpPr>
          <p:spPr>
            <a:xfrm>
              <a:off x="968400" y="714240"/>
              <a:ext cx="7305120" cy="0"/>
            </a:xfrm>
            <a:prstGeom prst="line">
              <a:avLst/>
            </a:prstGeom>
            <a:ln cap="sq" w="28440">
              <a:solidFill>
                <a:srgbClr val="e9e2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68400" y="1272960"/>
              <a:ext cx="7305120" cy="0"/>
            </a:xfrm>
            <a:prstGeom prst="line">
              <a:avLst/>
            </a:prstGeom>
            <a:ln w="12600">
              <a:solidFill>
                <a:srgbClr val="e9e2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68400" y="714240"/>
              <a:ext cx="0" cy="1117440"/>
            </a:xfrm>
            <a:prstGeom prst="line">
              <a:avLst/>
            </a:prstGeom>
            <a:ln cap="sq" w="28440">
              <a:solidFill>
                <a:srgbClr val="e9e2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98120" y="714240"/>
              <a:ext cx="0" cy="1117440"/>
            </a:xfrm>
            <a:prstGeom prst="line">
              <a:avLst/>
            </a:prstGeom>
            <a:ln w="12600">
              <a:solidFill>
                <a:srgbClr val="e9e2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29640" y="714240"/>
              <a:ext cx="0" cy="1117440"/>
            </a:xfrm>
            <a:prstGeom prst="line">
              <a:avLst/>
            </a:prstGeom>
            <a:ln w="12600">
              <a:solidFill>
                <a:srgbClr val="e9e2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59720" y="714240"/>
              <a:ext cx="0" cy="1117440"/>
            </a:xfrm>
            <a:prstGeom prst="line">
              <a:avLst/>
            </a:prstGeom>
            <a:ln w="12600">
              <a:solidFill>
                <a:srgbClr val="e9e2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91240" y="714240"/>
              <a:ext cx="0" cy="1117440"/>
            </a:xfrm>
            <a:prstGeom prst="line">
              <a:avLst/>
            </a:prstGeom>
            <a:ln w="12600">
              <a:solidFill>
                <a:srgbClr val="e9e2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21320" y="714240"/>
              <a:ext cx="0" cy="1117440"/>
            </a:xfrm>
            <a:prstGeom prst="line">
              <a:avLst/>
            </a:prstGeom>
            <a:ln w="12600">
              <a:solidFill>
                <a:srgbClr val="e9e2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50680" y="714240"/>
              <a:ext cx="0" cy="1117440"/>
            </a:xfrm>
            <a:prstGeom prst="line">
              <a:avLst/>
            </a:prstGeom>
            <a:ln w="12600">
              <a:solidFill>
                <a:srgbClr val="e9e2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82200" y="714240"/>
              <a:ext cx="0" cy="1117440"/>
            </a:xfrm>
            <a:prstGeom prst="line">
              <a:avLst/>
            </a:prstGeom>
            <a:ln w="12600">
              <a:solidFill>
                <a:srgbClr val="e9e2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12280" y="714240"/>
              <a:ext cx="0" cy="1117440"/>
            </a:xfrm>
            <a:prstGeom prst="line">
              <a:avLst/>
            </a:prstGeom>
            <a:ln w="12600">
              <a:solidFill>
                <a:srgbClr val="e9e2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43800" y="714240"/>
              <a:ext cx="0" cy="1117440"/>
            </a:xfrm>
            <a:prstGeom prst="line">
              <a:avLst/>
            </a:prstGeom>
            <a:ln w="12600">
              <a:solidFill>
                <a:srgbClr val="e9e2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73520" y="714240"/>
              <a:ext cx="0" cy="1117440"/>
            </a:xfrm>
            <a:prstGeom prst="line">
              <a:avLst/>
            </a:prstGeom>
            <a:ln cap="sq" w="28440">
              <a:solidFill>
                <a:srgbClr val="e9e2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82200" y="1831680"/>
              <a:ext cx="729720" cy="0"/>
            </a:xfrm>
            <a:prstGeom prst="line">
              <a:avLst/>
            </a:prstGeom>
            <a:ln w="12600">
              <a:solidFill>
                <a:srgbClr val="e9e2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68400" y="1831680"/>
              <a:ext cx="5113800" cy="0"/>
            </a:xfrm>
            <a:prstGeom prst="line">
              <a:avLst/>
            </a:prstGeom>
            <a:ln cap="sq" w="28440">
              <a:solidFill>
                <a:srgbClr val="e9e2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12280" y="1831680"/>
              <a:ext cx="1461240" cy="0"/>
            </a:xfrm>
            <a:prstGeom prst="line">
              <a:avLst/>
            </a:prstGeom>
            <a:ln cap="sq" w="28440">
              <a:solidFill>
                <a:srgbClr val="e9e2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908000" y="765000"/>
            <a:ext cx="59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e9e2b6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e9e2b6"/>
                </a:solidFill>
                <a:latin typeface="Times New Roman"/>
              </a:rPr>
              <a:t>3    </a:t>
            </a:r>
            <a:r>
              <a:rPr b="0" lang="zh-CN" sz="2400" spc="-1" strike="noStrike">
                <a:solidFill>
                  <a:srgbClr val="e9e2b6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e9e2b6"/>
                </a:solidFill>
                <a:latin typeface="Times New Roman"/>
              </a:rPr>
              <a:t>2   </a:t>
            </a:r>
            <a:r>
              <a:rPr b="0" lang="zh-CN" sz="2400" spc="-1" strike="noStrike">
                <a:solidFill>
                  <a:srgbClr val="e9e2b6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e9e2b6"/>
                </a:solidFill>
                <a:latin typeface="Times New Roman"/>
              </a:rPr>
              <a:t>1     0        1       2       3       </a:t>
            </a:r>
            <a:r>
              <a:rPr b="0" lang="zh-CN" sz="2400" spc="-1" strike="noStrike" baseline="30000">
                <a:solidFill>
                  <a:srgbClr val="e9e2b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26360" y="1298520"/>
            <a:ext cx="60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       4        1      0        1       4        9      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067280" y="1844640"/>
            <a:ext cx="4618080" cy="4699080"/>
            <a:chOff x="4067280" y="1844640"/>
            <a:chExt cx="4618080" cy="469908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rcRect l="24002" t="9998" r="18999" b="9998"/>
            <a:stretch/>
          </p:blipFill>
          <p:spPr>
            <a:xfrm>
              <a:off x="4067280" y="1971720"/>
              <a:ext cx="43434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111720" y="1844640"/>
              <a:ext cx="1800" cy="339840"/>
            </a:xfrm>
            <a:custGeom>
              <a:avLst/>
              <a:gdLst/>
              <a:ahLst/>
              <a:rect l="l" t="t" r="r" b="b"/>
              <a:pathLst>
                <a:path w="1" h="214">
                  <a:moveTo>
                    <a:pt x="0" y="21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d54f4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02680" y="5799240"/>
              <a:ext cx="382680" cy="1440"/>
            </a:xfrm>
            <a:custGeom>
              <a:avLst/>
              <a:gdLst/>
              <a:ahLst/>
              <a:rect l="l" t="t" r="r" b="b"/>
              <a:pathLst>
                <a:path w="241" h="1">
                  <a:moveTo>
                    <a:pt x="0" y="0"/>
                  </a:moveTo>
                  <a:lnTo>
                    <a:pt x="241" y="0"/>
                  </a:lnTo>
                </a:path>
              </a:pathLst>
            </a:custGeom>
            <a:noFill/>
            <a:ln w="9360">
              <a:solidFill>
                <a:srgbClr val="d54f4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8173800" y="530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7de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708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7de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7800" y="566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32360" y="1773360"/>
            <a:ext cx="2390760" cy="4000320"/>
          </a:xfrm>
          <a:custGeom>
            <a:avLst/>
            <a:gdLst/>
            <a:ahLst/>
            <a:rect l="l" t="t" r="r" b="b"/>
            <a:pathLst>
              <a:path w="1506" h="2520">
                <a:moveTo>
                  <a:pt x="0" y="0"/>
                </a:moveTo>
                <a:lnTo>
                  <a:pt x="6" y="24"/>
                </a:lnTo>
                <a:lnTo>
                  <a:pt x="6" y="48"/>
                </a:lnTo>
                <a:lnTo>
                  <a:pt x="12" y="72"/>
                </a:lnTo>
                <a:lnTo>
                  <a:pt x="12" y="96"/>
                </a:lnTo>
                <a:lnTo>
                  <a:pt x="18" y="120"/>
                </a:lnTo>
                <a:lnTo>
                  <a:pt x="24" y="144"/>
                </a:lnTo>
                <a:lnTo>
                  <a:pt x="24" y="168"/>
                </a:lnTo>
                <a:lnTo>
                  <a:pt x="30" y="192"/>
                </a:lnTo>
                <a:lnTo>
                  <a:pt x="30" y="216"/>
                </a:lnTo>
                <a:lnTo>
                  <a:pt x="36" y="234"/>
                </a:lnTo>
                <a:lnTo>
                  <a:pt x="42" y="258"/>
                </a:lnTo>
                <a:lnTo>
                  <a:pt x="42" y="282"/>
                </a:lnTo>
                <a:lnTo>
                  <a:pt x="48" y="306"/>
                </a:lnTo>
                <a:lnTo>
                  <a:pt x="48" y="324"/>
                </a:lnTo>
                <a:lnTo>
                  <a:pt x="54" y="348"/>
                </a:lnTo>
                <a:lnTo>
                  <a:pt x="60" y="372"/>
                </a:lnTo>
                <a:lnTo>
                  <a:pt x="60" y="390"/>
                </a:lnTo>
                <a:lnTo>
                  <a:pt x="66" y="414"/>
                </a:lnTo>
                <a:lnTo>
                  <a:pt x="66" y="438"/>
                </a:lnTo>
                <a:lnTo>
                  <a:pt x="72" y="456"/>
                </a:lnTo>
                <a:lnTo>
                  <a:pt x="78" y="480"/>
                </a:lnTo>
                <a:lnTo>
                  <a:pt x="78" y="498"/>
                </a:lnTo>
                <a:lnTo>
                  <a:pt x="84" y="522"/>
                </a:lnTo>
                <a:lnTo>
                  <a:pt x="84" y="546"/>
                </a:lnTo>
                <a:lnTo>
                  <a:pt x="90" y="564"/>
                </a:lnTo>
                <a:lnTo>
                  <a:pt x="96" y="588"/>
                </a:lnTo>
                <a:lnTo>
                  <a:pt x="96" y="606"/>
                </a:lnTo>
                <a:lnTo>
                  <a:pt x="102" y="630"/>
                </a:lnTo>
                <a:lnTo>
                  <a:pt x="102" y="648"/>
                </a:lnTo>
                <a:lnTo>
                  <a:pt x="108" y="666"/>
                </a:lnTo>
                <a:lnTo>
                  <a:pt x="114" y="690"/>
                </a:lnTo>
                <a:lnTo>
                  <a:pt x="114" y="708"/>
                </a:lnTo>
                <a:lnTo>
                  <a:pt x="120" y="732"/>
                </a:lnTo>
                <a:lnTo>
                  <a:pt x="120" y="750"/>
                </a:lnTo>
                <a:lnTo>
                  <a:pt x="126" y="768"/>
                </a:lnTo>
                <a:lnTo>
                  <a:pt x="132" y="792"/>
                </a:lnTo>
                <a:lnTo>
                  <a:pt x="132" y="810"/>
                </a:lnTo>
                <a:lnTo>
                  <a:pt x="138" y="828"/>
                </a:lnTo>
                <a:lnTo>
                  <a:pt x="138" y="846"/>
                </a:lnTo>
                <a:lnTo>
                  <a:pt x="144" y="870"/>
                </a:lnTo>
                <a:lnTo>
                  <a:pt x="150" y="888"/>
                </a:lnTo>
                <a:lnTo>
                  <a:pt x="150" y="906"/>
                </a:lnTo>
                <a:lnTo>
                  <a:pt x="156" y="924"/>
                </a:lnTo>
                <a:lnTo>
                  <a:pt x="156" y="942"/>
                </a:lnTo>
                <a:lnTo>
                  <a:pt x="162" y="960"/>
                </a:lnTo>
                <a:lnTo>
                  <a:pt x="168" y="984"/>
                </a:lnTo>
                <a:lnTo>
                  <a:pt x="168" y="1002"/>
                </a:lnTo>
                <a:lnTo>
                  <a:pt x="174" y="1020"/>
                </a:lnTo>
                <a:lnTo>
                  <a:pt x="174" y="1038"/>
                </a:lnTo>
                <a:lnTo>
                  <a:pt x="180" y="1056"/>
                </a:lnTo>
                <a:lnTo>
                  <a:pt x="186" y="1074"/>
                </a:lnTo>
                <a:lnTo>
                  <a:pt x="186" y="1092"/>
                </a:lnTo>
                <a:lnTo>
                  <a:pt x="192" y="1110"/>
                </a:lnTo>
                <a:lnTo>
                  <a:pt x="192" y="1128"/>
                </a:lnTo>
                <a:lnTo>
                  <a:pt x="198" y="1146"/>
                </a:lnTo>
                <a:lnTo>
                  <a:pt x="204" y="1164"/>
                </a:lnTo>
                <a:lnTo>
                  <a:pt x="204" y="1182"/>
                </a:lnTo>
                <a:lnTo>
                  <a:pt x="210" y="1200"/>
                </a:lnTo>
                <a:lnTo>
                  <a:pt x="210" y="1212"/>
                </a:lnTo>
                <a:lnTo>
                  <a:pt x="216" y="1230"/>
                </a:lnTo>
                <a:lnTo>
                  <a:pt x="222" y="1248"/>
                </a:lnTo>
                <a:lnTo>
                  <a:pt x="222" y="1266"/>
                </a:lnTo>
                <a:lnTo>
                  <a:pt x="228" y="1284"/>
                </a:lnTo>
                <a:lnTo>
                  <a:pt x="228" y="1302"/>
                </a:lnTo>
                <a:lnTo>
                  <a:pt x="234" y="1314"/>
                </a:lnTo>
                <a:lnTo>
                  <a:pt x="234" y="1332"/>
                </a:lnTo>
                <a:lnTo>
                  <a:pt x="240" y="1350"/>
                </a:lnTo>
                <a:lnTo>
                  <a:pt x="246" y="1362"/>
                </a:lnTo>
                <a:lnTo>
                  <a:pt x="246" y="1380"/>
                </a:lnTo>
                <a:lnTo>
                  <a:pt x="252" y="1398"/>
                </a:lnTo>
                <a:lnTo>
                  <a:pt x="252" y="1410"/>
                </a:lnTo>
                <a:lnTo>
                  <a:pt x="258" y="1428"/>
                </a:lnTo>
                <a:lnTo>
                  <a:pt x="264" y="1446"/>
                </a:lnTo>
                <a:lnTo>
                  <a:pt x="264" y="1458"/>
                </a:lnTo>
                <a:lnTo>
                  <a:pt x="270" y="1476"/>
                </a:lnTo>
                <a:lnTo>
                  <a:pt x="270" y="1488"/>
                </a:lnTo>
                <a:lnTo>
                  <a:pt x="276" y="1506"/>
                </a:lnTo>
                <a:lnTo>
                  <a:pt x="282" y="1518"/>
                </a:lnTo>
                <a:lnTo>
                  <a:pt x="282" y="1536"/>
                </a:lnTo>
                <a:lnTo>
                  <a:pt x="288" y="1548"/>
                </a:lnTo>
                <a:lnTo>
                  <a:pt x="288" y="1566"/>
                </a:lnTo>
                <a:lnTo>
                  <a:pt x="294" y="1578"/>
                </a:lnTo>
                <a:lnTo>
                  <a:pt x="300" y="1596"/>
                </a:lnTo>
                <a:lnTo>
                  <a:pt x="300" y="1608"/>
                </a:lnTo>
                <a:lnTo>
                  <a:pt x="306" y="1626"/>
                </a:lnTo>
                <a:lnTo>
                  <a:pt x="306" y="1638"/>
                </a:lnTo>
                <a:lnTo>
                  <a:pt x="312" y="1650"/>
                </a:lnTo>
                <a:lnTo>
                  <a:pt x="318" y="1668"/>
                </a:lnTo>
                <a:lnTo>
                  <a:pt x="318" y="1680"/>
                </a:lnTo>
                <a:lnTo>
                  <a:pt x="324" y="1692"/>
                </a:lnTo>
                <a:lnTo>
                  <a:pt x="324" y="1704"/>
                </a:lnTo>
                <a:lnTo>
                  <a:pt x="330" y="1722"/>
                </a:lnTo>
                <a:lnTo>
                  <a:pt x="336" y="1734"/>
                </a:lnTo>
                <a:lnTo>
                  <a:pt x="336" y="1746"/>
                </a:lnTo>
                <a:lnTo>
                  <a:pt x="342" y="1758"/>
                </a:lnTo>
                <a:lnTo>
                  <a:pt x="342" y="1776"/>
                </a:lnTo>
                <a:lnTo>
                  <a:pt x="348" y="1788"/>
                </a:lnTo>
                <a:lnTo>
                  <a:pt x="354" y="1800"/>
                </a:lnTo>
                <a:lnTo>
                  <a:pt x="354" y="1812"/>
                </a:lnTo>
                <a:lnTo>
                  <a:pt x="360" y="1824"/>
                </a:lnTo>
                <a:lnTo>
                  <a:pt x="360" y="1836"/>
                </a:lnTo>
                <a:lnTo>
                  <a:pt x="366" y="1848"/>
                </a:lnTo>
                <a:lnTo>
                  <a:pt x="372" y="1860"/>
                </a:lnTo>
                <a:lnTo>
                  <a:pt x="372" y="1872"/>
                </a:lnTo>
                <a:lnTo>
                  <a:pt x="378" y="1884"/>
                </a:lnTo>
                <a:lnTo>
                  <a:pt x="378" y="1896"/>
                </a:lnTo>
                <a:lnTo>
                  <a:pt x="384" y="1908"/>
                </a:lnTo>
                <a:lnTo>
                  <a:pt x="390" y="1920"/>
                </a:lnTo>
                <a:lnTo>
                  <a:pt x="390" y="1932"/>
                </a:lnTo>
                <a:lnTo>
                  <a:pt x="396" y="1944"/>
                </a:lnTo>
                <a:lnTo>
                  <a:pt x="396" y="1956"/>
                </a:lnTo>
                <a:lnTo>
                  <a:pt x="402" y="1968"/>
                </a:lnTo>
                <a:lnTo>
                  <a:pt x="408" y="1980"/>
                </a:lnTo>
                <a:lnTo>
                  <a:pt x="408" y="1992"/>
                </a:lnTo>
                <a:lnTo>
                  <a:pt x="414" y="1998"/>
                </a:lnTo>
                <a:lnTo>
                  <a:pt x="414" y="2010"/>
                </a:lnTo>
                <a:lnTo>
                  <a:pt x="420" y="2022"/>
                </a:lnTo>
                <a:lnTo>
                  <a:pt x="426" y="2034"/>
                </a:lnTo>
                <a:lnTo>
                  <a:pt x="426" y="2040"/>
                </a:lnTo>
                <a:lnTo>
                  <a:pt x="432" y="2052"/>
                </a:lnTo>
                <a:lnTo>
                  <a:pt x="432" y="2064"/>
                </a:lnTo>
                <a:lnTo>
                  <a:pt x="438" y="2076"/>
                </a:lnTo>
                <a:lnTo>
                  <a:pt x="444" y="2082"/>
                </a:lnTo>
                <a:lnTo>
                  <a:pt x="444" y="2094"/>
                </a:lnTo>
                <a:lnTo>
                  <a:pt x="450" y="2100"/>
                </a:lnTo>
                <a:lnTo>
                  <a:pt x="450" y="2112"/>
                </a:lnTo>
                <a:lnTo>
                  <a:pt x="456" y="2124"/>
                </a:lnTo>
                <a:lnTo>
                  <a:pt x="462" y="2130"/>
                </a:lnTo>
                <a:lnTo>
                  <a:pt x="462" y="2142"/>
                </a:lnTo>
                <a:lnTo>
                  <a:pt x="468" y="2148"/>
                </a:lnTo>
                <a:lnTo>
                  <a:pt x="468" y="2160"/>
                </a:lnTo>
                <a:lnTo>
                  <a:pt x="474" y="2166"/>
                </a:lnTo>
                <a:lnTo>
                  <a:pt x="480" y="2178"/>
                </a:lnTo>
                <a:lnTo>
                  <a:pt x="480" y="2184"/>
                </a:lnTo>
                <a:lnTo>
                  <a:pt x="486" y="2196"/>
                </a:lnTo>
                <a:lnTo>
                  <a:pt x="486" y="2202"/>
                </a:lnTo>
                <a:lnTo>
                  <a:pt x="492" y="2214"/>
                </a:lnTo>
                <a:lnTo>
                  <a:pt x="498" y="2220"/>
                </a:lnTo>
                <a:lnTo>
                  <a:pt x="498" y="2226"/>
                </a:lnTo>
                <a:lnTo>
                  <a:pt x="504" y="2238"/>
                </a:lnTo>
                <a:lnTo>
                  <a:pt x="504" y="2244"/>
                </a:lnTo>
                <a:lnTo>
                  <a:pt x="510" y="2250"/>
                </a:lnTo>
                <a:lnTo>
                  <a:pt x="510" y="2262"/>
                </a:lnTo>
                <a:lnTo>
                  <a:pt x="516" y="2268"/>
                </a:lnTo>
                <a:lnTo>
                  <a:pt x="522" y="2274"/>
                </a:lnTo>
                <a:lnTo>
                  <a:pt x="522" y="2280"/>
                </a:lnTo>
                <a:lnTo>
                  <a:pt x="528" y="2292"/>
                </a:lnTo>
                <a:lnTo>
                  <a:pt x="528" y="2298"/>
                </a:lnTo>
                <a:lnTo>
                  <a:pt x="534" y="2304"/>
                </a:lnTo>
                <a:lnTo>
                  <a:pt x="540" y="2310"/>
                </a:lnTo>
                <a:lnTo>
                  <a:pt x="540" y="2316"/>
                </a:lnTo>
                <a:lnTo>
                  <a:pt x="546" y="2322"/>
                </a:lnTo>
                <a:lnTo>
                  <a:pt x="546" y="2328"/>
                </a:lnTo>
                <a:lnTo>
                  <a:pt x="552" y="2340"/>
                </a:lnTo>
                <a:lnTo>
                  <a:pt x="558" y="2346"/>
                </a:lnTo>
                <a:lnTo>
                  <a:pt x="558" y="2352"/>
                </a:lnTo>
                <a:lnTo>
                  <a:pt x="564" y="2358"/>
                </a:lnTo>
                <a:lnTo>
                  <a:pt x="564" y="2364"/>
                </a:lnTo>
                <a:lnTo>
                  <a:pt x="570" y="2370"/>
                </a:lnTo>
                <a:lnTo>
                  <a:pt x="576" y="2376"/>
                </a:lnTo>
                <a:lnTo>
                  <a:pt x="576" y="2382"/>
                </a:lnTo>
                <a:lnTo>
                  <a:pt x="582" y="2382"/>
                </a:lnTo>
                <a:lnTo>
                  <a:pt x="582" y="2388"/>
                </a:lnTo>
                <a:lnTo>
                  <a:pt x="588" y="2394"/>
                </a:lnTo>
                <a:lnTo>
                  <a:pt x="594" y="2400"/>
                </a:lnTo>
                <a:lnTo>
                  <a:pt x="594" y="2406"/>
                </a:lnTo>
                <a:lnTo>
                  <a:pt x="600" y="2412"/>
                </a:lnTo>
                <a:lnTo>
                  <a:pt x="600" y="2418"/>
                </a:lnTo>
                <a:lnTo>
                  <a:pt x="606" y="2418"/>
                </a:lnTo>
                <a:lnTo>
                  <a:pt x="612" y="2424"/>
                </a:lnTo>
                <a:lnTo>
                  <a:pt x="612" y="2430"/>
                </a:lnTo>
                <a:lnTo>
                  <a:pt x="618" y="2436"/>
                </a:lnTo>
                <a:lnTo>
                  <a:pt x="624" y="2442"/>
                </a:lnTo>
                <a:lnTo>
                  <a:pt x="630" y="2448"/>
                </a:lnTo>
                <a:lnTo>
                  <a:pt x="630" y="2454"/>
                </a:lnTo>
                <a:lnTo>
                  <a:pt x="636" y="2454"/>
                </a:lnTo>
                <a:lnTo>
                  <a:pt x="636" y="2460"/>
                </a:lnTo>
                <a:lnTo>
                  <a:pt x="642" y="2460"/>
                </a:lnTo>
                <a:lnTo>
                  <a:pt x="648" y="2466"/>
                </a:lnTo>
                <a:lnTo>
                  <a:pt x="648" y="2472"/>
                </a:lnTo>
                <a:lnTo>
                  <a:pt x="654" y="2472"/>
                </a:lnTo>
                <a:lnTo>
                  <a:pt x="654" y="2478"/>
                </a:lnTo>
                <a:lnTo>
                  <a:pt x="660" y="2478"/>
                </a:lnTo>
                <a:lnTo>
                  <a:pt x="666" y="2484"/>
                </a:lnTo>
                <a:lnTo>
                  <a:pt x="672" y="2490"/>
                </a:lnTo>
                <a:lnTo>
                  <a:pt x="678" y="2496"/>
                </a:lnTo>
                <a:lnTo>
                  <a:pt x="684" y="2496"/>
                </a:lnTo>
                <a:lnTo>
                  <a:pt x="690" y="2502"/>
                </a:lnTo>
                <a:lnTo>
                  <a:pt x="696" y="2502"/>
                </a:lnTo>
                <a:lnTo>
                  <a:pt x="702" y="2508"/>
                </a:lnTo>
                <a:lnTo>
                  <a:pt x="708" y="2508"/>
                </a:lnTo>
                <a:lnTo>
                  <a:pt x="714" y="2514"/>
                </a:lnTo>
                <a:lnTo>
                  <a:pt x="720" y="2514"/>
                </a:lnTo>
                <a:lnTo>
                  <a:pt x="726" y="2514"/>
                </a:lnTo>
                <a:lnTo>
                  <a:pt x="732" y="2520"/>
                </a:lnTo>
                <a:lnTo>
                  <a:pt x="738" y="2520"/>
                </a:lnTo>
                <a:lnTo>
                  <a:pt x="744" y="2520"/>
                </a:lnTo>
                <a:lnTo>
                  <a:pt x="750" y="2520"/>
                </a:lnTo>
                <a:lnTo>
                  <a:pt x="756" y="2520"/>
                </a:lnTo>
                <a:lnTo>
                  <a:pt x="762" y="2520"/>
                </a:lnTo>
                <a:lnTo>
                  <a:pt x="768" y="2520"/>
                </a:lnTo>
                <a:lnTo>
                  <a:pt x="774" y="2520"/>
                </a:lnTo>
                <a:lnTo>
                  <a:pt x="780" y="2520"/>
                </a:lnTo>
                <a:lnTo>
                  <a:pt x="786" y="2514"/>
                </a:lnTo>
                <a:lnTo>
                  <a:pt x="792" y="2514"/>
                </a:lnTo>
                <a:lnTo>
                  <a:pt x="798" y="2514"/>
                </a:lnTo>
                <a:lnTo>
                  <a:pt x="804" y="2508"/>
                </a:lnTo>
                <a:lnTo>
                  <a:pt x="810" y="2508"/>
                </a:lnTo>
                <a:lnTo>
                  <a:pt x="816" y="2508"/>
                </a:lnTo>
                <a:lnTo>
                  <a:pt x="816" y="2502"/>
                </a:lnTo>
                <a:lnTo>
                  <a:pt x="822" y="2502"/>
                </a:lnTo>
                <a:lnTo>
                  <a:pt x="828" y="2496"/>
                </a:lnTo>
                <a:lnTo>
                  <a:pt x="834" y="2496"/>
                </a:lnTo>
                <a:lnTo>
                  <a:pt x="834" y="2490"/>
                </a:lnTo>
                <a:lnTo>
                  <a:pt x="840" y="2490"/>
                </a:lnTo>
                <a:lnTo>
                  <a:pt x="840" y="2484"/>
                </a:lnTo>
                <a:lnTo>
                  <a:pt x="846" y="2484"/>
                </a:lnTo>
                <a:lnTo>
                  <a:pt x="852" y="2484"/>
                </a:lnTo>
                <a:lnTo>
                  <a:pt x="852" y="2478"/>
                </a:lnTo>
                <a:lnTo>
                  <a:pt x="858" y="2478"/>
                </a:lnTo>
                <a:lnTo>
                  <a:pt x="858" y="2472"/>
                </a:lnTo>
                <a:lnTo>
                  <a:pt x="864" y="2466"/>
                </a:lnTo>
                <a:lnTo>
                  <a:pt x="870" y="2466"/>
                </a:lnTo>
                <a:lnTo>
                  <a:pt x="870" y="2460"/>
                </a:lnTo>
                <a:lnTo>
                  <a:pt x="876" y="2460"/>
                </a:lnTo>
                <a:lnTo>
                  <a:pt x="876" y="2454"/>
                </a:lnTo>
                <a:lnTo>
                  <a:pt x="882" y="2448"/>
                </a:lnTo>
                <a:lnTo>
                  <a:pt x="888" y="2448"/>
                </a:lnTo>
                <a:lnTo>
                  <a:pt x="888" y="2442"/>
                </a:lnTo>
                <a:lnTo>
                  <a:pt x="894" y="2436"/>
                </a:lnTo>
                <a:lnTo>
                  <a:pt x="900" y="2430"/>
                </a:lnTo>
                <a:lnTo>
                  <a:pt x="906" y="2424"/>
                </a:lnTo>
                <a:lnTo>
                  <a:pt x="906" y="2418"/>
                </a:lnTo>
                <a:lnTo>
                  <a:pt x="912" y="2412"/>
                </a:lnTo>
                <a:lnTo>
                  <a:pt x="918" y="2406"/>
                </a:lnTo>
                <a:lnTo>
                  <a:pt x="924" y="2400"/>
                </a:lnTo>
                <a:lnTo>
                  <a:pt x="924" y="2394"/>
                </a:lnTo>
                <a:lnTo>
                  <a:pt x="930" y="2388"/>
                </a:lnTo>
                <a:lnTo>
                  <a:pt x="930" y="2382"/>
                </a:lnTo>
                <a:lnTo>
                  <a:pt x="936" y="2376"/>
                </a:lnTo>
                <a:lnTo>
                  <a:pt x="942" y="2370"/>
                </a:lnTo>
                <a:lnTo>
                  <a:pt x="942" y="2364"/>
                </a:lnTo>
                <a:lnTo>
                  <a:pt x="948" y="2358"/>
                </a:lnTo>
                <a:lnTo>
                  <a:pt x="948" y="2352"/>
                </a:lnTo>
                <a:lnTo>
                  <a:pt x="954" y="2346"/>
                </a:lnTo>
                <a:lnTo>
                  <a:pt x="960" y="2340"/>
                </a:lnTo>
                <a:lnTo>
                  <a:pt x="960" y="2334"/>
                </a:lnTo>
                <a:lnTo>
                  <a:pt x="966" y="2328"/>
                </a:lnTo>
                <a:lnTo>
                  <a:pt x="966" y="2322"/>
                </a:lnTo>
                <a:lnTo>
                  <a:pt x="972" y="2316"/>
                </a:lnTo>
                <a:lnTo>
                  <a:pt x="978" y="2310"/>
                </a:lnTo>
                <a:lnTo>
                  <a:pt x="978" y="2304"/>
                </a:lnTo>
                <a:lnTo>
                  <a:pt x="984" y="2292"/>
                </a:lnTo>
                <a:lnTo>
                  <a:pt x="984" y="2286"/>
                </a:lnTo>
                <a:lnTo>
                  <a:pt x="990" y="2280"/>
                </a:lnTo>
                <a:lnTo>
                  <a:pt x="996" y="2274"/>
                </a:lnTo>
                <a:lnTo>
                  <a:pt x="996" y="2262"/>
                </a:lnTo>
                <a:lnTo>
                  <a:pt x="1002" y="2256"/>
                </a:lnTo>
                <a:lnTo>
                  <a:pt x="1002" y="2250"/>
                </a:lnTo>
                <a:lnTo>
                  <a:pt x="1008" y="2244"/>
                </a:lnTo>
                <a:lnTo>
                  <a:pt x="1014" y="2232"/>
                </a:lnTo>
                <a:lnTo>
                  <a:pt x="1014" y="2226"/>
                </a:lnTo>
                <a:lnTo>
                  <a:pt x="1020" y="2214"/>
                </a:lnTo>
                <a:lnTo>
                  <a:pt x="1020" y="2208"/>
                </a:lnTo>
                <a:lnTo>
                  <a:pt x="1026" y="2202"/>
                </a:lnTo>
                <a:lnTo>
                  <a:pt x="1026" y="2190"/>
                </a:lnTo>
                <a:lnTo>
                  <a:pt x="1032" y="2184"/>
                </a:lnTo>
                <a:lnTo>
                  <a:pt x="1038" y="2172"/>
                </a:lnTo>
                <a:lnTo>
                  <a:pt x="1038" y="2166"/>
                </a:lnTo>
                <a:lnTo>
                  <a:pt x="1044" y="2154"/>
                </a:lnTo>
                <a:lnTo>
                  <a:pt x="1044" y="2148"/>
                </a:lnTo>
                <a:lnTo>
                  <a:pt x="1050" y="2136"/>
                </a:lnTo>
                <a:lnTo>
                  <a:pt x="1056" y="2130"/>
                </a:lnTo>
                <a:lnTo>
                  <a:pt x="1056" y="2118"/>
                </a:lnTo>
                <a:lnTo>
                  <a:pt x="1062" y="2112"/>
                </a:lnTo>
                <a:lnTo>
                  <a:pt x="1062" y="2100"/>
                </a:lnTo>
                <a:lnTo>
                  <a:pt x="1068" y="2088"/>
                </a:lnTo>
                <a:lnTo>
                  <a:pt x="1074" y="2082"/>
                </a:lnTo>
                <a:lnTo>
                  <a:pt x="1074" y="2070"/>
                </a:lnTo>
                <a:lnTo>
                  <a:pt x="1080" y="2058"/>
                </a:lnTo>
                <a:lnTo>
                  <a:pt x="1080" y="2052"/>
                </a:lnTo>
                <a:lnTo>
                  <a:pt x="1086" y="2040"/>
                </a:lnTo>
                <a:lnTo>
                  <a:pt x="1092" y="2028"/>
                </a:lnTo>
                <a:lnTo>
                  <a:pt x="1092" y="2016"/>
                </a:lnTo>
                <a:lnTo>
                  <a:pt x="1098" y="2010"/>
                </a:lnTo>
                <a:lnTo>
                  <a:pt x="1098" y="1998"/>
                </a:lnTo>
                <a:lnTo>
                  <a:pt x="1104" y="1986"/>
                </a:lnTo>
                <a:lnTo>
                  <a:pt x="1110" y="1974"/>
                </a:lnTo>
                <a:lnTo>
                  <a:pt x="1110" y="1962"/>
                </a:lnTo>
                <a:lnTo>
                  <a:pt x="1116" y="1950"/>
                </a:lnTo>
                <a:lnTo>
                  <a:pt x="1116" y="1938"/>
                </a:lnTo>
                <a:lnTo>
                  <a:pt x="1122" y="1926"/>
                </a:lnTo>
                <a:lnTo>
                  <a:pt x="1128" y="1920"/>
                </a:lnTo>
                <a:lnTo>
                  <a:pt x="1128" y="1908"/>
                </a:lnTo>
                <a:lnTo>
                  <a:pt x="1134" y="1896"/>
                </a:lnTo>
                <a:lnTo>
                  <a:pt x="1134" y="1884"/>
                </a:lnTo>
                <a:lnTo>
                  <a:pt x="1140" y="1872"/>
                </a:lnTo>
                <a:lnTo>
                  <a:pt x="1146" y="1860"/>
                </a:lnTo>
                <a:lnTo>
                  <a:pt x="1146" y="1842"/>
                </a:lnTo>
                <a:lnTo>
                  <a:pt x="1152" y="1830"/>
                </a:lnTo>
                <a:lnTo>
                  <a:pt x="1152" y="1818"/>
                </a:lnTo>
                <a:lnTo>
                  <a:pt x="1158" y="1806"/>
                </a:lnTo>
                <a:lnTo>
                  <a:pt x="1164" y="1794"/>
                </a:lnTo>
                <a:lnTo>
                  <a:pt x="1164" y="1782"/>
                </a:lnTo>
                <a:lnTo>
                  <a:pt x="1170" y="1770"/>
                </a:lnTo>
                <a:lnTo>
                  <a:pt x="1170" y="1758"/>
                </a:lnTo>
                <a:lnTo>
                  <a:pt x="1176" y="1740"/>
                </a:lnTo>
                <a:lnTo>
                  <a:pt x="1182" y="1728"/>
                </a:lnTo>
                <a:lnTo>
                  <a:pt x="1182" y="1716"/>
                </a:lnTo>
                <a:lnTo>
                  <a:pt x="1188" y="1704"/>
                </a:lnTo>
                <a:lnTo>
                  <a:pt x="1188" y="1686"/>
                </a:lnTo>
                <a:lnTo>
                  <a:pt x="1194" y="1674"/>
                </a:lnTo>
                <a:lnTo>
                  <a:pt x="1200" y="1662"/>
                </a:lnTo>
                <a:lnTo>
                  <a:pt x="1200" y="1644"/>
                </a:lnTo>
                <a:lnTo>
                  <a:pt x="1206" y="1632"/>
                </a:lnTo>
                <a:lnTo>
                  <a:pt x="1206" y="1620"/>
                </a:lnTo>
                <a:lnTo>
                  <a:pt x="1212" y="1602"/>
                </a:lnTo>
                <a:lnTo>
                  <a:pt x="1218" y="1590"/>
                </a:lnTo>
                <a:lnTo>
                  <a:pt x="1218" y="1578"/>
                </a:lnTo>
                <a:lnTo>
                  <a:pt x="1224" y="1560"/>
                </a:lnTo>
                <a:lnTo>
                  <a:pt x="1224" y="1548"/>
                </a:lnTo>
                <a:lnTo>
                  <a:pt x="1230" y="1530"/>
                </a:lnTo>
                <a:lnTo>
                  <a:pt x="1236" y="1518"/>
                </a:lnTo>
                <a:lnTo>
                  <a:pt x="1236" y="1500"/>
                </a:lnTo>
                <a:lnTo>
                  <a:pt x="1242" y="1488"/>
                </a:lnTo>
                <a:lnTo>
                  <a:pt x="1242" y="1470"/>
                </a:lnTo>
                <a:lnTo>
                  <a:pt x="1248" y="1452"/>
                </a:lnTo>
                <a:lnTo>
                  <a:pt x="1254" y="1440"/>
                </a:lnTo>
                <a:lnTo>
                  <a:pt x="1254" y="1422"/>
                </a:lnTo>
                <a:lnTo>
                  <a:pt x="1260" y="1410"/>
                </a:lnTo>
                <a:lnTo>
                  <a:pt x="1260" y="1392"/>
                </a:lnTo>
                <a:lnTo>
                  <a:pt x="1266" y="1374"/>
                </a:lnTo>
                <a:lnTo>
                  <a:pt x="1272" y="1362"/>
                </a:lnTo>
                <a:lnTo>
                  <a:pt x="1272" y="1344"/>
                </a:lnTo>
                <a:lnTo>
                  <a:pt x="1278" y="1326"/>
                </a:lnTo>
                <a:lnTo>
                  <a:pt x="1278" y="1308"/>
                </a:lnTo>
                <a:lnTo>
                  <a:pt x="1284" y="1296"/>
                </a:lnTo>
                <a:lnTo>
                  <a:pt x="1290" y="1278"/>
                </a:lnTo>
                <a:lnTo>
                  <a:pt x="1290" y="1260"/>
                </a:lnTo>
                <a:lnTo>
                  <a:pt x="1296" y="1242"/>
                </a:lnTo>
                <a:lnTo>
                  <a:pt x="1296" y="1224"/>
                </a:lnTo>
                <a:lnTo>
                  <a:pt x="1302" y="1206"/>
                </a:lnTo>
                <a:lnTo>
                  <a:pt x="1302" y="1194"/>
                </a:lnTo>
                <a:lnTo>
                  <a:pt x="1308" y="1176"/>
                </a:lnTo>
                <a:lnTo>
                  <a:pt x="1314" y="1158"/>
                </a:lnTo>
                <a:lnTo>
                  <a:pt x="1314" y="1140"/>
                </a:lnTo>
                <a:lnTo>
                  <a:pt x="1320" y="1122"/>
                </a:lnTo>
                <a:lnTo>
                  <a:pt x="1320" y="1104"/>
                </a:lnTo>
                <a:lnTo>
                  <a:pt x="1326" y="1086"/>
                </a:lnTo>
                <a:lnTo>
                  <a:pt x="1332" y="1068"/>
                </a:lnTo>
                <a:lnTo>
                  <a:pt x="1332" y="1050"/>
                </a:lnTo>
                <a:lnTo>
                  <a:pt x="1338" y="1032"/>
                </a:lnTo>
                <a:lnTo>
                  <a:pt x="1338" y="1014"/>
                </a:lnTo>
                <a:lnTo>
                  <a:pt x="1344" y="996"/>
                </a:lnTo>
                <a:lnTo>
                  <a:pt x="1350" y="972"/>
                </a:lnTo>
                <a:lnTo>
                  <a:pt x="1350" y="954"/>
                </a:lnTo>
                <a:lnTo>
                  <a:pt x="1356" y="936"/>
                </a:lnTo>
                <a:lnTo>
                  <a:pt x="1356" y="918"/>
                </a:lnTo>
                <a:lnTo>
                  <a:pt x="1362" y="900"/>
                </a:lnTo>
                <a:lnTo>
                  <a:pt x="1368" y="882"/>
                </a:lnTo>
                <a:lnTo>
                  <a:pt x="1368" y="858"/>
                </a:lnTo>
                <a:lnTo>
                  <a:pt x="1374" y="840"/>
                </a:lnTo>
                <a:lnTo>
                  <a:pt x="1374" y="822"/>
                </a:lnTo>
                <a:lnTo>
                  <a:pt x="1380" y="804"/>
                </a:lnTo>
                <a:lnTo>
                  <a:pt x="1386" y="780"/>
                </a:lnTo>
                <a:lnTo>
                  <a:pt x="1386" y="762"/>
                </a:lnTo>
                <a:lnTo>
                  <a:pt x="1392" y="744"/>
                </a:lnTo>
                <a:lnTo>
                  <a:pt x="1392" y="720"/>
                </a:lnTo>
                <a:lnTo>
                  <a:pt x="1398" y="702"/>
                </a:lnTo>
                <a:lnTo>
                  <a:pt x="1404" y="684"/>
                </a:lnTo>
                <a:lnTo>
                  <a:pt x="1404" y="660"/>
                </a:lnTo>
                <a:lnTo>
                  <a:pt x="1410" y="642"/>
                </a:lnTo>
                <a:lnTo>
                  <a:pt x="1410" y="618"/>
                </a:lnTo>
                <a:lnTo>
                  <a:pt x="1416" y="600"/>
                </a:lnTo>
                <a:lnTo>
                  <a:pt x="1422" y="576"/>
                </a:lnTo>
                <a:lnTo>
                  <a:pt x="1422" y="558"/>
                </a:lnTo>
                <a:lnTo>
                  <a:pt x="1428" y="534"/>
                </a:lnTo>
                <a:lnTo>
                  <a:pt x="1428" y="516"/>
                </a:lnTo>
                <a:lnTo>
                  <a:pt x="1434" y="492"/>
                </a:lnTo>
                <a:lnTo>
                  <a:pt x="1440" y="474"/>
                </a:lnTo>
                <a:lnTo>
                  <a:pt x="1440" y="450"/>
                </a:lnTo>
                <a:lnTo>
                  <a:pt x="1446" y="426"/>
                </a:lnTo>
                <a:lnTo>
                  <a:pt x="1446" y="408"/>
                </a:lnTo>
                <a:lnTo>
                  <a:pt x="1452" y="384"/>
                </a:lnTo>
                <a:lnTo>
                  <a:pt x="1458" y="360"/>
                </a:lnTo>
                <a:lnTo>
                  <a:pt x="1458" y="342"/>
                </a:lnTo>
                <a:lnTo>
                  <a:pt x="1464" y="318"/>
                </a:lnTo>
                <a:lnTo>
                  <a:pt x="1464" y="294"/>
                </a:lnTo>
                <a:lnTo>
                  <a:pt x="1470" y="276"/>
                </a:lnTo>
                <a:lnTo>
                  <a:pt x="1476" y="252"/>
                </a:lnTo>
                <a:lnTo>
                  <a:pt x="1476" y="228"/>
                </a:lnTo>
                <a:lnTo>
                  <a:pt x="1482" y="204"/>
                </a:lnTo>
                <a:lnTo>
                  <a:pt x="1482" y="180"/>
                </a:lnTo>
                <a:lnTo>
                  <a:pt x="1488" y="162"/>
                </a:lnTo>
                <a:lnTo>
                  <a:pt x="1494" y="138"/>
                </a:lnTo>
                <a:lnTo>
                  <a:pt x="1494" y="114"/>
                </a:lnTo>
                <a:lnTo>
                  <a:pt x="1500" y="90"/>
                </a:lnTo>
                <a:lnTo>
                  <a:pt x="1500" y="66"/>
                </a:lnTo>
                <a:lnTo>
                  <a:pt x="1506" y="42"/>
                </a:ln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556000" y="-29478240"/>
            <a:ext cx="7181640" cy="35280720"/>
            <a:chOff x="2556000" y="-29478240"/>
            <a:chExt cx="7181640" cy="35280720"/>
          </a:xfrm>
        </p:grpSpPr>
        <p:sp>
          <p:nvSpPr>
            <p:cNvPr id="154" name=""/>
            <p:cNvSpPr/>
            <p:nvPr/>
          </p:nvSpPr>
          <p:spPr>
            <a:xfrm flipV="1">
              <a:off x="2556000" y="-29097360"/>
              <a:ext cx="37800" cy="763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593800" y="-29097360"/>
              <a:ext cx="38160" cy="763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9661320" y="-29478240"/>
              <a:ext cx="38160" cy="763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9699480" y="-29478240"/>
              <a:ext cx="38160" cy="763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94600" y="251640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42160" y="431640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80000" y="5392800"/>
              <a:ext cx="4788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18200" y="5754600"/>
              <a:ext cx="47520" cy="47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56400" y="539280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94240" y="431640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41800" y="251640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9160" y="1916280"/>
            <a:ext cx="8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916280"/>
            <a:ext cx="4788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1545"/>
                </a:solidFill>
                <a:latin typeface="隶书"/>
                <a:ea typeface="隶书"/>
              </a:rPr>
              <a:t>(1)</a:t>
            </a:r>
            <a:r>
              <a:rPr b="1" lang="zh-CN" sz="2800" spc="-1" strike="noStrike">
                <a:solidFill>
                  <a:srgbClr val="dd1545"/>
                </a:solidFill>
                <a:latin typeface="隶书"/>
                <a:ea typeface="隶书"/>
              </a:rPr>
              <a:t>你能描述图象的形状吗</a:t>
            </a:r>
            <a:r>
              <a:rPr b="1" lang="zh-CN" sz="2800" spc="-1" strike="noStrike">
                <a:solidFill>
                  <a:srgbClr val="dd1545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1545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dd1545"/>
                </a:solidFill>
                <a:latin typeface="隶书"/>
                <a:ea typeface="隶书"/>
              </a:rPr>
              <a:t>与同伴进行交流</a:t>
            </a:r>
            <a:r>
              <a:rPr b="1" lang="zh-CN" sz="2800" spc="-1" strike="noStrike">
                <a:solidFill>
                  <a:srgbClr val="dd1545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92428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(2)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图象是轴对称图形吗？如果是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它的对称轴是什么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请你找出几对对称点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并与同伴交流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005360"/>
            <a:ext cx="816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1545"/>
                </a:solidFill>
                <a:latin typeface="Times New Roman"/>
                <a:ea typeface="隶书"/>
              </a:rPr>
              <a:t>(3)</a:t>
            </a:r>
            <a:r>
              <a:rPr b="1" lang="zh-CN" sz="2800" spc="-1" strike="noStrike">
                <a:solidFill>
                  <a:srgbClr val="dd1545"/>
                </a:solidFill>
                <a:latin typeface="Times New Roman"/>
                <a:ea typeface="隶书"/>
              </a:rPr>
              <a:t>图象 与</a:t>
            </a:r>
            <a:r>
              <a:rPr b="1" lang="zh-CN" sz="2800" spc="-1" strike="noStrike">
                <a:solidFill>
                  <a:srgbClr val="dd1545"/>
                </a:solidFill>
                <a:latin typeface="Times New Roman"/>
                <a:ea typeface="隶书"/>
              </a:rPr>
              <a:t>x</a:t>
            </a:r>
            <a:r>
              <a:rPr b="1" lang="zh-CN" sz="2800" spc="-1" strike="noStrike">
                <a:solidFill>
                  <a:srgbClr val="dd1545"/>
                </a:solidFill>
                <a:latin typeface="Times New Roman"/>
                <a:ea typeface="隶书"/>
              </a:rPr>
              <a:t>轴有交点吗？如果有</a:t>
            </a:r>
            <a:r>
              <a:rPr b="1" lang="zh-CN" sz="2800" spc="-1" strike="noStrike">
                <a:solidFill>
                  <a:srgbClr val="dd1545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dd1545"/>
                </a:solidFill>
                <a:latin typeface="Times New Roman"/>
                <a:ea typeface="隶书"/>
              </a:rPr>
              <a:t>交点坐标是什么</a:t>
            </a:r>
            <a:r>
              <a:rPr b="1" lang="zh-CN" sz="2800" spc="-1" strike="noStrike">
                <a:solidFill>
                  <a:srgbClr val="dd1545"/>
                </a:solidFill>
                <a:latin typeface="Times New Roman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458136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(4)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当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x&lt;0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时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随着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x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的值增大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,y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的值如何变化？当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x&gt;0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320" y="5157720"/>
            <a:ext cx="9067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1545"/>
                </a:solidFill>
                <a:latin typeface="Times New Roman"/>
                <a:ea typeface="隶书"/>
              </a:rPr>
              <a:t>(5)</a:t>
            </a:r>
            <a:r>
              <a:rPr b="1" lang="zh-CN" sz="2800" spc="-1" strike="noStrike">
                <a:solidFill>
                  <a:srgbClr val="dd1545"/>
                </a:solidFill>
                <a:latin typeface="Times New Roman"/>
                <a:ea typeface="隶书"/>
              </a:rPr>
              <a:t>当</a:t>
            </a:r>
            <a:r>
              <a:rPr b="1" lang="zh-CN" sz="2800" spc="-1" strike="noStrike">
                <a:solidFill>
                  <a:srgbClr val="dd1545"/>
                </a:solidFill>
                <a:latin typeface="Times New Roman"/>
                <a:ea typeface="隶书"/>
              </a:rPr>
              <a:t>x</a:t>
            </a:r>
            <a:r>
              <a:rPr b="1" lang="zh-CN" sz="2800" spc="-1" strike="noStrike">
                <a:solidFill>
                  <a:srgbClr val="dd1545"/>
                </a:solidFill>
                <a:latin typeface="Times New Roman"/>
                <a:ea typeface="隶书"/>
              </a:rPr>
              <a:t>取什么值时</a:t>
            </a:r>
            <a:r>
              <a:rPr b="1" lang="zh-CN" sz="2800" spc="-1" strike="noStrike">
                <a:solidFill>
                  <a:srgbClr val="dd1545"/>
                </a:solidFill>
                <a:latin typeface="Times New Roman"/>
                <a:ea typeface="隶书"/>
              </a:rPr>
              <a:t>,y</a:t>
            </a:r>
            <a:r>
              <a:rPr b="1" lang="zh-CN" sz="2800" spc="-1" strike="noStrike">
                <a:solidFill>
                  <a:srgbClr val="dd1545"/>
                </a:solidFill>
                <a:latin typeface="Times New Roman"/>
                <a:ea typeface="隶书"/>
              </a:rPr>
              <a:t>的值最小</a:t>
            </a:r>
            <a:r>
              <a:rPr b="1" lang="zh-CN" sz="2800" spc="-1" strike="noStrike">
                <a:solidFill>
                  <a:srgbClr val="dd1545"/>
                </a:solidFill>
                <a:latin typeface="Times New Roman"/>
                <a:ea typeface="隶书"/>
              </a:rPr>
              <a:t>?</a:t>
            </a:r>
            <a:r>
              <a:rPr b="1" lang="zh-CN" sz="2800" spc="-1" strike="noStrike">
                <a:solidFill>
                  <a:srgbClr val="dd1545"/>
                </a:solidFill>
                <a:latin typeface="Times New Roman"/>
                <a:ea typeface="隶书"/>
              </a:rPr>
              <a:t>最小值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1545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dd1545"/>
                </a:solidFill>
                <a:latin typeface="Times New Roman"/>
                <a:ea typeface="隶书"/>
              </a:rPr>
              <a:t>你是如何知道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探究二次函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y=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图象和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156120" y="5592600"/>
            <a:ext cx="520560" cy="68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295800" y="3916440"/>
            <a:ext cx="5259240" cy="2209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384720" y="5211720"/>
            <a:ext cx="520560" cy="685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753000" y="4830840"/>
            <a:ext cx="520560" cy="685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057560" y="4449600"/>
            <a:ext cx="520920" cy="685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4438800" y="4068720"/>
            <a:ext cx="52056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4896000" y="3763800"/>
            <a:ext cx="520560" cy="685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5429160" y="3535200"/>
            <a:ext cx="520920" cy="685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5962680" y="3535200"/>
            <a:ext cx="520560" cy="685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6419880" y="3687840"/>
            <a:ext cx="520560" cy="685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1"/>
          <a:stretch/>
        </p:blipFill>
        <p:spPr>
          <a:xfrm>
            <a:off x="6813720" y="3992400"/>
            <a:ext cx="520560" cy="685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2"/>
          <a:stretch/>
        </p:blipFill>
        <p:spPr>
          <a:xfrm>
            <a:off x="7194600" y="4297320"/>
            <a:ext cx="520560" cy="685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3"/>
          <a:stretch/>
        </p:blipFill>
        <p:spPr>
          <a:xfrm>
            <a:off x="7410600" y="4602240"/>
            <a:ext cx="520560" cy="685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4"/>
          <a:stretch/>
        </p:blipFill>
        <p:spPr>
          <a:xfrm>
            <a:off x="7651800" y="4983120"/>
            <a:ext cx="520560" cy="685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5"/>
          <a:stretch/>
        </p:blipFill>
        <p:spPr>
          <a:xfrm>
            <a:off x="7804080" y="5288040"/>
            <a:ext cx="520920" cy="685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6"/>
          <a:stretch/>
        </p:blipFill>
        <p:spPr>
          <a:xfrm>
            <a:off x="8096400" y="5592600"/>
            <a:ext cx="520560" cy="685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7"/>
          <a:stretch/>
        </p:blipFill>
        <p:spPr>
          <a:xfrm>
            <a:off x="7819920" y="5897520"/>
            <a:ext cx="1400400" cy="8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1752480" y="5124600"/>
          <a:ext cx="1724040" cy="17334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752480" y="5124600"/>
                    <a:ext cx="172404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20"/>
          <a:srcRect l="0" t="0" r="0" b="47854"/>
          <a:stretch/>
        </p:blipFill>
        <p:spPr>
          <a:xfrm>
            <a:off x="3200400" y="93600"/>
            <a:ext cx="5867280" cy="25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406680" y="246240"/>
                <a:ext cx="6127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 flipV="1">
            <a:off x="6095880" y="93240"/>
            <a:ext cx="0" cy="25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2971800"/>
            <a:ext cx="2210040" cy="1143000"/>
          </a:xfrm>
          <a:prstGeom prst="wedgeRoundRectCallout">
            <a:avLst>
              <a:gd name="adj1" fmla="val 112282"/>
              <a:gd name="adj2" fmla="val -225416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这条抛物线关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轴对称</a:t>
            </a: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,y</a:t>
            </a: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轴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              </a:t>
            </a: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是它的对称轴</a:t>
            </a: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78695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9920" y="2455920"/>
            <a:ext cx="147600" cy="1476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e9e2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56440" y="2846520"/>
            <a:ext cx="1862280" cy="1103040"/>
          </a:xfrm>
          <a:prstGeom prst="wedgeRectCallout">
            <a:avLst>
              <a:gd name="adj1" fmla="val -107458"/>
              <a:gd name="adj2" fmla="val -74458"/>
            </a:avLst>
          </a:prstGeom>
          <a:gradFill rotWithShape="0">
            <a:gsLst>
              <a:gs pos="0">
                <a:srgbClr val="c19ac1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对称轴与抛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线的交点叫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抛物线的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1143000"/>
            <a:ext cx="2819520" cy="1828800"/>
          </a:xfrm>
          <a:prstGeom prst="wedgeEllipseCallout">
            <a:avLst>
              <a:gd name="adj1" fmla="val -23027"/>
              <a:gd name="adj2" fmla="val 195226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二次函数</a:t>
            </a: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y=x</a:t>
            </a:r>
            <a:r>
              <a:rPr b="1" lang="zh-CN" sz="2000" spc="-1" strike="noStrike" baseline="30000">
                <a:solidFill>
                  <a:srgbClr val="78695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图象形如物体抛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时所经过的路线</a:t>
            </a: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们把它叫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抛物线</a:t>
            </a: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1"/>
          <a:stretch/>
        </p:blipFill>
        <p:spPr>
          <a:xfrm>
            <a:off x="76320" y="5711760"/>
            <a:ext cx="1295280" cy="1076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75"/>
                            </p:stCondLst>
                            <p:childTnLst>
                              <p:par>
                                <p:cTn id="1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50"/>
                            </p:stCondLst>
                            <p:childTnLst>
                              <p:par>
                                <p:cTn id="1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25"/>
                            </p:stCondLst>
                            <p:childTnLst>
                              <p:par>
                                <p:cTn id="1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00"/>
                            </p:stCondLst>
                            <p:childTnLst>
                              <p:par>
                                <p:cTn id="1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75"/>
                            </p:stCondLst>
                            <p:childTnLst>
                              <p:par>
                                <p:cTn id="1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50"/>
                            </p:stCondLst>
                            <p:childTnLst>
                              <p:par>
                                <p:cTn id="1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25"/>
                            </p:stCondLst>
                            <p:childTnLst>
                              <p:par>
                                <p:cTn id="1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00"/>
                            </p:stCondLst>
                            <p:childTnLst>
                              <p:par>
                                <p:cTn id="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75"/>
                            </p:stCondLst>
                            <p:childTnLst>
                              <p:par>
                                <p:cTn id="1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50"/>
                            </p:stCondLst>
                            <p:childTnLst>
                              <p:par>
                                <p:cTn id="1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325"/>
                            </p:stCondLst>
                            <p:childTnLst>
                              <p:par>
                                <p:cTn id="1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400"/>
                            </p:stCondLst>
                            <p:childTnLst>
                              <p:par>
                                <p:cTn id="2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75"/>
                            </p:stCondLst>
                            <p:childTnLst>
                              <p:par>
                                <p:cTn id="2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50"/>
                            </p:stCondLst>
                            <p:childTnLst>
                              <p:par>
                                <p:cTn id="2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625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OMB1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oy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rcRect l="0" t="0" r="0" b="45558"/>
          <a:stretch/>
        </p:blipFill>
        <p:spPr>
          <a:xfrm>
            <a:off x="76320" y="0"/>
            <a:ext cx="6858000" cy="3733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28480" y="409680"/>
                <a:ext cx="13464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133720" y="9144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762120"/>
            <a:ext cx="0" cy="2735280"/>
          </a:xfrm>
          <a:prstGeom prst="line">
            <a:avLst/>
          </a:prstGeom>
          <a:ln w="38160">
            <a:solidFill>
              <a:srgbClr val="00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990720"/>
            <a:ext cx="1600200" cy="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43200"/>
            <a:ext cx="0" cy="762120"/>
          </a:xfrm>
          <a:prstGeom prst="line">
            <a:avLst/>
          </a:prstGeom>
          <a:ln w="381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32040" y="2895480"/>
            <a:ext cx="773280" cy="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8195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4360" y="836640"/>
            <a:ext cx="3124440" cy="1066680"/>
          </a:xfrm>
          <a:prstGeom prst="wedgeRoundRectCallout">
            <a:avLst>
              <a:gd name="adj1" fmla="val -166462"/>
              <a:gd name="adj2" fmla="val -79912"/>
              <a:gd name="adj3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b3d8fe"/>
              </a:gs>
            </a:gsLst>
            <a:lin ang="8100000"/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x&lt;0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对称轴的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侧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随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增大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减小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57200"/>
            <a:ext cx="2209680" cy="3048120"/>
          </a:xfrm>
          <a:prstGeom prst="rect">
            <a:avLst/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2819520"/>
            <a:ext cx="0" cy="761760"/>
          </a:xfrm>
          <a:prstGeom prst="line">
            <a:avLst/>
          </a:prstGeom>
          <a:ln w="381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2895480"/>
            <a:ext cx="773280" cy="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2819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838080"/>
            <a:ext cx="0" cy="2735280"/>
          </a:xfrm>
          <a:prstGeom prst="line">
            <a:avLst/>
          </a:prstGeom>
          <a:ln w="38160">
            <a:solidFill>
              <a:srgbClr val="00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990720"/>
            <a:ext cx="1600200" cy="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9144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457200"/>
            <a:ext cx="2209680" cy="3048120"/>
          </a:xfrm>
          <a:prstGeom prst="rect">
            <a:avLst/>
          </a:prstGeom>
          <a:solidFill>
            <a:srgbClr val="00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24360" y="2276640"/>
            <a:ext cx="3124440" cy="1066680"/>
          </a:xfrm>
          <a:prstGeom prst="wedgeRoundRectCallout">
            <a:avLst>
              <a:gd name="adj1" fmla="val -87601"/>
              <a:gd name="adj2" fmla="val -99555"/>
              <a:gd name="adj3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b3d8fe"/>
              </a:gs>
            </a:gsLst>
            <a:lin ang="8100000"/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x&gt;0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对称轴的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侧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 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随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增大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增大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09120" y="4613400"/>
            <a:ext cx="2210040" cy="825480"/>
            <a:chOff x="609120" y="4613400"/>
            <a:chExt cx="2210040" cy="825480"/>
          </a:xfrm>
        </p:grpSpPr>
        <p:sp>
          <p:nvSpPr>
            <p:cNvPr id="218" name=""/>
            <p:cNvSpPr/>
            <p:nvPr/>
          </p:nvSpPr>
          <p:spPr>
            <a:xfrm flipH="1">
              <a:off x="608760" y="4648320"/>
              <a:ext cx="2210040" cy="761760"/>
            </a:xfrm>
            <a:prstGeom prst="wedgeRoundRectCallout">
              <a:avLst>
                <a:gd name="adj1" fmla="val -35203"/>
                <a:gd name="adj2" fmla="val -366879"/>
                <a:gd name="adj3" fmla="val 16667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2480" y="4613400"/>
              <a:ext cx="200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当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x=-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时，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y=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当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x=-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时，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y=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248520" y="4572000"/>
            <a:ext cx="2139840" cy="825480"/>
            <a:chOff x="6248520" y="4572000"/>
            <a:chExt cx="2139840" cy="825480"/>
          </a:xfrm>
        </p:grpSpPr>
        <p:sp>
          <p:nvSpPr>
            <p:cNvPr id="221" name=""/>
            <p:cNvSpPr/>
            <p:nvPr/>
          </p:nvSpPr>
          <p:spPr>
            <a:xfrm>
              <a:off x="6248520" y="4594320"/>
              <a:ext cx="2133360" cy="742680"/>
            </a:xfrm>
            <a:prstGeom prst="wedgeRoundRectCallout">
              <a:avLst>
                <a:gd name="adj1" fmla="val -135787"/>
                <a:gd name="adj2" fmla="val -369444"/>
                <a:gd name="adj3" fmla="val 16667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24480" y="4572000"/>
              <a:ext cx="206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当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x=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时，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y=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当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x=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时，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y=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048120" y="4419720"/>
            <a:ext cx="3124080" cy="2286000"/>
          </a:xfrm>
          <a:prstGeom prst="wedgeRoundRectCallout">
            <a:avLst>
              <a:gd name="adj1" fmla="val -38060"/>
              <a:gd name="adj2" fmla="val -89444"/>
              <a:gd name="adj3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b3d8fe"/>
              </a:gs>
            </a:gsLst>
            <a:lin ang="8100000"/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顶点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顶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它的最低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且向上无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伸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值最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小值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52680" y="3433680"/>
            <a:ext cx="147600" cy="1476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e9e2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6320" y="5711760"/>
            <a:ext cx="12952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39360" y="173160"/>
            <a:ext cx="593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探究二次函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y=-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图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次函数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图象是什么形状？先想一想，然后作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它的图象，它与二次函数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图象有什么关系？与同伴进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交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253040" y="1341360"/>
            <a:ext cx="4889160" cy="5029200"/>
            <a:chOff x="4253040" y="1341360"/>
            <a:chExt cx="4889160" cy="5029200"/>
          </a:xfrm>
        </p:grpSpPr>
        <p:grpSp>
          <p:nvGrpSpPr>
            <p:cNvPr id="228" name=""/>
            <p:cNvGrpSpPr/>
            <p:nvPr/>
          </p:nvGrpSpPr>
          <p:grpSpPr>
            <a:xfrm>
              <a:off x="4253040" y="1341360"/>
              <a:ext cx="4889160" cy="5029200"/>
              <a:chOff x="4253040" y="1341360"/>
              <a:chExt cx="4889160" cy="502920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4253040" y="1341360"/>
                <a:ext cx="4889160" cy="5029200"/>
                <a:chOff x="4253040" y="1341360"/>
                <a:chExt cx="4889160" cy="502920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rcRect l="21999" t="8669" r="17998" b="11334"/>
                <a:stretch/>
              </p:blipFill>
              <p:spPr>
                <a:xfrm>
                  <a:off x="4253040" y="1798560"/>
                  <a:ext cx="4571640" cy="457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" name=""/>
                <p:cNvSpPr/>
                <p:nvPr/>
              </p:nvSpPr>
              <p:spPr>
                <a:xfrm>
                  <a:off x="6578640" y="1646280"/>
                  <a:ext cx="1080" cy="615960"/>
                </a:xfrm>
                <a:custGeom>
                  <a:avLst/>
                  <a:gdLst/>
                  <a:ahLst/>
                  <a:rect l="l" t="t" r="r" b="b"/>
                  <a:pathLst>
                    <a:path w="1" h="388">
                      <a:moveTo>
                        <a:pt x="0" y="38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d54f41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443800" y="2433600"/>
                  <a:ext cx="488520" cy="1800"/>
                </a:xfrm>
                <a:custGeom>
                  <a:avLst/>
                  <a:gdLst/>
                  <a:ahLst/>
                  <a:rect l="l" t="t" r="r" b="b"/>
                  <a:pathLst>
                    <a:path w="308" h="1">
                      <a:moveTo>
                        <a:pt x="0" y="0"/>
                      </a:moveTo>
                      <a:lnTo>
                        <a:pt x="308" y="0"/>
                      </a:lnTo>
                    </a:path>
                  </a:pathLst>
                </a:custGeom>
                <a:noFill/>
                <a:ln w="9360">
                  <a:solidFill>
                    <a:srgbClr val="d54f41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311520" y="2027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825760" y="233208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387480" y="134136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5391360" y="2455920"/>
                <a:ext cx="2324160" cy="3771720"/>
                <a:chOff x="5391360" y="2455920"/>
                <a:chExt cx="2324160" cy="37717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5391360" y="2532240"/>
                  <a:ext cx="990720" cy="3695400"/>
                </a:xfrm>
                <a:custGeom>
                  <a:avLst/>
                  <a:gdLst/>
                  <a:ahLst/>
                  <a:rect l="l" t="t" r="r" b="b"/>
                  <a:pathLst>
                    <a:path w="624" h="2328">
                      <a:moveTo>
                        <a:pt x="0" y="2328"/>
                      </a:moveTo>
                      <a:lnTo>
                        <a:pt x="0" y="2322"/>
                      </a:lnTo>
                      <a:lnTo>
                        <a:pt x="0" y="2310"/>
                      </a:lnTo>
                      <a:lnTo>
                        <a:pt x="6" y="2304"/>
                      </a:lnTo>
                      <a:lnTo>
                        <a:pt x="6" y="2298"/>
                      </a:lnTo>
                      <a:lnTo>
                        <a:pt x="6" y="2292"/>
                      </a:lnTo>
                      <a:lnTo>
                        <a:pt x="6" y="2280"/>
                      </a:lnTo>
                      <a:lnTo>
                        <a:pt x="6" y="2274"/>
                      </a:lnTo>
                      <a:lnTo>
                        <a:pt x="12" y="2268"/>
                      </a:lnTo>
                      <a:lnTo>
                        <a:pt x="12" y="2262"/>
                      </a:lnTo>
                      <a:lnTo>
                        <a:pt x="12" y="2250"/>
                      </a:lnTo>
                      <a:lnTo>
                        <a:pt x="12" y="2244"/>
                      </a:lnTo>
                      <a:lnTo>
                        <a:pt x="12" y="2238"/>
                      </a:lnTo>
                      <a:lnTo>
                        <a:pt x="18" y="2232"/>
                      </a:lnTo>
                      <a:lnTo>
                        <a:pt x="18" y="2220"/>
                      </a:lnTo>
                      <a:lnTo>
                        <a:pt x="18" y="2214"/>
                      </a:lnTo>
                      <a:lnTo>
                        <a:pt x="18" y="2208"/>
                      </a:lnTo>
                      <a:lnTo>
                        <a:pt x="18" y="2202"/>
                      </a:lnTo>
                      <a:lnTo>
                        <a:pt x="24" y="2190"/>
                      </a:lnTo>
                      <a:lnTo>
                        <a:pt x="24" y="2184"/>
                      </a:lnTo>
                      <a:lnTo>
                        <a:pt x="24" y="2178"/>
                      </a:lnTo>
                      <a:lnTo>
                        <a:pt x="24" y="2172"/>
                      </a:lnTo>
                      <a:lnTo>
                        <a:pt x="24" y="2166"/>
                      </a:lnTo>
                      <a:lnTo>
                        <a:pt x="24" y="2154"/>
                      </a:lnTo>
                      <a:lnTo>
                        <a:pt x="30" y="2148"/>
                      </a:lnTo>
                      <a:lnTo>
                        <a:pt x="30" y="2142"/>
                      </a:lnTo>
                      <a:lnTo>
                        <a:pt x="30" y="2136"/>
                      </a:lnTo>
                      <a:lnTo>
                        <a:pt x="30" y="2124"/>
                      </a:lnTo>
                      <a:lnTo>
                        <a:pt x="30" y="2118"/>
                      </a:lnTo>
                      <a:lnTo>
                        <a:pt x="36" y="2112"/>
                      </a:lnTo>
                      <a:lnTo>
                        <a:pt x="36" y="2106"/>
                      </a:lnTo>
                      <a:lnTo>
                        <a:pt x="36" y="2100"/>
                      </a:lnTo>
                      <a:lnTo>
                        <a:pt x="36" y="2088"/>
                      </a:lnTo>
                      <a:lnTo>
                        <a:pt x="36" y="2082"/>
                      </a:lnTo>
                      <a:lnTo>
                        <a:pt x="42" y="2076"/>
                      </a:lnTo>
                      <a:lnTo>
                        <a:pt x="42" y="2070"/>
                      </a:lnTo>
                      <a:lnTo>
                        <a:pt x="42" y="2064"/>
                      </a:lnTo>
                      <a:lnTo>
                        <a:pt x="42" y="2052"/>
                      </a:lnTo>
                      <a:lnTo>
                        <a:pt x="42" y="2046"/>
                      </a:lnTo>
                      <a:lnTo>
                        <a:pt x="48" y="2040"/>
                      </a:lnTo>
                      <a:lnTo>
                        <a:pt x="48" y="2034"/>
                      </a:lnTo>
                      <a:lnTo>
                        <a:pt x="48" y="2028"/>
                      </a:lnTo>
                      <a:lnTo>
                        <a:pt x="48" y="2016"/>
                      </a:lnTo>
                      <a:lnTo>
                        <a:pt x="48" y="2010"/>
                      </a:lnTo>
                      <a:lnTo>
                        <a:pt x="54" y="2004"/>
                      </a:lnTo>
                      <a:lnTo>
                        <a:pt x="54" y="1998"/>
                      </a:lnTo>
                      <a:lnTo>
                        <a:pt x="54" y="1992"/>
                      </a:lnTo>
                      <a:lnTo>
                        <a:pt x="54" y="1986"/>
                      </a:lnTo>
                      <a:lnTo>
                        <a:pt x="54" y="1974"/>
                      </a:lnTo>
                      <a:lnTo>
                        <a:pt x="60" y="1968"/>
                      </a:lnTo>
                      <a:lnTo>
                        <a:pt x="60" y="1962"/>
                      </a:lnTo>
                      <a:lnTo>
                        <a:pt x="60" y="1956"/>
                      </a:lnTo>
                      <a:lnTo>
                        <a:pt x="60" y="1950"/>
                      </a:lnTo>
                      <a:lnTo>
                        <a:pt x="60" y="1944"/>
                      </a:lnTo>
                      <a:lnTo>
                        <a:pt x="66" y="1932"/>
                      </a:lnTo>
                      <a:lnTo>
                        <a:pt x="66" y="1926"/>
                      </a:lnTo>
                      <a:lnTo>
                        <a:pt x="66" y="1920"/>
                      </a:lnTo>
                      <a:lnTo>
                        <a:pt x="66" y="1914"/>
                      </a:lnTo>
                      <a:lnTo>
                        <a:pt x="66" y="1908"/>
                      </a:lnTo>
                      <a:lnTo>
                        <a:pt x="72" y="1902"/>
                      </a:lnTo>
                      <a:lnTo>
                        <a:pt x="72" y="1896"/>
                      </a:lnTo>
                      <a:lnTo>
                        <a:pt x="72" y="1884"/>
                      </a:lnTo>
                      <a:lnTo>
                        <a:pt x="72" y="1878"/>
                      </a:lnTo>
                      <a:lnTo>
                        <a:pt x="72" y="1872"/>
                      </a:lnTo>
                      <a:lnTo>
                        <a:pt x="78" y="1866"/>
                      </a:lnTo>
                      <a:lnTo>
                        <a:pt x="78" y="1860"/>
                      </a:lnTo>
                      <a:lnTo>
                        <a:pt x="78" y="1854"/>
                      </a:lnTo>
                      <a:lnTo>
                        <a:pt x="78" y="1848"/>
                      </a:lnTo>
                      <a:lnTo>
                        <a:pt x="78" y="1836"/>
                      </a:lnTo>
                      <a:lnTo>
                        <a:pt x="78" y="1830"/>
                      </a:lnTo>
                      <a:lnTo>
                        <a:pt x="84" y="1824"/>
                      </a:lnTo>
                      <a:lnTo>
                        <a:pt x="84" y="1818"/>
                      </a:lnTo>
                      <a:lnTo>
                        <a:pt x="84" y="1812"/>
                      </a:lnTo>
                      <a:lnTo>
                        <a:pt x="84" y="1806"/>
                      </a:lnTo>
                      <a:lnTo>
                        <a:pt x="84" y="1800"/>
                      </a:lnTo>
                      <a:lnTo>
                        <a:pt x="90" y="1794"/>
                      </a:lnTo>
                      <a:lnTo>
                        <a:pt x="90" y="1782"/>
                      </a:lnTo>
                      <a:lnTo>
                        <a:pt x="90" y="1776"/>
                      </a:lnTo>
                      <a:lnTo>
                        <a:pt x="90" y="1770"/>
                      </a:lnTo>
                      <a:lnTo>
                        <a:pt x="90" y="1764"/>
                      </a:lnTo>
                      <a:lnTo>
                        <a:pt x="96" y="1758"/>
                      </a:lnTo>
                      <a:lnTo>
                        <a:pt x="96" y="1752"/>
                      </a:lnTo>
                      <a:lnTo>
                        <a:pt x="96" y="1746"/>
                      </a:lnTo>
                      <a:lnTo>
                        <a:pt x="96" y="1740"/>
                      </a:lnTo>
                      <a:lnTo>
                        <a:pt x="96" y="1734"/>
                      </a:lnTo>
                      <a:lnTo>
                        <a:pt x="102" y="1722"/>
                      </a:lnTo>
                      <a:lnTo>
                        <a:pt x="102" y="1716"/>
                      </a:lnTo>
                      <a:lnTo>
                        <a:pt x="102" y="1710"/>
                      </a:lnTo>
                      <a:lnTo>
                        <a:pt x="102" y="1704"/>
                      </a:lnTo>
                      <a:lnTo>
                        <a:pt x="102" y="1698"/>
                      </a:lnTo>
                      <a:lnTo>
                        <a:pt x="108" y="1692"/>
                      </a:lnTo>
                      <a:lnTo>
                        <a:pt x="108" y="1686"/>
                      </a:lnTo>
                      <a:lnTo>
                        <a:pt x="108" y="1680"/>
                      </a:lnTo>
                      <a:lnTo>
                        <a:pt x="108" y="1674"/>
                      </a:lnTo>
                      <a:lnTo>
                        <a:pt x="108" y="1668"/>
                      </a:lnTo>
                      <a:lnTo>
                        <a:pt x="114" y="1662"/>
                      </a:lnTo>
                      <a:lnTo>
                        <a:pt x="114" y="1656"/>
                      </a:lnTo>
                      <a:lnTo>
                        <a:pt x="114" y="1644"/>
                      </a:lnTo>
                      <a:lnTo>
                        <a:pt x="114" y="1638"/>
                      </a:lnTo>
                      <a:lnTo>
                        <a:pt x="114" y="1632"/>
                      </a:lnTo>
                      <a:lnTo>
                        <a:pt x="120" y="1626"/>
                      </a:lnTo>
                      <a:lnTo>
                        <a:pt x="120" y="1620"/>
                      </a:lnTo>
                      <a:lnTo>
                        <a:pt x="120" y="1614"/>
                      </a:lnTo>
                      <a:lnTo>
                        <a:pt x="120" y="1608"/>
                      </a:lnTo>
                      <a:lnTo>
                        <a:pt x="120" y="1602"/>
                      </a:lnTo>
                      <a:lnTo>
                        <a:pt x="126" y="1596"/>
                      </a:lnTo>
                      <a:lnTo>
                        <a:pt x="126" y="1590"/>
                      </a:lnTo>
                      <a:lnTo>
                        <a:pt x="126" y="1584"/>
                      </a:lnTo>
                      <a:lnTo>
                        <a:pt x="126" y="1578"/>
                      </a:lnTo>
                      <a:lnTo>
                        <a:pt x="126" y="1572"/>
                      </a:lnTo>
                      <a:lnTo>
                        <a:pt x="126" y="1566"/>
                      </a:lnTo>
                      <a:lnTo>
                        <a:pt x="132" y="1560"/>
                      </a:lnTo>
                      <a:lnTo>
                        <a:pt x="132" y="1554"/>
                      </a:lnTo>
                      <a:lnTo>
                        <a:pt x="132" y="1548"/>
                      </a:lnTo>
                      <a:lnTo>
                        <a:pt x="132" y="1542"/>
                      </a:lnTo>
                      <a:lnTo>
                        <a:pt x="132" y="1536"/>
                      </a:lnTo>
                      <a:lnTo>
                        <a:pt x="138" y="1530"/>
                      </a:lnTo>
                      <a:lnTo>
                        <a:pt x="138" y="1518"/>
                      </a:lnTo>
                      <a:lnTo>
                        <a:pt x="138" y="1512"/>
                      </a:lnTo>
                      <a:lnTo>
                        <a:pt x="138" y="1506"/>
                      </a:lnTo>
                      <a:lnTo>
                        <a:pt x="138" y="1500"/>
                      </a:lnTo>
                      <a:lnTo>
                        <a:pt x="144" y="1494"/>
                      </a:lnTo>
                      <a:lnTo>
                        <a:pt x="144" y="1488"/>
                      </a:lnTo>
                      <a:lnTo>
                        <a:pt x="144" y="1482"/>
                      </a:lnTo>
                      <a:lnTo>
                        <a:pt x="144" y="1476"/>
                      </a:lnTo>
                      <a:lnTo>
                        <a:pt x="144" y="1470"/>
                      </a:lnTo>
                      <a:lnTo>
                        <a:pt x="150" y="1464"/>
                      </a:lnTo>
                      <a:lnTo>
                        <a:pt x="150" y="1458"/>
                      </a:lnTo>
                      <a:lnTo>
                        <a:pt x="150" y="1452"/>
                      </a:lnTo>
                      <a:lnTo>
                        <a:pt x="150" y="1446"/>
                      </a:lnTo>
                      <a:lnTo>
                        <a:pt x="150" y="1440"/>
                      </a:lnTo>
                      <a:lnTo>
                        <a:pt x="156" y="1434"/>
                      </a:lnTo>
                      <a:lnTo>
                        <a:pt x="156" y="1428"/>
                      </a:lnTo>
                      <a:lnTo>
                        <a:pt x="156" y="1422"/>
                      </a:lnTo>
                      <a:lnTo>
                        <a:pt x="156" y="1416"/>
                      </a:lnTo>
                      <a:lnTo>
                        <a:pt x="156" y="1410"/>
                      </a:lnTo>
                      <a:lnTo>
                        <a:pt x="162" y="1404"/>
                      </a:lnTo>
                      <a:lnTo>
                        <a:pt x="162" y="1398"/>
                      </a:lnTo>
                      <a:lnTo>
                        <a:pt x="162" y="1392"/>
                      </a:lnTo>
                      <a:lnTo>
                        <a:pt x="162" y="1386"/>
                      </a:lnTo>
                      <a:lnTo>
                        <a:pt x="162" y="1380"/>
                      </a:lnTo>
                      <a:lnTo>
                        <a:pt x="168" y="1374"/>
                      </a:lnTo>
                      <a:lnTo>
                        <a:pt x="168" y="1368"/>
                      </a:lnTo>
                      <a:lnTo>
                        <a:pt x="168" y="1362"/>
                      </a:lnTo>
                      <a:lnTo>
                        <a:pt x="168" y="1356"/>
                      </a:lnTo>
                      <a:lnTo>
                        <a:pt x="168" y="1350"/>
                      </a:lnTo>
                      <a:lnTo>
                        <a:pt x="174" y="1344"/>
                      </a:lnTo>
                      <a:lnTo>
                        <a:pt x="174" y="1338"/>
                      </a:lnTo>
                      <a:lnTo>
                        <a:pt x="174" y="1332"/>
                      </a:lnTo>
                      <a:lnTo>
                        <a:pt x="174" y="1326"/>
                      </a:lnTo>
                      <a:lnTo>
                        <a:pt x="174" y="1320"/>
                      </a:lnTo>
                      <a:lnTo>
                        <a:pt x="180" y="1314"/>
                      </a:lnTo>
                      <a:lnTo>
                        <a:pt x="180" y="1308"/>
                      </a:lnTo>
                      <a:lnTo>
                        <a:pt x="180" y="1302"/>
                      </a:lnTo>
                      <a:lnTo>
                        <a:pt x="180" y="1296"/>
                      </a:lnTo>
                      <a:lnTo>
                        <a:pt x="180" y="1290"/>
                      </a:lnTo>
                      <a:lnTo>
                        <a:pt x="186" y="1284"/>
                      </a:lnTo>
                      <a:lnTo>
                        <a:pt x="186" y="1278"/>
                      </a:lnTo>
                      <a:lnTo>
                        <a:pt x="186" y="1272"/>
                      </a:lnTo>
                      <a:lnTo>
                        <a:pt x="186" y="1266"/>
                      </a:lnTo>
                      <a:lnTo>
                        <a:pt x="186" y="1260"/>
                      </a:lnTo>
                      <a:lnTo>
                        <a:pt x="192" y="1254"/>
                      </a:lnTo>
                      <a:lnTo>
                        <a:pt x="192" y="1248"/>
                      </a:lnTo>
                      <a:lnTo>
                        <a:pt x="192" y="1242"/>
                      </a:lnTo>
                      <a:lnTo>
                        <a:pt x="192" y="1236"/>
                      </a:lnTo>
                      <a:lnTo>
                        <a:pt x="192" y="1230"/>
                      </a:lnTo>
                      <a:lnTo>
                        <a:pt x="198" y="1224"/>
                      </a:lnTo>
                      <a:lnTo>
                        <a:pt x="198" y="1218"/>
                      </a:lnTo>
                      <a:lnTo>
                        <a:pt x="198" y="1212"/>
                      </a:lnTo>
                      <a:lnTo>
                        <a:pt x="198" y="1206"/>
                      </a:lnTo>
                      <a:lnTo>
                        <a:pt x="204" y="1200"/>
                      </a:lnTo>
                      <a:lnTo>
                        <a:pt x="204" y="1194"/>
                      </a:lnTo>
                      <a:lnTo>
                        <a:pt x="204" y="1188"/>
                      </a:lnTo>
                      <a:lnTo>
                        <a:pt x="204" y="1182"/>
                      </a:lnTo>
                      <a:lnTo>
                        <a:pt x="204" y="1176"/>
                      </a:lnTo>
                      <a:lnTo>
                        <a:pt x="210" y="1170"/>
                      </a:lnTo>
                      <a:lnTo>
                        <a:pt x="210" y="1164"/>
                      </a:lnTo>
                      <a:lnTo>
                        <a:pt x="210" y="1158"/>
                      </a:lnTo>
                      <a:lnTo>
                        <a:pt x="210" y="1152"/>
                      </a:lnTo>
                      <a:lnTo>
                        <a:pt x="216" y="1146"/>
                      </a:lnTo>
                      <a:lnTo>
                        <a:pt x="216" y="1140"/>
                      </a:lnTo>
                      <a:lnTo>
                        <a:pt x="216" y="1134"/>
                      </a:lnTo>
                      <a:lnTo>
                        <a:pt x="216" y="1128"/>
                      </a:lnTo>
                      <a:lnTo>
                        <a:pt x="216" y="1122"/>
                      </a:lnTo>
                      <a:lnTo>
                        <a:pt x="222" y="1116"/>
                      </a:lnTo>
                      <a:lnTo>
                        <a:pt x="222" y="1110"/>
                      </a:lnTo>
                      <a:lnTo>
                        <a:pt x="222" y="1104"/>
                      </a:lnTo>
                      <a:lnTo>
                        <a:pt x="222" y="1098"/>
                      </a:lnTo>
                      <a:lnTo>
                        <a:pt x="228" y="1092"/>
                      </a:lnTo>
                      <a:lnTo>
                        <a:pt x="228" y="1086"/>
                      </a:lnTo>
                      <a:lnTo>
                        <a:pt x="228" y="1080"/>
                      </a:lnTo>
                      <a:lnTo>
                        <a:pt x="228" y="1074"/>
                      </a:lnTo>
                      <a:lnTo>
                        <a:pt x="228" y="1068"/>
                      </a:lnTo>
                      <a:lnTo>
                        <a:pt x="234" y="1062"/>
                      </a:lnTo>
                      <a:lnTo>
                        <a:pt x="234" y="1056"/>
                      </a:lnTo>
                      <a:lnTo>
                        <a:pt x="234" y="1050"/>
                      </a:lnTo>
                      <a:lnTo>
                        <a:pt x="234" y="1044"/>
                      </a:lnTo>
                      <a:lnTo>
                        <a:pt x="234" y="1038"/>
                      </a:lnTo>
                      <a:lnTo>
                        <a:pt x="240" y="1032"/>
                      </a:lnTo>
                      <a:lnTo>
                        <a:pt x="240" y="1026"/>
                      </a:lnTo>
                      <a:lnTo>
                        <a:pt x="240" y="1020"/>
                      </a:lnTo>
                      <a:lnTo>
                        <a:pt x="240" y="1014"/>
                      </a:lnTo>
                      <a:lnTo>
                        <a:pt x="246" y="1008"/>
                      </a:lnTo>
                      <a:lnTo>
                        <a:pt x="246" y="1002"/>
                      </a:lnTo>
                      <a:lnTo>
                        <a:pt x="246" y="996"/>
                      </a:lnTo>
                      <a:lnTo>
                        <a:pt x="246" y="990"/>
                      </a:lnTo>
                      <a:lnTo>
                        <a:pt x="252" y="984"/>
                      </a:lnTo>
                      <a:lnTo>
                        <a:pt x="252" y="978"/>
                      </a:lnTo>
                      <a:lnTo>
                        <a:pt x="252" y="972"/>
                      </a:lnTo>
                      <a:lnTo>
                        <a:pt x="252" y="966"/>
                      </a:lnTo>
                      <a:lnTo>
                        <a:pt x="258" y="960"/>
                      </a:lnTo>
                      <a:lnTo>
                        <a:pt x="258" y="954"/>
                      </a:lnTo>
                      <a:lnTo>
                        <a:pt x="258" y="948"/>
                      </a:lnTo>
                      <a:lnTo>
                        <a:pt x="258" y="942"/>
                      </a:lnTo>
                      <a:lnTo>
                        <a:pt x="258" y="936"/>
                      </a:lnTo>
                      <a:lnTo>
                        <a:pt x="264" y="936"/>
                      </a:lnTo>
                      <a:lnTo>
                        <a:pt x="264" y="930"/>
                      </a:lnTo>
                      <a:lnTo>
                        <a:pt x="264" y="924"/>
                      </a:lnTo>
                      <a:lnTo>
                        <a:pt x="264" y="918"/>
                      </a:lnTo>
                      <a:lnTo>
                        <a:pt x="264" y="912"/>
                      </a:lnTo>
                      <a:lnTo>
                        <a:pt x="270" y="912"/>
                      </a:lnTo>
                      <a:lnTo>
                        <a:pt x="270" y="906"/>
                      </a:lnTo>
                      <a:lnTo>
                        <a:pt x="270" y="900"/>
                      </a:lnTo>
                      <a:lnTo>
                        <a:pt x="270" y="894"/>
                      </a:lnTo>
                      <a:lnTo>
                        <a:pt x="270" y="888"/>
                      </a:lnTo>
                      <a:lnTo>
                        <a:pt x="276" y="888"/>
                      </a:lnTo>
                      <a:lnTo>
                        <a:pt x="276" y="882"/>
                      </a:lnTo>
                      <a:lnTo>
                        <a:pt x="276" y="876"/>
                      </a:lnTo>
                      <a:lnTo>
                        <a:pt x="276" y="870"/>
                      </a:lnTo>
                      <a:lnTo>
                        <a:pt x="276" y="864"/>
                      </a:lnTo>
                      <a:lnTo>
                        <a:pt x="282" y="858"/>
                      </a:lnTo>
                      <a:lnTo>
                        <a:pt x="282" y="852"/>
                      </a:lnTo>
                      <a:lnTo>
                        <a:pt x="282" y="846"/>
                      </a:lnTo>
                      <a:lnTo>
                        <a:pt x="282" y="840"/>
                      </a:lnTo>
                      <a:lnTo>
                        <a:pt x="288" y="834"/>
                      </a:lnTo>
                      <a:lnTo>
                        <a:pt x="288" y="828"/>
                      </a:lnTo>
                      <a:lnTo>
                        <a:pt x="288" y="822"/>
                      </a:lnTo>
                      <a:lnTo>
                        <a:pt x="288" y="816"/>
                      </a:lnTo>
                      <a:lnTo>
                        <a:pt x="294" y="810"/>
                      </a:lnTo>
                      <a:lnTo>
                        <a:pt x="294" y="804"/>
                      </a:lnTo>
                      <a:lnTo>
                        <a:pt x="294" y="798"/>
                      </a:lnTo>
                      <a:lnTo>
                        <a:pt x="294" y="792"/>
                      </a:lnTo>
                      <a:lnTo>
                        <a:pt x="300" y="786"/>
                      </a:lnTo>
                      <a:lnTo>
                        <a:pt x="300" y="780"/>
                      </a:lnTo>
                      <a:lnTo>
                        <a:pt x="300" y="774"/>
                      </a:lnTo>
                      <a:lnTo>
                        <a:pt x="300" y="768"/>
                      </a:lnTo>
                      <a:lnTo>
                        <a:pt x="306" y="768"/>
                      </a:lnTo>
                      <a:lnTo>
                        <a:pt x="306" y="762"/>
                      </a:lnTo>
                      <a:lnTo>
                        <a:pt x="306" y="756"/>
                      </a:lnTo>
                      <a:lnTo>
                        <a:pt x="306" y="750"/>
                      </a:lnTo>
                      <a:lnTo>
                        <a:pt x="312" y="744"/>
                      </a:lnTo>
                      <a:lnTo>
                        <a:pt x="312" y="738"/>
                      </a:lnTo>
                      <a:lnTo>
                        <a:pt x="312" y="732"/>
                      </a:lnTo>
                      <a:lnTo>
                        <a:pt x="312" y="726"/>
                      </a:lnTo>
                      <a:lnTo>
                        <a:pt x="318" y="720"/>
                      </a:lnTo>
                      <a:lnTo>
                        <a:pt x="318" y="714"/>
                      </a:lnTo>
                      <a:lnTo>
                        <a:pt x="318" y="708"/>
                      </a:lnTo>
                      <a:lnTo>
                        <a:pt x="318" y="702"/>
                      </a:lnTo>
                      <a:lnTo>
                        <a:pt x="324" y="702"/>
                      </a:lnTo>
                      <a:lnTo>
                        <a:pt x="324" y="696"/>
                      </a:lnTo>
                      <a:lnTo>
                        <a:pt x="324" y="690"/>
                      </a:lnTo>
                      <a:lnTo>
                        <a:pt x="324" y="684"/>
                      </a:lnTo>
                      <a:lnTo>
                        <a:pt x="330" y="678"/>
                      </a:lnTo>
                      <a:lnTo>
                        <a:pt x="330" y="672"/>
                      </a:lnTo>
                      <a:lnTo>
                        <a:pt x="330" y="666"/>
                      </a:lnTo>
                      <a:lnTo>
                        <a:pt x="330" y="660"/>
                      </a:lnTo>
                      <a:lnTo>
                        <a:pt x="336" y="654"/>
                      </a:lnTo>
                      <a:lnTo>
                        <a:pt x="336" y="648"/>
                      </a:lnTo>
                      <a:lnTo>
                        <a:pt x="336" y="642"/>
                      </a:lnTo>
                      <a:lnTo>
                        <a:pt x="336" y="636"/>
                      </a:lnTo>
                      <a:lnTo>
                        <a:pt x="342" y="636"/>
                      </a:lnTo>
                      <a:lnTo>
                        <a:pt x="342" y="630"/>
                      </a:lnTo>
                      <a:lnTo>
                        <a:pt x="342" y="624"/>
                      </a:lnTo>
                      <a:lnTo>
                        <a:pt x="342" y="618"/>
                      </a:lnTo>
                      <a:lnTo>
                        <a:pt x="348" y="612"/>
                      </a:lnTo>
                      <a:lnTo>
                        <a:pt x="348" y="606"/>
                      </a:lnTo>
                      <a:lnTo>
                        <a:pt x="348" y="600"/>
                      </a:lnTo>
                      <a:lnTo>
                        <a:pt x="354" y="594"/>
                      </a:lnTo>
                      <a:lnTo>
                        <a:pt x="354" y="588"/>
                      </a:lnTo>
                      <a:lnTo>
                        <a:pt x="354" y="582"/>
                      </a:lnTo>
                      <a:lnTo>
                        <a:pt x="354" y="576"/>
                      </a:lnTo>
                      <a:lnTo>
                        <a:pt x="360" y="576"/>
                      </a:lnTo>
                      <a:lnTo>
                        <a:pt x="360" y="570"/>
                      </a:lnTo>
                      <a:lnTo>
                        <a:pt x="360" y="564"/>
                      </a:lnTo>
                      <a:lnTo>
                        <a:pt x="360" y="558"/>
                      </a:lnTo>
                      <a:lnTo>
                        <a:pt x="366" y="552"/>
                      </a:lnTo>
                      <a:lnTo>
                        <a:pt x="366" y="546"/>
                      </a:lnTo>
                      <a:lnTo>
                        <a:pt x="366" y="540"/>
                      </a:lnTo>
                      <a:lnTo>
                        <a:pt x="372" y="534"/>
                      </a:lnTo>
                      <a:lnTo>
                        <a:pt x="372" y="528"/>
                      </a:lnTo>
                      <a:lnTo>
                        <a:pt x="372" y="522"/>
                      </a:lnTo>
                      <a:lnTo>
                        <a:pt x="378" y="516"/>
                      </a:lnTo>
                      <a:lnTo>
                        <a:pt x="378" y="510"/>
                      </a:lnTo>
                      <a:lnTo>
                        <a:pt x="378" y="504"/>
                      </a:lnTo>
                      <a:lnTo>
                        <a:pt x="378" y="498"/>
                      </a:lnTo>
                      <a:lnTo>
                        <a:pt x="384" y="492"/>
                      </a:lnTo>
                      <a:lnTo>
                        <a:pt x="384" y="486"/>
                      </a:lnTo>
                      <a:lnTo>
                        <a:pt x="384" y="480"/>
                      </a:lnTo>
                      <a:lnTo>
                        <a:pt x="390" y="474"/>
                      </a:lnTo>
                      <a:lnTo>
                        <a:pt x="390" y="468"/>
                      </a:lnTo>
                      <a:lnTo>
                        <a:pt x="390" y="462"/>
                      </a:lnTo>
                      <a:lnTo>
                        <a:pt x="396" y="456"/>
                      </a:lnTo>
                      <a:lnTo>
                        <a:pt x="396" y="450"/>
                      </a:lnTo>
                      <a:lnTo>
                        <a:pt x="396" y="444"/>
                      </a:lnTo>
                      <a:lnTo>
                        <a:pt x="402" y="444"/>
                      </a:lnTo>
                      <a:lnTo>
                        <a:pt x="402" y="438"/>
                      </a:lnTo>
                      <a:lnTo>
                        <a:pt x="402" y="432"/>
                      </a:lnTo>
                      <a:lnTo>
                        <a:pt x="402" y="426"/>
                      </a:lnTo>
                      <a:lnTo>
                        <a:pt x="408" y="426"/>
                      </a:lnTo>
                      <a:lnTo>
                        <a:pt x="408" y="420"/>
                      </a:lnTo>
                      <a:lnTo>
                        <a:pt x="408" y="414"/>
                      </a:lnTo>
                      <a:lnTo>
                        <a:pt x="408" y="408"/>
                      </a:lnTo>
                      <a:lnTo>
                        <a:pt x="414" y="408"/>
                      </a:lnTo>
                      <a:lnTo>
                        <a:pt x="414" y="402"/>
                      </a:lnTo>
                      <a:lnTo>
                        <a:pt x="414" y="396"/>
                      </a:lnTo>
                      <a:lnTo>
                        <a:pt x="420" y="390"/>
                      </a:lnTo>
                      <a:lnTo>
                        <a:pt x="420" y="384"/>
                      </a:lnTo>
                      <a:lnTo>
                        <a:pt x="420" y="378"/>
                      </a:lnTo>
                      <a:lnTo>
                        <a:pt x="426" y="372"/>
                      </a:lnTo>
                      <a:lnTo>
                        <a:pt x="426" y="366"/>
                      </a:lnTo>
                      <a:lnTo>
                        <a:pt x="426" y="360"/>
                      </a:lnTo>
                      <a:lnTo>
                        <a:pt x="432" y="360"/>
                      </a:lnTo>
                      <a:lnTo>
                        <a:pt x="432" y="354"/>
                      </a:lnTo>
                      <a:lnTo>
                        <a:pt x="432" y="348"/>
                      </a:lnTo>
                      <a:lnTo>
                        <a:pt x="432" y="342"/>
                      </a:lnTo>
                      <a:lnTo>
                        <a:pt x="438" y="342"/>
                      </a:lnTo>
                      <a:lnTo>
                        <a:pt x="438" y="336"/>
                      </a:lnTo>
                      <a:lnTo>
                        <a:pt x="438" y="330"/>
                      </a:lnTo>
                      <a:lnTo>
                        <a:pt x="444" y="324"/>
                      </a:lnTo>
                      <a:lnTo>
                        <a:pt x="444" y="318"/>
                      </a:lnTo>
                      <a:lnTo>
                        <a:pt x="444" y="312"/>
                      </a:lnTo>
                      <a:lnTo>
                        <a:pt x="450" y="312"/>
                      </a:lnTo>
                      <a:lnTo>
                        <a:pt x="450" y="306"/>
                      </a:lnTo>
                      <a:lnTo>
                        <a:pt x="450" y="300"/>
                      </a:lnTo>
                      <a:lnTo>
                        <a:pt x="456" y="294"/>
                      </a:lnTo>
                      <a:lnTo>
                        <a:pt x="456" y="288"/>
                      </a:lnTo>
                      <a:lnTo>
                        <a:pt x="456" y="282"/>
                      </a:lnTo>
                      <a:lnTo>
                        <a:pt x="462" y="282"/>
                      </a:lnTo>
                      <a:lnTo>
                        <a:pt x="462" y="276"/>
                      </a:lnTo>
                      <a:lnTo>
                        <a:pt x="462" y="270"/>
                      </a:lnTo>
                      <a:lnTo>
                        <a:pt x="468" y="270"/>
                      </a:lnTo>
                      <a:lnTo>
                        <a:pt x="468" y="264"/>
                      </a:lnTo>
                      <a:lnTo>
                        <a:pt x="468" y="258"/>
                      </a:lnTo>
                      <a:lnTo>
                        <a:pt x="474" y="252"/>
                      </a:lnTo>
                      <a:lnTo>
                        <a:pt x="474" y="246"/>
                      </a:lnTo>
                      <a:lnTo>
                        <a:pt x="474" y="240"/>
                      </a:lnTo>
                      <a:lnTo>
                        <a:pt x="480" y="240"/>
                      </a:lnTo>
                      <a:lnTo>
                        <a:pt x="480" y="234"/>
                      </a:lnTo>
                      <a:lnTo>
                        <a:pt x="480" y="228"/>
                      </a:lnTo>
                      <a:lnTo>
                        <a:pt x="486" y="222"/>
                      </a:lnTo>
                      <a:lnTo>
                        <a:pt x="486" y="216"/>
                      </a:lnTo>
                      <a:lnTo>
                        <a:pt x="492" y="210"/>
                      </a:lnTo>
                      <a:lnTo>
                        <a:pt x="492" y="204"/>
                      </a:lnTo>
                      <a:lnTo>
                        <a:pt x="498" y="198"/>
                      </a:lnTo>
                      <a:lnTo>
                        <a:pt x="498" y="192"/>
                      </a:lnTo>
                      <a:lnTo>
                        <a:pt x="504" y="186"/>
                      </a:lnTo>
                      <a:lnTo>
                        <a:pt x="504" y="180"/>
                      </a:lnTo>
                      <a:lnTo>
                        <a:pt x="510" y="174"/>
                      </a:lnTo>
                      <a:lnTo>
                        <a:pt x="510" y="168"/>
                      </a:lnTo>
                      <a:lnTo>
                        <a:pt x="516" y="162"/>
                      </a:lnTo>
                      <a:lnTo>
                        <a:pt x="516" y="156"/>
                      </a:lnTo>
                      <a:lnTo>
                        <a:pt x="522" y="150"/>
                      </a:lnTo>
                      <a:lnTo>
                        <a:pt x="522" y="144"/>
                      </a:lnTo>
                      <a:lnTo>
                        <a:pt x="528" y="144"/>
                      </a:lnTo>
                      <a:lnTo>
                        <a:pt x="528" y="138"/>
                      </a:lnTo>
                      <a:lnTo>
                        <a:pt x="528" y="132"/>
                      </a:lnTo>
                      <a:lnTo>
                        <a:pt x="534" y="132"/>
                      </a:lnTo>
                      <a:lnTo>
                        <a:pt x="534" y="126"/>
                      </a:lnTo>
                      <a:lnTo>
                        <a:pt x="534" y="120"/>
                      </a:lnTo>
                      <a:lnTo>
                        <a:pt x="540" y="120"/>
                      </a:lnTo>
                      <a:lnTo>
                        <a:pt x="540" y="114"/>
                      </a:lnTo>
                      <a:lnTo>
                        <a:pt x="540" y="108"/>
                      </a:lnTo>
                      <a:lnTo>
                        <a:pt x="546" y="108"/>
                      </a:lnTo>
                      <a:lnTo>
                        <a:pt x="546" y="102"/>
                      </a:lnTo>
                      <a:lnTo>
                        <a:pt x="552" y="102"/>
                      </a:lnTo>
                      <a:lnTo>
                        <a:pt x="552" y="96"/>
                      </a:lnTo>
                      <a:lnTo>
                        <a:pt x="552" y="90"/>
                      </a:lnTo>
                      <a:lnTo>
                        <a:pt x="558" y="90"/>
                      </a:lnTo>
                      <a:lnTo>
                        <a:pt x="558" y="84"/>
                      </a:lnTo>
                      <a:lnTo>
                        <a:pt x="564" y="78"/>
                      </a:lnTo>
                      <a:lnTo>
                        <a:pt x="564" y="72"/>
                      </a:lnTo>
                      <a:lnTo>
                        <a:pt x="570" y="72"/>
                      </a:lnTo>
                      <a:lnTo>
                        <a:pt x="570" y="66"/>
                      </a:lnTo>
                      <a:lnTo>
                        <a:pt x="576" y="66"/>
                      </a:lnTo>
                      <a:lnTo>
                        <a:pt x="576" y="60"/>
                      </a:lnTo>
                      <a:lnTo>
                        <a:pt x="582" y="54"/>
                      </a:lnTo>
                      <a:lnTo>
                        <a:pt x="582" y="48"/>
                      </a:lnTo>
                      <a:lnTo>
                        <a:pt x="588" y="48"/>
                      </a:lnTo>
                      <a:lnTo>
                        <a:pt x="588" y="42"/>
                      </a:lnTo>
                      <a:lnTo>
                        <a:pt x="594" y="36"/>
                      </a:lnTo>
                      <a:lnTo>
                        <a:pt x="600" y="30"/>
                      </a:lnTo>
                      <a:lnTo>
                        <a:pt x="600" y="24"/>
                      </a:lnTo>
                      <a:lnTo>
                        <a:pt x="606" y="24"/>
                      </a:lnTo>
                      <a:lnTo>
                        <a:pt x="606" y="18"/>
                      </a:lnTo>
                      <a:lnTo>
                        <a:pt x="612" y="18"/>
                      </a:lnTo>
                      <a:lnTo>
                        <a:pt x="612" y="12"/>
                      </a:lnTo>
                      <a:lnTo>
                        <a:pt x="618" y="12"/>
                      </a:lnTo>
                      <a:lnTo>
                        <a:pt x="618" y="6"/>
                      </a:lnTo>
                      <a:lnTo>
                        <a:pt x="624" y="6"/>
                      </a:lnTo>
                      <a:lnTo>
                        <a:pt x="624" y="0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382080" y="2455920"/>
                  <a:ext cx="1247760" cy="3238560"/>
                </a:xfrm>
                <a:custGeom>
                  <a:avLst/>
                  <a:gdLst/>
                  <a:ahLst/>
                  <a:rect l="l" t="t" r="r" b="b"/>
                  <a:pathLst>
                    <a:path w="786" h="2040">
                      <a:moveTo>
                        <a:pt x="0" y="48"/>
                      </a:moveTo>
                      <a:lnTo>
                        <a:pt x="6" y="48"/>
                      </a:lnTo>
                      <a:lnTo>
                        <a:pt x="6" y="42"/>
                      </a:lnTo>
                      <a:lnTo>
                        <a:pt x="12" y="42"/>
                      </a:lnTo>
                      <a:lnTo>
                        <a:pt x="12" y="36"/>
                      </a:lnTo>
                      <a:lnTo>
                        <a:pt x="18" y="36"/>
                      </a:lnTo>
                      <a:lnTo>
                        <a:pt x="24" y="30"/>
                      </a:lnTo>
                      <a:lnTo>
                        <a:pt x="30" y="30"/>
                      </a:lnTo>
                      <a:lnTo>
                        <a:pt x="30" y="24"/>
                      </a:lnTo>
                      <a:lnTo>
                        <a:pt x="36" y="24"/>
                      </a:lnTo>
                      <a:lnTo>
                        <a:pt x="42" y="18"/>
                      </a:lnTo>
                      <a:lnTo>
                        <a:pt x="48" y="18"/>
                      </a:lnTo>
                      <a:lnTo>
                        <a:pt x="48" y="12"/>
                      </a:lnTo>
                      <a:lnTo>
                        <a:pt x="54" y="12"/>
                      </a:lnTo>
                      <a:lnTo>
                        <a:pt x="60" y="12"/>
                      </a:lnTo>
                      <a:lnTo>
                        <a:pt x="66" y="6"/>
                      </a:lnTo>
                      <a:lnTo>
                        <a:pt x="72" y="6"/>
                      </a:lnTo>
                      <a:lnTo>
                        <a:pt x="78" y="6"/>
                      </a:lnTo>
                      <a:lnTo>
                        <a:pt x="84" y="6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6" y="0"/>
                      </a:lnTo>
                      <a:lnTo>
                        <a:pt x="102" y="0"/>
                      </a:lnTo>
                      <a:lnTo>
                        <a:pt x="108" y="0"/>
                      </a:lnTo>
                      <a:lnTo>
                        <a:pt x="114" y="0"/>
                      </a:lnTo>
                      <a:lnTo>
                        <a:pt x="120" y="0"/>
                      </a:lnTo>
                      <a:lnTo>
                        <a:pt x="126" y="0"/>
                      </a:lnTo>
                      <a:lnTo>
                        <a:pt x="132" y="0"/>
                      </a:lnTo>
                      <a:lnTo>
                        <a:pt x="132" y="6"/>
                      </a:lnTo>
                      <a:lnTo>
                        <a:pt x="138" y="6"/>
                      </a:lnTo>
                      <a:lnTo>
                        <a:pt x="144" y="6"/>
                      </a:lnTo>
                      <a:lnTo>
                        <a:pt x="150" y="6"/>
                      </a:lnTo>
                      <a:lnTo>
                        <a:pt x="156" y="12"/>
                      </a:lnTo>
                      <a:lnTo>
                        <a:pt x="162" y="12"/>
                      </a:lnTo>
                      <a:lnTo>
                        <a:pt x="168" y="12"/>
                      </a:lnTo>
                      <a:lnTo>
                        <a:pt x="168" y="18"/>
                      </a:lnTo>
                      <a:lnTo>
                        <a:pt x="174" y="18"/>
                      </a:lnTo>
                      <a:lnTo>
                        <a:pt x="180" y="24"/>
                      </a:lnTo>
                      <a:lnTo>
                        <a:pt x="186" y="24"/>
                      </a:lnTo>
                      <a:lnTo>
                        <a:pt x="186" y="30"/>
                      </a:lnTo>
                      <a:lnTo>
                        <a:pt x="192" y="30"/>
                      </a:lnTo>
                      <a:lnTo>
                        <a:pt x="198" y="36"/>
                      </a:lnTo>
                      <a:lnTo>
                        <a:pt x="204" y="36"/>
                      </a:lnTo>
                      <a:lnTo>
                        <a:pt x="204" y="42"/>
                      </a:lnTo>
                      <a:lnTo>
                        <a:pt x="210" y="42"/>
                      </a:lnTo>
                      <a:lnTo>
                        <a:pt x="210" y="48"/>
                      </a:lnTo>
                      <a:lnTo>
                        <a:pt x="216" y="48"/>
                      </a:lnTo>
                      <a:lnTo>
                        <a:pt x="216" y="54"/>
                      </a:lnTo>
                      <a:lnTo>
                        <a:pt x="222" y="54"/>
                      </a:lnTo>
                      <a:lnTo>
                        <a:pt x="222" y="60"/>
                      </a:lnTo>
                      <a:lnTo>
                        <a:pt x="228" y="60"/>
                      </a:lnTo>
                      <a:lnTo>
                        <a:pt x="228" y="66"/>
                      </a:lnTo>
                      <a:lnTo>
                        <a:pt x="234" y="66"/>
                      </a:lnTo>
                      <a:lnTo>
                        <a:pt x="234" y="72"/>
                      </a:lnTo>
                      <a:lnTo>
                        <a:pt x="240" y="72"/>
                      </a:lnTo>
                      <a:lnTo>
                        <a:pt x="240" y="78"/>
                      </a:lnTo>
                      <a:lnTo>
                        <a:pt x="246" y="84"/>
                      </a:lnTo>
                      <a:lnTo>
                        <a:pt x="252" y="90"/>
                      </a:lnTo>
                      <a:lnTo>
                        <a:pt x="252" y="96"/>
                      </a:lnTo>
                      <a:lnTo>
                        <a:pt x="258" y="96"/>
                      </a:lnTo>
                      <a:lnTo>
                        <a:pt x="258" y="102"/>
                      </a:lnTo>
                      <a:lnTo>
                        <a:pt x="264" y="108"/>
                      </a:lnTo>
                      <a:lnTo>
                        <a:pt x="264" y="114"/>
                      </a:lnTo>
                      <a:lnTo>
                        <a:pt x="270" y="114"/>
                      </a:lnTo>
                      <a:lnTo>
                        <a:pt x="270" y="120"/>
                      </a:lnTo>
                      <a:lnTo>
                        <a:pt x="276" y="120"/>
                      </a:lnTo>
                      <a:lnTo>
                        <a:pt x="276" y="126"/>
                      </a:lnTo>
                      <a:lnTo>
                        <a:pt x="282" y="132"/>
                      </a:lnTo>
                      <a:lnTo>
                        <a:pt x="282" y="138"/>
                      </a:lnTo>
                      <a:lnTo>
                        <a:pt x="288" y="138"/>
                      </a:lnTo>
                      <a:lnTo>
                        <a:pt x="288" y="144"/>
                      </a:lnTo>
                      <a:lnTo>
                        <a:pt x="288" y="150"/>
                      </a:lnTo>
                      <a:lnTo>
                        <a:pt x="294" y="150"/>
                      </a:lnTo>
                      <a:lnTo>
                        <a:pt x="294" y="156"/>
                      </a:lnTo>
                      <a:lnTo>
                        <a:pt x="300" y="156"/>
                      </a:lnTo>
                      <a:lnTo>
                        <a:pt x="300" y="162"/>
                      </a:lnTo>
                      <a:lnTo>
                        <a:pt x="300" y="168"/>
                      </a:lnTo>
                      <a:lnTo>
                        <a:pt x="306" y="168"/>
                      </a:lnTo>
                      <a:lnTo>
                        <a:pt x="306" y="174"/>
                      </a:lnTo>
                      <a:lnTo>
                        <a:pt x="306" y="180"/>
                      </a:lnTo>
                      <a:lnTo>
                        <a:pt x="312" y="180"/>
                      </a:lnTo>
                      <a:lnTo>
                        <a:pt x="312" y="186"/>
                      </a:lnTo>
                      <a:lnTo>
                        <a:pt x="312" y="192"/>
                      </a:lnTo>
                      <a:lnTo>
                        <a:pt x="318" y="192"/>
                      </a:lnTo>
                      <a:lnTo>
                        <a:pt x="318" y="198"/>
                      </a:lnTo>
                      <a:lnTo>
                        <a:pt x="324" y="204"/>
                      </a:lnTo>
                      <a:lnTo>
                        <a:pt x="324" y="210"/>
                      </a:lnTo>
                      <a:lnTo>
                        <a:pt x="330" y="216"/>
                      </a:lnTo>
                      <a:lnTo>
                        <a:pt x="330" y="222"/>
                      </a:lnTo>
                      <a:lnTo>
                        <a:pt x="336" y="228"/>
                      </a:lnTo>
                      <a:lnTo>
                        <a:pt x="336" y="234"/>
                      </a:lnTo>
                      <a:lnTo>
                        <a:pt x="342" y="240"/>
                      </a:lnTo>
                      <a:lnTo>
                        <a:pt x="342" y="246"/>
                      </a:lnTo>
                      <a:lnTo>
                        <a:pt x="348" y="252"/>
                      </a:lnTo>
                      <a:lnTo>
                        <a:pt x="348" y="258"/>
                      </a:lnTo>
                      <a:lnTo>
                        <a:pt x="354" y="264"/>
                      </a:lnTo>
                      <a:lnTo>
                        <a:pt x="354" y="270"/>
                      </a:lnTo>
                      <a:lnTo>
                        <a:pt x="360" y="276"/>
                      </a:lnTo>
                      <a:lnTo>
                        <a:pt x="360" y="282"/>
                      </a:lnTo>
                      <a:lnTo>
                        <a:pt x="360" y="288"/>
                      </a:lnTo>
                      <a:lnTo>
                        <a:pt x="366" y="288"/>
                      </a:lnTo>
                      <a:lnTo>
                        <a:pt x="366" y="294"/>
                      </a:lnTo>
                      <a:lnTo>
                        <a:pt x="366" y="300"/>
                      </a:lnTo>
                      <a:lnTo>
                        <a:pt x="372" y="306"/>
                      </a:lnTo>
                      <a:lnTo>
                        <a:pt x="372" y="312"/>
                      </a:lnTo>
                      <a:lnTo>
                        <a:pt x="372" y="318"/>
                      </a:lnTo>
                      <a:lnTo>
                        <a:pt x="378" y="318"/>
                      </a:lnTo>
                      <a:lnTo>
                        <a:pt x="378" y="324"/>
                      </a:lnTo>
                      <a:lnTo>
                        <a:pt x="378" y="330"/>
                      </a:lnTo>
                      <a:lnTo>
                        <a:pt x="384" y="330"/>
                      </a:lnTo>
                      <a:lnTo>
                        <a:pt x="384" y="336"/>
                      </a:lnTo>
                      <a:lnTo>
                        <a:pt x="384" y="342"/>
                      </a:lnTo>
                      <a:lnTo>
                        <a:pt x="390" y="348"/>
                      </a:lnTo>
                      <a:lnTo>
                        <a:pt x="390" y="354"/>
                      </a:lnTo>
                      <a:lnTo>
                        <a:pt x="390" y="360"/>
                      </a:lnTo>
                      <a:lnTo>
                        <a:pt x="396" y="360"/>
                      </a:lnTo>
                      <a:lnTo>
                        <a:pt x="396" y="366"/>
                      </a:lnTo>
                      <a:lnTo>
                        <a:pt x="396" y="372"/>
                      </a:lnTo>
                      <a:lnTo>
                        <a:pt x="402" y="378"/>
                      </a:lnTo>
                      <a:lnTo>
                        <a:pt x="402" y="384"/>
                      </a:lnTo>
                      <a:lnTo>
                        <a:pt x="402" y="390"/>
                      </a:lnTo>
                      <a:lnTo>
                        <a:pt x="408" y="390"/>
                      </a:lnTo>
                      <a:lnTo>
                        <a:pt x="408" y="396"/>
                      </a:lnTo>
                      <a:lnTo>
                        <a:pt x="408" y="402"/>
                      </a:lnTo>
                      <a:lnTo>
                        <a:pt x="408" y="408"/>
                      </a:lnTo>
                      <a:lnTo>
                        <a:pt x="414" y="408"/>
                      </a:lnTo>
                      <a:lnTo>
                        <a:pt x="414" y="414"/>
                      </a:lnTo>
                      <a:lnTo>
                        <a:pt x="414" y="420"/>
                      </a:lnTo>
                      <a:lnTo>
                        <a:pt x="420" y="426"/>
                      </a:lnTo>
                      <a:lnTo>
                        <a:pt x="420" y="432"/>
                      </a:lnTo>
                      <a:lnTo>
                        <a:pt x="420" y="438"/>
                      </a:lnTo>
                      <a:lnTo>
                        <a:pt x="426" y="444"/>
                      </a:lnTo>
                      <a:lnTo>
                        <a:pt x="426" y="450"/>
                      </a:lnTo>
                      <a:lnTo>
                        <a:pt x="426" y="456"/>
                      </a:lnTo>
                      <a:lnTo>
                        <a:pt x="432" y="456"/>
                      </a:lnTo>
                      <a:lnTo>
                        <a:pt x="432" y="462"/>
                      </a:lnTo>
                      <a:lnTo>
                        <a:pt x="432" y="468"/>
                      </a:lnTo>
                      <a:lnTo>
                        <a:pt x="432" y="474"/>
                      </a:lnTo>
                      <a:lnTo>
                        <a:pt x="438" y="474"/>
                      </a:lnTo>
                      <a:lnTo>
                        <a:pt x="438" y="480"/>
                      </a:lnTo>
                      <a:lnTo>
                        <a:pt x="438" y="486"/>
                      </a:lnTo>
                      <a:lnTo>
                        <a:pt x="438" y="492"/>
                      </a:lnTo>
                      <a:lnTo>
                        <a:pt x="444" y="492"/>
                      </a:lnTo>
                      <a:lnTo>
                        <a:pt x="444" y="498"/>
                      </a:lnTo>
                      <a:lnTo>
                        <a:pt x="444" y="504"/>
                      </a:lnTo>
                      <a:lnTo>
                        <a:pt x="450" y="510"/>
                      </a:lnTo>
                      <a:lnTo>
                        <a:pt x="450" y="516"/>
                      </a:lnTo>
                      <a:lnTo>
                        <a:pt x="450" y="522"/>
                      </a:lnTo>
                      <a:lnTo>
                        <a:pt x="456" y="528"/>
                      </a:lnTo>
                      <a:lnTo>
                        <a:pt x="456" y="534"/>
                      </a:lnTo>
                      <a:lnTo>
                        <a:pt x="456" y="540"/>
                      </a:lnTo>
                      <a:lnTo>
                        <a:pt x="462" y="546"/>
                      </a:lnTo>
                      <a:lnTo>
                        <a:pt x="462" y="552"/>
                      </a:lnTo>
                      <a:lnTo>
                        <a:pt x="462" y="558"/>
                      </a:lnTo>
                      <a:lnTo>
                        <a:pt x="462" y="564"/>
                      </a:lnTo>
                      <a:lnTo>
                        <a:pt x="468" y="570"/>
                      </a:lnTo>
                      <a:lnTo>
                        <a:pt x="468" y="576"/>
                      </a:lnTo>
                      <a:lnTo>
                        <a:pt x="468" y="582"/>
                      </a:lnTo>
                      <a:lnTo>
                        <a:pt x="474" y="588"/>
                      </a:lnTo>
                      <a:lnTo>
                        <a:pt x="474" y="594"/>
                      </a:lnTo>
                      <a:lnTo>
                        <a:pt x="474" y="600"/>
                      </a:lnTo>
                      <a:lnTo>
                        <a:pt x="480" y="606"/>
                      </a:lnTo>
                      <a:lnTo>
                        <a:pt x="480" y="612"/>
                      </a:lnTo>
                      <a:lnTo>
                        <a:pt x="480" y="618"/>
                      </a:lnTo>
                      <a:lnTo>
                        <a:pt x="480" y="624"/>
                      </a:lnTo>
                      <a:lnTo>
                        <a:pt x="486" y="624"/>
                      </a:lnTo>
                      <a:lnTo>
                        <a:pt x="486" y="630"/>
                      </a:lnTo>
                      <a:lnTo>
                        <a:pt x="486" y="636"/>
                      </a:lnTo>
                      <a:lnTo>
                        <a:pt x="486" y="642"/>
                      </a:lnTo>
                      <a:lnTo>
                        <a:pt x="492" y="648"/>
                      </a:lnTo>
                      <a:lnTo>
                        <a:pt x="492" y="654"/>
                      </a:lnTo>
                      <a:lnTo>
                        <a:pt x="492" y="660"/>
                      </a:lnTo>
                      <a:lnTo>
                        <a:pt x="498" y="666"/>
                      </a:lnTo>
                      <a:lnTo>
                        <a:pt x="498" y="672"/>
                      </a:lnTo>
                      <a:lnTo>
                        <a:pt x="498" y="678"/>
                      </a:lnTo>
                      <a:lnTo>
                        <a:pt x="498" y="684"/>
                      </a:lnTo>
                      <a:lnTo>
                        <a:pt x="504" y="684"/>
                      </a:lnTo>
                      <a:lnTo>
                        <a:pt x="504" y="690"/>
                      </a:lnTo>
                      <a:lnTo>
                        <a:pt x="504" y="696"/>
                      </a:lnTo>
                      <a:lnTo>
                        <a:pt x="504" y="702"/>
                      </a:lnTo>
                      <a:lnTo>
                        <a:pt x="510" y="708"/>
                      </a:lnTo>
                      <a:lnTo>
                        <a:pt x="510" y="714"/>
                      </a:lnTo>
                      <a:lnTo>
                        <a:pt x="510" y="720"/>
                      </a:lnTo>
                      <a:lnTo>
                        <a:pt x="510" y="726"/>
                      </a:lnTo>
                      <a:lnTo>
                        <a:pt x="516" y="732"/>
                      </a:lnTo>
                      <a:lnTo>
                        <a:pt x="516" y="738"/>
                      </a:lnTo>
                      <a:lnTo>
                        <a:pt x="516" y="744"/>
                      </a:lnTo>
                      <a:lnTo>
                        <a:pt x="516" y="750"/>
                      </a:lnTo>
                      <a:lnTo>
                        <a:pt x="522" y="750"/>
                      </a:lnTo>
                      <a:lnTo>
                        <a:pt x="522" y="756"/>
                      </a:lnTo>
                      <a:lnTo>
                        <a:pt x="522" y="762"/>
                      </a:lnTo>
                      <a:lnTo>
                        <a:pt x="522" y="768"/>
                      </a:lnTo>
                      <a:lnTo>
                        <a:pt x="528" y="774"/>
                      </a:lnTo>
                      <a:lnTo>
                        <a:pt x="528" y="780"/>
                      </a:lnTo>
                      <a:lnTo>
                        <a:pt x="528" y="786"/>
                      </a:lnTo>
                      <a:lnTo>
                        <a:pt x="528" y="792"/>
                      </a:lnTo>
                      <a:lnTo>
                        <a:pt x="534" y="798"/>
                      </a:lnTo>
                      <a:lnTo>
                        <a:pt x="534" y="804"/>
                      </a:lnTo>
                      <a:lnTo>
                        <a:pt x="534" y="810"/>
                      </a:lnTo>
                      <a:lnTo>
                        <a:pt x="534" y="816"/>
                      </a:lnTo>
                      <a:lnTo>
                        <a:pt x="540" y="816"/>
                      </a:lnTo>
                      <a:lnTo>
                        <a:pt x="540" y="822"/>
                      </a:lnTo>
                      <a:lnTo>
                        <a:pt x="540" y="828"/>
                      </a:lnTo>
                      <a:lnTo>
                        <a:pt x="540" y="834"/>
                      </a:lnTo>
                      <a:lnTo>
                        <a:pt x="546" y="840"/>
                      </a:lnTo>
                      <a:lnTo>
                        <a:pt x="546" y="846"/>
                      </a:lnTo>
                      <a:lnTo>
                        <a:pt x="546" y="852"/>
                      </a:lnTo>
                      <a:lnTo>
                        <a:pt x="546" y="858"/>
                      </a:lnTo>
                      <a:lnTo>
                        <a:pt x="552" y="864"/>
                      </a:lnTo>
                      <a:lnTo>
                        <a:pt x="552" y="870"/>
                      </a:lnTo>
                      <a:lnTo>
                        <a:pt x="552" y="876"/>
                      </a:lnTo>
                      <a:lnTo>
                        <a:pt x="552" y="882"/>
                      </a:lnTo>
                      <a:lnTo>
                        <a:pt x="558" y="888"/>
                      </a:lnTo>
                      <a:lnTo>
                        <a:pt x="558" y="894"/>
                      </a:lnTo>
                      <a:lnTo>
                        <a:pt x="558" y="900"/>
                      </a:lnTo>
                      <a:lnTo>
                        <a:pt x="558" y="906"/>
                      </a:lnTo>
                      <a:lnTo>
                        <a:pt x="564" y="912"/>
                      </a:lnTo>
                      <a:lnTo>
                        <a:pt x="564" y="918"/>
                      </a:lnTo>
                      <a:lnTo>
                        <a:pt x="564" y="924"/>
                      </a:lnTo>
                      <a:lnTo>
                        <a:pt x="564" y="930"/>
                      </a:lnTo>
                      <a:lnTo>
                        <a:pt x="564" y="936"/>
                      </a:lnTo>
                      <a:lnTo>
                        <a:pt x="570" y="936"/>
                      </a:lnTo>
                      <a:lnTo>
                        <a:pt x="570" y="942"/>
                      </a:lnTo>
                      <a:lnTo>
                        <a:pt x="570" y="948"/>
                      </a:lnTo>
                      <a:lnTo>
                        <a:pt x="570" y="954"/>
                      </a:lnTo>
                      <a:lnTo>
                        <a:pt x="570" y="960"/>
                      </a:lnTo>
                      <a:lnTo>
                        <a:pt x="576" y="960"/>
                      </a:lnTo>
                      <a:lnTo>
                        <a:pt x="576" y="966"/>
                      </a:lnTo>
                      <a:lnTo>
                        <a:pt x="576" y="972"/>
                      </a:lnTo>
                      <a:lnTo>
                        <a:pt x="576" y="978"/>
                      </a:lnTo>
                      <a:lnTo>
                        <a:pt x="576" y="984"/>
                      </a:lnTo>
                      <a:lnTo>
                        <a:pt x="582" y="984"/>
                      </a:lnTo>
                      <a:lnTo>
                        <a:pt x="582" y="990"/>
                      </a:lnTo>
                      <a:lnTo>
                        <a:pt x="582" y="996"/>
                      </a:lnTo>
                      <a:lnTo>
                        <a:pt x="582" y="1002"/>
                      </a:lnTo>
                      <a:lnTo>
                        <a:pt x="582" y="1008"/>
                      </a:lnTo>
                      <a:lnTo>
                        <a:pt x="588" y="1014"/>
                      </a:lnTo>
                      <a:lnTo>
                        <a:pt x="588" y="1020"/>
                      </a:lnTo>
                      <a:lnTo>
                        <a:pt x="588" y="1026"/>
                      </a:lnTo>
                      <a:lnTo>
                        <a:pt x="588" y="1032"/>
                      </a:lnTo>
                      <a:lnTo>
                        <a:pt x="594" y="1038"/>
                      </a:lnTo>
                      <a:lnTo>
                        <a:pt x="594" y="1044"/>
                      </a:lnTo>
                      <a:lnTo>
                        <a:pt x="594" y="1050"/>
                      </a:lnTo>
                      <a:lnTo>
                        <a:pt x="594" y="1056"/>
                      </a:lnTo>
                      <a:lnTo>
                        <a:pt x="600" y="1062"/>
                      </a:lnTo>
                      <a:lnTo>
                        <a:pt x="600" y="1068"/>
                      </a:lnTo>
                      <a:lnTo>
                        <a:pt x="600" y="1074"/>
                      </a:lnTo>
                      <a:lnTo>
                        <a:pt x="600" y="1080"/>
                      </a:lnTo>
                      <a:lnTo>
                        <a:pt x="606" y="1086"/>
                      </a:lnTo>
                      <a:lnTo>
                        <a:pt x="606" y="1092"/>
                      </a:lnTo>
                      <a:lnTo>
                        <a:pt x="606" y="1098"/>
                      </a:lnTo>
                      <a:lnTo>
                        <a:pt x="606" y="1104"/>
                      </a:lnTo>
                      <a:lnTo>
                        <a:pt x="606" y="1110"/>
                      </a:lnTo>
                      <a:lnTo>
                        <a:pt x="612" y="1116"/>
                      </a:lnTo>
                      <a:lnTo>
                        <a:pt x="612" y="1122"/>
                      </a:lnTo>
                      <a:lnTo>
                        <a:pt x="612" y="1128"/>
                      </a:lnTo>
                      <a:lnTo>
                        <a:pt x="612" y="1134"/>
                      </a:lnTo>
                      <a:lnTo>
                        <a:pt x="612" y="1140"/>
                      </a:lnTo>
                      <a:lnTo>
                        <a:pt x="618" y="1146"/>
                      </a:lnTo>
                      <a:lnTo>
                        <a:pt x="618" y="1152"/>
                      </a:lnTo>
                      <a:lnTo>
                        <a:pt x="618" y="1158"/>
                      </a:lnTo>
                      <a:lnTo>
                        <a:pt x="618" y="1164"/>
                      </a:lnTo>
                      <a:lnTo>
                        <a:pt x="624" y="1170"/>
                      </a:lnTo>
                      <a:lnTo>
                        <a:pt x="624" y="1176"/>
                      </a:lnTo>
                      <a:lnTo>
                        <a:pt x="624" y="1182"/>
                      </a:lnTo>
                      <a:lnTo>
                        <a:pt x="624" y="1188"/>
                      </a:lnTo>
                      <a:lnTo>
                        <a:pt x="624" y="1194"/>
                      </a:lnTo>
                      <a:lnTo>
                        <a:pt x="630" y="1200"/>
                      </a:lnTo>
                      <a:lnTo>
                        <a:pt x="630" y="1206"/>
                      </a:lnTo>
                      <a:lnTo>
                        <a:pt x="630" y="1212"/>
                      </a:lnTo>
                      <a:lnTo>
                        <a:pt x="630" y="1218"/>
                      </a:lnTo>
                      <a:lnTo>
                        <a:pt x="636" y="1224"/>
                      </a:lnTo>
                      <a:lnTo>
                        <a:pt x="636" y="1230"/>
                      </a:lnTo>
                      <a:lnTo>
                        <a:pt x="636" y="1236"/>
                      </a:lnTo>
                      <a:lnTo>
                        <a:pt x="636" y="1242"/>
                      </a:lnTo>
                      <a:lnTo>
                        <a:pt x="636" y="1248"/>
                      </a:lnTo>
                      <a:lnTo>
                        <a:pt x="642" y="1254"/>
                      </a:lnTo>
                      <a:lnTo>
                        <a:pt x="642" y="1260"/>
                      </a:lnTo>
                      <a:lnTo>
                        <a:pt x="642" y="1266"/>
                      </a:lnTo>
                      <a:lnTo>
                        <a:pt x="642" y="1272"/>
                      </a:lnTo>
                      <a:lnTo>
                        <a:pt x="648" y="1278"/>
                      </a:lnTo>
                      <a:lnTo>
                        <a:pt x="648" y="1284"/>
                      </a:lnTo>
                      <a:lnTo>
                        <a:pt x="648" y="1290"/>
                      </a:lnTo>
                      <a:lnTo>
                        <a:pt x="648" y="1296"/>
                      </a:lnTo>
                      <a:lnTo>
                        <a:pt x="648" y="1302"/>
                      </a:lnTo>
                      <a:lnTo>
                        <a:pt x="654" y="1308"/>
                      </a:lnTo>
                      <a:lnTo>
                        <a:pt x="654" y="1314"/>
                      </a:lnTo>
                      <a:lnTo>
                        <a:pt x="654" y="1320"/>
                      </a:lnTo>
                      <a:lnTo>
                        <a:pt x="654" y="1326"/>
                      </a:lnTo>
                      <a:lnTo>
                        <a:pt x="654" y="1332"/>
                      </a:lnTo>
                      <a:lnTo>
                        <a:pt x="660" y="1338"/>
                      </a:lnTo>
                      <a:lnTo>
                        <a:pt x="660" y="1344"/>
                      </a:lnTo>
                      <a:lnTo>
                        <a:pt x="660" y="1350"/>
                      </a:lnTo>
                      <a:lnTo>
                        <a:pt x="660" y="1356"/>
                      </a:lnTo>
                      <a:lnTo>
                        <a:pt x="660" y="1362"/>
                      </a:lnTo>
                      <a:lnTo>
                        <a:pt x="666" y="1368"/>
                      </a:lnTo>
                      <a:lnTo>
                        <a:pt x="666" y="1374"/>
                      </a:lnTo>
                      <a:lnTo>
                        <a:pt x="666" y="1380"/>
                      </a:lnTo>
                      <a:lnTo>
                        <a:pt x="666" y="1386"/>
                      </a:lnTo>
                      <a:lnTo>
                        <a:pt x="666" y="1392"/>
                      </a:lnTo>
                      <a:lnTo>
                        <a:pt x="672" y="1398"/>
                      </a:lnTo>
                      <a:lnTo>
                        <a:pt x="672" y="1404"/>
                      </a:lnTo>
                      <a:lnTo>
                        <a:pt x="672" y="1410"/>
                      </a:lnTo>
                      <a:lnTo>
                        <a:pt x="672" y="1416"/>
                      </a:lnTo>
                      <a:lnTo>
                        <a:pt x="672" y="1422"/>
                      </a:lnTo>
                      <a:lnTo>
                        <a:pt x="678" y="1428"/>
                      </a:lnTo>
                      <a:lnTo>
                        <a:pt x="678" y="1434"/>
                      </a:lnTo>
                      <a:lnTo>
                        <a:pt x="678" y="1440"/>
                      </a:lnTo>
                      <a:lnTo>
                        <a:pt x="678" y="1446"/>
                      </a:lnTo>
                      <a:lnTo>
                        <a:pt x="678" y="1452"/>
                      </a:lnTo>
                      <a:lnTo>
                        <a:pt x="684" y="1458"/>
                      </a:lnTo>
                      <a:lnTo>
                        <a:pt x="684" y="1464"/>
                      </a:lnTo>
                      <a:lnTo>
                        <a:pt x="684" y="1470"/>
                      </a:lnTo>
                      <a:lnTo>
                        <a:pt x="684" y="1476"/>
                      </a:lnTo>
                      <a:lnTo>
                        <a:pt x="684" y="1482"/>
                      </a:lnTo>
                      <a:lnTo>
                        <a:pt x="690" y="1488"/>
                      </a:lnTo>
                      <a:lnTo>
                        <a:pt x="690" y="1494"/>
                      </a:lnTo>
                      <a:lnTo>
                        <a:pt x="690" y="1500"/>
                      </a:lnTo>
                      <a:lnTo>
                        <a:pt x="690" y="1506"/>
                      </a:lnTo>
                      <a:lnTo>
                        <a:pt x="690" y="1512"/>
                      </a:lnTo>
                      <a:lnTo>
                        <a:pt x="696" y="1518"/>
                      </a:lnTo>
                      <a:lnTo>
                        <a:pt x="696" y="1524"/>
                      </a:lnTo>
                      <a:lnTo>
                        <a:pt x="696" y="1530"/>
                      </a:lnTo>
                      <a:lnTo>
                        <a:pt x="696" y="1536"/>
                      </a:lnTo>
                      <a:lnTo>
                        <a:pt x="696" y="1542"/>
                      </a:lnTo>
                      <a:lnTo>
                        <a:pt x="702" y="1548"/>
                      </a:lnTo>
                      <a:lnTo>
                        <a:pt x="702" y="1554"/>
                      </a:lnTo>
                      <a:lnTo>
                        <a:pt x="702" y="1560"/>
                      </a:lnTo>
                      <a:lnTo>
                        <a:pt x="702" y="1566"/>
                      </a:lnTo>
                      <a:lnTo>
                        <a:pt x="702" y="1578"/>
                      </a:lnTo>
                      <a:lnTo>
                        <a:pt x="708" y="1584"/>
                      </a:lnTo>
                      <a:lnTo>
                        <a:pt x="708" y="1590"/>
                      </a:lnTo>
                      <a:lnTo>
                        <a:pt x="708" y="1596"/>
                      </a:lnTo>
                      <a:lnTo>
                        <a:pt x="708" y="1602"/>
                      </a:lnTo>
                      <a:lnTo>
                        <a:pt x="708" y="1608"/>
                      </a:lnTo>
                      <a:lnTo>
                        <a:pt x="714" y="1614"/>
                      </a:lnTo>
                      <a:lnTo>
                        <a:pt x="714" y="1620"/>
                      </a:lnTo>
                      <a:lnTo>
                        <a:pt x="714" y="1626"/>
                      </a:lnTo>
                      <a:lnTo>
                        <a:pt x="714" y="1632"/>
                      </a:lnTo>
                      <a:lnTo>
                        <a:pt x="714" y="1638"/>
                      </a:lnTo>
                      <a:lnTo>
                        <a:pt x="714" y="1644"/>
                      </a:lnTo>
                      <a:lnTo>
                        <a:pt x="720" y="1650"/>
                      </a:lnTo>
                      <a:lnTo>
                        <a:pt x="720" y="1656"/>
                      </a:lnTo>
                      <a:lnTo>
                        <a:pt x="720" y="1662"/>
                      </a:lnTo>
                      <a:lnTo>
                        <a:pt x="720" y="1668"/>
                      </a:lnTo>
                      <a:lnTo>
                        <a:pt x="720" y="1674"/>
                      </a:lnTo>
                      <a:lnTo>
                        <a:pt x="726" y="1680"/>
                      </a:lnTo>
                      <a:lnTo>
                        <a:pt x="726" y="1686"/>
                      </a:lnTo>
                      <a:lnTo>
                        <a:pt x="726" y="1692"/>
                      </a:lnTo>
                      <a:lnTo>
                        <a:pt x="726" y="1704"/>
                      </a:lnTo>
                      <a:lnTo>
                        <a:pt x="726" y="1710"/>
                      </a:lnTo>
                      <a:lnTo>
                        <a:pt x="732" y="1716"/>
                      </a:lnTo>
                      <a:lnTo>
                        <a:pt x="732" y="1722"/>
                      </a:lnTo>
                      <a:lnTo>
                        <a:pt x="732" y="1728"/>
                      </a:lnTo>
                      <a:lnTo>
                        <a:pt x="732" y="1734"/>
                      </a:lnTo>
                      <a:lnTo>
                        <a:pt x="732" y="1740"/>
                      </a:lnTo>
                      <a:lnTo>
                        <a:pt x="738" y="1746"/>
                      </a:lnTo>
                      <a:lnTo>
                        <a:pt x="738" y="1752"/>
                      </a:lnTo>
                      <a:lnTo>
                        <a:pt x="738" y="1758"/>
                      </a:lnTo>
                      <a:lnTo>
                        <a:pt x="738" y="1764"/>
                      </a:lnTo>
                      <a:lnTo>
                        <a:pt x="738" y="1770"/>
                      </a:lnTo>
                      <a:lnTo>
                        <a:pt x="744" y="1782"/>
                      </a:lnTo>
                      <a:lnTo>
                        <a:pt x="744" y="1788"/>
                      </a:lnTo>
                      <a:lnTo>
                        <a:pt x="744" y="1794"/>
                      </a:lnTo>
                      <a:lnTo>
                        <a:pt x="744" y="1800"/>
                      </a:lnTo>
                      <a:lnTo>
                        <a:pt x="744" y="1806"/>
                      </a:lnTo>
                      <a:lnTo>
                        <a:pt x="750" y="1812"/>
                      </a:lnTo>
                      <a:lnTo>
                        <a:pt x="750" y="1818"/>
                      </a:lnTo>
                      <a:lnTo>
                        <a:pt x="750" y="1824"/>
                      </a:lnTo>
                      <a:lnTo>
                        <a:pt x="750" y="1830"/>
                      </a:lnTo>
                      <a:lnTo>
                        <a:pt x="750" y="1842"/>
                      </a:lnTo>
                      <a:lnTo>
                        <a:pt x="756" y="1848"/>
                      </a:lnTo>
                      <a:lnTo>
                        <a:pt x="756" y="1854"/>
                      </a:lnTo>
                      <a:lnTo>
                        <a:pt x="756" y="1860"/>
                      </a:lnTo>
                      <a:lnTo>
                        <a:pt x="756" y="1866"/>
                      </a:lnTo>
                      <a:lnTo>
                        <a:pt x="756" y="1872"/>
                      </a:lnTo>
                      <a:lnTo>
                        <a:pt x="762" y="1878"/>
                      </a:lnTo>
                      <a:lnTo>
                        <a:pt x="762" y="1884"/>
                      </a:lnTo>
                      <a:lnTo>
                        <a:pt x="762" y="1896"/>
                      </a:lnTo>
                      <a:lnTo>
                        <a:pt x="762" y="1902"/>
                      </a:lnTo>
                      <a:lnTo>
                        <a:pt x="762" y="1908"/>
                      </a:lnTo>
                      <a:lnTo>
                        <a:pt x="762" y="1914"/>
                      </a:lnTo>
                      <a:lnTo>
                        <a:pt x="768" y="1920"/>
                      </a:lnTo>
                      <a:lnTo>
                        <a:pt x="768" y="1926"/>
                      </a:lnTo>
                      <a:lnTo>
                        <a:pt x="768" y="1932"/>
                      </a:lnTo>
                      <a:lnTo>
                        <a:pt x="768" y="1944"/>
                      </a:lnTo>
                      <a:lnTo>
                        <a:pt x="768" y="1950"/>
                      </a:lnTo>
                      <a:lnTo>
                        <a:pt x="774" y="1956"/>
                      </a:lnTo>
                      <a:lnTo>
                        <a:pt x="774" y="1962"/>
                      </a:lnTo>
                      <a:lnTo>
                        <a:pt x="774" y="1968"/>
                      </a:lnTo>
                      <a:lnTo>
                        <a:pt x="774" y="1974"/>
                      </a:lnTo>
                      <a:lnTo>
                        <a:pt x="774" y="1980"/>
                      </a:lnTo>
                      <a:lnTo>
                        <a:pt x="780" y="1992"/>
                      </a:lnTo>
                      <a:lnTo>
                        <a:pt x="780" y="1998"/>
                      </a:lnTo>
                      <a:lnTo>
                        <a:pt x="780" y="2004"/>
                      </a:lnTo>
                      <a:lnTo>
                        <a:pt x="780" y="2010"/>
                      </a:lnTo>
                      <a:lnTo>
                        <a:pt x="780" y="2016"/>
                      </a:lnTo>
                      <a:lnTo>
                        <a:pt x="786" y="2022"/>
                      </a:lnTo>
                      <a:lnTo>
                        <a:pt x="786" y="2034"/>
                      </a:lnTo>
                      <a:lnTo>
                        <a:pt x="786" y="2040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629840" y="5694480"/>
                  <a:ext cx="85680" cy="533160"/>
                </a:xfrm>
                <a:custGeom>
                  <a:avLst/>
                  <a:gdLst/>
                  <a:ahLst/>
                  <a:rect l="l" t="t" r="r" b="b"/>
                  <a:pathLst>
                    <a:path w="54" h="33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6" y="18"/>
                      </a:lnTo>
                      <a:lnTo>
                        <a:pt x="6" y="24"/>
                      </a:lnTo>
                      <a:lnTo>
                        <a:pt x="6" y="36"/>
                      </a:lnTo>
                      <a:lnTo>
                        <a:pt x="6" y="42"/>
                      </a:lnTo>
                      <a:lnTo>
                        <a:pt x="6" y="48"/>
                      </a:lnTo>
                      <a:lnTo>
                        <a:pt x="12" y="54"/>
                      </a:lnTo>
                      <a:lnTo>
                        <a:pt x="12" y="60"/>
                      </a:lnTo>
                      <a:lnTo>
                        <a:pt x="12" y="72"/>
                      </a:lnTo>
                      <a:lnTo>
                        <a:pt x="12" y="78"/>
                      </a:lnTo>
                      <a:lnTo>
                        <a:pt x="12" y="84"/>
                      </a:lnTo>
                      <a:lnTo>
                        <a:pt x="18" y="90"/>
                      </a:lnTo>
                      <a:lnTo>
                        <a:pt x="18" y="96"/>
                      </a:lnTo>
                      <a:lnTo>
                        <a:pt x="18" y="108"/>
                      </a:lnTo>
                      <a:lnTo>
                        <a:pt x="18" y="114"/>
                      </a:lnTo>
                      <a:lnTo>
                        <a:pt x="18" y="120"/>
                      </a:lnTo>
                      <a:lnTo>
                        <a:pt x="24" y="126"/>
                      </a:lnTo>
                      <a:lnTo>
                        <a:pt x="24" y="132"/>
                      </a:lnTo>
                      <a:lnTo>
                        <a:pt x="24" y="144"/>
                      </a:lnTo>
                      <a:lnTo>
                        <a:pt x="24" y="150"/>
                      </a:lnTo>
                      <a:lnTo>
                        <a:pt x="24" y="156"/>
                      </a:lnTo>
                      <a:lnTo>
                        <a:pt x="30" y="162"/>
                      </a:lnTo>
                      <a:lnTo>
                        <a:pt x="30" y="174"/>
                      </a:lnTo>
                      <a:lnTo>
                        <a:pt x="30" y="180"/>
                      </a:lnTo>
                      <a:lnTo>
                        <a:pt x="30" y="186"/>
                      </a:lnTo>
                      <a:lnTo>
                        <a:pt x="30" y="192"/>
                      </a:lnTo>
                      <a:lnTo>
                        <a:pt x="30" y="198"/>
                      </a:lnTo>
                      <a:lnTo>
                        <a:pt x="36" y="210"/>
                      </a:lnTo>
                      <a:lnTo>
                        <a:pt x="36" y="216"/>
                      </a:lnTo>
                      <a:lnTo>
                        <a:pt x="36" y="222"/>
                      </a:lnTo>
                      <a:lnTo>
                        <a:pt x="36" y="228"/>
                      </a:lnTo>
                      <a:lnTo>
                        <a:pt x="36" y="240"/>
                      </a:lnTo>
                      <a:lnTo>
                        <a:pt x="42" y="246"/>
                      </a:lnTo>
                      <a:lnTo>
                        <a:pt x="42" y="252"/>
                      </a:lnTo>
                      <a:lnTo>
                        <a:pt x="42" y="258"/>
                      </a:lnTo>
                      <a:lnTo>
                        <a:pt x="42" y="270"/>
                      </a:lnTo>
                      <a:lnTo>
                        <a:pt x="42" y="276"/>
                      </a:lnTo>
                      <a:lnTo>
                        <a:pt x="48" y="282"/>
                      </a:lnTo>
                      <a:lnTo>
                        <a:pt x="48" y="288"/>
                      </a:lnTo>
                      <a:lnTo>
                        <a:pt x="48" y="300"/>
                      </a:lnTo>
                      <a:lnTo>
                        <a:pt x="48" y="306"/>
                      </a:lnTo>
                      <a:lnTo>
                        <a:pt x="48" y="312"/>
                      </a:lnTo>
                      <a:lnTo>
                        <a:pt x="54" y="318"/>
                      </a:lnTo>
                      <a:lnTo>
                        <a:pt x="54" y="330"/>
                      </a:lnTo>
                      <a:lnTo>
                        <a:pt x="54" y="336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0" name=""/>
            <p:cNvSpPr/>
            <p:nvPr/>
          </p:nvSpPr>
          <p:spPr>
            <a:xfrm>
              <a:off x="7756560" y="5599080"/>
              <a:ext cx="12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50920" y="1413000"/>
            <a:ext cx="4889520" cy="4952880"/>
            <a:chOff x="250920" y="1413000"/>
            <a:chExt cx="4889520" cy="4952880"/>
          </a:xfrm>
        </p:grpSpPr>
        <p:grpSp>
          <p:nvGrpSpPr>
            <p:cNvPr id="242" name=""/>
            <p:cNvGrpSpPr/>
            <p:nvPr/>
          </p:nvGrpSpPr>
          <p:grpSpPr>
            <a:xfrm>
              <a:off x="250920" y="1413000"/>
              <a:ext cx="4889520" cy="4952880"/>
              <a:chOff x="250920" y="1413000"/>
              <a:chExt cx="4889520" cy="495288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250920" y="1666800"/>
                <a:ext cx="4618080" cy="4699080"/>
                <a:chOff x="250920" y="1666800"/>
                <a:chExt cx="4618080" cy="4699080"/>
              </a:xfrm>
            </p:grpSpPr>
            <p:pic>
              <p:nvPicPr>
                <p:cNvPr id="244" name="" descr=""/>
                <p:cNvPicPr/>
                <p:nvPr/>
              </p:nvPicPr>
              <p:blipFill>
                <a:blip r:embed="rId2"/>
                <a:srcRect l="24002" t="9998" r="18999" b="9998"/>
                <a:stretch/>
              </p:blipFill>
              <p:spPr>
                <a:xfrm>
                  <a:off x="250920" y="1793880"/>
                  <a:ext cx="4343400" cy="457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5" name=""/>
                <p:cNvSpPr/>
                <p:nvPr/>
              </p:nvSpPr>
              <p:spPr>
                <a:xfrm>
                  <a:off x="2295360" y="1666800"/>
                  <a:ext cx="1800" cy="339840"/>
                </a:xfrm>
                <a:custGeom>
                  <a:avLst/>
                  <a:gdLst/>
                  <a:ahLst/>
                  <a:rect l="l" t="t" r="r" b="b"/>
                  <a:pathLst>
                    <a:path w="1" h="214">
                      <a:moveTo>
                        <a:pt x="0" y="21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d54f41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486320" y="5621400"/>
                  <a:ext cx="382680" cy="1440"/>
                </a:xfrm>
                <a:custGeom>
                  <a:avLst/>
                  <a:gdLst/>
                  <a:ahLst/>
                  <a:rect l="l" t="t" r="r" b="b"/>
                  <a:pathLst>
                    <a:path w="241" h="1">
                      <a:moveTo>
                        <a:pt x="0" y="0"/>
                      </a:moveTo>
                      <a:lnTo>
                        <a:pt x="241" y="0"/>
                      </a:lnTo>
                    </a:path>
                  </a:pathLst>
                </a:custGeom>
                <a:noFill/>
                <a:ln w="9360">
                  <a:solidFill>
                    <a:srgbClr val="d54f41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4824000" y="552780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066400" y="141300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049480" y="5451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122120" y="1622160"/>
              <a:ext cx="2390400" cy="4000320"/>
            </a:xfrm>
            <a:custGeom>
              <a:avLst/>
              <a:gdLst/>
              <a:ahLst/>
              <a:rect l="l" t="t" r="r" b="b"/>
              <a:pathLst>
                <a:path w="1506" h="2520">
                  <a:moveTo>
                    <a:pt x="0" y="0"/>
                  </a:moveTo>
                  <a:lnTo>
                    <a:pt x="6" y="24"/>
                  </a:lnTo>
                  <a:lnTo>
                    <a:pt x="6" y="48"/>
                  </a:lnTo>
                  <a:lnTo>
                    <a:pt x="12" y="72"/>
                  </a:lnTo>
                  <a:lnTo>
                    <a:pt x="12" y="96"/>
                  </a:lnTo>
                  <a:lnTo>
                    <a:pt x="18" y="120"/>
                  </a:lnTo>
                  <a:lnTo>
                    <a:pt x="24" y="144"/>
                  </a:lnTo>
                  <a:lnTo>
                    <a:pt x="24" y="168"/>
                  </a:lnTo>
                  <a:lnTo>
                    <a:pt x="30" y="192"/>
                  </a:lnTo>
                  <a:lnTo>
                    <a:pt x="30" y="216"/>
                  </a:lnTo>
                  <a:lnTo>
                    <a:pt x="36" y="234"/>
                  </a:lnTo>
                  <a:lnTo>
                    <a:pt x="42" y="258"/>
                  </a:lnTo>
                  <a:lnTo>
                    <a:pt x="42" y="282"/>
                  </a:lnTo>
                  <a:lnTo>
                    <a:pt x="48" y="306"/>
                  </a:lnTo>
                  <a:lnTo>
                    <a:pt x="48" y="324"/>
                  </a:lnTo>
                  <a:lnTo>
                    <a:pt x="54" y="348"/>
                  </a:lnTo>
                  <a:lnTo>
                    <a:pt x="60" y="372"/>
                  </a:lnTo>
                  <a:lnTo>
                    <a:pt x="60" y="390"/>
                  </a:lnTo>
                  <a:lnTo>
                    <a:pt x="66" y="414"/>
                  </a:lnTo>
                  <a:lnTo>
                    <a:pt x="66" y="438"/>
                  </a:lnTo>
                  <a:lnTo>
                    <a:pt x="72" y="456"/>
                  </a:lnTo>
                  <a:lnTo>
                    <a:pt x="78" y="480"/>
                  </a:lnTo>
                  <a:lnTo>
                    <a:pt x="78" y="498"/>
                  </a:lnTo>
                  <a:lnTo>
                    <a:pt x="84" y="522"/>
                  </a:lnTo>
                  <a:lnTo>
                    <a:pt x="84" y="546"/>
                  </a:lnTo>
                  <a:lnTo>
                    <a:pt x="90" y="564"/>
                  </a:lnTo>
                  <a:lnTo>
                    <a:pt x="96" y="588"/>
                  </a:lnTo>
                  <a:lnTo>
                    <a:pt x="96" y="606"/>
                  </a:lnTo>
                  <a:lnTo>
                    <a:pt x="102" y="630"/>
                  </a:lnTo>
                  <a:lnTo>
                    <a:pt x="102" y="648"/>
                  </a:lnTo>
                  <a:lnTo>
                    <a:pt x="108" y="666"/>
                  </a:lnTo>
                  <a:lnTo>
                    <a:pt x="114" y="690"/>
                  </a:lnTo>
                  <a:lnTo>
                    <a:pt x="114" y="708"/>
                  </a:lnTo>
                  <a:lnTo>
                    <a:pt x="120" y="732"/>
                  </a:lnTo>
                  <a:lnTo>
                    <a:pt x="120" y="750"/>
                  </a:lnTo>
                  <a:lnTo>
                    <a:pt x="126" y="768"/>
                  </a:lnTo>
                  <a:lnTo>
                    <a:pt x="132" y="792"/>
                  </a:lnTo>
                  <a:lnTo>
                    <a:pt x="132" y="810"/>
                  </a:lnTo>
                  <a:lnTo>
                    <a:pt x="138" y="828"/>
                  </a:lnTo>
                  <a:lnTo>
                    <a:pt x="138" y="846"/>
                  </a:lnTo>
                  <a:lnTo>
                    <a:pt x="144" y="870"/>
                  </a:lnTo>
                  <a:lnTo>
                    <a:pt x="150" y="888"/>
                  </a:lnTo>
                  <a:lnTo>
                    <a:pt x="150" y="906"/>
                  </a:lnTo>
                  <a:lnTo>
                    <a:pt x="156" y="924"/>
                  </a:lnTo>
                  <a:lnTo>
                    <a:pt x="156" y="942"/>
                  </a:lnTo>
                  <a:lnTo>
                    <a:pt x="162" y="960"/>
                  </a:lnTo>
                  <a:lnTo>
                    <a:pt x="168" y="984"/>
                  </a:lnTo>
                  <a:lnTo>
                    <a:pt x="168" y="1002"/>
                  </a:lnTo>
                  <a:lnTo>
                    <a:pt x="174" y="1020"/>
                  </a:lnTo>
                  <a:lnTo>
                    <a:pt x="174" y="1038"/>
                  </a:lnTo>
                  <a:lnTo>
                    <a:pt x="180" y="1056"/>
                  </a:lnTo>
                  <a:lnTo>
                    <a:pt x="186" y="1074"/>
                  </a:lnTo>
                  <a:lnTo>
                    <a:pt x="186" y="1092"/>
                  </a:lnTo>
                  <a:lnTo>
                    <a:pt x="192" y="1110"/>
                  </a:lnTo>
                  <a:lnTo>
                    <a:pt x="192" y="1128"/>
                  </a:lnTo>
                  <a:lnTo>
                    <a:pt x="198" y="1146"/>
                  </a:lnTo>
                  <a:lnTo>
                    <a:pt x="204" y="1164"/>
                  </a:lnTo>
                  <a:lnTo>
                    <a:pt x="204" y="1182"/>
                  </a:lnTo>
                  <a:lnTo>
                    <a:pt x="210" y="1200"/>
                  </a:lnTo>
                  <a:lnTo>
                    <a:pt x="210" y="1212"/>
                  </a:lnTo>
                  <a:lnTo>
                    <a:pt x="216" y="1230"/>
                  </a:lnTo>
                  <a:lnTo>
                    <a:pt x="222" y="1248"/>
                  </a:lnTo>
                  <a:lnTo>
                    <a:pt x="222" y="1266"/>
                  </a:lnTo>
                  <a:lnTo>
                    <a:pt x="228" y="1284"/>
                  </a:lnTo>
                  <a:lnTo>
                    <a:pt x="228" y="1302"/>
                  </a:lnTo>
                  <a:lnTo>
                    <a:pt x="234" y="1314"/>
                  </a:lnTo>
                  <a:lnTo>
                    <a:pt x="234" y="1332"/>
                  </a:lnTo>
                  <a:lnTo>
                    <a:pt x="240" y="1350"/>
                  </a:lnTo>
                  <a:lnTo>
                    <a:pt x="246" y="1362"/>
                  </a:lnTo>
                  <a:lnTo>
                    <a:pt x="246" y="1380"/>
                  </a:lnTo>
                  <a:lnTo>
                    <a:pt x="252" y="1398"/>
                  </a:lnTo>
                  <a:lnTo>
                    <a:pt x="252" y="1410"/>
                  </a:lnTo>
                  <a:lnTo>
                    <a:pt x="258" y="1428"/>
                  </a:lnTo>
                  <a:lnTo>
                    <a:pt x="264" y="1446"/>
                  </a:lnTo>
                  <a:lnTo>
                    <a:pt x="264" y="1458"/>
                  </a:lnTo>
                  <a:lnTo>
                    <a:pt x="270" y="1476"/>
                  </a:lnTo>
                  <a:lnTo>
                    <a:pt x="270" y="1488"/>
                  </a:lnTo>
                  <a:lnTo>
                    <a:pt x="276" y="1506"/>
                  </a:lnTo>
                  <a:lnTo>
                    <a:pt x="282" y="1518"/>
                  </a:lnTo>
                  <a:lnTo>
                    <a:pt x="282" y="1536"/>
                  </a:lnTo>
                  <a:lnTo>
                    <a:pt x="288" y="1548"/>
                  </a:lnTo>
                  <a:lnTo>
                    <a:pt x="288" y="1566"/>
                  </a:lnTo>
                  <a:lnTo>
                    <a:pt x="294" y="1578"/>
                  </a:lnTo>
                  <a:lnTo>
                    <a:pt x="300" y="1596"/>
                  </a:lnTo>
                  <a:lnTo>
                    <a:pt x="300" y="1608"/>
                  </a:lnTo>
                  <a:lnTo>
                    <a:pt x="306" y="1626"/>
                  </a:lnTo>
                  <a:lnTo>
                    <a:pt x="306" y="1638"/>
                  </a:lnTo>
                  <a:lnTo>
                    <a:pt x="312" y="1650"/>
                  </a:lnTo>
                  <a:lnTo>
                    <a:pt x="318" y="1668"/>
                  </a:lnTo>
                  <a:lnTo>
                    <a:pt x="318" y="1680"/>
                  </a:lnTo>
                  <a:lnTo>
                    <a:pt x="324" y="1692"/>
                  </a:lnTo>
                  <a:lnTo>
                    <a:pt x="324" y="1704"/>
                  </a:lnTo>
                  <a:lnTo>
                    <a:pt x="330" y="1722"/>
                  </a:lnTo>
                  <a:lnTo>
                    <a:pt x="336" y="1734"/>
                  </a:lnTo>
                  <a:lnTo>
                    <a:pt x="336" y="1746"/>
                  </a:lnTo>
                  <a:lnTo>
                    <a:pt x="342" y="1758"/>
                  </a:lnTo>
                  <a:lnTo>
                    <a:pt x="342" y="1776"/>
                  </a:lnTo>
                  <a:lnTo>
                    <a:pt x="348" y="1788"/>
                  </a:lnTo>
                  <a:lnTo>
                    <a:pt x="354" y="1800"/>
                  </a:lnTo>
                  <a:lnTo>
                    <a:pt x="354" y="1812"/>
                  </a:lnTo>
                  <a:lnTo>
                    <a:pt x="360" y="1824"/>
                  </a:lnTo>
                  <a:lnTo>
                    <a:pt x="360" y="1836"/>
                  </a:lnTo>
                  <a:lnTo>
                    <a:pt x="366" y="1848"/>
                  </a:lnTo>
                  <a:lnTo>
                    <a:pt x="372" y="1860"/>
                  </a:lnTo>
                  <a:lnTo>
                    <a:pt x="372" y="1872"/>
                  </a:lnTo>
                  <a:lnTo>
                    <a:pt x="378" y="1884"/>
                  </a:lnTo>
                  <a:lnTo>
                    <a:pt x="378" y="1896"/>
                  </a:lnTo>
                  <a:lnTo>
                    <a:pt x="384" y="1908"/>
                  </a:lnTo>
                  <a:lnTo>
                    <a:pt x="390" y="1920"/>
                  </a:lnTo>
                  <a:lnTo>
                    <a:pt x="390" y="1932"/>
                  </a:lnTo>
                  <a:lnTo>
                    <a:pt x="396" y="1944"/>
                  </a:lnTo>
                  <a:lnTo>
                    <a:pt x="396" y="1956"/>
                  </a:lnTo>
                  <a:lnTo>
                    <a:pt x="402" y="1968"/>
                  </a:lnTo>
                  <a:lnTo>
                    <a:pt x="408" y="1980"/>
                  </a:lnTo>
                  <a:lnTo>
                    <a:pt x="408" y="1992"/>
                  </a:lnTo>
                  <a:lnTo>
                    <a:pt x="414" y="1998"/>
                  </a:lnTo>
                  <a:lnTo>
                    <a:pt x="414" y="2010"/>
                  </a:lnTo>
                  <a:lnTo>
                    <a:pt x="420" y="2022"/>
                  </a:lnTo>
                  <a:lnTo>
                    <a:pt x="426" y="2034"/>
                  </a:lnTo>
                  <a:lnTo>
                    <a:pt x="426" y="2040"/>
                  </a:lnTo>
                  <a:lnTo>
                    <a:pt x="432" y="2052"/>
                  </a:lnTo>
                  <a:lnTo>
                    <a:pt x="432" y="2064"/>
                  </a:lnTo>
                  <a:lnTo>
                    <a:pt x="438" y="2076"/>
                  </a:lnTo>
                  <a:lnTo>
                    <a:pt x="444" y="2082"/>
                  </a:lnTo>
                  <a:lnTo>
                    <a:pt x="444" y="2094"/>
                  </a:lnTo>
                  <a:lnTo>
                    <a:pt x="450" y="2100"/>
                  </a:lnTo>
                  <a:lnTo>
                    <a:pt x="450" y="2112"/>
                  </a:lnTo>
                  <a:lnTo>
                    <a:pt x="456" y="2124"/>
                  </a:lnTo>
                  <a:lnTo>
                    <a:pt x="462" y="2130"/>
                  </a:lnTo>
                  <a:lnTo>
                    <a:pt x="462" y="2142"/>
                  </a:lnTo>
                  <a:lnTo>
                    <a:pt x="468" y="2148"/>
                  </a:lnTo>
                  <a:lnTo>
                    <a:pt x="468" y="2160"/>
                  </a:lnTo>
                  <a:lnTo>
                    <a:pt x="474" y="2166"/>
                  </a:lnTo>
                  <a:lnTo>
                    <a:pt x="480" y="2178"/>
                  </a:lnTo>
                  <a:lnTo>
                    <a:pt x="480" y="2184"/>
                  </a:lnTo>
                  <a:lnTo>
                    <a:pt x="486" y="2196"/>
                  </a:lnTo>
                  <a:lnTo>
                    <a:pt x="486" y="2202"/>
                  </a:lnTo>
                  <a:lnTo>
                    <a:pt x="492" y="2214"/>
                  </a:lnTo>
                  <a:lnTo>
                    <a:pt x="498" y="2220"/>
                  </a:lnTo>
                  <a:lnTo>
                    <a:pt x="498" y="2226"/>
                  </a:lnTo>
                  <a:lnTo>
                    <a:pt x="504" y="2238"/>
                  </a:lnTo>
                  <a:lnTo>
                    <a:pt x="504" y="2244"/>
                  </a:lnTo>
                  <a:lnTo>
                    <a:pt x="510" y="2250"/>
                  </a:lnTo>
                  <a:lnTo>
                    <a:pt x="510" y="2262"/>
                  </a:lnTo>
                  <a:lnTo>
                    <a:pt x="516" y="2268"/>
                  </a:lnTo>
                  <a:lnTo>
                    <a:pt x="522" y="2274"/>
                  </a:lnTo>
                  <a:lnTo>
                    <a:pt x="522" y="2280"/>
                  </a:lnTo>
                  <a:lnTo>
                    <a:pt x="528" y="2292"/>
                  </a:lnTo>
                  <a:lnTo>
                    <a:pt x="528" y="2298"/>
                  </a:lnTo>
                  <a:lnTo>
                    <a:pt x="534" y="2304"/>
                  </a:lnTo>
                  <a:lnTo>
                    <a:pt x="540" y="2310"/>
                  </a:lnTo>
                  <a:lnTo>
                    <a:pt x="540" y="2316"/>
                  </a:lnTo>
                  <a:lnTo>
                    <a:pt x="546" y="2322"/>
                  </a:lnTo>
                  <a:lnTo>
                    <a:pt x="546" y="2328"/>
                  </a:lnTo>
                  <a:lnTo>
                    <a:pt x="552" y="2340"/>
                  </a:lnTo>
                  <a:lnTo>
                    <a:pt x="558" y="2346"/>
                  </a:lnTo>
                  <a:lnTo>
                    <a:pt x="558" y="2352"/>
                  </a:lnTo>
                  <a:lnTo>
                    <a:pt x="564" y="2358"/>
                  </a:lnTo>
                  <a:lnTo>
                    <a:pt x="564" y="2364"/>
                  </a:lnTo>
                  <a:lnTo>
                    <a:pt x="570" y="2370"/>
                  </a:lnTo>
                  <a:lnTo>
                    <a:pt x="576" y="2376"/>
                  </a:lnTo>
                  <a:lnTo>
                    <a:pt x="576" y="2382"/>
                  </a:lnTo>
                  <a:lnTo>
                    <a:pt x="582" y="2382"/>
                  </a:lnTo>
                  <a:lnTo>
                    <a:pt x="582" y="2388"/>
                  </a:lnTo>
                  <a:lnTo>
                    <a:pt x="588" y="2394"/>
                  </a:lnTo>
                  <a:lnTo>
                    <a:pt x="594" y="2400"/>
                  </a:lnTo>
                  <a:lnTo>
                    <a:pt x="594" y="2406"/>
                  </a:lnTo>
                  <a:lnTo>
                    <a:pt x="600" y="2412"/>
                  </a:lnTo>
                  <a:lnTo>
                    <a:pt x="600" y="2418"/>
                  </a:lnTo>
                  <a:lnTo>
                    <a:pt x="606" y="2418"/>
                  </a:lnTo>
                  <a:lnTo>
                    <a:pt x="612" y="2424"/>
                  </a:lnTo>
                  <a:lnTo>
                    <a:pt x="612" y="2430"/>
                  </a:lnTo>
                  <a:lnTo>
                    <a:pt x="618" y="2436"/>
                  </a:lnTo>
                  <a:lnTo>
                    <a:pt x="624" y="2442"/>
                  </a:lnTo>
                  <a:lnTo>
                    <a:pt x="630" y="2448"/>
                  </a:lnTo>
                  <a:lnTo>
                    <a:pt x="630" y="2454"/>
                  </a:lnTo>
                  <a:lnTo>
                    <a:pt x="636" y="2454"/>
                  </a:lnTo>
                  <a:lnTo>
                    <a:pt x="636" y="2460"/>
                  </a:lnTo>
                  <a:lnTo>
                    <a:pt x="642" y="2460"/>
                  </a:lnTo>
                  <a:lnTo>
                    <a:pt x="648" y="2466"/>
                  </a:lnTo>
                  <a:lnTo>
                    <a:pt x="648" y="2472"/>
                  </a:lnTo>
                  <a:lnTo>
                    <a:pt x="654" y="2472"/>
                  </a:lnTo>
                  <a:lnTo>
                    <a:pt x="654" y="2478"/>
                  </a:lnTo>
                  <a:lnTo>
                    <a:pt x="660" y="2478"/>
                  </a:lnTo>
                  <a:lnTo>
                    <a:pt x="666" y="2484"/>
                  </a:lnTo>
                  <a:lnTo>
                    <a:pt x="672" y="2490"/>
                  </a:lnTo>
                  <a:lnTo>
                    <a:pt x="678" y="2496"/>
                  </a:lnTo>
                  <a:lnTo>
                    <a:pt x="684" y="2496"/>
                  </a:lnTo>
                  <a:lnTo>
                    <a:pt x="690" y="2502"/>
                  </a:lnTo>
                  <a:lnTo>
                    <a:pt x="696" y="2502"/>
                  </a:lnTo>
                  <a:lnTo>
                    <a:pt x="702" y="2508"/>
                  </a:lnTo>
                  <a:lnTo>
                    <a:pt x="708" y="2508"/>
                  </a:lnTo>
                  <a:lnTo>
                    <a:pt x="714" y="2514"/>
                  </a:lnTo>
                  <a:lnTo>
                    <a:pt x="720" y="2514"/>
                  </a:lnTo>
                  <a:lnTo>
                    <a:pt x="726" y="2514"/>
                  </a:lnTo>
                  <a:lnTo>
                    <a:pt x="732" y="2520"/>
                  </a:lnTo>
                  <a:lnTo>
                    <a:pt x="738" y="2520"/>
                  </a:lnTo>
                  <a:lnTo>
                    <a:pt x="744" y="2520"/>
                  </a:lnTo>
                  <a:lnTo>
                    <a:pt x="750" y="2520"/>
                  </a:lnTo>
                  <a:lnTo>
                    <a:pt x="756" y="2520"/>
                  </a:lnTo>
                  <a:lnTo>
                    <a:pt x="762" y="2520"/>
                  </a:lnTo>
                  <a:lnTo>
                    <a:pt x="768" y="2520"/>
                  </a:lnTo>
                  <a:lnTo>
                    <a:pt x="774" y="2520"/>
                  </a:lnTo>
                  <a:lnTo>
                    <a:pt x="780" y="2520"/>
                  </a:lnTo>
                  <a:lnTo>
                    <a:pt x="786" y="2514"/>
                  </a:lnTo>
                  <a:lnTo>
                    <a:pt x="792" y="2514"/>
                  </a:lnTo>
                  <a:lnTo>
                    <a:pt x="798" y="2514"/>
                  </a:lnTo>
                  <a:lnTo>
                    <a:pt x="804" y="2508"/>
                  </a:lnTo>
                  <a:lnTo>
                    <a:pt x="810" y="2508"/>
                  </a:lnTo>
                  <a:lnTo>
                    <a:pt x="816" y="2508"/>
                  </a:lnTo>
                  <a:lnTo>
                    <a:pt x="816" y="2502"/>
                  </a:lnTo>
                  <a:lnTo>
                    <a:pt x="822" y="2502"/>
                  </a:lnTo>
                  <a:lnTo>
                    <a:pt x="828" y="2496"/>
                  </a:lnTo>
                  <a:lnTo>
                    <a:pt x="834" y="2496"/>
                  </a:lnTo>
                  <a:lnTo>
                    <a:pt x="834" y="2490"/>
                  </a:lnTo>
                  <a:lnTo>
                    <a:pt x="840" y="2490"/>
                  </a:lnTo>
                  <a:lnTo>
                    <a:pt x="840" y="2484"/>
                  </a:lnTo>
                  <a:lnTo>
                    <a:pt x="846" y="2484"/>
                  </a:lnTo>
                  <a:lnTo>
                    <a:pt x="852" y="2484"/>
                  </a:lnTo>
                  <a:lnTo>
                    <a:pt x="852" y="2478"/>
                  </a:lnTo>
                  <a:lnTo>
                    <a:pt x="858" y="2478"/>
                  </a:lnTo>
                  <a:lnTo>
                    <a:pt x="858" y="2472"/>
                  </a:lnTo>
                  <a:lnTo>
                    <a:pt x="864" y="2466"/>
                  </a:lnTo>
                  <a:lnTo>
                    <a:pt x="870" y="2466"/>
                  </a:lnTo>
                  <a:lnTo>
                    <a:pt x="870" y="2460"/>
                  </a:lnTo>
                  <a:lnTo>
                    <a:pt x="876" y="2460"/>
                  </a:lnTo>
                  <a:lnTo>
                    <a:pt x="876" y="2454"/>
                  </a:lnTo>
                  <a:lnTo>
                    <a:pt x="882" y="2448"/>
                  </a:lnTo>
                  <a:lnTo>
                    <a:pt x="888" y="2448"/>
                  </a:lnTo>
                  <a:lnTo>
                    <a:pt x="888" y="2442"/>
                  </a:lnTo>
                  <a:lnTo>
                    <a:pt x="894" y="2436"/>
                  </a:lnTo>
                  <a:lnTo>
                    <a:pt x="900" y="2430"/>
                  </a:lnTo>
                  <a:lnTo>
                    <a:pt x="906" y="2424"/>
                  </a:lnTo>
                  <a:lnTo>
                    <a:pt x="906" y="2418"/>
                  </a:lnTo>
                  <a:lnTo>
                    <a:pt x="912" y="2412"/>
                  </a:lnTo>
                  <a:lnTo>
                    <a:pt x="918" y="2406"/>
                  </a:lnTo>
                  <a:lnTo>
                    <a:pt x="924" y="2400"/>
                  </a:lnTo>
                  <a:lnTo>
                    <a:pt x="924" y="2394"/>
                  </a:lnTo>
                  <a:lnTo>
                    <a:pt x="930" y="2388"/>
                  </a:lnTo>
                  <a:lnTo>
                    <a:pt x="930" y="2382"/>
                  </a:lnTo>
                  <a:lnTo>
                    <a:pt x="936" y="2376"/>
                  </a:lnTo>
                  <a:lnTo>
                    <a:pt x="942" y="2370"/>
                  </a:lnTo>
                  <a:lnTo>
                    <a:pt x="942" y="2364"/>
                  </a:lnTo>
                  <a:lnTo>
                    <a:pt x="948" y="2358"/>
                  </a:lnTo>
                  <a:lnTo>
                    <a:pt x="948" y="2352"/>
                  </a:lnTo>
                  <a:lnTo>
                    <a:pt x="954" y="2346"/>
                  </a:lnTo>
                  <a:lnTo>
                    <a:pt x="960" y="2340"/>
                  </a:lnTo>
                  <a:lnTo>
                    <a:pt x="960" y="2334"/>
                  </a:lnTo>
                  <a:lnTo>
                    <a:pt x="966" y="2328"/>
                  </a:lnTo>
                  <a:lnTo>
                    <a:pt x="966" y="2322"/>
                  </a:lnTo>
                  <a:lnTo>
                    <a:pt x="972" y="2316"/>
                  </a:lnTo>
                  <a:lnTo>
                    <a:pt x="978" y="2310"/>
                  </a:lnTo>
                  <a:lnTo>
                    <a:pt x="978" y="2304"/>
                  </a:lnTo>
                  <a:lnTo>
                    <a:pt x="984" y="2292"/>
                  </a:lnTo>
                  <a:lnTo>
                    <a:pt x="984" y="2286"/>
                  </a:lnTo>
                  <a:lnTo>
                    <a:pt x="990" y="2280"/>
                  </a:lnTo>
                  <a:lnTo>
                    <a:pt x="996" y="2274"/>
                  </a:lnTo>
                  <a:lnTo>
                    <a:pt x="996" y="2262"/>
                  </a:lnTo>
                  <a:lnTo>
                    <a:pt x="1002" y="2256"/>
                  </a:lnTo>
                  <a:lnTo>
                    <a:pt x="1002" y="2250"/>
                  </a:lnTo>
                  <a:lnTo>
                    <a:pt x="1008" y="2244"/>
                  </a:lnTo>
                  <a:lnTo>
                    <a:pt x="1014" y="2232"/>
                  </a:lnTo>
                  <a:lnTo>
                    <a:pt x="1014" y="2226"/>
                  </a:lnTo>
                  <a:lnTo>
                    <a:pt x="1020" y="2214"/>
                  </a:lnTo>
                  <a:lnTo>
                    <a:pt x="1020" y="2208"/>
                  </a:lnTo>
                  <a:lnTo>
                    <a:pt x="1026" y="2202"/>
                  </a:lnTo>
                  <a:lnTo>
                    <a:pt x="1026" y="2190"/>
                  </a:lnTo>
                  <a:lnTo>
                    <a:pt x="1032" y="2184"/>
                  </a:lnTo>
                  <a:lnTo>
                    <a:pt x="1038" y="2172"/>
                  </a:lnTo>
                  <a:lnTo>
                    <a:pt x="1038" y="2166"/>
                  </a:lnTo>
                  <a:lnTo>
                    <a:pt x="1044" y="2154"/>
                  </a:lnTo>
                  <a:lnTo>
                    <a:pt x="1044" y="2148"/>
                  </a:lnTo>
                  <a:lnTo>
                    <a:pt x="1050" y="2136"/>
                  </a:lnTo>
                  <a:lnTo>
                    <a:pt x="1056" y="2130"/>
                  </a:lnTo>
                  <a:lnTo>
                    <a:pt x="1056" y="2118"/>
                  </a:lnTo>
                  <a:lnTo>
                    <a:pt x="1062" y="2112"/>
                  </a:lnTo>
                  <a:lnTo>
                    <a:pt x="1062" y="2100"/>
                  </a:lnTo>
                  <a:lnTo>
                    <a:pt x="1068" y="2088"/>
                  </a:lnTo>
                  <a:lnTo>
                    <a:pt x="1074" y="2082"/>
                  </a:lnTo>
                  <a:lnTo>
                    <a:pt x="1074" y="2070"/>
                  </a:lnTo>
                  <a:lnTo>
                    <a:pt x="1080" y="2058"/>
                  </a:lnTo>
                  <a:lnTo>
                    <a:pt x="1080" y="2052"/>
                  </a:lnTo>
                  <a:lnTo>
                    <a:pt x="1086" y="2040"/>
                  </a:lnTo>
                  <a:lnTo>
                    <a:pt x="1092" y="2028"/>
                  </a:lnTo>
                  <a:lnTo>
                    <a:pt x="1092" y="2016"/>
                  </a:lnTo>
                  <a:lnTo>
                    <a:pt x="1098" y="2010"/>
                  </a:lnTo>
                  <a:lnTo>
                    <a:pt x="1098" y="1998"/>
                  </a:lnTo>
                  <a:lnTo>
                    <a:pt x="1104" y="1986"/>
                  </a:lnTo>
                  <a:lnTo>
                    <a:pt x="1110" y="1974"/>
                  </a:lnTo>
                  <a:lnTo>
                    <a:pt x="1110" y="1962"/>
                  </a:lnTo>
                  <a:lnTo>
                    <a:pt x="1116" y="1950"/>
                  </a:lnTo>
                  <a:lnTo>
                    <a:pt x="1116" y="1938"/>
                  </a:lnTo>
                  <a:lnTo>
                    <a:pt x="1122" y="1926"/>
                  </a:lnTo>
                  <a:lnTo>
                    <a:pt x="1128" y="1920"/>
                  </a:lnTo>
                  <a:lnTo>
                    <a:pt x="1128" y="1908"/>
                  </a:lnTo>
                  <a:lnTo>
                    <a:pt x="1134" y="1896"/>
                  </a:lnTo>
                  <a:lnTo>
                    <a:pt x="1134" y="1884"/>
                  </a:lnTo>
                  <a:lnTo>
                    <a:pt x="1140" y="1872"/>
                  </a:lnTo>
                  <a:lnTo>
                    <a:pt x="1146" y="1860"/>
                  </a:lnTo>
                  <a:lnTo>
                    <a:pt x="1146" y="1842"/>
                  </a:lnTo>
                  <a:lnTo>
                    <a:pt x="1152" y="1830"/>
                  </a:lnTo>
                  <a:lnTo>
                    <a:pt x="1152" y="1818"/>
                  </a:lnTo>
                  <a:lnTo>
                    <a:pt x="1158" y="1806"/>
                  </a:lnTo>
                  <a:lnTo>
                    <a:pt x="1164" y="1794"/>
                  </a:lnTo>
                  <a:lnTo>
                    <a:pt x="1164" y="1782"/>
                  </a:lnTo>
                  <a:lnTo>
                    <a:pt x="1170" y="1770"/>
                  </a:lnTo>
                  <a:lnTo>
                    <a:pt x="1170" y="1758"/>
                  </a:lnTo>
                  <a:lnTo>
                    <a:pt x="1176" y="1740"/>
                  </a:lnTo>
                  <a:lnTo>
                    <a:pt x="1182" y="1728"/>
                  </a:lnTo>
                  <a:lnTo>
                    <a:pt x="1182" y="1716"/>
                  </a:lnTo>
                  <a:lnTo>
                    <a:pt x="1188" y="1704"/>
                  </a:lnTo>
                  <a:lnTo>
                    <a:pt x="1188" y="1686"/>
                  </a:lnTo>
                  <a:lnTo>
                    <a:pt x="1194" y="1674"/>
                  </a:lnTo>
                  <a:lnTo>
                    <a:pt x="1200" y="1662"/>
                  </a:lnTo>
                  <a:lnTo>
                    <a:pt x="1200" y="1644"/>
                  </a:lnTo>
                  <a:lnTo>
                    <a:pt x="1206" y="1632"/>
                  </a:lnTo>
                  <a:lnTo>
                    <a:pt x="1206" y="1620"/>
                  </a:lnTo>
                  <a:lnTo>
                    <a:pt x="1212" y="1602"/>
                  </a:lnTo>
                  <a:lnTo>
                    <a:pt x="1218" y="1590"/>
                  </a:lnTo>
                  <a:lnTo>
                    <a:pt x="1218" y="1578"/>
                  </a:lnTo>
                  <a:lnTo>
                    <a:pt x="1224" y="1560"/>
                  </a:lnTo>
                  <a:lnTo>
                    <a:pt x="1224" y="1548"/>
                  </a:lnTo>
                  <a:lnTo>
                    <a:pt x="1230" y="1530"/>
                  </a:lnTo>
                  <a:lnTo>
                    <a:pt x="1236" y="1518"/>
                  </a:lnTo>
                  <a:lnTo>
                    <a:pt x="1236" y="1500"/>
                  </a:lnTo>
                  <a:lnTo>
                    <a:pt x="1242" y="1488"/>
                  </a:lnTo>
                  <a:lnTo>
                    <a:pt x="1242" y="1470"/>
                  </a:lnTo>
                  <a:lnTo>
                    <a:pt x="1248" y="1452"/>
                  </a:lnTo>
                  <a:lnTo>
                    <a:pt x="1254" y="1440"/>
                  </a:lnTo>
                  <a:lnTo>
                    <a:pt x="1254" y="1422"/>
                  </a:lnTo>
                  <a:lnTo>
                    <a:pt x="1260" y="1410"/>
                  </a:lnTo>
                  <a:lnTo>
                    <a:pt x="1260" y="1392"/>
                  </a:lnTo>
                  <a:lnTo>
                    <a:pt x="1266" y="1374"/>
                  </a:lnTo>
                  <a:lnTo>
                    <a:pt x="1272" y="1362"/>
                  </a:lnTo>
                  <a:lnTo>
                    <a:pt x="1272" y="1344"/>
                  </a:lnTo>
                  <a:lnTo>
                    <a:pt x="1278" y="1326"/>
                  </a:lnTo>
                  <a:lnTo>
                    <a:pt x="1278" y="1308"/>
                  </a:lnTo>
                  <a:lnTo>
                    <a:pt x="1284" y="1296"/>
                  </a:lnTo>
                  <a:lnTo>
                    <a:pt x="1290" y="1278"/>
                  </a:lnTo>
                  <a:lnTo>
                    <a:pt x="1290" y="1260"/>
                  </a:lnTo>
                  <a:lnTo>
                    <a:pt x="1296" y="1242"/>
                  </a:lnTo>
                  <a:lnTo>
                    <a:pt x="1296" y="1224"/>
                  </a:lnTo>
                  <a:lnTo>
                    <a:pt x="1302" y="1206"/>
                  </a:lnTo>
                  <a:lnTo>
                    <a:pt x="1302" y="1194"/>
                  </a:lnTo>
                  <a:lnTo>
                    <a:pt x="1308" y="1176"/>
                  </a:lnTo>
                  <a:lnTo>
                    <a:pt x="1314" y="1158"/>
                  </a:lnTo>
                  <a:lnTo>
                    <a:pt x="1314" y="1140"/>
                  </a:lnTo>
                  <a:lnTo>
                    <a:pt x="1320" y="1122"/>
                  </a:lnTo>
                  <a:lnTo>
                    <a:pt x="1320" y="1104"/>
                  </a:lnTo>
                  <a:lnTo>
                    <a:pt x="1326" y="1086"/>
                  </a:lnTo>
                  <a:lnTo>
                    <a:pt x="1332" y="1068"/>
                  </a:lnTo>
                  <a:lnTo>
                    <a:pt x="1332" y="1050"/>
                  </a:lnTo>
                  <a:lnTo>
                    <a:pt x="1338" y="1032"/>
                  </a:lnTo>
                  <a:lnTo>
                    <a:pt x="1338" y="1014"/>
                  </a:lnTo>
                  <a:lnTo>
                    <a:pt x="1344" y="996"/>
                  </a:lnTo>
                  <a:lnTo>
                    <a:pt x="1350" y="972"/>
                  </a:lnTo>
                  <a:lnTo>
                    <a:pt x="1350" y="954"/>
                  </a:lnTo>
                  <a:lnTo>
                    <a:pt x="1356" y="936"/>
                  </a:lnTo>
                  <a:lnTo>
                    <a:pt x="1356" y="918"/>
                  </a:lnTo>
                  <a:lnTo>
                    <a:pt x="1362" y="900"/>
                  </a:lnTo>
                  <a:lnTo>
                    <a:pt x="1368" y="882"/>
                  </a:lnTo>
                  <a:lnTo>
                    <a:pt x="1368" y="858"/>
                  </a:lnTo>
                  <a:lnTo>
                    <a:pt x="1374" y="840"/>
                  </a:lnTo>
                  <a:lnTo>
                    <a:pt x="1374" y="822"/>
                  </a:lnTo>
                  <a:lnTo>
                    <a:pt x="1380" y="804"/>
                  </a:lnTo>
                  <a:lnTo>
                    <a:pt x="1386" y="780"/>
                  </a:lnTo>
                  <a:lnTo>
                    <a:pt x="1386" y="762"/>
                  </a:lnTo>
                  <a:lnTo>
                    <a:pt x="1392" y="744"/>
                  </a:lnTo>
                  <a:lnTo>
                    <a:pt x="1392" y="720"/>
                  </a:lnTo>
                  <a:lnTo>
                    <a:pt x="1398" y="702"/>
                  </a:lnTo>
                  <a:lnTo>
                    <a:pt x="1404" y="684"/>
                  </a:lnTo>
                  <a:lnTo>
                    <a:pt x="1404" y="660"/>
                  </a:lnTo>
                  <a:lnTo>
                    <a:pt x="1410" y="642"/>
                  </a:lnTo>
                  <a:lnTo>
                    <a:pt x="1410" y="618"/>
                  </a:lnTo>
                  <a:lnTo>
                    <a:pt x="1416" y="600"/>
                  </a:lnTo>
                  <a:lnTo>
                    <a:pt x="1422" y="576"/>
                  </a:lnTo>
                  <a:lnTo>
                    <a:pt x="1422" y="558"/>
                  </a:lnTo>
                  <a:lnTo>
                    <a:pt x="1428" y="534"/>
                  </a:lnTo>
                  <a:lnTo>
                    <a:pt x="1428" y="516"/>
                  </a:lnTo>
                  <a:lnTo>
                    <a:pt x="1434" y="492"/>
                  </a:lnTo>
                  <a:lnTo>
                    <a:pt x="1440" y="474"/>
                  </a:lnTo>
                  <a:lnTo>
                    <a:pt x="1440" y="450"/>
                  </a:lnTo>
                  <a:lnTo>
                    <a:pt x="1446" y="426"/>
                  </a:lnTo>
                  <a:lnTo>
                    <a:pt x="1446" y="408"/>
                  </a:lnTo>
                  <a:lnTo>
                    <a:pt x="1452" y="384"/>
                  </a:lnTo>
                  <a:lnTo>
                    <a:pt x="1458" y="360"/>
                  </a:lnTo>
                  <a:lnTo>
                    <a:pt x="1458" y="342"/>
                  </a:lnTo>
                  <a:lnTo>
                    <a:pt x="1464" y="318"/>
                  </a:lnTo>
                  <a:lnTo>
                    <a:pt x="1464" y="294"/>
                  </a:lnTo>
                  <a:lnTo>
                    <a:pt x="1470" y="276"/>
                  </a:lnTo>
                  <a:lnTo>
                    <a:pt x="1476" y="252"/>
                  </a:lnTo>
                  <a:lnTo>
                    <a:pt x="1476" y="228"/>
                  </a:lnTo>
                  <a:lnTo>
                    <a:pt x="1482" y="204"/>
                  </a:lnTo>
                  <a:lnTo>
                    <a:pt x="1482" y="180"/>
                  </a:lnTo>
                  <a:lnTo>
                    <a:pt x="1488" y="162"/>
                  </a:lnTo>
                  <a:lnTo>
                    <a:pt x="1494" y="138"/>
                  </a:lnTo>
                  <a:lnTo>
                    <a:pt x="1494" y="114"/>
                  </a:lnTo>
                  <a:lnTo>
                    <a:pt x="1500" y="90"/>
                  </a:lnTo>
                  <a:lnTo>
                    <a:pt x="1500" y="66"/>
                  </a:lnTo>
                  <a:lnTo>
                    <a:pt x="1506" y="42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46000" y="1832040"/>
              <a:ext cx="92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0" y="4508640"/>
            <a:ext cx="2819520" cy="1828800"/>
          </a:xfrm>
          <a:prstGeom prst="wedgeEllipseCallout">
            <a:avLst>
              <a:gd name="adj1" fmla="val 148930"/>
              <a:gd name="adj2" fmla="val -22222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二次函数</a:t>
            </a: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y= -x</a:t>
            </a:r>
            <a:r>
              <a:rPr b="1" lang="zh-CN" sz="2000" spc="-1" strike="noStrike" baseline="30000">
                <a:solidFill>
                  <a:srgbClr val="78695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图象形如物体抛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时所经过的路线</a:t>
            </a: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们把它叫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抛物线</a:t>
            </a: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2565360"/>
            <a:ext cx="2281320" cy="1143000"/>
          </a:xfrm>
          <a:prstGeom prst="wedgeRoundRectCallout">
            <a:avLst>
              <a:gd name="adj1" fmla="val 73101"/>
              <a:gd name="adj2" fmla="val 210277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它与抛物线</a:t>
            </a:r>
            <a:r>
              <a:rPr b="1" i="1" lang="zh-CN" sz="2400" spc="-1" strike="noStrike">
                <a:solidFill>
                  <a:srgbClr val="dd1545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dd1545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dd1545"/>
                </a:solidFill>
                <a:latin typeface="Times New Roman"/>
              </a:rPr>
              <a:t>x</a:t>
            </a:r>
            <a:r>
              <a:rPr b="1" lang="zh-CN" sz="2400" spc="-1" strike="noStrike" baseline="30000">
                <a:solidFill>
                  <a:srgbClr val="dd1545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                  </a:t>
            </a:r>
            <a:r>
              <a:rPr b="1" lang="zh-CN" sz="2000" spc="-1" strike="noStrike">
                <a:solidFill>
                  <a:srgbClr val="786950"/>
                </a:solidFill>
                <a:latin typeface="Times New Roman"/>
              </a:rPr>
              <a:t>像的开口方向相反</a:t>
            </a:r>
            <a:r>
              <a:rPr b="1" lang="zh-CN" sz="2400" spc="-1" strike="noStrike">
                <a:solidFill>
                  <a:srgbClr val="78695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77080" y="1557360"/>
            <a:ext cx="2266920" cy="1103400"/>
          </a:xfrm>
          <a:prstGeom prst="wedgeRectCallout">
            <a:avLst>
              <a:gd name="adj1" fmla="val -23671"/>
              <a:gd name="adj2" fmla="val 243092"/>
            </a:avLst>
          </a:prstGeom>
          <a:gradFill rotWithShape="0">
            <a:gsLst>
              <a:gs pos="0">
                <a:srgbClr val="c19ac1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86950"/>
                </a:solidFill>
                <a:latin typeface="Times New Roman"/>
              </a:rPr>
              <a:t>它与抛物线</a:t>
            </a:r>
            <a:r>
              <a:rPr b="1" i="1" lang="zh-CN" sz="2400" spc="-1" strike="noStrike">
                <a:solidFill>
                  <a:srgbClr val="dd1545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dd1545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dd1545"/>
                </a:solidFill>
                <a:latin typeface="Times New Roman"/>
              </a:rPr>
              <a:t>x</a:t>
            </a:r>
            <a:r>
              <a:rPr b="1" lang="zh-CN" sz="2400" spc="-1" strike="noStrike" baseline="30000">
                <a:solidFill>
                  <a:srgbClr val="dd1545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86950"/>
                </a:solidFill>
                <a:latin typeface="Times New Roman"/>
              </a:rPr>
              <a:t>图像的形状相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oy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5167440" y="620640"/>
            <a:ext cx="3974760" cy="4724280"/>
            <a:chOff x="5167440" y="620640"/>
            <a:chExt cx="3974760" cy="4724280"/>
          </a:xfrm>
        </p:grpSpPr>
        <p:grpSp>
          <p:nvGrpSpPr>
            <p:cNvPr id="256" name=""/>
            <p:cNvGrpSpPr/>
            <p:nvPr/>
          </p:nvGrpSpPr>
          <p:grpSpPr>
            <a:xfrm>
              <a:off x="5167440" y="620640"/>
              <a:ext cx="3974760" cy="4724280"/>
              <a:chOff x="5167440" y="620640"/>
              <a:chExt cx="3974760" cy="472428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5167440" y="620640"/>
                <a:ext cx="3974760" cy="4724280"/>
                <a:chOff x="5167440" y="620640"/>
                <a:chExt cx="3974760" cy="4724280"/>
              </a:xfrm>
            </p:grpSpPr>
            <p:pic>
              <p:nvPicPr>
                <p:cNvPr id="258" name="" descr=""/>
                <p:cNvPicPr/>
                <p:nvPr/>
              </p:nvPicPr>
              <p:blipFill>
                <a:blip r:embed="rId1"/>
                <a:srcRect l="29000" t="13999" r="21999" b="15334"/>
                <a:stretch/>
              </p:blipFill>
              <p:spPr>
                <a:xfrm>
                  <a:off x="5167440" y="1306440"/>
                  <a:ext cx="3733560" cy="403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9" name=""/>
                <p:cNvSpPr/>
                <p:nvPr/>
              </p:nvSpPr>
              <p:spPr>
                <a:xfrm>
                  <a:off x="8496360" y="3267000"/>
                  <a:ext cx="447120" cy="1440"/>
                </a:xfrm>
                <a:custGeom>
                  <a:avLst/>
                  <a:gdLst/>
                  <a:ahLst/>
                  <a:rect l="l" t="t" r="r" b="b"/>
                  <a:pathLst>
                    <a:path w="282" h="1">
                      <a:moveTo>
                        <a:pt x="0" y="0"/>
                      </a:moveTo>
                      <a:lnTo>
                        <a:pt x="282" y="0"/>
                      </a:lnTo>
                    </a:path>
                  </a:pathLst>
                </a:custGeom>
                <a:noFill/>
                <a:ln w="9360">
                  <a:solidFill>
                    <a:srgbClr val="d54f41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V="1">
                  <a:off x="6843600" y="925200"/>
                  <a:ext cx="0" cy="457200"/>
                </a:xfrm>
                <a:prstGeom prst="line">
                  <a:avLst/>
                </a:prstGeom>
                <a:ln w="9360">
                  <a:solidFill>
                    <a:srgbClr val="d54f41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584760" y="3135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601680" y="62064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825760" y="313524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7690320" y="1373040"/>
                <a:ext cx="82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829280" y="4649760"/>
                <a:ext cx="120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6067440" y="1611000"/>
              <a:ext cx="1390320" cy="1667160"/>
            </a:xfrm>
            <a:custGeom>
              <a:avLst/>
              <a:gdLst/>
              <a:ahLst/>
              <a:rect l="l" t="t" r="r" b="b"/>
              <a:pathLst>
                <a:path w="876" h="1050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8" y="66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18" y="84"/>
                  </a:lnTo>
                  <a:lnTo>
                    <a:pt x="18" y="90"/>
                  </a:lnTo>
                  <a:lnTo>
                    <a:pt x="24" y="90"/>
                  </a:lnTo>
                  <a:lnTo>
                    <a:pt x="24" y="96"/>
                  </a:lnTo>
                  <a:lnTo>
                    <a:pt x="24" y="102"/>
                  </a:lnTo>
                  <a:lnTo>
                    <a:pt x="24" y="108"/>
                  </a:lnTo>
                  <a:lnTo>
                    <a:pt x="24" y="114"/>
                  </a:lnTo>
                  <a:lnTo>
                    <a:pt x="30" y="114"/>
                  </a:lnTo>
                  <a:lnTo>
                    <a:pt x="30" y="120"/>
                  </a:lnTo>
                  <a:lnTo>
                    <a:pt x="30" y="126"/>
                  </a:lnTo>
                  <a:lnTo>
                    <a:pt x="30" y="132"/>
                  </a:lnTo>
                  <a:lnTo>
                    <a:pt x="30" y="138"/>
                  </a:lnTo>
                  <a:lnTo>
                    <a:pt x="36" y="144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6" y="162"/>
                  </a:lnTo>
                  <a:lnTo>
                    <a:pt x="42" y="168"/>
                  </a:lnTo>
                  <a:lnTo>
                    <a:pt x="42" y="174"/>
                  </a:lnTo>
                  <a:lnTo>
                    <a:pt x="42" y="180"/>
                  </a:lnTo>
                  <a:lnTo>
                    <a:pt x="42" y="186"/>
                  </a:lnTo>
                  <a:lnTo>
                    <a:pt x="48" y="186"/>
                  </a:lnTo>
                  <a:lnTo>
                    <a:pt x="48" y="192"/>
                  </a:lnTo>
                  <a:lnTo>
                    <a:pt x="48" y="198"/>
                  </a:lnTo>
                  <a:lnTo>
                    <a:pt x="48" y="204"/>
                  </a:lnTo>
                  <a:lnTo>
                    <a:pt x="48" y="210"/>
                  </a:lnTo>
                  <a:lnTo>
                    <a:pt x="54" y="210"/>
                  </a:lnTo>
                  <a:lnTo>
                    <a:pt x="54" y="216"/>
                  </a:lnTo>
                  <a:lnTo>
                    <a:pt x="54" y="222"/>
                  </a:lnTo>
                  <a:lnTo>
                    <a:pt x="54" y="228"/>
                  </a:lnTo>
                  <a:lnTo>
                    <a:pt x="54" y="234"/>
                  </a:lnTo>
                  <a:lnTo>
                    <a:pt x="60" y="234"/>
                  </a:lnTo>
                  <a:lnTo>
                    <a:pt x="60" y="240"/>
                  </a:lnTo>
                  <a:lnTo>
                    <a:pt x="60" y="246"/>
                  </a:lnTo>
                  <a:lnTo>
                    <a:pt x="60" y="252"/>
                  </a:lnTo>
                  <a:lnTo>
                    <a:pt x="66" y="258"/>
                  </a:lnTo>
                  <a:lnTo>
                    <a:pt x="66" y="264"/>
                  </a:lnTo>
                  <a:lnTo>
                    <a:pt x="66" y="270"/>
                  </a:lnTo>
                  <a:lnTo>
                    <a:pt x="66" y="276"/>
                  </a:lnTo>
                  <a:lnTo>
                    <a:pt x="72" y="282"/>
                  </a:lnTo>
                  <a:lnTo>
                    <a:pt x="72" y="288"/>
                  </a:lnTo>
                  <a:lnTo>
                    <a:pt x="72" y="294"/>
                  </a:lnTo>
                  <a:lnTo>
                    <a:pt x="72" y="300"/>
                  </a:lnTo>
                  <a:lnTo>
                    <a:pt x="78" y="300"/>
                  </a:lnTo>
                  <a:lnTo>
                    <a:pt x="78" y="306"/>
                  </a:lnTo>
                  <a:lnTo>
                    <a:pt x="78" y="312"/>
                  </a:lnTo>
                  <a:lnTo>
                    <a:pt x="78" y="318"/>
                  </a:lnTo>
                  <a:lnTo>
                    <a:pt x="78" y="324"/>
                  </a:lnTo>
                  <a:lnTo>
                    <a:pt x="84" y="324"/>
                  </a:lnTo>
                  <a:lnTo>
                    <a:pt x="84" y="330"/>
                  </a:lnTo>
                  <a:lnTo>
                    <a:pt x="84" y="336"/>
                  </a:lnTo>
                  <a:lnTo>
                    <a:pt x="84" y="342"/>
                  </a:lnTo>
                  <a:lnTo>
                    <a:pt x="90" y="342"/>
                  </a:lnTo>
                  <a:lnTo>
                    <a:pt x="90" y="348"/>
                  </a:lnTo>
                  <a:lnTo>
                    <a:pt x="90" y="354"/>
                  </a:lnTo>
                  <a:lnTo>
                    <a:pt x="90" y="360"/>
                  </a:lnTo>
                  <a:lnTo>
                    <a:pt x="90" y="366"/>
                  </a:lnTo>
                  <a:lnTo>
                    <a:pt x="96" y="366"/>
                  </a:lnTo>
                  <a:lnTo>
                    <a:pt x="96" y="372"/>
                  </a:lnTo>
                  <a:lnTo>
                    <a:pt x="96" y="378"/>
                  </a:lnTo>
                  <a:lnTo>
                    <a:pt x="96" y="384"/>
                  </a:lnTo>
                  <a:lnTo>
                    <a:pt x="102" y="390"/>
                  </a:lnTo>
                  <a:lnTo>
                    <a:pt x="102" y="396"/>
                  </a:lnTo>
                  <a:lnTo>
                    <a:pt x="102" y="402"/>
                  </a:lnTo>
                  <a:lnTo>
                    <a:pt x="108" y="408"/>
                  </a:lnTo>
                  <a:lnTo>
                    <a:pt x="108" y="414"/>
                  </a:lnTo>
                  <a:lnTo>
                    <a:pt x="108" y="420"/>
                  </a:lnTo>
                  <a:lnTo>
                    <a:pt x="108" y="426"/>
                  </a:lnTo>
                  <a:lnTo>
                    <a:pt x="114" y="426"/>
                  </a:lnTo>
                  <a:lnTo>
                    <a:pt x="114" y="432"/>
                  </a:lnTo>
                  <a:lnTo>
                    <a:pt x="114" y="438"/>
                  </a:lnTo>
                  <a:lnTo>
                    <a:pt x="114" y="444"/>
                  </a:lnTo>
                  <a:lnTo>
                    <a:pt x="120" y="450"/>
                  </a:lnTo>
                  <a:lnTo>
                    <a:pt x="120" y="456"/>
                  </a:lnTo>
                  <a:lnTo>
                    <a:pt x="120" y="462"/>
                  </a:lnTo>
                  <a:lnTo>
                    <a:pt x="120" y="468"/>
                  </a:lnTo>
                  <a:lnTo>
                    <a:pt x="126" y="468"/>
                  </a:lnTo>
                  <a:lnTo>
                    <a:pt x="126" y="474"/>
                  </a:lnTo>
                  <a:lnTo>
                    <a:pt x="126" y="480"/>
                  </a:lnTo>
                  <a:lnTo>
                    <a:pt x="126" y="486"/>
                  </a:lnTo>
                  <a:lnTo>
                    <a:pt x="132" y="486"/>
                  </a:lnTo>
                  <a:lnTo>
                    <a:pt x="132" y="492"/>
                  </a:lnTo>
                  <a:lnTo>
                    <a:pt x="132" y="498"/>
                  </a:lnTo>
                  <a:lnTo>
                    <a:pt x="132" y="504"/>
                  </a:lnTo>
                  <a:lnTo>
                    <a:pt x="138" y="504"/>
                  </a:lnTo>
                  <a:lnTo>
                    <a:pt x="138" y="510"/>
                  </a:lnTo>
                  <a:lnTo>
                    <a:pt x="138" y="516"/>
                  </a:lnTo>
                  <a:lnTo>
                    <a:pt x="138" y="522"/>
                  </a:lnTo>
                  <a:lnTo>
                    <a:pt x="144" y="522"/>
                  </a:lnTo>
                  <a:lnTo>
                    <a:pt x="144" y="528"/>
                  </a:lnTo>
                  <a:lnTo>
                    <a:pt x="144" y="534"/>
                  </a:lnTo>
                  <a:lnTo>
                    <a:pt x="144" y="540"/>
                  </a:lnTo>
                  <a:lnTo>
                    <a:pt x="150" y="540"/>
                  </a:lnTo>
                  <a:lnTo>
                    <a:pt x="150" y="546"/>
                  </a:lnTo>
                  <a:lnTo>
                    <a:pt x="150" y="552"/>
                  </a:lnTo>
                  <a:lnTo>
                    <a:pt x="150" y="558"/>
                  </a:lnTo>
                  <a:lnTo>
                    <a:pt x="156" y="558"/>
                  </a:lnTo>
                  <a:lnTo>
                    <a:pt x="156" y="564"/>
                  </a:lnTo>
                  <a:lnTo>
                    <a:pt x="156" y="570"/>
                  </a:lnTo>
                  <a:lnTo>
                    <a:pt x="156" y="576"/>
                  </a:lnTo>
                  <a:lnTo>
                    <a:pt x="162" y="576"/>
                  </a:lnTo>
                  <a:lnTo>
                    <a:pt x="162" y="582"/>
                  </a:lnTo>
                  <a:lnTo>
                    <a:pt x="162" y="588"/>
                  </a:lnTo>
                  <a:lnTo>
                    <a:pt x="162" y="594"/>
                  </a:lnTo>
                  <a:lnTo>
                    <a:pt x="168" y="594"/>
                  </a:lnTo>
                  <a:lnTo>
                    <a:pt x="168" y="600"/>
                  </a:lnTo>
                  <a:lnTo>
                    <a:pt x="168" y="606"/>
                  </a:lnTo>
                  <a:lnTo>
                    <a:pt x="174" y="612"/>
                  </a:lnTo>
                  <a:lnTo>
                    <a:pt x="174" y="618"/>
                  </a:lnTo>
                  <a:lnTo>
                    <a:pt x="174" y="624"/>
                  </a:lnTo>
                  <a:lnTo>
                    <a:pt x="180" y="630"/>
                  </a:lnTo>
                  <a:lnTo>
                    <a:pt x="180" y="636"/>
                  </a:lnTo>
                  <a:lnTo>
                    <a:pt x="180" y="642"/>
                  </a:lnTo>
                  <a:lnTo>
                    <a:pt x="186" y="642"/>
                  </a:lnTo>
                  <a:lnTo>
                    <a:pt x="186" y="648"/>
                  </a:lnTo>
                  <a:lnTo>
                    <a:pt x="186" y="654"/>
                  </a:lnTo>
                  <a:lnTo>
                    <a:pt x="186" y="660"/>
                  </a:lnTo>
                  <a:lnTo>
                    <a:pt x="192" y="660"/>
                  </a:lnTo>
                  <a:lnTo>
                    <a:pt x="192" y="666"/>
                  </a:lnTo>
                  <a:lnTo>
                    <a:pt x="192" y="672"/>
                  </a:lnTo>
                  <a:lnTo>
                    <a:pt x="198" y="678"/>
                  </a:lnTo>
                  <a:lnTo>
                    <a:pt x="198" y="684"/>
                  </a:lnTo>
                  <a:lnTo>
                    <a:pt x="198" y="690"/>
                  </a:lnTo>
                  <a:lnTo>
                    <a:pt x="204" y="690"/>
                  </a:lnTo>
                  <a:lnTo>
                    <a:pt x="204" y="696"/>
                  </a:lnTo>
                  <a:lnTo>
                    <a:pt x="204" y="702"/>
                  </a:lnTo>
                  <a:lnTo>
                    <a:pt x="210" y="702"/>
                  </a:lnTo>
                  <a:lnTo>
                    <a:pt x="210" y="708"/>
                  </a:lnTo>
                  <a:lnTo>
                    <a:pt x="210" y="714"/>
                  </a:lnTo>
                  <a:lnTo>
                    <a:pt x="210" y="720"/>
                  </a:lnTo>
                  <a:lnTo>
                    <a:pt x="216" y="720"/>
                  </a:lnTo>
                  <a:lnTo>
                    <a:pt x="216" y="726"/>
                  </a:lnTo>
                  <a:lnTo>
                    <a:pt x="216" y="732"/>
                  </a:lnTo>
                  <a:lnTo>
                    <a:pt x="222" y="738"/>
                  </a:lnTo>
                  <a:lnTo>
                    <a:pt x="222" y="744"/>
                  </a:lnTo>
                  <a:lnTo>
                    <a:pt x="222" y="750"/>
                  </a:lnTo>
                  <a:lnTo>
                    <a:pt x="228" y="750"/>
                  </a:lnTo>
                  <a:lnTo>
                    <a:pt x="228" y="756"/>
                  </a:lnTo>
                  <a:lnTo>
                    <a:pt x="228" y="762"/>
                  </a:lnTo>
                  <a:lnTo>
                    <a:pt x="234" y="762"/>
                  </a:lnTo>
                  <a:lnTo>
                    <a:pt x="234" y="768"/>
                  </a:lnTo>
                  <a:lnTo>
                    <a:pt x="234" y="774"/>
                  </a:lnTo>
                  <a:lnTo>
                    <a:pt x="240" y="774"/>
                  </a:lnTo>
                  <a:lnTo>
                    <a:pt x="240" y="780"/>
                  </a:lnTo>
                  <a:lnTo>
                    <a:pt x="240" y="786"/>
                  </a:lnTo>
                  <a:lnTo>
                    <a:pt x="246" y="792"/>
                  </a:lnTo>
                  <a:lnTo>
                    <a:pt x="246" y="798"/>
                  </a:lnTo>
                  <a:lnTo>
                    <a:pt x="252" y="804"/>
                  </a:lnTo>
                  <a:lnTo>
                    <a:pt x="252" y="810"/>
                  </a:lnTo>
                  <a:lnTo>
                    <a:pt x="258" y="816"/>
                  </a:lnTo>
                  <a:lnTo>
                    <a:pt x="258" y="822"/>
                  </a:lnTo>
                  <a:lnTo>
                    <a:pt x="264" y="828"/>
                  </a:lnTo>
                  <a:lnTo>
                    <a:pt x="264" y="834"/>
                  </a:lnTo>
                  <a:lnTo>
                    <a:pt x="264" y="840"/>
                  </a:lnTo>
                  <a:lnTo>
                    <a:pt x="270" y="840"/>
                  </a:lnTo>
                  <a:lnTo>
                    <a:pt x="270" y="846"/>
                  </a:lnTo>
                  <a:lnTo>
                    <a:pt x="276" y="852"/>
                  </a:lnTo>
                  <a:lnTo>
                    <a:pt x="276" y="858"/>
                  </a:lnTo>
                  <a:lnTo>
                    <a:pt x="282" y="858"/>
                  </a:lnTo>
                  <a:lnTo>
                    <a:pt x="282" y="864"/>
                  </a:lnTo>
                  <a:lnTo>
                    <a:pt x="282" y="870"/>
                  </a:lnTo>
                  <a:lnTo>
                    <a:pt x="288" y="870"/>
                  </a:lnTo>
                  <a:lnTo>
                    <a:pt x="288" y="876"/>
                  </a:lnTo>
                  <a:lnTo>
                    <a:pt x="288" y="882"/>
                  </a:lnTo>
                  <a:lnTo>
                    <a:pt x="294" y="882"/>
                  </a:lnTo>
                  <a:lnTo>
                    <a:pt x="294" y="888"/>
                  </a:lnTo>
                  <a:lnTo>
                    <a:pt x="300" y="894"/>
                  </a:lnTo>
                  <a:lnTo>
                    <a:pt x="300" y="900"/>
                  </a:lnTo>
                  <a:lnTo>
                    <a:pt x="306" y="900"/>
                  </a:lnTo>
                  <a:lnTo>
                    <a:pt x="306" y="906"/>
                  </a:lnTo>
                  <a:lnTo>
                    <a:pt x="306" y="912"/>
                  </a:lnTo>
                  <a:lnTo>
                    <a:pt x="312" y="912"/>
                  </a:lnTo>
                  <a:lnTo>
                    <a:pt x="312" y="918"/>
                  </a:lnTo>
                  <a:lnTo>
                    <a:pt x="318" y="918"/>
                  </a:lnTo>
                  <a:lnTo>
                    <a:pt x="318" y="924"/>
                  </a:lnTo>
                  <a:lnTo>
                    <a:pt x="318" y="930"/>
                  </a:lnTo>
                  <a:lnTo>
                    <a:pt x="324" y="930"/>
                  </a:lnTo>
                  <a:lnTo>
                    <a:pt x="324" y="936"/>
                  </a:lnTo>
                  <a:lnTo>
                    <a:pt x="330" y="936"/>
                  </a:lnTo>
                  <a:lnTo>
                    <a:pt x="330" y="942"/>
                  </a:lnTo>
                  <a:lnTo>
                    <a:pt x="330" y="948"/>
                  </a:lnTo>
                  <a:lnTo>
                    <a:pt x="336" y="948"/>
                  </a:lnTo>
                  <a:lnTo>
                    <a:pt x="336" y="954"/>
                  </a:lnTo>
                  <a:lnTo>
                    <a:pt x="342" y="954"/>
                  </a:lnTo>
                  <a:lnTo>
                    <a:pt x="342" y="960"/>
                  </a:lnTo>
                  <a:lnTo>
                    <a:pt x="348" y="960"/>
                  </a:lnTo>
                  <a:lnTo>
                    <a:pt x="348" y="966"/>
                  </a:lnTo>
                  <a:lnTo>
                    <a:pt x="348" y="972"/>
                  </a:lnTo>
                  <a:lnTo>
                    <a:pt x="354" y="972"/>
                  </a:lnTo>
                  <a:lnTo>
                    <a:pt x="354" y="978"/>
                  </a:lnTo>
                  <a:lnTo>
                    <a:pt x="360" y="978"/>
                  </a:lnTo>
                  <a:lnTo>
                    <a:pt x="360" y="984"/>
                  </a:lnTo>
                  <a:lnTo>
                    <a:pt x="366" y="984"/>
                  </a:lnTo>
                  <a:lnTo>
                    <a:pt x="366" y="990"/>
                  </a:lnTo>
                  <a:lnTo>
                    <a:pt x="372" y="990"/>
                  </a:lnTo>
                  <a:lnTo>
                    <a:pt x="372" y="996"/>
                  </a:lnTo>
                  <a:lnTo>
                    <a:pt x="378" y="996"/>
                  </a:lnTo>
                  <a:lnTo>
                    <a:pt x="378" y="1002"/>
                  </a:lnTo>
                  <a:lnTo>
                    <a:pt x="384" y="1002"/>
                  </a:lnTo>
                  <a:lnTo>
                    <a:pt x="384" y="1008"/>
                  </a:lnTo>
                  <a:lnTo>
                    <a:pt x="390" y="1008"/>
                  </a:lnTo>
                  <a:lnTo>
                    <a:pt x="390" y="1014"/>
                  </a:lnTo>
                  <a:lnTo>
                    <a:pt x="396" y="1014"/>
                  </a:lnTo>
                  <a:lnTo>
                    <a:pt x="402" y="1014"/>
                  </a:lnTo>
                  <a:lnTo>
                    <a:pt x="402" y="1020"/>
                  </a:lnTo>
                  <a:lnTo>
                    <a:pt x="408" y="1020"/>
                  </a:lnTo>
                  <a:lnTo>
                    <a:pt x="408" y="1026"/>
                  </a:lnTo>
                  <a:lnTo>
                    <a:pt x="414" y="1026"/>
                  </a:lnTo>
                  <a:lnTo>
                    <a:pt x="420" y="1026"/>
                  </a:lnTo>
                  <a:lnTo>
                    <a:pt x="420" y="1032"/>
                  </a:lnTo>
                  <a:lnTo>
                    <a:pt x="426" y="1032"/>
                  </a:lnTo>
                  <a:lnTo>
                    <a:pt x="426" y="1038"/>
                  </a:lnTo>
                  <a:lnTo>
                    <a:pt x="432" y="1038"/>
                  </a:lnTo>
                  <a:lnTo>
                    <a:pt x="438" y="1038"/>
                  </a:lnTo>
                  <a:lnTo>
                    <a:pt x="444" y="1044"/>
                  </a:lnTo>
                  <a:lnTo>
                    <a:pt x="450" y="1044"/>
                  </a:lnTo>
                  <a:lnTo>
                    <a:pt x="456" y="1044"/>
                  </a:lnTo>
                  <a:lnTo>
                    <a:pt x="462" y="1044"/>
                  </a:lnTo>
                  <a:lnTo>
                    <a:pt x="462" y="1050"/>
                  </a:lnTo>
                  <a:lnTo>
                    <a:pt x="468" y="1050"/>
                  </a:lnTo>
                  <a:lnTo>
                    <a:pt x="474" y="1050"/>
                  </a:lnTo>
                  <a:lnTo>
                    <a:pt x="480" y="1050"/>
                  </a:lnTo>
                  <a:lnTo>
                    <a:pt x="486" y="1050"/>
                  </a:lnTo>
                  <a:lnTo>
                    <a:pt x="492" y="1050"/>
                  </a:lnTo>
                  <a:lnTo>
                    <a:pt x="498" y="1050"/>
                  </a:lnTo>
                  <a:lnTo>
                    <a:pt x="504" y="1050"/>
                  </a:lnTo>
                  <a:lnTo>
                    <a:pt x="510" y="1050"/>
                  </a:lnTo>
                  <a:lnTo>
                    <a:pt x="510" y="1044"/>
                  </a:lnTo>
                  <a:lnTo>
                    <a:pt x="516" y="1044"/>
                  </a:lnTo>
                  <a:lnTo>
                    <a:pt x="522" y="1044"/>
                  </a:lnTo>
                  <a:lnTo>
                    <a:pt x="528" y="1044"/>
                  </a:lnTo>
                  <a:lnTo>
                    <a:pt x="534" y="1038"/>
                  </a:lnTo>
                  <a:lnTo>
                    <a:pt x="540" y="1038"/>
                  </a:lnTo>
                  <a:lnTo>
                    <a:pt x="546" y="1038"/>
                  </a:lnTo>
                  <a:lnTo>
                    <a:pt x="546" y="1032"/>
                  </a:lnTo>
                  <a:lnTo>
                    <a:pt x="552" y="1032"/>
                  </a:lnTo>
                  <a:lnTo>
                    <a:pt x="552" y="1026"/>
                  </a:lnTo>
                  <a:lnTo>
                    <a:pt x="558" y="1026"/>
                  </a:lnTo>
                  <a:lnTo>
                    <a:pt x="564" y="1026"/>
                  </a:lnTo>
                  <a:lnTo>
                    <a:pt x="564" y="1020"/>
                  </a:lnTo>
                  <a:lnTo>
                    <a:pt x="570" y="1020"/>
                  </a:lnTo>
                  <a:lnTo>
                    <a:pt x="570" y="1014"/>
                  </a:lnTo>
                  <a:lnTo>
                    <a:pt x="576" y="1014"/>
                  </a:lnTo>
                  <a:lnTo>
                    <a:pt x="582" y="1014"/>
                  </a:lnTo>
                  <a:lnTo>
                    <a:pt x="582" y="1008"/>
                  </a:lnTo>
                  <a:lnTo>
                    <a:pt x="588" y="1008"/>
                  </a:lnTo>
                  <a:lnTo>
                    <a:pt x="588" y="1002"/>
                  </a:lnTo>
                  <a:lnTo>
                    <a:pt x="594" y="1002"/>
                  </a:lnTo>
                  <a:lnTo>
                    <a:pt x="594" y="996"/>
                  </a:lnTo>
                  <a:lnTo>
                    <a:pt x="600" y="996"/>
                  </a:lnTo>
                  <a:lnTo>
                    <a:pt x="600" y="990"/>
                  </a:lnTo>
                  <a:lnTo>
                    <a:pt x="606" y="990"/>
                  </a:lnTo>
                  <a:lnTo>
                    <a:pt x="606" y="984"/>
                  </a:lnTo>
                  <a:lnTo>
                    <a:pt x="612" y="984"/>
                  </a:lnTo>
                  <a:lnTo>
                    <a:pt x="612" y="978"/>
                  </a:lnTo>
                  <a:lnTo>
                    <a:pt x="618" y="978"/>
                  </a:lnTo>
                  <a:lnTo>
                    <a:pt x="618" y="972"/>
                  </a:lnTo>
                  <a:lnTo>
                    <a:pt x="624" y="972"/>
                  </a:lnTo>
                  <a:lnTo>
                    <a:pt x="624" y="966"/>
                  </a:lnTo>
                  <a:lnTo>
                    <a:pt x="624" y="960"/>
                  </a:lnTo>
                  <a:lnTo>
                    <a:pt x="630" y="960"/>
                  </a:lnTo>
                  <a:lnTo>
                    <a:pt x="630" y="954"/>
                  </a:lnTo>
                  <a:lnTo>
                    <a:pt x="636" y="954"/>
                  </a:lnTo>
                  <a:lnTo>
                    <a:pt x="636" y="948"/>
                  </a:lnTo>
                  <a:lnTo>
                    <a:pt x="642" y="948"/>
                  </a:lnTo>
                  <a:lnTo>
                    <a:pt x="642" y="942"/>
                  </a:lnTo>
                  <a:lnTo>
                    <a:pt x="642" y="936"/>
                  </a:lnTo>
                  <a:lnTo>
                    <a:pt x="648" y="936"/>
                  </a:lnTo>
                  <a:lnTo>
                    <a:pt x="648" y="930"/>
                  </a:lnTo>
                  <a:lnTo>
                    <a:pt x="654" y="930"/>
                  </a:lnTo>
                  <a:lnTo>
                    <a:pt x="654" y="924"/>
                  </a:lnTo>
                  <a:lnTo>
                    <a:pt x="654" y="918"/>
                  </a:lnTo>
                  <a:lnTo>
                    <a:pt x="660" y="918"/>
                  </a:lnTo>
                  <a:lnTo>
                    <a:pt x="660" y="912"/>
                  </a:lnTo>
                  <a:lnTo>
                    <a:pt x="666" y="912"/>
                  </a:lnTo>
                  <a:lnTo>
                    <a:pt x="666" y="906"/>
                  </a:lnTo>
                  <a:lnTo>
                    <a:pt x="666" y="900"/>
                  </a:lnTo>
                  <a:lnTo>
                    <a:pt x="672" y="900"/>
                  </a:lnTo>
                  <a:lnTo>
                    <a:pt x="672" y="894"/>
                  </a:lnTo>
                  <a:lnTo>
                    <a:pt x="678" y="888"/>
                  </a:lnTo>
                  <a:lnTo>
                    <a:pt x="678" y="882"/>
                  </a:lnTo>
                  <a:lnTo>
                    <a:pt x="684" y="882"/>
                  </a:lnTo>
                  <a:lnTo>
                    <a:pt x="684" y="876"/>
                  </a:lnTo>
                  <a:lnTo>
                    <a:pt x="684" y="870"/>
                  </a:lnTo>
                  <a:lnTo>
                    <a:pt x="690" y="870"/>
                  </a:lnTo>
                  <a:lnTo>
                    <a:pt x="690" y="864"/>
                  </a:lnTo>
                  <a:lnTo>
                    <a:pt x="690" y="858"/>
                  </a:lnTo>
                  <a:lnTo>
                    <a:pt x="696" y="858"/>
                  </a:lnTo>
                  <a:lnTo>
                    <a:pt x="696" y="852"/>
                  </a:lnTo>
                  <a:lnTo>
                    <a:pt x="702" y="846"/>
                  </a:lnTo>
                  <a:lnTo>
                    <a:pt x="702" y="840"/>
                  </a:lnTo>
                  <a:lnTo>
                    <a:pt x="708" y="840"/>
                  </a:lnTo>
                  <a:lnTo>
                    <a:pt x="708" y="834"/>
                  </a:lnTo>
                  <a:lnTo>
                    <a:pt x="708" y="828"/>
                  </a:lnTo>
                  <a:lnTo>
                    <a:pt x="714" y="822"/>
                  </a:lnTo>
                  <a:lnTo>
                    <a:pt x="714" y="816"/>
                  </a:lnTo>
                  <a:lnTo>
                    <a:pt x="720" y="810"/>
                  </a:lnTo>
                  <a:lnTo>
                    <a:pt x="720" y="804"/>
                  </a:lnTo>
                  <a:lnTo>
                    <a:pt x="726" y="798"/>
                  </a:lnTo>
                  <a:lnTo>
                    <a:pt x="726" y="792"/>
                  </a:lnTo>
                  <a:lnTo>
                    <a:pt x="732" y="786"/>
                  </a:lnTo>
                  <a:lnTo>
                    <a:pt x="732" y="780"/>
                  </a:lnTo>
                  <a:lnTo>
                    <a:pt x="732" y="774"/>
                  </a:lnTo>
                  <a:lnTo>
                    <a:pt x="738" y="774"/>
                  </a:lnTo>
                  <a:lnTo>
                    <a:pt x="738" y="768"/>
                  </a:lnTo>
                  <a:lnTo>
                    <a:pt x="738" y="762"/>
                  </a:lnTo>
                  <a:lnTo>
                    <a:pt x="744" y="762"/>
                  </a:lnTo>
                  <a:lnTo>
                    <a:pt x="744" y="756"/>
                  </a:lnTo>
                  <a:lnTo>
                    <a:pt x="744" y="750"/>
                  </a:lnTo>
                  <a:lnTo>
                    <a:pt x="750" y="750"/>
                  </a:lnTo>
                  <a:lnTo>
                    <a:pt x="750" y="744"/>
                  </a:lnTo>
                  <a:lnTo>
                    <a:pt x="750" y="738"/>
                  </a:lnTo>
                  <a:lnTo>
                    <a:pt x="756" y="732"/>
                  </a:lnTo>
                  <a:lnTo>
                    <a:pt x="756" y="726"/>
                  </a:lnTo>
                  <a:lnTo>
                    <a:pt x="756" y="720"/>
                  </a:lnTo>
                  <a:lnTo>
                    <a:pt x="762" y="720"/>
                  </a:lnTo>
                  <a:lnTo>
                    <a:pt x="762" y="714"/>
                  </a:lnTo>
                  <a:lnTo>
                    <a:pt x="762" y="708"/>
                  </a:lnTo>
                  <a:lnTo>
                    <a:pt x="762" y="702"/>
                  </a:lnTo>
                  <a:lnTo>
                    <a:pt x="768" y="702"/>
                  </a:lnTo>
                  <a:lnTo>
                    <a:pt x="768" y="696"/>
                  </a:lnTo>
                  <a:lnTo>
                    <a:pt x="768" y="690"/>
                  </a:lnTo>
                  <a:lnTo>
                    <a:pt x="774" y="690"/>
                  </a:lnTo>
                  <a:lnTo>
                    <a:pt x="774" y="684"/>
                  </a:lnTo>
                  <a:lnTo>
                    <a:pt x="774" y="678"/>
                  </a:lnTo>
                  <a:lnTo>
                    <a:pt x="780" y="672"/>
                  </a:lnTo>
                  <a:lnTo>
                    <a:pt x="780" y="666"/>
                  </a:lnTo>
                  <a:lnTo>
                    <a:pt x="780" y="660"/>
                  </a:lnTo>
                  <a:lnTo>
                    <a:pt x="786" y="660"/>
                  </a:lnTo>
                  <a:lnTo>
                    <a:pt x="786" y="654"/>
                  </a:lnTo>
                  <a:lnTo>
                    <a:pt x="786" y="648"/>
                  </a:lnTo>
                  <a:lnTo>
                    <a:pt x="786" y="642"/>
                  </a:lnTo>
                  <a:lnTo>
                    <a:pt x="792" y="642"/>
                  </a:lnTo>
                  <a:lnTo>
                    <a:pt x="792" y="636"/>
                  </a:lnTo>
                  <a:lnTo>
                    <a:pt x="792" y="630"/>
                  </a:lnTo>
                  <a:lnTo>
                    <a:pt x="798" y="624"/>
                  </a:lnTo>
                  <a:lnTo>
                    <a:pt x="798" y="618"/>
                  </a:lnTo>
                  <a:lnTo>
                    <a:pt x="798" y="612"/>
                  </a:lnTo>
                  <a:lnTo>
                    <a:pt x="804" y="606"/>
                  </a:lnTo>
                  <a:lnTo>
                    <a:pt x="804" y="600"/>
                  </a:lnTo>
                  <a:lnTo>
                    <a:pt x="804" y="594"/>
                  </a:lnTo>
                  <a:lnTo>
                    <a:pt x="810" y="594"/>
                  </a:lnTo>
                  <a:lnTo>
                    <a:pt x="810" y="588"/>
                  </a:lnTo>
                  <a:lnTo>
                    <a:pt x="810" y="582"/>
                  </a:lnTo>
                  <a:lnTo>
                    <a:pt x="810" y="576"/>
                  </a:lnTo>
                  <a:lnTo>
                    <a:pt x="816" y="576"/>
                  </a:lnTo>
                  <a:lnTo>
                    <a:pt x="816" y="570"/>
                  </a:lnTo>
                  <a:lnTo>
                    <a:pt x="816" y="564"/>
                  </a:lnTo>
                  <a:lnTo>
                    <a:pt x="816" y="558"/>
                  </a:lnTo>
                  <a:lnTo>
                    <a:pt x="822" y="558"/>
                  </a:lnTo>
                  <a:lnTo>
                    <a:pt x="822" y="552"/>
                  </a:lnTo>
                  <a:lnTo>
                    <a:pt x="822" y="546"/>
                  </a:lnTo>
                  <a:lnTo>
                    <a:pt x="822" y="540"/>
                  </a:lnTo>
                  <a:lnTo>
                    <a:pt x="828" y="540"/>
                  </a:lnTo>
                  <a:lnTo>
                    <a:pt x="828" y="534"/>
                  </a:lnTo>
                  <a:lnTo>
                    <a:pt x="828" y="528"/>
                  </a:lnTo>
                  <a:lnTo>
                    <a:pt x="828" y="522"/>
                  </a:lnTo>
                  <a:lnTo>
                    <a:pt x="834" y="522"/>
                  </a:lnTo>
                  <a:lnTo>
                    <a:pt x="834" y="516"/>
                  </a:lnTo>
                  <a:lnTo>
                    <a:pt x="834" y="510"/>
                  </a:lnTo>
                  <a:lnTo>
                    <a:pt x="834" y="504"/>
                  </a:lnTo>
                  <a:lnTo>
                    <a:pt x="840" y="504"/>
                  </a:lnTo>
                  <a:lnTo>
                    <a:pt x="840" y="498"/>
                  </a:lnTo>
                  <a:lnTo>
                    <a:pt x="840" y="492"/>
                  </a:lnTo>
                  <a:lnTo>
                    <a:pt x="840" y="486"/>
                  </a:lnTo>
                  <a:lnTo>
                    <a:pt x="846" y="486"/>
                  </a:lnTo>
                  <a:lnTo>
                    <a:pt x="846" y="480"/>
                  </a:lnTo>
                  <a:lnTo>
                    <a:pt x="846" y="474"/>
                  </a:lnTo>
                  <a:lnTo>
                    <a:pt x="846" y="468"/>
                  </a:lnTo>
                  <a:lnTo>
                    <a:pt x="852" y="468"/>
                  </a:lnTo>
                  <a:lnTo>
                    <a:pt x="852" y="462"/>
                  </a:lnTo>
                  <a:lnTo>
                    <a:pt x="852" y="456"/>
                  </a:lnTo>
                  <a:lnTo>
                    <a:pt x="852" y="450"/>
                  </a:lnTo>
                  <a:lnTo>
                    <a:pt x="858" y="444"/>
                  </a:lnTo>
                  <a:lnTo>
                    <a:pt x="858" y="438"/>
                  </a:lnTo>
                  <a:lnTo>
                    <a:pt x="858" y="432"/>
                  </a:lnTo>
                  <a:lnTo>
                    <a:pt x="858" y="426"/>
                  </a:lnTo>
                  <a:lnTo>
                    <a:pt x="864" y="426"/>
                  </a:lnTo>
                  <a:lnTo>
                    <a:pt x="864" y="420"/>
                  </a:lnTo>
                  <a:lnTo>
                    <a:pt x="864" y="414"/>
                  </a:lnTo>
                  <a:lnTo>
                    <a:pt x="864" y="408"/>
                  </a:lnTo>
                  <a:lnTo>
                    <a:pt x="870" y="402"/>
                  </a:lnTo>
                  <a:lnTo>
                    <a:pt x="870" y="396"/>
                  </a:lnTo>
                  <a:lnTo>
                    <a:pt x="870" y="390"/>
                  </a:lnTo>
                  <a:lnTo>
                    <a:pt x="876" y="38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58120" y="1611000"/>
              <a:ext cx="151920" cy="609840"/>
            </a:xfrm>
            <a:custGeom>
              <a:avLst/>
              <a:gdLst/>
              <a:ahLst/>
              <a:rect l="l" t="t" r="r" b="b"/>
              <a:pathLst>
                <a:path w="96" h="384">
                  <a:moveTo>
                    <a:pt x="0" y="384"/>
                  </a:moveTo>
                  <a:lnTo>
                    <a:pt x="0" y="378"/>
                  </a:lnTo>
                  <a:lnTo>
                    <a:pt x="0" y="372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6" y="354"/>
                  </a:lnTo>
                  <a:lnTo>
                    <a:pt x="6" y="348"/>
                  </a:lnTo>
                  <a:lnTo>
                    <a:pt x="6" y="342"/>
                  </a:lnTo>
                  <a:lnTo>
                    <a:pt x="12" y="342"/>
                  </a:lnTo>
                  <a:lnTo>
                    <a:pt x="12" y="336"/>
                  </a:lnTo>
                  <a:lnTo>
                    <a:pt x="12" y="330"/>
                  </a:lnTo>
                  <a:lnTo>
                    <a:pt x="12" y="324"/>
                  </a:lnTo>
                  <a:lnTo>
                    <a:pt x="18" y="324"/>
                  </a:lnTo>
                  <a:lnTo>
                    <a:pt x="18" y="318"/>
                  </a:lnTo>
                  <a:lnTo>
                    <a:pt x="18" y="312"/>
                  </a:lnTo>
                  <a:lnTo>
                    <a:pt x="18" y="306"/>
                  </a:lnTo>
                  <a:lnTo>
                    <a:pt x="18" y="300"/>
                  </a:lnTo>
                  <a:lnTo>
                    <a:pt x="24" y="300"/>
                  </a:lnTo>
                  <a:lnTo>
                    <a:pt x="24" y="294"/>
                  </a:lnTo>
                  <a:lnTo>
                    <a:pt x="24" y="288"/>
                  </a:lnTo>
                  <a:lnTo>
                    <a:pt x="24" y="282"/>
                  </a:lnTo>
                  <a:lnTo>
                    <a:pt x="30" y="276"/>
                  </a:lnTo>
                  <a:lnTo>
                    <a:pt x="30" y="270"/>
                  </a:lnTo>
                  <a:lnTo>
                    <a:pt x="30" y="264"/>
                  </a:lnTo>
                  <a:lnTo>
                    <a:pt x="30" y="258"/>
                  </a:lnTo>
                  <a:lnTo>
                    <a:pt x="36" y="252"/>
                  </a:lnTo>
                  <a:lnTo>
                    <a:pt x="36" y="246"/>
                  </a:lnTo>
                  <a:lnTo>
                    <a:pt x="36" y="240"/>
                  </a:lnTo>
                  <a:lnTo>
                    <a:pt x="36" y="234"/>
                  </a:lnTo>
                  <a:lnTo>
                    <a:pt x="42" y="234"/>
                  </a:lnTo>
                  <a:lnTo>
                    <a:pt x="42" y="228"/>
                  </a:lnTo>
                  <a:lnTo>
                    <a:pt x="42" y="222"/>
                  </a:lnTo>
                  <a:lnTo>
                    <a:pt x="42" y="216"/>
                  </a:lnTo>
                  <a:lnTo>
                    <a:pt x="42" y="210"/>
                  </a:lnTo>
                  <a:lnTo>
                    <a:pt x="48" y="210"/>
                  </a:lnTo>
                  <a:lnTo>
                    <a:pt x="48" y="204"/>
                  </a:lnTo>
                  <a:lnTo>
                    <a:pt x="48" y="198"/>
                  </a:lnTo>
                  <a:lnTo>
                    <a:pt x="48" y="192"/>
                  </a:lnTo>
                  <a:lnTo>
                    <a:pt x="48" y="186"/>
                  </a:lnTo>
                  <a:lnTo>
                    <a:pt x="54" y="186"/>
                  </a:lnTo>
                  <a:lnTo>
                    <a:pt x="54" y="180"/>
                  </a:lnTo>
                  <a:lnTo>
                    <a:pt x="54" y="174"/>
                  </a:lnTo>
                  <a:lnTo>
                    <a:pt x="54" y="168"/>
                  </a:lnTo>
                  <a:lnTo>
                    <a:pt x="60" y="162"/>
                  </a:lnTo>
                  <a:lnTo>
                    <a:pt x="60" y="156"/>
                  </a:lnTo>
                  <a:lnTo>
                    <a:pt x="60" y="150"/>
                  </a:lnTo>
                  <a:lnTo>
                    <a:pt x="60" y="144"/>
                  </a:lnTo>
                  <a:lnTo>
                    <a:pt x="66" y="138"/>
                  </a:lnTo>
                  <a:lnTo>
                    <a:pt x="66" y="132"/>
                  </a:lnTo>
                  <a:lnTo>
                    <a:pt x="66" y="126"/>
                  </a:lnTo>
                  <a:lnTo>
                    <a:pt x="66" y="120"/>
                  </a:lnTo>
                  <a:lnTo>
                    <a:pt x="66" y="114"/>
                  </a:lnTo>
                  <a:lnTo>
                    <a:pt x="72" y="114"/>
                  </a:lnTo>
                  <a:lnTo>
                    <a:pt x="72" y="108"/>
                  </a:lnTo>
                  <a:lnTo>
                    <a:pt x="72" y="102"/>
                  </a:lnTo>
                  <a:lnTo>
                    <a:pt x="72" y="96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78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6"/>
                  </a:lnTo>
                  <a:lnTo>
                    <a:pt x="84" y="60"/>
                  </a:lnTo>
                  <a:lnTo>
                    <a:pt x="84" y="54"/>
                  </a:lnTo>
                  <a:lnTo>
                    <a:pt x="84" y="48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90" y="24"/>
                  </a:lnTo>
                  <a:lnTo>
                    <a:pt x="90" y="18"/>
                  </a:lnTo>
                  <a:lnTo>
                    <a:pt x="96" y="12"/>
                  </a:lnTo>
                  <a:lnTo>
                    <a:pt x="96" y="6"/>
                  </a:lnTo>
                  <a:lnTo>
                    <a:pt x="9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67440" y="3278160"/>
              <a:ext cx="1390320" cy="1666800"/>
            </a:xfrm>
            <a:custGeom>
              <a:avLst/>
              <a:gdLst/>
              <a:ahLst/>
              <a:rect l="l" t="t" r="r" b="b"/>
              <a:pathLst>
                <a:path w="876" h="1050">
                  <a:moveTo>
                    <a:pt x="0" y="1050"/>
                  </a:moveTo>
                  <a:lnTo>
                    <a:pt x="0" y="1044"/>
                  </a:lnTo>
                  <a:lnTo>
                    <a:pt x="0" y="1038"/>
                  </a:lnTo>
                  <a:lnTo>
                    <a:pt x="6" y="1032"/>
                  </a:lnTo>
                  <a:lnTo>
                    <a:pt x="6" y="1026"/>
                  </a:lnTo>
                  <a:lnTo>
                    <a:pt x="6" y="1020"/>
                  </a:lnTo>
                  <a:lnTo>
                    <a:pt x="6" y="1014"/>
                  </a:lnTo>
                  <a:lnTo>
                    <a:pt x="6" y="1008"/>
                  </a:lnTo>
                  <a:lnTo>
                    <a:pt x="12" y="1008"/>
                  </a:lnTo>
                  <a:lnTo>
                    <a:pt x="12" y="1002"/>
                  </a:lnTo>
                  <a:lnTo>
                    <a:pt x="12" y="996"/>
                  </a:lnTo>
                  <a:lnTo>
                    <a:pt x="12" y="990"/>
                  </a:lnTo>
                  <a:lnTo>
                    <a:pt x="12" y="984"/>
                  </a:lnTo>
                  <a:lnTo>
                    <a:pt x="18" y="984"/>
                  </a:lnTo>
                  <a:lnTo>
                    <a:pt x="18" y="978"/>
                  </a:lnTo>
                  <a:lnTo>
                    <a:pt x="18" y="972"/>
                  </a:lnTo>
                  <a:lnTo>
                    <a:pt x="18" y="966"/>
                  </a:lnTo>
                  <a:lnTo>
                    <a:pt x="18" y="960"/>
                  </a:lnTo>
                  <a:lnTo>
                    <a:pt x="24" y="960"/>
                  </a:lnTo>
                  <a:lnTo>
                    <a:pt x="24" y="954"/>
                  </a:lnTo>
                  <a:lnTo>
                    <a:pt x="24" y="948"/>
                  </a:lnTo>
                  <a:lnTo>
                    <a:pt x="24" y="942"/>
                  </a:lnTo>
                  <a:lnTo>
                    <a:pt x="24" y="936"/>
                  </a:lnTo>
                  <a:lnTo>
                    <a:pt x="30" y="936"/>
                  </a:lnTo>
                  <a:lnTo>
                    <a:pt x="30" y="930"/>
                  </a:lnTo>
                  <a:lnTo>
                    <a:pt x="30" y="924"/>
                  </a:lnTo>
                  <a:lnTo>
                    <a:pt x="30" y="918"/>
                  </a:lnTo>
                  <a:lnTo>
                    <a:pt x="30" y="912"/>
                  </a:lnTo>
                  <a:lnTo>
                    <a:pt x="36" y="906"/>
                  </a:lnTo>
                  <a:lnTo>
                    <a:pt x="36" y="900"/>
                  </a:lnTo>
                  <a:lnTo>
                    <a:pt x="36" y="894"/>
                  </a:lnTo>
                  <a:lnTo>
                    <a:pt x="36" y="888"/>
                  </a:lnTo>
                  <a:lnTo>
                    <a:pt x="42" y="882"/>
                  </a:lnTo>
                  <a:lnTo>
                    <a:pt x="42" y="876"/>
                  </a:lnTo>
                  <a:lnTo>
                    <a:pt x="42" y="870"/>
                  </a:lnTo>
                  <a:lnTo>
                    <a:pt x="42" y="864"/>
                  </a:lnTo>
                  <a:lnTo>
                    <a:pt x="48" y="864"/>
                  </a:lnTo>
                  <a:lnTo>
                    <a:pt x="48" y="858"/>
                  </a:lnTo>
                  <a:lnTo>
                    <a:pt x="48" y="852"/>
                  </a:lnTo>
                  <a:lnTo>
                    <a:pt x="48" y="846"/>
                  </a:lnTo>
                  <a:lnTo>
                    <a:pt x="48" y="840"/>
                  </a:lnTo>
                  <a:lnTo>
                    <a:pt x="54" y="840"/>
                  </a:lnTo>
                  <a:lnTo>
                    <a:pt x="54" y="834"/>
                  </a:lnTo>
                  <a:lnTo>
                    <a:pt x="54" y="828"/>
                  </a:lnTo>
                  <a:lnTo>
                    <a:pt x="54" y="822"/>
                  </a:lnTo>
                  <a:lnTo>
                    <a:pt x="54" y="816"/>
                  </a:lnTo>
                  <a:lnTo>
                    <a:pt x="60" y="816"/>
                  </a:lnTo>
                  <a:lnTo>
                    <a:pt x="60" y="810"/>
                  </a:lnTo>
                  <a:lnTo>
                    <a:pt x="60" y="804"/>
                  </a:lnTo>
                  <a:lnTo>
                    <a:pt x="60" y="798"/>
                  </a:lnTo>
                  <a:lnTo>
                    <a:pt x="66" y="792"/>
                  </a:lnTo>
                  <a:lnTo>
                    <a:pt x="66" y="786"/>
                  </a:lnTo>
                  <a:lnTo>
                    <a:pt x="66" y="780"/>
                  </a:lnTo>
                  <a:lnTo>
                    <a:pt x="66" y="774"/>
                  </a:lnTo>
                  <a:lnTo>
                    <a:pt x="72" y="768"/>
                  </a:lnTo>
                  <a:lnTo>
                    <a:pt x="72" y="762"/>
                  </a:lnTo>
                  <a:lnTo>
                    <a:pt x="72" y="756"/>
                  </a:lnTo>
                  <a:lnTo>
                    <a:pt x="72" y="750"/>
                  </a:lnTo>
                  <a:lnTo>
                    <a:pt x="78" y="750"/>
                  </a:lnTo>
                  <a:lnTo>
                    <a:pt x="78" y="744"/>
                  </a:lnTo>
                  <a:lnTo>
                    <a:pt x="78" y="738"/>
                  </a:lnTo>
                  <a:lnTo>
                    <a:pt x="78" y="732"/>
                  </a:lnTo>
                  <a:lnTo>
                    <a:pt x="78" y="726"/>
                  </a:lnTo>
                  <a:lnTo>
                    <a:pt x="84" y="726"/>
                  </a:lnTo>
                  <a:lnTo>
                    <a:pt x="84" y="720"/>
                  </a:lnTo>
                  <a:lnTo>
                    <a:pt x="84" y="714"/>
                  </a:lnTo>
                  <a:lnTo>
                    <a:pt x="84" y="708"/>
                  </a:lnTo>
                  <a:lnTo>
                    <a:pt x="90" y="708"/>
                  </a:lnTo>
                  <a:lnTo>
                    <a:pt x="90" y="702"/>
                  </a:lnTo>
                  <a:lnTo>
                    <a:pt x="90" y="696"/>
                  </a:lnTo>
                  <a:lnTo>
                    <a:pt x="90" y="690"/>
                  </a:lnTo>
                  <a:lnTo>
                    <a:pt x="90" y="684"/>
                  </a:lnTo>
                  <a:lnTo>
                    <a:pt x="96" y="684"/>
                  </a:lnTo>
                  <a:lnTo>
                    <a:pt x="96" y="678"/>
                  </a:lnTo>
                  <a:lnTo>
                    <a:pt x="96" y="672"/>
                  </a:lnTo>
                  <a:lnTo>
                    <a:pt x="96" y="666"/>
                  </a:lnTo>
                  <a:lnTo>
                    <a:pt x="102" y="660"/>
                  </a:lnTo>
                  <a:lnTo>
                    <a:pt x="102" y="654"/>
                  </a:lnTo>
                  <a:lnTo>
                    <a:pt x="102" y="648"/>
                  </a:lnTo>
                  <a:lnTo>
                    <a:pt x="108" y="642"/>
                  </a:lnTo>
                  <a:lnTo>
                    <a:pt x="108" y="636"/>
                  </a:lnTo>
                  <a:lnTo>
                    <a:pt x="108" y="630"/>
                  </a:lnTo>
                  <a:lnTo>
                    <a:pt x="108" y="624"/>
                  </a:lnTo>
                  <a:lnTo>
                    <a:pt x="114" y="624"/>
                  </a:lnTo>
                  <a:lnTo>
                    <a:pt x="114" y="618"/>
                  </a:lnTo>
                  <a:lnTo>
                    <a:pt x="114" y="612"/>
                  </a:lnTo>
                  <a:lnTo>
                    <a:pt x="114" y="606"/>
                  </a:lnTo>
                  <a:lnTo>
                    <a:pt x="120" y="600"/>
                  </a:lnTo>
                  <a:lnTo>
                    <a:pt x="120" y="594"/>
                  </a:lnTo>
                  <a:lnTo>
                    <a:pt x="120" y="588"/>
                  </a:lnTo>
                  <a:lnTo>
                    <a:pt x="120" y="582"/>
                  </a:lnTo>
                  <a:lnTo>
                    <a:pt x="126" y="582"/>
                  </a:lnTo>
                  <a:lnTo>
                    <a:pt x="126" y="576"/>
                  </a:lnTo>
                  <a:lnTo>
                    <a:pt x="126" y="570"/>
                  </a:lnTo>
                  <a:lnTo>
                    <a:pt x="126" y="564"/>
                  </a:lnTo>
                  <a:lnTo>
                    <a:pt x="132" y="564"/>
                  </a:lnTo>
                  <a:lnTo>
                    <a:pt x="132" y="558"/>
                  </a:lnTo>
                  <a:lnTo>
                    <a:pt x="132" y="552"/>
                  </a:lnTo>
                  <a:lnTo>
                    <a:pt x="132" y="546"/>
                  </a:lnTo>
                  <a:lnTo>
                    <a:pt x="138" y="546"/>
                  </a:lnTo>
                  <a:lnTo>
                    <a:pt x="138" y="540"/>
                  </a:lnTo>
                  <a:lnTo>
                    <a:pt x="138" y="534"/>
                  </a:lnTo>
                  <a:lnTo>
                    <a:pt x="138" y="528"/>
                  </a:lnTo>
                  <a:lnTo>
                    <a:pt x="144" y="528"/>
                  </a:lnTo>
                  <a:lnTo>
                    <a:pt x="144" y="522"/>
                  </a:lnTo>
                  <a:lnTo>
                    <a:pt x="144" y="516"/>
                  </a:lnTo>
                  <a:lnTo>
                    <a:pt x="144" y="510"/>
                  </a:lnTo>
                  <a:lnTo>
                    <a:pt x="150" y="510"/>
                  </a:lnTo>
                  <a:lnTo>
                    <a:pt x="150" y="504"/>
                  </a:lnTo>
                  <a:lnTo>
                    <a:pt x="150" y="498"/>
                  </a:lnTo>
                  <a:lnTo>
                    <a:pt x="150" y="492"/>
                  </a:lnTo>
                  <a:lnTo>
                    <a:pt x="156" y="492"/>
                  </a:lnTo>
                  <a:lnTo>
                    <a:pt x="156" y="486"/>
                  </a:lnTo>
                  <a:lnTo>
                    <a:pt x="156" y="480"/>
                  </a:lnTo>
                  <a:lnTo>
                    <a:pt x="156" y="474"/>
                  </a:lnTo>
                  <a:lnTo>
                    <a:pt x="162" y="474"/>
                  </a:lnTo>
                  <a:lnTo>
                    <a:pt x="162" y="468"/>
                  </a:lnTo>
                  <a:lnTo>
                    <a:pt x="162" y="462"/>
                  </a:lnTo>
                  <a:lnTo>
                    <a:pt x="162" y="456"/>
                  </a:lnTo>
                  <a:lnTo>
                    <a:pt x="168" y="456"/>
                  </a:lnTo>
                  <a:lnTo>
                    <a:pt x="168" y="450"/>
                  </a:lnTo>
                  <a:lnTo>
                    <a:pt x="168" y="444"/>
                  </a:lnTo>
                  <a:lnTo>
                    <a:pt x="174" y="438"/>
                  </a:lnTo>
                  <a:lnTo>
                    <a:pt x="174" y="432"/>
                  </a:lnTo>
                  <a:lnTo>
                    <a:pt x="174" y="426"/>
                  </a:lnTo>
                  <a:lnTo>
                    <a:pt x="180" y="420"/>
                  </a:lnTo>
                  <a:lnTo>
                    <a:pt x="180" y="414"/>
                  </a:lnTo>
                  <a:lnTo>
                    <a:pt x="180" y="408"/>
                  </a:lnTo>
                  <a:lnTo>
                    <a:pt x="186" y="408"/>
                  </a:lnTo>
                  <a:lnTo>
                    <a:pt x="186" y="402"/>
                  </a:lnTo>
                  <a:lnTo>
                    <a:pt x="186" y="396"/>
                  </a:lnTo>
                  <a:lnTo>
                    <a:pt x="186" y="390"/>
                  </a:lnTo>
                  <a:lnTo>
                    <a:pt x="192" y="390"/>
                  </a:lnTo>
                  <a:lnTo>
                    <a:pt x="192" y="384"/>
                  </a:lnTo>
                  <a:lnTo>
                    <a:pt x="192" y="378"/>
                  </a:lnTo>
                  <a:lnTo>
                    <a:pt x="198" y="372"/>
                  </a:lnTo>
                  <a:lnTo>
                    <a:pt x="198" y="366"/>
                  </a:lnTo>
                  <a:lnTo>
                    <a:pt x="198" y="360"/>
                  </a:lnTo>
                  <a:lnTo>
                    <a:pt x="204" y="360"/>
                  </a:lnTo>
                  <a:lnTo>
                    <a:pt x="204" y="354"/>
                  </a:lnTo>
                  <a:lnTo>
                    <a:pt x="204" y="348"/>
                  </a:lnTo>
                  <a:lnTo>
                    <a:pt x="210" y="348"/>
                  </a:lnTo>
                  <a:lnTo>
                    <a:pt x="210" y="342"/>
                  </a:lnTo>
                  <a:lnTo>
                    <a:pt x="210" y="336"/>
                  </a:lnTo>
                  <a:lnTo>
                    <a:pt x="210" y="330"/>
                  </a:lnTo>
                  <a:lnTo>
                    <a:pt x="216" y="330"/>
                  </a:lnTo>
                  <a:lnTo>
                    <a:pt x="216" y="324"/>
                  </a:lnTo>
                  <a:lnTo>
                    <a:pt x="216" y="318"/>
                  </a:lnTo>
                  <a:lnTo>
                    <a:pt x="222" y="312"/>
                  </a:lnTo>
                  <a:lnTo>
                    <a:pt x="222" y="306"/>
                  </a:lnTo>
                  <a:lnTo>
                    <a:pt x="222" y="300"/>
                  </a:lnTo>
                  <a:lnTo>
                    <a:pt x="228" y="300"/>
                  </a:lnTo>
                  <a:lnTo>
                    <a:pt x="228" y="294"/>
                  </a:lnTo>
                  <a:lnTo>
                    <a:pt x="228" y="288"/>
                  </a:lnTo>
                  <a:lnTo>
                    <a:pt x="234" y="288"/>
                  </a:lnTo>
                  <a:lnTo>
                    <a:pt x="234" y="282"/>
                  </a:lnTo>
                  <a:lnTo>
                    <a:pt x="234" y="276"/>
                  </a:lnTo>
                  <a:lnTo>
                    <a:pt x="240" y="276"/>
                  </a:lnTo>
                  <a:lnTo>
                    <a:pt x="240" y="270"/>
                  </a:lnTo>
                  <a:lnTo>
                    <a:pt x="240" y="264"/>
                  </a:lnTo>
                  <a:lnTo>
                    <a:pt x="246" y="258"/>
                  </a:lnTo>
                  <a:lnTo>
                    <a:pt x="246" y="252"/>
                  </a:lnTo>
                  <a:lnTo>
                    <a:pt x="252" y="246"/>
                  </a:lnTo>
                  <a:lnTo>
                    <a:pt x="252" y="240"/>
                  </a:lnTo>
                  <a:lnTo>
                    <a:pt x="258" y="234"/>
                  </a:lnTo>
                  <a:lnTo>
                    <a:pt x="258" y="228"/>
                  </a:lnTo>
                  <a:lnTo>
                    <a:pt x="264" y="222"/>
                  </a:lnTo>
                  <a:lnTo>
                    <a:pt x="264" y="216"/>
                  </a:lnTo>
                  <a:lnTo>
                    <a:pt x="264" y="210"/>
                  </a:lnTo>
                  <a:lnTo>
                    <a:pt x="270" y="210"/>
                  </a:lnTo>
                  <a:lnTo>
                    <a:pt x="270" y="204"/>
                  </a:lnTo>
                  <a:lnTo>
                    <a:pt x="276" y="198"/>
                  </a:lnTo>
                  <a:lnTo>
                    <a:pt x="276" y="192"/>
                  </a:lnTo>
                  <a:lnTo>
                    <a:pt x="282" y="192"/>
                  </a:lnTo>
                  <a:lnTo>
                    <a:pt x="282" y="186"/>
                  </a:lnTo>
                  <a:lnTo>
                    <a:pt x="282" y="180"/>
                  </a:lnTo>
                  <a:lnTo>
                    <a:pt x="288" y="180"/>
                  </a:lnTo>
                  <a:lnTo>
                    <a:pt x="288" y="174"/>
                  </a:lnTo>
                  <a:lnTo>
                    <a:pt x="288" y="168"/>
                  </a:lnTo>
                  <a:lnTo>
                    <a:pt x="294" y="168"/>
                  </a:lnTo>
                  <a:lnTo>
                    <a:pt x="294" y="162"/>
                  </a:lnTo>
                  <a:lnTo>
                    <a:pt x="300" y="156"/>
                  </a:lnTo>
                  <a:lnTo>
                    <a:pt x="300" y="150"/>
                  </a:lnTo>
                  <a:lnTo>
                    <a:pt x="306" y="150"/>
                  </a:lnTo>
                  <a:lnTo>
                    <a:pt x="306" y="144"/>
                  </a:lnTo>
                  <a:lnTo>
                    <a:pt x="306" y="138"/>
                  </a:lnTo>
                  <a:lnTo>
                    <a:pt x="312" y="138"/>
                  </a:lnTo>
                  <a:lnTo>
                    <a:pt x="312" y="132"/>
                  </a:lnTo>
                  <a:lnTo>
                    <a:pt x="318" y="132"/>
                  </a:lnTo>
                  <a:lnTo>
                    <a:pt x="318" y="126"/>
                  </a:lnTo>
                  <a:lnTo>
                    <a:pt x="318" y="120"/>
                  </a:lnTo>
                  <a:lnTo>
                    <a:pt x="324" y="120"/>
                  </a:lnTo>
                  <a:lnTo>
                    <a:pt x="324" y="114"/>
                  </a:lnTo>
                  <a:lnTo>
                    <a:pt x="330" y="114"/>
                  </a:lnTo>
                  <a:lnTo>
                    <a:pt x="330" y="108"/>
                  </a:lnTo>
                  <a:lnTo>
                    <a:pt x="330" y="102"/>
                  </a:lnTo>
                  <a:lnTo>
                    <a:pt x="336" y="102"/>
                  </a:lnTo>
                  <a:lnTo>
                    <a:pt x="336" y="96"/>
                  </a:lnTo>
                  <a:lnTo>
                    <a:pt x="342" y="96"/>
                  </a:lnTo>
                  <a:lnTo>
                    <a:pt x="342" y="90"/>
                  </a:lnTo>
                  <a:lnTo>
                    <a:pt x="348" y="90"/>
                  </a:lnTo>
                  <a:lnTo>
                    <a:pt x="348" y="84"/>
                  </a:lnTo>
                  <a:lnTo>
                    <a:pt x="348" y="78"/>
                  </a:lnTo>
                  <a:lnTo>
                    <a:pt x="354" y="78"/>
                  </a:lnTo>
                  <a:lnTo>
                    <a:pt x="354" y="72"/>
                  </a:lnTo>
                  <a:lnTo>
                    <a:pt x="360" y="72"/>
                  </a:lnTo>
                  <a:lnTo>
                    <a:pt x="360" y="66"/>
                  </a:lnTo>
                  <a:lnTo>
                    <a:pt x="366" y="66"/>
                  </a:lnTo>
                  <a:lnTo>
                    <a:pt x="366" y="60"/>
                  </a:lnTo>
                  <a:lnTo>
                    <a:pt x="372" y="60"/>
                  </a:lnTo>
                  <a:lnTo>
                    <a:pt x="372" y="54"/>
                  </a:lnTo>
                  <a:lnTo>
                    <a:pt x="378" y="54"/>
                  </a:lnTo>
                  <a:lnTo>
                    <a:pt x="378" y="48"/>
                  </a:lnTo>
                  <a:lnTo>
                    <a:pt x="384" y="48"/>
                  </a:lnTo>
                  <a:lnTo>
                    <a:pt x="384" y="42"/>
                  </a:lnTo>
                  <a:lnTo>
                    <a:pt x="390" y="42"/>
                  </a:lnTo>
                  <a:lnTo>
                    <a:pt x="390" y="36"/>
                  </a:lnTo>
                  <a:lnTo>
                    <a:pt x="396" y="36"/>
                  </a:lnTo>
                  <a:lnTo>
                    <a:pt x="402" y="36"/>
                  </a:lnTo>
                  <a:lnTo>
                    <a:pt x="402" y="30"/>
                  </a:lnTo>
                  <a:lnTo>
                    <a:pt x="408" y="30"/>
                  </a:lnTo>
                  <a:lnTo>
                    <a:pt x="408" y="24"/>
                  </a:lnTo>
                  <a:lnTo>
                    <a:pt x="414" y="24"/>
                  </a:lnTo>
                  <a:lnTo>
                    <a:pt x="420" y="24"/>
                  </a:lnTo>
                  <a:lnTo>
                    <a:pt x="420" y="18"/>
                  </a:lnTo>
                  <a:lnTo>
                    <a:pt x="426" y="18"/>
                  </a:lnTo>
                  <a:lnTo>
                    <a:pt x="426" y="12"/>
                  </a:lnTo>
                  <a:lnTo>
                    <a:pt x="432" y="12"/>
                  </a:lnTo>
                  <a:lnTo>
                    <a:pt x="438" y="12"/>
                  </a:lnTo>
                  <a:lnTo>
                    <a:pt x="444" y="6"/>
                  </a:lnTo>
                  <a:lnTo>
                    <a:pt x="450" y="6"/>
                  </a:lnTo>
                  <a:lnTo>
                    <a:pt x="456" y="6"/>
                  </a:lnTo>
                  <a:lnTo>
                    <a:pt x="462" y="6"/>
                  </a:lnTo>
                  <a:lnTo>
                    <a:pt x="462" y="0"/>
                  </a:lnTo>
                  <a:lnTo>
                    <a:pt x="468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498" y="0"/>
                  </a:lnTo>
                  <a:lnTo>
                    <a:pt x="504" y="0"/>
                  </a:lnTo>
                  <a:lnTo>
                    <a:pt x="510" y="0"/>
                  </a:lnTo>
                  <a:lnTo>
                    <a:pt x="510" y="6"/>
                  </a:lnTo>
                  <a:lnTo>
                    <a:pt x="516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34" y="12"/>
                  </a:lnTo>
                  <a:lnTo>
                    <a:pt x="540" y="12"/>
                  </a:lnTo>
                  <a:lnTo>
                    <a:pt x="546" y="12"/>
                  </a:lnTo>
                  <a:lnTo>
                    <a:pt x="546" y="18"/>
                  </a:lnTo>
                  <a:lnTo>
                    <a:pt x="552" y="18"/>
                  </a:lnTo>
                  <a:lnTo>
                    <a:pt x="552" y="24"/>
                  </a:lnTo>
                  <a:lnTo>
                    <a:pt x="558" y="24"/>
                  </a:lnTo>
                  <a:lnTo>
                    <a:pt x="564" y="24"/>
                  </a:lnTo>
                  <a:lnTo>
                    <a:pt x="564" y="30"/>
                  </a:lnTo>
                  <a:lnTo>
                    <a:pt x="570" y="30"/>
                  </a:lnTo>
                  <a:lnTo>
                    <a:pt x="570" y="36"/>
                  </a:lnTo>
                  <a:lnTo>
                    <a:pt x="576" y="36"/>
                  </a:lnTo>
                  <a:lnTo>
                    <a:pt x="582" y="36"/>
                  </a:lnTo>
                  <a:lnTo>
                    <a:pt x="582" y="42"/>
                  </a:lnTo>
                  <a:lnTo>
                    <a:pt x="588" y="42"/>
                  </a:lnTo>
                  <a:lnTo>
                    <a:pt x="588" y="48"/>
                  </a:lnTo>
                  <a:lnTo>
                    <a:pt x="594" y="48"/>
                  </a:lnTo>
                  <a:lnTo>
                    <a:pt x="594" y="54"/>
                  </a:lnTo>
                  <a:lnTo>
                    <a:pt x="600" y="54"/>
                  </a:lnTo>
                  <a:lnTo>
                    <a:pt x="600" y="60"/>
                  </a:lnTo>
                  <a:lnTo>
                    <a:pt x="606" y="60"/>
                  </a:lnTo>
                  <a:lnTo>
                    <a:pt x="606" y="66"/>
                  </a:lnTo>
                  <a:lnTo>
                    <a:pt x="612" y="66"/>
                  </a:lnTo>
                  <a:lnTo>
                    <a:pt x="612" y="72"/>
                  </a:lnTo>
                  <a:lnTo>
                    <a:pt x="618" y="72"/>
                  </a:lnTo>
                  <a:lnTo>
                    <a:pt x="618" y="78"/>
                  </a:lnTo>
                  <a:lnTo>
                    <a:pt x="624" y="78"/>
                  </a:lnTo>
                  <a:lnTo>
                    <a:pt x="624" y="84"/>
                  </a:lnTo>
                  <a:lnTo>
                    <a:pt x="624" y="90"/>
                  </a:lnTo>
                  <a:lnTo>
                    <a:pt x="630" y="90"/>
                  </a:lnTo>
                  <a:lnTo>
                    <a:pt x="630" y="96"/>
                  </a:lnTo>
                  <a:lnTo>
                    <a:pt x="636" y="96"/>
                  </a:lnTo>
                  <a:lnTo>
                    <a:pt x="636" y="102"/>
                  </a:lnTo>
                  <a:lnTo>
                    <a:pt x="642" y="102"/>
                  </a:lnTo>
                  <a:lnTo>
                    <a:pt x="642" y="108"/>
                  </a:lnTo>
                  <a:lnTo>
                    <a:pt x="642" y="114"/>
                  </a:lnTo>
                  <a:lnTo>
                    <a:pt x="648" y="114"/>
                  </a:lnTo>
                  <a:lnTo>
                    <a:pt x="648" y="120"/>
                  </a:lnTo>
                  <a:lnTo>
                    <a:pt x="654" y="120"/>
                  </a:lnTo>
                  <a:lnTo>
                    <a:pt x="654" y="126"/>
                  </a:lnTo>
                  <a:lnTo>
                    <a:pt x="654" y="132"/>
                  </a:lnTo>
                  <a:lnTo>
                    <a:pt x="660" y="132"/>
                  </a:lnTo>
                  <a:lnTo>
                    <a:pt x="660" y="138"/>
                  </a:lnTo>
                  <a:lnTo>
                    <a:pt x="666" y="138"/>
                  </a:lnTo>
                  <a:lnTo>
                    <a:pt x="666" y="144"/>
                  </a:lnTo>
                  <a:lnTo>
                    <a:pt x="666" y="150"/>
                  </a:lnTo>
                  <a:lnTo>
                    <a:pt x="672" y="150"/>
                  </a:lnTo>
                  <a:lnTo>
                    <a:pt x="672" y="156"/>
                  </a:lnTo>
                  <a:lnTo>
                    <a:pt x="678" y="162"/>
                  </a:lnTo>
                  <a:lnTo>
                    <a:pt x="678" y="168"/>
                  </a:lnTo>
                  <a:lnTo>
                    <a:pt x="684" y="168"/>
                  </a:lnTo>
                  <a:lnTo>
                    <a:pt x="684" y="174"/>
                  </a:lnTo>
                  <a:lnTo>
                    <a:pt x="684" y="180"/>
                  </a:lnTo>
                  <a:lnTo>
                    <a:pt x="690" y="180"/>
                  </a:lnTo>
                  <a:lnTo>
                    <a:pt x="690" y="186"/>
                  </a:lnTo>
                  <a:lnTo>
                    <a:pt x="690" y="192"/>
                  </a:lnTo>
                  <a:lnTo>
                    <a:pt x="696" y="192"/>
                  </a:lnTo>
                  <a:lnTo>
                    <a:pt x="696" y="198"/>
                  </a:lnTo>
                  <a:lnTo>
                    <a:pt x="702" y="204"/>
                  </a:lnTo>
                  <a:lnTo>
                    <a:pt x="702" y="210"/>
                  </a:lnTo>
                  <a:lnTo>
                    <a:pt x="708" y="210"/>
                  </a:lnTo>
                  <a:lnTo>
                    <a:pt x="708" y="216"/>
                  </a:lnTo>
                  <a:lnTo>
                    <a:pt x="708" y="222"/>
                  </a:lnTo>
                  <a:lnTo>
                    <a:pt x="714" y="228"/>
                  </a:lnTo>
                  <a:lnTo>
                    <a:pt x="714" y="234"/>
                  </a:lnTo>
                  <a:lnTo>
                    <a:pt x="720" y="240"/>
                  </a:lnTo>
                  <a:lnTo>
                    <a:pt x="720" y="246"/>
                  </a:lnTo>
                  <a:lnTo>
                    <a:pt x="726" y="252"/>
                  </a:lnTo>
                  <a:lnTo>
                    <a:pt x="726" y="258"/>
                  </a:lnTo>
                  <a:lnTo>
                    <a:pt x="732" y="264"/>
                  </a:lnTo>
                  <a:lnTo>
                    <a:pt x="732" y="270"/>
                  </a:lnTo>
                  <a:lnTo>
                    <a:pt x="732" y="276"/>
                  </a:lnTo>
                  <a:lnTo>
                    <a:pt x="738" y="276"/>
                  </a:lnTo>
                  <a:lnTo>
                    <a:pt x="738" y="282"/>
                  </a:lnTo>
                  <a:lnTo>
                    <a:pt x="738" y="288"/>
                  </a:lnTo>
                  <a:lnTo>
                    <a:pt x="744" y="288"/>
                  </a:lnTo>
                  <a:lnTo>
                    <a:pt x="744" y="294"/>
                  </a:lnTo>
                  <a:lnTo>
                    <a:pt x="744" y="300"/>
                  </a:lnTo>
                  <a:lnTo>
                    <a:pt x="750" y="300"/>
                  </a:lnTo>
                  <a:lnTo>
                    <a:pt x="750" y="306"/>
                  </a:lnTo>
                  <a:lnTo>
                    <a:pt x="750" y="312"/>
                  </a:lnTo>
                  <a:lnTo>
                    <a:pt x="756" y="318"/>
                  </a:lnTo>
                  <a:lnTo>
                    <a:pt x="756" y="324"/>
                  </a:lnTo>
                  <a:lnTo>
                    <a:pt x="756" y="330"/>
                  </a:lnTo>
                  <a:lnTo>
                    <a:pt x="762" y="330"/>
                  </a:lnTo>
                  <a:lnTo>
                    <a:pt x="762" y="336"/>
                  </a:lnTo>
                  <a:lnTo>
                    <a:pt x="762" y="342"/>
                  </a:lnTo>
                  <a:lnTo>
                    <a:pt x="762" y="348"/>
                  </a:lnTo>
                  <a:lnTo>
                    <a:pt x="768" y="348"/>
                  </a:lnTo>
                  <a:lnTo>
                    <a:pt x="768" y="354"/>
                  </a:lnTo>
                  <a:lnTo>
                    <a:pt x="768" y="360"/>
                  </a:lnTo>
                  <a:lnTo>
                    <a:pt x="774" y="360"/>
                  </a:lnTo>
                  <a:lnTo>
                    <a:pt x="774" y="366"/>
                  </a:lnTo>
                  <a:lnTo>
                    <a:pt x="774" y="372"/>
                  </a:lnTo>
                  <a:lnTo>
                    <a:pt x="780" y="378"/>
                  </a:lnTo>
                  <a:lnTo>
                    <a:pt x="780" y="384"/>
                  </a:lnTo>
                  <a:lnTo>
                    <a:pt x="780" y="390"/>
                  </a:lnTo>
                  <a:lnTo>
                    <a:pt x="786" y="390"/>
                  </a:lnTo>
                  <a:lnTo>
                    <a:pt x="786" y="396"/>
                  </a:lnTo>
                  <a:lnTo>
                    <a:pt x="786" y="402"/>
                  </a:lnTo>
                  <a:lnTo>
                    <a:pt x="786" y="408"/>
                  </a:lnTo>
                  <a:lnTo>
                    <a:pt x="792" y="408"/>
                  </a:lnTo>
                  <a:lnTo>
                    <a:pt x="792" y="414"/>
                  </a:lnTo>
                  <a:lnTo>
                    <a:pt x="792" y="420"/>
                  </a:lnTo>
                  <a:lnTo>
                    <a:pt x="798" y="426"/>
                  </a:lnTo>
                  <a:lnTo>
                    <a:pt x="798" y="432"/>
                  </a:lnTo>
                  <a:lnTo>
                    <a:pt x="798" y="438"/>
                  </a:lnTo>
                  <a:lnTo>
                    <a:pt x="804" y="444"/>
                  </a:lnTo>
                  <a:lnTo>
                    <a:pt x="804" y="450"/>
                  </a:lnTo>
                  <a:lnTo>
                    <a:pt x="804" y="456"/>
                  </a:lnTo>
                  <a:lnTo>
                    <a:pt x="810" y="456"/>
                  </a:lnTo>
                  <a:lnTo>
                    <a:pt x="810" y="462"/>
                  </a:lnTo>
                  <a:lnTo>
                    <a:pt x="810" y="468"/>
                  </a:lnTo>
                  <a:lnTo>
                    <a:pt x="810" y="474"/>
                  </a:lnTo>
                  <a:lnTo>
                    <a:pt x="816" y="474"/>
                  </a:lnTo>
                  <a:lnTo>
                    <a:pt x="816" y="480"/>
                  </a:lnTo>
                  <a:lnTo>
                    <a:pt x="816" y="486"/>
                  </a:lnTo>
                  <a:lnTo>
                    <a:pt x="816" y="492"/>
                  </a:lnTo>
                  <a:lnTo>
                    <a:pt x="822" y="492"/>
                  </a:lnTo>
                  <a:lnTo>
                    <a:pt x="822" y="498"/>
                  </a:lnTo>
                  <a:lnTo>
                    <a:pt x="822" y="504"/>
                  </a:lnTo>
                  <a:lnTo>
                    <a:pt x="822" y="510"/>
                  </a:lnTo>
                  <a:lnTo>
                    <a:pt x="828" y="510"/>
                  </a:lnTo>
                  <a:lnTo>
                    <a:pt x="828" y="516"/>
                  </a:lnTo>
                  <a:lnTo>
                    <a:pt x="828" y="522"/>
                  </a:lnTo>
                  <a:lnTo>
                    <a:pt x="828" y="528"/>
                  </a:lnTo>
                  <a:lnTo>
                    <a:pt x="834" y="528"/>
                  </a:lnTo>
                  <a:lnTo>
                    <a:pt x="834" y="534"/>
                  </a:lnTo>
                  <a:lnTo>
                    <a:pt x="834" y="540"/>
                  </a:lnTo>
                  <a:lnTo>
                    <a:pt x="834" y="546"/>
                  </a:lnTo>
                  <a:lnTo>
                    <a:pt x="840" y="546"/>
                  </a:lnTo>
                  <a:lnTo>
                    <a:pt x="840" y="552"/>
                  </a:lnTo>
                  <a:lnTo>
                    <a:pt x="840" y="558"/>
                  </a:lnTo>
                  <a:lnTo>
                    <a:pt x="840" y="564"/>
                  </a:lnTo>
                  <a:lnTo>
                    <a:pt x="846" y="564"/>
                  </a:lnTo>
                  <a:lnTo>
                    <a:pt x="846" y="570"/>
                  </a:lnTo>
                  <a:lnTo>
                    <a:pt x="846" y="576"/>
                  </a:lnTo>
                  <a:lnTo>
                    <a:pt x="846" y="582"/>
                  </a:lnTo>
                  <a:lnTo>
                    <a:pt x="852" y="582"/>
                  </a:lnTo>
                  <a:lnTo>
                    <a:pt x="852" y="588"/>
                  </a:lnTo>
                  <a:lnTo>
                    <a:pt x="852" y="594"/>
                  </a:lnTo>
                  <a:lnTo>
                    <a:pt x="852" y="600"/>
                  </a:lnTo>
                  <a:lnTo>
                    <a:pt x="858" y="606"/>
                  </a:lnTo>
                  <a:lnTo>
                    <a:pt x="858" y="612"/>
                  </a:lnTo>
                  <a:lnTo>
                    <a:pt x="858" y="618"/>
                  </a:lnTo>
                  <a:lnTo>
                    <a:pt x="858" y="624"/>
                  </a:lnTo>
                  <a:lnTo>
                    <a:pt x="864" y="624"/>
                  </a:lnTo>
                  <a:lnTo>
                    <a:pt x="864" y="630"/>
                  </a:lnTo>
                  <a:lnTo>
                    <a:pt x="864" y="636"/>
                  </a:lnTo>
                  <a:lnTo>
                    <a:pt x="864" y="642"/>
                  </a:lnTo>
                  <a:lnTo>
                    <a:pt x="870" y="648"/>
                  </a:lnTo>
                  <a:lnTo>
                    <a:pt x="870" y="654"/>
                  </a:lnTo>
                  <a:lnTo>
                    <a:pt x="870" y="660"/>
                  </a:lnTo>
                  <a:lnTo>
                    <a:pt x="876" y="666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58120" y="4335120"/>
              <a:ext cx="151920" cy="609840"/>
            </a:xfrm>
            <a:custGeom>
              <a:avLst/>
              <a:gdLst/>
              <a:ahLst/>
              <a:rect l="l" t="t" r="r" b="b"/>
              <a:pathLst>
                <a:path w="96" h="384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18" y="84"/>
                  </a:lnTo>
                  <a:lnTo>
                    <a:pt x="24" y="84"/>
                  </a:lnTo>
                  <a:lnTo>
                    <a:pt x="24" y="90"/>
                  </a:lnTo>
                  <a:lnTo>
                    <a:pt x="24" y="96"/>
                  </a:lnTo>
                  <a:lnTo>
                    <a:pt x="24" y="102"/>
                  </a:lnTo>
                  <a:lnTo>
                    <a:pt x="30" y="108"/>
                  </a:lnTo>
                  <a:lnTo>
                    <a:pt x="30" y="114"/>
                  </a:lnTo>
                  <a:lnTo>
                    <a:pt x="30" y="120"/>
                  </a:lnTo>
                  <a:lnTo>
                    <a:pt x="30" y="126"/>
                  </a:lnTo>
                  <a:lnTo>
                    <a:pt x="36" y="132"/>
                  </a:lnTo>
                  <a:lnTo>
                    <a:pt x="36" y="138"/>
                  </a:lnTo>
                  <a:lnTo>
                    <a:pt x="36" y="144"/>
                  </a:lnTo>
                  <a:lnTo>
                    <a:pt x="36" y="150"/>
                  </a:lnTo>
                  <a:lnTo>
                    <a:pt x="42" y="150"/>
                  </a:lnTo>
                  <a:lnTo>
                    <a:pt x="42" y="156"/>
                  </a:lnTo>
                  <a:lnTo>
                    <a:pt x="42" y="162"/>
                  </a:lnTo>
                  <a:lnTo>
                    <a:pt x="42" y="168"/>
                  </a:lnTo>
                  <a:lnTo>
                    <a:pt x="42" y="174"/>
                  </a:lnTo>
                  <a:lnTo>
                    <a:pt x="48" y="174"/>
                  </a:lnTo>
                  <a:lnTo>
                    <a:pt x="48" y="180"/>
                  </a:lnTo>
                  <a:lnTo>
                    <a:pt x="48" y="186"/>
                  </a:lnTo>
                  <a:lnTo>
                    <a:pt x="48" y="192"/>
                  </a:lnTo>
                  <a:lnTo>
                    <a:pt x="48" y="198"/>
                  </a:lnTo>
                  <a:lnTo>
                    <a:pt x="54" y="198"/>
                  </a:lnTo>
                  <a:lnTo>
                    <a:pt x="54" y="204"/>
                  </a:lnTo>
                  <a:lnTo>
                    <a:pt x="54" y="210"/>
                  </a:lnTo>
                  <a:lnTo>
                    <a:pt x="54" y="216"/>
                  </a:lnTo>
                  <a:lnTo>
                    <a:pt x="60" y="222"/>
                  </a:lnTo>
                  <a:lnTo>
                    <a:pt x="60" y="228"/>
                  </a:lnTo>
                  <a:lnTo>
                    <a:pt x="60" y="234"/>
                  </a:lnTo>
                  <a:lnTo>
                    <a:pt x="60" y="240"/>
                  </a:lnTo>
                  <a:lnTo>
                    <a:pt x="66" y="246"/>
                  </a:lnTo>
                  <a:lnTo>
                    <a:pt x="66" y="252"/>
                  </a:lnTo>
                  <a:lnTo>
                    <a:pt x="66" y="258"/>
                  </a:lnTo>
                  <a:lnTo>
                    <a:pt x="66" y="264"/>
                  </a:lnTo>
                  <a:lnTo>
                    <a:pt x="66" y="270"/>
                  </a:lnTo>
                  <a:lnTo>
                    <a:pt x="72" y="270"/>
                  </a:lnTo>
                  <a:lnTo>
                    <a:pt x="72" y="276"/>
                  </a:lnTo>
                  <a:lnTo>
                    <a:pt x="72" y="282"/>
                  </a:lnTo>
                  <a:lnTo>
                    <a:pt x="72" y="288"/>
                  </a:lnTo>
                  <a:lnTo>
                    <a:pt x="72" y="294"/>
                  </a:lnTo>
                  <a:lnTo>
                    <a:pt x="78" y="294"/>
                  </a:lnTo>
                  <a:lnTo>
                    <a:pt x="78" y="300"/>
                  </a:lnTo>
                  <a:lnTo>
                    <a:pt x="78" y="306"/>
                  </a:lnTo>
                  <a:lnTo>
                    <a:pt x="78" y="312"/>
                  </a:lnTo>
                  <a:lnTo>
                    <a:pt x="78" y="318"/>
                  </a:lnTo>
                  <a:lnTo>
                    <a:pt x="84" y="318"/>
                  </a:lnTo>
                  <a:lnTo>
                    <a:pt x="84" y="324"/>
                  </a:lnTo>
                  <a:lnTo>
                    <a:pt x="84" y="330"/>
                  </a:lnTo>
                  <a:lnTo>
                    <a:pt x="84" y="336"/>
                  </a:lnTo>
                  <a:lnTo>
                    <a:pt x="84" y="342"/>
                  </a:lnTo>
                  <a:lnTo>
                    <a:pt x="90" y="342"/>
                  </a:lnTo>
                  <a:lnTo>
                    <a:pt x="90" y="348"/>
                  </a:lnTo>
                  <a:lnTo>
                    <a:pt x="90" y="354"/>
                  </a:lnTo>
                  <a:lnTo>
                    <a:pt x="90" y="360"/>
                  </a:lnTo>
                  <a:lnTo>
                    <a:pt x="90" y="366"/>
                  </a:lnTo>
                  <a:lnTo>
                    <a:pt x="96" y="372"/>
                  </a:lnTo>
                  <a:lnTo>
                    <a:pt x="96" y="378"/>
                  </a:lnTo>
                  <a:lnTo>
                    <a:pt x="96" y="38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70760" y="1052640"/>
            <a:ext cx="3559320" cy="886320"/>
          </a:xfrm>
          <a:prstGeom prst="rect">
            <a:avLst/>
          </a:prstGeom>
          <a:solidFill>
            <a:srgbClr val="ff9900"/>
          </a:solidFill>
          <a:ln w="38160">
            <a:solidFill>
              <a:srgbClr val="d54f41"/>
            </a:solidFill>
            <a:miter/>
          </a:ln>
          <a:effectLst>
            <a:outerShdw dist="107932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说二次函数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图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哪些性质？与同伴交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7880" y="2060640"/>
            <a:ext cx="3517560" cy="459720"/>
          </a:xfrm>
          <a:prstGeom prst="rect">
            <a:avLst/>
          </a:prstGeom>
          <a:solidFill>
            <a:srgbClr val="cccc00"/>
          </a:solidFill>
          <a:ln w="38160">
            <a:solidFill>
              <a:srgbClr val="ff0000"/>
            </a:solidFill>
            <a:miter/>
          </a:ln>
          <a:effectLst>
            <a:outerShdw dist="107932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图象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交于原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7520" y="2565360"/>
            <a:ext cx="1605240" cy="459720"/>
          </a:xfrm>
          <a:prstGeom prst="rect">
            <a:avLst/>
          </a:prstGeom>
          <a:solidFill>
            <a:srgbClr val="cccc00"/>
          </a:solidFill>
          <a:ln w="38160">
            <a:solidFill>
              <a:srgbClr val="ff0000"/>
            </a:solidFill>
            <a:miter/>
          </a:ln>
          <a:effectLst>
            <a:outerShdw dist="107932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≤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8160" y="3141720"/>
            <a:ext cx="3759840" cy="1557000"/>
          </a:xfrm>
          <a:prstGeom prst="rect">
            <a:avLst/>
          </a:prstGeom>
          <a:solidFill>
            <a:srgbClr val="cccc00"/>
          </a:solidFill>
          <a:ln w="38160">
            <a:solidFill>
              <a:srgbClr val="ff0000"/>
            </a:solidFill>
            <a:miter/>
          </a:ln>
          <a:effectLst>
            <a:outerShdw dist="107932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&lt;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增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增大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&gt;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增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减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4797360"/>
            <a:ext cx="4647960" cy="579600"/>
          </a:xfrm>
          <a:prstGeom prst="rect">
            <a:avLst/>
          </a:prstGeom>
          <a:solidFill>
            <a:srgbClr val="cccc00"/>
          </a:solidFill>
          <a:ln w="38160">
            <a:solidFill>
              <a:srgbClr val="ff0000"/>
            </a:solidFill>
            <a:miter/>
          </a:ln>
          <a:effectLst>
            <a:outerShdw dist="107932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当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最大值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26040" y="5445000"/>
            <a:ext cx="1882800" cy="825480"/>
          </a:xfrm>
          <a:prstGeom prst="rect">
            <a:avLst/>
          </a:prstGeom>
          <a:solidFill>
            <a:srgbClr val="cccc00"/>
          </a:solidFill>
          <a:ln w="38160">
            <a:solidFill>
              <a:srgbClr val="ff0000"/>
            </a:solidFill>
            <a:miter/>
          </a:ln>
          <a:effectLst>
            <a:outerShdw dist="107932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图象关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对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2" action="ppaction://hlinksldjump"/>
          </p:cNvPr>
          <p:cNvSpPr/>
          <p:nvPr/>
        </p:nvSpPr>
        <p:spPr>
          <a:xfrm>
            <a:off x="8172360" y="18900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189000"/>
            <a:ext cx="43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探究二次函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y=-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" dur="100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13:41:47Z</dcterms:created>
  <dc:creator/>
  <dc:description/>
  <dc:language>en-US</dc:language>
  <cp:lastModifiedBy>User</cp:lastModifiedBy>
  <dcterms:modified xsi:type="dcterms:W3CDTF">2014-02-18T02:17:08Z</dcterms:modified>
  <cp:revision>186</cp:revision>
  <dc:subject/>
  <dc:title>§2.2结识抛物线</dc:title>
</cp:coreProperties>
</file>