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camera.wav" ContentType="audio/x-wav"/>
  <Override PartName="/ppt/media/type.wav" ContentType="audio/x-wav"/>
  <Override PartName="/ppt/media/chimes.wav" ContentType="audio/x-wav"/>
  <Override PartName="/ppt/media/image4.gif" ContentType="image/gif"/>
  <Override PartName="/ppt/media/image3.png" ContentType="image/png"/>
  <Override PartName="/ppt/media/projctor.wav" ContentType="audio/x-wav"/>
  <Override PartName="/ppt/media/laser.wav" ContentType="audio/x-wav"/>
  <Override PartName="/ppt/media/image8.gif" ContentType="image/gif"/>
  <Override PartName="/ppt/media/image6.gif" ContentType="image/gi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5E84-46B4-41A7-987B-CA5C6FF9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9DA1-ABB2-4C65-87A2-54488AE8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E3ED-C645-475A-B462-398C0DCB9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5C8A-B0AC-4164-8787-ABD8B6BB8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20BF-A7F0-4D84-80EF-7D18BB515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B761-DB2F-42AF-99BC-22AA7669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31BA-DC27-4E25-B89D-8A560532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DEE8-1F53-42CF-9DFB-1A104295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E2D6-3EA1-4652-9A60-F4AB66C1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F9B5-4CF8-419C-BBEC-70305AC5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7E61-2234-47A8-8F94-444C352D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951E-97E6-4604-A2CC-B7D3A77D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737D-8211-4A62-85D7-BA406D5F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E331-A389-4C19-844D-0543C429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23D6-6F03-4355-9FEE-00DFE914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A40D-3B7C-4007-8C87-1870F25ED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EAD0-B7C5-4D40-9A14-F484C544D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1339-6318-4FC1-BB29-289E6E9F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6869-6A82-41B5-A14C-E8F9AC0B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5173-69C1-424B-BF1C-70163473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CFAB-48A4-406F-8D28-359B511A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AA71-738A-474F-B8D5-AC242268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099B-3BB8-4C63-900F-01715C88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43B4-6956-4484-932B-398E6086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CD5A-2EC2-4819-B583-6D452C334BC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7588-98DC-4BA5-8836-EB3D42C8AD20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gi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gif"/><Relationship Id="rId3" Type="http://schemas.openxmlformats.org/officeDocument/2006/relationships/image" Target="../media/image4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gi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gif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audio" Target="../media/laser.wav"/><Relationship Id="rId6" Type="http://schemas.openxmlformats.org/officeDocument/2006/relationships/audio" Target="../media/chimes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gif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gi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-360" y="54900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ff3300"/>
                </a:solidFill>
                <a:latin typeface="华文中宋"/>
                <a:ea typeface="华文中宋"/>
              </a:rPr>
              <a:t>第二章  二次函数</a:t>
            </a:r>
            <a:endParaRPr b="0" lang="en-US" sz="5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中宋"/>
                <a:ea typeface="华文中宋"/>
              </a:rPr>
              <a:t>第五节  用三种方式表示二次函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838080" y="3200400"/>
            <a:ext cx="639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华文中宋"/>
              </a:rPr>
              <a:t>用函数表达式表示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348000" y="259920"/>
            <a:ext cx="579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黑体"/>
              </a:rPr>
              <a:t>解析法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黑体"/>
              </a:rPr>
              <a:t>—用表达式表示函数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914400" y="9810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两个数相差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2,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设其中较大的一个数为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x,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那么它们的积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是如何随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变化而变化的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0" y="260280"/>
            <a:ext cx="3581280" cy="685800"/>
            <a:chOff x="0" y="260280"/>
            <a:chExt cx="3581280" cy="685800"/>
          </a:xfrm>
        </p:grpSpPr>
        <p:grpSp>
          <p:nvGrpSpPr>
            <p:cNvPr id="187" name=""/>
            <p:cNvGrpSpPr/>
            <p:nvPr/>
          </p:nvGrpSpPr>
          <p:grpSpPr>
            <a:xfrm>
              <a:off x="0" y="306360"/>
              <a:ext cx="2361960" cy="461880"/>
              <a:chOff x="0" y="306360"/>
              <a:chExt cx="2361960" cy="461880"/>
            </a:xfrm>
          </p:grpSpPr>
          <p:sp>
            <p:nvSpPr>
              <p:cNvPr id="188" name=""/>
              <p:cNvSpPr/>
              <p:nvPr/>
            </p:nvSpPr>
            <p:spPr>
              <a:xfrm>
                <a:off x="0" y="30852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做一做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879560" y="306360"/>
                <a:ext cx="1836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2361960" y="26028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0" y="41256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046160" y="4267080"/>
                <a:ext cx="819468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,</m:t>
                    </m:r>
                    <m:r>
                      <m:t xml:space="preserve">即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838080" y="3505320"/>
            <a:ext cx="3635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中宋"/>
              </a:rPr>
              <a:t>用表格表示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733920" y="-36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黑体"/>
              </a:rPr>
              <a:t>列表法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黑体"/>
              </a:rPr>
              <a:t>—用表格表示函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900000" y="1125360"/>
            <a:ext cx="7794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两个数相差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,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设其中较大的一个数为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x,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那么它们的积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是如何随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变化而变化的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0" y="0"/>
            <a:ext cx="3581280" cy="685800"/>
            <a:chOff x="0" y="0"/>
            <a:chExt cx="3581280" cy="685800"/>
          </a:xfrm>
        </p:grpSpPr>
        <p:grpSp>
          <p:nvGrpSpPr>
            <p:cNvPr id="197" name=""/>
            <p:cNvGrpSpPr/>
            <p:nvPr/>
          </p:nvGrpSpPr>
          <p:grpSpPr>
            <a:xfrm>
              <a:off x="0" y="46080"/>
              <a:ext cx="2361960" cy="461880"/>
              <a:chOff x="0" y="46080"/>
              <a:chExt cx="2361960" cy="461880"/>
            </a:xfrm>
          </p:grpSpPr>
          <p:sp>
            <p:nvSpPr>
              <p:cNvPr id="198" name=""/>
              <p:cNvSpPr/>
              <p:nvPr/>
            </p:nvSpPr>
            <p:spPr>
              <a:xfrm>
                <a:off x="0" y="4824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做一做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879560" y="46080"/>
                <a:ext cx="1836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2361960" y="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02" name=""/>
          <p:cNvGraphicFramePr/>
          <p:nvPr/>
        </p:nvGraphicFramePr>
        <p:xfrm>
          <a:off x="457200" y="4191120"/>
          <a:ext cx="8457840" cy="1904760"/>
        </p:xfrm>
        <a:graphic>
          <a:graphicData uri="http://schemas.openxmlformats.org/drawingml/2006/table">
            <a:tbl>
              <a:tblPr/>
              <a:tblGrid>
                <a:gridCol w="1643040"/>
                <a:gridCol w="757080"/>
                <a:gridCol w="758520"/>
                <a:gridCol w="756720"/>
                <a:gridCol w="757080"/>
                <a:gridCol w="755640"/>
                <a:gridCol w="757080"/>
                <a:gridCol w="758880"/>
                <a:gridCol w="757080"/>
                <a:gridCol w="756720"/>
              </a:tblGrid>
              <a:tr h="107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57200" y="5486400"/>
                <a:ext cx="16416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1981080" y="617220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09680" y="541008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8      3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 0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-1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0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3     8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 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0720" y="2743200"/>
            <a:ext cx="579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Y= </a:t>
            </a:r>
            <a:r>
              <a:rPr b="0" lang="en-US" sz="4800" spc="-1" strike="noStrike">
                <a:solidFill>
                  <a:srgbClr val="0000cc"/>
                </a:solidFill>
                <a:latin typeface="Verdana"/>
              </a:rPr>
              <a:t>x</a:t>
            </a:r>
            <a:r>
              <a:rPr b="1" lang="en-US" sz="4800" spc="-1" strike="noStrike" baseline="30000">
                <a:solidFill>
                  <a:srgbClr val="0000cc"/>
                </a:solidFill>
                <a:latin typeface="隶书"/>
              </a:rPr>
              <a:t>2</a:t>
            </a:r>
            <a:r>
              <a:rPr b="1" lang="en-US" sz="4800" spc="-1" strike="noStrike">
                <a:solidFill>
                  <a:srgbClr val="0000cc"/>
                </a:solidFill>
                <a:latin typeface="隶书"/>
              </a:rPr>
              <a:t>-2x= (x-1)</a:t>
            </a:r>
            <a:r>
              <a:rPr b="1" lang="en-US" sz="4800" spc="-1" strike="noStrike" baseline="30000">
                <a:solidFill>
                  <a:srgbClr val="0000cc"/>
                </a:solidFill>
                <a:latin typeface="隶书"/>
              </a:rPr>
              <a:t>2</a:t>
            </a:r>
            <a:r>
              <a:rPr b="1" lang="en-US" sz="4800" spc="-1" strike="noStrike">
                <a:solidFill>
                  <a:srgbClr val="0000cc"/>
                </a:solidFill>
                <a:latin typeface="隶书"/>
              </a:rPr>
              <a:t>-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4067280" y="2536920"/>
            <a:ext cx="4465080" cy="4320720"/>
            <a:chOff x="4067280" y="2536920"/>
            <a:chExt cx="4465080" cy="432072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rcRect l="13436" t="0" r="38399" b="48976"/>
            <a:stretch/>
          </p:blipFill>
          <p:spPr>
            <a:xfrm>
              <a:off x="4067280" y="2536920"/>
              <a:ext cx="4465080" cy="43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6054120" y="2574000"/>
              <a:ext cx="3600" cy="4253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6848280" y="2875320"/>
                  <a:ext cx="1456200" cy="55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1" name=""/>
          <p:cNvSpPr/>
          <p:nvPr/>
        </p:nvSpPr>
        <p:spPr>
          <a:xfrm>
            <a:off x="684360" y="2924280"/>
            <a:ext cx="3809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华文中宋"/>
                <a:ea typeface="华文中宋"/>
              </a:rPr>
              <a:t>用图象表示</a:t>
            </a:r>
            <a:r>
              <a:rPr b="1" lang="zh-CN" sz="4000" spc="-1" strike="noStrike">
                <a:solidFill>
                  <a:srgbClr val="0000cc"/>
                </a:solidFill>
                <a:latin typeface="华文中宋"/>
                <a:ea typeface="华文中宋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536640" y="-360"/>
            <a:ext cx="528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黑体"/>
              </a:rPr>
              <a:t>图象法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黑体"/>
              </a:rPr>
              <a:t>—用图象表示函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1042920" y="1125360"/>
            <a:ext cx="7772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两个数相差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,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设其中较大的一个数为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x,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那么它们的积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是如何随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变化而变化的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0" y="0"/>
            <a:ext cx="3581280" cy="685800"/>
            <a:chOff x="0" y="0"/>
            <a:chExt cx="3581280" cy="685800"/>
          </a:xfrm>
        </p:grpSpPr>
        <p:grpSp>
          <p:nvGrpSpPr>
            <p:cNvPr id="215" name=""/>
            <p:cNvGrpSpPr/>
            <p:nvPr/>
          </p:nvGrpSpPr>
          <p:grpSpPr>
            <a:xfrm>
              <a:off x="0" y="46080"/>
              <a:ext cx="2361960" cy="461880"/>
              <a:chOff x="0" y="46080"/>
              <a:chExt cx="2361960" cy="461880"/>
            </a:xfrm>
          </p:grpSpPr>
          <p:sp>
            <p:nvSpPr>
              <p:cNvPr id="216" name=""/>
              <p:cNvSpPr/>
              <p:nvPr/>
            </p:nvSpPr>
            <p:spPr>
              <a:xfrm>
                <a:off x="0" y="4824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做一做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879560" y="46080"/>
                <a:ext cx="1836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18" name="" descr=""/>
            <p:cNvPicPr/>
            <p:nvPr/>
          </p:nvPicPr>
          <p:blipFill>
            <a:blip r:embed="rId2"/>
            <a:stretch/>
          </p:blipFill>
          <p:spPr>
            <a:xfrm>
              <a:off x="2361960" y="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>
              <a:hlinkClick r:id="" action="ppaction://hlinkshowjump?jump=lastslide"/>
            </p:cNvPr>
            <p:cNvPicPr/>
            <p:nvPr/>
          </p:nvPicPr>
          <p:blipFill>
            <a:blip r:embed="rId3"/>
            <a:stretch/>
          </p:blipFill>
          <p:spPr>
            <a:xfrm>
              <a:off x="0" y="15228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4859280" y="2852640"/>
            <a:ext cx="3960360" cy="3593880"/>
            <a:chOff x="4859280" y="2852640"/>
            <a:chExt cx="3960360" cy="3593880"/>
          </a:xfrm>
        </p:grpSpPr>
        <p:pic>
          <p:nvPicPr>
            <p:cNvPr id="221" name="" descr=""/>
            <p:cNvPicPr/>
            <p:nvPr/>
          </p:nvPicPr>
          <p:blipFill>
            <a:blip r:embed="rId1"/>
            <a:srcRect l="13436" t="0" r="38399" b="48976"/>
            <a:stretch/>
          </p:blipFill>
          <p:spPr>
            <a:xfrm>
              <a:off x="4859280" y="2852640"/>
              <a:ext cx="3960360" cy="35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6621840" y="2883600"/>
              <a:ext cx="3240" cy="3537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7326000" y="3134160"/>
                  <a:ext cx="1291680" cy="46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4" name=""/>
          <p:cNvSpPr/>
          <p:nvPr/>
        </p:nvSpPr>
        <p:spPr>
          <a:xfrm>
            <a:off x="838080" y="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根据以上三种表示方式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回答下列问题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76212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自变量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x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取值范围是什么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1600200"/>
            <a:ext cx="8077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华文中宋"/>
                <a:ea typeface="华文中宋"/>
              </a:rPr>
              <a:t>∵</a:t>
            </a:r>
            <a:r>
              <a:rPr b="1" lang="zh-CN" sz="4000" spc="-1" strike="noStrike">
                <a:solidFill>
                  <a:srgbClr val="0000cc"/>
                </a:solidFill>
                <a:latin typeface="华文中宋"/>
                <a:ea typeface="华文中宋"/>
              </a:rPr>
              <a:t>x</a:t>
            </a:r>
            <a:r>
              <a:rPr b="1" lang="zh-CN" sz="4000" spc="-1" strike="noStrike">
                <a:solidFill>
                  <a:srgbClr val="0000cc"/>
                </a:solidFill>
                <a:latin typeface="华文中宋"/>
                <a:ea typeface="华文中宋"/>
              </a:rPr>
              <a:t>表示任意一个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华文中宋"/>
                <a:ea typeface="华文中宋"/>
              </a:rPr>
              <a:t>∴</a:t>
            </a:r>
            <a:r>
              <a:rPr b="1" lang="zh-CN" sz="4000" spc="-1" strike="noStrike">
                <a:solidFill>
                  <a:srgbClr val="0000cc"/>
                </a:solidFill>
                <a:latin typeface="华文中宋"/>
                <a:ea typeface="华文中宋"/>
              </a:rPr>
              <a:t>自变量</a:t>
            </a:r>
            <a:r>
              <a:rPr b="1" lang="zh-CN" sz="4000" spc="-1" strike="noStrike">
                <a:solidFill>
                  <a:srgbClr val="0000cc"/>
                </a:solidFill>
                <a:latin typeface="华文中宋"/>
                <a:ea typeface="华文中宋"/>
              </a:rPr>
              <a:t>x</a:t>
            </a:r>
            <a:r>
              <a:rPr b="1" lang="zh-CN" sz="4000" spc="-1" strike="noStrike">
                <a:solidFill>
                  <a:srgbClr val="0000cc"/>
                </a:solidFill>
                <a:latin typeface="华文中宋"/>
                <a:ea typeface="华文中宋"/>
              </a:rPr>
              <a:t>的取值范围是</a:t>
            </a:r>
            <a:r>
              <a:rPr b="1" lang="zh-CN" sz="4000" spc="-1" strike="noStrike">
                <a:solidFill>
                  <a:srgbClr val="0000cc"/>
                </a:solidFill>
                <a:latin typeface="华文中宋"/>
                <a:ea typeface="华文中宋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华文中宋"/>
                <a:ea typeface="华文中宋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全体实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300720" y="1916280"/>
                <a:ext cx="259092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或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5508720" y="1052640"/>
            <a:ext cx="3166920" cy="3052440"/>
            <a:chOff x="5508720" y="1052640"/>
            <a:chExt cx="3166920" cy="305244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rcRect l="13436" t="0" r="38399" b="48976"/>
            <a:stretch/>
          </p:blipFill>
          <p:spPr>
            <a:xfrm>
              <a:off x="5508720" y="1052640"/>
              <a:ext cx="3166920" cy="30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917760" y="1078920"/>
              <a:ext cx="2520" cy="30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7481160" y="1291680"/>
                  <a:ext cx="103284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2" name=""/>
          <p:cNvSpPr/>
          <p:nvPr/>
        </p:nvSpPr>
        <p:spPr>
          <a:xfrm>
            <a:off x="684360" y="260280"/>
            <a:ext cx="48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图象的对称轴和顶点坐标分别是什么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41148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何描述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随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变化而变化的情况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1773360"/>
            <a:ext cx="495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由表达式的顶点式和图象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可知图象的对称轴是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: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直线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x=1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顶点坐标是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: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(1,-1)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4800600"/>
            <a:ext cx="815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由表格和图象可知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,y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随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x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的变化而变化的情况是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: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当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x&lt;1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时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y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随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x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的增大而减小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;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当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x&gt;1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时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y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随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x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的增大而增大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867280" y="304920"/>
                <a:ext cx="31244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或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0" y="-27000"/>
            <a:ext cx="3581280" cy="685800"/>
            <a:chOff x="0" y="-27000"/>
            <a:chExt cx="3581280" cy="685800"/>
          </a:xfrm>
        </p:grpSpPr>
        <p:grpSp>
          <p:nvGrpSpPr>
            <p:cNvPr id="238" name=""/>
            <p:cNvGrpSpPr/>
            <p:nvPr/>
          </p:nvGrpSpPr>
          <p:grpSpPr>
            <a:xfrm>
              <a:off x="0" y="19080"/>
              <a:ext cx="2361960" cy="461880"/>
              <a:chOff x="0" y="19080"/>
              <a:chExt cx="2361960" cy="461880"/>
            </a:xfrm>
          </p:grpSpPr>
          <p:sp>
            <p:nvSpPr>
              <p:cNvPr id="239" name=""/>
              <p:cNvSpPr/>
              <p:nvPr/>
            </p:nvSpPr>
            <p:spPr>
              <a:xfrm>
                <a:off x="0" y="2124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议一议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79560" y="19080"/>
                <a:ext cx="1836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41" name="" descr=""/>
            <p:cNvPicPr/>
            <p:nvPr/>
          </p:nvPicPr>
          <p:blipFill>
            <a:blip r:embed="rId1"/>
            <a:stretch/>
          </p:blipFill>
          <p:spPr>
            <a:xfrm>
              <a:off x="2361960" y="-2700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0" y="12528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7280" y="-360"/>
            <a:ext cx="36734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知识在于比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040" y="914040"/>
            <a:ext cx="7924680" cy="13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二次函数的三种表示方式各有什么特点</a:t>
            </a:r>
            <a:r>
              <a:rPr b="1" lang="zh-CN" sz="31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r>
              <a:rPr b="1" lang="zh-CN" sz="3100" spc="-1" strike="noStrike">
                <a:solidFill>
                  <a:srgbClr val="000000"/>
                </a:solidFill>
                <a:latin typeface="华文中宋"/>
                <a:ea typeface="华文中宋"/>
              </a:rPr>
              <a:t>它们之间有什么联系</a:t>
            </a:r>
            <a:r>
              <a:rPr b="1" lang="zh-CN" sz="3100" spc="-1" strike="noStrike">
                <a:solidFill>
                  <a:srgbClr val="000000"/>
                </a:solidFill>
                <a:latin typeface="华文中宋"/>
                <a:ea typeface="华文中宋"/>
              </a:rPr>
              <a:t>?  </a:t>
            </a:r>
            <a:r>
              <a:rPr b="1" lang="zh-CN" sz="31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与同伴进行交流</a:t>
            </a:r>
            <a:r>
              <a:rPr b="1" lang="zh-CN" sz="3100" spc="-1" strike="noStrike">
                <a:solidFill>
                  <a:srgbClr val="000000"/>
                </a:solidFill>
                <a:latin typeface="华文中宋"/>
                <a:ea typeface="华文中宋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28600" y="2133720"/>
          <a:ext cx="8763120" cy="4495680"/>
        </p:xfrm>
        <a:graphic>
          <a:graphicData uri="http://schemas.openxmlformats.org/drawingml/2006/table">
            <a:tbl>
              <a:tblPr/>
              <a:tblGrid>
                <a:gridCol w="974880"/>
                <a:gridCol w="3892320"/>
                <a:gridCol w="3895920"/>
              </a:tblGrid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表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优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缺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表达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表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图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关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1295280" y="28954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华文中宋"/>
                <a:ea typeface="华文中宋"/>
              </a:rPr>
              <a:t>变量间关系简捷明了</a:t>
            </a:r>
            <a:r>
              <a:rPr b="1" lang="zh-CN" sz="2400" spc="-1" strike="noStrike">
                <a:solidFill>
                  <a:srgbClr val="0000cc"/>
                </a:solidFill>
                <a:latin typeface="华文中宋"/>
                <a:ea typeface="华文中宋"/>
              </a:rPr>
              <a:t>,</a:t>
            </a:r>
            <a:r>
              <a:rPr b="1" lang="zh-CN" sz="2400" spc="-1" strike="noStrike">
                <a:solidFill>
                  <a:srgbClr val="0000cc"/>
                </a:solidFill>
                <a:latin typeface="华文中宋"/>
                <a:ea typeface="华文中宋"/>
              </a:rPr>
              <a:t>便于分析计算</a:t>
            </a:r>
            <a:r>
              <a:rPr b="1" lang="zh-CN" sz="2400" spc="-1" strike="noStrike">
                <a:solidFill>
                  <a:srgbClr val="0000cc"/>
                </a:solidFill>
                <a:latin typeface="华文中宋"/>
                <a:ea typeface="华文中宋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81480" y="28954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华文中宋"/>
                <a:ea typeface="华文中宋"/>
              </a:rPr>
              <a:t>需要通过计算</a:t>
            </a:r>
            <a:r>
              <a:rPr b="1" lang="zh-CN" sz="2400" spc="-1" strike="noStrike">
                <a:solidFill>
                  <a:srgbClr val="0000cc"/>
                </a:solidFill>
                <a:latin typeface="华文中宋"/>
                <a:ea typeface="华文中宋"/>
              </a:rPr>
              <a:t>,</a:t>
            </a:r>
            <a:r>
              <a:rPr b="1" lang="zh-CN" sz="2400" spc="-1" strike="noStrike">
                <a:solidFill>
                  <a:srgbClr val="0000cc"/>
                </a:solidFill>
                <a:latin typeface="华文中宋"/>
                <a:ea typeface="华文中宋"/>
              </a:rPr>
              <a:t>才能得到所需结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95280" y="38098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  <a:ea typeface="华文中宋"/>
              </a:rPr>
              <a:t>能直接得到某些具体的对应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05520" y="38098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  <a:ea typeface="华文中宋"/>
              </a:rPr>
              <a:t>不能反映函数整体的变化情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71600" y="42670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华文中宋"/>
                <a:ea typeface="华文中宋"/>
              </a:rPr>
              <a:t>直观表示了变量间变化过程和变化趋势</a:t>
            </a:r>
            <a:r>
              <a:rPr b="1" lang="zh-CN" sz="2400" spc="-1" strike="noStrike">
                <a:solidFill>
                  <a:srgbClr val="0000cc"/>
                </a:solidFill>
                <a:latin typeface="华文中宋"/>
                <a:ea typeface="华文中宋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4197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华文中宋"/>
                <a:ea typeface="华文中宋"/>
              </a:rPr>
              <a:t>函数值只能是近似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71600" y="518148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表达式是基础</a:t>
            </a: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是重点</a:t>
            </a: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表格是画图象的关键</a:t>
            </a: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图象是在表达式和表格的基础上对函数的总体概括和形象化的表达</a:t>
            </a: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0" y="549000"/>
            <a:ext cx="3657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Tahoma"/>
                <a:ea typeface="隶书"/>
              </a:rPr>
              <a:t>学以致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990720" y="0"/>
            <a:ext cx="3009960" cy="1523520"/>
            <a:chOff x="990720" y="0"/>
            <a:chExt cx="3009960" cy="1523520"/>
          </a:xfrm>
        </p:grpSpPr>
        <p:pic>
          <p:nvPicPr>
            <p:cNvPr id="255" name="" descr=""/>
            <p:cNvPicPr/>
            <p:nvPr/>
          </p:nvPicPr>
          <p:blipFill>
            <a:blip r:embed="rId1"/>
            <a:stretch/>
          </p:blipFill>
          <p:spPr>
            <a:xfrm>
              <a:off x="2286360" y="87480"/>
              <a:ext cx="1714320" cy="136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" name=""/>
            <p:cNvGrpSpPr/>
            <p:nvPr/>
          </p:nvGrpSpPr>
          <p:grpSpPr>
            <a:xfrm>
              <a:off x="990720" y="0"/>
              <a:ext cx="1295640" cy="1523520"/>
              <a:chOff x="990720" y="0"/>
              <a:chExt cx="1295640" cy="1523520"/>
            </a:xfrm>
          </p:grpSpPr>
          <p:sp>
            <p:nvSpPr>
              <p:cNvPr id="257" name=""/>
              <p:cNvSpPr/>
              <p:nvPr/>
            </p:nvSpPr>
            <p:spPr>
              <a:xfrm>
                <a:off x="990720" y="0"/>
                <a:ext cx="1266120" cy="152352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004760" y="57240"/>
                <a:ext cx="1281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1143360" y="182520"/>
              <a:ext cx="10666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独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作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684360" y="1752480"/>
            <a:ext cx="69339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P</a:t>
            </a:r>
            <a:r>
              <a:rPr b="0" lang="zh-CN" sz="5400" spc="-1" strike="noStrike" baseline="-25000">
                <a:solidFill>
                  <a:srgbClr val="000000"/>
                </a:solidFill>
                <a:latin typeface="Times New Roman"/>
                <a:ea typeface="隶书"/>
              </a:rPr>
              <a:t>58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第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1,2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题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P</a:t>
            </a:r>
            <a:r>
              <a:rPr b="0" lang="zh-CN" sz="5400" spc="-1" strike="noStrike" baseline="-25000">
                <a:solidFill>
                  <a:srgbClr val="000000"/>
                </a:solidFill>
                <a:latin typeface="Times New Roman"/>
                <a:ea typeface="隶书"/>
              </a:rPr>
              <a:t>73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第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题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P</a:t>
            </a:r>
            <a:r>
              <a:rPr b="0" lang="zh-CN" sz="5400" spc="-1" strike="noStrike" baseline="-25000">
                <a:solidFill>
                  <a:srgbClr val="000000"/>
                </a:solidFill>
                <a:latin typeface="Times New Roman"/>
                <a:ea typeface="隶书"/>
              </a:rPr>
              <a:t>74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第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6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题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）预习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P59~6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祝你成功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6781680" y="4437000"/>
            <a:ext cx="2614320" cy="1893600"/>
            <a:chOff x="6781680" y="4437000"/>
            <a:chExt cx="2614320" cy="1893600"/>
          </a:xfrm>
        </p:grpSpPr>
        <p:pic>
          <p:nvPicPr>
            <p:cNvPr id="262" name="" descr=""/>
            <p:cNvPicPr/>
            <p:nvPr/>
          </p:nvPicPr>
          <p:blipFill>
            <a:blip r:embed="rId3"/>
            <a:stretch/>
          </p:blipFill>
          <p:spPr>
            <a:xfrm>
              <a:off x="6781680" y="4437000"/>
              <a:ext cx="2614320" cy="18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7287480" y="5190480"/>
              <a:ext cx="14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胜利在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55640" y="4005360"/>
            <a:ext cx="7878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随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的而变化的规律是什么？你能分别用</a:t>
            </a:r>
            <a:r>
              <a:rPr b="1" lang="zh-CN" sz="4400" spc="-1" strike="noStrike" u="sng">
                <a:solidFill>
                  <a:srgbClr val="0000cc"/>
                </a:solidFill>
                <a:uFillTx/>
                <a:latin typeface="Times New Roman"/>
              </a:rPr>
              <a:t>函数表达式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1" lang="zh-CN" sz="4400" spc="-1" strike="noStrike" u="sng">
                <a:solidFill>
                  <a:srgbClr val="0000cc"/>
                </a:solidFill>
                <a:uFillTx/>
                <a:latin typeface="Times New Roman"/>
              </a:rPr>
              <a:t>表格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和</a:t>
            </a:r>
            <a:r>
              <a:rPr b="1" lang="zh-CN" sz="4400" spc="-1" strike="noStrike" u="sng">
                <a:solidFill>
                  <a:srgbClr val="0000cc"/>
                </a:solidFill>
                <a:uFillTx/>
                <a:latin typeface="Times New Roman"/>
              </a:rPr>
              <a:t>图象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表示出来吗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347640" y="404640"/>
            <a:ext cx="5040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黑体"/>
              </a:rPr>
              <a:t>函数的表示方式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927000" y="1197000"/>
            <a:ext cx="8217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已知矩形周长为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20cm,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并设它的一边长为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xcm,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面积为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ycm</a:t>
            </a:r>
            <a:r>
              <a:rPr b="1" lang="zh-CN" sz="3600" spc="-1" strike="noStrike" baseline="30000">
                <a:solidFill>
                  <a:srgbClr val="000000"/>
                </a:solidFill>
                <a:latin typeface="隶书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260280"/>
            <a:ext cx="2590920" cy="825480"/>
            <a:chOff x="0" y="260280"/>
            <a:chExt cx="2590920" cy="825480"/>
          </a:xfrm>
        </p:grpSpPr>
        <p:sp>
          <p:nvSpPr>
            <p:cNvPr id="104" name=""/>
            <p:cNvSpPr/>
            <p:nvPr/>
          </p:nvSpPr>
          <p:spPr>
            <a:xfrm>
              <a:off x="228600" y="307800"/>
              <a:ext cx="2362320" cy="5205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做一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0" y="260280"/>
              <a:ext cx="838440" cy="825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812000" y="333360"/>
            <a:ext cx="522360" cy="60948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5029200" y="2362320"/>
            <a:ext cx="3179520" cy="1541160"/>
            <a:chOff x="5029200" y="2362320"/>
            <a:chExt cx="3179520" cy="1541160"/>
          </a:xfrm>
        </p:grpSpPr>
        <p:sp>
          <p:nvSpPr>
            <p:cNvPr id="108" name=""/>
            <p:cNvSpPr/>
            <p:nvPr/>
          </p:nvSpPr>
          <p:spPr>
            <a:xfrm>
              <a:off x="5458680" y="2362320"/>
              <a:ext cx="2750040" cy="1541160"/>
            </a:xfrm>
            <a:prstGeom prst="rect">
              <a:avLst/>
            </a:prstGeom>
            <a:noFill/>
            <a:ln w="47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029200" y="2815560"/>
              <a:ext cx="51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90080" y="2815560"/>
              <a:ext cx="42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8360" y="4221000"/>
            <a:ext cx="5975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用函数表达式表示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43280" y="259920"/>
            <a:ext cx="6842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隶书"/>
                <a:ea typeface="黑体"/>
              </a:rPr>
              <a:t>解析法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黑体"/>
              </a:rPr>
              <a:t>—用表达式表示函数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黑体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1197000"/>
            <a:ext cx="7696440" cy="15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</a:rPr>
              <a:t>已知矩形周长为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</a:rPr>
              <a:t>20cm,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</a:rPr>
              <a:t>并设它的一边长为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</a:rPr>
              <a:t>xcm,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</a:rPr>
              <a:t>面积为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</a:rPr>
              <a:t>ycm</a:t>
            </a:r>
            <a:r>
              <a:rPr b="1" lang="zh-CN" sz="4400" spc="-1" strike="noStrike" baseline="30000">
                <a:solidFill>
                  <a:srgbClr val="000000"/>
                </a:solidFill>
                <a:latin typeface="隶书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148360" y="2781360"/>
            <a:ext cx="3200040" cy="1599840"/>
            <a:chOff x="5148360" y="2781360"/>
            <a:chExt cx="3200040" cy="1599840"/>
          </a:xfrm>
        </p:grpSpPr>
        <p:sp>
          <p:nvSpPr>
            <p:cNvPr id="115" name=""/>
            <p:cNvSpPr/>
            <p:nvPr/>
          </p:nvSpPr>
          <p:spPr>
            <a:xfrm>
              <a:off x="5580720" y="2781360"/>
              <a:ext cx="2767680" cy="1599840"/>
            </a:xfrm>
            <a:prstGeom prst="rect">
              <a:avLst/>
            </a:prstGeom>
            <a:noFill/>
            <a:ln w="47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48360" y="3251520"/>
              <a:ext cx="51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618600" y="3251520"/>
              <a:ext cx="43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755640" y="537372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Verdana"/>
              </a:rPr>
              <a:t>Y=x(10-x)=-x</a:t>
            </a:r>
            <a:r>
              <a:rPr b="1" lang="en-US" sz="4800" spc="-1" strike="noStrike" baseline="30000">
                <a:solidFill>
                  <a:srgbClr val="0000cc"/>
                </a:solidFill>
                <a:latin typeface="隶书"/>
              </a:rPr>
              <a:t>2</a:t>
            </a:r>
            <a:r>
              <a:rPr b="1" lang="en-US" sz="4800" spc="-1" strike="noStrike">
                <a:solidFill>
                  <a:srgbClr val="0000cc"/>
                </a:solidFill>
                <a:latin typeface="隶书"/>
              </a:rPr>
              <a:t>+10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0" y="260280"/>
            <a:ext cx="2590920" cy="825480"/>
            <a:chOff x="0" y="260280"/>
            <a:chExt cx="2590920" cy="825480"/>
          </a:xfrm>
        </p:grpSpPr>
        <p:sp>
          <p:nvSpPr>
            <p:cNvPr id="120" name=""/>
            <p:cNvSpPr/>
            <p:nvPr/>
          </p:nvSpPr>
          <p:spPr>
            <a:xfrm>
              <a:off x="228600" y="307800"/>
              <a:ext cx="2362320" cy="5205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做一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0" y="260280"/>
              <a:ext cx="838440" cy="82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"/>
          <p:cNvSpPr/>
          <p:nvPr/>
        </p:nvSpPr>
        <p:spPr>
          <a:xfrm>
            <a:off x="755640" y="6308640"/>
            <a:ext cx="5688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3500280"/>
            <a:ext cx="3665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中宋"/>
              </a:rPr>
              <a:t>用表格表示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25200" y="333000"/>
            <a:ext cx="641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隶书"/>
                <a:ea typeface="黑体"/>
              </a:rPr>
              <a:t>列表法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黑体"/>
              </a:rPr>
              <a:t>—用表格表示函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33520" y="4462560"/>
          <a:ext cx="8001000" cy="1552320"/>
        </p:xfrm>
        <a:graphic>
          <a:graphicData uri="http://schemas.openxmlformats.org/drawingml/2006/table">
            <a:tbl>
              <a:tblPr/>
              <a:tblGrid>
                <a:gridCol w="1554120"/>
                <a:gridCol w="716040"/>
                <a:gridCol w="717480"/>
                <a:gridCol w="716040"/>
                <a:gridCol w="715680"/>
                <a:gridCol w="716040"/>
                <a:gridCol w="716040"/>
                <a:gridCol w="717480"/>
                <a:gridCol w="716040"/>
                <a:gridCol w="7160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-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33520" y="4462560"/>
          <a:ext cx="8001000" cy="1552320"/>
        </p:xfrm>
        <a:graphic>
          <a:graphicData uri="http://schemas.openxmlformats.org/drawingml/2006/table">
            <a:tbl>
              <a:tblPr/>
              <a:tblGrid>
                <a:gridCol w="1554120"/>
                <a:gridCol w="716040"/>
                <a:gridCol w="717480"/>
                <a:gridCol w="716040"/>
                <a:gridCol w="715680"/>
                <a:gridCol w="716040"/>
                <a:gridCol w="716040"/>
                <a:gridCol w="717480"/>
                <a:gridCol w="716040"/>
                <a:gridCol w="7160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533520" y="4495680"/>
          <a:ext cx="8001000" cy="1552680"/>
        </p:xfrm>
        <a:graphic>
          <a:graphicData uri="http://schemas.openxmlformats.org/drawingml/2006/table">
            <a:tbl>
              <a:tblPr/>
              <a:tblGrid>
                <a:gridCol w="1517400"/>
                <a:gridCol w="752760"/>
                <a:gridCol w="717480"/>
                <a:gridCol w="716040"/>
                <a:gridCol w="715680"/>
                <a:gridCol w="716040"/>
                <a:gridCol w="716040"/>
                <a:gridCol w="717480"/>
                <a:gridCol w="716040"/>
                <a:gridCol w="7160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826920" y="1125360"/>
            <a:ext cx="787572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</a:rPr>
              <a:t>已知矩形周长为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</a:rPr>
              <a:t>20cm,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</a:rPr>
              <a:t>并设它的一边长为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</a:rPr>
              <a:t>xcm,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</a:rPr>
              <a:t>面积为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</a:rPr>
              <a:t>ycm</a:t>
            </a:r>
            <a:r>
              <a:rPr b="1" lang="zh-CN" sz="4400" spc="-1" strike="noStrike" baseline="30000">
                <a:solidFill>
                  <a:srgbClr val="000000"/>
                </a:solidFill>
                <a:latin typeface="隶书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716360" y="2781360"/>
            <a:ext cx="3352680" cy="1371240"/>
            <a:chOff x="4716360" y="2781360"/>
            <a:chExt cx="3352680" cy="1371240"/>
          </a:xfrm>
        </p:grpSpPr>
        <p:sp>
          <p:nvSpPr>
            <p:cNvPr id="130" name=""/>
            <p:cNvSpPr/>
            <p:nvPr/>
          </p:nvSpPr>
          <p:spPr>
            <a:xfrm>
              <a:off x="5169240" y="2781360"/>
              <a:ext cx="2899800" cy="1371240"/>
            </a:xfrm>
            <a:prstGeom prst="rect">
              <a:avLst/>
            </a:prstGeom>
            <a:noFill/>
            <a:ln w="47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16360" y="318456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56800" y="3184560"/>
              <a:ext cx="4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0" y="260280"/>
            <a:ext cx="2590920" cy="825480"/>
            <a:chOff x="0" y="260280"/>
            <a:chExt cx="2590920" cy="825480"/>
          </a:xfrm>
        </p:grpSpPr>
        <p:sp>
          <p:nvSpPr>
            <p:cNvPr id="134" name=""/>
            <p:cNvSpPr/>
            <p:nvPr/>
          </p:nvSpPr>
          <p:spPr>
            <a:xfrm>
              <a:off x="228600" y="307800"/>
              <a:ext cx="2362320" cy="5205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做一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0" y="260280"/>
              <a:ext cx="838440" cy="825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25444" t="0" r="37928" b="51780"/>
          <a:stretch/>
        </p:blipFill>
        <p:spPr>
          <a:xfrm>
            <a:off x="539640" y="2997360"/>
            <a:ext cx="3934080" cy="34779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258920" y="2421000"/>
            <a:ext cx="3352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华文中宋"/>
                <a:ea typeface="华文中宋"/>
              </a:rPr>
              <a:t>用图象表示</a:t>
            </a:r>
            <a:r>
              <a:rPr b="1" lang="zh-CN" sz="4000" spc="-1" strike="noStrike">
                <a:solidFill>
                  <a:srgbClr val="0000cc"/>
                </a:solidFill>
                <a:latin typeface="华文中宋"/>
                <a:ea typeface="华文中宋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5832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隶书"/>
                <a:ea typeface="黑体"/>
              </a:rPr>
              <a:t>图象法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黑体"/>
              </a:rPr>
              <a:t>—用图象表示函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1073160" y="1125360"/>
            <a:ext cx="807084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</a:rPr>
              <a:t>已知矩形周长为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</a:rPr>
              <a:t>20cm,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</a:rPr>
              <a:t>并设它的一边长为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</a:rPr>
              <a:t>xcm,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</a:rPr>
              <a:t>面积为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</a:rPr>
              <a:t>ycm</a:t>
            </a:r>
            <a:r>
              <a:rPr b="1" lang="zh-CN" sz="4000" spc="-1" strike="noStrike" baseline="30000">
                <a:solidFill>
                  <a:srgbClr val="000000"/>
                </a:solidFill>
                <a:latin typeface="隶书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932360" y="3429000"/>
            <a:ext cx="3276360" cy="1676160"/>
            <a:chOff x="4932360" y="3429000"/>
            <a:chExt cx="3276360" cy="1676160"/>
          </a:xfrm>
        </p:grpSpPr>
        <p:sp>
          <p:nvSpPr>
            <p:cNvPr id="141" name=""/>
            <p:cNvSpPr/>
            <p:nvPr/>
          </p:nvSpPr>
          <p:spPr>
            <a:xfrm>
              <a:off x="5374800" y="3429000"/>
              <a:ext cx="2833920" cy="1676160"/>
            </a:xfrm>
            <a:prstGeom prst="rect">
              <a:avLst/>
            </a:prstGeom>
            <a:noFill/>
            <a:ln w="47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32360" y="3921840"/>
              <a:ext cx="53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37520" y="3921840"/>
              <a:ext cx="44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0" y="333360"/>
            <a:ext cx="2590920" cy="825480"/>
            <a:chOff x="0" y="333360"/>
            <a:chExt cx="2590920" cy="825480"/>
          </a:xfrm>
        </p:grpSpPr>
        <p:sp>
          <p:nvSpPr>
            <p:cNvPr id="145" name=""/>
            <p:cNvSpPr/>
            <p:nvPr/>
          </p:nvSpPr>
          <p:spPr>
            <a:xfrm>
              <a:off x="228600" y="380880"/>
              <a:ext cx="2362320" cy="5205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做一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6" name="" descr=""/>
            <p:cNvPicPr/>
            <p:nvPr/>
          </p:nvPicPr>
          <p:blipFill>
            <a:blip r:embed="rId2"/>
            <a:stretch/>
          </p:blipFill>
          <p:spPr>
            <a:xfrm>
              <a:off x="0" y="333360"/>
              <a:ext cx="838440" cy="825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3860640"/>
            <a:ext cx="8077320" cy="27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华文中宋"/>
                <a:ea typeface="华文中宋"/>
              </a:rPr>
              <a:t>因为</a:t>
            </a:r>
            <a:r>
              <a:rPr b="1" lang="zh-CN" sz="4400" spc="-1" strike="noStrike">
                <a:solidFill>
                  <a:srgbClr val="0000cc"/>
                </a:solidFill>
                <a:latin typeface="华文中宋"/>
                <a:ea typeface="华文中宋"/>
              </a:rPr>
              <a:t>x</a:t>
            </a:r>
            <a:r>
              <a:rPr b="1" lang="zh-CN" sz="4400" spc="-1" strike="noStrike">
                <a:solidFill>
                  <a:srgbClr val="0000cc"/>
                </a:solidFill>
                <a:latin typeface="华文中宋"/>
                <a:ea typeface="华文中宋"/>
              </a:rPr>
              <a:t>表示周长为</a:t>
            </a:r>
            <a:r>
              <a:rPr b="1" lang="zh-CN" sz="4400" spc="-1" strike="noStrike">
                <a:solidFill>
                  <a:srgbClr val="0000cc"/>
                </a:solidFill>
                <a:latin typeface="华文中宋"/>
                <a:ea typeface="华文中宋"/>
              </a:rPr>
              <a:t>20cm</a:t>
            </a:r>
            <a:r>
              <a:rPr b="1" lang="zh-CN" sz="4400" spc="-1" strike="noStrike">
                <a:solidFill>
                  <a:srgbClr val="0000cc"/>
                </a:solidFill>
                <a:latin typeface="华文中宋"/>
                <a:ea typeface="华文中宋"/>
              </a:rPr>
              <a:t>的矩形边长</a:t>
            </a:r>
            <a:r>
              <a:rPr b="1" lang="zh-CN" sz="4400" spc="-1" strike="noStrike">
                <a:solidFill>
                  <a:srgbClr val="0000cc"/>
                </a:solidFill>
                <a:latin typeface="华文中宋"/>
                <a:ea typeface="华文中宋"/>
              </a:rPr>
              <a:t>,</a:t>
            </a:r>
            <a:r>
              <a:rPr b="1" lang="zh-CN" sz="4400" spc="-1" strike="noStrike">
                <a:solidFill>
                  <a:srgbClr val="0000cc"/>
                </a:solidFill>
                <a:latin typeface="华文中宋"/>
                <a:ea typeface="华文中宋"/>
              </a:rPr>
              <a:t>所以</a:t>
            </a: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x&gt;0,10-x&gt;0</a:t>
            </a:r>
            <a:r>
              <a:rPr b="1" lang="zh-CN" sz="4400" spc="-1" strike="noStrike">
                <a:solidFill>
                  <a:srgbClr val="0000cc"/>
                </a:solidFill>
                <a:latin typeface="华文中宋"/>
                <a:ea typeface="华文中宋"/>
              </a:rPr>
              <a:t>.</a:t>
            </a:r>
            <a:r>
              <a:rPr b="1" lang="zh-CN" sz="4400" spc="-1" strike="noStrike">
                <a:solidFill>
                  <a:srgbClr val="0000cc"/>
                </a:solidFill>
                <a:latin typeface="华文中宋"/>
                <a:ea typeface="华文中宋"/>
              </a:rPr>
              <a:t>因此，自变量</a:t>
            </a:r>
            <a:r>
              <a:rPr b="1" lang="zh-CN" sz="4400" spc="-1" strike="noStrike">
                <a:solidFill>
                  <a:srgbClr val="0000cc"/>
                </a:solidFill>
                <a:latin typeface="华文中宋"/>
                <a:ea typeface="华文中宋"/>
              </a:rPr>
              <a:t>x</a:t>
            </a:r>
            <a:r>
              <a:rPr b="1" lang="zh-CN" sz="4400" spc="-1" strike="noStrike">
                <a:solidFill>
                  <a:srgbClr val="0000cc"/>
                </a:solidFill>
                <a:latin typeface="华文中宋"/>
                <a:ea typeface="华文中宋"/>
              </a:rPr>
              <a:t>的取值范围是</a:t>
            </a: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0&lt;x&lt;10</a:t>
            </a:r>
            <a:r>
              <a:rPr b="1" lang="zh-CN" sz="4400" spc="-1" strike="noStrike">
                <a:solidFill>
                  <a:srgbClr val="0000cc"/>
                </a:solidFill>
                <a:latin typeface="华文中宋"/>
                <a:ea typeface="华文中宋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24000" y="333360"/>
            <a:ext cx="2818800" cy="800280"/>
            <a:chOff x="324000" y="333360"/>
            <a:chExt cx="2818800" cy="800280"/>
          </a:xfrm>
        </p:grpSpPr>
        <p:sp>
          <p:nvSpPr>
            <p:cNvPr id="149" name=""/>
            <p:cNvSpPr/>
            <p:nvPr/>
          </p:nvSpPr>
          <p:spPr>
            <a:xfrm>
              <a:off x="780840" y="334800"/>
              <a:ext cx="2361960" cy="5205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议一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324000" y="333360"/>
              <a:ext cx="914040" cy="80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26920" y="1052280"/>
            <a:ext cx="7391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上述问题中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自变量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x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取值范围是什么？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6084720" y="2133720"/>
            <a:ext cx="2590560" cy="1447200"/>
            <a:chOff x="6084720" y="2133720"/>
            <a:chExt cx="2590560" cy="1447200"/>
          </a:xfrm>
        </p:grpSpPr>
        <p:sp>
          <p:nvSpPr>
            <p:cNvPr id="153" name=""/>
            <p:cNvSpPr/>
            <p:nvPr/>
          </p:nvSpPr>
          <p:spPr>
            <a:xfrm>
              <a:off x="6434640" y="2133720"/>
              <a:ext cx="2240640" cy="14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84720" y="2559240"/>
              <a:ext cx="41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74880" y="255924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352680" y="4038480"/>
            <a:ext cx="556272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即当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x=</a:t>
            </a:r>
            <a:r>
              <a:rPr b="1" lang="zh-CN" sz="4400" spc="-1" strike="noStrike">
                <a:solidFill>
                  <a:srgbClr val="a50021"/>
                </a:solidFill>
                <a:latin typeface="华文中宋"/>
                <a:ea typeface="华文中宋"/>
              </a:rPr>
              <a:t>5cm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时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长方形的面积最大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它的最大面积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=</a:t>
            </a:r>
            <a:r>
              <a:rPr b="1" lang="zh-CN" sz="4400" spc="-1" strike="noStrike">
                <a:solidFill>
                  <a:srgbClr val="a50021"/>
                </a:solidFill>
                <a:latin typeface="华文中宋"/>
                <a:ea typeface="华文中宋"/>
              </a:rPr>
              <a:t>25cm</a:t>
            </a:r>
            <a:r>
              <a:rPr b="1" lang="zh-CN" sz="4400" spc="-1" strike="noStrike" baseline="30000">
                <a:solidFill>
                  <a:srgbClr val="a50021"/>
                </a:solidFill>
                <a:latin typeface="华文中宋"/>
                <a:ea typeface="华文中宋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971280" y="1052640"/>
            <a:ext cx="73911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当</a:t>
            </a:r>
            <a:r>
              <a:rPr b="1" lang="zh-CN" sz="3800" spc="-1" strike="noStrike">
                <a:solidFill>
                  <a:srgbClr val="000000"/>
                </a:solidFill>
                <a:latin typeface="华文中宋"/>
                <a:ea typeface="华文中宋"/>
              </a:rPr>
              <a:t>x</a:t>
            </a:r>
            <a:r>
              <a:rPr b="1" lang="zh-CN" sz="3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取何值时</a:t>
            </a:r>
            <a:r>
              <a:rPr b="1" lang="zh-CN" sz="38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长方形的面积最大？它的最大面积是多少</a:t>
            </a:r>
            <a:r>
              <a:rPr b="1" lang="zh-CN" sz="38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25444" t="0" r="37928" b="51780"/>
          <a:stretch/>
        </p:blipFill>
        <p:spPr>
          <a:xfrm>
            <a:off x="380880" y="2743200"/>
            <a:ext cx="2795760" cy="3124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295280" y="3124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25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514600" y="2286000"/>
                <a:ext cx="63244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3276720" y="3124080"/>
            <a:ext cx="51051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∴</a:t>
            </a:r>
            <a:r>
              <a:rPr b="0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当</a:t>
            </a:r>
            <a:r>
              <a:rPr b="0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x=5</a:t>
            </a:r>
            <a:r>
              <a:rPr b="0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时</a:t>
            </a:r>
            <a:r>
              <a:rPr b="0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,y</a:t>
            </a:r>
            <a:r>
              <a:rPr b="0" lang="zh-CN" sz="2800" spc="-1" strike="noStrike" baseline="-25000">
                <a:solidFill>
                  <a:srgbClr val="ff0000"/>
                </a:solidFill>
                <a:latin typeface="华文中宋"/>
                <a:ea typeface="华文中宋"/>
              </a:rPr>
              <a:t>最大</a:t>
            </a:r>
            <a:r>
              <a:rPr b="0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=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80880" y="0"/>
            <a:ext cx="2819520" cy="800280"/>
            <a:chOff x="380880" y="0"/>
            <a:chExt cx="2819520" cy="800280"/>
          </a:xfrm>
        </p:grpSpPr>
        <p:sp>
          <p:nvSpPr>
            <p:cNvPr id="164" name=""/>
            <p:cNvSpPr/>
            <p:nvPr/>
          </p:nvSpPr>
          <p:spPr>
            <a:xfrm>
              <a:off x="838080" y="1440"/>
              <a:ext cx="2362320" cy="5205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议一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380880" y="0"/>
              <a:ext cx="914400" cy="800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440" y="8380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请你描述一下</a:t>
            </a:r>
            <a:r>
              <a:rPr b="1" lang="zh-CN" sz="3800" spc="-1" strike="noStrike">
                <a:solidFill>
                  <a:srgbClr val="000000"/>
                </a:solidFill>
                <a:latin typeface="华文中宋"/>
                <a:ea typeface="华文中宋"/>
              </a:rPr>
              <a:t>y</a:t>
            </a:r>
            <a:r>
              <a:rPr b="1" lang="zh-CN" sz="3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随</a:t>
            </a:r>
            <a:r>
              <a:rPr b="1" lang="zh-CN" sz="3800" spc="-1" strike="noStrike">
                <a:solidFill>
                  <a:srgbClr val="000000"/>
                </a:solidFill>
                <a:latin typeface="华文中宋"/>
                <a:ea typeface="华文中宋"/>
              </a:rPr>
              <a:t>x</a:t>
            </a:r>
            <a:r>
              <a:rPr b="1" lang="zh-CN" sz="3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变化而变化的情况</a:t>
            </a:r>
            <a:r>
              <a:rPr b="1" lang="zh-CN" sz="3800" spc="-1" strike="noStrike">
                <a:solidFill>
                  <a:srgbClr val="000000"/>
                </a:solidFill>
                <a:latin typeface="华文中宋"/>
                <a:ea typeface="华文中宋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25444" t="0" r="37928" b="51780"/>
          <a:stretch/>
        </p:blipFill>
        <p:spPr>
          <a:xfrm>
            <a:off x="380880" y="2819520"/>
            <a:ext cx="2727360" cy="3047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295280" y="3124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25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514600" y="1800360"/>
                <a:ext cx="647712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3352680" y="2743200"/>
            <a:ext cx="5791320" cy="31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当</a:t>
            </a:r>
            <a:r>
              <a:rPr b="1" lang="zh-CN" sz="4400" spc="-1" strike="noStrike">
                <a:solidFill>
                  <a:srgbClr val="a50021"/>
                </a:solidFill>
                <a:latin typeface="华文中宋"/>
                <a:ea typeface="华文中宋"/>
              </a:rPr>
              <a:t>0&lt;x&lt;5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时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,y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随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x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增大而增大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当</a:t>
            </a:r>
            <a:r>
              <a:rPr b="1" lang="zh-CN" sz="4400" spc="-1" strike="noStrike">
                <a:solidFill>
                  <a:srgbClr val="a50021"/>
                </a:solidFill>
                <a:latin typeface="华文中宋"/>
                <a:ea typeface="华文中宋"/>
              </a:rPr>
              <a:t>5&lt;x&lt;10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时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,y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随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x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增大而减小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.</a:t>
            </a: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80880" y="0"/>
            <a:ext cx="2819520" cy="800280"/>
            <a:chOff x="380880" y="0"/>
            <a:chExt cx="2819520" cy="800280"/>
          </a:xfrm>
        </p:grpSpPr>
        <p:sp>
          <p:nvSpPr>
            <p:cNvPr id="173" name=""/>
            <p:cNvSpPr/>
            <p:nvPr/>
          </p:nvSpPr>
          <p:spPr>
            <a:xfrm>
              <a:off x="838080" y="1440"/>
              <a:ext cx="2362320" cy="5205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议一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4" name="" descr=""/>
            <p:cNvPicPr/>
            <p:nvPr/>
          </p:nvPicPr>
          <p:blipFill>
            <a:blip r:embed="rId2"/>
            <a:stretch/>
          </p:blipFill>
          <p:spPr>
            <a:xfrm>
              <a:off x="380880" y="0"/>
              <a:ext cx="914400" cy="800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3581280" cy="685800"/>
            <a:chOff x="0" y="0"/>
            <a:chExt cx="3581280" cy="685800"/>
          </a:xfrm>
        </p:grpSpPr>
        <p:grpSp>
          <p:nvGrpSpPr>
            <p:cNvPr id="176" name=""/>
            <p:cNvGrpSpPr/>
            <p:nvPr/>
          </p:nvGrpSpPr>
          <p:grpSpPr>
            <a:xfrm>
              <a:off x="0" y="46080"/>
              <a:ext cx="2361960" cy="461880"/>
              <a:chOff x="0" y="46080"/>
              <a:chExt cx="2361960" cy="461880"/>
            </a:xfrm>
          </p:grpSpPr>
          <p:sp>
            <p:nvSpPr>
              <p:cNvPr id="177" name=""/>
              <p:cNvSpPr/>
              <p:nvPr/>
            </p:nvSpPr>
            <p:spPr>
              <a:xfrm>
                <a:off x="0" y="4824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做一做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879560" y="46080"/>
                <a:ext cx="1836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2361960" y="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8040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两个数相差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,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设其中较大的一个数为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x,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那么它们的积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y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是如何随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x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变化而变化的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?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3933360"/>
            <a:ext cx="8223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华文中宋"/>
                <a:ea typeface="华文中宋"/>
              </a:rPr>
              <a:t>你能分别用函数表达式、表格和图象表示这种变化吗</a:t>
            </a:r>
            <a:r>
              <a:rPr b="1" lang="zh-CN" sz="4800" spc="-1" strike="noStrike">
                <a:solidFill>
                  <a:srgbClr val="0000cc"/>
                </a:solidFill>
                <a:latin typeface="华文中宋"/>
                <a:ea typeface="华文中宋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07:18:19Z</dcterms:created>
  <dc:creator>maifan</dc:creator>
  <dc:description/>
  <dc:language>en-US</dc:language>
  <cp:lastModifiedBy>User</cp:lastModifiedBy>
  <dcterms:modified xsi:type="dcterms:W3CDTF">2014-02-18T02:35:56Z</dcterms:modified>
  <cp:revision>613</cp:revision>
  <dc:subject/>
  <dc:title>九年级数学（下册）2.5用三种方式表示二次函数</dc:title>
</cp:coreProperties>
</file>