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type.wav" ContentType="audio/x-wav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1FD-5223-4BC3-9677-B7A4D0CC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540-7D68-4E7A-9C59-E0443E89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97AD-D02C-4708-BAA0-E7F366BB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7BF-781A-41AA-A88F-91AC9508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C5E3-990E-4D2E-B9B6-D40AE454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C2C-3600-4004-AB99-93B73C8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7B73-A65B-40C8-815E-6FE571F6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4EBE-0410-4B76-B1FF-DEE571CC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C9A9-B076-4D45-9611-E55C8F1B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9CB3-D58B-45BD-81CF-4807E03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459C-2254-48C7-B6AD-EE09806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C00-DE44-461E-B801-CC0A33DA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F3DE-21DF-4C0E-9E1E-7CDC6B41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AC7A-4620-4788-9F52-ACA6C34E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8398-815E-4219-9F3C-7C4C6BEF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2C4A-8871-4BA0-A5B4-8D10FF6A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222F-AC9B-41A5-8300-09808547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27A-A184-4B47-A70F-AF0F67AF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2D2-FA7E-4F8B-B06F-61F0E0CA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A38-43C3-4056-BFA6-AC52B996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3F6-C619-49F4-9B09-C2978DF1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1B0-5150-4925-804B-FC09410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3CE-E7E6-402C-8015-3D16AC3B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A3E-5C64-4769-8426-D22C9821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E90E-BA47-4DF4-B074-761F91521A63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0C1B-7444-4DBE-B604-EF0003E5F952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332000" y="3068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八节   二次函数与一元二次方程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二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4360" y="1268280"/>
            <a:ext cx="76197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 二次函数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3805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抛物线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y=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bx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经过点（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与（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1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，最高点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坐标是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求这条抛物线的表达式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______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．若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a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＜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b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＞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c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＜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△＜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那么抛物线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y=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bx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经过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Verdana"/>
              </a:rPr>
              <a:t>	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象限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3.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在平原上，一门迫击炮发射的一发炮弹飞行的高度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y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m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与飞行时间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s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的关系满足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y=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＋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10x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．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）经过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_____ s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，炮弹达到它的最高点，最高点的高度是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_____ m 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．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经过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ffff00"/>
                </a:solidFill>
                <a:latin typeface="Verdana"/>
              </a:rPr>
              <a:t> s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炮弹落在地上爆炸．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一元二次方程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宋体"/>
                <a:ea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+bx+c=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的根就是二次函数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y=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宋体"/>
                <a:ea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+bx+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与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_____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交点的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____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坐标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一元二次方程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宋体"/>
                <a:ea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+bx+c=h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的根就是二次函数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y=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a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宋体"/>
                <a:ea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  <a:ea typeface="隶书"/>
              </a:rPr>
              <a:t>+bx+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与直线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交点的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坐标  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43434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耐心填一填，一锤定音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419360" y="-36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隶书"/>
                <a:ea typeface="黑体"/>
              </a:rPr>
              <a:t>一元二次方程的图象解法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52880" y="1295280"/>
                <a:ext cx="20574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042920" y="2205000"/>
            <a:ext cx="16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1706"/>
                </a:solidFill>
                <a:latin typeface="Times New Roman"/>
              </a:rPr>
              <a:t>三、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352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70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7162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706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716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706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1706"/>
                </a:solidFill>
                <a:latin typeface="Times New Roman"/>
              </a:rPr>
              <a:t>ｘ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4437000"/>
            <a:ext cx="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1706"/>
                </a:solidFill>
                <a:latin typeface="Times New Roman"/>
              </a:rPr>
              <a:t>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70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61706"/>
                </a:solidFill>
                <a:latin typeface="Times New Roman"/>
              </a:rPr>
              <a:t>y=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1706"/>
                </a:solidFill>
                <a:latin typeface="Times New Roman"/>
              </a:rPr>
              <a:t>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6001" t="26000" r="49991" b="0"/>
          <a:stretch/>
        </p:blipFill>
        <p:spPr>
          <a:xfrm>
            <a:off x="6103800" y="2362320"/>
            <a:ext cx="29638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2133720"/>
            <a:ext cx="636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用描点法作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+2x-10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的图象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0666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你能利用二次函数的图象估计一元二次方程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2x-10=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根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66688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观察估计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+2x-10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的图象与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轴的交点的横坐标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由图象可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图象与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轴有两个交点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其横坐标一个在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-5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-4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另一个在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之间 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410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用等分计算的方法确定方程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+2x-10=0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的近似根为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:x</a:t>
            </a:r>
            <a:r>
              <a:rPr b="1" lang="zh-CN" sz="2400" spc="-1" strike="noStrike" baseline="-25000">
                <a:solidFill>
                  <a:srgbClr val="ffff00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≈-4.3,x</a:t>
            </a:r>
            <a:r>
              <a:rPr b="1" lang="zh-CN" sz="2400" spc="-1" strike="noStrike" baseline="-25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</a:rPr>
              <a:t>≈2.3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920"/>
            <a:ext cx="54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用心想一想，马到功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-76320"/>
            <a:ext cx="4724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隶书"/>
                <a:ea typeface="黑体"/>
              </a:rPr>
              <a:t>一元二次方程的图象解法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4724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1706"/>
                </a:solidFill>
                <a:latin typeface="隶书"/>
              </a:rPr>
              <a:t>(</a:t>
            </a:r>
            <a:r>
              <a:rPr b="1" lang="zh-CN" sz="2400" spc="-1" strike="noStrike">
                <a:solidFill>
                  <a:srgbClr val="f61706"/>
                </a:solidFill>
                <a:latin typeface="隶书"/>
              </a:rPr>
              <a:t>如何更准确估计近似值？</a:t>
            </a:r>
            <a:r>
              <a:rPr b="1" lang="zh-CN" sz="2400" spc="-1" strike="noStrike">
                <a:solidFill>
                  <a:srgbClr val="f61706"/>
                </a:solidFill>
                <a:latin typeface="隶书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5273" t="12165" r="49055" b="0"/>
          <a:stretch/>
        </p:blipFill>
        <p:spPr>
          <a:xfrm>
            <a:off x="6172200" y="1752480"/>
            <a:ext cx="2971800" cy="3816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2133720"/>
            <a:ext cx="622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描点法作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-1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图象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19360" y="-36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隶书"/>
                <a:ea typeface="黑体"/>
              </a:rPr>
              <a:t>一元二次方程的图象解法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利用二次函数的图象求一元二次方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2x-10=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近似根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0481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观察估计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抛物线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-1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和直线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交点的横坐标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86200"/>
            <a:ext cx="6019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图象可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它们有两个交点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其横坐标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5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4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另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分别约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4.7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2.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56416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借助计算器确定方程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-10=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程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近似根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: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-4.7,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2.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6668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直线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52280" y="333360"/>
            <a:ext cx="439272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教材题变形，拓展延伸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8" name=""/>
          <p:cNvSpPr/>
          <p:nvPr/>
        </p:nvSpPr>
        <p:spPr>
          <a:xfrm>
            <a:off x="684360" y="508464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61706"/>
                </a:solidFill>
                <a:latin typeface="隶书"/>
              </a:rPr>
              <a:t>(</a:t>
            </a:r>
            <a:r>
              <a:rPr b="1" lang="zh-CN" sz="2400" spc="-1" strike="noStrike">
                <a:solidFill>
                  <a:srgbClr val="f61706"/>
                </a:solidFill>
                <a:latin typeface="隶书"/>
              </a:rPr>
              <a:t>如何更准确估计近似值？</a:t>
            </a:r>
            <a:r>
              <a:rPr b="1" lang="zh-CN" sz="2400" spc="-1" strike="noStrike">
                <a:solidFill>
                  <a:srgbClr val="f61706"/>
                </a:solidFill>
                <a:latin typeface="隶书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76500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58" h="21600">
                <a:moveTo>
                  <a:pt x="12472" y="7301"/>
                </a:moveTo>
                <a:lnTo>
                  <a:pt x="13386" y="7301"/>
                </a:lnTo>
                <a:lnTo>
                  <a:pt x="13769" y="7667"/>
                </a:lnTo>
                <a:lnTo>
                  <a:pt x="22978" y="7667"/>
                </a:lnTo>
                <a:lnTo>
                  <a:pt x="23535" y="8224"/>
                </a:lnTo>
                <a:lnTo>
                  <a:pt x="23535" y="8772"/>
                </a:lnTo>
                <a:lnTo>
                  <a:pt x="25380" y="8772"/>
                </a:lnTo>
                <a:lnTo>
                  <a:pt x="25746" y="8224"/>
                </a:lnTo>
                <a:lnTo>
                  <a:pt x="26485" y="8224"/>
                </a:lnTo>
                <a:lnTo>
                  <a:pt x="26485" y="13376"/>
                </a:lnTo>
                <a:lnTo>
                  <a:pt x="25746" y="13376"/>
                </a:lnTo>
                <a:lnTo>
                  <a:pt x="25380" y="12828"/>
                </a:lnTo>
                <a:lnTo>
                  <a:pt x="23535" y="12828"/>
                </a:lnTo>
                <a:lnTo>
                  <a:pt x="23535" y="14107"/>
                </a:lnTo>
                <a:lnTo>
                  <a:pt x="13952" y="14107"/>
                </a:lnTo>
                <a:lnTo>
                  <a:pt x="13952" y="9877"/>
                </a:lnTo>
                <a:lnTo>
                  <a:pt x="13769" y="9877"/>
                </a:lnTo>
                <a:lnTo>
                  <a:pt x="13386" y="10243"/>
                </a:lnTo>
                <a:lnTo>
                  <a:pt x="12472" y="10243"/>
                </a:lnTo>
                <a:close/>
              </a:path>
            </a:pathLst>
          </a:custGeom>
          <a:solidFill>
            <a:srgbClr val="5ccd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5273" t="25225" r="51890" b="0"/>
          <a:stretch/>
        </p:blipFill>
        <p:spPr>
          <a:xfrm>
            <a:off x="6292800" y="2057400"/>
            <a:ext cx="2851200" cy="3733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20574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原方程可变形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-13=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19360" y="-36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隶书"/>
                <a:ea typeface="黑体"/>
              </a:rPr>
              <a:t>一元二次方程的图象解法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144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利用二次函数的图象求一元二次方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2x-10=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近似根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3200400"/>
            <a:ext cx="6019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观察估计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抛物线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-1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轴的交点的横坐标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320" y="3962520"/>
            <a:ext cx="60195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图象可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它们有两个交点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其横坐标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5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4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另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分别约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4.7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2.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借助计算器确定方程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-10=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近似根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: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-4.7,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2.7.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5909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描点法作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2x-1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图象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61706"/>
                </a:solidFill>
                <a:latin typeface="Times New Roman"/>
              </a:rPr>
              <a:t>创新解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114300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利用二次函数的图象求一元二次方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3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-x=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近似根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0" r="38418" b="46614"/>
          <a:stretch/>
        </p:blipFill>
        <p:spPr>
          <a:xfrm>
            <a:off x="5943600" y="2133720"/>
            <a:ext cx="3200400" cy="3355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6765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描点法作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3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x-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图象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362320"/>
            <a:ext cx="6019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观察估计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3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x-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图象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轴的交点的横坐标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84640"/>
            <a:ext cx="601992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图象可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图象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轴有两个交点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其横坐标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另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分别约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0.4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0.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66720" y="-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隶书"/>
                <a:ea typeface="黑体"/>
              </a:rPr>
              <a:t>一元二次方程的图象解法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304920"/>
            <a:ext cx="4114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大胆尝试，练一练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4797360"/>
            <a:ext cx="54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确定方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-x-1=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解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5734080"/>
            <a:ext cx="7809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x-1=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近似根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: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-0.4,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0.8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rcRect l="18000" t="0" r="37001" b="31332"/>
          <a:stretch/>
        </p:blipFill>
        <p:spPr>
          <a:xfrm>
            <a:off x="6045120" y="2057400"/>
            <a:ext cx="3022560" cy="3459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76212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利用二次函数的图象求一元二次方程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-2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+4x+1=0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的近似根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7524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描点法作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-2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4x+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图象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51460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观察估计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y=-2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4x+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图象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轴的交点的横坐标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由图象可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图象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轴有两个交点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其横坐标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另一个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之间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分别约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0.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2.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4100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(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）确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程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-2x</a:t>
            </a:r>
            <a:r>
              <a:rPr b="1" lang="zh-CN" sz="24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+4x+1=0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的近似根为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: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-0.2,x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</a:rPr>
              <a:t>≈2.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19360" y="-36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隶书"/>
                <a:ea typeface="黑体"/>
              </a:rPr>
              <a:t>一元二次方程的图象解法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归纳小结、说一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一元二次方程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隶书"/>
              </a:rPr>
              <a:t>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Verdana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隶书"/>
              </a:rPr>
              <a:t>+bx+c=h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的根就是二次函数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y=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隶书"/>
              </a:rPr>
              <a:t>a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Verdana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隶书"/>
              </a:rPr>
              <a:t>+bx+c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与直线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y=h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h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是实数）图象交点的横坐标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4720" y="1600200"/>
            <a:ext cx="4041720" cy="31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既可以用求根公式求二次方程的根，也可以通过画二次函数图象来估计一元二次方程的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课内拓展延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作业布置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0" lang="zh-CN" sz="4000" spc="-1" strike="noStrike" baseline="-25000">
                <a:solidFill>
                  <a:srgbClr val="ffffff"/>
                </a:solidFill>
                <a:latin typeface="宋体"/>
              </a:rPr>
              <a:t>72   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习题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2.9    1</a:t>
            </a: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阅读课后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《走进函数大家庭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3:41:47Z</dcterms:created>
  <dc:creator>罗惠萍</dc:creator>
  <dc:description/>
  <dc:language>en-US</dc:language>
  <cp:lastModifiedBy>User</cp:lastModifiedBy>
  <dcterms:modified xsi:type="dcterms:W3CDTF">2014-02-18T02:41:27Z</dcterms:modified>
  <cp:revision>175</cp:revision>
  <dc:subject/>
  <dc:title>PowerPoint 演示文稿</dc:title>
</cp:coreProperties>
</file>