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type.wav" ContentType="audio/x-wav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wmf" ContentType="image/x-wmf"/>
  <Override PartName="/ppt/media/CAMERA.WAV" ContentType="audio/x-wav"/>
  <Override PartName="/ppt/media/image10.png" ContentType="image/png"/>
  <Override PartName="/ppt/media/image5.gif" ContentType="image/gif"/>
  <Override PartName="/ppt/media/image9.png" ContentType="image/png"/>
  <Override PartName="/ppt/media/chimes.wav" ContentType="audio/x-wav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072-D844-40C1-A0FF-325D496D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42C-7A96-474D-A809-E5A8337B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E4E-81B4-466C-AE7C-BB4DBEE6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D5B-7FCF-45FF-9E0C-0DB573A4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B3E-141B-464F-8C32-F6B45111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7DEF-6991-40DE-9449-9DB19BF6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3A87-ECF2-4270-A87C-73B5A091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5DC9-F872-4F29-A8F3-A580B04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C54-D4AB-483D-90EA-1609996F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C9CD-64DC-4F58-AF84-ACF7A1C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EC98-FE7B-41B7-8E14-B004D1B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067-5199-46F1-9CAD-280F88C7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B3BB-0DEB-44DA-BDFE-9129472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FAB-108B-49AB-8819-09F07EC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42C-A078-4F32-B20F-E02449C9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6AF8-EA6A-4D66-93FF-3FE4FE5B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9D16-E323-4FD7-B121-05EF62A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480-8474-4473-A5F4-F9BE61DD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5C4-0014-476D-B37D-D40B011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AA2-424C-4506-9244-7182F3C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41D-94B4-47B9-BF67-9EBFE98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B13-B2D5-47FE-A583-AC356C2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0C0-74F8-4A65-AA60-B3B07AB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D52-DC85-4BF8-B214-5340A86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BB0-CC0F-4A3C-8E29-68195330E6C8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A95-EE00-4237-A04E-71C1FECF779A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619280" y="-302040"/>
            <a:ext cx="6629400" cy="8649720"/>
            <a:chOff x="1619280" y="-302040"/>
            <a:chExt cx="6629400" cy="8649720"/>
          </a:xfrm>
        </p:grpSpPr>
        <p:sp>
          <p:nvSpPr>
            <p:cNvPr id="82" name=""/>
            <p:cNvSpPr/>
            <p:nvPr/>
          </p:nvSpPr>
          <p:spPr>
            <a:xfrm flipH="1" rot="10715400">
              <a:off x="3035520" y="-276120"/>
              <a:ext cx="213300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9"/>
                  </a:moveTo>
                  <a:arcTo wR="10800" hR="10800" stAng="-10796509" swAng="107965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9"/>
                  </a:moveTo>
                  <a:arcTo wR="10800" hR="10800" stAng="-10796509" swAng="10796509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619280" y="1118880"/>
              <a:ext cx="6629400" cy="7228800"/>
              <a:chOff x="1619280" y="1118880"/>
              <a:chExt cx="6629400" cy="722880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4667400" y="1947600"/>
                <a:ext cx="0" cy="4114800"/>
              </a:xfrm>
              <a:prstGeom prst="line">
                <a:avLst/>
              </a:prstGeom>
              <a:ln w="57240">
                <a:solidFill>
                  <a:srgbClr val="ff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619280" y="1118880"/>
                <a:ext cx="6629400" cy="7228800"/>
                <a:chOff x="1619280" y="1118880"/>
                <a:chExt cx="6629400" cy="7228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619280" y="4081320"/>
                  <a:ext cx="6019920" cy="0"/>
                </a:xfrm>
                <a:prstGeom prst="line">
                  <a:avLst/>
                </a:prstGeom>
                <a:ln w="57240">
                  <a:solidFill>
                    <a:srgbClr val="ff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334280" y="4081320"/>
                  <a:ext cx="914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3333ff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286160" y="194760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3333ff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3066480" y="4538520"/>
                  <a:ext cx="2133000" cy="380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9"/>
                      </a:moveTo>
                      <a:arcTo wR="10800" hR="10800" stAng="-10796509" swAng="10796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9"/>
                      </a:moveTo>
                      <a:arcTo wR="10800" hR="10800" stAng="-10796509" swAng="10796509"/>
                    </a:path>
                  </a:pathLst>
                </a:cu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 rot="16452000">
                  <a:off x="4968360" y="2322000"/>
                  <a:ext cx="2133360" cy="380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9"/>
                      </a:moveTo>
                      <a:arcTo wR="10800" hR="10800" stAng="-10796509" swAng="10796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9"/>
                      </a:moveTo>
                      <a:arcTo wR="10800" hR="10800" stAng="-10796509" swAng="10796509"/>
                    </a:path>
                  </a:pathLst>
                </a:cu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rot="14260200">
                  <a:off x="4671720" y="1134000"/>
                  <a:ext cx="2133360" cy="380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9"/>
                      </a:moveTo>
                      <a:arcTo wR="10800" hR="10800" stAng="-10796509" swAng="10796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9"/>
                      </a:moveTo>
                      <a:arcTo wR="10800" hR="10800" stAng="-10796509" swAng="10796509"/>
                    </a:path>
                  </a:pathLst>
                </a:cu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rot="19473000">
                  <a:off x="4228560" y="3751920"/>
                  <a:ext cx="2133360" cy="380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9"/>
                      </a:moveTo>
                      <a:arcTo wR="10800" hR="10800" stAng="-10796509" swAng="10796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9"/>
                      </a:moveTo>
                      <a:arcTo wR="10800" hR="10800" stAng="-10796509" swAng="10796509"/>
                    </a:path>
                  </a:pathLst>
                </a:custGeom>
                <a:noFill/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" name=""/>
          <p:cNvSpPr txBox="1"/>
          <p:nvPr/>
        </p:nvSpPr>
        <p:spPr>
          <a:xfrm>
            <a:off x="0" y="2421000"/>
            <a:ext cx="85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二次函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3860640"/>
            <a:ext cx="511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回顾与思考（一）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1280" y="219240"/>
            <a:ext cx="90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巩固练习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 x 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开口向</a:t>
            </a:r>
            <a:r>
              <a:rPr b="1" i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对称轴是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顶点坐标是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图象过第 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象限 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221760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已知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- nx 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(n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＞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) ,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则图象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填“可能”或“不可能”）过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51640" y="689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6720" y="692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112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0,0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22920" y="119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、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7640" y="2133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能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8000" y="317016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 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开口向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对称轴是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顶点坐标是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由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x 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向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个单位得到的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3141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57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88000" y="3716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4149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4149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920" y="486900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已知（如图）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ax 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k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图象，则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k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；若图象过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 (0,-2)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 (2,0)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则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 =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k =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；函数关系式是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4720" y="53704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537048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16360" y="5873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57405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35280" y="63054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5x 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380360" y="2637000"/>
            <a:ext cx="1944360" cy="2015640"/>
            <a:chOff x="7380360" y="2637000"/>
            <a:chExt cx="1944360" cy="2015640"/>
          </a:xfrm>
        </p:grpSpPr>
        <p:sp>
          <p:nvSpPr>
            <p:cNvPr id="405" name=""/>
            <p:cNvSpPr/>
            <p:nvPr/>
          </p:nvSpPr>
          <p:spPr>
            <a:xfrm>
              <a:off x="7380360" y="3666960"/>
              <a:ext cx="163476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0660200">
              <a:off x="7915680" y="2862000"/>
              <a:ext cx="439920" cy="107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" y="9451"/>
                  </a:moveTo>
                  <a:arcTo wR="10800" hR="10800" stAng="-10369349" swAng="10180161"/>
                  <a:lnTo>
                    <a:pt x="10800" y="10800"/>
                  </a:lnTo>
                  <a:close/>
                </a:path>
                <a:path fill="none" w="21600" h="21600">
                  <a:moveTo>
                    <a:pt x="85" y="9451"/>
                  </a:moveTo>
                  <a:arcTo wR="10800" hR="10800" stAng="-10369349" swAng="10180161"/>
                </a:path>
              </a:pathLst>
            </a:cu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911360" y="2637000"/>
              <a:ext cx="1413360" cy="2015640"/>
              <a:chOff x="7911360" y="2637000"/>
              <a:chExt cx="1413360" cy="2015640"/>
            </a:xfrm>
          </p:grpSpPr>
          <p:sp>
            <p:nvSpPr>
              <p:cNvPr id="408" name=""/>
              <p:cNvSpPr/>
              <p:nvPr/>
            </p:nvSpPr>
            <p:spPr>
              <a:xfrm flipH="1" flipV="1">
                <a:off x="8131320" y="2680920"/>
                <a:ext cx="43920" cy="19717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838720" y="3666960"/>
                <a:ext cx="4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11360" y="2637000"/>
                <a:ext cx="21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042760" y="3854880"/>
                <a:ext cx="44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264520" y="357624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087400" y="346356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0808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716360" y="5373720"/>
            <a:ext cx="144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49360"/>
            <a:ext cx="81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）抛物线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y = 2 (x -1/2  )</a:t>
            </a:r>
            <a:r>
              <a:rPr b="0" lang="zh-CN" sz="3200" spc="-1" strike="noStrike" baseline="30000">
                <a:solidFill>
                  <a:srgbClr val="080808"/>
                </a:solidFill>
                <a:latin typeface="Arial"/>
              </a:rPr>
              <a:t> 2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+1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的开口向 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称轴 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,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顶点坐标是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）若抛物线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y = a (x+m)</a:t>
            </a:r>
            <a:r>
              <a:rPr b="0" lang="zh-CN" sz="3200" spc="-1" strike="noStrike" baseline="30000">
                <a:solidFill>
                  <a:srgbClr val="080808"/>
                </a:solidFill>
                <a:latin typeface="Arial"/>
              </a:rPr>
              <a:t> 2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+n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开口向下，顶点在第四象限，则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0, m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0, n</a:t>
            </a:r>
            <a:r>
              <a:rPr b="0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96360" y="47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92360" y="981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1/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105264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/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51280" y="198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206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0720" y="206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143000" y="1676520"/>
          <a:ext cx="6934320" cy="4435200"/>
        </p:xfrm>
        <a:graphic>
          <a:graphicData uri="http://schemas.openxmlformats.org/drawingml/2006/table">
            <a:tbl>
              <a:tblPr/>
              <a:tblGrid>
                <a:gridCol w="1600200"/>
                <a:gridCol w="2768760"/>
                <a:gridCol w="2565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429000" y="1676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&gt;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3800" y="16765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&lt;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796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73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491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429000" y="3124080"/>
                <a:ext cx="1523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867280" y="3124080"/>
                <a:ext cx="1600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55844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657600" y="3733920"/>
                <a:ext cx="99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095880" y="3809880"/>
                <a:ext cx="9907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155844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63840" y="54309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最      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743200" y="5029200"/>
            <a:ext cx="1981080" cy="1228680"/>
            <a:chOff x="2743200" y="5029200"/>
            <a:chExt cx="1981080" cy="1228680"/>
          </a:xfrm>
        </p:grpSpPr>
        <p:sp>
          <p:nvSpPr>
            <p:cNvPr id="437" name=""/>
            <p:cNvSpPr/>
            <p:nvPr/>
          </p:nvSpPr>
          <p:spPr>
            <a:xfrm>
              <a:off x="2743200" y="51055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当              时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200400" y="5029200"/>
                  <a:ext cx="8380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2971800" y="5562720"/>
                  <a:ext cx="160020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0" name=""/>
          <p:cNvGrpSpPr/>
          <p:nvPr/>
        </p:nvGrpSpPr>
        <p:grpSpPr>
          <a:xfrm>
            <a:off x="5582520" y="4952880"/>
            <a:ext cx="2052360" cy="1338480"/>
            <a:chOff x="5582520" y="4952880"/>
            <a:chExt cx="2052360" cy="1338480"/>
          </a:xfrm>
        </p:grpSpPr>
        <p:sp>
          <p:nvSpPr>
            <p:cNvPr id="441" name=""/>
            <p:cNvSpPr/>
            <p:nvPr/>
          </p:nvSpPr>
          <p:spPr>
            <a:xfrm>
              <a:off x="5582520" y="5029200"/>
              <a:ext cx="20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当                   时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095880" y="4952880"/>
                  <a:ext cx="1067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5867280" y="5562720"/>
                  <a:ext cx="169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4" name=""/>
          <p:cNvSpPr/>
          <p:nvPr/>
        </p:nvSpPr>
        <p:spPr>
          <a:xfrm>
            <a:off x="5486400" y="2133720"/>
            <a:ext cx="3352680" cy="2819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fafcfe"/>
              </a:gs>
              <a:gs pos="100000">
                <a:srgbClr val="99ccff"/>
              </a:gs>
            </a:gsLst>
            <a:lin ang="5400000"/>
          </a:gra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943600" y="2514600"/>
            <a:ext cx="2895480" cy="1069200"/>
            <a:chOff x="5943600" y="2514600"/>
            <a:chExt cx="2895480" cy="1069200"/>
          </a:xfrm>
        </p:grpSpPr>
        <p:sp>
          <p:nvSpPr>
            <p:cNvPr id="446" name=""/>
            <p:cNvSpPr/>
            <p:nvPr/>
          </p:nvSpPr>
          <p:spPr>
            <a:xfrm>
              <a:off x="6199560" y="266688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当              时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43600" y="31240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随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的增大而减少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6629400" y="2514600"/>
                  <a:ext cx="8380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6267960" y="3581280"/>
            <a:ext cx="1984680" cy="1145520"/>
            <a:chOff x="6267960" y="3581280"/>
            <a:chExt cx="1984680" cy="1145520"/>
          </a:xfrm>
        </p:grpSpPr>
        <p:sp>
          <p:nvSpPr>
            <p:cNvPr id="450" name=""/>
            <p:cNvSpPr/>
            <p:nvPr/>
          </p:nvSpPr>
          <p:spPr>
            <a:xfrm>
              <a:off x="6267960" y="4267080"/>
              <a:ext cx="198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随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的增大而增大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75880" y="373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当              时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553080" y="3581280"/>
                  <a:ext cx="8384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3" name=""/>
          <p:cNvSpPr/>
          <p:nvPr/>
        </p:nvSpPr>
        <p:spPr>
          <a:xfrm>
            <a:off x="2514600" y="2209680"/>
            <a:ext cx="335268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fafcfe"/>
              </a:gs>
              <a:gs pos="100000">
                <a:srgbClr val="99ccff"/>
              </a:gs>
            </a:gsLst>
            <a:lin ang="5400000"/>
          </a:gra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219840" y="3657600"/>
            <a:ext cx="1984680" cy="993240"/>
            <a:chOff x="3219840" y="3657600"/>
            <a:chExt cx="1984680" cy="993240"/>
          </a:xfrm>
        </p:grpSpPr>
        <p:grpSp>
          <p:nvGrpSpPr>
            <p:cNvPr id="455" name=""/>
            <p:cNvGrpSpPr/>
            <p:nvPr/>
          </p:nvGrpSpPr>
          <p:grpSpPr>
            <a:xfrm>
              <a:off x="3219840" y="3733920"/>
              <a:ext cx="1984680" cy="916920"/>
              <a:chOff x="3219840" y="3733920"/>
              <a:chExt cx="1984680" cy="916920"/>
            </a:xfrm>
          </p:grpSpPr>
          <p:sp>
            <p:nvSpPr>
              <p:cNvPr id="456" name=""/>
              <p:cNvSpPr/>
              <p:nvPr/>
            </p:nvSpPr>
            <p:spPr>
              <a:xfrm>
                <a:off x="3219840" y="4191120"/>
                <a:ext cx="198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随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的增大而减少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27760" y="373392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当              时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3657600" y="3657600"/>
                  <a:ext cx="8380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3143880" y="2666880"/>
            <a:ext cx="1984680" cy="1069200"/>
            <a:chOff x="3143880" y="2666880"/>
            <a:chExt cx="1984680" cy="1069200"/>
          </a:xfrm>
        </p:grpSpPr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3581280" y="2666880"/>
                  <a:ext cx="8384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61" name=""/>
            <p:cNvGrpSpPr/>
            <p:nvPr/>
          </p:nvGrpSpPr>
          <p:grpSpPr>
            <a:xfrm>
              <a:off x="3143880" y="2743200"/>
              <a:ext cx="1984680" cy="992880"/>
              <a:chOff x="3143880" y="2743200"/>
              <a:chExt cx="1984680" cy="992880"/>
            </a:xfrm>
          </p:grpSpPr>
          <p:sp>
            <p:nvSpPr>
              <p:cNvPr id="462" name=""/>
              <p:cNvSpPr/>
              <p:nvPr/>
            </p:nvSpPr>
            <p:spPr>
              <a:xfrm>
                <a:off x="3143880" y="3276360"/>
                <a:ext cx="198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随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的增大而增大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51440" y="274320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Times New Roman"/>
                  </a:rPr>
                  <a:t>当              时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68436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次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函数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a≠0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和性质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62120" y="533520"/>
            <a:ext cx="8381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若无论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取何实数，二次函数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的值总为负，那么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应满足的条件是（        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A.a&gt;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-4ac≥0    B.a&gt;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-4a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gt;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C.a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-4a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0      D.a &lt;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-4ac ≤0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3306600"/>
            <a:ext cx="5943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已知二次函数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的图象如图所示，请根据图象判断下列各式的符号：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 ,b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,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c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 ,∆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 , a-b+c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,a+b+c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64320" y="42973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8720" y="42973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44800" y="50594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11480" y="50292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92920" y="50594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5400" y="50292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>
            <a:lum bright="-64000"/>
          </a:blip>
          <a:stretch/>
        </p:blipFill>
        <p:spPr>
          <a:xfrm>
            <a:off x="6095880" y="289548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7926120" y="106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243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38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86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862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05360" cy="2170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858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函数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y=ax+b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在同一直角坐标系内的图象大致是（      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已知二次函数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中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a&gt;0,b&lt;0,c&lt;0,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请画一个能反映这样特征的二次函数草图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9712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9640" y="256536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已知抛物线顶点坐标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h, k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，通常设抛物线解析式为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_______________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4508640"/>
            <a:ext cx="8001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已知抛物线与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轴的两个交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0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0)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通常设解析式为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_____________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907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已知抛物线上的三点，通常设解析式为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________________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98640" y="134136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=ax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+bx+c(a≠0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22640" y="2997360"/>
            <a:ext cx="31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=a(x-h)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+k(a≠0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79280" y="4869000"/>
            <a:ext cx="364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=a(x-x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)(x-x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a≠0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98520" y="0"/>
            <a:ext cx="417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二次函数解析式的三种表示方式</a:t>
            </a: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24000" y="2905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二次函数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最大值是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图象顶点在直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+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上，并且图象经过点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6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，求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26920" y="1847520"/>
            <a:ext cx="777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解：∵二次函数的最大值是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抛物线的顶点纵坐标为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又∵抛物线的顶点在直线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+1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时，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=1   ∴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顶点坐标为（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设二次函数的解析式为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a(x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又∵图象经过点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=a (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1)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2     ∴a=-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二次函数的解析式为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-2(x-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即：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-2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4x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14160" y="54936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+b+c=0,a</a:t>
            </a:r>
            <a:r>
              <a:rPr b="1" lang="zh-CN" sz="3200" spc="-1" strike="noStrike">
                <a:solidFill>
                  <a:srgbClr val="080808"/>
                </a:solidFill>
                <a:latin typeface="Symbol"/>
                <a:ea typeface="Symbol"/>
              </a:rPr>
              <a:t>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把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向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个单位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再向左平移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个单位所得到的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抛物线的顶点是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-2,0)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求原抛物线的解析式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9680" y="23493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析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03280" y="23493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+b+c=0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可知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原抛物线的图象经过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1,0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58920" y="28526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2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新抛物线向右平移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个单位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再向上平移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个单位即得原抛物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94280" y="3789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y=-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+6x-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480" y="22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已知抛物线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轴正、负半轴分别交于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两点，与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轴负半轴交于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若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A=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B=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CB=90°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求抛物线解析式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19890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解： ∵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在正半轴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A=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∵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在负半轴，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B=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1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又 ∵ ∠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CB=90°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C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=OA·OB=4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C=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点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抛物线的解析式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81480" y="2971800"/>
            <a:ext cx="2773440" cy="2495520"/>
            <a:chOff x="5181480" y="2971800"/>
            <a:chExt cx="2773440" cy="2495520"/>
          </a:xfrm>
        </p:grpSpPr>
        <p:graphicFrame>
          <p:nvGraphicFramePr>
            <p:cNvPr id="500" name=""/>
            <p:cNvGraphicFramePr/>
            <p:nvPr/>
          </p:nvGraphicFramePr>
          <p:xfrm>
            <a:off x="5181480" y="3048120"/>
            <a:ext cx="2724120" cy="241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3048120"/>
                      <a:ext cx="2724120" cy="24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5562720" y="4114800"/>
              <a:ext cx="380880" cy="76212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943600" y="4114440"/>
              <a:ext cx="1447920" cy="76212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34560" y="4038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59600" y="4038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92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3800" y="2971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5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5804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211640" y="5589720"/>
                <a:ext cx="28321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809360" y="2602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已知二次函数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5x+c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图象如图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977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为何值时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随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增大而增大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为何值时，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&lt;0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876920" y="2706840"/>
            <a:ext cx="3860640" cy="3962160"/>
            <a:chOff x="4876920" y="2706840"/>
            <a:chExt cx="3860640" cy="3962160"/>
          </a:xfrm>
        </p:grpSpPr>
        <p:graphicFrame>
          <p:nvGraphicFramePr>
            <p:cNvPr id="515" name=""/>
            <p:cNvGraphicFramePr/>
            <p:nvPr/>
          </p:nvGraphicFramePr>
          <p:xfrm>
            <a:off x="4876920" y="2706840"/>
            <a:ext cx="3860640" cy="396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706840"/>
                      <a:ext cx="3860640" cy="39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5452560" y="30114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80808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10440" y="4840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80808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72080" y="4916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80808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162920" y="289548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2163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求它的解析式和顶点坐标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476280"/>
            <a:ext cx="295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回顾与思考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6280" y="1413000"/>
            <a:ext cx="868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哪些情况下见到过抛物线的“身影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语言或图象来进行描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二次函数的知识解决哪些实际问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作二次函数图象的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次函数的图象有哪些性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确定它的开口方向、对称轴和顶点坐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具体例子进行说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具体例子说明如何更恰当或更有效地利用二次函数的表达式、表格和图象刻画变量之间的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的语言描述二次函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方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之间的关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258920" y="177336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作业：课本复习题</a:t>
            </a: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－</a:t>
            </a: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07640" y="449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方正大黑简体"/>
              </a:rPr>
              <a:t>本课知识小结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177920"/>
            <a:ext cx="2209680" cy="642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二次函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8288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4382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3960" y="2133720"/>
            <a:ext cx="54648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2670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0280" y="4038480"/>
            <a:ext cx="54648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057400"/>
            <a:ext cx="1828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54080" y="1849320"/>
            <a:ext cx="91224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相关概念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57400"/>
            <a:ext cx="7621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752480"/>
            <a:ext cx="0" cy="12193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1752480"/>
            <a:ext cx="304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2971800"/>
            <a:ext cx="304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31520" y="151452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31520" y="212400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1080" y="2733840"/>
            <a:ext cx="54648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971800"/>
            <a:ext cx="914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20034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性质和图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76720"/>
            <a:ext cx="0" cy="1066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43200" y="3429000"/>
            <a:ext cx="4611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开口方向、对称轴、顶点坐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4343400"/>
            <a:ext cx="6858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1360" y="411480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38956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4040" y="5151600"/>
            <a:ext cx="12780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解析式的确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5389560"/>
            <a:ext cx="4572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4724280"/>
            <a:ext cx="0" cy="15130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5373720"/>
            <a:ext cx="4572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472428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6165720"/>
            <a:ext cx="4572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1360" y="450864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三点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1360" y="522936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顶点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01360" y="5877000"/>
            <a:ext cx="72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交点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24000" y="404280"/>
            <a:ext cx="2879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二次函数的定义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" y="333360"/>
            <a:ext cx="3581280" cy="1116360"/>
            <a:chOff x="324000" y="333360"/>
            <a:chExt cx="3581280" cy="1116360"/>
          </a:xfrm>
        </p:grpSpPr>
        <p:sp>
          <p:nvSpPr>
            <p:cNvPr id="134" name=""/>
            <p:cNvSpPr/>
            <p:nvPr/>
          </p:nvSpPr>
          <p:spPr>
            <a:xfrm>
              <a:off x="324000" y="380880"/>
              <a:ext cx="2362320" cy="10688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80808"/>
                  </a:solidFill>
                  <a:latin typeface="Times New Roman"/>
                  <a:ea typeface="隶书"/>
                </a:rPr>
                <a:t>     </a:t>
              </a:r>
              <a:r>
                <a:rPr b="1" lang="zh-CN" sz="3200" spc="-1" strike="noStrike">
                  <a:solidFill>
                    <a:srgbClr val="080808"/>
                  </a:solidFill>
                  <a:latin typeface="Times New Roman"/>
                  <a:ea typeface="隶书"/>
                </a:rPr>
                <a:t>思索归纳</a:t>
              </a: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686320" y="33336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48564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539640" y="1413000"/>
            <a:ext cx="8604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定义：一般地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形如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  <a:ea typeface="隶书"/>
              </a:rPr>
              <a:t>y=ax²+bx+c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(a,b,c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是常数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,a≠ 0)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的函数叫做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的二次函数</a:t>
            </a:r>
            <a:r>
              <a:rPr b="1" lang="zh-CN" sz="3600" spc="-1" strike="noStrike">
                <a:solidFill>
                  <a:srgbClr val="080808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459560" y="0"/>
            <a:ext cx="1684080" cy="1058400"/>
            <a:chOff x="7459560" y="0"/>
            <a:chExt cx="1684080" cy="10584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7459560" y="0"/>
              <a:ext cx="168408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8076960" y="27000"/>
              <a:ext cx="253080" cy="29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324000" y="2781360"/>
            <a:ext cx="882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提示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关于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的代数式一定是整式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,a,b,c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为常数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且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a≠0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581360"/>
            <a:ext cx="8424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(2)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等式的右边最高次数为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隶书"/>
              </a:rPr>
              <a:t>2,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可以没有一次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和常数项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但不能没有二次项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268280"/>
            <a:ext cx="842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下列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函数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哪些是二次函数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2819520"/>
            <a:ext cx="1523880" cy="1218960"/>
          </a:xfrm>
          <a:prstGeom prst="cloudCallout">
            <a:avLst>
              <a:gd name="adj1" fmla="val 21773"/>
              <a:gd name="adj2" fmla="val 102342"/>
            </a:avLst>
          </a:prstGeom>
          <a:solidFill>
            <a:srgbClr val="cc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隶书"/>
              </a:rPr>
              <a:t>怎么判断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4191120"/>
            <a:ext cx="1665360" cy="2514600"/>
            <a:chOff x="457200" y="4191120"/>
            <a:chExt cx="1665360" cy="2514600"/>
          </a:xfrm>
        </p:grpSpPr>
        <p:grpSp>
          <p:nvGrpSpPr>
            <p:cNvPr id="146" name=""/>
            <p:cNvGrpSpPr/>
            <p:nvPr/>
          </p:nvGrpSpPr>
          <p:grpSpPr>
            <a:xfrm>
              <a:off x="457200" y="4692600"/>
              <a:ext cx="1665360" cy="2013120"/>
              <a:chOff x="457200" y="4692600"/>
              <a:chExt cx="1665360" cy="2013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7200" y="4692600"/>
                <a:ext cx="1665360" cy="201312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17640" y="4732200"/>
                <a:ext cx="576000" cy="5670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2160" y="4883040"/>
                <a:ext cx="63720" cy="730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3040" y="48988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8880" y="495792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7960" y="497376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7240" y="5018040"/>
                <a:ext cx="461880" cy="61128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6400" y="501984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2240" y="50338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82440" y="5113440"/>
                <a:ext cx="22320" cy="698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74760" y="5124600"/>
                <a:ext cx="41040" cy="1396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09600" y="52419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61880" y="528012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84040" y="530532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65160" y="532764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97000" y="533700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01680" y="5362560"/>
                <a:ext cx="307800" cy="81108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1160" y="5411880"/>
                <a:ext cx="654120" cy="66348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17680" y="55134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04920" y="557064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79360" y="5613480"/>
                <a:ext cx="61920" cy="20772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6800" y="57006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91960" y="5702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120" y="57182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23760" y="588312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12720" y="595152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30360" y="5999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9080" y="6000840"/>
                <a:ext cx="328680" cy="3960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7960" y="6008760"/>
                <a:ext cx="560160" cy="2048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6480" y="6029280"/>
                <a:ext cx="249120" cy="2001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33600" y="60418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6880" y="6086520"/>
                <a:ext cx="1473120" cy="56052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41400" y="6262560"/>
                <a:ext cx="957240" cy="28260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8840" y="5100480"/>
                <a:ext cx="79200" cy="3492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28760" y="5113440"/>
                <a:ext cx="68040" cy="284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55600" y="509256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25520" y="51037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33520" y="419112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26920" y="2060640"/>
            <a:ext cx="47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ahoma"/>
                <a:ea typeface="隶书"/>
              </a:rPr>
              <a:t>(1</a:t>
            </a:r>
            <a:r>
              <a:rPr b="1" lang="zh-CN" sz="3600" spc="-1" strike="noStrike">
                <a:solidFill>
                  <a:srgbClr val="080808"/>
                </a:solidFill>
                <a:latin typeface="Tahoma"/>
                <a:ea typeface="隶书"/>
              </a:rPr>
              <a:t>）</a:t>
            </a:r>
            <a:r>
              <a:rPr b="1" lang="zh-CN" sz="3600" spc="-1" strike="noStrike">
                <a:solidFill>
                  <a:srgbClr val="080808"/>
                </a:solidFill>
                <a:latin typeface="Tahoma"/>
                <a:ea typeface="隶书"/>
              </a:rPr>
              <a:t>y=3(x-1)²+1;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213000"/>
            <a:ext cx="331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  <a:ea typeface="隶书"/>
              </a:rPr>
              <a:t>(3) s=3-2t²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44370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  <a:ea typeface="隶书"/>
              </a:rPr>
              <a:t>(5)y=(x+3)²-x²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425920" y="3068640"/>
                <a:ext cx="2900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502240" y="1700280"/>
                <a:ext cx="289080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179280" y="189000"/>
            <a:ext cx="4321080" cy="759600"/>
            <a:chOff x="179280" y="189000"/>
            <a:chExt cx="4321080" cy="75960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3029400" y="189000"/>
              <a:ext cx="1470960" cy="68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179280" y="236520"/>
              <a:ext cx="2849760" cy="712080"/>
              <a:chOff x="179280" y="236520"/>
              <a:chExt cx="2849760" cy="712080"/>
            </a:xfrm>
          </p:grpSpPr>
          <p:sp>
            <p:nvSpPr>
              <p:cNvPr id="193" name=""/>
              <p:cNvSpPr/>
              <p:nvPr/>
            </p:nvSpPr>
            <p:spPr>
              <a:xfrm>
                <a:off x="179280" y="236520"/>
                <a:ext cx="2849760" cy="7034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80808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80808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94" name="" descr="">
                <a:hlinkClick r:id="" action="ppaction://hlinkshowjump?jump=lastslide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96560" y="415440"/>
                <a:ext cx="64332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5" name=""/>
          <p:cNvSpPr/>
          <p:nvPr/>
        </p:nvSpPr>
        <p:spPr>
          <a:xfrm>
            <a:off x="2627280" y="2637000"/>
            <a:ext cx="15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（是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860640"/>
            <a:ext cx="15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（是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5229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（不是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44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（不是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27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隶书"/>
              </a:rPr>
              <a:t>（不是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765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一）形如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ax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 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a≠0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二次函数</a:t>
            </a:r>
            <a:r>
              <a:rPr b="0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413000"/>
          <a:ext cx="8137440" cy="1557360"/>
        </p:xfrm>
        <a:graphic>
          <a:graphicData uri="http://schemas.openxmlformats.org/drawingml/2006/table">
            <a:tbl>
              <a:tblPr/>
              <a:tblGrid>
                <a:gridCol w="2349360"/>
                <a:gridCol w="1143000"/>
                <a:gridCol w="1069920"/>
                <a:gridCol w="1609920"/>
                <a:gridCol w="19652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次函数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开 口 方 向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 称 轴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顶 点 坐 标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9471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 = ax </a:t>
                      </a:r>
                      <a:r>
                        <a:rPr b="1" lang="en-US" sz="28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＞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492360" y="6165720"/>
            <a:ext cx="7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91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5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133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21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385128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10759800">
            <a:off x="3850920" y="530028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 rot="10800000">
            <a:off x="5219640" y="50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=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0800000">
            <a:off x="6694560" y="5012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二次函数的图象和性质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429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二）形如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ax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 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+k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a≠0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二次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4365720"/>
          <a:ext cx="8675640" cy="1557360"/>
        </p:xfrm>
        <a:graphic>
          <a:graphicData uri="http://schemas.openxmlformats.org/drawingml/2006/table">
            <a:tbl>
              <a:tblPr/>
              <a:tblGrid>
                <a:gridCol w="2433600"/>
                <a:gridCol w="1371600"/>
                <a:gridCol w="1219320"/>
                <a:gridCol w="1917720"/>
                <a:gridCol w="17334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ax </a:t>
                      </a:r>
                      <a:r>
                        <a:rPr b="1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k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＞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981000"/>
          <a:ext cx="8820000" cy="1555560"/>
        </p:xfrm>
        <a:graphic>
          <a:graphicData uri="http://schemas.openxmlformats.org/drawingml/2006/table">
            <a:tbl>
              <a:tblPr/>
              <a:tblGrid>
                <a:gridCol w="2519280"/>
                <a:gridCol w="1297080"/>
                <a:gridCol w="1476360"/>
                <a:gridCol w="1763640"/>
                <a:gridCol w="17636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 = a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-h)</a:t>
                      </a:r>
                      <a:r>
                        <a:rPr b="1" lang="zh-CN" sz="28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 2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＞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＜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 flipV="1" rot="10800000">
            <a:off x="3851280" y="148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0759800">
            <a:off x="3850920" y="206028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0800000">
            <a:off x="5364000" y="1772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=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 rot="10800000">
            <a:off x="7020000" y="1772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（三）形如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a (x-h) 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( a≠0 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二次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2852640"/>
            <a:ext cx="91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四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形如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 = a (x-h) </a:t>
            </a:r>
            <a:r>
              <a:rPr b="1" lang="zh-CN" sz="28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+k   (a ≠0)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二次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3573360"/>
          <a:ext cx="8642160" cy="1676520"/>
        </p:xfrm>
        <a:graphic>
          <a:graphicData uri="http://schemas.openxmlformats.org/drawingml/2006/table">
            <a:tbl>
              <a:tblPr/>
              <a:tblGrid>
                <a:gridCol w="2855880"/>
                <a:gridCol w="1245960"/>
                <a:gridCol w="1171800"/>
                <a:gridCol w="1614600"/>
                <a:gridCol w="1753920"/>
              </a:tblGrid>
              <a:tr h="57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83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y = a</a:t>
                      </a: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x-h) </a:t>
                      </a:r>
                      <a:r>
                        <a:rPr b="0" lang="zh-CN" sz="28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+k 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＞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＜ </a:t>
                      </a:r>
                      <a:r>
                        <a:rPr b="1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6804000" y="4437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4140360" y="42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0759800">
            <a:off x="4140000" y="472392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5364000" y="45075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=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2133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平移关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6120" y="436572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顶点变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3500280"/>
            <a:ext cx="1944720" cy="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29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当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h&gt;0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时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向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右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平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3645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020f"/>
                </a:solidFill>
                <a:latin typeface="Verdana"/>
              </a:rPr>
              <a:t>当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h&lt;0</a:t>
            </a:r>
            <a:r>
              <a:rPr b="1" lang="zh-CN" sz="2000" spc="-1" strike="noStrike">
                <a:solidFill>
                  <a:srgbClr val="18020f"/>
                </a:solidFill>
                <a:latin typeface="Verdana"/>
              </a:rPr>
              <a:t>时</a:t>
            </a:r>
            <a:r>
              <a:rPr b="1" lang="zh-CN" sz="2000" spc="-1" strike="noStrike">
                <a:solidFill>
                  <a:srgbClr val="18020f"/>
                </a:solidFill>
                <a:latin typeface="Verdana"/>
              </a:rPr>
              <a:t>,</a:t>
            </a:r>
            <a:r>
              <a:rPr b="1" lang="zh-CN" sz="2000" spc="-1" strike="noStrike">
                <a:solidFill>
                  <a:srgbClr val="18020f"/>
                </a:solidFill>
                <a:latin typeface="Verdana"/>
              </a:rPr>
              <a:t>向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左</a:t>
            </a:r>
            <a:r>
              <a:rPr b="1" lang="zh-CN" sz="2000" spc="-1" strike="noStrike">
                <a:solidFill>
                  <a:srgbClr val="18020f"/>
                </a:solidFill>
                <a:latin typeface="Verdana"/>
              </a:rPr>
              <a:t>平移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y=a(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h)</a:t>
            </a:r>
            <a:r>
              <a:rPr b="1" lang="en-US" sz="2800" spc="-1" strike="noStrike" baseline="30000">
                <a:solidFill>
                  <a:srgbClr val="080808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501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,0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501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0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5300640"/>
            <a:ext cx="1729080" cy="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3568680"/>
            <a:ext cx="2089440" cy="46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76720" y="314172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当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k&gt;0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时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向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上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平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76720" y="3716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当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k&lt;0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时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向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下</a:t>
            </a:r>
            <a:r>
              <a:rPr b="1" lang="zh-CN" sz="1800" spc="-1" strike="noStrike">
                <a:solidFill>
                  <a:srgbClr val="18020f"/>
                </a:solidFill>
                <a:latin typeface="Verdana"/>
              </a:rPr>
              <a:t>平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20000" y="3357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020f"/>
                </a:solidFill>
                <a:latin typeface="Times New Roman"/>
              </a:rPr>
              <a:t>y=a(x</a:t>
            </a:r>
            <a:r>
              <a:rPr b="1" lang="zh-CN" sz="2400" spc="-1" strike="noStrike">
                <a:solidFill>
                  <a:srgbClr val="18020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18020f"/>
                </a:solidFill>
                <a:latin typeface="Times New Roman"/>
              </a:rPr>
              <a:t>h)</a:t>
            </a:r>
            <a:r>
              <a:rPr b="1" lang="en-US" sz="24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8020f"/>
                </a:solidFill>
                <a:latin typeface="Times New Roman"/>
              </a:rPr>
              <a:t>+k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,k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5300640"/>
            <a:ext cx="1728720" cy="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333360"/>
            <a:ext cx="8077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二次函数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y=a(x-h)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²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+k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80808"/>
                </a:solidFill>
                <a:latin typeface="隶书"/>
                <a:ea typeface="隶书"/>
              </a:rPr>
              <a:t>y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=ax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²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的关系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4038840" cy="4648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4074840" cy="39481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135160" y="1765080"/>
            <a:ext cx="6232680" cy="4909680"/>
            <a:chOff x="2135160" y="1765080"/>
            <a:chExt cx="6232680" cy="4909680"/>
          </a:xfrm>
        </p:grpSpPr>
        <p:grpSp>
          <p:nvGrpSpPr>
            <p:cNvPr id="246" name=""/>
            <p:cNvGrpSpPr/>
            <p:nvPr/>
          </p:nvGrpSpPr>
          <p:grpSpPr>
            <a:xfrm>
              <a:off x="2135160" y="1765080"/>
              <a:ext cx="6232680" cy="4683240"/>
              <a:chOff x="2135160" y="1765080"/>
              <a:chExt cx="6232680" cy="4683240"/>
            </a:xfrm>
          </p:grpSpPr>
          <p:sp>
            <p:nvSpPr>
              <p:cNvPr id="247" name=""/>
              <p:cNvSpPr/>
              <p:nvPr/>
            </p:nvSpPr>
            <p:spPr>
              <a:xfrm>
                <a:off x="768996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13520" y="592740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3564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5776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81680" y="592740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0380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2592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49480" y="592740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71600" y="592740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8996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13520" y="540684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33564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5776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81680" y="5406840"/>
                <a:ext cx="676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380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2592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49480" y="540684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71600" y="54068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8996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13520" y="4887720"/>
                <a:ext cx="676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3564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5776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81680" y="4887720"/>
                <a:ext cx="676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0380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2592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49480" y="4887720"/>
                <a:ext cx="676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71600" y="488772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8996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13520" y="436716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3564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5776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81680" y="4367160"/>
                <a:ext cx="676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380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592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49480" y="436716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71600" y="436716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996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13520" y="384624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3564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5776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81680" y="384624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380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2592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49480" y="384624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71600" y="38462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8996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13520" y="332568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3564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5776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981680" y="3325680"/>
                <a:ext cx="676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0380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2592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49480" y="332568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71600" y="332568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8996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13520" y="2806560"/>
                <a:ext cx="676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3564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5776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81680" y="2806560"/>
                <a:ext cx="676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0380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2592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49480" y="2806560"/>
                <a:ext cx="676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71600" y="2806560"/>
                <a:ext cx="677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8996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13520" y="228564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3564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776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1680" y="228564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0380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2592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49480" y="228564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71600" y="2285640"/>
                <a:ext cx="677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8996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3520" y="176544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3564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5776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1680" y="1765440"/>
                <a:ext cx="676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380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2592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49480" y="1765440"/>
                <a:ext cx="676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71600" y="1765440"/>
                <a:ext cx="67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71600" y="1765440"/>
                <a:ext cx="6096240" cy="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71600" y="228564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71600" y="280656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71600" y="332568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271600" y="384624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71600" y="436716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71600" y="488772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71600" y="540684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71600" y="5927400"/>
                <a:ext cx="60962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71600" y="6448320"/>
                <a:ext cx="6096240" cy="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71600" y="1765440"/>
                <a:ext cx="0" cy="468288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948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2592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380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8168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776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3564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352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89960" y="1765440"/>
                <a:ext cx="0" cy="468288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67840" y="1765440"/>
                <a:ext cx="0" cy="468288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95640" y="5422680"/>
                <a:ext cx="61722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4952880" y="1765080"/>
                <a:ext cx="0" cy="46479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62320" y="5311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16040" y="5346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90720" y="5311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81240" y="5311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0000" y="534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18440" y="534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4240" y="534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45400" y="534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31200" y="534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45240" y="5165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92920" y="5146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21160" y="5165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49760" y="5146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78160" y="5165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92360" y="5146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20960" y="5165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35160" y="51796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바탕"/>
                  </a:rPr>
                  <a:t>•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695840" y="466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95840" y="412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80000" y="35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80000" y="3136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95840" y="256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12040" y="2070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35360" y="57276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4573440" y="6215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V="1">
            <a:off x="7010280" y="2057040"/>
            <a:ext cx="0" cy="48006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4073760" cy="3934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076720" y="1197000"/>
            <a:ext cx="3971880" cy="44038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3635280" y="1628640"/>
            <a:ext cx="4084560" cy="396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932360" y="1700280"/>
            <a:ext cx="4040280" cy="43956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933800" y="2014560"/>
            <a:ext cx="4038840" cy="46483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260280"/>
            <a:ext cx="82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观察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6x+7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函数图象，说说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-6x+7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图象是怎样由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图象平移得到的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7760" y="271152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y=x</a:t>
            </a:r>
            <a:r>
              <a:rPr b="1" lang="en-US" sz="28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-6x+7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6840" y="3290760"/>
            <a:ext cx="19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=x</a:t>
            </a:r>
            <a:r>
              <a:rPr b="1" lang="en-US" sz="28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-6x+9-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65880" y="390060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=(x-3)</a:t>
            </a:r>
            <a:r>
              <a:rPr b="1" lang="en-US" sz="28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-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11:47Z</dcterms:created>
  <dc:creator/>
  <dc:description/>
  <dc:language>en-US</dc:language>
  <cp:lastModifiedBy>User</cp:lastModifiedBy>
  <dcterms:modified xsi:type="dcterms:W3CDTF">2014-02-18T02:42:05Z</dcterms:modified>
  <cp:revision>160</cp:revision>
  <dc:subject/>
  <dc:title>幻灯片 1</dc:title>
</cp:coreProperties>
</file>